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68A4-97FB-4137-AA55-E8E5D8158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2BA6-3181-448F-99E4-457E5BF3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837-593E-4A96-BB41-E82026E5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057-7AF4-498D-9303-ADF40EF0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584-DE63-4B8F-94E0-D6E592FF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CC0-B7D7-457E-A1D0-BBB1BA42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83EE-C9F0-46CC-865B-688D0910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54A-43A7-4E4D-AF3D-C9AFCB40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BC1-47CA-4BFF-A903-80CD94FB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A9A4-7241-4F0B-A5B8-00FA5EA1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A7F-61F4-4432-A602-2AE1D0F7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371-F65E-408A-AD12-3F8C4ED3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096-F30C-497C-9720-5B37A4A0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7DA7-E0E9-4FE8-A7D5-413D3083F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true of the illness suffered by the India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est young warriors usually survi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ldren of the village died fastest if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patients felt sick but showed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signs of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individuals were not affected equally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3000" y="583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43000" y="397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43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Red Arrow threaten Jace with a kn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refused to provide medicine for the si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angry because his pet cr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lost when they were transported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nted to force Jace into taking him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 P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loodthirsty and did not like whi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585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43000" y="2644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359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3000" y="4911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71960" y="2795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75200" y="45165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e story “Three Rivers, Three Nations”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Cloud and De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47480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29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4300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43000" y="415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racter, Dejay, is best characterized in the story by which one of the following adj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47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43000" y="356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43000" y="415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inbow Rider acquired this name for which one of the following reas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utiful rainbow appeared on the horiz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ever he wa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clothes were multi-colored, like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backpack had a distinctive rainbow logo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rrived on the scene in a multi-colo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 clo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43000" y="56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306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43000" y="393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43000" y="464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relationship between Pontiac’s Rebellion and the events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es and geographical location of bo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pproximately the s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 is the name of a runaway Indian wh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looking for his lost crow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, when he 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in the story was at w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Pontiac Indian village located near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56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9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1430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14300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the Indian village in the story so quiet and sti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late in the afternoon and everyone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a n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in the tribe were sick or had d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n and older boys were out h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llage was always quiet becaus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s disliked loud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1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10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430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43000" y="4664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significance of the Ohio, Allegheny and Monogahela River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arked a boundary of the stat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nsylv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in the Monogahela River was strict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bidden to the Ind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was located at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ection of these three riv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minated water from the Ohio River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the soldier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5878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4300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43000" y="49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dwellings in the Indian vill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pees decorated with colorful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adobe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ed huts woven from prairie gr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k-covered long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626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43000" y="29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8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43000" y="4049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’s response to seeing his mother and hearing her story is best characterized as which one of the follow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3321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8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43000" y="442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Ljlab</cp:lastModifiedBy>
  <dcterms:modified xsi:type="dcterms:W3CDTF">2007-06-26T14:22:12Z</dcterms:modified>
  <cp:revision>59</cp:revision>
  <dc:subject/>
  <dc:title>PowerPoint Presentation</dc:title>
</cp:coreProperties>
</file>