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3FE2-AF4F-408E-8358-6892DECC0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8AD-6998-422F-9E14-446190BD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94D-EC3D-4206-9532-7888ECC9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66B-D602-4A97-A4AE-D34BB736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A2B-778E-453E-934C-3D5AD53B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2A7-DC02-4DF3-8DCF-373786A5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53E-B1F2-4F39-9BE9-C2840267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DE7-11BA-401E-B31A-886BCB7B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15D-E086-4F5D-BA68-EE33D3AF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317-7D2C-469C-9B3C-1078EC46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474-903D-4FD7-842A-0EA1EA56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E60-B971-42D9-9ADB-FADFABC3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CDA-E0A1-4C86-80F5-AE45F58D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EDB9-F135-4802-BA93-99295C188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22:12Z</dcterms:modified>
  <cp:revision>59</cp:revision>
  <dc:subject/>
  <dc:title>PowerPoint Presentation</dc:title>
</cp:coreProperties>
</file>