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5FFF5-73B1-4D54-B257-85E269A33A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C162-40D7-472F-A4E6-AE84E4A10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AF1F-3DA1-4E58-B066-D795B8407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C6D3-ABE6-429C-BCAF-A1B2CE188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CD6C-CFFC-40D7-ABD0-A8A09960F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7562-34E2-4BB9-BBFF-65CAD883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27EB-B6F1-45EF-81AA-303F53D98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F485-A1EA-44D7-BB46-DB597BEAD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CDF2-E801-44A4-B0F8-EB30FB24D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2B5B-5A95-45B0-9695-D393819FC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4FBB-EF79-4CC9-872E-AF509CD2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1323-C74E-48AE-97FB-87CA0390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7F17-8BD9-4499-B586-59740029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EDB90-3BA3-4C5F-8701-E3DCF019CA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is true of the illness suffered by the Indian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trongest young warriors usually surviv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llne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hildren of the village died fastest if the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me 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fected patients felt sick but showed n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ernal signs of disea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individuals were not affected equally b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isea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143000" y="5830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143000" y="3025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143000" y="3970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143000" y="4921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41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y did Red Arrow threaten Jace with a knif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refused to provide medicine for the sick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llager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 Arrow was angry because his pet crow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s lost when they were transported to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lla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wanted to force Jace into taking him t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t Pit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was bloodthirsty and did not like whit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143000" y="5850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143000" y="2644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143000" y="3594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1143000" y="4911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171960" y="279576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075200" y="451656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wo main characters in the story “Three Rivers, Three Nations” 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jay and J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man and Red Arr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Red Arr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rk Cloud and Dej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8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143000" y="474804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143000" y="2967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143000" y="356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143000" y="4152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haracter, Dejay, is best characterized in the story by which one of the following adjectiv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er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gress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a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udi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143000" y="4746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143000" y="2965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143000" y="3562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143000" y="4151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299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Rainbow Rider acquired this name for which one of the following reason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beautiful rainbow appeared on the horiz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ever he was pres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s clothes were multi-colored, like 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inbow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s backpack had a distinctive rainbow logo 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i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arrived on the scene in a multi-color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inbow clou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143000" y="5630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143000" y="3068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1143000" y="3932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143000" y="4645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29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2416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relationship between Pontiac’s Rebellion and the events in this stor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ates and geographical location of both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approximately the sa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ntiac is the name of a runaway Indian wh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nd Jace in the fore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 Arrow was looking for his lost crow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ntiac, when he found Jace in the fore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Lenape village in the story was at wa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 a Pontiac Indian village located nearb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143000" y="5673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143000" y="2978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1143000" y="3889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1143000" y="4788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58720" indent="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y was the Indian village in the story so quiet and still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8720" indent="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was late in the afternoon and everyone wa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king a na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8720" indent="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in the tribe were sick or had di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8720" indent="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men and older boys were out hunt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8720" indent="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village was always quiet because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idents disliked loud noi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143000" y="5411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143000" y="3106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1143000" y="4032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1143000" y="4664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significance of the Ohio, Allegheny and Monogahela Rivers in the stor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marked a boundary of the state of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nnsylvan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shing in the Monogahela River was strictl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bidden to the India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Lenape village was located at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section of these three riv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aminated water from the Ohio River wa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ing the soldiers sic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143000" y="5878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143000" y="3025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143000" y="399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1143000" y="4940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best describes the dwellings in the Indian vill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epees decorated with colorful desig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quare adobe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unded huts woven from prairie gr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rk-covered longhou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143000" y="4626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143000" y="2935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143000" y="3489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1143000" y="4049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 Arrow’s response to seeing his mother and hearing her story is best characterized as which one of the following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fu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d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143000" y="4968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143000" y="3321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1143000" y="3875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1143000" y="4421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Ljlab</cp:lastModifiedBy>
  <dcterms:modified xsi:type="dcterms:W3CDTF">2007-06-26T14:22:12Z</dcterms:modified>
  <cp:revision>59</cp:revision>
  <dc:subject/>
  <dc:title>PowerPoint Presentation</dc:title>
</cp:coreProperties>
</file>