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6F8C-35AD-4FA9-B41A-7A62217D9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53EB-0447-429C-BB11-2EBBA7ED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21BA-295E-493B-BE0C-498FE45F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6792-A66D-41AF-86EA-2E20818B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20F9-6DD4-45EA-BBC1-796F47BFF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E32D-DCDC-47FF-9A5E-BD84CA8D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FFA1-87D5-42EE-82DA-64DCECCF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6D7C-83B6-412D-A8EB-F185339C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9B95-EBD7-479D-B59E-17EAAA1A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E466-806E-4284-93FC-1F4633D4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51C5-8B3A-4C50-BDFD-7952DED1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B1A9-3E0C-4F7C-BCF2-F9528585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A961-AF96-464C-8FA6-1EBC5C34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D735-ED94-45A1-A024-9B5C24F01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09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   “ ‘That’s my friend, ’ Red Arrow said with a smile as he pointed to the large, black crow that eyed Jac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ari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icably, in a friendly 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utiously, with distr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y to start a f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kingly, teasing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71440" y="515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171440" y="3381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171440" y="396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171440" y="45529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09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 “Red Arrow ran quickly toward the forest, and Jac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esita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ly a moment before running after him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urned a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oked b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sed, wai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ped forw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2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171440" y="515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171440" y="3381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171440" y="396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1171440" y="45529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091040" y="437688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00952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y body feels a lot older than thirteen, he though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roggi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 Where am I?  What happened?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ily, cheerfu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zzily, sluggish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rily, with r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if imitating a frog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1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71440" y="515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171440" y="3381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171440" y="396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171440" y="45529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0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  “A large black bird perched on a rotting branch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otrud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rom the trunk like a withered, outstretched arm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ck outw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d, m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ng loos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umpled, bro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1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71440" y="5154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71440" y="3382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171440" y="3963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1714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1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2009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  “ ‘Hey, Dejay,’ Jace said, keeping his body between Dejay and the bed.  Didn’t know you were going 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scor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 to the game.’ 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ster, anno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se, purs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 with, accompa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use, enter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71440" y="515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171440" y="3381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171440" y="396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1171440" y="45529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09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   “ ‘Dark Cloud intended to go right back to the powwow, but he was overcome wit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lai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oo tired to travel.’ 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t, humid we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ngry, violent e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evere heada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ense of illness or physical discomf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1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171440" y="515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171440" y="3381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171440" y="396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1171440" y="45529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09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   “The teen deftly flicked a tiny piece of dried meat into the crow’s beak.  Jace stoo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wk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t the pai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ying with c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ing in surpr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ing, gestu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auding, c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1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171440" y="515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171440" y="3381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1171440" y="396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1171440" y="45529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009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   “Jace took a deep breath and tried a daring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au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 ‘ I rode the rainbow light, but perhaps you’re too frightened.’ 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tched t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p into the 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ise, a compl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cornful, teasing remar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1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171440" y="515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171440" y="3381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171440" y="396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171440" y="45529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066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   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pprehens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louded Red Arrow’s face as he viewed his village.  It was early evening – a time for preparing food and visiting, yet no one was visibl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y, che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gust, distas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r, un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ness, unhapp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1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71440" y="5556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171440" y="3753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171440" y="4359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171440" y="4962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09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   “The English captain, Ecuyer, had presented them with woven blankets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oke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peac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gns, symb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rm cover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al pieces used in place of co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anim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171440" y="478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171440" y="2994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171440" y="359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1171440" y="4200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7T19:54:54Z</dcterms:modified>
  <cp:revision>50</cp:revision>
  <dc:subject/>
  <dc:title>PowerPoint Presentation</dc:title>
</cp:coreProperties>
</file>