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AD5B-B1B1-44B0-836F-21C295113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DE6-0BA9-4169-8F26-246FE4EB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E52-E533-4E67-A5A8-FBECC40C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06B-02BF-4C36-B5BE-EF849D81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C78-668B-45B7-B858-13407944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0FC-5E24-414E-9D77-15599BF2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0D9-F90F-4914-A878-27F3E1B4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11D-7CF8-4708-A3C1-94176D45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0A9-C388-4E4F-9183-469FF7BC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7BA-3E65-417B-B418-1761D1E5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AD1-BE92-487B-9270-D1ECD54D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A34-D9FA-4B91-B296-DAB11939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719-2232-412E-B0F2-33EB22C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00CB-6B5F-4095-8BD7-C07B92407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22:12Z</dcterms:modified>
  <cp:revision>59</cp:revision>
  <dc:subject/>
  <dc:title>PowerPoint Presentation</dc:title>
</cp:coreProperties>
</file>