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Math – 6.2 Number, Operation, and Quantitative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2 Number, Operation, and Quantitative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DF3FB2-3598-40B3-A602-7428BA97C2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D2ED62-6355-4413-84E0-5F883DFDF38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F4632F-84F7-4BB2-A3C5-5B741A0459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9E0469-7E75-431A-8373-108368356AE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4F4EA2-6B4A-4202-BF1F-38CE5C7060F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56034E-12B5-489A-AB52-68331A8C4A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629AF1-8B06-449D-B247-54F3D6F132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604D60-ADC3-4A0C-BE9A-2393B8026A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A1C364-6DB5-4396-BEB4-7E22C8BF92B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3DA8D0-95A7-464C-8E74-1F12177F324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DCFD1B-62C5-46DF-9F23-3145FF49E4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5DF062-8F73-4174-96F0-334345766C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162F0-17D5-4D21-88B0-483CD29A6107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Time Measurement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09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1 hour (h) = 60 minutes (min)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1 minute = 60 seconds (s)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Example: Add the following times: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1 h 30 min 59 s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 u="sng">
                <a:solidFill>
                  <a:srgbClr val="ebebeb"/>
                </a:solidFill>
                <a:uFillTx/>
                <a:latin typeface="Times New Roman"/>
              </a:rPr>
              <a:t>	</a:t>
            </a:r>
            <a:r>
              <a:rPr b="0" lang="en-US" sz="3300" spc="-1" strike="noStrike" u="sng">
                <a:solidFill>
                  <a:srgbClr val="ebebeb"/>
                </a:solidFill>
                <a:uFillTx/>
                <a:latin typeface="Times New Roman"/>
              </a:rPr>
              <a:t>+ 1 h 29 min   1 s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2 h 59 min 60 s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3 hours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343400" y="5105520"/>
            <a:ext cx="152388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5E2BC8-A69A-4021-9CEC-826148408E9F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Time Measurement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Example: Subtract the following times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2 h 37 min   8 s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2 h 36 min 68 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- 2 h 29 min 52 s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  </a:t>
            </a: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- 2 h 29 min 52 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7 min 16 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ote: Since you cannot subtract 52 s from 8 s, you must restate 37 min 8 s as 36 min 68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733920" y="2819520"/>
            <a:ext cx="129528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FDED51-EA0E-4CBE-8561-EAC03038D357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20:29Z</dcterms:modified>
  <cp:revision>208</cp:revision>
  <dc:subject/>
  <dc:title>VTPP 423 - PHYSIOLOGY</dc:title>
</cp:coreProperties>
</file>