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EE04-4A2F-40FC-AA2D-55DEB2E8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B54E-B481-43E0-8C4F-CE6825CF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030-5CCB-49EA-AE70-AA421FAD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H) Describe how author’s perspective affects the text (point of 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A363-8701-4B64-B493-7CF2F081F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038-2D50-45F2-B365-C8E03CEE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nterpret a speaker’s message, purposes and persp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4 (B) Compare oral traditions across regions and cul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0 (H) Draw inferences and support them with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0 (L) Represent text information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A): The student is expected to: offer observations, make connections, react, speculate, interpret, and raise questions in response to texts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 (B): interpret text ideas through such varied means as journal writing, discussion, enactment, and media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H) Describe how author’s perspective affects the text (point of 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98A-4C6C-4E95-B25F-A12CEA81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tar Weaver storyt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34B8-2072-4C59-B55E-DFA9AA75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rmation to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of village or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” of cause of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concerns for loved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s for themse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ressed from personal perspectives, these items will likely present very differ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–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1A:The student is expected to: offer observations, make connections, react, speculate, interpret, and raise questions in response to texts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interpret text ideas through such varied means as journal writing, discussion, enactment, and media (4-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riting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7E85-0630-4D7E-9F96-65526B7D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A) Interpret a speaker’s message, purposes and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82B6-8E26-40A1-9950-92FBE343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C44B-CFBB-47B7-85A1-B9A5E3A6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 of fig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plot moves along, conflict will fluctuate until it reaches a high point, or climax, near the end of the story.  Following the climax, the conflict is reduced until a resolution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F82-4138-497D-8611-1A2F0614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876-F3CB-4D89-AA34-2C0DC6A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041-DFAB-4CB6-AB27-1A73247C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C2F-49CE-4F40-94E3-16231912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502-4D26-4E98-87EF-1930848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165-329D-4264-BA87-863AABB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684-5CA9-42DC-84C4-0C214FCE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731-809E-4EB6-AB03-BBDCD43F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B89-F601-4628-8EB9-DE740C64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D9C-D800-4A69-BAB1-FB5355E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0F3-758F-4982-BDC1-7AED10A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92C-1FFE-45DF-97B7-082FE6E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53C-0EC1-4D1D-A233-138B99926C5F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peer.tamu.ed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Appendices/3rChalQ.pp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Picture 3" descr="title"/>
            <p:cNvPicPr/>
            <p:nvPr/>
          </p:nvPicPr>
          <p:blipFill>
            <a:blip r:embed="rId1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Group 4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Group 5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Picture 6" descr="j0334880[1]"/>
                <p:cNvPicPr/>
                <p:nvPr/>
              </p:nvPicPr>
              <p:blipFill>
                <a:blip r:embed="rId2">
                  <a:biLevel thresh="50000"/>
                </a:blip>
                <a:srcRect l="9931" t="0" r="0" b="15893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7" descr="j0334880[1]"/>
                <p:cNvPicPr/>
                <p:nvPr/>
              </p:nvPicPr>
              <p:blipFill>
                <a:blip r:embed="rId3">
                  <a:biLevel thresh="50000"/>
                </a:blip>
                <a:srcRect l="6212" t="0" r="0" b="10760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Group 8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Group 9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Rectangle 10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Group 11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Rectangle 12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Freeform 13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AutoShape 14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Rectangle 15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134173"/>
                </a:solidFill>
                <a:uFillTx/>
                <a:latin typeface="Times New Roman"/>
                <a:hlinkClick r:id="rId4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7772400" cy="42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tory should be in first person or in third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-pers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ing a story as if it happened to you, using words such as “I” or “m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-pers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ing a story as if it’s all about other people, using words such as “he,” “she,” and “i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write in third person, try to tell the story through the eyes of one character—most likely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.  Don’t tell anything that the character would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NIEHS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Peer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ollegeofEdu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ERH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New CVM logo_ any color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08" name="Rectangle 11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" name="Object 12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0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1" name="Text Box 13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134173"/>
                </a:solidFill>
                <a:uFillTx/>
                <a:latin typeface="Times New Roman"/>
                <a:hlinkClick r:id="rId8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elements that compose a story, such as theme, plot, and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writing from other people’s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662360" y="1798560"/>
            <a:ext cx="402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he story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ee Rivers, Three N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your knowledge of the story by taking the </a:t>
            </a:r>
            <a:r>
              <a:rPr b="0" lang="en-US" sz="2800" spc="-1" strike="noStrike" u="sng">
                <a:solidFill>
                  <a:srgbClr val="134173"/>
                </a:solidFill>
                <a:uFillTx/>
                <a:latin typeface="Times New Roman"/>
                <a:hlinkClick r:id="rId1"/>
              </a:rPr>
              <a:t>Investigator’s Challenge Qu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DSC02552b"/>
          <p:cNvPicPr/>
          <p:nvPr/>
        </p:nvPicPr>
        <p:blipFill>
          <a:blip r:embed="rId2"/>
          <a:stretch/>
        </p:blipFill>
        <p:spPr>
          <a:xfrm>
            <a:off x="414360" y="1808280"/>
            <a:ext cx="3940200" cy="4438440"/>
          </a:xfrm>
          <a:prstGeom prst="rect">
            <a:avLst/>
          </a:prstGeom>
          <a:ln w="38160">
            <a:solidFill>
              <a:srgbClr val="545067"/>
            </a:solidFill>
            <a:miter/>
          </a:ln>
        </p:spPr>
      </p:pic>
      <p:sp>
        <p:nvSpPr>
          <p:cNvPr id="67" name="Text Box 11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Wea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2720" y="1933560"/>
            <a:ext cx="35989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Arrow’s mother, Star Weaver, was the eldest daughter of a tribal chief.  As the tribe’s storyteller, she was responsible for telling the story of the great illness that befell the tri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womens_clothing_2"/>
          <p:cNvPicPr/>
          <p:nvPr/>
        </p:nvPicPr>
        <p:blipFill>
          <a:blip r:embed="rId1"/>
          <a:stretch/>
        </p:blipFill>
        <p:spPr>
          <a:xfrm>
            <a:off x="5148360" y="2050920"/>
            <a:ext cx="2487600" cy="401796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71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y Wea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Star Weaver’s perspective, write a one page account of the events associated with the ill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mportant information from the story should be included in your accou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hut"/>
          <p:cNvPicPr/>
          <p:nvPr/>
        </p:nvPicPr>
        <p:blipFill>
          <a:blip r:embed="rId1"/>
          <a:stretch/>
        </p:blipFill>
        <p:spPr>
          <a:xfrm>
            <a:off x="4716360" y="2476440"/>
            <a:ext cx="3597480" cy="2414520"/>
          </a:xfrm>
          <a:prstGeom prst="rect">
            <a:avLst/>
          </a:prstGeom>
          <a:ln w="57240">
            <a:solidFill>
              <a:srgbClr val="545068"/>
            </a:solidFill>
            <a:miter/>
          </a:ln>
        </p:spPr>
      </p:pic>
      <p:sp>
        <p:nvSpPr>
          <p:cNvPr id="75" name="Text Box 5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TR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few important elements to remember when writing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MPPH01648J0000[1]"/>
          <p:cNvPicPr/>
          <p:nvPr/>
        </p:nvPicPr>
        <p:blipFill>
          <a:blip r:embed="rId1"/>
          <a:stretch/>
        </p:blipFill>
        <p:spPr>
          <a:xfrm>
            <a:off x="2506680" y="3322800"/>
            <a:ext cx="4159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tories told have a point or moral.  This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important, central idea the story tries to convey to the reader that may help the reader in his/her own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ory doesn’t have to have a theme, but it’s best if it do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l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quence of events in a story.  The plot often involves some sor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struggle that causes tens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flict can be between characters or within a character’s internal thoughts and feel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character learns from the conflict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2404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flict should get more and more tense or exciting throughout the story.  This tension should reach a high point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ar the end of the story and then decrease and reach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sense of compl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1494000" y="4070520"/>
            <a:ext cx="5339880" cy="2511000"/>
            <a:chOff x="1494000" y="4070520"/>
            <a:chExt cx="5339880" cy="2511000"/>
          </a:xfrm>
        </p:grpSpPr>
        <p:sp>
          <p:nvSpPr>
            <p:cNvPr id="86" name="Rectangle 22"/>
            <p:cNvSpPr/>
            <p:nvPr/>
          </p:nvSpPr>
          <p:spPr>
            <a:xfrm>
              <a:off x="1494000" y="4070520"/>
              <a:ext cx="5339880" cy="25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 flipV="1">
              <a:off x="2154960" y="5576040"/>
              <a:ext cx="666360" cy="6004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2821680" y="5560200"/>
              <a:ext cx="345960" cy="26640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 flipV="1">
              <a:off x="3153960" y="4637160"/>
              <a:ext cx="930240" cy="11757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6"/>
            <p:cNvSpPr/>
            <p:nvPr/>
          </p:nvSpPr>
          <p:spPr>
            <a:xfrm>
              <a:off x="4106520" y="4621680"/>
              <a:ext cx="798120" cy="119952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0"/>
            <p:cNvSpPr/>
            <p:nvPr/>
          </p:nvSpPr>
          <p:spPr>
            <a:xfrm>
              <a:off x="3441960" y="4261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4600080" y="4973400"/>
              <a:ext cx="18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5"/>
            <p:cNvSpPr/>
            <p:nvPr/>
          </p:nvSpPr>
          <p:spPr>
            <a:xfrm rot="16200000">
              <a:off x="934920" y="50446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L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6"/>
            <p:cNvSpPr/>
            <p:nvPr/>
          </p:nvSpPr>
          <p:spPr>
            <a:xfrm>
              <a:off x="1992240" y="4241880"/>
              <a:ext cx="0" cy="20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7"/>
            <p:cNvSpPr/>
            <p:nvPr/>
          </p:nvSpPr>
          <p:spPr>
            <a:xfrm>
              <a:off x="1992240" y="6247800"/>
              <a:ext cx="477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3447000" y="6194520"/>
              <a:ext cx="9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16:19Z</dcterms:created>
  <dc:creator>Vince Hardy</dc:creator>
  <dc:description/>
  <dc:language>en-US</dc:language>
  <cp:lastModifiedBy>Hannah</cp:lastModifiedBy>
  <dcterms:modified xsi:type="dcterms:W3CDTF">2009-03-17T03:33:12Z</dcterms:modified>
  <cp:revision>24</cp:revision>
  <dc:subject/>
  <dc:title>Slide 1</dc:title>
</cp:coreProperties>
</file>