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B2A0-7926-4A10-A85D-07CAA3105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should be part of the main presentation and link out to the quiz itself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 Write in complete sentences, varying the types such as compound and complex sentenc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 Use conjunctions to connect ideas meaningfu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 Write in complete sentences, varying the types such as compound and complex sentenc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 Use conjunctions to connect ideas meaningfu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estions 1-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 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 Use adjectives (comparative and superlative forms)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 Use adjectives (comparative and superlative forms)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 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) 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)  Write with increasing accuracy when using apostrophes in con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)  Write with increasing accuracy when using apostrophes in con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)  Write with increasing accuracy when using pronoun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 Write in complete sentences, varying the types such as compound and complex sentenc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 Use conjunctions to connect ideas meaningful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48F-EFEE-420C-94E0-AAE7CDCB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4A4-FEB0-489B-B961-EAD0F24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D0A-11FD-43D2-872D-2801174E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DBC-3FEB-4458-BF86-665DCBF2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A54-8BF4-415E-BE36-04527080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CC3-8044-4D6A-B43C-5D199462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6A5-8FE3-47D1-B3F6-D63AB2B4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7CF-45E2-4B88-9719-FCB55A07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238-ADEA-402E-ABF1-F404B0F6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1FC-3AB0-4238-B3C9-2A234894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9E7-DD5F-4FC2-BEB2-216E6F9D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DC3-E1F6-4702-B406-E952FB7D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cc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03B6-2990-4C2D-8FFB-68376DC40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file:///LetterFromJace.pdf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Unlocking  Language Quiz</a:t>
            </a:r>
            <a:endParaRPr b="0" lang="en-US" sz="72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1920" y="405432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Times New Roman"/>
              </a:rPr>
              <a:t>Answer each  question by clicking A, B, C, or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7040" indent="-5270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aeaea"/>
              </a:buClr>
              <a:buFont typeface="Times New Roman"/>
              <a:buAutoNum type="arabicPeriod" startAt="9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 the deer 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 the deer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 the deer, bu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wanted Jace to carry. The deer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Jace could not lift it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43000" y="58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143000" y="306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43000" y="4051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43000" y="5019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7040" indent="-5270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aeaea"/>
              </a:buClr>
              <a:buFont typeface="Times New Roman"/>
              <a:buAutoNum type="arabicPeriod" startAt="10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 most of the people were gon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, bu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of the people were gon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, most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 the people were gone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and Jace went to the village and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st of the people were gon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27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095160" y="0"/>
            <a:ext cx="3048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43000" y="589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430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143000" y="4057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143000" y="5013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76280" y="2523960"/>
            <a:ext cx="6367320" cy="35877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ending a Mes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fter Jace returned home, he tried to send Red Arrow a message with his BPC’s keypad.  Edit his message and correct the errors you find.  Hint: keep looking until you find at least seven erro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6880" y="2679840"/>
            <a:ext cx="624852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 Red Arrow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are you?  I hope the people of you’re villige are getting better.  Dejay and me won our soccer game last weekend.  I couldnt play the first half becuse I forgot my cleats but my mom went home and got them for me so I could play.  I hope you are well.  Keep in tou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r freind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48440" y="2819520"/>
            <a:ext cx="1727280" cy="2209680"/>
          </a:xfrm>
          <a:prstGeom prst="rect">
            <a:avLst/>
          </a:prstGeom>
          <a:ln w="57240">
            <a:solidFill>
              <a:srgbClr val="545068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6248520"/>
            <a:ext cx="6400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 to print a hard copy of the l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091040" y="4476600"/>
            <a:ext cx="961920" cy="505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00600" y="3411360"/>
            <a:ext cx="3581280" cy="2684520"/>
          </a:xfrm>
          <a:prstGeom prst="rect">
            <a:avLst/>
          </a:prstGeom>
          <a:ln w="76320">
            <a:solidFill>
              <a:srgbClr val="545068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________ from the sky after he accidentally hit the keypad of his BPC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fa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3240" y="0"/>
            <a:ext cx="6080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5280" y="1486080"/>
            <a:ext cx="65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ll in the blank with the best word to complete each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.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jay shoved Jay ______ as he raced down the stair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gh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ghly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ughe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rough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5092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5092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5092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5092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3.    Travis is ______ than Jace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re ol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e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ldes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55600" y="2616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5560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55600" y="3800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55600" y="4398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191120" y="3200400"/>
            <a:ext cx="4114800" cy="3086280"/>
          </a:xfrm>
          <a:prstGeom prst="rect">
            <a:avLst/>
          </a:prstGeom>
          <a:ln w="76320">
            <a:solidFill>
              <a:srgbClr val="545068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.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d Arrow _____ Jace that his bird was named Black Beak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 tell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lle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ld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.    Red Arrow took Jace to his village and introduced him to _______ mother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i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m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6.    Jace suggested that _______ and Red Arrow “fly” to the village using the BPC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im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7.   At first, Red Arrow _____ believe that Jace could travel using the BPC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dn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d’n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’dn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dn’t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55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5560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5560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55600" y="4168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9400" y="1508040"/>
            <a:ext cx="586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hoose the best way to rewrite the following sent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.    Jace studies a lot.  He makes good grade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studies a lot and he makes good grades. 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studies a lot, he makes good grade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ace studies a lot, and he makes good grades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 changes needed.</a:t>
            </a: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cc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55600" y="4381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55600" y="2611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55600" y="318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55600" y="3782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8:39:51Z</dcterms:modified>
  <cp:revision>53</cp:revision>
  <dc:subject/>
  <dc:title>PowerPoint Presentation</dc:title>
</cp:coreProperties>
</file>