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FB92-412A-4289-8179-48CBA492D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E265-99A4-4B15-BA05-9DCD23B65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DA48-8012-467B-B554-DDF2EDFF8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AA6F-2BF8-4533-B853-5081D0D6C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66CC-6052-4153-997A-B37BB322A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022D-60A8-47E7-A644-07C3EBD5C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7A36-0E1F-4FDC-9756-6C3264F63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1210-5F34-4FA5-9436-D235C93CB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74D4-5195-4C59-9DF9-27A543422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CAD2-1ED6-40C1-AC35-D5E1A47F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3192-659A-4D8B-B18D-3A1DD623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5BAD-E4D8-45A0-87F2-09AAF812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EB300-6E36-49A5-A75E-FAA8C358E7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verb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verbs modify verbs, adjectives, or other adverb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sk yourself, “What is the adverb modifying and what is it telling me about?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?  Whe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?  How oft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what ext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20:15:00Z</dcterms:created>
  <dc:creator>Instructional Tech Student</dc:creator>
  <dc:description/>
  <dc:language>en-US</dc:language>
  <cp:lastModifiedBy>ljlab</cp:lastModifiedBy>
  <dcterms:modified xsi:type="dcterms:W3CDTF">2003-09-11T17:14:38Z</dcterms:modified>
  <cp:revision>9</cp:revision>
  <dc:subject/>
  <dc:title>Adverbs Adverbs modify verbs, adjectives, or other adverbs.</dc:title>
</cp:coreProperties>
</file>