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BF9B-B10B-4ADC-904A-D9EC7A5CA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3955-8B4E-4339-B2B1-215F4EB8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9F40-B5A4-4550-87E3-51564E65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1FB0-39C4-4151-8CF6-FBE6B237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679F-F91C-450A-97CE-D1DCCC04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01D1-7FE7-4D06-B279-C5CBDFA2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435B-9C76-4FBF-939B-3C7018DD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C453-F848-424E-A47F-14CCA415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5D79-2878-4361-9491-523EB2DF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AFAD-D177-4DE6-9D41-DE7BF847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77E5-3FD0-4D6A-8ECB-B710DCE0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5DF2-CE8C-4EDE-A983-D5E001E1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9CB5-CA9D-4765-ABB8-6A025E5A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D86B-D65B-458B-9CC2-2EBE43DCC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true of the illness suffered by the India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trongest young warriors usually surviv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lln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ildren of the village died fastest if the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me 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fected patients felt sick but showed 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rnal signs of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individuals were not affected equally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143000" y="583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43000" y="3025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43000" y="397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43000" y="4921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did Red Arrow threaten Jace with a knif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refused to provide medicine for the sic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llager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 was angry because his pet cr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 lost when they were transported to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ll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nted to force Jace into taking him t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t Pi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bloodthirsty and did not like whi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143000" y="585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143000" y="2644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143000" y="359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143000" y="4911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9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171960" y="27957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075200" y="45165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wo main characters in the story “Three Rivers, Three Nations” 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jay and J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and Red 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Red 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 Cloud and Dej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43000" y="47480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143000" y="29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14300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143000" y="4152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aracter, Dejay, is best characterized in the story by which one of the following adjectiv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gre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i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43000" y="474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43000" y="296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43000" y="356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143000" y="4151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ainbow Rider acquired this name for which one of the following reas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eautiful rainbow appeared on the horiz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ever he was pres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 clothes were multi-colored, like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inb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 backpack had a distinctive rainbow logo 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i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arrived on the scene in a multi-color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inbow clou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43000" y="56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43000" y="3068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43000" y="393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43000" y="464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relationship between Pontiac’s Rebellion and the events in this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ates and geographical location of bot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approximately the sa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ntiac is the name of a runaway Indian wh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nd Jace in the fo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 was looking for his lost crow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ntiac, when he found Jace in the fo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nape village in the story was at wa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 Pontiac Indian village located nearb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143000" y="5673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3000" y="297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1430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143000" y="478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was the Indian village in the story so quiet and stil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late in the afternoon and everyone w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ing a na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in the tribe were sick or had di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en and older boys were out hun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village was always quiet because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idents disliked loud noi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43000" y="541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43000" y="3106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4300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143000" y="4664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significance of the Ohio, Allegheny and Monogahela Rivers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marked a boundary of the state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nnsylvan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shing in the Monogahela River was strict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bidden to the India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nape village was located at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section of these three riv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minated water from the Ohio River w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ing the soldiers si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143000" y="5878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143000" y="3025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14300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143000" y="4940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best describes the dwellings in the Indian vill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epees decorated with colorful desig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quare adobe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unded huts woven from prairie gr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rk-covered longhou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4626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143000" y="2935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143000" y="3489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143000" y="4049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’s response to seeing his mother and hearing her story is best characterized as which one of the followi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43000" y="496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143000" y="3321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143000" y="38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143000" y="4421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4-27T04:56:12Z</dcterms:modified>
  <cp:revision>58</cp:revision>
  <dc:subject/>
  <dc:title>PowerPoint Presentation</dc:title>
</cp:coreProperties>
</file>