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E80F-A114-4E42-B164-E74CC3123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1F2-9951-43F0-95D1-86C48CA8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1BD-0016-4CE5-B839-ADAE2E51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02E-2EF1-4F17-A785-C2AA1586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4AB-B97D-4568-B587-5C9D1E3C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D80-51C1-4B85-B82C-886C84EF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90F-ABD9-4E4C-BFD2-F092CE11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57F-6830-4C32-A7B3-72D1E199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859-A85A-492F-9CAA-A57777E6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03C-439E-4828-8A8C-7263BB96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3B5-C58A-4761-8485-CAADA821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4CB-D0BA-4BBD-856F-5847A24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73A-F56A-40CD-84B9-01D74386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7E98-A4AD-47EC-9E8E-263415DDE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16:04Z</dcterms:modified>
  <cp:revision>59</cp:revision>
  <dc:subject/>
  <dc:title>PowerPoint Presentation</dc:title>
</cp:coreProperties>
</file>