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jpeg" ContentType="image/jpeg"/>
  <Override PartName="/ppt/media/image53.jpeg" ContentType="image/jpeg"/>
  <Override PartName="/ppt/media/image52.png" ContentType="image/png"/>
  <Override PartName="/ppt/media/image49.wmf" ContentType="image/x-wmf"/>
  <Override PartName="/ppt/media/image46.wmf" ContentType="image/x-wmf"/>
  <Override PartName="/ppt/media/image45.wmf" ContentType="image/x-wmf"/>
  <Override PartName="/ppt/media/image44.wmf" ContentType="image/x-wmf"/>
  <Override PartName="/ppt/media/image43.jpeg" ContentType="image/jpeg"/>
  <Override PartName="/ppt/media/image50.wmf" ContentType="image/x-wmf"/>
  <Override PartName="/ppt/media/image40.png" ContentType="image/png"/>
  <Override PartName="/ppt/media/image39.wmf" ContentType="image/x-wmf"/>
  <Override PartName="/ppt/media/image37.jpeg" ContentType="image/jpeg"/>
  <Override PartName="/ppt/media/image3.wmf" ContentType="image/x-wmf"/>
  <Override PartName="/ppt/media/image29.jpeg" ContentType="image/jpeg"/>
  <Override PartName="/ppt/media/image15.jpeg" ContentType="image/jpeg"/>
  <Override PartName="/ppt/media/image9.jpeg" ContentType="image/jpeg"/>
  <Override PartName="/ppt/media/image66.jpeg" ContentType="image/jpeg"/>
  <Override PartName="/ppt/media/image11.png" ContentType="image/png"/>
  <Override PartName="/ppt/media/image2.png" ContentType="image/png"/>
  <Override PartName="/ppt/media/image25.jpeg" ContentType="image/jpeg"/>
  <Override PartName="/ppt/media/image12.png" ContentType="image/png"/>
  <Override PartName="/ppt/media/image1.jpeg" ContentType="image/jpeg"/>
  <Override PartName="/ppt/media/image35.jpeg" ContentType="image/jpeg"/>
  <Override PartName="/ppt/media/image22.jpeg" ContentType="image/jpeg"/>
  <Override PartName="/ppt/media/image23.jpeg" ContentType="image/jpeg"/>
  <Override PartName="/ppt/media/image42.wmf" ContentType="image/x-wmf"/>
  <Override PartName="/ppt/media/image14.jpeg" ContentType="image/jpeg"/>
  <Override PartName="/ppt/media/image17.png" ContentType="image/png"/>
  <Override PartName="/ppt/media/image32.jpeg" ContentType="image/jpeg"/>
  <Override PartName="/ppt/media/image20.wmf" ContentType="image/x-wmf"/>
  <Override PartName="/ppt/media/image70.jpeg" ContentType="image/jpeg"/>
  <Override PartName="/ppt/media/image68.jpeg" ContentType="image/jpeg"/>
  <Override PartName="/ppt/media/image24.jpeg" ContentType="image/jpeg"/>
  <Override PartName="/ppt/media/image69.png" ContentType="image/png"/>
  <Override PartName="/ppt/media/image67.jpeg" ContentType="image/jpeg"/>
  <Override PartName="/ppt/media/image59.wmf" ContentType="image/x-wmf"/>
  <Override PartName="/ppt/media/image64.jpeg" ContentType="image/jpeg"/>
  <Override PartName="/ppt/media/image72.png" ContentType="image/png"/>
  <Override PartName="/ppt/media/image38.jpeg" ContentType="image/jpeg"/>
  <Override PartName="/ppt/media/image21.jpeg" ContentType="image/jpeg"/>
  <Override PartName="/ppt/media/image65.png" ContentType="image/png"/>
  <Override PartName="/ppt/media/image63.jpeg" ContentType="image/jpeg"/>
  <Override PartName="/ppt/media/image71.png" ContentType="image/png"/>
  <Override PartName="/ppt/media/image6.jpeg" ContentType="image/jpeg"/>
  <Override PartName="/ppt/media/image18.png" ContentType="image/png"/>
  <Override PartName="/ppt/media/image58.wmf" ContentType="image/x-wmf"/>
  <Override PartName="/ppt/media/image61.jpeg" ContentType="image/jpeg"/>
  <Override PartName="/ppt/media/image60.jpeg" ContentType="image/jpeg"/>
  <Override PartName="/ppt/media/image5.jpeg" ContentType="image/jpeg"/>
  <Override PartName="/ppt/media/image26.png" ContentType="image/png"/>
  <Override PartName="/ppt/media/image8.jpeg" ContentType="image/jpeg"/>
  <Override PartName="/ppt/media/image19.png" ContentType="image/png"/>
  <Override PartName="/ppt/media/image62.jpeg" ContentType="image/jpeg"/>
  <Override PartName="/ppt/media/image41.wmf" ContentType="image/x-wmf"/>
  <Override PartName="/ppt/media/image10.jpeg" ContentType="image/jpeg"/>
  <Override PartName="/ppt/media/image13.png" ContentType="image/png"/>
  <Override PartName="/ppt/media/image54.jpeg" ContentType="image/jpeg"/>
  <Override PartName="/ppt/media/image27.wmf" ContentType="image/x-wmf"/>
  <Override PartName="/ppt/media/image28.jpeg" ContentType="image/jpeg"/>
  <Override PartName="/ppt/media/image51.jpeg" ContentType="image/jpeg"/>
  <Override PartName="/ppt/media/image7.jpeg" ContentType="image/jpeg"/>
  <Override PartName="/ppt/media/image16.png" ContentType="image/png"/>
  <Override PartName="/ppt/media/image4.png" ContentType="image/png"/>
  <Override PartName="/ppt/media/image30.jpeg" ContentType="image/jpeg"/>
  <Override PartName="/ppt/media/image31.jpeg" ContentType="image/jpeg"/>
  <Override PartName="/ppt/media/image47.wmf" ContentType="image/x-wmf"/>
  <Override PartName="/ppt/media/image48.wmf" ContentType="image/x-wmf"/>
  <Override PartName="/ppt/media/image33.jpeg" ContentType="image/jpeg"/>
  <Override PartName="/ppt/media/image34.gif" ContentType="image/gif"/>
  <Override PartName="/ppt/media/image36.jpeg" ContentType="image/jpeg"/>
  <Override PartName="/ppt/media/image5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92AE-E82B-4B11-8525-0B523FF1E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ide Numbers of this presentation corresponding to the different subject areas a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4, 52-55, 78-89; 3R 2.0, 50.0-53.0, 76.0-87.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 56-60, 67-77; 3R 54.0-58.0, 65.0-75.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24-51; 3R 22.0-49.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5-23; 3R 22.0-49.0</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ncludes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0000"/>
                </a:solidFill>
                <a:latin typeface="Arial"/>
              </a:rPr>
              <a:t>“Read This First - TEACHER INSTRUCTIONS” 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Press Esc key to “escape” out of the slide show view.</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rench claimed most of the land west of the Appalachian Mountains stretching from Canada to the Gulf of Mexico and west to the Rocky Mou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ain claimed Florida, most of Central and South America, Texas, the western U.S., and islands in the Caribbean S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raditional homes of many American Indian groups were in the areas claimed by England, France, and Sp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B  compare places and regions of the United State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A  identify selected racial, ethnic, and religious groups that settled in the U.S. and their reasons for immi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itish settlements north america french settlements spanish spain american indians claim France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19</a:t>
            </a:r>
            <a:r>
              <a:rPr b="0" lang="en-US" sz="1000" spc="-1" strike="noStrike" baseline="30000">
                <a:solidFill>
                  <a:srgbClr val="000000"/>
                </a:solidFill>
                <a:latin typeface="Arial"/>
              </a:rPr>
              <a:t>th</a:t>
            </a:r>
            <a:r>
              <a:rPr b="0" lang="en-US" sz="1000" spc="-1" strike="noStrike">
                <a:solidFill>
                  <a:srgbClr val="000000"/>
                </a:solidFill>
                <a:latin typeface="Arial"/>
              </a:rPr>
              <a:t> century nineteenth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B  compare places and regions of the United State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itish settlements North America french settlements Spain American Indians Appalachian Mountains Gulf of Mexico Rocky Mountains Central America South America Texas western United States Caribbean Sea England F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fer to map.</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areas on the map were occupied by American India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licts between the European powers tended to occur along their frontiers with each other or along major transportation routes as they competed for resources and control.  The British also moved to take control of French settlements in the Caribbea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lict between the European and American Indian cultures were scattered throughout the areas shown on the map as Europeans occupied more and more land, depleted wildlife, and exerted control over traditional native land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itish settlements east cost North America French settlements Spanish Spain American Indians Appalachian Mountains Gulf of Mexico Rocky Mountains Central America South America Texas western United States Caribbean Sea England France Spain European powers conflic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ritish were expanding into French Territories and were attempting to take over some of the fur trade that had been established by the French. The British were also attempting to gain control of the land between the Appalachian Mountains and the Mississippi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 British colonies colonists Appalacian mountains French settlements forts outposts American Indians trading American Indian allies fur tr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of the areas of conflict were located just to the west of the Appalachian Mountains along important transportation routes, such as trails and riv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lict occurred when colonists and the British crossed the mountains and entered territory claimed by the Fren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orth America British French conflict Appalachian mountains transportation colonists French territor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eorge Washington. Washington and his men won the first skirmish in May 1754.  They built a small fort, Fort Necessity, but surrendered it in the face of an attack by a larger force of French soldiers in July, 175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July 1754 American militia French Fort Duquesne Pittsburg PA Pennsylvania battles Atlantic ocean George Washington May 1754 Seven Years War French and Indian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3 of 1800 = 12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H  use appropriate mathematical skills to interpret social studies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ighteenth century nineteenth century 18</a:t>
            </a:r>
            <a:r>
              <a:rPr b="0" lang="en-US" sz="1000" spc="-1" strike="noStrike" baseline="30000">
                <a:solidFill>
                  <a:srgbClr val="000000"/>
                </a:solidFill>
                <a:latin typeface="Arial"/>
              </a:rPr>
              <a:t>th</a:t>
            </a:r>
            <a:r>
              <a:rPr b="0" lang="en-US" sz="1000" spc="-1" strike="noStrike">
                <a:solidFill>
                  <a:srgbClr val="000000"/>
                </a:solidFill>
                <a:latin typeface="Arial"/>
              </a:rPr>
              <a:t> century 19</a:t>
            </a:r>
            <a:r>
              <a:rPr b="0" lang="en-US" sz="1000" spc="-1" strike="noStrike" baseline="30000">
                <a:solidFill>
                  <a:srgbClr val="000000"/>
                </a:solidFill>
                <a:latin typeface="Arial"/>
              </a:rPr>
              <a:t>th</a:t>
            </a:r>
            <a:r>
              <a:rPr b="0" lang="en-US" sz="1000" spc="-1" strike="noStrike">
                <a:solidFill>
                  <a:srgbClr val="000000"/>
                </a:solidFill>
                <a:latin typeface="Arial"/>
              </a:rPr>
              <a:t> century 1877 European exploration European colonization North America 1754 1755 British troops Edward Braddock Fort Duquesne George Washington Seven Years War French and Indian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rench had many American Indian allies fighting on their side. Very few American Indian groups sided with the British.  Most of the battles occurred in territory that was familiar to the French and American Indians. The British were far from their source of supplies and were unfamiliar with the fighting techniques used by the French and American Indi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1755 1757 British French battles French victory American Indian allies American Indians French and Indian War Seven Years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erican Indian groups whose traditional lands were in the area occupied by the British colonies had their numbers reduced by many years of conflict with the British and many groups had nearly disappeared because of their lack of resistance to European diseases.  Town-building and farming had destroyed land the American Indians had used for hunting and fish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French planted only a few major settlements in the interior of the U.S. and Canada. French presence was mostly traders who traded European goods for furs. The French coexisted with the American Indians and didn’t attempt to remove them from areas.  American Indians saw the French as a means of gaining valuable trade good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B  analyze information by sequencing, categorizing, identifying cause-and-effect relationships, comparing, contrasting, finding the main idea, summarizing, making generalizations and predictions, and drawing inferences and conclus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2.A  use a problem-solving process to identify a problem, gather information, list and consider options, consider advantages and disadvantages, choose an implement a solution, and evaluate the effectiveness of the solu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ritish American Indian allies French allies British colonies European diseases French and Indian war seven years war</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uisbourg controlled the entry to the St. Lawrence River. The French used the St. Lawrence to carry trade goods to Quebec, Montreal, and the Great Lakes region. Fort Duquesne sat near the junction of a major American Indian trail and the Ohio River.  The trail and the river provided access to the Mississippi River and to the Ohio River Vall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2.A  use a problem-solving process to identify a problem, gather information, list and consider options, consider advantages and disadvantages, choose an implement a solution, and evaluate the effectiveness of th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ouisbourg St Lawrence River French trade Fort Duquesne American Indian trail 1758 British Pittsburg PA Pennsylvania French and Indian War Seven Years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t. Lawrence River was the major French highway to the interior of North America. French ships brought in supplies to trade with the American Indians. The ships carried out the valuable furs that were sold in Europe. Trade between the French and Americans came to a stop when the settlements and forts along the St. Lawrence were defeated by the British. When trade came to an end, many American Indians deserted their French al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2.A  use a problem-solving process to identify a problem, gather information, list and consider options, consider advantages and disadvantages, choose an implement a solution, and evaluate the effectiveness of th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 Lawrence River French furs trade American Indians French allies 1758 British forces British victories Montreal North America French and Indian war seven years w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licts continued between American Indian groups and the British and colonists. The uprising led by Chief Pontiac was the most notable. These conflicts were caused by the movement of British and colonial settlers onto traditional American Indian l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flict also arose between the colonists and the British over laws the American colonists thought were unfair. The Revolutionary War resulted in the independence of the colonies and the formation of the United States of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B  analyze information by sequencing, categorizing, identifying cause-and-effect relationships, comparing, contrasting, finding the main idea, summarizing, making generalizations and predictions, and drawing inferences an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2.A  use a problem-solving process to identify a problem, gather information, list and consider options, consider advantages and disadvantages, choose an implement a solution, and evaluate the effectiveness of the solu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eaty of Paris war North America 1760 Europe 1763 French and Indian war seven years war American Indian British colonists Chief Pontiac Revolutionary War independence United States of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ance surrendered Canada and land east of the Mississippi River to England. West of the Mississippi River, France ceded land to Spain. England acquired Florida from Spa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c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B  analyze information by sequencing, categorizing, identifying cause-and-effect relationships, comparing, contrasting, finding the main idea, summarizing, making generalizations and predictions, and drawing inferences an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orth america 18</a:t>
            </a:r>
            <a:r>
              <a:rPr b="0" lang="en-US" sz="1000" spc="-1" strike="noStrike" baseline="30000">
                <a:solidFill>
                  <a:srgbClr val="000000"/>
                </a:solidFill>
                <a:latin typeface="Arial"/>
              </a:rPr>
              <a:t>th</a:t>
            </a:r>
            <a:r>
              <a:rPr b="0" lang="en-US" sz="1000" spc="-1" strike="noStrike">
                <a:solidFill>
                  <a:srgbClr val="000000"/>
                </a:solidFill>
                <a:latin typeface="Arial"/>
              </a:rPr>
              <a:t> century north american colonization map 1863 treaty of pari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primary source is a document produced by an eye witness or participant in an event. A secondary source relies on reports by oth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istorians think it is important to examine primary sources to gain objective information. Secondary sources are sometimes subject to bias, exaggeration, lack of complete information,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on-line version of the Treaty of Paris contains the actual text of the document.  The actual document is hand-writt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A  differentiate between, locate, and use primary and secondary sources such as computer software, databases, media and news services, biographies, interviews, and artifacts to acquire information about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treaty of paris primary source secondary sour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ntroduces the problem to be solved. The problem is not to guess what the disease is, but rather 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e the symptoms to similar diseases that the students may already know abou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lain why the disease seems to be more of a problem Native Americans, an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duce how the disease is being sprea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 Arrow and Jace first saw Star Weaver, Red Arrow’s mother.  She had pock-marked skin from blisters on her face that had healed.  Little Turtle looked fine except she had one scab on her cheek that was almost healed.  When Star Weaver explained the chain of events, she described Dark Cloud as being “too tired to travel.”  He also contracted a fever and an ugly red rash.  He later died from the sickness.  When Jace approached the longhouse, he could smell a “putrid od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 Weaver, Little Turtle, and Dark Cloud were all sick, but not to the same degree.  The story also mentioned that Dark Cloud thought the man who handed him the blankets was sick.  In addition, Star Weaver talks about the English carrying their dead into the woods to be burne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mptoms of the sickness include: malaise, fever, a red rash that covered Dark Cloud’s body but only barely touched Little Turtle, and scars from where the rash was on those who lived through the disease.  Notice too, that when Star Weaver had healed, there were no scabs left on her, just sc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ildren today get diseases that have a rash.  You might want to talk to the children about measles and chicken pox and how those diseases are different from what is in the story.  The big difference is that smallpox kills people – lots of peop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th problems symptoms native American India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sible Causes of the Sicknes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ted water in the Monongahela</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ted food, such as deer meat</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taminated air--The English were burning their dead in the forest north of the village and the wind blew to the south.</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rk Cloud could have contracted it from the sick Englishman who gave him the blanket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lankets could have been contaminated.</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EYWORDS: hypothesis sickness Lenape tribe native Americans scientific method c</a:t>
            </a:r>
            <a:r>
              <a:rPr b="0" lang="en-US" sz="1000" spc="-1" strike="noStrike">
                <a:solidFill>
                  <a:srgbClr val="000000"/>
                </a:solidFill>
                <a:latin typeface="Arial"/>
              </a:rPr>
              <a:t>ontaminated water contaminated food contaminated ai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gs We Know</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ickness kills a lot of people, but some live through the disease and some are barely affected by it.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 know the general symptoms from the previous slid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oth the English and the Lenape tribe are suffering from a sicknes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took two weeks from the time Dark Cloud was given the blankets to when he died.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ark Cloud first became tired, then contracted a fever that lasted two days, and then a rash formed all over his bod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gs We Don’t Know</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the sickness i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is was transmitte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it is the same sickness as the one that the English hav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We Need</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r brains and the story</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earn about some forms of disease transmission and different types of diseases.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disease transmission investigations Lenape tribe rash English fever experimental desig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get the students to think logically about the possibility that the water was contaminated.  If the water was contaminated then the other people of the Lenape tribe who went on the mission would have also become sick, since they would most likely have consumed water from the same source.  Also, the river flows from North to South.  The powwow would have been south of the Lenape village, closer to Fort Pitt, since the tribal chiefs were to meet with Ecuyer.  Therefore, the Lenape people, whose only water source is the Monongahela, would have most likely contracted the sickness first or at the same time as the English and Dark Cloud.  However, we know that the sickness moved with Dark Cloud from the south to the nor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onongahela River</a:t>
            </a:r>
            <a:r>
              <a:rPr b="1" lang="en-US" sz="1000" spc="-1" strike="noStrike">
                <a:solidFill>
                  <a:srgbClr val="000000"/>
                </a:solidFill>
                <a:latin typeface="Arial"/>
              </a:rPr>
              <a:t> </a:t>
            </a:r>
            <a:r>
              <a:rPr b="0" lang="en-US" sz="1000" spc="-1" strike="noStrike">
                <a:solidFill>
                  <a:srgbClr val="000000"/>
                </a:solidFill>
                <a:latin typeface="Arial"/>
              </a:rPr>
              <a:t>Allegheny River Ohio River Lenape tribe disease transmission water contamination Lenape village Fort Pitt tribal chiefs Ecuyer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cally contaminated water is the leading cause of diarrhea.  All types of infectious agents, from the smallest virus to a large parasite, can contaminate water sources.  There are many water-borne pathogens that cause illness with varying symptoms, however, most have diarrhea or abdominal discomfort as a symptom.  None of the sick people in the story complained of these symptoms.  This adds to the evidence against contaminated water as the possible disease sourc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Scientific processes: The student uses critical thinking and scientific problem solving to make informed decision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nalyze, review, and critique scientific explanations, including hypotheses and theories, as to their strengths and weaknesses using scientific evidence and inform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ecal contaminated water diarrhea abdominal discomfort symptoms microbe sewage system water treatment plants purify drinking wat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od was barely mentioned in the story, but many illnesses can come from contaminated foods.  There are some diseases, known as zoonotic diseases, that can be transferred from an animal to a human.  The only food the story mentioned is deer meat.  There is no indication that the sickness came from the tribe’s food sour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tribe’s food source was the problem, then the people of the tribe would have become sick before Dark Cloud did.  If the powwow party’s food source was the problem, then Dark Cloud would not have been the only one who became sick.  The story indicates that Dark Cloud would not have been the oldest or the most immunocompromised out of the powwow group.  Even if he were the only one to catch the disease, it would not have spread to a large number of people in the vill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Scientific processes: The student uses critical thinking and scientific problem solving to make informed decision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nalyze, review, and critique scientific explanations, including hypotheses and theories, as to their strengths and weaknesses using scientific evidence and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enape tribe diet food source sickness contaminated foods zoonotic disease deer meat vill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35080" y="687240"/>
            <a:ext cx="4586400" cy="3440160"/>
          </a:xfrm>
          <a:prstGeom prst="rect">
            <a:avLst/>
          </a:prstGeom>
          <a:ln w="0">
            <a:noFill/>
          </a:ln>
        </p:spPr>
      </p:sp>
      <p:sp>
        <p:nvSpPr>
          <p:cNvPr id="76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icture on this slide can be used to hint at the possible problem with the air.  Star Weaver complained that the English were burning dead bodies north of the village. The wind blew the smoke from the funeral pyres into the village. Fire itself did not cause sickness, because Indians used campfires long before the English came and the Indians did not get sick until after the English came. Thus, the sickness came from an infectious microbe. If the heat of the fire did not destroy the microbe that caused the fatal disease, then it could possibly be carried in the air to the village.  However, remember that no one in the village was sick before Dark Cloud came.  Star Weaver did not indicate whether she saw the dead being burned, either before or after Dark Cloud came, but that is not important.  If the smoke for the funeral pyres was the disease transmitter, then the people in the village would have become sick before Dark Cloud did.  Also, Dark Cloud would not have been the only man out of the powwow to become sick.  The next slide also gives another support against the air as being the possible cau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ay the disease could have traveled in the air is through respiratory droplets from the sick Englishman who gave Dark Cloud the blankets.  Dark Cloud did not indicate that the man coughed or sneezed on/near him, but Star Weaver did remember him saying that the Englishman looked sick. With this support, air could be the source of the sicknes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Scientific processes: The student uses critical thinking and scientific problem solving to make informed decision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nalyze, review, and critique scientific explanations, including hypotheses and theories, as to their strengths and weaknesses using scientific evidence and inform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glish burning dead bodies village smoke funeral pyres Indians campfires infectious microbe fatal disease air disease transmitte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pre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nape tribe headed south.  If the smoke, blowing from North to South, were the problem, then these people would have also contracted the disease.  The story did not mention anything about the people at the Delaware getting sick.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90000"/>
              </a:lnSpc>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lnSpc>
                <a:spcPct val="9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glish burn dead forest village Lenape trib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y mentioned that Dark Cloud had received blankets from an Englishman who he thought was sick.  Dark Cloud was the first person in the story to get sick.  The sickness then spread throughout the tribe.  The story does not mention anything about anyone in the powwow group getting sick.  Dark Cloud could have possibly shaken hands with the Englishman as a sign of peace.  Also, the microbe could have contaminated the blankets.  Contamination of the blankets would be a quick way for the microbe to infect a large number of peopl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eases skin contact blankets Englishman sickness tribe microbe contamination infect formulate hypothesi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othesi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first hypothesis, try to get the students to form an educated guess about how the disease spread.  Was it via the air, water, food, blankets, sick Englishman, or more than one of these?  For the second hypothesis, try to get the students to form an educated guess about what type of disease caused the sickness.  For example, whether it is a relative of one of the diseases talked about, bacteria or virus, or maybe get them to reiterate the symptoms that the microbe must cause during its infectious lifecycl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test the hypothesis, the students need more information.  They need to test the water, air, food, blankets, and/or the sick Englishman.  They could test Star Weaver or Little Turtle for possible viruses or bacteria found in the pocks on their skin.  They also need to research the symptoms of the disease and find out which bacteria or virons cause those symptoms.  With this information, they could rule out lots of diseases based upon what was described in the story.  This might be a good exercise to do in the cla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ggested activity: Under adult supervision, have students log onto the Internet, go to a search engine like Google.com, enter the symptoms and see what diseases pop up.  The students can also go to medlineplus.gov and enter in their search terms in the box at the top of the page.  Important search terms include: fever, malaise, scabs, pocks, and rash.  More than one search term should be used simultaneously, separated by a spac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disease experimental design water air food blanket Englishman viruses bacteria pocks skin</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possibilities and are not limited by what is listed below: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antine those who were sick.</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sh their hands frequently and after touching another pers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r a cloth over their nose and mouth to prevent inhalation of respiratory droplets from an infected pers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contact with the infected person’s things and burn them if necessar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wary of the English and not accept items from sick people.</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prevention quarantine respirato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 Weaver mentioned that Dark Cloud had said he thought the Englishman who gave him the blankets looked sick.  If the disease-causing microbes were not killed in the burning, then the disease could have spread through the smok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 to tell the students to help them figure it all out: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viruses, except prion agents, are inactivated if burned at or above 249</a:t>
            </a:r>
            <a:r>
              <a:rPr b="0" lang="en-US" sz="1000" spc="-1" strike="noStrike">
                <a:solidFill>
                  <a:srgbClr val="000000"/>
                </a:solidFill>
                <a:latin typeface="Arial"/>
                <a:ea typeface="Times New Roman"/>
              </a:rPr>
              <a:t>°F.</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me bacteria can survive large variations in temperature.  For example, the Anthrax bacterium can live through extreme temperatur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coolest fire burns at 350°F, but usually, fires burn at a much higher temperature. </a:t>
            </a:r>
            <a:r>
              <a:rPr b="0" lang="en-US" sz="1000" spc="-1" strike="noStrike">
                <a:solidFill>
                  <a:srgbClr val="000000"/>
                </a:solidFill>
                <a:latin typeface="Arial"/>
              </a:rPr>
              <a:t>If the microbe was a virus, it would most likely be killed from burning.  Some bacteria, however, can even outlive a good fir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Scientific processes: The student uses critical thinking and scientific problem solving to make informed decision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nalyze, review, and critique scientific explanations, including hypotheses and theories, as to their strengths and weaknesses using scientific evidence and informa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Science concepts</a:t>
            </a:r>
            <a:endParaRPr b="0" lang="en-US" sz="1000" spc="-1" strike="noStrike">
              <a:solidFill>
                <a:srgbClr val="000000"/>
              </a:solidFill>
              <a:latin typeface="Arial"/>
            </a:endParaRPr>
          </a:p>
          <a:p>
            <a:pPr lvl="2" marL="1143000" indent="-228600">
              <a:spcBef>
                <a:spcPts val="374"/>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that change in environmental conditions can affect the survival of individuals and of specie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glishman disease-causing microbes investig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place to confirm that we are probably dealing with some kind of infection. Answers to the questions in the slide involve differential immunity.  Most of the Englishmen were immune, because they had been exposed back in their home country and the survivors, now in America, were able to throw off the infection. Indians, however, had never been exposed to the infection, and had no chance to develop any immunity.  Thus, their entire population was highly vulne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about the biology of immunity, see our Web-site instruction, at http://peer.tamu.edu/curriculum_modules/OrganSystems/Module_1/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fection immunity Englishmen American Indi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kenpox is caused by the varicella-zoster virus, a relative of herpes simplex 1 and 2 and B virus which causes encephalitis in ma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kenpox can affect older populations, but it is usually considered a children’s disease.  In adults, the varicella-zoster virus causes shingl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a person contracts chickenpox and lives, he usually has lifelong immunity to the disease.  However, a person with a history of having chickenpox may contract shingles later on in life.  After acquiring chickenpox, the virus remains dormant in the body.  Sometimes, the virus will reactivate for unknown reasons (some speculate it is due to increased age or high stress), causing shingl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ickenpox rash consists of fluid-filled blisters that break and form crusts or scabs on the skin.  Chickenpox rarely causes scarring except in cases where the rash becomes infected as the result of vigorous scratching.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any cases, smallpox is misdiagnosed as chickenpox due to the similarity in rash produced by both diseases.  However, there are two easy ways to tell these two diseases apart.  In chickenpox, the fever occurs during the time of the rash and the rash develops quickly with pocks forming in all stages (ie: vesicles, pustules, and scabs appear together).  In smallpox, the fever occurs 2-4 days before the rash appears, all the pocks appear at the same stage (ie: vesicles, pustules, and scabs do not appear together), and the development of the rash is slow.  The smallpox virus, vaccinia, is not a relative of the varicella-zoster viru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llpox is contagious from 2 days before onset of a rash until the last scab falls off.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r>
              <a:rPr b="0" lang="en-US" sz="10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r>
              <a:rPr b="0" lang="en-US" sz="1000" spc="-1" strike="noStrike">
                <a:solidFill>
                  <a:srgbClr val="000000"/>
                </a:solidFill>
                <a:latin typeface="Arial"/>
              </a:rPr>
              <a:t>  </a:t>
            </a:r>
            <a:r>
              <a:rPr b="0" lang="en-US" sz="1000" spc="-1" strike="noStrike">
                <a:solidFill>
                  <a:srgbClr val="000080"/>
                </a:solidFill>
                <a:latin typeface="Arial"/>
                <a:ea typeface="Times New Roman"/>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ickenpox chicken pox varicella-zoster virus herpes encephalitis shingles immunity blisters infectiou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les is another childhood illness.  This disease used to be a huge problem but due to strict vaccination programs, there have been very few cases recent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normal cases, measles is not deadly; however, complications can result in hospitalization or even death.  The most common secondary infections are pneumonia and encephalitis.  Complications occur in about 30% of the cas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ymptoms include: conjunctivitis, sore throat, runny nose, photophobia, and bloodshot eye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sh in measles is very different from other rashes we have seen.  The rash looks like flat, red and brown blotches that sometimes appear to run together.  Another defining feature are Koplik’s spots found in the interior of the mouth.  These are irregular shaped spots that are red on the outside and blue-white in the middl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describe this rash and the rash from chickenpox.  Have them compare and contrast the two rash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r>
              <a:rPr b="0" lang="en-US" sz="10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EYWORDS: viral disease fever measles childhood illness vaccination pneumonia </a:t>
            </a:r>
            <a:r>
              <a:rPr b="0" lang="en-US" sz="1000" spc="-1" strike="noStrike">
                <a:solidFill>
                  <a:srgbClr val="000000"/>
                </a:solidFill>
                <a:latin typeface="Arial"/>
              </a:rPr>
              <a:t>encephalitis conjunctivitis sore throat runny nose photophobia Kopliks spots chickenpox</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keypox looks exactly like smallpox but with a decreased number of pox and additional swelling of lymph nodes.  Monkeypox is caused by the monkeypox virus, an orthopoxvirus related to the smallpox virus.  Monkeypox is less severe than smallpox, has a lower death rate, and does not spread easily from person to perso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smallpox, monkeypox infections begin with malaise, followed by a fever and then a rash.  The rash develops in stages with only one type of pock (vesicular, pustular, or scabby) found on the body in each stage.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kids compare the chickenpox and measles rash with the monkeypox rash.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is the rash in the story not due to monkeypox?  There is no evidence of contact with monkeys and the disease does not spread easily like smallpox.</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r>
              <a:rPr b="0" lang="en-US" sz="10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EYWORDS: </a:t>
            </a:r>
            <a:r>
              <a:rPr b="0" lang="en-US" sz="1000" spc="-1" strike="noStrike">
                <a:solidFill>
                  <a:srgbClr val="000000"/>
                </a:solidFill>
                <a:latin typeface="Arial"/>
              </a:rPr>
              <a:t>Monkeypox rash smallpox lymph nodes orthopoxvirus malais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Investigator’s Challenge Quiz:</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M),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Monitoring comprehension and making modific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Drawing inferenc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K) Answering different types and levels of ques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 Using study strategies to work on idea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a:t>
            </a:r>
            <a:r>
              <a:rPr b="0" lang="en-US" sz="1000" spc="-1" strike="noStrike">
                <a:solidFill>
                  <a:srgbClr val="000000"/>
                </a:solidFill>
                <a:latin typeface="Arial"/>
                <a:ea typeface="Times New Roman"/>
              </a:rPr>
              <a:t>Supporting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G, K),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Analyzing characte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Recognizing and analyzing story plot, setting, and problem resolu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K) Recognizing how style, tone, and mood contribute to the affect of tex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C, H, K, M), 7.11 (C), 7.12 (F, G, K), 8.10 (C, H, K, M), 8.11 (C), 8.12 (F, G, K)</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iled Answers to Investigator’s Challenge Quiz:</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B</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real cause of the disease was smallpox. </a:t>
            </a:r>
            <a:r>
              <a:rPr b="0" lang="en-US" sz="1000" spc="-1" strike="noStrike">
                <a:solidFill>
                  <a:srgbClr val="000000"/>
                </a:solidFill>
                <a:latin typeface="Arial"/>
              </a:rPr>
              <a:t>There is a supplement to this adventure that elaborates on the nature of smallpox.</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be able to reason that none of the three suggested diseases fit the descriptions in the story. The chickenpox rash looked very much like the description of the disease in the story.  However, many of the Lenape people died from the sickness, whereas chickenpox rarely kills.  Also, the chickenpox rash does not usually leave scars and Star Weaver had a very scarred face from the sicknes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sh from measles looks very different than that described in the story.  In addition, measles, like chickenpox, does not cause scarr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nkeypox rash fits the story’s description.  However, monkeypox does not spread readily from human to human, and the smallpox death rate is higher in children.  Therefore, it would be more likely that Little Turtle would die than Dark Cloud if monkeypox was the disease.  Plus, the story didn’t mention anything about Dark Cloud coming into contact with wild rodent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ease sounded more like chickenpox or monkeypox than measles, but it definitely was not either disease.  The disease causing microbe is related to the monkeypox virus; however, the students do not yet have the information necessary to distinguish chickenpox virus from monkeypox virus.  Either virus sounds like a reasonable relative to the disease-causing microbe.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ckness Lenape chickenpox measles monkeypox disease-causing microb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pr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bows are formed when sunlight hits water droplets.  Although the air was humid, the story said nothing about any rain.  Also, the woods formed a thick canopy of leaves which only let in a small amount of sunlight.  A rainbow is an array of colors from the visible color spectrum that is formed when sunlight hits water droplets in rain.  A more thorough definition will be given later when we have learned more about light and rainbow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inbows sunlight color spectrum fores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notice that no matter where the rainbow is, the colors are always in the same order.  This is a pattern that will help them later figure out how light bends to make a rainbow.  Have them write down the order in which the colors appear.  See which color is farthest from a horizontal plane (or the plane parallel to the pris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planning and conducting field and laboratory investigations using scientific methods, analyzing data, critical-thinking, scientific problem-solving, and using tools such as telescopes to collect and analyze information. Students also use computers and information technology tools to support scientific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6. Change and constancy occur in systems and can be observed and measured as patterns. These patterns help to predict what will happen next and can change over time.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1. Scientific processes. The student conducts field and laboratory investigations using safe, environmentally appropriate, and ethical practices. The student is expected to: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  Demonstrate safe practices during field and laboratory investigat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 during field and laboratory investigations.</a:t>
            </a:r>
            <a:endParaRPr b="0" lang="en-US" sz="1000" spc="-1" strike="noStrike">
              <a:solidFill>
                <a:srgbClr val="000000"/>
              </a:solidFill>
              <a:latin typeface="Arial"/>
            </a:endParaRPr>
          </a:p>
          <a:p>
            <a:pPr lvl="2" marL="1143000" indent="-228600">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 The student is expected to:</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light prism science process hypothesi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white light shines into the prism, it exits the prism broken up into different colors. But what does that imply?  Some students may say that white light must be made up of all the colors that appear on the wall or sheet of paper.  Without the prism, the light remains intact.  Think of it like a mixture of different ingredients that makes a whole new substance.  All of the colors mix to make white ligh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is is not technically correct! Light is not color nor is it made up of colo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Have students explore the question “What is color?” One definition is that color is the absorption of a certain frequency component of light by a pigment that is chemically coupled to signal to a cell or organism that that frequency of light has been absorbed.  Critique the definitions created by the stude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using scientific methods, analyzing data, critical-thinking, and scientific problem-solving.</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 during field and laboratory investigation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 The student is expected to:</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hite light prism pigment chemica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 is a very complex topic that has been simplified for the students.  In reality, light consists of waves and packets of particles called photons.  Physicists are still baffled by light and cannot fully explain this natural phenomenon.  We have models to illustrate how light works and what we believe light to be, but no one really knows.  Science has not been able to fully explain the light phenomenon.  The important concept for the students to understand about light is its wave property, because that is the property that we use to explain how rainbows work.</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  Science may not answer all quest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 solving to make informed decis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interactions between matter and energ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ght waves particles photons light phenomenon rainbows electric energy magnetic energy electromagnetic wav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students thoroughly understand the definition of frequency.  Notice that the color red has a slow wave, low energy, and low frequency.  Violet is the opposite with a fast wave, high energy, and high frequency.  You might pull out a copy of the entire electromagentic spectrum and show them where x-ray waves and microwaves fit into the scheme of things.  Test them to make sure they understand which waves are fast and which are slow wa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interactions between matter and energ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ght frequency color red wave low energy frequency electromagentic spectrum x-ray waves microwaves Hert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ble light has all of its frequency components absorbed by the pigments in the eye and appears clear or white to u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interactions between matter and energ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ight visible light frequency absorption pigments rainbow</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stiga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lnSpc>
                <a:spcPct val="80000"/>
              </a:lnSpc>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planning and conducting field and laboratory investigations using scientific methods, analyzing data, critical thinking, scientific problem-solving, and using tools such as telescopes to collect and analyze information. Students also use computers and information technology tools to support scientific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6. Change and constancy occur in systems and can be observed and measured as patterns. These patterns help to predict what will happen next and can change over time.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1. Scientific processes. The student conducts field and laboratory investigations using safe, environmentally appropriate, and ethical practices. The student is expected to: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A.  Demonstrate safe practices during field and laboratory investig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 during field and laboratory investigations.</a:t>
            </a:r>
            <a:endParaRPr b="0" lang="en-US" sz="1000" spc="-1" strike="noStrike">
              <a:solidFill>
                <a:srgbClr val="000000"/>
              </a:solidFill>
              <a:latin typeface="Arial"/>
            </a:endParaRPr>
          </a:p>
          <a:p>
            <a:pPr lvl="2" marL="1143000" indent="-228600">
              <a:lnSpc>
                <a:spcPct val="80000"/>
              </a:lnSpc>
              <a:spcBef>
                <a:spcPts val="374"/>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Plan and implement investigative procedures including asking questions and formulating testable hypotheses. </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 solving to make informed decisions. The student is expected to:</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interactions between matter and energ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white light sun visible spectrum primary colo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kids go on the Internet or read in a book or encyclopedia about Newton.  See what other things Newton discovered and the amazing impact he made on the scientific world.  Inspire them to investigate things they do not understand and encourage them to learn and visit the library.</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90000"/>
              </a:lnSpc>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A.  Analyze, review, and critique scientific explanations, including hypotheses and theories, as to their strengths and weaknesses using scientific evidence and information.</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Represent the natural world using models and identify their limitations; </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Evaluate the impact of research on scientific thought, society, and the environment; and </a:t>
            </a:r>
            <a:endParaRPr b="0" lang="en-US" sz="1000" spc="-1" strike="noStrike">
              <a:solidFill>
                <a:srgbClr val="000000"/>
              </a:solidFill>
              <a:latin typeface="Arial"/>
            </a:endParaRPr>
          </a:p>
          <a:p>
            <a:pPr lvl="2" marL="114300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E.  Connect Grade 8 science concepts with the history of science and contributions of scientist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r Isaac Newton light 1666 prism rainbow sunlight electromagnetic spectrum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z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requency of a wave is the number of waves that pass a given point per time period. (Units: Hertz)  Notice the light hits the prism, bends, and breaks into its various colors.  Also notice that the light bends again when it leaves the prism.  Notice that high frequency violet bends the most but red bends the least. Presumably, the higher frequency components have more energy and that higher energy allows the light to bend more.  Remember that violet is the fastest wave of the visible color spectrum and red is the slowest wave.  Also notice that the light is coming at an angle to the prism, not straight 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using scientific methods, analyzing data, critical thinking, and scientific problem-solving.</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228600">
              <a:spcBef>
                <a:spcPts val="374"/>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strate interactions between matter and energ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equency wave Hertz light prism visible color spectru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st European countries were involved in conflicts during the 18</a:t>
            </a:r>
            <a:r>
              <a:rPr b="0" lang="en-US" sz="1000" spc="-1" strike="noStrike" baseline="30000">
                <a:solidFill>
                  <a:srgbClr val="000000"/>
                </a:solidFill>
                <a:latin typeface="Arial"/>
              </a:rPr>
              <a:t>th</a:t>
            </a:r>
            <a:r>
              <a:rPr b="0" lang="en-US" sz="1000" spc="-1" strike="noStrike">
                <a:solidFill>
                  <a:srgbClr val="000000"/>
                </a:solidFill>
                <a:latin typeface="Arial"/>
              </a:rPr>
              <a:t> century. The major powers in conflict were Britain, France, and Spa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se countries competed for land, power, colonies and tr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se countries had settlements/colonies in the New World so the European wars also created conflict among these countries in the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flict europe new world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 north america britain france spain settlements colo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nowledg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nding of light is a phenomenon known as refraction.  Humans also change speed when moving from one medium to another.  You cannot run as fast in water as you can on land.  If you have a large prism or piece of glass, you might be able to show the bending of light by laying the glass flat and shining a light at an angle to the glass/prism.  Within the glass/prism, you should be able to see the bend in the ligh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lnSpc>
                <a:spcPct val="80000"/>
              </a:lnSpc>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using scientific methods, analyzing data, critical thinking, and scientific problem-solving.</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lnSpc>
                <a:spcPct val="80000"/>
              </a:lnSpc>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228600">
              <a:lnSpc>
                <a:spcPct val="80000"/>
              </a:lnSpc>
              <a:spcBef>
                <a:spcPts val="374"/>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strate interactions between matter and energy.</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refraction bending light prism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pre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ors that move faster through water bend more when they hit the water droplet than those that move more slowly through wat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parates the different color frequencies into their order from fastest to slowest: Violet, Indigo, Blue, Green, Yellow, Orange, and R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phenomenon is known as </a:t>
            </a:r>
            <a:r>
              <a:rPr b="1" lang="en-US" sz="1000" spc="-1" strike="noStrike">
                <a:solidFill>
                  <a:srgbClr val="000000"/>
                </a:solidFill>
                <a:latin typeface="Arial"/>
              </a:rPr>
              <a:t>dispers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Science</a:t>
            </a:r>
            <a:endParaRPr b="0" lang="en-US" sz="1000" spc="-1" strike="noStrike">
              <a:solidFill>
                <a:srgbClr val="000000"/>
              </a:solidFill>
              <a:latin typeface="Arial"/>
            </a:endParaRPr>
          </a:p>
          <a:p>
            <a:pPr marL="228600" indent="-228600">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troduction</a:t>
            </a:r>
            <a:endParaRPr b="0" lang="en-US" sz="1000" spc="-1" strike="noStrike">
              <a:solidFill>
                <a:srgbClr val="000000"/>
              </a:solidFill>
              <a:latin typeface="Arial"/>
            </a:endParaRPr>
          </a:p>
          <a:p>
            <a:pPr lvl="1" marL="685800" indent="-228600">
              <a:spcBef>
                <a:spcPts val="374"/>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In Grade 8, the study of science includes using scientific methods, analyzing data, critical thinking, and scientific problem-solving.</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3. Interactions in matter and energy are explored in solar, weather, and ocean systems. Students identify the origin of waves and investigate their ability to travel through different media.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0" lang="en-US" sz="1000" spc="-1" strike="noStrike">
                <a:solidFill>
                  <a:srgbClr val="000080"/>
                </a:solidFill>
                <a:latin typeface="Arial"/>
                <a:ea typeface="Times New Roman"/>
              </a:rPr>
              <a:t>Science is a way of learning about the natural world. Students should know how science has built a vast body of changing and increasing knowledge described by physical, mathematical, and conceptual mode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t>
            </a:r>
            <a:r>
              <a:rPr b="0" lang="en-US" sz="10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000" spc="-1" strike="noStrike">
              <a:solidFill>
                <a:srgbClr val="000000"/>
              </a:solidFill>
              <a:latin typeface="Arial"/>
            </a:endParaRPr>
          </a:p>
          <a:p>
            <a:pPr marL="228600" indent="-228600">
              <a:spcBef>
                <a:spcPts val="374"/>
              </a:spcBef>
              <a:buClr>
                <a:srgbClr val="00008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Knowledge and Skill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2. Scientific processes: The student uses scientific inquiry method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C. Organize, analyze, evaluate, make inferences, and predict trends from direct and indirect evidenc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D. Communicate valid conclus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a:t>
            </a:r>
            <a:r>
              <a:rPr b="0" lang="en-US" sz="1000" spc="-1" strike="noStrike">
                <a:solidFill>
                  <a:srgbClr val="000080"/>
                </a:solidFill>
                <a:latin typeface="Arial"/>
                <a:ea typeface="Times New Roman"/>
              </a:rPr>
              <a:t>Scientific processes. The student uses critical thinking and scientific problem-solving to make informed decisions. </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ea typeface="Times New Roman"/>
              </a:rPr>
              <a:t>      </a:t>
            </a:r>
            <a:r>
              <a:rPr b="0" lang="en-US" sz="1000" spc="-1" strike="noStrike">
                <a:solidFill>
                  <a:srgbClr val="000080"/>
                </a:solidFill>
                <a:latin typeface="Arial"/>
                <a:ea typeface="Times New Roman"/>
              </a:rPr>
              <a:t>C.  Represent the natural world using models and identify their limitation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at substances have chemical and physical properties.</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Science concepts.  The student knows that complex interactions occur between matter and energy.</a:t>
            </a:r>
            <a:endParaRPr b="0" lang="en-US" sz="1000" spc="-1" strike="noStrike">
              <a:solidFill>
                <a:srgbClr val="000000"/>
              </a:solidFill>
              <a:latin typeface="Arial"/>
            </a:endParaRPr>
          </a:p>
          <a:p>
            <a:pPr lvl="2" marL="1143000" indent="-228600">
              <a:spcBef>
                <a:spcPts val="374"/>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strate interactions between matter and energ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bending light color dispersion violet indigo blue green yellow orange red rainbow wave frequenc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class makes the list of questions about rainbows, the teacher can help assure that five good research questions are included on the list. Some good questions to consider:</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y is a rainbow shaped like an arc? You see a rainbow as an arc when the sun is behind you and the sky in front of you is filled with moisture. Each band of color in a rainbow occurs at a certain angle. The raindrops in each band lie in an arc.</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hat determines the colors that we see in a rainbow? Each color is formed by rays that reach the eye of the observer at a certain angle, and the angle for a particular color never chang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at determines the width of the color bands in a rainbow? The width of each color band depends upon the size of the raindrops in which a rainbow form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What determines the height of a rainbow? The higher the sun is in the sky, the lower the rainbow will be. If the sun is higher than 40degrees , no bow will be see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ve to the sun, in what part of the sky does the rainbow form? The rainbow forms in that part of the sky opposite the sun.</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of these questions can be answered by referencing a standard encyclopedia or other general resourc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20A: The student is expected to: frame questions for research (4-8);</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A: form and revise questions for investigations, including questions arising from readings, assignments, and units of study (6-8);</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inbow research raindrops sun sky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20D: The student is expected to: summarize and organize ideas gained from multiple sources in useful ways such as outlines, conceptual maps, learning logs, and timeline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research rainbows investiga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including an editing exercise for all of the writing assignments in this adventure. Students can trade papers with a partner or between groups and edit for grammar, spelling, sentence structur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ions that occur after editing may include tips on how to give and receive constructive critic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20E: The student is expected to: Present information in various forms using information and technology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follow accepted formats for writing research, including documenting sources (6-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A: select, organize, or produce visuals to complement and extend mean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F: produce research projects and reports in effective formats for various audiences (6-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e diagram rainbow re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f a group had the question, “What determines the color we see in a rainbow?” they could write a myth on any aspect of rainbow color. Why does a rainbow have a red b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the students to think crea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4A: The student is expected to: connect his/her own experiences, information, insights, and ideas with experiences of others through speaking and listen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compare oral traditions across regions and culture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C: articulate and discuss themes and connections that cross culture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myth rainbo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ch = 2.54 centi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inches x 2.54 cm/inch = </a:t>
            </a:r>
            <a:r>
              <a:rPr b="1" lang="en-US" sz="1000" spc="-1" strike="noStrike">
                <a:solidFill>
                  <a:srgbClr val="000000"/>
                </a:solidFill>
                <a:latin typeface="Arial"/>
              </a:rPr>
              <a:t>12.7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B), Numb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of a circle = 2 x  </a:t>
            </a:r>
            <a:r>
              <a:rPr b="0" lang="el-GR" sz="1000" spc="-1" strike="noStrike">
                <a:solidFill>
                  <a:srgbClr val="000000"/>
                </a:solidFill>
                <a:latin typeface="Arial"/>
                <a:ea typeface="Times New Roman"/>
              </a:rPr>
              <a:t>π</a:t>
            </a:r>
            <a:r>
              <a:rPr b="0" lang="en-US" sz="1000" spc="-1" strike="noStrike">
                <a:solidFill>
                  <a:srgbClr val="000000"/>
                </a:solidFill>
                <a:latin typeface="Arial"/>
              </a:rPr>
              <a:t>  x  radi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 2 x 3.14 x 20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ference = 125.66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 rainbow arc is only 1/4 of a circle, theref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inbow is 125.66 km / 4 = </a:t>
            </a:r>
            <a:r>
              <a:rPr b="1" lang="en-US" sz="1000" spc="-1" strike="noStrike">
                <a:solidFill>
                  <a:srgbClr val="000000"/>
                </a:solidFill>
                <a:latin typeface="Arial"/>
              </a:rPr>
              <a:t>31.42 km in leng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B), Numb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B), Geometric concept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rcumference geome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kilogram = 2.2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onvert pounds to kilograms, divide the number of pounds by 2.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pounds x 1 kilogram / 2.2pounds = 90.9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nding this number to the nearest 10 kilograms would give the final result: </a:t>
            </a:r>
            <a:r>
              <a:rPr b="1" lang="en-US" sz="1000" spc="-1" strike="noStrike">
                <a:solidFill>
                  <a:srgbClr val="000000"/>
                </a:solidFill>
                <a:latin typeface="Arial"/>
              </a:rPr>
              <a:t>90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B), Numb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Proportional and non-proportional relationship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proportional convers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s of the Back Pack Club: Connie, Summer, K.T., Travis, Roman, and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s class = (6 x 5) – 3 = 27 classm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 classmates – 12 girls = </a:t>
            </a:r>
            <a:r>
              <a:rPr b="1" lang="en-US" sz="1000" spc="-1" strike="noStrike">
                <a:solidFill>
                  <a:srgbClr val="000000"/>
                </a:solidFill>
                <a:latin typeface="Arial"/>
              </a:rPr>
              <a:t>15 bo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B), Numb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subtrac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A2F5-DA09-47C4-B97D-994FFA8F9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response to the question, the students might mention conflicts between England and the colonies, conflicts between and among the 13 colonies, the conflicts between the colonists and the American Indians, conflicts between and among the European powers, and the French and Indian War (also called the Seven Years’ War).  Most of these conflicts centered over the control of resources, trade, key transportation routes, and terri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gland france spain conflicts colonies american indians europe french and indian war seven years war resources trade 1700s 1700’s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two hours,  his temperature is increasing 0.6</a:t>
            </a:r>
            <a:r>
              <a:rPr b="0" lang="en-US" sz="1000" spc="-1" strike="noStrike">
                <a:solidFill>
                  <a:srgbClr val="000000"/>
                </a:solidFill>
                <a:latin typeface="Arial"/>
                <a:ea typeface="Times New Roman"/>
              </a:rPr>
              <a:t>°</a:t>
            </a:r>
            <a:r>
              <a:rPr b="0" lang="en-US" sz="1000" spc="-1" strike="noStrike">
                <a:solidFill>
                  <a:srgbClr val="000000"/>
                </a:solidFill>
                <a:latin typeface="Arial"/>
              </a:rPr>
              <a:t>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assuming a further linear increase in temperature, by noon Dejay’s temperature would likely be 39.5 </a:t>
            </a:r>
            <a:r>
              <a:rPr b="0" lang="en-US" sz="1000" spc="-1" strike="noStrike">
                <a:solidFill>
                  <a:srgbClr val="000000"/>
                </a:solidFill>
                <a:latin typeface="Arial"/>
                <a:ea typeface="Times New Roman"/>
              </a:rPr>
              <a:t>°</a:t>
            </a:r>
            <a:r>
              <a:rPr b="0" lang="en-US" sz="1000" spc="-1" strike="noStrike">
                <a:solidFill>
                  <a:srgbClr val="000000"/>
                </a:solidFill>
                <a:latin typeface="Arial"/>
              </a:rPr>
              <a:t>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2 </a:t>
            </a:r>
            <a:r>
              <a:rPr b="0" lang="en-US" sz="1000" spc="-1" strike="noStrike">
                <a:solidFill>
                  <a:srgbClr val="000000"/>
                </a:solidFill>
                <a:latin typeface="Arial"/>
                <a:ea typeface="Times New Roman"/>
              </a:rPr>
              <a:t>°C + (0.6 °C/2hr x 1 hr) = </a:t>
            </a:r>
            <a:r>
              <a:rPr b="1" lang="en-US" sz="1000" spc="-1" strike="noStrike">
                <a:solidFill>
                  <a:srgbClr val="000000"/>
                </a:solidFill>
                <a:latin typeface="Arial"/>
                <a:ea typeface="Times New Roman"/>
              </a:rPr>
              <a:t>39.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 DeJay should not have attended school that day.  He had a fe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additional problem, have students convert this answer or all temperatures to Fahrenheit.  Recall,  F = (9/5) x  C + 3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 (B), Numb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 Use probabilities to make predictions and decis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Describe set of data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A), Determine validity of inference from data se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temperature celsiu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5 million viruses per blanket * 7 blankets = 11,550,000 vir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1,550,000 viruses / 3,500 viruses = </a:t>
            </a:r>
            <a:r>
              <a:rPr b="1" lang="en-US" sz="1000" spc="-1" strike="noStrike">
                <a:solidFill>
                  <a:srgbClr val="000000"/>
                </a:solidFill>
                <a:latin typeface="Arial"/>
              </a:rPr>
              <a:t>3,300 could be infec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Multiplication and division in problem situ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i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8,285 * 0.9 = 1,690,457 per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78,285 – 1,690,457 = </a:t>
            </a:r>
            <a:r>
              <a:rPr b="1" lang="en-US" sz="1000" spc="-1" strike="noStrike">
                <a:solidFill>
                  <a:srgbClr val="000000"/>
                </a:solidFill>
                <a:latin typeface="Arial"/>
              </a:rPr>
              <a:t>187,828 would surv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Solution to problems involving percen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vival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ubation: 12-14 days -&gt; Feb. 26-28 is when incubation 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rome: 2-4 days -&gt; Feb. 28 – Mar. 4 is range of prodrome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sh: Day after -&gt; Mar. 1-5 is when the rash app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nfectious: the next 7-10 days following the rash -&gt; </a:t>
            </a:r>
            <a:r>
              <a:rPr b="1" lang="en-US" sz="1000" spc="-1" strike="noStrike">
                <a:solidFill>
                  <a:srgbClr val="000000"/>
                </a:solidFill>
                <a:latin typeface="Arial"/>
              </a:rPr>
              <a:t>Mar. 2 – 15 are the days that she is possibly the most infectiou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an appropriate problem solving strate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mallpox symptoms incubation period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mm diameter / 2 = 3mm radius*(1cm/10mm)*(1 in/2.54 cm) = 0.12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 </a:t>
            </a:r>
            <a:r>
              <a:rPr b="0" lang="el-GR" sz="1000" spc="-1" strike="noStrike">
                <a:solidFill>
                  <a:srgbClr val="000000"/>
                </a:solidFill>
                <a:latin typeface="Arial"/>
                <a:ea typeface="Times New Roman"/>
              </a:rPr>
              <a:t>π</a:t>
            </a:r>
            <a:r>
              <a:rPr b="0" lang="en-US" sz="1000" spc="-1" strike="noStrike">
                <a:solidFill>
                  <a:srgbClr val="000000"/>
                </a:solidFill>
                <a:latin typeface="Arial"/>
              </a:rPr>
              <a:t> * r^2 = </a:t>
            </a:r>
            <a:r>
              <a:rPr b="0" lang="el-GR" sz="1000" spc="-1" strike="noStrike">
                <a:solidFill>
                  <a:srgbClr val="000000"/>
                </a:solidFill>
                <a:latin typeface="Arial"/>
                <a:ea typeface="Times New Roman"/>
              </a:rPr>
              <a:t>π</a:t>
            </a:r>
            <a:r>
              <a:rPr b="0" lang="en-US" sz="1000" spc="-1" strike="noStrike">
                <a:solidFill>
                  <a:srgbClr val="000000"/>
                </a:solidFill>
                <a:latin typeface="Arial"/>
              </a:rPr>
              <a:t> * (0.12)^ 2 = 0.045 sq.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45 * 1,425 =</a:t>
            </a:r>
            <a:r>
              <a:rPr b="1" lang="en-US" sz="1000" spc="-1" strike="noStrike">
                <a:solidFill>
                  <a:srgbClr val="000000"/>
                </a:solidFill>
                <a:latin typeface="Arial"/>
              </a:rPr>
              <a:t> 64.125 sq.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 Solve problems involving surface ar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ustule conversions surface area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illion = what percent of 30 m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00 = (x/100) * (30,000,000) -&gt; the 6 zeros cancel 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 = x/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67 = x/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 6.7%</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Solutions to problems involving percen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rtion -&gt; (1000/1000000) = (x/29261916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0x = 2.92619165 * 10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 approximately 292,619 peopl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convert kilometers / hour to centimeters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 km / hr x 1 hr / 60 min x 1 min / 60 s  x 1000 m / km x 100 cm /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55.56 cm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ea through which the air is passing during the sneez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ostrils x </a:t>
            </a:r>
            <a:r>
              <a:rPr b="0" lang="el-GR" sz="1000" spc="-1" strike="noStrike">
                <a:solidFill>
                  <a:srgbClr val="000000"/>
                </a:solidFill>
                <a:latin typeface="Arial"/>
                <a:ea typeface="Times New Roman"/>
              </a:rPr>
              <a:t>π</a:t>
            </a:r>
            <a:r>
              <a:rPr b="0" lang="en-US" sz="1000" spc="-1" strike="noStrike">
                <a:solidFill>
                  <a:srgbClr val="000000"/>
                </a:solidFill>
                <a:latin typeface="Arial"/>
              </a:rPr>
              <a:t> x 0.5 cm x 0.5 cm = 1.57 square c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flow would be 5555.55 cm / sec x 1.57 square cm x 0.5 sec = </a:t>
            </a:r>
            <a:r>
              <a:rPr b="1" lang="en-US" sz="1000" spc="-1" strike="noStrike">
                <a:solidFill>
                  <a:srgbClr val="000000"/>
                </a:solidFill>
                <a:latin typeface="Arial"/>
              </a:rPr>
              <a:t>4361 cubic cm or 4361 ml or 4.361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volume is approximately the total lung capacity of a healthy adult ma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n individual still has air remaining in their lungs at the end of a sneez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volume is an overestimation. Therefore, either the velocity is overestimated several fol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velocity is likely less than 50% of the peak veloc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ameter of the nostrils is overestimated, or the duration of a sneeze is overestima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ight serve as a good topic for further investig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Proportional and non-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A), Surface area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 (B), Proportional relationships in similar shap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rface area volume convers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 information in the question, Jace came into contact with 3 individu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ected by the virus.  Therefore , the probability that his illness came f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aling the virus from DeJay’s sneezes is </a:t>
            </a:r>
            <a:r>
              <a:rPr b="1" lang="en-US" sz="1000" spc="-1" strike="noStrike">
                <a:solidFill>
                  <a:srgbClr val="000000"/>
                </a:solidFill>
                <a:latin typeface="Arial"/>
              </a:rPr>
              <a:t>1 in 3 or 0.333 or 33.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Find prob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Use different models to simulate even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i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olve this problem,  recognize that the flow in the Monongahela plus the flow in the Allegheny equals the flow in the Ohio where these rivers come together to form the Ohio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 cubic meters / sec + X  cubic meters / sec = 670 cubic meters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  =  370 cubic meters / sec = flow in the Allegheny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Algebraic eq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Algebraic expression to find variable in seque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low rate algebraic equ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were a variety of reasons the British wanted colonies in North America.  Most were economic. The colonists could exploit the resources of North America and send raw materials to Britain. The colonies also offered a market for British manufactured goods.  Some of the colonies provided a social “safety valve” for British society providing an opportunity for the emigration of dissident religious groups, the poor, and prison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17</a:t>
            </a:r>
            <a:r>
              <a:rPr b="0" lang="en-US" sz="1000" spc="-1" strike="noStrike" baseline="30000">
                <a:solidFill>
                  <a:srgbClr val="000000"/>
                </a:solidFill>
                <a:latin typeface="Arial"/>
              </a:rPr>
              <a:t>th</a:t>
            </a:r>
            <a:r>
              <a:rPr b="0" lang="en-US" sz="1000" spc="-1" strike="noStrike">
                <a:solidFill>
                  <a:srgbClr val="000000"/>
                </a:solidFill>
                <a:latin typeface="Arial"/>
              </a:rPr>
              <a:t> century seventeenth century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 immigrants england 13 colonies north america  european countries immigration brit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olve this problem,  recognize that flow down a river or stream can be calculated by multiplying the velocity of the current by the cross sectional area of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w (cubic meters / sec) = Velocity of current (meters / sec) x Cross-sectional area of the river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 cubic meters / sec = Velocity (meters / sec) x  80  meters x 4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Velocity of the current  = </a:t>
            </a:r>
            <a:r>
              <a:rPr b="1" lang="en-US" sz="1000" spc="-1" strike="noStrike">
                <a:solidFill>
                  <a:srgbClr val="000000"/>
                </a:solidFill>
                <a:latin typeface="Arial"/>
              </a:rPr>
              <a:t>0.9375 meters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Percents and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Algebraic eq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Algebraic expression to find variable in seque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low rate velocity cross-sectional are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olve this problem, one needs to calculate how long it would take to paddle 100 meters in a canoe that has a speed of 10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kilometers / hr x 1 hr / 60 min x 1 min / 60 sec x 1000 meters / kilometer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77 meters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ross 100 meters would t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ance = speed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 distance / speed =100 meters / 2.777 meters /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 100 meters / 2.777 meters / sec = 36.01 se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36 seconds the current in the river would have swept the canoe downstream a distance equal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ance = velocity x time = 2 meters / sec x 36 sec = </a:t>
            </a:r>
            <a:r>
              <a:rPr b="1" lang="en-US" sz="1000" spc="-1" strike="noStrike">
                <a:solidFill>
                  <a:srgbClr val="000000"/>
                </a:solidFill>
                <a:latin typeface="Arial"/>
              </a:rPr>
              <a:t>72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Percents and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Use different models to simulate even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Problem-solving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stance velocity flow rate convers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ula to use in solving this proble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w (cubic meters / sec)  = Velocity (meters / sec) x Cross-sectional area (square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0 cubic meters / sec = 1.6 meters / sec  x  120 meters x average depth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depth = 670 cubic meters / (1.6 meters / sec x 120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depth = </a:t>
            </a:r>
            <a:r>
              <a:rPr b="1" lang="en-US" sz="1000" spc="-1" strike="noStrike">
                <a:solidFill>
                  <a:srgbClr val="000000"/>
                </a:solidFill>
                <a:latin typeface="Arial"/>
              </a:rPr>
              <a:t>3.49  me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Percents and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Algebraic eq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Algebraic expression to find variable in seque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verage depth velocity cross-sectional area algebraic equ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problem, we know that the arrow that Red Arrow was hol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s the arrow(s) that was/were already in the quiver plus the two that were 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er make up 20% of the total number of arrows he had when he left h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adding the two arrows that were in the deer, Red Arrow only had 10% o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tal number of arrows.  Therefore, the two arrows in the deer accounted for 10% o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tal number of arrows.  That is: 20% - 10% = 10% or 0.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rrows / 0.10 = 20 arrows that Red Arrow originally had when he left ho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d Arrow returns the arrow that he has been pointing at Jace, he has 2 arrows in 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ver (equivalent to 10%).  </a:t>
            </a:r>
            <a:r>
              <a:rPr b="1" lang="en-US" sz="1000" spc="-1" strike="noStrike">
                <a:solidFill>
                  <a:srgbClr val="000000"/>
                </a:solidFill>
                <a:latin typeface="Arial"/>
              </a:rPr>
              <a:t>Therefore, when he was initially threatening Jace, he had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row in his qu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Use appropriate operation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Percents and 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Problem-solving mode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five vowels in the English language. For this problem, we will consider “y” as a consonant. Therefore the chance of a person randomly picking ‘a’ is 1 out of 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21 consonants in the English language.  Therefore the chance of a person randomly picking “s” is 1 out of 2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bability of choosing both correctly (assuming the person does not know the word that is attempting to be spelled) is </a:t>
            </a:r>
            <a:r>
              <a:rPr b="1" lang="en-US" sz="1000" spc="-1" strike="noStrike">
                <a:solidFill>
                  <a:srgbClr val="000000"/>
                </a:solidFill>
                <a:latin typeface="Arial"/>
              </a:rPr>
              <a:t>1/5 x 1/21 or 1/1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ressed as a decimal the probability is 0.00952 and as a percentage is 0.95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Find prob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B), Use probabilities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Use different models to simulate event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 Arrow’s weight (kg) + Jace’s weight (kg) = deer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 x Jace’s weight (kg) + Jace’s weight (kg) = 90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 x Jace’s weight (kg) = 90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s weight = </a:t>
            </a:r>
            <a:r>
              <a:rPr b="1" lang="en-US" sz="1000" spc="-1" strike="noStrike">
                <a:solidFill>
                  <a:srgbClr val="000000"/>
                </a:solidFill>
                <a:latin typeface="Arial"/>
              </a:rPr>
              <a:t>47.37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n additional problem, convert Jace’s weight to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37 kg x 2.2 pounds / kg =  104 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A), Algebraic eq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B), Algebraic expression to find variable in sequenc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algebraic equation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express the circumference units in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m = 2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ameter of a blister is the circumference divided by </a:t>
            </a:r>
            <a:r>
              <a:rPr b="0" lang="el-GR" sz="1000" spc="-1" strike="noStrike">
                <a:solidFill>
                  <a:srgbClr val="000000"/>
                </a:solidFill>
                <a:latin typeface="Arial"/>
                <a:ea typeface="Times New Roman"/>
              </a:rPr>
              <a:t>π</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meter (mm) = 20 mm / </a:t>
            </a:r>
            <a:r>
              <a:rPr b="0" lang="el-GR" sz="1000" spc="-1" strike="noStrike">
                <a:solidFill>
                  <a:srgbClr val="000000"/>
                </a:solidFill>
                <a:latin typeface="Arial"/>
                <a:ea typeface="Times New Roman"/>
              </a:rPr>
              <a:t>π</a:t>
            </a:r>
            <a:r>
              <a:rPr b="0" lang="en-US" sz="1000" spc="-1" strike="noStrike">
                <a:solidFill>
                  <a:srgbClr val="000000"/>
                </a:solidFill>
                <a:latin typeface="Arial"/>
              </a:rPr>
              <a:t> = 6.37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of a sphere = (4/3) x </a:t>
            </a:r>
            <a:r>
              <a:rPr b="0" lang="el-GR" sz="1000" spc="-1" strike="noStrike">
                <a:solidFill>
                  <a:srgbClr val="000000"/>
                </a:solidFill>
                <a:latin typeface="Arial"/>
                <a:ea typeface="Times New Roman"/>
              </a:rPr>
              <a:t>π</a:t>
            </a:r>
            <a:r>
              <a:rPr b="0" lang="en-US" sz="1000" spc="-1" strike="noStrike">
                <a:solidFill>
                  <a:srgbClr val="000000"/>
                </a:solidFill>
                <a:latin typeface="Arial"/>
              </a:rPr>
              <a:t> x radius</a:t>
            </a:r>
            <a:r>
              <a:rPr b="0" lang="en-US" sz="1000" spc="-1" strike="noStrike">
                <a:solidFill>
                  <a:srgbClr val="000000"/>
                </a:solidFill>
                <a:latin typeface="Arial"/>
                <a:ea typeface="Times New Roman"/>
              </a:rPr>
              <a:t>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cubic mm) = (4/3) x 3.14 x 3.183</a:t>
            </a:r>
            <a:r>
              <a:rPr b="0" lang="en-US" sz="1000" spc="-1" strike="noStrike">
                <a:solidFill>
                  <a:srgbClr val="000000"/>
                </a:solidFill>
                <a:latin typeface="Arial"/>
                <a:ea typeface="Times New Roman"/>
              </a:rPr>
              <a:t>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135.1 cubic m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one-half a sphere (a hemisphere) the volume would = </a:t>
            </a:r>
            <a:r>
              <a:rPr b="1" lang="en-US" sz="1000" spc="-1" strike="noStrike">
                <a:solidFill>
                  <a:srgbClr val="000000"/>
                </a:solidFill>
                <a:latin typeface="Arial"/>
              </a:rPr>
              <a:t>67.55 cubic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viral organisms = 700 / cubic mm x 67.55 cubic mm = </a:t>
            </a:r>
            <a:r>
              <a:rPr b="1" lang="en-US" sz="1000" spc="-1" strike="noStrike">
                <a:solidFill>
                  <a:srgbClr val="000000"/>
                </a:solidFill>
                <a:latin typeface="Arial"/>
              </a:rPr>
              <a:t>47,28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B), Connect models to vol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 (C), Solve problems involving surface area and volum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iameter sphere volume convers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tal of 28% of the tribe members died due to the ill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 + 8% + 4% = 2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8 x Number of tribe members = 2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ibe members = 7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total tribe members – 21 dead tribe members = </a:t>
            </a:r>
            <a:r>
              <a:rPr b="1" lang="en-US" sz="1000" spc="-1" strike="noStrike">
                <a:solidFill>
                  <a:srgbClr val="000000"/>
                </a:solidFill>
                <a:latin typeface="Arial"/>
              </a:rPr>
              <a:t>54 surviving tribe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Rational numbers in problem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Multiplication in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Percents and proportional relationship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apply mathematics to everyday experienc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cent percentages survival rat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estions 1-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 language skills</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 context clues word mean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l thirteen colonies were located along the east coast of North America, ranging from Georgia and South Carolina on the south to Massachusetts and New Hampshire on the nor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ast coast location gave easy access to British shipping. Spain controlled territory to the south, while France controlled territory to the north and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13 british colonies north america east coast georgia south carolina massachusetts new hampshire 18</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tar Weaver storytell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tory is formatted with numbered lines and pages, we can insert a reference for the teacher that includes those parts of the story that are most informati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ortant information to includ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earance of village or ho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nderstanding” of cause of illnes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concerns for loved on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ars for themselv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xpressed from personal perspectives, these items will likely present very differentl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The student is expected to: offer observations, make connections, react, speculate, interpret, and raise questions in response to text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riting activity</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the first in a series of slides that introduces the concepts of scientific explanation versus my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D: The student is expected to: connect, compare, and contrast ideas, themes, and issues across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 use his/her own knowledge and experience to comprehend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yth myths facts</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ell known children’s book by Tomie DePaola tells a Native American myth, the Legend of the Indian Paintbrushes. Another by the same author provides the story of the bluebonn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A: The student is expected to: compare text events with his/her own and other readers’ experience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termine distinctive and common characteristics of cultures through wide reading (4-8);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rticulate and discuss themes and connections that cross culture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yths myth scientific facts scientific fact</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A: The student is expected to: use his/her own knowledge and experience to comprehend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monitor his/her own comprehension and make modifications when necess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yths myth</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would say that knowing the scientific facts would make it more difficult to think in terms of mythical explanations. The purpose of the exercises (i.e., writing a scientific report and a myth on similar topics) is to provide the students ample opportunity to compare and contrast how the two types of writing differ or are the s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9E: The student is expected to: review a collection of written works to determine its strengths and weaknesses and to set goals as a writer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s that might be posed as these comparisons are made incl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Which type of writing do you personally prefer?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o you use some of the same skills in both types of writing? What are some of these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Even though we say an explanation is scientific, do we ever really know if the explanation is absolutely true? Why or why n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If myths were primarily told as stories, for example by a person like Star Weaver, do you think the stories changed over time? Is this good or bad? Wh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explanation myth</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8 A: The student is expected to: generate ideas and plans for writing by using prewriting strategies such as brainstorming, graphic organizers, notes, and log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9 B: respond I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evaluate how well his/her own writing achieves its purpose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C: The student is expected to: write to inform such as to explain, describe, report, and narrat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D: Describe mental images that text descriptions evok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establish and adjust purposes for reading such as reading to find out, to understand, to interpret, to enjoy, and to solve problem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13 British Colonies were Connecticut, Delaware, Georgia, Maryland, Massachusetts, New Hampshire, New Jersey, New York, North Carolina, Pennsylvania, Rhode Island, South Carolina, and Virgin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lonies, in order of establishment, are as follows: Virginia (1607), Massachusetts (1620), New York (1626), Maryland (1633), Rhode Island (1636), Connecticut (1636), Delaware (1638), New Hampshire (1638), North Carolina (1653), South Carolina (1663), New Jersey (1664), Pennsylvania (1682), and Georgia (1732).</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atabase can be electronic or on paper and can include data such as colony name, type of colonial government, human/social characteristics of the colony, physical geography of the colony, and economic characteristics of the colony. The database can be an excellent tool for comparing two or more colon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is expected t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  identify the major eras in U.S. history through 1877 and describe their defining characteristic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  identify reasons for European exploration and colonization of North Americ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locate places and regions of importance in the United State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B  compare places and regions of the United States in terms of physical and human characteristic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A  analyze how physical characteristics of the environment influenced population distribution, settlement patterns, and economic activities in the U.S. during the 18</a:t>
            </a:r>
            <a:r>
              <a:rPr b="0" lang="en-US" sz="1000" spc="-1" strike="noStrike" baseline="30000">
                <a:solidFill>
                  <a:srgbClr val="000000"/>
                </a:solidFill>
                <a:latin typeface="Arial"/>
              </a:rPr>
              <a:t>th</a:t>
            </a:r>
            <a:r>
              <a:rPr b="0" lang="en-US" sz="1000" spc="-1" strike="noStrike">
                <a:solidFill>
                  <a:srgbClr val="000000"/>
                </a:solidFill>
                <a:latin typeface="Arial"/>
              </a:rPr>
              <a:t> and 19</a:t>
            </a:r>
            <a:r>
              <a:rPr b="0" lang="en-US" sz="1000" spc="-1" strike="noStrike" baseline="30000">
                <a:solidFill>
                  <a:srgbClr val="000000"/>
                </a:solidFill>
                <a:latin typeface="Arial"/>
              </a:rPr>
              <a:t>th</a:t>
            </a:r>
            <a:r>
              <a:rPr b="0" lang="en-US" sz="1000" spc="-1" strike="noStrike">
                <a:solidFill>
                  <a:srgbClr val="000000"/>
                </a:solidFill>
                <a:latin typeface="Arial"/>
              </a:rPr>
              <a:t> centuri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4.A  identify selected racial, ethnic, and religious groups that settled in the U.S. and their reasons for immigr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1.C  transfer information from one medium to another, including written to visual and statistical to written or visual, using computer software as appropriat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13 british colonies thirteen british colonies north america timeline 1877 18</a:t>
            </a:r>
            <a:r>
              <a:rPr b="0" lang="en-US" sz="1000" spc="-1" strike="noStrike" baseline="30000">
                <a:solidFill>
                  <a:srgbClr val="000000"/>
                </a:solidFill>
                <a:latin typeface="Arial"/>
              </a:rPr>
              <a:t>th</a:t>
            </a:r>
            <a:r>
              <a:rPr b="0" lang="en-US" sz="1000" spc="-1" strike="noStrike">
                <a:solidFill>
                  <a:srgbClr val="000000"/>
                </a:solidFill>
                <a:latin typeface="Arial"/>
              </a:rPr>
              <a:t> century 19</a:t>
            </a:r>
            <a:r>
              <a:rPr b="0" lang="en-US" sz="1000" spc="-1" strike="noStrike" baseline="30000">
                <a:solidFill>
                  <a:srgbClr val="000000"/>
                </a:solidFill>
                <a:latin typeface="Arial"/>
              </a:rPr>
              <a:t>th</a:t>
            </a:r>
            <a:r>
              <a:rPr b="0" lang="en-US" sz="1000" spc="-1" strike="noStrike">
                <a:solidFill>
                  <a:srgbClr val="000000"/>
                </a:solidFill>
                <a:latin typeface="Arial"/>
              </a:rPr>
              <a:t> century eighteenth century nineteenth century</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 A: form and revise questions for investigations, including questions arising from readings, assignments, and units of study (6-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use multiple sources, including electronic texts, experts, and print resources, to locate information relevant to research question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write to express, discover, record, develop, reflect on ideas, and to problem solv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earch bioterrorism</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B477-D354-4566-9D81-D201286FD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241F-3590-4380-9F49-9C1F6ED2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AB505-A672-4D28-9208-9FFFF8F1B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FA1C1-EF9F-458E-B6AC-FBF0D37B8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A13C6-3542-4C18-8703-9878D276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EFB1F-3375-4197-B3AF-207F237CF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9986A-4149-4629-80DC-3E546CEC5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58E3A-E5FB-4B2D-B68D-412CF97B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B313E-2A05-4F24-94A9-5BA7FB31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5C2C-AF17-489B-B58C-D8C97DD1B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1F11-6B17-4A15-BF9B-B39856D6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CEA8-8E78-44AE-A2B4-9DE785A29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3293-5C41-47E3-9746-C0C445384D11}"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ale.edu/lawweb/avalon/paris763.htm" TargetMode="External"/><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3rchalQ.ppt" TargetMode="External"/><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st.gsfc.nasa.gov/Intro/Prism.JPG" TargetMode="External"/><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hyperlink" Target="http://www.thinkquest.org/library/lib/site_sum_outside.html?tname=27356&amp;url=27356/p_refraction.htm" TargetMode="External"/><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hyperlink" Target="file:///Appendices/Math/LgthConv.ppt" TargetMode="External"/><Relationship Id="rId4" Type="http://schemas.openxmlformats.org/officeDocument/2006/relationships/slideLayout" Target="../slideLayouts/slideLayout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png"/><Relationship Id="rId5" Type="http://schemas.openxmlformats.org/officeDocument/2006/relationships/image" Target="../media/image39.wmf"/><Relationship Id="rId6" Type="http://schemas.openxmlformats.org/officeDocument/2006/relationships/image" Target="../media/image39.wmf"/><Relationship Id="rId7" Type="http://schemas.openxmlformats.org/officeDocument/2006/relationships/image" Target="../media/image39.wmf"/><Relationship Id="rId8" Type="http://schemas.openxmlformats.org/officeDocument/2006/relationships/image" Target="../media/image41.wmf"/><Relationship Id="rId9" Type="http://schemas.openxmlformats.org/officeDocument/2006/relationships/image" Target="../media/image42.wmf"/><Relationship Id="rId10" Type="http://schemas.openxmlformats.org/officeDocument/2006/relationships/image" Target="../media/image39.wmf"/><Relationship Id="rId11" Type="http://schemas.openxmlformats.org/officeDocument/2006/relationships/image" Target="../media/image42.wmf"/><Relationship Id="rId12" Type="http://schemas.openxmlformats.org/officeDocument/2006/relationships/hyperlink" Target="file:///Appendices/Math/Circumfe.ppt" TargetMode="External"/><Relationship Id="rId13" Type="http://schemas.openxmlformats.org/officeDocument/2006/relationships/slideLayout" Target="../slideLayouts/slideLayout3.xml"/><Relationship Id="rId1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hyperlink" Target="file:///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hyperlink" Target="file:///Appendices/Math/Per%20Problems.ppt" TargetMode="External"/><Relationship Id="rId4" Type="http://schemas.openxmlformats.org/officeDocument/2006/relationships/hyperlink" Target="file:///Appendices/Math/PerDec.ppt" TargetMode="External"/><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Math/Circumfe.ppt" TargetMode="Externa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Math/Prbablty.ppt" TargetMode="External"/><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hyperlink" Target="file:///Appendices/Math/PerDec.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hyperlink" Target="file:///Appendices/Math/Geometry.ppt" TargetMode="External"/><Relationship Id="rId4" Type="http://schemas.openxmlformats.org/officeDocument/2006/relationships/slideLayout" Target="../slideLayouts/slideLayout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Math/PerDec.ppt" TargetMode="External"/><Relationship Id="rId3" Type="http://schemas.openxmlformats.org/officeDocument/2006/relationships/image" Target="../media/image58.wmf"/><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3rUnlLang.ppt" TargetMode="External"/><Relationship Id="rId3" Type="http://schemas.openxmlformats.org/officeDocument/2006/relationships/image" Target="../media/image59.wmf"/><Relationship Id="rId4" Type="http://schemas.openxmlformats.org/officeDocument/2006/relationships/slideLayout" Target="../slideLayouts/slideLayout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ntext.ppt" TargetMode="External"/><Relationship Id="rId3" Type="http://schemas.openxmlformats.org/officeDocument/2006/relationships/hyperlink" Target="file:///Supplement/3rVocCha.ppt" TargetMode="External"/><Relationship Id="rId4" Type="http://schemas.openxmlformats.org/officeDocument/2006/relationships/image" Target="../media/image60.jpeg"/><Relationship Id="rId5" Type="http://schemas.openxmlformats.org/officeDocument/2006/relationships/slideLayout" Target="../slideLayouts/slideLayout1.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CombatingInfections.appendix.ppt" TargetMode="External"/><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Descriptive%20Writing%20and%20Sensory%20Details%20-%20Linked/DescWrit.ppt" TargetMode="External"/><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3rBioTerr.ppt" TargetMode="External"/><Relationship Id="rId3" Type="http://schemas.openxmlformats.org/officeDocument/2006/relationships/hyperlink" Target="file:///Supplement/3rAnth.ppt" TargetMode="External"/><Relationship Id="rId4" Type="http://schemas.openxmlformats.org/officeDocument/2006/relationships/hyperlink" Target="file:///Appendices/English/Compar.ppt" TargetMode="External"/><Relationship Id="rId5" Type="http://schemas.openxmlformats.org/officeDocument/2006/relationships/slideLayout" Target="../slideLayouts/slideLayout3.xml"/><Relationship Id="rId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image" Target="../media/image69.png"/><Relationship Id="rId5" Type="http://schemas.openxmlformats.org/officeDocument/2006/relationships/image" Target="../media/image70.jpe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hyperlink" Target="http://peer.tamu.edu/forms/Curricula_Survey.shtml" TargetMode="External"/><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uropean Powers and American Indians in North America</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ettlements were located on the east coast of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French settl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lands did the Spanish clai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as did the American Indians occupy?</a:t>
            </a:r>
            <a:endParaRPr b="0" lang="en-US" sz="3200" spc="-1" strike="noStrike">
              <a:solidFill>
                <a:srgbClr val="000000"/>
              </a:solidFill>
              <a:latin typeface="Times New Roman"/>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0858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nch claimed most of the land west of the Appalachian Mountains stretching from Canada to the Gulf of Mexico and west to the Rocky Mountai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in claimed Florida, most of Central and South America, Texas, the western U.S., and islands in the Caribbean Se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ditional homes of many American Indian groups were in the areas claimed by England, France, and Spain.</a:t>
            </a:r>
            <a:endParaRPr b="0" lang="en-US" sz="2800" spc="-1" strike="noStrike">
              <a:solidFill>
                <a:srgbClr val="000000"/>
              </a:solidFill>
              <a:latin typeface="Times New Roman"/>
            </a:endParaRPr>
          </a:p>
        </p:txBody>
      </p:sp>
      <p:sp>
        <p:nvSpPr>
          <p:cNvPr id="106"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were the French and Spanish settlements in North America?</a:t>
            </a:r>
            <a:endParaRPr b="0" lang="en-US" sz="40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43080" y="1733040"/>
            <a:ext cx="375912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claimed by the British, the French, and the Spanis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areas were occupied by American Indi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conflict between the European powers occurred?</a:t>
            </a:r>
            <a:endParaRPr b="0" lang="en-US" sz="2800" spc="-1" strike="noStrike">
              <a:solidFill>
                <a:srgbClr val="000000"/>
              </a:solidFill>
              <a:latin typeface="Times New Roman"/>
            </a:endParaRPr>
          </a:p>
        </p:txBody>
      </p:sp>
      <p:pic>
        <p:nvPicPr>
          <p:cNvPr id="109" name="" descr=""/>
          <p:cNvPicPr/>
          <p:nvPr/>
        </p:nvPicPr>
        <p:blipFill>
          <a:blip r:embed="rId2"/>
          <a:stretch/>
        </p:blipFill>
        <p:spPr>
          <a:xfrm>
            <a:off x="4267080" y="1638360"/>
            <a:ext cx="4572000" cy="3314520"/>
          </a:xfrm>
          <a:prstGeom prst="rect">
            <a:avLst/>
          </a:prstGeom>
          <a:ln w="0">
            <a:noFill/>
          </a:ln>
        </p:spPr>
      </p:pic>
      <p:sp>
        <p:nvSpPr>
          <p:cNvPr id="110" name=""/>
          <p:cNvSpPr/>
          <p:nvPr/>
        </p:nvSpPr>
        <p:spPr>
          <a:xfrm>
            <a:off x="5099760" y="5029200"/>
            <a:ext cx="241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learner.org</a:t>
            </a:r>
            <a:endParaRPr b="0" lang="en-US" sz="1400" spc="-1" strike="noStrike">
              <a:solidFill>
                <a:srgbClr val="000000"/>
              </a:solidFill>
              <a:latin typeface="Times New Roman"/>
            </a:endParaRPr>
          </a:p>
        </p:txBody>
      </p:sp>
      <p:sp>
        <p:nvSpPr>
          <p:cNvPr id="111"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12" name=""/>
          <p:cNvSpPr/>
          <p:nvPr/>
        </p:nvSpPr>
        <p:spPr>
          <a:xfrm>
            <a:off x="4419720" y="544212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o you think conflict between the European powers and American Indians occurred? </a:t>
            </a:r>
            <a:endParaRPr b="0" lang="en-US" sz="2400" spc="-1" strike="noStrike">
              <a:solidFill>
                <a:srgbClr val="000000"/>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middle of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the British colonies were heavily populat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st of the Appalachian Mountains, the French had a few settlements, forts, or outposts used for trading with the American India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British colonists began to cross the Appalachians, conflict arose with the French and their American Indian alli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causes of the conflict between the British and the French?</a:t>
            </a:r>
            <a:endParaRPr b="0" lang="en-US" sz="2800" spc="-1" strike="noStrike">
              <a:solidFill>
                <a:srgbClr val="000000"/>
              </a:solidFill>
              <a:latin typeface="Times New Roman"/>
            </a:endParaRPr>
          </a:p>
        </p:txBody>
      </p:sp>
      <p:sp>
        <p:nvSpPr>
          <p:cNvPr id="115" name="PlaceHolder 2"/>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lict Between the British and the French</a:t>
            </a:r>
            <a:endParaRPr b="0" lang="en-US" sz="40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876920" y="1828800"/>
            <a:ext cx="3429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showing Ft. Louisborg, Quebec, Ft. Ticonderoga, Ft. Necessity, Ft. Oswego, Ft. Frontenac, Ft. Niagra, Braddock’s defeat near Ft. Duquesne (Ft. Pitt). Show Br. Victories with red star and Fr. Victories with blue star</a:t>
            </a:r>
            <a:endParaRPr b="0" lang="en-US" sz="1800" spc="-1" strike="noStrike">
              <a:solidFill>
                <a:srgbClr val="000000"/>
              </a:solidFill>
              <a:latin typeface="Times New Roman"/>
            </a:endParaRPr>
          </a:p>
        </p:txBody>
      </p:sp>
      <p:pic>
        <p:nvPicPr>
          <p:cNvPr id="118" name="" descr=""/>
          <p:cNvPicPr/>
          <p:nvPr/>
        </p:nvPicPr>
        <p:blipFill>
          <a:blip r:embed="rId2"/>
          <a:stretch/>
        </p:blipFill>
        <p:spPr>
          <a:xfrm>
            <a:off x="4419720" y="1447920"/>
            <a:ext cx="3895560" cy="4781520"/>
          </a:xfrm>
          <a:prstGeom prst="rect">
            <a:avLst/>
          </a:prstGeom>
          <a:ln w="0">
            <a:noFill/>
          </a:ln>
        </p:spPr>
      </p:pic>
      <p:sp>
        <p:nvSpPr>
          <p:cNvPr id="119" name=""/>
          <p:cNvSpPr/>
          <p:nvPr/>
        </p:nvSpPr>
        <p:spPr>
          <a:xfrm>
            <a:off x="4872600" y="6248520"/>
            <a:ext cx="286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ccordfamilyassn.com</a:t>
            </a:r>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21" name="PlaceHolder 2"/>
          <p:cNvSpPr>
            <a:spLocks noGrp="1"/>
          </p:cNvSpPr>
          <p:nvPr>
            <p:ph/>
          </p:nvPr>
        </p:nvSpPr>
        <p:spPr>
          <a:xfrm>
            <a:off x="595080" y="1574640"/>
            <a:ext cx="3490920" cy="46245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areas of conflict between the British and French?</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as the conflict located in these areas?</a:t>
            </a:r>
            <a:endParaRPr b="0" lang="en-US" sz="3200" spc="-1" strike="noStrike">
              <a:solidFill>
                <a:srgbClr val="000000"/>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01800" y="1785960"/>
            <a:ext cx="7340400" cy="3741840"/>
          </a:xfrm>
          <a:prstGeom prst="rect">
            <a:avLst/>
          </a:prstGeom>
          <a:noFill/>
          <a:ln w="0">
            <a:noFill/>
          </a:ln>
        </p:spPr>
        <p:txBody>
          <a:bodyPr lIns="90000" rIns="90000" tIns="46800" bIns="46800" anchor="t">
            <a:normAutofit fontScale="88000"/>
          </a:bodyPr>
          <a:p>
            <a:pPr marL="301680" indent="-3016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54, a young American militia colonel led a force to attack the French Fort Duquesne, near present-day Pittsburgh, PA. </a:t>
            </a:r>
            <a:endParaRPr b="0" lang="en-US" sz="2800" spc="-1" strike="noStrike">
              <a:solidFill>
                <a:srgbClr val="000000"/>
              </a:solidFill>
              <a:latin typeface="Times New Roman"/>
            </a:endParaRPr>
          </a:p>
          <a:p>
            <a:pPr marL="301680" indent="-3016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wo small battles, the French drove the Americans off  and there were few casualties.</a:t>
            </a:r>
            <a:endParaRPr b="0" lang="en-US" sz="2800" spc="-1" strike="noStrike">
              <a:solidFill>
                <a:srgbClr val="000000"/>
              </a:solidFill>
              <a:latin typeface="Times New Roman"/>
            </a:endParaRPr>
          </a:p>
          <a:p>
            <a:pPr marL="301680" indent="-3016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small battles were the first in what was to be a major war on both sides of the Atlantic.</a:t>
            </a:r>
            <a:endParaRPr b="0" lang="en-US" sz="2800" spc="-1" strike="noStrike">
              <a:solidFill>
                <a:srgbClr val="000000"/>
              </a:solidFill>
              <a:latin typeface="Times New Roman"/>
            </a:endParaRPr>
          </a:p>
          <a:p>
            <a:pPr marL="301680" indent="-3016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young American militia colonel whose forces were beaten by the French near Fort Duquesne?</a:t>
            </a:r>
            <a:endParaRPr b="0" lang="en-US" sz="2800" spc="-1" strike="noStrike">
              <a:solidFill>
                <a:srgbClr val="000000"/>
              </a:solidFill>
              <a:latin typeface="Times New Roman"/>
            </a:endParaRPr>
          </a:p>
        </p:txBody>
      </p:sp>
      <p:sp>
        <p:nvSpPr>
          <p:cNvPr id="124"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 Battles Begin a Large War</a:t>
            </a:r>
            <a:endParaRPr b="0" lang="en-US" sz="4400" spc="-1" strike="noStrike">
              <a:solidFill>
                <a:srgbClr val="000000"/>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at War</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504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late 1754 and early 1755, the British sent a few thousand troops to North America to strengthen pressure on the French.</a:t>
            </a:r>
            <a:endParaRPr b="0" lang="en-US" sz="2600" spc="-1" strike="noStrike">
              <a:solidFill>
                <a:srgbClr val="000000"/>
              </a:solidFill>
              <a:latin typeface="Times New Roman"/>
            </a:endParaRPr>
          </a:p>
          <a:p>
            <a:pPr marL="312120" indent="-31212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the summer of 1755, General Edward Braddock marched 1800 men across the mountains to Fort Duquesne to avenge the loss by Colonel Washington.</a:t>
            </a:r>
            <a:endParaRPr b="0" lang="en-US" sz="2600" spc="-1" strike="noStrike">
              <a:solidFill>
                <a:srgbClr val="000000"/>
              </a:solidFill>
              <a:latin typeface="Times New Roman"/>
            </a:endParaRPr>
          </a:p>
          <a:p>
            <a:pPr marL="312120" indent="-31212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raddock’s men were surprised by 850 French soldiers and their American Indian allies. Two-thirds of the British were killed or wounded.</a:t>
            </a:r>
            <a:endParaRPr b="0" lang="en-US" sz="2600" spc="-1" strike="noStrike">
              <a:solidFill>
                <a:srgbClr val="000000"/>
              </a:solidFill>
              <a:latin typeface="Times New Roman"/>
            </a:endParaRPr>
          </a:p>
          <a:p>
            <a:pPr marL="312120" indent="-312120">
              <a:lnSpc>
                <a:spcPct val="90000"/>
              </a:lnSpc>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how many of General Braddock’s troops were killed or wounded?</a:t>
            </a:r>
            <a:endParaRPr b="0" lang="en-US" sz="2600" spc="-1" strike="noStrike">
              <a:solidFill>
                <a:srgbClr val="000000"/>
              </a:solidFill>
              <a:latin typeface="Times New Roman"/>
            </a:endParaRPr>
          </a:p>
        </p:txBody>
      </p:sp>
      <p:sp>
        <p:nvSpPr>
          <p:cNvPr id="1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Win Early Battl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ween 1755 and 1757, the French defeated the British in nearly every battle that occur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 French were victorious?</a:t>
            </a:r>
            <a:endParaRPr b="0" lang="en-US" sz="3200" spc="-1" strike="noStrike">
              <a:solidFill>
                <a:srgbClr val="000000"/>
              </a:solidFill>
              <a:latin typeface="Times New Roman"/>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d Most American Indians Become Allies of the French?</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2361960"/>
            <a:ext cx="777240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had few American Indian allies as the war began.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merican Indian groups aligned themselves with the French. Why?</a:t>
            </a:r>
            <a:endParaRPr b="0" lang="en-US" sz="3200" spc="-1" strike="noStrike">
              <a:solidFill>
                <a:srgbClr val="000000"/>
              </a:solidFill>
              <a:latin typeface="Times New Roman"/>
            </a:endParaRPr>
          </a:p>
        </p:txBody>
      </p:sp>
      <p:sp>
        <p:nvSpPr>
          <p:cNvPr id="1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urn Things Around</a:t>
            </a:r>
            <a:endParaRPr b="0" lang="en-US" sz="4400" spc="-1" strike="noStrike">
              <a:solidFill>
                <a:srgbClr val="000000"/>
              </a:solidFill>
              <a:latin typeface="Times New Roman"/>
            </a:endParaRPr>
          </a:p>
        </p:txBody>
      </p:sp>
      <p:sp>
        <p:nvSpPr>
          <p:cNvPr id="136" name="PlaceHolder 2"/>
          <p:cNvSpPr>
            <a:spLocks noGrp="1"/>
          </p:cNvSpPr>
          <p:nvPr>
            <p:ph/>
          </p:nvPr>
        </p:nvSpPr>
        <p:spPr>
          <a:xfrm>
            <a:off x="533520" y="1604880"/>
            <a:ext cx="4427280" cy="3533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758, the British had brought together the largest army ever assembled in North America – 15,000 m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itish captured the French settlement at Louisbourg near the mouth of the St. Lawrence River and Fort Duquesne near Pittsburg, P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2"/>
          <a:stretch/>
        </p:blipFill>
        <p:spPr>
          <a:xfrm>
            <a:off x="5221440" y="1724040"/>
            <a:ext cx="3400200" cy="2724120"/>
          </a:xfrm>
          <a:prstGeom prst="rect">
            <a:avLst/>
          </a:prstGeom>
          <a:ln w="76320">
            <a:solidFill>
              <a:srgbClr val="545068"/>
            </a:solidFill>
            <a:miter/>
          </a:ln>
        </p:spPr>
      </p:pic>
      <p:sp>
        <p:nvSpPr>
          <p:cNvPr id="138" name=""/>
          <p:cNvSpPr/>
          <p:nvPr/>
        </p:nvSpPr>
        <p:spPr>
          <a:xfrm>
            <a:off x="5902920" y="4502160"/>
            <a:ext cx="210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www.masshist.org</a:t>
            </a:r>
            <a:endParaRPr b="0" lang="en-US" sz="1400" spc="-1" strike="noStrike">
              <a:solidFill>
                <a:srgbClr val="000000"/>
              </a:solidFill>
              <a:latin typeface="Times New Roman"/>
            </a:endParaRPr>
          </a:p>
        </p:txBody>
      </p:sp>
      <p:sp>
        <p:nvSpPr>
          <p:cNvPr id="139" name=""/>
          <p:cNvSpPr/>
          <p:nvPr/>
        </p:nvSpPr>
        <p:spPr>
          <a:xfrm>
            <a:off x="509760" y="5022720"/>
            <a:ext cx="8319960" cy="2364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British began to win victories some American Indian groups began to side with them against the French.</a:t>
            </a:r>
            <a:endParaRPr b="0" lang="en-US" sz="2400" spc="-1" strike="noStrike">
              <a:solidFill>
                <a:srgbClr val="000000"/>
              </a:solidFill>
              <a:latin typeface="Times New Roman"/>
            </a:endParaRPr>
          </a:p>
          <a:p>
            <a:pPr marL="341280" indent="-34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important about the victories at Louisbourg and Fort Duquesne?</a:t>
            </a:r>
            <a:endParaRPr b="0" lang="en-US" sz="2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400" y="4952520"/>
            <a:ext cx="73152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duction of the Partnership for Environmental Education and Rural Health</a:t>
            </a:r>
            <a:br>
              <a:rPr sz="3200"/>
            </a:br>
            <a:r>
              <a:rPr b="0" lang="en-US" sz="3200" spc="-1" strike="noStrike">
                <a:solidFill>
                  <a:srgbClr val="000000"/>
                </a:solidFill>
                <a:latin typeface="Times New Roman"/>
              </a:rPr>
              <a:t>funded by NIEHS, Larry Johnson, PI</a:t>
            </a:r>
            <a:endParaRPr b="0" lang="en-US" sz="3200" spc="-1" strike="noStrike">
              <a:solidFill>
                <a:srgbClr val="000000"/>
              </a:solidFill>
              <a:latin typeface="Times New Roman"/>
            </a:endParaRPr>
          </a:p>
        </p:txBody>
      </p:sp>
      <p:sp>
        <p:nvSpPr>
          <p:cNvPr id="63"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rimary Authors</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Jon Hunter </a:t>
            </a:r>
            <a:br>
              <a:rPr sz="3200"/>
            </a:br>
            <a:r>
              <a:rPr b="0" lang="en-US" sz="3200" spc="-1" strike="noStrike">
                <a:solidFill>
                  <a:srgbClr val="000000"/>
                </a:solidFill>
                <a:latin typeface="Times New Roman"/>
              </a:rPr>
              <a:t>Bill Klemm </a:t>
            </a:r>
            <a:br>
              <a:rPr sz="3200"/>
            </a:br>
            <a:r>
              <a:rPr b="0" lang="en-US" sz="3200" spc="-1" strike="noStrike">
                <a:solidFill>
                  <a:srgbClr val="000000"/>
                </a:solidFill>
                <a:latin typeface="Times New Roman"/>
              </a:rPr>
              <a:t>Deborah Kochevar</a:t>
            </a:r>
            <a:br>
              <a:rPr sz="3200"/>
            </a:br>
            <a:r>
              <a:rPr b="0" lang="en-US" sz="3200" spc="-1" strike="noStrike">
                <a:solidFill>
                  <a:srgbClr val="000000"/>
                </a:solidFill>
                <a:latin typeface="Times New Roman"/>
              </a:rPr>
              <a:t>Jim Kracht</a:t>
            </a:r>
            <a:br>
              <a:rPr sz="3200"/>
            </a:br>
            <a:br>
              <a:rPr sz="3600"/>
            </a:br>
            <a:r>
              <a:rPr b="0" lang="en-US" sz="3200" spc="-1" strike="noStrike">
                <a:solidFill>
                  <a:srgbClr val="000000"/>
                </a:solidFill>
                <a:latin typeface="Times New Roman"/>
              </a:rPr>
              <a:t>Based on a story by</a:t>
            </a:r>
            <a:br>
              <a:rPr sz="3200"/>
            </a:br>
            <a:r>
              <a:rPr b="0" lang="en-US" sz="3200" spc="-1" strike="noStrike">
                <a:solidFill>
                  <a:srgbClr val="000000"/>
                </a:solidFill>
                <a:latin typeface="Times New Roman"/>
              </a:rPr>
              <a:t>Marguerite Swilling</a:t>
            </a:r>
            <a:br>
              <a:rPr sz="3200"/>
            </a:b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9960" y="1609560"/>
            <a:ext cx="83044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in late 1758, the British forces defeated the French in nearly every eng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ish victories along the St. Lawrence River stopped the trade between the French and their American Indian all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British victory at Montreal, the war in North America came to an en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ere the settlements and forts along the St. Lawrence so important?</a:t>
            </a:r>
            <a:endParaRPr b="0" lang="en-US" sz="2800" spc="-1" strike="noStrike">
              <a:solidFill>
                <a:srgbClr val="000000"/>
              </a:solidFill>
              <a:latin typeface="Times New Roman"/>
            </a:endParaRPr>
          </a:p>
        </p:txBody>
      </p:sp>
      <p:sp>
        <p:nvSpPr>
          <p:cNvPr id="142" name="PlaceHolder 2"/>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ritish Take Control</a:t>
            </a:r>
            <a:endParaRPr b="0" lang="en-US" sz="4400" spc="-1" strike="noStrike">
              <a:solidFill>
                <a:srgbClr val="000000"/>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676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War and the </a:t>
            </a:r>
            <a:br>
              <a:rPr sz="4400"/>
            </a:br>
            <a:r>
              <a:rPr b="0" lang="en-US" sz="4400" spc="-1" strike="noStrike">
                <a:solidFill>
                  <a:srgbClr val="000000"/>
                </a:solidFill>
                <a:latin typeface="Times New Roman"/>
              </a:rPr>
              <a:t>Treaty of Paris</a:t>
            </a:r>
            <a:endParaRPr b="0" lang="en-US" sz="4400" spc="-1" strike="noStrike">
              <a:solidFill>
                <a:srgbClr val="000000"/>
              </a:solidFill>
              <a:latin typeface="Times New Roman"/>
            </a:endParaRPr>
          </a:p>
        </p:txBody>
      </p:sp>
      <p:sp>
        <p:nvSpPr>
          <p:cNvPr id="145" name="PlaceHolder 2"/>
          <p:cNvSpPr>
            <a:spLocks noGrp="1"/>
          </p:cNvSpPr>
          <p:nvPr>
            <p:ph/>
          </p:nvPr>
        </p:nvSpPr>
        <p:spPr>
          <a:xfrm>
            <a:off x="901800" y="2344680"/>
            <a:ext cx="7340400" cy="374184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war in North America ended in 1760, fighting in Europe went on for three more years.</a:t>
            </a:r>
            <a:endParaRPr b="0"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aty of Paris in 1763 brought a close to the conflict known as the French and Indian War in North America and the Seven Years’ War in Europe.</a:t>
            </a:r>
            <a:endParaRPr b="0"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id not bring a close to conflict in North America.</a:t>
            </a:r>
            <a:endParaRPr b="0"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conflicts occurred in North America in the 18th century?</a:t>
            </a:r>
            <a:endParaRPr b="0"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re their causes?  </a:t>
            </a:r>
            <a:endParaRPr b="0" lang="en-US" sz="24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re their results?</a:t>
            </a:r>
            <a:endParaRPr b="0" lang="en-US" sz="2400" spc="-1" strike="noStrike">
              <a:solidFill>
                <a:srgbClr val="000000"/>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733320" y="1762200"/>
            <a:ext cx="3557520" cy="4781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p at the right shows North American land claims after the 1763 Treaty of Par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the map at right to the map on slide 12. What differences do you see? </a:t>
            </a:r>
            <a:endParaRPr b="0" lang="en-US" sz="2800" spc="-1" strike="noStrike">
              <a:solidFill>
                <a:srgbClr val="000000"/>
              </a:solidFill>
              <a:latin typeface="Times New Roman"/>
            </a:endParaRPr>
          </a:p>
        </p:txBody>
      </p:sp>
      <p:sp>
        <p:nvSpPr>
          <p:cNvPr id="148" name=""/>
          <p:cNvSpPr/>
          <p:nvPr/>
        </p:nvSpPr>
        <p:spPr>
          <a:xfrm>
            <a:off x="4952880" y="3429000"/>
            <a:ext cx="3429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 of North America showing British French and Spanish lands resulting from the Treaty of Paris.</a:t>
            </a:r>
            <a:endParaRPr b="0" lang="en-US" sz="1800" spc="-1" strike="noStrike">
              <a:solidFill>
                <a:srgbClr val="000000"/>
              </a:solidFill>
              <a:latin typeface="Times New Roman"/>
            </a:endParaRPr>
          </a:p>
        </p:txBody>
      </p:sp>
      <p:pic>
        <p:nvPicPr>
          <p:cNvPr id="149" name="" descr=""/>
          <p:cNvPicPr/>
          <p:nvPr/>
        </p:nvPicPr>
        <p:blipFill>
          <a:blip r:embed="rId2"/>
          <a:stretch/>
        </p:blipFill>
        <p:spPr>
          <a:xfrm>
            <a:off x="4800600" y="1981080"/>
            <a:ext cx="3295800" cy="3886200"/>
          </a:xfrm>
          <a:prstGeom prst="rect">
            <a:avLst/>
          </a:prstGeom>
          <a:ln w="57240">
            <a:solidFill>
              <a:srgbClr val="ffffff"/>
            </a:solidFill>
            <a:miter/>
          </a:ln>
        </p:spPr>
      </p:pic>
      <p:sp>
        <p:nvSpPr>
          <p:cNvPr id="150" name=""/>
          <p:cNvSpPr/>
          <p:nvPr/>
        </p:nvSpPr>
        <p:spPr>
          <a:xfrm>
            <a:off x="5110920" y="5867280"/>
            <a:ext cx="24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mccordfamilyassn.com</a:t>
            </a:r>
            <a:endParaRPr b="0" lang="en-US" sz="1200" spc="-1" strike="noStrike">
              <a:solidFill>
                <a:srgbClr val="000000"/>
              </a:solidFill>
              <a:latin typeface="Times New Roman"/>
            </a:endParaRPr>
          </a:p>
        </p:txBody>
      </p:sp>
      <p:sp>
        <p:nvSpPr>
          <p:cNvPr id="151"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ining a Primary Sourc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ual Treaty of Paris is a “primary source”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a “primary source” and a “secondary sour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historians think it is important to examine “primary source” document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read the text of the Treaty of Paris by going to: </a:t>
            </a:r>
            <a:r>
              <a:rPr b="0" lang="en-US" sz="2400" spc="-1" strike="noStrike" u="sng">
                <a:solidFill>
                  <a:srgbClr val="134173"/>
                </a:solidFill>
                <a:uFillTx/>
                <a:latin typeface="Times New Roman"/>
                <a:hlinkClick r:id="rId2"/>
              </a:rPr>
              <a:t>http://www.yale.edu/lawweb/avalon/paris763.ht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157" name="" descr=""/>
          <p:cNvPicPr/>
          <p:nvPr/>
        </p:nvPicPr>
        <p:blipFill>
          <a:blip r:embed="rId2"/>
          <a:stretch/>
        </p:blipFill>
        <p:spPr>
          <a:xfrm>
            <a:off x="4876920" y="1805040"/>
            <a:ext cx="3803400" cy="2614680"/>
          </a:xfrm>
          <a:prstGeom prst="rect">
            <a:avLst/>
          </a:prstGeom>
          <a:ln w="57240">
            <a:solidFill>
              <a:srgbClr val="545068"/>
            </a:solidFill>
            <a:miter/>
          </a:ln>
        </p:spPr>
      </p:pic>
      <p:sp>
        <p:nvSpPr>
          <p:cNvPr id="158" name=""/>
          <p:cNvSpPr/>
          <p:nvPr/>
        </p:nvSpPr>
        <p:spPr>
          <a:xfrm>
            <a:off x="457200" y="3809880"/>
            <a:ext cx="7848720" cy="31359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of the </a:t>
            </a:r>
            <a:br>
              <a:rPr sz="2800"/>
            </a:br>
            <a:r>
              <a:rPr b="0" lang="en-US" sz="2800" spc="-1" strike="noStrike">
                <a:solidFill>
                  <a:srgbClr val="000000"/>
                </a:solidFill>
                <a:latin typeface="Times New Roman"/>
              </a:rPr>
              <a:t>symptoms of those who </a:t>
            </a:r>
            <a:br>
              <a:rPr sz="2800"/>
            </a:br>
            <a:r>
              <a:rPr b="0" lang="en-US" sz="2800" spc="-1" strike="noStrike">
                <a:solidFill>
                  <a:srgbClr val="000000"/>
                </a:solidFill>
                <a:latin typeface="Times New Roman"/>
              </a:rPr>
              <a:t>were sick? Does this sound like a disease that you might have had when you were little?</a:t>
            </a:r>
            <a:endParaRPr b="0" lang="en-US" sz="2800" spc="-1" strike="noStrike">
              <a:solidFill>
                <a:srgbClr val="000000"/>
              </a:solidFill>
              <a:latin typeface="Times New Roman"/>
            </a:endParaRPr>
          </a:p>
          <a:p>
            <a:pPr marL="347760" indent="-3477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is disease being spread to the Native Americans?</a:t>
            </a:r>
            <a:endParaRPr b="0" lang="en-US" sz="2800" spc="-1" strike="noStrike">
              <a:solidFill>
                <a:srgbClr val="000000"/>
              </a:solidFill>
              <a:latin typeface="Times New Roman"/>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2"/>
          <p:cNvSpPr>
            <a:spLocks noGrp="1"/>
          </p:cNvSpPr>
          <p:nvPr>
            <p:ph/>
          </p:nvPr>
        </p:nvSpPr>
        <p:spPr>
          <a:xfrm>
            <a:off x="495000" y="1787040"/>
            <a:ext cx="3670200" cy="207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that Red Arrow and Jace saw and heard about at the village?</a:t>
            </a:r>
            <a:endParaRPr b="0" lang="en-US" sz="2800" spc="-1" strike="noStrike">
              <a:solidFill>
                <a:srgbClr val="000000"/>
              </a:solidFill>
              <a:latin typeface="Times New Roman"/>
            </a:endParaRPr>
          </a:p>
        </p:txBody>
      </p:sp>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3525840" y="4114800"/>
            <a:ext cx="2090880" cy="1714680"/>
          </a:xfrm>
          <a:prstGeom prst="rect">
            <a:avLst/>
          </a:prstGeom>
          <a:ln w="0">
            <a:noFill/>
          </a:ln>
        </p:spPr>
      </p:pic>
      <p:sp>
        <p:nvSpPr>
          <p:cNvPr id="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 is the origin of the sickness in the tribe?</a:t>
            </a:r>
            <a:endParaRPr b="0" lang="en-US" sz="4400" spc="-1" strike="noStrike">
              <a:solidFill>
                <a:srgbClr val="000000"/>
              </a:solidFill>
              <a:latin typeface="Times New Roman"/>
            </a:endParaRPr>
          </a:p>
        </p:txBody>
      </p:sp>
      <p:sp>
        <p:nvSpPr>
          <p:cNvPr id="163" name="PlaceHolder 2"/>
          <p:cNvSpPr>
            <a:spLocks noGrp="1"/>
          </p:cNvSpPr>
          <p:nvPr>
            <p:ph/>
          </p:nvPr>
        </p:nvSpPr>
        <p:spPr>
          <a:xfrm>
            <a:off x="766440" y="2534760"/>
            <a:ext cx="7628040" cy="114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hings from the story could have caused the sickness in the Lenape trib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990720" y="2133720"/>
            <a:ext cx="2855880" cy="3429000"/>
          </a:xfrm>
          <a:prstGeom prst="rect">
            <a:avLst/>
          </a:prstGeom>
          <a:ln w="0">
            <a:noFill/>
          </a:ln>
        </p:spPr>
      </p:pic>
      <p:sp>
        <p:nvSpPr>
          <p:cNvPr id="16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16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the sicknes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n’t we know about the sicknes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we find ou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do we need to use to figure out the cause of the sickness and its spread?</a:t>
            </a:r>
            <a:endParaRPr b="0" lang="en-US" sz="2800" spc="-1" strike="noStrike">
              <a:solidFill>
                <a:srgbClr val="000000"/>
              </a:solidFill>
              <a:latin typeface="Times New Roman"/>
            </a:endParaRPr>
          </a:p>
        </p:txBody>
      </p:sp>
      <p:sp>
        <p:nvSpPr>
          <p:cNvPr id="1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4915080" y="1581120"/>
            <a:ext cx="3789360" cy="2843280"/>
          </a:xfrm>
          <a:prstGeom prst="rect">
            <a:avLst/>
          </a:prstGeom>
          <a:ln w="76320">
            <a:solidFill>
              <a:srgbClr val="545068"/>
            </a:solidFill>
            <a:miter/>
          </a:ln>
        </p:spPr>
      </p:pic>
      <p:sp>
        <p:nvSpPr>
          <p:cNvPr id="170" name=""/>
          <p:cNvSpPr/>
          <p:nvPr/>
        </p:nvSpPr>
        <p:spPr>
          <a:xfrm>
            <a:off x="4805280" y="4765680"/>
            <a:ext cx="3975120" cy="15526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everyone who drank the water from the Monongahela sick? What about those who drank from the Ohio River?  </a:t>
            </a:r>
            <a:endParaRPr b="0" lang="en-US" sz="2400" spc="-1" strike="noStrike">
              <a:solidFill>
                <a:srgbClr val="000000"/>
              </a:solidFill>
              <a:latin typeface="Times New Roman"/>
            </a:endParaRPr>
          </a:p>
        </p:txBody>
      </p:sp>
      <p:sp>
        <p:nvSpPr>
          <p:cNvPr id="171" name="PlaceHolder 1"/>
          <p:cNvSpPr>
            <a:spLocks noGrp="1"/>
          </p:cNvSpPr>
          <p:nvPr>
            <p:ph/>
          </p:nvPr>
        </p:nvSpPr>
        <p:spPr>
          <a:xfrm>
            <a:off x="380520" y="1361880"/>
            <a:ext cx="4334040" cy="39718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ongahela River</a:t>
            </a:r>
            <a:r>
              <a:rPr b="1" lang="en-US" sz="2400" spc="-1" strike="noStrike">
                <a:solidFill>
                  <a:srgbClr val="000000"/>
                </a:solidFill>
                <a:latin typeface="Times New Roman"/>
              </a:rPr>
              <a:t> </a:t>
            </a:r>
            <a:r>
              <a:rPr b="0" lang="en-US" sz="2400" spc="-1" strike="noStrike">
                <a:solidFill>
                  <a:srgbClr val="000000"/>
                </a:solidFill>
                <a:latin typeface="Times New Roman"/>
              </a:rPr>
              <a:t>flows downstream and meets the Allegheny River to form the Ohio River.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ape tribe lived beside the river, using it as a source of water, food, and transportat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likely that the sickness came from something in the water?</a:t>
            </a:r>
            <a:endParaRPr b="0" lang="en-US" sz="2400" spc="-1" strike="noStrike">
              <a:solidFill>
                <a:srgbClr val="000000"/>
              </a:solidFill>
              <a:latin typeface="Times New Roman"/>
            </a:endParaRPr>
          </a:p>
        </p:txBody>
      </p:sp>
      <p:sp>
        <p:nvSpPr>
          <p:cNvPr id="172" name="PlaceHolder 2"/>
          <p:cNvSpPr>
            <a:spLocks noGrp="1"/>
          </p:cNvSpPr>
          <p:nvPr>
            <p:ph type="title"/>
          </p:nvPr>
        </p:nvSpPr>
        <p:spPr>
          <a:xfrm>
            <a:off x="762120" y="31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4876920" y="2057400"/>
            <a:ext cx="3733560" cy="2546280"/>
          </a:xfrm>
          <a:prstGeom prst="rect">
            <a:avLst/>
          </a:prstGeom>
          <a:ln w="76320">
            <a:solidFill>
              <a:srgbClr val="545068"/>
            </a:solidFill>
            <a:miter/>
          </a:ln>
        </p:spPr>
      </p:pic>
      <p:sp>
        <p:nvSpPr>
          <p:cNvPr id="175" name=""/>
          <p:cNvSpPr/>
          <p:nvPr/>
        </p:nvSpPr>
        <p:spPr>
          <a:xfrm>
            <a:off x="6019920" y="4648320"/>
            <a:ext cx="2133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nps.gov</a:t>
            </a:r>
            <a:endParaRPr b="0" lang="en-US" sz="1200" spc="-1" strike="noStrike">
              <a:solidFill>
                <a:srgbClr val="000000"/>
              </a:solidFill>
              <a:latin typeface="Times New Roman"/>
            </a:endParaRPr>
          </a:p>
        </p:txBody>
      </p:sp>
      <p:sp>
        <p:nvSpPr>
          <p:cNvPr id="176" name=""/>
          <p:cNvSpPr/>
          <p:nvPr/>
        </p:nvSpPr>
        <p:spPr>
          <a:xfrm>
            <a:off x="304920" y="5105520"/>
            <a:ext cx="7848360" cy="174744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common diseases from contaminated water cause diarrhea and abdominal discomfort. Were these the symptoms of the sick people in the story?</a:t>
            </a:r>
            <a:endParaRPr b="0" lang="en-US" sz="2400" spc="-1" strike="noStrike">
              <a:solidFill>
                <a:srgbClr val="000000"/>
              </a:solidFill>
              <a:latin typeface="Times New Roman"/>
            </a:endParaRPr>
          </a:p>
          <a:p>
            <a:pPr marL="347760" indent="-3477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p:nvPr>
        </p:nvSpPr>
        <p:spPr>
          <a:xfrm>
            <a:off x="328320" y="1984320"/>
            <a:ext cx="41907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pecies of microbes can live in water in large numbers and will cause disease when consum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mericas did not have sewage systems and water treatment plants to purify their drinking water.  </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571320" y="342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other water be the source?</a:t>
            </a:r>
            <a:endParaRPr b="0" lang="en-US" sz="44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38080" y="2187720"/>
            <a:ext cx="3048120" cy="3200400"/>
          </a:xfrm>
          <a:prstGeom prst="rect">
            <a:avLst/>
          </a:prstGeom>
          <a:ln w="88920">
            <a:solidFill>
              <a:srgbClr val="545068"/>
            </a:solidFill>
            <a:miter/>
          </a:ln>
        </p:spPr>
      </p:pic>
      <p:sp>
        <p:nvSpPr>
          <p:cNvPr id="181"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18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story, what kind of food did the Lenape tribe e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re any indication from the story that the sickness came from the tribe’s fo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think the sickness came from the food?  Why or why not?</a:t>
            </a:r>
            <a:endParaRPr b="0" lang="en-US" sz="2400" spc="-1" strike="noStrike">
              <a:solidFill>
                <a:srgbClr val="000000"/>
              </a:solidFill>
              <a:latin typeface="Times New Roman"/>
            </a:endParaRPr>
          </a:p>
        </p:txBody>
      </p:sp>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762120"/>
            <a:ext cx="8229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endParaRPr b="0" lang="en-US" sz="4000" spc="-1" strike="noStrike">
              <a:solidFill>
                <a:srgbClr val="000000"/>
              </a:solidFill>
              <a:latin typeface="Times New Roman"/>
            </a:endParaRPr>
          </a:p>
        </p:txBody>
      </p:sp>
      <p:sp>
        <p:nvSpPr>
          <p:cNvPr id="65" name=""/>
          <p:cNvSpPr/>
          <p:nvPr/>
        </p:nvSpPr>
        <p:spPr>
          <a:xfrm>
            <a:off x="380880" y="5330880"/>
            <a:ext cx="8382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grpSp>
        <p:nvGrpSpPr>
          <p:cNvPr id="66" name=""/>
          <p:cNvGrpSpPr/>
          <p:nvPr/>
        </p:nvGrpSpPr>
        <p:grpSpPr>
          <a:xfrm>
            <a:off x="1552680" y="2048040"/>
            <a:ext cx="5809680" cy="2515680"/>
            <a:chOff x="1552680" y="2048040"/>
            <a:chExt cx="5809680" cy="2515680"/>
          </a:xfrm>
        </p:grpSpPr>
        <p:pic>
          <p:nvPicPr>
            <p:cNvPr id="67" name="" descr=""/>
            <p:cNvPicPr/>
            <p:nvPr/>
          </p:nvPicPr>
          <p:blipFill>
            <a:blip r:embed="rId2"/>
            <a:stretch/>
          </p:blipFill>
          <p:spPr>
            <a:xfrm>
              <a:off x="2131920" y="2048040"/>
              <a:ext cx="4641120" cy="2515680"/>
            </a:xfrm>
            <a:prstGeom prst="rect">
              <a:avLst/>
            </a:prstGeom>
            <a:ln w="0">
              <a:noFill/>
            </a:ln>
          </p:spPr>
        </p:pic>
        <p:grpSp>
          <p:nvGrpSpPr>
            <p:cNvPr id="68" name=""/>
            <p:cNvGrpSpPr/>
            <p:nvPr/>
          </p:nvGrpSpPr>
          <p:grpSpPr>
            <a:xfrm>
              <a:off x="1552680" y="2574000"/>
              <a:ext cx="5809680" cy="1989720"/>
              <a:chOff x="1552680" y="2574000"/>
              <a:chExt cx="5809680" cy="1989720"/>
            </a:xfrm>
          </p:grpSpPr>
          <p:grpSp>
            <p:nvGrpSpPr>
              <p:cNvPr id="69" name=""/>
              <p:cNvGrpSpPr/>
              <p:nvPr/>
            </p:nvGrpSpPr>
            <p:grpSpPr>
              <a:xfrm>
                <a:off x="6329520" y="3254040"/>
                <a:ext cx="1027080" cy="1309680"/>
                <a:chOff x="6329520" y="3254040"/>
                <a:chExt cx="1027080" cy="1309680"/>
              </a:xfrm>
            </p:grpSpPr>
            <p:pic>
              <p:nvPicPr>
                <p:cNvPr id="70" name="" descr=""/>
                <p:cNvPicPr/>
                <p:nvPr/>
              </p:nvPicPr>
              <p:blipFill>
                <a:blip r:embed="rId3">
                  <a:biLevel thresh="50000"/>
                </a:blip>
                <a:srcRect l="9945" t="0" r="0" b="15887"/>
                <a:stretch/>
              </p:blipFill>
              <p:spPr>
                <a:xfrm rot="10569600">
                  <a:off x="6383160" y="3273840"/>
                  <a:ext cx="640080" cy="1051920"/>
                </a:xfrm>
                <a:prstGeom prst="rect">
                  <a:avLst/>
                </a:prstGeom>
                <a:ln w="0">
                  <a:noFill/>
                </a:ln>
              </p:spPr>
            </p:pic>
            <p:pic>
              <p:nvPicPr>
                <p:cNvPr id="71" name="" descr=""/>
                <p:cNvPicPr/>
                <p:nvPr/>
              </p:nvPicPr>
              <p:blipFill>
                <a:blip r:embed="rId4">
                  <a:biLevel thresh="50000"/>
                </a:blip>
                <a:srcRect l="6223" t="0" r="0" b="10762"/>
                <a:stretch/>
              </p:blipFill>
              <p:spPr>
                <a:xfrm rot="9054000">
                  <a:off x="6538680" y="3460680"/>
                  <a:ext cx="608400" cy="1019160"/>
                </a:xfrm>
                <a:prstGeom prst="rect">
                  <a:avLst/>
                </a:prstGeom>
                <a:ln w="0">
                  <a:noFill/>
                </a:ln>
              </p:spPr>
            </p:pic>
          </p:grpSp>
          <p:grpSp>
            <p:nvGrpSpPr>
              <p:cNvPr id="72" name=""/>
              <p:cNvGrpSpPr/>
              <p:nvPr/>
            </p:nvGrpSpPr>
            <p:grpSpPr>
              <a:xfrm>
                <a:off x="1552680" y="2574000"/>
                <a:ext cx="5809680" cy="1361880"/>
                <a:chOff x="1552680" y="2574000"/>
                <a:chExt cx="5809680" cy="1361880"/>
              </a:xfrm>
            </p:grpSpPr>
            <p:grpSp>
              <p:nvGrpSpPr>
                <p:cNvPr id="73" name=""/>
                <p:cNvGrpSpPr/>
                <p:nvPr/>
              </p:nvGrpSpPr>
              <p:grpSpPr>
                <a:xfrm>
                  <a:off x="1552680" y="2574000"/>
                  <a:ext cx="5809680" cy="1361880"/>
                  <a:chOff x="1552680" y="2574000"/>
                  <a:chExt cx="5809680" cy="1361880"/>
                </a:xfrm>
              </p:grpSpPr>
              <p:sp>
                <p:nvSpPr>
                  <p:cNvPr id="74" name=""/>
                  <p:cNvSpPr/>
                  <p:nvPr/>
                </p:nvSpPr>
                <p:spPr>
                  <a:xfrm>
                    <a:off x="1552680" y="2574000"/>
                    <a:ext cx="5538600" cy="136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
                  <p:cNvGrpSpPr/>
                  <p:nvPr/>
                </p:nvGrpSpPr>
                <p:grpSpPr>
                  <a:xfrm>
                    <a:off x="2091240" y="3209760"/>
                    <a:ext cx="5271120" cy="270720"/>
                    <a:chOff x="2091240" y="3209760"/>
                    <a:chExt cx="5271120" cy="270720"/>
                  </a:xfrm>
                </p:grpSpPr>
                <p:sp>
                  <p:nvSpPr>
                    <p:cNvPr id="76" name=""/>
                    <p:cNvSpPr/>
                    <p:nvPr/>
                  </p:nvSpPr>
                  <p:spPr>
                    <a:xfrm flipH="1">
                      <a:off x="2090880" y="3271320"/>
                      <a:ext cx="4791240" cy="10764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6852600" y="3209760"/>
                      <a:ext cx="509400" cy="2707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 name=""/>
                <p:cNvSpPr/>
                <p:nvPr/>
              </p:nvSpPr>
              <p:spPr>
                <a:xfrm rot="5659200">
                  <a:off x="6751080" y="3279240"/>
                  <a:ext cx="272160" cy="128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1.0</a:t>
            </a:r>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685800" y="2286000"/>
            <a:ext cx="3286080" cy="2924280"/>
          </a:xfrm>
          <a:prstGeom prst="rect">
            <a:avLst/>
          </a:prstGeom>
          <a:ln w="0">
            <a:noFill/>
          </a:ln>
        </p:spPr>
      </p:pic>
      <p:sp>
        <p:nvSpPr>
          <p:cNvPr id="185"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186" name="PlaceHolder 2"/>
          <p:cNvSpPr>
            <a:spLocks noGrp="1"/>
          </p:cNvSpPr>
          <p:nvPr>
            <p:ph/>
          </p:nvPr>
        </p:nvSpPr>
        <p:spPr>
          <a:xfrm>
            <a:off x="4858920" y="2119320"/>
            <a:ext cx="3598920" cy="374184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and toxins can be spread through the air.</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talk about anything that entered the air?</a:t>
            </a:r>
            <a:endParaRPr b="0" lang="en-US" sz="28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is be a possible source of the sickness?  Why or why not?</a:t>
            </a:r>
            <a:endParaRPr b="0" lang="en-US" sz="2800" spc="-1" strike="noStrike">
              <a:solidFill>
                <a:srgbClr val="000000"/>
              </a:solidFill>
              <a:latin typeface="Times New Roman"/>
            </a:endParaRPr>
          </a:p>
        </p:txBody>
      </p:sp>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the air?</a:t>
            </a:r>
            <a:endParaRPr b="0" lang="en-US" sz="4400" spc="-1" strike="noStrike">
              <a:solidFill>
                <a:srgbClr val="000000"/>
              </a:solidFill>
              <a:latin typeface="Times New Roman"/>
            </a:endParaRPr>
          </a:p>
        </p:txBody>
      </p:sp>
      <p:pic>
        <p:nvPicPr>
          <p:cNvPr id="189" name="" descr=""/>
          <p:cNvPicPr/>
          <p:nvPr/>
        </p:nvPicPr>
        <p:blipFill>
          <a:blip r:embed="rId2"/>
          <a:stretch/>
        </p:blipFill>
        <p:spPr>
          <a:xfrm>
            <a:off x="685800" y="1674720"/>
            <a:ext cx="3429000" cy="3008520"/>
          </a:xfrm>
          <a:prstGeom prst="rect">
            <a:avLst/>
          </a:prstGeom>
          <a:ln w="76320">
            <a:solidFill>
              <a:srgbClr val="545068"/>
            </a:solidFill>
            <a:miter/>
          </a:ln>
        </p:spPr>
      </p:pic>
      <p:sp>
        <p:nvSpPr>
          <p:cNvPr id="190" name="PlaceHolder 2"/>
          <p:cNvSpPr>
            <a:spLocks noGrp="1"/>
          </p:cNvSpPr>
          <p:nvPr>
            <p:ph/>
          </p:nvPr>
        </p:nvSpPr>
        <p:spPr>
          <a:xfrm>
            <a:off x="4571640" y="1509840"/>
            <a:ext cx="3886200" cy="449568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Arrow’s mother said that the English burn their dead in the forest and the south winds blow the smoke into the villag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ck of the tribe stayed at the village but the rest of the tribe left.</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 Lenape tribe go?  Did the story talk about anyone getting sick there?</a:t>
            </a:r>
            <a:endParaRPr b="0" lang="en-US" sz="2400" spc="-1" strike="noStrike">
              <a:solidFill>
                <a:srgbClr val="000000"/>
              </a:solidFill>
              <a:latin typeface="Times New Roman"/>
            </a:endParaRPr>
          </a:p>
        </p:txBody>
      </p:sp>
      <p:sp>
        <p:nvSpPr>
          <p:cNvPr id="1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2" name=""/>
          <p:cNvGrpSpPr/>
          <p:nvPr/>
        </p:nvGrpSpPr>
        <p:grpSpPr>
          <a:xfrm>
            <a:off x="4833720" y="2250000"/>
            <a:ext cx="3791160" cy="3241800"/>
            <a:chOff x="4833720" y="2250000"/>
            <a:chExt cx="3791160" cy="3241800"/>
          </a:xfrm>
        </p:grpSpPr>
        <p:sp>
          <p:nvSpPr>
            <p:cNvPr id="193" name=""/>
            <p:cNvSpPr/>
            <p:nvPr/>
          </p:nvSpPr>
          <p:spPr>
            <a:xfrm rot="700200">
              <a:off x="5066280" y="2553840"/>
              <a:ext cx="3276360" cy="2633400"/>
            </a:xfrm>
            <a:custGeom>
              <a:avLst/>
              <a:gdLst/>
              <a:ahLst/>
              <a:rect l="l" t="t" r="r" b="b"/>
              <a:pathLst>
                <a:path w="3354" h="2604">
                  <a:moveTo>
                    <a:pt x="151" y="526"/>
                  </a:moveTo>
                  <a:lnTo>
                    <a:pt x="266" y="513"/>
                  </a:lnTo>
                  <a:lnTo>
                    <a:pt x="975" y="694"/>
                  </a:lnTo>
                  <a:lnTo>
                    <a:pt x="1088" y="786"/>
                  </a:lnTo>
                  <a:lnTo>
                    <a:pt x="1213" y="758"/>
                  </a:lnTo>
                  <a:lnTo>
                    <a:pt x="1353" y="533"/>
                  </a:lnTo>
                  <a:lnTo>
                    <a:pt x="1478" y="477"/>
                  </a:lnTo>
                  <a:lnTo>
                    <a:pt x="1572" y="521"/>
                  </a:lnTo>
                  <a:lnTo>
                    <a:pt x="1687" y="437"/>
                  </a:lnTo>
                  <a:lnTo>
                    <a:pt x="1859" y="508"/>
                  </a:lnTo>
                  <a:lnTo>
                    <a:pt x="2068" y="605"/>
                  </a:lnTo>
                  <a:lnTo>
                    <a:pt x="2104" y="578"/>
                  </a:lnTo>
                  <a:lnTo>
                    <a:pt x="2176" y="406"/>
                  </a:lnTo>
                  <a:lnTo>
                    <a:pt x="2544" y="110"/>
                  </a:lnTo>
                  <a:lnTo>
                    <a:pt x="2833" y="0"/>
                  </a:lnTo>
                  <a:lnTo>
                    <a:pt x="2978" y="48"/>
                  </a:lnTo>
                  <a:lnTo>
                    <a:pt x="3080" y="182"/>
                  </a:lnTo>
                  <a:lnTo>
                    <a:pt x="3080" y="266"/>
                  </a:lnTo>
                  <a:lnTo>
                    <a:pt x="2848" y="387"/>
                  </a:lnTo>
                  <a:lnTo>
                    <a:pt x="2740" y="460"/>
                  </a:lnTo>
                  <a:lnTo>
                    <a:pt x="3026" y="464"/>
                  </a:lnTo>
                  <a:lnTo>
                    <a:pt x="3194" y="539"/>
                  </a:lnTo>
                  <a:lnTo>
                    <a:pt x="3267" y="685"/>
                  </a:lnTo>
                  <a:lnTo>
                    <a:pt x="3229" y="781"/>
                  </a:lnTo>
                  <a:lnTo>
                    <a:pt x="2956" y="831"/>
                  </a:lnTo>
                  <a:lnTo>
                    <a:pt x="3219" y="1034"/>
                  </a:lnTo>
                  <a:lnTo>
                    <a:pt x="3354" y="1263"/>
                  </a:lnTo>
                  <a:lnTo>
                    <a:pt x="3337" y="1413"/>
                  </a:lnTo>
                  <a:lnTo>
                    <a:pt x="3226" y="1404"/>
                  </a:lnTo>
                  <a:lnTo>
                    <a:pt x="3063" y="1325"/>
                  </a:lnTo>
                  <a:lnTo>
                    <a:pt x="2997" y="1320"/>
                  </a:lnTo>
                  <a:lnTo>
                    <a:pt x="3178" y="1582"/>
                  </a:lnTo>
                  <a:lnTo>
                    <a:pt x="3239" y="1835"/>
                  </a:lnTo>
                  <a:lnTo>
                    <a:pt x="3214" y="1921"/>
                  </a:lnTo>
                  <a:lnTo>
                    <a:pt x="3132" y="1960"/>
                  </a:lnTo>
                  <a:lnTo>
                    <a:pt x="2976" y="1766"/>
                  </a:lnTo>
                  <a:lnTo>
                    <a:pt x="2572" y="1403"/>
                  </a:lnTo>
                  <a:lnTo>
                    <a:pt x="2474" y="1322"/>
                  </a:lnTo>
                  <a:lnTo>
                    <a:pt x="2418" y="1401"/>
                  </a:lnTo>
                  <a:lnTo>
                    <a:pt x="2330" y="1371"/>
                  </a:lnTo>
                  <a:lnTo>
                    <a:pt x="2252" y="1532"/>
                  </a:lnTo>
                  <a:lnTo>
                    <a:pt x="2174" y="1554"/>
                  </a:lnTo>
                  <a:lnTo>
                    <a:pt x="2113" y="1678"/>
                  </a:lnTo>
                  <a:lnTo>
                    <a:pt x="1941" y="1700"/>
                  </a:lnTo>
                  <a:lnTo>
                    <a:pt x="1846" y="1651"/>
                  </a:lnTo>
                  <a:lnTo>
                    <a:pt x="1642" y="1664"/>
                  </a:lnTo>
                  <a:lnTo>
                    <a:pt x="1564" y="1770"/>
                  </a:lnTo>
                  <a:lnTo>
                    <a:pt x="1421" y="1757"/>
                  </a:lnTo>
                  <a:lnTo>
                    <a:pt x="1356" y="1532"/>
                  </a:lnTo>
                  <a:lnTo>
                    <a:pt x="1218" y="1574"/>
                  </a:lnTo>
                  <a:lnTo>
                    <a:pt x="1200" y="1885"/>
                  </a:lnTo>
                  <a:lnTo>
                    <a:pt x="1065" y="2009"/>
                  </a:lnTo>
                  <a:lnTo>
                    <a:pt x="683" y="2604"/>
                  </a:lnTo>
                  <a:lnTo>
                    <a:pt x="754" y="2009"/>
                  </a:lnTo>
                  <a:lnTo>
                    <a:pt x="167" y="2235"/>
                  </a:lnTo>
                  <a:lnTo>
                    <a:pt x="212" y="2097"/>
                  </a:lnTo>
                  <a:lnTo>
                    <a:pt x="607" y="1560"/>
                  </a:lnTo>
                  <a:lnTo>
                    <a:pt x="0" y="1250"/>
                  </a:lnTo>
                  <a:lnTo>
                    <a:pt x="612" y="1020"/>
                  </a:lnTo>
                  <a:lnTo>
                    <a:pt x="151" y="526"/>
                  </a:lnTo>
                  <a:lnTo>
                    <a:pt x="151"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rot="700200">
              <a:off x="6304320" y="3068640"/>
              <a:ext cx="1349640" cy="831600"/>
            </a:xfrm>
            <a:custGeom>
              <a:avLst/>
              <a:gdLst/>
              <a:ahLst/>
              <a:rect l="l" t="t" r="r" b="b"/>
              <a:pathLst>
                <a:path w="1380" h="821">
                  <a:moveTo>
                    <a:pt x="54" y="288"/>
                  </a:moveTo>
                  <a:lnTo>
                    <a:pt x="217" y="104"/>
                  </a:lnTo>
                  <a:lnTo>
                    <a:pt x="376" y="92"/>
                  </a:lnTo>
                  <a:lnTo>
                    <a:pt x="515" y="46"/>
                  </a:lnTo>
                  <a:lnTo>
                    <a:pt x="632" y="84"/>
                  </a:lnTo>
                  <a:lnTo>
                    <a:pt x="733" y="138"/>
                  </a:lnTo>
                  <a:lnTo>
                    <a:pt x="788" y="100"/>
                  </a:lnTo>
                  <a:lnTo>
                    <a:pt x="937" y="168"/>
                  </a:lnTo>
                  <a:lnTo>
                    <a:pt x="1069" y="0"/>
                  </a:lnTo>
                  <a:lnTo>
                    <a:pt x="1292" y="373"/>
                  </a:lnTo>
                  <a:lnTo>
                    <a:pt x="1380" y="708"/>
                  </a:lnTo>
                  <a:lnTo>
                    <a:pt x="1172" y="821"/>
                  </a:lnTo>
                  <a:lnTo>
                    <a:pt x="237" y="678"/>
                  </a:lnTo>
                  <a:lnTo>
                    <a:pt x="59" y="573"/>
                  </a:lnTo>
                  <a:lnTo>
                    <a:pt x="0" y="477"/>
                  </a:lnTo>
                  <a:lnTo>
                    <a:pt x="54" y="288"/>
                  </a:lnTo>
                  <a:lnTo>
                    <a:pt x="54" y="288"/>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rot="700200">
              <a:off x="6181560" y="3277080"/>
              <a:ext cx="1339920" cy="1179360"/>
            </a:xfrm>
            <a:custGeom>
              <a:avLst/>
              <a:gdLst/>
              <a:ahLst/>
              <a:rect l="l" t="t" r="r" b="b"/>
              <a:pathLst>
                <a:path w="1371" h="1167">
                  <a:moveTo>
                    <a:pt x="81" y="125"/>
                  </a:moveTo>
                  <a:lnTo>
                    <a:pt x="195" y="4"/>
                  </a:lnTo>
                  <a:lnTo>
                    <a:pt x="172" y="296"/>
                  </a:lnTo>
                  <a:lnTo>
                    <a:pt x="333" y="313"/>
                  </a:lnTo>
                  <a:lnTo>
                    <a:pt x="447" y="209"/>
                  </a:lnTo>
                  <a:lnTo>
                    <a:pt x="505" y="37"/>
                  </a:lnTo>
                  <a:lnTo>
                    <a:pt x="650" y="0"/>
                  </a:lnTo>
                  <a:lnTo>
                    <a:pt x="806" y="58"/>
                  </a:lnTo>
                  <a:lnTo>
                    <a:pt x="1041" y="334"/>
                  </a:lnTo>
                  <a:lnTo>
                    <a:pt x="1269" y="439"/>
                  </a:lnTo>
                  <a:lnTo>
                    <a:pt x="1371" y="527"/>
                  </a:lnTo>
                  <a:lnTo>
                    <a:pt x="1280" y="715"/>
                  </a:lnTo>
                  <a:lnTo>
                    <a:pt x="1192" y="685"/>
                  </a:lnTo>
                  <a:lnTo>
                    <a:pt x="1156" y="837"/>
                  </a:lnTo>
                  <a:lnTo>
                    <a:pt x="1079" y="892"/>
                  </a:lnTo>
                  <a:lnTo>
                    <a:pt x="1011" y="1020"/>
                  </a:lnTo>
                  <a:lnTo>
                    <a:pt x="773" y="1032"/>
                  </a:lnTo>
                  <a:lnTo>
                    <a:pt x="706" y="1025"/>
                  </a:lnTo>
                  <a:lnTo>
                    <a:pt x="606" y="1076"/>
                  </a:lnTo>
                  <a:lnTo>
                    <a:pt x="541" y="1034"/>
                  </a:lnTo>
                  <a:lnTo>
                    <a:pt x="470" y="1167"/>
                  </a:lnTo>
                  <a:lnTo>
                    <a:pt x="304" y="1163"/>
                  </a:lnTo>
                  <a:lnTo>
                    <a:pt x="188" y="879"/>
                  </a:lnTo>
                  <a:lnTo>
                    <a:pt x="119" y="929"/>
                  </a:lnTo>
                  <a:lnTo>
                    <a:pt x="88" y="786"/>
                  </a:lnTo>
                  <a:lnTo>
                    <a:pt x="6" y="711"/>
                  </a:lnTo>
                  <a:lnTo>
                    <a:pt x="71" y="652"/>
                  </a:lnTo>
                  <a:lnTo>
                    <a:pt x="62" y="544"/>
                  </a:lnTo>
                  <a:lnTo>
                    <a:pt x="0" y="447"/>
                  </a:lnTo>
                  <a:lnTo>
                    <a:pt x="65" y="418"/>
                  </a:lnTo>
                  <a:lnTo>
                    <a:pt x="68" y="322"/>
                  </a:lnTo>
                  <a:lnTo>
                    <a:pt x="12" y="266"/>
                  </a:lnTo>
                  <a:lnTo>
                    <a:pt x="81" y="125"/>
                  </a:lnTo>
                  <a:lnTo>
                    <a:pt x="81" y="125"/>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rot="700200">
              <a:off x="5054040" y="2849040"/>
              <a:ext cx="1066680" cy="2142000"/>
            </a:xfrm>
            <a:custGeom>
              <a:avLst/>
              <a:gdLst/>
              <a:ahLst/>
              <a:rect l="l" t="t" r="r" b="b"/>
              <a:pathLst>
                <a:path w="1093" h="2119">
                  <a:moveTo>
                    <a:pt x="216" y="17"/>
                  </a:moveTo>
                  <a:lnTo>
                    <a:pt x="923" y="227"/>
                  </a:lnTo>
                  <a:lnTo>
                    <a:pt x="842" y="315"/>
                  </a:lnTo>
                  <a:lnTo>
                    <a:pt x="845" y="461"/>
                  </a:lnTo>
                  <a:lnTo>
                    <a:pt x="812" y="612"/>
                  </a:lnTo>
                  <a:lnTo>
                    <a:pt x="868" y="791"/>
                  </a:lnTo>
                  <a:lnTo>
                    <a:pt x="799" y="922"/>
                  </a:lnTo>
                  <a:lnTo>
                    <a:pt x="848" y="1043"/>
                  </a:lnTo>
                  <a:lnTo>
                    <a:pt x="919" y="1143"/>
                  </a:lnTo>
                  <a:lnTo>
                    <a:pt x="900" y="1210"/>
                  </a:lnTo>
                  <a:lnTo>
                    <a:pt x="997" y="1348"/>
                  </a:lnTo>
                  <a:lnTo>
                    <a:pt x="1093" y="1441"/>
                  </a:lnTo>
                  <a:lnTo>
                    <a:pt x="946" y="1634"/>
                  </a:lnTo>
                  <a:lnTo>
                    <a:pt x="657" y="2119"/>
                  </a:lnTo>
                  <a:lnTo>
                    <a:pt x="726" y="1520"/>
                  </a:lnTo>
                  <a:lnTo>
                    <a:pt x="146" y="1722"/>
                  </a:lnTo>
                  <a:lnTo>
                    <a:pt x="197" y="1558"/>
                  </a:lnTo>
                  <a:lnTo>
                    <a:pt x="560" y="1047"/>
                  </a:lnTo>
                  <a:lnTo>
                    <a:pt x="0" y="746"/>
                  </a:lnTo>
                  <a:lnTo>
                    <a:pt x="567" y="495"/>
                  </a:lnTo>
                  <a:lnTo>
                    <a:pt x="130" y="13"/>
                  </a:lnTo>
                  <a:lnTo>
                    <a:pt x="182" y="0"/>
                  </a:lnTo>
                  <a:lnTo>
                    <a:pt x="216" y="17"/>
                  </a:lnTo>
                  <a:lnTo>
                    <a:pt x="216" y="1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rot="700200">
              <a:off x="4979880" y="3577680"/>
              <a:ext cx="1066680" cy="1405800"/>
            </a:xfrm>
            <a:custGeom>
              <a:avLst/>
              <a:gdLst/>
              <a:ahLst/>
              <a:rect l="l" t="t" r="r" b="b"/>
              <a:pathLst>
                <a:path w="1093" h="1390">
                  <a:moveTo>
                    <a:pt x="65" y="13"/>
                  </a:moveTo>
                  <a:lnTo>
                    <a:pt x="453" y="0"/>
                  </a:lnTo>
                  <a:lnTo>
                    <a:pt x="789" y="42"/>
                  </a:lnTo>
                  <a:lnTo>
                    <a:pt x="671" y="297"/>
                  </a:lnTo>
                  <a:lnTo>
                    <a:pt x="862" y="422"/>
                  </a:lnTo>
                  <a:lnTo>
                    <a:pt x="854" y="520"/>
                  </a:lnTo>
                  <a:lnTo>
                    <a:pt x="936" y="565"/>
                  </a:lnTo>
                  <a:lnTo>
                    <a:pt x="997" y="619"/>
                  </a:lnTo>
                  <a:lnTo>
                    <a:pt x="1093" y="712"/>
                  </a:lnTo>
                  <a:lnTo>
                    <a:pt x="657" y="1390"/>
                  </a:lnTo>
                  <a:lnTo>
                    <a:pt x="726" y="791"/>
                  </a:lnTo>
                  <a:lnTo>
                    <a:pt x="146" y="993"/>
                  </a:lnTo>
                  <a:lnTo>
                    <a:pt x="191" y="855"/>
                  </a:lnTo>
                  <a:lnTo>
                    <a:pt x="560" y="318"/>
                  </a:lnTo>
                  <a:lnTo>
                    <a:pt x="0" y="17"/>
                  </a:lnTo>
                  <a:lnTo>
                    <a:pt x="65" y="13"/>
                  </a:lnTo>
                  <a:lnTo>
                    <a:pt x="65" y="13"/>
                  </a:lnTo>
                  <a:close/>
                </a:path>
              </a:pathLst>
            </a:custGeom>
            <a:solidFill>
              <a:srgbClr val="80d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rot="700200">
              <a:off x="6074280" y="4106160"/>
              <a:ext cx="120600" cy="200160"/>
            </a:xfrm>
            <a:custGeom>
              <a:avLst/>
              <a:gdLst/>
              <a:ahLst/>
              <a:rect l="l" t="t" r="r" b="b"/>
              <a:pathLst>
                <a:path w="124" h="198">
                  <a:moveTo>
                    <a:pt x="0" y="0"/>
                  </a:moveTo>
                  <a:lnTo>
                    <a:pt x="124" y="26"/>
                  </a:lnTo>
                  <a:lnTo>
                    <a:pt x="63" y="198"/>
                  </a:lnTo>
                  <a:lnTo>
                    <a:pt x="0" y="0"/>
                  </a:lnTo>
                  <a:lnTo>
                    <a:pt x="0" y="0"/>
                  </a:lnTo>
                  <a:close/>
                </a:path>
              </a:pathLst>
            </a:custGeom>
            <a:solidFill>
              <a:srgbClr val="4ca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700200">
              <a:off x="6063840" y="3306240"/>
              <a:ext cx="230040" cy="827280"/>
            </a:xfrm>
            <a:custGeom>
              <a:avLst/>
              <a:gdLst/>
              <a:ahLst/>
              <a:rect l="l" t="t" r="r" b="b"/>
              <a:pathLst>
                <a:path w="235" h="816">
                  <a:moveTo>
                    <a:pt x="71" y="0"/>
                  </a:moveTo>
                  <a:lnTo>
                    <a:pt x="96" y="3"/>
                  </a:lnTo>
                  <a:lnTo>
                    <a:pt x="80" y="116"/>
                  </a:lnTo>
                  <a:lnTo>
                    <a:pt x="99" y="192"/>
                  </a:lnTo>
                  <a:lnTo>
                    <a:pt x="61" y="318"/>
                  </a:lnTo>
                  <a:lnTo>
                    <a:pt x="99" y="448"/>
                  </a:lnTo>
                  <a:lnTo>
                    <a:pt x="126" y="473"/>
                  </a:lnTo>
                  <a:lnTo>
                    <a:pt x="193" y="394"/>
                  </a:lnTo>
                  <a:lnTo>
                    <a:pt x="177" y="510"/>
                  </a:lnTo>
                  <a:lnTo>
                    <a:pt x="139" y="560"/>
                  </a:lnTo>
                  <a:lnTo>
                    <a:pt x="226" y="644"/>
                  </a:lnTo>
                  <a:lnTo>
                    <a:pt x="235" y="816"/>
                  </a:lnTo>
                  <a:lnTo>
                    <a:pt x="99" y="816"/>
                  </a:lnTo>
                  <a:lnTo>
                    <a:pt x="15" y="481"/>
                  </a:lnTo>
                  <a:lnTo>
                    <a:pt x="0" y="125"/>
                  </a:lnTo>
                  <a:lnTo>
                    <a:pt x="71" y="0"/>
                  </a:lnTo>
                  <a:lnTo>
                    <a:pt x="71"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700200">
              <a:off x="5583240" y="3015360"/>
              <a:ext cx="435240" cy="236520"/>
            </a:xfrm>
            <a:custGeom>
              <a:avLst/>
              <a:gdLst/>
              <a:ahLst/>
              <a:rect l="l" t="t" r="r" b="b"/>
              <a:pathLst>
                <a:path w="447" h="234">
                  <a:moveTo>
                    <a:pt x="0" y="0"/>
                  </a:moveTo>
                  <a:lnTo>
                    <a:pt x="197" y="214"/>
                  </a:lnTo>
                  <a:lnTo>
                    <a:pt x="285" y="193"/>
                  </a:lnTo>
                  <a:lnTo>
                    <a:pt x="408" y="234"/>
                  </a:lnTo>
                  <a:lnTo>
                    <a:pt x="447" y="149"/>
                  </a:lnTo>
                  <a:lnTo>
                    <a:pt x="323" y="94"/>
                  </a:lnTo>
                  <a:lnTo>
                    <a:pt x="266" y="30"/>
                  </a:lnTo>
                  <a:lnTo>
                    <a:pt x="0" y="0"/>
                  </a:lnTo>
                  <a:lnTo>
                    <a:pt x="0" y="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rot="700200">
              <a:off x="5362920" y="3499200"/>
              <a:ext cx="496080" cy="266760"/>
            </a:xfrm>
            <a:custGeom>
              <a:avLst/>
              <a:gdLst/>
              <a:ahLst/>
              <a:rect l="l" t="t" r="r" b="b"/>
              <a:pathLst>
                <a:path w="508" h="263">
                  <a:moveTo>
                    <a:pt x="0" y="89"/>
                  </a:moveTo>
                  <a:lnTo>
                    <a:pt x="292" y="0"/>
                  </a:lnTo>
                  <a:lnTo>
                    <a:pt x="327" y="70"/>
                  </a:lnTo>
                  <a:lnTo>
                    <a:pt x="508" y="109"/>
                  </a:lnTo>
                  <a:lnTo>
                    <a:pt x="500" y="154"/>
                  </a:lnTo>
                  <a:lnTo>
                    <a:pt x="339" y="168"/>
                  </a:lnTo>
                  <a:lnTo>
                    <a:pt x="266" y="263"/>
                  </a:lnTo>
                  <a:lnTo>
                    <a:pt x="0" y="89"/>
                  </a:lnTo>
                  <a:lnTo>
                    <a:pt x="0" y="89"/>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700200">
              <a:off x="5349600" y="4074120"/>
              <a:ext cx="367200" cy="276840"/>
            </a:xfrm>
            <a:custGeom>
              <a:avLst/>
              <a:gdLst/>
              <a:ahLst/>
              <a:rect l="l" t="t" r="r" b="b"/>
              <a:pathLst>
                <a:path w="377" h="274">
                  <a:moveTo>
                    <a:pt x="0" y="274"/>
                  </a:moveTo>
                  <a:lnTo>
                    <a:pt x="196" y="0"/>
                  </a:lnTo>
                  <a:lnTo>
                    <a:pt x="239" y="16"/>
                  </a:lnTo>
                  <a:lnTo>
                    <a:pt x="369" y="0"/>
                  </a:lnTo>
                  <a:lnTo>
                    <a:pt x="377" y="45"/>
                  </a:lnTo>
                  <a:lnTo>
                    <a:pt x="280" y="130"/>
                  </a:lnTo>
                  <a:lnTo>
                    <a:pt x="269" y="204"/>
                  </a:lnTo>
                  <a:lnTo>
                    <a:pt x="0" y="274"/>
                  </a:lnTo>
                  <a:lnTo>
                    <a:pt x="0" y="274"/>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700200">
              <a:off x="5654880" y="4430160"/>
              <a:ext cx="191160" cy="416520"/>
            </a:xfrm>
            <a:custGeom>
              <a:avLst/>
              <a:gdLst/>
              <a:ahLst/>
              <a:rect l="l" t="t" r="r" b="b"/>
              <a:pathLst>
                <a:path w="195" h="413">
                  <a:moveTo>
                    <a:pt x="57" y="89"/>
                  </a:moveTo>
                  <a:lnTo>
                    <a:pt x="96" y="110"/>
                  </a:lnTo>
                  <a:lnTo>
                    <a:pt x="152" y="0"/>
                  </a:lnTo>
                  <a:lnTo>
                    <a:pt x="195" y="75"/>
                  </a:lnTo>
                  <a:lnTo>
                    <a:pt x="0" y="413"/>
                  </a:lnTo>
                  <a:lnTo>
                    <a:pt x="57" y="89"/>
                  </a:lnTo>
                  <a:lnTo>
                    <a:pt x="57" y="89"/>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700200">
              <a:off x="5944320" y="3191040"/>
              <a:ext cx="267480" cy="1237320"/>
            </a:xfrm>
            <a:custGeom>
              <a:avLst/>
              <a:gdLst/>
              <a:ahLst/>
              <a:rect l="l" t="t" r="r" b="b"/>
              <a:pathLst>
                <a:path w="272" h="1223">
                  <a:moveTo>
                    <a:pt x="150" y="8"/>
                  </a:moveTo>
                  <a:lnTo>
                    <a:pt x="68" y="78"/>
                  </a:lnTo>
                  <a:lnTo>
                    <a:pt x="22" y="122"/>
                  </a:lnTo>
                  <a:lnTo>
                    <a:pt x="31" y="227"/>
                  </a:lnTo>
                  <a:lnTo>
                    <a:pt x="0" y="356"/>
                  </a:lnTo>
                  <a:lnTo>
                    <a:pt x="24" y="535"/>
                  </a:lnTo>
                  <a:lnTo>
                    <a:pt x="32" y="673"/>
                  </a:lnTo>
                  <a:lnTo>
                    <a:pt x="42" y="799"/>
                  </a:lnTo>
                  <a:lnTo>
                    <a:pt x="81" y="903"/>
                  </a:lnTo>
                  <a:lnTo>
                    <a:pt x="109" y="994"/>
                  </a:lnTo>
                  <a:lnTo>
                    <a:pt x="138" y="1108"/>
                  </a:lnTo>
                  <a:lnTo>
                    <a:pt x="211" y="1223"/>
                  </a:lnTo>
                  <a:lnTo>
                    <a:pt x="272" y="1168"/>
                  </a:lnTo>
                  <a:lnTo>
                    <a:pt x="169" y="769"/>
                  </a:lnTo>
                  <a:lnTo>
                    <a:pt x="96" y="386"/>
                  </a:lnTo>
                  <a:lnTo>
                    <a:pt x="141" y="93"/>
                  </a:lnTo>
                  <a:lnTo>
                    <a:pt x="210" y="0"/>
                  </a:lnTo>
                  <a:lnTo>
                    <a:pt x="150" y="8"/>
                  </a:lnTo>
                  <a:lnTo>
                    <a:pt x="150" y="8"/>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700200">
              <a:off x="5695200" y="4201920"/>
              <a:ext cx="187200" cy="206280"/>
            </a:xfrm>
            <a:custGeom>
              <a:avLst/>
              <a:gdLst/>
              <a:ahLst/>
              <a:rect l="l" t="t" r="r" b="b"/>
              <a:pathLst>
                <a:path w="192" h="204">
                  <a:moveTo>
                    <a:pt x="0" y="204"/>
                  </a:moveTo>
                  <a:lnTo>
                    <a:pt x="70" y="5"/>
                  </a:lnTo>
                  <a:lnTo>
                    <a:pt x="143" y="0"/>
                  </a:lnTo>
                  <a:lnTo>
                    <a:pt x="192" y="80"/>
                  </a:lnTo>
                  <a:lnTo>
                    <a:pt x="166" y="150"/>
                  </a:lnTo>
                  <a:lnTo>
                    <a:pt x="0" y="204"/>
                  </a:lnTo>
                  <a:lnTo>
                    <a:pt x="0" y="204"/>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700200">
              <a:off x="5733000" y="3336480"/>
              <a:ext cx="169920" cy="200160"/>
            </a:xfrm>
            <a:custGeom>
              <a:avLst/>
              <a:gdLst/>
              <a:ahLst/>
              <a:rect l="l" t="t" r="r" b="b"/>
              <a:pathLst>
                <a:path w="173" h="199">
                  <a:moveTo>
                    <a:pt x="0" y="60"/>
                  </a:moveTo>
                  <a:lnTo>
                    <a:pt x="138" y="0"/>
                  </a:lnTo>
                  <a:lnTo>
                    <a:pt x="173" y="19"/>
                  </a:lnTo>
                  <a:lnTo>
                    <a:pt x="172" y="199"/>
                  </a:lnTo>
                  <a:lnTo>
                    <a:pt x="0" y="60"/>
                  </a:lnTo>
                  <a:lnTo>
                    <a:pt x="0" y="60"/>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700200">
              <a:off x="5643720" y="3825360"/>
              <a:ext cx="201240" cy="206280"/>
            </a:xfrm>
            <a:custGeom>
              <a:avLst/>
              <a:gdLst/>
              <a:ahLst/>
              <a:rect l="l" t="t" r="r" b="b"/>
              <a:pathLst>
                <a:path w="208" h="204">
                  <a:moveTo>
                    <a:pt x="0" y="109"/>
                  </a:moveTo>
                  <a:lnTo>
                    <a:pt x="120" y="0"/>
                  </a:lnTo>
                  <a:lnTo>
                    <a:pt x="150" y="38"/>
                  </a:lnTo>
                  <a:lnTo>
                    <a:pt x="208" y="130"/>
                  </a:lnTo>
                  <a:lnTo>
                    <a:pt x="143" y="204"/>
                  </a:lnTo>
                  <a:lnTo>
                    <a:pt x="54" y="165"/>
                  </a:lnTo>
                  <a:lnTo>
                    <a:pt x="0" y="109"/>
                  </a:lnTo>
                  <a:lnTo>
                    <a:pt x="0" y="109"/>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700200">
              <a:off x="7461360" y="3948840"/>
              <a:ext cx="119160" cy="216360"/>
            </a:xfrm>
            <a:custGeom>
              <a:avLst/>
              <a:gdLst/>
              <a:ahLst/>
              <a:rect l="l" t="t" r="r" b="b"/>
              <a:pathLst>
                <a:path w="123" h="214">
                  <a:moveTo>
                    <a:pt x="35" y="0"/>
                  </a:moveTo>
                  <a:lnTo>
                    <a:pt x="123" y="30"/>
                  </a:lnTo>
                  <a:lnTo>
                    <a:pt x="98" y="190"/>
                  </a:lnTo>
                  <a:lnTo>
                    <a:pt x="54" y="214"/>
                  </a:lnTo>
                  <a:lnTo>
                    <a:pt x="0" y="109"/>
                  </a:lnTo>
                  <a:lnTo>
                    <a:pt x="35" y="0"/>
                  </a:lnTo>
                  <a:lnTo>
                    <a:pt x="35" y="0"/>
                  </a:lnTo>
                  <a:close/>
                </a:path>
              </a:pathLst>
            </a:custGeom>
            <a:solidFill>
              <a:srgbClr val="665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rot="700200">
              <a:off x="7413840" y="2843640"/>
              <a:ext cx="974880" cy="1933200"/>
            </a:xfrm>
            <a:custGeom>
              <a:avLst/>
              <a:gdLst/>
              <a:ahLst/>
              <a:rect l="l" t="t" r="r" b="b"/>
              <a:pathLst>
                <a:path w="997" h="1912">
                  <a:moveTo>
                    <a:pt x="0" y="274"/>
                  </a:moveTo>
                  <a:lnTo>
                    <a:pt x="212" y="65"/>
                  </a:lnTo>
                  <a:lnTo>
                    <a:pt x="389" y="11"/>
                  </a:lnTo>
                  <a:lnTo>
                    <a:pt x="612" y="0"/>
                  </a:lnTo>
                  <a:lnTo>
                    <a:pt x="728" y="86"/>
                  </a:lnTo>
                  <a:lnTo>
                    <a:pt x="735" y="230"/>
                  </a:lnTo>
                  <a:lnTo>
                    <a:pt x="482" y="339"/>
                  </a:lnTo>
                  <a:lnTo>
                    <a:pt x="427" y="403"/>
                  </a:lnTo>
                  <a:lnTo>
                    <a:pt x="704" y="429"/>
                  </a:lnTo>
                  <a:lnTo>
                    <a:pt x="851" y="529"/>
                  </a:lnTo>
                  <a:lnTo>
                    <a:pt x="896" y="613"/>
                  </a:lnTo>
                  <a:lnTo>
                    <a:pt x="863" y="733"/>
                  </a:lnTo>
                  <a:lnTo>
                    <a:pt x="624" y="787"/>
                  </a:lnTo>
                  <a:lnTo>
                    <a:pt x="805" y="926"/>
                  </a:lnTo>
                  <a:lnTo>
                    <a:pt x="915" y="1026"/>
                  </a:lnTo>
                  <a:lnTo>
                    <a:pt x="997" y="1245"/>
                  </a:lnTo>
                  <a:lnTo>
                    <a:pt x="962" y="1383"/>
                  </a:lnTo>
                  <a:lnTo>
                    <a:pt x="754" y="1304"/>
                  </a:lnTo>
                  <a:lnTo>
                    <a:pt x="651" y="1285"/>
                  </a:lnTo>
                  <a:lnTo>
                    <a:pt x="812" y="1534"/>
                  </a:lnTo>
                  <a:lnTo>
                    <a:pt x="873" y="1787"/>
                  </a:lnTo>
                  <a:lnTo>
                    <a:pt x="831" y="1912"/>
                  </a:lnTo>
                  <a:lnTo>
                    <a:pt x="766" y="1912"/>
                  </a:lnTo>
                  <a:lnTo>
                    <a:pt x="651" y="1768"/>
                  </a:lnTo>
                  <a:lnTo>
                    <a:pt x="231" y="1404"/>
                  </a:lnTo>
                  <a:lnTo>
                    <a:pt x="447" y="1040"/>
                  </a:lnTo>
                  <a:lnTo>
                    <a:pt x="339" y="872"/>
                  </a:lnTo>
                  <a:lnTo>
                    <a:pt x="332" y="628"/>
                  </a:lnTo>
                  <a:lnTo>
                    <a:pt x="177" y="503"/>
                  </a:lnTo>
                  <a:lnTo>
                    <a:pt x="115" y="309"/>
                  </a:lnTo>
                  <a:lnTo>
                    <a:pt x="0" y="274"/>
                  </a:lnTo>
                  <a:lnTo>
                    <a:pt x="0" y="274"/>
                  </a:lnTo>
                  <a:close/>
                </a:path>
              </a:pathLst>
            </a:custGeom>
            <a:solidFill>
              <a:srgbClr val="e0d4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700200">
              <a:off x="7635960" y="2897640"/>
              <a:ext cx="482400" cy="323280"/>
            </a:xfrm>
            <a:custGeom>
              <a:avLst/>
              <a:gdLst/>
              <a:ahLst/>
              <a:rect l="l" t="t" r="r" b="b"/>
              <a:pathLst>
                <a:path w="494" h="319">
                  <a:moveTo>
                    <a:pt x="0" y="139"/>
                  </a:moveTo>
                  <a:lnTo>
                    <a:pt x="160" y="17"/>
                  </a:lnTo>
                  <a:lnTo>
                    <a:pt x="443" y="0"/>
                  </a:lnTo>
                  <a:lnTo>
                    <a:pt x="494" y="65"/>
                  </a:lnTo>
                  <a:lnTo>
                    <a:pt x="382" y="150"/>
                  </a:lnTo>
                  <a:lnTo>
                    <a:pt x="186" y="319"/>
                  </a:lnTo>
                  <a:lnTo>
                    <a:pt x="232" y="185"/>
                  </a:lnTo>
                  <a:lnTo>
                    <a:pt x="178" y="120"/>
                  </a:lnTo>
                  <a:lnTo>
                    <a:pt x="0" y="139"/>
                  </a:lnTo>
                  <a:lnTo>
                    <a:pt x="0" y="139"/>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700200">
              <a:off x="7755840" y="3347640"/>
              <a:ext cx="457200" cy="286920"/>
            </a:xfrm>
            <a:custGeom>
              <a:avLst/>
              <a:gdLst/>
              <a:ahLst/>
              <a:rect l="l" t="t" r="r" b="b"/>
              <a:pathLst>
                <a:path w="470" h="284">
                  <a:moveTo>
                    <a:pt x="0" y="15"/>
                  </a:moveTo>
                  <a:lnTo>
                    <a:pt x="204" y="0"/>
                  </a:lnTo>
                  <a:lnTo>
                    <a:pt x="423" y="25"/>
                  </a:lnTo>
                  <a:lnTo>
                    <a:pt x="470" y="130"/>
                  </a:lnTo>
                  <a:lnTo>
                    <a:pt x="304" y="185"/>
                  </a:lnTo>
                  <a:lnTo>
                    <a:pt x="154" y="284"/>
                  </a:lnTo>
                  <a:lnTo>
                    <a:pt x="208" y="174"/>
                  </a:lnTo>
                  <a:lnTo>
                    <a:pt x="192" y="95"/>
                  </a:lnTo>
                  <a:lnTo>
                    <a:pt x="0" y="15"/>
                  </a:lnTo>
                  <a:lnTo>
                    <a:pt x="0" y="15"/>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700200">
              <a:off x="7854480" y="3735000"/>
              <a:ext cx="367200" cy="362160"/>
            </a:xfrm>
            <a:custGeom>
              <a:avLst/>
              <a:gdLst/>
              <a:ahLst/>
              <a:rect l="l" t="t" r="r" b="b"/>
              <a:pathLst>
                <a:path w="377" h="357">
                  <a:moveTo>
                    <a:pt x="0" y="0"/>
                  </a:moveTo>
                  <a:lnTo>
                    <a:pt x="211" y="79"/>
                  </a:lnTo>
                  <a:lnTo>
                    <a:pt x="377" y="259"/>
                  </a:lnTo>
                  <a:lnTo>
                    <a:pt x="377" y="357"/>
                  </a:lnTo>
                  <a:lnTo>
                    <a:pt x="181" y="318"/>
                  </a:lnTo>
                  <a:lnTo>
                    <a:pt x="15" y="288"/>
                  </a:lnTo>
                  <a:lnTo>
                    <a:pt x="84" y="248"/>
                  </a:lnTo>
                  <a:lnTo>
                    <a:pt x="96" y="124"/>
                  </a:lnTo>
                  <a:lnTo>
                    <a:pt x="0" y="0"/>
                  </a:lnTo>
                  <a:lnTo>
                    <a:pt x="0"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700200">
              <a:off x="7751880" y="4188240"/>
              <a:ext cx="232560" cy="473400"/>
            </a:xfrm>
            <a:custGeom>
              <a:avLst/>
              <a:gdLst/>
              <a:ahLst/>
              <a:rect l="l" t="t" r="r" b="b"/>
              <a:pathLst>
                <a:path w="239" h="467">
                  <a:moveTo>
                    <a:pt x="0" y="0"/>
                  </a:moveTo>
                  <a:lnTo>
                    <a:pt x="54" y="158"/>
                  </a:lnTo>
                  <a:lnTo>
                    <a:pt x="54" y="308"/>
                  </a:lnTo>
                  <a:lnTo>
                    <a:pt x="220" y="467"/>
                  </a:lnTo>
                  <a:lnTo>
                    <a:pt x="239" y="362"/>
                  </a:lnTo>
                  <a:lnTo>
                    <a:pt x="189" y="174"/>
                  </a:lnTo>
                  <a:lnTo>
                    <a:pt x="0" y="0"/>
                  </a:lnTo>
                  <a:lnTo>
                    <a:pt x="0" y="0"/>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700200">
              <a:off x="7319520" y="3095640"/>
              <a:ext cx="488520" cy="1116360"/>
            </a:xfrm>
            <a:custGeom>
              <a:avLst/>
              <a:gdLst/>
              <a:ahLst/>
              <a:rect l="l" t="t" r="r" b="b"/>
              <a:pathLst>
                <a:path w="499" h="1103">
                  <a:moveTo>
                    <a:pt x="422" y="1103"/>
                  </a:moveTo>
                  <a:lnTo>
                    <a:pt x="492" y="1028"/>
                  </a:lnTo>
                  <a:lnTo>
                    <a:pt x="449" y="864"/>
                  </a:lnTo>
                  <a:lnTo>
                    <a:pt x="499" y="744"/>
                  </a:lnTo>
                  <a:lnTo>
                    <a:pt x="415" y="597"/>
                  </a:lnTo>
                  <a:lnTo>
                    <a:pt x="388" y="361"/>
                  </a:lnTo>
                  <a:lnTo>
                    <a:pt x="246" y="267"/>
                  </a:lnTo>
                  <a:lnTo>
                    <a:pt x="183" y="53"/>
                  </a:lnTo>
                  <a:lnTo>
                    <a:pt x="78" y="0"/>
                  </a:lnTo>
                  <a:lnTo>
                    <a:pt x="0" y="25"/>
                  </a:lnTo>
                  <a:lnTo>
                    <a:pt x="123" y="104"/>
                  </a:lnTo>
                  <a:lnTo>
                    <a:pt x="291" y="441"/>
                  </a:lnTo>
                  <a:lnTo>
                    <a:pt x="380" y="814"/>
                  </a:lnTo>
                  <a:lnTo>
                    <a:pt x="353" y="1083"/>
                  </a:lnTo>
                  <a:lnTo>
                    <a:pt x="422" y="1103"/>
                  </a:lnTo>
                  <a:lnTo>
                    <a:pt x="422" y="1103"/>
                  </a:lnTo>
                  <a:close/>
                </a:path>
              </a:pathLst>
            </a:custGeom>
            <a:solidFill>
              <a:srgbClr val="8fc2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rot="700200">
              <a:off x="5362920" y="3585240"/>
              <a:ext cx="461160" cy="169560"/>
            </a:xfrm>
            <a:custGeom>
              <a:avLst/>
              <a:gdLst/>
              <a:ahLst/>
              <a:rect l="l" t="t" r="r" b="b"/>
              <a:pathLst>
                <a:path w="472" h="166">
                  <a:moveTo>
                    <a:pt x="0" y="20"/>
                  </a:moveTo>
                  <a:lnTo>
                    <a:pt x="236" y="0"/>
                  </a:lnTo>
                  <a:lnTo>
                    <a:pt x="472" y="57"/>
                  </a:lnTo>
                  <a:lnTo>
                    <a:pt x="342" y="74"/>
                  </a:lnTo>
                  <a:lnTo>
                    <a:pt x="271" y="166"/>
                  </a:lnTo>
                  <a:lnTo>
                    <a:pt x="0" y="20"/>
                  </a:lnTo>
                  <a:lnTo>
                    <a:pt x="0" y="2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700200">
              <a:off x="5628240" y="3821400"/>
              <a:ext cx="193320" cy="210240"/>
            </a:xfrm>
            <a:custGeom>
              <a:avLst/>
              <a:gdLst/>
              <a:ahLst/>
              <a:rect l="l" t="t" r="r" b="b"/>
              <a:pathLst>
                <a:path w="199" h="209">
                  <a:moveTo>
                    <a:pt x="136" y="0"/>
                  </a:moveTo>
                  <a:lnTo>
                    <a:pt x="127" y="88"/>
                  </a:lnTo>
                  <a:lnTo>
                    <a:pt x="199" y="157"/>
                  </a:lnTo>
                  <a:lnTo>
                    <a:pt x="149" y="209"/>
                  </a:lnTo>
                  <a:lnTo>
                    <a:pt x="0" y="113"/>
                  </a:lnTo>
                  <a:lnTo>
                    <a:pt x="136" y="0"/>
                  </a:lnTo>
                  <a:lnTo>
                    <a:pt x="13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rot="700200">
              <a:off x="6289920" y="3284280"/>
              <a:ext cx="109080" cy="181440"/>
            </a:xfrm>
            <a:custGeom>
              <a:avLst/>
              <a:gdLst/>
              <a:ahLst/>
              <a:rect l="l" t="t" r="r" b="b"/>
              <a:pathLst>
                <a:path w="110" h="181">
                  <a:moveTo>
                    <a:pt x="85" y="0"/>
                  </a:moveTo>
                  <a:lnTo>
                    <a:pt x="110" y="57"/>
                  </a:lnTo>
                  <a:lnTo>
                    <a:pt x="65" y="181"/>
                  </a:lnTo>
                  <a:lnTo>
                    <a:pt x="0" y="128"/>
                  </a:lnTo>
                  <a:lnTo>
                    <a:pt x="85" y="0"/>
                  </a:lnTo>
                  <a:lnTo>
                    <a:pt x="85"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rot="700200">
              <a:off x="6219000" y="3534120"/>
              <a:ext cx="114840" cy="139320"/>
            </a:xfrm>
            <a:custGeom>
              <a:avLst/>
              <a:gdLst/>
              <a:ahLst/>
              <a:rect l="l" t="t" r="r" b="b"/>
              <a:pathLst>
                <a:path w="119" h="137">
                  <a:moveTo>
                    <a:pt x="95" y="0"/>
                  </a:moveTo>
                  <a:lnTo>
                    <a:pt x="119" y="67"/>
                  </a:lnTo>
                  <a:lnTo>
                    <a:pt x="61" y="137"/>
                  </a:lnTo>
                  <a:lnTo>
                    <a:pt x="0" y="93"/>
                  </a:lnTo>
                  <a:lnTo>
                    <a:pt x="95" y="0"/>
                  </a:lnTo>
                  <a:lnTo>
                    <a:pt x="95"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rot="700200">
              <a:off x="6141600" y="3748680"/>
              <a:ext cx="288720" cy="321480"/>
            </a:xfrm>
            <a:custGeom>
              <a:avLst/>
              <a:gdLst/>
              <a:ahLst/>
              <a:rect l="l" t="t" r="r" b="b"/>
              <a:pathLst>
                <a:path w="297" h="319">
                  <a:moveTo>
                    <a:pt x="111" y="0"/>
                  </a:moveTo>
                  <a:lnTo>
                    <a:pt x="155" y="80"/>
                  </a:lnTo>
                  <a:lnTo>
                    <a:pt x="135" y="132"/>
                  </a:lnTo>
                  <a:lnTo>
                    <a:pt x="245" y="71"/>
                  </a:lnTo>
                  <a:lnTo>
                    <a:pt x="297" y="171"/>
                  </a:lnTo>
                  <a:lnTo>
                    <a:pt x="225" y="164"/>
                  </a:lnTo>
                  <a:lnTo>
                    <a:pt x="208" y="302"/>
                  </a:lnTo>
                  <a:lnTo>
                    <a:pt x="130" y="319"/>
                  </a:lnTo>
                  <a:lnTo>
                    <a:pt x="85" y="180"/>
                  </a:lnTo>
                  <a:lnTo>
                    <a:pt x="0" y="150"/>
                  </a:lnTo>
                  <a:lnTo>
                    <a:pt x="91" y="75"/>
                  </a:lnTo>
                  <a:lnTo>
                    <a:pt x="111" y="0"/>
                  </a:lnTo>
                  <a:lnTo>
                    <a:pt x="111"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700200">
              <a:off x="6450480" y="3184560"/>
              <a:ext cx="474840" cy="485280"/>
            </a:xfrm>
            <a:custGeom>
              <a:avLst/>
              <a:gdLst/>
              <a:ahLst/>
              <a:rect l="l" t="t" r="r" b="b"/>
              <a:pathLst>
                <a:path w="486" h="480">
                  <a:moveTo>
                    <a:pt x="8" y="384"/>
                  </a:moveTo>
                  <a:lnTo>
                    <a:pt x="17" y="445"/>
                  </a:lnTo>
                  <a:lnTo>
                    <a:pt x="161" y="480"/>
                  </a:lnTo>
                  <a:lnTo>
                    <a:pt x="234" y="450"/>
                  </a:lnTo>
                  <a:lnTo>
                    <a:pt x="300" y="371"/>
                  </a:lnTo>
                  <a:lnTo>
                    <a:pt x="333" y="219"/>
                  </a:lnTo>
                  <a:lnTo>
                    <a:pt x="348" y="132"/>
                  </a:lnTo>
                  <a:lnTo>
                    <a:pt x="406" y="61"/>
                  </a:lnTo>
                  <a:lnTo>
                    <a:pt x="486" y="32"/>
                  </a:lnTo>
                  <a:lnTo>
                    <a:pt x="365" y="18"/>
                  </a:lnTo>
                  <a:lnTo>
                    <a:pt x="258" y="0"/>
                  </a:lnTo>
                  <a:lnTo>
                    <a:pt x="258" y="92"/>
                  </a:lnTo>
                  <a:lnTo>
                    <a:pt x="161" y="242"/>
                  </a:lnTo>
                  <a:lnTo>
                    <a:pt x="95" y="308"/>
                  </a:lnTo>
                  <a:lnTo>
                    <a:pt x="42" y="295"/>
                  </a:lnTo>
                  <a:lnTo>
                    <a:pt x="0" y="333"/>
                  </a:lnTo>
                  <a:lnTo>
                    <a:pt x="8" y="384"/>
                  </a:lnTo>
                  <a:lnTo>
                    <a:pt x="8" y="38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rot="700200">
              <a:off x="6362640" y="3831480"/>
              <a:ext cx="1078200" cy="646920"/>
            </a:xfrm>
            <a:custGeom>
              <a:avLst/>
              <a:gdLst/>
              <a:ahLst/>
              <a:rect l="l" t="t" r="r" b="b"/>
              <a:pathLst>
                <a:path w="1104" h="640">
                  <a:moveTo>
                    <a:pt x="0" y="432"/>
                  </a:moveTo>
                  <a:lnTo>
                    <a:pt x="48" y="405"/>
                  </a:lnTo>
                  <a:lnTo>
                    <a:pt x="23" y="313"/>
                  </a:lnTo>
                  <a:lnTo>
                    <a:pt x="60" y="238"/>
                  </a:lnTo>
                  <a:lnTo>
                    <a:pt x="109" y="379"/>
                  </a:lnTo>
                  <a:lnTo>
                    <a:pt x="191" y="424"/>
                  </a:lnTo>
                  <a:lnTo>
                    <a:pt x="252" y="375"/>
                  </a:lnTo>
                  <a:lnTo>
                    <a:pt x="334" y="432"/>
                  </a:lnTo>
                  <a:lnTo>
                    <a:pt x="356" y="401"/>
                  </a:lnTo>
                  <a:lnTo>
                    <a:pt x="306" y="322"/>
                  </a:lnTo>
                  <a:lnTo>
                    <a:pt x="293" y="198"/>
                  </a:lnTo>
                  <a:lnTo>
                    <a:pt x="225" y="25"/>
                  </a:lnTo>
                  <a:lnTo>
                    <a:pt x="298" y="61"/>
                  </a:lnTo>
                  <a:lnTo>
                    <a:pt x="392" y="208"/>
                  </a:lnTo>
                  <a:lnTo>
                    <a:pt x="429" y="295"/>
                  </a:lnTo>
                  <a:lnTo>
                    <a:pt x="457" y="384"/>
                  </a:lnTo>
                  <a:lnTo>
                    <a:pt x="543" y="358"/>
                  </a:lnTo>
                  <a:lnTo>
                    <a:pt x="613" y="397"/>
                  </a:lnTo>
                  <a:lnTo>
                    <a:pt x="708" y="414"/>
                  </a:lnTo>
                  <a:lnTo>
                    <a:pt x="630" y="313"/>
                  </a:lnTo>
                  <a:lnTo>
                    <a:pt x="592" y="124"/>
                  </a:lnTo>
                  <a:lnTo>
                    <a:pt x="658" y="181"/>
                  </a:lnTo>
                  <a:lnTo>
                    <a:pt x="740" y="216"/>
                  </a:lnTo>
                  <a:lnTo>
                    <a:pt x="772" y="300"/>
                  </a:lnTo>
                  <a:lnTo>
                    <a:pt x="854" y="287"/>
                  </a:lnTo>
                  <a:lnTo>
                    <a:pt x="883" y="216"/>
                  </a:lnTo>
                  <a:lnTo>
                    <a:pt x="728" y="0"/>
                  </a:lnTo>
                  <a:lnTo>
                    <a:pt x="957" y="84"/>
                  </a:lnTo>
                  <a:lnTo>
                    <a:pt x="1031" y="18"/>
                  </a:lnTo>
                  <a:lnTo>
                    <a:pt x="1104" y="14"/>
                  </a:lnTo>
                  <a:lnTo>
                    <a:pt x="1037" y="182"/>
                  </a:lnTo>
                  <a:lnTo>
                    <a:pt x="957" y="181"/>
                  </a:lnTo>
                  <a:lnTo>
                    <a:pt x="913" y="304"/>
                  </a:lnTo>
                  <a:lnTo>
                    <a:pt x="836" y="359"/>
                  </a:lnTo>
                  <a:lnTo>
                    <a:pt x="768" y="487"/>
                  </a:lnTo>
                  <a:lnTo>
                    <a:pt x="577" y="490"/>
                  </a:lnTo>
                  <a:lnTo>
                    <a:pt x="483" y="465"/>
                  </a:lnTo>
                  <a:lnTo>
                    <a:pt x="363" y="543"/>
                  </a:lnTo>
                  <a:lnTo>
                    <a:pt x="299" y="486"/>
                  </a:lnTo>
                  <a:lnTo>
                    <a:pt x="257" y="640"/>
                  </a:lnTo>
                  <a:lnTo>
                    <a:pt x="60" y="609"/>
                  </a:lnTo>
                  <a:lnTo>
                    <a:pt x="2" y="495"/>
                  </a:lnTo>
                  <a:lnTo>
                    <a:pt x="0" y="432"/>
                  </a:lnTo>
                  <a:lnTo>
                    <a:pt x="0" y="432"/>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rot="700200">
              <a:off x="6992280" y="3138840"/>
              <a:ext cx="659880" cy="742680"/>
            </a:xfrm>
            <a:custGeom>
              <a:avLst/>
              <a:gdLst/>
              <a:ahLst/>
              <a:rect l="l" t="t" r="r" b="b"/>
              <a:pathLst>
                <a:path w="677" h="733">
                  <a:moveTo>
                    <a:pt x="0" y="231"/>
                  </a:moveTo>
                  <a:lnTo>
                    <a:pt x="82" y="227"/>
                  </a:lnTo>
                  <a:lnTo>
                    <a:pt x="230" y="393"/>
                  </a:lnTo>
                  <a:lnTo>
                    <a:pt x="316" y="411"/>
                  </a:lnTo>
                  <a:lnTo>
                    <a:pt x="447" y="341"/>
                  </a:lnTo>
                  <a:lnTo>
                    <a:pt x="427" y="174"/>
                  </a:lnTo>
                  <a:lnTo>
                    <a:pt x="369" y="0"/>
                  </a:lnTo>
                  <a:lnTo>
                    <a:pt x="471" y="129"/>
                  </a:lnTo>
                  <a:lnTo>
                    <a:pt x="590" y="354"/>
                  </a:lnTo>
                  <a:lnTo>
                    <a:pt x="677" y="680"/>
                  </a:lnTo>
                  <a:lnTo>
                    <a:pt x="596" y="733"/>
                  </a:lnTo>
                  <a:lnTo>
                    <a:pt x="524" y="662"/>
                  </a:lnTo>
                  <a:lnTo>
                    <a:pt x="296" y="557"/>
                  </a:lnTo>
                  <a:lnTo>
                    <a:pt x="61" y="281"/>
                  </a:lnTo>
                  <a:lnTo>
                    <a:pt x="0" y="231"/>
                  </a:lnTo>
                  <a:lnTo>
                    <a:pt x="0" y="23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700200">
              <a:off x="6873840" y="3509280"/>
              <a:ext cx="214560" cy="266760"/>
            </a:xfrm>
            <a:custGeom>
              <a:avLst/>
              <a:gdLst/>
              <a:ahLst/>
              <a:rect l="l" t="t" r="r" b="b"/>
              <a:pathLst>
                <a:path w="221" h="264">
                  <a:moveTo>
                    <a:pt x="20" y="0"/>
                  </a:moveTo>
                  <a:lnTo>
                    <a:pt x="24" y="69"/>
                  </a:lnTo>
                  <a:lnTo>
                    <a:pt x="0" y="206"/>
                  </a:lnTo>
                  <a:lnTo>
                    <a:pt x="65" y="264"/>
                  </a:lnTo>
                  <a:lnTo>
                    <a:pt x="221" y="264"/>
                  </a:lnTo>
                  <a:lnTo>
                    <a:pt x="77" y="166"/>
                  </a:lnTo>
                  <a:lnTo>
                    <a:pt x="82" y="60"/>
                  </a:lnTo>
                  <a:lnTo>
                    <a:pt x="20" y="0"/>
                  </a:lnTo>
                  <a:lnTo>
                    <a:pt x="2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700200">
              <a:off x="6405480" y="3803760"/>
              <a:ext cx="144360" cy="210240"/>
            </a:xfrm>
            <a:custGeom>
              <a:avLst/>
              <a:gdLst/>
              <a:ahLst/>
              <a:rect l="l" t="t" r="r" b="b"/>
              <a:pathLst>
                <a:path w="148" h="208">
                  <a:moveTo>
                    <a:pt x="0" y="54"/>
                  </a:moveTo>
                  <a:lnTo>
                    <a:pt x="55" y="0"/>
                  </a:lnTo>
                  <a:lnTo>
                    <a:pt x="148" y="66"/>
                  </a:lnTo>
                  <a:lnTo>
                    <a:pt x="142" y="159"/>
                  </a:lnTo>
                  <a:lnTo>
                    <a:pt x="79" y="208"/>
                  </a:lnTo>
                  <a:lnTo>
                    <a:pt x="0" y="54"/>
                  </a:lnTo>
                  <a:lnTo>
                    <a:pt x="0" y="54"/>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700200">
              <a:off x="6759720" y="3903120"/>
              <a:ext cx="140760" cy="210240"/>
            </a:xfrm>
            <a:custGeom>
              <a:avLst/>
              <a:gdLst/>
              <a:ahLst/>
              <a:rect l="l" t="t" r="r" b="b"/>
              <a:pathLst>
                <a:path w="143" h="207">
                  <a:moveTo>
                    <a:pt x="0" y="22"/>
                  </a:moveTo>
                  <a:lnTo>
                    <a:pt x="61" y="0"/>
                  </a:lnTo>
                  <a:lnTo>
                    <a:pt x="122" y="43"/>
                  </a:lnTo>
                  <a:lnTo>
                    <a:pt x="143" y="154"/>
                  </a:lnTo>
                  <a:lnTo>
                    <a:pt x="49" y="207"/>
                  </a:lnTo>
                  <a:lnTo>
                    <a:pt x="0" y="22"/>
                  </a:lnTo>
                  <a:lnTo>
                    <a:pt x="0" y="22"/>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700200">
              <a:off x="6452640" y="3241080"/>
              <a:ext cx="124920" cy="198000"/>
            </a:xfrm>
            <a:custGeom>
              <a:avLst/>
              <a:gdLst/>
              <a:ahLst/>
              <a:rect l="l" t="t" r="r" b="b"/>
              <a:pathLst>
                <a:path w="127" h="196">
                  <a:moveTo>
                    <a:pt x="0" y="196"/>
                  </a:moveTo>
                  <a:lnTo>
                    <a:pt x="83" y="178"/>
                  </a:lnTo>
                  <a:lnTo>
                    <a:pt x="124" y="133"/>
                  </a:lnTo>
                  <a:lnTo>
                    <a:pt x="127" y="6"/>
                  </a:lnTo>
                  <a:lnTo>
                    <a:pt x="78" y="0"/>
                  </a:lnTo>
                  <a:lnTo>
                    <a:pt x="13" y="10"/>
                  </a:lnTo>
                  <a:lnTo>
                    <a:pt x="0" y="196"/>
                  </a:lnTo>
                  <a:lnTo>
                    <a:pt x="0" y="196"/>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700200">
              <a:off x="6217560" y="3925080"/>
              <a:ext cx="451440" cy="460800"/>
            </a:xfrm>
            <a:custGeom>
              <a:avLst/>
              <a:gdLst/>
              <a:ahLst/>
              <a:rect l="l" t="t" r="r" b="b"/>
              <a:pathLst>
                <a:path w="461" h="458">
                  <a:moveTo>
                    <a:pt x="159" y="0"/>
                  </a:moveTo>
                  <a:lnTo>
                    <a:pt x="78" y="21"/>
                  </a:lnTo>
                  <a:lnTo>
                    <a:pt x="69" y="125"/>
                  </a:lnTo>
                  <a:lnTo>
                    <a:pt x="4" y="181"/>
                  </a:lnTo>
                  <a:lnTo>
                    <a:pt x="0" y="247"/>
                  </a:lnTo>
                  <a:lnTo>
                    <a:pt x="101" y="223"/>
                  </a:lnTo>
                  <a:lnTo>
                    <a:pt x="133" y="364"/>
                  </a:lnTo>
                  <a:lnTo>
                    <a:pt x="198" y="448"/>
                  </a:lnTo>
                  <a:lnTo>
                    <a:pt x="394" y="458"/>
                  </a:lnTo>
                  <a:lnTo>
                    <a:pt x="461" y="340"/>
                  </a:lnTo>
                  <a:lnTo>
                    <a:pt x="436" y="304"/>
                  </a:lnTo>
                  <a:lnTo>
                    <a:pt x="362" y="427"/>
                  </a:lnTo>
                  <a:lnTo>
                    <a:pt x="216" y="424"/>
                  </a:lnTo>
                  <a:lnTo>
                    <a:pt x="137" y="250"/>
                  </a:lnTo>
                  <a:lnTo>
                    <a:pt x="185" y="223"/>
                  </a:lnTo>
                  <a:lnTo>
                    <a:pt x="185" y="164"/>
                  </a:lnTo>
                  <a:lnTo>
                    <a:pt x="157" y="111"/>
                  </a:lnTo>
                  <a:lnTo>
                    <a:pt x="161" y="191"/>
                  </a:lnTo>
                  <a:lnTo>
                    <a:pt x="123" y="207"/>
                  </a:lnTo>
                  <a:lnTo>
                    <a:pt x="105" y="108"/>
                  </a:lnTo>
                  <a:lnTo>
                    <a:pt x="111" y="50"/>
                  </a:lnTo>
                  <a:lnTo>
                    <a:pt x="173" y="46"/>
                  </a:lnTo>
                  <a:lnTo>
                    <a:pt x="159" y="0"/>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700200">
              <a:off x="5311080" y="2842560"/>
              <a:ext cx="978480" cy="685800"/>
            </a:xfrm>
            <a:custGeom>
              <a:avLst/>
              <a:gdLst/>
              <a:ahLst/>
              <a:rect l="l" t="t" r="r" b="b"/>
              <a:pathLst>
                <a:path w="1002" h="678">
                  <a:moveTo>
                    <a:pt x="1002" y="301"/>
                  </a:moveTo>
                  <a:lnTo>
                    <a:pt x="859" y="186"/>
                  </a:lnTo>
                  <a:lnTo>
                    <a:pt x="78" y="0"/>
                  </a:lnTo>
                  <a:lnTo>
                    <a:pt x="0" y="14"/>
                  </a:lnTo>
                  <a:lnTo>
                    <a:pt x="1" y="63"/>
                  </a:lnTo>
                  <a:lnTo>
                    <a:pt x="565" y="644"/>
                  </a:lnTo>
                  <a:lnTo>
                    <a:pt x="656" y="678"/>
                  </a:lnTo>
                  <a:lnTo>
                    <a:pt x="684" y="660"/>
                  </a:lnTo>
                  <a:lnTo>
                    <a:pt x="681" y="567"/>
                  </a:lnTo>
                  <a:lnTo>
                    <a:pt x="644" y="570"/>
                  </a:lnTo>
                  <a:lnTo>
                    <a:pt x="642" y="619"/>
                  </a:lnTo>
                  <a:lnTo>
                    <a:pt x="567" y="584"/>
                  </a:lnTo>
                  <a:lnTo>
                    <a:pt x="59" y="67"/>
                  </a:lnTo>
                  <a:lnTo>
                    <a:pt x="195" y="81"/>
                  </a:lnTo>
                  <a:lnTo>
                    <a:pt x="863" y="243"/>
                  </a:lnTo>
                  <a:lnTo>
                    <a:pt x="1002" y="301"/>
                  </a:lnTo>
                  <a:lnTo>
                    <a:pt x="1002"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700200">
              <a:off x="5057280" y="3246840"/>
              <a:ext cx="853560" cy="758520"/>
            </a:xfrm>
            <a:custGeom>
              <a:avLst/>
              <a:gdLst/>
              <a:ahLst/>
              <a:rect l="l" t="t" r="r" b="b"/>
              <a:pathLst>
                <a:path w="873" h="752">
                  <a:moveTo>
                    <a:pt x="843" y="115"/>
                  </a:moveTo>
                  <a:lnTo>
                    <a:pt x="840" y="29"/>
                  </a:lnTo>
                  <a:lnTo>
                    <a:pt x="778" y="0"/>
                  </a:lnTo>
                  <a:lnTo>
                    <a:pt x="10" y="282"/>
                  </a:lnTo>
                  <a:lnTo>
                    <a:pt x="0" y="354"/>
                  </a:lnTo>
                  <a:lnTo>
                    <a:pt x="808" y="752"/>
                  </a:lnTo>
                  <a:lnTo>
                    <a:pt x="872" y="716"/>
                  </a:lnTo>
                  <a:lnTo>
                    <a:pt x="873" y="602"/>
                  </a:lnTo>
                  <a:lnTo>
                    <a:pt x="834" y="600"/>
                  </a:lnTo>
                  <a:lnTo>
                    <a:pt x="840" y="671"/>
                  </a:lnTo>
                  <a:lnTo>
                    <a:pt x="780" y="695"/>
                  </a:lnTo>
                  <a:lnTo>
                    <a:pt x="80" y="317"/>
                  </a:lnTo>
                  <a:lnTo>
                    <a:pt x="747" y="55"/>
                  </a:lnTo>
                  <a:lnTo>
                    <a:pt x="805" y="58"/>
                  </a:lnTo>
                  <a:lnTo>
                    <a:pt x="806" y="118"/>
                  </a:lnTo>
                  <a:lnTo>
                    <a:pt x="843" y="115"/>
                  </a:lnTo>
                  <a:lnTo>
                    <a:pt x="84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700200">
              <a:off x="5108040" y="3741480"/>
              <a:ext cx="808920" cy="892080"/>
            </a:xfrm>
            <a:custGeom>
              <a:avLst/>
              <a:gdLst/>
              <a:ahLst/>
              <a:rect l="l" t="t" r="r" b="b"/>
              <a:pathLst>
                <a:path w="828" h="883">
                  <a:moveTo>
                    <a:pt x="705" y="129"/>
                  </a:moveTo>
                  <a:lnTo>
                    <a:pt x="663" y="30"/>
                  </a:lnTo>
                  <a:lnTo>
                    <a:pt x="604" y="0"/>
                  </a:lnTo>
                  <a:lnTo>
                    <a:pt x="386" y="201"/>
                  </a:lnTo>
                  <a:lnTo>
                    <a:pt x="41" y="681"/>
                  </a:lnTo>
                  <a:lnTo>
                    <a:pt x="0" y="813"/>
                  </a:lnTo>
                  <a:lnTo>
                    <a:pt x="23" y="883"/>
                  </a:lnTo>
                  <a:lnTo>
                    <a:pt x="744" y="591"/>
                  </a:lnTo>
                  <a:lnTo>
                    <a:pt x="818" y="538"/>
                  </a:lnTo>
                  <a:lnTo>
                    <a:pt x="828" y="456"/>
                  </a:lnTo>
                  <a:lnTo>
                    <a:pt x="785" y="394"/>
                  </a:lnTo>
                  <a:lnTo>
                    <a:pt x="764" y="441"/>
                  </a:lnTo>
                  <a:lnTo>
                    <a:pt x="795" y="485"/>
                  </a:lnTo>
                  <a:lnTo>
                    <a:pt x="728" y="545"/>
                  </a:lnTo>
                  <a:lnTo>
                    <a:pt x="48" y="806"/>
                  </a:lnTo>
                  <a:lnTo>
                    <a:pt x="106" y="683"/>
                  </a:lnTo>
                  <a:lnTo>
                    <a:pt x="412" y="244"/>
                  </a:lnTo>
                  <a:lnTo>
                    <a:pt x="595" y="66"/>
                  </a:lnTo>
                  <a:lnTo>
                    <a:pt x="639" y="79"/>
                  </a:lnTo>
                  <a:lnTo>
                    <a:pt x="675" y="154"/>
                  </a:lnTo>
                  <a:lnTo>
                    <a:pt x="705" y="129"/>
                  </a:lnTo>
                  <a:lnTo>
                    <a:pt x="705"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700200">
              <a:off x="5634000" y="3166920"/>
              <a:ext cx="586080" cy="1945800"/>
            </a:xfrm>
            <a:custGeom>
              <a:avLst/>
              <a:gdLst/>
              <a:ahLst/>
              <a:rect l="l" t="t" r="r" b="b"/>
              <a:pathLst>
                <a:path w="601" h="1923">
                  <a:moveTo>
                    <a:pt x="266" y="1043"/>
                  </a:moveTo>
                  <a:lnTo>
                    <a:pt x="191" y="1013"/>
                  </a:lnTo>
                  <a:lnTo>
                    <a:pt x="143" y="1049"/>
                  </a:lnTo>
                  <a:lnTo>
                    <a:pt x="102" y="1159"/>
                  </a:lnTo>
                  <a:lnTo>
                    <a:pt x="42" y="1478"/>
                  </a:lnTo>
                  <a:lnTo>
                    <a:pt x="0" y="1828"/>
                  </a:lnTo>
                  <a:lnTo>
                    <a:pt x="19" y="1919"/>
                  </a:lnTo>
                  <a:lnTo>
                    <a:pt x="65" y="1923"/>
                  </a:lnTo>
                  <a:lnTo>
                    <a:pt x="133" y="1761"/>
                  </a:lnTo>
                  <a:lnTo>
                    <a:pt x="338" y="1382"/>
                  </a:lnTo>
                  <a:lnTo>
                    <a:pt x="594" y="1162"/>
                  </a:lnTo>
                  <a:lnTo>
                    <a:pt x="601" y="906"/>
                  </a:lnTo>
                  <a:lnTo>
                    <a:pt x="573" y="913"/>
                  </a:lnTo>
                  <a:lnTo>
                    <a:pt x="531" y="1067"/>
                  </a:lnTo>
                  <a:lnTo>
                    <a:pt x="461" y="886"/>
                  </a:lnTo>
                  <a:lnTo>
                    <a:pt x="401" y="655"/>
                  </a:lnTo>
                  <a:lnTo>
                    <a:pt x="375" y="358"/>
                  </a:lnTo>
                  <a:lnTo>
                    <a:pt x="405" y="138"/>
                  </a:lnTo>
                  <a:lnTo>
                    <a:pt x="458" y="0"/>
                  </a:lnTo>
                  <a:lnTo>
                    <a:pt x="382" y="57"/>
                  </a:lnTo>
                  <a:lnTo>
                    <a:pt x="327" y="251"/>
                  </a:lnTo>
                  <a:lnTo>
                    <a:pt x="333" y="582"/>
                  </a:lnTo>
                  <a:lnTo>
                    <a:pt x="391" y="840"/>
                  </a:lnTo>
                  <a:lnTo>
                    <a:pt x="501" y="1123"/>
                  </a:lnTo>
                  <a:lnTo>
                    <a:pt x="383" y="1248"/>
                  </a:lnTo>
                  <a:lnTo>
                    <a:pt x="292" y="1356"/>
                  </a:lnTo>
                  <a:lnTo>
                    <a:pt x="148" y="1602"/>
                  </a:lnTo>
                  <a:lnTo>
                    <a:pt x="52" y="1798"/>
                  </a:lnTo>
                  <a:lnTo>
                    <a:pt x="91" y="1492"/>
                  </a:lnTo>
                  <a:lnTo>
                    <a:pt x="147" y="1163"/>
                  </a:lnTo>
                  <a:lnTo>
                    <a:pt x="185" y="1074"/>
                  </a:lnTo>
                  <a:lnTo>
                    <a:pt x="245" y="1090"/>
                  </a:lnTo>
                  <a:lnTo>
                    <a:pt x="266" y="1043"/>
                  </a:lnTo>
                  <a:lnTo>
                    <a:pt x="266"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700200">
              <a:off x="6132240" y="3192120"/>
              <a:ext cx="212760" cy="974520"/>
            </a:xfrm>
            <a:custGeom>
              <a:avLst/>
              <a:gdLst/>
              <a:ahLst/>
              <a:rect l="l" t="t" r="r" b="b"/>
              <a:pathLst>
                <a:path w="218" h="964">
                  <a:moveTo>
                    <a:pt x="26" y="58"/>
                  </a:moveTo>
                  <a:lnTo>
                    <a:pt x="165" y="0"/>
                  </a:lnTo>
                  <a:lnTo>
                    <a:pt x="211" y="43"/>
                  </a:lnTo>
                  <a:lnTo>
                    <a:pt x="161" y="139"/>
                  </a:lnTo>
                  <a:lnTo>
                    <a:pt x="122" y="192"/>
                  </a:lnTo>
                  <a:lnTo>
                    <a:pt x="175" y="236"/>
                  </a:lnTo>
                  <a:lnTo>
                    <a:pt x="189" y="306"/>
                  </a:lnTo>
                  <a:lnTo>
                    <a:pt x="169" y="372"/>
                  </a:lnTo>
                  <a:lnTo>
                    <a:pt x="97" y="419"/>
                  </a:lnTo>
                  <a:lnTo>
                    <a:pt x="171" y="484"/>
                  </a:lnTo>
                  <a:lnTo>
                    <a:pt x="174" y="562"/>
                  </a:lnTo>
                  <a:lnTo>
                    <a:pt x="147" y="634"/>
                  </a:lnTo>
                  <a:lnTo>
                    <a:pt x="81" y="681"/>
                  </a:lnTo>
                  <a:lnTo>
                    <a:pt x="167" y="720"/>
                  </a:lnTo>
                  <a:lnTo>
                    <a:pt x="193" y="786"/>
                  </a:lnTo>
                  <a:lnTo>
                    <a:pt x="218" y="875"/>
                  </a:lnTo>
                  <a:lnTo>
                    <a:pt x="209" y="945"/>
                  </a:lnTo>
                  <a:lnTo>
                    <a:pt x="168" y="964"/>
                  </a:lnTo>
                  <a:lnTo>
                    <a:pt x="40" y="946"/>
                  </a:lnTo>
                  <a:lnTo>
                    <a:pt x="140" y="916"/>
                  </a:lnTo>
                  <a:lnTo>
                    <a:pt x="156" y="846"/>
                  </a:lnTo>
                  <a:lnTo>
                    <a:pt x="135" y="759"/>
                  </a:lnTo>
                  <a:lnTo>
                    <a:pt x="0" y="669"/>
                  </a:lnTo>
                  <a:lnTo>
                    <a:pt x="102" y="612"/>
                  </a:lnTo>
                  <a:lnTo>
                    <a:pt x="140" y="505"/>
                  </a:lnTo>
                  <a:lnTo>
                    <a:pt x="14" y="400"/>
                  </a:lnTo>
                  <a:lnTo>
                    <a:pt x="110" y="360"/>
                  </a:lnTo>
                  <a:lnTo>
                    <a:pt x="138" y="272"/>
                  </a:lnTo>
                  <a:lnTo>
                    <a:pt x="57" y="208"/>
                  </a:lnTo>
                  <a:lnTo>
                    <a:pt x="138" y="101"/>
                  </a:lnTo>
                  <a:lnTo>
                    <a:pt x="146" y="49"/>
                  </a:lnTo>
                  <a:lnTo>
                    <a:pt x="26" y="58"/>
                  </a:lnTo>
                  <a:lnTo>
                    <a:pt x="26"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700200">
              <a:off x="6429960" y="2990160"/>
              <a:ext cx="897120" cy="649440"/>
            </a:xfrm>
            <a:custGeom>
              <a:avLst/>
              <a:gdLst/>
              <a:ahLst/>
              <a:rect l="l" t="t" r="r" b="b"/>
              <a:pathLst>
                <a:path w="918" h="644">
                  <a:moveTo>
                    <a:pt x="918" y="95"/>
                  </a:moveTo>
                  <a:lnTo>
                    <a:pt x="789" y="178"/>
                  </a:lnTo>
                  <a:lnTo>
                    <a:pt x="644" y="104"/>
                  </a:lnTo>
                  <a:lnTo>
                    <a:pt x="549" y="76"/>
                  </a:lnTo>
                  <a:lnTo>
                    <a:pt x="419" y="0"/>
                  </a:lnTo>
                  <a:lnTo>
                    <a:pt x="383" y="8"/>
                  </a:lnTo>
                  <a:lnTo>
                    <a:pt x="256" y="140"/>
                  </a:lnTo>
                  <a:lnTo>
                    <a:pt x="71" y="225"/>
                  </a:lnTo>
                  <a:lnTo>
                    <a:pt x="47" y="265"/>
                  </a:lnTo>
                  <a:lnTo>
                    <a:pt x="27" y="434"/>
                  </a:lnTo>
                  <a:lnTo>
                    <a:pt x="0" y="571"/>
                  </a:lnTo>
                  <a:lnTo>
                    <a:pt x="25" y="619"/>
                  </a:lnTo>
                  <a:lnTo>
                    <a:pt x="174" y="644"/>
                  </a:lnTo>
                  <a:lnTo>
                    <a:pt x="274" y="563"/>
                  </a:lnTo>
                  <a:lnTo>
                    <a:pt x="373" y="346"/>
                  </a:lnTo>
                  <a:lnTo>
                    <a:pt x="534" y="262"/>
                  </a:lnTo>
                  <a:lnTo>
                    <a:pt x="379" y="275"/>
                  </a:lnTo>
                  <a:lnTo>
                    <a:pt x="317" y="262"/>
                  </a:lnTo>
                  <a:lnTo>
                    <a:pt x="319" y="343"/>
                  </a:lnTo>
                  <a:lnTo>
                    <a:pt x="258" y="477"/>
                  </a:lnTo>
                  <a:lnTo>
                    <a:pt x="172" y="568"/>
                  </a:lnTo>
                  <a:lnTo>
                    <a:pt x="48" y="563"/>
                  </a:lnTo>
                  <a:lnTo>
                    <a:pt x="47" y="499"/>
                  </a:lnTo>
                  <a:lnTo>
                    <a:pt x="78" y="328"/>
                  </a:lnTo>
                  <a:lnTo>
                    <a:pt x="114" y="321"/>
                  </a:lnTo>
                  <a:lnTo>
                    <a:pt x="164" y="362"/>
                  </a:lnTo>
                  <a:lnTo>
                    <a:pt x="160" y="454"/>
                  </a:lnTo>
                  <a:lnTo>
                    <a:pt x="199" y="393"/>
                  </a:lnTo>
                  <a:lnTo>
                    <a:pt x="196" y="284"/>
                  </a:lnTo>
                  <a:lnTo>
                    <a:pt x="108" y="245"/>
                  </a:lnTo>
                  <a:lnTo>
                    <a:pt x="226" y="212"/>
                  </a:lnTo>
                  <a:lnTo>
                    <a:pt x="317" y="142"/>
                  </a:lnTo>
                  <a:lnTo>
                    <a:pt x="421" y="56"/>
                  </a:lnTo>
                  <a:lnTo>
                    <a:pt x="516" y="83"/>
                  </a:lnTo>
                  <a:lnTo>
                    <a:pt x="614" y="176"/>
                  </a:lnTo>
                  <a:lnTo>
                    <a:pt x="665" y="158"/>
                  </a:lnTo>
                  <a:lnTo>
                    <a:pt x="812" y="232"/>
                  </a:lnTo>
                  <a:lnTo>
                    <a:pt x="918" y="95"/>
                  </a:lnTo>
                  <a:lnTo>
                    <a:pt x="91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rot="700200">
              <a:off x="6396840" y="2979360"/>
              <a:ext cx="388440" cy="303120"/>
            </a:xfrm>
            <a:custGeom>
              <a:avLst/>
              <a:gdLst/>
              <a:ahLst/>
              <a:rect l="l" t="t" r="r" b="b"/>
              <a:pathLst>
                <a:path w="398" h="300">
                  <a:moveTo>
                    <a:pt x="0" y="300"/>
                  </a:moveTo>
                  <a:lnTo>
                    <a:pt x="140" y="75"/>
                  </a:lnTo>
                  <a:lnTo>
                    <a:pt x="257" y="0"/>
                  </a:lnTo>
                  <a:lnTo>
                    <a:pt x="318" y="18"/>
                  </a:lnTo>
                  <a:lnTo>
                    <a:pt x="398" y="57"/>
                  </a:lnTo>
                  <a:lnTo>
                    <a:pt x="321" y="89"/>
                  </a:lnTo>
                  <a:lnTo>
                    <a:pt x="255" y="49"/>
                  </a:lnTo>
                  <a:lnTo>
                    <a:pt x="154" y="114"/>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rot="700200">
              <a:off x="6835320" y="3345480"/>
              <a:ext cx="718920" cy="924480"/>
            </a:xfrm>
            <a:custGeom>
              <a:avLst/>
              <a:gdLst/>
              <a:ahLst/>
              <a:rect l="l" t="t" r="r" b="b"/>
              <a:pathLst>
                <a:path w="735" h="914">
                  <a:moveTo>
                    <a:pt x="0" y="0"/>
                  </a:moveTo>
                  <a:lnTo>
                    <a:pt x="128" y="11"/>
                  </a:lnTo>
                  <a:lnTo>
                    <a:pt x="453" y="347"/>
                  </a:lnTo>
                  <a:lnTo>
                    <a:pt x="632" y="425"/>
                  </a:lnTo>
                  <a:lnTo>
                    <a:pt x="711" y="503"/>
                  </a:lnTo>
                  <a:lnTo>
                    <a:pt x="735" y="605"/>
                  </a:lnTo>
                  <a:lnTo>
                    <a:pt x="645" y="745"/>
                  </a:lnTo>
                  <a:lnTo>
                    <a:pt x="555" y="733"/>
                  </a:lnTo>
                  <a:lnTo>
                    <a:pt x="530" y="850"/>
                  </a:lnTo>
                  <a:lnTo>
                    <a:pt x="446" y="914"/>
                  </a:lnTo>
                  <a:lnTo>
                    <a:pt x="335" y="892"/>
                  </a:lnTo>
                  <a:lnTo>
                    <a:pt x="267" y="797"/>
                  </a:lnTo>
                  <a:lnTo>
                    <a:pt x="409" y="878"/>
                  </a:lnTo>
                  <a:lnTo>
                    <a:pt x="493" y="823"/>
                  </a:lnTo>
                  <a:lnTo>
                    <a:pt x="526" y="713"/>
                  </a:lnTo>
                  <a:lnTo>
                    <a:pt x="345" y="565"/>
                  </a:lnTo>
                  <a:lnTo>
                    <a:pt x="565" y="663"/>
                  </a:lnTo>
                  <a:lnTo>
                    <a:pt x="639" y="654"/>
                  </a:lnTo>
                  <a:lnTo>
                    <a:pt x="680" y="543"/>
                  </a:lnTo>
                  <a:lnTo>
                    <a:pt x="574" y="429"/>
                  </a:lnTo>
                  <a:lnTo>
                    <a:pt x="391" y="334"/>
                  </a:lnTo>
                  <a:lnTo>
                    <a:pt x="120"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700200">
              <a:off x="6688080" y="3837960"/>
              <a:ext cx="500040" cy="550440"/>
            </a:xfrm>
            <a:custGeom>
              <a:avLst/>
              <a:gdLst/>
              <a:ahLst/>
              <a:rect l="l" t="t" r="r" b="b"/>
              <a:pathLst>
                <a:path w="512" h="545">
                  <a:moveTo>
                    <a:pt x="327" y="320"/>
                  </a:moveTo>
                  <a:lnTo>
                    <a:pt x="324" y="223"/>
                  </a:lnTo>
                  <a:lnTo>
                    <a:pt x="232" y="54"/>
                  </a:lnTo>
                  <a:lnTo>
                    <a:pt x="104" y="0"/>
                  </a:lnTo>
                  <a:lnTo>
                    <a:pt x="20" y="42"/>
                  </a:lnTo>
                  <a:lnTo>
                    <a:pt x="0" y="86"/>
                  </a:lnTo>
                  <a:lnTo>
                    <a:pt x="50" y="231"/>
                  </a:lnTo>
                  <a:lnTo>
                    <a:pt x="110" y="434"/>
                  </a:lnTo>
                  <a:lnTo>
                    <a:pt x="203" y="545"/>
                  </a:lnTo>
                  <a:lnTo>
                    <a:pt x="345" y="510"/>
                  </a:lnTo>
                  <a:lnTo>
                    <a:pt x="456" y="504"/>
                  </a:lnTo>
                  <a:lnTo>
                    <a:pt x="498" y="421"/>
                  </a:lnTo>
                  <a:lnTo>
                    <a:pt x="512" y="360"/>
                  </a:lnTo>
                  <a:lnTo>
                    <a:pt x="453" y="434"/>
                  </a:lnTo>
                  <a:lnTo>
                    <a:pt x="390" y="481"/>
                  </a:lnTo>
                  <a:lnTo>
                    <a:pt x="290" y="448"/>
                  </a:lnTo>
                  <a:lnTo>
                    <a:pt x="208" y="463"/>
                  </a:lnTo>
                  <a:lnTo>
                    <a:pt x="133" y="385"/>
                  </a:lnTo>
                  <a:lnTo>
                    <a:pt x="130" y="303"/>
                  </a:lnTo>
                  <a:lnTo>
                    <a:pt x="235" y="265"/>
                  </a:lnTo>
                  <a:lnTo>
                    <a:pt x="207" y="163"/>
                  </a:lnTo>
                  <a:lnTo>
                    <a:pt x="178" y="132"/>
                  </a:lnTo>
                  <a:lnTo>
                    <a:pt x="184" y="219"/>
                  </a:lnTo>
                  <a:lnTo>
                    <a:pt x="109" y="266"/>
                  </a:lnTo>
                  <a:lnTo>
                    <a:pt x="77" y="181"/>
                  </a:lnTo>
                  <a:lnTo>
                    <a:pt x="41" y="90"/>
                  </a:lnTo>
                  <a:lnTo>
                    <a:pt x="113" y="49"/>
                  </a:lnTo>
                  <a:lnTo>
                    <a:pt x="213" y="87"/>
                  </a:lnTo>
                  <a:lnTo>
                    <a:pt x="295" y="213"/>
                  </a:lnTo>
                  <a:lnTo>
                    <a:pt x="327" y="320"/>
                  </a:lnTo>
                  <a:lnTo>
                    <a:pt x="327"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rot="700200">
              <a:off x="6324840" y="3748320"/>
              <a:ext cx="568080" cy="602640"/>
            </a:xfrm>
            <a:custGeom>
              <a:avLst/>
              <a:gdLst/>
              <a:ahLst/>
              <a:rect l="l" t="t" r="r" b="b"/>
              <a:pathLst>
                <a:path w="583" h="597">
                  <a:moveTo>
                    <a:pt x="465" y="294"/>
                  </a:moveTo>
                  <a:lnTo>
                    <a:pt x="394" y="250"/>
                  </a:lnTo>
                  <a:lnTo>
                    <a:pt x="278" y="48"/>
                  </a:lnTo>
                  <a:lnTo>
                    <a:pt x="156" y="0"/>
                  </a:lnTo>
                  <a:lnTo>
                    <a:pt x="39" y="23"/>
                  </a:lnTo>
                  <a:lnTo>
                    <a:pt x="0" y="106"/>
                  </a:lnTo>
                  <a:lnTo>
                    <a:pt x="87" y="238"/>
                  </a:lnTo>
                  <a:lnTo>
                    <a:pt x="134" y="410"/>
                  </a:lnTo>
                  <a:lnTo>
                    <a:pt x="221" y="465"/>
                  </a:lnTo>
                  <a:lnTo>
                    <a:pt x="358" y="550"/>
                  </a:lnTo>
                  <a:lnTo>
                    <a:pt x="417" y="597"/>
                  </a:lnTo>
                  <a:lnTo>
                    <a:pt x="583" y="522"/>
                  </a:lnTo>
                  <a:lnTo>
                    <a:pt x="536" y="488"/>
                  </a:lnTo>
                  <a:lnTo>
                    <a:pt x="419" y="548"/>
                  </a:lnTo>
                  <a:lnTo>
                    <a:pt x="340" y="480"/>
                  </a:lnTo>
                  <a:lnTo>
                    <a:pt x="173" y="380"/>
                  </a:lnTo>
                  <a:lnTo>
                    <a:pt x="143" y="327"/>
                  </a:lnTo>
                  <a:lnTo>
                    <a:pt x="224" y="295"/>
                  </a:lnTo>
                  <a:lnTo>
                    <a:pt x="233" y="214"/>
                  </a:lnTo>
                  <a:lnTo>
                    <a:pt x="203" y="150"/>
                  </a:lnTo>
                  <a:lnTo>
                    <a:pt x="197" y="243"/>
                  </a:lnTo>
                  <a:lnTo>
                    <a:pt x="132" y="262"/>
                  </a:lnTo>
                  <a:lnTo>
                    <a:pt x="49" y="114"/>
                  </a:lnTo>
                  <a:lnTo>
                    <a:pt x="86" y="64"/>
                  </a:lnTo>
                  <a:lnTo>
                    <a:pt x="179" y="59"/>
                  </a:lnTo>
                  <a:lnTo>
                    <a:pt x="284" y="125"/>
                  </a:lnTo>
                  <a:lnTo>
                    <a:pt x="387" y="282"/>
                  </a:lnTo>
                  <a:lnTo>
                    <a:pt x="415" y="384"/>
                  </a:lnTo>
                  <a:lnTo>
                    <a:pt x="417" y="313"/>
                  </a:lnTo>
                  <a:lnTo>
                    <a:pt x="466" y="343"/>
                  </a:lnTo>
                  <a:lnTo>
                    <a:pt x="465" y="294"/>
                  </a:lnTo>
                  <a:lnTo>
                    <a:pt x="465"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700200">
              <a:off x="7198560" y="3534480"/>
              <a:ext cx="220320" cy="145080"/>
            </a:xfrm>
            <a:custGeom>
              <a:avLst/>
              <a:gdLst/>
              <a:ahLst/>
              <a:rect l="l" t="t" r="r" b="b"/>
              <a:pathLst>
                <a:path w="227" h="144">
                  <a:moveTo>
                    <a:pt x="0" y="66"/>
                  </a:moveTo>
                  <a:lnTo>
                    <a:pt x="73" y="84"/>
                  </a:lnTo>
                  <a:lnTo>
                    <a:pt x="227" y="0"/>
                  </a:lnTo>
                  <a:lnTo>
                    <a:pt x="123" y="88"/>
                  </a:lnTo>
                  <a:lnTo>
                    <a:pt x="79" y="144"/>
                  </a:lnTo>
                  <a:lnTo>
                    <a:pt x="0" y="66"/>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rot="700200">
              <a:off x="7164000" y="2732760"/>
              <a:ext cx="1263960" cy="2076840"/>
            </a:xfrm>
            <a:custGeom>
              <a:avLst/>
              <a:gdLst/>
              <a:ahLst/>
              <a:rect l="l" t="t" r="r" b="b"/>
              <a:pathLst>
                <a:path w="1294" h="2054">
                  <a:moveTo>
                    <a:pt x="0" y="618"/>
                  </a:moveTo>
                  <a:lnTo>
                    <a:pt x="19" y="443"/>
                  </a:lnTo>
                  <a:lnTo>
                    <a:pt x="125" y="318"/>
                  </a:lnTo>
                  <a:lnTo>
                    <a:pt x="470" y="84"/>
                  </a:lnTo>
                  <a:lnTo>
                    <a:pt x="726" y="0"/>
                  </a:lnTo>
                  <a:lnTo>
                    <a:pt x="924" y="72"/>
                  </a:lnTo>
                  <a:lnTo>
                    <a:pt x="1009" y="176"/>
                  </a:lnTo>
                  <a:lnTo>
                    <a:pt x="1030" y="289"/>
                  </a:lnTo>
                  <a:lnTo>
                    <a:pt x="990" y="356"/>
                  </a:lnTo>
                  <a:lnTo>
                    <a:pt x="837" y="435"/>
                  </a:lnTo>
                  <a:lnTo>
                    <a:pt x="749" y="471"/>
                  </a:lnTo>
                  <a:lnTo>
                    <a:pt x="978" y="493"/>
                  </a:lnTo>
                  <a:lnTo>
                    <a:pt x="1108" y="569"/>
                  </a:lnTo>
                  <a:lnTo>
                    <a:pt x="1168" y="653"/>
                  </a:lnTo>
                  <a:lnTo>
                    <a:pt x="1179" y="750"/>
                  </a:lnTo>
                  <a:lnTo>
                    <a:pt x="1161" y="827"/>
                  </a:lnTo>
                  <a:lnTo>
                    <a:pt x="1039" y="876"/>
                  </a:lnTo>
                  <a:lnTo>
                    <a:pt x="925" y="893"/>
                  </a:lnTo>
                  <a:lnTo>
                    <a:pt x="1097" y="1009"/>
                  </a:lnTo>
                  <a:lnTo>
                    <a:pt x="1203" y="1123"/>
                  </a:lnTo>
                  <a:lnTo>
                    <a:pt x="1260" y="1273"/>
                  </a:lnTo>
                  <a:lnTo>
                    <a:pt x="1294" y="1402"/>
                  </a:lnTo>
                  <a:lnTo>
                    <a:pt x="1264" y="1517"/>
                  </a:lnTo>
                  <a:lnTo>
                    <a:pt x="1211" y="1531"/>
                  </a:lnTo>
                  <a:lnTo>
                    <a:pt x="1103" y="1465"/>
                  </a:lnTo>
                  <a:lnTo>
                    <a:pt x="937" y="1398"/>
                  </a:lnTo>
                  <a:lnTo>
                    <a:pt x="1096" y="1618"/>
                  </a:lnTo>
                  <a:lnTo>
                    <a:pt x="1147" y="1822"/>
                  </a:lnTo>
                  <a:lnTo>
                    <a:pt x="1156" y="1953"/>
                  </a:lnTo>
                  <a:lnTo>
                    <a:pt x="1093" y="2054"/>
                  </a:lnTo>
                  <a:lnTo>
                    <a:pt x="1024" y="2040"/>
                  </a:lnTo>
                  <a:lnTo>
                    <a:pt x="827" y="1800"/>
                  </a:lnTo>
                  <a:lnTo>
                    <a:pt x="536" y="1521"/>
                  </a:lnTo>
                  <a:lnTo>
                    <a:pt x="648" y="1570"/>
                  </a:lnTo>
                  <a:lnTo>
                    <a:pt x="917" y="1780"/>
                  </a:lnTo>
                  <a:lnTo>
                    <a:pt x="1042" y="1964"/>
                  </a:lnTo>
                  <a:lnTo>
                    <a:pt x="1093" y="1940"/>
                  </a:lnTo>
                  <a:lnTo>
                    <a:pt x="1085" y="1776"/>
                  </a:lnTo>
                  <a:lnTo>
                    <a:pt x="1020" y="1573"/>
                  </a:lnTo>
                  <a:lnTo>
                    <a:pt x="833" y="1327"/>
                  </a:lnTo>
                  <a:lnTo>
                    <a:pt x="980" y="1357"/>
                  </a:lnTo>
                  <a:lnTo>
                    <a:pt x="1192" y="1434"/>
                  </a:lnTo>
                  <a:lnTo>
                    <a:pt x="1223" y="1384"/>
                  </a:lnTo>
                  <a:lnTo>
                    <a:pt x="1203" y="1233"/>
                  </a:lnTo>
                  <a:lnTo>
                    <a:pt x="1115" y="1074"/>
                  </a:lnTo>
                  <a:lnTo>
                    <a:pt x="968" y="950"/>
                  </a:lnTo>
                  <a:lnTo>
                    <a:pt x="786" y="877"/>
                  </a:lnTo>
                  <a:lnTo>
                    <a:pt x="952" y="815"/>
                  </a:lnTo>
                  <a:lnTo>
                    <a:pt x="1066" y="793"/>
                  </a:lnTo>
                  <a:lnTo>
                    <a:pt x="1121" y="746"/>
                  </a:lnTo>
                  <a:lnTo>
                    <a:pt x="1110" y="638"/>
                  </a:lnTo>
                  <a:lnTo>
                    <a:pt x="984" y="547"/>
                  </a:lnTo>
                  <a:lnTo>
                    <a:pt x="779" y="509"/>
                  </a:lnTo>
                  <a:lnTo>
                    <a:pt x="566" y="535"/>
                  </a:lnTo>
                  <a:lnTo>
                    <a:pt x="714" y="408"/>
                  </a:lnTo>
                  <a:lnTo>
                    <a:pt x="851" y="348"/>
                  </a:lnTo>
                  <a:lnTo>
                    <a:pt x="940" y="305"/>
                  </a:lnTo>
                  <a:lnTo>
                    <a:pt x="958" y="233"/>
                  </a:lnTo>
                  <a:lnTo>
                    <a:pt x="910" y="138"/>
                  </a:lnTo>
                  <a:lnTo>
                    <a:pt x="768" y="68"/>
                  </a:lnTo>
                  <a:lnTo>
                    <a:pt x="638" y="80"/>
                  </a:lnTo>
                  <a:lnTo>
                    <a:pt x="440" y="150"/>
                  </a:lnTo>
                  <a:lnTo>
                    <a:pt x="141" y="399"/>
                  </a:lnTo>
                  <a:lnTo>
                    <a:pt x="72" y="446"/>
                  </a:lnTo>
                  <a:lnTo>
                    <a:pt x="0" y="618"/>
                  </a:lnTo>
                  <a:lnTo>
                    <a:pt x="0" y="6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rot="700200">
              <a:off x="7297560" y="3149640"/>
              <a:ext cx="384480" cy="1035720"/>
            </a:xfrm>
            <a:custGeom>
              <a:avLst/>
              <a:gdLst/>
              <a:ahLst/>
              <a:rect l="l" t="t" r="r" b="b"/>
              <a:pathLst>
                <a:path w="394" h="1024">
                  <a:moveTo>
                    <a:pt x="0" y="0"/>
                  </a:moveTo>
                  <a:lnTo>
                    <a:pt x="113" y="103"/>
                  </a:lnTo>
                  <a:lnTo>
                    <a:pt x="248" y="352"/>
                  </a:lnTo>
                  <a:lnTo>
                    <a:pt x="394" y="807"/>
                  </a:lnTo>
                  <a:lnTo>
                    <a:pt x="384" y="1019"/>
                  </a:lnTo>
                  <a:lnTo>
                    <a:pt x="294" y="1024"/>
                  </a:lnTo>
                  <a:lnTo>
                    <a:pt x="233" y="913"/>
                  </a:lnTo>
                  <a:lnTo>
                    <a:pt x="256" y="868"/>
                  </a:lnTo>
                  <a:lnTo>
                    <a:pt x="312" y="952"/>
                  </a:lnTo>
                  <a:lnTo>
                    <a:pt x="345" y="967"/>
                  </a:lnTo>
                  <a:lnTo>
                    <a:pt x="353" y="825"/>
                  </a:lnTo>
                  <a:lnTo>
                    <a:pt x="258" y="797"/>
                  </a:lnTo>
                  <a:lnTo>
                    <a:pt x="252" y="760"/>
                  </a:lnTo>
                  <a:lnTo>
                    <a:pt x="308" y="707"/>
                  </a:lnTo>
                  <a:lnTo>
                    <a:pt x="212" y="381"/>
                  </a:lnTo>
                  <a:lnTo>
                    <a:pt x="98" y="15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rot="700200">
              <a:off x="7640640" y="2867760"/>
              <a:ext cx="541080" cy="339840"/>
            </a:xfrm>
            <a:custGeom>
              <a:avLst/>
              <a:gdLst/>
              <a:ahLst/>
              <a:rect l="l" t="t" r="r" b="b"/>
              <a:pathLst>
                <a:path w="554" h="335">
                  <a:moveTo>
                    <a:pt x="0" y="175"/>
                  </a:moveTo>
                  <a:lnTo>
                    <a:pt x="160" y="53"/>
                  </a:lnTo>
                  <a:lnTo>
                    <a:pt x="358" y="0"/>
                  </a:lnTo>
                  <a:lnTo>
                    <a:pt x="477" y="9"/>
                  </a:lnTo>
                  <a:lnTo>
                    <a:pt x="536" y="45"/>
                  </a:lnTo>
                  <a:lnTo>
                    <a:pt x="554" y="109"/>
                  </a:lnTo>
                  <a:lnTo>
                    <a:pt x="490" y="167"/>
                  </a:lnTo>
                  <a:lnTo>
                    <a:pt x="357" y="228"/>
                  </a:lnTo>
                  <a:lnTo>
                    <a:pt x="194" y="335"/>
                  </a:lnTo>
                  <a:lnTo>
                    <a:pt x="313" y="214"/>
                  </a:lnTo>
                  <a:lnTo>
                    <a:pt x="428" y="121"/>
                  </a:lnTo>
                  <a:lnTo>
                    <a:pt x="430" y="67"/>
                  </a:lnTo>
                  <a:lnTo>
                    <a:pt x="299" y="79"/>
                  </a:lnTo>
                  <a:lnTo>
                    <a:pt x="161" y="102"/>
                  </a:lnTo>
                  <a:lnTo>
                    <a:pt x="0" y="175"/>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700200">
              <a:off x="7865280" y="3354840"/>
              <a:ext cx="411840" cy="274680"/>
            </a:xfrm>
            <a:custGeom>
              <a:avLst/>
              <a:gdLst/>
              <a:ahLst/>
              <a:rect l="l" t="t" r="r" b="b"/>
              <a:pathLst>
                <a:path w="421" h="272">
                  <a:moveTo>
                    <a:pt x="0" y="19"/>
                  </a:moveTo>
                  <a:lnTo>
                    <a:pt x="167" y="0"/>
                  </a:lnTo>
                  <a:lnTo>
                    <a:pt x="311" y="15"/>
                  </a:lnTo>
                  <a:lnTo>
                    <a:pt x="390" y="76"/>
                  </a:lnTo>
                  <a:lnTo>
                    <a:pt x="421" y="140"/>
                  </a:lnTo>
                  <a:lnTo>
                    <a:pt x="377" y="180"/>
                  </a:lnTo>
                  <a:lnTo>
                    <a:pt x="268" y="196"/>
                  </a:lnTo>
                  <a:lnTo>
                    <a:pt x="61" y="272"/>
                  </a:lnTo>
                  <a:lnTo>
                    <a:pt x="169" y="190"/>
                  </a:lnTo>
                  <a:lnTo>
                    <a:pt x="314" y="135"/>
                  </a:lnTo>
                  <a:lnTo>
                    <a:pt x="317" y="90"/>
                  </a:lnTo>
                  <a:lnTo>
                    <a:pt x="251" y="55"/>
                  </a:lnTo>
                  <a:lnTo>
                    <a:pt x="111" y="35"/>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rot="700200">
              <a:off x="7867080" y="3742920"/>
              <a:ext cx="410040" cy="424440"/>
            </a:xfrm>
            <a:custGeom>
              <a:avLst/>
              <a:gdLst/>
              <a:ahLst/>
              <a:rect l="l" t="t" r="r" b="b"/>
              <a:pathLst>
                <a:path w="420" h="421">
                  <a:moveTo>
                    <a:pt x="0" y="0"/>
                  </a:moveTo>
                  <a:lnTo>
                    <a:pt x="157" y="46"/>
                  </a:lnTo>
                  <a:lnTo>
                    <a:pt x="294" y="132"/>
                  </a:lnTo>
                  <a:lnTo>
                    <a:pt x="384" y="269"/>
                  </a:lnTo>
                  <a:lnTo>
                    <a:pt x="420" y="365"/>
                  </a:lnTo>
                  <a:lnTo>
                    <a:pt x="382" y="421"/>
                  </a:lnTo>
                  <a:lnTo>
                    <a:pt x="191" y="349"/>
                  </a:lnTo>
                  <a:lnTo>
                    <a:pt x="10" y="293"/>
                  </a:lnTo>
                  <a:lnTo>
                    <a:pt x="148" y="291"/>
                  </a:lnTo>
                  <a:lnTo>
                    <a:pt x="310" y="337"/>
                  </a:lnTo>
                  <a:lnTo>
                    <a:pt x="333" y="293"/>
                  </a:lnTo>
                  <a:lnTo>
                    <a:pt x="263" y="182"/>
                  </a:lnTo>
                  <a:lnTo>
                    <a:pt x="125" y="8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700200">
              <a:off x="5273640" y="4043160"/>
              <a:ext cx="407880" cy="365760"/>
            </a:xfrm>
            <a:custGeom>
              <a:avLst/>
              <a:gdLst/>
              <a:ahLst/>
              <a:rect l="l" t="t" r="r" b="b"/>
              <a:pathLst>
                <a:path w="418" h="361">
                  <a:moveTo>
                    <a:pt x="267" y="0"/>
                  </a:moveTo>
                  <a:lnTo>
                    <a:pt x="0" y="361"/>
                  </a:lnTo>
                  <a:lnTo>
                    <a:pt x="364" y="240"/>
                  </a:lnTo>
                  <a:lnTo>
                    <a:pt x="365" y="161"/>
                  </a:lnTo>
                  <a:lnTo>
                    <a:pt x="418" y="77"/>
                  </a:lnTo>
                  <a:lnTo>
                    <a:pt x="328" y="139"/>
                  </a:lnTo>
                  <a:lnTo>
                    <a:pt x="305" y="199"/>
                  </a:lnTo>
                  <a:lnTo>
                    <a:pt x="103" y="277"/>
                  </a:lnTo>
                  <a:lnTo>
                    <a:pt x="275" y="65"/>
                  </a:lnTo>
                  <a:lnTo>
                    <a:pt x="307" y="94"/>
                  </a:lnTo>
                  <a:lnTo>
                    <a:pt x="400" y="26"/>
                  </a:lnTo>
                  <a:lnTo>
                    <a:pt x="312" y="36"/>
                  </a:lnTo>
                  <a:lnTo>
                    <a:pt x="267" y="0"/>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700200">
              <a:off x="5280840" y="3443760"/>
              <a:ext cx="513720" cy="339840"/>
            </a:xfrm>
            <a:custGeom>
              <a:avLst/>
              <a:gdLst/>
              <a:ahLst/>
              <a:rect l="l" t="t" r="r" b="b"/>
              <a:pathLst>
                <a:path w="526" h="335">
                  <a:moveTo>
                    <a:pt x="385" y="0"/>
                  </a:moveTo>
                  <a:lnTo>
                    <a:pt x="0" y="133"/>
                  </a:lnTo>
                  <a:lnTo>
                    <a:pt x="373" y="335"/>
                  </a:lnTo>
                  <a:lnTo>
                    <a:pt x="419" y="259"/>
                  </a:lnTo>
                  <a:lnTo>
                    <a:pt x="519" y="186"/>
                  </a:lnTo>
                  <a:lnTo>
                    <a:pt x="394" y="173"/>
                  </a:lnTo>
                  <a:lnTo>
                    <a:pt x="329" y="261"/>
                  </a:lnTo>
                  <a:lnTo>
                    <a:pt x="108" y="138"/>
                  </a:lnTo>
                  <a:lnTo>
                    <a:pt x="352" y="75"/>
                  </a:lnTo>
                  <a:lnTo>
                    <a:pt x="382" y="123"/>
                  </a:lnTo>
                  <a:lnTo>
                    <a:pt x="526" y="139"/>
                  </a:lnTo>
                  <a:lnTo>
                    <a:pt x="415" y="75"/>
                  </a:lnTo>
                  <a:lnTo>
                    <a:pt x="385" y="0"/>
                  </a:lnTo>
                  <a:lnTo>
                    <a:pt x="3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700200">
              <a:off x="5514840" y="2966400"/>
              <a:ext cx="492120" cy="291240"/>
            </a:xfrm>
            <a:custGeom>
              <a:avLst/>
              <a:gdLst/>
              <a:ahLst/>
              <a:rect l="l" t="t" r="r" b="b"/>
              <a:pathLst>
                <a:path w="503" h="290">
                  <a:moveTo>
                    <a:pt x="0" y="0"/>
                  </a:moveTo>
                  <a:lnTo>
                    <a:pt x="293" y="290"/>
                  </a:lnTo>
                  <a:lnTo>
                    <a:pt x="347" y="249"/>
                  </a:lnTo>
                  <a:lnTo>
                    <a:pt x="468" y="271"/>
                  </a:lnTo>
                  <a:lnTo>
                    <a:pt x="337" y="187"/>
                  </a:lnTo>
                  <a:lnTo>
                    <a:pt x="277" y="223"/>
                  </a:lnTo>
                  <a:lnTo>
                    <a:pt x="97" y="50"/>
                  </a:lnTo>
                  <a:lnTo>
                    <a:pt x="333" y="100"/>
                  </a:lnTo>
                  <a:lnTo>
                    <a:pt x="357" y="142"/>
                  </a:lnTo>
                  <a:lnTo>
                    <a:pt x="503" y="199"/>
                  </a:lnTo>
                  <a:lnTo>
                    <a:pt x="383" y="109"/>
                  </a:lnTo>
                  <a:lnTo>
                    <a:pt x="364" y="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700200">
              <a:off x="5617080" y="4421880"/>
              <a:ext cx="179640" cy="485280"/>
            </a:xfrm>
            <a:custGeom>
              <a:avLst/>
              <a:gdLst/>
              <a:ahLst/>
              <a:rect l="l" t="t" r="r" b="b"/>
              <a:pathLst>
                <a:path w="185" h="481">
                  <a:moveTo>
                    <a:pt x="185" y="0"/>
                  </a:moveTo>
                  <a:lnTo>
                    <a:pt x="130" y="60"/>
                  </a:lnTo>
                  <a:lnTo>
                    <a:pt x="63" y="58"/>
                  </a:lnTo>
                  <a:lnTo>
                    <a:pt x="0" y="481"/>
                  </a:lnTo>
                  <a:lnTo>
                    <a:pt x="52" y="388"/>
                  </a:lnTo>
                  <a:lnTo>
                    <a:pt x="90" y="108"/>
                  </a:lnTo>
                  <a:lnTo>
                    <a:pt x="124" y="131"/>
                  </a:lnTo>
                  <a:lnTo>
                    <a:pt x="185" y="0"/>
                  </a:lnTo>
                  <a:lnTo>
                    <a:pt x="1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700200">
              <a:off x="7738560" y="4171680"/>
              <a:ext cx="289080" cy="545760"/>
            </a:xfrm>
            <a:custGeom>
              <a:avLst/>
              <a:gdLst/>
              <a:ahLst/>
              <a:rect l="l" t="t" r="r" b="b"/>
              <a:pathLst>
                <a:path w="295" h="540">
                  <a:moveTo>
                    <a:pt x="0" y="0"/>
                  </a:moveTo>
                  <a:lnTo>
                    <a:pt x="160" y="187"/>
                  </a:lnTo>
                  <a:lnTo>
                    <a:pt x="228" y="339"/>
                  </a:lnTo>
                  <a:lnTo>
                    <a:pt x="202" y="466"/>
                  </a:lnTo>
                  <a:lnTo>
                    <a:pt x="253" y="540"/>
                  </a:lnTo>
                  <a:lnTo>
                    <a:pt x="295" y="420"/>
                  </a:lnTo>
                  <a:lnTo>
                    <a:pt x="242" y="20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700200">
              <a:off x="7375680" y="3104280"/>
              <a:ext cx="461160" cy="1116360"/>
            </a:xfrm>
            <a:custGeom>
              <a:avLst/>
              <a:gdLst/>
              <a:ahLst/>
              <a:rect l="l" t="t" r="r" b="b"/>
              <a:pathLst>
                <a:path w="472" h="1103">
                  <a:moveTo>
                    <a:pt x="21" y="0"/>
                  </a:moveTo>
                  <a:lnTo>
                    <a:pt x="172" y="37"/>
                  </a:lnTo>
                  <a:lnTo>
                    <a:pt x="203" y="246"/>
                  </a:lnTo>
                  <a:lnTo>
                    <a:pt x="359" y="369"/>
                  </a:lnTo>
                  <a:lnTo>
                    <a:pt x="358" y="597"/>
                  </a:lnTo>
                  <a:lnTo>
                    <a:pt x="472" y="746"/>
                  </a:lnTo>
                  <a:lnTo>
                    <a:pt x="419" y="886"/>
                  </a:lnTo>
                  <a:lnTo>
                    <a:pt x="470" y="1038"/>
                  </a:lnTo>
                  <a:lnTo>
                    <a:pt x="383" y="1103"/>
                  </a:lnTo>
                  <a:lnTo>
                    <a:pt x="355" y="1084"/>
                  </a:lnTo>
                  <a:lnTo>
                    <a:pt x="417" y="1008"/>
                  </a:lnTo>
                  <a:lnTo>
                    <a:pt x="364" y="893"/>
                  </a:lnTo>
                  <a:lnTo>
                    <a:pt x="418" y="765"/>
                  </a:lnTo>
                  <a:lnTo>
                    <a:pt x="328" y="630"/>
                  </a:lnTo>
                  <a:lnTo>
                    <a:pt x="303" y="405"/>
                  </a:lnTo>
                  <a:lnTo>
                    <a:pt x="173" y="285"/>
                  </a:lnTo>
                  <a:lnTo>
                    <a:pt x="116" y="89"/>
                  </a:lnTo>
                  <a:lnTo>
                    <a:pt x="0" y="2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700200">
              <a:off x="5927040" y="3214080"/>
              <a:ext cx="255960" cy="1183320"/>
            </a:xfrm>
            <a:custGeom>
              <a:avLst/>
              <a:gdLst/>
              <a:ahLst/>
              <a:rect l="l" t="t" r="r" b="b"/>
              <a:pathLst>
                <a:path w="263" h="1171">
                  <a:moveTo>
                    <a:pt x="95" y="6"/>
                  </a:moveTo>
                  <a:lnTo>
                    <a:pt x="53" y="33"/>
                  </a:lnTo>
                  <a:lnTo>
                    <a:pt x="21" y="79"/>
                  </a:lnTo>
                  <a:lnTo>
                    <a:pt x="11" y="141"/>
                  </a:lnTo>
                  <a:lnTo>
                    <a:pt x="35" y="216"/>
                  </a:lnTo>
                  <a:lnTo>
                    <a:pt x="9" y="279"/>
                  </a:lnTo>
                  <a:lnTo>
                    <a:pt x="0" y="369"/>
                  </a:lnTo>
                  <a:lnTo>
                    <a:pt x="18" y="449"/>
                  </a:lnTo>
                  <a:lnTo>
                    <a:pt x="44" y="509"/>
                  </a:lnTo>
                  <a:lnTo>
                    <a:pt x="9" y="648"/>
                  </a:lnTo>
                  <a:lnTo>
                    <a:pt x="36" y="766"/>
                  </a:lnTo>
                  <a:lnTo>
                    <a:pt x="101" y="877"/>
                  </a:lnTo>
                  <a:lnTo>
                    <a:pt x="88" y="946"/>
                  </a:lnTo>
                  <a:lnTo>
                    <a:pt x="107" y="1047"/>
                  </a:lnTo>
                  <a:lnTo>
                    <a:pt x="143" y="1126"/>
                  </a:lnTo>
                  <a:lnTo>
                    <a:pt x="233" y="1171"/>
                  </a:lnTo>
                  <a:lnTo>
                    <a:pt x="263" y="1144"/>
                  </a:lnTo>
                  <a:lnTo>
                    <a:pt x="178" y="1088"/>
                  </a:lnTo>
                  <a:lnTo>
                    <a:pt x="129" y="968"/>
                  </a:lnTo>
                  <a:lnTo>
                    <a:pt x="138" y="883"/>
                  </a:lnTo>
                  <a:lnTo>
                    <a:pt x="70" y="748"/>
                  </a:lnTo>
                  <a:lnTo>
                    <a:pt x="52" y="647"/>
                  </a:lnTo>
                  <a:lnTo>
                    <a:pt x="65" y="512"/>
                  </a:lnTo>
                  <a:lnTo>
                    <a:pt x="34" y="396"/>
                  </a:lnTo>
                  <a:lnTo>
                    <a:pt x="36" y="282"/>
                  </a:lnTo>
                  <a:lnTo>
                    <a:pt x="66" y="235"/>
                  </a:lnTo>
                  <a:lnTo>
                    <a:pt x="51" y="123"/>
                  </a:lnTo>
                  <a:lnTo>
                    <a:pt x="88" y="52"/>
                  </a:lnTo>
                  <a:lnTo>
                    <a:pt x="104" y="51"/>
                  </a:lnTo>
                  <a:lnTo>
                    <a:pt x="141" y="0"/>
                  </a:lnTo>
                  <a:lnTo>
                    <a:pt x="95" y="6"/>
                  </a:lnTo>
                  <a:lnTo>
                    <a:pt x="9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700200">
              <a:off x="6892920" y="3509640"/>
              <a:ext cx="177480" cy="271080"/>
            </a:xfrm>
            <a:custGeom>
              <a:avLst/>
              <a:gdLst/>
              <a:ahLst/>
              <a:rect l="l" t="t" r="r" b="b"/>
              <a:pathLst>
                <a:path w="183" h="267">
                  <a:moveTo>
                    <a:pt x="0" y="0"/>
                  </a:moveTo>
                  <a:lnTo>
                    <a:pt x="24" y="63"/>
                  </a:lnTo>
                  <a:lnTo>
                    <a:pt x="40" y="176"/>
                  </a:lnTo>
                  <a:lnTo>
                    <a:pt x="118" y="246"/>
                  </a:lnTo>
                  <a:lnTo>
                    <a:pt x="183" y="267"/>
                  </a:lnTo>
                  <a:lnTo>
                    <a:pt x="98" y="186"/>
                  </a:lnTo>
                  <a:lnTo>
                    <a:pt x="82" y="7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700200">
              <a:off x="7638480" y="3015000"/>
              <a:ext cx="163800" cy="165600"/>
            </a:xfrm>
            <a:custGeom>
              <a:avLst/>
              <a:gdLst/>
              <a:ahLst/>
              <a:rect l="l" t="t" r="r" b="b"/>
              <a:pathLst>
                <a:path w="170" h="163">
                  <a:moveTo>
                    <a:pt x="0" y="19"/>
                  </a:moveTo>
                  <a:lnTo>
                    <a:pt x="142" y="0"/>
                  </a:lnTo>
                  <a:lnTo>
                    <a:pt x="170" y="59"/>
                  </a:lnTo>
                  <a:lnTo>
                    <a:pt x="116" y="163"/>
                  </a:lnTo>
                  <a:lnTo>
                    <a:pt x="116" y="7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700200">
              <a:off x="7769160" y="3376800"/>
              <a:ext cx="162000" cy="244800"/>
            </a:xfrm>
            <a:custGeom>
              <a:avLst/>
              <a:gdLst/>
              <a:ahLst/>
              <a:rect l="l" t="t" r="r" b="b"/>
              <a:pathLst>
                <a:path w="166" h="244">
                  <a:moveTo>
                    <a:pt x="0" y="0"/>
                  </a:moveTo>
                  <a:lnTo>
                    <a:pt x="142" y="60"/>
                  </a:lnTo>
                  <a:lnTo>
                    <a:pt x="166" y="130"/>
                  </a:lnTo>
                  <a:lnTo>
                    <a:pt x="74" y="244"/>
                  </a:lnTo>
                  <a:lnTo>
                    <a:pt x="93" y="10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rot="700200">
              <a:off x="7829280" y="3701160"/>
              <a:ext cx="97200" cy="281160"/>
            </a:xfrm>
            <a:custGeom>
              <a:avLst/>
              <a:gdLst/>
              <a:ahLst/>
              <a:rect l="l" t="t" r="r" b="b"/>
              <a:pathLst>
                <a:path w="100" h="278">
                  <a:moveTo>
                    <a:pt x="0" y="0"/>
                  </a:moveTo>
                  <a:lnTo>
                    <a:pt x="96" y="148"/>
                  </a:lnTo>
                  <a:lnTo>
                    <a:pt x="100" y="243"/>
                  </a:lnTo>
                  <a:lnTo>
                    <a:pt x="11" y="278"/>
                  </a:lnTo>
                  <a:lnTo>
                    <a:pt x="51" y="19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700200">
              <a:off x="7703640" y="4169160"/>
              <a:ext cx="97560" cy="291240"/>
            </a:xfrm>
            <a:custGeom>
              <a:avLst/>
              <a:gdLst/>
              <a:ahLst/>
              <a:rect l="l" t="t" r="r" b="b"/>
              <a:pathLst>
                <a:path w="100" h="289">
                  <a:moveTo>
                    <a:pt x="46" y="0"/>
                  </a:moveTo>
                  <a:lnTo>
                    <a:pt x="100" y="165"/>
                  </a:lnTo>
                  <a:lnTo>
                    <a:pt x="84" y="289"/>
                  </a:lnTo>
                  <a:lnTo>
                    <a:pt x="0" y="184"/>
                  </a:lnTo>
                  <a:lnTo>
                    <a:pt x="46" y="14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PlaceHolder 1"/>
          <p:cNvSpPr>
            <a:spLocks noGrp="1"/>
          </p:cNvSpPr>
          <p:nvPr>
            <p:ph/>
          </p:nvPr>
        </p:nvSpPr>
        <p:spPr>
          <a:xfrm>
            <a:off x="669960" y="1647720"/>
            <a:ext cx="402264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can be spread by touching an infected person or ite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what the sick people touche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first?  And when?</a:t>
            </a:r>
            <a:endParaRPr b="0" lang="en-US" sz="2800" spc="-1" strike="noStrike">
              <a:solidFill>
                <a:srgbClr val="000000"/>
              </a:solidFill>
              <a:latin typeface="Times New Roman"/>
            </a:endParaRPr>
          </a:p>
        </p:txBody>
      </p:sp>
      <p:sp>
        <p:nvSpPr>
          <p:cNvPr id="257" name="PlaceHolder 2"/>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2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rcRect l="0" t="8276" r="0" b="14479"/>
          <a:stretch/>
        </p:blipFill>
        <p:spPr>
          <a:xfrm>
            <a:off x="1066680" y="2362320"/>
            <a:ext cx="2819520" cy="2698560"/>
          </a:xfrm>
          <a:prstGeom prst="rect">
            <a:avLst/>
          </a:prstGeom>
          <a:ln w="0">
            <a:noFill/>
          </a:ln>
        </p:spPr>
      </p:pic>
      <p:sp>
        <p:nvSpPr>
          <p:cNvPr id="260"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your hypothesis?</a:t>
            </a:r>
            <a:endParaRPr b="0" lang="en-US" sz="4400" spc="-1" strike="noStrike">
              <a:solidFill>
                <a:srgbClr val="000000"/>
              </a:solidFill>
              <a:latin typeface="Times New Roman"/>
            </a:endParaRPr>
          </a:p>
        </p:txBody>
      </p:sp>
      <p:sp>
        <p:nvSpPr>
          <p:cNvPr id="26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hypothesis of how the disease was being spread. Form another hypothesis of what type of disease this might b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test your hypotheses?</a:t>
            </a:r>
            <a:endParaRPr b="0" lang="en-US" sz="2800" spc="-1" strike="noStrike">
              <a:solidFill>
                <a:srgbClr val="000000"/>
              </a:solidFill>
              <a:latin typeface="Times New Roman"/>
            </a:endParaRPr>
          </a:p>
        </p:txBody>
      </p:sp>
      <p:sp>
        <p:nvSpPr>
          <p:cNvPr id="2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rcRect l="4501" t="3601" r="4501" b="2350"/>
          <a:stretch/>
        </p:blipFill>
        <p:spPr>
          <a:xfrm>
            <a:off x="5183280" y="2058840"/>
            <a:ext cx="3125520" cy="4035600"/>
          </a:xfrm>
          <a:prstGeom prst="rect">
            <a:avLst/>
          </a:prstGeom>
          <a:ln w="88920">
            <a:solidFill>
              <a:srgbClr val="545068"/>
            </a:solidFill>
            <a:miter/>
          </a:ln>
        </p:spPr>
      </p:pic>
      <p:sp>
        <p:nvSpPr>
          <p:cNvPr id="264" name="PlaceHolder 1"/>
          <p:cNvSpPr>
            <a:spLocks noGrp="1"/>
          </p:cNvSpPr>
          <p:nvPr>
            <p:ph/>
          </p:nvPr>
        </p:nvSpPr>
        <p:spPr>
          <a:xfrm>
            <a:off x="685440" y="2209320"/>
            <a:ext cx="3809880" cy="3429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sed upon the information in the story and what you now know, what could the Lenape people do to prevent or control the sickness?</a:t>
            </a:r>
            <a:endParaRPr b="0" lang="en-US" sz="2800" spc="-1" strike="noStrike">
              <a:solidFill>
                <a:srgbClr val="000000"/>
              </a:solidFill>
              <a:latin typeface="Times New Roman"/>
            </a:endParaRPr>
          </a:p>
        </p:txBody>
      </p:sp>
      <p:sp>
        <p:nvSpPr>
          <p:cNvPr id="265" name="PlaceHolder 2"/>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hat You Know</a:t>
            </a:r>
            <a:endParaRPr b="0" lang="en-US" sz="4400" spc="-1" strike="noStrike">
              <a:solidFill>
                <a:srgbClr val="000000"/>
              </a:solidFill>
              <a:latin typeface="Times New Roman"/>
            </a:endParaRPr>
          </a:p>
        </p:txBody>
      </p:sp>
      <p:sp>
        <p:nvSpPr>
          <p:cNvPr id="2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lish custom was to bury those who died.  However, when there was an epidemic or a very sick person, they would burn the dead bodies to prevent the disease from spreading.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any sickness among the English soldi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dies of any sick people were burned, then could the disease spread through the smoke?</a:t>
            </a:r>
            <a:endParaRPr b="0" lang="en-US" sz="2800" spc="-1" strike="noStrike">
              <a:solidFill>
                <a:srgbClr val="000000"/>
              </a:solidFill>
              <a:latin typeface="Times New Roman"/>
            </a:endParaRPr>
          </a:p>
        </p:txBody>
      </p:sp>
      <p:sp>
        <p:nvSpPr>
          <p:cNvPr id="268" name="PlaceHolder 2"/>
          <p:cNvSpPr>
            <a:spLocks noGrp="1"/>
          </p:cNvSpPr>
          <p:nvPr>
            <p:ph type="title"/>
          </p:nvPr>
        </p:nvSpPr>
        <p:spPr>
          <a:xfrm>
            <a:off x="200160" y="352080"/>
            <a:ext cx="87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English burn their dead?</a:t>
            </a:r>
            <a:endParaRPr b="0" lang="en-US" sz="4400" spc="-1" strike="noStrike">
              <a:solidFill>
                <a:srgbClr val="000000"/>
              </a:solidFill>
              <a:latin typeface="Times New Roman"/>
            </a:endParaRPr>
          </a:p>
        </p:txBody>
      </p:sp>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85760" y="35208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Peoples, Different Effect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ffected only a few English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ually, many thousands of Indians died from this sickne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the difference? Why did Englishmen seem more resistant to whatever was causing this sickness?</a:t>
            </a:r>
            <a:endParaRPr b="0" lang="en-US" sz="3200" spc="-1" strike="noStrike">
              <a:solidFill>
                <a:srgbClr val="000000"/>
              </a:solidFill>
              <a:latin typeface="Times New Roman"/>
            </a:endParaRPr>
          </a:p>
        </p:txBody>
      </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Chickenpox?</a:t>
            </a:r>
            <a:endParaRPr b="0" lang="en-US" sz="4400" spc="-1" strike="noStrike">
              <a:solidFill>
                <a:srgbClr val="000000"/>
              </a:solidFill>
              <a:latin typeface="Times New Roman"/>
            </a:endParaRPr>
          </a:p>
        </p:txBody>
      </p:sp>
      <p:sp>
        <p:nvSpPr>
          <p:cNvPr id="274" name=""/>
          <p:cNvSpPr/>
          <p:nvPr/>
        </p:nvSpPr>
        <p:spPr>
          <a:xfrm>
            <a:off x="460080" y="5867280"/>
            <a:ext cx="115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info.gov</a:t>
            </a:r>
            <a:endParaRPr b="0" lang="en-US" sz="1200" spc="-1" strike="noStrike">
              <a:solidFill>
                <a:srgbClr val="000000"/>
              </a:solidFill>
              <a:latin typeface="Times New Roman"/>
            </a:endParaRPr>
          </a:p>
        </p:txBody>
      </p:sp>
      <p:sp>
        <p:nvSpPr>
          <p:cNvPr id="275" name=""/>
          <p:cNvSpPr/>
          <p:nvPr/>
        </p:nvSpPr>
        <p:spPr>
          <a:xfrm>
            <a:off x="81108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6" name="" descr="Photo: Skin rash of chickenpox"/>
          <p:cNvPicPr/>
          <p:nvPr/>
        </p:nvPicPr>
        <p:blipFill>
          <a:blip r:embed="rId2"/>
          <a:srcRect l="0" t="0" r="0" b="54"/>
          <a:stretch/>
        </p:blipFill>
        <p:spPr>
          <a:xfrm>
            <a:off x="5802480" y="1441440"/>
            <a:ext cx="2971800" cy="1882800"/>
          </a:xfrm>
          <a:prstGeom prst="rect">
            <a:avLst/>
          </a:prstGeom>
          <a:ln w="76320">
            <a:solidFill>
              <a:srgbClr val="545068"/>
            </a:solidFill>
            <a:miter/>
          </a:ln>
        </p:spPr>
      </p:pic>
      <p:sp>
        <p:nvSpPr>
          <p:cNvPr id="277" name=""/>
          <p:cNvSpPr/>
          <p:nvPr/>
        </p:nvSpPr>
        <p:spPr>
          <a:xfrm>
            <a:off x="804960" y="163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8" name="" descr="Photo: Chickenpox involving the oral mucosa"/>
          <p:cNvPicPr/>
          <p:nvPr/>
        </p:nvPicPr>
        <p:blipFill>
          <a:blip r:embed="rId3"/>
          <a:stretch/>
        </p:blipFill>
        <p:spPr>
          <a:xfrm>
            <a:off x="5802480" y="3394080"/>
            <a:ext cx="2971800" cy="1757520"/>
          </a:xfrm>
          <a:prstGeom prst="rect">
            <a:avLst/>
          </a:prstGeom>
          <a:ln w="76320">
            <a:solidFill>
              <a:srgbClr val="545068"/>
            </a:solidFill>
            <a:miter/>
          </a:ln>
        </p:spPr>
      </p:pic>
      <p:sp>
        <p:nvSpPr>
          <p:cNvPr id="279" name="PlaceHolder 2"/>
          <p:cNvSpPr>
            <a:spLocks noGrp="1"/>
          </p:cNvSpPr>
          <p:nvPr>
            <p:ph/>
          </p:nvPr>
        </p:nvSpPr>
        <p:spPr>
          <a:xfrm>
            <a:off x="350640" y="1417320"/>
            <a:ext cx="5057640" cy="4343400"/>
          </a:xfrm>
          <a:prstGeom prst="rect">
            <a:avLst/>
          </a:prstGeom>
          <a:noFill/>
          <a:ln w="0">
            <a:noFill/>
          </a:ln>
        </p:spPr>
        <p:txBody>
          <a:bodyPr lIns="90000" rIns="90000" tIns="46800" bIns="46800" anchor="t">
            <a:normAutofit fontScale="90000"/>
          </a:bodyPr>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viral disease characterized by a blistering rash, malaise, itchiness, and fever.</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highly infectious and can spread by direct skin to skin contact or through respiratory droplets in the air.</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isease lasts 5-10 days with a 1-2 day incubation period.</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ickenpox can be deadly but this only occurs in very rare cases.  Usually, this disease affects children from 1-4 years of age.</a:t>
            </a:r>
            <a:endParaRPr b="0" lang="en-US" sz="2200" spc="-1" strike="noStrike">
              <a:solidFill>
                <a:srgbClr val="000000"/>
              </a:solidFill>
              <a:latin typeface="Times New Roman"/>
            </a:endParaRPr>
          </a:p>
          <a:p>
            <a:pPr marL="308520" indent="-308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is a vaccine for Chickenpox and it is recommended but not required by the state.</a:t>
            </a:r>
            <a:endParaRPr b="0" lang="en-US" sz="2200" spc="-1" strike="noStrike">
              <a:solidFill>
                <a:srgbClr val="000000"/>
              </a:solidFill>
              <a:latin typeface="Times New Roman"/>
            </a:endParaRPr>
          </a:p>
        </p:txBody>
      </p:sp>
      <p:sp>
        <p:nvSpPr>
          <p:cNvPr id="280" name=""/>
          <p:cNvSpPr/>
          <p:nvPr/>
        </p:nvSpPr>
        <p:spPr>
          <a:xfrm>
            <a:off x="7230960" y="64134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easles?</a:t>
            </a:r>
            <a:endParaRPr b="0" lang="en-US" sz="4400" spc="-1" strike="noStrike">
              <a:solidFill>
                <a:srgbClr val="000000"/>
              </a:solidFill>
              <a:latin typeface="Times New Roman"/>
            </a:endParaRPr>
          </a:p>
        </p:txBody>
      </p:sp>
      <p:pic>
        <p:nvPicPr>
          <p:cNvPr id="282" name="" descr="Measles on the back"/>
          <p:cNvPicPr/>
          <p:nvPr/>
        </p:nvPicPr>
        <p:blipFill>
          <a:blip r:embed="rId2"/>
          <a:stretch/>
        </p:blipFill>
        <p:spPr>
          <a:xfrm>
            <a:off x="5257800" y="1371600"/>
            <a:ext cx="3276720" cy="2421000"/>
          </a:xfrm>
          <a:prstGeom prst="rect">
            <a:avLst/>
          </a:prstGeom>
          <a:ln w="76320">
            <a:solidFill>
              <a:srgbClr val="545068"/>
            </a:solidFill>
            <a:miter/>
          </a:ln>
        </p:spPr>
      </p:pic>
      <p:sp>
        <p:nvSpPr>
          <p:cNvPr id="283" name=""/>
          <p:cNvSpPr/>
          <p:nvPr/>
        </p:nvSpPr>
        <p:spPr>
          <a:xfrm>
            <a:off x="5324040" y="617220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MedlinePlus</a:t>
            </a:r>
            <a:endParaRPr b="0" lang="en-US" sz="1200" spc="-1" strike="noStrike">
              <a:solidFill>
                <a:srgbClr val="000000"/>
              </a:solidFill>
              <a:latin typeface="Times New Roman"/>
            </a:endParaRPr>
          </a:p>
        </p:txBody>
      </p:sp>
      <p:pic>
        <p:nvPicPr>
          <p:cNvPr id="284" name="" descr="Measles, Koplik spots - close-up"/>
          <p:cNvPicPr/>
          <p:nvPr/>
        </p:nvPicPr>
        <p:blipFill>
          <a:blip r:embed="rId3"/>
          <a:stretch/>
        </p:blipFill>
        <p:spPr>
          <a:xfrm>
            <a:off x="5257800" y="3867120"/>
            <a:ext cx="3276720" cy="2417760"/>
          </a:xfrm>
          <a:prstGeom prst="rect">
            <a:avLst/>
          </a:prstGeom>
          <a:ln w="76320">
            <a:solidFill>
              <a:srgbClr val="545068"/>
            </a:solidFill>
            <a:miter/>
          </a:ln>
        </p:spPr>
      </p:pic>
      <p:sp>
        <p:nvSpPr>
          <p:cNvPr id="285" name="PlaceHolder 2"/>
          <p:cNvSpPr>
            <a:spLocks noGrp="1"/>
          </p:cNvSpPr>
          <p:nvPr>
            <p:ph/>
          </p:nvPr>
        </p:nvSpPr>
        <p:spPr>
          <a:xfrm>
            <a:off x="304560" y="1371600"/>
            <a:ext cx="4647960" cy="4114800"/>
          </a:xfrm>
          <a:prstGeom prst="rect">
            <a:avLst/>
          </a:prstGeom>
          <a:noFill/>
          <a:ln w="0">
            <a:noFill/>
          </a:ln>
        </p:spPr>
        <p:txBody>
          <a:bodyPr lIns="90000" rIns="90000" tIns="46800" bIns="46800" anchor="t">
            <a:normAutofit fontScale="86000"/>
          </a:bodyPr>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viral disease characterized by fever, cough, and an itchy rash.</a:t>
            </a:r>
            <a:endParaRPr b="0" lang="en-US" sz="2200" spc="-1" strike="noStrike">
              <a:solidFill>
                <a:srgbClr val="000000"/>
              </a:solidFill>
              <a:latin typeface="Times New Roman"/>
            </a:endParaRPr>
          </a:p>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sles is highly contagious.</a:t>
            </a:r>
            <a:endParaRPr b="0" lang="en-US" sz="2200" spc="-1" strike="noStrike">
              <a:solidFill>
                <a:srgbClr val="000000"/>
              </a:solidFill>
              <a:latin typeface="Times New Roman"/>
            </a:endParaRPr>
          </a:p>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isease lasts 7-18 days with an 8-12 day incubation period.</a:t>
            </a:r>
            <a:endParaRPr b="0" lang="en-US" sz="2200" spc="-1" strike="noStrike">
              <a:solidFill>
                <a:srgbClr val="000000"/>
              </a:solidFill>
              <a:latin typeface="Times New Roman"/>
            </a:endParaRPr>
          </a:p>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ath from measles only occurs in about 0.02% of the cases.</a:t>
            </a:r>
            <a:endParaRPr b="0" lang="en-US" sz="2200" spc="-1" strike="noStrike">
              <a:solidFill>
                <a:srgbClr val="000000"/>
              </a:solidFill>
              <a:latin typeface="Times New Roman"/>
            </a:endParaRPr>
          </a:p>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isease is transmitted through the air in respiratory droplets.</a:t>
            </a:r>
            <a:endParaRPr b="0" lang="en-US" sz="2200" spc="-1" strike="noStrike">
              <a:solidFill>
                <a:srgbClr val="000000"/>
              </a:solidFill>
              <a:latin typeface="Times New Roman"/>
            </a:endParaRPr>
          </a:p>
          <a:p>
            <a:pPr marL="294840" indent="-294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disease used to occur more commonly in children than in adults. Now, no one age group dominates the reported cases.</a:t>
            </a:r>
            <a:endParaRPr b="0" lang="en-US" sz="2200" spc="-1" strike="noStrike">
              <a:solidFill>
                <a:srgbClr val="000000"/>
              </a:solidFill>
              <a:latin typeface="Times New Roman"/>
            </a:endParaRPr>
          </a:p>
        </p:txBody>
      </p:sp>
      <p:sp>
        <p:nvSpPr>
          <p:cNvPr id="2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685800" y="4572000"/>
            <a:ext cx="19810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CDC/Cheryl Tyron </a:t>
            </a:r>
            <a:endParaRPr b="0" lang="en-US" sz="1200" spc="-1" strike="noStrike">
              <a:solidFill>
                <a:srgbClr val="000000"/>
              </a:solidFill>
              <a:latin typeface="Times New Roman"/>
            </a:endParaRPr>
          </a:p>
        </p:txBody>
      </p:sp>
      <p:pic>
        <p:nvPicPr>
          <p:cNvPr id="288" name="" descr=""/>
          <p:cNvPicPr/>
          <p:nvPr/>
        </p:nvPicPr>
        <p:blipFill>
          <a:blip r:embed="rId2"/>
          <a:stretch/>
        </p:blipFill>
        <p:spPr>
          <a:xfrm>
            <a:off x="1066680" y="1600200"/>
            <a:ext cx="2773440" cy="4264200"/>
          </a:xfrm>
          <a:prstGeom prst="rect">
            <a:avLst/>
          </a:prstGeom>
          <a:ln w="76320">
            <a:solidFill>
              <a:srgbClr val="545068"/>
            </a:solidFill>
            <a:miter/>
          </a:ln>
        </p:spPr>
      </p:pic>
      <p:sp>
        <p:nvSpPr>
          <p:cNvPr id="28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onkeypox?</a:t>
            </a:r>
            <a:endParaRPr b="0" lang="en-US" sz="4400" spc="-1" strike="noStrike">
              <a:solidFill>
                <a:srgbClr val="000000"/>
              </a:solidFill>
              <a:latin typeface="Times New Roman"/>
            </a:endParaRPr>
          </a:p>
        </p:txBody>
      </p:sp>
      <p:sp>
        <p:nvSpPr>
          <p:cNvPr id="290" name="PlaceHolder 2"/>
          <p:cNvSpPr>
            <a:spLocks noGrp="1"/>
          </p:cNvSpPr>
          <p:nvPr>
            <p:ph/>
          </p:nvPr>
        </p:nvSpPr>
        <p:spPr>
          <a:xfrm>
            <a:off x="4266720" y="1371240"/>
            <a:ext cx="4496040" cy="44197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al disease characterized by fever, pustular rash, malaise, and swelling of lymph nod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keypox is usually transmitted to a human from a wild animal that has monkeypox.</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isease does not spread readily from person to pers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from monkeypox is rare in adults but children have a much greater risk of death (10%).  </a:t>
            </a:r>
            <a:endParaRPr b="0" lang="en-US" sz="2400" spc="-1" strike="noStrike">
              <a:solidFill>
                <a:srgbClr val="000000"/>
              </a:solidFill>
              <a:latin typeface="Times New Roman"/>
            </a:endParaRPr>
          </a:p>
        </p:txBody>
      </p:sp>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85800" y="343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81" name=""/>
          <p:cNvSpPr/>
          <p:nvPr/>
        </p:nvSpPr>
        <p:spPr>
          <a:xfrm>
            <a:off x="5335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the story “Three Rivers, Three 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your knowledge of the story by taking the </a:t>
            </a:r>
            <a:r>
              <a:rPr b="0" lang="en-US" sz="2400" spc="-1" strike="noStrike" u="sng">
                <a:solidFill>
                  <a:srgbClr val="134173"/>
                </a:solidFill>
                <a:uFillTx/>
                <a:latin typeface="Times New Roman"/>
                <a:hlinkClick r:id="rId2"/>
              </a:rPr>
              <a:t>Investigator’s Challenge Quiz</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complete the quiz, return to the story and identify where to find each correct answer.</a:t>
            </a:r>
            <a:endParaRPr b="0" lang="en-US" sz="2400" spc="-1" strike="noStrike">
              <a:solidFill>
                <a:srgbClr val="000000"/>
              </a:solidFill>
              <a:latin typeface="Times New Roman"/>
            </a:endParaRPr>
          </a:p>
        </p:txBody>
      </p:sp>
      <p:pic>
        <p:nvPicPr>
          <p:cNvPr id="82" name="" descr=""/>
          <p:cNvPicPr/>
          <p:nvPr/>
        </p:nvPicPr>
        <p:blipFill>
          <a:blip r:embed="rId3"/>
          <a:stretch/>
        </p:blipFill>
        <p:spPr>
          <a:xfrm>
            <a:off x="5334120" y="2133720"/>
            <a:ext cx="2228760" cy="3562200"/>
          </a:xfrm>
          <a:prstGeom prst="rect">
            <a:avLst/>
          </a:prstGeom>
          <a:ln w="57240">
            <a:solidFill>
              <a:srgbClr val="545068"/>
            </a:solidFill>
            <a:miter/>
          </a:ln>
        </p:spPr>
      </p:pic>
      <p:pic>
        <p:nvPicPr>
          <p:cNvPr id="83" name="" descr=""/>
          <p:cNvPicPr/>
          <p:nvPr/>
        </p:nvPicPr>
        <p:blipFill>
          <a:blip r:embed="rId4"/>
          <a:stretch/>
        </p:blipFill>
        <p:spPr>
          <a:xfrm>
            <a:off x="0" y="0"/>
            <a:ext cx="209520" cy="6858000"/>
          </a:xfrm>
          <a:prstGeom prst="rect">
            <a:avLst/>
          </a:prstGeom>
          <a:ln w="0">
            <a:noFill/>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0</a:t>
            </a:r>
            <a:endParaRPr b="0" lang="en-US" sz="1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 descr=""/>
          <p:cNvPicPr/>
          <p:nvPr/>
        </p:nvPicPr>
        <p:blipFill>
          <a:blip r:embed="rId2"/>
          <a:stretch/>
        </p:blipFill>
        <p:spPr>
          <a:xfrm>
            <a:off x="520560" y="2139840"/>
            <a:ext cx="3038760" cy="2648160"/>
          </a:xfrm>
          <a:prstGeom prst="rect">
            <a:avLst/>
          </a:prstGeom>
          <a:ln w="0">
            <a:noFill/>
          </a:ln>
        </p:spPr>
      </p:pic>
      <p:sp>
        <p:nvSpPr>
          <p:cNvPr id="293" name="PlaceHolder 1"/>
          <p:cNvSpPr>
            <a:spLocks noGrp="1"/>
          </p:cNvSpPr>
          <p:nvPr>
            <p:ph/>
          </p:nvPr>
        </p:nvSpPr>
        <p:spPr>
          <a:xfrm>
            <a:off x="3698640" y="2209680"/>
            <a:ext cx="50403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ifferent about the sickness that the Lenape people had and chickenpox? What about measles? Could it be monkey po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the sickness sound more like one disease than th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sickness be caused by a microbe related to those that cause chickenpox, measles, or monkey pox?  Why or why not?</a:t>
            </a:r>
            <a:endParaRPr b="0" lang="en-US" sz="2400" spc="-1" strike="noStrike">
              <a:solidFill>
                <a:srgbClr val="000000"/>
              </a:solidFill>
              <a:latin typeface="Times New Roman"/>
            </a:endParaRPr>
          </a:p>
        </p:txBody>
      </p:sp>
      <p:sp>
        <p:nvSpPr>
          <p:cNvPr id="294" name="PlaceHolder 2"/>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uld the sickness be chickenpox, measles, or monkeypox?</a:t>
            </a:r>
            <a:endParaRPr b="0" lang="en-US" sz="4000" spc="-1" strike="noStrike">
              <a:solidFill>
                <a:srgbClr val="000000"/>
              </a:solidFill>
              <a:latin typeface="Times New Roman"/>
            </a:endParaRPr>
          </a:p>
        </p:txBody>
      </p:sp>
      <p:sp>
        <p:nvSpPr>
          <p:cNvPr id="2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6" name=""/>
          <p:cNvGrpSpPr/>
          <p:nvPr/>
        </p:nvGrpSpPr>
        <p:grpSpPr>
          <a:xfrm>
            <a:off x="457200" y="2362320"/>
            <a:ext cx="3809520" cy="3384000"/>
            <a:chOff x="457200" y="2362320"/>
            <a:chExt cx="3809520" cy="3384000"/>
          </a:xfrm>
        </p:grpSpPr>
        <p:grpSp>
          <p:nvGrpSpPr>
            <p:cNvPr id="297" name=""/>
            <p:cNvGrpSpPr/>
            <p:nvPr/>
          </p:nvGrpSpPr>
          <p:grpSpPr>
            <a:xfrm>
              <a:off x="457200" y="2362320"/>
              <a:ext cx="3809520" cy="3352320"/>
              <a:chOff x="457200" y="2362320"/>
              <a:chExt cx="3809520" cy="3352320"/>
            </a:xfrm>
          </p:grpSpPr>
          <p:sp>
            <p:nvSpPr>
              <p:cNvPr id="298" name=""/>
              <p:cNvSpPr/>
              <p:nvPr/>
            </p:nvSpPr>
            <p:spPr>
              <a:xfrm flipH="1">
                <a:off x="458640" y="2371320"/>
                <a:ext cx="3807720" cy="3343320"/>
              </a:xfrm>
              <a:prstGeom prst="rect">
                <a:avLst/>
              </a:prstGeom>
              <a:solidFill>
                <a:srgbClr val="568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461160" y="2523600"/>
                <a:ext cx="2032200" cy="1930320"/>
              </a:xfrm>
              <a:custGeom>
                <a:avLst/>
                <a:gdLst/>
                <a:ahLst/>
                <a:rect l="l" t="t" r="r" b="b"/>
                <a:pathLst>
                  <a:path w="1945" h="1723">
                    <a:moveTo>
                      <a:pt x="0" y="1476"/>
                    </a:moveTo>
                    <a:lnTo>
                      <a:pt x="28" y="1398"/>
                    </a:lnTo>
                    <a:lnTo>
                      <a:pt x="57" y="1324"/>
                    </a:lnTo>
                    <a:lnTo>
                      <a:pt x="88" y="1250"/>
                    </a:lnTo>
                    <a:lnTo>
                      <a:pt x="121" y="1181"/>
                    </a:lnTo>
                    <a:lnTo>
                      <a:pt x="156" y="1113"/>
                    </a:lnTo>
                    <a:lnTo>
                      <a:pt x="191" y="1047"/>
                    </a:lnTo>
                    <a:lnTo>
                      <a:pt x="230" y="985"/>
                    </a:lnTo>
                    <a:lnTo>
                      <a:pt x="269" y="924"/>
                    </a:lnTo>
                    <a:lnTo>
                      <a:pt x="312" y="866"/>
                    </a:lnTo>
                    <a:lnTo>
                      <a:pt x="357" y="809"/>
                    </a:lnTo>
                    <a:lnTo>
                      <a:pt x="402" y="755"/>
                    </a:lnTo>
                    <a:lnTo>
                      <a:pt x="451" y="704"/>
                    </a:lnTo>
                    <a:lnTo>
                      <a:pt x="501" y="653"/>
                    </a:lnTo>
                    <a:lnTo>
                      <a:pt x="554" y="605"/>
                    </a:lnTo>
                    <a:lnTo>
                      <a:pt x="608" y="558"/>
                    </a:lnTo>
                    <a:lnTo>
                      <a:pt x="665" y="513"/>
                    </a:lnTo>
                    <a:lnTo>
                      <a:pt x="725" y="470"/>
                    </a:lnTo>
                    <a:lnTo>
                      <a:pt x="788" y="429"/>
                    </a:lnTo>
                    <a:lnTo>
                      <a:pt x="852" y="390"/>
                    </a:lnTo>
                    <a:lnTo>
                      <a:pt x="918" y="353"/>
                    </a:lnTo>
                    <a:lnTo>
                      <a:pt x="988" y="316"/>
                    </a:lnTo>
                    <a:lnTo>
                      <a:pt x="1060" y="281"/>
                    </a:lnTo>
                    <a:lnTo>
                      <a:pt x="1135" y="248"/>
                    </a:lnTo>
                    <a:lnTo>
                      <a:pt x="1212" y="215"/>
                    </a:lnTo>
                    <a:lnTo>
                      <a:pt x="1294" y="183"/>
                    </a:lnTo>
                    <a:lnTo>
                      <a:pt x="1378" y="154"/>
                    </a:lnTo>
                    <a:lnTo>
                      <a:pt x="1464" y="127"/>
                    </a:lnTo>
                    <a:lnTo>
                      <a:pt x="1554" y="100"/>
                    </a:lnTo>
                    <a:lnTo>
                      <a:pt x="1645" y="72"/>
                    </a:lnTo>
                    <a:lnTo>
                      <a:pt x="1741" y="47"/>
                    </a:lnTo>
                    <a:lnTo>
                      <a:pt x="1840" y="24"/>
                    </a:lnTo>
                    <a:lnTo>
                      <a:pt x="1941" y="0"/>
                    </a:lnTo>
                    <a:lnTo>
                      <a:pt x="1945" y="312"/>
                    </a:lnTo>
                    <a:lnTo>
                      <a:pt x="1893" y="330"/>
                    </a:lnTo>
                    <a:lnTo>
                      <a:pt x="1840" y="345"/>
                    </a:lnTo>
                    <a:lnTo>
                      <a:pt x="1785" y="363"/>
                    </a:lnTo>
                    <a:lnTo>
                      <a:pt x="1731" y="378"/>
                    </a:lnTo>
                    <a:lnTo>
                      <a:pt x="1674" y="396"/>
                    </a:lnTo>
                    <a:lnTo>
                      <a:pt x="1618" y="415"/>
                    </a:lnTo>
                    <a:lnTo>
                      <a:pt x="1559" y="433"/>
                    </a:lnTo>
                    <a:lnTo>
                      <a:pt x="1503" y="454"/>
                    </a:lnTo>
                    <a:lnTo>
                      <a:pt x="1442" y="474"/>
                    </a:lnTo>
                    <a:lnTo>
                      <a:pt x="1384" y="497"/>
                    </a:lnTo>
                    <a:lnTo>
                      <a:pt x="1326" y="521"/>
                    </a:lnTo>
                    <a:lnTo>
                      <a:pt x="1265" y="548"/>
                    </a:lnTo>
                    <a:lnTo>
                      <a:pt x="1207" y="575"/>
                    </a:lnTo>
                    <a:lnTo>
                      <a:pt x="1146" y="606"/>
                    </a:lnTo>
                    <a:lnTo>
                      <a:pt x="1086" y="638"/>
                    </a:lnTo>
                    <a:lnTo>
                      <a:pt x="1027" y="673"/>
                    </a:lnTo>
                    <a:lnTo>
                      <a:pt x="967" y="710"/>
                    </a:lnTo>
                    <a:lnTo>
                      <a:pt x="908" y="751"/>
                    </a:lnTo>
                    <a:lnTo>
                      <a:pt x="850" y="794"/>
                    </a:lnTo>
                    <a:lnTo>
                      <a:pt x="792" y="840"/>
                    </a:lnTo>
                    <a:lnTo>
                      <a:pt x="735" y="891"/>
                    </a:lnTo>
                    <a:lnTo>
                      <a:pt x="677" y="946"/>
                    </a:lnTo>
                    <a:lnTo>
                      <a:pt x="620" y="1002"/>
                    </a:lnTo>
                    <a:lnTo>
                      <a:pt x="566" y="1065"/>
                    </a:lnTo>
                    <a:lnTo>
                      <a:pt x="511" y="1131"/>
                    </a:lnTo>
                    <a:lnTo>
                      <a:pt x="458" y="1201"/>
                    </a:lnTo>
                    <a:lnTo>
                      <a:pt x="406" y="1275"/>
                    </a:lnTo>
                    <a:lnTo>
                      <a:pt x="355" y="1355"/>
                    </a:lnTo>
                    <a:lnTo>
                      <a:pt x="304" y="1439"/>
                    </a:lnTo>
                    <a:lnTo>
                      <a:pt x="256" y="1528"/>
                    </a:lnTo>
                    <a:lnTo>
                      <a:pt x="209" y="1624"/>
                    </a:lnTo>
                    <a:lnTo>
                      <a:pt x="164" y="1723"/>
                    </a:lnTo>
                    <a:lnTo>
                      <a:pt x="0" y="1476"/>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837000" y="2368800"/>
                <a:ext cx="2438280" cy="1648440"/>
              </a:xfrm>
              <a:custGeom>
                <a:avLst/>
                <a:gdLst/>
                <a:ahLst/>
                <a:rect l="l" t="t" r="r" b="b"/>
                <a:pathLst>
                  <a:path w="2333" h="1472">
                    <a:moveTo>
                      <a:pt x="0" y="1433"/>
                    </a:moveTo>
                    <a:lnTo>
                      <a:pt x="16" y="1366"/>
                    </a:lnTo>
                    <a:lnTo>
                      <a:pt x="31" y="1300"/>
                    </a:lnTo>
                    <a:lnTo>
                      <a:pt x="49" y="1234"/>
                    </a:lnTo>
                    <a:lnTo>
                      <a:pt x="68" y="1169"/>
                    </a:lnTo>
                    <a:lnTo>
                      <a:pt x="88" y="1107"/>
                    </a:lnTo>
                    <a:lnTo>
                      <a:pt x="107" y="1043"/>
                    </a:lnTo>
                    <a:lnTo>
                      <a:pt x="131" y="982"/>
                    </a:lnTo>
                    <a:lnTo>
                      <a:pt x="154" y="920"/>
                    </a:lnTo>
                    <a:lnTo>
                      <a:pt x="179" y="861"/>
                    </a:lnTo>
                    <a:lnTo>
                      <a:pt x="205" y="803"/>
                    </a:lnTo>
                    <a:lnTo>
                      <a:pt x="234" y="746"/>
                    </a:lnTo>
                    <a:lnTo>
                      <a:pt x="265" y="690"/>
                    </a:lnTo>
                    <a:lnTo>
                      <a:pt x="296" y="635"/>
                    </a:lnTo>
                    <a:lnTo>
                      <a:pt x="329" y="583"/>
                    </a:lnTo>
                    <a:lnTo>
                      <a:pt x="366" y="532"/>
                    </a:lnTo>
                    <a:lnTo>
                      <a:pt x="405" y="483"/>
                    </a:lnTo>
                    <a:lnTo>
                      <a:pt x="444" y="436"/>
                    </a:lnTo>
                    <a:lnTo>
                      <a:pt x="487" y="390"/>
                    </a:lnTo>
                    <a:lnTo>
                      <a:pt x="534" y="347"/>
                    </a:lnTo>
                    <a:lnTo>
                      <a:pt x="581" y="306"/>
                    </a:lnTo>
                    <a:lnTo>
                      <a:pt x="631" y="267"/>
                    </a:lnTo>
                    <a:lnTo>
                      <a:pt x="686" y="230"/>
                    </a:lnTo>
                    <a:lnTo>
                      <a:pt x="741" y="195"/>
                    </a:lnTo>
                    <a:lnTo>
                      <a:pt x="801" y="162"/>
                    </a:lnTo>
                    <a:lnTo>
                      <a:pt x="863" y="132"/>
                    </a:lnTo>
                    <a:lnTo>
                      <a:pt x="928" y="105"/>
                    </a:lnTo>
                    <a:lnTo>
                      <a:pt x="996" y="80"/>
                    </a:lnTo>
                    <a:lnTo>
                      <a:pt x="1068" y="58"/>
                    </a:lnTo>
                    <a:lnTo>
                      <a:pt x="1142" y="39"/>
                    </a:lnTo>
                    <a:lnTo>
                      <a:pt x="1222" y="23"/>
                    </a:lnTo>
                    <a:lnTo>
                      <a:pt x="1304" y="10"/>
                    </a:lnTo>
                    <a:lnTo>
                      <a:pt x="1390" y="0"/>
                    </a:lnTo>
                    <a:lnTo>
                      <a:pt x="2333" y="2"/>
                    </a:lnTo>
                    <a:lnTo>
                      <a:pt x="2237" y="21"/>
                    </a:lnTo>
                    <a:lnTo>
                      <a:pt x="2144" y="41"/>
                    </a:lnTo>
                    <a:lnTo>
                      <a:pt x="2052" y="62"/>
                    </a:lnTo>
                    <a:lnTo>
                      <a:pt x="1964" y="82"/>
                    </a:lnTo>
                    <a:lnTo>
                      <a:pt x="1877" y="103"/>
                    </a:lnTo>
                    <a:lnTo>
                      <a:pt x="1793" y="127"/>
                    </a:lnTo>
                    <a:lnTo>
                      <a:pt x="1711" y="148"/>
                    </a:lnTo>
                    <a:lnTo>
                      <a:pt x="1633" y="173"/>
                    </a:lnTo>
                    <a:lnTo>
                      <a:pt x="1555" y="199"/>
                    </a:lnTo>
                    <a:lnTo>
                      <a:pt x="1481" y="226"/>
                    </a:lnTo>
                    <a:lnTo>
                      <a:pt x="1409" y="253"/>
                    </a:lnTo>
                    <a:lnTo>
                      <a:pt x="1337" y="282"/>
                    </a:lnTo>
                    <a:lnTo>
                      <a:pt x="1269" y="316"/>
                    </a:lnTo>
                    <a:lnTo>
                      <a:pt x="1202" y="349"/>
                    </a:lnTo>
                    <a:lnTo>
                      <a:pt x="1140" y="386"/>
                    </a:lnTo>
                    <a:lnTo>
                      <a:pt x="1078" y="423"/>
                    </a:lnTo>
                    <a:lnTo>
                      <a:pt x="1017" y="464"/>
                    </a:lnTo>
                    <a:lnTo>
                      <a:pt x="959" y="507"/>
                    </a:lnTo>
                    <a:lnTo>
                      <a:pt x="902" y="553"/>
                    </a:lnTo>
                    <a:lnTo>
                      <a:pt x="850" y="602"/>
                    </a:lnTo>
                    <a:lnTo>
                      <a:pt x="797" y="655"/>
                    </a:lnTo>
                    <a:lnTo>
                      <a:pt x="746" y="709"/>
                    </a:lnTo>
                    <a:lnTo>
                      <a:pt x="698" y="768"/>
                    </a:lnTo>
                    <a:lnTo>
                      <a:pt x="651" y="830"/>
                    </a:lnTo>
                    <a:lnTo>
                      <a:pt x="606" y="896"/>
                    </a:lnTo>
                    <a:lnTo>
                      <a:pt x="563" y="965"/>
                    </a:lnTo>
                    <a:lnTo>
                      <a:pt x="522" y="1039"/>
                    </a:lnTo>
                    <a:lnTo>
                      <a:pt x="481" y="1117"/>
                    </a:lnTo>
                    <a:lnTo>
                      <a:pt x="444" y="1199"/>
                    </a:lnTo>
                    <a:lnTo>
                      <a:pt x="407" y="1284"/>
                    </a:lnTo>
                    <a:lnTo>
                      <a:pt x="372" y="1376"/>
                    </a:lnTo>
                    <a:lnTo>
                      <a:pt x="339" y="1472"/>
                    </a:lnTo>
                    <a:lnTo>
                      <a:pt x="0" y="1433"/>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837360" y="2368800"/>
                <a:ext cx="2415600" cy="1632600"/>
              </a:xfrm>
              <a:custGeom>
                <a:avLst/>
                <a:gdLst/>
                <a:ahLst/>
                <a:rect l="l" t="t" r="r" b="b"/>
                <a:pathLst>
                  <a:path w="2310" h="1458">
                    <a:moveTo>
                      <a:pt x="0" y="1421"/>
                    </a:moveTo>
                    <a:lnTo>
                      <a:pt x="16" y="1355"/>
                    </a:lnTo>
                    <a:lnTo>
                      <a:pt x="34" y="1288"/>
                    </a:lnTo>
                    <a:lnTo>
                      <a:pt x="51" y="1222"/>
                    </a:lnTo>
                    <a:lnTo>
                      <a:pt x="71" y="1158"/>
                    </a:lnTo>
                    <a:lnTo>
                      <a:pt x="90" y="1093"/>
                    </a:lnTo>
                    <a:lnTo>
                      <a:pt x="112" y="1031"/>
                    </a:lnTo>
                    <a:lnTo>
                      <a:pt x="135" y="969"/>
                    </a:lnTo>
                    <a:lnTo>
                      <a:pt x="160" y="908"/>
                    </a:lnTo>
                    <a:lnTo>
                      <a:pt x="186" y="850"/>
                    </a:lnTo>
                    <a:lnTo>
                      <a:pt x="215" y="791"/>
                    </a:lnTo>
                    <a:lnTo>
                      <a:pt x="244" y="735"/>
                    </a:lnTo>
                    <a:lnTo>
                      <a:pt x="275" y="680"/>
                    </a:lnTo>
                    <a:lnTo>
                      <a:pt x="308" y="626"/>
                    </a:lnTo>
                    <a:lnTo>
                      <a:pt x="343" y="575"/>
                    </a:lnTo>
                    <a:lnTo>
                      <a:pt x="382" y="524"/>
                    </a:lnTo>
                    <a:lnTo>
                      <a:pt x="421" y="475"/>
                    </a:lnTo>
                    <a:lnTo>
                      <a:pt x="462" y="429"/>
                    </a:lnTo>
                    <a:lnTo>
                      <a:pt x="507" y="384"/>
                    </a:lnTo>
                    <a:lnTo>
                      <a:pt x="554" y="341"/>
                    </a:lnTo>
                    <a:lnTo>
                      <a:pt x="603" y="300"/>
                    </a:lnTo>
                    <a:lnTo>
                      <a:pt x="653" y="261"/>
                    </a:lnTo>
                    <a:lnTo>
                      <a:pt x="708" y="224"/>
                    </a:lnTo>
                    <a:lnTo>
                      <a:pt x="764" y="191"/>
                    </a:lnTo>
                    <a:lnTo>
                      <a:pt x="825" y="160"/>
                    </a:lnTo>
                    <a:lnTo>
                      <a:pt x="887" y="130"/>
                    </a:lnTo>
                    <a:lnTo>
                      <a:pt x="953" y="103"/>
                    </a:lnTo>
                    <a:lnTo>
                      <a:pt x="1022" y="78"/>
                    </a:lnTo>
                    <a:lnTo>
                      <a:pt x="1094" y="56"/>
                    </a:lnTo>
                    <a:lnTo>
                      <a:pt x="1168" y="39"/>
                    </a:lnTo>
                    <a:lnTo>
                      <a:pt x="1248" y="23"/>
                    </a:lnTo>
                    <a:lnTo>
                      <a:pt x="1328" y="10"/>
                    </a:lnTo>
                    <a:lnTo>
                      <a:pt x="1413" y="0"/>
                    </a:lnTo>
                    <a:lnTo>
                      <a:pt x="1470" y="0"/>
                    </a:lnTo>
                    <a:lnTo>
                      <a:pt x="1526" y="0"/>
                    </a:lnTo>
                    <a:lnTo>
                      <a:pt x="1583" y="0"/>
                    </a:lnTo>
                    <a:lnTo>
                      <a:pt x="1637" y="0"/>
                    </a:lnTo>
                    <a:lnTo>
                      <a:pt x="1694" y="0"/>
                    </a:lnTo>
                    <a:lnTo>
                      <a:pt x="1750" y="0"/>
                    </a:lnTo>
                    <a:lnTo>
                      <a:pt x="1807" y="0"/>
                    </a:lnTo>
                    <a:lnTo>
                      <a:pt x="1861" y="0"/>
                    </a:lnTo>
                    <a:lnTo>
                      <a:pt x="1918" y="0"/>
                    </a:lnTo>
                    <a:lnTo>
                      <a:pt x="1975" y="0"/>
                    </a:lnTo>
                    <a:lnTo>
                      <a:pt x="2031" y="0"/>
                    </a:lnTo>
                    <a:lnTo>
                      <a:pt x="2086" y="0"/>
                    </a:lnTo>
                    <a:lnTo>
                      <a:pt x="2142" y="2"/>
                    </a:lnTo>
                    <a:lnTo>
                      <a:pt x="2199" y="2"/>
                    </a:lnTo>
                    <a:lnTo>
                      <a:pt x="2253" y="2"/>
                    </a:lnTo>
                    <a:lnTo>
                      <a:pt x="2310" y="2"/>
                    </a:lnTo>
                    <a:lnTo>
                      <a:pt x="2214" y="21"/>
                    </a:lnTo>
                    <a:lnTo>
                      <a:pt x="2121" y="41"/>
                    </a:lnTo>
                    <a:lnTo>
                      <a:pt x="2029" y="62"/>
                    </a:lnTo>
                    <a:lnTo>
                      <a:pt x="1941" y="82"/>
                    </a:lnTo>
                    <a:lnTo>
                      <a:pt x="1854" y="103"/>
                    </a:lnTo>
                    <a:lnTo>
                      <a:pt x="1770" y="125"/>
                    </a:lnTo>
                    <a:lnTo>
                      <a:pt x="1690" y="148"/>
                    </a:lnTo>
                    <a:lnTo>
                      <a:pt x="1610" y="171"/>
                    </a:lnTo>
                    <a:lnTo>
                      <a:pt x="1532" y="197"/>
                    </a:lnTo>
                    <a:lnTo>
                      <a:pt x="1458" y="222"/>
                    </a:lnTo>
                    <a:lnTo>
                      <a:pt x="1386" y="249"/>
                    </a:lnTo>
                    <a:lnTo>
                      <a:pt x="1316" y="279"/>
                    </a:lnTo>
                    <a:lnTo>
                      <a:pt x="1248" y="310"/>
                    </a:lnTo>
                    <a:lnTo>
                      <a:pt x="1181" y="343"/>
                    </a:lnTo>
                    <a:lnTo>
                      <a:pt x="1117" y="378"/>
                    </a:lnTo>
                    <a:lnTo>
                      <a:pt x="1055" y="417"/>
                    </a:lnTo>
                    <a:lnTo>
                      <a:pt x="996" y="456"/>
                    </a:lnTo>
                    <a:lnTo>
                      <a:pt x="938" y="499"/>
                    </a:lnTo>
                    <a:lnTo>
                      <a:pt x="881" y="544"/>
                    </a:lnTo>
                    <a:lnTo>
                      <a:pt x="829" y="592"/>
                    </a:lnTo>
                    <a:lnTo>
                      <a:pt x="776" y="645"/>
                    </a:lnTo>
                    <a:lnTo>
                      <a:pt x="725" y="700"/>
                    </a:lnTo>
                    <a:lnTo>
                      <a:pt x="677" y="756"/>
                    </a:lnTo>
                    <a:lnTo>
                      <a:pt x="630" y="819"/>
                    </a:lnTo>
                    <a:lnTo>
                      <a:pt x="585" y="883"/>
                    </a:lnTo>
                    <a:lnTo>
                      <a:pt x="542" y="953"/>
                    </a:lnTo>
                    <a:lnTo>
                      <a:pt x="501" y="1025"/>
                    </a:lnTo>
                    <a:lnTo>
                      <a:pt x="462" y="1103"/>
                    </a:lnTo>
                    <a:lnTo>
                      <a:pt x="423" y="1185"/>
                    </a:lnTo>
                    <a:lnTo>
                      <a:pt x="388" y="1271"/>
                    </a:lnTo>
                    <a:lnTo>
                      <a:pt x="353" y="1362"/>
                    </a:lnTo>
                    <a:lnTo>
                      <a:pt x="320" y="1458"/>
                    </a:lnTo>
                    <a:lnTo>
                      <a:pt x="301" y="1456"/>
                    </a:lnTo>
                    <a:lnTo>
                      <a:pt x="279" y="1454"/>
                    </a:lnTo>
                    <a:lnTo>
                      <a:pt x="260" y="1452"/>
                    </a:lnTo>
                    <a:lnTo>
                      <a:pt x="240" y="1448"/>
                    </a:lnTo>
                    <a:lnTo>
                      <a:pt x="221" y="1446"/>
                    </a:lnTo>
                    <a:lnTo>
                      <a:pt x="199" y="1444"/>
                    </a:lnTo>
                    <a:lnTo>
                      <a:pt x="180" y="1442"/>
                    </a:lnTo>
                    <a:lnTo>
                      <a:pt x="160" y="1438"/>
                    </a:lnTo>
                    <a:lnTo>
                      <a:pt x="141" y="1436"/>
                    </a:lnTo>
                    <a:lnTo>
                      <a:pt x="121" y="1434"/>
                    </a:lnTo>
                    <a:lnTo>
                      <a:pt x="100" y="1433"/>
                    </a:lnTo>
                    <a:lnTo>
                      <a:pt x="80" y="1431"/>
                    </a:lnTo>
                    <a:lnTo>
                      <a:pt x="61" y="1427"/>
                    </a:lnTo>
                    <a:lnTo>
                      <a:pt x="41" y="1425"/>
                    </a:lnTo>
                    <a:lnTo>
                      <a:pt x="20" y="1423"/>
                    </a:lnTo>
                    <a:lnTo>
                      <a:pt x="0" y="1421"/>
                    </a:lnTo>
                    <a:close/>
                  </a:path>
                </a:pathLst>
              </a:custGeom>
              <a:solidFill>
                <a:srgbClr val="668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837360" y="2368800"/>
                <a:ext cx="2387880" cy="1616760"/>
              </a:xfrm>
              <a:custGeom>
                <a:avLst/>
                <a:gdLst/>
                <a:ahLst/>
                <a:rect l="l" t="t" r="r" b="b"/>
                <a:pathLst>
                  <a:path w="2284" h="1444">
                    <a:moveTo>
                      <a:pt x="0" y="1407"/>
                    </a:moveTo>
                    <a:lnTo>
                      <a:pt x="15" y="1341"/>
                    </a:lnTo>
                    <a:lnTo>
                      <a:pt x="33" y="1275"/>
                    </a:lnTo>
                    <a:lnTo>
                      <a:pt x="50" y="1208"/>
                    </a:lnTo>
                    <a:lnTo>
                      <a:pt x="70" y="1144"/>
                    </a:lnTo>
                    <a:lnTo>
                      <a:pt x="91" y="1082"/>
                    </a:lnTo>
                    <a:lnTo>
                      <a:pt x="113" y="1019"/>
                    </a:lnTo>
                    <a:lnTo>
                      <a:pt x="138" y="959"/>
                    </a:lnTo>
                    <a:lnTo>
                      <a:pt x="163" y="898"/>
                    </a:lnTo>
                    <a:lnTo>
                      <a:pt x="191" y="840"/>
                    </a:lnTo>
                    <a:lnTo>
                      <a:pt x="220" y="781"/>
                    </a:lnTo>
                    <a:lnTo>
                      <a:pt x="249" y="725"/>
                    </a:lnTo>
                    <a:lnTo>
                      <a:pt x="282" y="670"/>
                    </a:lnTo>
                    <a:lnTo>
                      <a:pt x="317" y="618"/>
                    </a:lnTo>
                    <a:lnTo>
                      <a:pt x="354" y="567"/>
                    </a:lnTo>
                    <a:lnTo>
                      <a:pt x="393" y="516"/>
                    </a:lnTo>
                    <a:lnTo>
                      <a:pt x="434" y="470"/>
                    </a:lnTo>
                    <a:lnTo>
                      <a:pt x="477" y="423"/>
                    </a:lnTo>
                    <a:lnTo>
                      <a:pt x="522" y="378"/>
                    </a:lnTo>
                    <a:lnTo>
                      <a:pt x="569" y="337"/>
                    </a:lnTo>
                    <a:lnTo>
                      <a:pt x="619" y="296"/>
                    </a:lnTo>
                    <a:lnTo>
                      <a:pt x="672" y="257"/>
                    </a:lnTo>
                    <a:lnTo>
                      <a:pt x="727" y="222"/>
                    </a:lnTo>
                    <a:lnTo>
                      <a:pt x="785" y="189"/>
                    </a:lnTo>
                    <a:lnTo>
                      <a:pt x="846" y="158"/>
                    </a:lnTo>
                    <a:lnTo>
                      <a:pt x="908" y="128"/>
                    </a:lnTo>
                    <a:lnTo>
                      <a:pt x="974" y="101"/>
                    </a:lnTo>
                    <a:lnTo>
                      <a:pt x="1044" y="78"/>
                    </a:lnTo>
                    <a:lnTo>
                      <a:pt x="1116" y="56"/>
                    </a:lnTo>
                    <a:lnTo>
                      <a:pt x="1190" y="39"/>
                    </a:lnTo>
                    <a:lnTo>
                      <a:pt x="1268" y="23"/>
                    </a:lnTo>
                    <a:lnTo>
                      <a:pt x="1350" y="10"/>
                    </a:lnTo>
                    <a:lnTo>
                      <a:pt x="1434" y="0"/>
                    </a:lnTo>
                    <a:lnTo>
                      <a:pt x="1487" y="0"/>
                    </a:lnTo>
                    <a:lnTo>
                      <a:pt x="1541" y="0"/>
                    </a:lnTo>
                    <a:lnTo>
                      <a:pt x="1594" y="0"/>
                    </a:lnTo>
                    <a:lnTo>
                      <a:pt x="1646" y="0"/>
                    </a:lnTo>
                    <a:lnTo>
                      <a:pt x="1701" y="0"/>
                    </a:lnTo>
                    <a:lnTo>
                      <a:pt x="1754" y="0"/>
                    </a:lnTo>
                    <a:lnTo>
                      <a:pt x="1806" y="0"/>
                    </a:lnTo>
                    <a:lnTo>
                      <a:pt x="1859" y="0"/>
                    </a:lnTo>
                    <a:lnTo>
                      <a:pt x="1913" y="0"/>
                    </a:lnTo>
                    <a:lnTo>
                      <a:pt x="1966" y="0"/>
                    </a:lnTo>
                    <a:lnTo>
                      <a:pt x="2019" y="0"/>
                    </a:lnTo>
                    <a:lnTo>
                      <a:pt x="2071" y="0"/>
                    </a:lnTo>
                    <a:lnTo>
                      <a:pt x="2124" y="2"/>
                    </a:lnTo>
                    <a:lnTo>
                      <a:pt x="2178" y="2"/>
                    </a:lnTo>
                    <a:lnTo>
                      <a:pt x="2231" y="2"/>
                    </a:lnTo>
                    <a:lnTo>
                      <a:pt x="2284" y="2"/>
                    </a:lnTo>
                    <a:lnTo>
                      <a:pt x="2188" y="21"/>
                    </a:lnTo>
                    <a:lnTo>
                      <a:pt x="2095" y="41"/>
                    </a:lnTo>
                    <a:lnTo>
                      <a:pt x="2003" y="60"/>
                    </a:lnTo>
                    <a:lnTo>
                      <a:pt x="1915" y="82"/>
                    </a:lnTo>
                    <a:lnTo>
                      <a:pt x="1830" y="101"/>
                    </a:lnTo>
                    <a:lnTo>
                      <a:pt x="1746" y="123"/>
                    </a:lnTo>
                    <a:lnTo>
                      <a:pt x="1664" y="146"/>
                    </a:lnTo>
                    <a:lnTo>
                      <a:pt x="1584" y="169"/>
                    </a:lnTo>
                    <a:lnTo>
                      <a:pt x="1508" y="193"/>
                    </a:lnTo>
                    <a:lnTo>
                      <a:pt x="1434" y="220"/>
                    </a:lnTo>
                    <a:lnTo>
                      <a:pt x="1362" y="245"/>
                    </a:lnTo>
                    <a:lnTo>
                      <a:pt x="1292" y="275"/>
                    </a:lnTo>
                    <a:lnTo>
                      <a:pt x="1224" y="306"/>
                    </a:lnTo>
                    <a:lnTo>
                      <a:pt x="1157" y="339"/>
                    </a:lnTo>
                    <a:lnTo>
                      <a:pt x="1093" y="374"/>
                    </a:lnTo>
                    <a:lnTo>
                      <a:pt x="1033" y="409"/>
                    </a:lnTo>
                    <a:lnTo>
                      <a:pt x="972" y="450"/>
                    </a:lnTo>
                    <a:lnTo>
                      <a:pt x="916" y="491"/>
                    </a:lnTo>
                    <a:lnTo>
                      <a:pt x="859" y="536"/>
                    </a:lnTo>
                    <a:lnTo>
                      <a:pt x="805" y="585"/>
                    </a:lnTo>
                    <a:lnTo>
                      <a:pt x="754" y="635"/>
                    </a:lnTo>
                    <a:lnTo>
                      <a:pt x="703" y="690"/>
                    </a:lnTo>
                    <a:lnTo>
                      <a:pt x="655" y="746"/>
                    </a:lnTo>
                    <a:lnTo>
                      <a:pt x="610" y="807"/>
                    </a:lnTo>
                    <a:lnTo>
                      <a:pt x="565" y="873"/>
                    </a:lnTo>
                    <a:lnTo>
                      <a:pt x="522" y="941"/>
                    </a:lnTo>
                    <a:lnTo>
                      <a:pt x="479" y="1013"/>
                    </a:lnTo>
                    <a:lnTo>
                      <a:pt x="440" y="1091"/>
                    </a:lnTo>
                    <a:lnTo>
                      <a:pt x="403" y="1171"/>
                    </a:lnTo>
                    <a:lnTo>
                      <a:pt x="366" y="1259"/>
                    </a:lnTo>
                    <a:lnTo>
                      <a:pt x="331" y="1349"/>
                    </a:lnTo>
                    <a:lnTo>
                      <a:pt x="298" y="1444"/>
                    </a:lnTo>
                    <a:lnTo>
                      <a:pt x="261" y="1440"/>
                    </a:lnTo>
                    <a:lnTo>
                      <a:pt x="224" y="1434"/>
                    </a:lnTo>
                    <a:lnTo>
                      <a:pt x="187" y="1431"/>
                    </a:lnTo>
                    <a:lnTo>
                      <a:pt x="150" y="1425"/>
                    </a:lnTo>
                    <a:lnTo>
                      <a:pt x="111" y="1421"/>
                    </a:lnTo>
                    <a:lnTo>
                      <a:pt x="74" y="1417"/>
                    </a:lnTo>
                    <a:lnTo>
                      <a:pt x="37" y="1411"/>
                    </a:lnTo>
                    <a:lnTo>
                      <a:pt x="0" y="1407"/>
                    </a:lnTo>
                    <a:close/>
                  </a:path>
                </a:pathLst>
              </a:custGeom>
              <a:solidFill>
                <a:srgbClr val="7577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837360" y="2368800"/>
                <a:ext cx="2362680" cy="1599120"/>
              </a:xfrm>
              <a:custGeom>
                <a:avLst/>
                <a:gdLst/>
                <a:ahLst/>
                <a:rect l="l" t="t" r="r" b="b"/>
                <a:pathLst>
                  <a:path w="2261" h="1429">
                    <a:moveTo>
                      <a:pt x="0" y="1394"/>
                    </a:moveTo>
                    <a:lnTo>
                      <a:pt x="16" y="1327"/>
                    </a:lnTo>
                    <a:lnTo>
                      <a:pt x="33" y="1261"/>
                    </a:lnTo>
                    <a:lnTo>
                      <a:pt x="53" y="1197"/>
                    </a:lnTo>
                    <a:lnTo>
                      <a:pt x="72" y="1132"/>
                    </a:lnTo>
                    <a:lnTo>
                      <a:pt x="94" y="1070"/>
                    </a:lnTo>
                    <a:lnTo>
                      <a:pt x="117" y="1008"/>
                    </a:lnTo>
                    <a:lnTo>
                      <a:pt x="142" y="947"/>
                    </a:lnTo>
                    <a:lnTo>
                      <a:pt x="170" y="887"/>
                    </a:lnTo>
                    <a:lnTo>
                      <a:pt x="197" y="828"/>
                    </a:lnTo>
                    <a:lnTo>
                      <a:pt x="228" y="772"/>
                    </a:lnTo>
                    <a:lnTo>
                      <a:pt x="259" y="717"/>
                    </a:lnTo>
                    <a:lnTo>
                      <a:pt x="294" y="663"/>
                    </a:lnTo>
                    <a:lnTo>
                      <a:pt x="330" y="610"/>
                    </a:lnTo>
                    <a:lnTo>
                      <a:pt x="368" y="559"/>
                    </a:lnTo>
                    <a:lnTo>
                      <a:pt x="407" y="511"/>
                    </a:lnTo>
                    <a:lnTo>
                      <a:pt x="450" y="462"/>
                    </a:lnTo>
                    <a:lnTo>
                      <a:pt x="495" y="417"/>
                    </a:lnTo>
                    <a:lnTo>
                      <a:pt x="542" y="374"/>
                    </a:lnTo>
                    <a:lnTo>
                      <a:pt x="591" y="331"/>
                    </a:lnTo>
                    <a:lnTo>
                      <a:pt x="641" y="292"/>
                    </a:lnTo>
                    <a:lnTo>
                      <a:pt x="694" y="255"/>
                    </a:lnTo>
                    <a:lnTo>
                      <a:pt x="750" y="218"/>
                    </a:lnTo>
                    <a:lnTo>
                      <a:pt x="809" y="185"/>
                    </a:lnTo>
                    <a:lnTo>
                      <a:pt x="871" y="156"/>
                    </a:lnTo>
                    <a:lnTo>
                      <a:pt x="936" y="127"/>
                    </a:lnTo>
                    <a:lnTo>
                      <a:pt x="1002" y="101"/>
                    </a:lnTo>
                    <a:lnTo>
                      <a:pt x="1070" y="78"/>
                    </a:lnTo>
                    <a:lnTo>
                      <a:pt x="1142" y="56"/>
                    </a:lnTo>
                    <a:lnTo>
                      <a:pt x="1218" y="39"/>
                    </a:lnTo>
                    <a:lnTo>
                      <a:pt x="1296" y="23"/>
                    </a:lnTo>
                    <a:lnTo>
                      <a:pt x="1376" y="10"/>
                    </a:lnTo>
                    <a:lnTo>
                      <a:pt x="1460" y="0"/>
                    </a:lnTo>
                    <a:lnTo>
                      <a:pt x="1510" y="0"/>
                    </a:lnTo>
                    <a:lnTo>
                      <a:pt x="1559" y="0"/>
                    </a:lnTo>
                    <a:lnTo>
                      <a:pt x="1610" y="0"/>
                    </a:lnTo>
                    <a:lnTo>
                      <a:pt x="1660" y="0"/>
                    </a:lnTo>
                    <a:lnTo>
                      <a:pt x="1709" y="0"/>
                    </a:lnTo>
                    <a:lnTo>
                      <a:pt x="1760" y="0"/>
                    </a:lnTo>
                    <a:lnTo>
                      <a:pt x="1811" y="0"/>
                    </a:lnTo>
                    <a:lnTo>
                      <a:pt x="1861" y="0"/>
                    </a:lnTo>
                    <a:lnTo>
                      <a:pt x="1910" y="0"/>
                    </a:lnTo>
                    <a:lnTo>
                      <a:pt x="1961" y="0"/>
                    </a:lnTo>
                    <a:lnTo>
                      <a:pt x="2011" y="0"/>
                    </a:lnTo>
                    <a:lnTo>
                      <a:pt x="2060" y="0"/>
                    </a:lnTo>
                    <a:lnTo>
                      <a:pt x="2111" y="2"/>
                    </a:lnTo>
                    <a:lnTo>
                      <a:pt x="2161" y="2"/>
                    </a:lnTo>
                    <a:lnTo>
                      <a:pt x="2210" y="2"/>
                    </a:lnTo>
                    <a:lnTo>
                      <a:pt x="2261" y="2"/>
                    </a:lnTo>
                    <a:lnTo>
                      <a:pt x="2165" y="21"/>
                    </a:lnTo>
                    <a:lnTo>
                      <a:pt x="2072" y="41"/>
                    </a:lnTo>
                    <a:lnTo>
                      <a:pt x="1980" y="60"/>
                    </a:lnTo>
                    <a:lnTo>
                      <a:pt x="1892" y="82"/>
                    </a:lnTo>
                    <a:lnTo>
                      <a:pt x="1807" y="101"/>
                    </a:lnTo>
                    <a:lnTo>
                      <a:pt x="1723" y="123"/>
                    </a:lnTo>
                    <a:lnTo>
                      <a:pt x="1641" y="144"/>
                    </a:lnTo>
                    <a:lnTo>
                      <a:pt x="1563" y="167"/>
                    </a:lnTo>
                    <a:lnTo>
                      <a:pt x="1485" y="191"/>
                    </a:lnTo>
                    <a:lnTo>
                      <a:pt x="1411" y="216"/>
                    </a:lnTo>
                    <a:lnTo>
                      <a:pt x="1339" y="244"/>
                    </a:lnTo>
                    <a:lnTo>
                      <a:pt x="1269" y="271"/>
                    </a:lnTo>
                    <a:lnTo>
                      <a:pt x="1203" y="300"/>
                    </a:lnTo>
                    <a:lnTo>
                      <a:pt x="1136" y="333"/>
                    </a:lnTo>
                    <a:lnTo>
                      <a:pt x="1072" y="366"/>
                    </a:lnTo>
                    <a:lnTo>
                      <a:pt x="1012" y="403"/>
                    </a:lnTo>
                    <a:lnTo>
                      <a:pt x="951" y="442"/>
                    </a:lnTo>
                    <a:lnTo>
                      <a:pt x="895" y="483"/>
                    </a:lnTo>
                    <a:lnTo>
                      <a:pt x="838" y="528"/>
                    </a:lnTo>
                    <a:lnTo>
                      <a:pt x="786" y="575"/>
                    </a:lnTo>
                    <a:lnTo>
                      <a:pt x="733" y="624"/>
                    </a:lnTo>
                    <a:lnTo>
                      <a:pt x="684" y="678"/>
                    </a:lnTo>
                    <a:lnTo>
                      <a:pt x="635" y="735"/>
                    </a:lnTo>
                    <a:lnTo>
                      <a:pt x="591" y="795"/>
                    </a:lnTo>
                    <a:lnTo>
                      <a:pt x="546" y="859"/>
                    </a:lnTo>
                    <a:lnTo>
                      <a:pt x="503" y="928"/>
                    </a:lnTo>
                    <a:lnTo>
                      <a:pt x="462" y="1000"/>
                    </a:lnTo>
                    <a:lnTo>
                      <a:pt x="423" y="1076"/>
                    </a:lnTo>
                    <a:lnTo>
                      <a:pt x="384" y="1158"/>
                    </a:lnTo>
                    <a:lnTo>
                      <a:pt x="349" y="1243"/>
                    </a:lnTo>
                    <a:lnTo>
                      <a:pt x="314" y="1333"/>
                    </a:lnTo>
                    <a:lnTo>
                      <a:pt x="281" y="1429"/>
                    </a:lnTo>
                    <a:lnTo>
                      <a:pt x="246" y="1425"/>
                    </a:lnTo>
                    <a:lnTo>
                      <a:pt x="211" y="1421"/>
                    </a:lnTo>
                    <a:lnTo>
                      <a:pt x="176" y="1417"/>
                    </a:lnTo>
                    <a:lnTo>
                      <a:pt x="140" y="1413"/>
                    </a:lnTo>
                    <a:lnTo>
                      <a:pt x="105" y="1407"/>
                    </a:lnTo>
                    <a:lnTo>
                      <a:pt x="70" y="1403"/>
                    </a:lnTo>
                    <a:lnTo>
                      <a:pt x="35" y="1399"/>
                    </a:lnTo>
                    <a:lnTo>
                      <a:pt x="0" y="1394"/>
                    </a:lnTo>
                    <a:close/>
                  </a:path>
                </a:pathLst>
              </a:custGeom>
              <a:solidFill>
                <a:srgbClr val="847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837360" y="2368800"/>
                <a:ext cx="2337480" cy="1587960"/>
              </a:xfrm>
              <a:custGeom>
                <a:avLst/>
                <a:gdLst/>
                <a:ahLst/>
                <a:rect l="l" t="t" r="r" b="b"/>
                <a:pathLst>
                  <a:path w="2235" h="1419">
                    <a:moveTo>
                      <a:pt x="0" y="1380"/>
                    </a:moveTo>
                    <a:lnTo>
                      <a:pt x="15" y="1314"/>
                    </a:lnTo>
                    <a:lnTo>
                      <a:pt x="33" y="1247"/>
                    </a:lnTo>
                    <a:lnTo>
                      <a:pt x="52" y="1183"/>
                    </a:lnTo>
                    <a:lnTo>
                      <a:pt x="74" y="1119"/>
                    </a:lnTo>
                    <a:lnTo>
                      <a:pt x="95" y="1056"/>
                    </a:lnTo>
                    <a:lnTo>
                      <a:pt x="120" y="996"/>
                    </a:lnTo>
                    <a:lnTo>
                      <a:pt x="146" y="935"/>
                    </a:lnTo>
                    <a:lnTo>
                      <a:pt x="173" y="875"/>
                    </a:lnTo>
                    <a:lnTo>
                      <a:pt x="202" y="819"/>
                    </a:lnTo>
                    <a:lnTo>
                      <a:pt x="233" y="762"/>
                    </a:lnTo>
                    <a:lnTo>
                      <a:pt x="268" y="705"/>
                    </a:lnTo>
                    <a:lnTo>
                      <a:pt x="304" y="653"/>
                    </a:lnTo>
                    <a:lnTo>
                      <a:pt x="341" y="600"/>
                    </a:lnTo>
                    <a:lnTo>
                      <a:pt x="380" y="551"/>
                    </a:lnTo>
                    <a:lnTo>
                      <a:pt x="420" y="503"/>
                    </a:lnTo>
                    <a:lnTo>
                      <a:pt x="463" y="456"/>
                    </a:lnTo>
                    <a:lnTo>
                      <a:pt x="510" y="411"/>
                    </a:lnTo>
                    <a:lnTo>
                      <a:pt x="557" y="366"/>
                    </a:lnTo>
                    <a:lnTo>
                      <a:pt x="608" y="325"/>
                    </a:lnTo>
                    <a:lnTo>
                      <a:pt x="660" y="286"/>
                    </a:lnTo>
                    <a:lnTo>
                      <a:pt x="715" y="249"/>
                    </a:lnTo>
                    <a:lnTo>
                      <a:pt x="771" y="214"/>
                    </a:lnTo>
                    <a:lnTo>
                      <a:pt x="830" y="183"/>
                    </a:lnTo>
                    <a:lnTo>
                      <a:pt x="892" y="152"/>
                    </a:lnTo>
                    <a:lnTo>
                      <a:pt x="956" y="125"/>
                    </a:lnTo>
                    <a:lnTo>
                      <a:pt x="1025" y="99"/>
                    </a:lnTo>
                    <a:lnTo>
                      <a:pt x="1093" y="76"/>
                    </a:lnTo>
                    <a:lnTo>
                      <a:pt x="1165" y="54"/>
                    </a:lnTo>
                    <a:lnTo>
                      <a:pt x="1241" y="37"/>
                    </a:lnTo>
                    <a:lnTo>
                      <a:pt x="1317" y="21"/>
                    </a:lnTo>
                    <a:lnTo>
                      <a:pt x="1397" y="10"/>
                    </a:lnTo>
                    <a:lnTo>
                      <a:pt x="1481" y="0"/>
                    </a:lnTo>
                    <a:lnTo>
                      <a:pt x="1527" y="0"/>
                    </a:lnTo>
                    <a:lnTo>
                      <a:pt x="1574" y="0"/>
                    </a:lnTo>
                    <a:lnTo>
                      <a:pt x="1623" y="0"/>
                    </a:lnTo>
                    <a:lnTo>
                      <a:pt x="1670" y="0"/>
                    </a:lnTo>
                    <a:lnTo>
                      <a:pt x="1716" y="0"/>
                    </a:lnTo>
                    <a:lnTo>
                      <a:pt x="1763" y="0"/>
                    </a:lnTo>
                    <a:lnTo>
                      <a:pt x="1810" y="0"/>
                    </a:lnTo>
                    <a:lnTo>
                      <a:pt x="1859" y="0"/>
                    </a:lnTo>
                    <a:lnTo>
                      <a:pt x="1905" y="0"/>
                    </a:lnTo>
                    <a:lnTo>
                      <a:pt x="1952" y="0"/>
                    </a:lnTo>
                    <a:lnTo>
                      <a:pt x="1999" y="0"/>
                    </a:lnTo>
                    <a:lnTo>
                      <a:pt x="2046" y="0"/>
                    </a:lnTo>
                    <a:lnTo>
                      <a:pt x="2092" y="2"/>
                    </a:lnTo>
                    <a:lnTo>
                      <a:pt x="2141" y="2"/>
                    </a:lnTo>
                    <a:lnTo>
                      <a:pt x="2188" y="2"/>
                    </a:lnTo>
                    <a:lnTo>
                      <a:pt x="2235" y="2"/>
                    </a:lnTo>
                    <a:lnTo>
                      <a:pt x="2139" y="21"/>
                    </a:lnTo>
                    <a:lnTo>
                      <a:pt x="2046" y="41"/>
                    </a:lnTo>
                    <a:lnTo>
                      <a:pt x="1954" y="60"/>
                    </a:lnTo>
                    <a:lnTo>
                      <a:pt x="1866" y="80"/>
                    </a:lnTo>
                    <a:lnTo>
                      <a:pt x="1781" y="101"/>
                    </a:lnTo>
                    <a:lnTo>
                      <a:pt x="1697" y="121"/>
                    </a:lnTo>
                    <a:lnTo>
                      <a:pt x="1615" y="142"/>
                    </a:lnTo>
                    <a:lnTo>
                      <a:pt x="1537" y="166"/>
                    </a:lnTo>
                    <a:lnTo>
                      <a:pt x="1461" y="189"/>
                    </a:lnTo>
                    <a:lnTo>
                      <a:pt x="1387" y="212"/>
                    </a:lnTo>
                    <a:lnTo>
                      <a:pt x="1315" y="240"/>
                    </a:lnTo>
                    <a:lnTo>
                      <a:pt x="1245" y="267"/>
                    </a:lnTo>
                    <a:lnTo>
                      <a:pt x="1177" y="296"/>
                    </a:lnTo>
                    <a:lnTo>
                      <a:pt x="1112" y="327"/>
                    </a:lnTo>
                    <a:lnTo>
                      <a:pt x="1048" y="360"/>
                    </a:lnTo>
                    <a:lnTo>
                      <a:pt x="988" y="397"/>
                    </a:lnTo>
                    <a:lnTo>
                      <a:pt x="927" y="435"/>
                    </a:lnTo>
                    <a:lnTo>
                      <a:pt x="871" y="475"/>
                    </a:lnTo>
                    <a:lnTo>
                      <a:pt x="816" y="520"/>
                    </a:lnTo>
                    <a:lnTo>
                      <a:pt x="761" y="565"/>
                    </a:lnTo>
                    <a:lnTo>
                      <a:pt x="711" y="616"/>
                    </a:lnTo>
                    <a:lnTo>
                      <a:pt x="660" y="668"/>
                    </a:lnTo>
                    <a:lnTo>
                      <a:pt x="613" y="725"/>
                    </a:lnTo>
                    <a:lnTo>
                      <a:pt x="567" y="785"/>
                    </a:lnTo>
                    <a:lnTo>
                      <a:pt x="524" y="850"/>
                    </a:lnTo>
                    <a:lnTo>
                      <a:pt x="481" y="918"/>
                    </a:lnTo>
                    <a:lnTo>
                      <a:pt x="440" y="990"/>
                    </a:lnTo>
                    <a:lnTo>
                      <a:pt x="401" y="1066"/>
                    </a:lnTo>
                    <a:lnTo>
                      <a:pt x="362" y="1148"/>
                    </a:lnTo>
                    <a:lnTo>
                      <a:pt x="327" y="1234"/>
                    </a:lnTo>
                    <a:lnTo>
                      <a:pt x="292" y="1323"/>
                    </a:lnTo>
                    <a:lnTo>
                      <a:pt x="259" y="1419"/>
                    </a:lnTo>
                    <a:lnTo>
                      <a:pt x="226" y="1413"/>
                    </a:lnTo>
                    <a:lnTo>
                      <a:pt x="192" y="1409"/>
                    </a:lnTo>
                    <a:lnTo>
                      <a:pt x="161" y="1403"/>
                    </a:lnTo>
                    <a:lnTo>
                      <a:pt x="128" y="1399"/>
                    </a:lnTo>
                    <a:lnTo>
                      <a:pt x="97" y="1395"/>
                    </a:lnTo>
                    <a:lnTo>
                      <a:pt x="64" y="1390"/>
                    </a:lnTo>
                    <a:lnTo>
                      <a:pt x="33" y="1386"/>
                    </a:lnTo>
                    <a:lnTo>
                      <a:pt x="0" y="1380"/>
                    </a:lnTo>
                    <a:close/>
                  </a:path>
                </a:pathLst>
              </a:custGeom>
              <a:solidFill>
                <a:srgbClr val="9368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837720" y="2368800"/>
                <a:ext cx="2310480" cy="1574280"/>
              </a:xfrm>
              <a:custGeom>
                <a:avLst/>
                <a:gdLst/>
                <a:ahLst/>
                <a:rect l="l" t="t" r="r" b="b"/>
                <a:pathLst>
                  <a:path w="2210" h="1405">
                    <a:moveTo>
                      <a:pt x="0" y="1368"/>
                    </a:moveTo>
                    <a:lnTo>
                      <a:pt x="15" y="1302"/>
                    </a:lnTo>
                    <a:lnTo>
                      <a:pt x="33" y="1236"/>
                    </a:lnTo>
                    <a:lnTo>
                      <a:pt x="52" y="1171"/>
                    </a:lnTo>
                    <a:lnTo>
                      <a:pt x="74" y="1107"/>
                    </a:lnTo>
                    <a:lnTo>
                      <a:pt x="97" y="1045"/>
                    </a:lnTo>
                    <a:lnTo>
                      <a:pt x="123" y="984"/>
                    </a:lnTo>
                    <a:lnTo>
                      <a:pt x="148" y="924"/>
                    </a:lnTo>
                    <a:lnTo>
                      <a:pt x="177" y="865"/>
                    </a:lnTo>
                    <a:lnTo>
                      <a:pt x="208" y="807"/>
                    </a:lnTo>
                    <a:lnTo>
                      <a:pt x="240" y="752"/>
                    </a:lnTo>
                    <a:lnTo>
                      <a:pt x="275" y="698"/>
                    </a:lnTo>
                    <a:lnTo>
                      <a:pt x="312" y="643"/>
                    </a:lnTo>
                    <a:lnTo>
                      <a:pt x="349" y="592"/>
                    </a:lnTo>
                    <a:lnTo>
                      <a:pt x="390" y="544"/>
                    </a:lnTo>
                    <a:lnTo>
                      <a:pt x="432" y="495"/>
                    </a:lnTo>
                    <a:lnTo>
                      <a:pt x="477" y="448"/>
                    </a:lnTo>
                    <a:lnTo>
                      <a:pt x="524" y="403"/>
                    </a:lnTo>
                    <a:lnTo>
                      <a:pt x="573" y="362"/>
                    </a:lnTo>
                    <a:lnTo>
                      <a:pt x="623" y="321"/>
                    </a:lnTo>
                    <a:lnTo>
                      <a:pt x="678" y="282"/>
                    </a:lnTo>
                    <a:lnTo>
                      <a:pt x="733" y="245"/>
                    </a:lnTo>
                    <a:lnTo>
                      <a:pt x="791" y="212"/>
                    </a:lnTo>
                    <a:lnTo>
                      <a:pt x="851" y="179"/>
                    </a:lnTo>
                    <a:lnTo>
                      <a:pt x="914" y="150"/>
                    </a:lnTo>
                    <a:lnTo>
                      <a:pt x="978" y="123"/>
                    </a:lnTo>
                    <a:lnTo>
                      <a:pt x="1046" y="97"/>
                    </a:lnTo>
                    <a:lnTo>
                      <a:pt x="1116" y="74"/>
                    </a:lnTo>
                    <a:lnTo>
                      <a:pt x="1189" y="54"/>
                    </a:lnTo>
                    <a:lnTo>
                      <a:pt x="1263" y="37"/>
                    </a:lnTo>
                    <a:lnTo>
                      <a:pt x="1341" y="21"/>
                    </a:lnTo>
                    <a:lnTo>
                      <a:pt x="1420" y="10"/>
                    </a:lnTo>
                    <a:lnTo>
                      <a:pt x="1502" y="0"/>
                    </a:lnTo>
                    <a:lnTo>
                      <a:pt x="1547" y="0"/>
                    </a:lnTo>
                    <a:lnTo>
                      <a:pt x="1590" y="0"/>
                    </a:lnTo>
                    <a:lnTo>
                      <a:pt x="1635" y="0"/>
                    </a:lnTo>
                    <a:lnTo>
                      <a:pt x="1680" y="0"/>
                    </a:lnTo>
                    <a:lnTo>
                      <a:pt x="1723" y="0"/>
                    </a:lnTo>
                    <a:lnTo>
                      <a:pt x="1767" y="0"/>
                    </a:lnTo>
                    <a:lnTo>
                      <a:pt x="1812" y="0"/>
                    </a:lnTo>
                    <a:lnTo>
                      <a:pt x="1857" y="0"/>
                    </a:lnTo>
                    <a:lnTo>
                      <a:pt x="1900" y="0"/>
                    </a:lnTo>
                    <a:lnTo>
                      <a:pt x="1945" y="0"/>
                    </a:lnTo>
                    <a:lnTo>
                      <a:pt x="1989" y="0"/>
                    </a:lnTo>
                    <a:lnTo>
                      <a:pt x="2032" y="0"/>
                    </a:lnTo>
                    <a:lnTo>
                      <a:pt x="2077" y="2"/>
                    </a:lnTo>
                    <a:lnTo>
                      <a:pt x="2122" y="2"/>
                    </a:lnTo>
                    <a:lnTo>
                      <a:pt x="2165" y="2"/>
                    </a:lnTo>
                    <a:lnTo>
                      <a:pt x="2210" y="2"/>
                    </a:lnTo>
                    <a:lnTo>
                      <a:pt x="2114" y="21"/>
                    </a:lnTo>
                    <a:lnTo>
                      <a:pt x="2021" y="41"/>
                    </a:lnTo>
                    <a:lnTo>
                      <a:pt x="1929" y="60"/>
                    </a:lnTo>
                    <a:lnTo>
                      <a:pt x="1841" y="80"/>
                    </a:lnTo>
                    <a:lnTo>
                      <a:pt x="1756" y="99"/>
                    </a:lnTo>
                    <a:lnTo>
                      <a:pt x="1672" y="121"/>
                    </a:lnTo>
                    <a:lnTo>
                      <a:pt x="1592" y="140"/>
                    </a:lnTo>
                    <a:lnTo>
                      <a:pt x="1512" y="164"/>
                    </a:lnTo>
                    <a:lnTo>
                      <a:pt x="1436" y="185"/>
                    </a:lnTo>
                    <a:lnTo>
                      <a:pt x="1362" y="210"/>
                    </a:lnTo>
                    <a:lnTo>
                      <a:pt x="1290" y="236"/>
                    </a:lnTo>
                    <a:lnTo>
                      <a:pt x="1222" y="263"/>
                    </a:lnTo>
                    <a:lnTo>
                      <a:pt x="1153" y="292"/>
                    </a:lnTo>
                    <a:lnTo>
                      <a:pt x="1089" y="323"/>
                    </a:lnTo>
                    <a:lnTo>
                      <a:pt x="1025" y="355"/>
                    </a:lnTo>
                    <a:lnTo>
                      <a:pt x="964" y="390"/>
                    </a:lnTo>
                    <a:lnTo>
                      <a:pt x="906" y="429"/>
                    </a:lnTo>
                    <a:lnTo>
                      <a:pt x="848" y="468"/>
                    </a:lnTo>
                    <a:lnTo>
                      <a:pt x="793" y="512"/>
                    </a:lnTo>
                    <a:lnTo>
                      <a:pt x="740" y="557"/>
                    </a:lnTo>
                    <a:lnTo>
                      <a:pt x="690" y="606"/>
                    </a:lnTo>
                    <a:lnTo>
                      <a:pt x="639" y="659"/>
                    </a:lnTo>
                    <a:lnTo>
                      <a:pt x="592" y="715"/>
                    </a:lnTo>
                    <a:lnTo>
                      <a:pt x="545" y="776"/>
                    </a:lnTo>
                    <a:lnTo>
                      <a:pt x="503" y="838"/>
                    </a:lnTo>
                    <a:lnTo>
                      <a:pt x="460" y="906"/>
                    </a:lnTo>
                    <a:lnTo>
                      <a:pt x="419" y="978"/>
                    </a:lnTo>
                    <a:lnTo>
                      <a:pt x="380" y="1054"/>
                    </a:lnTo>
                    <a:lnTo>
                      <a:pt x="343" y="1134"/>
                    </a:lnTo>
                    <a:lnTo>
                      <a:pt x="308" y="1220"/>
                    </a:lnTo>
                    <a:lnTo>
                      <a:pt x="273" y="1310"/>
                    </a:lnTo>
                    <a:lnTo>
                      <a:pt x="240" y="1405"/>
                    </a:lnTo>
                    <a:lnTo>
                      <a:pt x="208" y="1401"/>
                    </a:lnTo>
                    <a:lnTo>
                      <a:pt x="179" y="1395"/>
                    </a:lnTo>
                    <a:lnTo>
                      <a:pt x="148" y="1392"/>
                    </a:lnTo>
                    <a:lnTo>
                      <a:pt x="119" y="1386"/>
                    </a:lnTo>
                    <a:lnTo>
                      <a:pt x="88" y="1382"/>
                    </a:lnTo>
                    <a:lnTo>
                      <a:pt x="58" y="1378"/>
                    </a:lnTo>
                    <a:lnTo>
                      <a:pt x="29" y="1372"/>
                    </a:lnTo>
                    <a:lnTo>
                      <a:pt x="0" y="1368"/>
                    </a:lnTo>
                    <a:close/>
                  </a:path>
                </a:pathLst>
              </a:custGeom>
              <a:solidFill>
                <a:srgbClr val="a363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837000" y="2368800"/>
                <a:ext cx="2285640" cy="1558440"/>
              </a:xfrm>
              <a:custGeom>
                <a:avLst/>
                <a:gdLst/>
                <a:ahLst/>
                <a:rect l="l" t="t" r="r" b="b"/>
                <a:pathLst>
                  <a:path w="2187" h="1392">
                    <a:moveTo>
                      <a:pt x="0" y="1355"/>
                    </a:moveTo>
                    <a:lnTo>
                      <a:pt x="16" y="1288"/>
                    </a:lnTo>
                    <a:lnTo>
                      <a:pt x="35" y="1222"/>
                    </a:lnTo>
                    <a:lnTo>
                      <a:pt x="55" y="1158"/>
                    </a:lnTo>
                    <a:lnTo>
                      <a:pt x="76" y="1095"/>
                    </a:lnTo>
                    <a:lnTo>
                      <a:pt x="100" y="1033"/>
                    </a:lnTo>
                    <a:lnTo>
                      <a:pt x="127" y="971"/>
                    </a:lnTo>
                    <a:lnTo>
                      <a:pt x="154" y="912"/>
                    </a:lnTo>
                    <a:lnTo>
                      <a:pt x="183" y="854"/>
                    </a:lnTo>
                    <a:lnTo>
                      <a:pt x="215" y="797"/>
                    </a:lnTo>
                    <a:lnTo>
                      <a:pt x="250" y="741"/>
                    </a:lnTo>
                    <a:lnTo>
                      <a:pt x="285" y="686"/>
                    </a:lnTo>
                    <a:lnTo>
                      <a:pt x="322" y="633"/>
                    </a:lnTo>
                    <a:lnTo>
                      <a:pt x="363" y="583"/>
                    </a:lnTo>
                    <a:lnTo>
                      <a:pt x="404" y="534"/>
                    </a:lnTo>
                    <a:lnTo>
                      <a:pt x="448" y="487"/>
                    </a:lnTo>
                    <a:lnTo>
                      <a:pt x="493" y="440"/>
                    </a:lnTo>
                    <a:lnTo>
                      <a:pt x="542" y="397"/>
                    </a:lnTo>
                    <a:lnTo>
                      <a:pt x="593" y="355"/>
                    </a:lnTo>
                    <a:lnTo>
                      <a:pt x="643" y="316"/>
                    </a:lnTo>
                    <a:lnTo>
                      <a:pt x="698" y="277"/>
                    </a:lnTo>
                    <a:lnTo>
                      <a:pt x="754" y="242"/>
                    </a:lnTo>
                    <a:lnTo>
                      <a:pt x="815" y="208"/>
                    </a:lnTo>
                    <a:lnTo>
                      <a:pt x="875" y="177"/>
                    </a:lnTo>
                    <a:lnTo>
                      <a:pt x="938" y="148"/>
                    </a:lnTo>
                    <a:lnTo>
                      <a:pt x="1004" y="121"/>
                    </a:lnTo>
                    <a:lnTo>
                      <a:pt x="1072" y="95"/>
                    </a:lnTo>
                    <a:lnTo>
                      <a:pt x="1142" y="74"/>
                    </a:lnTo>
                    <a:lnTo>
                      <a:pt x="1214" y="52"/>
                    </a:lnTo>
                    <a:lnTo>
                      <a:pt x="1288" y="37"/>
                    </a:lnTo>
                    <a:lnTo>
                      <a:pt x="1364" y="21"/>
                    </a:lnTo>
                    <a:lnTo>
                      <a:pt x="1444" y="10"/>
                    </a:lnTo>
                    <a:lnTo>
                      <a:pt x="1526" y="0"/>
                    </a:lnTo>
                    <a:lnTo>
                      <a:pt x="1567" y="0"/>
                    </a:lnTo>
                    <a:lnTo>
                      <a:pt x="1608" y="0"/>
                    </a:lnTo>
                    <a:lnTo>
                      <a:pt x="1651" y="0"/>
                    </a:lnTo>
                    <a:lnTo>
                      <a:pt x="1692" y="0"/>
                    </a:lnTo>
                    <a:lnTo>
                      <a:pt x="1733" y="0"/>
                    </a:lnTo>
                    <a:lnTo>
                      <a:pt x="1774" y="0"/>
                    </a:lnTo>
                    <a:lnTo>
                      <a:pt x="1814" y="0"/>
                    </a:lnTo>
                    <a:lnTo>
                      <a:pt x="1857" y="0"/>
                    </a:lnTo>
                    <a:lnTo>
                      <a:pt x="1898" y="0"/>
                    </a:lnTo>
                    <a:lnTo>
                      <a:pt x="1939" y="0"/>
                    </a:lnTo>
                    <a:lnTo>
                      <a:pt x="1980" y="0"/>
                    </a:lnTo>
                    <a:lnTo>
                      <a:pt x="2021" y="0"/>
                    </a:lnTo>
                    <a:lnTo>
                      <a:pt x="2062" y="2"/>
                    </a:lnTo>
                    <a:lnTo>
                      <a:pt x="2105" y="2"/>
                    </a:lnTo>
                    <a:lnTo>
                      <a:pt x="2146" y="2"/>
                    </a:lnTo>
                    <a:lnTo>
                      <a:pt x="2187" y="2"/>
                    </a:lnTo>
                    <a:lnTo>
                      <a:pt x="2091" y="21"/>
                    </a:lnTo>
                    <a:lnTo>
                      <a:pt x="1998" y="41"/>
                    </a:lnTo>
                    <a:lnTo>
                      <a:pt x="1906" y="60"/>
                    </a:lnTo>
                    <a:lnTo>
                      <a:pt x="1818" y="80"/>
                    </a:lnTo>
                    <a:lnTo>
                      <a:pt x="1733" y="99"/>
                    </a:lnTo>
                    <a:lnTo>
                      <a:pt x="1649" y="119"/>
                    </a:lnTo>
                    <a:lnTo>
                      <a:pt x="1569" y="140"/>
                    </a:lnTo>
                    <a:lnTo>
                      <a:pt x="1491" y="162"/>
                    </a:lnTo>
                    <a:lnTo>
                      <a:pt x="1415" y="183"/>
                    </a:lnTo>
                    <a:lnTo>
                      <a:pt x="1341" y="206"/>
                    </a:lnTo>
                    <a:lnTo>
                      <a:pt x="1269" y="232"/>
                    </a:lnTo>
                    <a:lnTo>
                      <a:pt x="1199" y="259"/>
                    </a:lnTo>
                    <a:lnTo>
                      <a:pt x="1132" y="286"/>
                    </a:lnTo>
                    <a:lnTo>
                      <a:pt x="1066" y="318"/>
                    </a:lnTo>
                    <a:lnTo>
                      <a:pt x="1004" y="349"/>
                    </a:lnTo>
                    <a:lnTo>
                      <a:pt x="943" y="384"/>
                    </a:lnTo>
                    <a:lnTo>
                      <a:pt x="885" y="421"/>
                    </a:lnTo>
                    <a:lnTo>
                      <a:pt x="826" y="460"/>
                    </a:lnTo>
                    <a:lnTo>
                      <a:pt x="772" y="503"/>
                    </a:lnTo>
                    <a:lnTo>
                      <a:pt x="719" y="548"/>
                    </a:lnTo>
                    <a:lnTo>
                      <a:pt x="669" y="596"/>
                    </a:lnTo>
                    <a:lnTo>
                      <a:pt x="620" y="649"/>
                    </a:lnTo>
                    <a:lnTo>
                      <a:pt x="571" y="704"/>
                    </a:lnTo>
                    <a:lnTo>
                      <a:pt x="526" y="764"/>
                    </a:lnTo>
                    <a:lnTo>
                      <a:pt x="482" y="826"/>
                    </a:lnTo>
                    <a:lnTo>
                      <a:pt x="439" y="893"/>
                    </a:lnTo>
                    <a:lnTo>
                      <a:pt x="398" y="965"/>
                    </a:lnTo>
                    <a:lnTo>
                      <a:pt x="359" y="1041"/>
                    </a:lnTo>
                    <a:lnTo>
                      <a:pt x="322" y="1121"/>
                    </a:lnTo>
                    <a:lnTo>
                      <a:pt x="287" y="1206"/>
                    </a:lnTo>
                    <a:lnTo>
                      <a:pt x="252" y="1296"/>
                    </a:lnTo>
                    <a:lnTo>
                      <a:pt x="218" y="1392"/>
                    </a:lnTo>
                    <a:lnTo>
                      <a:pt x="191" y="1388"/>
                    </a:lnTo>
                    <a:lnTo>
                      <a:pt x="164" y="1382"/>
                    </a:lnTo>
                    <a:lnTo>
                      <a:pt x="137" y="1378"/>
                    </a:lnTo>
                    <a:lnTo>
                      <a:pt x="109" y="1372"/>
                    </a:lnTo>
                    <a:lnTo>
                      <a:pt x="82" y="1368"/>
                    </a:lnTo>
                    <a:lnTo>
                      <a:pt x="55" y="1364"/>
                    </a:lnTo>
                    <a:lnTo>
                      <a:pt x="28" y="1358"/>
                    </a:lnTo>
                    <a:lnTo>
                      <a:pt x="0" y="1355"/>
                    </a:lnTo>
                    <a:close/>
                  </a:path>
                </a:pathLst>
              </a:custGeom>
              <a:solidFill>
                <a:srgbClr val="b259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837360" y="2368800"/>
                <a:ext cx="2260440" cy="1545480"/>
              </a:xfrm>
              <a:custGeom>
                <a:avLst/>
                <a:gdLst/>
                <a:ahLst/>
                <a:rect l="l" t="t" r="r" b="b"/>
                <a:pathLst>
                  <a:path w="2161" h="1380">
                    <a:moveTo>
                      <a:pt x="0" y="1341"/>
                    </a:moveTo>
                    <a:lnTo>
                      <a:pt x="15" y="1275"/>
                    </a:lnTo>
                    <a:lnTo>
                      <a:pt x="35" y="1208"/>
                    </a:lnTo>
                    <a:lnTo>
                      <a:pt x="54" y="1144"/>
                    </a:lnTo>
                    <a:lnTo>
                      <a:pt x="78" y="1082"/>
                    </a:lnTo>
                    <a:lnTo>
                      <a:pt x="101" y="1019"/>
                    </a:lnTo>
                    <a:lnTo>
                      <a:pt x="128" y="959"/>
                    </a:lnTo>
                    <a:lnTo>
                      <a:pt x="155" y="900"/>
                    </a:lnTo>
                    <a:lnTo>
                      <a:pt x="187" y="842"/>
                    </a:lnTo>
                    <a:lnTo>
                      <a:pt x="220" y="785"/>
                    </a:lnTo>
                    <a:lnTo>
                      <a:pt x="255" y="731"/>
                    </a:lnTo>
                    <a:lnTo>
                      <a:pt x="292" y="676"/>
                    </a:lnTo>
                    <a:lnTo>
                      <a:pt x="331" y="626"/>
                    </a:lnTo>
                    <a:lnTo>
                      <a:pt x="372" y="575"/>
                    </a:lnTo>
                    <a:lnTo>
                      <a:pt x="415" y="526"/>
                    </a:lnTo>
                    <a:lnTo>
                      <a:pt x="459" y="479"/>
                    </a:lnTo>
                    <a:lnTo>
                      <a:pt x="506" y="435"/>
                    </a:lnTo>
                    <a:lnTo>
                      <a:pt x="555" y="392"/>
                    </a:lnTo>
                    <a:lnTo>
                      <a:pt x="608" y="351"/>
                    </a:lnTo>
                    <a:lnTo>
                      <a:pt x="660" y="310"/>
                    </a:lnTo>
                    <a:lnTo>
                      <a:pt x="717" y="273"/>
                    </a:lnTo>
                    <a:lnTo>
                      <a:pt x="773" y="238"/>
                    </a:lnTo>
                    <a:lnTo>
                      <a:pt x="834" y="205"/>
                    </a:lnTo>
                    <a:lnTo>
                      <a:pt x="896" y="173"/>
                    </a:lnTo>
                    <a:lnTo>
                      <a:pt x="960" y="144"/>
                    </a:lnTo>
                    <a:lnTo>
                      <a:pt x="1027" y="119"/>
                    </a:lnTo>
                    <a:lnTo>
                      <a:pt x="1093" y="93"/>
                    </a:lnTo>
                    <a:lnTo>
                      <a:pt x="1165" y="72"/>
                    </a:lnTo>
                    <a:lnTo>
                      <a:pt x="1237" y="52"/>
                    </a:lnTo>
                    <a:lnTo>
                      <a:pt x="1311" y="35"/>
                    </a:lnTo>
                    <a:lnTo>
                      <a:pt x="1387" y="21"/>
                    </a:lnTo>
                    <a:lnTo>
                      <a:pt x="1467" y="10"/>
                    </a:lnTo>
                    <a:lnTo>
                      <a:pt x="1547" y="0"/>
                    </a:lnTo>
                    <a:lnTo>
                      <a:pt x="1586" y="0"/>
                    </a:lnTo>
                    <a:lnTo>
                      <a:pt x="1623" y="0"/>
                    </a:lnTo>
                    <a:lnTo>
                      <a:pt x="1662" y="0"/>
                    </a:lnTo>
                    <a:lnTo>
                      <a:pt x="1701" y="0"/>
                    </a:lnTo>
                    <a:lnTo>
                      <a:pt x="1738" y="0"/>
                    </a:lnTo>
                    <a:lnTo>
                      <a:pt x="1777" y="0"/>
                    </a:lnTo>
                    <a:lnTo>
                      <a:pt x="1816" y="0"/>
                    </a:lnTo>
                    <a:lnTo>
                      <a:pt x="1855" y="0"/>
                    </a:lnTo>
                    <a:lnTo>
                      <a:pt x="1892" y="0"/>
                    </a:lnTo>
                    <a:lnTo>
                      <a:pt x="1931" y="0"/>
                    </a:lnTo>
                    <a:lnTo>
                      <a:pt x="1970" y="0"/>
                    </a:lnTo>
                    <a:lnTo>
                      <a:pt x="2007" y="0"/>
                    </a:lnTo>
                    <a:lnTo>
                      <a:pt x="2046" y="2"/>
                    </a:lnTo>
                    <a:lnTo>
                      <a:pt x="2085" y="2"/>
                    </a:lnTo>
                    <a:lnTo>
                      <a:pt x="2122" y="2"/>
                    </a:lnTo>
                    <a:lnTo>
                      <a:pt x="2161" y="2"/>
                    </a:lnTo>
                    <a:lnTo>
                      <a:pt x="2065" y="21"/>
                    </a:lnTo>
                    <a:lnTo>
                      <a:pt x="1972" y="41"/>
                    </a:lnTo>
                    <a:lnTo>
                      <a:pt x="1880" y="60"/>
                    </a:lnTo>
                    <a:lnTo>
                      <a:pt x="1792" y="78"/>
                    </a:lnTo>
                    <a:lnTo>
                      <a:pt x="1707" y="97"/>
                    </a:lnTo>
                    <a:lnTo>
                      <a:pt x="1625" y="117"/>
                    </a:lnTo>
                    <a:lnTo>
                      <a:pt x="1543" y="138"/>
                    </a:lnTo>
                    <a:lnTo>
                      <a:pt x="1465" y="160"/>
                    </a:lnTo>
                    <a:lnTo>
                      <a:pt x="1389" y="181"/>
                    </a:lnTo>
                    <a:lnTo>
                      <a:pt x="1315" y="205"/>
                    </a:lnTo>
                    <a:lnTo>
                      <a:pt x="1245" y="228"/>
                    </a:lnTo>
                    <a:lnTo>
                      <a:pt x="1175" y="255"/>
                    </a:lnTo>
                    <a:lnTo>
                      <a:pt x="1108" y="282"/>
                    </a:lnTo>
                    <a:lnTo>
                      <a:pt x="1044" y="312"/>
                    </a:lnTo>
                    <a:lnTo>
                      <a:pt x="980" y="343"/>
                    </a:lnTo>
                    <a:lnTo>
                      <a:pt x="919" y="378"/>
                    </a:lnTo>
                    <a:lnTo>
                      <a:pt x="861" y="413"/>
                    </a:lnTo>
                    <a:lnTo>
                      <a:pt x="804" y="452"/>
                    </a:lnTo>
                    <a:lnTo>
                      <a:pt x="750" y="495"/>
                    </a:lnTo>
                    <a:lnTo>
                      <a:pt x="697" y="540"/>
                    </a:lnTo>
                    <a:lnTo>
                      <a:pt x="647" y="587"/>
                    </a:lnTo>
                    <a:lnTo>
                      <a:pt x="598" y="639"/>
                    </a:lnTo>
                    <a:lnTo>
                      <a:pt x="549" y="694"/>
                    </a:lnTo>
                    <a:lnTo>
                      <a:pt x="504" y="752"/>
                    </a:lnTo>
                    <a:lnTo>
                      <a:pt x="459" y="815"/>
                    </a:lnTo>
                    <a:lnTo>
                      <a:pt x="419" y="883"/>
                    </a:lnTo>
                    <a:lnTo>
                      <a:pt x="378" y="953"/>
                    </a:lnTo>
                    <a:lnTo>
                      <a:pt x="339" y="1029"/>
                    </a:lnTo>
                    <a:lnTo>
                      <a:pt x="300" y="1109"/>
                    </a:lnTo>
                    <a:lnTo>
                      <a:pt x="265" y="1195"/>
                    </a:lnTo>
                    <a:lnTo>
                      <a:pt x="230" y="1284"/>
                    </a:lnTo>
                    <a:lnTo>
                      <a:pt x="196" y="1380"/>
                    </a:lnTo>
                    <a:lnTo>
                      <a:pt x="171" y="1374"/>
                    </a:lnTo>
                    <a:lnTo>
                      <a:pt x="148" y="1370"/>
                    </a:lnTo>
                    <a:lnTo>
                      <a:pt x="122" y="1364"/>
                    </a:lnTo>
                    <a:lnTo>
                      <a:pt x="99" y="1360"/>
                    </a:lnTo>
                    <a:lnTo>
                      <a:pt x="74" y="1357"/>
                    </a:lnTo>
                    <a:lnTo>
                      <a:pt x="48" y="1351"/>
                    </a:lnTo>
                    <a:lnTo>
                      <a:pt x="25" y="1347"/>
                    </a:lnTo>
                    <a:lnTo>
                      <a:pt x="0" y="1341"/>
                    </a:lnTo>
                    <a:close/>
                  </a:path>
                </a:pathLst>
              </a:custGeom>
              <a:solidFill>
                <a:srgbClr val="c15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837360" y="2368800"/>
                <a:ext cx="2235240" cy="1529640"/>
              </a:xfrm>
              <a:custGeom>
                <a:avLst/>
                <a:gdLst/>
                <a:ahLst/>
                <a:rect l="l" t="t" r="r" b="b"/>
                <a:pathLst>
                  <a:path w="2138" h="1366">
                    <a:moveTo>
                      <a:pt x="0" y="1329"/>
                    </a:moveTo>
                    <a:lnTo>
                      <a:pt x="16" y="1263"/>
                    </a:lnTo>
                    <a:lnTo>
                      <a:pt x="35" y="1197"/>
                    </a:lnTo>
                    <a:lnTo>
                      <a:pt x="56" y="1132"/>
                    </a:lnTo>
                    <a:lnTo>
                      <a:pt x="80" y="1070"/>
                    </a:lnTo>
                    <a:lnTo>
                      <a:pt x="103" y="1008"/>
                    </a:lnTo>
                    <a:lnTo>
                      <a:pt x="132" y="947"/>
                    </a:lnTo>
                    <a:lnTo>
                      <a:pt x="162" y="889"/>
                    </a:lnTo>
                    <a:lnTo>
                      <a:pt x="193" y="832"/>
                    </a:lnTo>
                    <a:lnTo>
                      <a:pt x="226" y="776"/>
                    </a:lnTo>
                    <a:lnTo>
                      <a:pt x="263" y="721"/>
                    </a:lnTo>
                    <a:lnTo>
                      <a:pt x="300" y="668"/>
                    </a:lnTo>
                    <a:lnTo>
                      <a:pt x="341" y="616"/>
                    </a:lnTo>
                    <a:lnTo>
                      <a:pt x="384" y="567"/>
                    </a:lnTo>
                    <a:lnTo>
                      <a:pt x="427" y="518"/>
                    </a:lnTo>
                    <a:lnTo>
                      <a:pt x="473" y="472"/>
                    </a:lnTo>
                    <a:lnTo>
                      <a:pt x="522" y="427"/>
                    </a:lnTo>
                    <a:lnTo>
                      <a:pt x="573" y="386"/>
                    </a:lnTo>
                    <a:lnTo>
                      <a:pt x="625" y="345"/>
                    </a:lnTo>
                    <a:lnTo>
                      <a:pt x="680" y="306"/>
                    </a:lnTo>
                    <a:lnTo>
                      <a:pt x="737" y="269"/>
                    </a:lnTo>
                    <a:lnTo>
                      <a:pt x="795" y="234"/>
                    </a:lnTo>
                    <a:lnTo>
                      <a:pt x="857" y="201"/>
                    </a:lnTo>
                    <a:lnTo>
                      <a:pt x="920" y="171"/>
                    </a:lnTo>
                    <a:lnTo>
                      <a:pt x="984" y="142"/>
                    </a:lnTo>
                    <a:lnTo>
                      <a:pt x="1050" y="117"/>
                    </a:lnTo>
                    <a:lnTo>
                      <a:pt x="1119" y="91"/>
                    </a:lnTo>
                    <a:lnTo>
                      <a:pt x="1191" y="70"/>
                    </a:lnTo>
                    <a:lnTo>
                      <a:pt x="1263" y="52"/>
                    </a:lnTo>
                    <a:lnTo>
                      <a:pt x="1337" y="35"/>
                    </a:lnTo>
                    <a:lnTo>
                      <a:pt x="1415" y="21"/>
                    </a:lnTo>
                    <a:lnTo>
                      <a:pt x="1493" y="10"/>
                    </a:lnTo>
                    <a:lnTo>
                      <a:pt x="1573" y="0"/>
                    </a:lnTo>
                    <a:lnTo>
                      <a:pt x="1608" y="0"/>
                    </a:lnTo>
                    <a:lnTo>
                      <a:pt x="1643" y="0"/>
                    </a:lnTo>
                    <a:lnTo>
                      <a:pt x="1678" y="0"/>
                    </a:lnTo>
                    <a:lnTo>
                      <a:pt x="1715" y="0"/>
                    </a:lnTo>
                    <a:lnTo>
                      <a:pt x="1750" y="0"/>
                    </a:lnTo>
                    <a:lnTo>
                      <a:pt x="1785" y="0"/>
                    </a:lnTo>
                    <a:lnTo>
                      <a:pt x="1820" y="0"/>
                    </a:lnTo>
                    <a:lnTo>
                      <a:pt x="1855" y="0"/>
                    </a:lnTo>
                    <a:lnTo>
                      <a:pt x="1890" y="0"/>
                    </a:lnTo>
                    <a:lnTo>
                      <a:pt x="1925" y="0"/>
                    </a:lnTo>
                    <a:lnTo>
                      <a:pt x="1960" y="0"/>
                    </a:lnTo>
                    <a:lnTo>
                      <a:pt x="1995" y="0"/>
                    </a:lnTo>
                    <a:lnTo>
                      <a:pt x="2032" y="2"/>
                    </a:lnTo>
                    <a:lnTo>
                      <a:pt x="2068" y="2"/>
                    </a:lnTo>
                    <a:lnTo>
                      <a:pt x="2103" y="2"/>
                    </a:lnTo>
                    <a:lnTo>
                      <a:pt x="2138" y="2"/>
                    </a:lnTo>
                    <a:lnTo>
                      <a:pt x="2042" y="21"/>
                    </a:lnTo>
                    <a:lnTo>
                      <a:pt x="1949" y="41"/>
                    </a:lnTo>
                    <a:lnTo>
                      <a:pt x="1859" y="58"/>
                    </a:lnTo>
                    <a:lnTo>
                      <a:pt x="1769" y="78"/>
                    </a:lnTo>
                    <a:lnTo>
                      <a:pt x="1684" y="97"/>
                    </a:lnTo>
                    <a:lnTo>
                      <a:pt x="1602" y="117"/>
                    </a:lnTo>
                    <a:lnTo>
                      <a:pt x="1522" y="136"/>
                    </a:lnTo>
                    <a:lnTo>
                      <a:pt x="1442" y="156"/>
                    </a:lnTo>
                    <a:lnTo>
                      <a:pt x="1368" y="177"/>
                    </a:lnTo>
                    <a:lnTo>
                      <a:pt x="1294" y="201"/>
                    </a:lnTo>
                    <a:lnTo>
                      <a:pt x="1222" y="224"/>
                    </a:lnTo>
                    <a:lnTo>
                      <a:pt x="1154" y="249"/>
                    </a:lnTo>
                    <a:lnTo>
                      <a:pt x="1087" y="277"/>
                    </a:lnTo>
                    <a:lnTo>
                      <a:pt x="1021" y="306"/>
                    </a:lnTo>
                    <a:lnTo>
                      <a:pt x="959" y="337"/>
                    </a:lnTo>
                    <a:lnTo>
                      <a:pt x="898" y="370"/>
                    </a:lnTo>
                    <a:lnTo>
                      <a:pt x="840" y="405"/>
                    </a:lnTo>
                    <a:lnTo>
                      <a:pt x="783" y="444"/>
                    </a:lnTo>
                    <a:lnTo>
                      <a:pt x="729" y="485"/>
                    </a:lnTo>
                    <a:lnTo>
                      <a:pt x="676" y="530"/>
                    </a:lnTo>
                    <a:lnTo>
                      <a:pt x="625" y="577"/>
                    </a:lnTo>
                    <a:lnTo>
                      <a:pt x="577" y="627"/>
                    </a:lnTo>
                    <a:lnTo>
                      <a:pt x="530" y="682"/>
                    </a:lnTo>
                    <a:lnTo>
                      <a:pt x="485" y="741"/>
                    </a:lnTo>
                    <a:lnTo>
                      <a:pt x="440" y="803"/>
                    </a:lnTo>
                    <a:lnTo>
                      <a:pt x="399" y="869"/>
                    </a:lnTo>
                    <a:lnTo>
                      <a:pt x="359" y="941"/>
                    </a:lnTo>
                    <a:lnTo>
                      <a:pt x="320" y="1015"/>
                    </a:lnTo>
                    <a:lnTo>
                      <a:pt x="283" y="1095"/>
                    </a:lnTo>
                    <a:lnTo>
                      <a:pt x="247" y="1181"/>
                    </a:lnTo>
                    <a:lnTo>
                      <a:pt x="212" y="1271"/>
                    </a:lnTo>
                    <a:lnTo>
                      <a:pt x="179" y="1366"/>
                    </a:lnTo>
                    <a:lnTo>
                      <a:pt x="156" y="1360"/>
                    </a:lnTo>
                    <a:lnTo>
                      <a:pt x="134" y="1355"/>
                    </a:lnTo>
                    <a:lnTo>
                      <a:pt x="111" y="1351"/>
                    </a:lnTo>
                    <a:lnTo>
                      <a:pt x="90" y="1347"/>
                    </a:lnTo>
                    <a:lnTo>
                      <a:pt x="68" y="1343"/>
                    </a:lnTo>
                    <a:lnTo>
                      <a:pt x="45" y="1337"/>
                    </a:lnTo>
                    <a:lnTo>
                      <a:pt x="23" y="1333"/>
                    </a:lnTo>
                    <a:lnTo>
                      <a:pt x="0" y="1329"/>
                    </a:lnTo>
                    <a:close/>
                  </a:path>
                </a:pathLst>
              </a:custGeom>
              <a:solidFill>
                <a:srgbClr val="d149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37720" y="2368800"/>
                <a:ext cx="2208240" cy="1511640"/>
              </a:xfrm>
              <a:custGeom>
                <a:avLst/>
                <a:gdLst/>
                <a:ahLst/>
                <a:rect l="l" t="t" r="r" b="b"/>
                <a:pathLst>
                  <a:path w="2113" h="1351">
                    <a:moveTo>
                      <a:pt x="0" y="1316"/>
                    </a:moveTo>
                    <a:lnTo>
                      <a:pt x="16" y="1249"/>
                    </a:lnTo>
                    <a:lnTo>
                      <a:pt x="35" y="1183"/>
                    </a:lnTo>
                    <a:lnTo>
                      <a:pt x="57" y="1121"/>
                    </a:lnTo>
                    <a:lnTo>
                      <a:pt x="80" y="1056"/>
                    </a:lnTo>
                    <a:lnTo>
                      <a:pt x="107" y="996"/>
                    </a:lnTo>
                    <a:lnTo>
                      <a:pt x="135" y="935"/>
                    </a:lnTo>
                    <a:lnTo>
                      <a:pt x="166" y="877"/>
                    </a:lnTo>
                    <a:lnTo>
                      <a:pt x="197" y="820"/>
                    </a:lnTo>
                    <a:lnTo>
                      <a:pt x="232" y="764"/>
                    </a:lnTo>
                    <a:lnTo>
                      <a:pt x="269" y="709"/>
                    </a:lnTo>
                    <a:lnTo>
                      <a:pt x="308" y="659"/>
                    </a:lnTo>
                    <a:lnTo>
                      <a:pt x="351" y="606"/>
                    </a:lnTo>
                    <a:lnTo>
                      <a:pt x="394" y="557"/>
                    </a:lnTo>
                    <a:lnTo>
                      <a:pt x="439" y="511"/>
                    </a:lnTo>
                    <a:lnTo>
                      <a:pt x="487" y="466"/>
                    </a:lnTo>
                    <a:lnTo>
                      <a:pt x="538" y="421"/>
                    </a:lnTo>
                    <a:lnTo>
                      <a:pt x="589" y="378"/>
                    </a:lnTo>
                    <a:lnTo>
                      <a:pt x="643" y="339"/>
                    </a:lnTo>
                    <a:lnTo>
                      <a:pt x="698" y="300"/>
                    </a:lnTo>
                    <a:lnTo>
                      <a:pt x="756" y="265"/>
                    </a:lnTo>
                    <a:lnTo>
                      <a:pt x="817" y="230"/>
                    </a:lnTo>
                    <a:lnTo>
                      <a:pt x="877" y="199"/>
                    </a:lnTo>
                    <a:lnTo>
                      <a:pt x="942" y="167"/>
                    </a:lnTo>
                    <a:lnTo>
                      <a:pt x="1006" y="140"/>
                    </a:lnTo>
                    <a:lnTo>
                      <a:pt x="1074" y="115"/>
                    </a:lnTo>
                    <a:lnTo>
                      <a:pt x="1142" y="91"/>
                    </a:lnTo>
                    <a:lnTo>
                      <a:pt x="1214" y="70"/>
                    </a:lnTo>
                    <a:lnTo>
                      <a:pt x="1286" y="51"/>
                    </a:lnTo>
                    <a:lnTo>
                      <a:pt x="1360" y="35"/>
                    </a:lnTo>
                    <a:lnTo>
                      <a:pt x="1436" y="21"/>
                    </a:lnTo>
                    <a:lnTo>
                      <a:pt x="1514" y="10"/>
                    </a:lnTo>
                    <a:lnTo>
                      <a:pt x="1594" y="0"/>
                    </a:lnTo>
                    <a:lnTo>
                      <a:pt x="1627" y="0"/>
                    </a:lnTo>
                    <a:lnTo>
                      <a:pt x="1659" y="0"/>
                    </a:lnTo>
                    <a:lnTo>
                      <a:pt x="1692" y="0"/>
                    </a:lnTo>
                    <a:lnTo>
                      <a:pt x="1725" y="0"/>
                    </a:lnTo>
                    <a:lnTo>
                      <a:pt x="1756" y="0"/>
                    </a:lnTo>
                    <a:lnTo>
                      <a:pt x="1789" y="0"/>
                    </a:lnTo>
                    <a:lnTo>
                      <a:pt x="1820" y="0"/>
                    </a:lnTo>
                    <a:lnTo>
                      <a:pt x="1854" y="0"/>
                    </a:lnTo>
                    <a:lnTo>
                      <a:pt x="1887" y="0"/>
                    </a:lnTo>
                    <a:lnTo>
                      <a:pt x="1918" y="0"/>
                    </a:lnTo>
                    <a:lnTo>
                      <a:pt x="1951" y="0"/>
                    </a:lnTo>
                    <a:lnTo>
                      <a:pt x="1982" y="0"/>
                    </a:lnTo>
                    <a:lnTo>
                      <a:pt x="2015" y="2"/>
                    </a:lnTo>
                    <a:lnTo>
                      <a:pt x="2048" y="2"/>
                    </a:lnTo>
                    <a:lnTo>
                      <a:pt x="2080" y="2"/>
                    </a:lnTo>
                    <a:lnTo>
                      <a:pt x="2113" y="2"/>
                    </a:lnTo>
                    <a:lnTo>
                      <a:pt x="2017" y="21"/>
                    </a:lnTo>
                    <a:lnTo>
                      <a:pt x="1924" y="41"/>
                    </a:lnTo>
                    <a:lnTo>
                      <a:pt x="1834" y="58"/>
                    </a:lnTo>
                    <a:lnTo>
                      <a:pt x="1744" y="78"/>
                    </a:lnTo>
                    <a:lnTo>
                      <a:pt x="1661" y="95"/>
                    </a:lnTo>
                    <a:lnTo>
                      <a:pt x="1577" y="115"/>
                    </a:lnTo>
                    <a:lnTo>
                      <a:pt x="1497" y="134"/>
                    </a:lnTo>
                    <a:lnTo>
                      <a:pt x="1419" y="154"/>
                    </a:lnTo>
                    <a:lnTo>
                      <a:pt x="1343" y="175"/>
                    </a:lnTo>
                    <a:lnTo>
                      <a:pt x="1269" y="199"/>
                    </a:lnTo>
                    <a:lnTo>
                      <a:pt x="1199" y="222"/>
                    </a:lnTo>
                    <a:lnTo>
                      <a:pt x="1131" y="245"/>
                    </a:lnTo>
                    <a:lnTo>
                      <a:pt x="1062" y="273"/>
                    </a:lnTo>
                    <a:lnTo>
                      <a:pt x="998" y="302"/>
                    </a:lnTo>
                    <a:lnTo>
                      <a:pt x="936" y="331"/>
                    </a:lnTo>
                    <a:lnTo>
                      <a:pt x="875" y="364"/>
                    </a:lnTo>
                    <a:lnTo>
                      <a:pt x="817" y="399"/>
                    </a:lnTo>
                    <a:lnTo>
                      <a:pt x="762" y="436"/>
                    </a:lnTo>
                    <a:lnTo>
                      <a:pt x="708" y="477"/>
                    </a:lnTo>
                    <a:lnTo>
                      <a:pt x="655" y="520"/>
                    </a:lnTo>
                    <a:lnTo>
                      <a:pt x="604" y="567"/>
                    </a:lnTo>
                    <a:lnTo>
                      <a:pt x="556" y="618"/>
                    </a:lnTo>
                    <a:lnTo>
                      <a:pt x="509" y="672"/>
                    </a:lnTo>
                    <a:lnTo>
                      <a:pt x="464" y="729"/>
                    </a:lnTo>
                    <a:lnTo>
                      <a:pt x="419" y="791"/>
                    </a:lnTo>
                    <a:lnTo>
                      <a:pt x="378" y="858"/>
                    </a:lnTo>
                    <a:lnTo>
                      <a:pt x="337" y="928"/>
                    </a:lnTo>
                    <a:lnTo>
                      <a:pt x="298" y="1002"/>
                    </a:lnTo>
                    <a:lnTo>
                      <a:pt x="261" y="1082"/>
                    </a:lnTo>
                    <a:lnTo>
                      <a:pt x="226" y="1165"/>
                    </a:lnTo>
                    <a:lnTo>
                      <a:pt x="191" y="1255"/>
                    </a:lnTo>
                    <a:lnTo>
                      <a:pt x="158" y="1351"/>
                    </a:lnTo>
                    <a:lnTo>
                      <a:pt x="139" y="1347"/>
                    </a:lnTo>
                    <a:lnTo>
                      <a:pt x="119" y="1343"/>
                    </a:lnTo>
                    <a:lnTo>
                      <a:pt x="100" y="1339"/>
                    </a:lnTo>
                    <a:lnTo>
                      <a:pt x="80" y="1333"/>
                    </a:lnTo>
                    <a:lnTo>
                      <a:pt x="59" y="1329"/>
                    </a:lnTo>
                    <a:lnTo>
                      <a:pt x="39" y="1325"/>
                    </a:lnTo>
                    <a:lnTo>
                      <a:pt x="20" y="1319"/>
                    </a:lnTo>
                    <a:lnTo>
                      <a:pt x="0" y="1316"/>
                    </a:lnTo>
                    <a:close/>
                  </a:path>
                </a:pathLst>
              </a:custGeom>
              <a:solidFill>
                <a:srgbClr val="e042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a:off x="837000" y="2368800"/>
                <a:ext cx="2185560" cy="1497960"/>
              </a:xfrm>
              <a:custGeom>
                <a:avLst/>
                <a:gdLst/>
                <a:ahLst/>
                <a:rect l="l" t="t" r="r" b="b"/>
                <a:pathLst>
                  <a:path w="2089" h="1339">
                    <a:moveTo>
                      <a:pt x="0" y="1302"/>
                    </a:moveTo>
                    <a:lnTo>
                      <a:pt x="17" y="1236"/>
                    </a:lnTo>
                    <a:lnTo>
                      <a:pt x="35" y="1169"/>
                    </a:lnTo>
                    <a:lnTo>
                      <a:pt x="58" y="1107"/>
                    </a:lnTo>
                    <a:lnTo>
                      <a:pt x="82" y="1045"/>
                    </a:lnTo>
                    <a:lnTo>
                      <a:pt x="109" y="982"/>
                    </a:lnTo>
                    <a:lnTo>
                      <a:pt x="136" y="924"/>
                    </a:lnTo>
                    <a:lnTo>
                      <a:pt x="169" y="865"/>
                    </a:lnTo>
                    <a:lnTo>
                      <a:pt x="202" y="809"/>
                    </a:lnTo>
                    <a:lnTo>
                      <a:pt x="237" y="752"/>
                    </a:lnTo>
                    <a:lnTo>
                      <a:pt x="276" y="700"/>
                    </a:lnTo>
                    <a:lnTo>
                      <a:pt x="317" y="647"/>
                    </a:lnTo>
                    <a:lnTo>
                      <a:pt x="360" y="596"/>
                    </a:lnTo>
                    <a:lnTo>
                      <a:pt x="405" y="548"/>
                    </a:lnTo>
                    <a:lnTo>
                      <a:pt x="452" y="501"/>
                    </a:lnTo>
                    <a:lnTo>
                      <a:pt x="500" y="456"/>
                    </a:lnTo>
                    <a:lnTo>
                      <a:pt x="551" y="413"/>
                    </a:lnTo>
                    <a:lnTo>
                      <a:pt x="604" y="372"/>
                    </a:lnTo>
                    <a:lnTo>
                      <a:pt x="658" y="333"/>
                    </a:lnTo>
                    <a:lnTo>
                      <a:pt x="717" y="294"/>
                    </a:lnTo>
                    <a:lnTo>
                      <a:pt x="775" y="259"/>
                    </a:lnTo>
                    <a:lnTo>
                      <a:pt x="836" y="226"/>
                    </a:lnTo>
                    <a:lnTo>
                      <a:pt x="898" y="195"/>
                    </a:lnTo>
                    <a:lnTo>
                      <a:pt x="962" y="166"/>
                    </a:lnTo>
                    <a:lnTo>
                      <a:pt x="1029" y="136"/>
                    </a:lnTo>
                    <a:lnTo>
                      <a:pt x="1097" y="113"/>
                    </a:lnTo>
                    <a:lnTo>
                      <a:pt x="1167" y="90"/>
                    </a:lnTo>
                    <a:lnTo>
                      <a:pt x="1237" y="68"/>
                    </a:lnTo>
                    <a:lnTo>
                      <a:pt x="1311" y="51"/>
                    </a:lnTo>
                    <a:lnTo>
                      <a:pt x="1385" y="33"/>
                    </a:lnTo>
                    <a:lnTo>
                      <a:pt x="1461" y="19"/>
                    </a:lnTo>
                    <a:lnTo>
                      <a:pt x="1537" y="10"/>
                    </a:lnTo>
                    <a:lnTo>
                      <a:pt x="1617" y="0"/>
                    </a:lnTo>
                    <a:lnTo>
                      <a:pt x="1646" y="0"/>
                    </a:lnTo>
                    <a:lnTo>
                      <a:pt x="1676" y="0"/>
                    </a:lnTo>
                    <a:lnTo>
                      <a:pt x="1707" y="0"/>
                    </a:lnTo>
                    <a:lnTo>
                      <a:pt x="1736" y="0"/>
                    </a:lnTo>
                    <a:lnTo>
                      <a:pt x="1765" y="0"/>
                    </a:lnTo>
                    <a:lnTo>
                      <a:pt x="1794" y="0"/>
                    </a:lnTo>
                    <a:lnTo>
                      <a:pt x="1824" y="0"/>
                    </a:lnTo>
                    <a:lnTo>
                      <a:pt x="1853" y="0"/>
                    </a:lnTo>
                    <a:lnTo>
                      <a:pt x="1884" y="0"/>
                    </a:lnTo>
                    <a:lnTo>
                      <a:pt x="1913" y="0"/>
                    </a:lnTo>
                    <a:lnTo>
                      <a:pt x="1943" y="0"/>
                    </a:lnTo>
                    <a:lnTo>
                      <a:pt x="1972" y="0"/>
                    </a:lnTo>
                    <a:lnTo>
                      <a:pt x="2001" y="2"/>
                    </a:lnTo>
                    <a:lnTo>
                      <a:pt x="2030" y="2"/>
                    </a:lnTo>
                    <a:lnTo>
                      <a:pt x="2059" y="2"/>
                    </a:lnTo>
                    <a:lnTo>
                      <a:pt x="2089" y="2"/>
                    </a:lnTo>
                    <a:lnTo>
                      <a:pt x="1993" y="21"/>
                    </a:lnTo>
                    <a:lnTo>
                      <a:pt x="1900" y="41"/>
                    </a:lnTo>
                    <a:lnTo>
                      <a:pt x="1810" y="58"/>
                    </a:lnTo>
                    <a:lnTo>
                      <a:pt x="1722" y="76"/>
                    </a:lnTo>
                    <a:lnTo>
                      <a:pt x="1637" y="95"/>
                    </a:lnTo>
                    <a:lnTo>
                      <a:pt x="1553" y="113"/>
                    </a:lnTo>
                    <a:lnTo>
                      <a:pt x="1473" y="132"/>
                    </a:lnTo>
                    <a:lnTo>
                      <a:pt x="1395" y="152"/>
                    </a:lnTo>
                    <a:lnTo>
                      <a:pt x="1319" y="173"/>
                    </a:lnTo>
                    <a:lnTo>
                      <a:pt x="1247" y="195"/>
                    </a:lnTo>
                    <a:lnTo>
                      <a:pt x="1175" y="218"/>
                    </a:lnTo>
                    <a:lnTo>
                      <a:pt x="1107" y="242"/>
                    </a:lnTo>
                    <a:lnTo>
                      <a:pt x="1040" y="267"/>
                    </a:lnTo>
                    <a:lnTo>
                      <a:pt x="976" y="296"/>
                    </a:lnTo>
                    <a:lnTo>
                      <a:pt x="914" y="325"/>
                    </a:lnTo>
                    <a:lnTo>
                      <a:pt x="853" y="357"/>
                    </a:lnTo>
                    <a:lnTo>
                      <a:pt x="797" y="392"/>
                    </a:lnTo>
                    <a:lnTo>
                      <a:pt x="740" y="429"/>
                    </a:lnTo>
                    <a:lnTo>
                      <a:pt x="686" y="470"/>
                    </a:lnTo>
                    <a:lnTo>
                      <a:pt x="633" y="512"/>
                    </a:lnTo>
                    <a:lnTo>
                      <a:pt x="582" y="559"/>
                    </a:lnTo>
                    <a:lnTo>
                      <a:pt x="534" y="608"/>
                    </a:lnTo>
                    <a:lnTo>
                      <a:pt x="487" y="663"/>
                    </a:lnTo>
                    <a:lnTo>
                      <a:pt x="442" y="719"/>
                    </a:lnTo>
                    <a:lnTo>
                      <a:pt x="399" y="780"/>
                    </a:lnTo>
                    <a:lnTo>
                      <a:pt x="358" y="846"/>
                    </a:lnTo>
                    <a:lnTo>
                      <a:pt x="317" y="916"/>
                    </a:lnTo>
                    <a:lnTo>
                      <a:pt x="278" y="990"/>
                    </a:lnTo>
                    <a:lnTo>
                      <a:pt x="241" y="1070"/>
                    </a:lnTo>
                    <a:lnTo>
                      <a:pt x="206" y="1154"/>
                    </a:lnTo>
                    <a:lnTo>
                      <a:pt x="171" y="1243"/>
                    </a:lnTo>
                    <a:lnTo>
                      <a:pt x="138" y="1339"/>
                    </a:lnTo>
                    <a:lnTo>
                      <a:pt x="120" y="1335"/>
                    </a:lnTo>
                    <a:lnTo>
                      <a:pt x="105" y="1329"/>
                    </a:lnTo>
                    <a:lnTo>
                      <a:pt x="87" y="1325"/>
                    </a:lnTo>
                    <a:lnTo>
                      <a:pt x="70" y="1321"/>
                    </a:lnTo>
                    <a:lnTo>
                      <a:pt x="52" y="1318"/>
                    </a:lnTo>
                    <a:lnTo>
                      <a:pt x="35" y="1312"/>
                    </a:lnTo>
                    <a:lnTo>
                      <a:pt x="17" y="1308"/>
                    </a:lnTo>
                    <a:lnTo>
                      <a:pt x="0" y="1302"/>
                    </a:lnTo>
                    <a:close/>
                  </a:path>
                </a:pathLst>
              </a:custGeom>
              <a:solidFill>
                <a:srgbClr val="ef3a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837720" y="2368800"/>
                <a:ext cx="2157840" cy="1486800"/>
              </a:xfrm>
              <a:custGeom>
                <a:avLst/>
                <a:gdLst/>
                <a:ahLst/>
                <a:rect l="l" t="t" r="r" b="b"/>
                <a:pathLst>
                  <a:path w="2064" h="1327">
                    <a:moveTo>
                      <a:pt x="0" y="1288"/>
                    </a:moveTo>
                    <a:lnTo>
                      <a:pt x="18" y="1222"/>
                    </a:lnTo>
                    <a:lnTo>
                      <a:pt x="37" y="1158"/>
                    </a:lnTo>
                    <a:lnTo>
                      <a:pt x="58" y="1093"/>
                    </a:lnTo>
                    <a:lnTo>
                      <a:pt x="84" y="1031"/>
                    </a:lnTo>
                    <a:lnTo>
                      <a:pt x="111" y="971"/>
                    </a:lnTo>
                    <a:lnTo>
                      <a:pt x="140" y="912"/>
                    </a:lnTo>
                    <a:lnTo>
                      <a:pt x="171" y="854"/>
                    </a:lnTo>
                    <a:lnTo>
                      <a:pt x="207" y="797"/>
                    </a:lnTo>
                    <a:lnTo>
                      <a:pt x="244" y="743"/>
                    </a:lnTo>
                    <a:lnTo>
                      <a:pt x="283" y="690"/>
                    </a:lnTo>
                    <a:lnTo>
                      <a:pt x="325" y="639"/>
                    </a:lnTo>
                    <a:lnTo>
                      <a:pt x="368" y="589"/>
                    </a:lnTo>
                    <a:lnTo>
                      <a:pt x="415" y="540"/>
                    </a:lnTo>
                    <a:lnTo>
                      <a:pt x="464" y="495"/>
                    </a:lnTo>
                    <a:lnTo>
                      <a:pt x="514" y="450"/>
                    </a:lnTo>
                    <a:lnTo>
                      <a:pt x="565" y="407"/>
                    </a:lnTo>
                    <a:lnTo>
                      <a:pt x="620" y="366"/>
                    </a:lnTo>
                    <a:lnTo>
                      <a:pt x="676" y="327"/>
                    </a:lnTo>
                    <a:lnTo>
                      <a:pt x="735" y="290"/>
                    </a:lnTo>
                    <a:lnTo>
                      <a:pt x="795" y="255"/>
                    </a:lnTo>
                    <a:lnTo>
                      <a:pt x="855" y="222"/>
                    </a:lnTo>
                    <a:lnTo>
                      <a:pt x="920" y="191"/>
                    </a:lnTo>
                    <a:lnTo>
                      <a:pt x="984" y="162"/>
                    </a:lnTo>
                    <a:lnTo>
                      <a:pt x="1052" y="136"/>
                    </a:lnTo>
                    <a:lnTo>
                      <a:pt x="1121" y="111"/>
                    </a:lnTo>
                    <a:lnTo>
                      <a:pt x="1191" y="88"/>
                    </a:lnTo>
                    <a:lnTo>
                      <a:pt x="1261" y="68"/>
                    </a:lnTo>
                    <a:lnTo>
                      <a:pt x="1335" y="49"/>
                    </a:lnTo>
                    <a:lnTo>
                      <a:pt x="1409" y="33"/>
                    </a:lnTo>
                    <a:lnTo>
                      <a:pt x="1483" y="19"/>
                    </a:lnTo>
                    <a:lnTo>
                      <a:pt x="1561" y="10"/>
                    </a:lnTo>
                    <a:lnTo>
                      <a:pt x="1639" y="0"/>
                    </a:lnTo>
                    <a:lnTo>
                      <a:pt x="2064" y="2"/>
                    </a:lnTo>
                    <a:lnTo>
                      <a:pt x="1968" y="21"/>
                    </a:lnTo>
                    <a:lnTo>
                      <a:pt x="1875" y="41"/>
                    </a:lnTo>
                    <a:lnTo>
                      <a:pt x="1785" y="58"/>
                    </a:lnTo>
                    <a:lnTo>
                      <a:pt x="1697" y="76"/>
                    </a:lnTo>
                    <a:lnTo>
                      <a:pt x="1612" y="93"/>
                    </a:lnTo>
                    <a:lnTo>
                      <a:pt x="1530" y="113"/>
                    </a:lnTo>
                    <a:lnTo>
                      <a:pt x="1448" y="130"/>
                    </a:lnTo>
                    <a:lnTo>
                      <a:pt x="1372" y="150"/>
                    </a:lnTo>
                    <a:lnTo>
                      <a:pt x="1296" y="171"/>
                    </a:lnTo>
                    <a:lnTo>
                      <a:pt x="1222" y="191"/>
                    </a:lnTo>
                    <a:lnTo>
                      <a:pt x="1152" y="214"/>
                    </a:lnTo>
                    <a:lnTo>
                      <a:pt x="1083" y="238"/>
                    </a:lnTo>
                    <a:lnTo>
                      <a:pt x="1017" y="263"/>
                    </a:lnTo>
                    <a:lnTo>
                      <a:pt x="953" y="290"/>
                    </a:lnTo>
                    <a:lnTo>
                      <a:pt x="891" y="320"/>
                    </a:lnTo>
                    <a:lnTo>
                      <a:pt x="832" y="351"/>
                    </a:lnTo>
                    <a:lnTo>
                      <a:pt x="774" y="386"/>
                    </a:lnTo>
                    <a:lnTo>
                      <a:pt x="717" y="421"/>
                    </a:lnTo>
                    <a:lnTo>
                      <a:pt x="665" y="462"/>
                    </a:lnTo>
                    <a:lnTo>
                      <a:pt x="612" y="503"/>
                    </a:lnTo>
                    <a:lnTo>
                      <a:pt x="561" y="550"/>
                    </a:lnTo>
                    <a:lnTo>
                      <a:pt x="513" y="598"/>
                    </a:lnTo>
                    <a:lnTo>
                      <a:pt x="466" y="651"/>
                    </a:lnTo>
                    <a:lnTo>
                      <a:pt x="421" y="707"/>
                    </a:lnTo>
                    <a:lnTo>
                      <a:pt x="378" y="770"/>
                    </a:lnTo>
                    <a:lnTo>
                      <a:pt x="337" y="834"/>
                    </a:lnTo>
                    <a:lnTo>
                      <a:pt x="296" y="904"/>
                    </a:lnTo>
                    <a:lnTo>
                      <a:pt x="257" y="978"/>
                    </a:lnTo>
                    <a:lnTo>
                      <a:pt x="220" y="1058"/>
                    </a:lnTo>
                    <a:lnTo>
                      <a:pt x="185" y="1142"/>
                    </a:lnTo>
                    <a:lnTo>
                      <a:pt x="150" y="1232"/>
                    </a:lnTo>
                    <a:lnTo>
                      <a:pt x="117" y="1327"/>
                    </a:lnTo>
                    <a:lnTo>
                      <a:pt x="0" y="1288"/>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645120" y="2364120"/>
                <a:ext cx="2314440" cy="1603800"/>
              </a:xfrm>
              <a:custGeom>
                <a:avLst/>
                <a:gdLst/>
                <a:ahLst/>
                <a:rect l="l" t="t" r="r" b="b"/>
                <a:pathLst>
                  <a:path w="2216" h="1433">
                    <a:moveTo>
                      <a:pt x="0" y="1417"/>
                    </a:moveTo>
                    <a:lnTo>
                      <a:pt x="29" y="1337"/>
                    </a:lnTo>
                    <a:lnTo>
                      <a:pt x="61" y="1261"/>
                    </a:lnTo>
                    <a:lnTo>
                      <a:pt x="92" y="1187"/>
                    </a:lnTo>
                    <a:lnTo>
                      <a:pt x="125" y="1115"/>
                    </a:lnTo>
                    <a:lnTo>
                      <a:pt x="158" y="1047"/>
                    </a:lnTo>
                    <a:lnTo>
                      <a:pt x="193" y="980"/>
                    </a:lnTo>
                    <a:lnTo>
                      <a:pt x="228" y="916"/>
                    </a:lnTo>
                    <a:lnTo>
                      <a:pt x="265" y="856"/>
                    </a:lnTo>
                    <a:lnTo>
                      <a:pt x="302" y="797"/>
                    </a:lnTo>
                    <a:lnTo>
                      <a:pt x="343" y="741"/>
                    </a:lnTo>
                    <a:lnTo>
                      <a:pt x="382" y="688"/>
                    </a:lnTo>
                    <a:lnTo>
                      <a:pt x="425" y="635"/>
                    </a:lnTo>
                    <a:lnTo>
                      <a:pt x="468" y="587"/>
                    </a:lnTo>
                    <a:lnTo>
                      <a:pt x="513" y="540"/>
                    </a:lnTo>
                    <a:lnTo>
                      <a:pt x="559" y="495"/>
                    </a:lnTo>
                    <a:lnTo>
                      <a:pt x="608" y="452"/>
                    </a:lnTo>
                    <a:lnTo>
                      <a:pt x="659" y="411"/>
                    </a:lnTo>
                    <a:lnTo>
                      <a:pt x="709" y="372"/>
                    </a:lnTo>
                    <a:lnTo>
                      <a:pt x="762" y="335"/>
                    </a:lnTo>
                    <a:lnTo>
                      <a:pt x="819" y="300"/>
                    </a:lnTo>
                    <a:lnTo>
                      <a:pt x="875" y="267"/>
                    </a:lnTo>
                    <a:lnTo>
                      <a:pt x="934" y="236"/>
                    </a:lnTo>
                    <a:lnTo>
                      <a:pt x="994" y="207"/>
                    </a:lnTo>
                    <a:lnTo>
                      <a:pt x="1058" y="177"/>
                    </a:lnTo>
                    <a:lnTo>
                      <a:pt x="1123" y="150"/>
                    </a:lnTo>
                    <a:lnTo>
                      <a:pt x="1191" y="125"/>
                    </a:lnTo>
                    <a:lnTo>
                      <a:pt x="1259" y="101"/>
                    </a:lnTo>
                    <a:lnTo>
                      <a:pt x="1331" y="78"/>
                    </a:lnTo>
                    <a:lnTo>
                      <a:pt x="1405" y="56"/>
                    </a:lnTo>
                    <a:lnTo>
                      <a:pt x="1483" y="37"/>
                    </a:lnTo>
                    <a:lnTo>
                      <a:pt x="1561" y="17"/>
                    </a:lnTo>
                    <a:lnTo>
                      <a:pt x="1643" y="0"/>
                    </a:lnTo>
                    <a:lnTo>
                      <a:pt x="2216" y="8"/>
                    </a:lnTo>
                    <a:lnTo>
                      <a:pt x="2124" y="21"/>
                    </a:lnTo>
                    <a:lnTo>
                      <a:pt x="2037" y="37"/>
                    </a:lnTo>
                    <a:lnTo>
                      <a:pt x="1949" y="51"/>
                    </a:lnTo>
                    <a:lnTo>
                      <a:pt x="1863" y="66"/>
                    </a:lnTo>
                    <a:lnTo>
                      <a:pt x="1779" y="80"/>
                    </a:lnTo>
                    <a:lnTo>
                      <a:pt x="1697" y="97"/>
                    </a:lnTo>
                    <a:lnTo>
                      <a:pt x="1618" y="115"/>
                    </a:lnTo>
                    <a:lnTo>
                      <a:pt x="1538" y="132"/>
                    </a:lnTo>
                    <a:lnTo>
                      <a:pt x="1462" y="152"/>
                    </a:lnTo>
                    <a:lnTo>
                      <a:pt x="1386" y="173"/>
                    </a:lnTo>
                    <a:lnTo>
                      <a:pt x="1314" y="197"/>
                    </a:lnTo>
                    <a:lnTo>
                      <a:pt x="1241" y="222"/>
                    </a:lnTo>
                    <a:lnTo>
                      <a:pt x="1171" y="249"/>
                    </a:lnTo>
                    <a:lnTo>
                      <a:pt x="1103" y="279"/>
                    </a:lnTo>
                    <a:lnTo>
                      <a:pt x="1035" y="310"/>
                    </a:lnTo>
                    <a:lnTo>
                      <a:pt x="971" y="345"/>
                    </a:lnTo>
                    <a:lnTo>
                      <a:pt x="906" y="382"/>
                    </a:lnTo>
                    <a:lnTo>
                      <a:pt x="844" y="423"/>
                    </a:lnTo>
                    <a:lnTo>
                      <a:pt x="784" y="468"/>
                    </a:lnTo>
                    <a:lnTo>
                      <a:pt x="725" y="516"/>
                    </a:lnTo>
                    <a:lnTo>
                      <a:pt x="667" y="567"/>
                    </a:lnTo>
                    <a:lnTo>
                      <a:pt x="610" y="622"/>
                    </a:lnTo>
                    <a:lnTo>
                      <a:pt x="556" y="682"/>
                    </a:lnTo>
                    <a:lnTo>
                      <a:pt x="503" y="745"/>
                    </a:lnTo>
                    <a:lnTo>
                      <a:pt x="450" y="813"/>
                    </a:lnTo>
                    <a:lnTo>
                      <a:pt x="400" y="887"/>
                    </a:lnTo>
                    <a:lnTo>
                      <a:pt x="351" y="965"/>
                    </a:lnTo>
                    <a:lnTo>
                      <a:pt x="304" y="1047"/>
                    </a:lnTo>
                    <a:lnTo>
                      <a:pt x="257" y="1134"/>
                    </a:lnTo>
                    <a:lnTo>
                      <a:pt x="213" y="1228"/>
                    </a:lnTo>
                    <a:lnTo>
                      <a:pt x="170" y="1327"/>
                    </a:lnTo>
                    <a:lnTo>
                      <a:pt x="127" y="1433"/>
                    </a:lnTo>
                    <a:lnTo>
                      <a:pt x="0" y="141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456840" y="2366640"/>
                <a:ext cx="2218680" cy="1706400"/>
              </a:xfrm>
              <a:custGeom>
                <a:avLst/>
                <a:gdLst/>
                <a:ahLst/>
                <a:rect l="l" t="t" r="r" b="b"/>
                <a:pathLst>
                  <a:path w="2122" h="1524">
                    <a:moveTo>
                      <a:pt x="0" y="1470"/>
                    </a:moveTo>
                    <a:lnTo>
                      <a:pt x="37" y="1388"/>
                    </a:lnTo>
                    <a:lnTo>
                      <a:pt x="76" y="1310"/>
                    </a:lnTo>
                    <a:lnTo>
                      <a:pt x="115" y="1236"/>
                    </a:lnTo>
                    <a:lnTo>
                      <a:pt x="156" y="1164"/>
                    </a:lnTo>
                    <a:lnTo>
                      <a:pt x="199" y="1093"/>
                    </a:lnTo>
                    <a:lnTo>
                      <a:pt x="244" y="1025"/>
                    </a:lnTo>
                    <a:lnTo>
                      <a:pt x="288" y="961"/>
                    </a:lnTo>
                    <a:lnTo>
                      <a:pt x="335" y="898"/>
                    </a:lnTo>
                    <a:lnTo>
                      <a:pt x="384" y="838"/>
                    </a:lnTo>
                    <a:lnTo>
                      <a:pt x="435" y="782"/>
                    </a:lnTo>
                    <a:lnTo>
                      <a:pt x="485" y="727"/>
                    </a:lnTo>
                    <a:lnTo>
                      <a:pt x="540" y="674"/>
                    </a:lnTo>
                    <a:lnTo>
                      <a:pt x="594" y="624"/>
                    </a:lnTo>
                    <a:lnTo>
                      <a:pt x="651" y="575"/>
                    </a:lnTo>
                    <a:lnTo>
                      <a:pt x="709" y="528"/>
                    </a:lnTo>
                    <a:lnTo>
                      <a:pt x="772" y="483"/>
                    </a:lnTo>
                    <a:lnTo>
                      <a:pt x="834" y="442"/>
                    </a:lnTo>
                    <a:lnTo>
                      <a:pt x="898" y="401"/>
                    </a:lnTo>
                    <a:lnTo>
                      <a:pt x="965" y="362"/>
                    </a:lnTo>
                    <a:lnTo>
                      <a:pt x="1033" y="325"/>
                    </a:lnTo>
                    <a:lnTo>
                      <a:pt x="1103" y="290"/>
                    </a:lnTo>
                    <a:lnTo>
                      <a:pt x="1175" y="257"/>
                    </a:lnTo>
                    <a:lnTo>
                      <a:pt x="1251" y="226"/>
                    </a:lnTo>
                    <a:lnTo>
                      <a:pt x="1327" y="195"/>
                    </a:lnTo>
                    <a:lnTo>
                      <a:pt x="1407" y="168"/>
                    </a:lnTo>
                    <a:lnTo>
                      <a:pt x="1489" y="140"/>
                    </a:lnTo>
                    <a:lnTo>
                      <a:pt x="1573" y="115"/>
                    </a:lnTo>
                    <a:lnTo>
                      <a:pt x="1658" y="90"/>
                    </a:lnTo>
                    <a:lnTo>
                      <a:pt x="1746" y="66"/>
                    </a:lnTo>
                    <a:lnTo>
                      <a:pt x="1838" y="45"/>
                    </a:lnTo>
                    <a:lnTo>
                      <a:pt x="1931" y="23"/>
                    </a:lnTo>
                    <a:lnTo>
                      <a:pt x="2027" y="4"/>
                    </a:lnTo>
                    <a:lnTo>
                      <a:pt x="2114" y="0"/>
                    </a:lnTo>
                    <a:lnTo>
                      <a:pt x="2120" y="33"/>
                    </a:lnTo>
                    <a:lnTo>
                      <a:pt x="2122" y="86"/>
                    </a:lnTo>
                    <a:lnTo>
                      <a:pt x="2118" y="136"/>
                    </a:lnTo>
                    <a:lnTo>
                      <a:pt x="2110" y="160"/>
                    </a:lnTo>
                    <a:lnTo>
                      <a:pt x="2034" y="177"/>
                    </a:lnTo>
                    <a:lnTo>
                      <a:pt x="1958" y="197"/>
                    </a:lnTo>
                    <a:lnTo>
                      <a:pt x="1884" y="214"/>
                    </a:lnTo>
                    <a:lnTo>
                      <a:pt x="1812" y="234"/>
                    </a:lnTo>
                    <a:lnTo>
                      <a:pt x="1742" y="251"/>
                    </a:lnTo>
                    <a:lnTo>
                      <a:pt x="1672" y="271"/>
                    </a:lnTo>
                    <a:lnTo>
                      <a:pt x="1604" y="292"/>
                    </a:lnTo>
                    <a:lnTo>
                      <a:pt x="1536" y="312"/>
                    </a:lnTo>
                    <a:lnTo>
                      <a:pt x="1469" y="335"/>
                    </a:lnTo>
                    <a:lnTo>
                      <a:pt x="1405" y="357"/>
                    </a:lnTo>
                    <a:lnTo>
                      <a:pt x="1341" y="382"/>
                    </a:lnTo>
                    <a:lnTo>
                      <a:pt x="1278" y="407"/>
                    </a:lnTo>
                    <a:lnTo>
                      <a:pt x="1218" y="437"/>
                    </a:lnTo>
                    <a:lnTo>
                      <a:pt x="1156" y="466"/>
                    </a:lnTo>
                    <a:lnTo>
                      <a:pt x="1097" y="497"/>
                    </a:lnTo>
                    <a:lnTo>
                      <a:pt x="1039" y="532"/>
                    </a:lnTo>
                    <a:lnTo>
                      <a:pt x="980" y="567"/>
                    </a:lnTo>
                    <a:lnTo>
                      <a:pt x="924" y="606"/>
                    </a:lnTo>
                    <a:lnTo>
                      <a:pt x="869" y="649"/>
                    </a:lnTo>
                    <a:lnTo>
                      <a:pt x="815" y="694"/>
                    </a:lnTo>
                    <a:lnTo>
                      <a:pt x="760" y="741"/>
                    </a:lnTo>
                    <a:lnTo>
                      <a:pt x="707" y="793"/>
                    </a:lnTo>
                    <a:lnTo>
                      <a:pt x="655" y="848"/>
                    </a:lnTo>
                    <a:lnTo>
                      <a:pt x="602" y="906"/>
                    </a:lnTo>
                    <a:lnTo>
                      <a:pt x="551" y="969"/>
                    </a:lnTo>
                    <a:lnTo>
                      <a:pt x="503" y="1033"/>
                    </a:lnTo>
                    <a:lnTo>
                      <a:pt x="452" y="1105"/>
                    </a:lnTo>
                    <a:lnTo>
                      <a:pt x="405" y="1179"/>
                    </a:lnTo>
                    <a:lnTo>
                      <a:pt x="357" y="1257"/>
                    </a:lnTo>
                    <a:lnTo>
                      <a:pt x="310" y="1341"/>
                    </a:lnTo>
                    <a:lnTo>
                      <a:pt x="263" y="1431"/>
                    </a:lnTo>
                    <a:lnTo>
                      <a:pt x="216" y="1524"/>
                    </a:lnTo>
                    <a:lnTo>
                      <a:pt x="0" y="147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473760" y="2362320"/>
                <a:ext cx="2354400" cy="1650600"/>
              </a:xfrm>
              <a:custGeom>
                <a:avLst/>
                <a:gdLst/>
                <a:ahLst/>
                <a:rect l="l" t="t" r="r" b="b"/>
                <a:pathLst>
                  <a:path w="2253" h="1474">
                    <a:moveTo>
                      <a:pt x="0" y="1419"/>
                    </a:moveTo>
                    <a:lnTo>
                      <a:pt x="27" y="1343"/>
                    </a:lnTo>
                    <a:lnTo>
                      <a:pt x="56" y="1271"/>
                    </a:lnTo>
                    <a:lnTo>
                      <a:pt x="86" y="1201"/>
                    </a:lnTo>
                    <a:lnTo>
                      <a:pt x="117" y="1132"/>
                    </a:lnTo>
                    <a:lnTo>
                      <a:pt x="150" y="1066"/>
                    </a:lnTo>
                    <a:lnTo>
                      <a:pt x="183" y="1002"/>
                    </a:lnTo>
                    <a:lnTo>
                      <a:pt x="220" y="940"/>
                    </a:lnTo>
                    <a:lnTo>
                      <a:pt x="257" y="881"/>
                    </a:lnTo>
                    <a:lnTo>
                      <a:pt x="298" y="825"/>
                    </a:lnTo>
                    <a:lnTo>
                      <a:pt x="339" y="768"/>
                    </a:lnTo>
                    <a:lnTo>
                      <a:pt x="382" y="715"/>
                    </a:lnTo>
                    <a:lnTo>
                      <a:pt x="427" y="665"/>
                    </a:lnTo>
                    <a:lnTo>
                      <a:pt x="473" y="614"/>
                    </a:lnTo>
                    <a:lnTo>
                      <a:pt x="524" y="567"/>
                    </a:lnTo>
                    <a:lnTo>
                      <a:pt x="575" y="522"/>
                    </a:lnTo>
                    <a:lnTo>
                      <a:pt x="627" y="478"/>
                    </a:lnTo>
                    <a:lnTo>
                      <a:pt x="684" y="437"/>
                    </a:lnTo>
                    <a:lnTo>
                      <a:pt x="742" y="398"/>
                    </a:lnTo>
                    <a:lnTo>
                      <a:pt x="803" y="359"/>
                    </a:lnTo>
                    <a:lnTo>
                      <a:pt x="865" y="322"/>
                    </a:lnTo>
                    <a:lnTo>
                      <a:pt x="931" y="287"/>
                    </a:lnTo>
                    <a:lnTo>
                      <a:pt x="999" y="253"/>
                    </a:lnTo>
                    <a:lnTo>
                      <a:pt x="1070" y="222"/>
                    </a:lnTo>
                    <a:lnTo>
                      <a:pt x="1144" y="191"/>
                    </a:lnTo>
                    <a:lnTo>
                      <a:pt x="1220" y="164"/>
                    </a:lnTo>
                    <a:lnTo>
                      <a:pt x="1298" y="136"/>
                    </a:lnTo>
                    <a:lnTo>
                      <a:pt x="1379" y="109"/>
                    </a:lnTo>
                    <a:lnTo>
                      <a:pt x="1463" y="86"/>
                    </a:lnTo>
                    <a:lnTo>
                      <a:pt x="1551" y="62"/>
                    </a:lnTo>
                    <a:lnTo>
                      <a:pt x="1643" y="41"/>
                    </a:lnTo>
                    <a:lnTo>
                      <a:pt x="1736" y="19"/>
                    </a:lnTo>
                    <a:lnTo>
                      <a:pt x="1834" y="0"/>
                    </a:lnTo>
                    <a:lnTo>
                      <a:pt x="2253" y="10"/>
                    </a:lnTo>
                    <a:lnTo>
                      <a:pt x="2159" y="25"/>
                    </a:lnTo>
                    <a:lnTo>
                      <a:pt x="2067" y="43"/>
                    </a:lnTo>
                    <a:lnTo>
                      <a:pt x="1978" y="60"/>
                    </a:lnTo>
                    <a:lnTo>
                      <a:pt x="1888" y="78"/>
                    </a:lnTo>
                    <a:lnTo>
                      <a:pt x="1800" y="96"/>
                    </a:lnTo>
                    <a:lnTo>
                      <a:pt x="1715" y="115"/>
                    </a:lnTo>
                    <a:lnTo>
                      <a:pt x="1629" y="136"/>
                    </a:lnTo>
                    <a:lnTo>
                      <a:pt x="1545" y="158"/>
                    </a:lnTo>
                    <a:lnTo>
                      <a:pt x="1461" y="181"/>
                    </a:lnTo>
                    <a:lnTo>
                      <a:pt x="1381" y="205"/>
                    </a:lnTo>
                    <a:lnTo>
                      <a:pt x="1302" y="232"/>
                    </a:lnTo>
                    <a:lnTo>
                      <a:pt x="1226" y="261"/>
                    </a:lnTo>
                    <a:lnTo>
                      <a:pt x="1150" y="290"/>
                    </a:lnTo>
                    <a:lnTo>
                      <a:pt x="1075" y="324"/>
                    </a:lnTo>
                    <a:lnTo>
                      <a:pt x="1003" y="359"/>
                    </a:lnTo>
                    <a:lnTo>
                      <a:pt x="933" y="396"/>
                    </a:lnTo>
                    <a:lnTo>
                      <a:pt x="865" y="437"/>
                    </a:lnTo>
                    <a:lnTo>
                      <a:pt x="799" y="480"/>
                    </a:lnTo>
                    <a:lnTo>
                      <a:pt x="734" y="526"/>
                    </a:lnTo>
                    <a:lnTo>
                      <a:pt x="674" y="575"/>
                    </a:lnTo>
                    <a:lnTo>
                      <a:pt x="614" y="630"/>
                    </a:lnTo>
                    <a:lnTo>
                      <a:pt x="557" y="684"/>
                    </a:lnTo>
                    <a:lnTo>
                      <a:pt x="503" y="745"/>
                    </a:lnTo>
                    <a:lnTo>
                      <a:pt x="450" y="809"/>
                    </a:lnTo>
                    <a:lnTo>
                      <a:pt x="399" y="875"/>
                    </a:lnTo>
                    <a:lnTo>
                      <a:pt x="353" y="947"/>
                    </a:lnTo>
                    <a:lnTo>
                      <a:pt x="308" y="1023"/>
                    </a:lnTo>
                    <a:lnTo>
                      <a:pt x="267" y="1105"/>
                    </a:lnTo>
                    <a:lnTo>
                      <a:pt x="228" y="1189"/>
                    </a:lnTo>
                    <a:lnTo>
                      <a:pt x="191" y="1279"/>
                    </a:lnTo>
                    <a:lnTo>
                      <a:pt x="158" y="1374"/>
                    </a:lnTo>
                    <a:lnTo>
                      <a:pt x="126" y="1474"/>
                    </a:lnTo>
                    <a:lnTo>
                      <a:pt x="0" y="141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57200" y="2364120"/>
                <a:ext cx="2275200" cy="1637280"/>
              </a:xfrm>
              <a:custGeom>
                <a:avLst/>
                <a:gdLst/>
                <a:ahLst/>
                <a:rect l="l" t="t" r="r" b="b"/>
                <a:pathLst>
                  <a:path w="2177" h="1462">
                    <a:moveTo>
                      <a:pt x="0" y="1433"/>
                    </a:moveTo>
                    <a:lnTo>
                      <a:pt x="30" y="1353"/>
                    </a:lnTo>
                    <a:lnTo>
                      <a:pt x="61" y="1277"/>
                    </a:lnTo>
                    <a:lnTo>
                      <a:pt x="94" y="1203"/>
                    </a:lnTo>
                    <a:lnTo>
                      <a:pt x="127" y="1132"/>
                    </a:lnTo>
                    <a:lnTo>
                      <a:pt x="162" y="1064"/>
                    </a:lnTo>
                    <a:lnTo>
                      <a:pt x="201" y="998"/>
                    </a:lnTo>
                    <a:lnTo>
                      <a:pt x="238" y="938"/>
                    </a:lnTo>
                    <a:lnTo>
                      <a:pt x="279" y="877"/>
                    </a:lnTo>
                    <a:lnTo>
                      <a:pt x="322" y="821"/>
                    </a:lnTo>
                    <a:lnTo>
                      <a:pt x="367" y="766"/>
                    </a:lnTo>
                    <a:lnTo>
                      <a:pt x="414" y="713"/>
                    </a:lnTo>
                    <a:lnTo>
                      <a:pt x="462" y="663"/>
                    </a:lnTo>
                    <a:lnTo>
                      <a:pt x="513" y="616"/>
                    </a:lnTo>
                    <a:lnTo>
                      <a:pt x="566" y="569"/>
                    </a:lnTo>
                    <a:lnTo>
                      <a:pt x="620" y="526"/>
                    </a:lnTo>
                    <a:lnTo>
                      <a:pt x="679" y="483"/>
                    </a:lnTo>
                    <a:lnTo>
                      <a:pt x="737" y="444"/>
                    </a:lnTo>
                    <a:lnTo>
                      <a:pt x="799" y="405"/>
                    </a:lnTo>
                    <a:lnTo>
                      <a:pt x="866" y="368"/>
                    </a:lnTo>
                    <a:lnTo>
                      <a:pt x="932" y="335"/>
                    </a:lnTo>
                    <a:lnTo>
                      <a:pt x="1004" y="300"/>
                    </a:lnTo>
                    <a:lnTo>
                      <a:pt x="1076" y="269"/>
                    </a:lnTo>
                    <a:lnTo>
                      <a:pt x="1152" y="238"/>
                    </a:lnTo>
                    <a:lnTo>
                      <a:pt x="1232" y="209"/>
                    </a:lnTo>
                    <a:lnTo>
                      <a:pt x="1314" y="179"/>
                    </a:lnTo>
                    <a:lnTo>
                      <a:pt x="1400" y="152"/>
                    </a:lnTo>
                    <a:lnTo>
                      <a:pt x="1487" y="127"/>
                    </a:lnTo>
                    <a:lnTo>
                      <a:pt x="1579" y="101"/>
                    </a:lnTo>
                    <a:lnTo>
                      <a:pt x="1674" y="76"/>
                    </a:lnTo>
                    <a:lnTo>
                      <a:pt x="1774" y="53"/>
                    </a:lnTo>
                    <a:lnTo>
                      <a:pt x="1875" y="29"/>
                    </a:lnTo>
                    <a:lnTo>
                      <a:pt x="1980" y="6"/>
                    </a:lnTo>
                    <a:lnTo>
                      <a:pt x="2177" y="0"/>
                    </a:lnTo>
                    <a:lnTo>
                      <a:pt x="2177" y="41"/>
                    </a:lnTo>
                    <a:lnTo>
                      <a:pt x="2175" y="41"/>
                    </a:lnTo>
                    <a:lnTo>
                      <a:pt x="2167" y="43"/>
                    </a:lnTo>
                    <a:lnTo>
                      <a:pt x="2156" y="45"/>
                    </a:lnTo>
                    <a:lnTo>
                      <a:pt x="2138" y="49"/>
                    </a:lnTo>
                    <a:lnTo>
                      <a:pt x="2117" y="53"/>
                    </a:lnTo>
                    <a:lnTo>
                      <a:pt x="2093" y="58"/>
                    </a:lnTo>
                    <a:lnTo>
                      <a:pt x="2064" y="64"/>
                    </a:lnTo>
                    <a:lnTo>
                      <a:pt x="2031" y="70"/>
                    </a:lnTo>
                    <a:lnTo>
                      <a:pt x="1996" y="78"/>
                    </a:lnTo>
                    <a:lnTo>
                      <a:pt x="1957" y="88"/>
                    </a:lnTo>
                    <a:lnTo>
                      <a:pt x="1916" y="97"/>
                    </a:lnTo>
                    <a:lnTo>
                      <a:pt x="1871" y="109"/>
                    </a:lnTo>
                    <a:lnTo>
                      <a:pt x="1824" y="121"/>
                    </a:lnTo>
                    <a:lnTo>
                      <a:pt x="1776" y="134"/>
                    </a:lnTo>
                    <a:lnTo>
                      <a:pt x="1725" y="150"/>
                    </a:lnTo>
                    <a:lnTo>
                      <a:pt x="1670" y="164"/>
                    </a:lnTo>
                    <a:lnTo>
                      <a:pt x="1616" y="181"/>
                    </a:lnTo>
                    <a:lnTo>
                      <a:pt x="1561" y="199"/>
                    </a:lnTo>
                    <a:lnTo>
                      <a:pt x="1503" y="218"/>
                    </a:lnTo>
                    <a:lnTo>
                      <a:pt x="1444" y="240"/>
                    </a:lnTo>
                    <a:lnTo>
                      <a:pt x="1386" y="261"/>
                    </a:lnTo>
                    <a:lnTo>
                      <a:pt x="1327" y="283"/>
                    </a:lnTo>
                    <a:lnTo>
                      <a:pt x="1267" y="308"/>
                    </a:lnTo>
                    <a:lnTo>
                      <a:pt x="1209" y="333"/>
                    </a:lnTo>
                    <a:lnTo>
                      <a:pt x="1148" y="361"/>
                    </a:lnTo>
                    <a:lnTo>
                      <a:pt x="1090" y="388"/>
                    </a:lnTo>
                    <a:lnTo>
                      <a:pt x="1031" y="417"/>
                    </a:lnTo>
                    <a:lnTo>
                      <a:pt x="973" y="448"/>
                    </a:lnTo>
                    <a:lnTo>
                      <a:pt x="916" y="481"/>
                    </a:lnTo>
                    <a:lnTo>
                      <a:pt x="862" y="515"/>
                    </a:lnTo>
                    <a:lnTo>
                      <a:pt x="807" y="550"/>
                    </a:lnTo>
                    <a:lnTo>
                      <a:pt x="755" y="587"/>
                    </a:lnTo>
                    <a:lnTo>
                      <a:pt x="702" y="626"/>
                    </a:lnTo>
                    <a:lnTo>
                      <a:pt x="651" y="669"/>
                    </a:lnTo>
                    <a:lnTo>
                      <a:pt x="601" y="711"/>
                    </a:lnTo>
                    <a:lnTo>
                      <a:pt x="552" y="758"/>
                    </a:lnTo>
                    <a:lnTo>
                      <a:pt x="503" y="807"/>
                    </a:lnTo>
                    <a:lnTo>
                      <a:pt x="458" y="858"/>
                    </a:lnTo>
                    <a:lnTo>
                      <a:pt x="414" y="910"/>
                    </a:lnTo>
                    <a:lnTo>
                      <a:pt x="373" y="965"/>
                    </a:lnTo>
                    <a:lnTo>
                      <a:pt x="332" y="1021"/>
                    </a:lnTo>
                    <a:lnTo>
                      <a:pt x="295" y="1080"/>
                    </a:lnTo>
                    <a:lnTo>
                      <a:pt x="260" y="1138"/>
                    </a:lnTo>
                    <a:lnTo>
                      <a:pt x="228" y="1201"/>
                    </a:lnTo>
                    <a:lnTo>
                      <a:pt x="199" y="1263"/>
                    </a:lnTo>
                    <a:lnTo>
                      <a:pt x="174" y="1329"/>
                    </a:lnTo>
                    <a:lnTo>
                      <a:pt x="152" y="1394"/>
                    </a:lnTo>
                    <a:lnTo>
                      <a:pt x="133" y="1462"/>
                    </a:lnTo>
                    <a:lnTo>
                      <a:pt x="0" y="1433"/>
                    </a:lnTo>
                    <a:close/>
                  </a:path>
                </a:pathLst>
              </a:custGeom>
              <a:solidFill>
                <a:srgbClr val="33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461160" y="2523600"/>
                <a:ext cx="2032200" cy="1908000"/>
              </a:xfrm>
              <a:custGeom>
                <a:avLst/>
                <a:gdLst/>
                <a:ahLst/>
                <a:rect l="l" t="t" r="r" b="b"/>
                <a:pathLst>
                  <a:path w="1945" h="1704">
                    <a:moveTo>
                      <a:pt x="0" y="1476"/>
                    </a:moveTo>
                    <a:lnTo>
                      <a:pt x="28" y="1398"/>
                    </a:lnTo>
                    <a:lnTo>
                      <a:pt x="57" y="1324"/>
                    </a:lnTo>
                    <a:lnTo>
                      <a:pt x="88" y="1250"/>
                    </a:lnTo>
                    <a:lnTo>
                      <a:pt x="119" y="1181"/>
                    </a:lnTo>
                    <a:lnTo>
                      <a:pt x="154" y="1113"/>
                    </a:lnTo>
                    <a:lnTo>
                      <a:pt x="189" y="1047"/>
                    </a:lnTo>
                    <a:lnTo>
                      <a:pt x="228" y="985"/>
                    </a:lnTo>
                    <a:lnTo>
                      <a:pt x="267" y="924"/>
                    </a:lnTo>
                    <a:lnTo>
                      <a:pt x="310" y="866"/>
                    </a:lnTo>
                    <a:lnTo>
                      <a:pt x="353" y="809"/>
                    </a:lnTo>
                    <a:lnTo>
                      <a:pt x="400" y="755"/>
                    </a:lnTo>
                    <a:lnTo>
                      <a:pt x="449" y="704"/>
                    </a:lnTo>
                    <a:lnTo>
                      <a:pt x="497" y="653"/>
                    </a:lnTo>
                    <a:lnTo>
                      <a:pt x="550" y="605"/>
                    </a:lnTo>
                    <a:lnTo>
                      <a:pt x="604" y="558"/>
                    </a:lnTo>
                    <a:lnTo>
                      <a:pt x="663" y="513"/>
                    </a:lnTo>
                    <a:lnTo>
                      <a:pt x="721" y="470"/>
                    </a:lnTo>
                    <a:lnTo>
                      <a:pt x="784" y="429"/>
                    </a:lnTo>
                    <a:lnTo>
                      <a:pt x="848" y="390"/>
                    </a:lnTo>
                    <a:lnTo>
                      <a:pt x="916" y="353"/>
                    </a:lnTo>
                    <a:lnTo>
                      <a:pt x="986" y="316"/>
                    </a:lnTo>
                    <a:lnTo>
                      <a:pt x="1059" y="281"/>
                    </a:lnTo>
                    <a:lnTo>
                      <a:pt x="1133" y="248"/>
                    </a:lnTo>
                    <a:lnTo>
                      <a:pt x="1211" y="215"/>
                    </a:lnTo>
                    <a:lnTo>
                      <a:pt x="1292" y="183"/>
                    </a:lnTo>
                    <a:lnTo>
                      <a:pt x="1376" y="154"/>
                    </a:lnTo>
                    <a:lnTo>
                      <a:pt x="1462" y="127"/>
                    </a:lnTo>
                    <a:lnTo>
                      <a:pt x="1552" y="100"/>
                    </a:lnTo>
                    <a:lnTo>
                      <a:pt x="1645" y="72"/>
                    </a:lnTo>
                    <a:lnTo>
                      <a:pt x="1741" y="47"/>
                    </a:lnTo>
                    <a:lnTo>
                      <a:pt x="1840" y="24"/>
                    </a:lnTo>
                    <a:lnTo>
                      <a:pt x="1941" y="0"/>
                    </a:lnTo>
                    <a:lnTo>
                      <a:pt x="1943" y="74"/>
                    </a:lnTo>
                    <a:lnTo>
                      <a:pt x="1943" y="146"/>
                    </a:lnTo>
                    <a:lnTo>
                      <a:pt x="1943" y="221"/>
                    </a:lnTo>
                    <a:lnTo>
                      <a:pt x="1945" y="293"/>
                    </a:lnTo>
                    <a:lnTo>
                      <a:pt x="1893" y="308"/>
                    </a:lnTo>
                    <a:lnTo>
                      <a:pt x="1838" y="326"/>
                    </a:lnTo>
                    <a:lnTo>
                      <a:pt x="1783" y="341"/>
                    </a:lnTo>
                    <a:lnTo>
                      <a:pt x="1727" y="359"/>
                    </a:lnTo>
                    <a:lnTo>
                      <a:pt x="1670" y="376"/>
                    </a:lnTo>
                    <a:lnTo>
                      <a:pt x="1612" y="394"/>
                    </a:lnTo>
                    <a:lnTo>
                      <a:pt x="1554" y="413"/>
                    </a:lnTo>
                    <a:lnTo>
                      <a:pt x="1495" y="433"/>
                    </a:lnTo>
                    <a:lnTo>
                      <a:pt x="1437" y="454"/>
                    </a:lnTo>
                    <a:lnTo>
                      <a:pt x="1376" y="476"/>
                    </a:lnTo>
                    <a:lnTo>
                      <a:pt x="1316" y="501"/>
                    </a:lnTo>
                    <a:lnTo>
                      <a:pt x="1257" y="527"/>
                    </a:lnTo>
                    <a:lnTo>
                      <a:pt x="1197" y="556"/>
                    </a:lnTo>
                    <a:lnTo>
                      <a:pt x="1136" y="585"/>
                    </a:lnTo>
                    <a:lnTo>
                      <a:pt x="1076" y="618"/>
                    </a:lnTo>
                    <a:lnTo>
                      <a:pt x="1018" y="653"/>
                    </a:lnTo>
                    <a:lnTo>
                      <a:pt x="957" y="690"/>
                    </a:lnTo>
                    <a:lnTo>
                      <a:pt x="899" y="731"/>
                    </a:lnTo>
                    <a:lnTo>
                      <a:pt x="838" y="774"/>
                    </a:lnTo>
                    <a:lnTo>
                      <a:pt x="780" y="821"/>
                    </a:lnTo>
                    <a:lnTo>
                      <a:pt x="723" y="872"/>
                    </a:lnTo>
                    <a:lnTo>
                      <a:pt x="665" y="926"/>
                    </a:lnTo>
                    <a:lnTo>
                      <a:pt x="610" y="983"/>
                    </a:lnTo>
                    <a:lnTo>
                      <a:pt x="554" y="1045"/>
                    </a:lnTo>
                    <a:lnTo>
                      <a:pt x="499" y="1111"/>
                    </a:lnTo>
                    <a:lnTo>
                      <a:pt x="447" y="1181"/>
                    </a:lnTo>
                    <a:lnTo>
                      <a:pt x="394" y="1256"/>
                    </a:lnTo>
                    <a:lnTo>
                      <a:pt x="343" y="1335"/>
                    </a:lnTo>
                    <a:lnTo>
                      <a:pt x="293" y="1419"/>
                    </a:lnTo>
                    <a:lnTo>
                      <a:pt x="244" y="1509"/>
                    </a:lnTo>
                    <a:lnTo>
                      <a:pt x="197" y="1604"/>
                    </a:lnTo>
                    <a:lnTo>
                      <a:pt x="152" y="1704"/>
                    </a:lnTo>
                    <a:lnTo>
                      <a:pt x="133" y="1677"/>
                    </a:lnTo>
                    <a:lnTo>
                      <a:pt x="115" y="1647"/>
                    </a:lnTo>
                    <a:lnTo>
                      <a:pt x="96" y="1620"/>
                    </a:lnTo>
                    <a:lnTo>
                      <a:pt x="76" y="1591"/>
                    </a:lnTo>
                    <a:lnTo>
                      <a:pt x="57" y="1562"/>
                    </a:lnTo>
                    <a:lnTo>
                      <a:pt x="39" y="1532"/>
                    </a:lnTo>
                    <a:lnTo>
                      <a:pt x="20" y="1505"/>
                    </a:lnTo>
                    <a:lnTo>
                      <a:pt x="0" y="1476"/>
                    </a:lnTo>
                    <a:close/>
                  </a:path>
                </a:pathLst>
              </a:custGeom>
              <a:solidFill>
                <a:srgbClr val="637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461160" y="2523600"/>
                <a:ext cx="2032200" cy="1889640"/>
              </a:xfrm>
              <a:custGeom>
                <a:avLst/>
                <a:gdLst/>
                <a:ahLst/>
                <a:rect l="l" t="t" r="r" b="b"/>
                <a:pathLst>
                  <a:path w="1945" h="1688">
                    <a:moveTo>
                      <a:pt x="0" y="1476"/>
                    </a:moveTo>
                    <a:lnTo>
                      <a:pt x="28" y="1398"/>
                    </a:lnTo>
                    <a:lnTo>
                      <a:pt x="57" y="1324"/>
                    </a:lnTo>
                    <a:lnTo>
                      <a:pt x="86" y="1250"/>
                    </a:lnTo>
                    <a:lnTo>
                      <a:pt x="119" y="1181"/>
                    </a:lnTo>
                    <a:lnTo>
                      <a:pt x="152" y="1113"/>
                    </a:lnTo>
                    <a:lnTo>
                      <a:pt x="187" y="1047"/>
                    </a:lnTo>
                    <a:lnTo>
                      <a:pt x="226" y="985"/>
                    </a:lnTo>
                    <a:lnTo>
                      <a:pt x="265" y="924"/>
                    </a:lnTo>
                    <a:lnTo>
                      <a:pt x="306" y="866"/>
                    </a:lnTo>
                    <a:lnTo>
                      <a:pt x="351" y="809"/>
                    </a:lnTo>
                    <a:lnTo>
                      <a:pt x="396" y="755"/>
                    </a:lnTo>
                    <a:lnTo>
                      <a:pt x="445" y="704"/>
                    </a:lnTo>
                    <a:lnTo>
                      <a:pt x="495" y="653"/>
                    </a:lnTo>
                    <a:lnTo>
                      <a:pt x="548" y="605"/>
                    </a:lnTo>
                    <a:lnTo>
                      <a:pt x="603" y="558"/>
                    </a:lnTo>
                    <a:lnTo>
                      <a:pt x="659" y="513"/>
                    </a:lnTo>
                    <a:lnTo>
                      <a:pt x="719" y="470"/>
                    </a:lnTo>
                    <a:lnTo>
                      <a:pt x="782" y="429"/>
                    </a:lnTo>
                    <a:lnTo>
                      <a:pt x="846" y="390"/>
                    </a:lnTo>
                    <a:lnTo>
                      <a:pt x="914" y="353"/>
                    </a:lnTo>
                    <a:lnTo>
                      <a:pt x="984" y="316"/>
                    </a:lnTo>
                    <a:lnTo>
                      <a:pt x="1057" y="281"/>
                    </a:lnTo>
                    <a:lnTo>
                      <a:pt x="1133" y="248"/>
                    </a:lnTo>
                    <a:lnTo>
                      <a:pt x="1211" y="215"/>
                    </a:lnTo>
                    <a:lnTo>
                      <a:pt x="1290" y="183"/>
                    </a:lnTo>
                    <a:lnTo>
                      <a:pt x="1376" y="154"/>
                    </a:lnTo>
                    <a:lnTo>
                      <a:pt x="1462" y="127"/>
                    </a:lnTo>
                    <a:lnTo>
                      <a:pt x="1552" y="100"/>
                    </a:lnTo>
                    <a:lnTo>
                      <a:pt x="1645" y="72"/>
                    </a:lnTo>
                    <a:lnTo>
                      <a:pt x="1741" y="47"/>
                    </a:lnTo>
                    <a:lnTo>
                      <a:pt x="1840" y="24"/>
                    </a:lnTo>
                    <a:lnTo>
                      <a:pt x="1943" y="0"/>
                    </a:lnTo>
                    <a:lnTo>
                      <a:pt x="1943" y="68"/>
                    </a:lnTo>
                    <a:lnTo>
                      <a:pt x="1945" y="137"/>
                    </a:lnTo>
                    <a:lnTo>
                      <a:pt x="1945" y="203"/>
                    </a:lnTo>
                    <a:lnTo>
                      <a:pt x="1945" y="271"/>
                    </a:lnTo>
                    <a:lnTo>
                      <a:pt x="1891" y="287"/>
                    </a:lnTo>
                    <a:lnTo>
                      <a:pt x="1836" y="304"/>
                    </a:lnTo>
                    <a:lnTo>
                      <a:pt x="1780" y="320"/>
                    </a:lnTo>
                    <a:lnTo>
                      <a:pt x="1723" y="337"/>
                    </a:lnTo>
                    <a:lnTo>
                      <a:pt x="1665" y="355"/>
                    </a:lnTo>
                    <a:lnTo>
                      <a:pt x="1606" y="373"/>
                    </a:lnTo>
                    <a:lnTo>
                      <a:pt x="1548" y="392"/>
                    </a:lnTo>
                    <a:lnTo>
                      <a:pt x="1489" y="412"/>
                    </a:lnTo>
                    <a:lnTo>
                      <a:pt x="1429" y="433"/>
                    </a:lnTo>
                    <a:lnTo>
                      <a:pt x="1368" y="456"/>
                    </a:lnTo>
                    <a:lnTo>
                      <a:pt x="1308" y="480"/>
                    </a:lnTo>
                    <a:lnTo>
                      <a:pt x="1248" y="507"/>
                    </a:lnTo>
                    <a:lnTo>
                      <a:pt x="1187" y="534"/>
                    </a:lnTo>
                    <a:lnTo>
                      <a:pt x="1127" y="566"/>
                    </a:lnTo>
                    <a:lnTo>
                      <a:pt x="1068" y="599"/>
                    </a:lnTo>
                    <a:lnTo>
                      <a:pt x="1008" y="634"/>
                    </a:lnTo>
                    <a:lnTo>
                      <a:pt x="947" y="671"/>
                    </a:lnTo>
                    <a:lnTo>
                      <a:pt x="889" y="712"/>
                    </a:lnTo>
                    <a:lnTo>
                      <a:pt x="829" y="757"/>
                    </a:lnTo>
                    <a:lnTo>
                      <a:pt x="770" y="803"/>
                    </a:lnTo>
                    <a:lnTo>
                      <a:pt x="714" y="854"/>
                    </a:lnTo>
                    <a:lnTo>
                      <a:pt x="655" y="909"/>
                    </a:lnTo>
                    <a:lnTo>
                      <a:pt x="601" y="965"/>
                    </a:lnTo>
                    <a:lnTo>
                      <a:pt x="544" y="1027"/>
                    </a:lnTo>
                    <a:lnTo>
                      <a:pt x="490" y="1094"/>
                    </a:lnTo>
                    <a:lnTo>
                      <a:pt x="437" y="1164"/>
                    </a:lnTo>
                    <a:lnTo>
                      <a:pt x="384" y="1240"/>
                    </a:lnTo>
                    <a:lnTo>
                      <a:pt x="334" y="1320"/>
                    </a:lnTo>
                    <a:lnTo>
                      <a:pt x="283" y="1404"/>
                    </a:lnTo>
                    <a:lnTo>
                      <a:pt x="234" y="1493"/>
                    </a:lnTo>
                    <a:lnTo>
                      <a:pt x="187" y="1589"/>
                    </a:lnTo>
                    <a:lnTo>
                      <a:pt x="143" y="1688"/>
                    </a:lnTo>
                    <a:lnTo>
                      <a:pt x="125" y="1661"/>
                    </a:lnTo>
                    <a:lnTo>
                      <a:pt x="106" y="1634"/>
                    </a:lnTo>
                    <a:lnTo>
                      <a:pt x="88" y="1606"/>
                    </a:lnTo>
                    <a:lnTo>
                      <a:pt x="71" y="1581"/>
                    </a:lnTo>
                    <a:lnTo>
                      <a:pt x="53" y="1554"/>
                    </a:lnTo>
                    <a:lnTo>
                      <a:pt x="35" y="1528"/>
                    </a:lnTo>
                    <a:lnTo>
                      <a:pt x="18" y="1501"/>
                    </a:lnTo>
                    <a:lnTo>
                      <a:pt x="0" y="1476"/>
                    </a:lnTo>
                    <a:close/>
                  </a:path>
                </a:pathLst>
              </a:custGeom>
              <a:solidFill>
                <a:srgbClr val="6b70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61160" y="2523600"/>
                <a:ext cx="2032200" cy="1869840"/>
              </a:xfrm>
              <a:custGeom>
                <a:avLst/>
                <a:gdLst/>
                <a:ahLst/>
                <a:rect l="l" t="t" r="r" b="b"/>
                <a:pathLst>
                  <a:path w="1945" h="1671">
                    <a:moveTo>
                      <a:pt x="0" y="1476"/>
                    </a:moveTo>
                    <a:lnTo>
                      <a:pt x="28" y="1398"/>
                    </a:lnTo>
                    <a:lnTo>
                      <a:pt x="55" y="1324"/>
                    </a:lnTo>
                    <a:lnTo>
                      <a:pt x="84" y="1250"/>
                    </a:lnTo>
                    <a:lnTo>
                      <a:pt x="117" y="1181"/>
                    </a:lnTo>
                    <a:lnTo>
                      <a:pt x="150" y="1113"/>
                    </a:lnTo>
                    <a:lnTo>
                      <a:pt x="186" y="1047"/>
                    </a:lnTo>
                    <a:lnTo>
                      <a:pt x="223" y="985"/>
                    </a:lnTo>
                    <a:lnTo>
                      <a:pt x="263" y="924"/>
                    </a:lnTo>
                    <a:lnTo>
                      <a:pt x="304" y="866"/>
                    </a:lnTo>
                    <a:lnTo>
                      <a:pt x="347" y="809"/>
                    </a:lnTo>
                    <a:lnTo>
                      <a:pt x="394" y="755"/>
                    </a:lnTo>
                    <a:lnTo>
                      <a:pt x="441" y="704"/>
                    </a:lnTo>
                    <a:lnTo>
                      <a:pt x="491" y="653"/>
                    </a:lnTo>
                    <a:lnTo>
                      <a:pt x="544" y="605"/>
                    </a:lnTo>
                    <a:lnTo>
                      <a:pt x="599" y="558"/>
                    </a:lnTo>
                    <a:lnTo>
                      <a:pt x="657" y="513"/>
                    </a:lnTo>
                    <a:lnTo>
                      <a:pt x="718" y="470"/>
                    </a:lnTo>
                    <a:lnTo>
                      <a:pt x="780" y="429"/>
                    </a:lnTo>
                    <a:lnTo>
                      <a:pt x="844" y="390"/>
                    </a:lnTo>
                    <a:lnTo>
                      <a:pt x="912" y="353"/>
                    </a:lnTo>
                    <a:lnTo>
                      <a:pt x="983" y="316"/>
                    </a:lnTo>
                    <a:lnTo>
                      <a:pt x="1055" y="281"/>
                    </a:lnTo>
                    <a:lnTo>
                      <a:pt x="1131" y="248"/>
                    </a:lnTo>
                    <a:lnTo>
                      <a:pt x="1209" y="215"/>
                    </a:lnTo>
                    <a:lnTo>
                      <a:pt x="1290" y="183"/>
                    </a:lnTo>
                    <a:lnTo>
                      <a:pt x="1374" y="154"/>
                    </a:lnTo>
                    <a:lnTo>
                      <a:pt x="1462" y="127"/>
                    </a:lnTo>
                    <a:lnTo>
                      <a:pt x="1552" y="100"/>
                    </a:lnTo>
                    <a:lnTo>
                      <a:pt x="1645" y="72"/>
                    </a:lnTo>
                    <a:lnTo>
                      <a:pt x="1741" y="47"/>
                    </a:lnTo>
                    <a:lnTo>
                      <a:pt x="1840" y="24"/>
                    </a:lnTo>
                    <a:lnTo>
                      <a:pt x="1943" y="0"/>
                    </a:lnTo>
                    <a:lnTo>
                      <a:pt x="1943" y="63"/>
                    </a:lnTo>
                    <a:lnTo>
                      <a:pt x="1945" y="125"/>
                    </a:lnTo>
                    <a:lnTo>
                      <a:pt x="1945" y="189"/>
                    </a:lnTo>
                    <a:lnTo>
                      <a:pt x="1945" y="252"/>
                    </a:lnTo>
                    <a:lnTo>
                      <a:pt x="1891" y="267"/>
                    </a:lnTo>
                    <a:lnTo>
                      <a:pt x="1834" y="285"/>
                    </a:lnTo>
                    <a:lnTo>
                      <a:pt x="1778" y="300"/>
                    </a:lnTo>
                    <a:lnTo>
                      <a:pt x="1719" y="318"/>
                    </a:lnTo>
                    <a:lnTo>
                      <a:pt x="1661" y="336"/>
                    </a:lnTo>
                    <a:lnTo>
                      <a:pt x="1602" y="353"/>
                    </a:lnTo>
                    <a:lnTo>
                      <a:pt x="1542" y="373"/>
                    </a:lnTo>
                    <a:lnTo>
                      <a:pt x="1481" y="392"/>
                    </a:lnTo>
                    <a:lnTo>
                      <a:pt x="1421" y="413"/>
                    </a:lnTo>
                    <a:lnTo>
                      <a:pt x="1361" y="435"/>
                    </a:lnTo>
                    <a:lnTo>
                      <a:pt x="1300" y="460"/>
                    </a:lnTo>
                    <a:lnTo>
                      <a:pt x="1240" y="486"/>
                    </a:lnTo>
                    <a:lnTo>
                      <a:pt x="1179" y="515"/>
                    </a:lnTo>
                    <a:lnTo>
                      <a:pt x="1119" y="546"/>
                    </a:lnTo>
                    <a:lnTo>
                      <a:pt x="1057" y="577"/>
                    </a:lnTo>
                    <a:lnTo>
                      <a:pt x="998" y="612"/>
                    </a:lnTo>
                    <a:lnTo>
                      <a:pt x="938" y="651"/>
                    </a:lnTo>
                    <a:lnTo>
                      <a:pt x="877" y="692"/>
                    </a:lnTo>
                    <a:lnTo>
                      <a:pt x="819" y="737"/>
                    </a:lnTo>
                    <a:lnTo>
                      <a:pt x="760" y="784"/>
                    </a:lnTo>
                    <a:lnTo>
                      <a:pt x="702" y="835"/>
                    </a:lnTo>
                    <a:lnTo>
                      <a:pt x="645" y="889"/>
                    </a:lnTo>
                    <a:lnTo>
                      <a:pt x="589" y="948"/>
                    </a:lnTo>
                    <a:lnTo>
                      <a:pt x="532" y="1008"/>
                    </a:lnTo>
                    <a:lnTo>
                      <a:pt x="478" y="1074"/>
                    </a:lnTo>
                    <a:lnTo>
                      <a:pt x="425" y="1146"/>
                    </a:lnTo>
                    <a:lnTo>
                      <a:pt x="373" y="1220"/>
                    </a:lnTo>
                    <a:lnTo>
                      <a:pt x="322" y="1300"/>
                    </a:lnTo>
                    <a:lnTo>
                      <a:pt x="271" y="1386"/>
                    </a:lnTo>
                    <a:lnTo>
                      <a:pt x="223" y="1476"/>
                    </a:lnTo>
                    <a:lnTo>
                      <a:pt x="176" y="1569"/>
                    </a:lnTo>
                    <a:lnTo>
                      <a:pt x="131" y="1671"/>
                    </a:lnTo>
                    <a:lnTo>
                      <a:pt x="115" y="1647"/>
                    </a:lnTo>
                    <a:lnTo>
                      <a:pt x="98" y="1622"/>
                    </a:lnTo>
                    <a:lnTo>
                      <a:pt x="82" y="1597"/>
                    </a:lnTo>
                    <a:lnTo>
                      <a:pt x="67" y="1573"/>
                    </a:lnTo>
                    <a:lnTo>
                      <a:pt x="49" y="1548"/>
                    </a:lnTo>
                    <a:lnTo>
                      <a:pt x="34" y="1523"/>
                    </a:lnTo>
                    <a:lnTo>
                      <a:pt x="16" y="1499"/>
                    </a:lnTo>
                    <a:lnTo>
                      <a:pt x="0" y="1476"/>
                    </a:lnTo>
                    <a:close/>
                  </a:path>
                </a:pathLst>
              </a:custGeom>
              <a:solidFill>
                <a:srgbClr val="776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461160" y="2523600"/>
                <a:ext cx="2032200" cy="1851480"/>
              </a:xfrm>
              <a:custGeom>
                <a:avLst/>
                <a:gdLst/>
                <a:ahLst/>
                <a:rect l="l" t="t" r="r" b="b"/>
                <a:pathLst>
                  <a:path w="1945" h="1653">
                    <a:moveTo>
                      <a:pt x="0" y="1476"/>
                    </a:moveTo>
                    <a:lnTo>
                      <a:pt x="26" y="1398"/>
                    </a:lnTo>
                    <a:lnTo>
                      <a:pt x="55" y="1324"/>
                    </a:lnTo>
                    <a:lnTo>
                      <a:pt x="84" y="1250"/>
                    </a:lnTo>
                    <a:lnTo>
                      <a:pt x="115" y="1181"/>
                    </a:lnTo>
                    <a:lnTo>
                      <a:pt x="148" y="1113"/>
                    </a:lnTo>
                    <a:lnTo>
                      <a:pt x="184" y="1047"/>
                    </a:lnTo>
                    <a:lnTo>
                      <a:pt x="221" y="985"/>
                    </a:lnTo>
                    <a:lnTo>
                      <a:pt x="262" y="924"/>
                    </a:lnTo>
                    <a:lnTo>
                      <a:pt x="302" y="866"/>
                    </a:lnTo>
                    <a:lnTo>
                      <a:pt x="345" y="809"/>
                    </a:lnTo>
                    <a:lnTo>
                      <a:pt x="392" y="755"/>
                    </a:lnTo>
                    <a:lnTo>
                      <a:pt x="439" y="704"/>
                    </a:lnTo>
                    <a:lnTo>
                      <a:pt x="490" y="653"/>
                    </a:lnTo>
                    <a:lnTo>
                      <a:pt x="542" y="605"/>
                    </a:lnTo>
                    <a:lnTo>
                      <a:pt x="597" y="558"/>
                    </a:lnTo>
                    <a:lnTo>
                      <a:pt x="655" y="513"/>
                    </a:lnTo>
                    <a:lnTo>
                      <a:pt x="714" y="470"/>
                    </a:lnTo>
                    <a:lnTo>
                      <a:pt x="778" y="429"/>
                    </a:lnTo>
                    <a:lnTo>
                      <a:pt x="842" y="390"/>
                    </a:lnTo>
                    <a:lnTo>
                      <a:pt x="910" y="353"/>
                    </a:lnTo>
                    <a:lnTo>
                      <a:pt x="981" y="316"/>
                    </a:lnTo>
                    <a:lnTo>
                      <a:pt x="1053" y="281"/>
                    </a:lnTo>
                    <a:lnTo>
                      <a:pt x="1129" y="248"/>
                    </a:lnTo>
                    <a:lnTo>
                      <a:pt x="1207" y="215"/>
                    </a:lnTo>
                    <a:lnTo>
                      <a:pt x="1288" y="183"/>
                    </a:lnTo>
                    <a:lnTo>
                      <a:pt x="1372" y="154"/>
                    </a:lnTo>
                    <a:lnTo>
                      <a:pt x="1460" y="127"/>
                    </a:lnTo>
                    <a:lnTo>
                      <a:pt x="1552" y="100"/>
                    </a:lnTo>
                    <a:lnTo>
                      <a:pt x="1645" y="72"/>
                    </a:lnTo>
                    <a:lnTo>
                      <a:pt x="1741" y="47"/>
                    </a:lnTo>
                    <a:lnTo>
                      <a:pt x="1840" y="24"/>
                    </a:lnTo>
                    <a:lnTo>
                      <a:pt x="1943" y="0"/>
                    </a:lnTo>
                    <a:lnTo>
                      <a:pt x="1943" y="59"/>
                    </a:lnTo>
                    <a:lnTo>
                      <a:pt x="1945" y="115"/>
                    </a:lnTo>
                    <a:lnTo>
                      <a:pt x="1945" y="174"/>
                    </a:lnTo>
                    <a:lnTo>
                      <a:pt x="1945" y="232"/>
                    </a:lnTo>
                    <a:lnTo>
                      <a:pt x="1889" y="248"/>
                    </a:lnTo>
                    <a:lnTo>
                      <a:pt x="1832" y="263"/>
                    </a:lnTo>
                    <a:lnTo>
                      <a:pt x="1774" y="281"/>
                    </a:lnTo>
                    <a:lnTo>
                      <a:pt x="1715" y="297"/>
                    </a:lnTo>
                    <a:lnTo>
                      <a:pt x="1657" y="314"/>
                    </a:lnTo>
                    <a:lnTo>
                      <a:pt x="1596" y="334"/>
                    </a:lnTo>
                    <a:lnTo>
                      <a:pt x="1536" y="351"/>
                    </a:lnTo>
                    <a:lnTo>
                      <a:pt x="1476" y="373"/>
                    </a:lnTo>
                    <a:lnTo>
                      <a:pt x="1415" y="394"/>
                    </a:lnTo>
                    <a:lnTo>
                      <a:pt x="1353" y="415"/>
                    </a:lnTo>
                    <a:lnTo>
                      <a:pt x="1292" y="441"/>
                    </a:lnTo>
                    <a:lnTo>
                      <a:pt x="1232" y="468"/>
                    </a:lnTo>
                    <a:lnTo>
                      <a:pt x="1170" y="495"/>
                    </a:lnTo>
                    <a:lnTo>
                      <a:pt x="1109" y="527"/>
                    </a:lnTo>
                    <a:lnTo>
                      <a:pt x="1049" y="560"/>
                    </a:lnTo>
                    <a:lnTo>
                      <a:pt x="988" y="595"/>
                    </a:lnTo>
                    <a:lnTo>
                      <a:pt x="928" y="634"/>
                    </a:lnTo>
                    <a:lnTo>
                      <a:pt x="868" y="675"/>
                    </a:lnTo>
                    <a:lnTo>
                      <a:pt x="809" y="718"/>
                    </a:lnTo>
                    <a:lnTo>
                      <a:pt x="749" y="766"/>
                    </a:lnTo>
                    <a:lnTo>
                      <a:pt x="692" y="817"/>
                    </a:lnTo>
                    <a:lnTo>
                      <a:pt x="634" y="872"/>
                    </a:lnTo>
                    <a:lnTo>
                      <a:pt x="577" y="930"/>
                    </a:lnTo>
                    <a:lnTo>
                      <a:pt x="523" y="992"/>
                    </a:lnTo>
                    <a:lnTo>
                      <a:pt x="468" y="1059"/>
                    </a:lnTo>
                    <a:lnTo>
                      <a:pt x="414" y="1129"/>
                    </a:lnTo>
                    <a:lnTo>
                      <a:pt x="361" y="1203"/>
                    </a:lnTo>
                    <a:lnTo>
                      <a:pt x="310" y="1283"/>
                    </a:lnTo>
                    <a:lnTo>
                      <a:pt x="260" y="1369"/>
                    </a:lnTo>
                    <a:lnTo>
                      <a:pt x="213" y="1458"/>
                    </a:lnTo>
                    <a:lnTo>
                      <a:pt x="164" y="1554"/>
                    </a:lnTo>
                    <a:lnTo>
                      <a:pt x="119" y="1653"/>
                    </a:lnTo>
                    <a:lnTo>
                      <a:pt x="104" y="1632"/>
                    </a:lnTo>
                    <a:lnTo>
                      <a:pt x="90" y="1608"/>
                    </a:lnTo>
                    <a:lnTo>
                      <a:pt x="74" y="1587"/>
                    </a:lnTo>
                    <a:lnTo>
                      <a:pt x="61" y="1564"/>
                    </a:lnTo>
                    <a:lnTo>
                      <a:pt x="45" y="1542"/>
                    </a:lnTo>
                    <a:lnTo>
                      <a:pt x="30" y="1521"/>
                    </a:lnTo>
                    <a:lnTo>
                      <a:pt x="16" y="1497"/>
                    </a:lnTo>
                    <a:lnTo>
                      <a:pt x="0" y="1476"/>
                    </a:lnTo>
                    <a:close/>
                  </a:path>
                </a:pathLst>
              </a:custGeom>
              <a:solidFill>
                <a:srgbClr val="8256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461160" y="2523600"/>
                <a:ext cx="2032200" cy="1831680"/>
              </a:xfrm>
              <a:custGeom>
                <a:avLst/>
                <a:gdLst/>
                <a:ahLst/>
                <a:rect l="l" t="t" r="r" b="b"/>
                <a:pathLst>
                  <a:path w="1945" h="1636">
                    <a:moveTo>
                      <a:pt x="0" y="1476"/>
                    </a:moveTo>
                    <a:lnTo>
                      <a:pt x="26" y="1398"/>
                    </a:lnTo>
                    <a:lnTo>
                      <a:pt x="53" y="1324"/>
                    </a:lnTo>
                    <a:lnTo>
                      <a:pt x="82" y="1250"/>
                    </a:lnTo>
                    <a:lnTo>
                      <a:pt x="113" y="1181"/>
                    </a:lnTo>
                    <a:lnTo>
                      <a:pt x="147" y="1113"/>
                    </a:lnTo>
                    <a:lnTo>
                      <a:pt x="182" y="1047"/>
                    </a:lnTo>
                    <a:lnTo>
                      <a:pt x="219" y="985"/>
                    </a:lnTo>
                    <a:lnTo>
                      <a:pt x="258" y="924"/>
                    </a:lnTo>
                    <a:lnTo>
                      <a:pt x="299" y="866"/>
                    </a:lnTo>
                    <a:lnTo>
                      <a:pt x="341" y="809"/>
                    </a:lnTo>
                    <a:lnTo>
                      <a:pt x="388" y="755"/>
                    </a:lnTo>
                    <a:lnTo>
                      <a:pt x="435" y="704"/>
                    </a:lnTo>
                    <a:lnTo>
                      <a:pt x="486" y="653"/>
                    </a:lnTo>
                    <a:lnTo>
                      <a:pt x="538" y="605"/>
                    </a:lnTo>
                    <a:lnTo>
                      <a:pt x="593" y="558"/>
                    </a:lnTo>
                    <a:lnTo>
                      <a:pt x="651" y="513"/>
                    </a:lnTo>
                    <a:lnTo>
                      <a:pt x="712" y="470"/>
                    </a:lnTo>
                    <a:lnTo>
                      <a:pt x="774" y="429"/>
                    </a:lnTo>
                    <a:lnTo>
                      <a:pt x="838" y="390"/>
                    </a:lnTo>
                    <a:lnTo>
                      <a:pt x="907" y="353"/>
                    </a:lnTo>
                    <a:lnTo>
                      <a:pt x="977" y="316"/>
                    </a:lnTo>
                    <a:lnTo>
                      <a:pt x="1051" y="281"/>
                    </a:lnTo>
                    <a:lnTo>
                      <a:pt x="1127" y="248"/>
                    </a:lnTo>
                    <a:lnTo>
                      <a:pt x="1205" y="215"/>
                    </a:lnTo>
                    <a:lnTo>
                      <a:pt x="1287" y="183"/>
                    </a:lnTo>
                    <a:lnTo>
                      <a:pt x="1370" y="154"/>
                    </a:lnTo>
                    <a:lnTo>
                      <a:pt x="1458" y="127"/>
                    </a:lnTo>
                    <a:lnTo>
                      <a:pt x="1550" y="100"/>
                    </a:lnTo>
                    <a:lnTo>
                      <a:pt x="1643" y="72"/>
                    </a:lnTo>
                    <a:lnTo>
                      <a:pt x="1741" y="47"/>
                    </a:lnTo>
                    <a:lnTo>
                      <a:pt x="1840" y="24"/>
                    </a:lnTo>
                    <a:lnTo>
                      <a:pt x="1943" y="0"/>
                    </a:lnTo>
                    <a:lnTo>
                      <a:pt x="1943" y="55"/>
                    </a:lnTo>
                    <a:lnTo>
                      <a:pt x="1945" y="107"/>
                    </a:lnTo>
                    <a:lnTo>
                      <a:pt x="1945" y="160"/>
                    </a:lnTo>
                    <a:lnTo>
                      <a:pt x="1945" y="211"/>
                    </a:lnTo>
                    <a:lnTo>
                      <a:pt x="1889" y="226"/>
                    </a:lnTo>
                    <a:lnTo>
                      <a:pt x="1830" y="244"/>
                    </a:lnTo>
                    <a:lnTo>
                      <a:pt x="1770" y="259"/>
                    </a:lnTo>
                    <a:lnTo>
                      <a:pt x="1711" y="277"/>
                    </a:lnTo>
                    <a:lnTo>
                      <a:pt x="1651" y="293"/>
                    </a:lnTo>
                    <a:lnTo>
                      <a:pt x="1591" y="312"/>
                    </a:lnTo>
                    <a:lnTo>
                      <a:pt x="1530" y="332"/>
                    </a:lnTo>
                    <a:lnTo>
                      <a:pt x="1470" y="351"/>
                    </a:lnTo>
                    <a:lnTo>
                      <a:pt x="1407" y="373"/>
                    </a:lnTo>
                    <a:lnTo>
                      <a:pt x="1345" y="396"/>
                    </a:lnTo>
                    <a:lnTo>
                      <a:pt x="1285" y="421"/>
                    </a:lnTo>
                    <a:lnTo>
                      <a:pt x="1222" y="447"/>
                    </a:lnTo>
                    <a:lnTo>
                      <a:pt x="1162" y="476"/>
                    </a:lnTo>
                    <a:lnTo>
                      <a:pt x="1099" y="507"/>
                    </a:lnTo>
                    <a:lnTo>
                      <a:pt x="1039" y="540"/>
                    </a:lnTo>
                    <a:lnTo>
                      <a:pt x="979" y="575"/>
                    </a:lnTo>
                    <a:lnTo>
                      <a:pt x="916" y="614"/>
                    </a:lnTo>
                    <a:lnTo>
                      <a:pt x="858" y="655"/>
                    </a:lnTo>
                    <a:lnTo>
                      <a:pt x="797" y="700"/>
                    </a:lnTo>
                    <a:lnTo>
                      <a:pt x="739" y="747"/>
                    </a:lnTo>
                    <a:lnTo>
                      <a:pt x="680" y="797"/>
                    </a:lnTo>
                    <a:lnTo>
                      <a:pt x="624" y="852"/>
                    </a:lnTo>
                    <a:lnTo>
                      <a:pt x="567" y="911"/>
                    </a:lnTo>
                    <a:lnTo>
                      <a:pt x="511" y="973"/>
                    </a:lnTo>
                    <a:lnTo>
                      <a:pt x="456" y="1039"/>
                    </a:lnTo>
                    <a:lnTo>
                      <a:pt x="404" y="1111"/>
                    </a:lnTo>
                    <a:lnTo>
                      <a:pt x="351" y="1185"/>
                    </a:lnTo>
                    <a:lnTo>
                      <a:pt x="300" y="1265"/>
                    </a:lnTo>
                    <a:lnTo>
                      <a:pt x="250" y="1351"/>
                    </a:lnTo>
                    <a:lnTo>
                      <a:pt x="201" y="1441"/>
                    </a:lnTo>
                    <a:lnTo>
                      <a:pt x="154" y="1536"/>
                    </a:lnTo>
                    <a:lnTo>
                      <a:pt x="110" y="1636"/>
                    </a:lnTo>
                    <a:lnTo>
                      <a:pt x="96" y="1616"/>
                    </a:lnTo>
                    <a:lnTo>
                      <a:pt x="82" y="1597"/>
                    </a:lnTo>
                    <a:lnTo>
                      <a:pt x="69" y="1575"/>
                    </a:lnTo>
                    <a:lnTo>
                      <a:pt x="55" y="1556"/>
                    </a:lnTo>
                    <a:lnTo>
                      <a:pt x="41" y="1536"/>
                    </a:lnTo>
                    <a:lnTo>
                      <a:pt x="28" y="1515"/>
                    </a:lnTo>
                    <a:lnTo>
                      <a:pt x="14" y="1495"/>
                    </a:lnTo>
                    <a:lnTo>
                      <a:pt x="0" y="1476"/>
                    </a:lnTo>
                    <a:close/>
                  </a:path>
                </a:pathLst>
              </a:custGeom>
              <a:solidFill>
                <a:srgbClr val="8c4c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461160" y="2523600"/>
                <a:ext cx="2032200" cy="1809360"/>
              </a:xfrm>
              <a:custGeom>
                <a:avLst/>
                <a:gdLst/>
                <a:ahLst/>
                <a:rect l="l" t="t" r="r" b="b"/>
                <a:pathLst>
                  <a:path w="1945" h="1616">
                    <a:moveTo>
                      <a:pt x="0" y="1476"/>
                    </a:moveTo>
                    <a:lnTo>
                      <a:pt x="26" y="1398"/>
                    </a:lnTo>
                    <a:lnTo>
                      <a:pt x="53" y="1324"/>
                    </a:lnTo>
                    <a:lnTo>
                      <a:pt x="80" y="1250"/>
                    </a:lnTo>
                    <a:lnTo>
                      <a:pt x="111" y="1181"/>
                    </a:lnTo>
                    <a:lnTo>
                      <a:pt x="145" y="1113"/>
                    </a:lnTo>
                    <a:lnTo>
                      <a:pt x="180" y="1047"/>
                    </a:lnTo>
                    <a:lnTo>
                      <a:pt x="217" y="985"/>
                    </a:lnTo>
                    <a:lnTo>
                      <a:pt x="256" y="924"/>
                    </a:lnTo>
                    <a:lnTo>
                      <a:pt x="297" y="866"/>
                    </a:lnTo>
                    <a:lnTo>
                      <a:pt x="339" y="809"/>
                    </a:lnTo>
                    <a:lnTo>
                      <a:pt x="384" y="755"/>
                    </a:lnTo>
                    <a:lnTo>
                      <a:pt x="433" y="704"/>
                    </a:lnTo>
                    <a:lnTo>
                      <a:pt x="484" y="653"/>
                    </a:lnTo>
                    <a:lnTo>
                      <a:pt x="536" y="605"/>
                    </a:lnTo>
                    <a:lnTo>
                      <a:pt x="591" y="558"/>
                    </a:lnTo>
                    <a:lnTo>
                      <a:pt x="647" y="513"/>
                    </a:lnTo>
                    <a:lnTo>
                      <a:pt x="708" y="470"/>
                    </a:lnTo>
                    <a:lnTo>
                      <a:pt x="770" y="429"/>
                    </a:lnTo>
                    <a:lnTo>
                      <a:pt x="836" y="390"/>
                    </a:lnTo>
                    <a:lnTo>
                      <a:pt x="905" y="353"/>
                    </a:lnTo>
                    <a:lnTo>
                      <a:pt x="975" y="316"/>
                    </a:lnTo>
                    <a:lnTo>
                      <a:pt x="1049" y="281"/>
                    </a:lnTo>
                    <a:lnTo>
                      <a:pt x="1125" y="248"/>
                    </a:lnTo>
                    <a:lnTo>
                      <a:pt x="1203" y="215"/>
                    </a:lnTo>
                    <a:lnTo>
                      <a:pt x="1285" y="183"/>
                    </a:lnTo>
                    <a:lnTo>
                      <a:pt x="1370" y="154"/>
                    </a:lnTo>
                    <a:lnTo>
                      <a:pt x="1458" y="127"/>
                    </a:lnTo>
                    <a:lnTo>
                      <a:pt x="1548" y="100"/>
                    </a:lnTo>
                    <a:lnTo>
                      <a:pt x="1643" y="72"/>
                    </a:lnTo>
                    <a:lnTo>
                      <a:pt x="1739" y="47"/>
                    </a:lnTo>
                    <a:lnTo>
                      <a:pt x="1840" y="24"/>
                    </a:lnTo>
                    <a:lnTo>
                      <a:pt x="1943" y="0"/>
                    </a:lnTo>
                    <a:lnTo>
                      <a:pt x="1943" y="49"/>
                    </a:lnTo>
                    <a:lnTo>
                      <a:pt x="1945" y="98"/>
                    </a:lnTo>
                    <a:lnTo>
                      <a:pt x="1945" y="144"/>
                    </a:lnTo>
                    <a:lnTo>
                      <a:pt x="1945" y="191"/>
                    </a:lnTo>
                    <a:lnTo>
                      <a:pt x="1887" y="207"/>
                    </a:lnTo>
                    <a:lnTo>
                      <a:pt x="1828" y="222"/>
                    </a:lnTo>
                    <a:lnTo>
                      <a:pt x="1768" y="238"/>
                    </a:lnTo>
                    <a:lnTo>
                      <a:pt x="1707" y="256"/>
                    </a:lnTo>
                    <a:lnTo>
                      <a:pt x="1647" y="273"/>
                    </a:lnTo>
                    <a:lnTo>
                      <a:pt x="1585" y="291"/>
                    </a:lnTo>
                    <a:lnTo>
                      <a:pt x="1524" y="310"/>
                    </a:lnTo>
                    <a:lnTo>
                      <a:pt x="1462" y="330"/>
                    </a:lnTo>
                    <a:lnTo>
                      <a:pt x="1400" y="351"/>
                    </a:lnTo>
                    <a:lnTo>
                      <a:pt x="1337" y="374"/>
                    </a:lnTo>
                    <a:lnTo>
                      <a:pt x="1275" y="400"/>
                    </a:lnTo>
                    <a:lnTo>
                      <a:pt x="1214" y="427"/>
                    </a:lnTo>
                    <a:lnTo>
                      <a:pt x="1152" y="454"/>
                    </a:lnTo>
                    <a:lnTo>
                      <a:pt x="1090" y="486"/>
                    </a:lnTo>
                    <a:lnTo>
                      <a:pt x="1029" y="519"/>
                    </a:lnTo>
                    <a:lnTo>
                      <a:pt x="967" y="556"/>
                    </a:lnTo>
                    <a:lnTo>
                      <a:pt x="907" y="593"/>
                    </a:lnTo>
                    <a:lnTo>
                      <a:pt x="846" y="636"/>
                    </a:lnTo>
                    <a:lnTo>
                      <a:pt x="788" y="679"/>
                    </a:lnTo>
                    <a:lnTo>
                      <a:pt x="727" y="727"/>
                    </a:lnTo>
                    <a:lnTo>
                      <a:pt x="669" y="778"/>
                    </a:lnTo>
                    <a:lnTo>
                      <a:pt x="612" y="833"/>
                    </a:lnTo>
                    <a:lnTo>
                      <a:pt x="556" y="891"/>
                    </a:lnTo>
                    <a:lnTo>
                      <a:pt x="499" y="953"/>
                    </a:lnTo>
                    <a:lnTo>
                      <a:pt x="445" y="1022"/>
                    </a:lnTo>
                    <a:lnTo>
                      <a:pt x="392" y="1092"/>
                    </a:lnTo>
                    <a:lnTo>
                      <a:pt x="339" y="1166"/>
                    </a:lnTo>
                    <a:lnTo>
                      <a:pt x="289" y="1246"/>
                    </a:lnTo>
                    <a:lnTo>
                      <a:pt x="238" y="1332"/>
                    </a:lnTo>
                    <a:lnTo>
                      <a:pt x="189" y="1421"/>
                    </a:lnTo>
                    <a:lnTo>
                      <a:pt x="143" y="1517"/>
                    </a:lnTo>
                    <a:lnTo>
                      <a:pt x="98" y="1616"/>
                    </a:lnTo>
                    <a:lnTo>
                      <a:pt x="86" y="1599"/>
                    </a:lnTo>
                    <a:lnTo>
                      <a:pt x="72" y="1581"/>
                    </a:lnTo>
                    <a:lnTo>
                      <a:pt x="61" y="1564"/>
                    </a:lnTo>
                    <a:lnTo>
                      <a:pt x="49" y="1546"/>
                    </a:lnTo>
                    <a:lnTo>
                      <a:pt x="37" y="1528"/>
                    </a:lnTo>
                    <a:lnTo>
                      <a:pt x="26" y="1511"/>
                    </a:lnTo>
                    <a:lnTo>
                      <a:pt x="12" y="1493"/>
                    </a:lnTo>
                    <a:lnTo>
                      <a:pt x="0" y="1476"/>
                    </a:lnTo>
                    <a:close/>
                  </a:path>
                </a:pathLst>
              </a:custGeom>
              <a:solidFill>
                <a:srgbClr val="963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459000" y="2523600"/>
                <a:ext cx="2034720" cy="1791000"/>
              </a:xfrm>
              <a:custGeom>
                <a:avLst/>
                <a:gdLst/>
                <a:ahLst/>
                <a:rect l="l" t="t" r="r" b="b"/>
                <a:pathLst>
                  <a:path w="1947" h="1601">
                    <a:moveTo>
                      <a:pt x="0" y="1476"/>
                    </a:moveTo>
                    <a:lnTo>
                      <a:pt x="26" y="1398"/>
                    </a:lnTo>
                    <a:lnTo>
                      <a:pt x="51" y="1324"/>
                    </a:lnTo>
                    <a:lnTo>
                      <a:pt x="80" y="1250"/>
                    </a:lnTo>
                    <a:lnTo>
                      <a:pt x="110" y="1181"/>
                    </a:lnTo>
                    <a:lnTo>
                      <a:pt x="143" y="1113"/>
                    </a:lnTo>
                    <a:lnTo>
                      <a:pt x="178" y="1047"/>
                    </a:lnTo>
                    <a:lnTo>
                      <a:pt x="213" y="985"/>
                    </a:lnTo>
                    <a:lnTo>
                      <a:pt x="252" y="924"/>
                    </a:lnTo>
                    <a:lnTo>
                      <a:pt x="293" y="866"/>
                    </a:lnTo>
                    <a:lnTo>
                      <a:pt x="336" y="809"/>
                    </a:lnTo>
                    <a:lnTo>
                      <a:pt x="382" y="755"/>
                    </a:lnTo>
                    <a:lnTo>
                      <a:pt x="429" y="704"/>
                    </a:lnTo>
                    <a:lnTo>
                      <a:pt x="480" y="653"/>
                    </a:lnTo>
                    <a:lnTo>
                      <a:pt x="532" y="605"/>
                    </a:lnTo>
                    <a:lnTo>
                      <a:pt x="587" y="558"/>
                    </a:lnTo>
                    <a:lnTo>
                      <a:pt x="645" y="513"/>
                    </a:lnTo>
                    <a:lnTo>
                      <a:pt x="706" y="470"/>
                    </a:lnTo>
                    <a:lnTo>
                      <a:pt x="768" y="429"/>
                    </a:lnTo>
                    <a:lnTo>
                      <a:pt x="834" y="390"/>
                    </a:lnTo>
                    <a:lnTo>
                      <a:pt x="901" y="353"/>
                    </a:lnTo>
                    <a:lnTo>
                      <a:pt x="973" y="316"/>
                    </a:lnTo>
                    <a:lnTo>
                      <a:pt x="1047" y="281"/>
                    </a:lnTo>
                    <a:lnTo>
                      <a:pt x="1123" y="248"/>
                    </a:lnTo>
                    <a:lnTo>
                      <a:pt x="1201" y="215"/>
                    </a:lnTo>
                    <a:lnTo>
                      <a:pt x="1285" y="183"/>
                    </a:lnTo>
                    <a:lnTo>
                      <a:pt x="1368" y="154"/>
                    </a:lnTo>
                    <a:lnTo>
                      <a:pt x="1456" y="127"/>
                    </a:lnTo>
                    <a:lnTo>
                      <a:pt x="1548" y="100"/>
                    </a:lnTo>
                    <a:lnTo>
                      <a:pt x="1641" y="72"/>
                    </a:lnTo>
                    <a:lnTo>
                      <a:pt x="1739" y="47"/>
                    </a:lnTo>
                    <a:lnTo>
                      <a:pt x="1840" y="24"/>
                    </a:lnTo>
                    <a:lnTo>
                      <a:pt x="1943" y="0"/>
                    </a:lnTo>
                    <a:lnTo>
                      <a:pt x="1945" y="43"/>
                    </a:lnTo>
                    <a:lnTo>
                      <a:pt x="1945" y="86"/>
                    </a:lnTo>
                    <a:lnTo>
                      <a:pt x="1945" y="129"/>
                    </a:lnTo>
                    <a:lnTo>
                      <a:pt x="1947" y="172"/>
                    </a:lnTo>
                    <a:lnTo>
                      <a:pt x="1887" y="187"/>
                    </a:lnTo>
                    <a:lnTo>
                      <a:pt x="1826" y="203"/>
                    </a:lnTo>
                    <a:lnTo>
                      <a:pt x="1766" y="219"/>
                    </a:lnTo>
                    <a:lnTo>
                      <a:pt x="1706" y="236"/>
                    </a:lnTo>
                    <a:lnTo>
                      <a:pt x="1643" y="254"/>
                    </a:lnTo>
                    <a:lnTo>
                      <a:pt x="1581" y="271"/>
                    </a:lnTo>
                    <a:lnTo>
                      <a:pt x="1518" y="291"/>
                    </a:lnTo>
                    <a:lnTo>
                      <a:pt x="1456" y="310"/>
                    </a:lnTo>
                    <a:lnTo>
                      <a:pt x="1394" y="332"/>
                    </a:lnTo>
                    <a:lnTo>
                      <a:pt x="1331" y="355"/>
                    </a:lnTo>
                    <a:lnTo>
                      <a:pt x="1269" y="380"/>
                    </a:lnTo>
                    <a:lnTo>
                      <a:pt x="1207" y="408"/>
                    </a:lnTo>
                    <a:lnTo>
                      <a:pt x="1144" y="435"/>
                    </a:lnTo>
                    <a:lnTo>
                      <a:pt x="1082" y="466"/>
                    </a:lnTo>
                    <a:lnTo>
                      <a:pt x="1020" y="499"/>
                    </a:lnTo>
                    <a:lnTo>
                      <a:pt x="959" y="536"/>
                    </a:lnTo>
                    <a:lnTo>
                      <a:pt x="897" y="575"/>
                    </a:lnTo>
                    <a:lnTo>
                      <a:pt x="836" y="616"/>
                    </a:lnTo>
                    <a:lnTo>
                      <a:pt x="778" y="661"/>
                    </a:lnTo>
                    <a:lnTo>
                      <a:pt x="718" y="710"/>
                    </a:lnTo>
                    <a:lnTo>
                      <a:pt x="659" y="760"/>
                    </a:lnTo>
                    <a:lnTo>
                      <a:pt x="603" y="815"/>
                    </a:lnTo>
                    <a:lnTo>
                      <a:pt x="546" y="873"/>
                    </a:lnTo>
                    <a:lnTo>
                      <a:pt x="490" y="936"/>
                    </a:lnTo>
                    <a:lnTo>
                      <a:pt x="435" y="1004"/>
                    </a:lnTo>
                    <a:lnTo>
                      <a:pt x="382" y="1074"/>
                    </a:lnTo>
                    <a:lnTo>
                      <a:pt x="330" y="1150"/>
                    </a:lnTo>
                    <a:lnTo>
                      <a:pt x="279" y="1230"/>
                    </a:lnTo>
                    <a:lnTo>
                      <a:pt x="228" y="1316"/>
                    </a:lnTo>
                    <a:lnTo>
                      <a:pt x="180" y="1406"/>
                    </a:lnTo>
                    <a:lnTo>
                      <a:pt x="133" y="1501"/>
                    </a:lnTo>
                    <a:lnTo>
                      <a:pt x="88" y="1601"/>
                    </a:lnTo>
                    <a:lnTo>
                      <a:pt x="78" y="1585"/>
                    </a:lnTo>
                    <a:lnTo>
                      <a:pt x="67" y="1569"/>
                    </a:lnTo>
                    <a:lnTo>
                      <a:pt x="57" y="1554"/>
                    </a:lnTo>
                    <a:lnTo>
                      <a:pt x="45" y="1538"/>
                    </a:lnTo>
                    <a:lnTo>
                      <a:pt x="34" y="1523"/>
                    </a:lnTo>
                    <a:lnTo>
                      <a:pt x="22" y="1507"/>
                    </a:lnTo>
                    <a:lnTo>
                      <a:pt x="12" y="1491"/>
                    </a:lnTo>
                    <a:lnTo>
                      <a:pt x="0" y="1476"/>
                    </a:lnTo>
                    <a:close/>
                  </a:path>
                </a:pathLst>
              </a:custGeom>
              <a:solidFill>
                <a:srgbClr val="a033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459000" y="2523600"/>
                <a:ext cx="2034720" cy="1773360"/>
              </a:xfrm>
              <a:custGeom>
                <a:avLst/>
                <a:gdLst/>
                <a:ahLst/>
                <a:rect l="l" t="t" r="r" b="b"/>
                <a:pathLst>
                  <a:path w="1947" h="1583">
                    <a:moveTo>
                      <a:pt x="0" y="1476"/>
                    </a:moveTo>
                    <a:lnTo>
                      <a:pt x="24" y="1398"/>
                    </a:lnTo>
                    <a:lnTo>
                      <a:pt x="51" y="1324"/>
                    </a:lnTo>
                    <a:lnTo>
                      <a:pt x="78" y="1250"/>
                    </a:lnTo>
                    <a:lnTo>
                      <a:pt x="110" y="1181"/>
                    </a:lnTo>
                    <a:lnTo>
                      <a:pt x="141" y="1113"/>
                    </a:lnTo>
                    <a:lnTo>
                      <a:pt x="176" y="1047"/>
                    </a:lnTo>
                    <a:lnTo>
                      <a:pt x="211" y="985"/>
                    </a:lnTo>
                    <a:lnTo>
                      <a:pt x="250" y="924"/>
                    </a:lnTo>
                    <a:lnTo>
                      <a:pt x="291" y="866"/>
                    </a:lnTo>
                    <a:lnTo>
                      <a:pt x="334" y="809"/>
                    </a:lnTo>
                    <a:lnTo>
                      <a:pt x="380" y="755"/>
                    </a:lnTo>
                    <a:lnTo>
                      <a:pt x="427" y="704"/>
                    </a:lnTo>
                    <a:lnTo>
                      <a:pt x="478" y="653"/>
                    </a:lnTo>
                    <a:lnTo>
                      <a:pt x="530" y="605"/>
                    </a:lnTo>
                    <a:lnTo>
                      <a:pt x="585" y="558"/>
                    </a:lnTo>
                    <a:lnTo>
                      <a:pt x="643" y="513"/>
                    </a:lnTo>
                    <a:lnTo>
                      <a:pt x="704" y="470"/>
                    </a:lnTo>
                    <a:lnTo>
                      <a:pt x="766" y="429"/>
                    </a:lnTo>
                    <a:lnTo>
                      <a:pt x="831" y="390"/>
                    </a:lnTo>
                    <a:lnTo>
                      <a:pt x="899" y="353"/>
                    </a:lnTo>
                    <a:lnTo>
                      <a:pt x="971" y="316"/>
                    </a:lnTo>
                    <a:lnTo>
                      <a:pt x="1045" y="281"/>
                    </a:lnTo>
                    <a:lnTo>
                      <a:pt x="1121" y="248"/>
                    </a:lnTo>
                    <a:lnTo>
                      <a:pt x="1201" y="215"/>
                    </a:lnTo>
                    <a:lnTo>
                      <a:pt x="1283" y="183"/>
                    </a:lnTo>
                    <a:lnTo>
                      <a:pt x="1368" y="154"/>
                    </a:lnTo>
                    <a:lnTo>
                      <a:pt x="1456" y="127"/>
                    </a:lnTo>
                    <a:lnTo>
                      <a:pt x="1548" y="100"/>
                    </a:lnTo>
                    <a:lnTo>
                      <a:pt x="1641" y="72"/>
                    </a:lnTo>
                    <a:lnTo>
                      <a:pt x="1739" y="47"/>
                    </a:lnTo>
                    <a:lnTo>
                      <a:pt x="1840" y="24"/>
                    </a:lnTo>
                    <a:lnTo>
                      <a:pt x="1943" y="0"/>
                    </a:lnTo>
                    <a:lnTo>
                      <a:pt x="1945" y="39"/>
                    </a:lnTo>
                    <a:lnTo>
                      <a:pt x="1945" y="76"/>
                    </a:lnTo>
                    <a:lnTo>
                      <a:pt x="1945" y="113"/>
                    </a:lnTo>
                    <a:lnTo>
                      <a:pt x="1947" y="150"/>
                    </a:lnTo>
                    <a:lnTo>
                      <a:pt x="1887" y="166"/>
                    </a:lnTo>
                    <a:lnTo>
                      <a:pt x="1824" y="182"/>
                    </a:lnTo>
                    <a:lnTo>
                      <a:pt x="1764" y="197"/>
                    </a:lnTo>
                    <a:lnTo>
                      <a:pt x="1702" y="215"/>
                    </a:lnTo>
                    <a:lnTo>
                      <a:pt x="1639" y="232"/>
                    </a:lnTo>
                    <a:lnTo>
                      <a:pt x="1575" y="250"/>
                    </a:lnTo>
                    <a:lnTo>
                      <a:pt x="1513" y="269"/>
                    </a:lnTo>
                    <a:lnTo>
                      <a:pt x="1450" y="289"/>
                    </a:lnTo>
                    <a:lnTo>
                      <a:pt x="1386" y="310"/>
                    </a:lnTo>
                    <a:lnTo>
                      <a:pt x="1324" y="334"/>
                    </a:lnTo>
                    <a:lnTo>
                      <a:pt x="1259" y="359"/>
                    </a:lnTo>
                    <a:lnTo>
                      <a:pt x="1197" y="386"/>
                    </a:lnTo>
                    <a:lnTo>
                      <a:pt x="1135" y="415"/>
                    </a:lnTo>
                    <a:lnTo>
                      <a:pt x="1072" y="447"/>
                    </a:lnTo>
                    <a:lnTo>
                      <a:pt x="1010" y="480"/>
                    </a:lnTo>
                    <a:lnTo>
                      <a:pt x="947" y="515"/>
                    </a:lnTo>
                    <a:lnTo>
                      <a:pt x="887" y="554"/>
                    </a:lnTo>
                    <a:lnTo>
                      <a:pt x="827" y="597"/>
                    </a:lnTo>
                    <a:lnTo>
                      <a:pt x="766" y="642"/>
                    </a:lnTo>
                    <a:lnTo>
                      <a:pt x="708" y="690"/>
                    </a:lnTo>
                    <a:lnTo>
                      <a:pt x="649" y="741"/>
                    </a:lnTo>
                    <a:lnTo>
                      <a:pt x="591" y="796"/>
                    </a:lnTo>
                    <a:lnTo>
                      <a:pt x="534" y="856"/>
                    </a:lnTo>
                    <a:lnTo>
                      <a:pt x="478" y="918"/>
                    </a:lnTo>
                    <a:lnTo>
                      <a:pt x="423" y="985"/>
                    </a:lnTo>
                    <a:lnTo>
                      <a:pt x="371" y="1057"/>
                    </a:lnTo>
                    <a:lnTo>
                      <a:pt x="318" y="1131"/>
                    </a:lnTo>
                    <a:lnTo>
                      <a:pt x="267" y="1213"/>
                    </a:lnTo>
                    <a:lnTo>
                      <a:pt x="217" y="1296"/>
                    </a:lnTo>
                    <a:lnTo>
                      <a:pt x="168" y="1388"/>
                    </a:lnTo>
                    <a:lnTo>
                      <a:pt x="121" y="1482"/>
                    </a:lnTo>
                    <a:lnTo>
                      <a:pt x="76" y="1583"/>
                    </a:lnTo>
                    <a:lnTo>
                      <a:pt x="67" y="1569"/>
                    </a:lnTo>
                    <a:lnTo>
                      <a:pt x="57" y="1556"/>
                    </a:lnTo>
                    <a:lnTo>
                      <a:pt x="47" y="1542"/>
                    </a:lnTo>
                    <a:lnTo>
                      <a:pt x="39" y="1528"/>
                    </a:lnTo>
                    <a:lnTo>
                      <a:pt x="30" y="1515"/>
                    </a:lnTo>
                    <a:lnTo>
                      <a:pt x="20" y="1503"/>
                    </a:lnTo>
                    <a:lnTo>
                      <a:pt x="10" y="1489"/>
                    </a:lnTo>
                    <a:lnTo>
                      <a:pt x="0" y="1476"/>
                    </a:lnTo>
                    <a:close/>
                  </a:path>
                </a:pathLst>
              </a:custGeom>
              <a:solidFill>
                <a:srgbClr val="aa2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459000" y="2523600"/>
                <a:ext cx="2034720" cy="1753200"/>
              </a:xfrm>
              <a:custGeom>
                <a:avLst/>
                <a:gdLst/>
                <a:ahLst/>
                <a:rect l="l" t="t" r="r" b="b"/>
                <a:pathLst>
                  <a:path w="1947" h="1565">
                    <a:moveTo>
                      <a:pt x="0" y="1476"/>
                    </a:moveTo>
                    <a:lnTo>
                      <a:pt x="24" y="1398"/>
                    </a:lnTo>
                    <a:lnTo>
                      <a:pt x="49" y="1324"/>
                    </a:lnTo>
                    <a:lnTo>
                      <a:pt x="76" y="1250"/>
                    </a:lnTo>
                    <a:lnTo>
                      <a:pt x="108" y="1181"/>
                    </a:lnTo>
                    <a:lnTo>
                      <a:pt x="139" y="1113"/>
                    </a:lnTo>
                    <a:lnTo>
                      <a:pt x="172" y="1047"/>
                    </a:lnTo>
                    <a:lnTo>
                      <a:pt x="209" y="985"/>
                    </a:lnTo>
                    <a:lnTo>
                      <a:pt x="248" y="924"/>
                    </a:lnTo>
                    <a:lnTo>
                      <a:pt x="289" y="866"/>
                    </a:lnTo>
                    <a:lnTo>
                      <a:pt x="332" y="809"/>
                    </a:lnTo>
                    <a:lnTo>
                      <a:pt x="376" y="755"/>
                    </a:lnTo>
                    <a:lnTo>
                      <a:pt x="423" y="704"/>
                    </a:lnTo>
                    <a:lnTo>
                      <a:pt x="474" y="653"/>
                    </a:lnTo>
                    <a:lnTo>
                      <a:pt x="527" y="605"/>
                    </a:lnTo>
                    <a:lnTo>
                      <a:pt x="581" y="558"/>
                    </a:lnTo>
                    <a:lnTo>
                      <a:pt x="640" y="513"/>
                    </a:lnTo>
                    <a:lnTo>
                      <a:pt x="700" y="470"/>
                    </a:lnTo>
                    <a:lnTo>
                      <a:pt x="762" y="429"/>
                    </a:lnTo>
                    <a:lnTo>
                      <a:pt x="829" y="390"/>
                    </a:lnTo>
                    <a:lnTo>
                      <a:pt x="897" y="353"/>
                    </a:lnTo>
                    <a:lnTo>
                      <a:pt x="967" y="316"/>
                    </a:lnTo>
                    <a:lnTo>
                      <a:pt x="1041" y="281"/>
                    </a:lnTo>
                    <a:lnTo>
                      <a:pt x="1119" y="248"/>
                    </a:lnTo>
                    <a:lnTo>
                      <a:pt x="1197" y="215"/>
                    </a:lnTo>
                    <a:lnTo>
                      <a:pt x="1281" y="183"/>
                    </a:lnTo>
                    <a:lnTo>
                      <a:pt x="1366" y="154"/>
                    </a:lnTo>
                    <a:lnTo>
                      <a:pt x="1454" y="127"/>
                    </a:lnTo>
                    <a:lnTo>
                      <a:pt x="1546" y="100"/>
                    </a:lnTo>
                    <a:lnTo>
                      <a:pt x="1641" y="72"/>
                    </a:lnTo>
                    <a:lnTo>
                      <a:pt x="1739" y="47"/>
                    </a:lnTo>
                    <a:lnTo>
                      <a:pt x="1840" y="24"/>
                    </a:lnTo>
                    <a:lnTo>
                      <a:pt x="1943" y="0"/>
                    </a:lnTo>
                    <a:lnTo>
                      <a:pt x="1945" y="33"/>
                    </a:lnTo>
                    <a:lnTo>
                      <a:pt x="1945" y="67"/>
                    </a:lnTo>
                    <a:lnTo>
                      <a:pt x="1945" y="98"/>
                    </a:lnTo>
                    <a:lnTo>
                      <a:pt x="1947" y="131"/>
                    </a:lnTo>
                    <a:lnTo>
                      <a:pt x="1885" y="146"/>
                    </a:lnTo>
                    <a:lnTo>
                      <a:pt x="1822" y="162"/>
                    </a:lnTo>
                    <a:lnTo>
                      <a:pt x="1760" y="178"/>
                    </a:lnTo>
                    <a:lnTo>
                      <a:pt x="1698" y="195"/>
                    </a:lnTo>
                    <a:lnTo>
                      <a:pt x="1635" y="211"/>
                    </a:lnTo>
                    <a:lnTo>
                      <a:pt x="1571" y="230"/>
                    </a:lnTo>
                    <a:lnTo>
                      <a:pt x="1507" y="250"/>
                    </a:lnTo>
                    <a:lnTo>
                      <a:pt x="1444" y="269"/>
                    </a:lnTo>
                    <a:lnTo>
                      <a:pt x="1380" y="291"/>
                    </a:lnTo>
                    <a:lnTo>
                      <a:pt x="1316" y="314"/>
                    </a:lnTo>
                    <a:lnTo>
                      <a:pt x="1253" y="339"/>
                    </a:lnTo>
                    <a:lnTo>
                      <a:pt x="1189" y="367"/>
                    </a:lnTo>
                    <a:lnTo>
                      <a:pt x="1127" y="396"/>
                    </a:lnTo>
                    <a:lnTo>
                      <a:pt x="1064" y="427"/>
                    </a:lnTo>
                    <a:lnTo>
                      <a:pt x="1002" y="460"/>
                    </a:lnTo>
                    <a:lnTo>
                      <a:pt x="940" y="497"/>
                    </a:lnTo>
                    <a:lnTo>
                      <a:pt x="877" y="536"/>
                    </a:lnTo>
                    <a:lnTo>
                      <a:pt x="817" y="579"/>
                    </a:lnTo>
                    <a:lnTo>
                      <a:pt x="756" y="624"/>
                    </a:lnTo>
                    <a:lnTo>
                      <a:pt x="698" y="671"/>
                    </a:lnTo>
                    <a:lnTo>
                      <a:pt x="640" y="723"/>
                    </a:lnTo>
                    <a:lnTo>
                      <a:pt x="581" y="778"/>
                    </a:lnTo>
                    <a:lnTo>
                      <a:pt x="525" y="838"/>
                    </a:lnTo>
                    <a:lnTo>
                      <a:pt x="468" y="901"/>
                    </a:lnTo>
                    <a:lnTo>
                      <a:pt x="414" y="967"/>
                    </a:lnTo>
                    <a:lnTo>
                      <a:pt x="361" y="1039"/>
                    </a:lnTo>
                    <a:lnTo>
                      <a:pt x="308" y="1115"/>
                    </a:lnTo>
                    <a:lnTo>
                      <a:pt x="258" y="1195"/>
                    </a:lnTo>
                    <a:lnTo>
                      <a:pt x="207" y="1281"/>
                    </a:lnTo>
                    <a:lnTo>
                      <a:pt x="158" y="1371"/>
                    </a:lnTo>
                    <a:lnTo>
                      <a:pt x="111" y="1466"/>
                    </a:lnTo>
                    <a:lnTo>
                      <a:pt x="67" y="1565"/>
                    </a:lnTo>
                    <a:lnTo>
                      <a:pt x="59" y="1554"/>
                    </a:lnTo>
                    <a:lnTo>
                      <a:pt x="49" y="1542"/>
                    </a:lnTo>
                    <a:lnTo>
                      <a:pt x="41" y="1530"/>
                    </a:lnTo>
                    <a:lnTo>
                      <a:pt x="34" y="1521"/>
                    </a:lnTo>
                    <a:lnTo>
                      <a:pt x="24" y="1509"/>
                    </a:lnTo>
                    <a:lnTo>
                      <a:pt x="16" y="1497"/>
                    </a:lnTo>
                    <a:lnTo>
                      <a:pt x="8" y="1487"/>
                    </a:lnTo>
                    <a:lnTo>
                      <a:pt x="0" y="1476"/>
                    </a:lnTo>
                    <a:close/>
                  </a:path>
                </a:pathLst>
              </a:custGeom>
              <a:solidFill>
                <a:srgbClr val="b719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459000" y="2523600"/>
                <a:ext cx="2034720" cy="1730520"/>
              </a:xfrm>
              <a:custGeom>
                <a:avLst/>
                <a:gdLst/>
                <a:ahLst/>
                <a:rect l="l" t="t" r="r" b="b"/>
                <a:pathLst>
                  <a:path w="1947" h="1546">
                    <a:moveTo>
                      <a:pt x="0" y="1476"/>
                    </a:moveTo>
                    <a:lnTo>
                      <a:pt x="24" y="1398"/>
                    </a:lnTo>
                    <a:lnTo>
                      <a:pt x="49" y="1324"/>
                    </a:lnTo>
                    <a:lnTo>
                      <a:pt x="76" y="1250"/>
                    </a:lnTo>
                    <a:lnTo>
                      <a:pt x="106" y="1181"/>
                    </a:lnTo>
                    <a:lnTo>
                      <a:pt x="137" y="1113"/>
                    </a:lnTo>
                    <a:lnTo>
                      <a:pt x="170" y="1047"/>
                    </a:lnTo>
                    <a:lnTo>
                      <a:pt x="207" y="985"/>
                    </a:lnTo>
                    <a:lnTo>
                      <a:pt x="244" y="924"/>
                    </a:lnTo>
                    <a:lnTo>
                      <a:pt x="285" y="866"/>
                    </a:lnTo>
                    <a:lnTo>
                      <a:pt x="328" y="809"/>
                    </a:lnTo>
                    <a:lnTo>
                      <a:pt x="373" y="755"/>
                    </a:lnTo>
                    <a:lnTo>
                      <a:pt x="421" y="704"/>
                    </a:lnTo>
                    <a:lnTo>
                      <a:pt x="470" y="653"/>
                    </a:lnTo>
                    <a:lnTo>
                      <a:pt x="523" y="605"/>
                    </a:lnTo>
                    <a:lnTo>
                      <a:pt x="579" y="558"/>
                    </a:lnTo>
                    <a:lnTo>
                      <a:pt x="636" y="513"/>
                    </a:lnTo>
                    <a:lnTo>
                      <a:pt x="696" y="470"/>
                    </a:lnTo>
                    <a:lnTo>
                      <a:pt x="760" y="429"/>
                    </a:lnTo>
                    <a:lnTo>
                      <a:pt x="825" y="390"/>
                    </a:lnTo>
                    <a:lnTo>
                      <a:pt x="895" y="353"/>
                    </a:lnTo>
                    <a:lnTo>
                      <a:pt x="965" y="316"/>
                    </a:lnTo>
                    <a:lnTo>
                      <a:pt x="1039" y="281"/>
                    </a:lnTo>
                    <a:lnTo>
                      <a:pt x="1117" y="248"/>
                    </a:lnTo>
                    <a:lnTo>
                      <a:pt x="1197" y="215"/>
                    </a:lnTo>
                    <a:lnTo>
                      <a:pt x="1279" y="183"/>
                    </a:lnTo>
                    <a:lnTo>
                      <a:pt x="1364" y="154"/>
                    </a:lnTo>
                    <a:lnTo>
                      <a:pt x="1454" y="127"/>
                    </a:lnTo>
                    <a:lnTo>
                      <a:pt x="1546" y="100"/>
                    </a:lnTo>
                    <a:lnTo>
                      <a:pt x="1639" y="72"/>
                    </a:lnTo>
                    <a:lnTo>
                      <a:pt x="1739" y="47"/>
                    </a:lnTo>
                    <a:lnTo>
                      <a:pt x="1838" y="24"/>
                    </a:lnTo>
                    <a:lnTo>
                      <a:pt x="1943" y="0"/>
                    </a:lnTo>
                    <a:lnTo>
                      <a:pt x="1945" y="29"/>
                    </a:lnTo>
                    <a:lnTo>
                      <a:pt x="1945" y="57"/>
                    </a:lnTo>
                    <a:lnTo>
                      <a:pt x="1945" y="84"/>
                    </a:lnTo>
                    <a:lnTo>
                      <a:pt x="1947" y="111"/>
                    </a:lnTo>
                    <a:lnTo>
                      <a:pt x="1885" y="127"/>
                    </a:lnTo>
                    <a:lnTo>
                      <a:pt x="1820" y="143"/>
                    </a:lnTo>
                    <a:lnTo>
                      <a:pt x="1758" y="158"/>
                    </a:lnTo>
                    <a:lnTo>
                      <a:pt x="1694" y="174"/>
                    </a:lnTo>
                    <a:lnTo>
                      <a:pt x="1630" y="191"/>
                    </a:lnTo>
                    <a:lnTo>
                      <a:pt x="1565" y="209"/>
                    </a:lnTo>
                    <a:lnTo>
                      <a:pt x="1501" y="228"/>
                    </a:lnTo>
                    <a:lnTo>
                      <a:pt x="1437" y="250"/>
                    </a:lnTo>
                    <a:lnTo>
                      <a:pt x="1372" y="271"/>
                    </a:lnTo>
                    <a:lnTo>
                      <a:pt x="1308" y="295"/>
                    </a:lnTo>
                    <a:lnTo>
                      <a:pt x="1246" y="320"/>
                    </a:lnTo>
                    <a:lnTo>
                      <a:pt x="1181" y="347"/>
                    </a:lnTo>
                    <a:lnTo>
                      <a:pt x="1117" y="376"/>
                    </a:lnTo>
                    <a:lnTo>
                      <a:pt x="1055" y="408"/>
                    </a:lnTo>
                    <a:lnTo>
                      <a:pt x="992" y="441"/>
                    </a:lnTo>
                    <a:lnTo>
                      <a:pt x="930" y="478"/>
                    </a:lnTo>
                    <a:lnTo>
                      <a:pt x="868" y="517"/>
                    </a:lnTo>
                    <a:lnTo>
                      <a:pt x="807" y="560"/>
                    </a:lnTo>
                    <a:lnTo>
                      <a:pt x="747" y="605"/>
                    </a:lnTo>
                    <a:lnTo>
                      <a:pt x="686" y="653"/>
                    </a:lnTo>
                    <a:lnTo>
                      <a:pt x="628" y="704"/>
                    </a:lnTo>
                    <a:lnTo>
                      <a:pt x="569" y="760"/>
                    </a:lnTo>
                    <a:lnTo>
                      <a:pt x="513" y="819"/>
                    </a:lnTo>
                    <a:lnTo>
                      <a:pt x="458" y="881"/>
                    </a:lnTo>
                    <a:lnTo>
                      <a:pt x="402" y="950"/>
                    </a:lnTo>
                    <a:lnTo>
                      <a:pt x="349" y="1020"/>
                    </a:lnTo>
                    <a:lnTo>
                      <a:pt x="297" y="1096"/>
                    </a:lnTo>
                    <a:lnTo>
                      <a:pt x="246" y="1176"/>
                    </a:lnTo>
                    <a:lnTo>
                      <a:pt x="195" y="1261"/>
                    </a:lnTo>
                    <a:lnTo>
                      <a:pt x="147" y="1351"/>
                    </a:lnTo>
                    <a:lnTo>
                      <a:pt x="100" y="1447"/>
                    </a:lnTo>
                    <a:lnTo>
                      <a:pt x="55" y="1546"/>
                    </a:lnTo>
                    <a:lnTo>
                      <a:pt x="41" y="1528"/>
                    </a:lnTo>
                    <a:lnTo>
                      <a:pt x="28" y="1511"/>
                    </a:lnTo>
                    <a:lnTo>
                      <a:pt x="14" y="1493"/>
                    </a:lnTo>
                    <a:lnTo>
                      <a:pt x="0" y="1476"/>
                    </a:lnTo>
                    <a:close/>
                  </a:path>
                </a:pathLst>
              </a:custGeom>
              <a:solidFill>
                <a:srgbClr val="c10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459000" y="2523600"/>
                <a:ext cx="2034720" cy="1712880"/>
              </a:xfrm>
              <a:custGeom>
                <a:avLst/>
                <a:gdLst/>
                <a:ahLst/>
                <a:rect l="l" t="t" r="r" b="b"/>
                <a:pathLst>
                  <a:path w="1947" h="1530">
                    <a:moveTo>
                      <a:pt x="0" y="1476"/>
                    </a:moveTo>
                    <a:lnTo>
                      <a:pt x="24" y="1398"/>
                    </a:lnTo>
                    <a:lnTo>
                      <a:pt x="47" y="1324"/>
                    </a:lnTo>
                    <a:lnTo>
                      <a:pt x="74" y="1250"/>
                    </a:lnTo>
                    <a:lnTo>
                      <a:pt x="104" y="1181"/>
                    </a:lnTo>
                    <a:lnTo>
                      <a:pt x="135" y="1113"/>
                    </a:lnTo>
                    <a:lnTo>
                      <a:pt x="168" y="1047"/>
                    </a:lnTo>
                    <a:lnTo>
                      <a:pt x="203" y="985"/>
                    </a:lnTo>
                    <a:lnTo>
                      <a:pt x="242" y="924"/>
                    </a:lnTo>
                    <a:lnTo>
                      <a:pt x="283" y="866"/>
                    </a:lnTo>
                    <a:lnTo>
                      <a:pt x="326" y="809"/>
                    </a:lnTo>
                    <a:lnTo>
                      <a:pt x="371" y="755"/>
                    </a:lnTo>
                    <a:lnTo>
                      <a:pt x="417" y="704"/>
                    </a:lnTo>
                    <a:lnTo>
                      <a:pt x="468" y="653"/>
                    </a:lnTo>
                    <a:lnTo>
                      <a:pt x="521" y="605"/>
                    </a:lnTo>
                    <a:lnTo>
                      <a:pt x="575" y="558"/>
                    </a:lnTo>
                    <a:lnTo>
                      <a:pt x="634" y="513"/>
                    </a:lnTo>
                    <a:lnTo>
                      <a:pt x="694" y="470"/>
                    </a:lnTo>
                    <a:lnTo>
                      <a:pt x="756" y="429"/>
                    </a:lnTo>
                    <a:lnTo>
                      <a:pt x="823" y="390"/>
                    </a:lnTo>
                    <a:lnTo>
                      <a:pt x="893" y="353"/>
                    </a:lnTo>
                    <a:lnTo>
                      <a:pt x="963" y="316"/>
                    </a:lnTo>
                    <a:lnTo>
                      <a:pt x="1037" y="281"/>
                    </a:lnTo>
                    <a:lnTo>
                      <a:pt x="1115" y="248"/>
                    </a:lnTo>
                    <a:lnTo>
                      <a:pt x="1195" y="215"/>
                    </a:lnTo>
                    <a:lnTo>
                      <a:pt x="1279" y="183"/>
                    </a:lnTo>
                    <a:lnTo>
                      <a:pt x="1364" y="154"/>
                    </a:lnTo>
                    <a:lnTo>
                      <a:pt x="1454" y="127"/>
                    </a:lnTo>
                    <a:lnTo>
                      <a:pt x="1546" y="100"/>
                    </a:lnTo>
                    <a:lnTo>
                      <a:pt x="1641" y="72"/>
                    </a:lnTo>
                    <a:lnTo>
                      <a:pt x="1739" y="47"/>
                    </a:lnTo>
                    <a:lnTo>
                      <a:pt x="1840" y="24"/>
                    </a:lnTo>
                    <a:lnTo>
                      <a:pt x="1945" y="0"/>
                    </a:lnTo>
                    <a:lnTo>
                      <a:pt x="1947" y="90"/>
                    </a:lnTo>
                    <a:lnTo>
                      <a:pt x="1883" y="106"/>
                    </a:lnTo>
                    <a:lnTo>
                      <a:pt x="1819" y="121"/>
                    </a:lnTo>
                    <a:lnTo>
                      <a:pt x="1754" y="137"/>
                    </a:lnTo>
                    <a:lnTo>
                      <a:pt x="1690" y="152"/>
                    </a:lnTo>
                    <a:lnTo>
                      <a:pt x="1626" y="170"/>
                    </a:lnTo>
                    <a:lnTo>
                      <a:pt x="1561" y="187"/>
                    </a:lnTo>
                    <a:lnTo>
                      <a:pt x="1495" y="207"/>
                    </a:lnTo>
                    <a:lnTo>
                      <a:pt x="1431" y="228"/>
                    </a:lnTo>
                    <a:lnTo>
                      <a:pt x="1366" y="250"/>
                    </a:lnTo>
                    <a:lnTo>
                      <a:pt x="1300" y="273"/>
                    </a:lnTo>
                    <a:lnTo>
                      <a:pt x="1236" y="298"/>
                    </a:lnTo>
                    <a:lnTo>
                      <a:pt x="1172" y="326"/>
                    </a:lnTo>
                    <a:lnTo>
                      <a:pt x="1107" y="355"/>
                    </a:lnTo>
                    <a:lnTo>
                      <a:pt x="1045" y="386"/>
                    </a:lnTo>
                    <a:lnTo>
                      <a:pt x="983" y="421"/>
                    </a:lnTo>
                    <a:lnTo>
                      <a:pt x="920" y="458"/>
                    </a:lnTo>
                    <a:lnTo>
                      <a:pt x="858" y="497"/>
                    </a:lnTo>
                    <a:lnTo>
                      <a:pt x="795" y="540"/>
                    </a:lnTo>
                    <a:lnTo>
                      <a:pt x="735" y="585"/>
                    </a:lnTo>
                    <a:lnTo>
                      <a:pt x="677" y="634"/>
                    </a:lnTo>
                    <a:lnTo>
                      <a:pt x="616" y="686"/>
                    </a:lnTo>
                    <a:lnTo>
                      <a:pt x="560" y="741"/>
                    </a:lnTo>
                    <a:lnTo>
                      <a:pt x="501" y="801"/>
                    </a:lnTo>
                    <a:lnTo>
                      <a:pt x="447" y="864"/>
                    </a:lnTo>
                    <a:lnTo>
                      <a:pt x="392" y="932"/>
                    </a:lnTo>
                    <a:lnTo>
                      <a:pt x="338" y="1002"/>
                    </a:lnTo>
                    <a:lnTo>
                      <a:pt x="285" y="1078"/>
                    </a:lnTo>
                    <a:lnTo>
                      <a:pt x="234" y="1160"/>
                    </a:lnTo>
                    <a:lnTo>
                      <a:pt x="184" y="1244"/>
                    </a:lnTo>
                    <a:lnTo>
                      <a:pt x="135" y="1335"/>
                    </a:lnTo>
                    <a:lnTo>
                      <a:pt x="88" y="1429"/>
                    </a:lnTo>
                    <a:lnTo>
                      <a:pt x="43" y="1530"/>
                    </a:lnTo>
                    <a:lnTo>
                      <a:pt x="0" y="1476"/>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1912680" y="3654360"/>
                <a:ext cx="2178720" cy="1966320"/>
              </a:xfrm>
              <a:custGeom>
                <a:avLst/>
                <a:gdLst/>
                <a:ahLst/>
                <a:rect l="l" t="t" r="r" b="b"/>
                <a:pathLst>
                  <a:path w="2085" h="1756">
                    <a:moveTo>
                      <a:pt x="376" y="341"/>
                    </a:moveTo>
                    <a:lnTo>
                      <a:pt x="280" y="78"/>
                    </a:lnTo>
                    <a:lnTo>
                      <a:pt x="495" y="220"/>
                    </a:lnTo>
                    <a:lnTo>
                      <a:pt x="518" y="101"/>
                    </a:lnTo>
                    <a:lnTo>
                      <a:pt x="660" y="220"/>
                    </a:lnTo>
                    <a:lnTo>
                      <a:pt x="802" y="0"/>
                    </a:lnTo>
                    <a:lnTo>
                      <a:pt x="921" y="47"/>
                    </a:lnTo>
                    <a:lnTo>
                      <a:pt x="966" y="140"/>
                    </a:lnTo>
                    <a:lnTo>
                      <a:pt x="1138" y="212"/>
                    </a:lnTo>
                    <a:lnTo>
                      <a:pt x="1251" y="277"/>
                    </a:lnTo>
                    <a:lnTo>
                      <a:pt x="1635" y="247"/>
                    </a:lnTo>
                    <a:lnTo>
                      <a:pt x="1703" y="324"/>
                    </a:lnTo>
                    <a:lnTo>
                      <a:pt x="1820" y="320"/>
                    </a:lnTo>
                    <a:lnTo>
                      <a:pt x="2032" y="312"/>
                    </a:lnTo>
                    <a:lnTo>
                      <a:pt x="1966" y="413"/>
                    </a:lnTo>
                    <a:lnTo>
                      <a:pt x="1919" y="604"/>
                    </a:lnTo>
                    <a:lnTo>
                      <a:pt x="2085" y="604"/>
                    </a:lnTo>
                    <a:lnTo>
                      <a:pt x="1966" y="797"/>
                    </a:lnTo>
                    <a:lnTo>
                      <a:pt x="1894" y="1037"/>
                    </a:lnTo>
                    <a:lnTo>
                      <a:pt x="1777" y="1277"/>
                    </a:lnTo>
                    <a:lnTo>
                      <a:pt x="1989" y="1516"/>
                    </a:lnTo>
                    <a:lnTo>
                      <a:pt x="1751" y="1444"/>
                    </a:lnTo>
                    <a:lnTo>
                      <a:pt x="1751" y="1661"/>
                    </a:lnTo>
                    <a:lnTo>
                      <a:pt x="1490" y="1661"/>
                    </a:lnTo>
                    <a:lnTo>
                      <a:pt x="1371" y="1516"/>
                    </a:lnTo>
                    <a:lnTo>
                      <a:pt x="1136" y="1709"/>
                    </a:lnTo>
                    <a:lnTo>
                      <a:pt x="1110" y="1516"/>
                    </a:lnTo>
                    <a:lnTo>
                      <a:pt x="849" y="1614"/>
                    </a:lnTo>
                    <a:lnTo>
                      <a:pt x="376" y="1756"/>
                    </a:lnTo>
                    <a:lnTo>
                      <a:pt x="541" y="1421"/>
                    </a:lnTo>
                    <a:lnTo>
                      <a:pt x="327" y="1516"/>
                    </a:lnTo>
                    <a:lnTo>
                      <a:pt x="399" y="1325"/>
                    </a:lnTo>
                    <a:lnTo>
                      <a:pt x="257" y="1230"/>
                    </a:lnTo>
                    <a:lnTo>
                      <a:pt x="399" y="1109"/>
                    </a:lnTo>
                    <a:lnTo>
                      <a:pt x="70" y="748"/>
                    </a:lnTo>
                    <a:lnTo>
                      <a:pt x="0" y="534"/>
                    </a:lnTo>
                    <a:lnTo>
                      <a:pt x="235" y="630"/>
                    </a:lnTo>
                    <a:lnTo>
                      <a:pt x="235" y="437"/>
                    </a:lnTo>
                    <a:lnTo>
                      <a:pt x="422" y="581"/>
                    </a:lnTo>
                    <a:lnTo>
                      <a:pt x="376" y="341"/>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a:off x="1931400" y="3672360"/>
                <a:ext cx="2136600" cy="1923840"/>
              </a:xfrm>
              <a:custGeom>
                <a:avLst/>
                <a:gdLst/>
                <a:ahLst/>
                <a:rect l="l" t="t" r="r" b="b"/>
                <a:pathLst>
                  <a:path w="2042" h="1719">
                    <a:moveTo>
                      <a:pt x="368" y="333"/>
                    </a:moveTo>
                    <a:lnTo>
                      <a:pt x="357" y="300"/>
                    </a:lnTo>
                    <a:lnTo>
                      <a:pt x="345" y="269"/>
                    </a:lnTo>
                    <a:lnTo>
                      <a:pt x="333" y="235"/>
                    </a:lnTo>
                    <a:lnTo>
                      <a:pt x="322" y="204"/>
                    </a:lnTo>
                    <a:lnTo>
                      <a:pt x="310" y="171"/>
                    </a:lnTo>
                    <a:lnTo>
                      <a:pt x="298" y="140"/>
                    </a:lnTo>
                    <a:lnTo>
                      <a:pt x="286" y="107"/>
                    </a:lnTo>
                    <a:lnTo>
                      <a:pt x="275" y="76"/>
                    </a:lnTo>
                    <a:lnTo>
                      <a:pt x="302" y="93"/>
                    </a:lnTo>
                    <a:lnTo>
                      <a:pt x="327" y="111"/>
                    </a:lnTo>
                    <a:lnTo>
                      <a:pt x="355" y="128"/>
                    </a:lnTo>
                    <a:lnTo>
                      <a:pt x="380" y="146"/>
                    </a:lnTo>
                    <a:lnTo>
                      <a:pt x="407" y="163"/>
                    </a:lnTo>
                    <a:lnTo>
                      <a:pt x="433" y="181"/>
                    </a:lnTo>
                    <a:lnTo>
                      <a:pt x="460" y="198"/>
                    </a:lnTo>
                    <a:lnTo>
                      <a:pt x="485" y="216"/>
                    </a:lnTo>
                    <a:lnTo>
                      <a:pt x="491" y="187"/>
                    </a:lnTo>
                    <a:lnTo>
                      <a:pt x="497" y="157"/>
                    </a:lnTo>
                    <a:lnTo>
                      <a:pt x="503" y="128"/>
                    </a:lnTo>
                    <a:lnTo>
                      <a:pt x="511" y="99"/>
                    </a:lnTo>
                    <a:lnTo>
                      <a:pt x="526" y="113"/>
                    </a:lnTo>
                    <a:lnTo>
                      <a:pt x="544" y="128"/>
                    </a:lnTo>
                    <a:lnTo>
                      <a:pt x="559" y="142"/>
                    </a:lnTo>
                    <a:lnTo>
                      <a:pt x="577" y="157"/>
                    </a:lnTo>
                    <a:lnTo>
                      <a:pt x="594" y="171"/>
                    </a:lnTo>
                    <a:lnTo>
                      <a:pt x="612" y="187"/>
                    </a:lnTo>
                    <a:lnTo>
                      <a:pt x="629" y="200"/>
                    </a:lnTo>
                    <a:lnTo>
                      <a:pt x="647" y="216"/>
                    </a:lnTo>
                    <a:lnTo>
                      <a:pt x="664" y="189"/>
                    </a:lnTo>
                    <a:lnTo>
                      <a:pt x="680" y="161"/>
                    </a:lnTo>
                    <a:lnTo>
                      <a:pt x="698" y="134"/>
                    </a:lnTo>
                    <a:lnTo>
                      <a:pt x="715" y="107"/>
                    </a:lnTo>
                    <a:lnTo>
                      <a:pt x="731" y="81"/>
                    </a:lnTo>
                    <a:lnTo>
                      <a:pt x="748" y="54"/>
                    </a:lnTo>
                    <a:lnTo>
                      <a:pt x="764" y="27"/>
                    </a:lnTo>
                    <a:lnTo>
                      <a:pt x="781" y="0"/>
                    </a:lnTo>
                    <a:lnTo>
                      <a:pt x="797" y="5"/>
                    </a:lnTo>
                    <a:lnTo>
                      <a:pt x="813" y="11"/>
                    </a:lnTo>
                    <a:lnTo>
                      <a:pt x="826" y="17"/>
                    </a:lnTo>
                    <a:lnTo>
                      <a:pt x="842" y="23"/>
                    </a:lnTo>
                    <a:lnTo>
                      <a:pt x="857" y="29"/>
                    </a:lnTo>
                    <a:lnTo>
                      <a:pt x="871" y="37"/>
                    </a:lnTo>
                    <a:lnTo>
                      <a:pt x="887" y="42"/>
                    </a:lnTo>
                    <a:lnTo>
                      <a:pt x="902" y="50"/>
                    </a:lnTo>
                    <a:lnTo>
                      <a:pt x="914" y="70"/>
                    </a:lnTo>
                    <a:lnTo>
                      <a:pt x="928" y="91"/>
                    </a:lnTo>
                    <a:lnTo>
                      <a:pt x="941" y="111"/>
                    </a:lnTo>
                    <a:lnTo>
                      <a:pt x="955" y="132"/>
                    </a:lnTo>
                    <a:lnTo>
                      <a:pt x="974" y="140"/>
                    </a:lnTo>
                    <a:lnTo>
                      <a:pt x="994" y="150"/>
                    </a:lnTo>
                    <a:lnTo>
                      <a:pt x="1015" y="157"/>
                    </a:lnTo>
                    <a:lnTo>
                      <a:pt x="1035" y="167"/>
                    </a:lnTo>
                    <a:lnTo>
                      <a:pt x="1056" y="175"/>
                    </a:lnTo>
                    <a:lnTo>
                      <a:pt x="1076" y="185"/>
                    </a:lnTo>
                    <a:lnTo>
                      <a:pt x="1097" y="193"/>
                    </a:lnTo>
                    <a:lnTo>
                      <a:pt x="1119" y="202"/>
                    </a:lnTo>
                    <a:lnTo>
                      <a:pt x="1132" y="210"/>
                    </a:lnTo>
                    <a:lnTo>
                      <a:pt x="1148" y="218"/>
                    </a:lnTo>
                    <a:lnTo>
                      <a:pt x="1161" y="226"/>
                    </a:lnTo>
                    <a:lnTo>
                      <a:pt x="1177" y="233"/>
                    </a:lnTo>
                    <a:lnTo>
                      <a:pt x="1193" y="241"/>
                    </a:lnTo>
                    <a:lnTo>
                      <a:pt x="1208" y="249"/>
                    </a:lnTo>
                    <a:lnTo>
                      <a:pt x="1222" y="257"/>
                    </a:lnTo>
                    <a:lnTo>
                      <a:pt x="1237" y="265"/>
                    </a:lnTo>
                    <a:lnTo>
                      <a:pt x="1261" y="263"/>
                    </a:lnTo>
                    <a:lnTo>
                      <a:pt x="1284" y="261"/>
                    </a:lnTo>
                    <a:lnTo>
                      <a:pt x="1308" y="259"/>
                    </a:lnTo>
                    <a:lnTo>
                      <a:pt x="1331" y="257"/>
                    </a:lnTo>
                    <a:lnTo>
                      <a:pt x="1354" y="255"/>
                    </a:lnTo>
                    <a:lnTo>
                      <a:pt x="1376" y="253"/>
                    </a:lnTo>
                    <a:lnTo>
                      <a:pt x="1399" y="251"/>
                    </a:lnTo>
                    <a:lnTo>
                      <a:pt x="1423" y="249"/>
                    </a:lnTo>
                    <a:lnTo>
                      <a:pt x="1446" y="249"/>
                    </a:lnTo>
                    <a:lnTo>
                      <a:pt x="1467" y="247"/>
                    </a:lnTo>
                    <a:lnTo>
                      <a:pt x="1491" y="245"/>
                    </a:lnTo>
                    <a:lnTo>
                      <a:pt x="1514" y="243"/>
                    </a:lnTo>
                    <a:lnTo>
                      <a:pt x="1538" y="241"/>
                    </a:lnTo>
                    <a:lnTo>
                      <a:pt x="1559" y="239"/>
                    </a:lnTo>
                    <a:lnTo>
                      <a:pt x="1582" y="237"/>
                    </a:lnTo>
                    <a:lnTo>
                      <a:pt x="1606" y="235"/>
                    </a:lnTo>
                    <a:lnTo>
                      <a:pt x="1614" y="243"/>
                    </a:lnTo>
                    <a:lnTo>
                      <a:pt x="1623" y="253"/>
                    </a:lnTo>
                    <a:lnTo>
                      <a:pt x="1631" y="261"/>
                    </a:lnTo>
                    <a:lnTo>
                      <a:pt x="1641" y="270"/>
                    </a:lnTo>
                    <a:lnTo>
                      <a:pt x="1649" y="278"/>
                    </a:lnTo>
                    <a:lnTo>
                      <a:pt x="1656" y="288"/>
                    </a:lnTo>
                    <a:lnTo>
                      <a:pt x="1666" y="296"/>
                    </a:lnTo>
                    <a:lnTo>
                      <a:pt x="1674" y="306"/>
                    </a:lnTo>
                    <a:lnTo>
                      <a:pt x="1688" y="306"/>
                    </a:lnTo>
                    <a:lnTo>
                      <a:pt x="1701" y="306"/>
                    </a:lnTo>
                    <a:lnTo>
                      <a:pt x="1715" y="306"/>
                    </a:lnTo>
                    <a:lnTo>
                      <a:pt x="1730" y="306"/>
                    </a:lnTo>
                    <a:lnTo>
                      <a:pt x="1744" y="306"/>
                    </a:lnTo>
                    <a:lnTo>
                      <a:pt x="1758" y="306"/>
                    </a:lnTo>
                    <a:lnTo>
                      <a:pt x="1771" y="306"/>
                    </a:lnTo>
                    <a:lnTo>
                      <a:pt x="1785" y="306"/>
                    </a:lnTo>
                    <a:lnTo>
                      <a:pt x="1810" y="306"/>
                    </a:lnTo>
                    <a:lnTo>
                      <a:pt x="1838" y="304"/>
                    </a:lnTo>
                    <a:lnTo>
                      <a:pt x="1863" y="304"/>
                    </a:lnTo>
                    <a:lnTo>
                      <a:pt x="1890" y="302"/>
                    </a:lnTo>
                    <a:lnTo>
                      <a:pt x="1916" y="300"/>
                    </a:lnTo>
                    <a:lnTo>
                      <a:pt x="1941" y="300"/>
                    </a:lnTo>
                    <a:lnTo>
                      <a:pt x="1968" y="298"/>
                    </a:lnTo>
                    <a:lnTo>
                      <a:pt x="1994" y="298"/>
                    </a:lnTo>
                    <a:lnTo>
                      <a:pt x="1986" y="311"/>
                    </a:lnTo>
                    <a:lnTo>
                      <a:pt x="1976" y="323"/>
                    </a:lnTo>
                    <a:lnTo>
                      <a:pt x="1968" y="337"/>
                    </a:lnTo>
                    <a:lnTo>
                      <a:pt x="1960" y="350"/>
                    </a:lnTo>
                    <a:lnTo>
                      <a:pt x="1951" y="364"/>
                    </a:lnTo>
                    <a:lnTo>
                      <a:pt x="1943" y="376"/>
                    </a:lnTo>
                    <a:lnTo>
                      <a:pt x="1933" y="389"/>
                    </a:lnTo>
                    <a:lnTo>
                      <a:pt x="1925" y="403"/>
                    </a:lnTo>
                    <a:lnTo>
                      <a:pt x="1914" y="450"/>
                    </a:lnTo>
                    <a:lnTo>
                      <a:pt x="1902" y="497"/>
                    </a:lnTo>
                    <a:lnTo>
                      <a:pt x="1890" y="543"/>
                    </a:lnTo>
                    <a:lnTo>
                      <a:pt x="1879" y="590"/>
                    </a:lnTo>
                    <a:lnTo>
                      <a:pt x="1900" y="590"/>
                    </a:lnTo>
                    <a:lnTo>
                      <a:pt x="1919" y="590"/>
                    </a:lnTo>
                    <a:lnTo>
                      <a:pt x="1941" y="590"/>
                    </a:lnTo>
                    <a:lnTo>
                      <a:pt x="1960" y="590"/>
                    </a:lnTo>
                    <a:lnTo>
                      <a:pt x="1982" y="590"/>
                    </a:lnTo>
                    <a:lnTo>
                      <a:pt x="2001" y="590"/>
                    </a:lnTo>
                    <a:lnTo>
                      <a:pt x="2023" y="590"/>
                    </a:lnTo>
                    <a:lnTo>
                      <a:pt x="2042" y="590"/>
                    </a:lnTo>
                    <a:lnTo>
                      <a:pt x="2029" y="614"/>
                    </a:lnTo>
                    <a:lnTo>
                      <a:pt x="2013" y="639"/>
                    </a:lnTo>
                    <a:lnTo>
                      <a:pt x="1999" y="662"/>
                    </a:lnTo>
                    <a:lnTo>
                      <a:pt x="1984" y="686"/>
                    </a:lnTo>
                    <a:lnTo>
                      <a:pt x="1970" y="709"/>
                    </a:lnTo>
                    <a:lnTo>
                      <a:pt x="1955" y="732"/>
                    </a:lnTo>
                    <a:lnTo>
                      <a:pt x="1941" y="756"/>
                    </a:lnTo>
                    <a:lnTo>
                      <a:pt x="1925" y="779"/>
                    </a:lnTo>
                    <a:lnTo>
                      <a:pt x="1918" y="808"/>
                    </a:lnTo>
                    <a:lnTo>
                      <a:pt x="1908" y="838"/>
                    </a:lnTo>
                    <a:lnTo>
                      <a:pt x="1900" y="867"/>
                    </a:lnTo>
                    <a:lnTo>
                      <a:pt x="1890" y="896"/>
                    </a:lnTo>
                    <a:lnTo>
                      <a:pt x="1882" y="925"/>
                    </a:lnTo>
                    <a:lnTo>
                      <a:pt x="1873" y="955"/>
                    </a:lnTo>
                    <a:lnTo>
                      <a:pt x="1865" y="984"/>
                    </a:lnTo>
                    <a:lnTo>
                      <a:pt x="1855" y="1013"/>
                    </a:lnTo>
                    <a:lnTo>
                      <a:pt x="1842" y="1042"/>
                    </a:lnTo>
                    <a:lnTo>
                      <a:pt x="1826" y="1074"/>
                    </a:lnTo>
                    <a:lnTo>
                      <a:pt x="1812" y="1103"/>
                    </a:lnTo>
                    <a:lnTo>
                      <a:pt x="1797" y="1132"/>
                    </a:lnTo>
                    <a:lnTo>
                      <a:pt x="1783" y="1161"/>
                    </a:lnTo>
                    <a:lnTo>
                      <a:pt x="1767" y="1191"/>
                    </a:lnTo>
                    <a:lnTo>
                      <a:pt x="1754" y="1220"/>
                    </a:lnTo>
                    <a:lnTo>
                      <a:pt x="1740" y="1249"/>
                    </a:lnTo>
                    <a:lnTo>
                      <a:pt x="1766" y="1278"/>
                    </a:lnTo>
                    <a:lnTo>
                      <a:pt x="1791" y="1307"/>
                    </a:lnTo>
                    <a:lnTo>
                      <a:pt x="1818" y="1337"/>
                    </a:lnTo>
                    <a:lnTo>
                      <a:pt x="1843" y="1366"/>
                    </a:lnTo>
                    <a:lnTo>
                      <a:pt x="1871" y="1395"/>
                    </a:lnTo>
                    <a:lnTo>
                      <a:pt x="1896" y="1424"/>
                    </a:lnTo>
                    <a:lnTo>
                      <a:pt x="1923" y="1454"/>
                    </a:lnTo>
                    <a:lnTo>
                      <a:pt x="1949" y="1483"/>
                    </a:lnTo>
                    <a:lnTo>
                      <a:pt x="1919" y="1473"/>
                    </a:lnTo>
                    <a:lnTo>
                      <a:pt x="1890" y="1465"/>
                    </a:lnTo>
                    <a:lnTo>
                      <a:pt x="1861" y="1456"/>
                    </a:lnTo>
                    <a:lnTo>
                      <a:pt x="1832" y="1448"/>
                    </a:lnTo>
                    <a:lnTo>
                      <a:pt x="1803" y="1438"/>
                    </a:lnTo>
                    <a:lnTo>
                      <a:pt x="1773" y="1430"/>
                    </a:lnTo>
                    <a:lnTo>
                      <a:pt x="1746" y="1421"/>
                    </a:lnTo>
                    <a:lnTo>
                      <a:pt x="1717" y="1413"/>
                    </a:lnTo>
                    <a:lnTo>
                      <a:pt x="1717" y="1465"/>
                    </a:lnTo>
                    <a:lnTo>
                      <a:pt x="1717" y="1518"/>
                    </a:lnTo>
                    <a:lnTo>
                      <a:pt x="1717" y="1573"/>
                    </a:lnTo>
                    <a:lnTo>
                      <a:pt x="1717" y="1625"/>
                    </a:lnTo>
                    <a:lnTo>
                      <a:pt x="1686" y="1625"/>
                    </a:lnTo>
                    <a:lnTo>
                      <a:pt x="1652" y="1625"/>
                    </a:lnTo>
                    <a:lnTo>
                      <a:pt x="1621" y="1625"/>
                    </a:lnTo>
                    <a:lnTo>
                      <a:pt x="1588" y="1625"/>
                    </a:lnTo>
                    <a:lnTo>
                      <a:pt x="1557" y="1625"/>
                    </a:lnTo>
                    <a:lnTo>
                      <a:pt x="1524" y="1625"/>
                    </a:lnTo>
                    <a:lnTo>
                      <a:pt x="1493" y="1625"/>
                    </a:lnTo>
                    <a:lnTo>
                      <a:pt x="1462" y="1625"/>
                    </a:lnTo>
                    <a:lnTo>
                      <a:pt x="1448" y="1608"/>
                    </a:lnTo>
                    <a:lnTo>
                      <a:pt x="1432" y="1590"/>
                    </a:lnTo>
                    <a:lnTo>
                      <a:pt x="1419" y="1573"/>
                    </a:lnTo>
                    <a:lnTo>
                      <a:pt x="1403" y="1555"/>
                    </a:lnTo>
                    <a:lnTo>
                      <a:pt x="1389" y="1537"/>
                    </a:lnTo>
                    <a:lnTo>
                      <a:pt x="1374" y="1520"/>
                    </a:lnTo>
                    <a:lnTo>
                      <a:pt x="1360" y="1500"/>
                    </a:lnTo>
                    <a:lnTo>
                      <a:pt x="1345" y="1483"/>
                    </a:lnTo>
                    <a:lnTo>
                      <a:pt x="1315" y="1506"/>
                    </a:lnTo>
                    <a:lnTo>
                      <a:pt x="1286" y="1532"/>
                    </a:lnTo>
                    <a:lnTo>
                      <a:pt x="1257" y="1555"/>
                    </a:lnTo>
                    <a:lnTo>
                      <a:pt x="1228" y="1578"/>
                    </a:lnTo>
                    <a:lnTo>
                      <a:pt x="1198" y="1602"/>
                    </a:lnTo>
                    <a:lnTo>
                      <a:pt x="1169" y="1625"/>
                    </a:lnTo>
                    <a:lnTo>
                      <a:pt x="1142" y="1649"/>
                    </a:lnTo>
                    <a:lnTo>
                      <a:pt x="1113" y="1672"/>
                    </a:lnTo>
                    <a:lnTo>
                      <a:pt x="1107" y="1625"/>
                    </a:lnTo>
                    <a:lnTo>
                      <a:pt x="1101" y="1578"/>
                    </a:lnTo>
                    <a:lnTo>
                      <a:pt x="1095" y="1532"/>
                    </a:lnTo>
                    <a:lnTo>
                      <a:pt x="1089" y="1483"/>
                    </a:lnTo>
                    <a:lnTo>
                      <a:pt x="1058" y="1495"/>
                    </a:lnTo>
                    <a:lnTo>
                      <a:pt x="1025" y="1508"/>
                    </a:lnTo>
                    <a:lnTo>
                      <a:pt x="994" y="1520"/>
                    </a:lnTo>
                    <a:lnTo>
                      <a:pt x="961" y="1532"/>
                    </a:lnTo>
                    <a:lnTo>
                      <a:pt x="930" y="1543"/>
                    </a:lnTo>
                    <a:lnTo>
                      <a:pt x="896" y="1555"/>
                    </a:lnTo>
                    <a:lnTo>
                      <a:pt x="865" y="1567"/>
                    </a:lnTo>
                    <a:lnTo>
                      <a:pt x="834" y="1578"/>
                    </a:lnTo>
                    <a:lnTo>
                      <a:pt x="805" y="1586"/>
                    </a:lnTo>
                    <a:lnTo>
                      <a:pt x="776" y="1596"/>
                    </a:lnTo>
                    <a:lnTo>
                      <a:pt x="746" y="1604"/>
                    </a:lnTo>
                    <a:lnTo>
                      <a:pt x="717" y="1613"/>
                    </a:lnTo>
                    <a:lnTo>
                      <a:pt x="688" y="1621"/>
                    </a:lnTo>
                    <a:lnTo>
                      <a:pt x="659" y="1631"/>
                    </a:lnTo>
                    <a:lnTo>
                      <a:pt x="629" y="1639"/>
                    </a:lnTo>
                    <a:lnTo>
                      <a:pt x="602" y="1649"/>
                    </a:lnTo>
                    <a:lnTo>
                      <a:pt x="573" y="1656"/>
                    </a:lnTo>
                    <a:lnTo>
                      <a:pt x="544" y="1666"/>
                    </a:lnTo>
                    <a:lnTo>
                      <a:pt x="514" y="1674"/>
                    </a:lnTo>
                    <a:lnTo>
                      <a:pt x="485" y="1684"/>
                    </a:lnTo>
                    <a:lnTo>
                      <a:pt x="456" y="1691"/>
                    </a:lnTo>
                    <a:lnTo>
                      <a:pt x="427" y="1701"/>
                    </a:lnTo>
                    <a:lnTo>
                      <a:pt x="398" y="1709"/>
                    </a:lnTo>
                    <a:lnTo>
                      <a:pt x="368" y="1719"/>
                    </a:lnTo>
                    <a:lnTo>
                      <a:pt x="390" y="1678"/>
                    </a:lnTo>
                    <a:lnTo>
                      <a:pt x="409" y="1637"/>
                    </a:lnTo>
                    <a:lnTo>
                      <a:pt x="431" y="1596"/>
                    </a:lnTo>
                    <a:lnTo>
                      <a:pt x="450" y="1553"/>
                    </a:lnTo>
                    <a:lnTo>
                      <a:pt x="472" y="1512"/>
                    </a:lnTo>
                    <a:lnTo>
                      <a:pt x="491" y="1471"/>
                    </a:lnTo>
                    <a:lnTo>
                      <a:pt x="512" y="1430"/>
                    </a:lnTo>
                    <a:lnTo>
                      <a:pt x="532" y="1389"/>
                    </a:lnTo>
                    <a:lnTo>
                      <a:pt x="507" y="1401"/>
                    </a:lnTo>
                    <a:lnTo>
                      <a:pt x="479" y="1413"/>
                    </a:lnTo>
                    <a:lnTo>
                      <a:pt x="454" y="1424"/>
                    </a:lnTo>
                    <a:lnTo>
                      <a:pt x="427" y="1436"/>
                    </a:lnTo>
                    <a:lnTo>
                      <a:pt x="401" y="1448"/>
                    </a:lnTo>
                    <a:lnTo>
                      <a:pt x="374" y="1459"/>
                    </a:lnTo>
                    <a:lnTo>
                      <a:pt x="349" y="1471"/>
                    </a:lnTo>
                    <a:lnTo>
                      <a:pt x="322" y="1483"/>
                    </a:lnTo>
                    <a:lnTo>
                      <a:pt x="331" y="1459"/>
                    </a:lnTo>
                    <a:lnTo>
                      <a:pt x="339" y="1436"/>
                    </a:lnTo>
                    <a:lnTo>
                      <a:pt x="349" y="1413"/>
                    </a:lnTo>
                    <a:lnTo>
                      <a:pt x="357" y="1389"/>
                    </a:lnTo>
                    <a:lnTo>
                      <a:pt x="366" y="1366"/>
                    </a:lnTo>
                    <a:lnTo>
                      <a:pt x="374" y="1343"/>
                    </a:lnTo>
                    <a:lnTo>
                      <a:pt x="384" y="1319"/>
                    </a:lnTo>
                    <a:lnTo>
                      <a:pt x="392" y="1296"/>
                    </a:lnTo>
                    <a:lnTo>
                      <a:pt x="374" y="1284"/>
                    </a:lnTo>
                    <a:lnTo>
                      <a:pt x="357" y="1272"/>
                    </a:lnTo>
                    <a:lnTo>
                      <a:pt x="339" y="1261"/>
                    </a:lnTo>
                    <a:lnTo>
                      <a:pt x="322" y="1249"/>
                    </a:lnTo>
                    <a:lnTo>
                      <a:pt x="304" y="1237"/>
                    </a:lnTo>
                    <a:lnTo>
                      <a:pt x="286" y="1226"/>
                    </a:lnTo>
                    <a:lnTo>
                      <a:pt x="269" y="1214"/>
                    </a:lnTo>
                    <a:lnTo>
                      <a:pt x="251" y="1202"/>
                    </a:lnTo>
                    <a:lnTo>
                      <a:pt x="269" y="1187"/>
                    </a:lnTo>
                    <a:lnTo>
                      <a:pt x="286" y="1173"/>
                    </a:lnTo>
                    <a:lnTo>
                      <a:pt x="304" y="1157"/>
                    </a:lnTo>
                    <a:lnTo>
                      <a:pt x="322" y="1144"/>
                    </a:lnTo>
                    <a:lnTo>
                      <a:pt x="339" y="1128"/>
                    </a:lnTo>
                    <a:lnTo>
                      <a:pt x="357" y="1114"/>
                    </a:lnTo>
                    <a:lnTo>
                      <a:pt x="374" y="1099"/>
                    </a:lnTo>
                    <a:lnTo>
                      <a:pt x="392" y="1085"/>
                    </a:lnTo>
                    <a:lnTo>
                      <a:pt x="372" y="1064"/>
                    </a:lnTo>
                    <a:lnTo>
                      <a:pt x="351" y="1040"/>
                    </a:lnTo>
                    <a:lnTo>
                      <a:pt x="331" y="1019"/>
                    </a:lnTo>
                    <a:lnTo>
                      <a:pt x="310" y="996"/>
                    </a:lnTo>
                    <a:lnTo>
                      <a:pt x="290" y="974"/>
                    </a:lnTo>
                    <a:lnTo>
                      <a:pt x="271" y="953"/>
                    </a:lnTo>
                    <a:lnTo>
                      <a:pt x="251" y="929"/>
                    </a:lnTo>
                    <a:lnTo>
                      <a:pt x="232" y="908"/>
                    </a:lnTo>
                    <a:lnTo>
                      <a:pt x="210" y="886"/>
                    </a:lnTo>
                    <a:lnTo>
                      <a:pt x="191" y="865"/>
                    </a:lnTo>
                    <a:lnTo>
                      <a:pt x="171" y="842"/>
                    </a:lnTo>
                    <a:lnTo>
                      <a:pt x="152" y="820"/>
                    </a:lnTo>
                    <a:lnTo>
                      <a:pt x="131" y="799"/>
                    </a:lnTo>
                    <a:lnTo>
                      <a:pt x="111" y="777"/>
                    </a:lnTo>
                    <a:lnTo>
                      <a:pt x="90" y="754"/>
                    </a:lnTo>
                    <a:lnTo>
                      <a:pt x="70" y="732"/>
                    </a:lnTo>
                    <a:lnTo>
                      <a:pt x="62" y="705"/>
                    </a:lnTo>
                    <a:lnTo>
                      <a:pt x="53" y="680"/>
                    </a:lnTo>
                    <a:lnTo>
                      <a:pt x="45" y="653"/>
                    </a:lnTo>
                    <a:lnTo>
                      <a:pt x="35" y="625"/>
                    </a:lnTo>
                    <a:lnTo>
                      <a:pt x="27" y="600"/>
                    </a:lnTo>
                    <a:lnTo>
                      <a:pt x="18" y="573"/>
                    </a:lnTo>
                    <a:lnTo>
                      <a:pt x="10" y="545"/>
                    </a:lnTo>
                    <a:lnTo>
                      <a:pt x="0" y="518"/>
                    </a:lnTo>
                    <a:lnTo>
                      <a:pt x="29" y="532"/>
                    </a:lnTo>
                    <a:lnTo>
                      <a:pt x="58" y="543"/>
                    </a:lnTo>
                    <a:lnTo>
                      <a:pt x="88" y="557"/>
                    </a:lnTo>
                    <a:lnTo>
                      <a:pt x="117" y="569"/>
                    </a:lnTo>
                    <a:lnTo>
                      <a:pt x="146" y="580"/>
                    </a:lnTo>
                    <a:lnTo>
                      <a:pt x="173" y="592"/>
                    </a:lnTo>
                    <a:lnTo>
                      <a:pt x="203" y="604"/>
                    </a:lnTo>
                    <a:lnTo>
                      <a:pt x="230" y="615"/>
                    </a:lnTo>
                    <a:lnTo>
                      <a:pt x="230" y="569"/>
                    </a:lnTo>
                    <a:lnTo>
                      <a:pt x="230" y="520"/>
                    </a:lnTo>
                    <a:lnTo>
                      <a:pt x="230" y="473"/>
                    </a:lnTo>
                    <a:lnTo>
                      <a:pt x="230" y="426"/>
                    </a:lnTo>
                    <a:lnTo>
                      <a:pt x="253" y="444"/>
                    </a:lnTo>
                    <a:lnTo>
                      <a:pt x="275" y="461"/>
                    </a:lnTo>
                    <a:lnTo>
                      <a:pt x="298" y="479"/>
                    </a:lnTo>
                    <a:lnTo>
                      <a:pt x="322" y="497"/>
                    </a:lnTo>
                    <a:lnTo>
                      <a:pt x="345" y="514"/>
                    </a:lnTo>
                    <a:lnTo>
                      <a:pt x="368" y="532"/>
                    </a:lnTo>
                    <a:lnTo>
                      <a:pt x="392" y="549"/>
                    </a:lnTo>
                    <a:lnTo>
                      <a:pt x="415" y="569"/>
                    </a:lnTo>
                    <a:lnTo>
                      <a:pt x="403" y="508"/>
                    </a:lnTo>
                    <a:lnTo>
                      <a:pt x="392" y="450"/>
                    </a:lnTo>
                    <a:lnTo>
                      <a:pt x="380" y="391"/>
                    </a:lnTo>
                    <a:lnTo>
                      <a:pt x="368" y="333"/>
                    </a:lnTo>
                    <a:close/>
                  </a:path>
                </a:pathLst>
              </a:custGeom>
              <a:solidFill>
                <a:srgbClr val="6691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1953720" y="3688200"/>
                <a:ext cx="2086920" cy="1883160"/>
              </a:xfrm>
              <a:custGeom>
                <a:avLst/>
                <a:gdLst/>
                <a:ahLst/>
                <a:rect l="l" t="t" r="r" b="b"/>
                <a:pathLst>
                  <a:path w="1996" h="1682">
                    <a:moveTo>
                      <a:pt x="363" y="328"/>
                    </a:moveTo>
                    <a:lnTo>
                      <a:pt x="351" y="296"/>
                    </a:lnTo>
                    <a:lnTo>
                      <a:pt x="337" y="265"/>
                    </a:lnTo>
                    <a:lnTo>
                      <a:pt x="326" y="234"/>
                    </a:lnTo>
                    <a:lnTo>
                      <a:pt x="314" y="201"/>
                    </a:lnTo>
                    <a:lnTo>
                      <a:pt x="302" y="170"/>
                    </a:lnTo>
                    <a:lnTo>
                      <a:pt x="291" y="139"/>
                    </a:lnTo>
                    <a:lnTo>
                      <a:pt x="281" y="107"/>
                    </a:lnTo>
                    <a:lnTo>
                      <a:pt x="269" y="76"/>
                    </a:lnTo>
                    <a:lnTo>
                      <a:pt x="295" y="94"/>
                    </a:lnTo>
                    <a:lnTo>
                      <a:pt x="320" y="109"/>
                    </a:lnTo>
                    <a:lnTo>
                      <a:pt x="345" y="127"/>
                    </a:lnTo>
                    <a:lnTo>
                      <a:pt x="373" y="144"/>
                    </a:lnTo>
                    <a:lnTo>
                      <a:pt x="398" y="162"/>
                    </a:lnTo>
                    <a:lnTo>
                      <a:pt x="423" y="180"/>
                    </a:lnTo>
                    <a:lnTo>
                      <a:pt x="449" y="195"/>
                    </a:lnTo>
                    <a:lnTo>
                      <a:pt x="474" y="213"/>
                    </a:lnTo>
                    <a:lnTo>
                      <a:pt x="480" y="183"/>
                    </a:lnTo>
                    <a:lnTo>
                      <a:pt x="486" y="154"/>
                    </a:lnTo>
                    <a:lnTo>
                      <a:pt x="491" y="125"/>
                    </a:lnTo>
                    <a:lnTo>
                      <a:pt x="497" y="96"/>
                    </a:lnTo>
                    <a:lnTo>
                      <a:pt x="515" y="111"/>
                    </a:lnTo>
                    <a:lnTo>
                      <a:pt x="530" y="125"/>
                    </a:lnTo>
                    <a:lnTo>
                      <a:pt x="548" y="141"/>
                    </a:lnTo>
                    <a:lnTo>
                      <a:pt x="565" y="154"/>
                    </a:lnTo>
                    <a:lnTo>
                      <a:pt x="581" y="170"/>
                    </a:lnTo>
                    <a:lnTo>
                      <a:pt x="599" y="183"/>
                    </a:lnTo>
                    <a:lnTo>
                      <a:pt x="616" y="199"/>
                    </a:lnTo>
                    <a:lnTo>
                      <a:pt x="634" y="213"/>
                    </a:lnTo>
                    <a:lnTo>
                      <a:pt x="649" y="185"/>
                    </a:lnTo>
                    <a:lnTo>
                      <a:pt x="665" y="160"/>
                    </a:lnTo>
                    <a:lnTo>
                      <a:pt x="680" y="133"/>
                    </a:lnTo>
                    <a:lnTo>
                      <a:pt x="696" y="107"/>
                    </a:lnTo>
                    <a:lnTo>
                      <a:pt x="712" y="80"/>
                    </a:lnTo>
                    <a:lnTo>
                      <a:pt x="729" y="55"/>
                    </a:lnTo>
                    <a:lnTo>
                      <a:pt x="745" y="27"/>
                    </a:lnTo>
                    <a:lnTo>
                      <a:pt x="760" y="0"/>
                    </a:lnTo>
                    <a:lnTo>
                      <a:pt x="776" y="6"/>
                    </a:lnTo>
                    <a:lnTo>
                      <a:pt x="791" y="14"/>
                    </a:lnTo>
                    <a:lnTo>
                      <a:pt x="805" y="20"/>
                    </a:lnTo>
                    <a:lnTo>
                      <a:pt x="821" y="27"/>
                    </a:lnTo>
                    <a:lnTo>
                      <a:pt x="834" y="35"/>
                    </a:lnTo>
                    <a:lnTo>
                      <a:pt x="850" y="41"/>
                    </a:lnTo>
                    <a:lnTo>
                      <a:pt x="864" y="49"/>
                    </a:lnTo>
                    <a:lnTo>
                      <a:pt x="879" y="55"/>
                    </a:lnTo>
                    <a:lnTo>
                      <a:pt x="893" y="72"/>
                    </a:lnTo>
                    <a:lnTo>
                      <a:pt x="908" y="90"/>
                    </a:lnTo>
                    <a:lnTo>
                      <a:pt x="922" y="107"/>
                    </a:lnTo>
                    <a:lnTo>
                      <a:pt x="936" y="125"/>
                    </a:lnTo>
                    <a:lnTo>
                      <a:pt x="955" y="135"/>
                    </a:lnTo>
                    <a:lnTo>
                      <a:pt x="975" y="142"/>
                    </a:lnTo>
                    <a:lnTo>
                      <a:pt x="994" y="152"/>
                    </a:lnTo>
                    <a:lnTo>
                      <a:pt x="1014" y="160"/>
                    </a:lnTo>
                    <a:lnTo>
                      <a:pt x="1033" y="170"/>
                    </a:lnTo>
                    <a:lnTo>
                      <a:pt x="1053" y="178"/>
                    </a:lnTo>
                    <a:lnTo>
                      <a:pt x="1074" y="187"/>
                    </a:lnTo>
                    <a:lnTo>
                      <a:pt x="1094" y="197"/>
                    </a:lnTo>
                    <a:lnTo>
                      <a:pt x="1109" y="205"/>
                    </a:lnTo>
                    <a:lnTo>
                      <a:pt x="1125" y="211"/>
                    </a:lnTo>
                    <a:lnTo>
                      <a:pt x="1140" y="218"/>
                    </a:lnTo>
                    <a:lnTo>
                      <a:pt x="1156" y="224"/>
                    </a:lnTo>
                    <a:lnTo>
                      <a:pt x="1173" y="232"/>
                    </a:lnTo>
                    <a:lnTo>
                      <a:pt x="1189" y="238"/>
                    </a:lnTo>
                    <a:lnTo>
                      <a:pt x="1205" y="246"/>
                    </a:lnTo>
                    <a:lnTo>
                      <a:pt x="1222" y="252"/>
                    </a:lnTo>
                    <a:lnTo>
                      <a:pt x="1244" y="250"/>
                    </a:lnTo>
                    <a:lnTo>
                      <a:pt x="1267" y="250"/>
                    </a:lnTo>
                    <a:lnTo>
                      <a:pt x="1288" y="248"/>
                    </a:lnTo>
                    <a:lnTo>
                      <a:pt x="1312" y="248"/>
                    </a:lnTo>
                    <a:lnTo>
                      <a:pt x="1333" y="246"/>
                    </a:lnTo>
                    <a:lnTo>
                      <a:pt x="1355" y="244"/>
                    </a:lnTo>
                    <a:lnTo>
                      <a:pt x="1378" y="242"/>
                    </a:lnTo>
                    <a:lnTo>
                      <a:pt x="1399" y="242"/>
                    </a:lnTo>
                    <a:lnTo>
                      <a:pt x="1421" y="240"/>
                    </a:lnTo>
                    <a:lnTo>
                      <a:pt x="1444" y="238"/>
                    </a:lnTo>
                    <a:lnTo>
                      <a:pt x="1466" y="236"/>
                    </a:lnTo>
                    <a:lnTo>
                      <a:pt x="1487" y="236"/>
                    </a:lnTo>
                    <a:lnTo>
                      <a:pt x="1511" y="234"/>
                    </a:lnTo>
                    <a:lnTo>
                      <a:pt x="1532" y="232"/>
                    </a:lnTo>
                    <a:lnTo>
                      <a:pt x="1555" y="230"/>
                    </a:lnTo>
                    <a:lnTo>
                      <a:pt x="1577" y="228"/>
                    </a:lnTo>
                    <a:lnTo>
                      <a:pt x="1585" y="236"/>
                    </a:lnTo>
                    <a:lnTo>
                      <a:pt x="1592" y="244"/>
                    </a:lnTo>
                    <a:lnTo>
                      <a:pt x="1602" y="252"/>
                    </a:lnTo>
                    <a:lnTo>
                      <a:pt x="1610" y="259"/>
                    </a:lnTo>
                    <a:lnTo>
                      <a:pt x="1618" y="269"/>
                    </a:lnTo>
                    <a:lnTo>
                      <a:pt x="1627" y="277"/>
                    </a:lnTo>
                    <a:lnTo>
                      <a:pt x="1635" y="285"/>
                    </a:lnTo>
                    <a:lnTo>
                      <a:pt x="1643" y="293"/>
                    </a:lnTo>
                    <a:lnTo>
                      <a:pt x="1657" y="293"/>
                    </a:lnTo>
                    <a:lnTo>
                      <a:pt x="1668" y="293"/>
                    </a:lnTo>
                    <a:lnTo>
                      <a:pt x="1682" y="293"/>
                    </a:lnTo>
                    <a:lnTo>
                      <a:pt x="1696" y="293"/>
                    </a:lnTo>
                    <a:lnTo>
                      <a:pt x="1709" y="295"/>
                    </a:lnTo>
                    <a:lnTo>
                      <a:pt x="1721" y="295"/>
                    </a:lnTo>
                    <a:lnTo>
                      <a:pt x="1735" y="295"/>
                    </a:lnTo>
                    <a:lnTo>
                      <a:pt x="1746" y="295"/>
                    </a:lnTo>
                    <a:lnTo>
                      <a:pt x="1772" y="295"/>
                    </a:lnTo>
                    <a:lnTo>
                      <a:pt x="1799" y="293"/>
                    </a:lnTo>
                    <a:lnTo>
                      <a:pt x="1824" y="293"/>
                    </a:lnTo>
                    <a:lnTo>
                      <a:pt x="1850" y="291"/>
                    </a:lnTo>
                    <a:lnTo>
                      <a:pt x="1877" y="289"/>
                    </a:lnTo>
                    <a:lnTo>
                      <a:pt x="1902" y="289"/>
                    </a:lnTo>
                    <a:lnTo>
                      <a:pt x="1928" y="287"/>
                    </a:lnTo>
                    <a:lnTo>
                      <a:pt x="1953" y="287"/>
                    </a:lnTo>
                    <a:lnTo>
                      <a:pt x="1945" y="300"/>
                    </a:lnTo>
                    <a:lnTo>
                      <a:pt x="1935" y="314"/>
                    </a:lnTo>
                    <a:lnTo>
                      <a:pt x="1928" y="328"/>
                    </a:lnTo>
                    <a:lnTo>
                      <a:pt x="1918" y="341"/>
                    </a:lnTo>
                    <a:lnTo>
                      <a:pt x="1910" y="357"/>
                    </a:lnTo>
                    <a:lnTo>
                      <a:pt x="1900" y="371"/>
                    </a:lnTo>
                    <a:lnTo>
                      <a:pt x="1893" y="384"/>
                    </a:lnTo>
                    <a:lnTo>
                      <a:pt x="1883" y="398"/>
                    </a:lnTo>
                    <a:lnTo>
                      <a:pt x="1871" y="443"/>
                    </a:lnTo>
                    <a:lnTo>
                      <a:pt x="1859" y="489"/>
                    </a:lnTo>
                    <a:lnTo>
                      <a:pt x="1848" y="534"/>
                    </a:lnTo>
                    <a:lnTo>
                      <a:pt x="1838" y="581"/>
                    </a:lnTo>
                    <a:lnTo>
                      <a:pt x="1857" y="581"/>
                    </a:lnTo>
                    <a:lnTo>
                      <a:pt x="1877" y="581"/>
                    </a:lnTo>
                    <a:lnTo>
                      <a:pt x="1896" y="581"/>
                    </a:lnTo>
                    <a:lnTo>
                      <a:pt x="1918" y="581"/>
                    </a:lnTo>
                    <a:lnTo>
                      <a:pt x="1937" y="581"/>
                    </a:lnTo>
                    <a:lnTo>
                      <a:pt x="1957" y="581"/>
                    </a:lnTo>
                    <a:lnTo>
                      <a:pt x="1976" y="581"/>
                    </a:lnTo>
                    <a:lnTo>
                      <a:pt x="1996" y="581"/>
                    </a:lnTo>
                    <a:lnTo>
                      <a:pt x="1982" y="604"/>
                    </a:lnTo>
                    <a:lnTo>
                      <a:pt x="1969" y="626"/>
                    </a:lnTo>
                    <a:lnTo>
                      <a:pt x="1953" y="649"/>
                    </a:lnTo>
                    <a:lnTo>
                      <a:pt x="1939" y="673"/>
                    </a:lnTo>
                    <a:lnTo>
                      <a:pt x="1926" y="696"/>
                    </a:lnTo>
                    <a:lnTo>
                      <a:pt x="1910" y="719"/>
                    </a:lnTo>
                    <a:lnTo>
                      <a:pt x="1896" y="741"/>
                    </a:lnTo>
                    <a:lnTo>
                      <a:pt x="1883" y="764"/>
                    </a:lnTo>
                    <a:lnTo>
                      <a:pt x="1875" y="794"/>
                    </a:lnTo>
                    <a:lnTo>
                      <a:pt x="1865" y="821"/>
                    </a:lnTo>
                    <a:lnTo>
                      <a:pt x="1857" y="850"/>
                    </a:lnTo>
                    <a:lnTo>
                      <a:pt x="1850" y="879"/>
                    </a:lnTo>
                    <a:lnTo>
                      <a:pt x="1840" y="909"/>
                    </a:lnTo>
                    <a:lnTo>
                      <a:pt x="1832" y="938"/>
                    </a:lnTo>
                    <a:lnTo>
                      <a:pt x="1822" y="965"/>
                    </a:lnTo>
                    <a:lnTo>
                      <a:pt x="1815" y="994"/>
                    </a:lnTo>
                    <a:lnTo>
                      <a:pt x="1801" y="1024"/>
                    </a:lnTo>
                    <a:lnTo>
                      <a:pt x="1787" y="1051"/>
                    </a:lnTo>
                    <a:lnTo>
                      <a:pt x="1772" y="1080"/>
                    </a:lnTo>
                    <a:lnTo>
                      <a:pt x="1758" y="1109"/>
                    </a:lnTo>
                    <a:lnTo>
                      <a:pt x="1744" y="1137"/>
                    </a:lnTo>
                    <a:lnTo>
                      <a:pt x="1729" y="1166"/>
                    </a:lnTo>
                    <a:lnTo>
                      <a:pt x="1715" y="1195"/>
                    </a:lnTo>
                    <a:lnTo>
                      <a:pt x="1702" y="1224"/>
                    </a:lnTo>
                    <a:lnTo>
                      <a:pt x="1727" y="1254"/>
                    </a:lnTo>
                    <a:lnTo>
                      <a:pt x="1752" y="1281"/>
                    </a:lnTo>
                    <a:lnTo>
                      <a:pt x="1778" y="1310"/>
                    </a:lnTo>
                    <a:lnTo>
                      <a:pt x="1805" y="1339"/>
                    </a:lnTo>
                    <a:lnTo>
                      <a:pt x="1830" y="1367"/>
                    </a:lnTo>
                    <a:lnTo>
                      <a:pt x="1855" y="1396"/>
                    </a:lnTo>
                    <a:lnTo>
                      <a:pt x="1881" y="1425"/>
                    </a:lnTo>
                    <a:lnTo>
                      <a:pt x="1906" y="1454"/>
                    </a:lnTo>
                    <a:lnTo>
                      <a:pt x="1877" y="1445"/>
                    </a:lnTo>
                    <a:lnTo>
                      <a:pt x="1850" y="1437"/>
                    </a:lnTo>
                    <a:lnTo>
                      <a:pt x="1820" y="1427"/>
                    </a:lnTo>
                    <a:lnTo>
                      <a:pt x="1793" y="1419"/>
                    </a:lnTo>
                    <a:lnTo>
                      <a:pt x="1764" y="1409"/>
                    </a:lnTo>
                    <a:lnTo>
                      <a:pt x="1735" y="1402"/>
                    </a:lnTo>
                    <a:lnTo>
                      <a:pt x="1707" y="1392"/>
                    </a:lnTo>
                    <a:lnTo>
                      <a:pt x="1678" y="1384"/>
                    </a:lnTo>
                    <a:lnTo>
                      <a:pt x="1678" y="1437"/>
                    </a:lnTo>
                    <a:lnTo>
                      <a:pt x="1678" y="1487"/>
                    </a:lnTo>
                    <a:lnTo>
                      <a:pt x="1678" y="1540"/>
                    </a:lnTo>
                    <a:lnTo>
                      <a:pt x="1678" y="1591"/>
                    </a:lnTo>
                    <a:lnTo>
                      <a:pt x="1647" y="1591"/>
                    </a:lnTo>
                    <a:lnTo>
                      <a:pt x="1616" y="1591"/>
                    </a:lnTo>
                    <a:lnTo>
                      <a:pt x="1585" y="1591"/>
                    </a:lnTo>
                    <a:lnTo>
                      <a:pt x="1553" y="1591"/>
                    </a:lnTo>
                    <a:lnTo>
                      <a:pt x="1522" y="1591"/>
                    </a:lnTo>
                    <a:lnTo>
                      <a:pt x="1491" y="1591"/>
                    </a:lnTo>
                    <a:lnTo>
                      <a:pt x="1460" y="1591"/>
                    </a:lnTo>
                    <a:lnTo>
                      <a:pt x="1429" y="1591"/>
                    </a:lnTo>
                    <a:lnTo>
                      <a:pt x="1415" y="1573"/>
                    </a:lnTo>
                    <a:lnTo>
                      <a:pt x="1399" y="1558"/>
                    </a:lnTo>
                    <a:lnTo>
                      <a:pt x="1386" y="1540"/>
                    </a:lnTo>
                    <a:lnTo>
                      <a:pt x="1372" y="1523"/>
                    </a:lnTo>
                    <a:lnTo>
                      <a:pt x="1357" y="1505"/>
                    </a:lnTo>
                    <a:lnTo>
                      <a:pt x="1343" y="1487"/>
                    </a:lnTo>
                    <a:lnTo>
                      <a:pt x="1327" y="1472"/>
                    </a:lnTo>
                    <a:lnTo>
                      <a:pt x="1314" y="1454"/>
                    </a:lnTo>
                    <a:lnTo>
                      <a:pt x="1286" y="1478"/>
                    </a:lnTo>
                    <a:lnTo>
                      <a:pt x="1257" y="1499"/>
                    </a:lnTo>
                    <a:lnTo>
                      <a:pt x="1230" y="1523"/>
                    </a:lnTo>
                    <a:lnTo>
                      <a:pt x="1201" y="1546"/>
                    </a:lnTo>
                    <a:lnTo>
                      <a:pt x="1173" y="1567"/>
                    </a:lnTo>
                    <a:lnTo>
                      <a:pt x="1144" y="1591"/>
                    </a:lnTo>
                    <a:lnTo>
                      <a:pt x="1117" y="1614"/>
                    </a:lnTo>
                    <a:lnTo>
                      <a:pt x="1088" y="1638"/>
                    </a:lnTo>
                    <a:lnTo>
                      <a:pt x="1082" y="1591"/>
                    </a:lnTo>
                    <a:lnTo>
                      <a:pt x="1076" y="1546"/>
                    </a:lnTo>
                    <a:lnTo>
                      <a:pt x="1070" y="1499"/>
                    </a:lnTo>
                    <a:lnTo>
                      <a:pt x="1064" y="1454"/>
                    </a:lnTo>
                    <a:lnTo>
                      <a:pt x="1033" y="1466"/>
                    </a:lnTo>
                    <a:lnTo>
                      <a:pt x="1002" y="1476"/>
                    </a:lnTo>
                    <a:lnTo>
                      <a:pt x="971" y="1487"/>
                    </a:lnTo>
                    <a:lnTo>
                      <a:pt x="940" y="1499"/>
                    </a:lnTo>
                    <a:lnTo>
                      <a:pt x="908" y="1511"/>
                    </a:lnTo>
                    <a:lnTo>
                      <a:pt x="877" y="1523"/>
                    </a:lnTo>
                    <a:lnTo>
                      <a:pt x="846" y="1534"/>
                    </a:lnTo>
                    <a:lnTo>
                      <a:pt x="815" y="1546"/>
                    </a:lnTo>
                    <a:lnTo>
                      <a:pt x="786" y="1554"/>
                    </a:lnTo>
                    <a:lnTo>
                      <a:pt x="758" y="1563"/>
                    </a:lnTo>
                    <a:lnTo>
                      <a:pt x="729" y="1571"/>
                    </a:lnTo>
                    <a:lnTo>
                      <a:pt x="702" y="1579"/>
                    </a:lnTo>
                    <a:lnTo>
                      <a:pt x="673" y="1589"/>
                    </a:lnTo>
                    <a:lnTo>
                      <a:pt x="643" y="1597"/>
                    </a:lnTo>
                    <a:lnTo>
                      <a:pt x="616" y="1606"/>
                    </a:lnTo>
                    <a:lnTo>
                      <a:pt x="587" y="1614"/>
                    </a:lnTo>
                    <a:lnTo>
                      <a:pt x="560" y="1622"/>
                    </a:lnTo>
                    <a:lnTo>
                      <a:pt x="530" y="1632"/>
                    </a:lnTo>
                    <a:lnTo>
                      <a:pt x="503" y="1639"/>
                    </a:lnTo>
                    <a:lnTo>
                      <a:pt x="474" y="1649"/>
                    </a:lnTo>
                    <a:lnTo>
                      <a:pt x="447" y="1657"/>
                    </a:lnTo>
                    <a:lnTo>
                      <a:pt x="419" y="1665"/>
                    </a:lnTo>
                    <a:lnTo>
                      <a:pt x="390" y="1675"/>
                    </a:lnTo>
                    <a:lnTo>
                      <a:pt x="363" y="1682"/>
                    </a:lnTo>
                    <a:lnTo>
                      <a:pt x="382" y="1641"/>
                    </a:lnTo>
                    <a:lnTo>
                      <a:pt x="402" y="1602"/>
                    </a:lnTo>
                    <a:lnTo>
                      <a:pt x="421" y="1562"/>
                    </a:lnTo>
                    <a:lnTo>
                      <a:pt x="441" y="1521"/>
                    </a:lnTo>
                    <a:lnTo>
                      <a:pt x="460" y="1482"/>
                    </a:lnTo>
                    <a:lnTo>
                      <a:pt x="480" y="1441"/>
                    </a:lnTo>
                    <a:lnTo>
                      <a:pt x="499" y="1402"/>
                    </a:lnTo>
                    <a:lnTo>
                      <a:pt x="519" y="1361"/>
                    </a:lnTo>
                    <a:lnTo>
                      <a:pt x="493" y="1372"/>
                    </a:lnTo>
                    <a:lnTo>
                      <a:pt x="468" y="1384"/>
                    </a:lnTo>
                    <a:lnTo>
                      <a:pt x="443" y="1396"/>
                    </a:lnTo>
                    <a:lnTo>
                      <a:pt x="417" y="1408"/>
                    </a:lnTo>
                    <a:lnTo>
                      <a:pt x="390" y="1419"/>
                    </a:lnTo>
                    <a:lnTo>
                      <a:pt x="365" y="1431"/>
                    </a:lnTo>
                    <a:lnTo>
                      <a:pt x="339" y="1443"/>
                    </a:lnTo>
                    <a:lnTo>
                      <a:pt x="314" y="1454"/>
                    </a:lnTo>
                    <a:lnTo>
                      <a:pt x="324" y="1431"/>
                    </a:lnTo>
                    <a:lnTo>
                      <a:pt x="332" y="1408"/>
                    </a:lnTo>
                    <a:lnTo>
                      <a:pt x="341" y="1384"/>
                    </a:lnTo>
                    <a:lnTo>
                      <a:pt x="349" y="1361"/>
                    </a:lnTo>
                    <a:lnTo>
                      <a:pt x="359" y="1339"/>
                    </a:lnTo>
                    <a:lnTo>
                      <a:pt x="367" y="1316"/>
                    </a:lnTo>
                    <a:lnTo>
                      <a:pt x="374" y="1293"/>
                    </a:lnTo>
                    <a:lnTo>
                      <a:pt x="382" y="1269"/>
                    </a:lnTo>
                    <a:lnTo>
                      <a:pt x="365" y="1257"/>
                    </a:lnTo>
                    <a:lnTo>
                      <a:pt x="349" y="1248"/>
                    </a:lnTo>
                    <a:lnTo>
                      <a:pt x="332" y="1236"/>
                    </a:lnTo>
                    <a:lnTo>
                      <a:pt x="314" y="1224"/>
                    </a:lnTo>
                    <a:lnTo>
                      <a:pt x="298" y="1213"/>
                    </a:lnTo>
                    <a:lnTo>
                      <a:pt x="281" y="1201"/>
                    </a:lnTo>
                    <a:lnTo>
                      <a:pt x="263" y="1189"/>
                    </a:lnTo>
                    <a:lnTo>
                      <a:pt x="246" y="1178"/>
                    </a:lnTo>
                    <a:lnTo>
                      <a:pt x="263" y="1164"/>
                    </a:lnTo>
                    <a:lnTo>
                      <a:pt x="281" y="1150"/>
                    </a:lnTo>
                    <a:lnTo>
                      <a:pt x="298" y="1135"/>
                    </a:lnTo>
                    <a:lnTo>
                      <a:pt x="314" y="1121"/>
                    </a:lnTo>
                    <a:lnTo>
                      <a:pt x="332" y="1105"/>
                    </a:lnTo>
                    <a:lnTo>
                      <a:pt x="349" y="1092"/>
                    </a:lnTo>
                    <a:lnTo>
                      <a:pt x="365" y="1076"/>
                    </a:lnTo>
                    <a:lnTo>
                      <a:pt x="382" y="1063"/>
                    </a:lnTo>
                    <a:lnTo>
                      <a:pt x="363" y="1041"/>
                    </a:lnTo>
                    <a:lnTo>
                      <a:pt x="343" y="1020"/>
                    </a:lnTo>
                    <a:lnTo>
                      <a:pt x="324" y="998"/>
                    </a:lnTo>
                    <a:lnTo>
                      <a:pt x="304" y="977"/>
                    </a:lnTo>
                    <a:lnTo>
                      <a:pt x="285" y="955"/>
                    </a:lnTo>
                    <a:lnTo>
                      <a:pt x="265" y="934"/>
                    </a:lnTo>
                    <a:lnTo>
                      <a:pt x="246" y="912"/>
                    </a:lnTo>
                    <a:lnTo>
                      <a:pt x="226" y="891"/>
                    </a:lnTo>
                    <a:lnTo>
                      <a:pt x="205" y="870"/>
                    </a:lnTo>
                    <a:lnTo>
                      <a:pt x="185" y="848"/>
                    </a:lnTo>
                    <a:lnTo>
                      <a:pt x="166" y="827"/>
                    </a:lnTo>
                    <a:lnTo>
                      <a:pt x="146" y="805"/>
                    </a:lnTo>
                    <a:lnTo>
                      <a:pt x="127" y="784"/>
                    </a:lnTo>
                    <a:lnTo>
                      <a:pt x="107" y="762"/>
                    </a:lnTo>
                    <a:lnTo>
                      <a:pt x="88" y="741"/>
                    </a:lnTo>
                    <a:lnTo>
                      <a:pt x="69" y="719"/>
                    </a:lnTo>
                    <a:lnTo>
                      <a:pt x="61" y="694"/>
                    </a:lnTo>
                    <a:lnTo>
                      <a:pt x="51" y="667"/>
                    </a:lnTo>
                    <a:lnTo>
                      <a:pt x="43" y="641"/>
                    </a:lnTo>
                    <a:lnTo>
                      <a:pt x="35" y="614"/>
                    </a:lnTo>
                    <a:lnTo>
                      <a:pt x="26" y="589"/>
                    </a:lnTo>
                    <a:lnTo>
                      <a:pt x="18" y="564"/>
                    </a:lnTo>
                    <a:lnTo>
                      <a:pt x="8" y="536"/>
                    </a:lnTo>
                    <a:lnTo>
                      <a:pt x="0" y="511"/>
                    </a:lnTo>
                    <a:lnTo>
                      <a:pt x="30" y="523"/>
                    </a:lnTo>
                    <a:lnTo>
                      <a:pt x="57" y="534"/>
                    </a:lnTo>
                    <a:lnTo>
                      <a:pt x="86" y="546"/>
                    </a:lnTo>
                    <a:lnTo>
                      <a:pt x="113" y="558"/>
                    </a:lnTo>
                    <a:lnTo>
                      <a:pt x="143" y="569"/>
                    </a:lnTo>
                    <a:lnTo>
                      <a:pt x="170" y="581"/>
                    </a:lnTo>
                    <a:lnTo>
                      <a:pt x="197" y="593"/>
                    </a:lnTo>
                    <a:lnTo>
                      <a:pt x="224" y="604"/>
                    </a:lnTo>
                    <a:lnTo>
                      <a:pt x="224" y="558"/>
                    </a:lnTo>
                    <a:lnTo>
                      <a:pt x="224" y="511"/>
                    </a:lnTo>
                    <a:lnTo>
                      <a:pt x="224" y="464"/>
                    </a:lnTo>
                    <a:lnTo>
                      <a:pt x="224" y="417"/>
                    </a:lnTo>
                    <a:lnTo>
                      <a:pt x="248" y="435"/>
                    </a:lnTo>
                    <a:lnTo>
                      <a:pt x="269" y="452"/>
                    </a:lnTo>
                    <a:lnTo>
                      <a:pt x="293" y="470"/>
                    </a:lnTo>
                    <a:lnTo>
                      <a:pt x="316" y="487"/>
                    </a:lnTo>
                    <a:lnTo>
                      <a:pt x="337" y="505"/>
                    </a:lnTo>
                    <a:lnTo>
                      <a:pt x="361" y="523"/>
                    </a:lnTo>
                    <a:lnTo>
                      <a:pt x="382" y="540"/>
                    </a:lnTo>
                    <a:lnTo>
                      <a:pt x="406" y="558"/>
                    </a:lnTo>
                    <a:lnTo>
                      <a:pt x="394" y="501"/>
                    </a:lnTo>
                    <a:lnTo>
                      <a:pt x="382" y="443"/>
                    </a:lnTo>
                    <a:lnTo>
                      <a:pt x="373" y="384"/>
                    </a:lnTo>
                    <a:lnTo>
                      <a:pt x="363" y="328"/>
                    </a:lnTo>
                    <a:close/>
                  </a:path>
                </a:pathLst>
              </a:custGeom>
              <a:solidFill>
                <a:srgbClr val="759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1974960" y="3701520"/>
                <a:ext cx="2039040" cy="1845360"/>
              </a:xfrm>
              <a:custGeom>
                <a:avLst/>
                <a:gdLst/>
                <a:ahLst/>
                <a:rect l="l" t="t" r="r" b="b"/>
                <a:pathLst>
                  <a:path w="1950" h="1647">
                    <a:moveTo>
                      <a:pt x="350" y="319"/>
                    </a:moveTo>
                    <a:lnTo>
                      <a:pt x="339" y="288"/>
                    </a:lnTo>
                    <a:lnTo>
                      <a:pt x="329" y="259"/>
                    </a:lnTo>
                    <a:lnTo>
                      <a:pt x="317" y="228"/>
                    </a:lnTo>
                    <a:lnTo>
                      <a:pt x="306" y="197"/>
                    </a:lnTo>
                    <a:lnTo>
                      <a:pt x="296" y="167"/>
                    </a:lnTo>
                    <a:lnTo>
                      <a:pt x="284" y="136"/>
                    </a:lnTo>
                    <a:lnTo>
                      <a:pt x="272" y="107"/>
                    </a:lnTo>
                    <a:lnTo>
                      <a:pt x="261" y="76"/>
                    </a:lnTo>
                    <a:lnTo>
                      <a:pt x="286" y="93"/>
                    </a:lnTo>
                    <a:lnTo>
                      <a:pt x="311" y="109"/>
                    </a:lnTo>
                    <a:lnTo>
                      <a:pt x="337" y="127"/>
                    </a:lnTo>
                    <a:lnTo>
                      <a:pt x="362" y="142"/>
                    </a:lnTo>
                    <a:lnTo>
                      <a:pt x="387" y="160"/>
                    </a:lnTo>
                    <a:lnTo>
                      <a:pt x="411" y="175"/>
                    </a:lnTo>
                    <a:lnTo>
                      <a:pt x="436" y="193"/>
                    </a:lnTo>
                    <a:lnTo>
                      <a:pt x="461" y="210"/>
                    </a:lnTo>
                    <a:lnTo>
                      <a:pt x="467" y="183"/>
                    </a:lnTo>
                    <a:lnTo>
                      <a:pt x="473" y="154"/>
                    </a:lnTo>
                    <a:lnTo>
                      <a:pt x="479" y="125"/>
                    </a:lnTo>
                    <a:lnTo>
                      <a:pt x="483" y="97"/>
                    </a:lnTo>
                    <a:lnTo>
                      <a:pt x="500" y="111"/>
                    </a:lnTo>
                    <a:lnTo>
                      <a:pt x="516" y="125"/>
                    </a:lnTo>
                    <a:lnTo>
                      <a:pt x="534" y="140"/>
                    </a:lnTo>
                    <a:lnTo>
                      <a:pt x="551" y="154"/>
                    </a:lnTo>
                    <a:lnTo>
                      <a:pt x="567" y="167"/>
                    </a:lnTo>
                    <a:lnTo>
                      <a:pt x="584" y="183"/>
                    </a:lnTo>
                    <a:lnTo>
                      <a:pt x="600" y="197"/>
                    </a:lnTo>
                    <a:lnTo>
                      <a:pt x="617" y="210"/>
                    </a:lnTo>
                    <a:lnTo>
                      <a:pt x="633" y="183"/>
                    </a:lnTo>
                    <a:lnTo>
                      <a:pt x="649" y="158"/>
                    </a:lnTo>
                    <a:lnTo>
                      <a:pt x="664" y="130"/>
                    </a:lnTo>
                    <a:lnTo>
                      <a:pt x="678" y="105"/>
                    </a:lnTo>
                    <a:lnTo>
                      <a:pt x="693" y="78"/>
                    </a:lnTo>
                    <a:lnTo>
                      <a:pt x="709" y="52"/>
                    </a:lnTo>
                    <a:lnTo>
                      <a:pt x="723" y="25"/>
                    </a:lnTo>
                    <a:lnTo>
                      <a:pt x="738" y="0"/>
                    </a:lnTo>
                    <a:lnTo>
                      <a:pt x="754" y="8"/>
                    </a:lnTo>
                    <a:lnTo>
                      <a:pt x="767" y="13"/>
                    </a:lnTo>
                    <a:lnTo>
                      <a:pt x="783" y="21"/>
                    </a:lnTo>
                    <a:lnTo>
                      <a:pt x="799" y="29"/>
                    </a:lnTo>
                    <a:lnTo>
                      <a:pt x="812" y="37"/>
                    </a:lnTo>
                    <a:lnTo>
                      <a:pt x="828" y="43"/>
                    </a:lnTo>
                    <a:lnTo>
                      <a:pt x="841" y="51"/>
                    </a:lnTo>
                    <a:lnTo>
                      <a:pt x="857" y="58"/>
                    </a:lnTo>
                    <a:lnTo>
                      <a:pt x="865" y="66"/>
                    </a:lnTo>
                    <a:lnTo>
                      <a:pt x="873" y="72"/>
                    </a:lnTo>
                    <a:lnTo>
                      <a:pt x="880" y="80"/>
                    </a:lnTo>
                    <a:lnTo>
                      <a:pt x="888" y="88"/>
                    </a:lnTo>
                    <a:lnTo>
                      <a:pt x="896" y="95"/>
                    </a:lnTo>
                    <a:lnTo>
                      <a:pt x="904" y="103"/>
                    </a:lnTo>
                    <a:lnTo>
                      <a:pt x="912" y="111"/>
                    </a:lnTo>
                    <a:lnTo>
                      <a:pt x="919" y="119"/>
                    </a:lnTo>
                    <a:lnTo>
                      <a:pt x="937" y="127"/>
                    </a:lnTo>
                    <a:lnTo>
                      <a:pt x="956" y="136"/>
                    </a:lnTo>
                    <a:lnTo>
                      <a:pt x="974" y="144"/>
                    </a:lnTo>
                    <a:lnTo>
                      <a:pt x="993" y="154"/>
                    </a:lnTo>
                    <a:lnTo>
                      <a:pt x="1011" y="162"/>
                    </a:lnTo>
                    <a:lnTo>
                      <a:pt x="1031" y="171"/>
                    </a:lnTo>
                    <a:lnTo>
                      <a:pt x="1048" y="179"/>
                    </a:lnTo>
                    <a:lnTo>
                      <a:pt x="1068" y="189"/>
                    </a:lnTo>
                    <a:lnTo>
                      <a:pt x="1085" y="195"/>
                    </a:lnTo>
                    <a:lnTo>
                      <a:pt x="1101" y="203"/>
                    </a:lnTo>
                    <a:lnTo>
                      <a:pt x="1118" y="208"/>
                    </a:lnTo>
                    <a:lnTo>
                      <a:pt x="1136" y="216"/>
                    </a:lnTo>
                    <a:lnTo>
                      <a:pt x="1153" y="222"/>
                    </a:lnTo>
                    <a:lnTo>
                      <a:pt x="1171" y="230"/>
                    </a:lnTo>
                    <a:lnTo>
                      <a:pt x="1186" y="236"/>
                    </a:lnTo>
                    <a:lnTo>
                      <a:pt x="1204" y="242"/>
                    </a:lnTo>
                    <a:lnTo>
                      <a:pt x="1225" y="240"/>
                    </a:lnTo>
                    <a:lnTo>
                      <a:pt x="1247" y="240"/>
                    </a:lnTo>
                    <a:lnTo>
                      <a:pt x="1268" y="238"/>
                    </a:lnTo>
                    <a:lnTo>
                      <a:pt x="1290" y="238"/>
                    </a:lnTo>
                    <a:lnTo>
                      <a:pt x="1311" y="236"/>
                    </a:lnTo>
                    <a:lnTo>
                      <a:pt x="1333" y="234"/>
                    </a:lnTo>
                    <a:lnTo>
                      <a:pt x="1354" y="234"/>
                    </a:lnTo>
                    <a:lnTo>
                      <a:pt x="1375" y="232"/>
                    </a:lnTo>
                    <a:lnTo>
                      <a:pt x="1397" y="230"/>
                    </a:lnTo>
                    <a:lnTo>
                      <a:pt x="1418" y="228"/>
                    </a:lnTo>
                    <a:lnTo>
                      <a:pt x="1440" y="228"/>
                    </a:lnTo>
                    <a:lnTo>
                      <a:pt x="1461" y="226"/>
                    </a:lnTo>
                    <a:lnTo>
                      <a:pt x="1483" y="224"/>
                    </a:lnTo>
                    <a:lnTo>
                      <a:pt x="1504" y="222"/>
                    </a:lnTo>
                    <a:lnTo>
                      <a:pt x="1525" y="222"/>
                    </a:lnTo>
                    <a:lnTo>
                      <a:pt x="1547" y="220"/>
                    </a:lnTo>
                    <a:lnTo>
                      <a:pt x="1555" y="226"/>
                    </a:lnTo>
                    <a:lnTo>
                      <a:pt x="1563" y="234"/>
                    </a:lnTo>
                    <a:lnTo>
                      <a:pt x="1570" y="242"/>
                    </a:lnTo>
                    <a:lnTo>
                      <a:pt x="1580" y="249"/>
                    </a:lnTo>
                    <a:lnTo>
                      <a:pt x="1588" y="255"/>
                    </a:lnTo>
                    <a:lnTo>
                      <a:pt x="1596" y="263"/>
                    </a:lnTo>
                    <a:lnTo>
                      <a:pt x="1603" y="271"/>
                    </a:lnTo>
                    <a:lnTo>
                      <a:pt x="1611" y="279"/>
                    </a:lnTo>
                    <a:lnTo>
                      <a:pt x="1623" y="279"/>
                    </a:lnTo>
                    <a:lnTo>
                      <a:pt x="1635" y="281"/>
                    </a:lnTo>
                    <a:lnTo>
                      <a:pt x="1646" y="281"/>
                    </a:lnTo>
                    <a:lnTo>
                      <a:pt x="1660" y="281"/>
                    </a:lnTo>
                    <a:lnTo>
                      <a:pt x="1672" y="281"/>
                    </a:lnTo>
                    <a:lnTo>
                      <a:pt x="1683" y="281"/>
                    </a:lnTo>
                    <a:lnTo>
                      <a:pt x="1697" y="282"/>
                    </a:lnTo>
                    <a:lnTo>
                      <a:pt x="1709" y="282"/>
                    </a:lnTo>
                    <a:lnTo>
                      <a:pt x="1734" y="281"/>
                    </a:lnTo>
                    <a:lnTo>
                      <a:pt x="1759" y="281"/>
                    </a:lnTo>
                    <a:lnTo>
                      <a:pt x="1785" y="279"/>
                    </a:lnTo>
                    <a:lnTo>
                      <a:pt x="1810" y="279"/>
                    </a:lnTo>
                    <a:lnTo>
                      <a:pt x="1835" y="277"/>
                    </a:lnTo>
                    <a:lnTo>
                      <a:pt x="1861" y="277"/>
                    </a:lnTo>
                    <a:lnTo>
                      <a:pt x="1886" y="275"/>
                    </a:lnTo>
                    <a:lnTo>
                      <a:pt x="1911" y="275"/>
                    </a:lnTo>
                    <a:lnTo>
                      <a:pt x="1902" y="288"/>
                    </a:lnTo>
                    <a:lnTo>
                      <a:pt x="1894" y="304"/>
                    </a:lnTo>
                    <a:lnTo>
                      <a:pt x="1884" y="318"/>
                    </a:lnTo>
                    <a:lnTo>
                      <a:pt x="1876" y="331"/>
                    </a:lnTo>
                    <a:lnTo>
                      <a:pt x="1867" y="347"/>
                    </a:lnTo>
                    <a:lnTo>
                      <a:pt x="1857" y="360"/>
                    </a:lnTo>
                    <a:lnTo>
                      <a:pt x="1849" y="376"/>
                    </a:lnTo>
                    <a:lnTo>
                      <a:pt x="1839" y="390"/>
                    </a:lnTo>
                    <a:lnTo>
                      <a:pt x="1828" y="434"/>
                    </a:lnTo>
                    <a:lnTo>
                      <a:pt x="1818" y="479"/>
                    </a:lnTo>
                    <a:lnTo>
                      <a:pt x="1806" y="524"/>
                    </a:lnTo>
                    <a:lnTo>
                      <a:pt x="1794" y="569"/>
                    </a:lnTo>
                    <a:lnTo>
                      <a:pt x="1814" y="569"/>
                    </a:lnTo>
                    <a:lnTo>
                      <a:pt x="1833" y="569"/>
                    </a:lnTo>
                    <a:lnTo>
                      <a:pt x="1853" y="569"/>
                    </a:lnTo>
                    <a:lnTo>
                      <a:pt x="1872" y="569"/>
                    </a:lnTo>
                    <a:lnTo>
                      <a:pt x="1892" y="569"/>
                    </a:lnTo>
                    <a:lnTo>
                      <a:pt x="1911" y="569"/>
                    </a:lnTo>
                    <a:lnTo>
                      <a:pt x="1931" y="569"/>
                    </a:lnTo>
                    <a:lnTo>
                      <a:pt x="1950" y="569"/>
                    </a:lnTo>
                    <a:lnTo>
                      <a:pt x="1937" y="592"/>
                    </a:lnTo>
                    <a:lnTo>
                      <a:pt x="1923" y="614"/>
                    </a:lnTo>
                    <a:lnTo>
                      <a:pt x="1909" y="637"/>
                    </a:lnTo>
                    <a:lnTo>
                      <a:pt x="1896" y="659"/>
                    </a:lnTo>
                    <a:lnTo>
                      <a:pt x="1882" y="680"/>
                    </a:lnTo>
                    <a:lnTo>
                      <a:pt x="1868" y="703"/>
                    </a:lnTo>
                    <a:lnTo>
                      <a:pt x="1853" y="725"/>
                    </a:lnTo>
                    <a:lnTo>
                      <a:pt x="1839" y="748"/>
                    </a:lnTo>
                    <a:lnTo>
                      <a:pt x="1831" y="778"/>
                    </a:lnTo>
                    <a:lnTo>
                      <a:pt x="1822" y="805"/>
                    </a:lnTo>
                    <a:lnTo>
                      <a:pt x="1814" y="834"/>
                    </a:lnTo>
                    <a:lnTo>
                      <a:pt x="1806" y="861"/>
                    </a:lnTo>
                    <a:lnTo>
                      <a:pt x="1796" y="889"/>
                    </a:lnTo>
                    <a:lnTo>
                      <a:pt x="1789" y="916"/>
                    </a:lnTo>
                    <a:lnTo>
                      <a:pt x="1781" y="945"/>
                    </a:lnTo>
                    <a:lnTo>
                      <a:pt x="1773" y="972"/>
                    </a:lnTo>
                    <a:lnTo>
                      <a:pt x="1759" y="1002"/>
                    </a:lnTo>
                    <a:lnTo>
                      <a:pt x="1746" y="1029"/>
                    </a:lnTo>
                    <a:lnTo>
                      <a:pt x="1732" y="1058"/>
                    </a:lnTo>
                    <a:lnTo>
                      <a:pt x="1718" y="1086"/>
                    </a:lnTo>
                    <a:lnTo>
                      <a:pt x="1703" y="1113"/>
                    </a:lnTo>
                    <a:lnTo>
                      <a:pt x="1689" y="1142"/>
                    </a:lnTo>
                    <a:lnTo>
                      <a:pt x="1676" y="1169"/>
                    </a:lnTo>
                    <a:lnTo>
                      <a:pt x="1662" y="1199"/>
                    </a:lnTo>
                    <a:lnTo>
                      <a:pt x="1687" y="1226"/>
                    </a:lnTo>
                    <a:lnTo>
                      <a:pt x="1713" y="1255"/>
                    </a:lnTo>
                    <a:lnTo>
                      <a:pt x="1736" y="1282"/>
                    </a:lnTo>
                    <a:lnTo>
                      <a:pt x="1761" y="1310"/>
                    </a:lnTo>
                    <a:lnTo>
                      <a:pt x="1787" y="1337"/>
                    </a:lnTo>
                    <a:lnTo>
                      <a:pt x="1812" y="1366"/>
                    </a:lnTo>
                    <a:lnTo>
                      <a:pt x="1835" y="1394"/>
                    </a:lnTo>
                    <a:lnTo>
                      <a:pt x="1861" y="1423"/>
                    </a:lnTo>
                    <a:lnTo>
                      <a:pt x="1833" y="1415"/>
                    </a:lnTo>
                    <a:lnTo>
                      <a:pt x="1806" y="1405"/>
                    </a:lnTo>
                    <a:lnTo>
                      <a:pt x="1777" y="1397"/>
                    </a:lnTo>
                    <a:lnTo>
                      <a:pt x="1750" y="1388"/>
                    </a:lnTo>
                    <a:lnTo>
                      <a:pt x="1722" y="1380"/>
                    </a:lnTo>
                    <a:lnTo>
                      <a:pt x="1695" y="1372"/>
                    </a:lnTo>
                    <a:lnTo>
                      <a:pt x="1666" y="1362"/>
                    </a:lnTo>
                    <a:lnTo>
                      <a:pt x="1639" y="1355"/>
                    </a:lnTo>
                    <a:lnTo>
                      <a:pt x="1639" y="1405"/>
                    </a:lnTo>
                    <a:lnTo>
                      <a:pt x="1639" y="1456"/>
                    </a:lnTo>
                    <a:lnTo>
                      <a:pt x="1639" y="1507"/>
                    </a:lnTo>
                    <a:lnTo>
                      <a:pt x="1639" y="1557"/>
                    </a:lnTo>
                    <a:lnTo>
                      <a:pt x="1607" y="1557"/>
                    </a:lnTo>
                    <a:lnTo>
                      <a:pt x="1578" y="1557"/>
                    </a:lnTo>
                    <a:lnTo>
                      <a:pt x="1547" y="1557"/>
                    </a:lnTo>
                    <a:lnTo>
                      <a:pt x="1518" y="1557"/>
                    </a:lnTo>
                    <a:lnTo>
                      <a:pt x="1487" y="1557"/>
                    </a:lnTo>
                    <a:lnTo>
                      <a:pt x="1455" y="1557"/>
                    </a:lnTo>
                    <a:lnTo>
                      <a:pt x="1426" y="1557"/>
                    </a:lnTo>
                    <a:lnTo>
                      <a:pt x="1395" y="1557"/>
                    </a:lnTo>
                    <a:lnTo>
                      <a:pt x="1381" y="1540"/>
                    </a:lnTo>
                    <a:lnTo>
                      <a:pt x="1368" y="1524"/>
                    </a:lnTo>
                    <a:lnTo>
                      <a:pt x="1354" y="1507"/>
                    </a:lnTo>
                    <a:lnTo>
                      <a:pt x="1340" y="1489"/>
                    </a:lnTo>
                    <a:lnTo>
                      <a:pt x="1325" y="1473"/>
                    </a:lnTo>
                    <a:lnTo>
                      <a:pt x="1311" y="1456"/>
                    </a:lnTo>
                    <a:lnTo>
                      <a:pt x="1297" y="1440"/>
                    </a:lnTo>
                    <a:lnTo>
                      <a:pt x="1284" y="1423"/>
                    </a:lnTo>
                    <a:lnTo>
                      <a:pt x="1257" y="1444"/>
                    </a:lnTo>
                    <a:lnTo>
                      <a:pt x="1229" y="1468"/>
                    </a:lnTo>
                    <a:lnTo>
                      <a:pt x="1200" y="1489"/>
                    </a:lnTo>
                    <a:lnTo>
                      <a:pt x="1173" y="1512"/>
                    </a:lnTo>
                    <a:lnTo>
                      <a:pt x="1145" y="1534"/>
                    </a:lnTo>
                    <a:lnTo>
                      <a:pt x="1118" y="1557"/>
                    </a:lnTo>
                    <a:lnTo>
                      <a:pt x="1089" y="1579"/>
                    </a:lnTo>
                    <a:lnTo>
                      <a:pt x="1062" y="1602"/>
                    </a:lnTo>
                    <a:lnTo>
                      <a:pt x="1056" y="1557"/>
                    </a:lnTo>
                    <a:lnTo>
                      <a:pt x="1050" y="1512"/>
                    </a:lnTo>
                    <a:lnTo>
                      <a:pt x="1044" y="1468"/>
                    </a:lnTo>
                    <a:lnTo>
                      <a:pt x="1038" y="1423"/>
                    </a:lnTo>
                    <a:lnTo>
                      <a:pt x="1009" y="1434"/>
                    </a:lnTo>
                    <a:lnTo>
                      <a:pt x="978" y="1444"/>
                    </a:lnTo>
                    <a:lnTo>
                      <a:pt x="949" y="1456"/>
                    </a:lnTo>
                    <a:lnTo>
                      <a:pt x="917" y="1468"/>
                    </a:lnTo>
                    <a:lnTo>
                      <a:pt x="886" y="1477"/>
                    </a:lnTo>
                    <a:lnTo>
                      <a:pt x="855" y="1489"/>
                    </a:lnTo>
                    <a:lnTo>
                      <a:pt x="826" y="1501"/>
                    </a:lnTo>
                    <a:lnTo>
                      <a:pt x="795" y="1512"/>
                    </a:lnTo>
                    <a:lnTo>
                      <a:pt x="767" y="1520"/>
                    </a:lnTo>
                    <a:lnTo>
                      <a:pt x="740" y="1530"/>
                    </a:lnTo>
                    <a:lnTo>
                      <a:pt x="711" y="1538"/>
                    </a:lnTo>
                    <a:lnTo>
                      <a:pt x="684" y="1546"/>
                    </a:lnTo>
                    <a:lnTo>
                      <a:pt x="656" y="1555"/>
                    </a:lnTo>
                    <a:lnTo>
                      <a:pt x="629" y="1563"/>
                    </a:lnTo>
                    <a:lnTo>
                      <a:pt x="602" y="1571"/>
                    </a:lnTo>
                    <a:lnTo>
                      <a:pt x="573" y="1579"/>
                    </a:lnTo>
                    <a:lnTo>
                      <a:pt x="545" y="1588"/>
                    </a:lnTo>
                    <a:lnTo>
                      <a:pt x="518" y="1596"/>
                    </a:lnTo>
                    <a:lnTo>
                      <a:pt x="491" y="1604"/>
                    </a:lnTo>
                    <a:lnTo>
                      <a:pt x="461" y="1614"/>
                    </a:lnTo>
                    <a:lnTo>
                      <a:pt x="434" y="1622"/>
                    </a:lnTo>
                    <a:lnTo>
                      <a:pt x="407" y="1629"/>
                    </a:lnTo>
                    <a:lnTo>
                      <a:pt x="378" y="1639"/>
                    </a:lnTo>
                    <a:lnTo>
                      <a:pt x="350" y="1647"/>
                    </a:lnTo>
                    <a:lnTo>
                      <a:pt x="370" y="1608"/>
                    </a:lnTo>
                    <a:lnTo>
                      <a:pt x="389" y="1569"/>
                    </a:lnTo>
                    <a:lnTo>
                      <a:pt x="409" y="1528"/>
                    </a:lnTo>
                    <a:lnTo>
                      <a:pt x="428" y="1489"/>
                    </a:lnTo>
                    <a:lnTo>
                      <a:pt x="448" y="1450"/>
                    </a:lnTo>
                    <a:lnTo>
                      <a:pt x="467" y="1411"/>
                    </a:lnTo>
                    <a:lnTo>
                      <a:pt x="487" y="1372"/>
                    </a:lnTo>
                    <a:lnTo>
                      <a:pt x="506" y="1333"/>
                    </a:lnTo>
                    <a:lnTo>
                      <a:pt x="481" y="1345"/>
                    </a:lnTo>
                    <a:lnTo>
                      <a:pt x="456" y="1355"/>
                    </a:lnTo>
                    <a:lnTo>
                      <a:pt x="430" y="1366"/>
                    </a:lnTo>
                    <a:lnTo>
                      <a:pt x="407" y="1378"/>
                    </a:lnTo>
                    <a:lnTo>
                      <a:pt x="382" y="1388"/>
                    </a:lnTo>
                    <a:lnTo>
                      <a:pt x="356" y="1399"/>
                    </a:lnTo>
                    <a:lnTo>
                      <a:pt x="331" y="1411"/>
                    </a:lnTo>
                    <a:lnTo>
                      <a:pt x="306" y="1423"/>
                    </a:lnTo>
                    <a:lnTo>
                      <a:pt x="313" y="1399"/>
                    </a:lnTo>
                    <a:lnTo>
                      <a:pt x="323" y="1378"/>
                    </a:lnTo>
                    <a:lnTo>
                      <a:pt x="331" y="1355"/>
                    </a:lnTo>
                    <a:lnTo>
                      <a:pt x="339" y="1333"/>
                    </a:lnTo>
                    <a:lnTo>
                      <a:pt x="348" y="1310"/>
                    </a:lnTo>
                    <a:lnTo>
                      <a:pt x="356" y="1288"/>
                    </a:lnTo>
                    <a:lnTo>
                      <a:pt x="364" y="1265"/>
                    </a:lnTo>
                    <a:lnTo>
                      <a:pt x="372" y="1243"/>
                    </a:lnTo>
                    <a:lnTo>
                      <a:pt x="356" y="1232"/>
                    </a:lnTo>
                    <a:lnTo>
                      <a:pt x="339" y="1220"/>
                    </a:lnTo>
                    <a:lnTo>
                      <a:pt x="323" y="1208"/>
                    </a:lnTo>
                    <a:lnTo>
                      <a:pt x="306" y="1199"/>
                    </a:lnTo>
                    <a:lnTo>
                      <a:pt x="290" y="1187"/>
                    </a:lnTo>
                    <a:lnTo>
                      <a:pt x="272" y="1175"/>
                    </a:lnTo>
                    <a:lnTo>
                      <a:pt x="257" y="1165"/>
                    </a:lnTo>
                    <a:lnTo>
                      <a:pt x="239" y="1154"/>
                    </a:lnTo>
                    <a:lnTo>
                      <a:pt x="257" y="1140"/>
                    </a:lnTo>
                    <a:lnTo>
                      <a:pt x="272" y="1125"/>
                    </a:lnTo>
                    <a:lnTo>
                      <a:pt x="290" y="1111"/>
                    </a:lnTo>
                    <a:lnTo>
                      <a:pt x="306" y="1097"/>
                    </a:lnTo>
                    <a:lnTo>
                      <a:pt x="323" y="1082"/>
                    </a:lnTo>
                    <a:lnTo>
                      <a:pt x="339" y="1068"/>
                    </a:lnTo>
                    <a:lnTo>
                      <a:pt x="356" y="1054"/>
                    </a:lnTo>
                    <a:lnTo>
                      <a:pt x="372" y="1041"/>
                    </a:lnTo>
                    <a:lnTo>
                      <a:pt x="333" y="998"/>
                    </a:lnTo>
                    <a:lnTo>
                      <a:pt x="296" y="957"/>
                    </a:lnTo>
                    <a:lnTo>
                      <a:pt x="257" y="914"/>
                    </a:lnTo>
                    <a:lnTo>
                      <a:pt x="220" y="871"/>
                    </a:lnTo>
                    <a:lnTo>
                      <a:pt x="181" y="830"/>
                    </a:lnTo>
                    <a:lnTo>
                      <a:pt x="142" y="787"/>
                    </a:lnTo>
                    <a:lnTo>
                      <a:pt x="105" y="746"/>
                    </a:lnTo>
                    <a:lnTo>
                      <a:pt x="66" y="703"/>
                    </a:lnTo>
                    <a:lnTo>
                      <a:pt x="58" y="678"/>
                    </a:lnTo>
                    <a:lnTo>
                      <a:pt x="48" y="653"/>
                    </a:lnTo>
                    <a:lnTo>
                      <a:pt x="41" y="627"/>
                    </a:lnTo>
                    <a:lnTo>
                      <a:pt x="33" y="602"/>
                    </a:lnTo>
                    <a:lnTo>
                      <a:pt x="23" y="577"/>
                    </a:lnTo>
                    <a:lnTo>
                      <a:pt x="15" y="551"/>
                    </a:lnTo>
                    <a:lnTo>
                      <a:pt x="7" y="526"/>
                    </a:lnTo>
                    <a:lnTo>
                      <a:pt x="0" y="501"/>
                    </a:lnTo>
                    <a:lnTo>
                      <a:pt x="27" y="512"/>
                    </a:lnTo>
                    <a:lnTo>
                      <a:pt x="54" y="524"/>
                    </a:lnTo>
                    <a:lnTo>
                      <a:pt x="83" y="536"/>
                    </a:lnTo>
                    <a:lnTo>
                      <a:pt x="111" y="546"/>
                    </a:lnTo>
                    <a:lnTo>
                      <a:pt x="138" y="557"/>
                    </a:lnTo>
                    <a:lnTo>
                      <a:pt x="165" y="569"/>
                    </a:lnTo>
                    <a:lnTo>
                      <a:pt x="191" y="581"/>
                    </a:lnTo>
                    <a:lnTo>
                      <a:pt x="218" y="592"/>
                    </a:lnTo>
                    <a:lnTo>
                      <a:pt x="218" y="548"/>
                    </a:lnTo>
                    <a:lnTo>
                      <a:pt x="218" y="501"/>
                    </a:lnTo>
                    <a:lnTo>
                      <a:pt x="218" y="456"/>
                    </a:lnTo>
                    <a:lnTo>
                      <a:pt x="218" y="409"/>
                    </a:lnTo>
                    <a:lnTo>
                      <a:pt x="239" y="427"/>
                    </a:lnTo>
                    <a:lnTo>
                      <a:pt x="263" y="444"/>
                    </a:lnTo>
                    <a:lnTo>
                      <a:pt x="284" y="462"/>
                    </a:lnTo>
                    <a:lnTo>
                      <a:pt x="308" y="477"/>
                    </a:lnTo>
                    <a:lnTo>
                      <a:pt x="329" y="495"/>
                    </a:lnTo>
                    <a:lnTo>
                      <a:pt x="350" y="512"/>
                    </a:lnTo>
                    <a:lnTo>
                      <a:pt x="374" y="530"/>
                    </a:lnTo>
                    <a:lnTo>
                      <a:pt x="395" y="548"/>
                    </a:lnTo>
                    <a:lnTo>
                      <a:pt x="384" y="491"/>
                    </a:lnTo>
                    <a:lnTo>
                      <a:pt x="374" y="434"/>
                    </a:lnTo>
                    <a:lnTo>
                      <a:pt x="362" y="378"/>
                    </a:lnTo>
                    <a:lnTo>
                      <a:pt x="350" y="319"/>
                    </a:lnTo>
                    <a:close/>
                  </a:path>
                </a:pathLst>
              </a:custGeom>
              <a:solidFill>
                <a:srgbClr val="84a5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1996200" y="3719160"/>
                <a:ext cx="1992960" cy="1800720"/>
              </a:xfrm>
              <a:custGeom>
                <a:avLst/>
                <a:gdLst/>
                <a:ahLst/>
                <a:rect l="l" t="t" r="r" b="b"/>
                <a:pathLst>
                  <a:path w="1908" h="1609">
                    <a:moveTo>
                      <a:pt x="345" y="314"/>
                    </a:moveTo>
                    <a:lnTo>
                      <a:pt x="333" y="283"/>
                    </a:lnTo>
                    <a:lnTo>
                      <a:pt x="324" y="254"/>
                    </a:lnTo>
                    <a:lnTo>
                      <a:pt x="312" y="223"/>
                    </a:lnTo>
                    <a:lnTo>
                      <a:pt x="302" y="193"/>
                    </a:lnTo>
                    <a:lnTo>
                      <a:pt x="290" y="164"/>
                    </a:lnTo>
                    <a:lnTo>
                      <a:pt x="279" y="135"/>
                    </a:lnTo>
                    <a:lnTo>
                      <a:pt x="269" y="104"/>
                    </a:lnTo>
                    <a:lnTo>
                      <a:pt x="257" y="74"/>
                    </a:lnTo>
                    <a:lnTo>
                      <a:pt x="281" y="90"/>
                    </a:lnTo>
                    <a:lnTo>
                      <a:pt x="306" y="108"/>
                    </a:lnTo>
                    <a:lnTo>
                      <a:pt x="329" y="123"/>
                    </a:lnTo>
                    <a:lnTo>
                      <a:pt x="355" y="139"/>
                    </a:lnTo>
                    <a:lnTo>
                      <a:pt x="380" y="156"/>
                    </a:lnTo>
                    <a:lnTo>
                      <a:pt x="403" y="172"/>
                    </a:lnTo>
                    <a:lnTo>
                      <a:pt x="429" y="189"/>
                    </a:lnTo>
                    <a:lnTo>
                      <a:pt x="452" y="205"/>
                    </a:lnTo>
                    <a:lnTo>
                      <a:pt x="458" y="178"/>
                    </a:lnTo>
                    <a:lnTo>
                      <a:pt x="464" y="151"/>
                    </a:lnTo>
                    <a:lnTo>
                      <a:pt x="470" y="123"/>
                    </a:lnTo>
                    <a:lnTo>
                      <a:pt x="474" y="96"/>
                    </a:lnTo>
                    <a:lnTo>
                      <a:pt x="491" y="110"/>
                    </a:lnTo>
                    <a:lnTo>
                      <a:pt x="507" y="123"/>
                    </a:lnTo>
                    <a:lnTo>
                      <a:pt x="524" y="137"/>
                    </a:lnTo>
                    <a:lnTo>
                      <a:pt x="540" y="151"/>
                    </a:lnTo>
                    <a:lnTo>
                      <a:pt x="555" y="164"/>
                    </a:lnTo>
                    <a:lnTo>
                      <a:pt x="571" y="178"/>
                    </a:lnTo>
                    <a:lnTo>
                      <a:pt x="589" y="191"/>
                    </a:lnTo>
                    <a:lnTo>
                      <a:pt x="604" y="205"/>
                    </a:lnTo>
                    <a:lnTo>
                      <a:pt x="618" y="180"/>
                    </a:lnTo>
                    <a:lnTo>
                      <a:pt x="633" y="154"/>
                    </a:lnTo>
                    <a:lnTo>
                      <a:pt x="647" y="127"/>
                    </a:lnTo>
                    <a:lnTo>
                      <a:pt x="663" y="102"/>
                    </a:lnTo>
                    <a:lnTo>
                      <a:pt x="676" y="76"/>
                    </a:lnTo>
                    <a:lnTo>
                      <a:pt x="692" y="51"/>
                    </a:lnTo>
                    <a:lnTo>
                      <a:pt x="705" y="26"/>
                    </a:lnTo>
                    <a:lnTo>
                      <a:pt x="721" y="0"/>
                    </a:lnTo>
                    <a:lnTo>
                      <a:pt x="735" y="8"/>
                    </a:lnTo>
                    <a:lnTo>
                      <a:pt x="750" y="16"/>
                    </a:lnTo>
                    <a:lnTo>
                      <a:pt x="764" y="24"/>
                    </a:lnTo>
                    <a:lnTo>
                      <a:pt x="780" y="32"/>
                    </a:lnTo>
                    <a:lnTo>
                      <a:pt x="793" y="39"/>
                    </a:lnTo>
                    <a:lnTo>
                      <a:pt x="807" y="45"/>
                    </a:lnTo>
                    <a:lnTo>
                      <a:pt x="822" y="53"/>
                    </a:lnTo>
                    <a:lnTo>
                      <a:pt x="836" y="61"/>
                    </a:lnTo>
                    <a:lnTo>
                      <a:pt x="846" y="67"/>
                    </a:lnTo>
                    <a:lnTo>
                      <a:pt x="854" y="74"/>
                    </a:lnTo>
                    <a:lnTo>
                      <a:pt x="863" y="80"/>
                    </a:lnTo>
                    <a:lnTo>
                      <a:pt x="871" y="86"/>
                    </a:lnTo>
                    <a:lnTo>
                      <a:pt x="881" y="92"/>
                    </a:lnTo>
                    <a:lnTo>
                      <a:pt x="889" y="98"/>
                    </a:lnTo>
                    <a:lnTo>
                      <a:pt x="898" y="104"/>
                    </a:lnTo>
                    <a:lnTo>
                      <a:pt x="906" y="110"/>
                    </a:lnTo>
                    <a:lnTo>
                      <a:pt x="924" y="117"/>
                    </a:lnTo>
                    <a:lnTo>
                      <a:pt x="939" y="127"/>
                    </a:lnTo>
                    <a:lnTo>
                      <a:pt x="957" y="135"/>
                    </a:lnTo>
                    <a:lnTo>
                      <a:pt x="974" y="145"/>
                    </a:lnTo>
                    <a:lnTo>
                      <a:pt x="992" y="152"/>
                    </a:lnTo>
                    <a:lnTo>
                      <a:pt x="1009" y="162"/>
                    </a:lnTo>
                    <a:lnTo>
                      <a:pt x="1027" y="170"/>
                    </a:lnTo>
                    <a:lnTo>
                      <a:pt x="1045" y="180"/>
                    </a:lnTo>
                    <a:lnTo>
                      <a:pt x="1062" y="186"/>
                    </a:lnTo>
                    <a:lnTo>
                      <a:pt x="1082" y="193"/>
                    </a:lnTo>
                    <a:lnTo>
                      <a:pt x="1099" y="199"/>
                    </a:lnTo>
                    <a:lnTo>
                      <a:pt x="1119" y="205"/>
                    </a:lnTo>
                    <a:lnTo>
                      <a:pt x="1136" y="211"/>
                    </a:lnTo>
                    <a:lnTo>
                      <a:pt x="1154" y="217"/>
                    </a:lnTo>
                    <a:lnTo>
                      <a:pt x="1173" y="223"/>
                    </a:lnTo>
                    <a:lnTo>
                      <a:pt x="1191" y="228"/>
                    </a:lnTo>
                    <a:lnTo>
                      <a:pt x="1212" y="227"/>
                    </a:lnTo>
                    <a:lnTo>
                      <a:pt x="1232" y="227"/>
                    </a:lnTo>
                    <a:lnTo>
                      <a:pt x="1253" y="225"/>
                    </a:lnTo>
                    <a:lnTo>
                      <a:pt x="1274" y="225"/>
                    </a:lnTo>
                    <a:lnTo>
                      <a:pt x="1294" y="223"/>
                    </a:lnTo>
                    <a:lnTo>
                      <a:pt x="1315" y="223"/>
                    </a:lnTo>
                    <a:lnTo>
                      <a:pt x="1335" y="221"/>
                    </a:lnTo>
                    <a:lnTo>
                      <a:pt x="1356" y="219"/>
                    </a:lnTo>
                    <a:lnTo>
                      <a:pt x="1376" y="219"/>
                    </a:lnTo>
                    <a:lnTo>
                      <a:pt x="1397" y="217"/>
                    </a:lnTo>
                    <a:lnTo>
                      <a:pt x="1417" y="215"/>
                    </a:lnTo>
                    <a:lnTo>
                      <a:pt x="1438" y="215"/>
                    </a:lnTo>
                    <a:lnTo>
                      <a:pt x="1458" y="213"/>
                    </a:lnTo>
                    <a:lnTo>
                      <a:pt x="1479" y="211"/>
                    </a:lnTo>
                    <a:lnTo>
                      <a:pt x="1499" y="211"/>
                    </a:lnTo>
                    <a:lnTo>
                      <a:pt x="1520" y="209"/>
                    </a:lnTo>
                    <a:lnTo>
                      <a:pt x="1528" y="215"/>
                    </a:lnTo>
                    <a:lnTo>
                      <a:pt x="1536" y="223"/>
                    </a:lnTo>
                    <a:lnTo>
                      <a:pt x="1543" y="228"/>
                    </a:lnTo>
                    <a:lnTo>
                      <a:pt x="1551" y="236"/>
                    </a:lnTo>
                    <a:lnTo>
                      <a:pt x="1559" y="244"/>
                    </a:lnTo>
                    <a:lnTo>
                      <a:pt x="1567" y="250"/>
                    </a:lnTo>
                    <a:lnTo>
                      <a:pt x="1575" y="258"/>
                    </a:lnTo>
                    <a:lnTo>
                      <a:pt x="1582" y="264"/>
                    </a:lnTo>
                    <a:lnTo>
                      <a:pt x="1594" y="264"/>
                    </a:lnTo>
                    <a:lnTo>
                      <a:pt x="1604" y="266"/>
                    </a:lnTo>
                    <a:lnTo>
                      <a:pt x="1616" y="266"/>
                    </a:lnTo>
                    <a:lnTo>
                      <a:pt x="1627" y="266"/>
                    </a:lnTo>
                    <a:lnTo>
                      <a:pt x="1639" y="267"/>
                    </a:lnTo>
                    <a:lnTo>
                      <a:pt x="1651" y="267"/>
                    </a:lnTo>
                    <a:lnTo>
                      <a:pt x="1660" y="267"/>
                    </a:lnTo>
                    <a:lnTo>
                      <a:pt x="1672" y="267"/>
                    </a:lnTo>
                    <a:lnTo>
                      <a:pt x="1697" y="267"/>
                    </a:lnTo>
                    <a:lnTo>
                      <a:pt x="1723" y="266"/>
                    </a:lnTo>
                    <a:lnTo>
                      <a:pt x="1748" y="266"/>
                    </a:lnTo>
                    <a:lnTo>
                      <a:pt x="1773" y="264"/>
                    </a:lnTo>
                    <a:lnTo>
                      <a:pt x="1799" y="264"/>
                    </a:lnTo>
                    <a:lnTo>
                      <a:pt x="1822" y="264"/>
                    </a:lnTo>
                    <a:lnTo>
                      <a:pt x="1847" y="262"/>
                    </a:lnTo>
                    <a:lnTo>
                      <a:pt x="1873" y="262"/>
                    </a:lnTo>
                    <a:lnTo>
                      <a:pt x="1863" y="277"/>
                    </a:lnTo>
                    <a:lnTo>
                      <a:pt x="1853" y="293"/>
                    </a:lnTo>
                    <a:lnTo>
                      <a:pt x="1845" y="306"/>
                    </a:lnTo>
                    <a:lnTo>
                      <a:pt x="1836" y="322"/>
                    </a:lnTo>
                    <a:lnTo>
                      <a:pt x="1826" y="336"/>
                    </a:lnTo>
                    <a:lnTo>
                      <a:pt x="1818" y="351"/>
                    </a:lnTo>
                    <a:lnTo>
                      <a:pt x="1808" y="365"/>
                    </a:lnTo>
                    <a:lnTo>
                      <a:pt x="1799" y="381"/>
                    </a:lnTo>
                    <a:lnTo>
                      <a:pt x="1787" y="423"/>
                    </a:lnTo>
                    <a:lnTo>
                      <a:pt x="1777" y="468"/>
                    </a:lnTo>
                    <a:lnTo>
                      <a:pt x="1766" y="511"/>
                    </a:lnTo>
                    <a:lnTo>
                      <a:pt x="1756" y="554"/>
                    </a:lnTo>
                    <a:lnTo>
                      <a:pt x="1775" y="554"/>
                    </a:lnTo>
                    <a:lnTo>
                      <a:pt x="1795" y="554"/>
                    </a:lnTo>
                    <a:lnTo>
                      <a:pt x="1812" y="554"/>
                    </a:lnTo>
                    <a:lnTo>
                      <a:pt x="1832" y="554"/>
                    </a:lnTo>
                    <a:lnTo>
                      <a:pt x="1851" y="554"/>
                    </a:lnTo>
                    <a:lnTo>
                      <a:pt x="1871" y="554"/>
                    </a:lnTo>
                    <a:lnTo>
                      <a:pt x="1888" y="554"/>
                    </a:lnTo>
                    <a:lnTo>
                      <a:pt x="1908" y="554"/>
                    </a:lnTo>
                    <a:lnTo>
                      <a:pt x="1894" y="577"/>
                    </a:lnTo>
                    <a:lnTo>
                      <a:pt x="1881" y="599"/>
                    </a:lnTo>
                    <a:lnTo>
                      <a:pt x="1867" y="622"/>
                    </a:lnTo>
                    <a:lnTo>
                      <a:pt x="1853" y="644"/>
                    </a:lnTo>
                    <a:lnTo>
                      <a:pt x="1840" y="665"/>
                    </a:lnTo>
                    <a:lnTo>
                      <a:pt x="1826" y="687"/>
                    </a:lnTo>
                    <a:lnTo>
                      <a:pt x="1812" y="710"/>
                    </a:lnTo>
                    <a:lnTo>
                      <a:pt x="1799" y="731"/>
                    </a:lnTo>
                    <a:lnTo>
                      <a:pt x="1791" y="759"/>
                    </a:lnTo>
                    <a:lnTo>
                      <a:pt x="1783" y="786"/>
                    </a:lnTo>
                    <a:lnTo>
                      <a:pt x="1775" y="813"/>
                    </a:lnTo>
                    <a:lnTo>
                      <a:pt x="1766" y="841"/>
                    </a:lnTo>
                    <a:lnTo>
                      <a:pt x="1758" y="870"/>
                    </a:lnTo>
                    <a:lnTo>
                      <a:pt x="1750" y="897"/>
                    </a:lnTo>
                    <a:lnTo>
                      <a:pt x="1740" y="924"/>
                    </a:lnTo>
                    <a:lnTo>
                      <a:pt x="1732" y="952"/>
                    </a:lnTo>
                    <a:lnTo>
                      <a:pt x="1719" y="979"/>
                    </a:lnTo>
                    <a:lnTo>
                      <a:pt x="1705" y="1006"/>
                    </a:lnTo>
                    <a:lnTo>
                      <a:pt x="1692" y="1034"/>
                    </a:lnTo>
                    <a:lnTo>
                      <a:pt x="1680" y="1061"/>
                    </a:lnTo>
                    <a:lnTo>
                      <a:pt x="1666" y="1088"/>
                    </a:lnTo>
                    <a:lnTo>
                      <a:pt x="1653" y="1115"/>
                    </a:lnTo>
                    <a:lnTo>
                      <a:pt x="1639" y="1143"/>
                    </a:lnTo>
                    <a:lnTo>
                      <a:pt x="1625" y="1170"/>
                    </a:lnTo>
                    <a:lnTo>
                      <a:pt x="1649" y="1197"/>
                    </a:lnTo>
                    <a:lnTo>
                      <a:pt x="1674" y="1225"/>
                    </a:lnTo>
                    <a:lnTo>
                      <a:pt x="1697" y="1252"/>
                    </a:lnTo>
                    <a:lnTo>
                      <a:pt x="1723" y="1279"/>
                    </a:lnTo>
                    <a:lnTo>
                      <a:pt x="1748" y="1308"/>
                    </a:lnTo>
                    <a:lnTo>
                      <a:pt x="1771" y="1336"/>
                    </a:lnTo>
                    <a:lnTo>
                      <a:pt x="1797" y="1363"/>
                    </a:lnTo>
                    <a:lnTo>
                      <a:pt x="1820" y="1390"/>
                    </a:lnTo>
                    <a:lnTo>
                      <a:pt x="1793" y="1382"/>
                    </a:lnTo>
                    <a:lnTo>
                      <a:pt x="1766" y="1375"/>
                    </a:lnTo>
                    <a:lnTo>
                      <a:pt x="1738" y="1365"/>
                    </a:lnTo>
                    <a:lnTo>
                      <a:pt x="1713" y="1357"/>
                    </a:lnTo>
                    <a:lnTo>
                      <a:pt x="1686" y="1349"/>
                    </a:lnTo>
                    <a:lnTo>
                      <a:pt x="1658" y="1340"/>
                    </a:lnTo>
                    <a:lnTo>
                      <a:pt x="1631" y="1332"/>
                    </a:lnTo>
                    <a:lnTo>
                      <a:pt x="1604" y="1324"/>
                    </a:lnTo>
                    <a:lnTo>
                      <a:pt x="1604" y="1373"/>
                    </a:lnTo>
                    <a:lnTo>
                      <a:pt x="1604" y="1423"/>
                    </a:lnTo>
                    <a:lnTo>
                      <a:pt x="1604" y="1472"/>
                    </a:lnTo>
                    <a:lnTo>
                      <a:pt x="1604" y="1521"/>
                    </a:lnTo>
                    <a:lnTo>
                      <a:pt x="1575" y="1521"/>
                    </a:lnTo>
                    <a:lnTo>
                      <a:pt x="1543" y="1521"/>
                    </a:lnTo>
                    <a:lnTo>
                      <a:pt x="1514" y="1521"/>
                    </a:lnTo>
                    <a:lnTo>
                      <a:pt x="1485" y="1521"/>
                    </a:lnTo>
                    <a:lnTo>
                      <a:pt x="1454" y="1521"/>
                    </a:lnTo>
                    <a:lnTo>
                      <a:pt x="1425" y="1521"/>
                    </a:lnTo>
                    <a:lnTo>
                      <a:pt x="1393" y="1521"/>
                    </a:lnTo>
                    <a:lnTo>
                      <a:pt x="1364" y="1521"/>
                    </a:lnTo>
                    <a:lnTo>
                      <a:pt x="1350" y="1505"/>
                    </a:lnTo>
                    <a:lnTo>
                      <a:pt x="1337" y="1488"/>
                    </a:lnTo>
                    <a:lnTo>
                      <a:pt x="1323" y="1472"/>
                    </a:lnTo>
                    <a:lnTo>
                      <a:pt x="1310" y="1455"/>
                    </a:lnTo>
                    <a:lnTo>
                      <a:pt x="1296" y="1439"/>
                    </a:lnTo>
                    <a:lnTo>
                      <a:pt x="1282" y="1423"/>
                    </a:lnTo>
                    <a:lnTo>
                      <a:pt x="1269" y="1406"/>
                    </a:lnTo>
                    <a:lnTo>
                      <a:pt x="1255" y="1390"/>
                    </a:lnTo>
                    <a:lnTo>
                      <a:pt x="1228" y="1412"/>
                    </a:lnTo>
                    <a:lnTo>
                      <a:pt x="1200" y="1433"/>
                    </a:lnTo>
                    <a:lnTo>
                      <a:pt x="1173" y="1456"/>
                    </a:lnTo>
                    <a:lnTo>
                      <a:pt x="1148" y="1478"/>
                    </a:lnTo>
                    <a:lnTo>
                      <a:pt x="1121" y="1499"/>
                    </a:lnTo>
                    <a:lnTo>
                      <a:pt x="1093" y="1521"/>
                    </a:lnTo>
                    <a:lnTo>
                      <a:pt x="1066" y="1544"/>
                    </a:lnTo>
                    <a:lnTo>
                      <a:pt x="1039" y="1566"/>
                    </a:lnTo>
                    <a:lnTo>
                      <a:pt x="1033" y="1521"/>
                    </a:lnTo>
                    <a:lnTo>
                      <a:pt x="1029" y="1478"/>
                    </a:lnTo>
                    <a:lnTo>
                      <a:pt x="1023" y="1433"/>
                    </a:lnTo>
                    <a:lnTo>
                      <a:pt x="1017" y="1390"/>
                    </a:lnTo>
                    <a:lnTo>
                      <a:pt x="988" y="1402"/>
                    </a:lnTo>
                    <a:lnTo>
                      <a:pt x="957" y="1412"/>
                    </a:lnTo>
                    <a:lnTo>
                      <a:pt x="928" y="1423"/>
                    </a:lnTo>
                    <a:lnTo>
                      <a:pt x="898" y="1433"/>
                    </a:lnTo>
                    <a:lnTo>
                      <a:pt x="867" y="1445"/>
                    </a:lnTo>
                    <a:lnTo>
                      <a:pt x="838" y="1456"/>
                    </a:lnTo>
                    <a:lnTo>
                      <a:pt x="807" y="1466"/>
                    </a:lnTo>
                    <a:lnTo>
                      <a:pt x="778" y="1478"/>
                    </a:lnTo>
                    <a:lnTo>
                      <a:pt x="750" y="1486"/>
                    </a:lnTo>
                    <a:lnTo>
                      <a:pt x="723" y="1494"/>
                    </a:lnTo>
                    <a:lnTo>
                      <a:pt x="696" y="1501"/>
                    </a:lnTo>
                    <a:lnTo>
                      <a:pt x="670" y="1511"/>
                    </a:lnTo>
                    <a:lnTo>
                      <a:pt x="643" y="1519"/>
                    </a:lnTo>
                    <a:lnTo>
                      <a:pt x="616" y="1527"/>
                    </a:lnTo>
                    <a:lnTo>
                      <a:pt x="589" y="1534"/>
                    </a:lnTo>
                    <a:lnTo>
                      <a:pt x="561" y="1542"/>
                    </a:lnTo>
                    <a:lnTo>
                      <a:pt x="534" y="1552"/>
                    </a:lnTo>
                    <a:lnTo>
                      <a:pt x="507" y="1560"/>
                    </a:lnTo>
                    <a:lnTo>
                      <a:pt x="479" y="1568"/>
                    </a:lnTo>
                    <a:lnTo>
                      <a:pt x="454" y="1575"/>
                    </a:lnTo>
                    <a:lnTo>
                      <a:pt x="427" y="1585"/>
                    </a:lnTo>
                    <a:lnTo>
                      <a:pt x="400" y="1593"/>
                    </a:lnTo>
                    <a:lnTo>
                      <a:pt x="372" y="1601"/>
                    </a:lnTo>
                    <a:lnTo>
                      <a:pt x="345" y="1609"/>
                    </a:lnTo>
                    <a:lnTo>
                      <a:pt x="364" y="1570"/>
                    </a:lnTo>
                    <a:lnTo>
                      <a:pt x="384" y="1533"/>
                    </a:lnTo>
                    <a:lnTo>
                      <a:pt x="401" y="1494"/>
                    </a:lnTo>
                    <a:lnTo>
                      <a:pt x="421" y="1455"/>
                    </a:lnTo>
                    <a:lnTo>
                      <a:pt x="440" y="1417"/>
                    </a:lnTo>
                    <a:lnTo>
                      <a:pt x="460" y="1379"/>
                    </a:lnTo>
                    <a:lnTo>
                      <a:pt x="477" y="1341"/>
                    </a:lnTo>
                    <a:lnTo>
                      <a:pt x="497" y="1302"/>
                    </a:lnTo>
                    <a:lnTo>
                      <a:pt x="472" y="1314"/>
                    </a:lnTo>
                    <a:lnTo>
                      <a:pt x="448" y="1324"/>
                    </a:lnTo>
                    <a:lnTo>
                      <a:pt x="423" y="1336"/>
                    </a:lnTo>
                    <a:lnTo>
                      <a:pt x="400" y="1345"/>
                    </a:lnTo>
                    <a:lnTo>
                      <a:pt x="374" y="1357"/>
                    </a:lnTo>
                    <a:lnTo>
                      <a:pt x="349" y="1369"/>
                    </a:lnTo>
                    <a:lnTo>
                      <a:pt x="325" y="1379"/>
                    </a:lnTo>
                    <a:lnTo>
                      <a:pt x="300" y="1390"/>
                    </a:lnTo>
                    <a:lnTo>
                      <a:pt x="308" y="1369"/>
                    </a:lnTo>
                    <a:lnTo>
                      <a:pt x="316" y="1345"/>
                    </a:lnTo>
                    <a:lnTo>
                      <a:pt x="325" y="1324"/>
                    </a:lnTo>
                    <a:lnTo>
                      <a:pt x="333" y="1302"/>
                    </a:lnTo>
                    <a:lnTo>
                      <a:pt x="341" y="1281"/>
                    </a:lnTo>
                    <a:lnTo>
                      <a:pt x="351" y="1258"/>
                    </a:lnTo>
                    <a:lnTo>
                      <a:pt x="359" y="1236"/>
                    </a:lnTo>
                    <a:lnTo>
                      <a:pt x="366" y="1215"/>
                    </a:lnTo>
                    <a:lnTo>
                      <a:pt x="349" y="1203"/>
                    </a:lnTo>
                    <a:lnTo>
                      <a:pt x="333" y="1193"/>
                    </a:lnTo>
                    <a:lnTo>
                      <a:pt x="316" y="1182"/>
                    </a:lnTo>
                    <a:lnTo>
                      <a:pt x="300" y="1170"/>
                    </a:lnTo>
                    <a:lnTo>
                      <a:pt x="285" y="1160"/>
                    </a:lnTo>
                    <a:lnTo>
                      <a:pt x="269" y="1149"/>
                    </a:lnTo>
                    <a:lnTo>
                      <a:pt x="251" y="1139"/>
                    </a:lnTo>
                    <a:lnTo>
                      <a:pt x="236" y="1127"/>
                    </a:lnTo>
                    <a:lnTo>
                      <a:pt x="251" y="1113"/>
                    </a:lnTo>
                    <a:lnTo>
                      <a:pt x="269" y="1100"/>
                    </a:lnTo>
                    <a:lnTo>
                      <a:pt x="285" y="1086"/>
                    </a:lnTo>
                    <a:lnTo>
                      <a:pt x="300" y="1072"/>
                    </a:lnTo>
                    <a:lnTo>
                      <a:pt x="316" y="1059"/>
                    </a:lnTo>
                    <a:lnTo>
                      <a:pt x="333" y="1045"/>
                    </a:lnTo>
                    <a:lnTo>
                      <a:pt x="349" y="1032"/>
                    </a:lnTo>
                    <a:lnTo>
                      <a:pt x="366" y="1018"/>
                    </a:lnTo>
                    <a:lnTo>
                      <a:pt x="329" y="977"/>
                    </a:lnTo>
                    <a:lnTo>
                      <a:pt x="290" y="934"/>
                    </a:lnTo>
                    <a:lnTo>
                      <a:pt x="253" y="893"/>
                    </a:lnTo>
                    <a:lnTo>
                      <a:pt x="214" y="852"/>
                    </a:lnTo>
                    <a:lnTo>
                      <a:pt x="177" y="811"/>
                    </a:lnTo>
                    <a:lnTo>
                      <a:pt x="140" y="770"/>
                    </a:lnTo>
                    <a:lnTo>
                      <a:pt x="103" y="729"/>
                    </a:lnTo>
                    <a:lnTo>
                      <a:pt x="66" y="688"/>
                    </a:lnTo>
                    <a:lnTo>
                      <a:pt x="58" y="663"/>
                    </a:lnTo>
                    <a:lnTo>
                      <a:pt x="51" y="638"/>
                    </a:lnTo>
                    <a:lnTo>
                      <a:pt x="43" y="612"/>
                    </a:lnTo>
                    <a:lnTo>
                      <a:pt x="33" y="589"/>
                    </a:lnTo>
                    <a:lnTo>
                      <a:pt x="25" y="564"/>
                    </a:lnTo>
                    <a:lnTo>
                      <a:pt x="18" y="538"/>
                    </a:lnTo>
                    <a:lnTo>
                      <a:pt x="8" y="513"/>
                    </a:lnTo>
                    <a:lnTo>
                      <a:pt x="0" y="490"/>
                    </a:lnTo>
                    <a:lnTo>
                      <a:pt x="27" y="501"/>
                    </a:lnTo>
                    <a:lnTo>
                      <a:pt x="55" y="511"/>
                    </a:lnTo>
                    <a:lnTo>
                      <a:pt x="82" y="523"/>
                    </a:lnTo>
                    <a:lnTo>
                      <a:pt x="109" y="533"/>
                    </a:lnTo>
                    <a:lnTo>
                      <a:pt x="136" y="544"/>
                    </a:lnTo>
                    <a:lnTo>
                      <a:pt x="162" y="556"/>
                    </a:lnTo>
                    <a:lnTo>
                      <a:pt x="189" y="566"/>
                    </a:lnTo>
                    <a:lnTo>
                      <a:pt x="214" y="577"/>
                    </a:lnTo>
                    <a:lnTo>
                      <a:pt x="214" y="533"/>
                    </a:lnTo>
                    <a:lnTo>
                      <a:pt x="214" y="490"/>
                    </a:lnTo>
                    <a:lnTo>
                      <a:pt x="214" y="445"/>
                    </a:lnTo>
                    <a:lnTo>
                      <a:pt x="214" y="402"/>
                    </a:lnTo>
                    <a:lnTo>
                      <a:pt x="236" y="419"/>
                    </a:lnTo>
                    <a:lnTo>
                      <a:pt x="257" y="435"/>
                    </a:lnTo>
                    <a:lnTo>
                      <a:pt x="279" y="453"/>
                    </a:lnTo>
                    <a:lnTo>
                      <a:pt x="302" y="468"/>
                    </a:lnTo>
                    <a:lnTo>
                      <a:pt x="324" y="484"/>
                    </a:lnTo>
                    <a:lnTo>
                      <a:pt x="345" y="501"/>
                    </a:lnTo>
                    <a:lnTo>
                      <a:pt x="366" y="517"/>
                    </a:lnTo>
                    <a:lnTo>
                      <a:pt x="388" y="535"/>
                    </a:lnTo>
                    <a:lnTo>
                      <a:pt x="376" y="480"/>
                    </a:lnTo>
                    <a:lnTo>
                      <a:pt x="366" y="423"/>
                    </a:lnTo>
                    <a:lnTo>
                      <a:pt x="355" y="369"/>
                    </a:lnTo>
                    <a:lnTo>
                      <a:pt x="345" y="314"/>
                    </a:lnTo>
                    <a:close/>
                  </a:path>
                </a:pathLst>
              </a:custGeom>
              <a:solidFill>
                <a:srgbClr val="93ad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2017080" y="3737520"/>
                <a:ext cx="1946880" cy="1760040"/>
              </a:xfrm>
              <a:custGeom>
                <a:avLst/>
                <a:gdLst/>
                <a:ahLst/>
                <a:rect l="l" t="t" r="r" b="b"/>
                <a:pathLst>
                  <a:path w="1861" h="1571">
                    <a:moveTo>
                      <a:pt x="336" y="308"/>
                    </a:moveTo>
                    <a:lnTo>
                      <a:pt x="326" y="279"/>
                    </a:lnTo>
                    <a:lnTo>
                      <a:pt x="314" y="248"/>
                    </a:lnTo>
                    <a:lnTo>
                      <a:pt x="304" y="218"/>
                    </a:lnTo>
                    <a:lnTo>
                      <a:pt x="295" y="189"/>
                    </a:lnTo>
                    <a:lnTo>
                      <a:pt x="283" y="160"/>
                    </a:lnTo>
                    <a:lnTo>
                      <a:pt x="273" y="131"/>
                    </a:lnTo>
                    <a:lnTo>
                      <a:pt x="261" y="101"/>
                    </a:lnTo>
                    <a:lnTo>
                      <a:pt x="252" y="72"/>
                    </a:lnTo>
                    <a:lnTo>
                      <a:pt x="275" y="88"/>
                    </a:lnTo>
                    <a:lnTo>
                      <a:pt x="299" y="103"/>
                    </a:lnTo>
                    <a:lnTo>
                      <a:pt x="322" y="121"/>
                    </a:lnTo>
                    <a:lnTo>
                      <a:pt x="347" y="136"/>
                    </a:lnTo>
                    <a:lnTo>
                      <a:pt x="371" y="152"/>
                    </a:lnTo>
                    <a:lnTo>
                      <a:pt x="394" y="168"/>
                    </a:lnTo>
                    <a:lnTo>
                      <a:pt x="417" y="185"/>
                    </a:lnTo>
                    <a:lnTo>
                      <a:pt x="441" y="201"/>
                    </a:lnTo>
                    <a:lnTo>
                      <a:pt x="447" y="173"/>
                    </a:lnTo>
                    <a:lnTo>
                      <a:pt x="452" y="146"/>
                    </a:lnTo>
                    <a:lnTo>
                      <a:pt x="458" y="121"/>
                    </a:lnTo>
                    <a:lnTo>
                      <a:pt x="462" y="94"/>
                    </a:lnTo>
                    <a:lnTo>
                      <a:pt x="478" y="107"/>
                    </a:lnTo>
                    <a:lnTo>
                      <a:pt x="495" y="121"/>
                    </a:lnTo>
                    <a:lnTo>
                      <a:pt x="511" y="133"/>
                    </a:lnTo>
                    <a:lnTo>
                      <a:pt x="527" y="146"/>
                    </a:lnTo>
                    <a:lnTo>
                      <a:pt x="542" y="160"/>
                    </a:lnTo>
                    <a:lnTo>
                      <a:pt x="560" y="173"/>
                    </a:lnTo>
                    <a:lnTo>
                      <a:pt x="575" y="187"/>
                    </a:lnTo>
                    <a:lnTo>
                      <a:pt x="591" y="201"/>
                    </a:lnTo>
                    <a:lnTo>
                      <a:pt x="604" y="175"/>
                    </a:lnTo>
                    <a:lnTo>
                      <a:pt x="618" y="150"/>
                    </a:lnTo>
                    <a:lnTo>
                      <a:pt x="630" y="125"/>
                    </a:lnTo>
                    <a:lnTo>
                      <a:pt x="643" y="99"/>
                    </a:lnTo>
                    <a:lnTo>
                      <a:pt x="657" y="74"/>
                    </a:lnTo>
                    <a:lnTo>
                      <a:pt x="671" y="51"/>
                    </a:lnTo>
                    <a:lnTo>
                      <a:pt x="684" y="25"/>
                    </a:lnTo>
                    <a:lnTo>
                      <a:pt x="698" y="0"/>
                    </a:lnTo>
                    <a:lnTo>
                      <a:pt x="714" y="8"/>
                    </a:lnTo>
                    <a:lnTo>
                      <a:pt x="727" y="16"/>
                    </a:lnTo>
                    <a:lnTo>
                      <a:pt x="743" y="23"/>
                    </a:lnTo>
                    <a:lnTo>
                      <a:pt x="756" y="31"/>
                    </a:lnTo>
                    <a:lnTo>
                      <a:pt x="772" y="41"/>
                    </a:lnTo>
                    <a:lnTo>
                      <a:pt x="786" y="49"/>
                    </a:lnTo>
                    <a:lnTo>
                      <a:pt x="801" y="57"/>
                    </a:lnTo>
                    <a:lnTo>
                      <a:pt x="815" y="64"/>
                    </a:lnTo>
                    <a:lnTo>
                      <a:pt x="825" y="68"/>
                    </a:lnTo>
                    <a:lnTo>
                      <a:pt x="834" y="74"/>
                    </a:lnTo>
                    <a:lnTo>
                      <a:pt x="844" y="78"/>
                    </a:lnTo>
                    <a:lnTo>
                      <a:pt x="852" y="82"/>
                    </a:lnTo>
                    <a:lnTo>
                      <a:pt x="862" y="86"/>
                    </a:lnTo>
                    <a:lnTo>
                      <a:pt x="871" y="92"/>
                    </a:lnTo>
                    <a:lnTo>
                      <a:pt x="879" y="96"/>
                    </a:lnTo>
                    <a:lnTo>
                      <a:pt x="889" y="101"/>
                    </a:lnTo>
                    <a:lnTo>
                      <a:pt x="907" y="109"/>
                    </a:lnTo>
                    <a:lnTo>
                      <a:pt x="922" y="119"/>
                    </a:lnTo>
                    <a:lnTo>
                      <a:pt x="940" y="127"/>
                    </a:lnTo>
                    <a:lnTo>
                      <a:pt x="955" y="135"/>
                    </a:lnTo>
                    <a:lnTo>
                      <a:pt x="973" y="144"/>
                    </a:lnTo>
                    <a:lnTo>
                      <a:pt x="988" y="152"/>
                    </a:lnTo>
                    <a:lnTo>
                      <a:pt x="1004" y="162"/>
                    </a:lnTo>
                    <a:lnTo>
                      <a:pt x="1020" y="170"/>
                    </a:lnTo>
                    <a:lnTo>
                      <a:pt x="1039" y="175"/>
                    </a:lnTo>
                    <a:lnTo>
                      <a:pt x="1059" y="181"/>
                    </a:lnTo>
                    <a:lnTo>
                      <a:pt x="1078" y="187"/>
                    </a:lnTo>
                    <a:lnTo>
                      <a:pt x="1097" y="193"/>
                    </a:lnTo>
                    <a:lnTo>
                      <a:pt x="1117" y="199"/>
                    </a:lnTo>
                    <a:lnTo>
                      <a:pt x="1136" y="205"/>
                    </a:lnTo>
                    <a:lnTo>
                      <a:pt x="1156" y="211"/>
                    </a:lnTo>
                    <a:lnTo>
                      <a:pt x="1175" y="216"/>
                    </a:lnTo>
                    <a:lnTo>
                      <a:pt x="1195" y="214"/>
                    </a:lnTo>
                    <a:lnTo>
                      <a:pt x="1214" y="214"/>
                    </a:lnTo>
                    <a:lnTo>
                      <a:pt x="1234" y="212"/>
                    </a:lnTo>
                    <a:lnTo>
                      <a:pt x="1255" y="212"/>
                    </a:lnTo>
                    <a:lnTo>
                      <a:pt x="1275" y="211"/>
                    </a:lnTo>
                    <a:lnTo>
                      <a:pt x="1294" y="211"/>
                    </a:lnTo>
                    <a:lnTo>
                      <a:pt x="1314" y="209"/>
                    </a:lnTo>
                    <a:lnTo>
                      <a:pt x="1333" y="207"/>
                    </a:lnTo>
                    <a:lnTo>
                      <a:pt x="1353" y="207"/>
                    </a:lnTo>
                    <a:lnTo>
                      <a:pt x="1372" y="205"/>
                    </a:lnTo>
                    <a:lnTo>
                      <a:pt x="1392" y="205"/>
                    </a:lnTo>
                    <a:lnTo>
                      <a:pt x="1413" y="203"/>
                    </a:lnTo>
                    <a:lnTo>
                      <a:pt x="1433" y="203"/>
                    </a:lnTo>
                    <a:lnTo>
                      <a:pt x="1452" y="201"/>
                    </a:lnTo>
                    <a:lnTo>
                      <a:pt x="1472" y="201"/>
                    </a:lnTo>
                    <a:lnTo>
                      <a:pt x="1491" y="199"/>
                    </a:lnTo>
                    <a:lnTo>
                      <a:pt x="1499" y="205"/>
                    </a:lnTo>
                    <a:lnTo>
                      <a:pt x="1507" y="211"/>
                    </a:lnTo>
                    <a:lnTo>
                      <a:pt x="1513" y="216"/>
                    </a:lnTo>
                    <a:lnTo>
                      <a:pt x="1520" y="222"/>
                    </a:lnTo>
                    <a:lnTo>
                      <a:pt x="1528" y="228"/>
                    </a:lnTo>
                    <a:lnTo>
                      <a:pt x="1536" y="234"/>
                    </a:lnTo>
                    <a:lnTo>
                      <a:pt x="1544" y="242"/>
                    </a:lnTo>
                    <a:lnTo>
                      <a:pt x="1552" y="248"/>
                    </a:lnTo>
                    <a:lnTo>
                      <a:pt x="1561" y="248"/>
                    </a:lnTo>
                    <a:lnTo>
                      <a:pt x="1573" y="250"/>
                    </a:lnTo>
                    <a:lnTo>
                      <a:pt x="1583" y="250"/>
                    </a:lnTo>
                    <a:lnTo>
                      <a:pt x="1594" y="250"/>
                    </a:lnTo>
                    <a:lnTo>
                      <a:pt x="1604" y="251"/>
                    </a:lnTo>
                    <a:lnTo>
                      <a:pt x="1614" y="251"/>
                    </a:lnTo>
                    <a:lnTo>
                      <a:pt x="1626" y="253"/>
                    </a:lnTo>
                    <a:lnTo>
                      <a:pt x="1635" y="253"/>
                    </a:lnTo>
                    <a:lnTo>
                      <a:pt x="1661" y="253"/>
                    </a:lnTo>
                    <a:lnTo>
                      <a:pt x="1684" y="251"/>
                    </a:lnTo>
                    <a:lnTo>
                      <a:pt x="1709" y="251"/>
                    </a:lnTo>
                    <a:lnTo>
                      <a:pt x="1735" y="251"/>
                    </a:lnTo>
                    <a:lnTo>
                      <a:pt x="1758" y="251"/>
                    </a:lnTo>
                    <a:lnTo>
                      <a:pt x="1783" y="251"/>
                    </a:lnTo>
                    <a:lnTo>
                      <a:pt x="1807" y="250"/>
                    </a:lnTo>
                    <a:lnTo>
                      <a:pt x="1832" y="250"/>
                    </a:lnTo>
                    <a:lnTo>
                      <a:pt x="1822" y="265"/>
                    </a:lnTo>
                    <a:lnTo>
                      <a:pt x="1813" y="279"/>
                    </a:lnTo>
                    <a:lnTo>
                      <a:pt x="1803" y="294"/>
                    </a:lnTo>
                    <a:lnTo>
                      <a:pt x="1795" y="310"/>
                    </a:lnTo>
                    <a:lnTo>
                      <a:pt x="1785" y="326"/>
                    </a:lnTo>
                    <a:lnTo>
                      <a:pt x="1776" y="341"/>
                    </a:lnTo>
                    <a:lnTo>
                      <a:pt x="1766" y="357"/>
                    </a:lnTo>
                    <a:lnTo>
                      <a:pt x="1756" y="372"/>
                    </a:lnTo>
                    <a:lnTo>
                      <a:pt x="1746" y="415"/>
                    </a:lnTo>
                    <a:lnTo>
                      <a:pt x="1735" y="456"/>
                    </a:lnTo>
                    <a:lnTo>
                      <a:pt x="1723" y="499"/>
                    </a:lnTo>
                    <a:lnTo>
                      <a:pt x="1713" y="542"/>
                    </a:lnTo>
                    <a:lnTo>
                      <a:pt x="1731" y="542"/>
                    </a:lnTo>
                    <a:lnTo>
                      <a:pt x="1750" y="542"/>
                    </a:lnTo>
                    <a:lnTo>
                      <a:pt x="1768" y="542"/>
                    </a:lnTo>
                    <a:lnTo>
                      <a:pt x="1787" y="542"/>
                    </a:lnTo>
                    <a:lnTo>
                      <a:pt x="1807" y="542"/>
                    </a:lnTo>
                    <a:lnTo>
                      <a:pt x="1824" y="542"/>
                    </a:lnTo>
                    <a:lnTo>
                      <a:pt x="1844" y="542"/>
                    </a:lnTo>
                    <a:lnTo>
                      <a:pt x="1861" y="542"/>
                    </a:lnTo>
                    <a:lnTo>
                      <a:pt x="1848" y="563"/>
                    </a:lnTo>
                    <a:lnTo>
                      <a:pt x="1836" y="585"/>
                    </a:lnTo>
                    <a:lnTo>
                      <a:pt x="1822" y="606"/>
                    </a:lnTo>
                    <a:lnTo>
                      <a:pt x="1809" y="628"/>
                    </a:lnTo>
                    <a:lnTo>
                      <a:pt x="1795" y="649"/>
                    </a:lnTo>
                    <a:lnTo>
                      <a:pt x="1783" y="671"/>
                    </a:lnTo>
                    <a:lnTo>
                      <a:pt x="1770" y="692"/>
                    </a:lnTo>
                    <a:lnTo>
                      <a:pt x="1756" y="713"/>
                    </a:lnTo>
                    <a:lnTo>
                      <a:pt x="1748" y="741"/>
                    </a:lnTo>
                    <a:lnTo>
                      <a:pt x="1741" y="768"/>
                    </a:lnTo>
                    <a:lnTo>
                      <a:pt x="1733" y="795"/>
                    </a:lnTo>
                    <a:lnTo>
                      <a:pt x="1725" y="821"/>
                    </a:lnTo>
                    <a:lnTo>
                      <a:pt x="1715" y="848"/>
                    </a:lnTo>
                    <a:lnTo>
                      <a:pt x="1707" y="875"/>
                    </a:lnTo>
                    <a:lnTo>
                      <a:pt x="1700" y="901"/>
                    </a:lnTo>
                    <a:lnTo>
                      <a:pt x="1692" y="928"/>
                    </a:lnTo>
                    <a:lnTo>
                      <a:pt x="1678" y="955"/>
                    </a:lnTo>
                    <a:lnTo>
                      <a:pt x="1667" y="982"/>
                    </a:lnTo>
                    <a:lnTo>
                      <a:pt x="1653" y="1008"/>
                    </a:lnTo>
                    <a:lnTo>
                      <a:pt x="1639" y="1035"/>
                    </a:lnTo>
                    <a:lnTo>
                      <a:pt x="1626" y="1062"/>
                    </a:lnTo>
                    <a:lnTo>
                      <a:pt x="1614" y="1088"/>
                    </a:lnTo>
                    <a:lnTo>
                      <a:pt x="1600" y="1115"/>
                    </a:lnTo>
                    <a:lnTo>
                      <a:pt x="1587" y="1142"/>
                    </a:lnTo>
                    <a:lnTo>
                      <a:pt x="1610" y="1170"/>
                    </a:lnTo>
                    <a:lnTo>
                      <a:pt x="1633" y="1197"/>
                    </a:lnTo>
                    <a:lnTo>
                      <a:pt x="1657" y="1222"/>
                    </a:lnTo>
                    <a:lnTo>
                      <a:pt x="1682" y="1249"/>
                    </a:lnTo>
                    <a:lnTo>
                      <a:pt x="1705" y="1277"/>
                    </a:lnTo>
                    <a:lnTo>
                      <a:pt x="1729" y="1302"/>
                    </a:lnTo>
                    <a:lnTo>
                      <a:pt x="1754" y="1329"/>
                    </a:lnTo>
                    <a:lnTo>
                      <a:pt x="1778" y="1357"/>
                    </a:lnTo>
                    <a:lnTo>
                      <a:pt x="1750" y="1349"/>
                    </a:lnTo>
                    <a:lnTo>
                      <a:pt x="1723" y="1341"/>
                    </a:lnTo>
                    <a:lnTo>
                      <a:pt x="1698" y="1333"/>
                    </a:lnTo>
                    <a:lnTo>
                      <a:pt x="1670" y="1324"/>
                    </a:lnTo>
                    <a:lnTo>
                      <a:pt x="1645" y="1316"/>
                    </a:lnTo>
                    <a:lnTo>
                      <a:pt x="1618" y="1308"/>
                    </a:lnTo>
                    <a:lnTo>
                      <a:pt x="1592" y="1300"/>
                    </a:lnTo>
                    <a:lnTo>
                      <a:pt x="1565" y="1292"/>
                    </a:lnTo>
                    <a:lnTo>
                      <a:pt x="1565" y="1341"/>
                    </a:lnTo>
                    <a:lnTo>
                      <a:pt x="1565" y="1388"/>
                    </a:lnTo>
                    <a:lnTo>
                      <a:pt x="1565" y="1437"/>
                    </a:lnTo>
                    <a:lnTo>
                      <a:pt x="1565" y="1485"/>
                    </a:lnTo>
                    <a:lnTo>
                      <a:pt x="1536" y="1485"/>
                    </a:lnTo>
                    <a:lnTo>
                      <a:pt x="1507" y="1485"/>
                    </a:lnTo>
                    <a:lnTo>
                      <a:pt x="1477" y="1485"/>
                    </a:lnTo>
                    <a:lnTo>
                      <a:pt x="1448" y="1485"/>
                    </a:lnTo>
                    <a:lnTo>
                      <a:pt x="1419" y="1485"/>
                    </a:lnTo>
                    <a:lnTo>
                      <a:pt x="1390" y="1485"/>
                    </a:lnTo>
                    <a:lnTo>
                      <a:pt x="1361" y="1485"/>
                    </a:lnTo>
                    <a:lnTo>
                      <a:pt x="1331" y="1485"/>
                    </a:lnTo>
                    <a:lnTo>
                      <a:pt x="1318" y="1470"/>
                    </a:lnTo>
                    <a:lnTo>
                      <a:pt x="1306" y="1452"/>
                    </a:lnTo>
                    <a:lnTo>
                      <a:pt x="1292" y="1437"/>
                    </a:lnTo>
                    <a:lnTo>
                      <a:pt x="1279" y="1421"/>
                    </a:lnTo>
                    <a:lnTo>
                      <a:pt x="1267" y="1405"/>
                    </a:lnTo>
                    <a:lnTo>
                      <a:pt x="1253" y="1388"/>
                    </a:lnTo>
                    <a:lnTo>
                      <a:pt x="1240" y="1372"/>
                    </a:lnTo>
                    <a:lnTo>
                      <a:pt x="1226" y="1357"/>
                    </a:lnTo>
                    <a:lnTo>
                      <a:pt x="1199" y="1378"/>
                    </a:lnTo>
                    <a:lnTo>
                      <a:pt x="1173" y="1400"/>
                    </a:lnTo>
                    <a:lnTo>
                      <a:pt x="1146" y="1421"/>
                    </a:lnTo>
                    <a:lnTo>
                      <a:pt x="1121" y="1442"/>
                    </a:lnTo>
                    <a:lnTo>
                      <a:pt x="1094" y="1464"/>
                    </a:lnTo>
                    <a:lnTo>
                      <a:pt x="1066" y="1485"/>
                    </a:lnTo>
                    <a:lnTo>
                      <a:pt x="1041" y="1507"/>
                    </a:lnTo>
                    <a:lnTo>
                      <a:pt x="1014" y="1528"/>
                    </a:lnTo>
                    <a:lnTo>
                      <a:pt x="1008" y="1485"/>
                    </a:lnTo>
                    <a:lnTo>
                      <a:pt x="1004" y="1442"/>
                    </a:lnTo>
                    <a:lnTo>
                      <a:pt x="998" y="1400"/>
                    </a:lnTo>
                    <a:lnTo>
                      <a:pt x="992" y="1357"/>
                    </a:lnTo>
                    <a:lnTo>
                      <a:pt x="963" y="1368"/>
                    </a:lnTo>
                    <a:lnTo>
                      <a:pt x="934" y="1378"/>
                    </a:lnTo>
                    <a:lnTo>
                      <a:pt x="905" y="1390"/>
                    </a:lnTo>
                    <a:lnTo>
                      <a:pt x="875" y="1400"/>
                    </a:lnTo>
                    <a:lnTo>
                      <a:pt x="846" y="1409"/>
                    </a:lnTo>
                    <a:lnTo>
                      <a:pt x="817" y="1421"/>
                    </a:lnTo>
                    <a:lnTo>
                      <a:pt x="790" y="1431"/>
                    </a:lnTo>
                    <a:lnTo>
                      <a:pt x="760" y="1442"/>
                    </a:lnTo>
                    <a:lnTo>
                      <a:pt x="733" y="1450"/>
                    </a:lnTo>
                    <a:lnTo>
                      <a:pt x="708" y="1458"/>
                    </a:lnTo>
                    <a:lnTo>
                      <a:pt x="680" y="1466"/>
                    </a:lnTo>
                    <a:lnTo>
                      <a:pt x="653" y="1474"/>
                    </a:lnTo>
                    <a:lnTo>
                      <a:pt x="628" y="1483"/>
                    </a:lnTo>
                    <a:lnTo>
                      <a:pt x="601" y="1491"/>
                    </a:lnTo>
                    <a:lnTo>
                      <a:pt x="575" y="1499"/>
                    </a:lnTo>
                    <a:lnTo>
                      <a:pt x="548" y="1507"/>
                    </a:lnTo>
                    <a:lnTo>
                      <a:pt x="521" y="1515"/>
                    </a:lnTo>
                    <a:lnTo>
                      <a:pt x="495" y="1522"/>
                    </a:lnTo>
                    <a:lnTo>
                      <a:pt x="468" y="1530"/>
                    </a:lnTo>
                    <a:lnTo>
                      <a:pt x="443" y="1538"/>
                    </a:lnTo>
                    <a:lnTo>
                      <a:pt x="415" y="1548"/>
                    </a:lnTo>
                    <a:lnTo>
                      <a:pt x="388" y="1555"/>
                    </a:lnTo>
                    <a:lnTo>
                      <a:pt x="363" y="1563"/>
                    </a:lnTo>
                    <a:lnTo>
                      <a:pt x="336" y="1571"/>
                    </a:lnTo>
                    <a:lnTo>
                      <a:pt x="353" y="1534"/>
                    </a:lnTo>
                    <a:lnTo>
                      <a:pt x="373" y="1497"/>
                    </a:lnTo>
                    <a:lnTo>
                      <a:pt x="390" y="1458"/>
                    </a:lnTo>
                    <a:lnTo>
                      <a:pt x="410" y="1421"/>
                    </a:lnTo>
                    <a:lnTo>
                      <a:pt x="429" y="1384"/>
                    </a:lnTo>
                    <a:lnTo>
                      <a:pt x="447" y="1345"/>
                    </a:lnTo>
                    <a:lnTo>
                      <a:pt x="466" y="1308"/>
                    </a:lnTo>
                    <a:lnTo>
                      <a:pt x="484" y="1271"/>
                    </a:lnTo>
                    <a:lnTo>
                      <a:pt x="460" y="1283"/>
                    </a:lnTo>
                    <a:lnTo>
                      <a:pt x="437" y="1292"/>
                    </a:lnTo>
                    <a:lnTo>
                      <a:pt x="413" y="1304"/>
                    </a:lnTo>
                    <a:lnTo>
                      <a:pt x="388" y="1314"/>
                    </a:lnTo>
                    <a:lnTo>
                      <a:pt x="365" y="1324"/>
                    </a:lnTo>
                    <a:lnTo>
                      <a:pt x="341" y="1335"/>
                    </a:lnTo>
                    <a:lnTo>
                      <a:pt x="316" y="1345"/>
                    </a:lnTo>
                    <a:lnTo>
                      <a:pt x="293" y="1357"/>
                    </a:lnTo>
                    <a:lnTo>
                      <a:pt x="300" y="1335"/>
                    </a:lnTo>
                    <a:lnTo>
                      <a:pt x="308" y="1314"/>
                    </a:lnTo>
                    <a:lnTo>
                      <a:pt x="316" y="1292"/>
                    </a:lnTo>
                    <a:lnTo>
                      <a:pt x="326" y="1271"/>
                    </a:lnTo>
                    <a:lnTo>
                      <a:pt x="334" y="1249"/>
                    </a:lnTo>
                    <a:lnTo>
                      <a:pt x="341" y="1228"/>
                    </a:lnTo>
                    <a:lnTo>
                      <a:pt x="349" y="1207"/>
                    </a:lnTo>
                    <a:lnTo>
                      <a:pt x="357" y="1185"/>
                    </a:lnTo>
                    <a:lnTo>
                      <a:pt x="341" y="1173"/>
                    </a:lnTo>
                    <a:lnTo>
                      <a:pt x="326" y="1164"/>
                    </a:lnTo>
                    <a:lnTo>
                      <a:pt x="308" y="1152"/>
                    </a:lnTo>
                    <a:lnTo>
                      <a:pt x="293" y="1142"/>
                    </a:lnTo>
                    <a:lnTo>
                      <a:pt x="277" y="1133"/>
                    </a:lnTo>
                    <a:lnTo>
                      <a:pt x="261" y="1121"/>
                    </a:lnTo>
                    <a:lnTo>
                      <a:pt x="246" y="1111"/>
                    </a:lnTo>
                    <a:lnTo>
                      <a:pt x="230" y="1099"/>
                    </a:lnTo>
                    <a:lnTo>
                      <a:pt x="246" y="1086"/>
                    </a:lnTo>
                    <a:lnTo>
                      <a:pt x="261" y="1072"/>
                    </a:lnTo>
                    <a:lnTo>
                      <a:pt x="277" y="1060"/>
                    </a:lnTo>
                    <a:lnTo>
                      <a:pt x="293" y="1047"/>
                    </a:lnTo>
                    <a:lnTo>
                      <a:pt x="308" y="1033"/>
                    </a:lnTo>
                    <a:lnTo>
                      <a:pt x="326" y="1019"/>
                    </a:lnTo>
                    <a:lnTo>
                      <a:pt x="341" y="1006"/>
                    </a:lnTo>
                    <a:lnTo>
                      <a:pt x="357" y="992"/>
                    </a:lnTo>
                    <a:lnTo>
                      <a:pt x="320" y="951"/>
                    </a:lnTo>
                    <a:lnTo>
                      <a:pt x="283" y="912"/>
                    </a:lnTo>
                    <a:lnTo>
                      <a:pt x="246" y="871"/>
                    </a:lnTo>
                    <a:lnTo>
                      <a:pt x="209" y="830"/>
                    </a:lnTo>
                    <a:lnTo>
                      <a:pt x="172" y="791"/>
                    </a:lnTo>
                    <a:lnTo>
                      <a:pt x="137" y="750"/>
                    </a:lnTo>
                    <a:lnTo>
                      <a:pt x="100" y="711"/>
                    </a:lnTo>
                    <a:lnTo>
                      <a:pt x="65" y="671"/>
                    </a:lnTo>
                    <a:lnTo>
                      <a:pt x="57" y="647"/>
                    </a:lnTo>
                    <a:lnTo>
                      <a:pt x="49" y="622"/>
                    </a:lnTo>
                    <a:lnTo>
                      <a:pt x="41" y="598"/>
                    </a:lnTo>
                    <a:lnTo>
                      <a:pt x="33" y="573"/>
                    </a:lnTo>
                    <a:lnTo>
                      <a:pt x="24" y="550"/>
                    </a:lnTo>
                    <a:lnTo>
                      <a:pt x="16" y="526"/>
                    </a:lnTo>
                    <a:lnTo>
                      <a:pt x="8" y="501"/>
                    </a:lnTo>
                    <a:lnTo>
                      <a:pt x="0" y="478"/>
                    </a:lnTo>
                    <a:lnTo>
                      <a:pt x="26" y="489"/>
                    </a:lnTo>
                    <a:lnTo>
                      <a:pt x="53" y="499"/>
                    </a:lnTo>
                    <a:lnTo>
                      <a:pt x="78" y="511"/>
                    </a:lnTo>
                    <a:lnTo>
                      <a:pt x="106" y="520"/>
                    </a:lnTo>
                    <a:lnTo>
                      <a:pt x="131" y="532"/>
                    </a:lnTo>
                    <a:lnTo>
                      <a:pt x="156" y="542"/>
                    </a:lnTo>
                    <a:lnTo>
                      <a:pt x="184" y="554"/>
                    </a:lnTo>
                    <a:lnTo>
                      <a:pt x="209" y="563"/>
                    </a:lnTo>
                    <a:lnTo>
                      <a:pt x="209" y="520"/>
                    </a:lnTo>
                    <a:lnTo>
                      <a:pt x="209" y="478"/>
                    </a:lnTo>
                    <a:lnTo>
                      <a:pt x="209" y="435"/>
                    </a:lnTo>
                    <a:lnTo>
                      <a:pt x="209" y="392"/>
                    </a:lnTo>
                    <a:lnTo>
                      <a:pt x="230" y="407"/>
                    </a:lnTo>
                    <a:lnTo>
                      <a:pt x="252" y="423"/>
                    </a:lnTo>
                    <a:lnTo>
                      <a:pt x="273" y="441"/>
                    </a:lnTo>
                    <a:lnTo>
                      <a:pt x="295" y="456"/>
                    </a:lnTo>
                    <a:lnTo>
                      <a:pt x="314" y="472"/>
                    </a:lnTo>
                    <a:lnTo>
                      <a:pt x="336" y="487"/>
                    </a:lnTo>
                    <a:lnTo>
                      <a:pt x="357" y="505"/>
                    </a:lnTo>
                    <a:lnTo>
                      <a:pt x="378" y="520"/>
                    </a:lnTo>
                    <a:lnTo>
                      <a:pt x="369" y="468"/>
                    </a:lnTo>
                    <a:lnTo>
                      <a:pt x="357" y="413"/>
                    </a:lnTo>
                    <a:lnTo>
                      <a:pt x="345" y="361"/>
                    </a:lnTo>
                    <a:lnTo>
                      <a:pt x="336" y="308"/>
                    </a:lnTo>
                    <a:close/>
                  </a:path>
                </a:pathLst>
              </a:custGeom>
              <a:solidFill>
                <a:srgbClr val="a3b7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2038320" y="3752640"/>
                <a:ext cx="1898640" cy="1717920"/>
              </a:xfrm>
              <a:custGeom>
                <a:avLst/>
                <a:gdLst/>
                <a:ahLst/>
                <a:rect l="l" t="t" r="r" b="b"/>
                <a:pathLst>
                  <a:path w="1816" h="1534">
                    <a:moveTo>
                      <a:pt x="327" y="302"/>
                    </a:moveTo>
                    <a:lnTo>
                      <a:pt x="315" y="273"/>
                    </a:lnTo>
                    <a:lnTo>
                      <a:pt x="306" y="243"/>
                    </a:lnTo>
                    <a:lnTo>
                      <a:pt x="294" y="214"/>
                    </a:lnTo>
                    <a:lnTo>
                      <a:pt x="284" y="187"/>
                    </a:lnTo>
                    <a:lnTo>
                      <a:pt x="274" y="158"/>
                    </a:lnTo>
                    <a:lnTo>
                      <a:pt x="265" y="128"/>
                    </a:lnTo>
                    <a:lnTo>
                      <a:pt x="253" y="101"/>
                    </a:lnTo>
                    <a:lnTo>
                      <a:pt x="243" y="72"/>
                    </a:lnTo>
                    <a:lnTo>
                      <a:pt x="267" y="87"/>
                    </a:lnTo>
                    <a:lnTo>
                      <a:pt x="290" y="103"/>
                    </a:lnTo>
                    <a:lnTo>
                      <a:pt x="313" y="119"/>
                    </a:lnTo>
                    <a:lnTo>
                      <a:pt x="337" y="134"/>
                    </a:lnTo>
                    <a:lnTo>
                      <a:pt x="360" y="150"/>
                    </a:lnTo>
                    <a:lnTo>
                      <a:pt x="384" y="165"/>
                    </a:lnTo>
                    <a:lnTo>
                      <a:pt x="407" y="181"/>
                    </a:lnTo>
                    <a:lnTo>
                      <a:pt x="430" y="197"/>
                    </a:lnTo>
                    <a:lnTo>
                      <a:pt x="434" y="169"/>
                    </a:lnTo>
                    <a:lnTo>
                      <a:pt x="440" y="144"/>
                    </a:lnTo>
                    <a:lnTo>
                      <a:pt x="446" y="117"/>
                    </a:lnTo>
                    <a:lnTo>
                      <a:pt x="450" y="91"/>
                    </a:lnTo>
                    <a:lnTo>
                      <a:pt x="465" y="105"/>
                    </a:lnTo>
                    <a:lnTo>
                      <a:pt x="481" y="117"/>
                    </a:lnTo>
                    <a:lnTo>
                      <a:pt x="497" y="130"/>
                    </a:lnTo>
                    <a:lnTo>
                      <a:pt x="512" y="144"/>
                    </a:lnTo>
                    <a:lnTo>
                      <a:pt x="528" y="158"/>
                    </a:lnTo>
                    <a:lnTo>
                      <a:pt x="543" y="169"/>
                    </a:lnTo>
                    <a:lnTo>
                      <a:pt x="559" y="183"/>
                    </a:lnTo>
                    <a:lnTo>
                      <a:pt x="575" y="197"/>
                    </a:lnTo>
                    <a:lnTo>
                      <a:pt x="586" y="171"/>
                    </a:lnTo>
                    <a:lnTo>
                      <a:pt x="600" y="148"/>
                    </a:lnTo>
                    <a:lnTo>
                      <a:pt x="612" y="122"/>
                    </a:lnTo>
                    <a:lnTo>
                      <a:pt x="625" y="97"/>
                    </a:lnTo>
                    <a:lnTo>
                      <a:pt x="637" y="74"/>
                    </a:lnTo>
                    <a:lnTo>
                      <a:pt x="651" y="48"/>
                    </a:lnTo>
                    <a:lnTo>
                      <a:pt x="662" y="25"/>
                    </a:lnTo>
                    <a:lnTo>
                      <a:pt x="676" y="0"/>
                    </a:lnTo>
                    <a:lnTo>
                      <a:pt x="691" y="7"/>
                    </a:lnTo>
                    <a:lnTo>
                      <a:pt x="705" y="17"/>
                    </a:lnTo>
                    <a:lnTo>
                      <a:pt x="721" y="25"/>
                    </a:lnTo>
                    <a:lnTo>
                      <a:pt x="734" y="33"/>
                    </a:lnTo>
                    <a:lnTo>
                      <a:pt x="750" y="43"/>
                    </a:lnTo>
                    <a:lnTo>
                      <a:pt x="764" y="50"/>
                    </a:lnTo>
                    <a:lnTo>
                      <a:pt x="779" y="60"/>
                    </a:lnTo>
                    <a:lnTo>
                      <a:pt x="793" y="68"/>
                    </a:lnTo>
                    <a:lnTo>
                      <a:pt x="803" y="72"/>
                    </a:lnTo>
                    <a:lnTo>
                      <a:pt x="812" y="74"/>
                    </a:lnTo>
                    <a:lnTo>
                      <a:pt x="822" y="78"/>
                    </a:lnTo>
                    <a:lnTo>
                      <a:pt x="832" y="82"/>
                    </a:lnTo>
                    <a:lnTo>
                      <a:pt x="842" y="83"/>
                    </a:lnTo>
                    <a:lnTo>
                      <a:pt x="853" y="87"/>
                    </a:lnTo>
                    <a:lnTo>
                      <a:pt x="863" y="91"/>
                    </a:lnTo>
                    <a:lnTo>
                      <a:pt x="873" y="95"/>
                    </a:lnTo>
                    <a:lnTo>
                      <a:pt x="888" y="103"/>
                    </a:lnTo>
                    <a:lnTo>
                      <a:pt x="904" y="111"/>
                    </a:lnTo>
                    <a:lnTo>
                      <a:pt x="919" y="119"/>
                    </a:lnTo>
                    <a:lnTo>
                      <a:pt x="935" y="128"/>
                    </a:lnTo>
                    <a:lnTo>
                      <a:pt x="949" y="136"/>
                    </a:lnTo>
                    <a:lnTo>
                      <a:pt x="964" y="144"/>
                    </a:lnTo>
                    <a:lnTo>
                      <a:pt x="980" y="154"/>
                    </a:lnTo>
                    <a:lnTo>
                      <a:pt x="995" y="161"/>
                    </a:lnTo>
                    <a:lnTo>
                      <a:pt x="1017" y="167"/>
                    </a:lnTo>
                    <a:lnTo>
                      <a:pt x="1036" y="173"/>
                    </a:lnTo>
                    <a:lnTo>
                      <a:pt x="1058" y="179"/>
                    </a:lnTo>
                    <a:lnTo>
                      <a:pt x="1077" y="185"/>
                    </a:lnTo>
                    <a:lnTo>
                      <a:pt x="1099" y="191"/>
                    </a:lnTo>
                    <a:lnTo>
                      <a:pt x="1118" y="195"/>
                    </a:lnTo>
                    <a:lnTo>
                      <a:pt x="1140" y="200"/>
                    </a:lnTo>
                    <a:lnTo>
                      <a:pt x="1159" y="204"/>
                    </a:lnTo>
                    <a:lnTo>
                      <a:pt x="1196" y="202"/>
                    </a:lnTo>
                    <a:lnTo>
                      <a:pt x="1235" y="200"/>
                    </a:lnTo>
                    <a:lnTo>
                      <a:pt x="1272" y="198"/>
                    </a:lnTo>
                    <a:lnTo>
                      <a:pt x="1311" y="197"/>
                    </a:lnTo>
                    <a:lnTo>
                      <a:pt x="1348" y="195"/>
                    </a:lnTo>
                    <a:lnTo>
                      <a:pt x="1385" y="193"/>
                    </a:lnTo>
                    <a:lnTo>
                      <a:pt x="1424" y="191"/>
                    </a:lnTo>
                    <a:lnTo>
                      <a:pt x="1461" y="191"/>
                    </a:lnTo>
                    <a:lnTo>
                      <a:pt x="1469" y="195"/>
                    </a:lnTo>
                    <a:lnTo>
                      <a:pt x="1477" y="200"/>
                    </a:lnTo>
                    <a:lnTo>
                      <a:pt x="1483" y="204"/>
                    </a:lnTo>
                    <a:lnTo>
                      <a:pt x="1490" y="210"/>
                    </a:lnTo>
                    <a:lnTo>
                      <a:pt x="1498" y="216"/>
                    </a:lnTo>
                    <a:lnTo>
                      <a:pt x="1506" y="222"/>
                    </a:lnTo>
                    <a:lnTo>
                      <a:pt x="1512" y="228"/>
                    </a:lnTo>
                    <a:lnTo>
                      <a:pt x="1520" y="234"/>
                    </a:lnTo>
                    <a:lnTo>
                      <a:pt x="1529" y="234"/>
                    </a:lnTo>
                    <a:lnTo>
                      <a:pt x="1539" y="236"/>
                    </a:lnTo>
                    <a:lnTo>
                      <a:pt x="1549" y="236"/>
                    </a:lnTo>
                    <a:lnTo>
                      <a:pt x="1559" y="237"/>
                    </a:lnTo>
                    <a:lnTo>
                      <a:pt x="1566" y="239"/>
                    </a:lnTo>
                    <a:lnTo>
                      <a:pt x="1576" y="239"/>
                    </a:lnTo>
                    <a:lnTo>
                      <a:pt x="1586" y="241"/>
                    </a:lnTo>
                    <a:lnTo>
                      <a:pt x="1596" y="241"/>
                    </a:lnTo>
                    <a:lnTo>
                      <a:pt x="1621" y="241"/>
                    </a:lnTo>
                    <a:lnTo>
                      <a:pt x="1644" y="239"/>
                    </a:lnTo>
                    <a:lnTo>
                      <a:pt x="1670" y="239"/>
                    </a:lnTo>
                    <a:lnTo>
                      <a:pt x="1693" y="239"/>
                    </a:lnTo>
                    <a:lnTo>
                      <a:pt x="1718" y="239"/>
                    </a:lnTo>
                    <a:lnTo>
                      <a:pt x="1742" y="239"/>
                    </a:lnTo>
                    <a:lnTo>
                      <a:pt x="1767" y="237"/>
                    </a:lnTo>
                    <a:lnTo>
                      <a:pt x="1791" y="237"/>
                    </a:lnTo>
                    <a:lnTo>
                      <a:pt x="1781" y="253"/>
                    </a:lnTo>
                    <a:lnTo>
                      <a:pt x="1771" y="269"/>
                    </a:lnTo>
                    <a:lnTo>
                      <a:pt x="1761" y="284"/>
                    </a:lnTo>
                    <a:lnTo>
                      <a:pt x="1752" y="300"/>
                    </a:lnTo>
                    <a:lnTo>
                      <a:pt x="1742" y="315"/>
                    </a:lnTo>
                    <a:lnTo>
                      <a:pt x="1732" y="331"/>
                    </a:lnTo>
                    <a:lnTo>
                      <a:pt x="1722" y="347"/>
                    </a:lnTo>
                    <a:lnTo>
                      <a:pt x="1713" y="362"/>
                    </a:lnTo>
                    <a:lnTo>
                      <a:pt x="1703" y="405"/>
                    </a:lnTo>
                    <a:lnTo>
                      <a:pt x="1691" y="446"/>
                    </a:lnTo>
                    <a:lnTo>
                      <a:pt x="1681" y="489"/>
                    </a:lnTo>
                    <a:lnTo>
                      <a:pt x="1670" y="532"/>
                    </a:lnTo>
                    <a:lnTo>
                      <a:pt x="1687" y="532"/>
                    </a:lnTo>
                    <a:lnTo>
                      <a:pt x="1707" y="532"/>
                    </a:lnTo>
                    <a:lnTo>
                      <a:pt x="1724" y="532"/>
                    </a:lnTo>
                    <a:lnTo>
                      <a:pt x="1744" y="532"/>
                    </a:lnTo>
                    <a:lnTo>
                      <a:pt x="1761" y="532"/>
                    </a:lnTo>
                    <a:lnTo>
                      <a:pt x="1779" y="532"/>
                    </a:lnTo>
                    <a:lnTo>
                      <a:pt x="1798" y="532"/>
                    </a:lnTo>
                    <a:lnTo>
                      <a:pt x="1816" y="532"/>
                    </a:lnTo>
                    <a:lnTo>
                      <a:pt x="1802" y="553"/>
                    </a:lnTo>
                    <a:lnTo>
                      <a:pt x="1791" y="573"/>
                    </a:lnTo>
                    <a:lnTo>
                      <a:pt x="1777" y="594"/>
                    </a:lnTo>
                    <a:lnTo>
                      <a:pt x="1763" y="614"/>
                    </a:lnTo>
                    <a:lnTo>
                      <a:pt x="1750" y="635"/>
                    </a:lnTo>
                    <a:lnTo>
                      <a:pt x="1738" y="657"/>
                    </a:lnTo>
                    <a:lnTo>
                      <a:pt x="1724" y="676"/>
                    </a:lnTo>
                    <a:lnTo>
                      <a:pt x="1713" y="697"/>
                    </a:lnTo>
                    <a:lnTo>
                      <a:pt x="1705" y="723"/>
                    </a:lnTo>
                    <a:lnTo>
                      <a:pt x="1697" y="750"/>
                    </a:lnTo>
                    <a:lnTo>
                      <a:pt x="1689" y="775"/>
                    </a:lnTo>
                    <a:lnTo>
                      <a:pt x="1681" y="803"/>
                    </a:lnTo>
                    <a:lnTo>
                      <a:pt x="1674" y="828"/>
                    </a:lnTo>
                    <a:lnTo>
                      <a:pt x="1666" y="855"/>
                    </a:lnTo>
                    <a:lnTo>
                      <a:pt x="1658" y="881"/>
                    </a:lnTo>
                    <a:lnTo>
                      <a:pt x="1650" y="908"/>
                    </a:lnTo>
                    <a:lnTo>
                      <a:pt x="1637" y="933"/>
                    </a:lnTo>
                    <a:lnTo>
                      <a:pt x="1625" y="959"/>
                    </a:lnTo>
                    <a:lnTo>
                      <a:pt x="1611" y="986"/>
                    </a:lnTo>
                    <a:lnTo>
                      <a:pt x="1600" y="1011"/>
                    </a:lnTo>
                    <a:lnTo>
                      <a:pt x="1586" y="1039"/>
                    </a:lnTo>
                    <a:lnTo>
                      <a:pt x="1572" y="1064"/>
                    </a:lnTo>
                    <a:lnTo>
                      <a:pt x="1561" y="1091"/>
                    </a:lnTo>
                    <a:lnTo>
                      <a:pt x="1547" y="1117"/>
                    </a:lnTo>
                    <a:lnTo>
                      <a:pt x="1570" y="1142"/>
                    </a:lnTo>
                    <a:lnTo>
                      <a:pt x="1594" y="1169"/>
                    </a:lnTo>
                    <a:lnTo>
                      <a:pt x="1617" y="1195"/>
                    </a:lnTo>
                    <a:lnTo>
                      <a:pt x="1641" y="1220"/>
                    </a:lnTo>
                    <a:lnTo>
                      <a:pt x="1662" y="1247"/>
                    </a:lnTo>
                    <a:lnTo>
                      <a:pt x="1685" y="1272"/>
                    </a:lnTo>
                    <a:lnTo>
                      <a:pt x="1709" y="1300"/>
                    </a:lnTo>
                    <a:lnTo>
                      <a:pt x="1732" y="1325"/>
                    </a:lnTo>
                    <a:lnTo>
                      <a:pt x="1707" y="1317"/>
                    </a:lnTo>
                    <a:lnTo>
                      <a:pt x="1681" y="1310"/>
                    </a:lnTo>
                    <a:lnTo>
                      <a:pt x="1656" y="1302"/>
                    </a:lnTo>
                    <a:lnTo>
                      <a:pt x="1629" y="1294"/>
                    </a:lnTo>
                    <a:lnTo>
                      <a:pt x="1603" y="1286"/>
                    </a:lnTo>
                    <a:lnTo>
                      <a:pt x="1578" y="1278"/>
                    </a:lnTo>
                    <a:lnTo>
                      <a:pt x="1551" y="1271"/>
                    </a:lnTo>
                    <a:lnTo>
                      <a:pt x="1526" y="1263"/>
                    </a:lnTo>
                    <a:lnTo>
                      <a:pt x="1526" y="1310"/>
                    </a:lnTo>
                    <a:lnTo>
                      <a:pt x="1526" y="1356"/>
                    </a:lnTo>
                    <a:lnTo>
                      <a:pt x="1526" y="1403"/>
                    </a:lnTo>
                    <a:lnTo>
                      <a:pt x="1526" y="1450"/>
                    </a:lnTo>
                    <a:lnTo>
                      <a:pt x="1496" y="1450"/>
                    </a:lnTo>
                    <a:lnTo>
                      <a:pt x="1469" y="1450"/>
                    </a:lnTo>
                    <a:lnTo>
                      <a:pt x="1440" y="1450"/>
                    </a:lnTo>
                    <a:lnTo>
                      <a:pt x="1413" y="1450"/>
                    </a:lnTo>
                    <a:lnTo>
                      <a:pt x="1383" y="1450"/>
                    </a:lnTo>
                    <a:lnTo>
                      <a:pt x="1354" y="1450"/>
                    </a:lnTo>
                    <a:lnTo>
                      <a:pt x="1327" y="1450"/>
                    </a:lnTo>
                    <a:lnTo>
                      <a:pt x="1298" y="1450"/>
                    </a:lnTo>
                    <a:lnTo>
                      <a:pt x="1286" y="1434"/>
                    </a:lnTo>
                    <a:lnTo>
                      <a:pt x="1272" y="1419"/>
                    </a:lnTo>
                    <a:lnTo>
                      <a:pt x="1261" y="1403"/>
                    </a:lnTo>
                    <a:lnTo>
                      <a:pt x="1247" y="1387"/>
                    </a:lnTo>
                    <a:lnTo>
                      <a:pt x="1233" y="1372"/>
                    </a:lnTo>
                    <a:lnTo>
                      <a:pt x="1222" y="1356"/>
                    </a:lnTo>
                    <a:lnTo>
                      <a:pt x="1208" y="1341"/>
                    </a:lnTo>
                    <a:lnTo>
                      <a:pt x="1196" y="1325"/>
                    </a:lnTo>
                    <a:lnTo>
                      <a:pt x="1171" y="1347"/>
                    </a:lnTo>
                    <a:lnTo>
                      <a:pt x="1144" y="1368"/>
                    </a:lnTo>
                    <a:lnTo>
                      <a:pt x="1118" y="1387"/>
                    </a:lnTo>
                    <a:lnTo>
                      <a:pt x="1093" y="1409"/>
                    </a:lnTo>
                    <a:lnTo>
                      <a:pt x="1066" y="1430"/>
                    </a:lnTo>
                    <a:lnTo>
                      <a:pt x="1040" y="1450"/>
                    </a:lnTo>
                    <a:lnTo>
                      <a:pt x="1013" y="1471"/>
                    </a:lnTo>
                    <a:lnTo>
                      <a:pt x="988" y="1493"/>
                    </a:lnTo>
                    <a:lnTo>
                      <a:pt x="984" y="1450"/>
                    </a:lnTo>
                    <a:lnTo>
                      <a:pt x="978" y="1409"/>
                    </a:lnTo>
                    <a:lnTo>
                      <a:pt x="972" y="1368"/>
                    </a:lnTo>
                    <a:lnTo>
                      <a:pt x="968" y="1325"/>
                    </a:lnTo>
                    <a:lnTo>
                      <a:pt x="939" y="1335"/>
                    </a:lnTo>
                    <a:lnTo>
                      <a:pt x="912" y="1347"/>
                    </a:lnTo>
                    <a:lnTo>
                      <a:pt x="882" y="1356"/>
                    </a:lnTo>
                    <a:lnTo>
                      <a:pt x="855" y="1366"/>
                    </a:lnTo>
                    <a:lnTo>
                      <a:pt x="826" y="1378"/>
                    </a:lnTo>
                    <a:lnTo>
                      <a:pt x="797" y="1387"/>
                    </a:lnTo>
                    <a:lnTo>
                      <a:pt x="769" y="1399"/>
                    </a:lnTo>
                    <a:lnTo>
                      <a:pt x="740" y="1409"/>
                    </a:lnTo>
                    <a:lnTo>
                      <a:pt x="715" y="1417"/>
                    </a:lnTo>
                    <a:lnTo>
                      <a:pt x="688" y="1425"/>
                    </a:lnTo>
                    <a:lnTo>
                      <a:pt x="662" y="1432"/>
                    </a:lnTo>
                    <a:lnTo>
                      <a:pt x="637" y="1440"/>
                    </a:lnTo>
                    <a:lnTo>
                      <a:pt x="612" y="1448"/>
                    </a:lnTo>
                    <a:lnTo>
                      <a:pt x="584" y="1456"/>
                    </a:lnTo>
                    <a:lnTo>
                      <a:pt x="559" y="1464"/>
                    </a:lnTo>
                    <a:lnTo>
                      <a:pt x="534" y="1471"/>
                    </a:lnTo>
                    <a:lnTo>
                      <a:pt x="508" y="1479"/>
                    </a:lnTo>
                    <a:lnTo>
                      <a:pt x="483" y="1487"/>
                    </a:lnTo>
                    <a:lnTo>
                      <a:pt x="456" y="1495"/>
                    </a:lnTo>
                    <a:lnTo>
                      <a:pt x="430" y="1503"/>
                    </a:lnTo>
                    <a:lnTo>
                      <a:pt x="405" y="1510"/>
                    </a:lnTo>
                    <a:lnTo>
                      <a:pt x="380" y="1518"/>
                    </a:lnTo>
                    <a:lnTo>
                      <a:pt x="352" y="1526"/>
                    </a:lnTo>
                    <a:lnTo>
                      <a:pt x="327" y="1534"/>
                    </a:lnTo>
                    <a:lnTo>
                      <a:pt x="345" y="1497"/>
                    </a:lnTo>
                    <a:lnTo>
                      <a:pt x="362" y="1460"/>
                    </a:lnTo>
                    <a:lnTo>
                      <a:pt x="380" y="1425"/>
                    </a:lnTo>
                    <a:lnTo>
                      <a:pt x="399" y="1387"/>
                    </a:lnTo>
                    <a:lnTo>
                      <a:pt x="417" y="1350"/>
                    </a:lnTo>
                    <a:lnTo>
                      <a:pt x="434" y="1313"/>
                    </a:lnTo>
                    <a:lnTo>
                      <a:pt x="454" y="1278"/>
                    </a:lnTo>
                    <a:lnTo>
                      <a:pt x="471" y="1241"/>
                    </a:lnTo>
                    <a:lnTo>
                      <a:pt x="448" y="1253"/>
                    </a:lnTo>
                    <a:lnTo>
                      <a:pt x="425" y="1263"/>
                    </a:lnTo>
                    <a:lnTo>
                      <a:pt x="401" y="1274"/>
                    </a:lnTo>
                    <a:lnTo>
                      <a:pt x="378" y="1284"/>
                    </a:lnTo>
                    <a:lnTo>
                      <a:pt x="354" y="1294"/>
                    </a:lnTo>
                    <a:lnTo>
                      <a:pt x="331" y="1304"/>
                    </a:lnTo>
                    <a:lnTo>
                      <a:pt x="308" y="1315"/>
                    </a:lnTo>
                    <a:lnTo>
                      <a:pt x="284" y="1325"/>
                    </a:lnTo>
                    <a:lnTo>
                      <a:pt x="292" y="1304"/>
                    </a:lnTo>
                    <a:lnTo>
                      <a:pt x="300" y="1284"/>
                    </a:lnTo>
                    <a:lnTo>
                      <a:pt x="308" y="1263"/>
                    </a:lnTo>
                    <a:lnTo>
                      <a:pt x="315" y="1241"/>
                    </a:lnTo>
                    <a:lnTo>
                      <a:pt x="323" y="1222"/>
                    </a:lnTo>
                    <a:lnTo>
                      <a:pt x="331" y="1200"/>
                    </a:lnTo>
                    <a:lnTo>
                      <a:pt x="339" y="1179"/>
                    </a:lnTo>
                    <a:lnTo>
                      <a:pt x="347" y="1157"/>
                    </a:lnTo>
                    <a:lnTo>
                      <a:pt x="331" y="1148"/>
                    </a:lnTo>
                    <a:lnTo>
                      <a:pt x="315" y="1136"/>
                    </a:lnTo>
                    <a:lnTo>
                      <a:pt x="300" y="1126"/>
                    </a:lnTo>
                    <a:lnTo>
                      <a:pt x="286" y="1117"/>
                    </a:lnTo>
                    <a:lnTo>
                      <a:pt x="271" y="1107"/>
                    </a:lnTo>
                    <a:lnTo>
                      <a:pt x="255" y="1095"/>
                    </a:lnTo>
                    <a:lnTo>
                      <a:pt x="239" y="1085"/>
                    </a:lnTo>
                    <a:lnTo>
                      <a:pt x="224" y="1074"/>
                    </a:lnTo>
                    <a:lnTo>
                      <a:pt x="239" y="1062"/>
                    </a:lnTo>
                    <a:lnTo>
                      <a:pt x="255" y="1048"/>
                    </a:lnTo>
                    <a:lnTo>
                      <a:pt x="271" y="1037"/>
                    </a:lnTo>
                    <a:lnTo>
                      <a:pt x="286" y="1023"/>
                    </a:lnTo>
                    <a:lnTo>
                      <a:pt x="300" y="1009"/>
                    </a:lnTo>
                    <a:lnTo>
                      <a:pt x="315" y="996"/>
                    </a:lnTo>
                    <a:lnTo>
                      <a:pt x="331" y="984"/>
                    </a:lnTo>
                    <a:lnTo>
                      <a:pt x="347" y="970"/>
                    </a:lnTo>
                    <a:lnTo>
                      <a:pt x="311" y="931"/>
                    </a:lnTo>
                    <a:lnTo>
                      <a:pt x="274" y="892"/>
                    </a:lnTo>
                    <a:lnTo>
                      <a:pt x="239" y="853"/>
                    </a:lnTo>
                    <a:lnTo>
                      <a:pt x="202" y="812"/>
                    </a:lnTo>
                    <a:lnTo>
                      <a:pt x="167" y="773"/>
                    </a:lnTo>
                    <a:lnTo>
                      <a:pt x="132" y="735"/>
                    </a:lnTo>
                    <a:lnTo>
                      <a:pt x="97" y="696"/>
                    </a:lnTo>
                    <a:lnTo>
                      <a:pt x="62" y="657"/>
                    </a:lnTo>
                    <a:lnTo>
                      <a:pt x="54" y="633"/>
                    </a:lnTo>
                    <a:lnTo>
                      <a:pt x="46" y="610"/>
                    </a:lnTo>
                    <a:lnTo>
                      <a:pt x="39" y="586"/>
                    </a:lnTo>
                    <a:lnTo>
                      <a:pt x="31" y="563"/>
                    </a:lnTo>
                    <a:lnTo>
                      <a:pt x="23" y="540"/>
                    </a:lnTo>
                    <a:lnTo>
                      <a:pt x="15" y="516"/>
                    </a:lnTo>
                    <a:lnTo>
                      <a:pt x="7" y="491"/>
                    </a:lnTo>
                    <a:lnTo>
                      <a:pt x="0" y="467"/>
                    </a:lnTo>
                    <a:lnTo>
                      <a:pt x="25" y="479"/>
                    </a:lnTo>
                    <a:lnTo>
                      <a:pt x="50" y="489"/>
                    </a:lnTo>
                    <a:lnTo>
                      <a:pt x="76" y="501"/>
                    </a:lnTo>
                    <a:lnTo>
                      <a:pt x="101" y="510"/>
                    </a:lnTo>
                    <a:lnTo>
                      <a:pt x="126" y="520"/>
                    </a:lnTo>
                    <a:lnTo>
                      <a:pt x="152" y="530"/>
                    </a:lnTo>
                    <a:lnTo>
                      <a:pt x="177" y="542"/>
                    </a:lnTo>
                    <a:lnTo>
                      <a:pt x="202" y="551"/>
                    </a:lnTo>
                    <a:lnTo>
                      <a:pt x="202" y="510"/>
                    </a:lnTo>
                    <a:lnTo>
                      <a:pt x="202" y="467"/>
                    </a:lnTo>
                    <a:lnTo>
                      <a:pt x="202" y="427"/>
                    </a:lnTo>
                    <a:lnTo>
                      <a:pt x="202" y="386"/>
                    </a:lnTo>
                    <a:lnTo>
                      <a:pt x="224" y="401"/>
                    </a:lnTo>
                    <a:lnTo>
                      <a:pt x="243" y="417"/>
                    </a:lnTo>
                    <a:lnTo>
                      <a:pt x="265" y="432"/>
                    </a:lnTo>
                    <a:lnTo>
                      <a:pt x="286" y="448"/>
                    </a:lnTo>
                    <a:lnTo>
                      <a:pt x="306" y="464"/>
                    </a:lnTo>
                    <a:lnTo>
                      <a:pt x="327" y="479"/>
                    </a:lnTo>
                    <a:lnTo>
                      <a:pt x="347" y="495"/>
                    </a:lnTo>
                    <a:lnTo>
                      <a:pt x="368" y="510"/>
                    </a:lnTo>
                    <a:lnTo>
                      <a:pt x="358" y="458"/>
                    </a:lnTo>
                    <a:lnTo>
                      <a:pt x="349" y="405"/>
                    </a:lnTo>
                    <a:lnTo>
                      <a:pt x="339" y="352"/>
                    </a:lnTo>
                    <a:lnTo>
                      <a:pt x="327" y="302"/>
                    </a:lnTo>
                    <a:close/>
                  </a:path>
                </a:pathLst>
              </a:custGeom>
              <a:solidFill>
                <a:srgbClr val="b2c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060640" y="3768480"/>
                <a:ext cx="1850760" cy="1677240"/>
              </a:xfrm>
              <a:custGeom>
                <a:avLst/>
                <a:gdLst/>
                <a:ahLst/>
                <a:rect l="l" t="t" r="r" b="b"/>
                <a:pathLst>
                  <a:path w="1771" h="1499">
                    <a:moveTo>
                      <a:pt x="320" y="297"/>
                    </a:moveTo>
                    <a:lnTo>
                      <a:pt x="310" y="267"/>
                    </a:lnTo>
                    <a:lnTo>
                      <a:pt x="300" y="240"/>
                    </a:lnTo>
                    <a:lnTo>
                      <a:pt x="288" y="211"/>
                    </a:lnTo>
                    <a:lnTo>
                      <a:pt x="279" y="184"/>
                    </a:lnTo>
                    <a:lnTo>
                      <a:pt x="269" y="156"/>
                    </a:lnTo>
                    <a:lnTo>
                      <a:pt x="259" y="129"/>
                    </a:lnTo>
                    <a:lnTo>
                      <a:pt x="250" y="100"/>
                    </a:lnTo>
                    <a:lnTo>
                      <a:pt x="240" y="72"/>
                    </a:lnTo>
                    <a:lnTo>
                      <a:pt x="263" y="88"/>
                    </a:lnTo>
                    <a:lnTo>
                      <a:pt x="285" y="104"/>
                    </a:lnTo>
                    <a:lnTo>
                      <a:pt x="308" y="119"/>
                    </a:lnTo>
                    <a:lnTo>
                      <a:pt x="331" y="133"/>
                    </a:lnTo>
                    <a:lnTo>
                      <a:pt x="355" y="148"/>
                    </a:lnTo>
                    <a:lnTo>
                      <a:pt x="376" y="162"/>
                    </a:lnTo>
                    <a:lnTo>
                      <a:pt x="400" y="178"/>
                    </a:lnTo>
                    <a:lnTo>
                      <a:pt x="421" y="191"/>
                    </a:lnTo>
                    <a:lnTo>
                      <a:pt x="425" y="168"/>
                    </a:lnTo>
                    <a:lnTo>
                      <a:pt x="431" y="143"/>
                    </a:lnTo>
                    <a:lnTo>
                      <a:pt x="437" y="117"/>
                    </a:lnTo>
                    <a:lnTo>
                      <a:pt x="442" y="92"/>
                    </a:lnTo>
                    <a:lnTo>
                      <a:pt x="458" y="106"/>
                    </a:lnTo>
                    <a:lnTo>
                      <a:pt x="474" y="117"/>
                    </a:lnTo>
                    <a:lnTo>
                      <a:pt x="487" y="131"/>
                    </a:lnTo>
                    <a:lnTo>
                      <a:pt x="503" y="143"/>
                    </a:lnTo>
                    <a:lnTo>
                      <a:pt x="518" y="156"/>
                    </a:lnTo>
                    <a:lnTo>
                      <a:pt x="532" y="168"/>
                    </a:lnTo>
                    <a:lnTo>
                      <a:pt x="548" y="180"/>
                    </a:lnTo>
                    <a:lnTo>
                      <a:pt x="563" y="191"/>
                    </a:lnTo>
                    <a:lnTo>
                      <a:pt x="575" y="168"/>
                    </a:lnTo>
                    <a:lnTo>
                      <a:pt x="585" y="145"/>
                    </a:lnTo>
                    <a:lnTo>
                      <a:pt x="596" y="121"/>
                    </a:lnTo>
                    <a:lnTo>
                      <a:pt x="608" y="96"/>
                    </a:lnTo>
                    <a:lnTo>
                      <a:pt x="620" y="72"/>
                    </a:lnTo>
                    <a:lnTo>
                      <a:pt x="631" y="49"/>
                    </a:lnTo>
                    <a:lnTo>
                      <a:pt x="645" y="24"/>
                    </a:lnTo>
                    <a:lnTo>
                      <a:pt x="657" y="0"/>
                    </a:lnTo>
                    <a:lnTo>
                      <a:pt x="670" y="10"/>
                    </a:lnTo>
                    <a:lnTo>
                      <a:pt x="684" y="18"/>
                    </a:lnTo>
                    <a:lnTo>
                      <a:pt x="700" y="28"/>
                    </a:lnTo>
                    <a:lnTo>
                      <a:pt x="713" y="35"/>
                    </a:lnTo>
                    <a:lnTo>
                      <a:pt x="729" y="45"/>
                    </a:lnTo>
                    <a:lnTo>
                      <a:pt x="743" y="55"/>
                    </a:lnTo>
                    <a:lnTo>
                      <a:pt x="758" y="63"/>
                    </a:lnTo>
                    <a:lnTo>
                      <a:pt x="772" y="72"/>
                    </a:lnTo>
                    <a:lnTo>
                      <a:pt x="783" y="74"/>
                    </a:lnTo>
                    <a:lnTo>
                      <a:pt x="793" y="76"/>
                    </a:lnTo>
                    <a:lnTo>
                      <a:pt x="805" y="78"/>
                    </a:lnTo>
                    <a:lnTo>
                      <a:pt x="817" y="80"/>
                    </a:lnTo>
                    <a:lnTo>
                      <a:pt x="826" y="82"/>
                    </a:lnTo>
                    <a:lnTo>
                      <a:pt x="838" y="84"/>
                    </a:lnTo>
                    <a:lnTo>
                      <a:pt x="848" y="86"/>
                    </a:lnTo>
                    <a:lnTo>
                      <a:pt x="859" y="88"/>
                    </a:lnTo>
                    <a:lnTo>
                      <a:pt x="873" y="96"/>
                    </a:lnTo>
                    <a:lnTo>
                      <a:pt x="887" y="106"/>
                    </a:lnTo>
                    <a:lnTo>
                      <a:pt x="902" y="113"/>
                    </a:lnTo>
                    <a:lnTo>
                      <a:pt x="916" y="121"/>
                    </a:lnTo>
                    <a:lnTo>
                      <a:pt x="930" y="131"/>
                    </a:lnTo>
                    <a:lnTo>
                      <a:pt x="945" y="139"/>
                    </a:lnTo>
                    <a:lnTo>
                      <a:pt x="959" y="148"/>
                    </a:lnTo>
                    <a:lnTo>
                      <a:pt x="972" y="156"/>
                    </a:lnTo>
                    <a:lnTo>
                      <a:pt x="994" y="162"/>
                    </a:lnTo>
                    <a:lnTo>
                      <a:pt x="1015" y="166"/>
                    </a:lnTo>
                    <a:lnTo>
                      <a:pt x="1037" y="172"/>
                    </a:lnTo>
                    <a:lnTo>
                      <a:pt x="1060" y="176"/>
                    </a:lnTo>
                    <a:lnTo>
                      <a:pt x="1082" y="182"/>
                    </a:lnTo>
                    <a:lnTo>
                      <a:pt x="1103" y="187"/>
                    </a:lnTo>
                    <a:lnTo>
                      <a:pt x="1124" y="191"/>
                    </a:lnTo>
                    <a:lnTo>
                      <a:pt x="1146" y="197"/>
                    </a:lnTo>
                    <a:lnTo>
                      <a:pt x="1181" y="195"/>
                    </a:lnTo>
                    <a:lnTo>
                      <a:pt x="1218" y="191"/>
                    </a:lnTo>
                    <a:lnTo>
                      <a:pt x="1253" y="189"/>
                    </a:lnTo>
                    <a:lnTo>
                      <a:pt x="1290" y="187"/>
                    </a:lnTo>
                    <a:lnTo>
                      <a:pt x="1325" y="185"/>
                    </a:lnTo>
                    <a:lnTo>
                      <a:pt x="1362" y="184"/>
                    </a:lnTo>
                    <a:lnTo>
                      <a:pt x="1397" y="182"/>
                    </a:lnTo>
                    <a:lnTo>
                      <a:pt x="1434" y="180"/>
                    </a:lnTo>
                    <a:lnTo>
                      <a:pt x="1448" y="191"/>
                    </a:lnTo>
                    <a:lnTo>
                      <a:pt x="1462" y="201"/>
                    </a:lnTo>
                    <a:lnTo>
                      <a:pt x="1477" y="209"/>
                    </a:lnTo>
                    <a:lnTo>
                      <a:pt x="1491" y="219"/>
                    </a:lnTo>
                    <a:lnTo>
                      <a:pt x="1501" y="221"/>
                    </a:lnTo>
                    <a:lnTo>
                      <a:pt x="1508" y="221"/>
                    </a:lnTo>
                    <a:lnTo>
                      <a:pt x="1518" y="223"/>
                    </a:lnTo>
                    <a:lnTo>
                      <a:pt x="1526" y="224"/>
                    </a:lnTo>
                    <a:lnTo>
                      <a:pt x="1536" y="226"/>
                    </a:lnTo>
                    <a:lnTo>
                      <a:pt x="1543" y="226"/>
                    </a:lnTo>
                    <a:lnTo>
                      <a:pt x="1553" y="228"/>
                    </a:lnTo>
                    <a:lnTo>
                      <a:pt x="1561" y="230"/>
                    </a:lnTo>
                    <a:lnTo>
                      <a:pt x="1584" y="230"/>
                    </a:lnTo>
                    <a:lnTo>
                      <a:pt x="1610" y="228"/>
                    </a:lnTo>
                    <a:lnTo>
                      <a:pt x="1633" y="228"/>
                    </a:lnTo>
                    <a:lnTo>
                      <a:pt x="1656" y="228"/>
                    </a:lnTo>
                    <a:lnTo>
                      <a:pt x="1682" y="228"/>
                    </a:lnTo>
                    <a:lnTo>
                      <a:pt x="1705" y="228"/>
                    </a:lnTo>
                    <a:lnTo>
                      <a:pt x="1729" y="226"/>
                    </a:lnTo>
                    <a:lnTo>
                      <a:pt x="1752" y="226"/>
                    </a:lnTo>
                    <a:lnTo>
                      <a:pt x="1742" y="244"/>
                    </a:lnTo>
                    <a:lnTo>
                      <a:pt x="1732" y="260"/>
                    </a:lnTo>
                    <a:lnTo>
                      <a:pt x="1723" y="277"/>
                    </a:lnTo>
                    <a:lnTo>
                      <a:pt x="1713" y="293"/>
                    </a:lnTo>
                    <a:lnTo>
                      <a:pt x="1703" y="308"/>
                    </a:lnTo>
                    <a:lnTo>
                      <a:pt x="1692" y="324"/>
                    </a:lnTo>
                    <a:lnTo>
                      <a:pt x="1682" y="341"/>
                    </a:lnTo>
                    <a:lnTo>
                      <a:pt x="1672" y="357"/>
                    </a:lnTo>
                    <a:lnTo>
                      <a:pt x="1662" y="398"/>
                    </a:lnTo>
                    <a:lnTo>
                      <a:pt x="1653" y="439"/>
                    </a:lnTo>
                    <a:lnTo>
                      <a:pt x="1641" y="480"/>
                    </a:lnTo>
                    <a:lnTo>
                      <a:pt x="1631" y="521"/>
                    </a:lnTo>
                    <a:lnTo>
                      <a:pt x="1649" y="521"/>
                    </a:lnTo>
                    <a:lnTo>
                      <a:pt x="1666" y="521"/>
                    </a:lnTo>
                    <a:lnTo>
                      <a:pt x="1684" y="521"/>
                    </a:lnTo>
                    <a:lnTo>
                      <a:pt x="1701" y="521"/>
                    </a:lnTo>
                    <a:lnTo>
                      <a:pt x="1719" y="521"/>
                    </a:lnTo>
                    <a:lnTo>
                      <a:pt x="1736" y="521"/>
                    </a:lnTo>
                    <a:lnTo>
                      <a:pt x="1754" y="521"/>
                    </a:lnTo>
                    <a:lnTo>
                      <a:pt x="1771" y="521"/>
                    </a:lnTo>
                    <a:lnTo>
                      <a:pt x="1760" y="540"/>
                    </a:lnTo>
                    <a:lnTo>
                      <a:pt x="1746" y="562"/>
                    </a:lnTo>
                    <a:lnTo>
                      <a:pt x="1734" y="581"/>
                    </a:lnTo>
                    <a:lnTo>
                      <a:pt x="1723" y="603"/>
                    </a:lnTo>
                    <a:lnTo>
                      <a:pt x="1709" y="622"/>
                    </a:lnTo>
                    <a:lnTo>
                      <a:pt x="1697" y="644"/>
                    </a:lnTo>
                    <a:lnTo>
                      <a:pt x="1684" y="663"/>
                    </a:lnTo>
                    <a:lnTo>
                      <a:pt x="1672" y="683"/>
                    </a:lnTo>
                    <a:lnTo>
                      <a:pt x="1664" y="708"/>
                    </a:lnTo>
                    <a:lnTo>
                      <a:pt x="1656" y="733"/>
                    </a:lnTo>
                    <a:lnTo>
                      <a:pt x="1649" y="759"/>
                    </a:lnTo>
                    <a:lnTo>
                      <a:pt x="1641" y="784"/>
                    </a:lnTo>
                    <a:lnTo>
                      <a:pt x="1633" y="811"/>
                    </a:lnTo>
                    <a:lnTo>
                      <a:pt x="1627" y="837"/>
                    </a:lnTo>
                    <a:lnTo>
                      <a:pt x="1619" y="862"/>
                    </a:lnTo>
                    <a:lnTo>
                      <a:pt x="1612" y="887"/>
                    </a:lnTo>
                    <a:lnTo>
                      <a:pt x="1598" y="913"/>
                    </a:lnTo>
                    <a:lnTo>
                      <a:pt x="1586" y="938"/>
                    </a:lnTo>
                    <a:lnTo>
                      <a:pt x="1573" y="963"/>
                    </a:lnTo>
                    <a:lnTo>
                      <a:pt x="1561" y="989"/>
                    </a:lnTo>
                    <a:lnTo>
                      <a:pt x="1547" y="1016"/>
                    </a:lnTo>
                    <a:lnTo>
                      <a:pt x="1536" y="1041"/>
                    </a:lnTo>
                    <a:lnTo>
                      <a:pt x="1522" y="1067"/>
                    </a:lnTo>
                    <a:lnTo>
                      <a:pt x="1510" y="1092"/>
                    </a:lnTo>
                    <a:lnTo>
                      <a:pt x="1534" y="1117"/>
                    </a:lnTo>
                    <a:lnTo>
                      <a:pt x="1555" y="1143"/>
                    </a:lnTo>
                    <a:lnTo>
                      <a:pt x="1579" y="1168"/>
                    </a:lnTo>
                    <a:lnTo>
                      <a:pt x="1602" y="1193"/>
                    </a:lnTo>
                    <a:lnTo>
                      <a:pt x="1623" y="1219"/>
                    </a:lnTo>
                    <a:lnTo>
                      <a:pt x="1647" y="1244"/>
                    </a:lnTo>
                    <a:lnTo>
                      <a:pt x="1668" y="1269"/>
                    </a:lnTo>
                    <a:lnTo>
                      <a:pt x="1692" y="1295"/>
                    </a:lnTo>
                    <a:lnTo>
                      <a:pt x="1666" y="1287"/>
                    </a:lnTo>
                    <a:lnTo>
                      <a:pt x="1641" y="1279"/>
                    </a:lnTo>
                    <a:lnTo>
                      <a:pt x="1616" y="1271"/>
                    </a:lnTo>
                    <a:lnTo>
                      <a:pt x="1592" y="1263"/>
                    </a:lnTo>
                    <a:lnTo>
                      <a:pt x="1567" y="1258"/>
                    </a:lnTo>
                    <a:lnTo>
                      <a:pt x="1542" y="1250"/>
                    </a:lnTo>
                    <a:lnTo>
                      <a:pt x="1516" y="1242"/>
                    </a:lnTo>
                    <a:lnTo>
                      <a:pt x="1491" y="1234"/>
                    </a:lnTo>
                    <a:lnTo>
                      <a:pt x="1491" y="1279"/>
                    </a:lnTo>
                    <a:lnTo>
                      <a:pt x="1491" y="1326"/>
                    </a:lnTo>
                    <a:lnTo>
                      <a:pt x="1491" y="1373"/>
                    </a:lnTo>
                    <a:lnTo>
                      <a:pt x="1491" y="1417"/>
                    </a:lnTo>
                    <a:lnTo>
                      <a:pt x="1464" y="1417"/>
                    </a:lnTo>
                    <a:lnTo>
                      <a:pt x="1436" y="1417"/>
                    </a:lnTo>
                    <a:lnTo>
                      <a:pt x="1407" y="1417"/>
                    </a:lnTo>
                    <a:lnTo>
                      <a:pt x="1380" y="1417"/>
                    </a:lnTo>
                    <a:lnTo>
                      <a:pt x="1352" y="1417"/>
                    </a:lnTo>
                    <a:lnTo>
                      <a:pt x="1325" y="1417"/>
                    </a:lnTo>
                    <a:lnTo>
                      <a:pt x="1296" y="1417"/>
                    </a:lnTo>
                    <a:lnTo>
                      <a:pt x="1269" y="1417"/>
                    </a:lnTo>
                    <a:lnTo>
                      <a:pt x="1255" y="1402"/>
                    </a:lnTo>
                    <a:lnTo>
                      <a:pt x="1243" y="1386"/>
                    </a:lnTo>
                    <a:lnTo>
                      <a:pt x="1230" y="1371"/>
                    </a:lnTo>
                    <a:lnTo>
                      <a:pt x="1218" y="1355"/>
                    </a:lnTo>
                    <a:lnTo>
                      <a:pt x="1204" y="1341"/>
                    </a:lnTo>
                    <a:lnTo>
                      <a:pt x="1193" y="1326"/>
                    </a:lnTo>
                    <a:lnTo>
                      <a:pt x="1179" y="1310"/>
                    </a:lnTo>
                    <a:lnTo>
                      <a:pt x="1167" y="1295"/>
                    </a:lnTo>
                    <a:lnTo>
                      <a:pt x="1142" y="1314"/>
                    </a:lnTo>
                    <a:lnTo>
                      <a:pt x="1117" y="1336"/>
                    </a:lnTo>
                    <a:lnTo>
                      <a:pt x="1091" y="1355"/>
                    </a:lnTo>
                    <a:lnTo>
                      <a:pt x="1066" y="1376"/>
                    </a:lnTo>
                    <a:lnTo>
                      <a:pt x="1041" y="1396"/>
                    </a:lnTo>
                    <a:lnTo>
                      <a:pt x="1015" y="1417"/>
                    </a:lnTo>
                    <a:lnTo>
                      <a:pt x="990" y="1437"/>
                    </a:lnTo>
                    <a:lnTo>
                      <a:pt x="965" y="1458"/>
                    </a:lnTo>
                    <a:lnTo>
                      <a:pt x="961" y="1417"/>
                    </a:lnTo>
                    <a:lnTo>
                      <a:pt x="955" y="1376"/>
                    </a:lnTo>
                    <a:lnTo>
                      <a:pt x="949" y="1336"/>
                    </a:lnTo>
                    <a:lnTo>
                      <a:pt x="945" y="1295"/>
                    </a:lnTo>
                    <a:lnTo>
                      <a:pt x="918" y="1304"/>
                    </a:lnTo>
                    <a:lnTo>
                      <a:pt x="891" y="1314"/>
                    </a:lnTo>
                    <a:lnTo>
                      <a:pt x="861" y="1326"/>
                    </a:lnTo>
                    <a:lnTo>
                      <a:pt x="834" y="1336"/>
                    </a:lnTo>
                    <a:lnTo>
                      <a:pt x="807" y="1345"/>
                    </a:lnTo>
                    <a:lnTo>
                      <a:pt x="780" y="1355"/>
                    </a:lnTo>
                    <a:lnTo>
                      <a:pt x="750" y="1367"/>
                    </a:lnTo>
                    <a:lnTo>
                      <a:pt x="723" y="1376"/>
                    </a:lnTo>
                    <a:lnTo>
                      <a:pt x="698" y="1384"/>
                    </a:lnTo>
                    <a:lnTo>
                      <a:pt x="672" y="1392"/>
                    </a:lnTo>
                    <a:lnTo>
                      <a:pt x="647" y="1400"/>
                    </a:lnTo>
                    <a:lnTo>
                      <a:pt x="622" y="1408"/>
                    </a:lnTo>
                    <a:lnTo>
                      <a:pt x="596" y="1415"/>
                    </a:lnTo>
                    <a:lnTo>
                      <a:pt x="571" y="1423"/>
                    </a:lnTo>
                    <a:lnTo>
                      <a:pt x="546" y="1431"/>
                    </a:lnTo>
                    <a:lnTo>
                      <a:pt x="522" y="1437"/>
                    </a:lnTo>
                    <a:lnTo>
                      <a:pt x="497" y="1445"/>
                    </a:lnTo>
                    <a:lnTo>
                      <a:pt x="472" y="1452"/>
                    </a:lnTo>
                    <a:lnTo>
                      <a:pt x="446" y="1460"/>
                    </a:lnTo>
                    <a:lnTo>
                      <a:pt x="421" y="1468"/>
                    </a:lnTo>
                    <a:lnTo>
                      <a:pt x="396" y="1476"/>
                    </a:lnTo>
                    <a:lnTo>
                      <a:pt x="370" y="1484"/>
                    </a:lnTo>
                    <a:lnTo>
                      <a:pt x="345" y="1491"/>
                    </a:lnTo>
                    <a:lnTo>
                      <a:pt x="320" y="1499"/>
                    </a:lnTo>
                    <a:lnTo>
                      <a:pt x="337" y="1464"/>
                    </a:lnTo>
                    <a:lnTo>
                      <a:pt x="355" y="1427"/>
                    </a:lnTo>
                    <a:lnTo>
                      <a:pt x="372" y="1392"/>
                    </a:lnTo>
                    <a:lnTo>
                      <a:pt x="390" y="1355"/>
                    </a:lnTo>
                    <a:lnTo>
                      <a:pt x="407" y="1320"/>
                    </a:lnTo>
                    <a:lnTo>
                      <a:pt x="425" y="1285"/>
                    </a:lnTo>
                    <a:lnTo>
                      <a:pt x="444" y="1248"/>
                    </a:lnTo>
                    <a:lnTo>
                      <a:pt x="462" y="1213"/>
                    </a:lnTo>
                    <a:lnTo>
                      <a:pt x="439" y="1222"/>
                    </a:lnTo>
                    <a:lnTo>
                      <a:pt x="415" y="1232"/>
                    </a:lnTo>
                    <a:lnTo>
                      <a:pt x="392" y="1244"/>
                    </a:lnTo>
                    <a:lnTo>
                      <a:pt x="370" y="1254"/>
                    </a:lnTo>
                    <a:lnTo>
                      <a:pt x="347" y="1263"/>
                    </a:lnTo>
                    <a:lnTo>
                      <a:pt x="324" y="1273"/>
                    </a:lnTo>
                    <a:lnTo>
                      <a:pt x="302" y="1285"/>
                    </a:lnTo>
                    <a:lnTo>
                      <a:pt x="279" y="1295"/>
                    </a:lnTo>
                    <a:lnTo>
                      <a:pt x="287" y="1275"/>
                    </a:lnTo>
                    <a:lnTo>
                      <a:pt x="294" y="1254"/>
                    </a:lnTo>
                    <a:lnTo>
                      <a:pt x="302" y="1234"/>
                    </a:lnTo>
                    <a:lnTo>
                      <a:pt x="310" y="1213"/>
                    </a:lnTo>
                    <a:lnTo>
                      <a:pt x="318" y="1193"/>
                    </a:lnTo>
                    <a:lnTo>
                      <a:pt x="324" y="1172"/>
                    </a:lnTo>
                    <a:lnTo>
                      <a:pt x="331" y="1152"/>
                    </a:lnTo>
                    <a:lnTo>
                      <a:pt x="339" y="1133"/>
                    </a:lnTo>
                    <a:lnTo>
                      <a:pt x="324" y="1123"/>
                    </a:lnTo>
                    <a:lnTo>
                      <a:pt x="310" y="1111"/>
                    </a:lnTo>
                    <a:lnTo>
                      <a:pt x="294" y="1102"/>
                    </a:lnTo>
                    <a:lnTo>
                      <a:pt x="279" y="1092"/>
                    </a:lnTo>
                    <a:lnTo>
                      <a:pt x="265" y="1082"/>
                    </a:lnTo>
                    <a:lnTo>
                      <a:pt x="250" y="1070"/>
                    </a:lnTo>
                    <a:lnTo>
                      <a:pt x="234" y="1061"/>
                    </a:lnTo>
                    <a:lnTo>
                      <a:pt x="218" y="1051"/>
                    </a:lnTo>
                    <a:lnTo>
                      <a:pt x="234" y="1037"/>
                    </a:lnTo>
                    <a:lnTo>
                      <a:pt x="250" y="1026"/>
                    </a:lnTo>
                    <a:lnTo>
                      <a:pt x="265" y="1012"/>
                    </a:lnTo>
                    <a:lnTo>
                      <a:pt x="279" y="998"/>
                    </a:lnTo>
                    <a:lnTo>
                      <a:pt x="294" y="987"/>
                    </a:lnTo>
                    <a:lnTo>
                      <a:pt x="310" y="973"/>
                    </a:lnTo>
                    <a:lnTo>
                      <a:pt x="324" y="961"/>
                    </a:lnTo>
                    <a:lnTo>
                      <a:pt x="339" y="948"/>
                    </a:lnTo>
                    <a:lnTo>
                      <a:pt x="304" y="909"/>
                    </a:lnTo>
                    <a:lnTo>
                      <a:pt x="269" y="872"/>
                    </a:lnTo>
                    <a:lnTo>
                      <a:pt x="234" y="833"/>
                    </a:lnTo>
                    <a:lnTo>
                      <a:pt x="199" y="796"/>
                    </a:lnTo>
                    <a:lnTo>
                      <a:pt x="164" y="757"/>
                    </a:lnTo>
                    <a:lnTo>
                      <a:pt x="129" y="720"/>
                    </a:lnTo>
                    <a:lnTo>
                      <a:pt x="96" y="681"/>
                    </a:lnTo>
                    <a:lnTo>
                      <a:pt x="60" y="644"/>
                    </a:lnTo>
                    <a:lnTo>
                      <a:pt x="53" y="620"/>
                    </a:lnTo>
                    <a:lnTo>
                      <a:pt x="45" y="597"/>
                    </a:lnTo>
                    <a:lnTo>
                      <a:pt x="39" y="573"/>
                    </a:lnTo>
                    <a:lnTo>
                      <a:pt x="31" y="550"/>
                    </a:lnTo>
                    <a:lnTo>
                      <a:pt x="23" y="529"/>
                    </a:lnTo>
                    <a:lnTo>
                      <a:pt x="16" y="505"/>
                    </a:lnTo>
                    <a:lnTo>
                      <a:pt x="8" y="482"/>
                    </a:lnTo>
                    <a:lnTo>
                      <a:pt x="0" y="458"/>
                    </a:lnTo>
                    <a:lnTo>
                      <a:pt x="25" y="468"/>
                    </a:lnTo>
                    <a:lnTo>
                      <a:pt x="51" y="478"/>
                    </a:lnTo>
                    <a:lnTo>
                      <a:pt x="74" y="488"/>
                    </a:lnTo>
                    <a:lnTo>
                      <a:pt x="99" y="499"/>
                    </a:lnTo>
                    <a:lnTo>
                      <a:pt x="125" y="509"/>
                    </a:lnTo>
                    <a:lnTo>
                      <a:pt x="150" y="519"/>
                    </a:lnTo>
                    <a:lnTo>
                      <a:pt x="175" y="529"/>
                    </a:lnTo>
                    <a:lnTo>
                      <a:pt x="201" y="540"/>
                    </a:lnTo>
                    <a:lnTo>
                      <a:pt x="201" y="499"/>
                    </a:lnTo>
                    <a:lnTo>
                      <a:pt x="201" y="458"/>
                    </a:lnTo>
                    <a:lnTo>
                      <a:pt x="201" y="417"/>
                    </a:lnTo>
                    <a:lnTo>
                      <a:pt x="201" y="378"/>
                    </a:lnTo>
                    <a:lnTo>
                      <a:pt x="220" y="394"/>
                    </a:lnTo>
                    <a:lnTo>
                      <a:pt x="240" y="410"/>
                    </a:lnTo>
                    <a:lnTo>
                      <a:pt x="259" y="423"/>
                    </a:lnTo>
                    <a:lnTo>
                      <a:pt x="281" y="439"/>
                    </a:lnTo>
                    <a:lnTo>
                      <a:pt x="300" y="454"/>
                    </a:lnTo>
                    <a:lnTo>
                      <a:pt x="322" y="468"/>
                    </a:lnTo>
                    <a:lnTo>
                      <a:pt x="341" y="484"/>
                    </a:lnTo>
                    <a:lnTo>
                      <a:pt x="363" y="499"/>
                    </a:lnTo>
                    <a:lnTo>
                      <a:pt x="351" y="447"/>
                    </a:lnTo>
                    <a:lnTo>
                      <a:pt x="341" y="398"/>
                    </a:lnTo>
                    <a:lnTo>
                      <a:pt x="329" y="347"/>
                    </a:lnTo>
                    <a:lnTo>
                      <a:pt x="320" y="297"/>
                    </a:lnTo>
                    <a:close/>
                  </a:path>
                </a:pathLst>
              </a:custGeom>
              <a:solidFill>
                <a:srgbClr val="c1cc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081520" y="3784320"/>
                <a:ext cx="1804680" cy="1634760"/>
              </a:xfrm>
              <a:custGeom>
                <a:avLst/>
                <a:gdLst/>
                <a:ahLst/>
                <a:rect l="l" t="t" r="r" b="b"/>
                <a:pathLst>
                  <a:path w="1727" h="1460">
                    <a:moveTo>
                      <a:pt x="312" y="288"/>
                    </a:moveTo>
                    <a:lnTo>
                      <a:pt x="302" y="261"/>
                    </a:lnTo>
                    <a:lnTo>
                      <a:pt x="293" y="234"/>
                    </a:lnTo>
                    <a:lnTo>
                      <a:pt x="283" y="207"/>
                    </a:lnTo>
                    <a:lnTo>
                      <a:pt x="273" y="179"/>
                    </a:lnTo>
                    <a:lnTo>
                      <a:pt x="262" y="152"/>
                    </a:lnTo>
                    <a:lnTo>
                      <a:pt x="252" y="125"/>
                    </a:lnTo>
                    <a:lnTo>
                      <a:pt x="242" y="97"/>
                    </a:lnTo>
                    <a:lnTo>
                      <a:pt x="232" y="70"/>
                    </a:lnTo>
                    <a:lnTo>
                      <a:pt x="254" y="86"/>
                    </a:lnTo>
                    <a:lnTo>
                      <a:pt x="277" y="99"/>
                    </a:lnTo>
                    <a:lnTo>
                      <a:pt x="299" y="115"/>
                    </a:lnTo>
                    <a:lnTo>
                      <a:pt x="322" y="129"/>
                    </a:lnTo>
                    <a:lnTo>
                      <a:pt x="343" y="144"/>
                    </a:lnTo>
                    <a:lnTo>
                      <a:pt x="365" y="158"/>
                    </a:lnTo>
                    <a:lnTo>
                      <a:pt x="388" y="173"/>
                    </a:lnTo>
                    <a:lnTo>
                      <a:pt x="410" y="189"/>
                    </a:lnTo>
                    <a:lnTo>
                      <a:pt x="415" y="164"/>
                    </a:lnTo>
                    <a:lnTo>
                      <a:pt x="419" y="138"/>
                    </a:lnTo>
                    <a:lnTo>
                      <a:pt x="425" y="115"/>
                    </a:lnTo>
                    <a:lnTo>
                      <a:pt x="429" y="90"/>
                    </a:lnTo>
                    <a:lnTo>
                      <a:pt x="445" y="101"/>
                    </a:lnTo>
                    <a:lnTo>
                      <a:pt x="458" y="115"/>
                    </a:lnTo>
                    <a:lnTo>
                      <a:pt x="474" y="127"/>
                    </a:lnTo>
                    <a:lnTo>
                      <a:pt x="488" y="138"/>
                    </a:lnTo>
                    <a:lnTo>
                      <a:pt x="503" y="152"/>
                    </a:lnTo>
                    <a:lnTo>
                      <a:pt x="517" y="164"/>
                    </a:lnTo>
                    <a:lnTo>
                      <a:pt x="532" y="177"/>
                    </a:lnTo>
                    <a:lnTo>
                      <a:pt x="548" y="189"/>
                    </a:lnTo>
                    <a:lnTo>
                      <a:pt x="560" y="166"/>
                    </a:lnTo>
                    <a:lnTo>
                      <a:pt x="569" y="142"/>
                    </a:lnTo>
                    <a:lnTo>
                      <a:pt x="581" y="119"/>
                    </a:lnTo>
                    <a:lnTo>
                      <a:pt x="591" y="93"/>
                    </a:lnTo>
                    <a:lnTo>
                      <a:pt x="601" y="70"/>
                    </a:lnTo>
                    <a:lnTo>
                      <a:pt x="612" y="47"/>
                    </a:lnTo>
                    <a:lnTo>
                      <a:pt x="622" y="23"/>
                    </a:lnTo>
                    <a:lnTo>
                      <a:pt x="634" y="0"/>
                    </a:lnTo>
                    <a:lnTo>
                      <a:pt x="649" y="10"/>
                    </a:lnTo>
                    <a:lnTo>
                      <a:pt x="663" y="19"/>
                    </a:lnTo>
                    <a:lnTo>
                      <a:pt x="679" y="27"/>
                    </a:lnTo>
                    <a:lnTo>
                      <a:pt x="692" y="37"/>
                    </a:lnTo>
                    <a:lnTo>
                      <a:pt x="708" y="47"/>
                    </a:lnTo>
                    <a:lnTo>
                      <a:pt x="721" y="54"/>
                    </a:lnTo>
                    <a:lnTo>
                      <a:pt x="737" y="64"/>
                    </a:lnTo>
                    <a:lnTo>
                      <a:pt x="751" y="74"/>
                    </a:lnTo>
                    <a:lnTo>
                      <a:pt x="762" y="74"/>
                    </a:lnTo>
                    <a:lnTo>
                      <a:pt x="774" y="76"/>
                    </a:lnTo>
                    <a:lnTo>
                      <a:pt x="786" y="76"/>
                    </a:lnTo>
                    <a:lnTo>
                      <a:pt x="797" y="76"/>
                    </a:lnTo>
                    <a:lnTo>
                      <a:pt x="807" y="78"/>
                    </a:lnTo>
                    <a:lnTo>
                      <a:pt x="819" y="78"/>
                    </a:lnTo>
                    <a:lnTo>
                      <a:pt x="831" y="80"/>
                    </a:lnTo>
                    <a:lnTo>
                      <a:pt x="842" y="80"/>
                    </a:lnTo>
                    <a:lnTo>
                      <a:pt x="856" y="88"/>
                    </a:lnTo>
                    <a:lnTo>
                      <a:pt x="870" y="95"/>
                    </a:lnTo>
                    <a:lnTo>
                      <a:pt x="881" y="105"/>
                    </a:lnTo>
                    <a:lnTo>
                      <a:pt x="895" y="113"/>
                    </a:lnTo>
                    <a:lnTo>
                      <a:pt x="909" y="121"/>
                    </a:lnTo>
                    <a:lnTo>
                      <a:pt x="922" y="130"/>
                    </a:lnTo>
                    <a:lnTo>
                      <a:pt x="934" y="138"/>
                    </a:lnTo>
                    <a:lnTo>
                      <a:pt x="947" y="146"/>
                    </a:lnTo>
                    <a:lnTo>
                      <a:pt x="971" y="150"/>
                    </a:lnTo>
                    <a:lnTo>
                      <a:pt x="992" y="156"/>
                    </a:lnTo>
                    <a:lnTo>
                      <a:pt x="1016" y="160"/>
                    </a:lnTo>
                    <a:lnTo>
                      <a:pt x="1039" y="164"/>
                    </a:lnTo>
                    <a:lnTo>
                      <a:pt x="1061" y="168"/>
                    </a:lnTo>
                    <a:lnTo>
                      <a:pt x="1084" y="173"/>
                    </a:lnTo>
                    <a:lnTo>
                      <a:pt x="1105" y="177"/>
                    </a:lnTo>
                    <a:lnTo>
                      <a:pt x="1129" y="183"/>
                    </a:lnTo>
                    <a:lnTo>
                      <a:pt x="1164" y="181"/>
                    </a:lnTo>
                    <a:lnTo>
                      <a:pt x="1197" y="179"/>
                    </a:lnTo>
                    <a:lnTo>
                      <a:pt x="1232" y="177"/>
                    </a:lnTo>
                    <a:lnTo>
                      <a:pt x="1267" y="175"/>
                    </a:lnTo>
                    <a:lnTo>
                      <a:pt x="1300" y="175"/>
                    </a:lnTo>
                    <a:lnTo>
                      <a:pt x="1335" y="173"/>
                    </a:lnTo>
                    <a:lnTo>
                      <a:pt x="1368" y="171"/>
                    </a:lnTo>
                    <a:lnTo>
                      <a:pt x="1403" y="169"/>
                    </a:lnTo>
                    <a:lnTo>
                      <a:pt x="1417" y="177"/>
                    </a:lnTo>
                    <a:lnTo>
                      <a:pt x="1433" y="187"/>
                    </a:lnTo>
                    <a:lnTo>
                      <a:pt x="1446" y="195"/>
                    </a:lnTo>
                    <a:lnTo>
                      <a:pt x="1460" y="203"/>
                    </a:lnTo>
                    <a:lnTo>
                      <a:pt x="1468" y="205"/>
                    </a:lnTo>
                    <a:lnTo>
                      <a:pt x="1476" y="207"/>
                    </a:lnTo>
                    <a:lnTo>
                      <a:pt x="1483" y="208"/>
                    </a:lnTo>
                    <a:lnTo>
                      <a:pt x="1491" y="208"/>
                    </a:lnTo>
                    <a:lnTo>
                      <a:pt x="1499" y="210"/>
                    </a:lnTo>
                    <a:lnTo>
                      <a:pt x="1507" y="212"/>
                    </a:lnTo>
                    <a:lnTo>
                      <a:pt x="1515" y="214"/>
                    </a:lnTo>
                    <a:lnTo>
                      <a:pt x="1522" y="216"/>
                    </a:lnTo>
                    <a:lnTo>
                      <a:pt x="1546" y="216"/>
                    </a:lnTo>
                    <a:lnTo>
                      <a:pt x="1571" y="214"/>
                    </a:lnTo>
                    <a:lnTo>
                      <a:pt x="1594" y="214"/>
                    </a:lnTo>
                    <a:lnTo>
                      <a:pt x="1618" y="214"/>
                    </a:lnTo>
                    <a:lnTo>
                      <a:pt x="1641" y="214"/>
                    </a:lnTo>
                    <a:lnTo>
                      <a:pt x="1665" y="214"/>
                    </a:lnTo>
                    <a:lnTo>
                      <a:pt x="1690" y="212"/>
                    </a:lnTo>
                    <a:lnTo>
                      <a:pt x="1713" y="212"/>
                    </a:lnTo>
                    <a:lnTo>
                      <a:pt x="1702" y="230"/>
                    </a:lnTo>
                    <a:lnTo>
                      <a:pt x="1692" y="245"/>
                    </a:lnTo>
                    <a:lnTo>
                      <a:pt x="1680" y="263"/>
                    </a:lnTo>
                    <a:lnTo>
                      <a:pt x="1670" y="279"/>
                    </a:lnTo>
                    <a:lnTo>
                      <a:pt x="1661" y="296"/>
                    </a:lnTo>
                    <a:lnTo>
                      <a:pt x="1651" y="314"/>
                    </a:lnTo>
                    <a:lnTo>
                      <a:pt x="1639" y="329"/>
                    </a:lnTo>
                    <a:lnTo>
                      <a:pt x="1630" y="347"/>
                    </a:lnTo>
                    <a:lnTo>
                      <a:pt x="1620" y="388"/>
                    </a:lnTo>
                    <a:lnTo>
                      <a:pt x="1610" y="427"/>
                    </a:lnTo>
                    <a:lnTo>
                      <a:pt x="1598" y="468"/>
                    </a:lnTo>
                    <a:lnTo>
                      <a:pt x="1589" y="507"/>
                    </a:lnTo>
                    <a:lnTo>
                      <a:pt x="1606" y="507"/>
                    </a:lnTo>
                    <a:lnTo>
                      <a:pt x="1624" y="507"/>
                    </a:lnTo>
                    <a:lnTo>
                      <a:pt x="1641" y="507"/>
                    </a:lnTo>
                    <a:lnTo>
                      <a:pt x="1659" y="507"/>
                    </a:lnTo>
                    <a:lnTo>
                      <a:pt x="1676" y="507"/>
                    </a:lnTo>
                    <a:lnTo>
                      <a:pt x="1694" y="507"/>
                    </a:lnTo>
                    <a:lnTo>
                      <a:pt x="1709" y="507"/>
                    </a:lnTo>
                    <a:lnTo>
                      <a:pt x="1727" y="507"/>
                    </a:lnTo>
                    <a:lnTo>
                      <a:pt x="1715" y="526"/>
                    </a:lnTo>
                    <a:lnTo>
                      <a:pt x="1702" y="546"/>
                    </a:lnTo>
                    <a:lnTo>
                      <a:pt x="1690" y="565"/>
                    </a:lnTo>
                    <a:lnTo>
                      <a:pt x="1678" y="587"/>
                    </a:lnTo>
                    <a:lnTo>
                      <a:pt x="1665" y="606"/>
                    </a:lnTo>
                    <a:lnTo>
                      <a:pt x="1653" y="626"/>
                    </a:lnTo>
                    <a:lnTo>
                      <a:pt x="1641" y="647"/>
                    </a:lnTo>
                    <a:lnTo>
                      <a:pt x="1630" y="667"/>
                    </a:lnTo>
                    <a:lnTo>
                      <a:pt x="1622" y="692"/>
                    </a:lnTo>
                    <a:lnTo>
                      <a:pt x="1614" y="715"/>
                    </a:lnTo>
                    <a:lnTo>
                      <a:pt x="1606" y="741"/>
                    </a:lnTo>
                    <a:lnTo>
                      <a:pt x="1600" y="766"/>
                    </a:lnTo>
                    <a:lnTo>
                      <a:pt x="1593" y="791"/>
                    </a:lnTo>
                    <a:lnTo>
                      <a:pt x="1585" y="815"/>
                    </a:lnTo>
                    <a:lnTo>
                      <a:pt x="1577" y="840"/>
                    </a:lnTo>
                    <a:lnTo>
                      <a:pt x="1569" y="865"/>
                    </a:lnTo>
                    <a:lnTo>
                      <a:pt x="1557" y="891"/>
                    </a:lnTo>
                    <a:lnTo>
                      <a:pt x="1546" y="914"/>
                    </a:lnTo>
                    <a:lnTo>
                      <a:pt x="1534" y="939"/>
                    </a:lnTo>
                    <a:lnTo>
                      <a:pt x="1520" y="963"/>
                    </a:lnTo>
                    <a:lnTo>
                      <a:pt x="1509" y="988"/>
                    </a:lnTo>
                    <a:lnTo>
                      <a:pt x="1497" y="1013"/>
                    </a:lnTo>
                    <a:lnTo>
                      <a:pt x="1483" y="1037"/>
                    </a:lnTo>
                    <a:lnTo>
                      <a:pt x="1472" y="1062"/>
                    </a:lnTo>
                    <a:lnTo>
                      <a:pt x="1493" y="1088"/>
                    </a:lnTo>
                    <a:lnTo>
                      <a:pt x="1517" y="1111"/>
                    </a:lnTo>
                    <a:lnTo>
                      <a:pt x="1538" y="1136"/>
                    </a:lnTo>
                    <a:lnTo>
                      <a:pt x="1559" y="1162"/>
                    </a:lnTo>
                    <a:lnTo>
                      <a:pt x="1581" y="1187"/>
                    </a:lnTo>
                    <a:lnTo>
                      <a:pt x="1604" y="1210"/>
                    </a:lnTo>
                    <a:lnTo>
                      <a:pt x="1626" y="1236"/>
                    </a:lnTo>
                    <a:lnTo>
                      <a:pt x="1649" y="1261"/>
                    </a:lnTo>
                    <a:lnTo>
                      <a:pt x="1624" y="1253"/>
                    </a:lnTo>
                    <a:lnTo>
                      <a:pt x="1600" y="1245"/>
                    </a:lnTo>
                    <a:lnTo>
                      <a:pt x="1575" y="1240"/>
                    </a:lnTo>
                    <a:lnTo>
                      <a:pt x="1550" y="1232"/>
                    </a:lnTo>
                    <a:lnTo>
                      <a:pt x="1524" y="1224"/>
                    </a:lnTo>
                    <a:lnTo>
                      <a:pt x="1501" y="1216"/>
                    </a:lnTo>
                    <a:lnTo>
                      <a:pt x="1476" y="1210"/>
                    </a:lnTo>
                    <a:lnTo>
                      <a:pt x="1452" y="1203"/>
                    </a:lnTo>
                    <a:lnTo>
                      <a:pt x="1452" y="1247"/>
                    </a:lnTo>
                    <a:lnTo>
                      <a:pt x="1452" y="1292"/>
                    </a:lnTo>
                    <a:lnTo>
                      <a:pt x="1452" y="1337"/>
                    </a:lnTo>
                    <a:lnTo>
                      <a:pt x="1452" y="1382"/>
                    </a:lnTo>
                    <a:lnTo>
                      <a:pt x="1425" y="1382"/>
                    </a:lnTo>
                    <a:lnTo>
                      <a:pt x="1398" y="1382"/>
                    </a:lnTo>
                    <a:lnTo>
                      <a:pt x="1370" y="1382"/>
                    </a:lnTo>
                    <a:lnTo>
                      <a:pt x="1345" y="1382"/>
                    </a:lnTo>
                    <a:lnTo>
                      <a:pt x="1318" y="1382"/>
                    </a:lnTo>
                    <a:lnTo>
                      <a:pt x="1290" y="1382"/>
                    </a:lnTo>
                    <a:lnTo>
                      <a:pt x="1263" y="1382"/>
                    </a:lnTo>
                    <a:lnTo>
                      <a:pt x="1236" y="1382"/>
                    </a:lnTo>
                    <a:lnTo>
                      <a:pt x="1224" y="1366"/>
                    </a:lnTo>
                    <a:lnTo>
                      <a:pt x="1211" y="1351"/>
                    </a:lnTo>
                    <a:lnTo>
                      <a:pt x="1199" y="1337"/>
                    </a:lnTo>
                    <a:lnTo>
                      <a:pt x="1187" y="1321"/>
                    </a:lnTo>
                    <a:lnTo>
                      <a:pt x="1174" y="1306"/>
                    </a:lnTo>
                    <a:lnTo>
                      <a:pt x="1162" y="1292"/>
                    </a:lnTo>
                    <a:lnTo>
                      <a:pt x="1148" y="1277"/>
                    </a:lnTo>
                    <a:lnTo>
                      <a:pt x="1137" y="1261"/>
                    </a:lnTo>
                    <a:lnTo>
                      <a:pt x="1113" y="1281"/>
                    </a:lnTo>
                    <a:lnTo>
                      <a:pt x="1088" y="1302"/>
                    </a:lnTo>
                    <a:lnTo>
                      <a:pt x="1064" y="1321"/>
                    </a:lnTo>
                    <a:lnTo>
                      <a:pt x="1039" y="1341"/>
                    </a:lnTo>
                    <a:lnTo>
                      <a:pt x="1014" y="1362"/>
                    </a:lnTo>
                    <a:lnTo>
                      <a:pt x="988" y="1382"/>
                    </a:lnTo>
                    <a:lnTo>
                      <a:pt x="965" y="1401"/>
                    </a:lnTo>
                    <a:lnTo>
                      <a:pt x="940" y="1421"/>
                    </a:lnTo>
                    <a:lnTo>
                      <a:pt x="936" y="1382"/>
                    </a:lnTo>
                    <a:lnTo>
                      <a:pt x="930" y="1341"/>
                    </a:lnTo>
                    <a:lnTo>
                      <a:pt x="926" y="1302"/>
                    </a:lnTo>
                    <a:lnTo>
                      <a:pt x="920" y="1261"/>
                    </a:lnTo>
                    <a:lnTo>
                      <a:pt x="893" y="1271"/>
                    </a:lnTo>
                    <a:lnTo>
                      <a:pt x="866" y="1281"/>
                    </a:lnTo>
                    <a:lnTo>
                      <a:pt x="838" y="1292"/>
                    </a:lnTo>
                    <a:lnTo>
                      <a:pt x="813" y="1302"/>
                    </a:lnTo>
                    <a:lnTo>
                      <a:pt x="786" y="1312"/>
                    </a:lnTo>
                    <a:lnTo>
                      <a:pt x="758" y="1321"/>
                    </a:lnTo>
                    <a:lnTo>
                      <a:pt x="731" y="1331"/>
                    </a:lnTo>
                    <a:lnTo>
                      <a:pt x="704" y="1341"/>
                    </a:lnTo>
                    <a:lnTo>
                      <a:pt x="679" y="1349"/>
                    </a:lnTo>
                    <a:lnTo>
                      <a:pt x="655" y="1357"/>
                    </a:lnTo>
                    <a:lnTo>
                      <a:pt x="630" y="1364"/>
                    </a:lnTo>
                    <a:lnTo>
                      <a:pt x="606" y="1372"/>
                    </a:lnTo>
                    <a:lnTo>
                      <a:pt x="581" y="1378"/>
                    </a:lnTo>
                    <a:lnTo>
                      <a:pt x="558" y="1386"/>
                    </a:lnTo>
                    <a:lnTo>
                      <a:pt x="532" y="1394"/>
                    </a:lnTo>
                    <a:lnTo>
                      <a:pt x="509" y="1401"/>
                    </a:lnTo>
                    <a:lnTo>
                      <a:pt x="484" y="1409"/>
                    </a:lnTo>
                    <a:lnTo>
                      <a:pt x="458" y="1415"/>
                    </a:lnTo>
                    <a:lnTo>
                      <a:pt x="435" y="1423"/>
                    </a:lnTo>
                    <a:lnTo>
                      <a:pt x="410" y="1431"/>
                    </a:lnTo>
                    <a:lnTo>
                      <a:pt x="386" y="1438"/>
                    </a:lnTo>
                    <a:lnTo>
                      <a:pt x="361" y="1444"/>
                    </a:lnTo>
                    <a:lnTo>
                      <a:pt x="338" y="1452"/>
                    </a:lnTo>
                    <a:lnTo>
                      <a:pt x="312" y="1460"/>
                    </a:lnTo>
                    <a:lnTo>
                      <a:pt x="330" y="1425"/>
                    </a:lnTo>
                    <a:lnTo>
                      <a:pt x="345" y="1392"/>
                    </a:lnTo>
                    <a:lnTo>
                      <a:pt x="363" y="1357"/>
                    </a:lnTo>
                    <a:lnTo>
                      <a:pt x="380" y="1321"/>
                    </a:lnTo>
                    <a:lnTo>
                      <a:pt x="398" y="1286"/>
                    </a:lnTo>
                    <a:lnTo>
                      <a:pt x="415" y="1251"/>
                    </a:lnTo>
                    <a:lnTo>
                      <a:pt x="431" y="1218"/>
                    </a:lnTo>
                    <a:lnTo>
                      <a:pt x="449" y="1183"/>
                    </a:lnTo>
                    <a:lnTo>
                      <a:pt x="427" y="1193"/>
                    </a:lnTo>
                    <a:lnTo>
                      <a:pt x="404" y="1203"/>
                    </a:lnTo>
                    <a:lnTo>
                      <a:pt x="382" y="1212"/>
                    </a:lnTo>
                    <a:lnTo>
                      <a:pt x="361" y="1222"/>
                    </a:lnTo>
                    <a:lnTo>
                      <a:pt x="339" y="1232"/>
                    </a:lnTo>
                    <a:lnTo>
                      <a:pt x="316" y="1242"/>
                    </a:lnTo>
                    <a:lnTo>
                      <a:pt x="295" y="1251"/>
                    </a:lnTo>
                    <a:lnTo>
                      <a:pt x="271" y="1261"/>
                    </a:lnTo>
                    <a:lnTo>
                      <a:pt x="279" y="1242"/>
                    </a:lnTo>
                    <a:lnTo>
                      <a:pt x="287" y="1222"/>
                    </a:lnTo>
                    <a:lnTo>
                      <a:pt x="295" y="1203"/>
                    </a:lnTo>
                    <a:lnTo>
                      <a:pt x="302" y="1181"/>
                    </a:lnTo>
                    <a:lnTo>
                      <a:pt x="308" y="1162"/>
                    </a:lnTo>
                    <a:lnTo>
                      <a:pt x="316" y="1142"/>
                    </a:lnTo>
                    <a:lnTo>
                      <a:pt x="324" y="1123"/>
                    </a:lnTo>
                    <a:lnTo>
                      <a:pt x="332" y="1103"/>
                    </a:lnTo>
                    <a:lnTo>
                      <a:pt x="316" y="1093"/>
                    </a:lnTo>
                    <a:lnTo>
                      <a:pt x="301" y="1084"/>
                    </a:lnTo>
                    <a:lnTo>
                      <a:pt x="287" y="1074"/>
                    </a:lnTo>
                    <a:lnTo>
                      <a:pt x="271" y="1062"/>
                    </a:lnTo>
                    <a:lnTo>
                      <a:pt x="258" y="1052"/>
                    </a:lnTo>
                    <a:lnTo>
                      <a:pt x="242" y="1043"/>
                    </a:lnTo>
                    <a:lnTo>
                      <a:pt x="228" y="1033"/>
                    </a:lnTo>
                    <a:lnTo>
                      <a:pt x="215" y="1023"/>
                    </a:lnTo>
                    <a:lnTo>
                      <a:pt x="228" y="1012"/>
                    </a:lnTo>
                    <a:lnTo>
                      <a:pt x="242" y="998"/>
                    </a:lnTo>
                    <a:lnTo>
                      <a:pt x="258" y="986"/>
                    </a:lnTo>
                    <a:lnTo>
                      <a:pt x="271" y="973"/>
                    </a:lnTo>
                    <a:lnTo>
                      <a:pt x="287" y="961"/>
                    </a:lnTo>
                    <a:lnTo>
                      <a:pt x="301" y="949"/>
                    </a:lnTo>
                    <a:lnTo>
                      <a:pt x="316" y="936"/>
                    </a:lnTo>
                    <a:lnTo>
                      <a:pt x="332" y="924"/>
                    </a:lnTo>
                    <a:lnTo>
                      <a:pt x="297" y="887"/>
                    </a:lnTo>
                    <a:lnTo>
                      <a:pt x="263" y="850"/>
                    </a:lnTo>
                    <a:lnTo>
                      <a:pt x="228" y="813"/>
                    </a:lnTo>
                    <a:lnTo>
                      <a:pt x="193" y="774"/>
                    </a:lnTo>
                    <a:lnTo>
                      <a:pt x="158" y="737"/>
                    </a:lnTo>
                    <a:lnTo>
                      <a:pt x="123" y="700"/>
                    </a:lnTo>
                    <a:lnTo>
                      <a:pt x="90" y="663"/>
                    </a:lnTo>
                    <a:lnTo>
                      <a:pt x="55" y="626"/>
                    </a:lnTo>
                    <a:lnTo>
                      <a:pt x="43" y="581"/>
                    </a:lnTo>
                    <a:lnTo>
                      <a:pt x="30" y="536"/>
                    </a:lnTo>
                    <a:lnTo>
                      <a:pt x="14" y="491"/>
                    </a:lnTo>
                    <a:lnTo>
                      <a:pt x="0" y="446"/>
                    </a:lnTo>
                    <a:lnTo>
                      <a:pt x="24" y="456"/>
                    </a:lnTo>
                    <a:lnTo>
                      <a:pt x="47" y="466"/>
                    </a:lnTo>
                    <a:lnTo>
                      <a:pt x="71" y="477"/>
                    </a:lnTo>
                    <a:lnTo>
                      <a:pt x="96" y="487"/>
                    </a:lnTo>
                    <a:lnTo>
                      <a:pt x="119" y="497"/>
                    </a:lnTo>
                    <a:lnTo>
                      <a:pt x="145" y="507"/>
                    </a:lnTo>
                    <a:lnTo>
                      <a:pt x="168" y="516"/>
                    </a:lnTo>
                    <a:lnTo>
                      <a:pt x="193" y="526"/>
                    </a:lnTo>
                    <a:lnTo>
                      <a:pt x="193" y="487"/>
                    </a:lnTo>
                    <a:lnTo>
                      <a:pt x="193" y="446"/>
                    </a:lnTo>
                    <a:lnTo>
                      <a:pt x="193" y="407"/>
                    </a:lnTo>
                    <a:lnTo>
                      <a:pt x="193" y="368"/>
                    </a:lnTo>
                    <a:lnTo>
                      <a:pt x="213" y="384"/>
                    </a:lnTo>
                    <a:lnTo>
                      <a:pt x="232" y="398"/>
                    </a:lnTo>
                    <a:lnTo>
                      <a:pt x="252" y="413"/>
                    </a:lnTo>
                    <a:lnTo>
                      <a:pt x="273" y="427"/>
                    </a:lnTo>
                    <a:lnTo>
                      <a:pt x="293" y="442"/>
                    </a:lnTo>
                    <a:lnTo>
                      <a:pt x="312" y="456"/>
                    </a:lnTo>
                    <a:lnTo>
                      <a:pt x="332" y="472"/>
                    </a:lnTo>
                    <a:lnTo>
                      <a:pt x="351" y="487"/>
                    </a:lnTo>
                    <a:lnTo>
                      <a:pt x="341" y="437"/>
                    </a:lnTo>
                    <a:lnTo>
                      <a:pt x="332" y="388"/>
                    </a:lnTo>
                    <a:lnTo>
                      <a:pt x="322" y="337"/>
                    </a:lnTo>
                    <a:lnTo>
                      <a:pt x="312" y="288"/>
                    </a:lnTo>
                    <a:close/>
                  </a:path>
                </a:pathLst>
              </a:custGeom>
              <a:solidFill>
                <a:srgbClr val="d1d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100960" y="3799800"/>
                <a:ext cx="1758240" cy="1596600"/>
              </a:xfrm>
              <a:custGeom>
                <a:avLst/>
                <a:gdLst/>
                <a:ahLst/>
                <a:rect l="l" t="t" r="r" b="b"/>
                <a:pathLst>
                  <a:path w="1681" h="1424">
                    <a:moveTo>
                      <a:pt x="302" y="282"/>
                    </a:moveTo>
                    <a:lnTo>
                      <a:pt x="292" y="255"/>
                    </a:lnTo>
                    <a:lnTo>
                      <a:pt x="282" y="230"/>
                    </a:lnTo>
                    <a:lnTo>
                      <a:pt x="273" y="202"/>
                    </a:lnTo>
                    <a:lnTo>
                      <a:pt x="265" y="175"/>
                    </a:lnTo>
                    <a:lnTo>
                      <a:pt x="255" y="150"/>
                    </a:lnTo>
                    <a:lnTo>
                      <a:pt x="245" y="122"/>
                    </a:lnTo>
                    <a:lnTo>
                      <a:pt x="236" y="97"/>
                    </a:lnTo>
                    <a:lnTo>
                      <a:pt x="226" y="70"/>
                    </a:lnTo>
                    <a:lnTo>
                      <a:pt x="247" y="83"/>
                    </a:lnTo>
                    <a:lnTo>
                      <a:pt x="269" y="99"/>
                    </a:lnTo>
                    <a:lnTo>
                      <a:pt x="290" y="113"/>
                    </a:lnTo>
                    <a:lnTo>
                      <a:pt x="312" y="126"/>
                    </a:lnTo>
                    <a:lnTo>
                      <a:pt x="333" y="142"/>
                    </a:lnTo>
                    <a:lnTo>
                      <a:pt x="354" y="155"/>
                    </a:lnTo>
                    <a:lnTo>
                      <a:pt x="376" y="171"/>
                    </a:lnTo>
                    <a:lnTo>
                      <a:pt x="397" y="185"/>
                    </a:lnTo>
                    <a:lnTo>
                      <a:pt x="401" y="161"/>
                    </a:lnTo>
                    <a:lnTo>
                      <a:pt x="407" y="136"/>
                    </a:lnTo>
                    <a:lnTo>
                      <a:pt x="413" y="113"/>
                    </a:lnTo>
                    <a:lnTo>
                      <a:pt x="417" y="89"/>
                    </a:lnTo>
                    <a:lnTo>
                      <a:pt x="430" y="101"/>
                    </a:lnTo>
                    <a:lnTo>
                      <a:pt x="446" y="113"/>
                    </a:lnTo>
                    <a:lnTo>
                      <a:pt x="460" y="124"/>
                    </a:lnTo>
                    <a:lnTo>
                      <a:pt x="475" y="136"/>
                    </a:lnTo>
                    <a:lnTo>
                      <a:pt x="489" y="150"/>
                    </a:lnTo>
                    <a:lnTo>
                      <a:pt x="503" y="161"/>
                    </a:lnTo>
                    <a:lnTo>
                      <a:pt x="518" y="173"/>
                    </a:lnTo>
                    <a:lnTo>
                      <a:pt x="532" y="185"/>
                    </a:lnTo>
                    <a:lnTo>
                      <a:pt x="541" y="161"/>
                    </a:lnTo>
                    <a:lnTo>
                      <a:pt x="551" y="140"/>
                    </a:lnTo>
                    <a:lnTo>
                      <a:pt x="563" y="116"/>
                    </a:lnTo>
                    <a:lnTo>
                      <a:pt x="573" y="93"/>
                    </a:lnTo>
                    <a:lnTo>
                      <a:pt x="582" y="70"/>
                    </a:lnTo>
                    <a:lnTo>
                      <a:pt x="592" y="46"/>
                    </a:lnTo>
                    <a:lnTo>
                      <a:pt x="602" y="23"/>
                    </a:lnTo>
                    <a:lnTo>
                      <a:pt x="612" y="0"/>
                    </a:lnTo>
                    <a:lnTo>
                      <a:pt x="627" y="9"/>
                    </a:lnTo>
                    <a:lnTo>
                      <a:pt x="641" y="19"/>
                    </a:lnTo>
                    <a:lnTo>
                      <a:pt x="656" y="29"/>
                    </a:lnTo>
                    <a:lnTo>
                      <a:pt x="670" y="39"/>
                    </a:lnTo>
                    <a:lnTo>
                      <a:pt x="686" y="48"/>
                    </a:lnTo>
                    <a:lnTo>
                      <a:pt x="699" y="58"/>
                    </a:lnTo>
                    <a:lnTo>
                      <a:pt x="715" y="68"/>
                    </a:lnTo>
                    <a:lnTo>
                      <a:pt x="729" y="78"/>
                    </a:lnTo>
                    <a:lnTo>
                      <a:pt x="740" y="78"/>
                    </a:lnTo>
                    <a:lnTo>
                      <a:pt x="752" y="76"/>
                    </a:lnTo>
                    <a:lnTo>
                      <a:pt x="764" y="76"/>
                    </a:lnTo>
                    <a:lnTo>
                      <a:pt x="777" y="74"/>
                    </a:lnTo>
                    <a:lnTo>
                      <a:pt x="789" y="74"/>
                    </a:lnTo>
                    <a:lnTo>
                      <a:pt x="801" y="72"/>
                    </a:lnTo>
                    <a:lnTo>
                      <a:pt x="814" y="72"/>
                    </a:lnTo>
                    <a:lnTo>
                      <a:pt x="826" y="72"/>
                    </a:lnTo>
                    <a:lnTo>
                      <a:pt x="838" y="79"/>
                    </a:lnTo>
                    <a:lnTo>
                      <a:pt x="851" y="89"/>
                    </a:lnTo>
                    <a:lnTo>
                      <a:pt x="863" y="97"/>
                    </a:lnTo>
                    <a:lnTo>
                      <a:pt x="875" y="105"/>
                    </a:lnTo>
                    <a:lnTo>
                      <a:pt x="886" y="115"/>
                    </a:lnTo>
                    <a:lnTo>
                      <a:pt x="898" y="122"/>
                    </a:lnTo>
                    <a:lnTo>
                      <a:pt x="912" y="130"/>
                    </a:lnTo>
                    <a:lnTo>
                      <a:pt x="923" y="138"/>
                    </a:lnTo>
                    <a:lnTo>
                      <a:pt x="947" y="142"/>
                    </a:lnTo>
                    <a:lnTo>
                      <a:pt x="970" y="146"/>
                    </a:lnTo>
                    <a:lnTo>
                      <a:pt x="994" y="150"/>
                    </a:lnTo>
                    <a:lnTo>
                      <a:pt x="1019" y="155"/>
                    </a:lnTo>
                    <a:lnTo>
                      <a:pt x="1042" y="159"/>
                    </a:lnTo>
                    <a:lnTo>
                      <a:pt x="1066" y="163"/>
                    </a:lnTo>
                    <a:lnTo>
                      <a:pt x="1089" y="167"/>
                    </a:lnTo>
                    <a:lnTo>
                      <a:pt x="1112" y="173"/>
                    </a:lnTo>
                    <a:lnTo>
                      <a:pt x="1146" y="171"/>
                    </a:lnTo>
                    <a:lnTo>
                      <a:pt x="1179" y="169"/>
                    </a:lnTo>
                    <a:lnTo>
                      <a:pt x="1212" y="169"/>
                    </a:lnTo>
                    <a:lnTo>
                      <a:pt x="1243" y="167"/>
                    </a:lnTo>
                    <a:lnTo>
                      <a:pt x="1276" y="165"/>
                    </a:lnTo>
                    <a:lnTo>
                      <a:pt x="1309" y="163"/>
                    </a:lnTo>
                    <a:lnTo>
                      <a:pt x="1340" y="161"/>
                    </a:lnTo>
                    <a:lnTo>
                      <a:pt x="1374" y="159"/>
                    </a:lnTo>
                    <a:lnTo>
                      <a:pt x="1387" y="167"/>
                    </a:lnTo>
                    <a:lnTo>
                      <a:pt x="1401" y="175"/>
                    </a:lnTo>
                    <a:lnTo>
                      <a:pt x="1415" y="181"/>
                    </a:lnTo>
                    <a:lnTo>
                      <a:pt x="1428" y="189"/>
                    </a:lnTo>
                    <a:lnTo>
                      <a:pt x="1436" y="191"/>
                    </a:lnTo>
                    <a:lnTo>
                      <a:pt x="1442" y="193"/>
                    </a:lnTo>
                    <a:lnTo>
                      <a:pt x="1450" y="194"/>
                    </a:lnTo>
                    <a:lnTo>
                      <a:pt x="1457" y="196"/>
                    </a:lnTo>
                    <a:lnTo>
                      <a:pt x="1463" y="198"/>
                    </a:lnTo>
                    <a:lnTo>
                      <a:pt x="1471" y="200"/>
                    </a:lnTo>
                    <a:lnTo>
                      <a:pt x="1479" y="202"/>
                    </a:lnTo>
                    <a:lnTo>
                      <a:pt x="1487" y="204"/>
                    </a:lnTo>
                    <a:lnTo>
                      <a:pt x="1510" y="204"/>
                    </a:lnTo>
                    <a:lnTo>
                      <a:pt x="1531" y="202"/>
                    </a:lnTo>
                    <a:lnTo>
                      <a:pt x="1555" y="202"/>
                    </a:lnTo>
                    <a:lnTo>
                      <a:pt x="1578" y="202"/>
                    </a:lnTo>
                    <a:lnTo>
                      <a:pt x="1602" y="202"/>
                    </a:lnTo>
                    <a:lnTo>
                      <a:pt x="1625" y="202"/>
                    </a:lnTo>
                    <a:lnTo>
                      <a:pt x="1648" y="202"/>
                    </a:lnTo>
                    <a:lnTo>
                      <a:pt x="1672" y="202"/>
                    </a:lnTo>
                    <a:lnTo>
                      <a:pt x="1660" y="220"/>
                    </a:lnTo>
                    <a:lnTo>
                      <a:pt x="1650" y="235"/>
                    </a:lnTo>
                    <a:lnTo>
                      <a:pt x="1639" y="253"/>
                    </a:lnTo>
                    <a:lnTo>
                      <a:pt x="1629" y="270"/>
                    </a:lnTo>
                    <a:lnTo>
                      <a:pt x="1617" y="288"/>
                    </a:lnTo>
                    <a:lnTo>
                      <a:pt x="1607" y="306"/>
                    </a:lnTo>
                    <a:lnTo>
                      <a:pt x="1596" y="323"/>
                    </a:lnTo>
                    <a:lnTo>
                      <a:pt x="1586" y="341"/>
                    </a:lnTo>
                    <a:lnTo>
                      <a:pt x="1576" y="380"/>
                    </a:lnTo>
                    <a:lnTo>
                      <a:pt x="1567" y="417"/>
                    </a:lnTo>
                    <a:lnTo>
                      <a:pt x="1557" y="456"/>
                    </a:lnTo>
                    <a:lnTo>
                      <a:pt x="1547" y="495"/>
                    </a:lnTo>
                    <a:lnTo>
                      <a:pt x="1565" y="495"/>
                    </a:lnTo>
                    <a:lnTo>
                      <a:pt x="1580" y="495"/>
                    </a:lnTo>
                    <a:lnTo>
                      <a:pt x="1598" y="495"/>
                    </a:lnTo>
                    <a:lnTo>
                      <a:pt x="1615" y="495"/>
                    </a:lnTo>
                    <a:lnTo>
                      <a:pt x="1631" y="495"/>
                    </a:lnTo>
                    <a:lnTo>
                      <a:pt x="1648" y="495"/>
                    </a:lnTo>
                    <a:lnTo>
                      <a:pt x="1664" y="495"/>
                    </a:lnTo>
                    <a:lnTo>
                      <a:pt x="1681" y="495"/>
                    </a:lnTo>
                    <a:lnTo>
                      <a:pt x="1670" y="514"/>
                    </a:lnTo>
                    <a:lnTo>
                      <a:pt x="1656" y="534"/>
                    </a:lnTo>
                    <a:lnTo>
                      <a:pt x="1644" y="553"/>
                    </a:lnTo>
                    <a:lnTo>
                      <a:pt x="1633" y="573"/>
                    </a:lnTo>
                    <a:lnTo>
                      <a:pt x="1621" y="592"/>
                    </a:lnTo>
                    <a:lnTo>
                      <a:pt x="1609" y="610"/>
                    </a:lnTo>
                    <a:lnTo>
                      <a:pt x="1598" y="629"/>
                    </a:lnTo>
                    <a:lnTo>
                      <a:pt x="1586" y="649"/>
                    </a:lnTo>
                    <a:lnTo>
                      <a:pt x="1578" y="674"/>
                    </a:lnTo>
                    <a:lnTo>
                      <a:pt x="1572" y="697"/>
                    </a:lnTo>
                    <a:lnTo>
                      <a:pt x="1565" y="723"/>
                    </a:lnTo>
                    <a:lnTo>
                      <a:pt x="1557" y="746"/>
                    </a:lnTo>
                    <a:lnTo>
                      <a:pt x="1549" y="771"/>
                    </a:lnTo>
                    <a:lnTo>
                      <a:pt x="1543" y="795"/>
                    </a:lnTo>
                    <a:lnTo>
                      <a:pt x="1535" y="820"/>
                    </a:lnTo>
                    <a:lnTo>
                      <a:pt x="1528" y="844"/>
                    </a:lnTo>
                    <a:lnTo>
                      <a:pt x="1516" y="867"/>
                    </a:lnTo>
                    <a:lnTo>
                      <a:pt x="1504" y="892"/>
                    </a:lnTo>
                    <a:lnTo>
                      <a:pt x="1492" y="916"/>
                    </a:lnTo>
                    <a:lnTo>
                      <a:pt x="1481" y="939"/>
                    </a:lnTo>
                    <a:lnTo>
                      <a:pt x="1467" y="964"/>
                    </a:lnTo>
                    <a:lnTo>
                      <a:pt x="1455" y="988"/>
                    </a:lnTo>
                    <a:lnTo>
                      <a:pt x="1444" y="1013"/>
                    </a:lnTo>
                    <a:lnTo>
                      <a:pt x="1432" y="1037"/>
                    </a:lnTo>
                    <a:lnTo>
                      <a:pt x="1453" y="1060"/>
                    </a:lnTo>
                    <a:lnTo>
                      <a:pt x="1475" y="1085"/>
                    </a:lnTo>
                    <a:lnTo>
                      <a:pt x="1496" y="1109"/>
                    </a:lnTo>
                    <a:lnTo>
                      <a:pt x="1518" y="1134"/>
                    </a:lnTo>
                    <a:lnTo>
                      <a:pt x="1539" y="1157"/>
                    </a:lnTo>
                    <a:lnTo>
                      <a:pt x="1561" y="1183"/>
                    </a:lnTo>
                    <a:lnTo>
                      <a:pt x="1582" y="1206"/>
                    </a:lnTo>
                    <a:lnTo>
                      <a:pt x="1604" y="1231"/>
                    </a:lnTo>
                    <a:lnTo>
                      <a:pt x="1580" y="1224"/>
                    </a:lnTo>
                    <a:lnTo>
                      <a:pt x="1557" y="1216"/>
                    </a:lnTo>
                    <a:lnTo>
                      <a:pt x="1533" y="1210"/>
                    </a:lnTo>
                    <a:lnTo>
                      <a:pt x="1508" y="1202"/>
                    </a:lnTo>
                    <a:lnTo>
                      <a:pt x="1485" y="1194"/>
                    </a:lnTo>
                    <a:lnTo>
                      <a:pt x="1461" y="1187"/>
                    </a:lnTo>
                    <a:lnTo>
                      <a:pt x="1436" y="1181"/>
                    </a:lnTo>
                    <a:lnTo>
                      <a:pt x="1413" y="1173"/>
                    </a:lnTo>
                    <a:lnTo>
                      <a:pt x="1413" y="1216"/>
                    </a:lnTo>
                    <a:lnTo>
                      <a:pt x="1413" y="1259"/>
                    </a:lnTo>
                    <a:lnTo>
                      <a:pt x="1413" y="1304"/>
                    </a:lnTo>
                    <a:lnTo>
                      <a:pt x="1413" y="1346"/>
                    </a:lnTo>
                    <a:lnTo>
                      <a:pt x="1387" y="1346"/>
                    </a:lnTo>
                    <a:lnTo>
                      <a:pt x="1360" y="1346"/>
                    </a:lnTo>
                    <a:lnTo>
                      <a:pt x="1335" y="1346"/>
                    </a:lnTo>
                    <a:lnTo>
                      <a:pt x="1307" y="1346"/>
                    </a:lnTo>
                    <a:lnTo>
                      <a:pt x="1282" y="1346"/>
                    </a:lnTo>
                    <a:lnTo>
                      <a:pt x="1255" y="1346"/>
                    </a:lnTo>
                    <a:lnTo>
                      <a:pt x="1229" y="1346"/>
                    </a:lnTo>
                    <a:lnTo>
                      <a:pt x="1202" y="1346"/>
                    </a:lnTo>
                    <a:lnTo>
                      <a:pt x="1190" y="1333"/>
                    </a:lnTo>
                    <a:lnTo>
                      <a:pt x="1179" y="1317"/>
                    </a:lnTo>
                    <a:lnTo>
                      <a:pt x="1167" y="1304"/>
                    </a:lnTo>
                    <a:lnTo>
                      <a:pt x="1155" y="1288"/>
                    </a:lnTo>
                    <a:lnTo>
                      <a:pt x="1142" y="1274"/>
                    </a:lnTo>
                    <a:lnTo>
                      <a:pt x="1130" y="1259"/>
                    </a:lnTo>
                    <a:lnTo>
                      <a:pt x="1118" y="1245"/>
                    </a:lnTo>
                    <a:lnTo>
                      <a:pt x="1107" y="1231"/>
                    </a:lnTo>
                    <a:lnTo>
                      <a:pt x="1083" y="1251"/>
                    </a:lnTo>
                    <a:lnTo>
                      <a:pt x="1058" y="1270"/>
                    </a:lnTo>
                    <a:lnTo>
                      <a:pt x="1035" y="1290"/>
                    </a:lnTo>
                    <a:lnTo>
                      <a:pt x="1011" y="1307"/>
                    </a:lnTo>
                    <a:lnTo>
                      <a:pt x="986" y="1327"/>
                    </a:lnTo>
                    <a:lnTo>
                      <a:pt x="962" y="1346"/>
                    </a:lnTo>
                    <a:lnTo>
                      <a:pt x="939" y="1366"/>
                    </a:lnTo>
                    <a:lnTo>
                      <a:pt x="916" y="1385"/>
                    </a:lnTo>
                    <a:lnTo>
                      <a:pt x="910" y="1346"/>
                    </a:lnTo>
                    <a:lnTo>
                      <a:pt x="906" y="1307"/>
                    </a:lnTo>
                    <a:lnTo>
                      <a:pt x="900" y="1270"/>
                    </a:lnTo>
                    <a:lnTo>
                      <a:pt x="896" y="1231"/>
                    </a:lnTo>
                    <a:lnTo>
                      <a:pt x="871" y="1241"/>
                    </a:lnTo>
                    <a:lnTo>
                      <a:pt x="844" y="1251"/>
                    </a:lnTo>
                    <a:lnTo>
                      <a:pt x="818" y="1261"/>
                    </a:lnTo>
                    <a:lnTo>
                      <a:pt x="791" y="1268"/>
                    </a:lnTo>
                    <a:lnTo>
                      <a:pt x="766" y="1278"/>
                    </a:lnTo>
                    <a:lnTo>
                      <a:pt x="738" y="1288"/>
                    </a:lnTo>
                    <a:lnTo>
                      <a:pt x="713" y="1298"/>
                    </a:lnTo>
                    <a:lnTo>
                      <a:pt x="686" y="1307"/>
                    </a:lnTo>
                    <a:lnTo>
                      <a:pt x="662" y="1315"/>
                    </a:lnTo>
                    <a:lnTo>
                      <a:pt x="637" y="1321"/>
                    </a:lnTo>
                    <a:lnTo>
                      <a:pt x="614" y="1329"/>
                    </a:lnTo>
                    <a:lnTo>
                      <a:pt x="590" y="1337"/>
                    </a:lnTo>
                    <a:lnTo>
                      <a:pt x="567" y="1344"/>
                    </a:lnTo>
                    <a:lnTo>
                      <a:pt x="541" y="1350"/>
                    </a:lnTo>
                    <a:lnTo>
                      <a:pt x="518" y="1358"/>
                    </a:lnTo>
                    <a:lnTo>
                      <a:pt x="495" y="1366"/>
                    </a:lnTo>
                    <a:lnTo>
                      <a:pt x="471" y="1374"/>
                    </a:lnTo>
                    <a:lnTo>
                      <a:pt x="446" y="1380"/>
                    </a:lnTo>
                    <a:lnTo>
                      <a:pt x="423" y="1387"/>
                    </a:lnTo>
                    <a:lnTo>
                      <a:pt x="399" y="1395"/>
                    </a:lnTo>
                    <a:lnTo>
                      <a:pt x="374" y="1403"/>
                    </a:lnTo>
                    <a:lnTo>
                      <a:pt x="351" y="1409"/>
                    </a:lnTo>
                    <a:lnTo>
                      <a:pt x="327" y="1417"/>
                    </a:lnTo>
                    <a:lnTo>
                      <a:pt x="302" y="1424"/>
                    </a:lnTo>
                    <a:lnTo>
                      <a:pt x="319" y="1391"/>
                    </a:lnTo>
                    <a:lnTo>
                      <a:pt x="335" y="1356"/>
                    </a:lnTo>
                    <a:lnTo>
                      <a:pt x="352" y="1323"/>
                    </a:lnTo>
                    <a:lnTo>
                      <a:pt x="370" y="1288"/>
                    </a:lnTo>
                    <a:lnTo>
                      <a:pt x="388" y="1255"/>
                    </a:lnTo>
                    <a:lnTo>
                      <a:pt x="403" y="1222"/>
                    </a:lnTo>
                    <a:lnTo>
                      <a:pt x="421" y="1187"/>
                    </a:lnTo>
                    <a:lnTo>
                      <a:pt x="436" y="1153"/>
                    </a:lnTo>
                    <a:lnTo>
                      <a:pt x="415" y="1163"/>
                    </a:lnTo>
                    <a:lnTo>
                      <a:pt x="393" y="1173"/>
                    </a:lnTo>
                    <a:lnTo>
                      <a:pt x="372" y="1183"/>
                    </a:lnTo>
                    <a:lnTo>
                      <a:pt x="351" y="1192"/>
                    </a:lnTo>
                    <a:lnTo>
                      <a:pt x="327" y="1202"/>
                    </a:lnTo>
                    <a:lnTo>
                      <a:pt x="306" y="1212"/>
                    </a:lnTo>
                    <a:lnTo>
                      <a:pt x="284" y="1222"/>
                    </a:lnTo>
                    <a:lnTo>
                      <a:pt x="263" y="1231"/>
                    </a:lnTo>
                    <a:lnTo>
                      <a:pt x="271" y="1212"/>
                    </a:lnTo>
                    <a:lnTo>
                      <a:pt x="278" y="1192"/>
                    </a:lnTo>
                    <a:lnTo>
                      <a:pt x="284" y="1173"/>
                    </a:lnTo>
                    <a:lnTo>
                      <a:pt x="292" y="1153"/>
                    </a:lnTo>
                    <a:lnTo>
                      <a:pt x="300" y="1134"/>
                    </a:lnTo>
                    <a:lnTo>
                      <a:pt x="308" y="1114"/>
                    </a:lnTo>
                    <a:lnTo>
                      <a:pt x="313" y="1095"/>
                    </a:lnTo>
                    <a:lnTo>
                      <a:pt x="321" y="1076"/>
                    </a:lnTo>
                    <a:lnTo>
                      <a:pt x="308" y="1066"/>
                    </a:lnTo>
                    <a:lnTo>
                      <a:pt x="292" y="1056"/>
                    </a:lnTo>
                    <a:lnTo>
                      <a:pt x="278" y="1046"/>
                    </a:lnTo>
                    <a:lnTo>
                      <a:pt x="265" y="1037"/>
                    </a:lnTo>
                    <a:lnTo>
                      <a:pt x="249" y="1027"/>
                    </a:lnTo>
                    <a:lnTo>
                      <a:pt x="236" y="1017"/>
                    </a:lnTo>
                    <a:lnTo>
                      <a:pt x="220" y="1007"/>
                    </a:lnTo>
                    <a:lnTo>
                      <a:pt x="206" y="998"/>
                    </a:lnTo>
                    <a:lnTo>
                      <a:pt x="220" y="986"/>
                    </a:lnTo>
                    <a:lnTo>
                      <a:pt x="236" y="974"/>
                    </a:lnTo>
                    <a:lnTo>
                      <a:pt x="249" y="962"/>
                    </a:lnTo>
                    <a:lnTo>
                      <a:pt x="265" y="949"/>
                    </a:lnTo>
                    <a:lnTo>
                      <a:pt x="278" y="937"/>
                    </a:lnTo>
                    <a:lnTo>
                      <a:pt x="292" y="925"/>
                    </a:lnTo>
                    <a:lnTo>
                      <a:pt x="308" y="914"/>
                    </a:lnTo>
                    <a:lnTo>
                      <a:pt x="321" y="902"/>
                    </a:lnTo>
                    <a:lnTo>
                      <a:pt x="288" y="865"/>
                    </a:lnTo>
                    <a:lnTo>
                      <a:pt x="255" y="830"/>
                    </a:lnTo>
                    <a:lnTo>
                      <a:pt x="220" y="793"/>
                    </a:lnTo>
                    <a:lnTo>
                      <a:pt x="187" y="756"/>
                    </a:lnTo>
                    <a:lnTo>
                      <a:pt x="154" y="719"/>
                    </a:lnTo>
                    <a:lnTo>
                      <a:pt x="121" y="684"/>
                    </a:lnTo>
                    <a:lnTo>
                      <a:pt x="85" y="647"/>
                    </a:lnTo>
                    <a:lnTo>
                      <a:pt x="52" y="612"/>
                    </a:lnTo>
                    <a:lnTo>
                      <a:pt x="39" y="567"/>
                    </a:lnTo>
                    <a:lnTo>
                      <a:pt x="27" y="524"/>
                    </a:lnTo>
                    <a:lnTo>
                      <a:pt x="13" y="479"/>
                    </a:lnTo>
                    <a:lnTo>
                      <a:pt x="0" y="436"/>
                    </a:lnTo>
                    <a:lnTo>
                      <a:pt x="23" y="446"/>
                    </a:lnTo>
                    <a:lnTo>
                      <a:pt x="45" y="456"/>
                    </a:lnTo>
                    <a:lnTo>
                      <a:pt x="68" y="465"/>
                    </a:lnTo>
                    <a:lnTo>
                      <a:pt x="91" y="475"/>
                    </a:lnTo>
                    <a:lnTo>
                      <a:pt x="117" y="485"/>
                    </a:lnTo>
                    <a:lnTo>
                      <a:pt x="140" y="495"/>
                    </a:lnTo>
                    <a:lnTo>
                      <a:pt x="163" y="504"/>
                    </a:lnTo>
                    <a:lnTo>
                      <a:pt x="189" y="514"/>
                    </a:lnTo>
                    <a:lnTo>
                      <a:pt x="189" y="475"/>
                    </a:lnTo>
                    <a:lnTo>
                      <a:pt x="189" y="436"/>
                    </a:lnTo>
                    <a:lnTo>
                      <a:pt x="189" y="399"/>
                    </a:lnTo>
                    <a:lnTo>
                      <a:pt x="189" y="360"/>
                    </a:lnTo>
                    <a:lnTo>
                      <a:pt x="206" y="374"/>
                    </a:lnTo>
                    <a:lnTo>
                      <a:pt x="226" y="387"/>
                    </a:lnTo>
                    <a:lnTo>
                      <a:pt x="245" y="403"/>
                    </a:lnTo>
                    <a:lnTo>
                      <a:pt x="265" y="417"/>
                    </a:lnTo>
                    <a:lnTo>
                      <a:pt x="282" y="432"/>
                    </a:lnTo>
                    <a:lnTo>
                      <a:pt x="302" y="446"/>
                    </a:lnTo>
                    <a:lnTo>
                      <a:pt x="321" y="462"/>
                    </a:lnTo>
                    <a:lnTo>
                      <a:pt x="341" y="475"/>
                    </a:lnTo>
                    <a:lnTo>
                      <a:pt x="331" y="426"/>
                    </a:lnTo>
                    <a:lnTo>
                      <a:pt x="321" y="378"/>
                    </a:lnTo>
                    <a:lnTo>
                      <a:pt x="312" y="331"/>
                    </a:lnTo>
                    <a:lnTo>
                      <a:pt x="302" y="282"/>
                    </a:lnTo>
                    <a:close/>
                  </a:path>
                </a:pathLst>
              </a:custGeom>
              <a:solidFill>
                <a:srgbClr val="e0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2734200" y="4041720"/>
                <a:ext cx="66600" cy="64800"/>
              </a:xfrm>
              <a:custGeom>
                <a:avLst/>
                <a:gdLst/>
                <a:ahLst/>
                <a:rect l="l" t="t" r="r" b="b"/>
                <a:pathLst>
                  <a:path w="64" h="56">
                    <a:moveTo>
                      <a:pt x="2" y="0"/>
                    </a:moveTo>
                    <a:lnTo>
                      <a:pt x="12" y="2"/>
                    </a:lnTo>
                    <a:lnTo>
                      <a:pt x="25" y="6"/>
                    </a:lnTo>
                    <a:lnTo>
                      <a:pt x="39" y="10"/>
                    </a:lnTo>
                    <a:lnTo>
                      <a:pt x="51" y="14"/>
                    </a:lnTo>
                    <a:lnTo>
                      <a:pt x="61" y="19"/>
                    </a:lnTo>
                    <a:lnTo>
                      <a:pt x="64" y="25"/>
                    </a:lnTo>
                    <a:lnTo>
                      <a:pt x="62" y="35"/>
                    </a:lnTo>
                    <a:lnTo>
                      <a:pt x="53" y="45"/>
                    </a:lnTo>
                    <a:lnTo>
                      <a:pt x="33" y="51"/>
                    </a:lnTo>
                    <a:lnTo>
                      <a:pt x="0" y="56"/>
                    </a:lnTo>
                    <a:lnTo>
                      <a:pt x="37" y="41"/>
                    </a:lnTo>
                    <a:lnTo>
                      <a:pt x="43" y="25"/>
                    </a:lnTo>
                    <a:lnTo>
                      <a:pt x="35" y="14"/>
                    </a:lnTo>
                    <a:lnTo>
                      <a:pt x="22" y="8"/>
                    </a:lnTo>
                    <a:lnTo>
                      <a:pt x="2" y="0"/>
                    </a:lnTo>
                    <a:close/>
                  </a:path>
                </a:pathLst>
              </a:custGeom>
              <a:solidFill>
                <a:srgbClr val="ffef3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8" name=""/>
              <p:cNvSpPr/>
              <p:nvPr/>
            </p:nvSpPr>
            <p:spPr>
              <a:xfrm flipH="1">
                <a:off x="2506320" y="4098240"/>
                <a:ext cx="73440" cy="62280"/>
              </a:xfrm>
              <a:custGeom>
                <a:avLst/>
                <a:gdLst/>
                <a:ahLst/>
                <a:rect l="l" t="t" r="r" b="b"/>
                <a:pathLst>
                  <a:path w="70" h="56">
                    <a:moveTo>
                      <a:pt x="19" y="0"/>
                    </a:moveTo>
                    <a:lnTo>
                      <a:pt x="29" y="5"/>
                    </a:lnTo>
                    <a:lnTo>
                      <a:pt x="39" y="11"/>
                    </a:lnTo>
                    <a:lnTo>
                      <a:pt x="50" y="19"/>
                    </a:lnTo>
                    <a:lnTo>
                      <a:pt x="62" y="27"/>
                    </a:lnTo>
                    <a:lnTo>
                      <a:pt x="68" y="37"/>
                    </a:lnTo>
                    <a:lnTo>
                      <a:pt x="70" y="43"/>
                    </a:lnTo>
                    <a:lnTo>
                      <a:pt x="66" y="50"/>
                    </a:lnTo>
                    <a:lnTo>
                      <a:pt x="52" y="56"/>
                    </a:lnTo>
                    <a:lnTo>
                      <a:pt x="31" y="54"/>
                    </a:lnTo>
                    <a:lnTo>
                      <a:pt x="0" y="50"/>
                    </a:lnTo>
                    <a:lnTo>
                      <a:pt x="39" y="50"/>
                    </a:lnTo>
                    <a:lnTo>
                      <a:pt x="48" y="37"/>
                    </a:lnTo>
                    <a:lnTo>
                      <a:pt x="44" y="23"/>
                    </a:lnTo>
                    <a:lnTo>
                      <a:pt x="33" y="11"/>
                    </a:lnTo>
                    <a:lnTo>
                      <a:pt x="19" y="0"/>
                    </a:lnTo>
                    <a:close/>
                  </a:path>
                </a:pathLst>
              </a:custGeom>
              <a:solidFill>
                <a:srgbClr val="ffef3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pic>
          <p:nvPicPr>
            <p:cNvPr id="339" name="" descr=""/>
            <p:cNvPicPr/>
            <p:nvPr/>
          </p:nvPicPr>
          <p:blipFill>
            <a:blip r:embed="rId2"/>
            <a:stretch/>
          </p:blipFill>
          <p:spPr>
            <a:xfrm>
              <a:off x="457200" y="3581280"/>
              <a:ext cx="3708360" cy="2165040"/>
            </a:xfrm>
            <a:prstGeom prst="rect">
              <a:avLst/>
            </a:prstGeom>
            <a:ln w="0">
              <a:noFill/>
            </a:ln>
          </p:spPr>
        </p:pic>
      </p:grpSp>
      <p:sp>
        <p:nvSpPr>
          <p:cNvPr id="340" name="PlaceHolder 1"/>
          <p:cNvSpPr>
            <a:spLocks noGrp="1"/>
          </p:cNvSpPr>
          <p:nvPr>
            <p:ph/>
          </p:nvPr>
        </p:nvSpPr>
        <p:spPr>
          <a:xfrm>
            <a:off x="4647960" y="22096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fell from the sky into the forest where Red Arrow and Black Beak found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it so odd to see a rainbow in a dense for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rainbow?</a:t>
            </a:r>
            <a:endParaRPr b="0" lang="en-US" sz="2800" spc="-1" strike="noStrike">
              <a:solidFill>
                <a:srgbClr val="000000"/>
              </a:solidFill>
              <a:latin typeface="Times New Roman"/>
            </a:endParaRPr>
          </a:p>
        </p:txBody>
      </p:sp>
      <p:sp>
        <p:nvSpPr>
          <p:cNvPr id="341" name="PlaceHolder 2"/>
          <p:cNvSpPr>
            <a:spLocks noGrp="1"/>
          </p:cNvSpPr>
          <p:nvPr>
            <p:ph type="title"/>
          </p:nvPr>
        </p:nvSpPr>
        <p:spPr>
          <a:xfrm>
            <a:off x="68580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ory’s Mysterious Rainbow</a:t>
            </a:r>
            <a:endParaRPr b="0" lang="en-US" sz="4400" spc="-1" strike="noStrike">
              <a:solidFill>
                <a:srgbClr val="000000"/>
              </a:solidFill>
              <a:latin typeface="Times New Roman"/>
            </a:endParaRPr>
          </a:p>
        </p:txBody>
      </p:sp>
      <p:sp>
        <p:nvSpPr>
          <p:cNvPr id="3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380880" y="2179800"/>
            <a:ext cx="4191120" cy="2181240"/>
            <a:chOff x="380880" y="2179800"/>
            <a:chExt cx="4191120" cy="2181240"/>
          </a:xfrm>
        </p:grpSpPr>
        <p:pic>
          <p:nvPicPr>
            <p:cNvPr id="344" name="" descr="">
              <a:hlinkClick r:id="rId2"/>
            </p:cNvPr>
            <p:cNvPicPr/>
            <p:nvPr/>
          </p:nvPicPr>
          <p:blipFill>
            <a:blip r:embed="rId3"/>
            <a:stretch/>
          </p:blipFill>
          <p:spPr>
            <a:xfrm>
              <a:off x="457200" y="2179800"/>
              <a:ext cx="4114800" cy="2133360"/>
            </a:xfrm>
            <a:prstGeom prst="rect">
              <a:avLst/>
            </a:prstGeom>
            <a:ln w="88920">
              <a:solidFill>
                <a:srgbClr val="545068"/>
              </a:solidFill>
              <a:miter/>
            </a:ln>
          </p:spPr>
        </p:pic>
        <p:sp>
          <p:nvSpPr>
            <p:cNvPr id="345" name=""/>
            <p:cNvSpPr/>
            <p:nvPr/>
          </p:nvSpPr>
          <p:spPr>
            <a:xfrm>
              <a:off x="380880" y="4084560"/>
              <a:ext cx="2819520" cy="276480"/>
            </a:xfrm>
            <a:prstGeom prst="rect">
              <a:avLst/>
            </a:prstGeom>
            <a:noFill/>
            <a:ln w="9360">
              <a:solidFill>
                <a:srgbClr val="545068"/>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gov</a:t>
              </a:r>
              <a:endParaRPr b="0" lang="en-US" sz="1200" spc="-1" strike="noStrike">
                <a:solidFill>
                  <a:srgbClr val="000000"/>
                </a:solidFill>
                <a:latin typeface="Times New Roman"/>
              </a:endParaRPr>
            </a:p>
          </p:txBody>
        </p:sp>
      </p:grpSp>
      <p:sp>
        <p:nvSpPr>
          <p:cNvPr id="346" name="PlaceHolder 1"/>
          <p:cNvSpPr>
            <a:spLocks noGrp="1"/>
          </p:cNvSpPr>
          <p:nvPr>
            <p:ph/>
          </p:nvPr>
        </p:nvSpPr>
        <p:spPr>
          <a:xfrm>
            <a:off x="4876560" y="1981080"/>
            <a:ext cx="38862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a light (or the sun), a prism, and a white sheet of paper.</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 Put the white sheet of paper on your desk or on the wall. Shine a light through the prism toward the sheet of paper.  Move the light around until a rainbow appears on the paper.</a:t>
            </a:r>
            <a:endParaRPr b="0" lang="en-US" sz="2400" spc="-1" strike="noStrike">
              <a:solidFill>
                <a:srgbClr val="000000"/>
              </a:solidFill>
              <a:latin typeface="Times New Roman"/>
            </a:endParaRPr>
          </a:p>
        </p:txBody>
      </p:sp>
      <p:sp>
        <p:nvSpPr>
          <p:cNvPr id="347"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85800" y="168264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white light appear as colors on the paper?</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n’t the colors show up when you shine the light directly on the paper without the prism?</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the light just plain white without the prism but appears as colors with a prism? What is light made of?</a:t>
            </a:r>
            <a:endParaRPr b="0" lang="en-US" sz="2800" spc="-1" strike="noStrike">
              <a:solidFill>
                <a:srgbClr val="000000"/>
              </a:solidFill>
              <a:latin typeface="Times New Roman"/>
            </a:endParaRPr>
          </a:p>
        </p:txBody>
      </p:sp>
      <p:sp>
        <p:nvSpPr>
          <p:cNvPr id="350" name="PlaceHolder 2"/>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 is happening?</a:t>
            </a:r>
            <a:endParaRPr b="0" lang="en-US" sz="4400" spc="-1" strike="noStrike">
              <a:solidFill>
                <a:srgbClr val="000000"/>
              </a:solidFill>
              <a:latin typeface="Times New Roman"/>
            </a:endParaRPr>
          </a:p>
        </p:txBody>
      </p:sp>
      <p:sp>
        <p:nvSpPr>
          <p:cNvPr id="3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380880" y="1600200"/>
            <a:ext cx="4191120" cy="487692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425520" y="5043600"/>
            <a:ext cx="4103640" cy="1030320"/>
          </a:xfrm>
          <a:prstGeom prst="rect">
            <a:avLst/>
          </a:prstGeom>
          <a:ln w="0">
            <a:noFill/>
          </a:ln>
        </p:spPr>
      </p:pic>
      <p:pic>
        <p:nvPicPr>
          <p:cNvPr id="354" name="" descr=""/>
          <p:cNvPicPr/>
          <p:nvPr/>
        </p:nvPicPr>
        <p:blipFill>
          <a:blip r:embed="rId3"/>
          <a:stretch/>
        </p:blipFill>
        <p:spPr>
          <a:xfrm>
            <a:off x="425520" y="1905120"/>
            <a:ext cx="4103640" cy="644400"/>
          </a:xfrm>
          <a:prstGeom prst="rect">
            <a:avLst/>
          </a:prstGeom>
          <a:ln w="0">
            <a:noFill/>
          </a:ln>
        </p:spPr>
      </p:pic>
      <p:pic>
        <p:nvPicPr>
          <p:cNvPr id="355" name="" descr=""/>
          <p:cNvPicPr/>
          <p:nvPr/>
        </p:nvPicPr>
        <p:blipFill>
          <a:blip r:embed="rId4"/>
          <a:stretch/>
        </p:blipFill>
        <p:spPr>
          <a:xfrm>
            <a:off x="423720" y="3429000"/>
            <a:ext cx="4104000" cy="739800"/>
          </a:xfrm>
          <a:prstGeom prst="rect">
            <a:avLst/>
          </a:prstGeom>
          <a:ln w="0">
            <a:noFill/>
          </a:ln>
        </p:spPr>
      </p:pic>
      <p:sp>
        <p:nvSpPr>
          <p:cNvPr id="356" name=""/>
          <p:cNvSpPr/>
          <p:nvPr/>
        </p:nvSpPr>
        <p:spPr>
          <a:xfrm>
            <a:off x="2362320" y="4267080"/>
            <a:ext cx="482400" cy="685800"/>
          </a:xfrm>
          <a:prstGeom prst="downArrow">
            <a:avLst>
              <a:gd name="adj1" fmla="val 50000"/>
              <a:gd name="adj2" fmla="val 3554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209680" y="2743200"/>
            <a:ext cx="685800" cy="533520"/>
          </a:xfrm>
          <a:prstGeom prst="plus">
            <a:avLst>
              <a:gd name="adj" fmla="val 342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39880" y="201924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gnetic Energy Wave</a:t>
            </a:r>
            <a:endParaRPr b="0" lang="en-US" sz="2400" spc="-1" strike="noStrike">
              <a:solidFill>
                <a:srgbClr val="000000"/>
              </a:solidFill>
              <a:latin typeface="Times New Roman"/>
            </a:endParaRPr>
          </a:p>
        </p:txBody>
      </p:sp>
      <p:sp>
        <p:nvSpPr>
          <p:cNvPr id="359" name=""/>
          <p:cNvSpPr/>
          <p:nvPr/>
        </p:nvSpPr>
        <p:spPr>
          <a:xfrm>
            <a:off x="838080" y="358128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 Energy Wave</a:t>
            </a:r>
            <a:endParaRPr b="0" lang="en-US" sz="2400" spc="-1" strike="noStrike">
              <a:solidFill>
                <a:srgbClr val="000000"/>
              </a:solidFill>
              <a:latin typeface="Times New Roman"/>
            </a:endParaRPr>
          </a:p>
        </p:txBody>
      </p:sp>
      <p:sp>
        <p:nvSpPr>
          <p:cNvPr id="360" name=""/>
          <p:cNvSpPr/>
          <p:nvPr/>
        </p:nvSpPr>
        <p:spPr>
          <a:xfrm>
            <a:off x="838080" y="60199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Wave</a:t>
            </a: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ght? </a:t>
            </a:r>
            <a:endParaRPr b="0" lang="en-US" sz="4400" spc="-1" strike="noStrike">
              <a:solidFill>
                <a:srgbClr val="000000"/>
              </a:solidFill>
              <a:latin typeface="Times New Roman"/>
            </a:endParaRPr>
          </a:p>
        </p:txBody>
      </p:sp>
      <p:sp>
        <p:nvSpPr>
          <p:cNvPr id="362" name="PlaceHolder 2"/>
          <p:cNvSpPr>
            <a:spLocks noGrp="1"/>
          </p:cNvSpPr>
          <p:nvPr>
            <p:ph/>
          </p:nvPr>
        </p:nvSpPr>
        <p:spPr>
          <a:xfrm>
            <a:off x="4642920" y="1558800"/>
            <a:ext cx="4064040" cy="3741840"/>
          </a:xfrm>
          <a:prstGeom prst="rect">
            <a:avLst/>
          </a:prstGeom>
          <a:noFill/>
          <a:ln w="0">
            <a:noFill/>
          </a:ln>
        </p:spPr>
        <p:txBody>
          <a:bodyPr lIns="90000" rIns="90000" tIns="46800" bIns="46800" anchor="t">
            <a:normAutofit fontScale="84000"/>
          </a:bodyPr>
          <a:p>
            <a:pPr marL="288000" indent="-2880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can be thought of as a wave of electric and magnetic energy. Hence, it is called an electromagnetic wave.</a:t>
            </a:r>
            <a:endParaRPr b="0" lang="en-US" sz="2800" spc="-1" strike="noStrike">
              <a:solidFill>
                <a:srgbClr val="000000"/>
              </a:solidFill>
              <a:latin typeface="Times New Roman"/>
            </a:endParaRPr>
          </a:p>
          <a:p>
            <a:pPr marL="288000" indent="-2880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forms of energy flow perpendicular to each other.</a:t>
            </a:r>
            <a:endParaRPr b="0" lang="en-US" sz="2800" spc="-1" strike="noStrike">
              <a:solidFill>
                <a:srgbClr val="000000"/>
              </a:solidFill>
              <a:latin typeface="Times New Roman"/>
            </a:endParaRPr>
          </a:p>
          <a:p>
            <a:pPr marL="288000" indent="-2880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waves are waves of energy that can vary in size and shape.</a:t>
            </a:r>
            <a:endParaRPr b="0" lang="en-US" sz="2800" spc="-1" strike="noStrike">
              <a:solidFill>
                <a:srgbClr val="000000"/>
              </a:solidFill>
              <a:latin typeface="Times New Roman"/>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380880" y="1905120"/>
            <a:ext cx="4343400" cy="403848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492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a:t>
            </a:r>
            <a:endParaRPr b="0" lang="en-US" sz="2400" spc="-1" strike="noStrike">
              <a:solidFill>
                <a:srgbClr val="000000"/>
              </a:solidFill>
              <a:latin typeface="Times New Roman"/>
            </a:endParaRPr>
          </a:p>
        </p:txBody>
      </p:sp>
      <p:sp>
        <p:nvSpPr>
          <p:cNvPr id="366" name=""/>
          <p:cNvSpPr/>
          <p:nvPr/>
        </p:nvSpPr>
        <p:spPr>
          <a:xfrm>
            <a:off x="160020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ble</a:t>
            </a:r>
            <a:endParaRPr b="0" lang="en-US" sz="2400" spc="-1" strike="noStrike">
              <a:solidFill>
                <a:srgbClr val="000000"/>
              </a:solidFill>
              <a:latin typeface="Times New Roman"/>
            </a:endParaRPr>
          </a:p>
        </p:txBody>
      </p:sp>
      <p:sp>
        <p:nvSpPr>
          <p:cNvPr id="367" name=""/>
          <p:cNvSpPr/>
          <p:nvPr/>
        </p:nvSpPr>
        <p:spPr>
          <a:xfrm>
            <a:off x="2743200" y="52578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Violet</a:t>
            </a:r>
            <a:endParaRPr b="0" lang="en-US" sz="2400" spc="-1" strike="noStrike">
              <a:solidFill>
                <a:srgbClr val="000000"/>
              </a:solidFill>
              <a:latin typeface="Times New Roman"/>
            </a:endParaRPr>
          </a:p>
        </p:txBody>
      </p:sp>
      <p:sp>
        <p:nvSpPr>
          <p:cNvPr id="368" name=""/>
          <p:cNvSpPr/>
          <p:nvPr/>
        </p:nvSpPr>
        <p:spPr>
          <a:xfrm>
            <a:off x="1676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819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flipV="1">
            <a:off x="533160" y="3962520"/>
            <a:ext cx="114300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2819520" y="3886200"/>
            <a:ext cx="1371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7200" y="2079720"/>
            <a:ext cx="1066680" cy="8859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Low Energy</a:t>
            </a:r>
            <a:endParaRPr b="0" lang="en-US" sz="1400" spc="-1" strike="noStrike">
              <a:solidFill>
                <a:srgbClr val="000000"/>
              </a:solidFill>
              <a:latin typeface="Times New Roman"/>
            </a:endParaRPr>
          </a:p>
        </p:txBody>
      </p:sp>
      <p:sp>
        <p:nvSpPr>
          <p:cNvPr id="373" name=""/>
          <p:cNvSpPr/>
          <p:nvPr/>
        </p:nvSpPr>
        <p:spPr>
          <a:xfrm>
            <a:off x="3429000" y="2073240"/>
            <a:ext cx="1219320" cy="672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High Energy</a:t>
            </a:r>
            <a:endParaRPr b="0" lang="en-US" sz="1400" spc="-1" strike="noStrike">
              <a:solidFill>
                <a:srgbClr val="000000"/>
              </a:solidFill>
              <a:latin typeface="Times New Roman"/>
            </a:endParaRPr>
          </a:p>
        </p:txBody>
      </p:sp>
      <p:grpSp>
        <p:nvGrpSpPr>
          <p:cNvPr id="374" name=""/>
          <p:cNvGrpSpPr/>
          <p:nvPr/>
        </p:nvGrpSpPr>
        <p:grpSpPr>
          <a:xfrm>
            <a:off x="535680" y="2746440"/>
            <a:ext cx="3561480" cy="1367640"/>
            <a:chOff x="535680" y="2746440"/>
            <a:chExt cx="3561480" cy="1367640"/>
          </a:xfrm>
        </p:grpSpPr>
        <p:sp>
          <p:nvSpPr>
            <p:cNvPr id="375" name=""/>
            <p:cNvSpPr/>
            <p:nvPr/>
          </p:nvSpPr>
          <p:spPr>
            <a:xfrm>
              <a:off x="695880" y="2746440"/>
              <a:ext cx="463680" cy="884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35680" y="365436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a:t>
              </a:r>
              <a:endParaRPr b="0" lang="en-US" sz="2400" spc="-1" strike="noStrike">
                <a:solidFill>
                  <a:srgbClr val="000000"/>
                </a:solidFill>
                <a:latin typeface="Times New Roman"/>
              </a:endParaRPr>
            </a:p>
          </p:txBody>
        </p:sp>
        <p:sp>
          <p:nvSpPr>
            <p:cNvPr id="377" name=""/>
            <p:cNvSpPr/>
            <p:nvPr/>
          </p:nvSpPr>
          <p:spPr>
            <a:xfrm>
              <a:off x="1159560" y="2746440"/>
              <a:ext cx="463680" cy="884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623600" y="2746440"/>
              <a:ext cx="463680" cy="884160"/>
            </a:xfrm>
            <a:prstGeom prst="rect">
              <a:avLst/>
            </a:prstGeom>
            <a:solidFill>
              <a:srgbClr val="f9f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550960" y="2746440"/>
              <a:ext cx="463680" cy="8841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15000" y="2746440"/>
              <a:ext cx="463680" cy="884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478680" y="2746440"/>
              <a:ext cx="463680" cy="884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087280" y="2746440"/>
              <a:ext cx="463680" cy="884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713960" y="365436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a:t>
              </a:r>
              <a:endParaRPr b="0" lang="en-US" sz="2400" spc="-1" strike="noStrike">
                <a:solidFill>
                  <a:srgbClr val="000000"/>
                </a:solidFill>
                <a:latin typeface="Times New Roman"/>
              </a:endParaRPr>
            </a:p>
          </p:txBody>
        </p:sp>
        <p:sp>
          <p:nvSpPr>
            <p:cNvPr id="384" name=""/>
            <p:cNvSpPr/>
            <p:nvPr/>
          </p:nvSpPr>
          <p:spPr>
            <a:xfrm>
              <a:off x="3407400" y="3654360"/>
              <a:ext cx="689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a:t>
              </a:r>
              <a:endParaRPr b="0" lang="en-US" sz="2400" spc="-1" strike="noStrike">
                <a:solidFill>
                  <a:srgbClr val="000000"/>
                </a:solidFill>
                <a:latin typeface="Times New Roman"/>
              </a:endParaRPr>
            </a:p>
          </p:txBody>
        </p:sp>
      </p:grpSp>
      <p:sp>
        <p:nvSpPr>
          <p:cNvPr id="385" name="PlaceHolder 1"/>
          <p:cNvSpPr>
            <a:spLocks noGrp="1"/>
          </p:cNvSpPr>
          <p:nvPr>
            <p:ph/>
          </p:nvPr>
        </p:nvSpPr>
        <p:spPr>
          <a:xfrm>
            <a:off x="4858920" y="2050920"/>
            <a:ext cx="3598920" cy="37404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a wave is the number of waves that pass a given point per time period. (Units: Hertz)</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light that we can see is between 430 and 750 trillion Hertz.</a:t>
            </a:r>
            <a:endParaRPr b="0" lang="en-US" sz="2800" spc="-1" strike="noStrike">
              <a:solidFill>
                <a:srgbClr val="000000"/>
              </a:solidFill>
              <a:latin typeface="Times New Roman"/>
            </a:endParaRPr>
          </a:p>
        </p:txBody>
      </p:sp>
      <p:sp>
        <p:nvSpPr>
          <p:cNvPr id="386"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Types of Light Waves</a:t>
            </a:r>
            <a:endParaRPr b="0" lang="en-US" sz="4400" spc="-1" strike="noStrike">
              <a:solidFill>
                <a:srgbClr val="000000"/>
              </a:solidFill>
              <a:latin typeface="Times New Roman"/>
            </a:endParaRPr>
          </a:p>
        </p:txBody>
      </p:sp>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4952880" y="2475000"/>
            <a:ext cx="3657600" cy="2401920"/>
          </a:xfrm>
          <a:prstGeom prst="rect">
            <a:avLst/>
          </a:prstGeom>
          <a:ln w="88920">
            <a:solidFill>
              <a:srgbClr val="545068"/>
            </a:solidFill>
            <a:miter/>
          </a:ln>
        </p:spPr>
      </p:pic>
      <p:sp>
        <p:nvSpPr>
          <p:cNvPr id="38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light look white?</a:t>
            </a:r>
            <a:endParaRPr b="0" lang="en-US" sz="4400" spc="-1" strike="noStrike">
              <a:solidFill>
                <a:srgbClr val="000000"/>
              </a:solidFill>
              <a:latin typeface="Times New Roman"/>
            </a:endParaRPr>
          </a:p>
        </p:txBody>
      </p:sp>
      <p:sp>
        <p:nvSpPr>
          <p:cNvPr id="3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ight is made of color, then why does it look whi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n’t white show up as one of the bands of color when you see a rainbow?</a:t>
            </a:r>
            <a:endParaRPr b="0" lang="en-US" sz="2800" spc="-1" strike="noStrike">
              <a:solidFill>
                <a:srgbClr val="000000"/>
              </a:solidFill>
              <a:latin typeface="Times New Roman"/>
            </a:endParaRPr>
          </a:p>
        </p:txBody>
      </p:sp>
      <p:sp>
        <p:nvSpPr>
          <p:cNvPr id="391" name=""/>
          <p:cNvSpPr/>
          <p:nvPr/>
        </p:nvSpPr>
        <p:spPr>
          <a:xfrm>
            <a:off x="4876920" y="5175360"/>
            <a:ext cx="3871800" cy="997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t’s important to never look directly into the sun since its rays can injure your eyes.</a:t>
            </a:r>
            <a:endParaRPr b="0" lang="en-US" sz="2200" spc="-1" strike="noStrike">
              <a:solidFill>
                <a:srgbClr val="000000"/>
              </a:solidFill>
              <a:latin typeface="Times New Roman"/>
            </a:endParaRPr>
          </a:p>
        </p:txBody>
      </p:sp>
      <p:sp>
        <p:nvSpPr>
          <p:cNvPr id="3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34272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grpSp>
        <p:nvGrpSpPr>
          <p:cNvPr id="394" name=""/>
          <p:cNvGrpSpPr/>
          <p:nvPr/>
        </p:nvGrpSpPr>
        <p:grpSpPr>
          <a:xfrm>
            <a:off x="6365160" y="303480"/>
            <a:ext cx="1940760" cy="1462320"/>
            <a:chOff x="6365160" y="303480"/>
            <a:chExt cx="1940760" cy="1462320"/>
          </a:xfrm>
        </p:grpSpPr>
        <p:sp>
          <p:nvSpPr>
            <p:cNvPr id="395" name=""/>
            <p:cNvSpPr/>
            <p:nvPr/>
          </p:nvSpPr>
          <p:spPr>
            <a:xfrm rot="442200">
              <a:off x="7861320" y="369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442200">
              <a:off x="7390080" y="464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42200">
              <a:off x="7197840" y="80136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442200">
              <a:off x="6747120" y="8726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rot="442200">
              <a:off x="6847200" y="90468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442200">
              <a:off x="6683400" y="97452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442200">
              <a:off x="6744960" y="105552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rot="442200">
              <a:off x="6740280" y="86508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442200">
              <a:off x="6986520" y="85716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442200">
              <a:off x="7191000" y="77724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442200">
              <a:off x="7309080" y="44280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442200">
              <a:off x="7508520" y="65700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rot="442200">
              <a:off x="7605720" y="62820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rot="442200">
              <a:off x="7835760" y="45828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442200">
              <a:off x="7827840" y="3297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442200">
              <a:off x="6373800" y="120924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rot="442200">
              <a:off x="6481800" y="143172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rot="442200">
              <a:off x="6680520" y="1587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442200">
              <a:off x="6862680" y="108720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442200">
              <a:off x="6818400" y="103968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rot="442200">
              <a:off x="7527960" y="89172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rot="442200">
              <a:off x="7608960" y="84096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rot="442200">
              <a:off x="7693200" y="79164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rot="442200">
              <a:off x="7777080" y="7376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rot="442200">
              <a:off x="7863120" y="68724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rot="442200">
              <a:off x="7943760" y="634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442200">
              <a:off x="8110440" y="56196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442200">
              <a:off x="7387920" y="97308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442200">
              <a:off x="7121520" y="122652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563520" y="1100520"/>
            <a:ext cx="1940760" cy="1462320"/>
            <a:chOff x="6563520" y="1100520"/>
            <a:chExt cx="1940760" cy="1462320"/>
          </a:xfrm>
        </p:grpSpPr>
        <p:sp>
          <p:nvSpPr>
            <p:cNvPr id="425" name=""/>
            <p:cNvSpPr/>
            <p:nvPr/>
          </p:nvSpPr>
          <p:spPr>
            <a:xfrm rot="442200">
              <a:off x="8059680" y="11664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442200">
              <a:off x="7588440" y="12618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442200">
              <a:off x="7396200" y="1598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442200">
              <a:off x="6945480" y="16696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442200">
              <a:off x="7045560" y="17017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442200">
              <a:off x="6881760" y="17715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442200">
              <a:off x="6943320" y="18525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442200">
              <a:off x="6938640" y="16621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442200">
              <a:off x="7184880" y="16542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442200">
              <a:off x="7389360" y="15742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442200">
              <a:off x="7507440" y="12398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442200">
              <a:off x="7706880" y="14540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442200">
              <a:off x="7804080" y="14252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442200">
              <a:off x="8034120" y="12553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442200">
              <a:off x="8026200" y="11268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442200">
              <a:off x="6572160" y="20062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442200">
              <a:off x="6680160" y="2228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442200">
              <a:off x="6878880" y="23842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442200">
              <a:off x="7061040" y="18842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442200">
              <a:off x="7016760" y="18367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442200">
              <a:off x="7726320" y="16887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442200">
              <a:off x="7807320" y="16380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442200">
              <a:off x="7891560" y="15886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442200">
              <a:off x="7975440" y="15346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rot="442200">
              <a:off x="8061480" y="14842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rot="442200">
              <a:off x="8142120" y="14313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rot="442200">
              <a:off x="8308800" y="13590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442200">
              <a:off x="7586280" y="17701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442200">
              <a:off x="7319880" y="20235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6877800" y="1827720"/>
            <a:ext cx="1940760" cy="1462320"/>
            <a:chOff x="6877800" y="1827720"/>
            <a:chExt cx="1940760" cy="1462320"/>
          </a:xfrm>
        </p:grpSpPr>
        <p:sp>
          <p:nvSpPr>
            <p:cNvPr id="455" name=""/>
            <p:cNvSpPr/>
            <p:nvPr/>
          </p:nvSpPr>
          <p:spPr>
            <a:xfrm rot="442200">
              <a:off x="8373960" y="18936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rot="442200">
              <a:off x="7902720" y="19890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442200">
              <a:off x="7710480" y="23256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rot="442200">
              <a:off x="7259760" y="23968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442200">
              <a:off x="7359840" y="24289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rot="442200">
              <a:off x="7196040" y="24987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442200">
              <a:off x="7257600" y="25797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rot="442200">
              <a:off x="7252920" y="23893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rot="442200">
              <a:off x="7499160" y="23814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442200">
              <a:off x="7703640" y="23014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rot="442200">
              <a:off x="7821720" y="1967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442200">
              <a:off x="8021160" y="21812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rot="442200">
              <a:off x="8118360" y="21524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rot="442200">
              <a:off x="8348400" y="19825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442200">
              <a:off x="8340480" y="18540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442200">
              <a:off x="6886440" y="27334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442200">
              <a:off x="6994440" y="2955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442200">
              <a:off x="7193160" y="31114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442200">
              <a:off x="7375320" y="26114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442200">
              <a:off x="7331040" y="25639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442200">
              <a:off x="8040600" y="24159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rot="442200">
              <a:off x="8121600" y="23652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rot="442200">
              <a:off x="8205840" y="23158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rot="442200">
              <a:off x="8289720" y="22618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rot="442200">
              <a:off x="8375760" y="22114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rot="442200">
              <a:off x="8456400" y="21585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442200">
              <a:off x="8623080" y="20862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rot="442200">
              <a:off x="7900560" y="24973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rot="442200">
              <a:off x="7634160" y="27507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PlaceHolder 2"/>
          <p:cNvSpPr>
            <a:spLocks noGrp="1"/>
          </p:cNvSpPr>
          <p:nvPr>
            <p:ph/>
          </p:nvPr>
        </p:nvSpPr>
        <p:spPr>
          <a:xfrm>
            <a:off x="380880" y="1676520"/>
            <a:ext cx="830592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needed: Three flashlights, three </a:t>
            </a:r>
            <a:br>
              <a:rPr sz="2400"/>
            </a:br>
            <a:r>
              <a:rPr b="0" lang="en-US" sz="2400" spc="-1" strike="noStrike">
                <a:solidFill>
                  <a:srgbClr val="000000"/>
                </a:solidFill>
                <a:latin typeface="Times New Roman"/>
              </a:rPr>
              <a:t>pieces of cellophane (one red, one blue, </a:t>
            </a:r>
            <a:br>
              <a:rPr sz="2400"/>
            </a:br>
            <a:r>
              <a:rPr b="0" lang="en-US" sz="2400" spc="-1" strike="noStrike">
                <a:solidFill>
                  <a:srgbClr val="000000"/>
                </a:solidFill>
                <a:latin typeface="Times New Roman"/>
              </a:rPr>
              <a:t>and one green), three rubber bands, and a </a:t>
            </a:r>
            <a:br>
              <a:rPr sz="2400"/>
            </a:br>
            <a:r>
              <a:rPr b="0" lang="en-US" sz="2400" spc="-1" strike="noStrike">
                <a:solidFill>
                  <a:srgbClr val="000000"/>
                </a:solidFill>
                <a:latin typeface="Times New Roman"/>
              </a:rPr>
              <a:t>white wall</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 Wrap a piece of cellophane over </a:t>
            </a:r>
            <a:br>
              <a:rPr sz="2400"/>
            </a:br>
            <a:r>
              <a:rPr b="0" lang="en-US" sz="2400" spc="-1" strike="noStrike">
                <a:solidFill>
                  <a:srgbClr val="000000"/>
                </a:solidFill>
                <a:latin typeface="Times New Roman"/>
              </a:rPr>
              <a:t>the lens of each flashlight and tie it down with a rubber band. Now you should have one flashlight that shines red light, one that shines blue light, and one that shines green light.  Turn out the lights and shine the three flashlights on the wall in separate places. Notice the three different colors. Then begin mixing the colors until you have mixed red and blue, red and green, blue and green, and then all three together. Write down what colors show up on the wall when the lights are mixed together.</a:t>
            </a:r>
            <a:endParaRPr b="0" lang="en-US" sz="2400" spc="-1" strike="noStrike">
              <a:solidFill>
                <a:srgbClr val="000000"/>
              </a:solidFill>
              <a:latin typeface="Times New Roman"/>
            </a:endParaRPr>
          </a:p>
        </p:txBody>
      </p:sp>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487" name=""/>
          <p:cNvSpPr/>
          <p:nvPr/>
        </p:nvSpPr>
        <p:spPr>
          <a:xfrm>
            <a:off x="687600" y="55926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NASA</a:t>
            </a:r>
            <a:endParaRPr b="0" lang="en-US" sz="1200" spc="-1" strike="noStrike">
              <a:solidFill>
                <a:srgbClr val="000000"/>
              </a:solidFill>
              <a:latin typeface="Times New Roman"/>
            </a:endParaRPr>
          </a:p>
        </p:txBody>
      </p:sp>
      <p:pic>
        <p:nvPicPr>
          <p:cNvPr id="488" name="" descr=""/>
          <p:cNvPicPr/>
          <p:nvPr/>
        </p:nvPicPr>
        <p:blipFill>
          <a:blip r:embed="rId2"/>
          <a:stretch/>
        </p:blipFill>
        <p:spPr>
          <a:xfrm>
            <a:off x="6010200" y="1658880"/>
            <a:ext cx="2675160" cy="3251160"/>
          </a:xfrm>
          <a:prstGeom prst="rect">
            <a:avLst/>
          </a:prstGeom>
          <a:ln w="88920">
            <a:solidFill>
              <a:srgbClr val="545068"/>
            </a:solidFill>
            <a:miter/>
          </a:ln>
        </p:spPr>
      </p:pic>
      <p:sp>
        <p:nvSpPr>
          <p:cNvPr id="489" name="PlaceHolder 2"/>
          <p:cNvSpPr>
            <a:spLocks noGrp="1"/>
          </p:cNvSpPr>
          <p:nvPr>
            <p:ph/>
          </p:nvPr>
        </p:nvSpPr>
        <p:spPr>
          <a:xfrm>
            <a:off x="474480" y="1711440"/>
            <a:ext cx="8329320" cy="4819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 was interested in the </a:t>
            </a:r>
            <a:br>
              <a:rPr sz="2400"/>
            </a:br>
            <a:r>
              <a:rPr b="0" lang="en-US" sz="2400" spc="-1" strike="noStrike">
                <a:solidFill>
                  <a:srgbClr val="000000"/>
                </a:solidFill>
                <a:latin typeface="Times New Roman"/>
              </a:rPr>
              <a:t>properties of light, just like you </a:t>
            </a:r>
            <a:br>
              <a:rPr sz="2400"/>
            </a:br>
            <a:r>
              <a:rPr b="0" lang="en-US" sz="2400" spc="-1" strike="noStrike">
                <a:solidFill>
                  <a:srgbClr val="000000"/>
                </a:solidFill>
                <a:latin typeface="Times New Roman"/>
              </a:rPr>
              <a:t>are tod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666, he designed an experiment </a:t>
            </a:r>
            <a:br>
              <a:rPr sz="2400"/>
            </a:br>
            <a:r>
              <a:rPr b="0" lang="en-US" sz="2400" spc="-1" strike="noStrike">
                <a:solidFill>
                  <a:srgbClr val="000000"/>
                </a:solidFill>
                <a:latin typeface="Times New Roman"/>
              </a:rPr>
              <a:t>in which he took two prisms and </a:t>
            </a:r>
            <a:br>
              <a:rPr sz="2400"/>
            </a:br>
            <a:r>
              <a:rPr b="0" lang="en-US" sz="2400" spc="-1" strike="noStrike">
                <a:solidFill>
                  <a:srgbClr val="000000"/>
                </a:solidFill>
                <a:latin typeface="Times New Roman"/>
              </a:rPr>
              <a:t>flashed two rainbows on the wall </a:t>
            </a:r>
            <a:br>
              <a:rPr sz="2400"/>
            </a:br>
            <a:r>
              <a:rPr b="0" lang="en-US" sz="2400" spc="-1" strike="noStrike">
                <a:solidFill>
                  <a:srgbClr val="000000"/>
                </a:solidFill>
                <a:latin typeface="Times New Roman"/>
              </a:rPr>
              <a:t>using sunlight. He then moved the </a:t>
            </a:r>
            <a:br>
              <a:rPr sz="2400"/>
            </a:br>
            <a:r>
              <a:rPr b="0" lang="en-US" sz="2400" spc="-1" strike="noStrike">
                <a:solidFill>
                  <a:srgbClr val="000000"/>
                </a:solidFill>
                <a:latin typeface="Times New Roman"/>
              </a:rPr>
              <a:t>prisms until they were on top of </a:t>
            </a:r>
            <a:br>
              <a:rPr sz="2400"/>
            </a:br>
            <a:r>
              <a:rPr b="0" lang="en-US" sz="2400" spc="-1" strike="noStrike">
                <a:solidFill>
                  <a:srgbClr val="000000"/>
                </a:solidFill>
                <a:latin typeface="Times New Roman"/>
              </a:rPr>
              <a:t>each other. The result was white ligh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 led the way for all other scientists to study light and the electromagnetic spectru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what a little curiosity can do!!</a:t>
            </a:r>
            <a:endParaRPr b="0" lang="en-US" sz="2400" spc="-1" strike="noStrike">
              <a:solidFill>
                <a:srgbClr val="000000"/>
              </a:solidFill>
              <a:latin typeface="Times New Roman"/>
            </a:endParaRPr>
          </a:p>
        </p:txBody>
      </p:sp>
      <p:sp>
        <p:nvSpPr>
          <p:cNvPr id="4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914400" y="2127240"/>
            <a:ext cx="3657600" cy="320040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143000" y="2514600"/>
            <a:ext cx="2590920" cy="2362320"/>
          </a:xfrm>
          <a:prstGeom prst="diamond">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rot="1625400">
            <a:off x="469440" y="2552760"/>
            <a:ext cx="1371600" cy="533520"/>
          </a:xfrm>
          <a:prstGeom prst="rightArrow">
            <a:avLst>
              <a:gd name="adj1" fmla="val 50000"/>
              <a:gd name="adj2" fmla="val 64271"/>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1752480" y="3124080"/>
            <a:ext cx="838440" cy="1600200"/>
          </a:xfrm>
          <a:prstGeom prst="line">
            <a:avLst/>
          </a:prstGeom>
          <a:ln w="28440">
            <a:solidFill>
              <a:srgbClr val="fd03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752480" y="3124080"/>
            <a:ext cx="114300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590920" y="4724280"/>
            <a:ext cx="914400" cy="685800"/>
          </a:xfrm>
          <a:prstGeom prst="line">
            <a:avLst/>
          </a:prstGeom>
          <a:ln w="19080">
            <a:solidFill>
              <a:srgbClr val="fd03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895480" y="4495680"/>
            <a:ext cx="838440" cy="609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52480" y="3124080"/>
            <a:ext cx="914400" cy="152424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666880" y="4648320"/>
            <a:ext cx="914400" cy="68580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rot="1650000">
            <a:off x="686880" y="2590560"/>
            <a:ext cx="712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Times New Roman"/>
            </a:endParaRPr>
          </a:p>
        </p:txBody>
      </p:sp>
      <p:sp>
        <p:nvSpPr>
          <p:cNvPr id="501" name=""/>
          <p:cNvSpPr/>
          <p:nvPr/>
        </p:nvSpPr>
        <p:spPr>
          <a:xfrm>
            <a:off x="1752480" y="3124080"/>
            <a:ext cx="1067040" cy="144792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819520" y="4572000"/>
            <a:ext cx="838080" cy="60948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separate?</a:t>
            </a:r>
            <a:endParaRPr b="0" lang="en-US" sz="4400" spc="-1" strike="noStrike">
              <a:solidFill>
                <a:srgbClr val="000000"/>
              </a:solidFill>
              <a:latin typeface="Times New Roman"/>
            </a:endParaRPr>
          </a:p>
        </p:txBody>
      </p:sp>
      <p:sp>
        <p:nvSpPr>
          <p:cNvPr id="504" name="PlaceHolder 2"/>
          <p:cNvSpPr>
            <a:spLocks noGrp="1"/>
          </p:cNvSpPr>
          <p:nvPr>
            <p:ph/>
          </p:nvPr>
        </p:nvSpPr>
        <p:spPr>
          <a:xfrm>
            <a:off x="4876920" y="2006280"/>
            <a:ext cx="3962160" cy="396252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light separate into its different color frequencies when it hits a prism or water droplet?</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Review the definition of frequency and look at the picture on this slide.</a:t>
            </a:r>
            <a:endParaRPr b="0" lang="en-US" sz="2800" spc="-1" strike="noStrike">
              <a:solidFill>
                <a:srgbClr val="000000"/>
              </a:solidFill>
              <a:latin typeface="Times New Roman"/>
            </a:endParaRPr>
          </a:p>
        </p:txBody>
      </p:sp>
      <p:sp>
        <p:nvSpPr>
          <p:cNvPr id="5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238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and Conflict in the    New World</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1952280"/>
            <a:ext cx="6400800" cy="3809880"/>
          </a:xfrm>
          <a:prstGeom prst="rect">
            <a:avLst/>
          </a:prstGeom>
          <a:noFill/>
          <a:ln w="0">
            <a:noFill/>
          </a:ln>
        </p:spPr>
        <p:txBody>
          <a:bodyPr lIns="90000" rIns="90000" tIns="46800" bIns="46800" anchor="t">
            <a:noAutofit/>
          </a:bodyPr>
          <a:p>
            <a:pPr marL="339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lict between countries in Europe brought conflict to the New World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ntries were involved in the conflict in Europe?</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reasons for the conflicts? </a:t>
            </a:r>
            <a:endParaRPr b="0" lang="en-US" sz="2800" spc="-1" strike="noStrike">
              <a:solidFill>
                <a:srgbClr val="000000"/>
              </a:solidFill>
              <a:latin typeface="Times New Roman"/>
            </a:endParaRPr>
          </a:p>
          <a:p>
            <a:pPr marL="339840" indent="-339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conflicts occur in North America?</a:t>
            </a:r>
            <a:endParaRPr b="0" lang="en-US" sz="2800" spc="-1" strike="noStrike">
              <a:solidFill>
                <a:srgbClr val="000000"/>
              </a:solidFill>
              <a:latin typeface="Times New Roman"/>
            </a:endParaRPr>
          </a:p>
          <a:p>
            <a:pPr marL="3398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bend?</a:t>
            </a:r>
            <a:endParaRPr b="0" lang="en-US" sz="4400" spc="-1" strike="noStrike">
              <a:solidFill>
                <a:srgbClr val="000000"/>
              </a:solidFill>
              <a:latin typeface="Times New Roman"/>
            </a:endParaRPr>
          </a:p>
        </p:txBody>
      </p:sp>
      <p:pic>
        <p:nvPicPr>
          <p:cNvPr id="507" name="" descr=""/>
          <p:cNvPicPr/>
          <p:nvPr/>
        </p:nvPicPr>
        <p:blipFill>
          <a:blip r:embed="rId2"/>
          <a:stretch/>
        </p:blipFill>
        <p:spPr>
          <a:xfrm>
            <a:off x="824040" y="1447920"/>
            <a:ext cx="3747960" cy="1674720"/>
          </a:xfrm>
          <a:prstGeom prst="rect">
            <a:avLst/>
          </a:prstGeom>
          <a:ln w="0">
            <a:noFill/>
          </a:ln>
        </p:spPr>
      </p:pic>
      <p:sp>
        <p:nvSpPr>
          <p:cNvPr id="508" name=""/>
          <p:cNvSpPr/>
          <p:nvPr/>
        </p:nvSpPr>
        <p:spPr>
          <a:xfrm>
            <a:off x="838080" y="3276720"/>
            <a:ext cx="3733920" cy="304776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rot="19986600">
            <a:off x="2044440" y="5327280"/>
            <a:ext cx="533160" cy="12366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1600200" y="3809880"/>
            <a:ext cx="609480" cy="11430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rot="21532200">
            <a:off x="2160360" y="4744800"/>
            <a:ext cx="674640" cy="1625400"/>
          </a:xfrm>
          <a:custGeom>
            <a:avLst/>
            <a:gdLst/>
            <a:ahLst/>
            <a:rect l="l" t="t" r="r" b="b"/>
            <a:pathLst>
              <a:path w="776" h="1584">
                <a:moveTo>
                  <a:pt x="776" y="1584"/>
                </a:moveTo>
                <a:cubicBezTo>
                  <a:pt x="492" y="1092"/>
                  <a:pt x="208" y="600"/>
                  <a:pt x="104" y="336"/>
                </a:cubicBezTo>
                <a:cubicBezTo>
                  <a:pt x="0" y="72"/>
                  <a:pt x="76" y="36"/>
                  <a:pt x="152" y="0"/>
                </a:cubicBezTo>
              </a:path>
            </a:pathLst>
          </a:custGeom>
          <a:noFill/>
          <a:ln w="381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12" name=""/>
          <p:cNvSpPr/>
          <p:nvPr/>
        </p:nvSpPr>
        <p:spPr>
          <a:xfrm flipV="1">
            <a:off x="2197080" y="3669840"/>
            <a:ext cx="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225520" y="4361040"/>
            <a:ext cx="304920" cy="6094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flipH="1" flipV="1">
            <a:off x="2352600" y="5287680"/>
            <a:ext cx="60984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04920" y="5029200"/>
            <a:ext cx="14475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keeps going at its same speed.</a:t>
            </a:r>
            <a:endParaRPr b="0" lang="en-US" sz="1800" spc="-1" strike="noStrike">
              <a:solidFill>
                <a:srgbClr val="000000"/>
              </a:solidFill>
              <a:latin typeface="Times New Roman"/>
            </a:endParaRPr>
          </a:p>
        </p:txBody>
      </p:sp>
      <p:sp>
        <p:nvSpPr>
          <p:cNvPr id="516" name=""/>
          <p:cNvSpPr/>
          <p:nvPr/>
        </p:nvSpPr>
        <p:spPr>
          <a:xfrm>
            <a:off x="2971800" y="5105520"/>
            <a:ext cx="15238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slows down when it hits the glass.</a:t>
            </a:r>
            <a:endParaRPr b="0" lang="en-US" sz="1800" spc="-1" strike="noStrike">
              <a:solidFill>
                <a:srgbClr val="000000"/>
              </a:solidFill>
              <a:latin typeface="Times New Roman"/>
            </a:endParaRPr>
          </a:p>
        </p:txBody>
      </p:sp>
      <p:sp>
        <p:nvSpPr>
          <p:cNvPr id="517" name=""/>
          <p:cNvSpPr/>
          <p:nvPr/>
        </p:nvSpPr>
        <p:spPr>
          <a:xfrm flipV="1">
            <a:off x="1523880" y="5529240"/>
            <a:ext cx="27000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PlaceHolder 2"/>
          <p:cNvSpPr>
            <a:spLocks noGrp="1"/>
          </p:cNvSpPr>
          <p:nvPr>
            <p:ph/>
          </p:nvPr>
        </p:nvSpPr>
        <p:spPr>
          <a:xfrm>
            <a:off x="5070240" y="1371600"/>
            <a:ext cx="3692520" cy="4114800"/>
          </a:xfrm>
          <a:prstGeom prst="rect">
            <a:avLst/>
          </a:prstGeom>
          <a:noFill/>
          <a:ln w="0">
            <a:noFill/>
          </a:ln>
        </p:spPr>
        <p:txBody>
          <a:bodyPr lIns="90000" rIns="90000" tIns="46800" bIns="46800" anchor="t">
            <a:normAutofit fontScale="88000"/>
          </a:bodyPr>
          <a:p>
            <a:pPr marL="301680" indent="-301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the light moves from one medium to another, such as from air to glass, it slows down.  </a:t>
            </a:r>
            <a:endParaRPr b="0" lang="en-US" sz="2200" spc="-1" strike="noStrike">
              <a:solidFill>
                <a:srgbClr val="000000"/>
              </a:solidFill>
              <a:latin typeface="Times New Roman"/>
            </a:endParaRPr>
          </a:p>
          <a:p>
            <a:pPr marL="301680" indent="-301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the light hits the glass at an angle, the waves that hit first slow down first.</a:t>
            </a:r>
            <a:endParaRPr b="0" lang="en-US" sz="2200" spc="-1" strike="noStrike">
              <a:solidFill>
                <a:srgbClr val="000000"/>
              </a:solidFill>
              <a:latin typeface="Times New Roman"/>
            </a:endParaRPr>
          </a:p>
          <a:p>
            <a:pPr marL="301680" indent="-301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waves that don’t hit the glass first are still going at their same, fast speed until they hit the glass.</a:t>
            </a:r>
            <a:endParaRPr b="0" lang="en-US" sz="2200" spc="-1" strike="noStrike">
              <a:solidFill>
                <a:srgbClr val="000000"/>
              </a:solidFill>
              <a:latin typeface="Times New Roman"/>
            </a:endParaRPr>
          </a:p>
          <a:p>
            <a:pPr marL="301680" indent="-3016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ore about light, </a:t>
            </a:r>
            <a:br>
              <a:rPr sz="2200"/>
            </a:br>
            <a:r>
              <a:rPr b="0" lang="en-US" sz="2200" spc="-1" strike="noStrike" u="sng">
                <a:solidFill>
                  <a:srgbClr val="134173"/>
                </a:solidFill>
                <a:uFillTx/>
                <a:latin typeface="Times New Roman"/>
                <a:hlinkClick r:id="rId3"/>
              </a:rPr>
              <a:t>click here</a:t>
            </a:r>
            <a:endParaRPr b="0" lang="en-US" sz="2200" spc="-1" strike="noStrike">
              <a:solidFill>
                <a:srgbClr val="000000"/>
              </a:solidFill>
              <a:latin typeface="Times New Roman"/>
            </a:endParaRPr>
          </a:p>
        </p:txBody>
      </p:sp>
      <p:sp>
        <p:nvSpPr>
          <p:cNvPr id="5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0" name=""/>
          <p:cNvGrpSpPr/>
          <p:nvPr/>
        </p:nvGrpSpPr>
        <p:grpSpPr>
          <a:xfrm>
            <a:off x="5735520" y="2292480"/>
            <a:ext cx="2927160" cy="4151880"/>
            <a:chOff x="5735520" y="2292480"/>
            <a:chExt cx="2927160" cy="4151880"/>
          </a:xfrm>
        </p:grpSpPr>
        <p:sp>
          <p:nvSpPr>
            <p:cNvPr id="521" name=""/>
            <p:cNvSpPr/>
            <p:nvPr/>
          </p:nvSpPr>
          <p:spPr>
            <a:xfrm>
              <a:off x="5955840" y="2696040"/>
              <a:ext cx="2589840" cy="3229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5735520" y="2292480"/>
              <a:ext cx="2259000" cy="2768040"/>
              <a:chOff x="5735520" y="2292480"/>
              <a:chExt cx="2259000" cy="2768040"/>
            </a:xfrm>
          </p:grpSpPr>
          <p:sp>
            <p:nvSpPr>
              <p:cNvPr id="523" name=""/>
              <p:cNvSpPr/>
              <p:nvPr/>
            </p:nvSpPr>
            <p:spPr>
              <a:xfrm>
                <a:off x="6477120" y="3352320"/>
                <a:ext cx="511920" cy="535680"/>
              </a:xfrm>
              <a:custGeom>
                <a:avLst/>
                <a:gdLst/>
                <a:ahLst/>
                <a:rect l="l" t="t" r="r" b="b"/>
                <a:pathLst>
                  <a:path w="891" h="893">
                    <a:moveTo>
                      <a:pt x="445" y="893"/>
                    </a:moveTo>
                    <a:lnTo>
                      <a:pt x="491" y="891"/>
                    </a:lnTo>
                    <a:lnTo>
                      <a:pt x="534" y="884"/>
                    </a:lnTo>
                    <a:lnTo>
                      <a:pt x="578" y="872"/>
                    </a:lnTo>
                    <a:lnTo>
                      <a:pt x="618" y="858"/>
                    </a:lnTo>
                    <a:lnTo>
                      <a:pt x="658" y="839"/>
                    </a:lnTo>
                    <a:lnTo>
                      <a:pt x="694" y="816"/>
                    </a:lnTo>
                    <a:lnTo>
                      <a:pt x="729" y="790"/>
                    </a:lnTo>
                    <a:lnTo>
                      <a:pt x="760" y="762"/>
                    </a:lnTo>
                    <a:lnTo>
                      <a:pt x="788" y="731"/>
                    </a:lnTo>
                    <a:lnTo>
                      <a:pt x="814" y="696"/>
                    </a:lnTo>
                    <a:lnTo>
                      <a:pt x="837" y="660"/>
                    </a:lnTo>
                    <a:lnTo>
                      <a:pt x="856" y="620"/>
                    </a:lnTo>
                    <a:lnTo>
                      <a:pt x="870" y="580"/>
                    </a:lnTo>
                    <a:lnTo>
                      <a:pt x="882" y="536"/>
                    </a:lnTo>
                    <a:lnTo>
                      <a:pt x="889" y="493"/>
                    </a:lnTo>
                    <a:lnTo>
                      <a:pt x="891" y="447"/>
                    </a:lnTo>
                    <a:lnTo>
                      <a:pt x="889" y="402"/>
                    </a:lnTo>
                    <a:lnTo>
                      <a:pt x="882" y="357"/>
                    </a:lnTo>
                    <a:lnTo>
                      <a:pt x="870" y="315"/>
                    </a:lnTo>
                    <a:lnTo>
                      <a:pt x="856" y="273"/>
                    </a:lnTo>
                    <a:lnTo>
                      <a:pt x="837" y="233"/>
                    </a:lnTo>
                    <a:lnTo>
                      <a:pt x="814" y="197"/>
                    </a:lnTo>
                    <a:lnTo>
                      <a:pt x="788" y="162"/>
                    </a:lnTo>
                    <a:lnTo>
                      <a:pt x="760" y="131"/>
                    </a:lnTo>
                    <a:lnTo>
                      <a:pt x="729" y="103"/>
                    </a:lnTo>
                    <a:lnTo>
                      <a:pt x="694" y="77"/>
                    </a:lnTo>
                    <a:lnTo>
                      <a:pt x="658" y="54"/>
                    </a:lnTo>
                    <a:lnTo>
                      <a:pt x="618" y="35"/>
                    </a:lnTo>
                    <a:lnTo>
                      <a:pt x="578" y="21"/>
                    </a:lnTo>
                    <a:lnTo>
                      <a:pt x="534" y="9"/>
                    </a:lnTo>
                    <a:lnTo>
                      <a:pt x="491" y="2"/>
                    </a:lnTo>
                    <a:lnTo>
                      <a:pt x="445" y="0"/>
                    </a:lnTo>
                    <a:lnTo>
                      <a:pt x="400" y="2"/>
                    </a:lnTo>
                    <a:lnTo>
                      <a:pt x="357" y="9"/>
                    </a:lnTo>
                    <a:lnTo>
                      <a:pt x="313" y="21"/>
                    </a:lnTo>
                    <a:lnTo>
                      <a:pt x="273" y="35"/>
                    </a:lnTo>
                    <a:lnTo>
                      <a:pt x="233" y="54"/>
                    </a:lnTo>
                    <a:lnTo>
                      <a:pt x="196" y="77"/>
                    </a:lnTo>
                    <a:lnTo>
                      <a:pt x="162" y="103"/>
                    </a:lnTo>
                    <a:lnTo>
                      <a:pt x="130" y="131"/>
                    </a:lnTo>
                    <a:lnTo>
                      <a:pt x="103" y="162"/>
                    </a:lnTo>
                    <a:lnTo>
                      <a:pt x="76" y="197"/>
                    </a:lnTo>
                    <a:lnTo>
                      <a:pt x="54" y="233"/>
                    </a:lnTo>
                    <a:lnTo>
                      <a:pt x="35" y="273"/>
                    </a:lnTo>
                    <a:lnTo>
                      <a:pt x="21" y="315"/>
                    </a:lnTo>
                    <a:lnTo>
                      <a:pt x="9" y="357"/>
                    </a:lnTo>
                    <a:lnTo>
                      <a:pt x="2" y="402"/>
                    </a:lnTo>
                    <a:lnTo>
                      <a:pt x="0" y="447"/>
                    </a:lnTo>
                    <a:lnTo>
                      <a:pt x="2" y="493"/>
                    </a:lnTo>
                    <a:lnTo>
                      <a:pt x="9" y="536"/>
                    </a:lnTo>
                    <a:lnTo>
                      <a:pt x="21" y="580"/>
                    </a:lnTo>
                    <a:lnTo>
                      <a:pt x="35" y="620"/>
                    </a:lnTo>
                    <a:lnTo>
                      <a:pt x="54" y="660"/>
                    </a:lnTo>
                    <a:lnTo>
                      <a:pt x="76" y="696"/>
                    </a:lnTo>
                    <a:lnTo>
                      <a:pt x="103" y="731"/>
                    </a:lnTo>
                    <a:lnTo>
                      <a:pt x="130" y="762"/>
                    </a:lnTo>
                    <a:lnTo>
                      <a:pt x="162" y="790"/>
                    </a:lnTo>
                    <a:lnTo>
                      <a:pt x="196" y="816"/>
                    </a:lnTo>
                    <a:lnTo>
                      <a:pt x="233" y="839"/>
                    </a:lnTo>
                    <a:lnTo>
                      <a:pt x="273" y="858"/>
                    </a:lnTo>
                    <a:lnTo>
                      <a:pt x="313" y="872"/>
                    </a:lnTo>
                    <a:lnTo>
                      <a:pt x="357" y="884"/>
                    </a:lnTo>
                    <a:lnTo>
                      <a:pt x="400" y="891"/>
                    </a:lnTo>
                    <a:lnTo>
                      <a:pt x="445" y="89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55240" y="3434040"/>
                <a:ext cx="387720" cy="405720"/>
              </a:xfrm>
              <a:custGeom>
                <a:avLst/>
                <a:gdLst/>
                <a:ahLst/>
                <a:rect l="l" t="t" r="r" b="b"/>
                <a:pathLst>
                  <a:path w="675" h="677">
                    <a:moveTo>
                      <a:pt x="502" y="0"/>
                    </a:moveTo>
                    <a:lnTo>
                      <a:pt x="529" y="26"/>
                    </a:lnTo>
                    <a:lnTo>
                      <a:pt x="553" y="56"/>
                    </a:lnTo>
                    <a:lnTo>
                      <a:pt x="572" y="85"/>
                    </a:lnTo>
                    <a:lnTo>
                      <a:pt x="589" y="118"/>
                    </a:lnTo>
                    <a:lnTo>
                      <a:pt x="603" y="153"/>
                    </a:lnTo>
                    <a:lnTo>
                      <a:pt x="614" y="191"/>
                    </a:lnTo>
                    <a:lnTo>
                      <a:pt x="621" y="228"/>
                    </a:lnTo>
                    <a:lnTo>
                      <a:pt x="623" y="268"/>
                    </a:lnTo>
                    <a:lnTo>
                      <a:pt x="621" y="305"/>
                    </a:lnTo>
                    <a:lnTo>
                      <a:pt x="616" y="339"/>
                    </a:lnTo>
                    <a:lnTo>
                      <a:pt x="607" y="374"/>
                    </a:lnTo>
                    <a:lnTo>
                      <a:pt x="595" y="407"/>
                    </a:lnTo>
                    <a:lnTo>
                      <a:pt x="579" y="437"/>
                    </a:lnTo>
                    <a:lnTo>
                      <a:pt x="562" y="466"/>
                    </a:lnTo>
                    <a:lnTo>
                      <a:pt x="541" y="494"/>
                    </a:lnTo>
                    <a:lnTo>
                      <a:pt x="518" y="519"/>
                    </a:lnTo>
                    <a:lnTo>
                      <a:pt x="492" y="543"/>
                    </a:lnTo>
                    <a:lnTo>
                      <a:pt x="466" y="562"/>
                    </a:lnTo>
                    <a:lnTo>
                      <a:pt x="436" y="579"/>
                    </a:lnTo>
                    <a:lnTo>
                      <a:pt x="405" y="595"/>
                    </a:lnTo>
                    <a:lnTo>
                      <a:pt x="372" y="607"/>
                    </a:lnTo>
                    <a:lnTo>
                      <a:pt x="337" y="616"/>
                    </a:lnTo>
                    <a:lnTo>
                      <a:pt x="302" y="621"/>
                    </a:lnTo>
                    <a:lnTo>
                      <a:pt x="266" y="623"/>
                    </a:lnTo>
                    <a:lnTo>
                      <a:pt x="226" y="621"/>
                    </a:lnTo>
                    <a:lnTo>
                      <a:pt x="189" y="614"/>
                    </a:lnTo>
                    <a:lnTo>
                      <a:pt x="153" y="606"/>
                    </a:lnTo>
                    <a:lnTo>
                      <a:pt x="118" y="592"/>
                    </a:lnTo>
                    <a:lnTo>
                      <a:pt x="85" y="574"/>
                    </a:lnTo>
                    <a:lnTo>
                      <a:pt x="54" y="555"/>
                    </a:lnTo>
                    <a:lnTo>
                      <a:pt x="26" y="532"/>
                    </a:lnTo>
                    <a:lnTo>
                      <a:pt x="0" y="506"/>
                    </a:lnTo>
                    <a:lnTo>
                      <a:pt x="12" y="526"/>
                    </a:lnTo>
                    <a:lnTo>
                      <a:pt x="26" y="543"/>
                    </a:lnTo>
                    <a:lnTo>
                      <a:pt x="41" y="560"/>
                    </a:lnTo>
                    <a:lnTo>
                      <a:pt x="57" y="576"/>
                    </a:lnTo>
                    <a:lnTo>
                      <a:pt x="74" y="590"/>
                    </a:lnTo>
                    <a:lnTo>
                      <a:pt x="92" y="604"/>
                    </a:lnTo>
                    <a:lnTo>
                      <a:pt x="111" y="618"/>
                    </a:lnTo>
                    <a:lnTo>
                      <a:pt x="130" y="630"/>
                    </a:lnTo>
                    <a:lnTo>
                      <a:pt x="149" y="640"/>
                    </a:lnTo>
                    <a:lnTo>
                      <a:pt x="170" y="649"/>
                    </a:lnTo>
                    <a:lnTo>
                      <a:pt x="193" y="658"/>
                    </a:lnTo>
                    <a:lnTo>
                      <a:pt x="215" y="665"/>
                    </a:lnTo>
                    <a:lnTo>
                      <a:pt x="238" y="670"/>
                    </a:lnTo>
                    <a:lnTo>
                      <a:pt x="261" y="673"/>
                    </a:lnTo>
                    <a:lnTo>
                      <a:pt x="285" y="677"/>
                    </a:lnTo>
                    <a:lnTo>
                      <a:pt x="309" y="677"/>
                    </a:lnTo>
                    <a:lnTo>
                      <a:pt x="346" y="675"/>
                    </a:lnTo>
                    <a:lnTo>
                      <a:pt x="382" y="670"/>
                    </a:lnTo>
                    <a:lnTo>
                      <a:pt x="417" y="661"/>
                    </a:lnTo>
                    <a:lnTo>
                      <a:pt x="452" y="647"/>
                    </a:lnTo>
                    <a:lnTo>
                      <a:pt x="483" y="633"/>
                    </a:lnTo>
                    <a:lnTo>
                      <a:pt x="513" y="614"/>
                    </a:lnTo>
                    <a:lnTo>
                      <a:pt x="542" y="593"/>
                    </a:lnTo>
                    <a:lnTo>
                      <a:pt x="569" y="569"/>
                    </a:lnTo>
                    <a:lnTo>
                      <a:pt x="591" y="545"/>
                    </a:lnTo>
                    <a:lnTo>
                      <a:pt x="612" y="515"/>
                    </a:lnTo>
                    <a:lnTo>
                      <a:pt x="631" y="485"/>
                    </a:lnTo>
                    <a:lnTo>
                      <a:pt x="647" y="454"/>
                    </a:lnTo>
                    <a:lnTo>
                      <a:pt x="659" y="419"/>
                    </a:lnTo>
                    <a:lnTo>
                      <a:pt x="668" y="385"/>
                    </a:lnTo>
                    <a:lnTo>
                      <a:pt x="673" y="348"/>
                    </a:lnTo>
                    <a:lnTo>
                      <a:pt x="675" y="311"/>
                    </a:lnTo>
                    <a:lnTo>
                      <a:pt x="671" y="263"/>
                    </a:lnTo>
                    <a:lnTo>
                      <a:pt x="663" y="218"/>
                    </a:lnTo>
                    <a:lnTo>
                      <a:pt x="647" y="172"/>
                    </a:lnTo>
                    <a:lnTo>
                      <a:pt x="628" y="132"/>
                    </a:lnTo>
                    <a:lnTo>
                      <a:pt x="603" y="94"/>
                    </a:lnTo>
                    <a:lnTo>
                      <a:pt x="574" y="57"/>
                    </a:lnTo>
                    <a:lnTo>
                      <a:pt x="539" y="28"/>
                    </a:lnTo>
                    <a:lnTo>
                      <a:pt x="502"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081920" y="3315960"/>
                <a:ext cx="275400" cy="166680"/>
              </a:xfrm>
              <a:custGeom>
                <a:avLst/>
                <a:gdLst/>
                <a:ahLst/>
                <a:rect l="l" t="t" r="r" b="b"/>
                <a:pathLst>
                  <a:path w="480" h="279">
                    <a:moveTo>
                      <a:pt x="261" y="247"/>
                    </a:moveTo>
                    <a:lnTo>
                      <a:pt x="311" y="253"/>
                    </a:lnTo>
                    <a:lnTo>
                      <a:pt x="356" y="230"/>
                    </a:lnTo>
                    <a:lnTo>
                      <a:pt x="393" y="192"/>
                    </a:lnTo>
                    <a:lnTo>
                      <a:pt x="424" y="143"/>
                    </a:lnTo>
                    <a:lnTo>
                      <a:pt x="449" y="93"/>
                    </a:lnTo>
                    <a:lnTo>
                      <a:pt x="466" y="46"/>
                    </a:lnTo>
                    <a:lnTo>
                      <a:pt x="476" y="13"/>
                    </a:lnTo>
                    <a:lnTo>
                      <a:pt x="480" y="0"/>
                    </a:lnTo>
                    <a:lnTo>
                      <a:pt x="478" y="2"/>
                    </a:lnTo>
                    <a:lnTo>
                      <a:pt x="475" y="7"/>
                    </a:lnTo>
                    <a:lnTo>
                      <a:pt x="468" y="16"/>
                    </a:lnTo>
                    <a:lnTo>
                      <a:pt x="459" y="25"/>
                    </a:lnTo>
                    <a:lnTo>
                      <a:pt x="447" y="37"/>
                    </a:lnTo>
                    <a:lnTo>
                      <a:pt x="433" y="49"/>
                    </a:lnTo>
                    <a:lnTo>
                      <a:pt x="415" y="61"/>
                    </a:lnTo>
                    <a:lnTo>
                      <a:pt x="396" y="75"/>
                    </a:lnTo>
                    <a:lnTo>
                      <a:pt x="375" y="86"/>
                    </a:lnTo>
                    <a:lnTo>
                      <a:pt x="353" y="96"/>
                    </a:lnTo>
                    <a:lnTo>
                      <a:pt x="327" y="105"/>
                    </a:lnTo>
                    <a:lnTo>
                      <a:pt x="301" y="110"/>
                    </a:lnTo>
                    <a:lnTo>
                      <a:pt x="271" y="112"/>
                    </a:lnTo>
                    <a:lnTo>
                      <a:pt x="240" y="110"/>
                    </a:lnTo>
                    <a:lnTo>
                      <a:pt x="207" y="103"/>
                    </a:lnTo>
                    <a:lnTo>
                      <a:pt x="172" y="93"/>
                    </a:lnTo>
                    <a:lnTo>
                      <a:pt x="111" y="79"/>
                    </a:lnTo>
                    <a:lnTo>
                      <a:pt x="66" y="89"/>
                    </a:lnTo>
                    <a:lnTo>
                      <a:pt x="34" y="119"/>
                    </a:lnTo>
                    <a:lnTo>
                      <a:pt x="15" y="157"/>
                    </a:lnTo>
                    <a:lnTo>
                      <a:pt x="5" y="200"/>
                    </a:lnTo>
                    <a:lnTo>
                      <a:pt x="0" y="239"/>
                    </a:lnTo>
                    <a:lnTo>
                      <a:pt x="0" y="268"/>
                    </a:lnTo>
                    <a:lnTo>
                      <a:pt x="0" y="279"/>
                    </a:lnTo>
                    <a:lnTo>
                      <a:pt x="22" y="253"/>
                    </a:lnTo>
                    <a:lnTo>
                      <a:pt x="45" y="234"/>
                    </a:lnTo>
                    <a:lnTo>
                      <a:pt x="71" y="221"/>
                    </a:lnTo>
                    <a:lnTo>
                      <a:pt x="99" y="214"/>
                    </a:lnTo>
                    <a:lnTo>
                      <a:pt x="130" y="214"/>
                    </a:lnTo>
                    <a:lnTo>
                      <a:pt x="167" y="220"/>
                    </a:lnTo>
                    <a:lnTo>
                      <a:pt x="210" y="230"/>
                    </a:lnTo>
                    <a:lnTo>
                      <a:pt x="261" y="247"/>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62480" y="3493800"/>
                <a:ext cx="932040" cy="248760"/>
              </a:xfrm>
              <a:custGeom>
                <a:avLst/>
                <a:gdLst/>
                <a:ahLst/>
                <a:rect l="l" t="t" r="r" b="b"/>
                <a:pathLst>
                  <a:path w="1141" h="414">
                    <a:moveTo>
                      <a:pt x="671" y="129"/>
                    </a:moveTo>
                    <a:lnTo>
                      <a:pt x="661" y="143"/>
                    </a:lnTo>
                    <a:lnTo>
                      <a:pt x="650" y="155"/>
                    </a:lnTo>
                    <a:lnTo>
                      <a:pt x="636" y="165"/>
                    </a:lnTo>
                    <a:lnTo>
                      <a:pt x="624" y="176"/>
                    </a:lnTo>
                    <a:lnTo>
                      <a:pt x="610" y="183"/>
                    </a:lnTo>
                    <a:lnTo>
                      <a:pt x="595" y="188"/>
                    </a:lnTo>
                    <a:lnTo>
                      <a:pt x="579" y="193"/>
                    </a:lnTo>
                    <a:lnTo>
                      <a:pt x="563" y="197"/>
                    </a:lnTo>
                    <a:lnTo>
                      <a:pt x="532" y="199"/>
                    </a:lnTo>
                    <a:lnTo>
                      <a:pt x="501" y="195"/>
                    </a:lnTo>
                    <a:lnTo>
                      <a:pt x="468" y="186"/>
                    </a:lnTo>
                    <a:lnTo>
                      <a:pt x="436" y="172"/>
                    </a:lnTo>
                    <a:lnTo>
                      <a:pt x="405" y="155"/>
                    </a:lnTo>
                    <a:lnTo>
                      <a:pt x="375" y="134"/>
                    </a:lnTo>
                    <a:lnTo>
                      <a:pt x="348" y="108"/>
                    </a:lnTo>
                    <a:lnTo>
                      <a:pt x="321" y="77"/>
                    </a:lnTo>
                    <a:lnTo>
                      <a:pt x="288" y="40"/>
                    </a:lnTo>
                    <a:lnTo>
                      <a:pt x="257" y="16"/>
                    </a:lnTo>
                    <a:lnTo>
                      <a:pt x="227" y="4"/>
                    </a:lnTo>
                    <a:lnTo>
                      <a:pt x="198" y="0"/>
                    </a:lnTo>
                    <a:lnTo>
                      <a:pt x="170" y="7"/>
                    </a:lnTo>
                    <a:lnTo>
                      <a:pt x="144" y="19"/>
                    </a:lnTo>
                    <a:lnTo>
                      <a:pt x="118" y="38"/>
                    </a:lnTo>
                    <a:lnTo>
                      <a:pt x="95" y="61"/>
                    </a:lnTo>
                    <a:lnTo>
                      <a:pt x="74" y="85"/>
                    </a:lnTo>
                    <a:lnTo>
                      <a:pt x="55" y="113"/>
                    </a:lnTo>
                    <a:lnTo>
                      <a:pt x="40" y="139"/>
                    </a:lnTo>
                    <a:lnTo>
                      <a:pt x="26" y="164"/>
                    </a:lnTo>
                    <a:lnTo>
                      <a:pt x="15" y="186"/>
                    </a:lnTo>
                    <a:lnTo>
                      <a:pt x="6" y="204"/>
                    </a:lnTo>
                    <a:lnTo>
                      <a:pt x="1" y="216"/>
                    </a:lnTo>
                    <a:lnTo>
                      <a:pt x="0" y="219"/>
                    </a:lnTo>
                    <a:lnTo>
                      <a:pt x="15" y="212"/>
                    </a:lnTo>
                    <a:lnTo>
                      <a:pt x="31" y="206"/>
                    </a:lnTo>
                    <a:lnTo>
                      <a:pt x="48" y="200"/>
                    </a:lnTo>
                    <a:lnTo>
                      <a:pt x="67" y="193"/>
                    </a:lnTo>
                    <a:lnTo>
                      <a:pt x="88" y="188"/>
                    </a:lnTo>
                    <a:lnTo>
                      <a:pt x="107" y="183"/>
                    </a:lnTo>
                    <a:lnTo>
                      <a:pt x="128" y="181"/>
                    </a:lnTo>
                    <a:lnTo>
                      <a:pt x="151" y="179"/>
                    </a:lnTo>
                    <a:lnTo>
                      <a:pt x="172" y="181"/>
                    </a:lnTo>
                    <a:lnTo>
                      <a:pt x="194" y="186"/>
                    </a:lnTo>
                    <a:lnTo>
                      <a:pt x="215" y="193"/>
                    </a:lnTo>
                    <a:lnTo>
                      <a:pt x="236" y="204"/>
                    </a:lnTo>
                    <a:lnTo>
                      <a:pt x="257" y="218"/>
                    </a:lnTo>
                    <a:lnTo>
                      <a:pt x="278" y="235"/>
                    </a:lnTo>
                    <a:lnTo>
                      <a:pt x="297" y="258"/>
                    </a:lnTo>
                    <a:lnTo>
                      <a:pt x="314" y="286"/>
                    </a:lnTo>
                    <a:lnTo>
                      <a:pt x="330" y="310"/>
                    </a:lnTo>
                    <a:lnTo>
                      <a:pt x="348" y="333"/>
                    </a:lnTo>
                    <a:lnTo>
                      <a:pt x="367" y="353"/>
                    </a:lnTo>
                    <a:lnTo>
                      <a:pt x="388" y="371"/>
                    </a:lnTo>
                    <a:lnTo>
                      <a:pt x="410" y="386"/>
                    </a:lnTo>
                    <a:lnTo>
                      <a:pt x="433" y="399"/>
                    </a:lnTo>
                    <a:lnTo>
                      <a:pt x="455" y="407"/>
                    </a:lnTo>
                    <a:lnTo>
                      <a:pt x="480" y="413"/>
                    </a:lnTo>
                    <a:lnTo>
                      <a:pt x="509" y="414"/>
                    </a:lnTo>
                    <a:lnTo>
                      <a:pt x="539" y="413"/>
                    </a:lnTo>
                    <a:lnTo>
                      <a:pt x="569" y="404"/>
                    </a:lnTo>
                    <a:lnTo>
                      <a:pt x="596" y="388"/>
                    </a:lnTo>
                    <a:lnTo>
                      <a:pt x="624" y="369"/>
                    </a:lnTo>
                    <a:lnTo>
                      <a:pt x="652" y="341"/>
                    </a:lnTo>
                    <a:lnTo>
                      <a:pt x="676" y="308"/>
                    </a:lnTo>
                    <a:lnTo>
                      <a:pt x="701" y="266"/>
                    </a:lnTo>
                    <a:lnTo>
                      <a:pt x="723" y="230"/>
                    </a:lnTo>
                    <a:lnTo>
                      <a:pt x="751" y="202"/>
                    </a:lnTo>
                    <a:lnTo>
                      <a:pt x="783" y="183"/>
                    </a:lnTo>
                    <a:lnTo>
                      <a:pt x="817" y="171"/>
                    </a:lnTo>
                    <a:lnTo>
                      <a:pt x="852" y="165"/>
                    </a:lnTo>
                    <a:lnTo>
                      <a:pt x="889" y="165"/>
                    </a:lnTo>
                    <a:lnTo>
                      <a:pt x="925" y="169"/>
                    </a:lnTo>
                    <a:lnTo>
                      <a:pt x="964" y="178"/>
                    </a:lnTo>
                    <a:lnTo>
                      <a:pt x="998" y="188"/>
                    </a:lnTo>
                    <a:lnTo>
                      <a:pt x="1031" y="200"/>
                    </a:lnTo>
                    <a:lnTo>
                      <a:pt x="1061" y="212"/>
                    </a:lnTo>
                    <a:lnTo>
                      <a:pt x="1087" y="225"/>
                    </a:lnTo>
                    <a:lnTo>
                      <a:pt x="1110" y="237"/>
                    </a:lnTo>
                    <a:lnTo>
                      <a:pt x="1127" y="246"/>
                    </a:lnTo>
                    <a:lnTo>
                      <a:pt x="1138" y="253"/>
                    </a:lnTo>
                    <a:lnTo>
                      <a:pt x="1141" y="254"/>
                    </a:lnTo>
                    <a:lnTo>
                      <a:pt x="1138" y="251"/>
                    </a:lnTo>
                    <a:lnTo>
                      <a:pt x="1127" y="239"/>
                    </a:lnTo>
                    <a:lnTo>
                      <a:pt x="1113" y="221"/>
                    </a:lnTo>
                    <a:lnTo>
                      <a:pt x="1092" y="200"/>
                    </a:lnTo>
                    <a:lnTo>
                      <a:pt x="1066" y="176"/>
                    </a:lnTo>
                    <a:lnTo>
                      <a:pt x="1038" y="150"/>
                    </a:lnTo>
                    <a:lnTo>
                      <a:pt x="1005" y="124"/>
                    </a:lnTo>
                    <a:lnTo>
                      <a:pt x="970" y="99"/>
                    </a:lnTo>
                    <a:lnTo>
                      <a:pt x="934" y="77"/>
                    </a:lnTo>
                    <a:lnTo>
                      <a:pt x="896" y="59"/>
                    </a:lnTo>
                    <a:lnTo>
                      <a:pt x="856" y="49"/>
                    </a:lnTo>
                    <a:lnTo>
                      <a:pt x="817" y="44"/>
                    </a:lnTo>
                    <a:lnTo>
                      <a:pt x="779" y="49"/>
                    </a:lnTo>
                    <a:lnTo>
                      <a:pt x="741" y="63"/>
                    </a:lnTo>
                    <a:lnTo>
                      <a:pt x="704" y="89"/>
                    </a:lnTo>
                    <a:lnTo>
                      <a:pt x="671" y="129"/>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57280" y="3991680"/>
                <a:ext cx="159480" cy="288000"/>
              </a:xfrm>
              <a:custGeom>
                <a:avLst/>
                <a:gdLst/>
                <a:ahLst/>
                <a:rect l="l" t="t" r="r" b="b"/>
                <a:pathLst>
                  <a:path w="278" h="480">
                    <a:moveTo>
                      <a:pt x="169" y="241"/>
                    </a:moveTo>
                    <a:lnTo>
                      <a:pt x="171" y="226"/>
                    </a:lnTo>
                    <a:lnTo>
                      <a:pt x="174" y="208"/>
                    </a:lnTo>
                    <a:lnTo>
                      <a:pt x="179" y="189"/>
                    </a:lnTo>
                    <a:lnTo>
                      <a:pt x="186" y="172"/>
                    </a:lnTo>
                    <a:lnTo>
                      <a:pt x="200" y="109"/>
                    </a:lnTo>
                    <a:lnTo>
                      <a:pt x="188" y="66"/>
                    </a:lnTo>
                    <a:lnTo>
                      <a:pt x="160" y="34"/>
                    </a:lnTo>
                    <a:lnTo>
                      <a:pt x="122" y="15"/>
                    </a:lnTo>
                    <a:lnTo>
                      <a:pt x="78" y="5"/>
                    </a:lnTo>
                    <a:lnTo>
                      <a:pt x="40" y="0"/>
                    </a:lnTo>
                    <a:lnTo>
                      <a:pt x="11" y="0"/>
                    </a:lnTo>
                    <a:lnTo>
                      <a:pt x="0" y="0"/>
                    </a:lnTo>
                    <a:lnTo>
                      <a:pt x="26" y="22"/>
                    </a:lnTo>
                    <a:lnTo>
                      <a:pt x="45" y="45"/>
                    </a:lnTo>
                    <a:lnTo>
                      <a:pt x="57" y="71"/>
                    </a:lnTo>
                    <a:lnTo>
                      <a:pt x="64" y="97"/>
                    </a:lnTo>
                    <a:lnTo>
                      <a:pt x="64" y="130"/>
                    </a:lnTo>
                    <a:lnTo>
                      <a:pt x="59" y="167"/>
                    </a:lnTo>
                    <a:lnTo>
                      <a:pt x="47" y="208"/>
                    </a:lnTo>
                    <a:lnTo>
                      <a:pt x="30" y="259"/>
                    </a:lnTo>
                    <a:lnTo>
                      <a:pt x="26" y="271"/>
                    </a:lnTo>
                    <a:lnTo>
                      <a:pt x="24" y="283"/>
                    </a:lnTo>
                    <a:lnTo>
                      <a:pt x="24" y="295"/>
                    </a:lnTo>
                    <a:lnTo>
                      <a:pt x="26" y="308"/>
                    </a:lnTo>
                    <a:lnTo>
                      <a:pt x="42" y="348"/>
                    </a:lnTo>
                    <a:lnTo>
                      <a:pt x="73" y="382"/>
                    </a:lnTo>
                    <a:lnTo>
                      <a:pt x="115" y="412"/>
                    </a:lnTo>
                    <a:lnTo>
                      <a:pt x="160" y="436"/>
                    </a:lnTo>
                    <a:lnTo>
                      <a:pt x="204" y="455"/>
                    </a:lnTo>
                    <a:lnTo>
                      <a:pt x="242" y="469"/>
                    </a:lnTo>
                    <a:lnTo>
                      <a:pt x="268" y="476"/>
                    </a:lnTo>
                    <a:lnTo>
                      <a:pt x="278" y="480"/>
                    </a:lnTo>
                    <a:lnTo>
                      <a:pt x="273" y="476"/>
                    </a:lnTo>
                    <a:lnTo>
                      <a:pt x="259" y="464"/>
                    </a:lnTo>
                    <a:lnTo>
                      <a:pt x="238" y="443"/>
                    </a:lnTo>
                    <a:lnTo>
                      <a:pt x="218" y="415"/>
                    </a:lnTo>
                    <a:lnTo>
                      <a:pt x="197" y="382"/>
                    </a:lnTo>
                    <a:lnTo>
                      <a:pt x="179" y="341"/>
                    </a:lnTo>
                    <a:lnTo>
                      <a:pt x="169" y="294"/>
                    </a:lnTo>
                    <a:lnTo>
                      <a:pt x="169" y="241"/>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947640" y="3792240"/>
                <a:ext cx="826560" cy="807120"/>
              </a:xfrm>
              <a:custGeom>
                <a:avLst/>
                <a:gdLst/>
                <a:ahLst/>
                <a:rect l="l" t="t" r="r" b="b"/>
                <a:pathLst>
                  <a:path w="787" h="877">
                    <a:moveTo>
                      <a:pt x="538" y="456"/>
                    </a:moveTo>
                    <a:lnTo>
                      <a:pt x="498" y="458"/>
                    </a:lnTo>
                    <a:lnTo>
                      <a:pt x="459" y="451"/>
                    </a:lnTo>
                    <a:lnTo>
                      <a:pt x="425" y="435"/>
                    </a:lnTo>
                    <a:lnTo>
                      <a:pt x="395" y="411"/>
                    </a:lnTo>
                    <a:lnTo>
                      <a:pt x="369" y="379"/>
                    </a:lnTo>
                    <a:lnTo>
                      <a:pt x="348" y="343"/>
                    </a:lnTo>
                    <a:lnTo>
                      <a:pt x="334" y="299"/>
                    </a:lnTo>
                    <a:lnTo>
                      <a:pt x="325" y="254"/>
                    </a:lnTo>
                    <a:lnTo>
                      <a:pt x="324" y="235"/>
                    </a:lnTo>
                    <a:lnTo>
                      <a:pt x="324" y="214"/>
                    </a:lnTo>
                    <a:lnTo>
                      <a:pt x="325" y="193"/>
                    </a:lnTo>
                    <a:lnTo>
                      <a:pt x="327" y="170"/>
                    </a:lnTo>
                    <a:lnTo>
                      <a:pt x="331" y="122"/>
                    </a:lnTo>
                    <a:lnTo>
                      <a:pt x="325" y="82"/>
                    </a:lnTo>
                    <a:lnTo>
                      <a:pt x="313" y="52"/>
                    </a:lnTo>
                    <a:lnTo>
                      <a:pt x="294" y="29"/>
                    </a:lnTo>
                    <a:lnTo>
                      <a:pt x="270" y="14"/>
                    </a:lnTo>
                    <a:lnTo>
                      <a:pt x="242" y="3"/>
                    </a:lnTo>
                    <a:lnTo>
                      <a:pt x="212" y="0"/>
                    </a:lnTo>
                    <a:lnTo>
                      <a:pt x="179" y="0"/>
                    </a:lnTo>
                    <a:lnTo>
                      <a:pt x="146" y="2"/>
                    </a:lnTo>
                    <a:lnTo>
                      <a:pt x="115" y="9"/>
                    </a:lnTo>
                    <a:lnTo>
                      <a:pt x="84" y="16"/>
                    </a:lnTo>
                    <a:lnTo>
                      <a:pt x="57" y="23"/>
                    </a:lnTo>
                    <a:lnTo>
                      <a:pt x="33" y="31"/>
                    </a:lnTo>
                    <a:lnTo>
                      <a:pt x="16" y="36"/>
                    </a:lnTo>
                    <a:lnTo>
                      <a:pt x="4" y="42"/>
                    </a:lnTo>
                    <a:lnTo>
                      <a:pt x="0" y="43"/>
                    </a:lnTo>
                    <a:lnTo>
                      <a:pt x="31" y="57"/>
                    </a:lnTo>
                    <a:lnTo>
                      <a:pt x="66" y="73"/>
                    </a:lnTo>
                    <a:lnTo>
                      <a:pt x="101" y="96"/>
                    </a:lnTo>
                    <a:lnTo>
                      <a:pt x="134" y="123"/>
                    </a:lnTo>
                    <a:lnTo>
                      <a:pt x="160" y="158"/>
                    </a:lnTo>
                    <a:lnTo>
                      <a:pt x="178" y="202"/>
                    </a:lnTo>
                    <a:lnTo>
                      <a:pt x="183" y="252"/>
                    </a:lnTo>
                    <a:lnTo>
                      <a:pt x="174" y="315"/>
                    </a:lnTo>
                    <a:lnTo>
                      <a:pt x="171" y="331"/>
                    </a:lnTo>
                    <a:lnTo>
                      <a:pt x="167" y="346"/>
                    </a:lnTo>
                    <a:lnTo>
                      <a:pt x="165" y="364"/>
                    </a:lnTo>
                    <a:lnTo>
                      <a:pt x="165" y="379"/>
                    </a:lnTo>
                    <a:lnTo>
                      <a:pt x="165" y="405"/>
                    </a:lnTo>
                    <a:lnTo>
                      <a:pt x="167" y="431"/>
                    </a:lnTo>
                    <a:lnTo>
                      <a:pt x="172" y="456"/>
                    </a:lnTo>
                    <a:lnTo>
                      <a:pt x="179" y="478"/>
                    </a:lnTo>
                    <a:lnTo>
                      <a:pt x="190" y="501"/>
                    </a:lnTo>
                    <a:lnTo>
                      <a:pt x="202" y="520"/>
                    </a:lnTo>
                    <a:lnTo>
                      <a:pt x="218" y="539"/>
                    </a:lnTo>
                    <a:lnTo>
                      <a:pt x="235" y="555"/>
                    </a:lnTo>
                    <a:lnTo>
                      <a:pt x="254" y="569"/>
                    </a:lnTo>
                    <a:lnTo>
                      <a:pt x="277" y="579"/>
                    </a:lnTo>
                    <a:lnTo>
                      <a:pt x="301" y="586"/>
                    </a:lnTo>
                    <a:lnTo>
                      <a:pt x="329" y="592"/>
                    </a:lnTo>
                    <a:lnTo>
                      <a:pt x="358" y="593"/>
                    </a:lnTo>
                    <a:lnTo>
                      <a:pt x="390" y="590"/>
                    </a:lnTo>
                    <a:lnTo>
                      <a:pt x="425" y="585"/>
                    </a:lnTo>
                    <a:lnTo>
                      <a:pt x="461" y="574"/>
                    </a:lnTo>
                    <a:lnTo>
                      <a:pt x="503" y="565"/>
                    </a:lnTo>
                    <a:lnTo>
                      <a:pt x="543" y="565"/>
                    </a:lnTo>
                    <a:lnTo>
                      <a:pt x="579" y="572"/>
                    </a:lnTo>
                    <a:lnTo>
                      <a:pt x="611" y="588"/>
                    </a:lnTo>
                    <a:lnTo>
                      <a:pt x="640" y="609"/>
                    </a:lnTo>
                    <a:lnTo>
                      <a:pt x="666" y="635"/>
                    </a:lnTo>
                    <a:lnTo>
                      <a:pt x="691" y="665"/>
                    </a:lnTo>
                    <a:lnTo>
                      <a:pt x="712" y="696"/>
                    </a:lnTo>
                    <a:lnTo>
                      <a:pt x="729" y="729"/>
                    </a:lnTo>
                    <a:lnTo>
                      <a:pt x="743" y="760"/>
                    </a:lnTo>
                    <a:lnTo>
                      <a:pt x="755" y="792"/>
                    </a:lnTo>
                    <a:lnTo>
                      <a:pt x="766" y="818"/>
                    </a:lnTo>
                    <a:lnTo>
                      <a:pt x="774" y="842"/>
                    </a:lnTo>
                    <a:lnTo>
                      <a:pt x="780" y="861"/>
                    </a:lnTo>
                    <a:lnTo>
                      <a:pt x="781" y="873"/>
                    </a:lnTo>
                    <a:lnTo>
                      <a:pt x="783" y="877"/>
                    </a:lnTo>
                    <a:lnTo>
                      <a:pt x="783" y="872"/>
                    </a:lnTo>
                    <a:lnTo>
                      <a:pt x="785" y="856"/>
                    </a:lnTo>
                    <a:lnTo>
                      <a:pt x="787" y="833"/>
                    </a:lnTo>
                    <a:lnTo>
                      <a:pt x="787" y="804"/>
                    </a:lnTo>
                    <a:lnTo>
                      <a:pt x="787" y="769"/>
                    </a:lnTo>
                    <a:lnTo>
                      <a:pt x="783" y="729"/>
                    </a:lnTo>
                    <a:lnTo>
                      <a:pt x="780" y="689"/>
                    </a:lnTo>
                    <a:lnTo>
                      <a:pt x="771" y="645"/>
                    </a:lnTo>
                    <a:lnTo>
                      <a:pt x="760" y="605"/>
                    </a:lnTo>
                    <a:lnTo>
                      <a:pt x="745" y="565"/>
                    </a:lnTo>
                    <a:lnTo>
                      <a:pt x="726" y="529"/>
                    </a:lnTo>
                    <a:lnTo>
                      <a:pt x="701" y="499"/>
                    </a:lnTo>
                    <a:lnTo>
                      <a:pt x="670" y="475"/>
                    </a:lnTo>
                    <a:lnTo>
                      <a:pt x="633" y="458"/>
                    </a:lnTo>
                    <a:lnTo>
                      <a:pt x="590" y="452"/>
                    </a:lnTo>
                    <a:lnTo>
                      <a:pt x="538" y="456"/>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42560" y="3978360"/>
                <a:ext cx="176760" cy="321840"/>
              </a:xfrm>
              <a:custGeom>
                <a:avLst/>
                <a:gdLst/>
                <a:ahLst/>
                <a:rect l="l" t="t" r="r" b="b"/>
                <a:pathLst>
                  <a:path w="308" h="536">
                    <a:moveTo>
                      <a:pt x="219" y="0"/>
                    </a:moveTo>
                    <a:lnTo>
                      <a:pt x="221" y="34"/>
                    </a:lnTo>
                    <a:lnTo>
                      <a:pt x="217" y="64"/>
                    </a:lnTo>
                    <a:lnTo>
                      <a:pt x="209" y="90"/>
                    </a:lnTo>
                    <a:lnTo>
                      <a:pt x="195" y="114"/>
                    </a:lnTo>
                    <a:lnTo>
                      <a:pt x="172" y="137"/>
                    </a:lnTo>
                    <a:lnTo>
                      <a:pt x="143" y="158"/>
                    </a:lnTo>
                    <a:lnTo>
                      <a:pt x="104" y="181"/>
                    </a:lnTo>
                    <a:lnTo>
                      <a:pt x="56" y="205"/>
                    </a:lnTo>
                    <a:lnTo>
                      <a:pt x="31" y="221"/>
                    </a:lnTo>
                    <a:lnTo>
                      <a:pt x="14" y="243"/>
                    </a:lnTo>
                    <a:lnTo>
                      <a:pt x="3" y="268"/>
                    </a:lnTo>
                    <a:lnTo>
                      <a:pt x="0" y="295"/>
                    </a:lnTo>
                    <a:lnTo>
                      <a:pt x="0" y="325"/>
                    </a:lnTo>
                    <a:lnTo>
                      <a:pt x="3" y="356"/>
                    </a:lnTo>
                    <a:lnTo>
                      <a:pt x="10" y="388"/>
                    </a:lnTo>
                    <a:lnTo>
                      <a:pt x="21" y="419"/>
                    </a:lnTo>
                    <a:lnTo>
                      <a:pt x="30" y="443"/>
                    </a:lnTo>
                    <a:lnTo>
                      <a:pt x="38" y="464"/>
                    </a:lnTo>
                    <a:lnTo>
                      <a:pt x="49" y="483"/>
                    </a:lnTo>
                    <a:lnTo>
                      <a:pt x="56" y="501"/>
                    </a:lnTo>
                    <a:lnTo>
                      <a:pt x="64" y="516"/>
                    </a:lnTo>
                    <a:lnTo>
                      <a:pt x="70" y="527"/>
                    </a:lnTo>
                    <a:lnTo>
                      <a:pt x="73" y="534"/>
                    </a:lnTo>
                    <a:lnTo>
                      <a:pt x="75" y="536"/>
                    </a:lnTo>
                    <a:lnTo>
                      <a:pt x="75" y="527"/>
                    </a:lnTo>
                    <a:lnTo>
                      <a:pt x="73" y="504"/>
                    </a:lnTo>
                    <a:lnTo>
                      <a:pt x="75" y="469"/>
                    </a:lnTo>
                    <a:lnTo>
                      <a:pt x="82" y="428"/>
                    </a:lnTo>
                    <a:lnTo>
                      <a:pt x="89" y="405"/>
                    </a:lnTo>
                    <a:lnTo>
                      <a:pt x="97" y="381"/>
                    </a:lnTo>
                    <a:lnTo>
                      <a:pt x="110" y="356"/>
                    </a:lnTo>
                    <a:lnTo>
                      <a:pt x="125" y="332"/>
                    </a:lnTo>
                    <a:lnTo>
                      <a:pt x="144" y="311"/>
                    </a:lnTo>
                    <a:lnTo>
                      <a:pt x="167" y="288"/>
                    </a:lnTo>
                    <a:lnTo>
                      <a:pt x="195" y="269"/>
                    </a:lnTo>
                    <a:lnTo>
                      <a:pt x="228" y="254"/>
                    </a:lnTo>
                    <a:lnTo>
                      <a:pt x="282" y="221"/>
                    </a:lnTo>
                    <a:lnTo>
                      <a:pt x="306" y="181"/>
                    </a:lnTo>
                    <a:lnTo>
                      <a:pt x="308" y="139"/>
                    </a:lnTo>
                    <a:lnTo>
                      <a:pt x="294" y="97"/>
                    </a:lnTo>
                    <a:lnTo>
                      <a:pt x="271" y="59"/>
                    </a:lnTo>
                    <a:lnTo>
                      <a:pt x="247" y="27"/>
                    </a:lnTo>
                    <a:lnTo>
                      <a:pt x="228" y="7"/>
                    </a:lnTo>
                    <a:lnTo>
                      <a:pt x="219"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608880" y="3971160"/>
                <a:ext cx="236520" cy="1089360"/>
              </a:xfrm>
              <a:custGeom>
                <a:avLst/>
                <a:gdLst/>
                <a:ahLst/>
                <a:rect l="l" t="t" r="r" b="b"/>
                <a:pathLst>
                  <a:path w="412" h="1142">
                    <a:moveTo>
                      <a:pt x="196" y="0"/>
                    </a:moveTo>
                    <a:lnTo>
                      <a:pt x="208" y="32"/>
                    </a:lnTo>
                    <a:lnTo>
                      <a:pt x="221" y="68"/>
                    </a:lnTo>
                    <a:lnTo>
                      <a:pt x="231" y="108"/>
                    </a:lnTo>
                    <a:lnTo>
                      <a:pt x="234" y="150"/>
                    </a:lnTo>
                    <a:lnTo>
                      <a:pt x="229" y="194"/>
                    </a:lnTo>
                    <a:lnTo>
                      <a:pt x="210" y="237"/>
                    </a:lnTo>
                    <a:lnTo>
                      <a:pt x="179" y="277"/>
                    </a:lnTo>
                    <a:lnTo>
                      <a:pt x="128" y="314"/>
                    </a:lnTo>
                    <a:lnTo>
                      <a:pt x="107" y="326"/>
                    </a:lnTo>
                    <a:lnTo>
                      <a:pt x="90" y="342"/>
                    </a:lnTo>
                    <a:lnTo>
                      <a:pt x="73" y="355"/>
                    </a:lnTo>
                    <a:lnTo>
                      <a:pt x="57" y="373"/>
                    </a:lnTo>
                    <a:lnTo>
                      <a:pt x="43" y="390"/>
                    </a:lnTo>
                    <a:lnTo>
                      <a:pt x="31" y="408"/>
                    </a:lnTo>
                    <a:lnTo>
                      <a:pt x="20" y="427"/>
                    </a:lnTo>
                    <a:lnTo>
                      <a:pt x="12" y="446"/>
                    </a:lnTo>
                    <a:lnTo>
                      <a:pt x="3" y="479"/>
                    </a:lnTo>
                    <a:lnTo>
                      <a:pt x="0" y="512"/>
                    </a:lnTo>
                    <a:lnTo>
                      <a:pt x="5" y="545"/>
                    </a:lnTo>
                    <a:lnTo>
                      <a:pt x="15" y="578"/>
                    </a:lnTo>
                    <a:lnTo>
                      <a:pt x="36" y="611"/>
                    </a:lnTo>
                    <a:lnTo>
                      <a:pt x="64" y="643"/>
                    </a:lnTo>
                    <a:lnTo>
                      <a:pt x="102" y="672"/>
                    </a:lnTo>
                    <a:lnTo>
                      <a:pt x="149" y="700"/>
                    </a:lnTo>
                    <a:lnTo>
                      <a:pt x="212" y="752"/>
                    </a:lnTo>
                    <a:lnTo>
                      <a:pt x="243" y="817"/>
                    </a:lnTo>
                    <a:lnTo>
                      <a:pt x="250" y="890"/>
                    </a:lnTo>
                    <a:lnTo>
                      <a:pt x="238" y="963"/>
                    </a:lnTo>
                    <a:lnTo>
                      <a:pt x="215" y="1032"/>
                    </a:lnTo>
                    <a:lnTo>
                      <a:pt x="191" y="1088"/>
                    </a:lnTo>
                    <a:lnTo>
                      <a:pt x="170" y="1128"/>
                    </a:lnTo>
                    <a:lnTo>
                      <a:pt x="161" y="1142"/>
                    </a:lnTo>
                    <a:lnTo>
                      <a:pt x="165" y="1139"/>
                    </a:lnTo>
                    <a:lnTo>
                      <a:pt x="177" y="1128"/>
                    </a:lnTo>
                    <a:lnTo>
                      <a:pt x="194" y="1112"/>
                    </a:lnTo>
                    <a:lnTo>
                      <a:pt x="215" y="1093"/>
                    </a:lnTo>
                    <a:lnTo>
                      <a:pt x="240" y="1067"/>
                    </a:lnTo>
                    <a:lnTo>
                      <a:pt x="266" y="1038"/>
                    </a:lnTo>
                    <a:lnTo>
                      <a:pt x="292" y="1006"/>
                    </a:lnTo>
                    <a:lnTo>
                      <a:pt x="316" y="971"/>
                    </a:lnTo>
                    <a:lnTo>
                      <a:pt x="337" y="935"/>
                    </a:lnTo>
                    <a:lnTo>
                      <a:pt x="355" y="895"/>
                    </a:lnTo>
                    <a:lnTo>
                      <a:pt x="365" y="857"/>
                    </a:lnTo>
                    <a:lnTo>
                      <a:pt x="370" y="818"/>
                    </a:lnTo>
                    <a:lnTo>
                      <a:pt x="365" y="778"/>
                    </a:lnTo>
                    <a:lnTo>
                      <a:pt x="351" y="742"/>
                    </a:lnTo>
                    <a:lnTo>
                      <a:pt x="325" y="705"/>
                    </a:lnTo>
                    <a:lnTo>
                      <a:pt x="287" y="672"/>
                    </a:lnTo>
                    <a:lnTo>
                      <a:pt x="259" y="648"/>
                    </a:lnTo>
                    <a:lnTo>
                      <a:pt x="238" y="618"/>
                    </a:lnTo>
                    <a:lnTo>
                      <a:pt x="224" y="587"/>
                    </a:lnTo>
                    <a:lnTo>
                      <a:pt x="219" y="552"/>
                    </a:lnTo>
                    <a:lnTo>
                      <a:pt x="219" y="517"/>
                    </a:lnTo>
                    <a:lnTo>
                      <a:pt x="226" y="479"/>
                    </a:lnTo>
                    <a:lnTo>
                      <a:pt x="240" y="442"/>
                    </a:lnTo>
                    <a:lnTo>
                      <a:pt x="259" y="406"/>
                    </a:lnTo>
                    <a:lnTo>
                      <a:pt x="266" y="394"/>
                    </a:lnTo>
                    <a:lnTo>
                      <a:pt x="274" y="383"/>
                    </a:lnTo>
                    <a:lnTo>
                      <a:pt x="283" y="371"/>
                    </a:lnTo>
                    <a:lnTo>
                      <a:pt x="294" y="361"/>
                    </a:lnTo>
                    <a:lnTo>
                      <a:pt x="304" y="350"/>
                    </a:lnTo>
                    <a:lnTo>
                      <a:pt x="314" y="340"/>
                    </a:lnTo>
                    <a:lnTo>
                      <a:pt x="325" y="329"/>
                    </a:lnTo>
                    <a:lnTo>
                      <a:pt x="337" y="321"/>
                    </a:lnTo>
                    <a:lnTo>
                      <a:pt x="374" y="289"/>
                    </a:lnTo>
                    <a:lnTo>
                      <a:pt x="398" y="258"/>
                    </a:lnTo>
                    <a:lnTo>
                      <a:pt x="410" y="227"/>
                    </a:lnTo>
                    <a:lnTo>
                      <a:pt x="412" y="197"/>
                    </a:lnTo>
                    <a:lnTo>
                      <a:pt x="407" y="169"/>
                    </a:lnTo>
                    <a:lnTo>
                      <a:pt x="395" y="143"/>
                    </a:lnTo>
                    <a:lnTo>
                      <a:pt x="375" y="119"/>
                    </a:lnTo>
                    <a:lnTo>
                      <a:pt x="353" y="96"/>
                    </a:lnTo>
                    <a:lnTo>
                      <a:pt x="328" y="75"/>
                    </a:lnTo>
                    <a:lnTo>
                      <a:pt x="302" y="56"/>
                    </a:lnTo>
                    <a:lnTo>
                      <a:pt x="276" y="40"/>
                    </a:lnTo>
                    <a:lnTo>
                      <a:pt x="250" y="27"/>
                    </a:lnTo>
                    <a:lnTo>
                      <a:pt x="229" y="14"/>
                    </a:lnTo>
                    <a:lnTo>
                      <a:pt x="212" y="7"/>
                    </a:lnTo>
                    <a:lnTo>
                      <a:pt x="200" y="2"/>
                    </a:lnTo>
                    <a:lnTo>
                      <a:pt x="196"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735520" y="3863880"/>
                <a:ext cx="774720" cy="562320"/>
              </a:xfrm>
              <a:custGeom>
                <a:avLst/>
                <a:gdLst/>
                <a:ahLst/>
                <a:rect l="l" t="t" r="r" b="b"/>
                <a:pathLst>
                  <a:path w="875" h="787">
                    <a:moveTo>
                      <a:pt x="832" y="0"/>
                    </a:moveTo>
                    <a:lnTo>
                      <a:pt x="818" y="32"/>
                    </a:lnTo>
                    <a:lnTo>
                      <a:pt x="802" y="66"/>
                    </a:lnTo>
                    <a:lnTo>
                      <a:pt x="780" y="101"/>
                    </a:lnTo>
                    <a:lnTo>
                      <a:pt x="752" y="134"/>
                    </a:lnTo>
                    <a:lnTo>
                      <a:pt x="719" y="162"/>
                    </a:lnTo>
                    <a:lnTo>
                      <a:pt x="675" y="179"/>
                    </a:lnTo>
                    <a:lnTo>
                      <a:pt x="623" y="185"/>
                    </a:lnTo>
                    <a:lnTo>
                      <a:pt x="562" y="176"/>
                    </a:lnTo>
                    <a:lnTo>
                      <a:pt x="536" y="171"/>
                    </a:lnTo>
                    <a:lnTo>
                      <a:pt x="510" y="167"/>
                    </a:lnTo>
                    <a:lnTo>
                      <a:pt x="486" y="166"/>
                    </a:lnTo>
                    <a:lnTo>
                      <a:pt x="461" y="167"/>
                    </a:lnTo>
                    <a:lnTo>
                      <a:pt x="437" y="169"/>
                    </a:lnTo>
                    <a:lnTo>
                      <a:pt x="414" y="174"/>
                    </a:lnTo>
                    <a:lnTo>
                      <a:pt x="392" y="183"/>
                    </a:lnTo>
                    <a:lnTo>
                      <a:pt x="372" y="192"/>
                    </a:lnTo>
                    <a:lnTo>
                      <a:pt x="353" y="204"/>
                    </a:lnTo>
                    <a:lnTo>
                      <a:pt x="336" y="219"/>
                    </a:lnTo>
                    <a:lnTo>
                      <a:pt x="322" y="235"/>
                    </a:lnTo>
                    <a:lnTo>
                      <a:pt x="308" y="254"/>
                    </a:lnTo>
                    <a:lnTo>
                      <a:pt x="298" y="275"/>
                    </a:lnTo>
                    <a:lnTo>
                      <a:pt x="291" y="298"/>
                    </a:lnTo>
                    <a:lnTo>
                      <a:pt x="285" y="322"/>
                    </a:lnTo>
                    <a:lnTo>
                      <a:pt x="284" y="350"/>
                    </a:lnTo>
                    <a:lnTo>
                      <a:pt x="285" y="376"/>
                    </a:lnTo>
                    <a:lnTo>
                      <a:pt x="289" y="404"/>
                    </a:lnTo>
                    <a:lnTo>
                      <a:pt x="294" y="432"/>
                    </a:lnTo>
                    <a:lnTo>
                      <a:pt x="303" y="463"/>
                    </a:lnTo>
                    <a:lnTo>
                      <a:pt x="312" y="505"/>
                    </a:lnTo>
                    <a:lnTo>
                      <a:pt x="312" y="545"/>
                    </a:lnTo>
                    <a:lnTo>
                      <a:pt x="303" y="580"/>
                    </a:lnTo>
                    <a:lnTo>
                      <a:pt x="287" y="613"/>
                    </a:lnTo>
                    <a:lnTo>
                      <a:pt x="266" y="641"/>
                    </a:lnTo>
                    <a:lnTo>
                      <a:pt x="240" y="668"/>
                    </a:lnTo>
                    <a:lnTo>
                      <a:pt x="212" y="691"/>
                    </a:lnTo>
                    <a:lnTo>
                      <a:pt x="181" y="712"/>
                    </a:lnTo>
                    <a:lnTo>
                      <a:pt x="148" y="729"/>
                    </a:lnTo>
                    <a:lnTo>
                      <a:pt x="117" y="743"/>
                    </a:lnTo>
                    <a:lnTo>
                      <a:pt x="85" y="757"/>
                    </a:lnTo>
                    <a:lnTo>
                      <a:pt x="57" y="766"/>
                    </a:lnTo>
                    <a:lnTo>
                      <a:pt x="35" y="775"/>
                    </a:lnTo>
                    <a:lnTo>
                      <a:pt x="16" y="780"/>
                    </a:lnTo>
                    <a:lnTo>
                      <a:pt x="4" y="782"/>
                    </a:lnTo>
                    <a:lnTo>
                      <a:pt x="0" y="783"/>
                    </a:lnTo>
                    <a:lnTo>
                      <a:pt x="5" y="783"/>
                    </a:lnTo>
                    <a:lnTo>
                      <a:pt x="21" y="785"/>
                    </a:lnTo>
                    <a:lnTo>
                      <a:pt x="44" y="787"/>
                    </a:lnTo>
                    <a:lnTo>
                      <a:pt x="73" y="787"/>
                    </a:lnTo>
                    <a:lnTo>
                      <a:pt x="108" y="787"/>
                    </a:lnTo>
                    <a:lnTo>
                      <a:pt x="146" y="785"/>
                    </a:lnTo>
                    <a:lnTo>
                      <a:pt x="188" y="780"/>
                    </a:lnTo>
                    <a:lnTo>
                      <a:pt x="230" y="773"/>
                    </a:lnTo>
                    <a:lnTo>
                      <a:pt x="271" y="762"/>
                    </a:lnTo>
                    <a:lnTo>
                      <a:pt x="310" y="747"/>
                    </a:lnTo>
                    <a:lnTo>
                      <a:pt x="346" y="728"/>
                    </a:lnTo>
                    <a:lnTo>
                      <a:pt x="376" y="703"/>
                    </a:lnTo>
                    <a:lnTo>
                      <a:pt x="400" y="672"/>
                    </a:lnTo>
                    <a:lnTo>
                      <a:pt x="418" y="635"/>
                    </a:lnTo>
                    <a:lnTo>
                      <a:pt x="423" y="592"/>
                    </a:lnTo>
                    <a:lnTo>
                      <a:pt x="419" y="540"/>
                    </a:lnTo>
                    <a:lnTo>
                      <a:pt x="418" y="522"/>
                    </a:lnTo>
                    <a:lnTo>
                      <a:pt x="418" y="505"/>
                    </a:lnTo>
                    <a:lnTo>
                      <a:pt x="419" y="487"/>
                    </a:lnTo>
                    <a:lnTo>
                      <a:pt x="423" y="472"/>
                    </a:lnTo>
                    <a:lnTo>
                      <a:pt x="428" y="454"/>
                    </a:lnTo>
                    <a:lnTo>
                      <a:pt x="437" y="437"/>
                    </a:lnTo>
                    <a:lnTo>
                      <a:pt x="447" y="420"/>
                    </a:lnTo>
                    <a:lnTo>
                      <a:pt x="459" y="404"/>
                    </a:lnTo>
                    <a:lnTo>
                      <a:pt x="473" y="390"/>
                    </a:lnTo>
                    <a:lnTo>
                      <a:pt x="489" y="378"/>
                    </a:lnTo>
                    <a:lnTo>
                      <a:pt x="505" y="366"/>
                    </a:lnTo>
                    <a:lnTo>
                      <a:pt x="524" y="355"/>
                    </a:lnTo>
                    <a:lnTo>
                      <a:pt x="543" y="346"/>
                    </a:lnTo>
                    <a:lnTo>
                      <a:pt x="564" y="340"/>
                    </a:lnTo>
                    <a:lnTo>
                      <a:pt x="585" y="333"/>
                    </a:lnTo>
                    <a:lnTo>
                      <a:pt x="607" y="329"/>
                    </a:lnTo>
                    <a:lnTo>
                      <a:pt x="632" y="326"/>
                    </a:lnTo>
                    <a:lnTo>
                      <a:pt x="656" y="326"/>
                    </a:lnTo>
                    <a:lnTo>
                      <a:pt x="680" y="326"/>
                    </a:lnTo>
                    <a:lnTo>
                      <a:pt x="705" y="329"/>
                    </a:lnTo>
                    <a:lnTo>
                      <a:pt x="753" y="333"/>
                    </a:lnTo>
                    <a:lnTo>
                      <a:pt x="793" y="327"/>
                    </a:lnTo>
                    <a:lnTo>
                      <a:pt x="823" y="313"/>
                    </a:lnTo>
                    <a:lnTo>
                      <a:pt x="846" y="296"/>
                    </a:lnTo>
                    <a:lnTo>
                      <a:pt x="861" y="272"/>
                    </a:lnTo>
                    <a:lnTo>
                      <a:pt x="872" y="244"/>
                    </a:lnTo>
                    <a:lnTo>
                      <a:pt x="875" y="213"/>
                    </a:lnTo>
                    <a:lnTo>
                      <a:pt x="875" y="179"/>
                    </a:lnTo>
                    <a:lnTo>
                      <a:pt x="874" y="148"/>
                    </a:lnTo>
                    <a:lnTo>
                      <a:pt x="867" y="115"/>
                    </a:lnTo>
                    <a:lnTo>
                      <a:pt x="860" y="85"/>
                    </a:lnTo>
                    <a:lnTo>
                      <a:pt x="853" y="58"/>
                    </a:lnTo>
                    <a:lnTo>
                      <a:pt x="844" y="33"/>
                    </a:lnTo>
                    <a:lnTo>
                      <a:pt x="839" y="16"/>
                    </a:lnTo>
                    <a:lnTo>
                      <a:pt x="834" y="4"/>
                    </a:lnTo>
                    <a:lnTo>
                      <a:pt x="832" y="0"/>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095880" y="3757320"/>
                <a:ext cx="275400" cy="164520"/>
              </a:xfrm>
              <a:custGeom>
                <a:avLst/>
                <a:gdLst/>
                <a:ahLst/>
                <a:rect l="l" t="t" r="r" b="b"/>
                <a:pathLst>
                  <a:path w="480" h="275">
                    <a:moveTo>
                      <a:pt x="221" y="28"/>
                    </a:moveTo>
                    <a:lnTo>
                      <a:pt x="169" y="24"/>
                    </a:lnTo>
                    <a:lnTo>
                      <a:pt x="125" y="45"/>
                    </a:lnTo>
                    <a:lnTo>
                      <a:pt x="87" y="83"/>
                    </a:lnTo>
                    <a:lnTo>
                      <a:pt x="56" y="132"/>
                    </a:lnTo>
                    <a:lnTo>
                      <a:pt x="31" y="182"/>
                    </a:lnTo>
                    <a:lnTo>
                      <a:pt x="14" y="229"/>
                    </a:lnTo>
                    <a:lnTo>
                      <a:pt x="4" y="262"/>
                    </a:lnTo>
                    <a:lnTo>
                      <a:pt x="0" y="275"/>
                    </a:lnTo>
                    <a:lnTo>
                      <a:pt x="2" y="273"/>
                    </a:lnTo>
                    <a:lnTo>
                      <a:pt x="5" y="268"/>
                    </a:lnTo>
                    <a:lnTo>
                      <a:pt x="12" y="261"/>
                    </a:lnTo>
                    <a:lnTo>
                      <a:pt x="21" y="250"/>
                    </a:lnTo>
                    <a:lnTo>
                      <a:pt x="33" y="238"/>
                    </a:lnTo>
                    <a:lnTo>
                      <a:pt x="47" y="226"/>
                    </a:lnTo>
                    <a:lnTo>
                      <a:pt x="65" y="214"/>
                    </a:lnTo>
                    <a:lnTo>
                      <a:pt x="84" y="202"/>
                    </a:lnTo>
                    <a:lnTo>
                      <a:pt x="105" y="189"/>
                    </a:lnTo>
                    <a:lnTo>
                      <a:pt x="127" y="181"/>
                    </a:lnTo>
                    <a:lnTo>
                      <a:pt x="153" y="172"/>
                    </a:lnTo>
                    <a:lnTo>
                      <a:pt x="179" y="167"/>
                    </a:lnTo>
                    <a:lnTo>
                      <a:pt x="209" y="165"/>
                    </a:lnTo>
                    <a:lnTo>
                      <a:pt x="240" y="167"/>
                    </a:lnTo>
                    <a:lnTo>
                      <a:pt x="273" y="172"/>
                    </a:lnTo>
                    <a:lnTo>
                      <a:pt x="308" y="184"/>
                    </a:lnTo>
                    <a:lnTo>
                      <a:pt x="369" y="198"/>
                    </a:lnTo>
                    <a:lnTo>
                      <a:pt x="414" y="188"/>
                    </a:lnTo>
                    <a:lnTo>
                      <a:pt x="446" y="158"/>
                    </a:lnTo>
                    <a:lnTo>
                      <a:pt x="465" y="120"/>
                    </a:lnTo>
                    <a:lnTo>
                      <a:pt x="475" y="78"/>
                    </a:lnTo>
                    <a:lnTo>
                      <a:pt x="480" y="40"/>
                    </a:lnTo>
                    <a:lnTo>
                      <a:pt x="480" y="10"/>
                    </a:lnTo>
                    <a:lnTo>
                      <a:pt x="480" y="0"/>
                    </a:lnTo>
                    <a:lnTo>
                      <a:pt x="458" y="24"/>
                    </a:lnTo>
                    <a:lnTo>
                      <a:pt x="435" y="41"/>
                    </a:lnTo>
                    <a:lnTo>
                      <a:pt x="409" y="54"/>
                    </a:lnTo>
                    <a:lnTo>
                      <a:pt x="383" y="61"/>
                    </a:lnTo>
                    <a:lnTo>
                      <a:pt x="350" y="61"/>
                    </a:lnTo>
                    <a:lnTo>
                      <a:pt x="313" y="55"/>
                    </a:lnTo>
                    <a:lnTo>
                      <a:pt x="272" y="45"/>
                    </a:lnTo>
                    <a:lnTo>
                      <a:pt x="221" y="2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076440" y="3321000"/>
                <a:ext cx="307440" cy="184680"/>
              </a:xfrm>
              <a:custGeom>
                <a:avLst/>
                <a:gdLst/>
                <a:ahLst/>
                <a:rect l="l" t="t" r="r" b="b"/>
                <a:pathLst>
                  <a:path w="536" h="308">
                    <a:moveTo>
                      <a:pt x="199" y="124"/>
                    </a:moveTo>
                    <a:lnTo>
                      <a:pt x="211" y="132"/>
                    </a:lnTo>
                    <a:lnTo>
                      <a:pt x="221" y="143"/>
                    </a:lnTo>
                    <a:lnTo>
                      <a:pt x="234" y="155"/>
                    </a:lnTo>
                    <a:lnTo>
                      <a:pt x="244" y="167"/>
                    </a:lnTo>
                    <a:lnTo>
                      <a:pt x="254" y="181"/>
                    </a:lnTo>
                    <a:lnTo>
                      <a:pt x="265" y="195"/>
                    </a:lnTo>
                    <a:lnTo>
                      <a:pt x="274" y="212"/>
                    </a:lnTo>
                    <a:lnTo>
                      <a:pt x="282" y="230"/>
                    </a:lnTo>
                    <a:lnTo>
                      <a:pt x="315" y="282"/>
                    </a:lnTo>
                    <a:lnTo>
                      <a:pt x="355" y="306"/>
                    </a:lnTo>
                    <a:lnTo>
                      <a:pt x="397" y="308"/>
                    </a:lnTo>
                    <a:lnTo>
                      <a:pt x="439" y="294"/>
                    </a:lnTo>
                    <a:lnTo>
                      <a:pt x="477" y="272"/>
                    </a:lnTo>
                    <a:lnTo>
                      <a:pt x="508" y="247"/>
                    </a:lnTo>
                    <a:lnTo>
                      <a:pt x="529" y="228"/>
                    </a:lnTo>
                    <a:lnTo>
                      <a:pt x="536" y="219"/>
                    </a:lnTo>
                    <a:lnTo>
                      <a:pt x="501" y="221"/>
                    </a:lnTo>
                    <a:lnTo>
                      <a:pt x="472" y="219"/>
                    </a:lnTo>
                    <a:lnTo>
                      <a:pt x="446" y="211"/>
                    </a:lnTo>
                    <a:lnTo>
                      <a:pt x="421" y="195"/>
                    </a:lnTo>
                    <a:lnTo>
                      <a:pt x="399" y="172"/>
                    </a:lnTo>
                    <a:lnTo>
                      <a:pt x="376" y="143"/>
                    </a:lnTo>
                    <a:lnTo>
                      <a:pt x="354" y="104"/>
                    </a:lnTo>
                    <a:lnTo>
                      <a:pt x="331" y="57"/>
                    </a:lnTo>
                    <a:lnTo>
                      <a:pt x="322" y="42"/>
                    </a:lnTo>
                    <a:lnTo>
                      <a:pt x="312" y="30"/>
                    </a:lnTo>
                    <a:lnTo>
                      <a:pt x="300" y="19"/>
                    </a:lnTo>
                    <a:lnTo>
                      <a:pt x="286" y="12"/>
                    </a:lnTo>
                    <a:lnTo>
                      <a:pt x="267" y="5"/>
                    </a:lnTo>
                    <a:lnTo>
                      <a:pt x="246" y="2"/>
                    </a:lnTo>
                    <a:lnTo>
                      <a:pt x="223" y="0"/>
                    </a:lnTo>
                    <a:lnTo>
                      <a:pt x="199" y="2"/>
                    </a:lnTo>
                    <a:lnTo>
                      <a:pt x="176" y="7"/>
                    </a:lnTo>
                    <a:lnTo>
                      <a:pt x="152" y="12"/>
                    </a:lnTo>
                    <a:lnTo>
                      <a:pt x="129" y="19"/>
                    </a:lnTo>
                    <a:lnTo>
                      <a:pt x="107" y="26"/>
                    </a:lnTo>
                    <a:lnTo>
                      <a:pt x="84" y="35"/>
                    </a:lnTo>
                    <a:lnTo>
                      <a:pt x="65" y="44"/>
                    </a:lnTo>
                    <a:lnTo>
                      <a:pt x="47" y="52"/>
                    </a:lnTo>
                    <a:lnTo>
                      <a:pt x="32" y="59"/>
                    </a:lnTo>
                    <a:lnTo>
                      <a:pt x="18" y="66"/>
                    </a:lnTo>
                    <a:lnTo>
                      <a:pt x="9" y="71"/>
                    </a:lnTo>
                    <a:lnTo>
                      <a:pt x="2" y="75"/>
                    </a:lnTo>
                    <a:lnTo>
                      <a:pt x="0" y="77"/>
                    </a:lnTo>
                    <a:lnTo>
                      <a:pt x="6" y="77"/>
                    </a:lnTo>
                    <a:lnTo>
                      <a:pt x="19" y="75"/>
                    </a:lnTo>
                    <a:lnTo>
                      <a:pt x="39" y="75"/>
                    </a:lnTo>
                    <a:lnTo>
                      <a:pt x="66" y="77"/>
                    </a:lnTo>
                    <a:lnTo>
                      <a:pt x="96" y="80"/>
                    </a:lnTo>
                    <a:lnTo>
                      <a:pt x="129" y="89"/>
                    </a:lnTo>
                    <a:lnTo>
                      <a:pt x="164" y="103"/>
                    </a:lnTo>
                    <a:lnTo>
                      <a:pt x="199" y="12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735520" y="3496320"/>
                <a:ext cx="655200" cy="247320"/>
              </a:xfrm>
              <a:custGeom>
                <a:avLst/>
                <a:gdLst/>
                <a:ahLst/>
                <a:rect l="l" t="t" r="r" b="b"/>
                <a:pathLst>
                  <a:path w="1141" h="413">
                    <a:moveTo>
                      <a:pt x="820" y="338"/>
                    </a:moveTo>
                    <a:lnTo>
                      <a:pt x="853" y="375"/>
                    </a:lnTo>
                    <a:lnTo>
                      <a:pt x="884" y="399"/>
                    </a:lnTo>
                    <a:lnTo>
                      <a:pt x="914" y="411"/>
                    </a:lnTo>
                    <a:lnTo>
                      <a:pt x="943" y="413"/>
                    </a:lnTo>
                    <a:lnTo>
                      <a:pt x="971" y="408"/>
                    </a:lnTo>
                    <a:lnTo>
                      <a:pt x="997" y="395"/>
                    </a:lnTo>
                    <a:lnTo>
                      <a:pt x="1023" y="376"/>
                    </a:lnTo>
                    <a:lnTo>
                      <a:pt x="1046" y="354"/>
                    </a:lnTo>
                    <a:lnTo>
                      <a:pt x="1067" y="329"/>
                    </a:lnTo>
                    <a:lnTo>
                      <a:pt x="1086" y="303"/>
                    </a:lnTo>
                    <a:lnTo>
                      <a:pt x="1101" y="277"/>
                    </a:lnTo>
                    <a:lnTo>
                      <a:pt x="1115" y="251"/>
                    </a:lnTo>
                    <a:lnTo>
                      <a:pt x="1126" y="230"/>
                    </a:lnTo>
                    <a:lnTo>
                      <a:pt x="1135" y="213"/>
                    </a:lnTo>
                    <a:lnTo>
                      <a:pt x="1140" y="201"/>
                    </a:lnTo>
                    <a:lnTo>
                      <a:pt x="1141" y="197"/>
                    </a:lnTo>
                    <a:lnTo>
                      <a:pt x="1126" y="204"/>
                    </a:lnTo>
                    <a:lnTo>
                      <a:pt x="1110" y="209"/>
                    </a:lnTo>
                    <a:lnTo>
                      <a:pt x="1093" y="216"/>
                    </a:lnTo>
                    <a:lnTo>
                      <a:pt x="1074" y="221"/>
                    </a:lnTo>
                    <a:lnTo>
                      <a:pt x="1053" y="227"/>
                    </a:lnTo>
                    <a:lnTo>
                      <a:pt x="1034" y="232"/>
                    </a:lnTo>
                    <a:lnTo>
                      <a:pt x="1013" y="234"/>
                    </a:lnTo>
                    <a:lnTo>
                      <a:pt x="990" y="235"/>
                    </a:lnTo>
                    <a:lnTo>
                      <a:pt x="969" y="234"/>
                    </a:lnTo>
                    <a:lnTo>
                      <a:pt x="947" y="230"/>
                    </a:lnTo>
                    <a:lnTo>
                      <a:pt x="926" y="221"/>
                    </a:lnTo>
                    <a:lnTo>
                      <a:pt x="905" y="211"/>
                    </a:lnTo>
                    <a:lnTo>
                      <a:pt x="884" y="197"/>
                    </a:lnTo>
                    <a:lnTo>
                      <a:pt x="863" y="180"/>
                    </a:lnTo>
                    <a:lnTo>
                      <a:pt x="844" y="157"/>
                    </a:lnTo>
                    <a:lnTo>
                      <a:pt x="827" y="129"/>
                    </a:lnTo>
                    <a:lnTo>
                      <a:pt x="813" y="108"/>
                    </a:lnTo>
                    <a:lnTo>
                      <a:pt x="797" y="87"/>
                    </a:lnTo>
                    <a:lnTo>
                      <a:pt x="781" y="70"/>
                    </a:lnTo>
                    <a:lnTo>
                      <a:pt x="764" y="53"/>
                    </a:lnTo>
                    <a:lnTo>
                      <a:pt x="745" y="39"/>
                    </a:lnTo>
                    <a:lnTo>
                      <a:pt x="726" y="27"/>
                    </a:lnTo>
                    <a:lnTo>
                      <a:pt x="706" y="16"/>
                    </a:lnTo>
                    <a:lnTo>
                      <a:pt x="686" y="9"/>
                    </a:lnTo>
                    <a:lnTo>
                      <a:pt x="654" y="2"/>
                    </a:lnTo>
                    <a:lnTo>
                      <a:pt x="621" y="0"/>
                    </a:lnTo>
                    <a:lnTo>
                      <a:pt x="590" y="6"/>
                    </a:lnTo>
                    <a:lnTo>
                      <a:pt x="557" y="18"/>
                    </a:lnTo>
                    <a:lnTo>
                      <a:pt x="525" y="39"/>
                    </a:lnTo>
                    <a:lnTo>
                      <a:pt x="496" y="67"/>
                    </a:lnTo>
                    <a:lnTo>
                      <a:pt x="466" y="103"/>
                    </a:lnTo>
                    <a:lnTo>
                      <a:pt x="440" y="148"/>
                    </a:lnTo>
                    <a:lnTo>
                      <a:pt x="418" y="185"/>
                    </a:lnTo>
                    <a:lnTo>
                      <a:pt x="390" y="213"/>
                    </a:lnTo>
                    <a:lnTo>
                      <a:pt x="358" y="232"/>
                    </a:lnTo>
                    <a:lnTo>
                      <a:pt x="324" y="244"/>
                    </a:lnTo>
                    <a:lnTo>
                      <a:pt x="289" y="249"/>
                    </a:lnTo>
                    <a:lnTo>
                      <a:pt x="252" y="249"/>
                    </a:lnTo>
                    <a:lnTo>
                      <a:pt x="216" y="246"/>
                    </a:lnTo>
                    <a:lnTo>
                      <a:pt x="179" y="239"/>
                    </a:lnTo>
                    <a:lnTo>
                      <a:pt x="143" y="228"/>
                    </a:lnTo>
                    <a:lnTo>
                      <a:pt x="110" y="216"/>
                    </a:lnTo>
                    <a:lnTo>
                      <a:pt x="80" y="204"/>
                    </a:lnTo>
                    <a:lnTo>
                      <a:pt x="54" y="192"/>
                    </a:lnTo>
                    <a:lnTo>
                      <a:pt x="31" y="180"/>
                    </a:lnTo>
                    <a:lnTo>
                      <a:pt x="14" y="171"/>
                    </a:lnTo>
                    <a:lnTo>
                      <a:pt x="3" y="164"/>
                    </a:lnTo>
                    <a:lnTo>
                      <a:pt x="0" y="162"/>
                    </a:lnTo>
                    <a:lnTo>
                      <a:pt x="3" y="166"/>
                    </a:lnTo>
                    <a:lnTo>
                      <a:pt x="14" y="178"/>
                    </a:lnTo>
                    <a:lnTo>
                      <a:pt x="30" y="195"/>
                    </a:lnTo>
                    <a:lnTo>
                      <a:pt x="49" y="216"/>
                    </a:lnTo>
                    <a:lnTo>
                      <a:pt x="75" y="241"/>
                    </a:lnTo>
                    <a:lnTo>
                      <a:pt x="104" y="267"/>
                    </a:lnTo>
                    <a:lnTo>
                      <a:pt x="136" y="291"/>
                    </a:lnTo>
                    <a:lnTo>
                      <a:pt x="171" y="315"/>
                    </a:lnTo>
                    <a:lnTo>
                      <a:pt x="207" y="338"/>
                    </a:lnTo>
                    <a:lnTo>
                      <a:pt x="247" y="354"/>
                    </a:lnTo>
                    <a:lnTo>
                      <a:pt x="285" y="366"/>
                    </a:lnTo>
                    <a:lnTo>
                      <a:pt x="324" y="369"/>
                    </a:lnTo>
                    <a:lnTo>
                      <a:pt x="364" y="366"/>
                    </a:lnTo>
                    <a:lnTo>
                      <a:pt x="400" y="350"/>
                    </a:lnTo>
                    <a:lnTo>
                      <a:pt x="437" y="324"/>
                    </a:lnTo>
                    <a:lnTo>
                      <a:pt x="470" y="286"/>
                    </a:lnTo>
                    <a:lnTo>
                      <a:pt x="484" y="270"/>
                    </a:lnTo>
                    <a:lnTo>
                      <a:pt x="498" y="254"/>
                    </a:lnTo>
                    <a:lnTo>
                      <a:pt x="513" y="244"/>
                    </a:lnTo>
                    <a:lnTo>
                      <a:pt x="531" y="234"/>
                    </a:lnTo>
                    <a:lnTo>
                      <a:pt x="548" y="227"/>
                    </a:lnTo>
                    <a:lnTo>
                      <a:pt x="567" y="221"/>
                    </a:lnTo>
                    <a:lnTo>
                      <a:pt x="586" y="218"/>
                    </a:lnTo>
                    <a:lnTo>
                      <a:pt x="607" y="218"/>
                    </a:lnTo>
                    <a:lnTo>
                      <a:pt x="635" y="220"/>
                    </a:lnTo>
                    <a:lnTo>
                      <a:pt x="663" y="227"/>
                    </a:lnTo>
                    <a:lnTo>
                      <a:pt x="691" y="235"/>
                    </a:lnTo>
                    <a:lnTo>
                      <a:pt x="719" y="249"/>
                    </a:lnTo>
                    <a:lnTo>
                      <a:pt x="746" y="267"/>
                    </a:lnTo>
                    <a:lnTo>
                      <a:pt x="773" y="288"/>
                    </a:lnTo>
                    <a:lnTo>
                      <a:pt x="797" y="310"/>
                    </a:lnTo>
                    <a:lnTo>
                      <a:pt x="820" y="33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835320" y="2937600"/>
                <a:ext cx="176760" cy="321840"/>
              </a:xfrm>
              <a:custGeom>
                <a:avLst/>
                <a:gdLst/>
                <a:ahLst/>
                <a:rect l="l" t="t" r="r" b="b"/>
                <a:pathLst>
                  <a:path w="308" h="536">
                    <a:moveTo>
                      <a:pt x="250" y="331"/>
                    </a:moveTo>
                    <a:lnTo>
                      <a:pt x="275" y="315"/>
                    </a:lnTo>
                    <a:lnTo>
                      <a:pt x="292" y="293"/>
                    </a:lnTo>
                    <a:lnTo>
                      <a:pt x="303" y="268"/>
                    </a:lnTo>
                    <a:lnTo>
                      <a:pt x="308" y="239"/>
                    </a:lnTo>
                    <a:lnTo>
                      <a:pt x="306" y="209"/>
                    </a:lnTo>
                    <a:lnTo>
                      <a:pt x="303" y="176"/>
                    </a:lnTo>
                    <a:lnTo>
                      <a:pt x="294" y="145"/>
                    </a:lnTo>
                    <a:lnTo>
                      <a:pt x="283" y="114"/>
                    </a:lnTo>
                    <a:lnTo>
                      <a:pt x="275" y="91"/>
                    </a:lnTo>
                    <a:lnTo>
                      <a:pt x="266" y="70"/>
                    </a:lnTo>
                    <a:lnTo>
                      <a:pt x="257" y="51"/>
                    </a:lnTo>
                    <a:lnTo>
                      <a:pt x="249" y="33"/>
                    </a:lnTo>
                    <a:lnTo>
                      <a:pt x="242" y="20"/>
                    </a:lnTo>
                    <a:lnTo>
                      <a:pt x="236" y="9"/>
                    </a:lnTo>
                    <a:lnTo>
                      <a:pt x="233" y="2"/>
                    </a:lnTo>
                    <a:lnTo>
                      <a:pt x="231" y="0"/>
                    </a:lnTo>
                    <a:lnTo>
                      <a:pt x="233" y="9"/>
                    </a:lnTo>
                    <a:lnTo>
                      <a:pt x="233" y="32"/>
                    </a:lnTo>
                    <a:lnTo>
                      <a:pt x="231" y="67"/>
                    </a:lnTo>
                    <a:lnTo>
                      <a:pt x="226" y="107"/>
                    </a:lnTo>
                    <a:lnTo>
                      <a:pt x="219" y="131"/>
                    </a:lnTo>
                    <a:lnTo>
                      <a:pt x="210" y="155"/>
                    </a:lnTo>
                    <a:lnTo>
                      <a:pt x="198" y="180"/>
                    </a:lnTo>
                    <a:lnTo>
                      <a:pt x="183" y="202"/>
                    </a:lnTo>
                    <a:lnTo>
                      <a:pt x="163" y="225"/>
                    </a:lnTo>
                    <a:lnTo>
                      <a:pt x="139" y="248"/>
                    </a:lnTo>
                    <a:lnTo>
                      <a:pt x="111" y="267"/>
                    </a:lnTo>
                    <a:lnTo>
                      <a:pt x="78" y="282"/>
                    </a:lnTo>
                    <a:lnTo>
                      <a:pt x="24" y="317"/>
                    </a:lnTo>
                    <a:lnTo>
                      <a:pt x="2" y="357"/>
                    </a:lnTo>
                    <a:lnTo>
                      <a:pt x="0" y="399"/>
                    </a:lnTo>
                    <a:lnTo>
                      <a:pt x="12" y="441"/>
                    </a:lnTo>
                    <a:lnTo>
                      <a:pt x="35" y="477"/>
                    </a:lnTo>
                    <a:lnTo>
                      <a:pt x="59" y="509"/>
                    </a:lnTo>
                    <a:lnTo>
                      <a:pt x="78" y="529"/>
                    </a:lnTo>
                    <a:lnTo>
                      <a:pt x="87" y="536"/>
                    </a:lnTo>
                    <a:lnTo>
                      <a:pt x="85" y="503"/>
                    </a:lnTo>
                    <a:lnTo>
                      <a:pt x="89" y="474"/>
                    </a:lnTo>
                    <a:lnTo>
                      <a:pt x="97" y="448"/>
                    </a:lnTo>
                    <a:lnTo>
                      <a:pt x="113" y="423"/>
                    </a:lnTo>
                    <a:lnTo>
                      <a:pt x="136" y="401"/>
                    </a:lnTo>
                    <a:lnTo>
                      <a:pt x="165" y="378"/>
                    </a:lnTo>
                    <a:lnTo>
                      <a:pt x="203" y="355"/>
                    </a:lnTo>
                    <a:lnTo>
                      <a:pt x="250" y="33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08160" y="2292480"/>
                <a:ext cx="236160" cy="975600"/>
              </a:xfrm>
              <a:custGeom>
                <a:avLst/>
                <a:gdLst/>
                <a:ahLst/>
                <a:rect l="l" t="t" r="r" b="b"/>
                <a:pathLst>
                  <a:path w="412" h="1143">
                    <a:moveTo>
                      <a:pt x="265" y="442"/>
                    </a:moveTo>
                    <a:lnTo>
                      <a:pt x="200" y="390"/>
                    </a:lnTo>
                    <a:lnTo>
                      <a:pt x="169" y="325"/>
                    </a:lnTo>
                    <a:lnTo>
                      <a:pt x="164" y="252"/>
                    </a:lnTo>
                    <a:lnTo>
                      <a:pt x="176" y="179"/>
                    </a:lnTo>
                    <a:lnTo>
                      <a:pt x="198" y="110"/>
                    </a:lnTo>
                    <a:lnTo>
                      <a:pt x="223" y="54"/>
                    </a:lnTo>
                    <a:lnTo>
                      <a:pt x="244" y="14"/>
                    </a:lnTo>
                    <a:lnTo>
                      <a:pt x="252" y="0"/>
                    </a:lnTo>
                    <a:lnTo>
                      <a:pt x="249" y="3"/>
                    </a:lnTo>
                    <a:lnTo>
                      <a:pt x="237" y="14"/>
                    </a:lnTo>
                    <a:lnTo>
                      <a:pt x="219" y="30"/>
                    </a:lnTo>
                    <a:lnTo>
                      <a:pt x="198" y="49"/>
                    </a:lnTo>
                    <a:lnTo>
                      <a:pt x="174" y="75"/>
                    </a:lnTo>
                    <a:lnTo>
                      <a:pt x="148" y="104"/>
                    </a:lnTo>
                    <a:lnTo>
                      <a:pt x="122" y="136"/>
                    </a:lnTo>
                    <a:lnTo>
                      <a:pt x="98" y="171"/>
                    </a:lnTo>
                    <a:lnTo>
                      <a:pt x="77" y="207"/>
                    </a:lnTo>
                    <a:lnTo>
                      <a:pt x="59" y="247"/>
                    </a:lnTo>
                    <a:lnTo>
                      <a:pt x="49" y="285"/>
                    </a:lnTo>
                    <a:lnTo>
                      <a:pt x="44" y="324"/>
                    </a:lnTo>
                    <a:lnTo>
                      <a:pt x="49" y="364"/>
                    </a:lnTo>
                    <a:lnTo>
                      <a:pt x="63" y="400"/>
                    </a:lnTo>
                    <a:lnTo>
                      <a:pt x="89" y="437"/>
                    </a:lnTo>
                    <a:lnTo>
                      <a:pt x="129" y="470"/>
                    </a:lnTo>
                    <a:lnTo>
                      <a:pt x="157" y="496"/>
                    </a:lnTo>
                    <a:lnTo>
                      <a:pt x="178" y="526"/>
                    </a:lnTo>
                    <a:lnTo>
                      <a:pt x="191" y="559"/>
                    </a:lnTo>
                    <a:lnTo>
                      <a:pt x="197" y="593"/>
                    </a:lnTo>
                    <a:lnTo>
                      <a:pt x="195" y="632"/>
                    </a:lnTo>
                    <a:lnTo>
                      <a:pt x="186" y="670"/>
                    </a:lnTo>
                    <a:lnTo>
                      <a:pt x="171" y="708"/>
                    </a:lnTo>
                    <a:lnTo>
                      <a:pt x="150" y="745"/>
                    </a:lnTo>
                    <a:lnTo>
                      <a:pt x="143" y="755"/>
                    </a:lnTo>
                    <a:lnTo>
                      <a:pt x="134" y="766"/>
                    </a:lnTo>
                    <a:lnTo>
                      <a:pt x="125" y="776"/>
                    </a:lnTo>
                    <a:lnTo>
                      <a:pt x="117" y="785"/>
                    </a:lnTo>
                    <a:lnTo>
                      <a:pt x="108" y="795"/>
                    </a:lnTo>
                    <a:lnTo>
                      <a:pt x="98" y="804"/>
                    </a:lnTo>
                    <a:lnTo>
                      <a:pt x="87" y="813"/>
                    </a:lnTo>
                    <a:lnTo>
                      <a:pt x="75" y="821"/>
                    </a:lnTo>
                    <a:lnTo>
                      <a:pt x="38" y="854"/>
                    </a:lnTo>
                    <a:lnTo>
                      <a:pt x="14" y="886"/>
                    </a:lnTo>
                    <a:lnTo>
                      <a:pt x="2" y="915"/>
                    </a:lnTo>
                    <a:lnTo>
                      <a:pt x="0" y="945"/>
                    </a:lnTo>
                    <a:lnTo>
                      <a:pt x="5" y="973"/>
                    </a:lnTo>
                    <a:lnTo>
                      <a:pt x="17" y="999"/>
                    </a:lnTo>
                    <a:lnTo>
                      <a:pt x="37" y="1025"/>
                    </a:lnTo>
                    <a:lnTo>
                      <a:pt x="59" y="1048"/>
                    </a:lnTo>
                    <a:lnTo>
                      <a:pt x="85" y="1068"/>
                    </a:lnTo>
                    <a:lnTo>
                      <a:pt x="111" y="1088"/>
                    </a:lnTo>
                    <a:lnTo>
                      <a:pt x="138" y="1103"/>
                    </a:lnTo>
                    <a:lnTo>
                      <a:pt x="162" y="1117"/>
                    </a:lnTo>
                    <a:lnTo>
                      <a:pt x="185" y="1128"/>
                    </a:lnTo>
                    <a:lnTo>
                      <a:pt x="202" y="1136"/>
                    </a:lnTo>
                    <a:lnTo>
                      <a:pt x="214" y="1142"/>
                    </a:lnTo>
                    <a:lnTo>
                      <a:pt x="218" y="1143"/>
                    </a:lnTo>
                    <a:lnTo>
                      <a:pt x="205" y="1112"/>
                    </a:lnTo>
                    <a:lnTo>
                      <a:pt x="193" y="1075"/>
                    </a:lnTo>
                    <a:lnTo>
                      <a:pt x="183" y="1034"/>
                    </a:lnTo>
                    <a:lnTo>
                      <a:pt x="179" y="992"/>
                    </a:lnTo>
                    <a:lnTo>
                      <a:pt x="185" y="948"/>
                    </a:lnTo>
                    <a:lnTo>
                      <a:pt x="204" y="905"/>
                    </a:lnTo>
                    <a:lnTo>
                      <a:pt x="235" y="865"/>
                    </a:lnTo>
                    <a:lnTo>
                      <a:pt x="285" y="828"/>
                    </a:lnTo>
                    <a:lnTo>
                      <a:pt x="305" y="816"/>
                    </a:lnTo>
                    <a:lnTo>
                      <a:pt x="322" y="800"/>
                    </a:lnTo>
                    <a:lnTo>
                      <a:pt x="339" y="787"/>
                    </a:lnTo>
                    <a:lnTo>
                      <a:pt x="355" y="771"/>
                    </a:lnTo>
                    <a:lnTo>
                      <a:pt x="369" y="753"/>
                    </a:lnTo>
                    <a:lnTo>
                      <a:pt x="381" y="736"/>
                    </a:lnTo>
                    <a:lnTo>
                      <a:pt x="392" y="719"/>
                    </a:lnTo>
                    <a:lnTo>
                      <a:pt x="400" y="700"/>
                    </a:lnTo>
                    <a:lnTo>
                      <a:pt x="409" y="666"/>
                    </a:lnTo>
                    <a:lnTo>
                      <a:pt x="412" y="633"/>
                    </a:lnTo>
                    <a:lnTo>
                      <a:pt x="409" y="599"/>
                    </a:lnTo>
                    <a:lnTo>
                      <a:pt x="397" y="566"/>
                    </a:lnTo>
                    <a:lnTo>
                      <a:pt x="378" y="532"/>
                    </a:lnTo>
                    <a:lnTo>
                      <a:pt x="350" y="499"/>
                    </a:lnTo>
                    <a:lnTo>
                      <a:pt x="312" y="470"/>
                    </a:lnTo>
                    <a:lnTo>
                      <a:pt x="265" y="442"/>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942960" y="2926800"/>
                <a:ext cx="555480" cy="446760"/>
              </a:xfrm>
              <a:custGeom>
                <a:avLst/>
                <a:gdLst/>
                <a:ahLst/>
                <a:rect l="l" t="t" r="r" b="b"/>
                <a:pathLst>
                  <a:path w="875" h="787">
                    <a:moveTo>
                      <a:pt x="875" y="4"/>
                    </a:moveTo>
                    <a:lnTo>
                      <a:pt x="870" y="4"/>
                    </a:lnTo>
                    <a:lnTo>
                      <a:pt x="854" y="2"/>
                    </a:lnTo>
                    <a:lnTo>
                      <a:pt x="831" y="0"/>
                    </a:lnTo>
                    <a:lnTo>
                      <a:pt x="802" y="0"/>
                    </a:lnTo>
                    <a:lnTo>
                      <a:pt x="767" y="0"/>
                    </a:lnTo>
                    <a:lnTo>
                      <a:pt x="729" y="4"/>
                    </a:lnTo>
                    <a:lnTo>
                      <a:pt x="687" y="7"/>
                    </a:lnTo>
                    <a:lnTo>
                      <a:pt x="645" y="16"/>
                    </a:lnTo>
                    <a:lnTo>
                      <a:pt x="604" y="26"/>
                    </a:lnTo>
                    <a:lnTo>
                      <a:pt x="565" y="40"/>
                    </a:lnTo>
                    <a:lnTo>
                      <a:pt x="529" y="61"/>
                    </a:lnTo>
                    <a:lnTo>
                      <a:pt x="499" y="86"/>
                    </a:lnTo>
                    <a:lnTo>
                      <a:pt x="475" y="115"/>
                    </a:lnTo>
                    <a:lnTo>
                      <a:pt x="457" y="152"/>
                    </a:lnTo>
                    <a:lnTo>
                      <a:pt x="452" y="197"/>
                    </a:lnTo>
                    <a:lnTo>
                      <a:pt x="456" y="247"/>
                    </a:lnTo>
                    <a:lnTo>
                      <a:pt x="457" y="261"/>
                    </a:lnTo>
                    <a:lnTo>
                      <a:pt x="459" y="275"/>
                    </a:lnTo>
                    <a:lnTo>
                      <a:pt x="457" y="287"/>
                    </a:lnTo>
                    <a:lnTo>
                      <a:pt x="456" y="300"/>
                    </a:lnTo>
                    <a:lnTo>
                      <a:pt x="452" y="319"/>
                    </a:lnTo>
                    <a:lnTo>
                      <a:pt x="445" y="338"/>
                    </a:lnTo>
                    <a:lnTo>
                      <a:pt x="436" y="355"/>
                    </a:lnTo>
                    <a:lnTo>
                      <a:pt x="424" y="373"/>
                    </a:lnTo>
                    <a:lnTo>
                      <a:pt x="410" y="388"/>
                    </a:lnTo>
                    <a:lnTo>
                      <a:pt x="396" y="402"/>
                    </a:lnTo>
                    <a:lnTo>
                      <a:pt x="379" y="416"/>
                    </a:lnTo>
                    <a:lnTo>
                      <a:pt x="360" y="427"/>
                    </a:lnTo>
                    <a:lnTo>
                      <a:pt x="341" y="437"/>
                    </a:lnTo>
                    <a:lnTo>
                      <a:pt x="320" y="446"/>
                    </a:lnTo>
                    <a:lnTo>
                      <a:pt x="297" y="453"/>
                    </a:lnTo>
                    <a:lnTo>
                      <a:pt x="273" y="458"/>
                    </a:lnTo>
                    <a:lnTo>
                      <a:pt x="249" y="461"/>
                    </a:lnTo>
                    <a:lnTo>
                      <a:pt x="222" y="463"/>
                    </a:lnTo>
                    <a:lnTo>
                      <a:pt x="196" y="461"/>
                    </a:lnTo>
                    <a:lnTo>
                      <a:pt x="170" y="460"/>
                    </a:lnTo>
                    <a:lnTo>
                      <a:pt x="122" y="456"/>
                    </a:lnTo>
                    <a:lnTo>
                      <a:pt x="82" y="461"/>
                    </a:lnTo>
                    <a:lnTo>
                      <a:pt x="52" y="474"/>
                    </a:lnTo>
                    <a:lnTo>
                      <a:pt x="29" y="493"/>
                    </a:lnTo>
                    <a:lnTo>
                      <a:pt x="14" y="517"/>
                    </a:lnTo>
                    <a:lnTo>
                      <a:pt x="3" y="545"/>
                    </a:lnTo>
                    <a:lnTo>
                      <a:pt x="0" y="574"/>
                    </a:lnTo>
                    <a:lnTo>
                      <a:pt x="0" y="608"/>
                    </a:lnTo>
                    <a:lnTo>
                      <a:pt x="1" y="641"/>
                    </a:lnTo>
                    <a:lnTo>
                      <a:pt x="8" y="672"/>
                    </a:lnTo>
                    <a:lnTo>
                      <a:pt x="15" y="703"/>
                    </a:lnTo>
                    <a:lnTo>
                      <a:pt x="22" y="729"/>
                    </a:lnTo>
                    <a:lnTo>
                      <a:pt x="31" y="754"/>
                    </a:lnTo>
                    <a:lnTo>
                      <a:pt x="36" y="771"/>
                    </a:lnTo>
                    <a:lnTo>
                      <a:pt x="41" y="783"/>
                    </a:lnTo>
                    <a:lnTo>
                      <a:pt x="43" y="787"/>
                    </a:lnTo>
                    <a:lnTo>
                      <a:pt x="57" y="755"/>
                    </a:lnTo>
                    <a:lnTo>
                      <a:pt x="73" y="721"/>
                    </a:lnTo>
                    <a:lnTo>
                      <a:pt x="95" y="686"/>
                    </a:lnTo>
                    <a:lnTo>
                      <a:pt x="123" y="653"/>
                    </a:lnTo>
                    <a:lnTo>
                      <a:pt x="156" y="625"/>
                    </a:lnTo>
                    <a:lnTo>
                      <a:pt x="200" y="608"/>
                    </a:lnTo>
                    <a:lnTo>
                      <a:pt x="252" y="602"/>
                    </a:lnTo>
                    <a:lnTo>
                      <a:pt x="313" y="611"/>
                    </a:lnTo>
                    <a:lnTo>
                      <a:pt x="341" y="616"/>
                    </a:lnTo>
                    <a:lnTo>
                      <a:pt x="367" y="620"/>
                    </a:lnTo>
                    <a:lnTo>
                      <a:pt x="395" y="621"/>
                    </a:lnTo>
                    <a:lnTo>
                      <a:pt x="421" y="620"/>
                    </a:lnTo>
                    <a:lnTo>
                      <a:pt x="445" y="616"/>
                    </a:lnTo>
                    <a:lnTo>
                      <a:pt x="470" y="609"/>
                    </a:lnTo>
                    <a:lnTo>
                      <a:pt x="492" y="601"/>
                    </a:lnTo>
                    <a:lnTo>
                      <a:pt x="513" y="588"/>
                    </a:lnTo>
                    <a:lnTo>
                      <a:pt x="532" y="574"/>
                    </a:lnTo>
                    <a:lnTo>
                      <a:pt x="548" y="559"/>
                    </a:lnTo>
                    <a:lnTo>
                      <a:pt x="562" y="540"/>
                    </a:lnTo>
                    <a:lnTo>
                      <a:pt x="574" y="517"/>
                    </a:lnTo>
                    <a:lnTo>
                      <a:pt x="583" y="493"/>
                    </a:lnTo>
                    <a:lnTo>
                      <a:pt x="588" y="467"/>
                    </a:lnTo>
                    <a:lnTo>
                      <a:pt x="591" y="437"/>
                    </a:lnTo>
                    <a:lnTo>
                      <a:pt x="590" y="406"/>
                    </a:lnTo>
                    <a:lnTo>
                      <a:pt x="588" y="387"/>
                    </a:lnTo>
                    <a:lnTo>
                      <a:pt x="584" y="367"/>
                    </a:lnTo>
                    <a:lnTo>
                      <a:pt x="579" y="347"/>
                    </a:lnTo>
                    <a:lnTo>
                      <a:pt x="572" y="324"/>
                    </a:lnTo>
                    <a:lnTo>
                      <a:pt x="563" y="282"/>
                    </a:lnTo>
                    <a:lnTo>
                      <a:pt x="563" y="242"/>
                    </a:lnTo>
                    <a:lnTo>
                      <a:pt x="572" y="207"/>
                    </a:lnTo>
                    <a:lnTo>
                      <a:pt x="588" y="174"/>
                    </a:lnTo>
                    <a:lnTo>
                      <a:pt x="609" y="146"/>
                    </a:lnTo>
                    <a:lnTo>
                      <a:pt x="635" y="119"/>
                    </a:lnTo>
                    <a:lnTo>
                      <a:pt x="664" y="96"/>
                    </a:lnTo>
                    <a:lnTo>
                      <a:pt x="696" y="75"/>
                    </a:lnTo>
                    <a:lnTo>
                      <a:pt x="727" y="58"/>
                    </a:lnTo>
                    <a:lnTo>
                      <a:pt x="758" y="44"/>
                    </a:lnTo>
                    <a:lnTo>
                      <a:pt x="790" y="30"/>
                    </a:lnTo>
                    <a:lnTo>
                      <a:pt x="818" y="21"/>
                    </a:lnTo>
                    <a:lnTo>
                      <a:pt x="840" y="12"/>
                    </a:lnTo>
                    <a:lnTo>
                      <a:pt x="859" y="7"/>
                    </a:lnTo>
                    <a:lnTo>
                      <a:pt x="871" y="5"/>
                    </a:lnTo>
                    <a:lnTo>
                      <a:pt x="875" y="4"/>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437880" y="2958120"/>
                <a:ext cx="158400" cy="288360"/>
              </a:xfrm>
              <a:custGeom>
                <a:avLst/>
                <a:gdLst/>
                <a:ahLst/>
                <a:rect l="l" t="t" r="r" b="b"/>
                <a:pathLst>
                  <a:path w="277" h="480">
                    <a:moveTo>
                      <a:pt x="247" y="221"/>
                    </a:moveTo>
                    <a:lnTo>
                      <a:pt x="249" y="213"/>
                    </a:lnTo>
                    <a:lnTo>
                      <a:pt x="251" y="202"/>
                    </a:lnTo>
                    <a:lnTo>
                      <a:pt x="253" y="193"/>
                    </a:lnTo>
                    <a:lnTo>
                      <a:pt x="253" y="185"/>
                    </a:lnTo>
                    <a:lnTo>
                      <a:pt x="240" y="141"/>
                    </a:lnTo>
                    <a:lnTo>
                      <a:pt x="211" y="105"/>
                    </a:lnTo>
                    <a:lnTo>
                      <a:pt x="171" y="73"/>
                    </a:lnTo>
                    <a:lnTo>
                      <a:pt x="124" y="47"/>
                    </a:lnTo>
                    <a:lnTo>
                      <a:pt x="79" y="26"/>
                    </a:lnTo>
                    <a:lnTo>
                      <a:pt x="39" y="12"/>
                    </a:lnTo>
                    <a:lnTo>
                      <a:pt x="11" y="4"/>
                    </a:lnTo>
                    <a:lnTo>
                      <a:pt x="0" y="0"/>
                    </a:lnTo>
                    <a:lnTo>
                      <a:pt x="5" y="5"/>
                    </a:lnTo>
                    <a:lnTo>
                      <a:pt x="21" y="18"/>
                    </a:lnTo>
                    <a:lnTo>
                      <a:pt x="42" y="38"/>
                    </a:lnTo>
                    <a:lnTo>
                      <a:pt x="65" y="68"/>
                    </a:lnTo>
                    <a:lnTo>
                      <a:pt x="86" y="105"/>
                    </a:lnTo>
                    <a:lnTo>
                      <a:pt x="101" y="148"/>
                    </a:lnTo>
                    <a:lnTo>
                      <a:pt x="110" y="199"/>
                    </a:lnTo>
                    <a:lnTo>
                      <a:pt x="106" y="254"/>
                    </a:lnTo>
                    <a:lnTo>
                      <a:pt x="103" y="268"/>
                    </a:lnTo>
                    <a:lnTo>
                      <a:pt x="99" y="280"/>
                    </a:lnTo>
                    <a:lnTo>
                      <a:pt x="96" y="294"/>
                    </a:lnTo>
                    <a:lnTo>
                      <a:pt x="91" y="308"/>
                    </a:lnTo>
                    <a:lnTo>
                      <a:pt x="77" y="371"/>
                    </a:lnTo>
                    <a:lnTo>
                      <a:pt x="89" y="414"/>
                    </a:lnTo>
                    <a:lnTo>
                      <a:pt x="117" y="446"/>
                    </a:lnTo>
                    <a:lnTo>
                      <a:pt x="155" y="465"/>
                    </a:lnTo>
                    <a:lnTo>
                      <a:pt x="199" y="475"/>
                    </a:lnTo>
                    <a:lnTo>
                      <a:pt x="237" y="480"/>
                    </a:lnTo>
                    <a:lnTo>
                      <a:pt x="266" y="480"/>
                    </a:lnTo>
                    <a:lnTo>
                      <a:pt x="277" y="480"/>
                    </a:lnTo>
                    <a:lnTo>
                      <a:pt x="251" y="458"/>
                    </a:lnTo>
                    <a:lnTo>
                      <a:pt x="233" y="435"/>
                    </a:lnTo>
                    <a:lnTo>
                      <a:pt x="220" y="411"/>
                    </a:lnTo>
                    <a:lnTo>
                      <a:pt x="214" y="383"/>
                    </a:lnTo>
                    <a:lnTo>
                      <a:pt x="214" y="352"/>
                    </a:lnTo>
                    <a:lnTo>
                      <a:pt x="220" y="315"/>
                    </a:lnTo>
                    <a:lnTo>
                      <a:pt x="230" y="272"/>
                    </a:lnTo>
                    <a:lnTo>
                      <a:pt x="247" y="22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900760" y="2523240"/>
                <a:ext cx="591120" cy="869760"/>
              </a:xfrm>
              <a:custGeom>
                <a:avLst/>
                <a:gdLst/>
                <a:ahLst/>
                <a:rect l="l" t="t" r="r" b="b"/>
                <a:pathLst>
                  <a:path w="787" h="877">
                    <a:moveTo>
                      <a:pt x="613" y="564"/>
                    </a:moveTo>
                    <a:lnTo>
                      <a:pt x="615" y="552"/>
                    </a:lnTo>
                    <a:lnTo>
                      <a:pt x="616" y="541"/>
                    </a:lnTo>
                    <a:lnTo>
                      <a:pt x="618" y="531"/>
                    </a:lnTo>
                    <a:lnTo>
                      <a:pt x="620" y="519"/>
                    </a:lnTo>
                    <a:lnTo>
                      <a:pt x="622" y="491"/>
                    </a:lnTo>
                    <a:lnTo>
                      <a:pt x="622" y="463"/>
                    </a:lnTo>
                    <a:lnTo>
                      <a:pt x="618" y="437"/>
                    </a:lnTo>
                    <a:lnTo>
                      <a:pt x="613" y="411"/>
                    </a:lnTo>
                    <a:lnTo>
                      <a:pt x="603" y="388"/>
                    </a:lnTo>
                    <a:lnTo>
                      <a:pt x="592" y="366"/>
                    </a:lnTo>
                    <a:lnTo>
                      <a:pt x="578" y="346"/>
                    </a:lnTo>
                    <a:lnTo>
                      <a:pt x="561" y="327"/>
                    </a:lnTo>
                    <a:lnTo>
                      <a:pt x="540" y="313"/>
                    </a:lnTo>
                    <a:lnTo>
                      <a:pt x="517" y="301"/>
                    </a:lnTo>
                    <a:lnTo>
                      <a:pt x="493" y="292"/>
                    </a:lnTo>
                    <a:lnTo>
                      <a:pt x="465" y="287"/>
                    </a:lnTo>
                    <a:lnTo>
                      <a:pt x="434" y="285"/>
                    </a:lnTo>
                    <a:lnTo>
                      <a:pt x="401" y="287"/>
                    </a:lnTo>
                    <a:lnTo>
                      <a:pt x="364" y="294"/>
                    </a:lnTo>
                    <a:lnTo>
                      <a:pt x="326" y="305"/>
                    </a:lnTo>
                    <a:lnTo>
                      <a:pt x="284" y="313"/>
                    </a:lnTo>
                    <a:lnTo>
                      <a:pt x="244" y="313"/>
                    </a:lnTo>
                    <a:lnTo>
                      <a:pt x="208" y="305"/>
                    </a:lnTo>
                    <a:lnTo>
                      <a:pt x="176" y="289"/>
                    </a:lnTo>
                    <a:lnTo>
                      <a:pt x="147" y="268"/>
                    </a:lnTo>
                    <a:lnTo>
                      <a:pt x="121" y="242"/>
                    </a:lnTo>
                    <a:lnTo>
                      <a:pt x="96" y="212"/>
                    </a:lnTo>
                    <a:lnTo>
                      <a:pt x="77" y="181"/>
                    </a:lnTo>
                    <a:lnTo>
                      <a:pt x="58" y="148"/>
                    </a:lnTo>
                    <a:lnTo>
                      <a:pt x="44" y="117"/>
                    </a:lnTo>
                    <a:lnTo>
                      <a:pt x="32" y="85"/>
                    </a:lnTo>
                    <a:lnTo>
                      <a:pt x="21" y="59"/>
                    </a:lnTo>
                    <a:lnTo>
                      <a:pt x="13" y="35"/>
                    </a:lnTo>
                    <a:lnTo>
                      <a:pt x="7" y="16"/>
                    </a:lnTo>
                    <a:lnTo>
                      <a:pt x="6" y="4"/>
                    </a:lnTo>
                    <a:lnTo>
                      <a:pt x="4" y="0"/>
                    </a:lnTo>
                    <a:lnTo>
                      <a:pt x="4" y="5"/>
                    </a:lnTo>
                    <a:lnTo>
                      <a:pt x="2" y="21"/>
                    </a:lnTo>
                    <a:lnTo>
                      <a:pt x="0" y="44"/>
                    </a:lnTo>
                    <a:lnTo>
                      <a:pt x="0" y="73"/>
                    </a:lnTo>
                    <a:lnTo>
                      <a:pt x="0" y="108"/>
                    </a:lnTo>
                    <a:lnTo>
                      <a:pt x="4" y="148"/>
                    </a:lnTo>
                    <a:lnTo>
                      <a:pt x="7" y="188"/>
                    </a:lnTo>
                    <a:lnTo>
                      <a:pt x="16" y="232"/>
                    </a:lnTo>
                    <a:lnTo>
                      <a:pt x="27" y="272"/>
                    </a:lnTo>
                    <a:lnTo>
                      <a:pt x="42" y="312"/>
                    </a:lnTo>
                    <a:lnTo>
                      <a:pt x="61" y="348"/>
                    </a:lnTo>
                    <a:lnTo>
                      <a:pt x="86" y="378"/>
                    </a:lnTo>
                    <a:lnTo>
                      <a:pt x="117" y="402"/>
                    </a:lnTo>
                    <a:lnTo>
                      <a:pt x="154" y="419"/>
                    </a:lnTo>
                    <a:lnTo>
                      <a:pt x="197" y="425"/>
                    </a:lnTo>
                    <a:lnTo>
                      <a:pt x="249" y="421"/>
                    </a:lnTo>
                    <a:lnTo>
                      <a:pt x="293" y="419"/>
                    </a:lnTo>
                    <a:lnTo>
                      <a:pt x="333" y="428"/>
                    </a:lnTo>
                    <a:lnTo>
                      <a:pt x="368" y="447"/>
                    </a:lnTo>
                    <a:lnTo>
                      <a:pt x="399" y="475"/>
                    </a:lnTo>
                    <a:lnTo>
                      <a:pt x="425" y="510"/>
                    </a:lnTo>
                    <a:lnTo>
                      <a:pt x="446" y="552"/>
                    </a:lnTo>
                    <a:lnTo>
                      <a:pt x="458" y="597"/>
                    </a:lnTo>
                    <a:lnTo>
                      <a:pt x="463" y="647"/>
                    </a:lnTo>
                    <a:lnTo>
                      <a:pt x="463" y="661"/>
                    </a:lnTo>
                    <a:lnTo>
                      <a:pt x="463" y="677"/>
                    </a:lnTo>
                    <a:lnTo>
                      <a:pt x="462" y="691"/>
                    </a:lnTo>
                    <a:lnTo>
                      <a:pt x="460" y="707"/>
                    </a:lnTo>
                    <a:lnTo>
                      <a:pt x="456" y="755"/>
                    </a:lnTo>
                    <a:lnTo>
                      <a:pt x="462" y="795"/>
                    </a:lnTo>
                    <a:lnTo>
                      <a:pt x="474" y="825"/>
                    </a:lnTo>
                    <a:lnTo>
                      <a:pt x="493" y="848"/>
                    </a:lnTo>
                    <a:lnTo>
                      <a:pt x="517" y="863"/>
                    </a:lnTo>
                    <a:lnTo>
                      <a:pt x="545" y="874"/>
                    </a:lnTo>
                    <a:lnTo>
                      <a:pt x="576" y="877"/>
                    </a:lnTo>
                    <a:lnTo>
                      <a:pt x="608" y="877"/>
                    </a:lnTo>
                    <a:lnTo>
                      <a:pt x="641" y="875"/>
                    </a:lnTo>
                    <a:lnTo>
                      <a:pt x="672" y="868"/>
                    </a:lnTo>
                    <a:lnTo>
                      <a:pt x="703" y="861"/>
                    </a:lnTo>
                    <a:lnTo>
                      <a:pt x="730" y="854"/>
                    </a:lnTo>
                    <a:lnTo>
                      <a:pt x="754" y="846"/>
                    </a:lnTo>
                    <a:lnTo>
                      <a:pt x="771" y="841"/>
                    </a:lnTo>
                    <a:lnTo>
                      <a:pt x="783" y="835"/>
                    </a:lnTo>
                    <a:lnTo>
                      <a:pt x="787" y="834"/>
                    </a:lnTo>
                    <a:lnTo>
                      <a:pt x="756" y="820"/>
                    </a:lnTo>
                    <a:lnTo>
                      <a:pt x="721" y="804"/>
                    </a:lnTo>
                    <a:lnTo>
                      <a:pt x="686" y="781"/>
                    </a:lnTo>
                    <a:lnTo>
                      <a:pt x="653" y="754"/>
                    </a:lnTo>
                    <a:lnTo>
                      <a:pt x="627" y="721"/>
                    </a:lnTo>
                    <a:lnTo>
                      <a:pt x="609" y="677"/>
                    </a:lnTo>
                    <a:lnTo>
                      <a:pt x="604" y="625"/>
                    </a:lnTo>
                    <a:lnTo>
                      <a:pt x="613" y="56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7232760" y="3772800"/>
              <a:ext cx="1429920" cy="2671560"/>
              <a:chOff x="7232760" y="3772800"/>
              <a:chExt cx="1429920" cy="2671560"/>
            </a:xfrm>
          </p:grpSpPr>
          <p:sp>
            <p:nvSpPr>
              <p:cNvPr id="541" name=""/>
              <p:cNvSpPr/>
              <p:nvPr/>
            </p:nvSpPr>
            <p:spPr>
              <a:xfrm>
                <a:off x="8040600" y="4463640"/>
                <a:ext cx="622080" cy="1002960"/>
              </a:xfrm>
              <a:custGeom>
                <a:avLst/>
                <a:gdLst/>
                <a:ahLst/>
                <a:rect l="l" t="t" r="r" b="b"/>
                <a:pathLst>
                  <a:path w="542" h="835">
                    <a:moveTo>
                      <a:pt x="518" y="199"/>
                    </a:moveTo>
                    <a:lnTo>
                      <a:pt x="507" y="169"/>
                    </a:lnTo>
                    <a:lnTo>
                      <a:pt x="493" y="141"/>
                    </a:lnTo>
                    <a:lnTo>
                      <a:pt x="475" y="113"/>
                    </a:lnTo>
                    <a:lnTo>
                      <a:pt x="455" y="89"/>
                    </a:lnTo>
                    <a:lnTo>
                      <a:pt x="432" y="65"/>
                    </a:lnTo>
                    <a:lnTo>
                      <a:pt x="407" y="42"/>
                    </a:lnTo>
                    <a:lnTo>
                      <a:pt x="381" y="20"/>
                    </a:lnTo>
                    <a:lnTo>
                      <a:pt x="354" y="0"/>
                    </a:lnTo>
                    <a:lnTo>
                      <a:pt x="363" y="24"/>
                    </a:lnTo>
                    <a:lnTo>
                      <a:pt x="373" y="61"/>
                    </a:lnTo>
                    <a:lnTo>
                      <a:pt x="385" y="105"/>
                    </a:lnTo>
                    <a:lnTo>
                      <a:pt x="395" y="157"/>
                    </a:lnTo>
                    <a:lnTo>
                      <a:pt x="404" y="215"/>
                    </a:lnTo>
                    <a:lnTo>
                      <a:pt x="411" y="278"/>
                    </a:lnTo>
                    <a:lnTo>
                      <a:pt x="411" y="344"/>
                    </a:lnTo>
                    <a:lnTo>
                      <a:pt x="407" y="411"/>
                    </a:lnTo>
                    <a:lnTo>
                      <a:pt x="395" y="478"/>
                    </a:lnTo>
                    <a:lnTo>
                      <a:pt x="376" y="543"/>
                    </a:lnTo>
                    <a:lnTo>
                      <a:pt x="346" y="608"/>
                    </a:lnTo>
                    <a:lnTo>
                      <a:pt x="305" y="666"/>
                    </a:lnTo>
                    <a:lnTo>
                      <a:pt x="251" y="720"/>
                    </a:lnTo>
                    <a:lnTo>
                      <a:pt x="183" y="765"/>
                    </a:lnTo>
                    <a:lnTo>
                      <a:pt x="99" y="803"/>
                    </a:lnTo>
                    <a:lnTo>
                      <a:pt x="0" y="831"/>
                    </a:lnTo>
                    <a:lnTo>
                      <a:pt x="6" y="832"/>
                    </a:lnTo>
                    <a:lnTo>
                      <a:pt x="12" y="832"/>
                    </a:lnTo>
                    <a:lnTo>
                      <a:pt x="19" y="834"/>
                    </a:lnTo>
                    <a:lnTo>
                      <a:pt x="27" y="835"/>
                    </a:lnTo>
                    <a:lnTo>
                      <a:pt x="66" y="835"/>
                    </a:lnTo>
                    <a:lnTo>
                      <a:pt x="102" y="834"/>
                    </a:lnTo>
                    <a:lnTo>
                      <a:pt x="137" y="829"/>
                    </a:lnTo>
                    <a:lnTo>
                      <a:pt x="172" y="823"/>
                    </a:lnTo>
                    <a:lnTo>
                      <a:pt x="203" y="815"/>
                    </a:lnTo>
                    <a:lnTo>
                      <a:pt x="234" y="803"/>
                    </a:lnTo>
                    <a:lnTo>
                      <a:pt x="263" y="791"/>
                    </a:lnTo>
                    <a:lnTo>
                      <a:pt x="290" y="777"/>
                    </a:lnTo>
                    <a:lnTo>
                      <a:pt x="317" y="762"/>
                    </a:lnTo>
                    <a:lnTo>
                      <a:pt x="341" y="745"/>
                    </a:lnTo>
                    <a:lnTo>
                      <a:pt x="365" y="727"/>
                    </a:lnTo>
                    <a:lnTo>
                      <a:pt x="388" y="708"/>
                    </a:lnTo>
                    <a:lnTo>
                      <a:pt x="408" y="689"/>
                    </a:lnTo>
                    <a:lnTo>
                      <a:pt x="429" y="669"/>
                    </a:lnTo>
                    <a:lnTo>
                      <a:pt x="448" y="648"/>
                    </a:lnTo>
                    <a:lnTo>
                      <a:pt x="467" y="627"/>
                    </a:lnTo>
                    <a:lnTo>
                      <a:pt x="497" y="581"/>
                    </a:lnTo>
                    <a:lnTo>
                      <a:pt x="519" y="532"/>
                    </a:lnTo>
                    <a:lnTo>
                      <a:pt x="534" y="479"/>
                    </a:lnTo>
                    <a:lnTo>
                      <a:pt x="541" y="425"/>
                    </a:lnTo>
                    <a:lnTo>
                      <a:pt x="542" y="369"/>
                    </a:lnTo>
                    <a:lnTo>
                      <a:pt x="538" y="312"/>
                    </a:lnTo>
                    <a:lnTo>
                      <a:pt x="529" y="255"/>
                    </a:lnTo>
                    <a:lnTo>
                      <a:pt x="518" y="199"/>
                    </a:lnTo>
                    <a:close/>
                  </a:path>
                </a:pathLst>
              </a:custGeom>
              <a:solidFill>
                <a:srgbClr val="00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861680" y="3772800"/>
                <a:ext cx="650880" cy="1689120"/>
              </a:xfrm>
              <a:custGeom>
                <a:avLst/>
                <a:gdLst/>
                <a:ahLst/>
                <a:rect l="l" t="t" r="r" b="b"/>
                <a:pathLst>
                  <a:path w="567" h="1406">
                    <a:moveTo>
                      <a:pt x="510" y="575"/>
                    </a:moveTo>
                    <a:lnTo>
                      <a:pt x="490" y="560"/>
                    </a:lnTo>
                    <a:lnTo>
                      <a:pt x="470" y="546"/>
                    </a:lnTo>
                    <a:lnTo>
                      <a:pt x="449" y="531"/>
                    </a:lnTo>
                    <a:lnTo>
                      <a:pt x="429" y="516"/>
                    </a:lnTo>
                    <a:lnTo>
                      <a:pt x="410" y="502"/>
                    </a:lnTo>
                    <a:lnTo>
                      <a:pt x="394" y="489"/>
                    </a:lnTo>
                    <a:lnTo>
                      <a:pt x="378" y="474"/>
                    </a:lnTo>
                    <a:lnTo>
                      <a:pt x="363" y="461"/>
                    </a:lnTo>
                    <a:lnTo>
                      <a:pt x="336" y="420"/>
                    </a:lnTo>
                    <a:lnTo>
                      <a:pt x="312" y="365"/>
                    </a:lnTo>
                    <a:lnTo>
                      <a:pt x="292" y="301"/>
                    </a:lnTo>
                    <a:lnTo>
                      <a:pt x="276" y="232"/>
                    </a:lnTo>
                    <a:lnTo>
                      <a:pt x="264" y="165"/>
                    </a:lnTo>
                    <a:lnTo>
                      <a:pt x="254" y="105"/>
                    </a:lnTo>
                    <a:lnTo>
                      <a:pt x="245" y="59"/>
                    </a:lnTo>
                    <a:lnTo>
                      <a:pt x="239" y="29"/>
                    </a:lnTo>
                    <a:lnTo>
                      <a:pt x="231" y="15"/>
                    </a:lnTo>
                    <a:lnTo>
                      <a:pt x="218" y="6"/>
                    </a:lnTo>
                    <a:lnTo>
                      <a:pt x="202" y="2"/>
                    </a:lnTo>
                    <a:lnTo>
                      <a:pt x="184" y="0"/>
                    </a:lnTo>
                    <a:lnTo>
                      <a:pt x="168" y="2"/>
                    </a:lnTo>
                    <a:lnTo>
                      <a:pt x="153" y="5"/>
                    </a:lnTo>
                    <a:lnTo>
                      <a:pt x="143" y="6"/>
                    </a:lnTo>
                    <a:lnTo>
                      <a:pt x="140" y="8"/>
                    </a:lnTo>
                    <a:lnTo>
                      <a:pt x="124" y="376"/>
                    </a:lnTo>
                    <a:lnTo>
                      <a:pt x="0" y="757"/>
                    </a:lnTo>
                    <a:lnTo>
                      <a:pt x="95" y="1136"/>
                    </a:lnTo>
                    <a:lnTo>
                      <a:pt x="91" y="1146"/>
                    </a:lnTo>
                    <a:lnTo>
                      <a:pt x="81" y="1174"/>
                    </a:lnTo>
                    <a:lnTo>
                      <a:pt x="69" y="1213"/>
                    </a:lnTo>
                    <a:lnTo>
                      <a:pt x="60" y="1260"/>
                    </a:lnTo>
                    <a:lnTo>
                      <a:pt x="60" y="1307"/>
                    </a:lnTo>
                    <a:lnTo>
                      <a:pt x="73" y="1350"/>
                    </a:lnTo>
                    <a:lnTo>
                      <a:pt x="104" y="1385"/>
                    </a:lnTo>
                    <a:lnTo>
                      <a:pt x="156" y="1406"/>
                    </a:lnTo>
                    <a:lnTo>
                      <a:pt x="255" y="1378"/>
                    </a:lnTo>
                    <a:lnTo>
                      <a:pt x="339" y="1340"/>
                    </a:lnTo>
                    <a:lnTo>
                      <a:pt x="407" y="1295"/>
                    </a:lnTo>
                    <a:lnTo>
                      <a:pt x="461" y="1241"/>
                    </a:lnTo>
                    <a:lnTo>
                      <a:pt x="502" y="1183"/>
                    </a:lnTo>
                    <a:lnTo>
                      <a:pt x="532" y="1118"/>
                    </a:lnTo>
                    <a:lnTo>
                      <a:pt x="551" y="1053"/>
                    </a:lnTo>
                    <a:lnTo>
                      <a:pt x="563" y="986"/>
                    </a:lnTo>
                    <a:lnTo>
                      <a:pt x="567" y="919"/>
                    </a:lnTo>
                    <a:lnTo>
                      <a:pt x="567" y="853"/>
                    </a:lnTo>
                    <a:lnTo>
                      <a:pt x="560" y="790"/>
                    </a:lnTo>
                    <a:lnTo>
                      <a:pt x="551" y="732"/>
                    </a:lnTo>
                    <a:lnTo>
                      <a:pt x="541" y="680"/>
                    </a:lnTo>
                    <a:lnTo>
                      <a:pt x="529" y="636"/>
                    </a:lnTo>
                    <a:lnTo>
                      <a:pt x="519" y="599"/>
                    </a:lnTo>
                    <a:lnTo>
                      <a:pt x="510" y="57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582680" y="3778560"/>
                <a:ext cx="569160" cy="1690560"/>
              </a:xfrm>
              <a:custGeom>
                <a:avLst/>
                <a:gdLst/>
                <a:ahLst/>
                <a:rect l="l" t="t" r="r" b="b"/>
                <a:pathLst>
                  <a:path w="496" h="1407">
                    <a:moveTo>
                      <a:pt x="335" y="13"/>
                    </a:moveTo>
                    <a:lnTo>
                      <a:pt x="338" y="11"/>
                    </a:lnTo>
                    <a:lnTo>
                      <a:pt x="345" y="8"/>
                    </a:lnTo>
                    <a:lnTo>
                      <a:pt x="356" y="4"/>
                    </a:lnTo>
                    <a:lnTo>
                      <a:pt x="367" y="1"/>
                    </a:lnTo>
                    <a:lnTo>
                      <a:pt x="380" y="0"/>
                    </a:lnTo>
                    <a:lnTo>
                      <a:pt x="392" y="1"/>
                    </a:lnTo>
                    <a:lnTo>
                      <a:pt x="402" y="6"/>
                    </a:lnTo>
                    <a:lnTo>
                      <a:pt x="408" y="17"/>
                    </a:lnTo>
                    <a:lnTo>
                      <a:pt x="418" y="45"/>
                    </a:lnTo>
                    <a:lnTo>
                      <a:pt x="437" y="99"/>
                    </a:lnTo>
                    <a:lnTo>
                      <a:pt x="461" y="172"/>
                    </a:lnTo>
                    <a:lnTo>
                      <a:pt x="478" y="258"/>
                    </a:lnTo>
                    <a:lnTo>
                      <a:pt x="487" y="354"/>
                    </a:lnTo>
                    <a:lnTo>
                      <a:pt x="481" y="453"/>
                    </a:lnTo>
                    <a:lnTo>
                      <a:pt x="450" y="551"/>
                    </a:lnTo>
                    <a:lnTo>
                      <a:pt x="394" y="640"/>
                    </a:lnTo>
                    <a:lnTo>
                      <a:pt x="361" y="681"/>
                    </a:lnTo>
                    <a:lnTo>
                      <a:pt x="337" y="718"/>
                    </a:lnTo>
                    <a:lnTo>
                      <a:pt x="322" y="755"/>
                    </a:lnTo>
                    <a:lnTo>
                      <a:pt x="313" y="787"/>
                    </a:lnTo>
                    <a:lnTo>
                      <a:pt x="310" y="818"/>
                    </a:lnTo>
                    <a:lnTo>
                      <a:pt x="313" y="847"/>
                    </a:lnTo>
                    <a:lnTo>
                      <a:pt x="322" y="871"/>
                    </a:lnTo>
                    <a:lnTo>
                      <a:pt x="332" y="895"/>
                    </a:lnTo>
                    <a:lnTo>
                      <a:pt x="347" y="917"/>
                    </a:lnTo>
                    <a:lnTo>
                      <a:pt x="364" y="936"/>
                    </a:lnTo>
                    <a:lnTo>
                      <a:pt x="382" y="952"/>
                    </a:lnTo>
                    <a:lnTo>
                      <a:pt x="399" y="966"/>
                    </a:lnTo>
                    <a:lnTo>
                      <a:pt x="417" y="978"/>
                    </a:lnTo>
                    <a:lnTo>
                      <a:pt x="433" y="990"/>
                    </a:lnTo>
                    <a:lnTo>
                      <a:pt x="447" y="997"/>
                    </a:lnTo>
                    <a:lnTo>
                      <a:pt x="459" y="1004"/>
                    </a:lnTo>
                    <a:lnTo>
                      <a:pt x="477" y="1023"/>
                    </a:lnTo>
                    <a:lnTo>
                      <a:pt x="490" y="1057"/>
                    </a:lnTo>
                    <a:lnTo>
                      <a:pt x="496" y="1097"/>
                    </a:lnTo>
                    <a:lnTo>
                      <a:pt x="496" y="1144"/>
                    </a:lnTo>
                    <a:lnTo>
                      <a:pt x="484" y="1189"/>
                    </a:lnTo>
                    <a:lnTo>
                      <a:pt x="462" y="1233"/>
                    </a:lnTo>
                    <a:lnTo>
                      <a:pt x="427" y="1267"/>
                    </a:lnTo>
                    <a:lnTo>
                      <a:pt x="377" y="1288"/>
                    </a:lnTo>
                    <a:lnTo>
                      <a:pt x="335" y="1304"/>
                    </a:lnTo>
                    <a:lnTo>
                      <a:pt x="319" y="1322"/>
                    </a:lnTo>
                    <a:lnTo>
                      <a:pt x="322" y="1341"/>
                    </a:lnTo>
                    <a:lnTo>
                      <a:pt x="340" y="1360"/>
                    </a:lnTo>
                    <a:lnTo>
                      <a:pt x="364" y="1377"/>
                    </a:lnTo>
                    <a:lnTo>
                      <a:pt x="394" y="1392"/>
                    </a:lnTo>
                    <a:lnTo>
                      <a:pt x="418" y="1402"/>
                    </a:lnTo>
                    <a:lnTo>
                      <a:pt x="434" y="1407"/>
                    </a:lnTo>
                    <a:lnTo>
                      <a:pt x="431" y="1407"/>
                    </a:lnTo>
                    <a:lnTo>
                      <a:pt x="423" y="1405"/>
                    </a:lnTo>
                    <a:lnTo>
                      <a:pt x="408" y="1402"/>
                    </a:lnTo>
                    <a:lnTo>
                      <a:pt x="389" y="1399"/>
                    </a:lnTo>
                    <a:lnTo>
                      <a:pt x="367" y="1393"/>
                    </a:lnTo>
                    <a:lnTo>
                      <a:pt x="341" y="1386"/>
                    </a:lnTo>
                    <a:lnTo>
                      <a:pt x="313" y="1377"/>
                    </a:lnTo>
                    <a:lnTo>
                      <a:pt x="283" y="1364"/>
                    </a:lnTo>
                    <a:lnTo>
                      <a:pt x="252" y="1350"/>
                    </a:lnTo>
                    <a:lnTo>
                      <a:pt x="219" y="1332"/>
                    </a:lnTo>
                    <a:lnTo>
                      <a:pt x="187" y="1310"/>
                    </a:lnTo>
                    <a:lnTo>
                      <a:pt x="155" y="1286"/>
                    </a:lnTo>
                    <a:lnTo>
                      <a:pt x="125" y="1258"/>
                    </a:lnTo>
                    <a:lnTo>
                      <a:pt x="96" y="1224"/>
                    </a:lnTo>
                    <a:lnTo>
                      <a:pt x="70" y="1188"/>
                    </a:lnTo>
                    <a:lnTo>
                      <a:pt x="47" y="1146"/>
                    </a:lnTo>
                    <a:lnTo>
                      <a:pt x="15" y="1062"/>
                    </a:lnTo>
                    <a:lnTo>
                      <a:pt x="0" y="991"/>
                    </a:lnTo>
                    <a:lnTo>
                      <a:pt x="2" y="928"/>
                    </a:lnTo>
                    <a:lnTo>
                      <a:pt x="15" y="874"/>
                    </a:lnTo>
                    <a:lnTo>
                      <a:pt x="35" y="829"/>
                    </a:lnTo>
                    <a:lnTo>
                      <a:pt x="63" y="791"/>
                    </a:lnTo>
                    <a:lnTo>
                      <a:pt x="90" y="761"/>
                    </a:lnTo>
                    <a:lnTo>
                      <a:pt x="118" y="736"/>
                    </a:lnTo>
                    <a:lnTo>
                      <a:pt x="131" y="724"/>
                    </a:lnTo>
                    <a:lnTo>
                      <a:pt x="147" y="711"/>
                    </a:lnTo>
                    <a:lnTo>
                      <a:pt x="165" y="695"/>
                    </a:lnTo>
                    <a:lnTo>
                      <a:pt x="184" y="678"/>
                    </a:lnTo>
                    <a:lnTo>
                      <a:pt x="203" y="656"/>
                    </a:lnTo>
                    <a:lnTo>
                      <a:pt x="223" y="631"/>
                    </a:lnTo>
                    <a:lnTo>
                      <a:pt x="242" y="602"/>
                    </a:lnTo>
                    <a:lnTo>
                      <a:pt x="261" y="568"/>
                    </a:lnTo>
                    <a:lnTo>
                      <a:pt x="280" y="530"/>
                    </a:lnTo>
                    <a:lnTo>
                      <a:pt x="296" y="487"/>
                    </a:lnTo>
                    <a:lnTo>
                      <a:pt x="312" y="437"/>
                    </a:lnTo>
                    <a:lnTo>
                      <a:pt x="324" y="382"/>
                    </a:lnTo>
                    <a:lnTo>
                      <a:pt x="335" y="320"/>
                    </a:lnTo>
                    <a:lnTo>
                      <a:pt x="341" y="250"/>
                    </a:lnTo>
                    <a:lnTo>
                      <a:pt x="345" y="173"/>
                    </a:lnTo>
                    <a:lnTo>
                      <a:pt x="345" y="89"/>
                    </a:lnTo>
                    <a:lnTo>
                      <a:pt x="335" y="1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608960" y="4541400"/>
                <a:ext cx="223560" cy="561240"/>
              </a:xfrm>
              <a:custGeom>
                <a:avLst/>
                <a:gdLst/>
                <a:ahLst/>
                <a:rect l="l" t="t" r="r" b="b"/>
                <a:pathLst>
                  <a:path w="195" h="467">
                    <a:moveTo>
                      <a:pt x="173" y="9"/>
                    </a:moveTo>
                    <a:lnTo>
                      <a:pt x="170" y="12"/>
                    </a:lnTo>
                    <a:lnTo>
                      <a:pt x="162" y="18"/>
                    </a:lnTo>
                    <a:lnTo>
                      <a:pt x="147" y="29"/>
                    </a:lnTo>
                    <a:lnTo>
                      <a:pt x="131" y="44"/>
                    </a:lnTo>
                    <a:lnTo>
                      <a:pt x="112" y="63"/>
                    </a:lnTo>
                    <a:lnTo>
                      <a:pt x="90" y="85"/>
                    </a:lnTo>
                    <a:lnTo>
                      <a:pt x="70" y="111"/>
                    </a:lnTo>
                    <a:lnTo>
                      <a:pt x="49" y="139"/>
                    </a:lnTo>
                    <a:lnTo>
                      <a:pt x="32" y="171"/>
                    </a:lnTo>
                    <a:lnTo>
                      <a:pt x="16" y="204"/>
                    </a:lnTo>
                    <a:lnTo>
                      <a:pt x="6" y="241"/>
                    </a:lnTo>
                    <a:lnTo>
                      <a:pt x="0" y="278"/>
                    </a:lnTo>
                    <a:lnTo>
                      <a:pt x="0" y="319"/>
                    </a:lnTo>
                    <a:lnTo>
                      <a:pt x="9" y="362"/>
                    </a:lnTo>
                    <a:lnTo>
                      <a:pt x="25" y="404"/>
                    </a:lnTo>
                    <a:lnTo>
                      <a:pt x="51" y="449"/>
                    </a:lnTo>
                    <a:lnTo>
                      <a:pt x="57" y="456"/>
                    </a:lnTo>
                    <a:lnTo>
                      <a:pt x="68" y="467"/>
                    </a:lnTo>
                    <a:lnTo>
                      <a:pt x="80" y="462"/>
                    </a:lnTo>
                    <a:lnTo>
                      <a:pt x="84" y="424"/>
                    </a:lnTo>
                    <a:lnTo>
                      <a:pt x="84" y="391"/>
                    </a:lnTo>
                    <a:lnTo>
                      <a:pt x="87" y="353"/>
                    </a:lnTo>
                    <a:lnTo>
                      <a:pt x="92" y="312"/>
                    </a:lnTo>
                    <a:lnTo>
                      <a:pt x="97" y="271"/>
                    </a:lnTo>
                    <a:lnTo>
                      <a:pt x="105" y="230"/>
                    </a:lnTo>
                    <a:lnTo>
                      <a:pt x="115" y="194"/>
                    </a:lnTo>
                    <a:lnTo>
                      <a:pt x="125" y="162"/>
                    </a:lnTo>
                    <a:lnTo>
                      <a:pt x="137" y="136"/>
                    </a:lnTo>
                    <a:lnTo>
                      <a:pt x="151" y="109"/>
                    </a:lnTo>
                    <a:lnTo>
                      <a:pt x="166" y="82"/>
                    </a:lnTo>
                    <a:lnTo>
                      <a:pt x="179" y="55"/>
                    </a:lnTo>
                    <a:lnTo>
                      <a:pt x="189" y="32"/>
                    </a:lnTo>
                    <a:lnTo>
                      <a:pt x="195" y="15"/>
                    </a:lnTo>
                    <a:lnTo>
                      <a:pt x="195" y="3"/>
                    </a:lnTo>
                    <a:lnTo>
                      <a:pt x="188" y="0"/>
                    </a:lnTo>
                    <a:lnTo>
                      <a:pt x="173"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774200" y="4599360"/>
                <a:ext cx="109800" cy="807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774200" y="4599360"/>
                <a:ext cx="220320" cy="864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774200" y="4599360"/>
                <a:ext cx="330480" cy="86472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774200" y="4599360"/>
                <a:ext cx="440640" cy="80712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774200" y="4599360"/>
                <a:ext cx="551160" cy="74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H="1">
                <a:off x="7232760" y="5397120"/>
                <a:ext cx="660960" cy="7495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7333560" y="5464440"/>
                <a:ext cx="660960" cy="807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H="1">
                <a:off x="7553520" y="5464440"/>
                <a:ext cx="551160" cy="86472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7774200" y="5406480"/>
                <a:ext cx="440640" cy="98028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7994880" y="5339160"/>
                <a:ext cx="321120" cy="1105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5" name="PlaceHolder 1"/>
          <p:cNvSpPr>
            <a:spLocks noGrp="1"/>
          </p:cNvSpPr>
          <p:nvPr>
            <p:ph type="title"/>
          </p:nvPr>
        </p:nvSpPr>
        <p:spPr>
          <a:xfrm>
            <a:off x="49500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the bending of light make a rainbow?</a:t>
            </a:r>
            <a:endParaRPr b="0" lang="en-US" sz="4400" spc="-1" strike="noStrike">
              <a:solidFill>
                <a:srgbClr val="000000"/>
              </a:solidFill>
              <a:latin typeface="Times New Roman"/>
            </a:endParaRPr>
          </a:p>
        </p:txBody>
      </p:sp>
      <p:sp>
        <p:nvSpPr>
          <p:cNvPr id="556" name="PlaceHolder 2"/>
          <p:cNvSpPr>
            <a:spLocks noGrp="1"/>
          </p:cNvSpPr>
          <p:nvPr>
            <p:ph/>
          </p:nvPr>
        </p:nvSpPr>
        <p:spPr>
          <a:xfrm>
            <a:off x="457200" y="2565000"/>
            <a:ext cx="5200560" cy="377028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are some clues (that you already know) to help you figure it out:</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f the different colors have different frequencies.</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is the number of waves that pass a certain point per time.  This is how fast the wave is moving.</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s change their speed when they move from one medium to another.</a:t>
            </a:r>
            <a:endParaRPr b="0" lang="en-US" sz="2400" spc="-1" strike="noStrike">
              <a:solidFill>
                <a:srgbClr val="000000"/>
              </a:solidFill>
              <a:latin typeface="Times New Roman"/>
            </a:endParaRPr>
          </a:p>
        </p:txBody>
      </p:sp>
      <p:sp>
        <p:nvSpPr>
          <p:cNvPr id="5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8" name="" descr=""/>
          <p:cNvPicPr/>
          <p:nvPr/>
        </p:nvPicPr>
        <p:blipFill>
          <a:blip r:embed="rId2"/>
          <a:stretch/>
        </p:blipFill>
        <p:spPr>
          <a:xfrm>
            <a:off x="757080" y="2535120"/>
            <a:ext cx="3598920" cy="2610000"/>
          </a:xfrm>
          <a:prstGeom prst="rect">
            <a:avLst/>
          </a:prstGeom>
          <a:ln w="57240">
            <a:solidFill>
              <a:srgbClr val="545068"/>
            </a:solidFill>
            <a:miter/>
          </a:ln>
        </p:spPr>
      </p:pic>
      <p:sp>
        <p:nvSpPr>
          <p:cNvPr id="559"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class, brainstorm questions that, if answered, would help you understand rainbow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five good questions for further investigation.</a:t>
            </a:r>
            <a:endParaRPr b="0" lang="en-US" sz="2800" spc="-1" strike="noStrike">
              <a:solidFill>
                <a:srgbClr val="000000"/>
              </a:solidFill>
              <a:latin typeface="Times New Roman"/>
            </a:endParaRPr>
          </a:p>
        </p:txBody>
      </p:sp>
      <p:sp>
        <p:nvSpPr>
          <p:cNvPr id="560"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5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2" name="" descr=""/>
          <p:cNvPicPr/>
          <p:nvPr/>
        </p:nvPicPr>
        <p:blipFill>
          <a:blip r:embed="rId2"/>
          <a:stretch/>
        </p:blipFill>
        <p:spPr>
          <a:xfrm>
            <a:off x="4716360" y="2489040"/>
            <a:ext cx="3597480" cy="2310120"/>
          </a:xfrm>
          <a:prstGeom prst="rect">
            <a:avLst/>
          </a:prstGeom>
          <a:ln w="57240">
            <a:solidFill>
              <a:srgbClr val="545068"/>
            </a:solidFill>
            <a:miter/>
          </a:ln>
        </p:spPr>
      </p:pic>
      <p:sp>
        <p:nvSpPr>
          <p:cNvPr id="563"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the class into five research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each team to investigate and answer one of the five questions formulated about rainbows. </a:t>
            </a:r>
            <a:endParaRPr b="0" lang="en-US" sz="2800" spc="-1" strike="noStrike">
              <a:solidFill>
                <a:srgbClr val="000000"/>
              </a:solidFill>
              <a:latin typeface="Times New Roman"/>
            </a:endParaRPr>
          </a:p>
        </p:txBody>
      </p:sp>
      <p:sp>
        <p:nvSpPr>
          <p:cNvPr id="564"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5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6" name="" descr=""/>
          <p:cNvPicPr/>
          <p:nvPr/>
        </p:nvPicPr>
        <p:blipFill>
          <a:blip r:embed="rId2"/>
          <a:stretch/>
        </p:blipFill>
        <p:spPr>
          <a:xfrm>
            <a:off x="533520" y="2162160"/>
            <a:ext cx="3733560" cy="2532240"/>
          </a:xfrm>
          <a:prstGeom prst="rect">
            <a:avLst/>
          </a:prstGeom>
          <a:ln w="57240">
            <a:solidFill>
              <a:srgbClr val="545068"/>
            </a:solidFill>
            <a:miter/>
          </a:ln>
        </p:spPr>
      </p:pic>
      <p:sp>
        <p:nvSpPr>
          <p:cNvPr id="56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568" name="PlaceHolder 2"/>
          <p:cNvSpPr>
            <a:spLocks noGrp="1"/>
          </p:cNvSpPr>
          <p:nvPr>
            <p:ph/>
          </p:nvPr>
        </p:nvSpPr>
        <p:spPr>
          <a:xfrm>
            <a:off x="4571640" y="2050920"/>
            <a:ext cx="4179960" cy="374040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should prepare a one page report that presents the question investigated and provides an explanation. </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t least one diagram in your report that will make the explanation easier to understand.</a:t>
            </a:r>
            <a:endParaRPr b="0" lang="en-US" sz="2800" spc="-1" strike="noStrike">
              <a:solidFill>
                <a:srgbClr val="000000"/>
              </a:solidFill>
              <a:latin typeface="Times New Roman"/>
            </a:endParaRPr>
          </a:p>
        </p:txBody>
      </p:sp>
      <p:sp>
        <p:nvSpPr>
          <p:cNvPr id="5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4824360" y="1811160"/>
            <a:ext cx="3598920" cy="2621160"/>
          </a:xfrm>
          <a:prstGeom prst="rect">
            <a:avLst/>
          </a:prstGeom>
          <a:ln w="57240">
            <a:solidFill>
              <a:srgbClr val="545068"/>
            </a:solidFill>
            <a:miter/>
          </a:ln>
        </p:spPr>
      </p:pic>
      <p:sp>
        <p:nvSpPr>
          <p:cNvPr id="57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Myths</a:t>
            </a:r>
            <a:endParaRPr b="0" lang="en-US" sz="4400" spc="-1" strike="noStrike">
              <a:solidFill>
                <a:srgbClr val="000000"/>
              </a:solidFill>
              <a:latin typeface="Times New Roman"/>
            </a:endParaRPr>
          </a:p>
        </p:txBody>
      </p:sp>
      <p:sp>
        <p:nvSpPr>
          <p:cNvPr id="572" name="PlaceHolder 2"/>
          <p:cNvSpPr>
            <a:spLocks noGrp="1"/>
          </p:cNvSpPr>
          <p:nvPr>
            <p:ph/>
          </p:nvPr>
        </p:nvSpPr>
        <p:spPr>
          <a:xfrm>
            <a:off x="756720" y="1592280"/>
            <a:ext cx="3598920" cy="426888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rade questions with another research team. Each team should have a new question that they did not research.</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myth that explains some feature of the rainbow addressed in the question. </a:t>
            </a:r>
            <a:endParaRPr b="0" lang="en-US" sz="2800" spc="-1" strike="noStrike">
              <a:solidFill>
                <a:srgbClr val="000000"/>
              </a:solidFill>
              <a:latin typeface="Times New Roman"/>
            </a:endParaRPr>
          </a:p>
        </p:txBody>
      </p:sp>
      <p:sp>
        <p:nvSpPr>
          <p:cNvPr id="5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4" name="" descr=""/>
          <p:cNvPicPr/>
          <p:nvPr/>
        </p:nvPicPr>
        <p:blipFill>
          <a:blip r:embed="rId2"/>
          <a:stretch/>
        </p:blipFill>
        <p:spPr>
          <a:xfrm>
            <a:off x="3538440" y="1562040"/>
            <a:ext cx="2067120" cy="1289160"/>
          </a:xfrm>
          <a:prstGeom prst="rect">
            <a:avLst/>
          </a:prstGeom>
          <a:ln w="38160">
            <a:solidFill>
              <a:srgbClr val="545068"/>
            </a:solidFill>
            <a:miter/>
          </a:ln>
        </p:spPr>
      </p:pic>
      <p:sp>
        <p:nvSpPr>
          <p:cNvPr id="575" name=""/>
          <p:cNvSpPr/>
          <p:nvPr/>
        </p:nvSpPr>
        <p:spPr>
          <a:xfrm>
            <a:off x="1976040" y="6248520"/>
            <a:ext cx="50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34173"/>
                </a:solidFill>
                <a:uFillTx/>
                <a:latin typeface="Times New Roman"/>
                <a:hlinkClick r:id="rId3"/>
              </a:rPr>
              <a:t>Click here for help with unit conversion</a:t>
            </a:r>
            <a:endParaRPr b="0" lang="en-US" sz="2400" spc="-1" strike="noStrike">
              <a:solidFill>
                <a:srgbClr val="000000"/>
              </a:solidFill>
              <a:latin typeface="Times New Roman"/>
            </a:endParaRPr>
          </a:p>
        </p:txBody>
      </p:sp>
      <p:sp>
        <p:nvSpPr>
          <p:cNvPr id="576" name="PlaceHolder 1"/>
          <p:cNvSpPr>
            <a:spLocks noGrp="1"/>
          </p:cNvSpPr>
          <p:nvPr>
            <p:ph type="title"/>
          </p:nvPr>
        </p:nvSpPr>
        <p:spPr>
          <a:xfrm>
            <a:off x="901800" y="47160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inted Threat</a:t>
            </a:r>
            <a:endParaRPr b="0" lang="en-US" sz="4400" spc="-1" strike="noStrike">
              <a:solidFill>
                <a:srgbClr val="000000"/>
              </a:solidFill>
              <a:latin typeface="Times New Roman"/>
            </a:endParaRPr>
          </a:p>
        </p:txBody>
      </p:sp>
      <p:sp>
        <p:nvSpPr>
          <p:cNvPr id="577" name="PlaceHolder 2"/>
          <p:cNvSpPr>
            <a:spLocks noGrp="1"/>
          </p:cNvSpPr>
          <p:nvPr>
            <p:ph/>
          </p:nvPr>
        </p:nvSpPr>
        <p:spPr>
          <a:xfrm>
            <a:off x="423720" y="3328920"/>
            <a:ext cx="8236080" cy="207648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fter Jace was accidentally transported to the Three Rivers area, he was immediately confronted by a Lenape warrior. As described in the story, a flint arrow was pointed at Jace’s nose with the tip only 5 inches away. How many centimeters is 5 inches?</a:t>
            </a:r>
            <a:endParaRPr b="0" lang="en-US" sz="2600" spc="-1" strike="noStrike">
              <a:solidFill>
                <a:srgbClr val="000000"/>
              </a:solidFill>
              <a:latin typeface="Times New Roman"/>
            </a:endParaRPr>
          </a:p>
        </p:txBody>
      </p:sp>
      <p:sp>
        <p:nvSpPr>
          <p:cNvPr id="5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 descr=""/>
          <p:cNvPicPr/>
          <p:nvPr/>
        </p:nvPicPr>
        <p:blipFill>
          <a:blip r:embed="rId2"/>
          <a:stretch/>
        </p:blipFill>
        <p:spPr>
          <a:xfrm>
            <a:off x="4199040" y="4343400"/>
            <a:ext cx="844560" cy="1787400"/>
          </a:xfrm>
          <a:prstGeom prst="rect">
            <a:avLst/>
          </a:prstGeom>
          <a:ln w="0">
            <a:noFill/>
          </a:ln>
        </p:spPr>
      </p:pic>
      <p:grpSp>
        <p:nvGrpSpPr>
          <p:cNvPr id="580" name=""/>
          <p:cNvGrpSpPr/>
          <p:nvPr/>
        </p:nvGrpSpPr>
        <p:grpSpPr>
          <a:xfrm>
            <a:off x="1270080" y="4659480"/>
            <a:ext cx="3504600" cy="1991880"/>
            <a:chOff x="1270080" y="4659480"/>
            <a:chExt cx="3504600" cy="1991880"/>
          </a:xfrm>
        </p:grpSpPr>
        <p:pic>
          <p:nvPicPr>
            <p:cNvPr id="581" name="" descr=""/>
            <p:cNvPicPr/>
            <p:nvPr/>
          </p:nvPicPr>
          <p:blipFill>
            <a:blip r:embed="rId3"/>
            <a:stretch/>
          </p:blipFill>
          <p:spPr>
            <a:xfrm>
              <a:off x="3439440" y="4659480"/>
              <a:ext cx="775440" cy="1712160"/>
            </a:xfrm>
            <a:prstGeom prst="rect">
              <a:avLst/>
            </a:prstGeom>
            <a:ln w="0">
              <a:noFill/>
            </a:ln>
          </p:spPr>
        </p:pic>
        <p:pic>
          <p:nvPicPr>
            <p:cNvPr id="582" name="" descr=""/>
            <p:cNvPicPr/>
            <p:nvPr/>
          </p:nvPicPr>
          <p:blipFill>
            <a:blip r:embed="rId4"/>
            <a:stretch/>
          </p:blipFill>
          <p:spPr>
            <a:xfrm>
              <a:off x="1899720" y="4659480"/>
              <a:ext cx="2309400" cy="1809720"/>
            </a:xfrm>
            <a:prstGeom prst="rect">
              <a:avLst/>
            </a:prstGeom>
            <a:ln w="0">
              <a:noFill/>
            </a:ln>
          </p:spPr>
        </p:pic>
        <p:pic>
          <p:nvPicPr>
            <p:cNvPr id="583" name="" descr=""/>
            <p:cNvPicPr/>
            <p:nvPr/>
          </p:nvPicPr>
          <p:blipFill>
            <a:blip r:embed="rId5"/>
            <a:stretch/>
          </p:blipFill>
          <p:spPr>
            <a:xfrm>
              <a:off x="1620000" y="4939200"/>
              <a:ext cx="717120" cy="1518480"/>
            </a:xfrm>
            <a:prstGeom prst="rect">
              <a:avLst/>
            </a:prstGeom>
            <a:ln w="0">
              <a:noFill/>
            </a:ln>
          </p:spPr>
        </p:pic>
        <p:pic>
          <p:nvPicPr>
            <p:cNvPr id="584" name="" descr=""/>
            <p:cNvPicPr/>
            <p:nvPr/>
          </p:nvPicPr>
          <p:blipFill>
            <a:blip r:embed="rId6"/>
            <a:stretch/>
          </p:blipFill>
          <p:spPr>
            <a:xfrm>
              <a:off x="1824120" y="5031000"/>
              <a:ext cx="717120" cy="1518480"/>
            </a:xfrm>
            <a:prstGeom prst="rect">
              <a:avLst/>
            </a:prstGeom>
            <a:ln w="0">
              <a:noFill/>
            </a:ln>
          </p:spPr>
        </p:pic>
        <p:pic>
          <p:nvPicPr>
            <p:cNvPr id="585" name="" descr=""/>
            <p:cNvPicPr/>
            <p:nvPr/>
          </p:nvPicPr>
          <p:blipFill>
            <a:blip r:embed="rId7"/>
            <a:stretch/>
          </p:blipFill>
          <p:spPr>
            <a:xfrm>
              <a:off x="2529720" y="5079240"/>
              <a:ext cx="717120" cy="1518120"/>
            </a:xfrm>
            <a:prstGeom prst="rect">
              <a:avLst/>
            </a:prstGeom>
            <a:ln w="0">
              <a:noFill/>
            </a:ln>
          </p:spPr>
        </p:pic>
        <p:pic>
          <p:nvPicPr>
            <p:cNvPr id="586" name="" descr=""/>
            <p:cNvPicPr/>
            <p:nvPr/>
          </p:nvPicPr>
          <p:blipFill>
            <a:blip r:embed="rId8"/>
            <a:stretch/>
          </p:blipFill>
          <p:spPr>
            <a:xfrm>
              <a:off x="1920240" y="5079240"/>
              <a:ext cx="1217160" cy="1456920"/>
            </a:xfrm>
            <a:prstGeom prst="rect">
              <a:avLst/>
            </a:prstGeom>
            <a:ln w="0">
              <a:noFill/>
            </a:ln>
          </p:spPr>
        </p:pic>
        <p:pic>
          <p:nvPicPr>
            <p:cNvPr id="587" name="" descr=""/>
            <p:cNvPicPr/>
            <p:nvPr/>
          </p:nvPicPr>
          <p:blipFill>
            <a:blip r:embed="rId9"/>
            <a:stretch/>
          </p:blipFill>
          <p:spPr>
            <a:xfrm>
              <a:off x="3229560" y="5149080"/>
              <a:ext cx="1002960" cy="1430640"/>
            </a:xfrm>
            <a:prstGeom prst="rect">
              <a:avLst/>
            </a:prstGeom>
            <a:ln w="0">
              <a:noFill/>
            </a:ln>
          </p:spPr>
        </p:pic>
        <p:pic>
          <p:nvPicPr>
            <p:cNvPr id="588" name="" descr=""/>
            <p:cNvPicPr/>
            <p:nvPr/>
          </p:nvPicPr>
          <p:blipFill>
            <a:blip r:embed="rId10"/>
            <a:stretch/>
          </p:blipFill>
          <p:spPr>
            <a:xfrm>
              <a:off x="3999240" y="5009400"/>
              <a:ext cx="775440" cy="1641960"/>
            </a:xfrm>
            <a:prstGeom prst="rect">
              <a:avLst/>
            </a:prstGeom>
            <a:ln w="0">
              <a:noFill/>
            </a:ln>
          </p:spPr>
        </p:pic>
        <p:pic>
          <p:nvPicPr>
            <p:cNvPr id="589" name="" descr=""/>
            <p:cNvPicPr/>
            <p:nvPr/>
          </p:nvPicPr>
          <p:blipFill>
            <a:blip r:embed="rId11"/>
            <a:stretch/>
          </p:blipFill>
          <p:spPr>
            <a:xfrm>
              <a:off x="1270080" y="4659480"/>
              <a:ext cx="1002960" cy="1430640"/>
            </a:xfrm>
            <a:prstGeom prst="rect">
              <a:avLst/>
            </a:prstGeom>
            <a:ln w="0">
              <a:noFill/>
            </a:ln>
          </p:spPr>
        </p:pic>
      </p:grpSp>
      <p:sp>
        <p:nvSpPr>
          <p:cNvPr id="590" name=""/>
          <p:cNvSpPr/>
          <p:nvPr/>
        </p:nvSpPr>
        <p:spPr>
          <a:xfrm>
            <a:off x="4982400" y="6164280"/>
            <a:ext cx="374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12"/>
              </a:rPr>
              <a:t>Click here for help with circumference</a:t>
            </a:r>
            <a:endParaRPr b="0" lang="en-US" sz="1800" spc="-1" strike="noStrike">
              <a:solidFill>
                <a:srgbClr val="000000"/>
              </a:solidFill>
              <a:latin typeface="Times New Roman"/>
            </a:endParaRPr>
          </a:p>
        </p:txBody>
      </p:sp>
      <p:sp>
        <p:nvSpPr>
          <p:cNvPr id="591" name="PlaceHolder 1"/>
          <p:cNvSpPr>
            <a:spLocks noGrp="1"/>
          </p:cNvSpPr>
          <p:nvPr>
            <p:ph type="title"/>
          </p:nvPr>
        </p:nvSpPr>
        <p:spPr>
          <a:xfrm>
            <a:off x="428760" y="480960"/>
            <a:ext cx="8286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x at the End of the Rainbow</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4965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 a break in the trees, the rainbow in the forest seemed to extend from directly overhead to the horiz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distance to the horizon is 20 kilometers, how long is the rainbow?</a:t>
            </a:r>
            <a:endParaRPr b="0" lang="en-US" sz="3200" spc="-1" strike="noStrike">
              <a:solidFill>
                <a:srgbClr val="000000"/>
              </a:solidFill>
              <a:latin typeface="Times New Roman"/>
            </a:endParaRPr>
          </a:p>
        </p:txBody>
      </p:sp>
      <p:sp>
        <p:nvSpPr>
          <p:cNvPr id="593" name=""/>
          <p:cNvSpPr/>
          <p:nvPr/>
        </p:nvSpPr>
        <p:spPr>
          <a:xfrm>
            <a:off x="160200" y="6464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5224320" y="1844640"/>
            <a:ext cx="3124440" cy="2343240"/>
          </a:xfrm>
          <a:prstGeom prst="rect">
            <a:avLst/>
          </a:prstGeom>
          <a:ln w="38160">
            <a:solidFill>
              <a:srgbClr val="545068"/>
            </a:solidFill>
            <a:miter/>
          </a:ln>
        </p:spPr>
      </p:pic>
      <p:sp>
        <p:nvSpPr>
          <p:cNvPr id="595" name=""/>
          <p:cNvSpPr/>
          <p:nvPr/>
        </p:nvSpPr>
        <p:spPr>
          <a:xfrm>
            <a:off x="5381640" y="44514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3"/>
              </a:rPr>
              <a:t>Click here for help with unit conversion</a:t>
            </a:r>
            <a:endParaRPr b="0" lang="en-US" sz="1800" spc="-1" strike="noStrike">
              <a:solidFill>
                <a:srgbClr val="000000"/>
              </a:solidFill>
              <a:latin typeface="Times New Roman"/>
            </a:endParaRPr>
          </a:p>
        </p:txBody>
      </p:sp>
      <p:sp>
        <p:nvSpPr>
          <p:cNvPr id="596" name="PlaceHolder 1"/>
          <p:cNvSpPr>
            <a:spLocks noGrp="1"/>
          </p:cNvSpPr>
          <p:nvPr>
            <p:ph type="title"/>
          </p:nvPr>
        </p:nvSpPr>
        <p:spPr>
          <a:xfrm>
            <a:off x="901800" y="47304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elve Point Buck</a:t>
            </a:r>
            <a:endParaRPr b="0" lang="en-US" sz="4400" spc="-1" strike="noStrike">
              <a:solidFill>
                <a:srgbClr val="000000"/>
              </a:solidFill>
              <a:latin typeface="Times New Roman"/>
            </a:endParaRPr>
          </a:p>
        </p:txBody>
      </p:sp>
      <p:sp>
        <p:nvSpPr>
          <p:cNvPr id="597" name="PlaceHolder 2"/>
          <p:cNvSpPr>
            <a:spLocks noGrp="1"/>
          </p:cNvSpPr>
          <p:nvPr>
            <p:ph/>
          </p:nvPr>
        </p:nvSpPr>
        <p:spPr>
          <a:xfrm>
            <a:off x="685440" y="1766520"/>
            <a:ext cx="4295880" cy="4708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 shot a 200 pound deer with 12 point antlers just before Jace arrived on the sce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kilograms equal 200 pounds?  Round your answer to the nearest 10 kilograms.</a:t>
            </a:r>
            <a:endParaRPr b="0" lang="en-US" sz="2800" spc="-1" strike="noStrike">
              <a:solidFill>
                <a:srgbClr val="000000"/>
              </a:solidFill>
              <a:latin typeface="Times New Roman"/>
            </a:endParaRPr>
          </a:p>
        </p:txBody>
      </p:sp>
      <p:sp>
        <p:nvSpPr>
          <p:cNvPr id="5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01800" y="47304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embers Only</a:t>
            </a: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562040"/>
            <a:ext cx="77724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name the six members of the Back Pack Clu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number of students in Jace’s class is three less than five times the number of club members and there are twelve girls in his class, how many boys are in Jace’s class?</a:t>
            </a:r>
            <a:endParaRPr b="0" lang="en-US" sz="3200" spc="-1" strike="noStrike">
              <a:solidFill>
                <a:srgbClr val="000000"/>
              </a:solidFill>
              <a:latin typeface="Times New Roman"/>
            </a:endParaRPr>
          </a:p>
        </p:txBody>
      </p:sp>
      <p:sp>
        <p:nvSpPr>
          <p:cNvPr id="6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in Europe</a:t>
            </a:r>
            <a:endParaRPr b="0" lang="en-US" sz="4400" spc="-1" strike="noStrike">
              <a:solidFill>
                <a:srgbClr val="000000"/>
              </a:solidFill>
              <a:latin typeface="Times New Roman"/>
            </a:endParaRPr>
          </a:p>
        </p:txBody>
      </p:sp>
      <p:sp>
        <p:nvSpPr>
          <p:cNvPr id="89" name="PlaceHolder 2"/>
          <p:cNvSpPr>
            <a:spLocks noGrp="1"/>
          </p:cNvSpPr>
          <p:nvPr>
            <p:ph/>
          </p:nvPr>
        </p:nvSpPr>
        <p:spPr>
          <a:xfrm>
            <a:off x="901800" y="1650960"/>
            <a:ext cx="7340400" cy="3741840"/>
          </a:xfrm>
          <a:prstGeom prst="rect">
            <a:avLst/>
          </a:prstGeom>
          <a:noFill/>
          <a:ln w="0">
            <a:noFill/>
          </a:ln>
        </p:spPr>
        <p:txBody>
          <a:bodyPr lIns="90000" rIns="90000" tIns="46800" bIns="46800" anchor="t">
            <a:normAutofit fontScale="83000"/>
          </a:bodyPr>
          <a:p>
            <a:pPr marL="284400" indent="-2844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of Europe was involved in a series of wars during the 18</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century.</a:t>
            </a:r>
            <a:endParaRPr b="0" lang="en-US" sz="2600" spc="-1" strike="noStrike">
              <a:solidFill>
                <a:srgbClr val="000000"/>
              </a:solidFill>
              <a:latin typeface="Times New Roman"/>
            </a:endParaRPr>
          </a:p>
          <a:p>
            <a:pPr marL="284400" indent="-2844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ee major powers involved in the conflicts were England, France and Spain.</a:t>
            </a:r>
            <a:endParaRPr b="0" lang="en-US" sz="2600" spc="-1" strike="noStrike">
              <a:solidFill>
                <a:srgbClr val="000000"/>
              </a:solidFill>
              <a:latin typeface="Times New Roman"/>
            </a:endParaRPr>
          </a:p>
          <a:p>
            <a:pPr marL="284400" indent="-2844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countries competed for land, power, colonies and trade.</a:t>
            </a:r>
            <a:endParaRPr b="0" lang="en-US" sz="2600" spc="-1" strike="noStrike">
              <a:solidFill>
                <a:srgbClr val="000000"/>
              </a:solidFill>
              <a:latin typeface="Times New Roman"/>
            </a:endParaRPr>
          </a:p>
          <a:p>
            <a:pPr marL="284400" indent="-2844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European conflicts carried over into the New World since England, France, and Spain had colonies in the New World.</a:t>
            </a:r>
            <a:endParaRPr b="0" lang="en-US" sz="2600" spc="-1" strike="noStrike">
              <a:solidFill>
                <a:srgbClr val="000000"/>
              </a:solidFill>
              <a:latin typeface="Times New Roman"/>
            </a:endParaRPr>
          </a:p>
          <a:p>
            <a:pPr marL="284400" indent="-2844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know about specific conflicts in North America during the 1700s?</a:t>
            </a:r>
            <a:endParaRPr b="0" lang="en-US" sz="2600" spc="-1" strike="noStrike">
              <a:solidFill>
                <a:srgbClr val="000000"/>
              </a:solidFill>
              <a:latin typeface="Times New Roman"/>
            </a:endParaRPr>
          </a:p>
          <a:p>
            <a:pPr marL="2844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 descr=""/>
          <p:cNvPicPr/>
          <p:nvPr/>
        </p:nvPicPr>
        <p:blipFill>
          <a:blip r:embed="rId2"/>
          <a:stretch/>
        </p:blipFill>
        <p:spPr>
          <a:xfrm>
            <a:off x="5059440" y="2063880"/>
            <a:ext cx="3713040" cy="3490920"/>
          </a:xfrm>
          <a:prstGeom prst="rect">
            <a:avLst/>
          </a:prstGeom>
          <a:ln w="88920">
            <a:solidFill>
              <a:srgbClr val="545068"/>
            </a:solidFill>
            <a:miter/>
          </a:ln>
        </p:spPr>
      </p:pic>
      <p:sp>
        <p:nvSpPr>
          <p:cNvPr id="603" name="PlaceHolder 1"/>
          <p:cNvSpPr>
            <a:spLocks noGrp="1"/>
          </p:cNvSpPr>
          <p:nvPr>
            <p:ph type="title"/>
          </p:nvPr>
        </p:nvSpPr>
        <p:spPr>
          <a:xfrm>
            <a:off x="829800" y="510840"/>
            <a:ext cx="7340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verish Start</a:t>
            </a:r>
            <a:endParaRPr b="0" lang="en-US" sz="4400" spc="-1" strike="noStrike">
              <a:solidFill>
                <a:srgbClr val="000000"/>
              </a:solidFill>
              <a:latin typeface="Times New Roman"/>
            </a:endParaRPr>
          </a:p>
        </p:txBody>
      </p:sp>
      <p:sp>
        <p:nvSpPr>
          <p:cNvPr id="6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8.0</a:t>
            </a:r>
            <a:endParaRPr b="0" lang="en-US" sz="1000" spc="-1" strike="noStrike">
              <a:solidFill>
                <a:srgbClr val="000000"/>
              </a:solidFill>
              <a:latin typeface="Times New Roman"/>
            </a:endParaRPr>
          </a:p>
        </p:txBody>
      </p:sp>
      <p:sp>
        <p:nvSpPr>
          <p:cNvPr id="605" name="PlaceHolder 2"/>
          <p:cNvSpPr>
            <a:spLocks noGrp="1"/>
          </p:cNvSpPr>
          <p:nvPr>
            <p:ph/>
          </p:nvPr>
        </p:nvSpPr>
        <p:spPr>
          <a:xfrm>
            <a:off x="380520" y="1895400"/>
            <a:ext cx="4311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 body temperature is 37.5° Celsius.  Given the graph of DeJay’s temperature on the first day of school, predict his temperature at noon on this 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DeJay have attended school that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6" name="" descr=""/>
          <p:cNvPicPr/>
          <p:nvPr/>
        </p:nvPicPr>
        <p:blipFill>
          <a:blip r:embed="rId2"/>
          <a:stretch/>
        </p:blipFill>
        <p:spPr>
          <a:xfrm rot="6077400">
            <a:off x="6430680" y="2026800"/>
            <a:ext cx="2230560" cy="1681200"/>
          </a:xfrm>
          <a:prstGeom prst="rect">
            <a:avLst/>
          </a:prstGeom>
          <a:ln w="0">
            <a:noFill/>
          </a:ln>
        </p:spPr>
      </p:pic>
      <p:sp>
        <p:nvSpPr>
          <p:cNvPr id="6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9.0</a:t>
            </a:r>
            <a:endParaRPr b="0" lang="en-US" sz="1000" spc="-1" strike="noStrike">
              <a:solidFill>
                <a:srgbClr val="000000"/>
              </a:solidFill>
              <a:latin typeface="Times New Roman"/>
            </a:endParaRPr>
          </a:p>
        </p:txBody>
      </p:sp>
      <p:sp>
        <p:nvSpPr>
          <p:cNvPr id="608" name=""/>
          <p:cNvSpPr/>
          <p:nvPr/>
        </p:nvSpPr>
        <p:spPr>
          <a:xfrm>
            <a:off x="419040" y="365040"/>
            <a:ext cx="8305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ing Others</a:t>
            </a:r>
            <a:endParaRPr b="0" lang="en-US" sz="4400" spc="-1" strike="noStrike">
              <a:solidFill>
                <a:srgbClr val="000000"/>
              </a:solidFill>
              <a:latin typeface="Times New Roman"/>
            </a:endParaRPr>
          </a:p>
        </p:txBody>
      </p:sp>
      <p:sp>
        <p:nvSpPr>
          <p:cNvPr id="609" name=""/>
          <p:cNvSpPr/>
          <p:nvPr/>
        </p:nvSpPr>
        <p:spPr>
          <a:xfrm>
            <a:off x="851040" y="1228680"/>
            <a:ext cx="55753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coming to the New World, European settlers, engaged in biological warfare against those who they saw as a threat - the Native Americans.  They provided the Native Americans with blankets that had been contaminated with a virus.</a:t>
            </a:r>
            <a:endParaRPr b="0" lang="en-US" sz="2800" spc="-1" strike="noStrike">
              <a:solidFill>
                <a:srgbClr val="000000"/>
              </a:solidFill>
              <a:latin typeface="Times New Roman"/>
            </a:endParaRPr>
          </a:p>
        </p:txBody>
      </p:sp>
      <p:sp>
        <p:nvSpPr>
          <p:cNvPr id="610" name=""/>
          <p:cNvSpPr/>
          <p:nvPr/>
        </p:nvSpPr>
        <p:spPr>
          <a:xfrm>
            <a:off x="809640" y="4254480"/>
            <a:ext cx="80215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one infected blanket had 1.65 million viruses, and that in order to become sick, a person had to come in contact with or inhale 3,500 viruses.  How many Native Americans could get the disease from 7 infected blan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304920" y="533520"/>
            <a:ext cx="8381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ck of Immunity is Deadly</a:t>
            </a:r>
            <a:endParaRPr b="0" lang="en-US" sz="4400" spc="-1" strike="noStrike">
              <a:solidFill>
                <a:srgbClr val="000000"/>
              </a:solidFill>
              <a:latin typeface="Times New Roman"/>
            </a:endParaRPr>
          </a:p>
        </p:txBody>
      </p:sp>
      <p:sp>
        <p:nvSpPr>
          <p:cNvPr id="612" name=""/>
          <p:cNvSpPr/>
          <p:nvPr/>
        </p:nvSpPr>
        <p:spPr>
          <a:xfrm>
            <a:off x="3467160" y="1708200"/>
            <a:ext cx="5410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had a 90% mortality rate in the Americas. In 1990, the U.S. Census found that there were 1,878,285</a:t>
            </a:r>
            <a:r>
              <a:rPr b="0" i="1" lang="en-US" sz="2800" spc="-1" strike="noStrike">
                <a:solidFill>
                  <a:srgbClr val="000000"/>
                </a:solidFill>
                <a:latin typeface="Times New Roman"/>
              </a:rPr>
              <a:t> </a:t>
            </a:r>
            <a:r>
              <a:rPr b="0" lang="en-US" sz="2800" spc="-1" strike="noStrike">
                <a:solidFill>
                  <a:srgbClr val="000000"/>
                </a:solidFill>
                <a:latin typeface="Times New Roman"/>
              </a:rPr>
              <a:t>Native Americans belonging to the 30 largest tribes in the United States. Assuming the disease has the same mortality rate in 1990 as it did in the 18th century, how many Native Americans would survive if the disease ravaged the population again?</a:t>
            </a:r>
            <a:endParaRPr b="0" lang="en-US" sz="2800" spc="-1" strike="noStrike">
              <a:solidFill>
                <a:srgbClr val="000000"/>
              </a:solidFill>
              <a:latin typeface="Times New Roman"/>
            </a:endParaRPr>
          </a:p>
        </p:txBody>
      </p:sp>
      <p:pic>
        <p:nvPicPr>
          <p:cNvPr id="613" name="" descr=""/>
          <p:cNvPicPr/>
          <p:nvPr/>
        </p:nvPicPr>
        <p:blipFill>
          <a:blip r:embed="rId2"/>
          <a:stretch/>
        </p:blipFill>
        <p:spPr>
          <a:xfrm>
            <a:off x="228600" y="2819520"/>
            <a:ext cx="2971800" cy="2271600"/>
          </a:xfrm>
          <a:prstGeom prst="rect">
            <a:avLst/>
          </a:prstGeom>
          <a:ln w="0">
            <a:noFill/>
          </a:ln>
        </p:spPr>
      </p:pic>
      <p:sp>
        <p:nvSpPr>
          <p:cNvPr id="614" name="">
            <a:hlinkClick r:id="rId3"/>
          </p:cNvPr>
          <p:cNvSpPr/>
          <p:nvPr/>
        </p:nvSpPr>
        <p:spPr>
          <a:xfrm>
            <a:off x="380880" y="5638680"/>
            <a:ext cx="2759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4"/>
              </a:rPr>
              <a:t>Click here for help with percentages</a:t>
            </a:r>
            <a:endParaRPr b="0" lang="en-US" sz="1800" spc="-1" strike="noStrike">
              <a:solidFill>
                <a:srgbClr val="000000"/>
              </a:solidFill>
              <a:latin typeface="Times New Roman"/>
            </a:endParaRPr>
          </a:p>
        </p:txBody>
      </p:sp>
      <p:sp>
        <p:nvSpPr>
          <p:cNvPr id="6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p:nvPr/>
        </p:nvSpPr>
        <p:spPr>
          <a:xfrm>
            <a:off x="533520" y="533520"/>
            <a:ext cx="80769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Infectious</a:t>
            </a:r>
            <a:endParaRPr b="0" lang="en-US" sz="4400" spc="-1" strike="noStrike">
              <a:solidFill>
                <a:srgbClr val="000000"/>
              </a:solidFill>
              <a:latin typeface="Times New Roman"/>
            </a:endParaRPr>
          </a:p>
        </p:txBody>
      </p:sp>
      <p:sp>
        <p:nvSpPr>
          <p:cNvPr id="617" name=""/>
          <p:cNvSpPr/>
          <p:nvPr/>
        </p:nvSpPr>
        <p:spPr>
          <a:xfrm>
            <a:off x="378000" y="1574640"/>
            <a:ext cx="66769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is most infectious during the first 7-10 days following appearance of a rash. The incubation period averages about 12-14 days after exposure. The first symptoms of malaise, or the prodrome phase, (flu, fever, headache) usually last about 2-4 days. The rash emerges the day after. If Jenny was infected on February 14, 2003, when are the days when she is most infectious (this is not a leap year)? </a:t>
            </a:r>
            <a:endParaRPr b="0" lang="en-US" sz="2800" spc="-1" strike="noStrike">
              <a:solidFill>
                <a:srgbClr val="000000"/>
              </a:solidFill>
              <a:latin typeface="Times New Roman"/>
            </a:endParaRPr>
          </a:p>
        </p:txBody>
      </p:sp>
      <p:pic>
        <p:nvPicPr>
          <p:cNvPr id="618" name="" descr=""/>
          <p:cNvPicPr/>
          <p:nvPr/>
        </p:nvPicPr>
        <p:blipFill>
          <a:blip r:embed="rId2"/>
          <a:stretch/>
        </p:blipFill>
        <p:spPr>
          <a:xfrm>
            <a:off x="6751800" y="1390680"/>
            <a:ext cx="2077920" cy="4660920"/>
          </a:xfrm>
          <a:prstGeom prst="rect">
            <a:avLst/>
          </a:prstGeom>
          <a:ln w="0">
            <a:noFill/>
          </a:ln>
        </p:spPr>
      </p:pic>
      <p:sp>
        <p:nvSpPr>
          <p:cNvPr id="6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
          <p:cNvSpPr/>
          <p:nvPr/>
        </p:nvSpPr>
        <p:spPr>
          <a:xfrm>
            <a:off x="304920" y="533520"/>
            <a:ext cx="8458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tules Summed</a:t>
            </a:r>
            <a:endParaRPr b="0" lang="en-US" sz="4400" spc="-1" strike="noStrike">
              <a:solidFill>
                <a:srgbClr val="000000"/>
              </a:solidFill>
              <a:latin typeface="Times New Roman"/>
            </a:endParaRPr>
          </a:p>
        </p:txBody>
      </p:sp>
      <p:sp>
        <p:nvSpPr>
          <p:cNvPr id="621" name=""/>
          <p:cNvSpPr/>
          <p:nvPr/>
        </p:nvSpPr>
        <p:spPr>
          <a:xfrm>
            <a:off x="990720" y="1752480"/>
            <a:ext cx="69339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tule is a small raised circle on the body. An average pustule has a diameter of 6 millimeters. If an unfortunate person had 1,425 pustules on his body, what is the sum of the area, in inches</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of all the pustules on this person’s body? (1 in. = 2.54 cm)</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2" name=""/>
          <p:cNvSpPr/>
          <p:nvPr/>
        </p:nvSpPr>
        <p:spPr>
          <a:xfrm>
            <a:off x="2662920" y="6186600"/>
            <a:ext cx="374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2"/>
              </a:rPr>
              <a:t>Click here for help with circumference</a:t>
            </a:r>
            <a:endParaRPr b="0" lang="en-US" sz="1800" spc="-1" strike="noStrike">
              <a:solidFill>
                <a:srgbClr val="000000"/>
              </a:solidFill>
              <a:latin typeface="Times New Roman"/>
            </a:endParaRPr>
          </a:p>
        </p:txBody>
      </p:sp>
      <p:sp>
        <p:nvSpPr>
          <p:cNvPr id="6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457200" y="533520"/>
            <a:ext cx="8077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ve Americans</a:t>
            </a:r>
            <a:endParaRPr b="0" lang="en-US" sz="4400" spc="-1" strike="noStrike">
              <a:solidFill>
                <a:srgbClr val="000000"/>
              </a:solidFill>
              <a:latin typeface="Times New Roman"/>
            </a:endParaRPr>
          </a:p>
        </p:txBody>
      </p:sp>
      <p:sp>
        <p:nvSpPr>
          <p:cNvPr id="625" name=""/>
          <p:cNvSpPr/>
          <p:nvPr/>
        </p:nvSpPr>
        <p:spPr>
          <a:xfrm>
            <a:off x="533520" y="1828800"/>
            <a:ext cx="6248160" cy="3994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0, the U.S. Census found that there were approximately 2 million Native Americans belonging to the 30 largest tribes in the U.S. The New World population of Native Americans in the 15th century is estimated at approximately 30 million. The current Native Americans make up what percent of the New World popula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26" name="" descr=""/>
          <p:cNvPicPr/>
          <p:nvPr/>
        </p:nvPicPr>
        <p:blipFill>
          <a:blip r:embed="rId2"/>
          <a:stretch/>
        </p:blipFill>
        <p:spPr>
          <a:xfrm>
            <a:off x="7010280" y="2362320"/>
            <a:ext cx="1644840" cy="3090600"/>
          </a:xfrm>
          <a:prstGeom prst="rect">
            <a:avLst/>
          </a:prstGeom>
          <a:ln w="0">
            <a:noFill/>
          </a:ln>
        </p:spPr>
      </p:pic>
      <p:sp>
        <p:nvSpPr>
          <p:cNvPr id="6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457200" y="533520"/>
            <a:ext cx="8305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 Can Be Dangerous</a:t>
            </a:r>
            <a:endParaRPr b="0" lang="en-US" sz="4400" spc="-1" strike="noStrike">
              <a:solidFill>
                <a:srgbClr val="000000"/>
              </a:solidFill>
              <a:latin typeface="Times New Roman"/>
            </a:endParaRPr>
          </a:p>
        </p:txBody>
      </p:sp>
      <p:sp>
        <p:nvSpPr>
          <p:cNvPr id="629" name=""/>
          <p:cNvSpPr/>
          <p:nvPr/>
        </p:nvSpPr>
        <p:spPr>
          <a:xfrm>
            <a:off x="457200" y="1447920"/>
            <a:ext cx="8229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ast, approximately 1,000 for every 1 million people vaccinated for the first time experienced serious toxic or allergic reactions. As of February 18, 2004, there are 292,619,165 people in the United States. If everybody was vaccinated for the first time for disease in this story, approximately how many people would experience serious reactions to the vaccine?</a:t>
            </a:r>
            <a:endParaRPr b="0" lang="en-US" sz="2800" spc="-1" strike="noStrike">
              <a:solidFill>
                <a:srgbClr val="000000"/>
              </a:solidFill>
              <a:latin typeface="Times New Roman"/>
            </a:endParaRPr>
          </a:p>
        </p:txBody>
      </p:sp>
      <p:pic>
        <p:nvPicPr>
          <p:cNvPr id="630" name="" descr=""/>
          <p:cNvPicPr/>
          <p:nvPr/>
        </p:nvPicPr>
        <p:blipFill>
          <a:blip r:embed="rId2"/>
          <a:stretch/>
        </p:blipFill>
        <p:spPr>
          <a:xfrm>
            <a:off x="2185920" y="4881600"/>
            <a:ext cx="1700280" cy="1681200"/>
          </a:xfrm>
          <a:prstGeom prst="rect">
            <a:avLst/>
          </a:prstGeom>
          <a:ln w="0">
            <a:noFill/>
          </a:ln>
        </p:spPr>
      </p:pic>
      <p:pic>
        <p:nvPicPr>
          <p:cNvPr id="631" name="" descr=""/>
          <p:cNvPicPr/>
          <p:nvPr/>
        </p:nvPicPr>
        <p:blipFill>
          <a:blip r:embed="rId3"/>
          <a:stretch/>
        </p:blipFill>
        <p:spPr>
          <a:xfrm>
            <a:off x="5105520" y="4948200"/>
            <a:ext cx="1498320" cy="1679760"/>
          </a:xfrm>
          <a:prstGeom prst="rect">
            <a:avLst/>
          </a:prstGeom>
          <a:ln w="0">
            <a:noFill/>
          </a:ln>
        </p:spPr>
      </p:pic>
      <p:sp>
        <p:nvSpPr>
          <p:cNvPr id="632" name=""/>
          <p:cNvSpPr/>
          <p:nvPr/>
        </p:nvSpPr>
        <p:spPr>
          <a:xfrm>
            <a:off x="3922560" y="5559480"/>
            <a:ext cx="122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6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sundheit!</a:t>
            </a:r>
            <a:endParaRPr b="0" lang="en-US" sz="4400" spc="-1" strike="noStrike">
              <a:solidFill>
                <a:srgbClr val="000000"/>
              </a:solidFill>
              <a:latin typeface="Times New Roman"/>
            </a:endParaRPr>
          </a:p>
        </p:txBody>
      </p:sp>
      <p:sp>
        <p:nvSpPr>
          <p:cNvPr id="635" name="PlaceHolder 2"/>
          <p:cNvSpPr>
            <a:spLocks noGrp="1"/>
          </p:cNvSpPr>
          <p:nvPr>
            <p:ph/>
          </p:nvPr>
        </p:nvSpPr>
        <p:spPr>
          <a:xfrm>
            <a:off x="685800" y="1490400"/>
            <a:ext cx="7772400" cy="308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as been estimated that the velocity of the air leaving one’s nose during a sneeze can be as fast as 200 kilometers/hour. If each nostril is modeled as a perfect circle with a diameter of 1 centimeter and the sneeze lasts for 0.5 second, how much air is propelled through both nostrils during the sneeze?</a:t>
            </a:r>
            <a:endParaRPr b="0" lang="en-US" sz="2800" spc="-1" strike="noStrike">
              <a:solidFill>
                <a:srgbClr val="000000"/>
              </a:solidFill>
              <a:latin typeface="Times New Roman"/>
            </a:endParaRPr>
          </a:p>
        </p:txBody>
      </p:sp>
      <p:pic>
        <p:nvPicPr>
          <p:cNvPr id="636" name="" descr=""/>
          <p:cNvPicPr/>
          <p:nvPr/>
        </p:nvPicPr>
        <p:blipFill>
          <a:blip r:embed="rId2"/>
          <a:stretch/>
        </p:blipFill>
        <p:spPr>
          <a:xfrm>
            <a:off x="3138480" y="4572000"/>
            <a:ext cx="2867040" cy="1914480"/>
          </a:xfrm>
          <a:prstGeom prst="rect">
            <a:avLst/>
          </a:prstGeom>
          <a:ln w="38160">
            <a:solidFill>
              <a:srgbClr val="545068"/>
            </a:solidFill>
            <a:miter/>
          </a:ln>
        </p:spPr>
      </p:pic>
      <p:sp>
        <p:nvSpPr>
          <p:cNvPr id="6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901800" y="60624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uld DeJay get the rap?</a:t>
            </a:r>
            <a:endParaRPr b="0" lang="en-US" sz="4400" spc="-1" strike="noStrike">
              <a:solidFill>
                <a:srgbClr val="000000"/>
              </a:solidFill>
              <a:latin typeface="Times New Roman"/>
            </a:endParaRPr>
          </a:p>
        </p:txBody>
      </p:sp>
      <p:sp>
        <p:nvSpPr>
          <p:cNvPr id="639" name="PlaceHolder 2"/>
          <p:cNvSpPr>
            <a:spLocks noGrp="1"/>
          </p:cNvSpPr>
          <p:nvPr>
            <p:ph/>
          </p:nvPr>
        </p:nvSpPr>
        <p:spPr>
          <a:xfrm>
            <a:off x="419040" y="1647720"/>
            <a:ext cx="8305920" cy="39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ce had been practicing soccer after school with his team (12 players) the week before he got sick and ruined his perfect attendance record.  Half the players (including DeJay) were sneezing and half of these (not including DeJay) had allergies that caused the sneezing. Assuming that Jace did not come into contact with anyone else with the contagious virus, what is the probability that DeJay is the source of Jace’s illnes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Rivers Junction</a:t>
            </a:r>
            <a:endParaRPr b="0" lang="en-US" sz="4400" spc="-1" strike="noStrike">
              <a:solidFill>
                <a:srgbClr val="000000"/>
              </a:solidFill>
              <a:latin typeface="Times New Roman"/>
            </a:endParaRPr>
          </a:p>
        </p:txBody>
      </p:sp>
      <p:pic>
        <p:nvPicPr>
          <p:cNvPr id="642" name="" descr=""/>
          <p:cNvPicPr/>
          <p:nvPr/>
        </p:nvPicPr>
        <p:blipFill>
          <a:blip r:embed="rId2"/>
          <a:stretch/>
        </p:blipFill>
        <p:spPr>
          <a:xfrm>
            <a:off x="3097080" y="4108320"/>
            <a:ext cx="2913120" cy="2244960"/>
          </a:xfrm>
          <a:prstGeom prst="rect">
            <a:avLst/>
          </a:prstGeom>
          <a:ln w="38160">
            <a:solidFill>
              <a:srgbClr val="545068"/>
            </a:solidFill>
            <a:miter/>
          </a:ln>
        </p:spPr>
      </p:pic>
      <p:sp>
        <p:nvSpPr>
          <p:cNvPr id="6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7.0</a:t>
            </a:r>
            <a:endParaRPr b="0" lang="en-US" sz="1000" spc="-1" strike="noStrike">
              <a:solidFill>
                <a:srgbClr val="000000"/>
              </a:solidFill>
              <a:latin typeface="Times New Roman"/>
            </a:endParaRPr>
          </a:p>
        </p:txBody>
      </p:sp>
      <p:sp>
        <p:nvSpPr>
          <p:cNvPr id="644" name="PlaceHolder 2"/>
          <p:cNvSpPr>
            <a:spLocks noGrp="1"/>
          </p:cNvSpPr>
          <p:nvPr>
            <p:ph/>
          </p:nvPr>
        </p:nvSpPr>
        <p:spPr>
          <a:xfrm>
            <a:off x="858600" y="1495440"/>
            <a:ext cx="7646760" cy="219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and Allegheny Rivers come together to form the Ohio River.  The flow in the Monongahela is 300 cubic meters / sec and the flow in the Ohio is 670 cubic meters / sec.</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flow in the Allegheny R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17</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and 1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 immigrants from England formed 13 colonies in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from other European countries also immigrated to these col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e British want colonies in North Americ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2"/>
          <p:cNvSpPr>
            <a:spLocks noGrp="1"/>
          </p:cNvSpPr>
          <p:nvPr>
            <p:ph type="title"/>
          </p:nvPr>
        </p:nvSpPr>
        <p:spPr>
          <a:xfrm>
            <a:off x="304920" y="352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01800" y="530280"/>
            <a:ext cx="734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ft Currents</a:t>
            </a:r>
            <a:endParaRPr b="0" lang="en-US" sz="4400" spc="-1" strike="noStrike">
              <a:solidFill>
                <a:srgbClr val="000000"/>
              </a:solidFill>
              <a:latin typeface="Times New Roman"/>
            </a:endParaRPr>
          </a:p>
        </p:txBody>
      </p:sp>
      <p:grpSp>
        <p:nvGrpSpPr>
          <p:cNvPr id="646" name=""/>
          <p:cNvGrpSpPr/>
          <p:nvPr/>
        </p:nvGrpSpPr>
        <p:grpSpPr>
          <a:xfrm>
            <a:off x="2781360" y="3809880"/>
            <a:ext cx="3581280" cy="2686320"/>
            <a:chOff x="2781360" y="3809880"/>
            <a:chExt cx="3581280" cy="2686320"/>
          </a:xfrm>
        </p:grpSpPr>
        <p:pic>
          <p:nvPicPr>
            <p:cNvPr id="647" name="" descr=""/>
            <p:cNvPicPr/>
            <p:nvPr/>
          </p:nvPicPr>
          <p:blipFill>
            <a:blip r:embed="rId2"/>
            <a:stretch/>
          </p:blipFill>
          <p:spPr>
            <a:xfrm>
              <a:off x="2781360" y="3809880"/>
              <a:ext cx="3581280" cy="2686320"/>
            </a:xfrm>
            <a:prstGeom prst="rect">
              <a:avLst/>
            </a:prstGeom>
            <a:ln w="0">
              <a:noFill/>
            </a:ln>
          </p:spPr>
        </p:pic>
        <p:sp>
          <p:nvSpPr>
            <p:cNvPr id="648" name=""/>
            <p:cNvSpPr/>
            <p:nvPr/>
          </p:nvSpPr>
          <p:spPr>
            <a:xfrm>
              <a:off x="3733920" y="54100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4038480" y="4800600"/>
              <a:ext cx="91440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04680" y="4431240"/>
              <a:ext cx="468000" cy="205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734640" y="5562720"/>
              <a:ext cx="53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m</a:t>
              </a:r>
              <a:endParaRPr b="0" lang="en-US" sz="1800" spc="-1" strike="noStrike">
                <a:solidFill>
                  <a:srgbClr val="000000"/>
                </a:solidFill>
                <a:latin typeface="Times New Roman"/>
              </a:endParaRPr>
            </a:p>
          </p:txBody>
        </p:sp>
        <p:sp>
          <p:nvSpPr>
            <p:cNvPr id="652" name=""/>
            <p:cNvSpPr/>
            <p:nvPr/>
          </p:nvSpPr>
          <p:spPr>
            <a:xfrm>
              <a:off x="4082400" y="44751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0 m</a:t>
              </a:r>
              <a:r>
                <a:rPr b="0" lang="en-US" sz="1800" spc="-1" strike="noStrike" baseline="30000">
                  <a:solidFill>
                    <a:srgbClr val="ffffff"/>
                  </a:solidFill>
                  <a:latin typeface="Times New Roman"/>
                </a:rPr>
                <a:t>3</a:t>
              </a:r>
              <a:r>
                <a:rPr b="0" lang="en-US" sz="1800" spc="-1" strike="noStrike">
                  <a:solidFill>
                    <a:srgbClr val="ffffff"/>
                  </a:solidFill>
                  <a:latin typeface="Times New Roman"/>
                </a:rPr>
                <a:t>/s</a:t>
              </a:r>
              <a:endParaRPr b="0" lang="en-US" sz="1800" spc="-1" strike="noStrike">
                <a:solidFill>
                  <a:srgbClr val="000000"/>
                </a:solidFill>
                <a:latin typeface="Times New Roman"/>
              </a:endParaRPr>
            </a:p>
          </p:txBody>
        </p:sp>
        <p:sp>
          <p:nvSpPr>
            <p:cNvPr id="653" name=""/>
            <p:cNvSpPr/>
            <p:nvPr/>
          </p:nvSpPr>
          <p:spPr>
            <a:xfrm>
              <a:off x="5411160" y="4510080"/>
              <a:ext cx="64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 m</a:t>
              </a:r>
              <a:endParaRPr b="0" lang="en-US" sz="1800" spc="-1" strike="noStrike">
                <a:solidFill>
                  <a:srgbClr val="000000"/>
                </a:solidFill>
                <a:latin typeface="Times New Roman"/>
              </a:endParaRPr>
            </a:p>
          </p:txBody>
        </p:sp>
        <p:sp>
          <p:nvSpPr>
            <p:cNvPr id="654" name=""/>
            <p:cNvSpPr/>
            <p:nvPr/>
          </p:nvSpPr>
          <p:spPr>
            <a:xfrm>
              <a:off x="4267080" y="5638680"/>
              <a:ext cx="200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ongahela Ri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ross Section</a:t>
              </a:r>
              <a:endParaRPr b="0" lang="en-US" sz="1800" spc="-1" strike="noStrike">
                <a:solidFill>
                  <a:srgbClr val="000000"/>
                </a:solidFill>
                <a:latin typeface="Times New Roman"/>
              </a:endParaRPr>
            </a:p>
          </p:txBody>
        </p:sp>
      </p:grpSp>
      <p:sp>
        <p:nvSpPr>
          <p:cNvPr id="6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8.0</a:t>
            </a:r>
            <a:endParaRPr b="0" lang="en-US" sz="1000" spc="-1" strike="noStrike">
              <a:solidFill>
                <a:srgbClr val="000000"/>
              </a:solidFill>
              <a:latin typeface="Times New Roman"/>
            </a:endParaRPr>
          </a:p>
        </p:txBody>
      </p:sp>
      <p:sp>
        <p:nvSpPr>
          <p:cNvPr id="656" name="PlaceHolder 2"/>
          <p:cNvSpPr>
            <a:spLocks noGrp="1"/>
          </p:cNvSpPr>
          <p:nvPr>
            <p:ph/>
          </p:nvPr>
        </p:nvSpPr>
        <p:spPr>
          <a:xfrm>
            <a:off x="837720" y="1546200"/>
            <a:ext cx="7581960" cy="16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ow in the Monongahela River is 300 cubic meters/sec, the width of the river is 80 meters, and the average depth is 4 meters. Calculate the velocity of the current in this riv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1800" y="572760"/>
            <a:ext cx="7340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ing the Allegheny River</a:t>
            </a:r>
            <a:endParaRPr b="0" lang="en-US" sz="4400" spc="-1" strike="noStrike">
              <a:solidFill>
                <a:srgbClr val="000000"/>
              </a:solidFill>
              <a:latin typeface="Times New Roman"/>
            </a:endParaRPr>
          </a:p>
        </p:txBody>
      </p:sp>
      <p:sp>
        <p:nvSpPr>
          <p:cNvPr id="6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9.0</a:t>
            </a:r>
            <a:endParaRPr b="0" lang="en-US" sz="1000" spc="-1" strike="noStrike">
              <a:solidFill>
                <a:srgbClr val="000000"/>
              </a:solidFill>
              <a:latin typeface="Times New Roman"/>
            </a:endParaRPr>
          </a:p>
        </p:txBody>
      </p:sp>
      <p:sp>
        <p:nvSpPr>
          <p:cNvPr id="659" name="PlaceHolder 2"/>
          <p:cNvSpPr>
            <a:spLocks noGrp="1"/>
          </p:cNvSpPr>
          <p:nvPr>
            <p:ph/>
          </p:nvPr>
        </p:nvSpPr>
        <p:spPr>
          <a:xfrm>
            <a:off x="457200" y="1495080"/>
            <a:ext cx="8229600" cy="39034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t’s say that Red Arrow decides to paddle a canoe across the Allegheny River.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anoe is moving at a speed of 10 kilometers /hr, the width of the river is 100 meters, the current is flowing at 2 meters/sec, and Red Arrow keeps the canoe pointed perpendicular to the direction of the current flow.</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far downstream does </a:t>
            </a:r>
            <a:br>
              <a:rPr sz="2800"/>
            </a:br>
            <a:r>
              <a:rPr b="0" lang="en-US" sz="2800" spc="-1" strike="noStrike">
                <a:solidFill>
                  <a:srgbClr val="000000"/>
                </a:solidFill>
                <a:latin typeface="Times New Roman"/>
              </a:rPr>
              <a:t>Red Arrow take out his canoe?</a:t>
            </a:r>
            <a:endParaRPr b="0" lang="en-US" sz="2800" spc="-1" strike="noStrike">
              <a:solidFill>
                <a:srgbClr val="000000"/>
              </a:solidFill>
              <a:latin typeface="Times New Roman"/>
            </a:endParaRPr>
          </a:p>
        </p:txBody>
      </p:sp>
      <p:pic>
        <p:nvPicPr>
          <p:cNvPr id="660" name="" descr=""/>
          <p:cNvPicPr/>
          <p:nvPr/>
        </p:nvPicPr>
        <p:blipFill>
          <a:blip r:embed="rId2"/>
          <a:stretch/>
        </p:blipFill>
        <p:spPr>
          <a:xfrm>
            <a:off x="5756400" y="4313160"/>
            <a:ext cx="3073320" cy="2255760"/>
          </a:xfrm>
          <a:prstGeom prst="rect">
            <a:avLst/>
          </a:prstGeom>
          <a:ln w="57240">
            <a:solidFill>
              <a:srgbClr val="545068"/>
            </a:solidFill>
            <a:miter/>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ep trouble or deep water?</a:t>
            </a: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536840"/>
            <a:ext cx="7772400" cy="23968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 Ohio River is 120 meters wide at the junction between the Monongahela and the Allegheny Rivers, the flow is 670 cubic meters / second, and a stick floating in the middle of the river travels downstream at 1.6 meters / sec, what is the average depth of the river?  </a:t>
            </a:r>
            <a:endParaRPr b="0" lang="en-US" sz="2800" spc="-1" strike="noStrike">
              <a:solidFill>
                <a:srgbClr val="000000"/>
              </a:solidFill>
              <a:latin typeface="Times New Roman"/>
            </a:endParaRPr>
          </a:p>
        </p:txBody>
      </p:sp>
      <p:pic>
        <p:nvPicPr>
          <p:cNvPr id="663" name="" descr=""/>
          <p:cNvPicPr/>
          <p:nvPr/>
        </p:nvPicPr>
        <p:blipFill>
          <a:blip r:embed="rId2"/>
          <a:stretch/>
        </p:blipFill>
        <p:spPr>
          <a:xfrm>
            <a:off x="3314880" y="4572000"/>
            <a:ext cx="2514600" cy="1887480"/>
          </a:xfrm>
          <a:prstGeom prst="rect">
            <a:avLst/>
          </a:prstGeom>
          <a:ln w="57240">
            <a:solidFill>
              <a:srgbClr val="545068"/>
            </a:solidFill>
            <a:miter/>
          </a:ln>
        </p:spPr>
      </p:pic>
      <p:sp>
        <p:nvSpPr>
          <p:cNvPr id="6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Arrows</a:t>
            </a:r>
            <a:endParaRPr b="0" lang="en-US" sz="4400" spc="-1" strike="noStrike">
              <a:solidFill>
                <a:srgbClr val="000000"/>
              </a:solidFill>
              <a:latin typeface="Times New Roman"/>
            </a:endParaRPr>
          </a:p>
        </p:txBody>
      </p:sp>
      <p:sp>
        <p:nvSpPr>
          <p:cNvPr id="6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1.0</a:t>
            </a:r>
            <a:endParaRPr b="0" lang="en-US" sz="1000" spc="-1" strike="noStrike">
              <a:solidFill>
                <a:srgbClr val="000000"/>
              </a:solidFill>
              <a:latin typeface="Times New Roman"/>
            </a:endParaRPr>
          </a:p>
        </p:txBody>
      </p:sp>
      <p:sp>
        <p:nvSpPr>
          <p:cNvPr id="667" name="PlaceHolder 2"/>
          <p:cNvSpPr>
            <a:spLocks noGrp="1"/>
          </p:cNvSpPr>
          <p:nvPr>
            <p:ph/>
          </p:nvPr>
        </p:nvSpPr>
        <p:spPr>
          <a:xfrm>
            <a:off x="232920" y="1533240"/>
            <a:ext cx="8458200" cy="4562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n Red Arrow initially encounters Jace, he points an arrow at Jace’s head.  Later, he returns this arrow to his quiver.  If he had counted the arrows in his quiver at this time, he would have realized that he only had 10% of the arrows that he had when he left home to slay a deer.  If he had included the 2 arrows in the deer, he would have a total of 20% of the arrows that he had when he left hom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many arrows were </a:t>
            </a:r>
            <a:br>
              <a:rPr sz="2800"/>
            </a:br>
            <a:r>
              <a:rPr b="0" lang="en-US" sz="2800" spc="-1" strike="noStrike">
                <a:solidFill>
                  <a:srgbClr val="000000"/>
                </a:solidFill>
                <a:latin typeface="Times New Roman"/>
              </a:rPr>
              <a:t>in his quiver when he </a:t>
            </a:r>
            <a:br>
              <a:rPr sz="2800"/>
            </a:br>
            <a:r>
              <a:rPr b="0" lang="en-US" sz="2800" spc="-1" strike="noStrike">
                <a:solidFill>
                  <a:srgbClr val="000000"/>
                </a:solidFill>
                <a:latin typeface="Times New Roman"/>
              </a:rPr>
              <a:t>threatened Jace?</a:t>
            </a:r>
            <a:endParaRPr b="0" lang="en-US" sz="2800" spc="-1" strike="noStrike">
              <a:solidFill>
                <a:srgbClr val="000000"/>
              </a:solidFill>
              <a:latin typeface="Times New Roman"/>
            </a:endParaRPr>
          </a:p>
        </p:txBody>
      </p:sp>
      <p:pic>
        <p:nvPicPr>
          <p:cNvPr id="668" name="" descr=""/>
          <p:cNvPicPr/>
          <p:nvPr/>
        </p:nvPicPr>
        <p:blipFill>
          <a:blip r:embed="rId2"/>
          <a:stretch/>
        </p:blipFill>
        <p:spPr>
          <a:xfrm>
            <a:off x="5221440" y="4503600"/>
            <a:ext cx="2698560" cy="2051280"/>
          </a:xfrm>
          <a:prstGeom prst="rect">
            <a:avLst/>
          </a:prstGeom>
          <a:ln w="57240">
            <a:solidFill>
              <a:srgbClr val="545068"/>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od Bag – Parfleche</a:t>
            </a:r>
            <a:endParaRPr b="0" lang="en-US" sz="4400" spc="-1" strike="noStrike">
              <a:solidFill>
                <a:srgbClr val="000000"/>
              </a:solidFill>
              <a:latin typeface="Times New Roman"/>
            </a:endParaRPr>
          </a:p>
        </p:txBody>
      </p:sp>
      <p:sp>
        <p:nvSpPr>
          <p:cNvPr id="670" name="PlaceHolder 2"/>
          <p:cNvSpPr>
            <a:spLocks noGrp="1"/>
          </p:cNvSpPr>
          <p:nvPr>
            <p:ph/>
          </p:nvPr>
        </p:nvSpPr>
        <p:spPr>
          <a:xfrm>
            <a:off x="380520" y="1437840"/>
            <a:ext cx="84582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Jace thought that Red Arrow called his food bag a “pear flas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ybe Jace misunderstood the letters “as” in the word “flas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re are 5 vowels and 21 consonants in the English language. What is the probability of randomly selecting an ‘a’ from all the vowels and then an ‘s’ from all the consonants in the alphabet?</a:t>
            </a:r>
            <a:endParaRPr b="0" lang="en-US" sz="2800" spc="-1" strike="noStrike">
              <a:solidFill>
                <a:srgbClr val="000000"/>
              </a:solidFill>
              <a:latin typeface="Times New Roman"/>
            </a:endParaRPr>
          </a:p>
        </p:txBody>
      </p:sp>
      <p:sp>
        <p:nvSpPr>
          <p:cNvPr id="671" name=""/>
          <p:cNvSpPr/>
          <p:nvPr/>
        </p:nvSpPr>
        <p:spPr>
          <a:xfrm>
            <a:off x="2816280" y="6016680"/>
            <a:ext cx="343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2"/>
              </a:rPr>
              <a:t>Click here for help with probability</a:t>
            </a:r>
            <a:endParaRPr b="0" lang="en-US" sz="1800" spc="-1" strike="noStrike">
              <a:solidFill>
                <a:srgbClr val="000000"/>
              </a:solidFill>
              <a:latin typeface="Times New Roman"/>
            </a:endParaRPr>
          </a:p>
        </p:txBody>
      </p:sp>
      <p:sp>
        <p:nvSpPr>
          <p:cNvPr id="6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901800" y="534600"/>
            <a:ext cx="734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ing his weight? </a:t>
            </a:r>
            <a:endParaRPr b="0" lang="en-US" sz="4400" spc="-1" strike="noStrike">
              <a:solidFill>
                <a:srgbClr val="000000"/>
              </a:solidFill>
              <a:latin typeface="Times New Roman"/>
            </a:endParaRPr>
          </a:p>
        </p:txBody>
      </p:sp>
      <p:sp>
        <p:nvSpPr>
          <p:cNvPr id="674" name="PlaceHolder 2"/>
          <p:cNvSpPr>
            <a:spLocks noGrp="1"/>
          </p:cNvSpPr>
          <p:nvPr>
            <p:ph/>
          </p:nvPr>
        </p:nvSpPr>
        <p:spPr>
          <a:xfrm>
            <a:off x="901800" y="1647720"/>
            <a:ext cx="7340400" cy="374184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deer that Red Arrow killed weighed 90 kilograms. If Red Arrow weighs 10% less than Jace, and together, both boys weigh the same as the deer, how much does Jace weigh?</a:t>
            </a:r>
            <a:endParaRPr b="0" lang="en-US" sz="3200" spc="-1" strike="noStrike">
              <a:solidFill>
                <a:srgbClr val="000000"/>
              </a:solidFill>
              <a:latin typeface="Times New Roman"/>
            </a:endParaRPr>
          </a:p>
        </p:txBody>
      </p:sp>
      <p:pic>
        <p:nvPicPr>
          <p:cNvPr id="675" name="" descr=""/>
          <p:cNvPicPr/>
          <p:nvPr/>
        </p:nvPicPr>
        <p:blipFill>
          <a:blip r:embed="rId2"/>
          <a:stretch/>
        </p:blipFill>
        <p:spPr>
          <a:xfrm>
            <a:off x="3360600" y="4114800"/>
            <a:ext cx="2194200" cy="2209680"/>
          </a:xfrm>
          <a:prstGeom prst="rect">
            <a:avLst/>
          </a:prstGeom>
          <a:ln w="0">
            <a:noFill/>
          </a:ln>
        </p:spPr>
      </p:pic>
      <p:sp>
        <p:nvSpPr>
          <p:cNvPr id="676" name=""/>
          <p:cNvSpPr/>
          <p:nvPr/>
        </p:nvSpPr>
        <p:spPr>
          <a:xfrm>
            <a:off x="225360" y="6172200"/>
            <a:ext cx="351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3"/>
              </a:rPr>
              <a:t>Click here for help with percentages</a:t>
            </a:r>
            <a:endParaRPr b="0" lang="en-US" sz="1800" spc="-1" strike="noStrike">
              <a:solidFill>
                <a:srgbClr val="000000"/>
              </a:solidFill>
              <a:latin typeface="Times New Roman"/>
            </a:endParaRPr>
          </a:p>
        </p:txBody>
      </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01800" y="420480"/>
            <a:ext cx="7340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s or Minus a Few</a:t>
            </a:r>
            <a:endParaRPr b="0" lang="en-US" sz="4400" spc="-1" strike="noStrike">
              <a:solidFill>
                <a:srgbClr val="000000"/>
              </a:solidFill>
              <a:latin typeface="Times New Roman"/>
            </a:endParaRPr>
          </a:p>
        </p:txBody>
      </p:sp>
      <p:grpSp>
        <p:nvGrpSpPr>
          <p:cNvPr id="679" name=""/>
          <p:cNvGrpSpPr/>
          <p:nvPr/>
        </p:nvGrpSpPr>
        <p:grpSpPr>
          <a:xfrm>
            <a:off x="114480" y="4548240"/>
            <a:ext cx="2533320" cy="1843200"/>
            <a:chOff x="114480" y="4548240"/>
            <a:chExt cx="2533320" cy="1843200"/>
          </a:xfrm>
        </p:grpSpPr>
        <p:pic>
          <p:nvPicPr>
            <p:cNvPr id="680" name="" descr=""/>
            <p:cNvPicPr/>
            <p:nvPr/>
          </p:nvPicPr>
          <p:blipFill>
            <a:blip r:embed="rId2"/>
            <a:srcRect l="0" t="-4747" r="0" b="0"/>
            <a:stretch/>
          </p:blipFill>
          <p:spPr>
            <a:xfrm>
              <a:off x="114480" y="4548240"/>
              <a:ext cx="2533320" cy="1843200"/>
            </a:xfrm>
            <a:prstGeom prst="rect">
              <a:avLst/>
            </a:prstGeom>
            <a:ln w="0">
              <a:noFill/>
            </a:ln>
          </p:spPr>
        </p:pic>
        <p:grpSp>
          <p:nvGrpSpPr>
            <p:cNvPr id="681" name=""/>
            <p:cNvGrpSpPr/>
            <p:nvPr/>
          </p:nvGrpSpPr>
          <p:grpSpPr>
            <a:xfrm>
              <a:off x="1846440" y="4562640"/>
              <a:ext cx="171360" cy="98280"/>
              <a:chOff x="1846440" y="4562640"/>
              <a:chExt cx="171360" cy="98280"/>
            </a:xfrm>
          </p:grpSpPr>
          <p:sp>
            <p:nvSpPr>
              <p:cNvPr id="682" name=""/>
              <p:cNvSpPr/>
              <p:nvPr/>
            </p:nvSpPr>
            <p:spPr>
              <a:xfrm rot="5400000">
                <a:off x="1882800" y="4525920"/>
                <a:ext cx="98280" cy="17136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1c5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5400000">
                <a:off x="1897560" y="4539600"/>
                <a:ext cx="74520" cy="152280"/>
              </a:xfrm>
              <a:custGeom>
                <a:avLst/>
                <a:gdLst/>
                <a:ahLst/>
                <a:rect l="l" t="t" r="r" b="b"/>
                <a:pathLst>
                  <a:path w="21600" h="21600">
                    <a:moveTo>
                      <a:pt x="21600" y="0"/>
                    </a:moveTo>
                    <a:cubicBezTo>
                      <a:pt x="20025" y="3310"/>
                      <a:pt x="18450" y="5080"/>
                      <a:pt x="18450" y="10800"/>
                    </a:cubicBezTo>
                    <a:cubicBezTo>
                      <a:pt x="18450" y="16520"/>
                      <a:pt x="20025" y="18290"/>
                      <a:pt x="21600" y="21600"/>
                    </a:cubicBezTo>
                    <a:cubicBezTo>
                      <a:pt x="9740" y="21600"/>
                      <a:pt x="0" y="16730"/>
                      <a:pt x="0" y="10800"/>
                    </a:cubicBezTo>
                    <a:cubicBezTo>
                      <a:pt x="0" y="4870"/>
                      <a:pt x="9740" y="0"/>
                      <a:pt x="21600" y="0"/>
                    </a:cubicBezTo>
                    <a:close/>
                  </a:path>
                </a:pathLst>
              </a:custGeom>
              <a:solidFill>
                <a:srgbClr val="f9e8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4" name=""/>
            <p:cNvSpPr/>
            <p:nvPr/>
          </p:nvSpPr>
          <p:spPr>
            <a:xfrm>
              <a:off x="1084320" y="456264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
          <p:cNvSpPr/>
          <p:nvPr/>
        </p:nvSpPr>
        <p:spPr>
          <a:xfrm>
            <a:off x="4719600" y="6270480"/>
            <a:ext cx="385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Click here for help with volume</a:t>
            </a:r>
            <a:endParaRPr b="0" lang="en-US" sz="2000" spc="-1" strike="noStrike">
              <a:solidFill>
                <a:srgbClr val="000000"/>
              </a:solidFill>
              <a:latin typeface="Times New Roman"/>
            </a:endParaRPr>
          </a:p>
        </p:txBody>
      </p:sp>
      <p:sp>
        <p:nvSpPr>
          <p:cNvPr id="686" name=""/>
          <p:cNvSpPr/>
          <p:nvPr/>
        </p:nvSpPr>
        <p:spPr>
          <a:xfrm>
            <a:off x="16992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4.0</a:t>
            </a:r>
            <a:endParaRPr b="0" lang="en-US" sz="1000" spc="-1" strike="noStrike">
              <a:solidFill>
                <a:srgbClr val="000000"/>
              </a:solidFill>
              <a:latin typeface="Times New Roman"/>
            </a:endParaRPr>
          </a:p>
        </p:txBody>
      </p:sp>
      <p:sp>
        <p:nvSpPr>
          <p:cNvPr id="687" name="PlaceHolder 2"/>
          <p:cNvSpPr>
            <a:spLocks noGrp="1"/>
          </p:cNvSpPr>
          <p:nvPr>
            <p:ph/>
          </p:nvPr>
        </p:nvSpPr>
        <p:spPr>
          <a:xfrm>
            <a:off x="447840" y="1466640"/>
            <a:ext cx="8153280" cy="4681800"/>
          </a:xfrm>
          <a:prstGeom prst="rect">
            <a:avLst/>
          </a:prstGeom>
          <a:noFill/>
          <a:ln w="0">
            <a:noFill/>
          </a:ln>
        </p:spPr>
        <p:txBody>
          <a:bodyPr lIns="90000" rIns="90000" tIns="46800" bIns="46800" anchor="t">
            <a:normAutofit fontScale="99000"/>
          </a:bodyPr>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pus-filled blister is shaped like a hemisphere. If the circumference of this blister is 2 centimeters and it is filled with pus, approximately how much pus is contained within this structure?</a:t>
            </a:r>
            <a:endParaRPr b="0" lang="en-US" sz="3200" spc="-1" strike="noStrike">
              <a:solidFill>
                <a:srgbClr val="000000"/>
              </a:solidFill>
              <a:latin typeface="Times New Roman"/>
            </a:endParaRPr>
          </a:p>
          <a:p>
            <a:pPr marL="33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concentration of viral </a:t>
            </a:r>
            <a:br>
              <a:rPr sz="3200"/>
            </a:br>
            <a:r>
              <a:rPr b="0" lang="en-US" sz="3200" spc="-1" strike="noStrike">
                <a:solidFill>
                  <a:srgbClr val="000000"/>
                </a:solidFill>
                <a:latin typeface="Times New Roman"/>
              </a:rPr>
              <a:t>                          organisms in this pus is </a:t>
            </a:r>
            <a:br>
              <a:rPr sz="3200"/>
            </a:br>
            <a:r>
              <a:rPr b="0" lang="en-US" sz="3200" spc="-1" strike="noStrike">
                <a:solidFill>
                  <a:srgbClr val="000000"/>
                </a:solidFill>
                <a:latin typeface="Times New Roman"/>
              </a:rPr>
              <a:t>                          700 per cubic mm, how many </a:t>
            </a:r>
            <a:br>
              <a:rPr sz="3200"/>
            </a:br>
            <a:r>
              <a:rPr b="0" lang="en-US" sz="3200" spc="-1" strike="noStrike">
                <a:solidFill>
                  <a:srgbClr val="000000"/>
                </a:solidFill>
                <a:latin typeface="Times New Roman"/>
              </a:rPr>
              <a:t>                          viruses are in the blis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m Reaper</a:t>
            </a: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5080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sume that 16% of the entire Lenape tribe died the first week of the epidemic, 8% of the total tribe died the second week, and 4% of the total tribe died the third week. Overall, 21 members of the tribe died due to this illness. Assuming no more deaths occurred as a result of this sickness, how many survived the epidemic?</a:t>
            </a:r>
            <a:endParaRPr b="0" lang="en-US" sz="3200" spc="-1" strike="noStrike">
              <a:solidFill>
                <a:srgbClr val="000000"/>
              </a:solidFill>
              <a:latin typeface="Times New Roman"/>
            </a:endParaRPr>
          </a:p>
        </p:txBody>
      </p:sp>
      <p:sp>
        <p:nvSpPr>
          <p:cNvPr id="690" name=""/>
          <p:cNvSpPr/>
          <p:nvPr/>
        </p:nvSpPr>
        <p:spPr>
          <a:xfrm>
            <a:off x="1843200" y="626436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2"/>
              </a:rPr>
              <a:t>Click here for help with percentages</a:t>
            </a:r>
            <a:endParaRPr b="0" lang="en-US" sz="2000" spc="-1" strike="noStrike">
              <a:solidFill>
                <a:srgbClr val="000000"/>
              </a:solidFill>
              <a:latin typeface="Times New Roman"/>
            </a:endParaRPr>
          </a:p>
        </p:txBody>
      </p:sp>
      <p:pic>
        <p:nvPicPr>
          <p:cNvPr id="691" name="" descr=""/>
          <p:cNvPicPr/>
          <p:nvPr/>
        </p:nvPicPr>
        <p:blipFill>
          <a:blip r:embed="rId3"/>
          <a:stretch/>
        </p:blipFill>
        <p:spPr>
          <a:xfrm>
            <a:off x="6329520" y="5068800"/>
            <a:ext cx="1360440" cy="1486080"/>
          </a:xfrm>
          <a:prstGeom prst="rect">
            <a:avLst/>
          </a:prstGeom>
          <a:ln w="0">
            <a:noFill/>
          </a:ln>
        </p:spPr>
      </p:pic>
      <p:sp>
        <p:nvSpPr>
          <p:cNvPr id="692" name=""/>
          <p:cNvSpPr/>
          <p:nvPr/>
        </p:nvSpPr>
        <p:spPr>
          <a:xfrm>
            <a:off x="237960" y="647064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694" name=""/>
          <p:cNvSpPr/>
          <p:nvPr/>
        </p:nvSpPr>
        <p:spPr>
          <a:xfrm>
            <a:off x="4933800" y="205272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your language skills by carefully reading </a:t>
            </a:r>
            <a:r>
              <a:rPr b="0" i="1" lang="en-US" sz="2800" spc="-1" strike="noStrike">
                <a:solidFill>
                  <a:srgbClr val="000000"/>
                </a:solidFill>
                <a:latin typeface="Times New Roman"/>
              </a:rPr>
              <a:t>Three Rivers, Three N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these skills by completing the </a:t>
            </a:r>
            <a:r>
              <a:rPr b="0" lang="en-US" sz="2800" spc="-1" strike="noStrike" u="sng">
                <a:solidFill>
                  <a:srgbClr val="134173"/>
                </a:solidFill>
                <a:uFillTx/>
                <a:latin typeface="Times New Roman"/>
                <a:hlinkClick r:id="rId2"/>
              </a:rPr>
              <a:t>Unlocking Language </a:t>
            </a:r>
            <a:r>
              <a:rPr b="0" lang="en-US" sz="2800" spc="-1" strike="noStrike" u="sng">
                <a:solidFill>
                  <a:srgbClr val="000000"/>
                </a:solidFill>
                <a:uFillTx/>
                <a:latin typeface="Times New Roman"/>
              </a:rPr>
              <a:t>activities.  </a:t>
            </a:r>
            <a:endParaRPr b="0" lang="en-US" sz="2800" spc="-1" strike="noStrike">
              <a:solidFill>
                <a:srgbClr val="000000"/>
              </a:solidFill>
              <a:latin typeface="Times New Roman"/>
            </a:endParaRPr>
          </a:p>
        </p:txBody>
      </p:sp>
      <p:pic>
        <p:nvPicPr>
          <p:cNvPr id="695" name="" descr=""/>
          <p:cNvPicPr/>
          <p:nvPr/>
        </p:nvPicPr>
        <p:blipFill>
          <a:blip r:embed="rId3"/>
          <a:stretch/>
        </p:blipFill>
        <p:spPr>
          <a:xfrm>
            <a:off x="1447920" y="2133720"/>
            <a:ext cx="2620800" cy="3117600"/>
          </a:xfrm>
          <a:prstGeom prst="rect">
            <a:avLst/>
          </a:prstGeom>
          <a:ln w="0">
            <a:noFill/>
          </a:ln>
        </p:spPr>
      </p:pic>
      <p:sp>
        <p:nvSpPr>
          <p:cNvPr id="6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6.0</a:t>
            </a:r>
            <a:endParaRPr b="0" lang="en-US" sz="1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68580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a:t>
            </a:r>
            <a:endParaRPr b="0" lang="en-US" sz="4400" spc="-1" strike="noStrike">
              <a:solidFill>
                <a:srgbClr val="000000"/>
              </a:solidFill>
              <a:latin typeface="Times New Roman"/>
            </a:endParaRPr>
          </a:p>
        </p:txBody>
      </p:sp>
      <p:sp>
        <p:nvSpPr>
          <p:cNvPr id="698" name=""/>
          <p:cNvSpPr/>
          <p:nvPr/>
        </p:nvSpPr>
        <p:spPr>
          <a:xfrm>
            <a:off x="447840" y="1830240"/>
            <a:ext cx="4190760" cy="43434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see in this picture?  </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u="sng">
                <a:solidFill>
                  <a:srgbClr val="134173"/>
                </a:solidFill>
                <a:uFillTx/>
                <a:latin typeface="Times New Roman"/>
                <a:hlinkClick r:id="rId2"/>
              </a:rPr>
              <a:t>context</a:t>
            </a:r>
            <a:r>
              <a:rPr b="0" lang="en-US" sz="3200" spc="-1" strike="noStrike">
                <a:solidFill>
                  <a:srgbClr val="134173"/>
                </a:solidFill>
                <a:latin typeface="Times New Roman"/>
              </a:rPr>
              <a:t> </a:t>
            </a:r>
            <a:r>
              <a:rPr b="0" lang="en-US" sz="3200" spc="-1" strike="noStrike">
                <a:solidFill>
                  <a:srgbClr val="000000"/>
                </a:solidFill>
                <a:latin typeface="Times New Roman"/>
              </a:rPr>
              <a:t>clues to help you learn new vocabulary.</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he </a:t>
            </a:r>
            <a:r>
              <a:rPr b="0" lang="en-US" sz="3200" spc="-1" strike="noStrike" u="sng">
                <a:solidFill>
                  <a:srgbClr val="134173"/>
                </a:solidFill>
                <a:uFillTx/>
                <a:latin typeface="Times New Roman"/>
                <a:hlinkClick r:id="rId3"/>
              </a:rPr>
              <a:t>Vocabulary Challenge </a:t>
            </a:r>
            <a:r>
              <a:rPr b="0" lang="en-US" sz="3200" spc="-1" strike="noStrike">
                <a:solidFill>
                  <a:srgbClr val="000000"/>
                </a:solidFill>
                <a:latin typeface="Times New Roman"/>
              </a:rPr>
              <a:t>quiz to test your skill at finding word meanings.</a:t>
            </a:r>
            <a:endParaRPr b="0" lang="en-US" sz="3200" spc="-1" strike="noStrike">
              <a:solidFill>
                <a:srgbClr val="000000"/>
              </a:solidFill>
              <a:latin typeface="Times New Roman"/>
            </a:endParaRPr>
          </a:p>
        </p:txBody>
      </p:sp>
      <p:pic>
        <p:nvPicPr>
          <p:cNvPr id="699" name="" descr=""/>
          <p:cNvPicPr/>
          <p:nvPr/>
        </p:nvPicPr>
        <p:blipFill>
          <a:blip r:embed="rId4"/>
          <a:stretch/>
        </p:blipFill>
        <p:spPr>
          <a:xfrm>
            <a:off x="4648320" y="2016000"/>
            <a:ext cx="4128840" cy="2818080"/>
          </a:xfrm>
          <a:prstGeom prst="rect">
            <a:avLst/>
          </a:prstGeom>
          <a:ln w="57240">
            <a:solidFill>
              <a:srgbClr val="545068"/>
            </a:solidFill>
            <a:miter/>
          </a:ln>
        </p:spPr>
      </p:pic>
      <p:sp>
        <p:nvSpPr>
          <p:cNvPr id="7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ere the 13 British colonies  loc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 you think they were located where they we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2"/>
          <p:cNvSpPr>
            <a:spLocks noGrp="1"/>
          </p:cNvSpPr>
          <p:nvPr>
            <p:ph type="title"/>
          </p:nvPr>
        </p:nvSpPr>
        <p:spPr>
          <a:xfrm>
            <a:off x="304920" y="3427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th America in the 18th Century</a:t>
            </a:r>
            <a:endParaRPr b="0" lang="en-US" sz="4400" spc="-1" strike="noStrike">
              <a:solidFill>
                <a:srgbClr val="000000"/>
              </a:solidFill>
              <a:latin typeface="Times New Roman"/>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y Weaving</a:t>
            </a:r>
            <a:endParaRPr b="0" lang="en-US" sz="4400" spc="-1" strike="noStrike">
              <a:solidFill>
                <a:srgbClr val="000000"/>
              </a:solidFill>
              <a:latin typeface="Times New Roman"/>
            </a:endParaRPr>
          </a:p>
        </p:txBody>
      </p:sp>
      <p:sp>
        <p:nvSpPr>
          <p:cNvPr id="702" name="PlaceHolder 2"/>
          <p:cNvSpPr>
            <a:spLocks noGrp="1"/>
          </p:cNvSpPr>
          <p:nvPr>
            <p:ph/>
          </p:nvPr>
        </p:nvSpPr>
        <p:spPr>
          <a:xfrm>
            <a:off x="901440" y="2119320"/>
            <a:ext cx="3598920" cy="374184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d Arrow’s mother, Star Weaver, was the eldest daughter of a tribal chief. As the tribe’s storyteller, she was responsible for telling the story of the great illness that befell the tribe.</a:t>
            </a:r>
            <a:endParaRPr b="0" lang="en-US" sz="2800" spc="-1" strike="noStrike">
              <a:solidFill>
                <a:srgbClr val="000000"/>
              </a:solidFill>
              <a:latin typeface="Times New Roman"/>
            </a:endParaRPr>
          </a:p>
        </p:txBody>
      </p:sp>
      <p:pic>
        <p:nvPicPr>
          <p:cNvPr id="703" name="" descr=""/>
          <p:cNvPicPr/>
          <p:nvPr/>
        </p:nvPicPr>
        <p:blipFill>
          <a:blip r:embed="rId2"/>
          <a:stretch/>
        </p:blipFill>
        <p:spPr>
          <a:xfrm>
            <a:off x="5148360" y="2050920"/>
            <a:ext cx="2487600" cy="4017960"/>
          </a:xfrm>
          <a:prstGeom prst="rect">
            <a:avLst/>
          </a:prstGeom>
          <a:ln w="57240">
            <a:solidFill>
              <a:srgbClr val="545068"/>
            </a:solidFill>
            <a:miter/>
          </a:ln>
        </p:spPr>
      </p:pic>
      <p:sp>
        <p:nvSpPr>
          <p:cNvPr id="7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8.0</a:t>
            </a:r>
            <a:endParaRPr b="0" lang="en-US" sz="10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y Weaving</a:t>
            </a:r>
            <a:endParaRPr b="0" lang="en-US" sz="4400" spc="-1" strike="noStrike">
              <a:solidFill>
                <a:srgbClr val="000000"/>
              </a:solidFill>
              <a:latin typeface="Times New Roman"/>
            </a:endParaRPr>
          </a:p>
        </p:txBody>
      </p:sp>
      <p:sp>
        <p:nvSpPr>
          <p:cNvPr id="706"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Star Weaver’s perspective, write a one page account of the events associated with the illnes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mportant information from the story should be included in your account? </a:t>
            </a:r>
            <a:endParaRPr b="0" lang="en-US" sz="2800" spc="-1" strike="noStrike">
              <a:solidFill>
                <a:srgbClr val="000000"/>
              </a:solidFill>
              <a:latin typeface="Times New Roman"/>
            </a:endParaRPr>
          </a:p>
        </p:txBody>
      </p:sp>
      <p:pic>
        <p:nvPicPr>
          <p:cNvPr id="707" name="" descr=""/>
          <p:cNvPicPr/>
          <p:nvPr/>
        </p:nvPicPr>
        <p:blipFill>
          <a:blip r:embed="rId2"/>
          <a:stretch/>
        </p:blipFill>
        <p:spPr>
          <a:xfrm>
            <a:off x="4716360" y="2476440"/>
            <a:ext cx="3597480" cy="2414520"/>
          </a:xfrm>
          <a:prstGeom prst="rect">
            <a:avLst/>
          </a:prstGeom>
          <a:ln w="57240">
            <a:solidFill>
              <a:srgbClr val="545068"/>
            </a:solidFill>
            <a:miter/>
          </a:ln>
        </p:spPr>
      </p:pic>
      <p:sp>
        <p:nvSpPr>
          <p:cNvPr id="7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9.0</a:t>
            </a:r>
            <a:endParaRPr b="0" lang="en-US" sz="10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 versus Myth</a:t>
            </a:r>
            <a:endParaRPr b="0" lang="en-US" sz="4400" spc="-1" strike="noStrike">
              <a:solidFill>
                <a:srgbClr val="000000"/>
              </a:solidFill>
              <a:latin typeface="Times New Roman"/>
            </a:endParaRPr>
          </a:p>
        </p:txBody>
      </p:sp>
      <p:sp>
        <p:nvSpPr>
          <p:cNvPr id="710" name="PlaceHolder 2"/>
          <p:cNvSpPr>
            <a:spLocks noGrp="1"/>
          </p:cNvSpPr>
          <p:nvPr>
            <p:ph/>
          </p:nvPr>
        </p:nvSpPr>
        <p:spPr>
          <a:xfrm>
            <a:off x="4716000" y="1981080"/>
            <a:ext cx="3597480" cy="37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time this story took place, knowledge of medicine and the causes of disease was limit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absence of medical knowledge, how might Star Weaver attempt to explain why the tribe became ill?</a:t>
            </a:r>
            <a:endParaRPr b="0" lang="en-US" sz="2400" spc="-1" strike="noStrike">
              <a:solidFill>
                <a:srgbClr val="000000"/>
              </a:solidFill>
              <a:latin typeface="Times New Roman"/>
            </a:endParaRPr>
          </a:p>
        </p:txBody>
      </p:sp>
      <p:pic>
        <p:nvPicPr>
          <p:cNvPr id="711" name="" descr=""/>
          <p:cNvPicPr/>
          <p:nvPr/>
        </p:nvPicPr>
        <p:blipFill>
          <a:blip r:embed="rId2"/>
          <a:stretch/>
        </p:blipFill>
        <p:spPr>
          <a:xfrm>
            <a:off x="1219320" y="1523880"/>
            <a:ext cx="2471760" cy="4208760"/>
          </a:xfrm>
          <a:prstGeom prst="rect">
            <a:avLst/>
          </a:prstGeom>
          <a:ln w="57240">
            <a:solidFill>
              <a:srgbClr val="545068"/>
            </a:solidFill>
            <a:miter/>
          </a:ln>
        </p:spPr>
      </p:pic>
      <p:sp>
        <p:nvSpPr>
          <p:cNvPr id="7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0.0</a:t>
            </a:r>
            <a:endParaRPr b="0" lang="en-US" sz="1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alue of Myths</a:t>
            </a:r>
            <a:endParaRPr b="0" lang="en-US" sz="4400" spc="-1" strike="noStrike">
              <a:solidFill>
                <a:srgbClr val="000000"/>
              </a:solidFill>
              <a:latin typeface="Times New Roman"/>
            </a:endParaRPr>
          </a:p>
        </p:txBody>
      </p:sp>
      <p:sp>
        <p:nvSpPr>
          <p:cNvPr id="714" name="PlaceHolder 2"/>
          <p:cNvSpPr>
            <a:spLocks noGrp="1"/>
          </p:cNvSpPr>
          <p:nvPr>
            <p:ph/>
          </p:nvPr>
        </p:nvSpPr>
        <p:spPr>
          <a:xfrm>
            <a:off x="4571640" y="2188800"/>
            <a:ext cx="3598920" cy="374004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you know other Native American stories, usually referred to as myths, that explain natural events or things using imagination rather than scientific fact?</a:t>
            </a:r>
            <a:endParaRPr b="0" lang="en-US" sz="2800" spc="-1" strike="noStrike">
              <a:solidFill>
                <a:srgbClr val="000000"/>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15" name="" descr=""/>
          <p:cNvPicPr/>
          <p:nvPr/>
        </p:nvPicPr>
        <p:blipFill>
          <a:blip r:embed="rId2"/>
          <a:srcRect l="0" t="0" r="-85" b="252"/>
          <a:stretch/>
        </p:blipFill>
        <p:spPr>
          <a:xfrm>
            <a:off x="838080" y="2286000"/>
            <a:ext cx="3429000" cy="2590920"/>
          </a:xfrm>
          <a:prstGeom prst="rect">
            <a:avLst/>
          </a:prstGeom>
          <a:ln w="57240">
            <a:solidFill>
              <a:srgbClr val="545068"/>
            </a:solidFill>
            <a:miter/>
          </a:ln>
        </p:spPr>
      </p:pic>
      <p:sp>
        <p:nvSpPr>
          <p:cNvPr id="7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1.0</a:t>
            </a:r>
            <a:endParaRPr b="0" lang="en-US" sz="10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Myth</a:t>
            </a:r>
            <a:endParaRPr b="0" lang="en-US" sz="4400" spc="-1" strike="noStrike">
              <a:solidFill>
                <a:srgbClr val="000000"/>
              </a:solidFill>
              <a:latin typeface="Times New Roman"/>
            </a:endParaRPr>
          </a:p>
        </p:txBody>
      </p:sp>
      <p:sp>
        <p:nvSpPr>
          <p:cNvPr id="718" name="PlaceHolder 2"/>
          <p:cNvSpPr>
            <a:spLocks noGrp="1"/>
          </p:cNvSpPr>
          <p:nvPr>
            <p:ph/>
          </p:nvPr>
        </p:nvSpPr>
        <p:spPr>
          <a:xfrm>
            <a:off x="4716000" y="2050920"/>
            <a:ext cx="3597480" cy="3740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Jace and Red Arrow rode the “rainbow light” to return to the village.</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probably seen a rainbow many times, especially after a summer rain shower. </a:t>
            </a:r>
            <a:endParaRPr b="0" lang="en-US" sz="2800" spc="-1" strike="noStrike">
              <a:solidFill>
                <a:srgbClr val="000000"/>
              </a:solidFill>
              <a:latin typeface="Times New Roman"/>
            </a:endParaRPr>
          </a:p>
        </p:txBody>
      </p:sp>
      <p:pic>
        <p:nvPicPr>
          <p:cNvPr id="719" name="" descr=""/>
          <p:cNvPicPr/>
          <p:nvPr/>
        </p:nvPicPr>
        <p:blipFill>
          <a:blip r:embed="rId2"/>
          <a:stretch/>
        </p:blipFill>
        <p:spPr>
          <a:xfrm>
            <a:off x="1371600" y="2209680"/>
            <a:ext cx="2786040" cy="2781360"/>
          </a:xfrm>
          <a:prstGeom prst="rect">
            <a:avLst/>
          </a:prstGeom>
          <a:ln w="57240">
            <a:solidFill>
              <a:srgbClr val="545068"/>
            </a:solidFill>
            <a:miter/>
          </a:ln>
        </p:spPr>
      </p:pic>
      <p:sp>
        <p:nvSpPr>
          <p:cNvPr id="7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2.0</a:t>
            </a:r>
            <a:endParaRPr b="0" lang="en-US" sz="10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th</a:t>
            </a:r>
            <a:endParaRPr b="0" lang="en-US" sz="4400" spc="-1" strike="noStrike">
              <a:solidFill>
                <a:srgbClr val="000000"/>
              </a:solidFill>
              <a:latin typeface="Times New Roman"/>
            </a:endParaRPr>
          </a:p>
        </p:txBody>
      </p:sp>
      <p:sp>
        <p:nvSpPr>
          <p:cNvPr id="722" name="PlaceHolder 2"/>
          <p:cNvSpPr>
            <a:spLocks noGrp="1"/>
          </p:cNvSpPr>
          <p:nvPr>
            <p:ph/>
          </p:nvPr>
        </p:nvSpPr>
        <p:spPr>
          <a:xfrm>
            <a:off x="901800" y="2050920"/>
            <a:ext cx="7340400" cy="3740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it would be difficult to write a myth explaining a question that you already answered scientifical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why you think this might be har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think it would be harder, explain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scientific explanations of things ever change? Why or why not?</a:t>
            </a:r>
            <a:endParaRPr b="0" lang="en-US" sz="2800" spc="-1" strike="noStrike">
              <a:solidFill>
                <a:srgbClr val="000000"/>
              </a:solidFill>
              <a:latin typeface="Times New Roman"/>
            </a:endParaRPr>
          </a:p>
        </p:txBody>
      </p:sp>
      <p:sp>
        <p:nvSpPr>
          <p:cNvPr id="7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3.0</a:t>
            </a:r>
            <a:endParaRPr b="0" lang="en-US" sz="10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ources</a:t>
            </a:r>
            <a:endParaRPr b="0" lang="en-US" sz="4400" spc="-1" strike="noStrike">
              <a:solidFill>
                <a:srgbClr val="000000"/>
              </a:solidFill>
              <a:latin typeface="Times New Roman"/>
            </a:endParaRPr>
          </a:p>
        </p:txBody>
      </p:sp>
      <p:sp>
        <p:nvSpPr>
          <p:cNvPr id="725" name="PlaceHolder 2"/>
          <p:cNvSpPr>
            <a:spLocks noGrp="1"/>
          </p:cNvSpPr>
          <p:nvPr>
            <p:ph/>
          </p:nvPr>
        </p:nvSpPr>
        <p:spPr>
          <a:xfrm>
            <a:off x="609120" y="1600200"/>
            <a:ext cx="52578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imary sources</a:t>
            </a:r>
            <a:r>
              <a:rPr b="0" lang="en-US" sz="3200" spc="-1" strike="noStrike">
                <a:solidFill>
                  <a:srgbClr val="000000"/>
                </a:solidFill>
                <a:latin typeface="Times New Roman"/>
              </a:rPr>
              <a:t> are historical documents about an event, written at the time the event happened by an eye witness to an event.  Letters and diary entries are good examples of primary sources.</a:t>
            </a:r>
            <a:endParaRPr b="0" lang="en-US" sz="3200" spc="-1" strike="noStrike">
              <a:solidFill>
                <a:srgbClr val="000000"/>
              </a:solidFill>
              <a:latin typeface="Times New Roman"/>
            </a:endParaRPr>
          </a:p>
        </p:txBody>
      </p:sp>
      <p:sp>
        <p:nvSpPr>
          <p:cNvPr id="726" name=""/>
          <p:cNvSpPr/>
          <p:nvPr/>
        </p:nvSpPr>
        <p:spPr>
          <a:xfrm>
            <a:off x="6705720" y="2057400"/>
            <a:ext cx="1904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of a document. Should show writing or printing but should not be readable.</a:t>
            </a:r>
            <a:endParaRPr b="0" lang="en-US" sz="1800" spc="-1" strike="noStrike">
              <a:solidFill>
                <a:srgbClr val="000000"/>
              </a:solidFill>
              <a:latin typeface="Times New Roman"/>
            </a:endParaRPr>
          </a:p>
        </p:txBody>
      </p:sp>
      <p:pic>
        <p:nvPicPr>
          <p:cNvPr id="727" name="" descr=""/>
          <p:cNvPicPr/>
          <p:nvPr/>
        </p:nvPicPr>
        <p:blipFill>
          <a:blip r:embed="rId2"/>
          <a:stretch/>
        </p:blipFill>
        <p:spPr>
          <a:xfrm>
            <a:off x="5867280" y="1676520"/>
            <a:ext cx="2749680" cy="4438440"/>
          </a:xfrm>
          <a:prstGeom prst="rect">
            <a:avLst/>
          </a:prstGeom>
          <a:ln w="57240">
            <a:solidFill>
              <a:srgbClr val="ffffff"/>
            </a:solidFill>
            <a:miter/>
          </a:ln>
        </p:spPr>
      </p:pic>
      <p:sp>
        <p:nvSpPr>
          <p:cNvPr id="7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Sources as Historical Evidence</a:t>
            </a: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 primary sourc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re primary sources valuable historical resources?</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historians use primary sources?</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as the primary source written?</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was Edward Jenner?</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the primary source help us to understand the relationship of cow pox to the disease involved in this story?</a:t>
            </a:r>
            <a:endParaRPr b="0" lang="en-US" sz="3200" spc="-1" strike="noStrike">
              <a:solidFill>
                <a:srgbClr val="000000"/>
              </a:solidFill>
              <a:latin typeface="Times New Roman"/>
            </a:endParaRPr>
          </a:p>
        </p:txBody>
      </p:sp>
      <p:sp>
        <p:nvSpPr>
          <p:cNvPr id="7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 the Contagion</a:t>
            </a:r>
            <a:endParaRPr b="0" lang="en-US" sz="4400" spc="-1" strike="noStrike">
              <a:solidFill>
                <a:srgbClr val="000000"/>
              </a:solidFill>
              <a:latin typeface="Times New Roman"/>
            </a:endParaRPr>
          </a:p>
        </p:txBody>
      </p:sp>
      <p:sp>
        <p:nvSpPr>
          <p:cNvPr id="733" name="PlaceHolder 2"/>
          <p:cNvSpPr>
            <a:spLocks noGrp="1"/>
          </p:cNvSpPr>
          <p:nvPr>
            <p:ph/>
          </p:nvPr>
        </p:nvSpPr>
        <p:spPr>
          <a:xfrm>
            <a:off x="901800" y="2050920"/>
            <a:ext cx="7340400" cy="374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a procedure which Jace could recommend to the Lenape Tribe to control the outbrea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need to be done to prevent further spread of the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pecific and compare your ideas with those of your classmates.</a:t>
            </a:r>
            <a:endParaRPr b="0" lang="en-US" sz="2800" spc="-1" strike="noStrike">
              <a:solidFill>
                <a:srgbClr val="000000"/>
              </a:solidFill>
              <a:latin typeface="Times New Roman"/>
            </a:endParaRPr>
          </a:p>
        </p:txBody>
      </p:sp>
      <p:sp>
        <p:nvSpPr>
          <p:cNvPr id="734" name=""/>
          <p:cNvSpPr/>
          <p:nvPr/>
        </p:nvSpPr>
        <p:spPr>
          <a:xfrm>
            <a:off x="914400" y="5943600"/>
            <a:ext cx="7543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2"/>
              </a:rPr>
              <a:t>See “Combating Infections” to get ideas</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7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at risk?</a:t>
            </a:r>
            <a:endParaRPr b="0" lang="en-US" sz="4400" spc="-1" strike="noStrike">
              <a:solidFill>
                <a:srgbClr val="000000"/>
              </a:solidFill>
              <a:latin typeface="Times New Roman"/>
            </a:endParaRPr>
          </a:p>
        </p:txBody>
      </p:sp>
      <p:sp>
        <p:nvSpPr>
          <p:cNvPr id="737" name="PlaceHolder 2"/>
          <p:cNvSpPr>
            <a:spLocks noGrp="1"/>
          </p:cNvSpPr>
          <p:nvPr>
            <p:ph/>
          </p:nvPr>
        </p:nvSpPr>
        <p:spPr>
          <a:xfrm>
            <a:off x="901800" y="1807920"/>
            <a:ext cx="7340400" cy="374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a:t>
            </a:r>
            <a:r>
              <a:rPr b="0" lang="en-US" sz="3200" spc="-1" strike="noStrike" u="sng">
                <a:solidFill>
                  <a:srgbClr val="134173"/>
                </a:solidFill>
                <a:uFillTx/>
                <a:latin typeface="Times New Roman"/>
                <a:hlinkClick r:id="rId2"/>
              </a:rPr>
              <a:t>description</a:t>
            </a:r>
            <a:r>
              <a:rPr b="0" lang="en-US" sz="3200" spc="-1" strike="noStrike">
                <a:solidFill>
                  <a:srgbClr val="000000"/>
                </a:solidFill>
                <a:latin typeface="Times New Roman"/>
              </a:rPr>
              <a:t> of someone in the Lenape Tribe who is at a higher risk for getting the disease in this story and becoming very sick.</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ir age and overall heal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they l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ir hygiene goo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are their associates?</a:t>
            </a:r>
            <a:endParaRPr b="0" lang="en-US" sz="2800" spc="-1" strike="noStrike">
              <a:solidFill>
                <a:srgbClr val="000000"/>
              </a:solidFill>
              <a:latin typeface="Times New Roman"/>
            </a:endParaRPr>
          </a:p>
        </p:txBody>
      </p:sp>
      <p:sp>
        <p:nvSpPr>
          <p:cNvPr id="7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rteen British Colonies</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618920"/>
            <a:ext cx="3809880" cy="462276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me and locate each of the 13 British colonies in North America.</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some research and construct a timeline showing when each of the colonies was established.</a:t>
            </a:r>
            <a:endParaRPr b="0" lang="en-US" sz="2400" spc="-1" strike="noStrike">
              <a:solidFill>
                <a:srgbClr val="000000"/>
              </a:solidFill>
              <a:latin typeface="Times New Roman"/>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 a database providing information about some of the characteristics of each colony.</a:t>
            </a:r>
            <a:endParaRPr b="0" lang="en-US" sz="2400" spc="-1" strike="noStrike">
              <a:solidFill>
                <a:srgbClr val="000000"/>
              </a:solidFill>
              <a:latin typeface="Times New Roman"/>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2"/>
          <a:stretch/>
        </p:blipFill>
        <p:spPr>
          <a:xfrm>
            <a:off x="4724280" y="1676520"/>
            <a:ext cx="3810240" cy="4457520"/>
          </a:xfrm>
          <a:prstGeom prst="rect">
            <a:avLst/>
          </a:prstGeom>
          <a:ln w="76320">
            <a:solidFill>
              <a:srgbClr val="545068"/>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terrorism</a:t>
            </a:r>
            <a:endParaRPr b="0" lang="en-US" sz="4400" spc="-1" strike="noStrike">
              <a:solidFill>
                <a:srgbClr val="000000"/>
              </a:solidFill>
              <a:latin typeface="Times New Roman"/>
            </a:endParaRPr>
          </a:p>
        </p:txBody>
      </p:sp>
      <p:sp>
        <p:nvSpPr>
          <p:cNvPr id="740" name="PlaceHolder 2"/>
          <p:cNvSpPr>
            <a:spLocks noGrp="1"/>
          </p:cNvSpPr>
          <p:nvPr>
            <p:ph/>
          </p:nvPr>
        </p:nvSpPr>
        <p:spPr>
          <a:xfrm>
            <a:off x="523800" y="1370160"/>
            <a:ext cx="7772400" cy="481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t>
            </a:r>
            <a:r>
              <a:rPr b="0" lang="en-US" sz="2800" spc="-1" strike="noStrike" u="sng">
                <a:solidFill>
                  <a:srgbClr val="134173"/>
                </a:solidFill>
                <a:uFillTx/>
                <a:latin typeface="Times New Roman"/>
                <a:hlinkClick r:id="rId2"/>
              </a:rPr>
              <a:t>bioterroris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bout the use of </a:t>
            </a:r>
            <a:r>
              <a:rPr b="0" lang="en-US" sz="2800" spc="-1" strike="noStrike" u="sng">
                <a:solidFill>
                  <a:srgbClr val="134173"/>
                </a:solidFill>
                <a:uFillTx/>
                <a:latin typeface="Times New Roman"/>
                <a:hlinkClick r:id="rId3"/>
              </a:rPr>
              <a:t>anthrax</a:t>
            </a:r>
            <a:r>
              <a:rPr b="0" lang="en-US" sz="2800" spc="-1" strike="noStrike">
                <a:solidFill>
                  <a:srgbClr val="000000"/>
                </a:solidFill>
                <a:latin typeface="Times New Roman"/>
              </a:rPr>
              <a:t> 8,000 years ago to infect people. Do you think this was bioterrorism?</a:t>
            </a:r>
            <a:endParaRPr b="0"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the contaminated blankets given to the Lenape people by Englishmen in the 18</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may have been a form of bioterrorism? </a:t>
            </a:r>
            <a:endParaRPr b="0"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recent placing of anthrax in mail items in Washington, D.C. bioterroris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34173"/>
                </a:solidFill>
                <a:uFillTx/>
                <a:latin typeface="Times New Roman"/>
                <a:hlinkClick r:id="rId4"/>
              </a:rPr>
              <a:t>Compare and contrast</a:t>
            </a:r>
            <a:r>
              <a:rPr b="0" lang="en-US" sz="2800" spc="-1" strike="noStrike">
                <a:solidFill>
                  <a:srgbClr val="000000"/>
                </a:solidFill>
                <a:latin typeface="Times New Roman"/>
              </a:rPr>
              <a:t> bioterrorism then and now.</a:t>
            </a:r>
            <a:endParaRPr b="0" lang="en-US" sz="2800" spc="-1" strike="noStrike">
              <a:solidFill>
                <a:srgbClr val="000000"/>
              </a:solidFill>
              <a:latin typeface="Times New Roman"/>
            </a:endParaRPr>
          </a:p>
        </p:txBody>
      </p:sp>
      <p:sp>
        <p:nvSpPr>
          <p:cNvPr id="7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97000" y="937800"/>
            <a:ext cx="855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743" name="PlaceHolder 2"/>
          <p:cNvSpPr>
            <a:spLocks noGrp="1"/>
          </p:cNvSpPr>
          <p:nvPr>
            <p:ph/>
          </p:nvPr>
        </p:nvSpPr>
        <p:spPr>
          <a:xfrm>
            <a:off x="1990800" y="1909440"/>
            <a:ext cx="2590560" cy="441972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p:txBody>
      </p:sp>
      <p:sp>
        <p:nvSpPr>
          <p:cNvPr id="744" name="PlaceHolder 3"/>
          <p:cNvSpPr>
            <a:spLocks noGrp="1"/>
          </p:cNvSpPr>
          <p:nvPr>
            <p:ph/>
          </p:nvPr>
        </p:nvSpPr>
        <p:spPr>
          <a:xfrm>
            <a:off x="6334200" y="2057400"/>
            <a:ext cx="2657520" cy="4237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p:txBody>
      </p:sp>
      <p:pic>
        <p:nvPicPr>
          <p:cNvPr id="745" name="" descr=""/>
          <p:cNvPicPr/>
          <p:nvPr/>
        </p:nvPicPr>
        <p:blipFill>
          <a:blip r:embed="rId2"/>
          <a:stretch/>
        </p:blipFill>
        <p:spPr>
          <a:xfrm>
            <a:off x="466560" y="1914480"/>
            <a:ext cx="1371600" cy="1371600"/>
          </a:xfrm>
          <a:prstGeom prst="rect">
            <a:avLst/>
          </a:prstGeom>
          <a:ln w="0">
            <a:noFill/>
          </a:ln>
        </p:spPr>
      </p:pic>
      <p:pic>
        <p:nvPicPr>
          <p:cNvPr id="746" name="" descr=""/>
          <p:cNvPicPr/>
          <p:nvPr/>
        </p:nvPicPr>
        <p:blipFill>
          <a:blip r:embed="rId3"/>
          <a:stretch/>
        </p:blipFill>
        <p:spPr>
          <a:xfrm>
            <a:off x="466560" y="3438360"/>
            <a:ext cx="1371600" cy="1382760"/>
          </a:xfrm>
          <a:prstGeom prst="rect">
            <a:avLst/>
          </a:prstGeom>
          <a:ln w="0">
            <a:noFill/>
          </a:ln>
        </p:spPr>
      </p:pic>
      <p:pic>
        <p:nvPicPr>
          <p:cNvPr id="747" name="" descr=""/>
          <p:cNvPicPr/>
          <p:nvPr/>
        </p:nvPicPr>
        <p:blipFill>
          <a:blip r:embed="rId4"/>
          <a:stretch/>
        </p:blipFill>
        <p:spPr>
          <a:xfrm>
            <a:off x="466560" y="4962600"/>
            <a:ext cx="1359000" cy="1371600"/>
          </a:xfrm>
          <a:prstGeom prst="rect">
            <a:avLst/>
          </a:prstGeom>
          <a:ln w="0">
            <a:noFill/>
          </a:ln>
        </p:spPr>
      </p:pic>
      <p:pic>
        <p:nvPicPr>
          <p:cNvPr id="748" name="" descr=""/>
          <p:cNvPicPr/>
          <p:nvPr/>
        </p:nvPicPr>
        <p:blipFill>
          <a:blip r:embed="rId5"/>
          <a:stretch/>
        </p:blipFill>
        <p:spPr>
          <a:xfrm>
            <a:off x="4809960" y="3438360"/>
            <a:ext cx="1371600" cy="1382760"/>
          </a:xfrm>
          <a:prstGeom prst="rect">
            <a:avLst/>
          </a:prstGeom>
          <a:ln w="0">
            <a:noFill/>
          </a:ln>
        </p:spPr>
      </p:pic>
      <p:pic>
        <p:nvPicPr>
          <p:cNvPr id="749" name="" descr=""/>
          <p:cNvPicPr/>
          <p:nvPr/>
        </p:nvPicPr>
        <p:blipFill>
          <a:blip r:embed="rId6"/>
          <a:stretch/>
        </p:blipFill>
        <p:spPr>
          <a:xfrm>
            <a:off x="4809960" y="4957920"/>
            <a:ext cx="1371600" cy="1371600"/>
          </a:xfrm>
          <a:prstGeom prst="rect">
            <a:avLst/>
          </a:prstGeom>
          <a:ln w="0">
            <a:noFill/>
          </a:ln>
        </p:spPr>
      </p:pic>
      <p:sp>
        <p:nvSpPr>
          <p:cNvPr id="75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52" name=""/>
          <p:cNvGrpSpPr/>
          <p:nvPr/>
        </p:nvGrpSpPr>
        <p:grpSpPr>
          <a:xfrm>
            <a:off x="4730760" y="1928880"/>
            <a:ext cx="1546200" cy="1371600"/>
            <a:chOff x="4730760" y="1928880"/>
            <a:chExt cx="1546200" cy="1371600"/>
          </a:xfrm>
        </p:grpSpPr>
        <p:sp>
          <p:nvSpPr>
            <p:cNvPr id="753" name=""/>
            <p:cNvSpPr/>
            <p:nvPr/>
          </p:nvSpPr>
          <p:spPr>
            <a:xfrm>
              <a:off x="4811400" y="192888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4" name="" descr=""/>
            <p:cNvPicPr/>
            <p:nvPr/>
          </p:nvPicPr>
          <p:blipFill>
            <a:blip r:embed="rId7"/>
            <a:stretch/>
          </p:blipFill>
          <p:spPr>
            <a:xfrm>
              <a:off x="4730760" y="2117880"/>
              <a:ext cx="1546200" cy="1012680"/>
            </a:xfrm>
            <a:prstGeom prst="rect">
              <a:avLst/>
            </a:prstGeom>
            <a:ln w="0">
              <a:noFill/>
            </a:ln>
          </p:spPr>
        </p:pic>
      </p:grpSp>
      <p:sp>
        <p:nvSpPr>
          <p:cNvPr id="755" name=""/>
          <p:cNvSpPr/>
          <p:nvPr/>
        </p:nvSpPr>
        <p:spPr>
          <a:xfrm>
            <a:off x="4137840" y="6375240"/>
            <a:ext cx="869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rPr>
              <a:t> 2004</a:t>
            </a:r>
            <a:endParaRPr b="0" lang="en-US" sz="1800" spc="-1" strike="noStrike">
              <a:solidFill>
                <a:srgbClr val="000000"/>
              </a:solidFill>
              <a:latin typeface="Times New Roman"/>
            </a:endParaRPr>
          </a:p>
        </p:txBody>
      </p:sp>
      <p:sp>
        <p:nvSpPr>
          <p:cNvPr id="756" name=""/>
          <p:cNvSpPr/>
          <p:nvPr/>
        </p:nvSpPr>
        <p:spPr>
          <a:xfrm>
            <a:off x="304920" y="304920"/>
            <a:ext cx="8458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achers, please click on this link to complete a short survey concerning this module: </a:t>
            </a:r>
            <a:r>
              <a:rPr b="0" lang="en-US" sz="2200" spc="-1" strike="noStrike" u="sng">
                <a:solidFill>
                  <a:srgbClr val="134173"/>
                </a:solidFill>
                <a:uFillTx/>
                <a:latin typeface="Times New Roman"/>
                <a:hlinkClick r:id="rId8"/>
              </a:rPr>
              <a:t>http://</a:t>
            </a:r>
            <a:r>
              <a:rPr b="0" lang="en-US" sz="2200" spc="-1" strike="noStrike" u="sng">
                <a:solidFill>
                  <a:srgbClr val="134173"/>
                </a:solidFill>
                <a:uFillTx/>
                <a:latin typeface="Times New Roman"/>
                <a:hlinkClick r:id="rId9"/>
              </a:rPr>
              <a:t>peer.tamu.edu/forms/Curricula_Survey.shtml</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Corresponding </a:t>
            </a:r>
            <a:br>
              <a:rPr sz="3600"/>
            </a:br>
            <a:r>
              <a:rPr b="1" lang="en-US" sz="3600" spc="-1" strike="noStrike">
                <a:solidFill>
                  <a:srgbClr val="000000"/>
                </a:solidFill>
                <a:latin typeface="Times New Roman"/>
              </a:rPr>
              <a:t>to the Different Subject Areas</a:t>
            </a:r>
            <a:endParaRPr b="0" lang="en-US" sz="3600" spc="-1" strike="noStrike">
              <a:solidFill>
                <a:srgbClr val="000000"/>
              </a:solidFill>
              <a:latin typeface="Times New Roman"/>
            </a:endParaRPr>
          </a:p>
        </p:txBody>
      </p:sp>
      <p:sp>
        <p:nvSpPr>
          <p:cNvPr id="758" name=""/>
          <p:cNvSpPr/>
          <p:nvPr/>
        </p:nvSpPr>
        <p:spPr>
          <a:xfrm>
            <a:off x="1474920" y="2098800"/>
            <a:ext cx="276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400" spc="-1" strike="noStrike">
                <a:solidFill>
                  <a:srgbClr val="000000"/>
                </a:solidFill>
                <a:latin typeface="Times New Roman"/>
              </a:rPr>
              <a:t>3R 22.0-52.0</a:t>
            </a:r>
            <a:r>
              <a:rPr b="1" lang="en-US" sz="2400" spc="-1" strike="noStrike">
                <a:solidFill>
                  <a:srgbClr val="000000"/>
                </a:solidFill>
                <a:latin typeface="Times New Roman"/>
              </a:rPr>
              <a:t>	</a:t>
            </a:r>
            <a:r>
              <a:rPr b="1" i="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9" name=""/>
          <p:cNvSpPr/>
          <p:nvPr/>
        </p:nvSpPr>
        <p:spPr>
          <a:xfrm>
            <a:off x="5005440" y="2095560"/>
            <a:ext cx="313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 </a:t>
            </a:r>
            <a:r>
              <a:rPr b="1" lang="en-US" sz="2400" spc="-1" strike="noStrike">
                <a:solidFill>
                  <a:srgbClr val="000000"/>
                </a:solidFill>
                <a:latin typeface="Times New Roman"/>
              </a:rPr>
              <a:t>3R 3.0-21.0</a:t>
            </a:r>
            <a:endParaRPr b="0" lang="en-US" sz="2400" spc="-1" strike="noStrike">
              <a:solidFill>
                <a:srgbClr val="000000"/>
              </a:solidFill>
              <a:latin typeface="Times New Roman"/>
            </a:endParaRPr>
          </a:p>
        </p:txBody>
      </p:sp>
      <p:sp>
        <p:nvSpPr>
          <p:cNvPr id="760" name=""/>
          <p:cNvSpPr/>
          <p:nvPr/>
        </p:nvSpPr>
        <p:spPr>
          <a:xfrm>
            <a:off x="1492200" y="4030560"/>
            <a:ext cx="2763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       </a:t>
            </a:r>
            <a:r>
              <a:rPr b="1" lang="en-US" sz="2400" spc="-1" strike="noStrike">
                <a:solidFill>
                  <a:srgbClr val="000000"/>
                </a:solidFill>
                <a:latin typeface="Times New Roman"/>
              </a:rPr>
              <a:t>3R 2.0 76.0-87.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1" name=""/>
          <p:cNvSpPr/>
          <p:nvPr/>
        </p:nvSpPr>
        <p:spPr>
          <a:xfrm>
            <a:off x="5008680" y="4030560"/>
            <a:ext cx="276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400" spc="-1" strike="noStrike">
                <a:solidFill>
                  <a:srgbClr val="000000"/>
                </a:solidFill>
                <a:latin typeface="Times New Roman"/>
              </a:rPr>
              <a:t>3R 54.0, 56.0-67.0, 69.0-75.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06:36Z</dcterms:created>
  <dc:creator>Charles C. Farnsworth, Ph.D. - Instructional Design</dc:creator>
  <dc:description/>
  <dc:language>en-US</dc:language>
  <cp:lastModifiedBy>Texas A&amp;M Veterinary Medicine</cp:lastModifiedBy>
  <dcterms:modified xsi:type="dcterms:W3CDTF">2007-10-02T17:09:30Z</dcterms:modified>
  <cp:revision>204</cp:revision>
  <dc:subject/>
  <dc:title>No Slide Title</dc:title>
</cp:coreProperties>
</file>