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659-C3B2-41FD-B9C7-4E14D1D0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0E1-FBDB-469B-8115-D60F16BE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502-4305-47A3-862F-6984211E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CB5-D909-4D45-B817-85B0B197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50A-B809-41E6-8C80-3C815E13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F30-C6A0-4304-84CA-C4DD029B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34E-6242-442F-ACF5-054A6EAF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21D-AA3D-408A-A78C-D7A4E3B4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B07-C18B-4C8A-9BC7-FEFF6F5E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E9D-6E62-4B16-A3AD-957DA7CD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FA9-927C-4CF1-8866-E11E1551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6E0-A0E2-46F7-B43F-95B6E7EF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D30-E2C3-4103-84D4-D2A05B82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EC4-A344-4DA9-9BFB-97BD7EDC5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11:25Z</dcterms:modified>
  <cp:revision>59</cp:revision>
  <dc:subject/>
  <dc:title>PowerPoint Presentation</dc:title>
</cp:coreProperties>
</file>