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2.png" ContentType="image/png"/>
  <Override PartName="/ppt/media/image3.wmf" ContentType="image/x-wmf"/>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2B10-7FC6-471B-BBE7-4CF3EF89A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Jenner was a country physician in England who developed the first smallpox vaccine in 1796.  One of his patients, a dairymaid by the name of Sarah Nelmes, came down with smallpox like symptoms.  Jenner diagnosed the disease to be cowpox, a milder form of the disease that can be transmitted from cows to humans.  Jenner was interested to see if cowpox could spread from human to human, so he slit James Phillips’ skin and rubbed it on Sarah Nelmes’ pustules.  The boy came down with cowpox but felt fine after a week.  Jenner then proceeded to infect the boy with smallpox on several occasions but the boy never contracted the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mallpox were released into the air, it would be inactivated in 1-2 days.  This is enough time to infect some people, but not a whole lot.  However, because smallpox can be transmitted from person to person, the virus could potentially spread and cause an epidemic.  The virus can also travel in our water supplies; however, the water reservoirs are massive and most of our water goes toward industrial purposes and very little of it is consumed.  Therefore, any amount of the virus added to the water would be greatly diluted.  The virus can also transmitted through food supplies; however, it is very difficult to inject consumable food and any outbreak would probably be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urce for this claim can be found in the Papers of Henry Boquet and in reports of Lord Amherst bragging that he used this technique during the French and Indian wa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They could not be sure.  However, they obtained the smallpox virus from those in the English colonies that were infected with the disease.  The English gave blankets that they had used on their smallpox infected citizens to the Indians as “peace toke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discussion of this issue, go to http://www2.h-net.msu.edu/~west/threads/disc-smallpox.htm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ference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inces and Peasants: Smallpox in history_, Donald R. Hopkins, Chicago: U of Chicago Press, 1983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Effect of Smallpox on the Destiny of the Amerindian_, E Wagner.Stearn and Allen E. Stearn, , 1945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troying Angel: The conquest of smallpox in colonial Boston_, Ola Elizabeth Winslow, Boston: Houghton Mifflin, 1974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7 days, the vaccine will not prevent or diminish the effects of smallpox.  A person cannot get smallpox from the vaccine.  The vaccine is a live virus, but it is another type of virus other than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lation is the deliberate infection of a person with the smallpox virus.  Dried smallpox scabs were blown into the noses of patients.  These patients contracted a mild form of the disease.  After the disease ran its course, the person was immune to any further exposures.  The death rate for variolation was about 1-2% versus the 30% without variolation.  Due to this chance that the person could possibly die or become blind from variolation, people believed that it was not worth the risk and it would be better to take their chances with the real smallpox virus if/when it hit their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depicts a woman being vaccinated.  Behind her are others who have been vaccinated and are growing cow parts.  The author pokes jest at the notion that vaccination with cowpox will turn a person into a c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had been vaccinated with cowpox very rarely developed a 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advantage to vaccination is that a vaccinated person is not contag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vaccination is that immunity decreases over time, so people had to be re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er began to use cowpox matter taken directly from sores on the cow’s u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noticed that patients did not get as sick from this as they did from a smallpox inoculation, but that they still became immune to both cowpox and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procedure became what we now call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79BF0-2B03-43B8-99E8-604F87DDA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511A6-F12C-491B-8BFF-11BD79F88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972FA-81CE-4875-BFA5-B880071F1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25843-B1FF-4F7C-8B29-6978F7048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EAE1E-EF2A-4C71-847B-3555AE311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869B7-EC22-4F93-BA61-4571D62D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606FC-6DEE-4355-8B5B-5CB91AE2A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87309-7281-476A-91EE-7FB2A6611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A22D0-F5F9-4130-BAE9-0439D2324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16027-7AE2-4C0F-BC22-E6CF950B1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D514-7931-4AC6-80EE-D0CD9BBA6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30BB-F276-48AF-AB92-2FDD43107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06B2-C98D-45D5-B24B-4C84FF79B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711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eka! He Made the Vaccine!</a:t>
            </a:r>
            <a:endParaRPr b="0" lang="en-US" sz="4400" spc="-1" strike="noStrike">
              <a:solidFill>
                <a:srgbClr val="000000"/>
              </a:solidFill>
              <a:latin typeface="Times New Roman"/>
            </a:endParaRPr>
          </a:p>
        </p:txBody>
      </p:sp>
      <p:sp>
        <p:nvSpPr>
          <p:cNvPr id="93" name="PlaceHolder 2"/>
          <p:cNvSpPr>
            <a:spLocks noGrp="1"/>
          </p:cNvSpPr>
          <p:nvPr>
            <p:ph/>
          </p:nvPr>
        </p:nvSpPr>
        <p:spPr>
          <a:xfrm>
            <a:off x="3581280" y="1339560"/>
            <a:ext cx="5181840" cy="54752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ward Jenner was intrigued by the folk tale that farmers who caught cowpox from their cows could not get smallpox. (cowpox is relatively harml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nner infected his gardener's son, James Phillips, with cowpox from a milkmaid, Sarah Nelmes, and then variolated James to see if he could contract smallpo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y did not contract smallpox and the rest is history!</a:t>
            </a:r>
            <a:endParaRPr b="0" lang="en-US" sz="2800" spc="-1" strike="noStrike">
              <a:solidFill>
                <a:srgbClr val="000000"/>
              </a:solidFill>
              <a:latin typeface="Times New Roman"/>
            </a:endParaRPr>
          </a:p>
        </p:txBody>
      </p:sp>
      <p:pic>
        <p:nvPicPr>
          <p:cNvPr id="94" name="" descr=""/>
          <p:cNvPicPr/>
          <p:nvPr/>
        </p:nvPicPr>
        <p:blipFill>
          <a:blip r:embed="rId2"/>
          <a:stretch/>
        </p:blipFill>
        <p:spPr>
          <a:xfrm>
            <a:off x="609480" y="1981080"/>
            <a:ext cx="2514600" cy="3733920"/>
          </a:xfrm>
          <a:prstGeom prst="rect">
            <a:avLst/>
          </a:prstGeom>
          <a:ln w="0">
            <a:noFill/>
          </a:ln>
        </p:spPr>
      </p:pic>
      <p:sp>
        <p:nvSpPr>
          <p:cNvPr id="95" name=""/>
          <p:cNvSpPr/>
          <p:nvPr/>
        </p:nvSpPr>
        <p:spPr>
          <a:xfrm>
            <a:off x="609480" y="571500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798, Edward Jenner thought that his vaccine could be used to eradicate, or completely eliminate,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66 the World Health Assembly voted to eradicate smallpox within ten year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pox was finally eliminated as of October of 1977.</a:t>
            </a:r>
            <a:endParaRPr b="0" lang="en-US" sz="32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as smallpox eradicated?  Do some research in the library or on the Internet to find ou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mallpox was eradicated in 1977, why are people afraid that smallpox could be used by terrorists toda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smallpox truly eradicated from the face of the Earth?</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terrorism</a:t>
            </a:r>
            <a:endParaRPr b="0" lang="en-US" sz="4400" spc="-1" strike="noStrike">
              <a:solidFill>
                <a:srgbClr val="000000"/>
              </a:solidFill>
              <a:latin typeface="Times New Roman"/>
            </a:endParaRPr>
          </a:p>
        </p:txBody>
      </p:sp>
      <p:sp>
        <p:nvSpPr>
          <p:cNvPr id="104" name="PlaceHolder 2"/>
          <p:cNvSpPr>
            <a:spLocks noGrp="1"/>
          </p:cNvSpPr>
          <p:nvPr>
            <p:ph/>
          </p:nvPr>
        </p:nvSpPr>
        <p:spPr>
          <a:xfrm>
            <a:off x="431280" y="1155600"/>
            <a:ext cx="5715000" cy="472464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mallpox Kills!</a:t>
            </a:r>
            <a:endParaRPr b="0" lang="en-US" sz="32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ople in the world have current vaccination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are not readily availabl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untries could get a hold of the virus and use it for biochemical warfa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ed for warfare, the virus would spread throughout the globe and potentially kill mill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5" name=""/>
          <p:cNvGrpSpPr/>
          <p:nvPr/>
        </p:nvGrpSpPr>
        <p:grpSpPr>
          <a:xfrm>
            <a:off x="6553080" y="1981080"/>
            <a:ext cx="1904760" cy="4134960"/>
            <a:chOff x="6553080" y="1981080"/>
            <a:chExt cx="1904760" cy="4134960"/>
          </a:xfrm>
        </p:grpSpPr>
        <p:grpSp>
          <p:nvGrpSpPr>
            <p:cNvPr id="106" name=""/>
            <p:cNvGrpSpPr/>
            <p:nvPr/>
          </p:nvGrpSpPr>
          <p:grpSpPr>
            <a:xfrm>
              <a:off x="6553080" y="2133720"/>
              <a:ext cx="1904760" cy="3982320"/>
              <a:chOff x="6553080" y="2133720"/>
              <a:chExt cx="1904760" cy="3982320"/>
            </a:xfrm>
          </p:grpSpPr>
          <p:grpSp>
            <p:nvGrpSpPr>
              <p:cNvPr id="107" name=""/>
              <p:cNvGrpSpPr/>
              <p:nvPr/>
            </p:nvGrpSpPr>
            <p:grpSpPr>
              <a:xfrm>
                <a:off x="6553080" y="2133720"/>
                <a:ext cx="1899720" cy="3797280"/>
                <a:chOff x="6553080" y="2133720"/>
                <a:chExt cx="1899720" cy="3797280"/>
              </a:xfrm>
            </p:grpSpPr>
            <p:sp>
              <p:nvSpPr>
                <p:cNvPr id="108" name=""/>
                <p:cNvSpPr/>
                <p:nvPr/>
              </p:nvSpPr>
              <p:spPr>
                <a:xfrm>
                  <a:off x="6553080" y="2133720"/>
                  <a:ext cx="1899720" cy="3797280"/>
                </a:xfrm>
                <a:custGeom>
                  <a:avLst/>
                  <a:gdLst/>
                  <a:ahLst/>
                  <a:rect l="l" t="t" r="r" b="b"/>
                  <a:pathLst>
                    <a:path w="753" h="2403">
                      <a:moveTo>
                        <a:pt x="457" y="2403"/>
                      </a:moveTo>
                      <a:lnTo>
                        <a:pt x="493" y="2403"/>
                      </a:lnTo>
                      <a:lnTo>
                        <a:pt x="532" y="2395"/>
                      </a:lnTo>
                      <a:lnTo>
                        <a:pt x="572" y="2387"/>
                      </a:lnTo>
                      <a:lnTo>
                        <a:pt x="611" y="2375"/>
                      </a:lnTo>
                      <a:lnTo>
                        <a:pt x="651" y="2360"/>
                      </a:lnTo>
                      <a:lnTo>
                        <a:pt x="682" y="2336"/>
                      </a:lnTo>
                      <a:lnTo>
                        <a:pt x="714" y="2312"/>
                      </a:lnTo>
                      <a:lnTo>
                        <a:pt x="737" y="2285"/>
                      </a:lnTo>
                      <a:lnTo>
                        <a:pt x="734" y="2225"/>
                      </a:lnTo>
                      <a:lnTo>
                        <a:pt x="722" y="2166"/>
                      </a:lnTo>
                      <a:lnTo>
                        <a:pt x="710" y="2111"/>
                      </a:lnTo>
                      <a:lnTo>
                        <a:pt x="694" y="2056"/>
                      </a:lnTo>
                      <a:lnTo>
                        <a:pt x="682" y="2001"/>
                      </a:lnTo>
                      <a:lnTo>
                        <a:pt x="666" y="1945"/>
                      </a:lnTo>
                      <a:lnTo>
                        <a:pt x="659" y="1890"/>
                      </a:lnTo>
                      <a:lnTo>
                        <a:pt x="651" y="1831"/>
                      </a:lnTo>
                      <a:lnTo>
                        <a:pt x="635" y="1736"/>
                      </a:lnTo>
                      <a:lnTo>
                        <a:pt x="631" y="1641"/>
                      </a:lnTo>
                      <a:lnTo>
                        <a:pt x="627" y="1547"/>
                      </a:lnTo>
                      <a:lnTo>
                        <a:pt x="627" y="1452"/>
                      </a:lnTo>
                      <a:lnTo>
                        <a:pt x="631" y="1361"/>
                      </a:lnTo>
                      <a:lnTo>
                        <a:pt x="639" y="1267"/>
                      </a:lnTo>
                      <a:lnTo>
                        <a:pt x="643" y="1168"/>
                      </a:lnTo>
                      <a:lnTo>
                        <a:pt x="647" y="1073"/>
                      </a:lnTo>
                      <a:lnTo>
                        <a:pt x="655" y="1018"/>
                      </a:lnTo>
                      <a:lnTo>
                        <a:pt x="666" y="967"/>
                      </a:lnTo>
                      <a:lnTo>
                        <a:pt x="674" y="915"/>
                      </a:lnTo>
                      <a:lnTo>
                        <a:pt x="686" y="864"/>
                      </a:lnTo>
                      <a:lnTo>
                        <a:pt x="698" y="813"/>
                      </a:lnTo>
                      <a:lnTo>
                        <a:pt x="710" y="761"/>
                      </a:lnTo>
                      <a:lnTo>
                        <a:pt x="722" y="710"/>
                      </a:lnTo>
                      <a:lnTo>
                        <a:pt x="734" y="663"/>
                      </a:lnTo>
                      <a:lnTo>
                        <a:pt x="737" y="647"/>
                      </a:lnTo>
                      <a:lnTo>
                        <a:pt x="741" y="631"/>
                      </a:lnTo>
                      <a:lnTo>
                        <a:pt x="745" y="615"/>
                      </a:lnTo>
                      <a:lnTo>
                        <a:pt x="749" y="604"/>
                      </a:lnTo>
                      <a:lnTo>
                        <a:pt x="753" y="588"/>
                      </a:lnTo>
                      <a:lnTo>
                        <a:pt x="753" y="576"/>
                      </a:lnTo>
                      <a:lnTo>
                        <a:pt x="753" y="560"/>
                      </a:lnTo>
                      <a:lnTo>
                        <a:pt x="745" y="544"/>
                      </a:lnTo>
                      <a:lnTo>
                        <a:pt x="710" y="521"/>
                      </a:lnTo>
                      <a:lnTo>
                        <a:pt x="670" y="505"/>
                      </a:lnTo>
                      <a:lnTo>
                        <a:pt x="627" y="493"/>
                      </a:lnTo>
                      <a:lnTo>
                        <a:pt x="588" y="481"/>
                      </a:lnTo>
                      <a:lnTo>
                        <a:pt x="548" y="469"/>
                      </a:lnTo>
                      <a:lnTo>
                        <a:pt x="509" y="462"/>
                      </a:lnTo>
                      <a:lnTo>
                        <a:pt x="469" y="450"/>
                      </a:lnTo>
                      <a:lnTo>
                        <a:pt x="434" y="434"/>
                      </a:lnTo>
                      <a:lnTo>
                        <a:pt x="410" y="383"/>
                      </a:lnTo>
                      <a:lnTo>
                        <a:pt x="382" y="327"/>
                      </a:lnTo>
                      <a:lnTo>
                        <a:pt x="355" y="276"/>
                      </a:lnTo>
                      <a:lnTo>
                        <a:pt x="331" y="225"/>
                      </a:lnTo>
                      <a:lnTo>
                        <a:pt x="323" y="197"/>
                      </a:lnTo>
                      <a:lnTo>
                        <a:pt x="315" y="170"/>
                      </a:lnTo>
                      <a:lnTo>
                        <a:pt x="308" y="142"/>
                      </a:lnTo>
                      <a:lnTo>
                        <a:pt x="304" y="118"/>
                      </a:lnTo>
                      <a:lnTo>
                        <a:pt x="304" y="91"/>
                      </a:lnTo>
                      <a:lnTo>
                        <a:pt x="308" y="63"/>
                      </a:lnTo>
                      <a:lnTo>
                        <a:pt x="311" y="35"/>
                      </a:lnTo>
                      <a:lnTo>
                        <a:pt x="319" y="8"/>
                      </a:lnTo>
                      <a:lnTo>
                        <a:pt x="304" y="4"/>
                      </a:lnTo>
                      <a:lnTo>
                        <a:pt x="284" y="0"/>
                      </a:lnTo>
                      <a:lnTo>
                        <a:pt x="264" y="0"/>
                      </a:lnTo>
                      <a:lnTo>
                        <a:pt x="244" y="0"/>
                      </a:lnTo>
                      <a:lnTo>
                        <a:pt x="221" y="4"/>
                      </a:lnTo>
                      <a:lnTo>
                        <a:pt x="201" y="8"/>
                      </a:lnTo>
                      <a:lnTo>
                        <a:pt x="181" y="12"/>
                      </a:lnTo>
                      <a:lnTo>
                        <a:pt x="158" y="20"/>
                      </a:lnTo>
                      <a:lnTo>
                        <a:pt x="150" y="51"/>
                      </a:lnTo>
                      <a:lnTo>
                        <a:pt x="150" y="79"/>
                      </a:lnTo>
                      <a:lnTo>
                        <a:pt x="150" y="110"/>
                      </a:lnTo>
                      <a:lnTo>
                        <a:pt x="154" y="134"/>
                      </a:lnTo>
                      <a:lnTo>
                        <a:pt x="162" y="162"/>
                      </a:lnTo>
                      <a:lnTo>
                        <a:pt x="173" y="189"/>
                      </a:lnTo>
                      <a:lnTo>
                        <a:pt x="189" y="213"/>
                      </a:lnTo>
                      <a:lnTo>
                        <a:pt x="201" y="237"/>
                      </a:lnTo>
                      <a:lnTo>
                        <a:pt x="237" y="284"/>
                      </a:lnTo>
                      <a:lnTo>
                        <a:pt x="268" y="335"/>
                      </a:lnTo>
                      <a:lnTo>
                        <a:pt x="300" y="383"/>
                      </a:lnTo>
                      <a:lnTo>
                        <a:pt x="327" y="434"/>
                      </a:lnTo>
                      <a:lnTo>
                        <a:pt x="284" y="438"/>
                      </a:lnTo>
                      <a:lnTo>
                        <a:pt x="240" y="446"/>
                      </a:lnTo>
                      <a:lnTo>
                        <a:pt x="197" y="454"/>
                      </a:lnTo>
                      <a:lnTo>
                        <a:pt x="154" y="469"/>
                      </a:lnTo>
                      <a:lnTo>
                        <a:pt x="110" y="485"/>
                      </a:lnTo>
                      <a:lnTo>
                        <a:pt x="71" y="509"/>
                      </a:lnTo>
                      <a:lnTo>
                        <a:pt x="35" y="533"/>
                      </a:lnTo>
                      <a:lnTo>
                        <a:pt x="4" y="564"/>
                      </a:lnTo>
                      <a:lnTo>
                        <a:pt x="0" y="608"/>
                      </a:lnTo>
                      <a:lnTo>
                        <a:pt x="8" y="647"/>
                      </a:lnTo>
                      <a:lnTo>
                        <a:pt x="16" y="690"/>
                      </a:lnTo>
                      <a:lnTo>
                        <a:pt x="31" y="730"/>
                      </a:lnTo>
                      <a:lnTo>
                        <a:pt x="47" y="769"/>
                      </a:lnTo>
                      <a:lnTo>
                        <a:pt x="63" y="813"/>
                      </a:lnTo>
                      <a:lnTo>
                        <a:pt x="75" y="852"/>
                      </a:lnTo>
                      <a:lnTo>
                        <a:pt x="83" y="896"/>
                      </a:lnTo>
                      <a:lnTo>
                        <a:pt x="87" y="907"/>
                      </a:lnTo>
                      <a:lnTo>
                        <a:pt x="91" y="923"/>
                      </a:lnTo>
                      <a:lnTo>
                        <a:pt x="95" y="935"/>
                      </a:lnTo>
                      <a:lnTo>
                        <a:pt x="98" y="947"/>
                      </a:lnTo>
                      <a:lnTo>
                        <a:pt x="102" y="959"/>
                      </a:lnTo>
                      <a:lnTo>
                        <a:pt x="106" y="971"/>
                      </a:lnTo>
                      <a:lnTo>
                        <a:pt x="110" y="982"/>
                      </a:lnTo>
                      <a:lnTo>
                        <a:pt x="110" y="994"/>
                      </a:lnTo>
                      <a:lnTo>
                        <a:pt x="114" y="1010"/>
                      </a:lnTo>
                      <a:lnTo>
                        <a:pt x="118" y="1022"/>
                      </a:lnTo>
                      <a:lnTo>
                        <a:pt x="122" y="1034"/>
                      </a:lnTo>
                      <a:lnTo>
                        <a:pt x="122" y="1046"/>
                      </a:lnTo>
                      <a:lnTo>
                        <a:pt x="126" y="1057"/>
                      </a:lnTo>
                      <a:lnTo>
                        <a:pt x="126" y="1069"/>
                      </a:lnTo>
                      <a:lnTo>
                        <a:pt x="130" y="1081"/>
                      </a:lnTo>
                      <a:lnTo>
                        <a:pt x="134" y="1093"/>
                      </a:lnTo>
                      <a:lnTo>
                        <a:pt x="142" y="1172"/>
                      </a:lnTo>
                      <a:lnTo>
                        <a:pt x="154" y="1251"/>
                      </a:lnTo>
                      <a:lnTo>
                        <a:pt x="166" y="1330"/>
                      </a:lnTo>
                      <a:lnTo>
                        <a:pt x="177" y="1409"/>
                      </a:lnTo>
                      <a:lnTo>
                        <a:pt x="189" y="1484"/>
                      </a:lnTo>
                      <a:lnTo>
                        <a:pt x="193" y="1563"/>
                      </a:lnTo>
                      <a:lnTo>
                        <a:pt x="193" y="1602"/>
                      </a:lnTo>
                      <a:lnTo>
                        <a:pt x="189" y="1641"/>
                      </a:lnTo>
                      <a:lnTo>
                        <a:pt x="185" y="1677"/>
                      </a:lnTo>
                      <a:lnTo>
                        <a:pt x="177" y="1716"/>
                      </a:lnTo>
                      <a:lnTo>
                        <a:pt x="173" y="1744"/>
                      </a:lnTo>
                      <a:lnTo>
                        <a:pt x="169" y="1772"/>
                      </a:lnTo>
                      <a:lnTo>
                        <a:pt x="166" y="1799"/>
                      </a:lnTo>
                      <a:lnTo>
                        <a:pt x="162" y="1823"/>
                      </a:lnTo>
                      <a:lnTo>
                        <a:pt x="154" y="1851"/>
                      </a:lnTo>
                      <a:lnTo>
                        <a:pt x="146" y="1874"/>
                      </a:lnTo>
                      <a:lnTo>
                        <a:pt x="138" y="1898"/>
                      </a:lnTo>
                      <a:lnTo>
                        <a:pt x="130" y="1926"/>
                      </a:lnTo>
                      <a:lnTo>
                        <a:pt x="126" y="1945"/>
                      </a:lnTo>
                      <a:lnTo>
                        <a:pt x="122" y="1965"/>
                      </a:lnTo>
                      <a:lnTo>
                        <a:pt x="114" y="1981"/>
                      </a:lnTo>
                      <a:lnTo>
                        <a:pt x="110" y="2001"/>
                      </a:lnTo>
                      <a:lnTo>
                        <a:pt x="102" y="2020"/>
                      </a:lnTo>
                      <a:lnTo>
                        <a:pt x="95" y="2040"/>
                      </a:lnTo>
                      <a:lnTo>
                        <a:pt x="91" y="2060"/>
                      </a:lnTo>
                      <a:lnTo>
                        <a:pt x="87" y="2075"/>
                      </a:lnTo>
                      <a:lnTo>
                        <a:pt x="83" y="2099"/>
                      </a:lnTo>
                      <a:lnTo>
                        <a:pt x="75" y="2127"/>
                      </a:lnTo>
                      <a:lnTo>
                        <a:pt x="67" y="2150"/>
                      </a:lnTo>
                      <a:lnTo>
                        <a:pt x="63" y="2174"/>
                      </a:lnTo>
                      <a:lnTo>
                        <a:pt x="59" y="2198"/>
                      </a:lnTo>
                      <a:lnTo>
                        <a:pt x="59" y="2221"/>
                      </a:lnTo>
                      <a:lnTo>
                        <a:pt x="63" y="2241"/>
                      </a:lnTo>
                      <a:lnTo>
                        <a:pt x="71" y="2257"/>
                      </a:lnTo>
                      <a:lnTo>
                        <a:pt x="83" y="2273"/>
                      </a:lnTo>
                      <a:lnTo>
                        <a:pt x="95" y="2281"/>
                      </a:lnTo>
                      <a:lnTo>
                        <a:pt x="110" y="2293"/>
                      </a:lnTo>
                      <a:lnTo>
                        <a:pt x="122" y="2300"/>
                      </a:lnTo>
                      <a:lnTo>
                        <a:pt x="138" y="2308"/>
                      </a:lnTo>
                      <a:lnTo>
                        <a:pt x="150" y="2316"/>
                      </a:lnTo>
                      <a:lnTo>
                        <a:pt x="162" y="2324"/>
                      </a:lnTo>
                      <a:lnTo>
                        <a:pt x="169" y="2336"/>
                      </a:lnTo>
                      <a:lnTo>
                        <a:pt x="185" y="2340"/>
                      </a:lnTo>
                      <a:lnTo>
                        <a:pt x="197" y="2348"/>
                      </a:lnTo>
                      <a:lnTo>
                        <a:pt x="209" y="2352"/>
                      </a:lnTo>
                      <a:lnTo>
                        <a:pt x="221" y="2356"/>
                      </a:lnTo>
                      <a:lnTo>
                        <a:pt x="233" y="2356"/>
                      </a:lnTo>
                      <a:lnTo>
                        <a:pt x="240" y="2360"/>
                      </a:lnTo>
                      <a:lnTo>
                        <a:pt x="252" y="2364"/>
                      </a:lnTo>
                      <a:lnTo>
                        <a:pt x="264" y="2371"/>
                      </a:lnTo>
                      <a:lnTo>
                        <a:pt x="288" y="2371"/>
                      </a:lnTo>
                      <a:lnTo>
                        <a:pt x="315" y="2375"/>
                      </a:lnTo>
                      <a:lnTo>
                        <a:pt x="339" y="2379"/>
                      </a:lnTo>
                      <a:lnTo>
                        <a:pt x="363" y="2383"/>
                      </a:lnTo>
                      <a:lnTo>
                        <a:pt x="386" y="2387"/>
                      </a:lnTo>
                      <a:lnTo>
                        <a:pt x="410" y="2395"/>
                      </a:lnTo>
                      <a:lnTo>
                        <a:pt x="434" y="2399"/>
                      </a:lnTo>
                      <a:lnTo>
                        <a:pt x="457" y="2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630840" y="2182680"/>
                  <a:ext cx="1733400" cy="3696840"/>
                  <a:chOff x="6630840" y="2182680"/>
                  <a:chExt cx="1733400" cy="3696840"/>
                </a:xfrm>
              </p:grpSpPr>
              <p:sp>
                <p:nvSpPr>
                  <p:cNvPr id="110" name=""/>
                  <p:cNvSpPr/>
                  <p:nvPr/>
                </p:nvSpPr>
                <p:spPr>
                  <a:xfrm>
                    <a:off x="6630840" y="2893320"/>
                    <a:ext cx="1733400" cy="2986200"/>
                  </a:xfrm>
                  <a:custGeom>
                    <a:avLst/>
                    <a:gdLst/>
                    <a:ahLst/>
                    <a:rect l="l" t="t" r="r" b="b"/>
                    <a:pathLst>
                      <a:path w="687" h="1890">
                        <a:moveTo>
                          <a:pt x="426" y="1890"/>
                        </a:moveTo>
                        <a:lnTo>
                          <a:pt x="458" y="1886"/>
                        </a:lnTo>
                        <a:lnTo>
                          <a:pt x="490" y="1883"/>
                        </a:lnTo>
                        <a:lnTo>
                          <a:pt x="525" y="1879"/>
                        </a:lnTo>
                        <a:lnTo>
                          <a:pt x="557" y="1867"/>
                        </a:lnTo>
                        <a:lnTo>
                          <a:pt x="592" y="1855"/>
                        </a:lnTo>
                        <a:lnTo>
                          <a:pt x="624" y="1839"/>
                        </a:lnTo>
                        <a:lnTo>
                          <a:pt x="651" y="1819"/>
                        </a:lnTo>
                        <a:lnTo>
                          <a:pt x="675" y="1796"/>
                        </a:lnTo>
                        <a:lnTo>
                          <a:pt x="675" y="1760"/>
                        </a:lnTo>
                        <a:lnTo>
                          <a:pt x="675" y="1733"/>
                        </a:lnTo>
                        <a:lnTo>
                          <a:pt x="667" y="1701"/>
                        </a:lnTo>
                        <a:lnTo>
                          <a:pt x="659" y="1673"/>
                        </a:lnTo>
                        <a:lnTo>
                          <a:pt x="651" y="1646"/>
                        </a:lnTo>
                        <a:lnTo>
                          <a:pt x="643" y="1614"/>
                        </a:lnTo>
                        <a:lnTo>
                          <a:pt x="635" y="1587"/>
                        </a:lnTo>
                        <a:lnTo>
                          <a:pt x="632" y="1555"/>
                        </a:lnTo>
                        <a:lnTo>
                          <a:pt x="616" y="1476"/>
                        </a:lnTo>
                        <a:lnTo>
                          <a:pt x="600" y="1397"/>
                        </a:lnTo>
                        <a:lnTo>
                          <a:pt x="588" y="1318"/>
                        </a:lnTo>
                        <a:lnTo>
                          <a:pt x="580" y="1243"/>
                        </a:lnTo>
                        <a:lnTo>
                          <a:pt x="576" y="1164"/>
                        </a:lnTo>
                        <a:lnTo>
                          <a:pt x="568" y="1089"/>
                        </a:lnTo>
                        <a:lnTo>
                          <a:pt x="564" y="1010"/>
                        </a:lnTo>
                        <a:lnTo>
                          <a:pt x="564" y="932"/>
                        </a:lnTo>
                        <a:lnTo>
                          <a:pt x="557" y="939"/>
                        </a:lnTo>
                        <a:lnTo>
                          <a:pt x="545" y="947"/>
                        </a:lnTo>
                        <a:lnTo>
                          <a:pt x="537" y="955"/>
                        </a:lnTo>
                        <a:lnTo>
                          <a:pt x="525" y="963"/>
                        </a:lnTo>
                        <a:lnTo>
                          <a:pt x="513" y="967"/>
                        </a:lnTo>
                        <a:lnTo>
                          <a:pt x="501" y="975"/>
                        </a:lnTo>
                        <a:lnTo>
                          <a:pt x="490" y="975"/>
                        </a:lnTo>
                        <a:lnTo>
                          <a:pt x="478" y="975"/>
                        </a:lnTo>
                        <a:lnTo>
                          <a:pt x="458" y="967"/>
                        </a:lnTo>
                        <a:lnTo>
                          <a:pt x="442" y="959"/>
                        </a:lnTo>
                        <a:lnTo>
                          <a:pt x="426" y="951"/>
                        </a:lnTo>
                        <a:lnTo>
                          <a:pt x="411" y="939"/>
                        </a:lnTo>
                        <a:lnTo>
                          <a:pt x="399" y="928"/>
                        </a:lnTo>
                        <a:lnTo>
                          <a:pt x="387" y="916"/>
                        </a:lnTo>
                        <a:lnTo>
                          <a:pt x="379" y="900"/>
                        </a:lnTo>
                        <a:lnTo>
                          <a:pt x="375" y="884"/>
                        </a:lnTo>
                        <a:lnTo>
                          <a:pt x="375" y="845"/>
                        </a:lnTo>
                        <a:lnTo>
                          <a:pt x="379" y="805"/>
                        </a:lnTo>
                        <a:lnTo>
                          <a:pt x="383" y="766"/>
                        </a:lnTo>
                        <a:lnTo>
                          <a:pt x="387" y="726"/>
                        </a:lnTo>
                        <a:lnTo>
                          <a:pt x="399" y="691"/>
                        </a:lnTo>
                        <a:lnTo>
                          <a:pt x="415" y="655"/>
                        </a:lnTo>
                        <a:lnTo>
                          <a:pt x="434" y="620"/>
                        </a:lnTo>
                        <a:lnTo>
                          <a:pt x="458" y="588"/>
                        </a:lnTo>
                        <a:lnTo>
                          <a:pt x="474" y="580"/>
                        </a:lnTo>
                        <a:lnTo>
                          <a:pt x="486" y="572"/>
                        </a:lnTo>
                        <a:lnTo>
                          <a:pt x="501" y="569"/>
                        </a:lnTo>
                        <a:lnTo>
                          <a:pt x="517" y="569"/>
                        </a:lnTo>
                        <a:lnTo>
                          <a:pt x="533" y="569"/>
                        </a:lnTo>
                        <a:lnTo>
                          <a:pt x="545" y="569"/>
                        </a:lnTo>
                        <a:lnTo>
                          <a:pt x="561" y="569"/>
                        </a:lnTo>
                        <a:lnTo>
                          <a:pt x="572" y="572"/>
                        </a:lnTo>
                        <a:lnTo>
                          <a:pt x="572" y="572"/>
                        </a:lnTo>
                        <a:lnTo>
                          <a:pt x="576" y="576"/>
                        </a:lnTo>
                        <a:lnTo>
                          <a:pt x="580" y="580"/>
                        </a:lnTo>
                        <a:lnTo>
                          <a:pt x="584" y="584"/>
                        </a:lnTo>
                        <a:lnTo>
                          <a:pt x="584" y="584"/>
                        </a:lnTo>
                        <a:lnTo>
                          <a:pt x="584" y="584"/>
                        </a:lnTo>
                        <a:lnTo>
                          <a:pt x="588" y="588"/>
                        </a:lnTo>
                        <a:lnTo>
                          <a:pt x="588" y="588"/>
                        </a:lnTo>
                        <a:lnTo>
                          <a:pt x="592" y="565"/>
                        </a:lnTo>
                        <a:lnTo>
                          <a:pt x="600" y="537"/>
                        </a:lnTo>
                        <a:lnTo>
                          <a:pt x="604" y="509"/>
                        </a:lnTo>
                        <a:lnTo>
                          <a:pt x="612" y="482"/>
                        </a:lnTo>
                        <a:lnTo>
                          <a:pt x="616" y="454"/>
                        </a:lnTo>
                        <a:lnTo>
                          <a:pt x="620" y="426"/>
                        </a:lnTo>
                        <a:lnTo>
                          <a:pt x="628" y="399"/>
                        </a:lnTo>
                        <a:lnTo>
                          <a:pt x="635" y="371"/>
                        </a:lnTo>
                        <a:lnTo>
                          <a:pt x="643" y="336"/>
                        </a:lnTo>
                        <a:lnTo>
                          <a:pt x="651" y="296"/>
                        </a:lnTo>
                        <a:lnTo>
                          <a:pt x="659" y="257"/>
                        </a:lnTo>
                        <a:lnTo>
                          <a:pt x="667" y="217"/>
                        </a:lnTo>
                        <a:lnTo>
                          <a:pt x="675" y="178"/>
                        </a:lnTo>
                        <a:lnTo>
                          <a:pt x="683" y="142"/>
                        </a:lnTo>
                        <a:lnTo>
                          <a:pt x="687" y="107"/>
                        </a:lnTo>
                        <a:lnTo>
                          <a:pt x="687" y="75"/>
                        </a:lnTo>
                        <a:lnTo>
                          <a:pt x="655" y="59"/>
                        </a:lnTo>
                        <a:lnTo>
                          <a:pt x="624" y="48"/>
                        </a:lnTo>
                        <a:lnTo>
                          <a:pt x="592" y="36"/>
                        </a:lnTo>
                        <a:lnTo>
                          <a:pt x="561" y="24"/>
                        </a:lnTo>
                        <a:lnTo>
                          <a:pt x="529" y="20"/>
                        </a:lnTo>
                        <a:lnTo>
                          <a:pt x="497" y="12"/>
                        </a:lnTo>
                        <a:lnTo>
                          <a:pt x="470" y="8"/>
                        </a:lnTo>
                        <a:lnTo>
                          <a:pt x="438" y="4"/>
                        </a:lnTo>
                        <a:lnTo>
                          <a:pt x="438" y="20"/>
                        </a:lnTo>
                        <a:lnTo>
                          <a:pt x="438" y="36"/>
                        </a:lnTo>
                        <a:lnTo>
                          <a:pt x="434" y="52"/>
                        </a:lnTo>
                        <a:lnTo>
                          <a:pt x="434" y="63"/>
                        </a:lnTo>
                        <a:lnTo>
                          <a:pt x="430" y="79"/>
                        </a:lnTo>
                        <a:lnTo>
                          <a:pt x="422" y="95"/>
                        </a:lnTo>
                        <a:lnTo>
                          <a:pt x="411" y="107"/>
                        </a:lnTo>
                        <a:lnTo>
                          <a:pt x="399" y="115"/>
                        </a:lnTo>
                        <a:lnTo>
                          <a:pt x="387" y="119"/>
                        </a:lnTo>
                        <a:lnTo>
                          <a:pt x="379" y="119"/>
                        </a:lnTo>
                        <a:lnTo>
                          <a:pt x="367" y="123"/>
                        </a:lnTo>
                        <a:lnTo>
                          <a:pt x="359" y="123"/>
                        </a:lnTo>
                        <a:lnTo>
                          <a:pt x="351" y="119"/>
                        </a:lnTo>
                        <a:lnTo>
                          <a:pt x="344" y="119"/>
                        </a:lnTo>
                        <a:lnTo>
                          <a:pt x="340" y="115"/>
                        </a:lnTo>
                        <a:lnTo>
                          <a:pt x="336" y="111"/>
                        </a:lnTo>
                        <a:lnTo>
                          <a:pt x="328" y="95"/>
                        </a:lnTo>
                        <a:lnTo>
                          <a:pt x="324" y="79"/>
                        </a:lnTo>
                        <a:lnTo>
                          <a:pt x="320" y="67"/>
                        </a:lnTo>
                        <a:lnTo>
                          <a:pt x="320" y="52"/>
                        </a:lnTo>
                        <a:lnTo>
                          <a:pt x="320" y="40"/>
                        </a:lnTo>
                        <a:lnTo>
                          <a:pt x="316" y="24"/>
                        </a:lnTo>
                        <a:lnTo>
                          <a:pt x="312" y="12"/>
                        </a:lnTo>
                        <a:lnTo>
                          <a:pt x="300" y="0"/>
                        </a:lnTo>
                        <a:lnTo>
                          <a:pt x="261" y="0"/>
                        </a:lnTo>
                        <a:lnTo>
                          <a:pt x="221" y="4"/>
                        </a:lnTo>
                        <a:lnTo>
                          <a:pt x="178" y="8"/>
                        </a:lnTo>
                        <a:lnTo>
                          <a:pt x="138" y="20"/>
                        </a:lnTo>
                        <a:lnTo>
                          <a:pt x="99" y="36"/>
                        </a:lnTo>
                        <a:lnTo>
                          <a:pt x="60" y="52"/>
                        </a:lnTo>
                        <a:lnTo>
                          <a:pt x="28" y="71"/>
                        </a:lnTo>
                        <a:lnTo>
                          <a:pt x="0" y="95"/>
                        </a:lnTo>
                        <a:lnTo>
                          <a:pt x="0" y="119"/>
                        </a:lnTo>
                        <a:lnTo>
                          <a:pt x="0" y="142"/>
                        </a:lnTo>
                        <a:lnTo>
                          <a:pt x="8" y="162"/>
                        </a:lnTo>
                        <a:lnTo>
                          <a:pt x="12" y="178"/>
                        </a:lnTo>
                        <a:lnTo>
                          <a:pt x="20" y="198"/>
                        </a:lnTo>
                        <a:lnTo>
                          <a:pt x="24" y="213"/>
                        </a:lnTo>
                        <a:lnTo>
                          <a:pt x="32" y="233"/>
                        </a:lnTo>
                        <a:lnTo>
                          <a:pt x="36" y="249"/>
                        </a:lnTo>
                        <a:lnTo>
                          <a:pt x="48" y="296"/>
                        </a:lnTo>
                        <a:lnTo>
                          <a:pt x="64" y="348"/>
                        </a:lnTo>
                        <a:lnTo>
                          <a:pt x="79" y="395"/>
                        </a:lnTo>
                        <a:lnTo>
                          <a:pt x="91" y="446"/>
                        </a:lnTo>
                        <a:lnTo>
                          <a:pt x="103" y="497"/>
                        </a:lnTo>
                        <a:lnTo>
                          <a:pt x="119" y="549"/>
                        </a:lnTo>
                        <a:lnTo>
                          <a:pt x="131" y="596"/>
                        </a:lnTo>
                        <a:lnTo>
                          <a:pt x="138" y="647"/>
                        </a:lnTo>
                        <a:lnTo>
                          <a:pt x="150" y="636"/>
                        </a:lnTo>
                        <a:lnTo>
                          <a:pt x="162" y="624"/>
                        </a:lnTo>
                        <a:lnTo>
                          <a:pt x="178" y="616"/>
                        </a:lnTo>
                        <a:lnTo>
                          <a:pt x="194" y="608"/>
                        </a:lnTo>
                        <a:lnTo>
                          <a:pt x="209" y="604"/>
                        </a:lnTo>
                        <a:lnTo>
                          <a:pt x="225" y="604"/>
                        </a:lnTo>
                        <a:lnTo>
                          <a:pt x="241" y="604"/>
                        </a:lnTo>
                        <a:lnTo>
                          <a:pt x="257" y="612"/>
                        </a:lnTo>
                        <a:lnTo>
                          <a:pt x="280" y="620"/>
                        </a:lnTo>
                        <a:lnTo>
                          <a:pt x="300" y="636"/>
                        </a:lnTo>
                        <a:lnTo>
                          <a:pt x="316" y="651"/>
                        </a:lnTo>
                        <a:lnTo>
                          <a:pt x="328" y="671"/>
                        </a:lnTo>
                        <a:lnTo>
                          <a:pt x="336" y="695"/>
                        </a:lnTo>
                        <a:lnTo>
                          <a:pt x="344" y="715"/>
                        </a:lnTo>
                        <a:lnTo>
                          <a:pt x="351" y="738"/>
                        </a:lnTo>
                        <a:lnTo>
                          <a:pt x="355" y="758"/>
                        </a:lnTo>
                        <a:lnTo>
                          <a:pt x="359" y="790"/>
                        </a:lnTo>
                        <a:lnTo>
                          <a:pt x="359" y="817"/>
                        </a:lnTo>
                        <a:lnTo>
                          <a:pt x="359" y="849"/>
                        </a:lnTo>
                        <a:lnTo>
                          <a:pt x="355" y="876"/>
                        </a:lnTo>
                        <a:lnTo>
                          <a:pt x="348" y="908"/>
                        </a:lnTo>
                        <a:lnTo>
                          <a:pt x="336" y="932"/>
                        </a:lnTo>
                        <a:lnTo>
                          <a:pt x="324" y="955"/>
                        </a:lnTo>
                        <a:lnTo>
                          <a:pt x="304" y="975"/>
                        </a:lnTo>
                        <a:lnTo>
                          <a:pt x="292" y="979"/>
                        </a:lnTo>
                        <a:lnTo>
                          <a:pt x="280" y="983"/>
                        </a:lnTo>
                        <a:lnTo>
                          <a:pt x="265" y="987"/>
                        </a:lnTo>
                        <a:lnTo>
                          <a:pt x="253" y="987"/>
                        </a:lnTo>
                        <a:lnTo>
                          <a:pt x="241" y="983"/>
                        </a:lnTo>
                        <a:lnTo>
                          <a:pt x="229" y="983"/>
                        </a:lnTo>
                        <a:lnTo>
                          <a:pt x="221" y="979"/>
                        </a:lnTo>
                        <a:lnTo>
                          <a:pt x="209" y="979"/>
                        </a:lnTo>
                        <a:lnTo>
                          <a:pt x="206" y="971"/>
                        </a:lnTo>
                        <a:lnTo>
                          <a:pt x="202" y="971"/>
                        </a:lnTo>
                        <a:lnTo>
                          <a:pt x="198" y="967"/>
                        </a:lnTo>
                        <a:lnTo>
                          <a:pt x="198" y="963"/>
                        </a:lnTo>
                        <a:lnTo>
                          <a:pt x="194" y="963"/>
                        </a:lnTo>
                        <a:lnTo>
                          <a:pt x="190" y="959"/>
                        </a:lnTo>
                        <a:lnTo>
                          <a:pt x="190" y="959"/>
                        </a:lnTo>
                        <a:lnTo>
                          <a:pt x="186" y="959"/>
                        </a:lnTo>
                        <a:lnTo>
                          <a:pt x="194" y="1007"/>
                        </a:lnTo>
                        <a:lnTo>
                          <a:pt x="198" y="1058"/>
                        </a:lnTo>
                        <a:lnTo>
                          <a:pt x="198" y="1109"/>
                        </a:lnTo>
                        <a:lnTo>
                          <a:pt x="194" y="1160"/>
                        </a:lnTo>
                        <a:lnTo>
                          <a:pt x="174" y="1263"/>
                        </a:lnTo>
                        <a:lnTo>
                          <a:pt x="150" y="1362"/>
                        </a:lnTo>
                        <a:lnTo>
                          <a:pt x="123" y="1464"/>
                        </a:lnTo>
                        <a:lnTo>
                          <a:pt x="95" y="1567"/>
                        </a:lnTo>
                        <a:lnTo>
                          <a:pt x="83" y="1618"/>
                        </a:lnTo>
                        <a:lnTo>
                          <a:pt x="75" y="1669"/>
                        </a:lnTo>
                        <a:lnTo>
                          <a:pt x="71" y="1721"/>
                        </a:lnTo>
                        <a:lnTo>
                          <a:pt x="67" y="1772"/>
                        </a:lnTo>
                        <a:lnTo>
                          <a:pt x="107" y="1800"/>
                        </a:lnTo>
                        <a:lnTo>
                          <a:pt x="146" y="1819"/>
                        </a:lnTo>
                        <a:lnTo>
                          <a:pt x="194" y="1839"/>
                        </a:lnTo>
                        <a:lnTo>
                          <a:pt x="237" y="1851"/>
                        </a:lnTo>
                        <a:lnTo>
                          <a:pt x="284" y="1863"/>
                        </a:lnTo>
                        <a:lnTo>
                          <a:pt x="332" y="1871"/>
                        </a:lnTo>
                        <a:lnTo>
                          <a:pt x="379" y="1883"/>
                        </a:lnTo>
                        <a:lnTo>
                          <a:pt x="426" y="1890"/>
                        </a:lnTo>
                        <a:close/>
                      </a:path>
                    </a:pathLst>
                  </a:custGeom>
                  <a:solidFill>
                    <a:srgbClr val="ff59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458480" y="4857480"/>
                    <a:ext cx="229320" cy="44280"/>
                  </a:xfrm>
                  <a:custGeom>
                    <a:avLst/>
                    <a:gdLst/>
                    <a:ahLst/>
                    <a:rect l="l" t="t" r="r" b="b"/>
                    <a:pathLst>
                      <a:path w="91" h="28">
                        <a:moveTo>
                          <a:pt x="16" y="28"/>
                        </a:moveTo>
                        <a:lnTo>
                          <a:pt x="23" y="28"/>
                        </a:lnTo>
                        <a:lnTo>
                          <a:pt x="35" y="28"/>
                        </a:lnTo>
                        <a:lnTo>
                          <a:pt x="43" y="24"/>
                        </a:lnTo>
                        <a:lnTo>
                          <a:pt x="55" y="24"/>
                        </a:lnTo>
                        <a:lnTo>
                          <a:pt x="67" y="24"/>
                        </a:lnTo>
                        <a:lnTo>
                          <a:pt x="75" y="20"/>
                        </a:lnTo>
                        <a:lnTo>
                          <a:pt x="87" y="16"/>
                        </a:lnTo>
                        <a:lnTo>
                          <a:pt x="91" y="8"/>
                        </a:lnTo>
                        <a:lnTo>
                          <a:pt x="83" y="4"/>
                        </a:lnTo>
                        <a:lnTo>
                          <a:pt x="75" y="0"/>
                        </a:lnTo>
                        <a:lnTo>
                          <a:pt x="67" y="0"/>
                        </a:lnTo>
                        <a:lnTo>
                          <a:pt x="55" y="0"/>
                        </a:lnTo>
                        <a:lnTo>
                          <a:pt x="47" y="0"/>
                        </a:lnTo>
                        <a:lnTo>
                          <a:pt x="35" y="0"/>
                        </a:lnTo>
                        <a:lnTo>
                          <a:pt x="23" y="4"/>
                        </a:lnTo>
                        <a:lnTo>
                          <a:pt x="16" y="4"/>
                        </a:lnTo>
                        <a:lnTo>
                          <a:pt x="8" y="12"/>
                        </a:lnTo>
                        <a:lnTo>
                          <a:pt x="8" y="12"/>
                        </a:lnTo>
                        <a:lnTo>
                          <a:pt x="4" y="16"/>
                        </a:lnTo>
                        <a:lnTo>
                          <a:pt x="4" y="16"/>
                        </a:lnTo>
                        <a:lnTo>
                          <a:pt x="4" y="20"/>
                        </a:lnTo>
                        <a:lnTo>
                          <a:pt x="4" y="20"/>
                        </a:lnTo>
                        <a:lnTo>
                          <a:pt x="4" y="20"/>
                        </a:lnTo>
                        <a:lnTo>
                          <a:pt x="0" y="20"/>
                        </a:lnTo>
                        <a:lnTo>
                          <a:pt x="4" y="20"/>
                        </a:lnTo>
                        <a:lnTo>
                          <a:pt x="4" y="20"/>
                        </a:lnTo>
                        <a:lnTo>
                          <a:pt x="4" y="20"/>
                        </a:lnTo>
                        <a:lnTo>
                          <a:pt x="8" y="24"/>
                        </a:lnTo>
                        <a:lnTo>
                          <a:pt x="8" y="24"/>
                        </a:lnTo>
                        <a:lnTo>
                          <a:pt x="8" y="24"/>
                        </a:lnTo>
                        <a:lnTo>
                          <a:pt x="12" y="28"/>
                        </a:lnTo>
                        <a:lnTo>
                          <a:pt x="16"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 name=""/>
                  <p:cNvSpPr/>
                  <p:nvPr/>
                </p:nvSpPr>
                <p:spPr>
                  <a:xfrm>
                    <a:off x="7019280" y="3904560"/>
                    <a:ext cx="448920" cy="266760"/>
                  </a:xfrm>
                  <a:custGeom>
                    <a:avLst/>
                    <a:gdLst/>
                    <a:ahLst/>
                    <a:rect l="l" t="t" r="r" b="b"/>
                    <a:pathLst>
                      <a:path w="178" h="169">
                        <a:moveTo>
                          <a:pt x="52" y="47"/>
                        </a:moveTo>
                        <a:lnTo>
                          <a:pt x="55" y="39"/>
                        </a:lnTo>
                        <a:lnTo>
                          <a:pt x="63" y="35"/>
                        </a:lnTo>
                        <a:lnTo>
                          <a:pt x="67" y="31"/>
                        </a:lnTo>
                        <a:lnTo>
                          <a:pt x="79" y="31"/>
                        </a:lnTo>
                        <a:lnTo>
                          <a:pt x="95" y="39"/>
                        </a:lnTo>
                        <a:lnTo>
                          <a:pt x="115" y="51"/>
                        </a:lnTo>
                        <a:lnTo>
                          <a:pt x="134" y="63"/>
                        </a:lnTo>
                        <a:lnTo>
                          <a:pt x="150" y="75"/>
                        </a:lnTo>
                        <a:lnTo>
                          <a:pt x="162" y="86"/>
                        </a:lnTo>
                        <a:lnTo>
                          <a:pt x="166" y="90"/>
                        </a:lnTo>
                        <a:lnTo>
                          <a:pt x="174" y="82"/>
                        </a:lnTo>
                        <a:lnTo>
                          <a:pt x="178" y="78"/>
                        </a:lnTo>
                        <a:lnTo>
                          <a:pt x="178" y="71"/>
                        </a:lnTo>
                        <a:lnTo>
                          <a:pt x="178" y="63"/>
                        </a:lnTo>
                        <a:lnTo>
                          <a:pt x="170" y="51"/>
                        </a:lnTo>
                        <a:lnTo>
                          <a:pt x="158" y="35"/>
                        </a:lnTo>
                        <a:lnTo>
                          <a:pt x="138" y="19"/>
                        </a:lnTo>
                        <a:lnTo>
                          <a:pt x="119" y="7"/>
                        </a:lnTo>
                        <a:lnTo>
                          <a:pt x="99" y="0"/>
                        </a:lnTo>
                        <a:lnTo>
                          <a:pt x="75" y="0"/>
                        </a:lnTo>
                        <a:lnTo>
                          <a:pt x="63" y="0"/>
                        </a:lnTo>
                        <a:lnTo>
                          <a:pt x="55" y="3"/>
                        </a:lnTo>
                        <a:lnTo>
                          <a:pt x="44" y="7"/>
                        </a:lnTo>
                        <a:lnTo>
                          <a:pt x="36" y="11"/>
                        </a:lnTo>
                        <a:lnTo>
                          <a:pt x="28" y="19"/>
                        </a:lnTo>
                        <a:lnTo>
                          <a:pt x="20" y="27"/>
                        </a:lnTo>
                        <a:lnTo>
                          <a:pt x="16" y="35"/>
                        </a:lnTo>
                        <a:lnTo>
                          <a:pt x="8" y="43"/>
                        </a:lnTo>
                        <a:lnTo>
                          <a:pt x="8" y="59"/>
                        </a:lnTo>
                        <a:lnTo>
                          <a:pt x="4" y="78"/>
                        </a:lnTo>
                        <a:lnTo>
                          <a:pt x="4" y="94"/>
                        </a:lnTo>
                        <a:lnTo>
                          <a:pt x="4" y="110"/>
                        </a:lnTo>
                        <a:lnTo>
                          <a:pt x="4" y="126"/>
                        </a:lnTo>
                        <a:lnTo>
                          <a:pt x="4" y="142"/>
                        </a:lnTo>
                        <a:lnTo>
                          <a:pt x="4" y="153"/>
                        </a:lnTo>
                        <a:lnTo>
                          <a:pt x="0" y="169"/>
                        </a:lnTo>
                        <a:lnTo>
                          <a:pt x="52"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87800" y="3835080"/>
                    <a:ext cx="436320" cy="275040"/>
                  </a:xfrm>
                  <a:custGeom>
                    <a:avLst/>
                    <a:gdLst/>
                    <a:ahLst/>
                    <a:rect l="l" t="t" r="r" b="b"/>
                    <a:pathLst>
                      <a:path w="173" h="174">
                        <a:moveTo>
                          <a:pt x="161" y="166"/>
                        </a:moveTo>
                        <a:lnTo>
                          <a:pt x="165" y="174"/>
                        </a:lnTo>
                        <a:lnTo>
                          <a:pt x="169" y="174"/>
                        </a:lnTo>
                        <a:lnTo>
                          <a:pt x="169" y="174"/>
                        </a:lnTo>
                        <a:lnTo>
                          <a:pt x="173" y="166"/>
                        </a:lnTo>
                        <a:lnTo>
                          <a:pt x="173" y="146"/>
                        </a:lnTo>
                        <a:lnTo>
                          <a:pt x="173" y="119"/>
                        </a:lnTo>
                        <a:lnTo>
                          <a:pt x="169" y="83"/>
                        </a:lnTo>
                        <a:lnTo>
                          <a:pt x="165" y="51"/>
                        </a:lnTo>
                        <a:lnTo>
                          <a:pt x="161" y="40"/>
                        </a:lnTo>
                        <a:lnTo>
                          <a:pt x="153" y="28"/>
                        </a:lnTo>
                        <a:lnTo>
                          <a:pt x="149" y="16"/>
                        </a:lnTo>
                        <a:lnTo>
                          <a:pt x="142" y="12"/>
                        </a:lnTo>
                        <a:lnTo>
                          <a:pt x="130" y="4"/>
                        </a:lnTo>
                        <a:lnTo>
                          <a:pt x="114" y="4"/>
                        </a:lnTo>
                        <a:lnTo>
                          <a:pt x="102" y="0"/>
                        </a:lnTo>
                        <a:lnTo>
                          <a:pt x="90" y="4"/>
                        </a:lnTo>
                        <a:lnTo>
                          <a:pt x="78" y="4"/>
                        </a:lnTo>
                        <a:lnTo>
                          <a:pt x="71" y="12"/>
                        </a:lnTo>
                        <a:lnTo>
                          <a:pt x="63" y="16"/>
                        </a:lnTo>
                        <a:lnTo>
                          <a:pt x="59" y="24"/>
                        </a:lnTo>
                        <a:lnTo>
                          <a:pt x="47" y="40"/>
                        </a:lnTo>
                        <a:lnTo>
                          <a:pt x="35" y="63"/>
                        </a:lnTo>
                        <a:lnTo>
                          <a:pt x="23" y="87"/>
                        </a:lnTo>
                        <a:lnTo>
                          <a:pt x="11" y="115"/>
                        </a:lnTo>
                        <a:lnTo>
                          <a:pt x="3" y="134"/>
                        </a:lnTo>
                        <a:lnTo>
                          <a:pt x="0" y="146"/>
                        </a:lnTo>
                        <a:lnTo>
                          <a:pt x="0" y="150"/>
                        </a:lnTo>
                        <a:lnTo>
                          <a:pt x="3" y="150"/>
                        </a:lnTo>
                        <a:lnTo>
                          <a:pt x="7" y="150"/>
                        </a:lnTo>
                        <a:lnTo>
                          <a:pt x="15" y="142"/>
                        </a:lnTo>
                        <a:lnTo>
                          <a:pt x="15" y="138"/>
                        </a:lnTo>
                        <a:lnTo>
                          <a:pt x="23" y="126"/>
                        </a:lnTo>
                        <a:lnTo>
                          <a:pt x="31" y="107"/>
                        </a:lnTo>
                        <a:lnTo>
                          <a:pt x="43" y="91"/>
                        </a:lnTo>
                        <a:lnTo>
                          <a:pt x="59" y="75"/>
                        </a:lnTo>
                        <a:lnTo>
                          <a:pt x="71" y="63"/>
                        </a:lnTo>
                        <a:lnTo>
                          <a:pt x="78" y="63"/>
                        </a:lnTo>
                        <a:lnTo>
                          <a:pt x="90" y="63"/>
                        </a:lnTo>
                        <a:lnTo>
                          <a:pt x="98" y="67"/>
                        </a:lnTo>
                        <a:lnTo>
                          <a:pt x="106" y="71"/>
                        </a:lnTo>
                        <a:lnTo>
                          <a:pt x="142" y="111"/>
                        </a:lnTo>
                        <a:lnTo>
                          <a:pt x="161"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711480" y="2993040"/>
                    <a:ext cx="1531440" cy="162360"/>
                  </a:xfrm>
                  <a:custGeom>
                    <a:avLst/>
                    <a:gdLst/>
                    <a:ahLst/>
                    <a:rect l="l" t="t" r="r" b="b"/>
                    <a:pathLst>
                      <a:path w="607" h="103">
                        <a:moveTo>
                          <a:pt x="241" y="103"/>
                        </a:moveTo>
                        <a:lnTo>
                          <a:pt x="280" y="103"/>
                        </a:lnTo>
                        <a:lnTo>
                          <a:pt x="323" y="103"/>
                        </a:lnTo>
                        <a:lnTo>
                          <a:pt x="363" y="99"/>
                        </a:lnTo>
                        <a:lnTo>
                          <a:pt x="402" y="99"/>
                        </a:lnTo>
                        <a:lnTo>
                          <a:pt x="446" y="95"/>
                        </a:lnTo>
                        <a:lnTo>
                          <a:pt x="485" y="91"/>
                        </a:lnTo>
                        <a:lnTo>
                          <a:pt x="525" y="83"/>
                        </a:lnTo>
                        <a:lnTo>
                          <a:pt x="564" y="75"/>
                        </a:lnTo>
                        <a:lnTo>
                          <a:pt x="572" y="71"/>
                        </a:lnTo>
                        <a:lnTo>
                          <a:pt x="580" y="68"/>
                        </a:lnTo>
                        <a:lnTo>
                          <a:pt x="584" y="68"/>
                        </a:lnTo>
                        <a:lnTo>
                          <a:pt x="592" y="64"/>
                        </a:lnTo>
                        <a:lnTo>
                          <a:pt x="596" y="60"/>
                        </a:lnTo>
                        <a:lnTo>
                          <a:pt x="600" y="56"/>
                        </a:lnTo>
                        <a:lnTo>
                          <a:pt x="603" y="52"/>
                        </a:lnTo>
                        <a:lnTo>
                          <a:pt x="607" y="48"/>
                        </a:lnTo>
                        <a:lnTo>
                          <a:pt x="603" y="36"/>
                        </a:lnTo>
                        <a:lnTo>
                          <a:pt x="596" y="28"/>
                        </a:lnTo>
                        <a:lnTo>
                          <a:pt x="588" y="24"/>
                        </a:lnTo>
                        <a:lnTo>
                          <a:pt x="580" y="16"/>
                        </a:lnTo>
                        <a:lnTo>
                          <a:pt x="572" y="12"/>
                        </a:lnTo>
                        <a:lnTo>
                          <a:pt x="560" y="12"/>
                        </a:lnTo>
                        <a:lnTo>
                          <a:pt x="548" y="12"/>
                        </a:lnTo>
                        <a:lnTo>
                          <a:pt x="540" y="8"/>
                        </a:lnTo>
                        <a:lnTo>
                          <a:pt x="536" y="16"/>
                        </a:lnTo>
                        <a:lnTo>
                          <a:pt x="540" y="24"/>
                        </a:lnTo>
                        <a:lnTo>
                          <a:pt x="544" y="24"/>
                        </a:lnTo>
                        <a:lnTo>
                          <a:pt x="548" y="28"/>
                        </a:lnTo>
                        <a:lnTo>
                          <a:pt x="556" y="32"/>
                        </a:lnTo>
                        <a:lnTo>
                          <a:pt x="560" y="32"/>
                        </a:lnTo>
                        <a:lnTo>
                          <a:pt x="568" y="36"/>
                        </a:lnTo>
                        <a:lnTo>
                          <a:pt x="572" y="40"/>
                        </a:lnTo>
                        <a:lnTo>
                          <a:pt x="505" y="60"/>
                        </a:lnTo>
                        <a:lnTo>
                          <a:pt x="442" y="71"/>
                        </a:lnTo>
                        <a:lnTo>
                          <a:pt x="375" y="75"/>
                        </a:lnTo>
                        <a:lnTo>
                          <a:pt x="308" y="75"/>
                        </a:lnTo>
                        <a:lnTo>
                          <a:pt x="241" y="71"/>
                        </a:lnTo>
                        <a:lnTo>
                          <a:pt x="177" y="68"/>
                        </a:lnTo>
                        <a:lnTo>
                          <a:pt x="110" y="60"/>
                        </a:lnTo>
                        <a:lnTo>
                          <a:pt x="43" y="52"/>
                        </a:lnTo>
                        <a:lnTo>
                          <a:pt x="39" y="48"/>
                        </a:lnTo>
                        <a:lnTo>
                          <a:pt x="39" y="44"/>
                        </a:lnTo>
                        <a:lnTo>
                          <a:pt x="43" y="40"/>
                        </a:lnTo>
                        <a:lnTo>
                          <a:pt x="47" y="36"/>
                        </a:lnTo>
                        <a:lnTo>
                          <a:pt x="51" y="32"/>
                        </a:lnTo>
                        <a:lnTo>
                          <a:pt x="59" y="32"/>
                        </a:lnTo>
                        <a:lnTo>
                          <a:pt x="63" y="28"/>
                        </a:lnTo>
                        <a:lnTo>
                          <a:pt x="67" y="24"/>
                        </a:lnTo>
                        <a:lnTo>
                          <a:pt x="67" y="20"/>
                        </a:lnTo>
                        <a:lnTo>
                          <a:pt x="71" y="20"/>
                        </a:lnTo>
                        <a:lnTo>
                          <a:pt x="71" y="16"/>
                        </a:lnTo>
                        <a:lnTo>
                          <a:pt x="67" y="12"/>
                        </a:lnTo>
                        <a:lnTo>
                          <a:pt x="67" y="8"/>
                        </a:lnTo>
                        <a:lnTo>
                          <a:pt x="67" y="4"/>
                        </a:lnTo>
                        <a:lnTo>
                          <a:pt x="63" y="0"/>
                        </a:lnTo>
                        <a:lnTo>
                          <a:pt x="59" y="0"/>
                        </a:lnTo>
                        <a:lnTo>
                          <a:pt x="51" y="4"/>
                        </a:lnTo>
                        <a:lnTo>
                          <a:pt x="39" y="8"/>
                        </a:lnTo>
                        <a:lnTo>
                          <a:pt x="32" y="12"/>
                        </a:lnTo>
                        <a:lnTo>
                          <a:pt x="24" y="16"/>
                        </a:lnTo>
                        <a:lnTo>
                          <a:pt x="16" y="24"/>
                        </a:lnTo>
                        <a:lnTo>
                          <a:pt x="8" y="28"/>
                        </a:lnTo>
                        <a:lnTo>
                          <a:pt x="4" y="40"/>
                        </a:lnTo>
                        <a:lnTo>
                          <a:pt x="0" y="48"/>
                        </a:lnTo>
                        <a:lnTo>
                          <a:pt x="24" y="68"/>
                        </a:lnTo>
                        <a:lnTo>
                          <a:pt x="51" y="79"/>
                        </a:lnTo>
                        <a:lnTo>
                          <a:pt x="79" y="87"/>
                        </a:lnTo>
                        <a:lnTo>
                          <a:pt x="110" y="87"/>
                        </a:lnTo>
                        <a:lnTo>
                          <a:pt x="146" y="91"/>
                        </a:lnTo>
                        <a:lnTo>
                          <a:pt x="177" y="91"/>
                        </a:lnTo>
                        <a:lnTo>
                          <a:pt x="209" y="95"/>
                        </a:lnTo>
                        <a:lnTo>
                          <a:pt x="241"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36240" y="2975400"/>
                    <a:ext cx="120960" cy="61560"/>
                  </a:xfrm>
                  <a:custGeom>
                    <a:avLst/>
                    <a:gdLst/>
                    <a:ahLst/>
                    <a:rect l="l" t="t" r="r" b="b"/>
                    <a:pathLst>
                      <a:path w="48" h="39">
                        <a:moveTo>
                          <a:pt x="12" y="39"/>
                        </a:moveTo>
                        <a:lnTo>
                          <a:pt x="20" y="39"/>
                        </a:lnTo>
                        <a:lnTo>
                          <a:pt x="28" y="35"/>
                        </a:lnTo>
                        <a:lnTo>
                          <a:pt x="36" y="31"/>
                        </a:lnTo>
                        <a:lnTo>
                          <a:pt x="40" y="27"/>
                        </a:lnTo>
                        <a:lnTo>
                          <a:pt x="44" y="23"/>
                        </a:lnTo>
                        <a:lnTo>
                          <a:pt x="48" y="15"/>
                        </a:lnTo>
                        <a:lnTo>
                          <a:pt x="48" y="7"/>
                        </a:lnTo>
                        <a:lnTo>
                          <a:pt x="44" y="0"/>
                        </a:lnTo>
                        <a:lnTo>
                          <a:pt x="40" y="4"/>
                        </a:lnTo>
                        <a:lnTo>
                          <a:pt x="36" y="7"/>
                        </a:lnTo>
                        <a:lnTo>
                          <a:pt x="32" y="11"/>
                        </a:lnTo>
                        <a:lnTo>
                          <a:pt x="24" y="15"/>
                        </a:lnTo>
                        <a:lnTo>
                          <a:pt x="20" y="15"/>
                        </a:lnTo>
                        <a:lnTo>
                          <a:pt x="16" y="19"/>
                        </a:lnTo>
                        <a:lnTo>
                          <a:pt x="8" y="23"/>
                        </a:lnTo>
                        <a:lnTo>
                          <a:pt x="4" y="19"/>
                        </a:lnTo>
                        <a:lnTo>
                          <a:pt x="0" y="23"/>
                        </a:lnTo>
                        <a:lnTo>
                          <a:pt x="0" y="27"/>
                        </a:lnTo>
                        <a:lnTo>
                          <a:pt x="0" y="31"/>
                        </a:lnTo>
                        <a:lnTo>
                          <a:pt x="0" y="31"/>
                        </a:lnTo>
                        <a:lnTo>
                          <a:pt x="4" y="31"/>
                        </a:lnTo>
                        <a:lnTo>
                          <a:pt x="8" y="35"/>
                        </a:lnTo>
                        <a:lnTo>
                          <a:pt x="12" y="39"/>
                        </a:lnTo>
                        <a:lnTo>
                          <a:pt x="12" y="39"/>
                        </a:lnTo>
                        <a:close/>
                      </a:path>
                    </a:pathLst>
                  </a:custGeom>
                  <a:solidFill>
                    <a:srgbClr val="b075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6" name=""/>
                  <p:cNvSpPr/>
                  <p:nvPr/>
                </p:nvSpPr>
                <p:spPr>
                  <a:xfrm>
                    <a:off x="7516440" y="2886840"/>
                    <a:ext cx="130680" cy="94680"/>
                  </a:xfrm>
                  <a:custGeom>
                    <a:avLst/>
                    <a:gdLst/>
                    <a:ahLst/>
                    <a:rect l="l" t="t" r="r" b="b"/>
                    <a:pathLst>
                      <a:path w="52" h="60">
                        <a:moveTo>
                          <a:pt x="0" y="60"/>
                        </a:moveTo>
                        <a:lnTo>
                          <a:pt x="8" y="56"/>
                        </a:lnTo>
                        <a:lnTo>
                          <a:pt x="20" y="48"/>
                        </a:lnTo>
                        <a:lnTo>
                          <a:pt x="28" y="44"/>
                        </a:lnTo>
                        <a:lnTo>
                          <a:pt x="40" y="40"/>
                        </a:lnTo>
                        <a:lnTo>
                          <a:pt x="48" y="32"/>
                        </a:lnTo>
                        <a:lnTo>
                          <a:pt x="52" y="24"/>
                        </a:lnTo>
                        <a:lnTo>
                          <a:pt x="52" y="12"/>
                        </a:lnTo>
                        <a:lnTo>
                          <a:pt x="48" y="0"/>
                        </a:lnTo>
                        <a:lnTo>
                          <a:pt x="44" y="4"/>
                        </a:lnTo>
                        <a:lnTo>
                          <a:pt x="32" y="8"/>
                        </a:lnTo>
                        <a:lnTo>
                          <a:pt x="24" y="12"/>
                        </a:lnTo>
                        <a:lnTo>
                          <a:pt x="16" y="20"/>
                        </a:lnTo>
                        <a:lnTo>
                          <a:pt x="8" y="28"/>
                        </a:lnTo>
                        <a:lnTo>
                          <a:pt x="4" y="40"/>
                        </a:lnTo>
                        <a:lnTo>
                          <a:pt x="0" y="48"/>
                        </a:lnTo>
                        <a:lnTo>
                          <a:pt x="0" y="60"/>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478640" y="2812680"/>
                    <a:ext cx="108360" cy="86760"/>
                  </a:xfrm>
                  <a:custGeom>
                    <a:avLst/>
                    <a:gdLst/>
                    <a:ahLst/>
                    <a:rect l="l" t="t" r="r" b="b"/>
                    <a:pathLst>
                      <a:path w="43" h="55">
                        <a:moveTo>
                          <a:pt x="8" y="55"/>
                        </a:moveTo>
                        <a:lnTo>
                          <a:pt x="12" y="47"/>
                        </a:lnTo>
                        <a:lnTo>
                          <a:pt x="15" y="43"/>
                        </a:lnTo>
                        <a:lnTo>
                          <a:pt x="23" y="36"/>
                        </a:lnTo>
                        <a:lnTo>
                          <a:pt x="31" y="32"/>
                        </a:lnTo>
                        <a:lnTo>
                          <a:pt x="39" y="24"/>
                        </a:lnTo>
                        <a:lnTo>
                          <a:pt x="43" y="20"/>
                        </a:lnTo>
                        <a:lnTo>
                          <a:pt x="43" y="12"/>
                        </a:lnTo>
                        <a:lnTo>
                          <a:pt x="35" y="0"/>
                        </a:lnTo>
                        <a:lnTo>
                          <a:pt x="31" y="4"/>
                        </a:lnTo>
                        <a:lnTo>
                          <a:pt x="23" y="4"/>
                        </a:lnTo>
                        <a:lnTo>
                          <a:pt x="15" y="8"/>
                        </a:lnTo>
                        <a:lnTo>
                          <a:pt x="12" y="16"/>
                        </a:lnTo>
                        <a:lnTo>
                          <a:pt x="8" y="20"/>
                        </a:lnTo>
                        <a:lnTo>
                          <a:pt x="4" y="28"/>
                        </a:lnTo>
                        <a:lnTo>
                          <a:pt x="0" y="36"/>
                        </a:lnTo>
                        <a:lnTo>
                          <a:pt x="0" y="43"/>
                        </a:lnTo>
                        <a:lnTo>
                          <a:pt x="0" y="47"/>
                        </a:lnTo>
                        <a:lnTo>
                          <a:pt x="0" y="47"/>
                        </a:lnTo>
                        <a:lnTo>
                          <a:pt x="4" y="51"/>
                        </a:lnTo>
                        <a:lnTo>
                          <a:pt x="4" y="51"/>
                        </a:lnTo>
                        <a:lnTo>
                          <a:pt x="4" y="55"/>
                        </a:lnTo>
                        <a:lnTo>
                          <a:pt x="4" y="55"/>
                        </a:lnTo>
                        <a:lnTo>
                          <a:pt x="4" y="55"/>
                        </a:lnTo>
                        <a:lnTo>
                          <a:pt x="8" y="55"/>
                        </a:lnTo>
                        <a:close/>
                      </a:path>
                    </a:pathLst>
                  </a:custGeom>
                  <a:solidFill>
                    <a:srgbClr val="b075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8" name=""/>
                  <p:cNvSpPr/>
                  <p:nvPr/>
                </p:nvSpPr>
                <p:spPr>
                  <a:xfrm>
                    <a:off x="7417800" y="2713320"/>
                    <a:ext cx="98280" cy="99360"/>
                  </a:xfrm>
                  <a:custGeom>
                    <a:avLst/>
                    <a:gdLst/>
                    <a:ahLst/>
                    <a:rect l="l" t="t" r="r" b="b"/>
                    <a:pathLst>
                      <a:path w="39" h="63">
                        <a:moveTo>
                          <a:pt x="12" y="63"/>
                        </a:moveTo>
                        <a:lnTo>
                          <a:pt x="12" y="59"/>
                        </a:lnTo>
                        <a:lnTo>
                          <a:pt x="20" y="59"/>
                        </a:lnTo>
                        <a:lnTo>
                          <a:pt x="24" y="55"/>
                        </a:lnTo>
                        <a:lnTo>
                          <a:pt x="28" y="51"/>
                        </a:lnTo>
                        <a:lnTo>
                          <a:pt x="36" y="47"/>
                        </a:lnTo>
                        <a:lnTo>
                          <a:pt x="36" y="39"/>
                        </a:lnTo>
                        <a:lnTo>
                          <a:pt x="39" y="35"/>
                        </a:lnTo>
                        <a:lnTo>
                          <a:pt x="39" y="27"/>
                        </a:lnTo>
                        <a:lnTo>
                          <a:pt x="36" y="24"/>
                        </a:lnTo>
                        <a:lnTo>
                          <a:pt x="36" y="20"/>
                        </a:lnTo>
                        <a:lnTo>
                          <a:pt x="36" y="16"/>
                        </a:lnTo>
                        <a:lnTo>
                          <a:pt x="32" y="12"/>
                        </a:lnTo>
                        <a:lnTo>
                          <a:pt x="32" y="8"/>
                        </a:lnTo>
                        <a:lnTo>
                          <a:pt x="32" y="8"/>
                        </a:lnTo>
                        <a:lnTo>
                          <a:pt x="28" y="4"/>
                        </a:lnTo>
                        <a:lnTo>
                          <a:pt x="24" y="0"/>
                        </a:lnTo>
                        <a:lnTo>
                          <a:pt x="20" y="4"/>
                        </a:lnTo>
                        <a:lnTo>
                          <a:pt x="16" y="4"/>
                        </a:lnTo>
                        <a:lnTo>
                          <a:pt x="8" y="12"/>
                        </a:lnTo>
                        <a:lnTo>
                          <a:pt x="8" y="16"/>
                        </a:lnTo>
                        <a:lnTo>
                          <a:pt x="4" y="24"/>
                        </a:lnTo>
                        <a:lnTo>
                          <a:pt x="0" y="31"/>
                        </a:lnTo>
                        <a:lnTo>
                          <a:pt x="0" y="39"/>
                        </a:lnTo>
                        <a:lnTo>
                          <a:pt x="0" y="43"/>
                        </a:lnTo>
                        <a:lnTo>
                          <a:pt x="4" y="47"/>
                        </a:lnTo>
                        <a:lnTo>
                          <a:pt x="8" y="51"/>
                        </a:lnTo>
                        <a:lnTo>
                          <a:pt x="8" y="55"/>
                        </a:lnTo>
                        <a:lnTo>
                          <a:pt x="8" y="55"/>
                        </a:lnTo>
                        <a:lnTo>
                          <a:pt x="8" y="55"/>
                        </a:lnTo>
                        <a:lnTo>
                          <a:pt x="8" y="59"/>
                        </a:lnTo>
                        <a:lnTo>
                          <a:pt x="8" y="63"/>
                        </a:lnTo>
                        <a:lnTo>
                          <a:pt x="12" y="63"/>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329960" y="2601000"/>
                    <a:ext cx="108000" cy="124920"/>
                  </a:xfrm>
                  <a:custGeom>
                    <a:avLst/>
                    <a:gdLst/>
                    <a:ahLst/>
                    <a:rect l="l" t="t" r="r" b="b"/>
                    <a:pathLst>
                      <a:path w="43" h="79">
                        <a:moveTo>
                          <a:pt x="19" y="79"/>
                        </a:moveTo>
                        <a:lnTo>
                          <a:pt x="19" y="71"/>
                        </a:lnTo>
                        <a:lnTo>
                          <a:pt x="23" y="63"/>
                        </a:lnTo>
                        <a:lnTo>
                          <a:pt x="31" y="55"/>
                        </a:lnTo>
                        <a:lnTo>
                          <a:pt x="35" y="47"/>
                        </a:lnTo>
                        <a:lnTo>
                          <a:pt x="39" y="43"/>
                        </a:lnTo>
                        <a:lnTo>
                          <a:pt x="43" y="35"/>
                        </a:lnTo>
                        <a:lnTo>
                          <a:pt x="43" y="27"/>
                        </a:lnTo>
                        <a:lnTo>
                          <a:pt x="35" y="20"/>
                        </a:lnTo>
                        <a:lnTo>
                          <a:pt x="35" y="16"/>
                        </a:lnTo>
                        <a:lnTo>
                          <a:pt x="35" y="12"/>
                        </a:lnTo>
                        <a:lnTo>
                          <a:pt x="31" y="8"/>
                        </a:lnTo>
                        <a:lnTo>
                          <a:pt x="31" y="4"/>
                        </a:lnTo>
                        <a:lnTo>
                          <a:pt x="31" y="0"/>
                        </a:lnTo>
                        <a:lnTo>
                          <a:pt x="31" y="0"/>
                        </a:lnTo>
                        <a:lnTo>
                          <a:pt x="27" y="0"/>
                        </a:lnTo>
                        <a:lnTo>
                          <a:pt x="27" y="0"/>
                        </a:lnTo>
                        <a:lnTo>
                          <a:pt x="23" y="4"/>
                        </a:lnTo>
                        <a:lnTo>
                          <a:pt x="15" y="8"/>
                        </a:lnTo>
                        <a:lnTo>
                          <a:pt x="7" y="12"/>
                        </a:lnTo>
                        <a:lnTo>
                          <a:pt x="3" y="20"/>
                        </a:lnTo>
                        <a:lnTo>
                          <a:pt x="3" y="27"/>
                        </a:lnTo>
                        <a:lnTo>
                          <a:pt x="0" y="35"/>
                        </a:lnTo>
                        <a:lnTo>
                          <a:pt x="0" y="47"/>
                        </a:lnTo>
                        <a:lnTo>
                          <a:pt x="3" y="55"/>
                        </a:lnTo>
                        <a:lnTo>
                          <a:pt x="7" y="59"/>
                        </a:lnTo>
                        <a:lnTo>
                          <a:pt x="7" y="59"/>
                        </a:lnTo>
                        <a:lnTo>
                          <a:pt x="11" y="63"/>
                        </a:lnTo>
                        <a:lnTo>
                          <a:pt x="11" y="63"/>
                        </a:lnTo>
                        <a:lnTo>
                          <a:pt x="15" y="67"/>
                        </a:lnTo>
                        <a:lnTo>
                          <a:pt x="15" y="71"/>
                        </a:lnTo>
                        <a:lnTo>
                          <a:pt x="15" y="75"/>
                        </a:lnTo>
                        <a:lnTo>
                          <a:pt x="19"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18720" y="2489040"/>
                    <a:ext cx="138240" cy="137520"/>
                  </a:xfrm>
                  <a:custGeom>
                    <a:avLst/>
                    <a:gdLst/>
                    <a:ahLst/>
                    <a:rect l="l" t="t" r="r" b="b"/>
                    <a:pathLst>
                      <a:path w="55" h="87">
                        <a:moveTo>
                          <a:pt x="24" y="87"/>
                        </a:moveTo>
                        <a:lnTo>
                          <a:pt x="28" y="79"/>
                        </a:lnTo>
                        <a:lnTo>
                          <a:pt x="32" y="75"/>
                        </a:lnTo>
                        <a:lnTo>
                          <a:pt x="32" y="67"/>
                        </a:lnTo>
                        <a:lnTo>
                          <a:pt x="36" y="59"/>
                        </a:lnTo>
                        <a:lnTo>
                          <a:pt x="40" y="55"/>
                        </a:lnTo>
                        <a:lnTo>
                          <a:pt x="44" y="51"/>
                        </a:lnTo>
                        <a:lnTo>
                          <a:pt x="51" y="43"/>
                        </a:lnTo>
                        <a:lnTo>
                          <a:pt x="55" y="43"/>
                        </a:lnTo>
                        <a:lnTo>
                          <a:pt x="55" y="35"/>
                        </a:lnTo>
                        <a:lnTo>
                          <a:pt x="51" y="31"/>
                        </a:lnTo>
                        <a:lnTo>
                          <a:pt x="51" y="27"/>
                        </a:lnTo>
                        <a:lnTo>
                          <a:pt x="47" y="20"/>
                        </a:lnTo>
                        <a:lnTo>
                          <a:pt x="44" y="16"/>
                        </a:lnTo>
                        <a:lnTo>
                          <a:pt x="40" y="12"/>
                        </a:lnTo>
                        <a:lnTo>
                          <a:pt x="40" y="4"/>
                        </a:lnTo>
                        <a:lnTo>
                          <a:pt x="36" y="0"/>
                        </a:lnTo>
                        <a:lnTo>
                          <a:pt x="32" y="4"/>
                        </a:lnTo>
                        <a:lnTo>
                          <a:pt x="24" y="8"/>
                        </a:lnTo>
                        <a:lnTo>
                          <a:pt x="20" y="12"/>
                        </a:lnTo>
                        <a:lnTo>
                          <a:pt x="12" y="20"/>
                        </a:lnTo>
                        <a:lnTo>
                          <a:pt x="8" y="27"/>
                        </a:lnTo>
                        <a:lnTo>
                          <a:pt x="4" y="35"/>
                        </a:lnTo>
                        <a:lnTo>
                          <a:pt x="4" y="43"/>
                        </a:lnTo>
                        <a:lnTo>
                          <a:pt x="0" y="51"/>
                        </a:lnTo>
                        <a:lnTo>
                          <a:pt x="4" y="55"/>
                        </a:lnTo>
                        <a:lnTo>
                          <a:pt x="8" y="59"/>
                        </a:lnTo>
                        <a:lnTo>
                          <a:pt x="12" y="63"/>
                        </a:lnTo>
                        <a:lnTo>
                          <a:pt x="12" y="67"/>
                        </a:lnTo>
                        <a:lnTo>
                          <a:pt x="16" y="71"/>
                        </a:lnTo>
                        <a:lnTo>
                          <a:pt x="16" y="75"/>
                        </a:lnTo>
                        <a:lnTo>
                          <a:pt x="20" y="79"/>
                        </a:lnTo>
                        <a:lnTo>
                          <a:pt x="24"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40600" y="2413080"/>
                    <a:ext cx="128520" cy="124920"/>
                  </a:xfrm>
                  <a:custGeom>
                    <a:avLst/>
                    <a:gdLst/>
                    <a:ahLst/>
                    <a:rect l="l" t="t" r="r" b="b"/>
                    <a:pathLst>
                      <a:path w="51" h="79">
                        <a:moveTo>
                          <a:pt x="11" y="79"/>
                        </a:moveTo>
                        <a:lnTo>
                          <a:pt x="11" y="71"/>
                        </a:lnTo>
                        <a:lnTo>
                          <a:pt x="19" y="60"/>
                        </a:lnTo>
                        <a:lnTo>
                          <a:pt x="23" y="52"/>
                        </a:lnTo>
                        <a:lnTo>
                          <a:pt x="31" y="40"/>
                        </a:lnTo>
                        <a:lnTo>
                          <a:pt x="39" y="32"/>
                        </a:lnTo>
                        <a:lnTo>
                          <a:pt x="47" y="24"/>
                        </a:lnTo>
                        <a:lnTo>
                          <a:pt x="51" y="12"/>
                        </a:lnTo>
                        <a:lnTo>
                          <a:pt x="51" y="0"/>
                        </a:lnTo>
                        <a:lnTo>
                          <a:pt x="43" y="4"/>
                        </a:lnTo>
                        <a:lnTo>
                          <a:pt x="31" y="8"/>
                        </a:lnTo>
                        <a:lnTo>
                          <a:pt x="23" y="16"/>
                        </a:lnTo>
                        <a:lnTo>
                          <a:pt x="15" y="24"/>
                        </a:lnTo>
                        <a:lnTo>
                          <a:pt x="11" y="32"/>
                        </a:lnTo>
                        <a:lnTo>
                          <a:pt x="7" y="40"/>
                        </a:lnTo>
                        <a:lnTo>
                          <a:pt x="4" y="48"/>
                        </a:lnTo>
                        <a:lnTo>
                          <a:pt x="0" y="60"/>
                        </a:lnTo>
                        <a:lnTo>
                          <a:pt x="4" y="64"/>
                        </a:lnTo>
                        <a:lnTo>
                          <a:pt x="4" y="68"/>
                        </a:lnTo>
                        <a:lnTo>
                          <a:pt x="4" y="71"/>
                        </a:lnTo>
                        <a:lnTo>
                          <a:pt x="4" y="71"/>
                        </a:lnTo>
                        <a:lnTo>
                          <a:pt x="7" y="71"/>
                        </a:lnTo>
                        <a:lnTo>
                          <a:pt x="7" y="75"/>
                        </a:lnTo>
                        <a:lnTo>
                          <a:pt x="7" y="75"/>
                        </a:lnTo>
                        <a:lnTo>
                          <a:pt x="11"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070040" y="2307240"/>
                    <a:ext cx="178920" cy="143640"/>
                  </a:xfrm>
                  <a:custGeom>
                    <a:avLst/>
                    <a:gdLst/>
                    <a:ahLst/>
                    <a:rect l="l" t="t" r="r" b="b"/>
                    <a:pathLst>
                      <a:path w="71" h="91">
                        <a:moveTo>
                          <a:pt x="8" y="91"/>
                        </a:moveTo>
                        <a:lnTo>
                          <a:pt x="16" y="87"/>
                        </a:lnTo>
                        <a:lnTo>
                          <a:pt x="20" y="79"/>
                        </a:lnTo>
                        <a:lnTo>
                          <a:pt x="28" y="71"/>
                        </a:lnTo>
                        <a:lnTo>
                          <a:pt x="35" y="64"/>
                        </a:lnTo>
                        <a:lnTo>
                          <a:pt x="43" y="56"/>
                        </a:lnTo>
                        <a:lnTo>
                          <a:pt x="51" y="48"/>
                        </a:lnTo>
                        <a:lnTo>
                          <a:pt x="59" y="44"/>
                        </a:lnTo>
                        <a:lnTo>
                          <a:pt x="71" y="40"/>
                        </a:lnTo>
                        <a:lnTo>
                          <a:pt x="71" y="32"/>
                        </a:lnTo>
                        <a:lnTo>
                          <a:pt x="71" y="28"/>
                        </a:lnTo>
                        <a:lnTo>
                          <a:pt x="71" y="24"/>
                        </a:lnTo>
                        <a:lnTo>
                          <a:pt x="71" y="20"/>
                        </a:lnTo>
                        <a:lnTo>
                          <a:pt x="71" y="16"/>
                        </a:lnTo>
                        <a:lnTo>
                          <a:pt x="71" y="12"/>
                        </a:lnTo>
                        <a:lnTo>
                          <a:pt x="71" y="8"/>
                        </a:lnTo>
                        <a:lnTo>
                          <a:pt x="71" y="0"/>
                        </a:lnTo>
                        <a:lnTo>
                          <a:pt x="59" y="8"/>
                        </a:lnTo>
                        <a:lnTo>
                          <a:pt x="47" y="12"/>
                        </a:lnTo>
                        <a:lnTo>
                          <a:pt x="35" y="24"/>
                        </a:lnTo>
                        <a:lnTo>
                          <a:pt x="28" y="32"/>
                        </a:lnTo>
                        <a:lnTo>
                          <a:pt x="16" y="44"/>
                        </a:lnTo>
                        <a:lnTo>
                          <a:pt x="8" y="52"/>
                        </a:lnTo>
                        <a:lnTo>
                          <a:pt x="4" y="64"/>
                        </a:lnTo>
                        <a:lnTo>
                          <a:pt x="0" y="79"/>
                        </a:lnTo>
                        <a:lnTo>
                          <a:pt x="4" y="83"/>
                        </a:lnTo>
                        <a:lnTo>
                          <a:pt x="4" y="83"/>
                        </a:lnTo>
                        <a:lnTo>
                          <a:pt x="4" y="87"/>
                        </a:lnTo>
                        <a:lnTo>
                          <a:pt x="8" y="91"/>
                        </a:lnTo>
                        <a:lnTo>
                          <a:pt x="8" y="91"/>
                        </a:lnTo>
                        <a:lnTo>
                          <a:pt x="8" y="91"/>
                        </a:lnTo>
                        <a:lnTo>
                          <a:pt x="8" y="91"/>
                        </a:lnTo>
                        <a:lnTo>
                          <a:pt x="8" y="91"/>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88680" y="2239200"/>
                    <a:ext cx="249840" cy="137520"/>
                  </a:xfrm>
                  <a:custGeom>
                    <a:avLst/>
                    <a:gdLst/>
                    <a:ahLst/>
                    <a:rect l="l" t="t" r="r" b="b"/>
                    <a:pathLst>
                      <a:path w="99" h="87">
                        <a:moveTo>
                          <a:pt x="12" y="87"/>
                        </a:moveTo>
                        <a:lnTo>
                          <a:pt x="20" y="79"/>
                        </a:lnTo>
                        <a:lnTo>
                          <a:pt x="32" y="67"/>
                        </a:lnTo>
                        <a:lnTo>
                          <a:pt x="40" y="55"/>
                        </a:lnTo>
                        <a:lnTo>
                          <a:pt x="48" y="43"/>
                        </a:lnTo>
                        <a:lnTo>
                          <a:pt x="60" y="35"/>
                        </a:lnTo>
                        <a:lnTo>
                          <a:pt x="71" y="24"/>
                        </a:lnTo>
                        <a:lnTo>
                          <a:pt x="83" y="16"/>
                        </a:lnTo>
                        <a:lnTo>
                          <a:pt x="99" y="12"/>
                        </a:lnTo>
                        <a:lnTo>
                          <a:pt x="99" y="12"/>
                        </a:lnTo>
                        <a:lnTo>
                          <a:pt x="99" y="8"/>
                        </a:lnTo>
                        <a:lnTo>
                          <a:pt x="99" y="8"/>
                        </a:lnTo>
                        <a:lnTo>
                          <a:pt x="99" y="8"/>
                        </a:lnTo>
                        <a:lnTo>
                          <a:pt x="99" y="4"/>
                        </a:lnTo>
                        <a:lnTo>
                          <a:pt x="99" y="4"/>
                        </a:lnTo>
                        <a:lnTo>
                          <a:pt x="99" y="0"/>
                        </a:lnTo>
                        <a:lnTo>
                          <a:pt x="99" y="0"/>
                        </a:lnTo>
                        <a:lnTo>
                          <a:pt x="83" y="4"/>
                        </a:lnTo>
                        <a:lnTo>
                          <a:pt x="71" y="4"/>
                        </a:lnTo>
                        <a:lnTo>
                          <a:pt x="56" y="8"/>
                        </a:lnTo>
                        <a:lnTo>
                          <a:pt x="40" y="16"/>
                        </a:lnTo>
                        <a:lnTo>
                          <a:pt x="28" y="20"/>
                        </a:lnTo>
                        <a:lnTo>
                          <a:pt x="16" y="28"/>
                        </a:lnTo>
                        <a:lnTo>
                          <a:pt x="8" y="35"/>
                        </a:lnTo>
                        <a:lnTo>
                          <a:pt x="0" y="43"/>
                        </a:lnTo>
                        <a:lnTo>
                          <a:pt x="0" y="51"/>
                        </a:lnTo>
                        <a:lnTo>
                          <a:pt x="0" y="55"/>
                        </a:lnTo>
                        <a:lnTo>
                          <a:pt x="4" y="59"/>
                        </a:lnTo>
                        <a:lnTo>
                          <a:pt x="4" y="67"/>
                        </a:lnTo>
                        <a:lnTo>
                          <a:pt x="4" y="71"/>
                        </a:lnTo>
                        <a:lnTo>
                          <a:pt x="4" y="75"/>
                        </a:lnTo>
                        <a:lnTo>
                          <a:pt x="8" y="83"/>
                        </a:lnTo>
                        <a:lnTo>
                          <a:pt x="12"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78960" y="2182680"/>
                    <a:ext cx="239400" cy="69480"/>
                  </a:xfrm>
                  <a:custGeom>
                    <a:avLst/>
                    <a:gdLst/>
                    <a:ahLst/>
                    <a:rect l="l" t="t" r="r" b="b"/>
                    <a:pathLst>
                      <a:path w="95" h="44">
                        <a:moveTo>
                          <a:pt x="0" y="44"/>
                        </a:moveTo>
                        <a:lnTo>
                          <a:pt x="95" y="0"/>
                        </a:lnTo>
                        <a:lnTo>
                          <a:pt x="83" y="0"/>
                        </a:lnTo>
                        <a:lnTo>
                          <a:pt x="75" y="0"/>
                        </a:lnTo>
                        <a:lnTo>
                          <a:pt x="64" y="0"/>
                        </a:lnTo>
                        <a:lnTo>
                          <a:pt x="52" y="0"/>
                        </a:lnTo>
                        <a:lnTo>
                          <a:pt x="40" y="4"/>
                        </a:lnTo>
                        <a:lnTo>
                          <a:pt x="28" y="8"/>
                        </a:lnTo>
                        <a:lnTo>
                          <a:pt x="16" y="12"/>
                        </a:lnTo>
                        <a:lnTo>
                          <a:pt x="8" y="20"/>
                        </a:lnTo>
                        <a:lnTo>
                          <a:pt x="8" y="24"/>
                        </a:lnTo>
                        <a:lnTo>
                          <a:pt x="4" y="28"/>
                        </a:lnTo>
                        <a:lnTo>
                          <a:pt x="4" y="32"/>
                        </a:lnTo>
                        <a:lnTo>
                          <a:pt x="4" y="36"/>
                        </a:lnTo>
                        <a:lnTo>
                          <a:pt x="4" y="36"/>
                        </a:lnTo>
                        <a:lnTo>
                          <a:pt x="4" y="40"/>
                        </a:lnTo>
                        <a:lnTo>
                          <a:pt x="0" y="44"/>
                        </a:lnTo>
                        <a:lnTo>
                          <a:pt x="0" y="44"/>
                        </a:lnTo>
                        <a:close/>
                      </a:path>
                    </a:pathLst>
                  </a:custGeom>
                  <a:solidFill>
                    <a:srgbClr val="b075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5" name=""/>
              <p:cNvSpPr/>
              <p:nvPr/>
            </p:nvSpPr>
            <p:spPr>
              <a:xfrm>
                <a:off x="6781680" y="5168880"/>
                <a:ext cx="167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aettenschweiler"/>
                  </a:rPr>
                  <a:t>SMALLPOX</a:t>
                </a:r>
                <a:endParaRPr b="0" lang="en-US" sz="2800" spc="-1" strike="noStrike">
                  <a:solidFill>
                    <a:srgbClr val="000000"/>
                  </a:solidFill>
                  <a:latin typeface="Arial"/>
                </a:endParaRPr>
              </a:p>
            </p:txBody>
          </p:sp>
          <p:sp>
            <p:nvSpPr>
              <p:cNvPr id="126" name=""/>
              <p:cNvSpPr/>
              <p:nvPr/>
            </p:nvSpPr>
            <p:spPr>
              <a:xfrm>
                <a:off x="7010280" y="35686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7696080" y="3492720"/>
                <a:ext cx="380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6705720" y="1981080"/>
              <a:ext cx="761760" cy="457200"/>
            </a:xfrm>
            <a:prstGeom prst="irregularSeal2">
              <a:avLst/>
            </a:prstGeom>
            <a:solidFill>
              <a:srgbClr val="ff0000"/>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2093760" y="5754600"/>
            <a:ext cx="495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think of ways that smallpox could be used for bioterrorism?</a:t>
            </a:r>
            <a:endParaRPr b="0" lang="en-US" sz="2400" spc="-1" strike="noStrike">
              <a:solidFill>
                <a:srgbClr val="000000"/>
              </a:solidFill>
              <a:latin typeface="Arial"/>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pox Has Been Used As a Weapon Before</a:t>
            </a:r>
            <a:br>
              <a:rPr sz="4400"/>
            </a:br>
            <a:r>
              <a:rPr b="0" lang="en-US" sz="4400" spc="-1" strike="noStrike">
                <a:solidFill>
                  <a:srgbClr val="000000"/>
                </a:solidFill>
                <a:latin typeface="Times New Roman"/>
              </a:rPr>
              <a:t>      </a:t>
            </a:r>
            <a:r>
              <a:rPr b="0" lang="en-US" sz="3200" spc="-1" strike="noStrike">
                <a:solidFill>
                  <a:srgbClr val="990000"/>
                </a:solidFill>
                <a:latin typeface="Times New Roman"/>
              </a:rPr>
              <a:t>Frontier Warfare</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57200" y="2190600"/>
            <a:ext cx="44956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60s, American colonists used smallpox as germ warfare.</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dly, blankets known to be contaminated were given to the Indians.</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the colonists be sure that they themselves would not catch the disease?</a:t>
            </a:r>
            <a:endParaRPr b="0" lang="en-US" sz="2800" spc="-1" strike="noStrike">
              <a:solidFill>
                <a:srgbClr val="000000"/>
              </a:solidFill>
              <a:latin typeface="Times New Roman"/>
            </a:endParaRPr>
          </a:p>
        </p:txBody>
      </p:sp>
      <p:pic>
        <p:nvPicPr>
          <p:cNvPr id="133" name="" descr=""/>
          <p:cNvPicPr/>
          <p:nvPr/>
        </p:nvPicPr>
        <p:blipFill>
          <a:blip r:embed="rId2"/>
          <a:stretch/>
        </p:blipFill>
        <p:spPr>
          <a:xfrm>
            <a:off x="5295960" y="2514600"/>
            <a:ext cx="3238560" cy="2590920"/>
          </a:xfrm>
          <a:prstGeom prst="rect">
            <a:avLst/>
          </a:prstGeom>
          <a:ln w="38160">
            <a:solidFill>
              <a:srgbClr val="000000"/>
            </a:solidFill>
            <a:miter/>
          </a:ln>
        </p:spPr>
      </p:pic>
      <p:sp>
        <p:nvSpPr>
          <p:cNvPr id="134" name=""/>
          <p:cNvSpPr/>
          <p:nvPr/>
        </p:nvSpPr>
        <p:spPr>
          <a:xfrm>
            <a:off x="5410080" y="521172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doiu.nbc.gov</a:t>
            </a:r>
            <a:endParaRPr b="0" lang="en-US" sz="12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80880" y="1909800"/>
            <a:ext cx="1371600" cy="1371600"/>
          </a:xfrm>
          <a:prstGeom prst="rect">
            <a:avLst/>
          </a:prstGeom>
          <a:ln w="0">
            <a:noFill/>
          </a:ln>
        </p:spPr>
      </p:pic>
      <p:pic>
        <p:nvPicPr>
          <p:cNvPr id="137" name="" descr=""/>
          <p:cNvPicPr/>
          <p:nvPr/>
        </p:nvPicPr>
        <p:blipFill>
          <a:blip r:embed="rId3"/>
          <a:stretch/>
        </p:blipFill>
        <p:spPr>
          <a:xfrm>
            <a:off x="380880" y="3433680"/>
            <a:ext cx="1371600" cy="1382760"/>
          </a:xfrm>
          <a:prstGeom prst="rect">
            <a:avLst/>
          </a:prstGeom>
          <a:ln w="0">
            <a:noFill/>
          </a:ln>
        </p:spPr>
      </p:pic>
      <p:pic>
        <p:nvPicPr>
          <p:cNvPr id="138" name="" descr=""/>
          <p:cNvPicPr/>
          <p:nvPr/>
        </p:nvPicPr>
        <p:blipFill>
          <a:blip r:embed="rId4"/>
          <a:stretch/>
        </p:blipFill>
        <p:spPr>
          <a:xfrm>
            <a:off x="380880" y="4957920"/>
            <a:ext cx="1359000" cy="1371600"/>
          </a:xfrm>
          <a:prstGeom prst="rect">
            <a:avLst/>
          </a:prstGeom>
          <a:ln w="0">
            <a:noFill/>
          </a:ln>
        </p:spPr>
      </p:pic>
      <p:sp>
        <p:nvSpPr>
          <p:cNvPr id="13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4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41" name="" descr=""/>
          <p:cNvPicPr/>
          <p:nvPr/>
        </p:nvPicPr>
        <p:blipFill>
          <a:blip r:embed="rId5"/>
          <a:stretch/>
        </p:blipFill>
        <p:spPr>
          <a:xfrm>
            <a:off x="4724280" y="3451320"/>
            <a:ext cx="1371600" cy="1382760"/>
          </a:xfrm>
          <a:prstGeom prst="rect">
            <a:avLst/>
          </a:prstGeom>
          <a:ln w="0">
            <a:noFill/>
          </a:ln>
        </p:spPr>
      </p:pic>
      <p:pic>
        <p:nvPicPr>
          <p:cNvPr id="142" name="" descr=""/>
          <p:cNvPicPr/>
          <p:nvPr/>
        </p:nvPicPr>
        <p:blipFill>
          <a:blip r:embed="rId6"/>
          <a:stretch/>
        </p:blipFill>
        <p:spPr>
          <a:xfrm>
            <a:off x="4724280" y="4970520"/>
            <a:ext cx="1371600" cy="1371600"/>
          </a:xfrm>
          <a:prstGeom prst="rect">
            <a:avLst/>
          </a:prstGeom>
          <a:ln w="0">
            <a:noFill/>
          </a:ln>
        </p:spPr>
      </p:pic>
      <p:sp>
        <p:nvSpPr>
          <p:cNvPr id="14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
          <p:cNvGrpSpPr/>
          <p:nvPr/>
        </p:nvGrpSpPr>
        <p:grpSpPr>
          <a:xfrm>
            <a:off x="4643280" y="1928880"/>
            <a:ext cx="1546560" cy="1371600"/>
            <a:chOff x="4643280" y="1928880"/>
            <a:chExt cx="1546560" cy="1371600"/>
          </a:xfrm>
        </p:grpSpPr>
        <p:sp>
          <p:nvSpPr>
            <p:cNvPr id="14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6" name=""/>
            <p:cNvGraphicFramePr/>
            <p:nvPr/>
          </p:nvGraphicFramePr>
          <p:xfrm>
            <a:off x="4643280" y="2117880"/>
            <a:ext cx="1546560" cy="1012680"/>
          </p:xfrm>
          <a:graphic>
            <a:graphicData uri="http://schemas.openxmlformats.org/presentationml/2006/ole">
              <p:oleObj r:id="rId7" spid="">
                <p:embed/>
                <p:pic>
                  <p:nvPicPr>
                    <p:cNvPr id="14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4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4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treatment of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history behind the smallpox vaccin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 stance regarding a current scientific issu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vidence supporting a scientific arg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Smallpox</a:t>
            </a:r>
            <a:endParaRPr b="0" lang="en-US" sz="4400" spc="-1" strike="noStrike">
              <a:solidFill>
                <a:srgbClr val="000000"/>
              </a:solidFill>
              <a:latin typeface="Times New Roman"/>
            </a:endParaRPr>
          </a:p>
        </p:txBody>
      </p:sp>
      <p:sp>
        <p:nvSpPr>
          <p:cNvPr id="65" name="PlaceHolder 2"/>
          <p:cNvSpPr>
            <a:spLocks noGrp="1"/>
          </p:cNvSpPr>
          <p:nvPr>
            <p:ph/>
          </p:nvPr>
        </p:nvSpPr>
        <p:spPr>
          <a:xfrm>
            <a:off x="4800600" y="198108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pox vaccine can be given up to 4 days after exposure, before the rash appear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rug can cure smallpox, but drugs can be given to reduce fever and prevent bacterial infect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 descr=""/>
          <p:cNvPicPr/>
          <p:nvPr/>
        </p:nvPicPr>
        <p:blipFill>
          <a:blip r:embed="rId2"/>
          <a:stretch/>
        </p:blipFill>
        <p:spPr>
          <a:xfrm>
            <a:off x="380880" y="2057400"/>
            <a:ext cx="4191120" cy="2849400"/>
          </a:xfrm>
          <a:prstGeom prst="rect">
            <a:avLst/>
          </a:prstGeom>
          <a:ln w="57240">
            <a:solidFill>
              <a:srgbClr val="000000"/>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
        <p:nvSpPr>
          <p:cNvPr id="69" name="PlaceHolder 2"/>
          <p:cNvSpPr>
            <a:spLocks noGrp="1"/>
          </p:cNvSpPr>
          <p:nvPr>
            <p:ph/>
          </p:nvPr>
        </p:nvSpPr>
        <p:spPr>
          <a:xfrm>
            <a:off x="533520" y="1905120"/>
            <a:ext cx="8229600" cy="441936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e way to keep from getting smallpox has been around for hundreds of years – </a:t>
            </a:r>
            <a:r>
              <a:rPr b="1" lang="en-US" sz="3000" spc="-1" strike="noStrike">
                <a:solidFill>
                  <a:srgbClr val="000000"/>
                </a:solidFill>
                <a:latin typeface="Times New Roman"/>
              </a:rPr>
              <a:t>inoculation</a:t>
            </a:r>
            <a:r>
              <a:rPr b="0" i="1"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oculation</a:t>
            </a:r>
            <a:r>
              <a:rPr b="0" lang="en-US" sz="3000" spc="-1" strike="noStrike">
                <a:solidFill>
                  <a:srgbClr val="000000"/>
                </a:solidFill>
                <a:latin typeface="Times New Roman"/>
              </a:rPr>
              <a:t> worked this way: After a person started to recover, the pus or scabs from their sores was placed on another person’s arm, just under the skin.</a:t>
            </a:r>
            <a:endParaRPr b="0" lang="en-US" sz="3000" spc="-1" strike="noStrike">
              <a:solidFill>
                <a:srgbClr val="000000"/>
              </a:solidFill>
              <a:latin typeface="Times New Roman"/>
            </a:endParaRPr>
          </a:p>
          <a:p>
            <a:pPr marL="343080" indent="0">
              <a:lnSpc>
                <a:spcPct val="9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meone was inoculated they still became sick from smallpox, but the disease wasn’t as severe.  Very few people died from inoculation—only about 1 to 3%.</a:t>
            </a:r>
            <a:endParaRPr b="0" lang="en-US" sz="28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chicken pox, you can only get smallpox once.  People who were inoculated were immune to the disea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8.0</a:t>
            </a:r>
            <a:endParaRPr b="0" lang="en-US" sz="1000" spc="-1" strike="noStrike">
              <a:solidFill>
                <a:srgbClr val="000000"/>
              </a:solidFill>
              <a:latin typeface="Arial"/>
            </a:endParaRPr>
          </a:p>
        </p:txBody>
      </p:sp>
      <p:sp>
        <p:nvSpPr>
          <p:cNvPr id="73"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with the procedure was that people who had been inoculated were contagious and could spread smallpox to anyon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especially dangerous to individuals who had not been inoculated.</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9.0</a:t>
            </a:r>
            <a:endParaRPr b="0" lang="en-US" sz="1000" spc="-1" strike="noStrike">
              <a:solidFill>
                <a:srgbClr val="000000"/>
              </a:solidFill>
              <a:latin typeface="Arial"/>
            </a:endParaRPr>
          </a:p>
        </p:txBody>
      </p:sp>
      <p:sp>
        <p:nvSpPr>
          <p:cNvPr id="76"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419720" y="1599840"/>
            <a:ext cx="4495680" cy="42670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of history, variolation was the only vaccination metho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86, Edward Jenner found the vaccine to smallpox by using a similar virus, cowpox (found in cows).  This provided immunity without the risks of variolation.</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457200" y="2362320"/>
            <a:ext cx="3809880" cy="2819160"/>
          </a:xfrm>
          <a:prstGeom prst="rect">
            <a:avLst/>
          </a:prstGeom>
          <a:ln w="0">
            <a:noFill/>
          </a:ln>
        </p:spPr>
      </p:pic>
      <p:sp>
        <p:nvSpPr>
          <p:cNvPr id="79" name=""/>
          <p:cNvSpPr/>
          <p:nvPr/>
        </p:nvSpPr>
        <p:spPr>
          <a:xfrm>
            <a:off x="304920" y="52117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0</a:t>
            </a:r>
            <a:endParaRPr b="0" lang="en-US" sz="1000" spc="-1" strike="noStrike">
              <a:solidFill>
                <a:srgbClr val="000000"/>
              </a:solidFill>
              <a:latin typeface="Arial"/>
            </a:endParaRPr>
          </a:p>
        </p:txBody>
      </p:sp>
      <p:sp>
        <p:nvSpPr>
          <p:cNvPr id="81"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as the Vaccine Discovered?</a:t>
            </a:r>
            <a:endParaRPr b="0" lang="en-US" sz="4400" spc="-1" strike="noStrike">
              <a:solidFill>
                <a:srgbClr val="000000"/>
              </a:solidFill>
              <a:latin typeface="Times New Roman"/>
            </a:endParaRPr>
          </a:p>
        </p:txBody>
      </p:sp>
      <p:sp>
        <p:nvSpPr>
          <p:cNvPr id="83"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6, Edward Jenner discovered the process now known as </a:t>
            </a:r>
            <a:r>
              <a:rPr b="1" lang="en-US" sz="2800" spc="-1" strike="noStrike">
                <a:solidFill>
                  <a:srgbClr val="000000"/>
                </a:solidFill>
                <a:latin typeface="Times New Roman"/>
              </a:rPr>
              <a:t>vaccination</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noticed that people who got a disease called cowpox by milking infected cows became immune to smallpox.</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5556240" y="1752480"/>
            <a:ext cx="2949480" cy="3581640"/>
          </a:xfrm>
          <a:prstGeom prst="rect">
            <a:avLst/>
          </a:prstGeom>
          <a:ln w="57240">
            <a:solidFill>
              <a:srgbClr val="ffffff"/>
            </a:solidFill>
            <a:miter/>
          </a:ln>
        </p:spPr>
      </p:pic>
      <p:sp>
        <p:nvSpPr>
          <p:cNvPr id="85" name=""/>
          <p:cNvSpPr/>
          <p:nvPr/>
        </p:nvSpPr>
        <p:spPr>
          <a:xfrm>
            <a:off x="5571360" y="5394240"/>
            <a:ext cx="181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ww.reformation.org</a:t>
            </a:r>
            <a:endParaRPr b="0" lang="en-US" sz="10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
        <p:nvSpPr>
          <p:cNvPr id="88" name="PlaceHolder 2"/>
          <p:cNvSpPr>
            <a:spLocks noGrp="1"/>
          </p:cNvSpPr>
          <p:nvPr>
            <p:ph/>
          </p:nvPr>
        </p:nvSpPr>
        <p:spPr>
          <a:xfrm>
            <a:off x="457200" y="1599840"/>
            <a:ext cx="4038480" cy="42908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dward Jenner noticed that people who had already had cowpox were immune to smallpox, he started inoculating with cowpox and decided it was milder and safer than inoculating with regular smallpox virus.</a:t>
            </a:r>
            <a:endParaRPr b="0" lang="en-US" sz="2800" spc="-1" strike="noStrike">
              <a:solidFill>
                <a:srgbClr val="000000"/>
              </a:solidFill>
              <a:latin typeface="Times New Roman"/>
            </a:endParaRPr>
          </a:p>
        </p:txBody>
      </p:sp>
      <p:sp>
        <p:nvSpPr>
          <p:cNvPr id="89" name=""/>
          <p:cNvSpPr/>
          <p:nvPr/>
        </p:nvSpPr>
        <p:spPr>
          <a:xfrm>
            <a:off x="4800600" y="5791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nlm.nih.gov</a:t>
            </a:r>
            <a:endParaRPr b="0" lang="en-US" sz="1200" spc="-1" strike="noStrike">
              <a:solidFill>
                <a:srgbClr val="000000"/>
              </a:solidFill>
              <a:latin typeface="Arial"/>
            </a:endParaRPr>
          </a:p>
        </p:txBody>
      </p:sp>
      <p:pic>
        <p:nvPicPr>
          <p:cNvPr id="90" name="" descr=""/>
          <p:cNvPicPr/>
          <p:nvPr/>
        </p:nvPicPr>
        <p:blipFill>
          <a:blip r:embed="rId2"/>
          <a:stretch/>
        </p:blipFill>
        <p:spPr>
          <a:xfrm>
            <a:off x="4838760" y="1743120"/>
            <a:ext cx="3543120" cy="4048200"/>
          </a:xfrm>
          <a:prstGeom prst="rect">
            <a:avLst/>
          </a:prstGeom>
          <a:ln w="57240">
            <a:solidFill>
              <a:srgbClr val="ffffff"/>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1:01:00Z</dcterms:modified>
  <cp:revision>12</cp:revision>
  <dc:subject/>
  <dc:title>Slide 1</dc:title>
</cp:coreProperties>
</file>