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22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31.png" ContentType="image/png"/>
  <Override PartName="/ppt/media/image43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8CB-09CA-4678-92B5-42744AA63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20B-E6A1-471D-8912-48488686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3D0-E992-46DD-A4E8-18CDA85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29A-E170-4A41-BFA1-CEB40AC0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E69-8840-4BEA-BA3A-489DBD98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3AF-3403-4A2E-9EC7-0944301B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BCB-5A1B-4EA9-8A22-AE10C75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A87-F7AF-492E-8286-4F768DE6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42E-FF59-43E9-A5F0-6AD3ED08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AEE-0C5C-4B8A-8A95-83A05067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73F-CC20-4063-B528-7A8F993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CFA-7669-4B2C-A54F-ED8F0301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6C1-0EED-4FA8-9E6B-1138F55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84AE-640E-4096-B549-5F2B0B25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8:44Z</dcterms:modified>
  <cp:revision>68</cp:revision>
  <dc:subject/>
  <dc:title>Slide 1</dc:title>
</cp:coreProperties>
</file>