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66E8-678C-4AA1-907D-BF56659C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DFF-F152-4962-8CEB-CE176EEA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660-DC24-40A2-B472-BC3157FB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A1F-AB5D-46F8-83F8-39301730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EBA-A41A-42D7-AED2-36E1F886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AA2-B3AD-4B56-B8FF-93752CF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C34-AD18-4531-B196-F0B7AF3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8A7-51B2-4B5C-9A40-3C0537CF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46E-DB48-4E8D-9A62-EA55A9F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2DC-F83A-4299-A429-5D2515E5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979-49C2-44D0-B05B-5D732A3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8D2-3F81-46D2-A8B8-9D4E31C4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E72-4148-4E06-A24E-DDE3820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B53-C2E9-494E-B04C-9EBD50F5C0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cienc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a population becomes resistant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y Europeans and Native Americans responded differently to disease outbreaks in the New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4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Europeans had built up some resistance to these diseases over time, Native Americans had almost no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you think Europeans had built up resistance to these dis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anto Domingo, for example, the native population shrank from one million people to 500 people in less than 50 years because of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were Europ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s so dead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nat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67160" y="3471840"/>
            <a:ext cx="4532400" cy="2549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 and other diseases killed great numbers of Aztecs and Incas, which helped the Spanish Conquistadors win many battles agains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97960" y="157428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se epidemics, so 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ere sick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at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care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ther. 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m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urvived di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tarvation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on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 or care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10120" y="2284560"/>
            <a:ext cx="3571920" cy="2590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022360" y="49388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1889280"/>
            <a:ext cx="81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, there have been fears that terrorists might use biological weapons and deliberately spread dangerous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seases might terrorists try to spr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468440"/>
            <a:ext cx="77184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is one biological weapon that has been used.  It can be sent through the mail and, if untreated, can be dea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50:17Z</dcterms:created>
  <dc:creator>Vince Hardy</dc:creator>
  <dc:description/>
  <dc:language>en-US</dc:language>
  <cp:lastModifiedBy>Texas A&amp;M Veterinary Medicine</cp:lastModifiedBy>
  <dcterms:modified xsi:type="dcterms:W3CDTF">2007-10-02T21:02:44Z</dcterms:modified>
  <cp:revision>10</cp:revision>
  <dc:subject/>
  <dc:title>Slide 1</dc:title>
</cp:coreProperties>
</file>