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EB06-5933-4E02-AD17-8061327F6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9932-D7B9-4E0F-BD8D-4655CB0FF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9866-F243-477B-94C2-79F91AFDD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 –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D: The student is expected to: connect, compare, and contrast ideas, themes, and issues across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0A: The student is expected to: use his/her own knowledge and experience to comprehend (4-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0C: monitor his/her own comprehension and make modifications when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A: The student is expected to: compare text events with his/her own and other readers’ experiences (4-8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B: determine distinctive and common characteristics of cultures through wide reading (4-8);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C: articulate and discuss themes and connections that cross cultures (4-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9E: The student is expected to: review a collection of written works to determine its strengths and weaknesses and to set goals as a writer (4-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BB98-6929-4AFC-AFB4-FF2CFCE78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in a series of slides that introduces the concepts of scientific explanation versus my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 –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D: The student is expected to: connect, compare, and contrast ideas, themes, and issues across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myth myths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AC6F-A00A-4C8A-A858-B41062E73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Legend of the Indian Paintbrush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 well-known children’s book by Tomie DePaola, tells a Native American myth about Indian paintbrushes.  Another book by the same author provides the story of the bluebon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 –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A: The student is expected to: compare text events with his/her own and other readers’ experiences (4-8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determine distinctive and common characteristics of cultures through wide reading (4-8);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articulate and discuss themes and connections that cross cultures (4-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myths myth scientific facts scientific f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0E6E-94DC-4BE0-9CB9-3D4FCF379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 –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0A: The student is expected to: use his/her own knowledge and experience to comprehend (4-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monitor his/her own comprehension and make modifications when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myths 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BF81-DD5F-4276-8FDD-FEE8390F5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would say that knowing the scientific facts would make it more difficult to think in terms of mythical explanations. The purpose of the exercises (i.e., writing a scientific report and a myth on similar topics) is to provide the students ample opportunity to compare and contrast how the two types of writing differ or are simi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 –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9E: The student is expected to: review a collection of written works to determine its strengths and weaknesses and to set goals as a writer (4-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that might be posed as these comparisons are made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hich type of writing do you personally prefer?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Do you use some of the same skills in both types of writing?  What are some of these ski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Even though we say an explanation is scientific, do we ever really know if the explanation is absolutely true?  Why or why n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f myths were primarily told as stories, for example by a person like Star Weaver, do you think the stories changed over time?  Is this good or bad?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scientific explanation 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37E9-83FA-46FC-9AE6-4FAD7C37C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8D1-CD75-4D61-947A-F62D7B63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06F-0C25-406B-8BB8-5682E295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8FB-2B82-409B-8C0D-E8938B30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4F8-FD82-420B-9590-93ED1DB5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2641-1115-423D-92EF-E826192C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C70-9F40-4C04-B4D1-4776806E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541-27F5-4F67-B8D6-62351273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7E2-96BA-46FF-BA74-62E25CD0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50C-74DF-4672-85D5-715197EC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C9C-0A45-4D4D-9EB4-B5C616F7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331-E1C1-41D4-ACD3-DD888F6C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1F5-4E14-4795-9C6C-961F88A0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9DC4-3C32-4EE5-9D8A-A9128B559AD1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hyperlink" Target="http://peer.tamu.ed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hyperlink" Target="http://peer.tamu.edu/forms/Curricula_Survey.s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7840" y="1069920"/>
            <a:ext cx="8229240" cy="2197080"/>
            <a:chOff x="177840" y="1069920"/>
            <a:chExt cx="8229240" cy="2197080"/>
          </a:xfrm>
        </p:grpSpPr>
        <p:pic>
          <p:nvPicPr>
            <p:cNvPr id="49" name="Picture 3" descr="title"/>
            <p:cNvPicPr/>
            <p:nvPr/>
          </p:nvPicPr>
          <p:blipFill>
            <a:blip r:embed="rId1"/>
            <a:stretch/>
          </p:blipFill>
          <p:spPr>
            <a:xfrm>
              <a:off x="998640" y="1069920"/>
              <a:ext cx="6573960" cy="210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Group 4"/>
            <p:cNvGrpSpPr/>
            <p:nvPr/>
          </p:nvGrpSpPr>
          <p:grpSpPr>
            <a:xfrm>
              <a:off x="177840" y="1511280"/>
              <a:ext cx="8229240" cy="1755720"/>
              <a:chOff x="177840" y="1511280"/>
              <a:chExt cx="8229240" cy="1755720"/>
            </a:xfrm>
          </p:grpSpPr>
          <p:grpSp>
            <p:nvGrpSpPr>
              <p:cNvPr id="51" name="Group 5"/>
              <p:cNvGrpSpPr/>
              <p:nvPr/>
            </p:nvGrpSpPr>
            <p:grpSpPr>
              <a:xfrm>
                <a:off x="6991200" y="2069640"/>
                <a:ext cx="1265040" cy="1197360"/>
                <a:chOff x="6991200" y="2069640"/>
                <a:chExt cx="1265040" cy="1197360"/>
              </a:xfrm>
            </p:grpSpPr>
            <p:pic>
              <p:nvPicPr>
                <p:cNvPr id="52" name="Picture 6" descr="j0334880[1]"/>
                <p:cNvPicPr/>
                <p:nvPr/>
              </p:nvPicPr>
              <p:blipFill>
                <a:blip r:embed="rId2">
                  <a:biLevel thresh="50000"/>
                </a:blip>
                <a:srcRect l="9931" t="0" r="0" b="15893"/>
                <a:stretch/>
              </p:blipFill>
              <p:spPr>
                <a:xfrm rot="10569600">
                  <a:off x="7019640" y="2098800"/>
                  <a:ext cx="906480" cy="88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7" descr="j0334880[1]"/>
                <p:cNvPicPr/>
                <p:nvPr/>
              </p:nvPicPr>
              <p:blipFill>
                <a:blip r:embed="rId3">
                  <a:biLevel thresh="50000"/>
                </a:blip>
                <a:srcRect l="6212" t="0" r="0" b="10760"/>
                <a:stretch/>
              </p:blipFill>
              <p:spPr>
                <a:xfrm rot="9054000">
                  <a:off x="7240680" y="2256120"/>
                  <a:ext cx="861840" cy="855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" name="Group 8"/>
              <p:cNvGrpSpPr/>
              <p:nvPr/>
            </p:nvGrpSpPr>
            <p:grpSpPr>
              <a:xfrm>
                <a:off x="177840" y="1511280"/>
                <a:ext cx="8229240" cy="1143000"/>
                <a:chOff x="177840" y="1511280"/>
                <a:chExt cx="8229240" cy="1143000"/>
              </a:xfrm>
            </p:grpSpPr>
            <p:grpSp>
              <p:nvGrpSpPr>
                <p:cNvPr id="55" name="Group 9"/>
                <p:cNvGrpSpPr/>
                <p:nvPr/>
              </p:nvGrpSpPr>
              <p:grpSpPr>
                <a:xfrm>
                  <a:off x="177840" y="1511280"/>
                  <a:ext cx="8229240" cy="1143000"/>
                  <a:chOff x="177840" y="1511280"/>
                  <a:chExt cx="8229240" cy="1143000"/>
                </a:xfrm>
              </p:grpSpPr>
              <p:sp>
                <p:nvSpPr>
                  <p:cNvPr id="56" name="Rectangle 10"/>
                  <p:cNvSpPr/>
                  <p:nvPr/>
                </p:nvSpPr>
                <p:spPr>
                  <a:xfrm>
                    <a:off x="177840" y="1511280"/>
                    <a:ext cx="784548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" name="Group 11"/>
                  <p:cNvGrpSpPr/>
                  <p:nvPr/>
                </p:nvGrpSpPr>
                <p:grpSpPr>
                  <a:xfrm>
                    <a:off x="940680" y="2044800"/>
                    <a:ext cx="7466400" cy="227520"/>
                    <a:chOff x="940680" y="2044800"/>
                    <a:chExt cx="7466400" cy="227520"/>
                  </a:xfrm>
                </p:grpSpPr>
                <p:sp>
                  <p:nvSpPr>
                    <p:cNvPr id="58" name="Rectangle 12"/>
                    <p:cNvSpPr/>
                    <p:nvPr/>
                  </p:nvSpPr>
                  <p:spPr>
                    <a:xfrm flipH="1">
                      <a:off x="940680" y="2096280"/>
                      <a:ext cx="6786720" cy="90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Freeform 13"/>
                    <p:cNvSpPr/>
                    <p:nvPr/>
                  </p:nvSpPr>
                  <p:spPr>
                    <a:xfrm flipH="1">
                      <a:off x="7685640" y="2044800"/>
                      <a:ext cx="721440" cy="2275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0" name="AutoShape 14"/>
                <p:cNvSpPr/>
                <p:nvPr/>
              </p:nvSpPr>
              <p:spPr>
                <a:xfrm rot="5659200">
                  <a:off x="7620120" y="2066400"/>
                  <a:ext cx="228600" cy="182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" name="Rectangle 15"/>
          <p:cNvSpPr/>
          <p:nvPr/>
        </p:nvSpPr>
        <p:spPr>
          <a:xfrm>
            <a:off x="609480" y="382104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134173"/>
                </a:solidFill>
                <a:uFillTx/>
                <a:latin typeface="Times New Roman"/>
                <a:hlinkClick r:id="rId4"/>
              </a:rPr>
              <a:t>http://peer.tamu.ed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myth and identify its purp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difference between myths and scientific theories or f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 versus My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03440" y="1523880"/>
            <a:ext cx="437364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e time this story took place, knowledge of medicine and the cause of disease was limi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absence of medical knowledge, how might Star Weaver attempt to explain why the tribe became i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womens_clothing"/>
          <p:cNvPicPr/>
          <p:nvPr/>
        </p:nvPicPr>
        <p:blipFill>
          <a:blip r:embed="rId1"/>
          <a:stretch/>
        </p:blipFill>
        <p:spPr>
          <a:xfrm>
            <a:off x="1219320" y="1523880"/>
            <a:ext cx="2471760" cy="4208760"/>
          </a:xfrm>
          <a:prstGeom prst="rect">
            <a:avLst/>
          </a:prstGeom>
          <a:ln w="57240">
            <a:solidFill>
              <a:srgbClr val="545068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TR-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alue of My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00440" y="2038320"/>
            <a:ext cx="378792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know other Native American stories, usually referred to as myths, that explain things using imagination rather than scientific fa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G2-26_field_of_bluebonnets"/>
          <p:cNvPicPr/>
          <p:nvPr/>
        </p:nvPicPr>
        <p:blipFill>
          <a:blip r:embed="rId1"/>
          <a:srcRect l="10002" t="9995" r="0" b="8903"/>
          <a:stretch/>
        </p:blipFill>
        <p:spPr>
          <a:xfrm>
            <a:off x="822240" y="2301840"/>
            <a:ext cx="3429000" cy="2590920"/>
          </a:xfrm>
          <a:prstGeom prst="rect">
            <a:avLst/>
          </a:prstGeom>
          <a:ln w="57240">
            <a:solidFill>
              <a:srgbClr val="545068"/>
            </a:solidFill>
            <a:miter/>
          </a:ln>
        </p:spPr>
      </p:pic>
      <p:sp>
        <p:nvSpPr>
          <p:cNvPr id="71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TR-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rn My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0" y="1734840"/>
            <a:ext cx="35974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tory, Jace and Red Arrow rode the “rainbow light” to return to the vill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probably seen a rainbow many times, especially after a summer rain show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TR-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MPj04310450000[1]"/>
          <p:cNvPicPr/>
          <p:nvPr/>
        </p:nvPicPr>
        <p:blipFill>
          <a:blip r:embed="rId1"/>
          <a:stretch/>
        </p:blipFill>
        <p:spPr>
          <a:xfrm>
            <a:off x="811080" y="1643040"/>
            <a:ext cx="3714840" cy="377496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452240"/>
            <a:ext cx="7466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think it would be difficult to write a myth explaining a question that you already answered scientificall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why you think this might be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don’t think it would be hard, explain w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cientific explanations of things ever change?   Why or why n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TR-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NIEHS"/>
          <p:cNvPicPr/>
          <p:nvPr/>
        </p:nvPicPr>
        <p:blipFill>
          <a:blip r:embed="rId1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Peer"/>
          <p:cNvPicPr/>
          <p:nvPr/>
        </p:nvPicPr>
        <p:blipFill>
          <a:blip r:embed="rId2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ollegeofEdu"/>
          <p:cNvPicPr/>
          <p:nvPr/>
        </p:nvPicPr>
        <p:blipFill>
          <a:blip r:embed="rId3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CERH"/>
          <p:cNvPicPr/>
          <p:nvPr/>
        </p:nvPicPr>
        <p:blipFill>
          <a:blip r:embed="rId4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New CVM logo_ any color"/>
          <p:cNvPicPr/>
          <p:nvPr/>
        </p:nvPicPr>
        <p:blipFill>
          <a:blip r:embed="rId5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0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8" name="Rectangle 11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9" name="Object 12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0" name="Object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1" name="Text Box 13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134173"/>
                </a:solidFill>
                <a:uFillTx/>
                <a:latin typeface="Times New Roman"/>
                <a:hlinkClick r:id="rId8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3:16:19Z</dcterms:created>
  <dc:creator>Vince Hardy</dc:creator>
  <dc:description/>
  <dc:language>en-US</dc:language>
  <cp:lastModifiedBy>Hannah</cp:lastModifiedBy>
  <dcterms:modified xsi:type="dcterms:W3CDTF">2009-03-17T03:34:53Z</dcterms:modified>
  <cp:revision>19</cp:revision>
  <dc:subject/>
  <dc:title>Slide 1</dc:title>
</cp:coreProperties>
</file>