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A455-3713-4BA6-9EB0-E6A2DF259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45EC-8749-44E8-9761-B766ED195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’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r”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 and the family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T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 family and I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r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 the “?” after the wor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a “.”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00EC-CEFC-4841-A04C-4A84635E6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6284-84D9-48C5-9338-F8198C844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31CC-091F-44FC-AD03-FA5F4D1E2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7BAD-98B1-46D5-A04C-661FBBB8E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04C5-4D09-4B29-8B9F-6190C3AA9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280-D687-41D5-B25D-03075D07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06F-0808-4563-BB21-A8ADCD76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8C1-9990-46AD-B265-3E2818DD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64B-5693-414E-9C97-E7BA59C3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F3B-C9A0-40A6-B8FA-A9516643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356-AD64-4571-82DC-45CB42E6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EDA-CF29-4FF7-A3D3-38EFCA73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114-6186-47CC-A16C-DBEAC634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5B2-FEDC-41CC-9F4B-FCD61833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6DF-EAE8-4B26-A720-2241A6BC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0F0-288F-45AF-9034-D8536B1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425-91EB-4425-930F-D6F2451D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DE7F-21F6-42EB-A6AC-E8D19F3EF46F}" type="slidenum">
              <a:rPr b="0" lang="en-US" sz="1400" spc="-1" strike="noStrike">
                <a:solidFill>
                  <a:srgbClr val="ebebe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CeUnlockLang%20Letter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Unlocking Language Quiz</a:t>
            </a:r>
            <a:endParaRPr b="0" lang="en-US" sz="72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1920" y="405432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Answer each question by clicking A, B, C, or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rew is younger than Nettie, but Temple is the most youngest of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an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empl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et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74680" y="52052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166760" y="342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177920" y="401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176480" y="460548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2856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  Roman is tall, but Travis is more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re 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57400" y="3032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3048120"/>
            <a:ext cx="7848720" cy="3124080"/>
          </a:xfrm>
          <a:prstGeom prst="rect">
            <a:avLst/>
          </a:prstGeom>
          <a:solidFill>
            <a:srgbClr val="ebeb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6960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Andrew decides to write a letter to his sister Maggie to tell her about the sickness in his town.  Help him correct his mistakes before he mails the letter.</a:t>
            </a:r>
            <a:endParaRPr b="0" lang="en-US" sz="20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riting a Letter</a:t>
            </a:r>
            <a:endParaRPr b="0" lang="en-US" sz="36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6248520"/>
            <a:ext cx="6400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f7fb45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 to print a hard copy of the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30400" y="3403440"/>
            <a:ext cx="7010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r Magg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and you’re family?  Me and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are fine, but the sickness here gets worser eve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.  Yesterday, our neighbore, Mr. Cole, took ill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says that we will come visit you soon?  I hop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you stay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052880" y="4344840"/>
            <a:ext cx="961920" cy="505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17340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04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not sick,  ____ many of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ighbors are 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>
            <a:lum contrast="-24000"/>
          </a:blip>
          <a:stretch/>
        </p:blipFill>
        <p:spPr>
          <a:xfrm>
            <a:off x="4800600" y="3524400"/>
            <a:ext cx="3929040" cy="295272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74680" y="525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6676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177920" y="4043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176480" y="464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fore Travis and Roman left, Nettie gave Travis ___  rib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78160" y="3846600"/>
            <a:ext cx="4432320" cy="25542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181160" y="52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173240" y="343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17468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1182600" y="46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 Nettie said Temple was a baby.  He was 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and he was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but he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66760" y="35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495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6480" y="539604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.  To have 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 to have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.  Are so lucky to h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81160" y="53910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571840"/>
            <a:ext cx="185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4354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5"/>
              <a:tabLst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Nettie is afraid her mother will get sick too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. 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181160" y="539604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438280"/>
            <a:ext cx="822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1749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6"/>
              <a:tabLst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ould Roman stay at home.  Or should he go with Travis to solve the mystery of the gravey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. 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 or should he go.  With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179360" y="590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71440" y="3495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18260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181160" y="519732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met Travis and Roman, she thought he wore strange clot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79360" y="523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7144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26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181160" y="46386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wdy runs into the woods, Travis follows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d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r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57400" y="30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8:48:37Z</dcterms:created>
  <dc:creator>peerstudent</dc:creator>
  <dc:description/>
  <dc:language>en-US</dc:language>
  <cp:lastModifiedBy>Vince Hardy</cp:lastModifiedBy>
  <dcterms:modified xsi:type="dcterms:W3CDTF">2007-05-07T17:22:10Z</dcterms:modified>
  <cp:revision>71</cp:revision>
  <dc:subject/>
  <dc:title>Unlocking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2000000000001023620</vt:lpwstr>
  </property>
</Properties>
</file>