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4E8-BD3E-4246-9F9A-1FBCCDFE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BF7-2BE2-42C7-8CE6-0F270479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8D32-E66A-4515-94C8-FF6E65B9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3E87-D63D-4A69-873E-2DAB6625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C55-7DB5-4541-B212-C3CE4E17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E8B-9A48-4C86-8BD1-D5D4ABFD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547A-467B-4563-91A8-5D4D2234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ADDF-514F-47BB-B4A6-38912533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B17-C021-4BC1-8A11-CD13792F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3D4-C0FA-482E-BB07-B684435B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8C58-7AF0-4E99-A844-58CF52D6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FBDF-A915-4F21-B0DA-0D1A30D7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462B-27A5-4EEF-9793-89C70254A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42:24Z</dcterms:created>
  <dc:creator>Jeremiah McNichols</dc:creator>
  <dc:description/>
  <dc:language>en-US</dc:language>
  <cp:lastModifiedBy>Jeremiah McNichols</cp:lastModifiedBy>
  <dcterms:modified xsi:type="dcterms:W3CDTF">2007-12-17T15:42:50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2000000000001023620</vt:lpwstr>
  </property>
</Properties>
</file>