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05F-D4B7-4E21-8137-1B163BE7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BFD-8AEE-414E-8442-7ACDB7EA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AC8-9306-489D-86AF-D0E93897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E25-7889-49C5-B82A-E2B06385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459-4E67-49C3-B23E-2C872FAE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9FF-A043-43BB-A752-0200014E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BD2-6EDA-449D-9B5A-468B1E87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111-1C9C-4CA3-AEAB-0FD76E23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B2E-A41F-4FAD-8F56-0BDB36E7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D46-E2CC-45E2-B52B-415BFA44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74F-43E9-4850-A333-42FD1BA4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FF7-DD41-4C22-AB1D-DEC79A95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663F-C846-4B42-ADBA-39CFAE3A6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5:39Z</dcterms:created>
  <dc:creator>Jeremiah McNichols</dc:creator>
  <dc:description/>
  <dc:language>en-US</dc:language>
  <cp:lastModifiedBy>Jeremiah McNichols</cp:lastModifiedBy>
  <dcterms:modified xsi:type="dcterms:W3CDTF">2007-12-17T15:55:5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1000000000001023620</vt:lpwstr>
  </property>
</Properties>
</file>