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6C0A-9828-4116-8F50-CE26F5917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FAC-7AE8-48E1-B12C-2AEACAA8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F6C-8433-48D1-9239-5AB03EAD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6B49-27F2-4545-B9B0-85474B00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D62-E8DA-4113-B8CD-40298F48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B1B-01BF-490A-A3AE-06317D60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B24-9BB4-4A48-9192-020C4CA3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CD2-2D2D-4359-AB8D-AE1AF8C2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8D5-87D3-4A30-A76E-678F0F2E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2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288-C978-49B0-BE3F-95BDEC65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81C-367C-4622-9D06-7434A69E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308-8A81-48C9-BCA0-CBDCECBB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522-2323-47DE-A2BF-5DA246E7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275D-D5BD-4237-BE40-6AA51B5C23A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360" y="13701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Nettie’s opinion, which of the following helped guard her against swamp vapor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accination from her docto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ting plenty of 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lic worn on a string around her ne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umes from her camphor ra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84240" y="430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92160" y="252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992160" y="3125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990720" y="3716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809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rushes away with her brother, Andrew, what does she give to Travis as a symbol of their friendship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air ribb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no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ki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ook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84240" y="471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92160" y="291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992160" y="3517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990720" y="4122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64040" y="27781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finds himself in an old cemetery because 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looking for a dog named Rowd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lieves his great grandmother is buri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mised to meet his friend Roman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doing a Texas history report on historic gr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84240" y="48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0640" y="13622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notices something unusual about several of the grave markers in one section of the cemetery.  Which of the following best describes what he sees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is engraved with the sam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ne of the markers have a d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markers show that the deceas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 died in 1867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has three angels carved on the to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-144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84240" y="5695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2160" y="32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992160" y="41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990720" y="4782960"/>
            <a:ext cx="37440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4520" y="13701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understand the grave markers better,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. . . 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ps at the public library to read ab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toric gravesites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tacts his friend Roman and travels back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s his father what he knows about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refully copies all the information o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 so that he can study them lat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82800" y="5410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976320" y="2548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976320" y="350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974880" y="4468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62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meets a new friend, Nettie, in the cemetery.  Netti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errified and asks Travis to protect 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nly child and goes to the cemetery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sit her father’s g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ants flowers at the cemetery every spr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oes to the cemetery to read and write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iv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28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84240" y="484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373040"/>
            <a:ext cx="802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meeting Nettie, Mary, Andrew, Willie and Temple in the cemetery, Travis begins to worry that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not reach home before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rm hi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identical gravestones mark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ildrens’ grave si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report Roman and him to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Backpack Computer malfunctioned,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he is not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84240" y="5778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921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992160" y="38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990720" y="47991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44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use the Backpack Computer to make two trips during the story. The second trip takes them back in time to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old 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uneral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hurc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ed sto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84240" y="457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99216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992160" y="340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990720" y="3990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5600" y="13748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encounters Nettie a second time in the story. Which word best describes Nettie at this meeting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r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84240" y="4576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92160" y="27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99216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990720" y="3975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7680" y="1384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of the following is NOT true of Nettie’s Aunt Eliza?  S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not really Nettie’s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ld w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s for the fami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fraid to trav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84240" y="434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992160" y="25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992160" y="3156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990720" y="3746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6:00:21Z</dcterms:created>
  <dc:creator>Dr. Deborah Kochevar</dc:creator>
  <dc:description/>
  <dc:language>en-US</dc:language>
  <cp:lastModifiedBy>Vince Hardy</cp:lastModifiedBy>
  <cp:lastPrinted>2003-01-31T16:54:50Z</cp:lastPrinted>
  <dcterms:modified xsi:type="dcterms:W3CDTF">2007-05-03T19:15:58Z</dcterms:modified>
  <cp:revision>52</cp:revision>
  <dc:subject/>
  <dc:title>Investigator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1000000000001023620</vt:lpwstr>
  </property>
</Properties>
</file>