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8493-BB79-4B24-9063-456EAC435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DA8A-F402-4157-B5D3-407761F80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2242-5412-40B4-8801-415B95C2C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ED88-5E26-4115-8021-F2EF96F60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6997-5890-4953-B925-D18179B68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66DF-BD3E-48FB-BBC1-3CC2ABDA6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FDC5-B844-4C1E-93C8-58F9D91D6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E94A-7E5C-4C23-A05F-23B90338E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2752-92C7-46FC-BF9B-C8B5E6A72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B878-2F3C-41B6-96DC-0F1F671F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492F-F4F2-4D89-AB5F-2C4B3562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2853-9EEC-4299-8A13-819EFA18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AE253-E8B1-46A2-ACF6-76681B3BB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5:34:13Z</dcterms:created>
  <dc:creator>Jeremiah McNichols</dc:creator>
  <dc:description/>
  <dc:language>en-US</dc:language>
  <cp:lastModifiedBy>Jeremiah McNichols</cp:lastModifiedBy>
  <dcterms:modified xsi:type="dcterms:W3CDTF">2007-12-17T15:34:58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001000000000001023620</vt:lpwstr>
  </property>
</Properties>
</file>