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D682-FAB4-4EB3-AD4B-C8EC52B7B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00B-B5F0-46B6-970A-DAE4F082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36C-2B04-4058-B64C-E45C180F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CE9-F91E-4A38-A4A5-AC0764FF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20B-B46D-4F33-BE81-FAEEDD24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1D4-244D-4974-B6B6-CE54C07D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A30-F589-4C05-A81F-A16CD743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359-F419-4B5A-8179-7145527E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AE0-E1C1-4A17-A8B9-9CFE5CA5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1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C4D-50AA-4432-8785-C6834F39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2FF-C020-4B59-A110-CFFB9D5B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C75-9838-46D9-8AB0-4450182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187-3280-4BD3-B415-59ADDA05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E919-61B2-476F-A0F3-4F5A4A532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lapi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oden box sat on the rude shel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 and well s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open or broken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down, in a horrible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9520" y="456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0952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952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09520" y="3978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 seem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me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the bat’s aerial maneuvers till a dog’s sudden bark echoed off the hills and broke his reveri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cite or make e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sick or 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come temporarily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ascinate; hypno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9520" y="49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0952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09520" y="38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09520" y="439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is stopped to catch his breath, he watched the dog’s dark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tt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at split the brightly colored wildflowers like a zipp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disorderly or tan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marked with spots of different colo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ick or d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shar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09520" y="496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09520" y="31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9520" y="37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3750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his eyes adjusted to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ctu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, Travis halted, surprised by what he saw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d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vary irreg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09520" y="459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09520" y="28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09520" y="339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09520" y="39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vis’ initia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d given way to curiosit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ful or uneasy anticipation of the future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anticipation of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ened awareness of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adven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09520" y="50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0952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09520" y="390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09520" y="448452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2440" indent="-532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forgive m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g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 thought you were my younger brothers come to torment my solitude.’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ident or mistake commit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te of shock or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ck of poli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n, committing an offense; violation of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09520" y="54338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09520" y="327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09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109520" y="4761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roll of thunder seemed to announc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ister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al of Nettie’s broth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eaky, mischievous and cru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ting or disappo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d, noisy, and lacking in discipl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containing males;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09520" y="4573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0952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09520" y="337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109520" y="398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Mary could answer, a flash of lightning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antane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p of thunder sent little Temple rushing into Mary’s arms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oud, sharp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ing at a specific in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 or sur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ise followed by an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09520" y="491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0952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09520" y="37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09520" y="4330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miss my friends from Galveston who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ranti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an’t come back to school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of a contagious person to prevent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of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amily moves away from a place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ppens to a sick pers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y can’t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9520" y="5421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0952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09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09520" y="4432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tie look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stfu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ward the stained glass windows lining the west wa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ver or mischiev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of wishful yearning; 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or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09520" y="4567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09520" y="278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0952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09520" y="397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3T22:25:3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1000000000001023620</vt:lpwstr>
  </property>
</Properties>
</file>