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491-7C47-4AD2-9334-43805F61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4E7-B940-4DD0-AD2C-23ABE2B7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2E9-82AC-4786-BECE-26284932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E42-F8D1-489E-87B1-7F6DCB2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1CD-2AC1-44D8-9047-256002FD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A70-94FE-4FCD-AB57-C6ED40A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891-D9EB-446B-BC7D-2112557A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829-FFEF-4751-AC82-ECFF828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B48-C229-46ED-A764-D1A0216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0D7-572C-460F-AA46-E834D95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8FC-604F-4485-8E5A-00A80AF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476-DB40-4D75-809F-2489722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CF4-9CAE-4985-A7E4-6E7E025F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42:24Z</dcterms:created>
  <dc:creator>Jeremiah McNichols</dc:creator>
  <dc:description/>
  <dc:language>en-US</dc:language>
  <cp:lastModifiedBy>Jeremiah McNichols</cp:lastModifiedBy>
  <dcterms:modified xsi:type="dcterms:W3CDTF">2007-12-17T15:42:50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2000000000001023620</vt:lpwstr>
  </property>
</Properties>
</file>