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5486-ECBC-4BA6-AEFB-B08BD3D2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78C-F45A-435D-BE08-ADD5CF03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A3E-DAA3-4DAF-8C0C-DAEF21B7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BCE-EB2C-4537-8A84-ACAEFB34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A43-F906-4A77-A245-44CFFC52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D5B-EFFD-4326-8D97-62F97A49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9D2-8297-4770-879C-9CBADF58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F81-64DC-40BE-BC7B-EE4A03BE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E00-33A7-4375-877C-456E58C2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2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874-397B-4664-802E-9150B4E9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A61-42DE-40CE-9762-4EC5715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812-76E4-42D6-9098-8831421E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3A8-B468-4D30-91D2-71CF73D3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6F6-AD42-491C-B586-9BFB20B9A4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360" y="1370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Nettie’s opinion, which of the following helped guard her against swamp vapor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accination from her docto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ting plenty of 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lic worn on a string around her ne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umes from her camphor ra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84240" y="430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92160" y="2521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92160" y="3125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90720" y="3716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809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rushes away with her brother, Andrew, what does she give to Travis as a symbol of their friendship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air ribb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no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ki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923760"/>
                <a:tab algn="l" pos="1077840"/>
                <a:tab algn="l" pos="1231920"/>
                <a:tab algn="l" pos="1386000"/>
                <a:tab algn="l" pos="1539720"/>
                <a:tab algn="l" pos="1693800"/>
                <a:tab algn="l" pos="1847880"/>
                <a:tab algn="l" pos="2001960"/>
                <a:tab algn="l" pos="2155680"/>
                <a:tab algn="l" pos="2309760"/>
                <a:tab algn="l" pos="2463840"/>
                <a:tab algn="l" pos="2617920"/>
                <a:tab algn="l" pos="2771640"/>
                <a:tab algn="l" pos="2925720"/>
                <a:tab algn="l" pos="3079800"/>
                <a:tab algn="l" pos="3233880"/>
                <a:tab algn="l" pos="3387600"/>
                <a:tab algn="l" pos="3541680"/>
                <a:tab algn="l" pos="3695760"/>
                <a:tab algn="l" pos="38498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ook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84240" y="4711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92160" y="291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992160" y="3517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990720" y="4122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64040" y="27781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1960" y="478620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5120" indent="-555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finds himself in an old cemetery because 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looking for a dog named Rowd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lieves his great grandmother is buri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mised to meet his friend Roman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5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doing a Texas history report on historic gr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84240" y="48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0640" y="13622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notices something unusual about several of the grave markers in one section of the cemetery.  Which of the following best describes what he sees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is engraved with the sam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ne of the markers have a d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markers show that the decease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 died in 1867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marker has three angels carved on the to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84240" y="5695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2160" y="32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992160" y="41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90720" y="4782960"/>
            <a:ext cx="37440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4520" y="13701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understand the grave markers better,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. . . 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ps at the public library to read ab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toric gravesites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tacts his friend Roman and travels back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s his father what he knows about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97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refully copies all the information o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rkers so that he can study them lat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82800" y="5410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76320" y="2548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976320" y="350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974880" y="4468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62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meets a new friend, Nettie, in the cemetery.  Netti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errified and asks Travis to protect 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nly child and goes to the cemetery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sit her father’s g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ants flowers at the cemetery every spr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49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oes to the cemetery to read and write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iva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84240" y="484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92160" y="2535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921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990720" y="414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37304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meeting Nettie, Mary, Andrew, Willie and Temple in the cemetery, Travis begins to worry that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not reach home before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orm hi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identical gravestones mark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ildrens’ grave si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children will report Roman and him to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8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Backpack Computer malfunctioned,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he is not in Texa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84240" y="5778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921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992160" y="38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90720" y="47991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4440" y="13730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use the Backpack Computer to make two trips during the story. The second trip takes them back in time to . . .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old cemete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uneral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hurc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ed sto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84240" y="4579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2160" y="279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2160" y="340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990720" y="3990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5600" y="13748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encounters Nettie a second time in the story. Which word best describes Nettie at this meeting?</a:t>
            </a: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r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i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84240" y="4576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992160" y="27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99216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990720" y="3975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384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of the following is NOT true of Nettie’s Aunt Eliza?  She . . 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not really Nettie’s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n old w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s for the fami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afraid to trav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84240" y="434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92160" y="25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92160" y="315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990720" y="3746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00:21Z</dcterms:created>
  <dc:creator>Dr. Deborah Kochevar</dc:creator>
  <dc:description/>
  <dc:language>en-US</dc:language>
  <cp:lastModifiedBy>Vince Hardy</cp:lastModifiedBy>
  <cp:lastPrinted>2003-01-31T16:54:50Z</cp:lastPrinted>
  <dcterms:modified xsi:type="dcterms:W3CDTF">2007-05-03T19:15:58Z</dcterms:modified>
  <cp:revision>52</cp:revision>
  <dc:subject/>
  <dc:title>Investigator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3620</vt:lpwstr>
  </property>
</Properties>
</file>