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7D1-A31C-4468-829D-633AF5BE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0C3-AF39-4343-A784-1EFD4EF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BD4-FF1B-436B-A896-F40AA68E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09A-1657-4118-B87A-13315651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5D8-46FF-4DBB-815C-E04E7DC6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BA9-EFC6-4FC0-A711-73D0A55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785-78DB-49A1-B27D-21884645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C31-285F-406B-80A3-57EA3887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13E-DD00-4DA5-B612-9F03635C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E60-FABE-4FAF-9A98-8D07A568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5A8-CAEC-47FE-8E6F-7561FCC9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F0E-2631-4161-A19B-A972D38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8EF3-FF16-4813-8587-DB3BBF15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8:08Z</dcterms:created>
  <dc:creator>Jeremiah McNichols</dc:creator>
  <dc:description/>
  <dc:language>en-US</dc:language>
  <cp:lastModifiedBy>Jeremiah McNichols</cp:lastModifiedBy>
  <dcterms:modified xsi:type="dcterms:W3CDTF">2007-12-17T15:48:2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1000000000001023620</vt:lpwstr>
  </property>
</Properties>
</file>