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A4E5-16D1-4276-BCB6-5F1EEB6D8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2AB-F469-4712-BF8E-B14C4073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680-9C44-41DB-9681-95506E8B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6F6-FD08-49D9-9D9D-D36787FC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59E-5772-4E51-8FE5-DE10D86A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635-8C81-4E38-985F-EF895410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B34-4BFC-4F14-9F75-34104397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9F4-E7E0-4014-99E1-A878087F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9AB-0219-4E72-9739-AF5DDAC6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BFC-0969-43B1-B69E-F0F0DF65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635-E269-45B2-A5E4-D02FB8E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798-0822-4A94-98D2-3C9099C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8E5-BFF4-4D7C-9082-43257E59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EEE3-3EBC-46EF-AE49-86F3EEC74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9-11T17:14:12Z</dcterms:modified>
  <cp:revision>29</cp:revision>
  <dc:subject/>
  <dc:title>Sensory Details </dc:title>
</cp:coreProperties>
</file>