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40C-4D78-4DCF-908B-8E307FAF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50B0-38A5-4E56-ACAB-955C9314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7D4-F2CD-4D2F-B352-30509A11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B041-38E0-41DC-AD4A-0AB5BC5E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A0A-5AA2-4D06-A536-77E821D2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F269-47B2-4CE8-AE86-5C0E60DC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CA2D-4302-40B9-98AB-A0C7E109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37DC-02CB-4AC6-9E9E-C1F636C3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14E3-EA0D-4E93-AB32-0A91BEB0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7D5A-7326-4DF5-829D-CE0DD0AE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709-B58A-4D20-9EDA-4087AC56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55C-A04C-4E50-9E21-B80BE603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DA3A-DFE3-45A5-8781-9C97E56F3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5:39Z</dcterms:created>
  <dc:creator>Jeremiah McNichols</dc:creator>
  <dc:description/>
  <dc:language>en-US</dc:language>
  <cp:lastModifiedBy>Jeremiah McNichols</cp:lastModifiedBy>
  <dcterms:modified xsi:type="dcterms:W3CDTF">2007-12-17T15:55:56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1000000000001023620</vt:lpwstr>
  </property>
</Properties>
</file>