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DD57-7CC0-4A70-B3FB-89E716B31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08CB-7085-4C94-A0CA-D00DFE63F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 Use adjectives, including comparative and superlative forms,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’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r”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 and the family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T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 family and 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r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ors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e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eighbor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 the “?” after the wor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a “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09E8-E33B-44B3-ACE0-9B96B7FAE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252A-EC4C-47D6-A05D-61F857FE2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2C5C-6A22-4678-95C5-1EC11A822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B) Correct sentence punctu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7BBF-ABC1-43BE-8620-A3898F6C1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C10C-DC18-4E86-940E-FB49C6F4C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 Employ standard English usage in pronoun refe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H) Proofread own writing and that of oth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EF8-93E7-416A-AE0A-FD8B4375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D40-3A32-421A-896B-61E0FFB5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089-DD8A-4FC6-8BE2-582157EE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864-EFF0-448A-9B92-1513AD37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D86-5DB9-4252-A1D0-076F4216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A2D-BE08-4CD3-8F1E-87BDDF0F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94B-C342-4776-A292-6EEAF51C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695-D408-4024-9211-212BD2F9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C0F-540C-489E-B8C2-7F36CE88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D40-DFFD-41F1-94FF-58E4CC94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73A-B0E2-4FAE-BB74-C4D27652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2A9-8865-4DED-BA16-B2A8F056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2311-9DDC-4870-9480-C096ABFEB24E}" type="slidenum">
              <a:rPr b="0" lang="en-US" sz="1400" spc="-1" strike="noStrike">
                <a:solidFill>
                  <a:srgbClr val="ebebe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CeUnlockLang%20Letter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Unlocking Language Quiz</a:t>
            </a:r>
            <a:endParaRPr b="0" lang="en-US" sz="72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40543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nswer each question by clicking A, B, C, or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rew is younger than Nettie, but Temple is the most youngest of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an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empl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et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74680" y="52052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166760" y="342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1177920" y="401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176480" y="460548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2856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  Roman is tall, but Travis is more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ore 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fte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ravi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57400" y="3032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048120"/>
            <a:ext cx="7848720" cy="3124080"/>
          </a:xfrm>
          <a:prstGeom prst="rect">
            <a:avLst/>
          </a:prstGeom>
          <a:solidFill>
            <a:srgbClr val="ebeb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Andrew decides to write a letter to his sister Maggie to tell her about the sickness in his town.  Help him correct his mistakes before he mails the letter.</a:t>
            </a:r>
            <a:endParaRPr b="0" lang="en-US" sz="2000" spc="-1" strike="noStrike">
              <a:solidFill>
                <a:srgbClr val="ebebe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riting a Letter</a:t>
            </a:r>
            <a:endParaRPr b="0" lang="en-US" sz="36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6248520"/>
            <a:ext cx="640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f7fb45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to print a hard copy of the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30400" y="3403440"/>
            <a:ext cx="7010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r Magg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and you’re family?  Me and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 are fine, but the sickness here gets worser eve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.  Yesterday, our neighbore, Mr. Cole, took ill.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says that we will come visit you soon?  I hop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you sta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ebebe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052880" y="4344840"/>
            <a:ext cx="961920" cy="505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17340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204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not sick,  ____ many of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ighbors are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>
            <a:lum contrast="-24000"/>
          </a:blip>
          <a:stretch/>
        </p:blipFill>
        <p:spPr>
          <a:xfrm>
            <a:off x="4800600" y="3524400"/>
            <a:ext cx="3929040" cy="295272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74680" y="5253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6676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177920" y="4043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176480" y="464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fore Travis and Roman left, Nettie gave Travis ___  rib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2034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ll in the blank with the word that best completes the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78160" y="3846600"/>
            <a:ext cx="4432320" cy="25542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181160" y="52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173240" y="343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117468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182600" y="46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  Nettie said Temple was a baby.  He was 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and he was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said Temple was a baby, but he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lly almost s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66760" y="35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495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6480" y="539604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.  To have 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 are so lucky to have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and Roman.  Are so lucky to hav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pack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81160" y="53910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9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571840"/>
            <a:ext cx="185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4354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5"/>
              <a:tabLst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Nettie is afraid her mother will get sick too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. 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ryone in Nettie’s town is getting sick.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ettie is afraid her mother will get sick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600" indent="-561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71440" y="353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182600" y="450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181160" y="539604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438280"/>
            <a:ext cx="822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3120" indent="-57312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ebebeb"/>
              </a:buClr>
              <a:buFont typeface="Times New Roman"/>
              <a:buAutoNum type="arabicPeriod" startAt="6"/>
              <a:tabLst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ould Roman stay at home.  Or should he go with Travis to solve the mystery of the gravey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. 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 or should he go.  With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hould Roman stay at home, or should he go with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ravis to solve the mystery of the gravey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 change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179360" y="590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71440" y="3495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18260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181160" y="519732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following sent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Nettie met Travis and Roman, she thought he wore strange clot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S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h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384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79360" y="523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71440" y="3432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26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1160" y="463860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TX-10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7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wdy runs into the woods, Travis follows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ge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d the word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 Tr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888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ke 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65320" y="4824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57400" y="30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68560" y="364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166760" y="4233960"/>
            <a:ext cx="374760" cy="465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ad the sentence and correct any errors you f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8:48:37Z</dcterms:created>
  <dc:creator>peerstudent</dc:creator>
  <dc:description/>
  <dc:language>en-US</dc:language>
  <cp:lastModifiedBy>Vince Hardy</cp:lastModifiedBy>
  <dcterms:modified xsi:type="dcterms:W3CDTF">2007-05-07T17:22:10Z</dcterms:modified>
  <cp:revision>71</cp:revision>
  <dc:subject/>
  <dc:title>Unlocking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2000000000001023620</vt:lpwstr>
  </property>
</Properties>
</file>