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E93C-9B4E-4DF3-9094-60BB2113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C040-3E4A-4CEE-8FEF-ED65C310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E53-98E1-4CA0-8465-95470CE4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498A-4103-4D6F-8B0B-8CC353B9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44B-BEEF-4D59-9990-174AB064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BE56-2AE0-45DD-9507-20D640DE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B47-CE54-415A-B200-84D2BA52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49A-71EB-4E82-BD47-762ECA17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E691-4280-4844-8FB0-90408FD8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FEF-865F-4886-83B9-13B51C23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D5C-0143-4522-BFBB-7AA0155B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C159-C66A-44AF-9F2E-C3D8A7A1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9F18-A491-43CE-B491-71C82ADA4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34:13Z</dcterms:created>
  <dc:creator>Jeremiah McNichols</dc:creator>
  <dc:description/>
  <dc:language>en-US</dc:language>
  <cp:lastModifiedBy>Jeremiah McNichols</cp:lastModifiedBy>
  <dcterms:modified xsi:type="dcterms:W3CDTF">2007-12-17T15:34:58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1000000000001023620</vt:lpwstr>
  </property>
</Properties>
</file>