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1FB-C32F-47EC-A9CE-25FAAF42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163-BD81-4BC9-9B63-9240B77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857-C02C-4655-9E06-6E325974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56E-996F-4D8D-B561-02B51300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8F0-04C7-4D23-AFF3-384C01BF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F9D-0CBE-4C82-9F83-8A73241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1A5-CCD2-47D0-B13C-89A095A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CA2-1003-4479-B42C-388B2B4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6A9-894B-4CE6-BEC0-1DD1B6A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63E-877C-49C5-9944-CD942D26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D8D-E6C4-4858-AD75-4B2699F0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3AE-5F91-42CD-BECC-9651EA0A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B2F0-75FC-4208-B9AE-8B259499D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1:32Z</dcterms:created>
  <dc:creator>Jeremiah McNichols</dc:creator>
  <dc:description/>
  <dc:language>en-US</dc:language>
  <cp:lastModifiedBy>Jeremiah McNichols</cp:lastModifiedBy>
  <dcterms:modified xsi:type="dcterms:W3CDTF">2007-12-17T15:31:59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1000000000001023620</vt:lpwstr>
  </property>
</Properties>
</file>