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8E03-E4F3-4288-A935-09909190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315-513B-49E5-A4EE-4A7B8C2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227-7E1D-4B7B-BD37-015A45D3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0EF-D5DA-4299-828C-349CD094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FBF-F523-4B4A-AC4B-EF01D945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1E5-4D45-4C38-955F-7883ECDA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5EC-7403-43DA-9BF6-C738C49B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841-416F-4B3F-BC47-B5CB2D2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0C5-C8ED-4396-A2CE-F0715B68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7AC-7406-4D11-9B7A-4C590FD8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67C-53BF-471A-9111-22E5485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B48-2896-46E7-A02A-CF839ED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315-F806-433F-9E30-D5EA4505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98AF-DA72-43F5-AD1C-0C252576F3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9-11T17:13:12Z</dcterms:modified>
  <cp:revision>29</cp:revision>
  <dc:subject/>
  <dc:title>Descriptive Writing</dc:title>
</cp:coreProperties>
</file>