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A9D-E653-4223-9247-0DF01457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7A75-FF71-4874-9649-950DD102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5984-531E-4311-AAE8-E2ADD2E1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4421-B7F6-49B5-82F7-5BB436DF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3C32-D0A4-43B8-A46D-5D7E889B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B9B-29C0-4322-91B3-263535F1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5AA-E854-4C65-A138-54BBC2D5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536-D5AF-499C-8DF8-A198D0DA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2933-51D7-4E49-9D6C-7ACB6D3F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DA1-F3C3-49A3-A685-B8AB28E7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4A18-5B36-4E61-8E0E-EF75A9CA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3DA4-9BF7-400F-8DF9-9A5AA3B7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2B8D-AEAD-45DB-A8F9-3DB283E0A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4:17Z</dcterms:created>
  <dc:creator>Jeremiah McNichols</dc:creator>
  <dc:description/>
  <dc:language>en-US</dc:language>
  <cp:lastModifiedBy>Jeremiah McNichols</cp:lastModifiedBy>
  <dcterms:modified xsi:type="dcterms:W3CDTF">2007-12-17T15:54:41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0000000000001023620</vt:lpwstr>
  </property>
</Properties>
</file>