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A2D6-57F5-4547-8E79-08B141355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523-ECF1-49CF-9E0D-AF2FFAE5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809-CF0F-451D-8895-5EE0F66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9FB-E7AC-4522-A033-7B3027C4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36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86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6D8-9259-414F-85B0-927DE7E0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C93-5C97-4280-A04C-316E45C1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128-5147-404C-959E-D35E4E4D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3D6-D19C-4996-A520-2C6CE7B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D39-4F77-424D-B445-AC6F3C6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1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3C3-6DAE-4075-A6F4-A82F1A5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6DA-9C53-4EFE-BE69-E507464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86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FD2-F505-4A86-9A71-E2F4F31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36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86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CDF-DC09-412F-B86A-10B69123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CC5-F51A-405E-9407-27850C13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lapi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ooden box sat on the rude shelf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oth and well sa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open or broken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down, in a horrible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09520" y="456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0952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952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09520" y="3978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 seem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smer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the bat’s aerial maneuvers till a dog’s sudden bark echoed off the hills and broke his reveri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excite or make e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make sick or 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come temporarily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ascinate; hypnot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9520" y="49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0952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09520" y="38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09520" y="439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is stopped to catch his breath, he watched the dog’s dark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ttl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at split the brightly colored wildflowers like a zipp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disorderly or tang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marked with spots of different colo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ick or d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shar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09520" y="496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09520" y="31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9520" y="37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3750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his eyes adjusted to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ctua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ight, Travis halted, surprised by what he saw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very da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vary irregul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09520" y="459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09520" y="28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09520" y="339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09520" y="39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vis’ initial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d given way to curiosit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ful or uneasy anticipation of the future;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anticipation of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ened awareness of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adven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09520" y="50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0952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09520" y="390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09520" y="448452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2440" indent="-532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forgive m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gres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 thought you were my younger brothers come to torment my solitude.’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ccident or mistake commit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te of shock or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ck of poli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2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n, committing an offense; violation of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09520" y="54338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09520" y="327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09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109520" y="4761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w roll of thunder seemed to announc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ister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rival of Nettie’s broth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eaky, mischievous and cru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ting or disappo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ud, noisy, and lacking in discipli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containing males;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09520" y="4573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0952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09520" y="337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109520" y="398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31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Mary could answer, a flash of lightning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antane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ap of thunder sent little Temple rushing into Mary’s arms 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oud, sharp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ing at a specific inst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 or surpr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ise followed by an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09520" y="491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0952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09520" y="37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09520" y="4330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04000" indent="-5040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miss my friends from Galveston who a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rantin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an’t come back to school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lation of a contagious person to prevent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of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amily moves away from a place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4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that happens to a sick pers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hey can’t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09520" y="5421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10952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109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109520" y="4432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3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tie look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stful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ward the stained glass windows lining the west wal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ver or mischiev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of wishful yearning; s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d or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09520" y="4567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09520" y="278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0952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09520" y="397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3T22:25:32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01000000000001023620</vt:lpwstr>
  </property>
</Properties>
</file>