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26C2-69C5-457B-BECF-E353D2336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260-E26C-49DE-A9E4-2F6972CB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8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1D5-0979-4585-AE44-FA24005F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2860-2E22-45A8-9F40-AEB1AEEC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D634-C358-4CF3-AB23-1BAEED3B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93E-ED2F-4ABF-843C-7DCFBD62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2D6-744D-4F3C-9DD7-CECCF4F6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086-EA88-4514-9F37-CF97C2CA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090-EAE5-4C32-BF1D-C080F61C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31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97E-AFC4-4B56-A50B-953F87E3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859D-64F2-4AC9-9310-6F30F765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E97-B468-4215-9CBB-022332E9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2F7-672F-49C8-8408-4D6282D5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9C61-DCE5-448A-8FA5-DF12F7721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lapid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ooden box sat on the rude shelf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oth and well sa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open or broken op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down, in a horrible con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09520" y="456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109520" y="279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09520" y="338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109520" y="3978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 seem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smer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 the bat’s aerial maneuvers till a dog’s sudden bark echoed off the hills and broke his reveri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excite or make e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make sick or 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come temporarily d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ascinate; hypnot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09520" y="49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0952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109520" y="38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109520" y="439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071960" y="478620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ravis stopped to catch his breath, he watched the dog’s dark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ttl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at split the brightly colored wildflowers like a zipp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disorderly or tang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marked with spots of different colo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thick or d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shar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09520" y="496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09520" y="31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09520" y="37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09520" y="43750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his eyes adjusted to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luctua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, Travis halted, surprised by what he saw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very b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very da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tay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vary irregular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09520" y="4591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09520" y="28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09520" y="339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09520" y="39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vis’ initial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pprehen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d given way to curiosit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ful or uneasy anticipation of the future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e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d anticipation of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ened awareness of surrou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of adven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09520" y="507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09520" y="2994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09520" y="390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09520" y="448452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32440" indent="-532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forgive my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gress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I thought you were my younger brothers come to torment my solitude.’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ccident or mistake commit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knowin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te of shock or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ck of poli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n, committing an offense; violation of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09520" y="54338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109520" y="3271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09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109520" y="4761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ow roll of thunder seemed to announce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ister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rival of Nettie’s brother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eaky, mischievous and cru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ting or disappoi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ud, noisy, and lacking in discipli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containing males;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09520" y="4573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10952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109520" y="337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109520" y="398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31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Mary could answer, a flash of lightning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antane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lap of thunder sent little Temple rushing into Mary’s arms 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oud, sharp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ing at a specific inst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 or surpri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ise followed by an e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09520" y="491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0952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09520" y="37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09520" y="4330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04000" indent="-5040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miss my friends from Galveston who a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quarantin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an’t come back to school.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lation of a contagious person to prevent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of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d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family moves away from a place wi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that happens to a sick pers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hey can’t lea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09520" y="5421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10952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109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109520" y="4432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tie look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istful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ward the stained glass windows lining the west wall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ver or mischiev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of wishful yearning; 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d or 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09520" y="4567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09520" y="278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0952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09520" y="397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3T22:25:32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01000000000001023620</vt:lpwstr>
  </property>
</Properties>
</file>