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076-7D5C-43D1-8B6F-23E57950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24D-BB17-4EC2-86A8-761933DB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46C-51AA-430B-A11F-02E9CE70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A92-5613-4D3A-8576-F1A06AD6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176-2E0A-4779-84E9-1FA0665E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A2F-1BCE-4394-987C-FB2BBD4F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B60-725F-4982-9C96-D915D265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8A5-BBB1-446D-985F-DFA640A9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D99-1449-497B-976B-5F160D07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AAA-35CA-4ADC-9876-BBD29A37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140-24BF-4293-BA1B-52B62DF7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9D1-5B27-4085-91CA-2962BC45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8177-C37B-45F6-9B45-50788C20B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2:24Z</dcterms:created>
  <dc:creator>Jeremiah McNichols</dc:creator>
  <dc:description/>
  <dc:language>en-US</dc:language>
  <cp:lastModifiedBy>Jeremiah McNichols</cp:lastModifiedBy>
  <dcterms:modified xsi:type="dcterms:W3CDTF">2007-12-17T15:42:5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2000000000001023620</vt:lpwstr>
  </property>
</Properties>
</file>