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944-1C65-445D-A425-E780120C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7C5-AFFD-4F05-8F71-25A645F0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132-4418-466E-8064-256ECF75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B59-A589-4963-B543-8FED3E62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00E-4DFA-4C5C-BCB8-468902E4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E75-4CA6-4A1A-8BBD-02533130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A85-0DBE-442E-B37D-B2BDFA89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DA8-5A63-42A3-AF96-C6A73E8C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775-DD75-4F02-AEA3-4D2DC5B8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706-9686-46C1-AAA9-EE617AB0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7CF-9C91-4D79-9332-C9FFB50F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CC6-E547-4985-8620-7653E2FC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CBEF-299D-46C5-8309-8F1929245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5:39Z</dcterms:created>
  <dc:creator>Jeremiah McNichols</dc:creator>
  <dc:description/>
  <dc:language>en-US</dc:language>
  <cp:lastModifiedBy>Jeremiah McNichols</cp:lastModifiedBy>
  <dcterms:modified xsi:type="dcterms:W3CDTF">2007-12-17T15:55:5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1000000000001023620</vt:lpwstr>
  </property>
</Properties>
</file>