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EE701-A1A7-4F64-A6EA-16206A762F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4B65D-8345-473D-BB4D-A905C5DC00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9E2C5-A775-44BB-8BB1-D9C9EB3C45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DC934-1181-46D8-8522-4051176F7F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3C1D4-B4B0-4930-9CF2-B32EA005CD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1F241-7DB1-4EA7-818B-CC2BC4272A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1B7EB-E803-4520-81D7-103DBB8A98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4F465-5AB4-444F-9017-8993C1A976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13754-7956-4754-8D16-38DE188AF8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DBD7F-2BF7-4E18-9A75-AB57937841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9628A-0D61-4AF1-B24A-960634C356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E06B7-49EE-494E-967B-EC73A1B695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D80BF-DE51-47BD-9B3B-32C8EBFEB348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Tri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7240" y="1447920"/>
            <a:ext cx="7770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triangle = 1/2 x Base x Heigh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as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1447920"/>
            <a:ext cx="7543800" cy="46479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RightTriangle" descr=""/>
          <p:cNvPicPr/>
          <p:nvPr/>
        </p:nvPicPr>
        <p:blipFill>
          <a:blip r:embed="rId2"/>
          <a:stretch/>
        </p:blipFill>
        <p:spPr>
          <a:xfrm>
            <a:off x="3406680" y="3048120"/>
            <a:ext cx="2308320" cy="232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F88C5-71FA-413E-868D-203205AF5DFB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Squar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square = Side x Side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1447920"/>
            <a:ext cx="7543800" cy="44956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Box" descr=""/>
          <p:cNvPicPr/>
          <p:nvPr/>
        </p:nvPicPr>
        <p:blipFill>
          <a:blip r:embed="rId2"/>
          <a:stretch/>
        </p:blipFill>
        <p:spPr>
          <a:xfrm>
            <a:off x="3276720" y="3124080"/>
            <a:ext cx="2171520" cy="216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E1209-0F6A-47A4-A9BC-712BC90BD966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Circ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circle = </a:t>
            </a:r>
            <a:r>
              <a:rPr b="0" lang="en-US" sz="32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x Radius x Radiu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amet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14800" y="42670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14800" y="3124080"/>
            <a:ext cx="0" cy="236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Circle" descr=""/>
          <p:cNvPicPr/>
          <p:nvPr/>
        </p:nvPicPr>
        <p:blipFill>
          <a:blip r:embed="rId2"/>
          <a:stretch/>
        </p:blipFill>
        <p:spPr>
          <a:xfrm>
            <a:off x="2819520" y="3048120"/>
            <a:ext cx="2503440" cy="250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A2DC3-D7BD-4981-964D-ECBCDF0252F7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Rect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rectangle = Length x Width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id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Rectangle" descr=""/>
          <p:cNvPicPr/>
          <p:nvPr/>
        </p:nvPicPr>
        <p:blipFill>
          <a:blip r:embed="rId2"/>
          <a:stretch/>
        </p:blipFill>
        <p:spPr>
          <a:xfrm>
            <a:off x="2759040" y="3003480"/>
            <a:ext cx="3314880" cy="225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C58B1-CB85-4F86-9F73-7E8E907A48ED}" type="slidenum">
              <a:t>4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39Z</dcterms:modified>
  <cp:revision>217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801000000000001023620</vt:lpwstr>
  </property>
</Properties>
</file>