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1593-971F-4189-B861-D5C4F6EEB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EC77-BD9E-47AC-8A29-3CE6FC3A8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5190-959F-46D4-9F81-58D3E19B6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7525-BE18-4B27-B98E-3AB961E09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E372-DE15-43DB-BB88-337E9E4B5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4A43-C542-4CBA-A525-7FE2264B9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FBE1-36FF-4800-BE27-65061A220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5212-5BCE-4714-B3F3-1E58143AC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1387-4B24-4576-B7FF-308DFA1D4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B13D-AA79-4360-8D6F-B83F35AF9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B27E-4912-4BEB-BC6A-252F20EB8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A22F-8EA7-48F7-946D-0D9FB0FBC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A56F9-06EF-43FD-892C-52DB37C4C9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7T15:31:32Z</dcterms:created>
  <dc:creator>Jeremiah McNichols</dc:creator>
  <dc:description/>
  <dc:language>en-US</dc:language>
  <cp:lastModifiedBy>Jeremiah McNichols</cp:lastModifiedBy>
  <dcterms:modified xsi:type="dcterms:W3CDTF">2007-12-17T15:31:59Z</dcterms:modified>
  <cp:revision>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401000000000001023620</vt:lpwstr>
  </property>
</Properties>
</file>