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CEBF-045C-4AE0-A036-B97FE4600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B0E8-D59D-480D-B2E7-DBA5CB1EF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0F9D-DBC9-4684-9A2F-7926E4CE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C2CD-E1F0-40D9-A8EC-D0A954FCD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2963-A0FA-4395-B877-365F6EE24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DDD2-DA4A-4D18-8B90-663D4B7D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FAED-5BF9-4930-B94B-6CBED1CA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F6B9-C6C5-4036-9A5A-4388B62A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564F-1C01-42B2-B94F-0C75BF2C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52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6F35-6953-479F-9D6A-870531F2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C32F-5DE6-4EEF-A6BA-5392696A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1A83-6159-44CC-AF1C-9657AD09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3DB6-1FF9-4394-A11A-444DB687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7ED1-D94E-4DA6-B6FD-B121EBFA083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360" y="137016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Nettie’s opinion, which of the following helped guard her against swamp vapor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vaccination from her docto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ating plenty of fruits and vegetabl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rlic worn on a string around her ne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umes from her camphor ra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984240" y="4303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992160" y="2521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992160" y="3125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990720" y="3716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8096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"/>
              <a:buAutoNum type="arabicPeriod" startAt="10"/>
              <a:tabLst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Nettie rushes away with her brother, Andrew, what does she give to Travis as a symbol of their friendship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hair ribb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no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ki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ook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984240" y="4711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992160" y="2913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992160" y="3517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990720" y="41227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164040" y="2778120"/>
            <a:ext cx="2790720" cy="1257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071960" y="478620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5120" indent="-555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finds himself in an old cemetery because he . . 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looking for a dog named Rowd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lieves his great grandmother is burie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mised to meet his friend Roman the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doing a Texas history report on historic grav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rk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84240" y="482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992160" y="2535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992160" y="3203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990720" y="41418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0640" y="13622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notices something unusual about several of the grave markers in one section of the cemetery.  Which of the following best describes what he sees?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ach marker is engraved with the sam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ne of the markers have a da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markers show that the decease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son died in 1867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ach marker has three angels carved on the top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-1440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984240" y="5695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992160" y="323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992160" y="4121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990720" y="4782960"/>
            <a:ext cx="37440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4520" y="137016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understand the grave markers better,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. . . 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tops at the public library to read abou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toric gravesites in Texa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tacts his friend Roman and travels back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sks his father what he knows about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emete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refully copies all the information on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rkers so that he can study them lat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982800" y="54100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976320" y="2548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976320" y="350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974880" y="44686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6240" y="13730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meets a new friend, Nettie, in the cemetery.  Nettie . . 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errified and asks Travis to protect 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an only child and goes to the cemetery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sit her father’s gra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ants flowers at the cemetery every spr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oes to the cemetery to read and write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iva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284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984240" y="4849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992160" y="2535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992160" y="3203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990720" y="41418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373040"/>
            <a:ext cx="802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5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fter meeting Nettie, Mary, Andrew, Willie and Temple in the cemetery, Travis begins to worry that . . .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children will not reach home before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torm hi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identical gravestones mark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ildrens’ grave si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children will report Roman and him to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ol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Backpack Computer malfunctioned,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he is not in Texa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984240" y="5778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992160" y="28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992160" y="383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990720" y="47991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4440" y="13730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and Roman use the Backpack Computer to make two trips during the story. The second trip takes them back in time to . . .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old cemete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uneral ho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churc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eed sto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984240" y="4579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992160" y="279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992160" y="3402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990720" y="3990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5600" y="13748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encounters Nettie a second time in the story. Which word best describes Nettie at this meeting?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orri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gr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ir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984240" y="4576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992160" y="279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992160" y="33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990720" y="39751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7680" y="1384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ich of the following is NOT true of Nettie’s Aunt Eliza?  She . . 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not really Nettie’s au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an old woma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orks for the famil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afraid to trav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984240" y="434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992160" y="254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992160" y="3156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990720" y="37465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16:00:21Z</dcterms:created>
  <dc:creator>Dr. Deborah Kochevar</dc:creator>
  <dc:description/>
  <dc:language>en-US</dc:language>
  <cp:lastModifiedBy>Vince Hardy</cp:lastModifiedBy>
  <cp:lastPrinted>2003-01-31T16:54:50Z</cp:lastPrinted>
  <dcterms:modified xsi:type="dcterms:W3CDTF">2007-05-03T19:15:58Z</dcterms:modified>
  <cp:revision>52</cp:revision>
  <dc:subject/>
  <dc:title>Investigator Challenge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1000000000001023620</vt:lpwstr>
  </property>
</Properties>
</file>