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8889-204E-4390-A4E0-801560072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ED28-119C-4559-8B4D-40146C41E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’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r”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 and the family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T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 family and I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r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 the “?” after the wor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a “.”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0D11-7F83-4E68-8629-B4E662F8D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8730-0758-4AED-B1D8-C058BAAFE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0635-C3F8-4AF5-9045-2B506EDF7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431E-751E-4DFC-8BF7-23AFD7385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56CB-DBC4-4D8F-9153-962FD77E4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E23-D9FA-4CA5-B089-B794DCE7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2AE-E8E8-44CF-AAF5-FE27ECDA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713-F0A1-40BF-8B57-9D47DD64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5C7-0049-415F-95CA-1A40F690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D63-E8A4-493B-96FA-4DC0B788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58F5-5891-4EAB-A45C-304FFCD2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968-9E40-455B-8B11-0EAC7B05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48C-6CFD-4266-A4D5-A4620B70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0DB-03E4-46CB-A0F0-6B1D4A9D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5FC-F0F4-4F56-8283-778BF745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76A-AC3F-4A44-A4E7-8F967AE5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5E2-9C8E-4902-A387-319EAEDB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17D0-71DC-41C0-BF14-E6FF7AA97342}" type="slidenum">
              <a:rPr b="0" lang="en-US" sz="1400" spc="-1" strike="noStrike">
                <a:solidFill>
                  <a:srgbClr val="ebebe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CeUnlockLang%20Letter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Unlocking Language Quiz</a:t>
            </a:r>
            <a:endParaRPr b="0" lang="en-US" sz="72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920" y="405432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nswer each question by clicking A, B, C, or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rew is younger than Nettie, but Temple is the most youngest of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an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empl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et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74680" y="52052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166760" y="342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177920" y="401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176480" y="460548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2856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  Roman is tall, but Travis is more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re 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57400" y="3032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3048120"/>
            <a:ext cx="7848720" cy="3124080"/>
          </a:xfrm>
          <a:prstGeom prst="rect">
            <a:avLst/>
          </a:prstGeom>
          <a:solidFill>
            <a:srgbClr val="ebe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6960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ndrew decides to write a letter to his sister Maggie to tell her about the sickness in his town.  Help him correct his mistakes before he mails the letter.</a:t>
            </a:r>
            <a:endParaRPr b="0" lang="en-US" sz="20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riting a Letter</a:t>
            </a:r>
            <a:endParaRPr b="0" lang="en-US" sz="36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6248520"/>
            <a:ext cx="640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f7fb45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to print a hard copy of the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30400" y="3403440"/>
            <a:ext cx="7010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Magg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and you’re family?  Me and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are fine, but the sickness here gets worser eve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.  Yesterday, our neighbore, Mr. Cole, took ill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says that we will come visit you soon?  I hop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you stay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052880" y="4344840"/>
            <a:ext cx="961920" cy="505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17340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04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not sick,  ____ many of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ighbors are 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>
            <a:lum contrast="-24000"/>
          </a:blip>
          <a:stretch/>
        </p:blipFill>
        <p:spPr>
          <a:xfrm>
            <a:off x="4800600" y="3524400"/>
            <a:ext cx="3929040" cy="295272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74680" y="525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6676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177920" y="4043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176480" y="464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fore Travis and Roman left, Nettie gave Travis ___  rib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78160" y="3846600"/>
            <a:ext cx="4432320" cy="25542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181160" y="52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173240" y="343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17468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1182600" y="46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 Nettie said Temple was a baby.  He was 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and he was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but he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66760" y="35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495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6480" y="539604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.  To have 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 to have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.  Are so lucky to h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81160" y="53910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571840"/>
            <a:ext cx="185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4354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5"/>
              <a:tabLst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Nettie is afraid her mother will get sick too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. 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181160" y="539604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438280"/>
            <a:ext cx="822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1749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6"/>
              <a:tabLst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ould Roman stay at home.  Or should he go with Travis to solve the mystery of the gravey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. 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 or should he go.  With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179360" y="590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71440" y="3495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18260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181160" y="519732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met Travis and Roman, she thought he wore strange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79360" y="523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7144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26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181160" y="46386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wdy runs into the woods, Travis follows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d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r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57400" y="30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8:48:37Z</dcterms:created>
  <dc:creator>peerstudent</dc:creator>
  <dc:description/>
  <dc:language>en-US</dc:language>
  <cp:lastModifiedBy>Vince Hardy</cp:lastModifiedBy>
  <dcterms:modified xsi:type="dcterms:W3CDTF">2007-05-07T17:22:10Z</dcterms:modified>
  <cp:revision>71</cp:revision>
  <dc:subject/>
  <dc:title>Unlocking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2000000000001023620</vt:lpwstr>
  </property>
</Properties>
</file>