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media/image9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B047-BB36-4859-97C2-6E265EE3C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the time it took for Travis to hear the echo by tw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econds/ 2 = 2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me it took for Travis’ voice to go from him to the hi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is time by the velocity that sound tra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econds x (330 m/ 1 sec)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60 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ll is 660 meters away from Trav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 Use multiplication and division in problems with equal ratios and 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D) Use multiplication by a unit rate to represent proportional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echo sound velocity meters 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diameter of the tree in 18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= 37.7 cm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x 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iameter = 37.7 cm/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2.0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units to milli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cm x (10 mm/ 1 cm) = 12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find the original radius of the tree = Diameter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 mm / 2 = 6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tree’s radius has now doubled in size, the new radius of the tree is 120 mm = 12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the new circumference of the tree is C = 2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x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x 12 = 75.41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B) Use addition and subtraction in problems with fractions and dec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C) Describe the relationship between radius, diameter, and circum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A) Make formulas for conversions, perimeter, area, volume, and sc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 Estimate measurements and solve problems involving length, area, an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D) Use multiplication by a unit rate to represent proportional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circumference diameter average con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the formula for the volume of a cylinder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 r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dius (r = 12 cm) and volume (V = 25,765 c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are given.  All that needs to be solved for is the height from which the formula you ge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= Volume/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 r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) = 25,765 /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 1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B) Use addition and subtraction in problems with fractions and dec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B) Generate formulas for perimeter, area, and volu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C) Describe the relationship between radius, diameter, and circum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D) Convert measures within the same measurement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 Estimate measurements and solve problems involving length, area, an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A) Make formulas for conversions, perimeter, area, volume, and sc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D) Use multiplication by a unit rate to represent proportional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8 (B) Connect models to formulas for volumes of different 3-D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volume height cylinder diameter radius square ro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iest way to do this problem would be to draw a scaled drawing of the cemet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making such a drawing, add the lengths to get the total dimensions of the pl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= 1 m + 2.5 m + 0.5 m + 2.5 m + 0.5 m + 2.5 m + 1 m = 10.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1s are the space between the graves and f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e 2.5s are for the length of the 3 gr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0.5s are for the two  spaces between gr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th = 1 m + 1 m + .5 m + 1 m + .5 m + 1 m + 1 m = 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1s are from the space between the graves and f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of the 1s are from the width of the 3 gr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0.5s are for the two  spaces between gr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final dimensions of the lot are 10.5 m x 6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the surface area simply multiply length by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5 m x 6 m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3 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A) Model addition and subtraction involving fractions in various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) Describe proportions using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B) Generate formulas for perimeter, area, an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C) Select or develop an appropriate problem solving strategy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 Estimate measurements and solve problems involving length, area, an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C) Select or develop an appropriate problem-solving strate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C) Select an appropriate problem solving 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pattern-oriented direction dimensions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volume of each pie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Length x Width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vertical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5m x 0.1m x 1m = 0.005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horizontal 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5m x 0.1m x 0.5m = 0.0025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two volumes and then subtract the volume where the two intersect to avoid counting it tw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inter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5m x 0.1m x 0.1m = 0.0005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5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0.0025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0.0005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.007 m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or 7,000 cm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B) Generate formulas for perimeter, area, an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D) Convert measures within the same measurement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 Estimate measurements and solve problems involving length, area, an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8 (B) Connect models to formulas for volumes of different 3-D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meter width volume intersection cr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8B18-F0D8-49A7-9EA8-F510AEBF7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A6E6-744D-4DFD-8D40-FDD14246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A4E7-9C97-4B52-A83C-63DEC4176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A25F-127F-4535-904E-0BDE1196B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6983-9DD8-4ED1-BF58-F3E33388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D85B-9118-41B3-84C7-5C03A6CB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A992-B771-42CA-9119-69FD3B93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DC64-C354-4A3A-B160-347BC765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E5B1-6C67-44D9-B383-269D0E51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96BD-843B-459B-BD6E-EFEBC44C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39C8-C681-4F76-9231-A0F42A21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8A09-E4F8-4E5E-A836-4DC719BD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0530-323D-40DD-A06A-8E06611D9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057400" y="1469880"/>
            <a:ext cx="5018040" cy="1920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0" y="7621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480" y="385776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14840" y="809640"/>
            <a:ext cx="17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X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rates to solve problems dealing with spe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relationship between diameter and circumfer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surface area, volume, and spatial reaso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49160"/>
            <a:ext cx="80582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the story begins, Travis is chasing Mr. Clark’s dog Rowdy, and ends up at a gravey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vis notices a lot of the graves have the year 1867 on them, so Travis decides to transport to 1867 using his BPC, and asks Roman to joi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an and Travis meet at the graveyard in 1867, and begin investig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owdy!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wdy!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d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280" y="3052800"/>
            <a:ext cx="7521480" cy="32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le chasing Rowdy into the graveyard, Travis called out, and Travis’s voice echoed off of the hilltop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 took 4 seconds for the echo to return to Travis, how far was he from the hilltop? Assume that sound travels at a velocity of 330 meters per seco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192400" y="6280200"/>
            <a:ext cx="51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d out more information about unit conver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809880" y="1438200"/>
            <a:ext cx="1506600" cy="1533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5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4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As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27200"/>
            <a:ext cx="603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vis arrived at the cemetery in 1867, he noticed that the oak trees were smaller than those in 200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ircumference of one of the oak trees measured 37.7cm.  What would the radius of this tree have been in 1867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radius of the tree had doubled in size since 1867, what is the circumference of the tree to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08680" y="1735200"/>
            <a:ext cx="1611360" cy="265248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4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360" y="5657760"/>
            <a:ext cx="75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here for more information on circum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“oaks” are you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3600" y="16315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vis figured out that the volume of the oak tree in the last question was 25,765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He figured this out by measuring the height of the tree, and then calculating the volu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the volume Travis found, and assuming the stump was a perfect cylinder, how would you solve for how tall the oak stump was? (Recall from the last slide that the radius of the tree is 12 cm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347280" y="6089760"/>
            <a:ext cx="56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out more information on volu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4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metery Lay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85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vis was at the cemetery, he was standing in a lot of 9 graves surrounded by an old, iron fenc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ves were arranged in a 3 by 3  pattern with all the graves oriented in the same direction.  Each gravesite measured 1 m by 2.5 m and was located .5m from the next gravesit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istance of 1 m separated the plot of graves from the old, iron fence that surrounded it on all four sides.  Draw a picture to find the dimensions of the lot, and the surface area does it cov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58240" y="5881680"/>
            <a:ext cx="525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more about area calc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5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910560" y="5221440"/>
            <a:ext cx="183816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7600" y="1179360"/>
            <a:ext cx="361944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le in the cemetery, Travis noticed an interesting rusty iron cross that stood 1 meter tall and was 0.5 meter wide.  The base and top of the cross measured 5 cm by 10 cm as did the ends of the cross a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ing the cross had the same thickness everywhere, what is the volume of the cross?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041720" y="1911240"/>
            <a:ext cx="4591080" cy="38750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669200" y="6197760"/>
            <a:ext cx="422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more about geome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4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http://peer.tamu.edu/forms/Curricula_Survey.sht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80880" y="1981080"/>
            <a:ext cx="8570880" cy="4578120"/>
            <a:chOff x="380880" y="1981080"/>
            <a:chExt cx="8570880" cy="457812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4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5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6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4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95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7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22960" y="2166840"/>
              <a:ext cx="2728800" cy="43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6:18:35Z</dcterms:created>
  <dc:creator>Jeremiah McNichols</dc:creator>
  <dc:description/>
  <dc:language>en-US</dc:language>
  <cp:lastModifiedBy>Jeremiah McNichols</cp:lastModifiedBy>
  <dcterms:modified xsi:type="dcterms:W3CDTF">2008-11-10T17:14:36Z</dcterms:modified>
  <cp:revision>2</cp:revision>
  <dc:subject/>
  <dc:title>Slide 1</dc:title>
</cp:coreProperties>
</file>