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9861-E1C7-4708-9468-5549D87D2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F25-25BC-4DAF-B2D3-A77F96B7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9A5-60FD-4A27-86C0-9EF1ECEB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B27-1AFE-40F1-9F33-BEE50ADC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6B3-AAAB-41EA-93B7-B5B1FC4A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D96-7F8C-4821-B19F-07B32CFD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45D6-BD45-4099-AB8A-CD1E92F2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377-40CB-4697-ADAA-B12BE6B1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944-F199-4D52-9E7E-D1FAEDA5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B7F-A0DD-4B6E-9BEB-10B53831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679-24B2-4A26-A1CE-5A87B275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F5A-AE33-4334-9B2E-A730EA8C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0D2-FEFA-4C4F-98B7-3C4D540C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42CD-BE11-4D0F-9B9B-3EFD79943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9-11T17:14:12Z</dcterms:modified>
  <cp:revision>29</cp:revision>
  <dc:subject/>
  <dc:title>Sensory Details </dc:title>
</cp:coreProperties>
</file>