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9943-A082-4A86-9566-29263B8A8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470A-6041-401A-BA98-F2607408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29AE-E90D-4C5F-997C-A0F4CBCE0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6FA2-AD4C-4C86-9E4C-1B1EE011D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E303-24A3-4201-AC68-E3E6698A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C784-E91F-4169-A329-B249B6C8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2822-7BD1-44E2-B5D9-1C3875E4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AA1A-9EC0-455E-9CBA-BDA10FF9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C360-2961-45E8-AD7F-4FFE8028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8A7E-038A-43F2-9837-6C1D2A78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3615-89AF-45BD-9E4B-BB96CC21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8287-43EE-4443-A804-7388A9F3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3A41-664A-45C7-AECD-B51D26E07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55:39Z</dcterms:created>
  <dc:creator>Jeremiah McNichols</dc:creator>
  <dc:description/>
  <dc:language>en-US</dc:language>
  <cp:lastModifiedBy>Jeremiah McNichols</cp:lastModifiedBy>
  <dcterms:modified xsi:type="dcterms:W3CDTF">2007-12-17T15:55:56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01000000000001023620</vt:lpwstr>
  </property>
</Properties>
</file>