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CFB-5B37-4AC3-BE39-1464917D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918-F4C0-4227-9AC3-8C51E7CD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843-6A7E-419C-AFD5-19572E6B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7C9-5DA8-4911-9BF6-4A2DB175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6B8-782C-4B4C-BB0A-C461E592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F89-F7B4-469A-AC7C-91DC1D53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0F5-26A6-4C25-8D2B-8CE4FFDA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082-4B06-49DA-849F-118629D2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967-EA0C-4B0F-82EE-F043859B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929-B8DA-4FFA-A11B-F8EB1D2A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EC9-8253-466B-94D4-1F9CE73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797-38DB-40CB-A6AE-D0140771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B6BD-6681-457F-934B-B09FFFFB1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4:17Z</dcterms:created>
  <dc:creator>Jeremiah McNichols</dc:creator>
  <dc:description/>
  <dc:language>en-US</dc:language>
  <cp:lastModifiedBy>Jeremiah McNichols</cp:lastModifiedBy>
  <dcterms:modified xsi:type="dcterms:W3CDTF">2007-12-17T15:54:4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0000000000001023620</vt:lpwstr>
  </property>
</Properties>
</file>