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9C1E-956D-4057-BD2E-516BB727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DF74-E8CB-478E-9953-17A1B1116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’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r”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 and the family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T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 family and 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r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 the “?” after the wor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a “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0EC1-33CE-4493-816E-13EB6B2E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7318-D1DF-4FCF-AA1E-2C036BAB3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A41F-ECA8-4BCB-A5CF-D7E0D571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C2CB-D48D-4AF8-B1A4-FA98CE51B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AF82-5B8B-4644-97A4-64D10900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746-A53E-4E62-8EE3-40D98C27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5BF-55EB-4771-B64A-29831750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0E3-5404-45EC-9E9E-BD4436BC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26B-74B6-48A9-B2E8-FC62E10B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17B-AE3A-4432-A1EA-4B413719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83C-5C56-41C9-87C4-7452CC24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887-7F92-47B2-A87F-0D6AC5FF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450-08A1-4F76-8B4A-3584E338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1B9-C0EE-494B-81D1-65FF1D40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816-010D-45EB-83B5-4945D4FF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D81-E4DE-4681-9C1F-C1D977A9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5C2-91D4-4B4E-83F4-0AC118D2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73BC-C9DD-45B5-88E7-5C3DC1474B18}" type="slidenum">
              <a:rPr b="0" lang="en-US" sz="1400" spc="-1" strike="noStrike">
                <a:solidFill>
                  <a:srgbClr val="ebebe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CeUnlockLang%20Let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Unlocking Language Quiz</a:t>
            </a:r>
            <a:endParaRPr b="0" lang="en-US" sz="72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question by clicking A, B, C, or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rew is younger than Nettie, but Temple is the most youngest of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empl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et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74680" y="52052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66760" y="342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177920" y="401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176480" y="460548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856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  Roman is tall, but Travis is more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re 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57400" y="3032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048120"/>
            <a:ext cx="7848720" cy="3124080"/>
          </a:xfrm>
          <a:prstGeom prst="rect">
            <a:avLst/>
          </a:prstGeom>
          <a:solidFill>
            <a:srgbClr val="eb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ndrew decides to write a letter to his sister Maggie to tell her about the sickness in his town.  Help him correct his mistakes before he mails the letter.</a:t>
            </a:r>
            <a:endParaRPr b="0" lang="en-US" sz="20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riting a Letter</a:t>
            </a:r>
            <a:endParaRPr b="0" lang="en-US" sz="36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7fb45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30400" y="3403440"/>
            <a:ext cx="701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agg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and you’re family?  Me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are fine, but the sickness here gets worser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.  Yesterday, our neighbore, Mr. Cole, took il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says that we will come visit you soon?  I hop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sta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052880" y="434484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17340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04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not sick,  ____ many of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ighbors are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4000"/>
          </a:blip>
          <a:stretch/>
        </p:blipFill>
        <p:spPr>
          <a:xfrm>
            <a:off x="4800600" y="3524400"/>
            <a:ext cx="3929040" cy="295272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74680" y="525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6676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77920" y="4043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176480" y="464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fore Travis and Roman left, Nettie gave Travis ___  rib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78160" y="3846600"/>
            <a:ext cx="4432320" cy="25542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181160" y="52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173240" y="343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17468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182600" y="46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 Nettie said Temple was a baby.  He was 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and he was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but he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66760" y="35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495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6480" y="539604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.  To have 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 to have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.  Are so lucky to h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81160" y="53910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71840"/>
            <a:ext cx="185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5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5"/>
              <a:tabLst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Nettie is afraid her mother will get sick too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. 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81160" y="539604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438280"/>
            <a:ext cx="822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6"/>
              <a:tabLst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ould Roman stay at home.  Or should he go with Travis to solve the mystery of the grave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. 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 or should he go.  With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79360" y="590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71440" y="3495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260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181160" y="519732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met Travis and Roman, she thought he wore strange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79360" y="523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7144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26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1160" y="46386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wdy runs into the woods, Travis follows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d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57400" y="30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48:37Z</dcterms:created>
  <dc:creator>peerstudent</dc:creator>
  <dc:description/>
  <dc:language>en-US</dc:language>
  <cp:lastModifiedBy>Vince Hardy</cp:lastModifiedBy>
  <dcterms:modified xsi:type="dcterms:W3CDTF">2007-05-07T17:22:10Z</dcterms:modified>
  <cp:revision>71</cp:revision>
  <dc:subject/>
  <dc:title>Unlocking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2000000000001023620</vt:lpwstr>
  </property>
</Properties>
</file>