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D708-F978-44A8-8DB2-DA2AF7EC2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78E-80FA-4FFD-A789-E022614E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420-64E4-4FE3-B127-47184F6D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E89-08F4-43FB-9DCA-506398E2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0B1-58E2-4913-9A96-55732995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400-90C4-4D6B-B571-241168D8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65A-7357-4DED-AB23-78EE19CD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319-095D-44DB-AE39-D18308F7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01E-6B49-456C-B9D6-86BEBC3B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152-A741-41AD-A9FC-DBEFF535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D4A-BDD4-4501-9F2E-BA9C369B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CCE-E802-4B7C-8C27-38236282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81D-CC89-49E3-A5D4-030FF5F8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4B7F-4A30-407D-8378-6FCF130BD09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9-11T17:13:12Z</dcterms:modified>
  <cp:revision>29</cp:revision>
  <dc:subject/>
  <dc:title>Descriptive Writing</dc:title>
</cp:coreProperties>
</file>