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13082-926C-49A4-B1CD-0FA6166D3B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67E47-13F6-44CF-9797-B2CEF8604E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7680B-74EA-4558-B417-203FEF386A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7A7E3-6CD6-4F02-9505-0B60C0E5FE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D8562-D515-46ED-ABCD-06CB56FC50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C4F6A-9D9A-4C10-B9F8-D554BEAC86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CD0CB-60F1-4E4F-9942-6CE818DC41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0EE10-BD0E-43BC-A40D-6FD2A8A136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AC379-6589-40F2-9984-0BA98C9029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0AA57-5067-4934-822E-C3454E239E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0EC68-3765-47D7-884E-25E0BA3A07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2015B-3D3F-49E1-B647-B160B3447B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ABF1C-7A43-49D2-8251-7979408AA618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 ratio is a comparison of two numbers by division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 comparing 1 to 4 can be stated as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to 4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:4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out of 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A66F6-2372-4B18-A687-E887834982B5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4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1 par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1/4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943600" y="914400"/>
            <a:ext cx="2664000" cy="349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0F3B4-7828-4D8C-888C-D604D507E9AB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5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3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3/5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791320" y="1143000"/>
            <a:ext cx="2778120" cy="2835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1AF69-34C2-42E2-A60A-DFF5365A4341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7240" y="-228600"/>
            <a:ext cx="77709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534160" cy="569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ompare the ratios 4/6 and 2/3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Draw a rectangle with 6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Draw another rectangle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with 3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3. Shade 4 parts of the upper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rectangle and shade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2 parts of the lower rectangl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nce the areas shaded are the same,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s are equivalent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324480" y="990720"/>
            <a:ext cx="2286000" cy="4035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92887-A236-4083-946F-D1DA0106D08A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724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09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nce ratios can be written as fractions,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:6 and 2:3 are equivalent ratios </a:t>
            </a:r>
            <a:br>
              <a:rPr sz="3200"/>
            </a:b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just a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/6 and 2/3 are equivalent fraction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÷ 2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    ÷ 2</a:t>
            </a: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2864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732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05120" y="3809880"/>
            <a:ext cx="1603080" cy="92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1905120" y="4820400"/>
            <a:ext cx="1599120" cy="87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2" y="9473"/>
                </a:moveTo>
                <a:arcTo wR="10800" hR="10800" stAng="-10376525" swAng="10376525"/>
                <a:lnTo>
                  <a:pt x="10800" y="10800"/>
                </a:lnTo>
                <a:close/>
              </a:path>
              <a:path fill="none" w="21600" h="21600">
                <a:moveTo>
                  <a:pt x="82" y="9473"/>
                </a:moveTo>
                <a:arcTo wR="10800" hR="10800" stAng="-10376525" swAng="10376525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5562720" y="4897080"/>
            <a:ext cx="1599120" cy="87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8" y="9501"/>
                </a:moveTo>
                <a:arcTo wR="10800" hR="10800" stAng="-10385669" swAng="10385669"/>
                <a:lnTo>
                  <a:pt x="10800" y="10800"/>
                </a:lnTo>
                <a:close/>
              </a:path>
              <a:path fill="none" w="21600" h="21600">
                <a:moveTo>
                  <a:pt x="78" y="9501"/>
                </a:moveTo>
                <a:arcTo wR="10800" hR="10800" stAng="-10385669" swAng="10385669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562720" y="3733920"/>
            <a:ext cx="1603080" cy="91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/>
          <p:nvPr/>
        </p:nvCxnSpPr>
        <p:spPr>
          <a:xfrm>
            <a:off x="3504960" y="419076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99" name=""/>
          <p:cNvCxnSpPr/>
          <p:nvPr/>
        </p:nvCxnSpPr>
        <p:spPr>
          <a:xfrm>
            <a:off x="7162560" y="411444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0" name=""/>
          <p:cNvCxnSpPr/>
          <p:nvPr/>
        </p:nvCxnSpPr>
        <p:spPr>
          <a:xfrm flipV="1">
            <a:off x="3504960" y="5181120"/>
            <a:ext cx="76680" cy="15336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1" name=""/>
          <p:cNvCxnSpPr/>
          <p:nvPr/>
        </p:nvCxnSpPr>
        <p:spPr>
          <a:xfrm flipV="1">
            <a:off x="7162560" y="525708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15238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26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814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102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D3407-AFF5-4816-B556-5A2C7E044CA3}" type="slidenum">
              <a:t>5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20:00Z</dcterms:modified>
  <cp:revision>219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e01000000000001023620</vt:lpwstr>
  </property>
</Properties>
</file>