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9826-C49B-42B2-8662-0AB8E4126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65A7-BC4F-482A-90B1-4296DBAC2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86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6183-C27B-4B07-A528-03C0DCFB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77B3-F5A6-4125-B420-2CDF8E47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3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3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8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8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8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C5BA-6DCA-4FD5-96AC-7EF09279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4FE5-352E-46FE-AEA5-B989008E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CF1B-D4D6-4FC1-8C66-C18A4AAF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157C-8EAB-4436-93D7-83951E6F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F9F6-FC97-437A-894D-C79756DC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31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2300-E07C-4537-92EF-DFF22964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B3CF-DC72-44AF-8784-742F94F3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0991-D4C9-430C-B733-1CC6E974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86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94AB-B9F3-4D53-ABEF-220416C8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8C8F-D8B0-41B2-A9B4-B3803AE0E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,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lapid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ooden box sat on the rude shelf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oth and well sa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hing open or broken op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down, in a horrible cond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109520" y="456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109520" y="279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109520" y="3382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1109520" y="39783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is seeme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smeriz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y the bat’s aerial maneuvers till a dog’s sudden bark echoed off the hills and broke his reveri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excite or make ea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make sick or up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come temporarily dea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fascinate; hypnot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109520" y="49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109520" y="320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109520" y="380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109520" y="4394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071960" y="478620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5120" indent="-555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Travis stopped to catch his breath, he watched the dog’s dark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ttl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at split the brightly colored wildflowers like a zipp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disorderly or tang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marked with spots of different color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thick or de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shar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09520" y="496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109520" y="317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109520" y="37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109520" y="43750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his eyes adjusted to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luctua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ight, Travis halted, surprised by what he saw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very br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very da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tay cons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vary irregular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09520" y="4591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109520" y="280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109520" y="339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109520" y="39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vis’ initial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pprehen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ad given way to curiosity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ful or uneasy anticipation of the future;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ea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ited anticipation of the fu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ened awareness of surround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e of adven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109520" y="5072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109520" y="2994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109520" y="3903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1109520" y="448452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32440" indent="-532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’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forgive my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ransgress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 I thought you were my younger brothers come to torment my solitude.’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ccident or mistake committ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knowing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ate of shock or surpr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ck of poli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in, committing an offense; violation of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109520" y="54338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109520" y="3271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109520" y="417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109520" y="47610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ow roll of thunder seemed to announce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oister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rrival of Nettie’s brother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eaky, mischievous and cru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setting or disappoin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ud, noisy, and lacking in discipli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hing containing males;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109520" y="4573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109520" y="2795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109520" y="337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109520" y="398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31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Mary could answer, a flash of lightning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tantane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lap of thunder sent little Temple rushing into Mary’s arms 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oud, sharp no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ring at a specific insta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y or surpri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ise followed by an ec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09520" y="491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09520" y="3132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09520" y="372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109520" y="43308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04000" indent="-5040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miss my friends from Galveston who ar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quarantin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can’t come back to school.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olation of a contagious person to prevent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read of 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word for de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 family moves away from a place wit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hing that happens to a sick pers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they can’t lea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109520" y="5421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109520" y="28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109520" y="37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109520" y="4432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ttie looke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istful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ward the stained glass windows lining the west wall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ver or mischiev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re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of wishful yearning; s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ited or 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09520" y="4567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09520" y="2786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109520" y="338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109520" y="3976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3T22:25:32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601000000000001023620</vt:lpwstr>
  </property>
</Properties>
</file>