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DBE4-764A-4A54-8633-10C0E8011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pulation has grown by 3,395,733.  The population today is 702 times what it was in 18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D) Use division to find unit rates and ratios in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population growth Harris County percentages Houston 18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a ratio (Texas pop. in 1867/ Houston’s pop. today) x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04,215/ 3,400,578) x 100% = 17.7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out how much the city has grown since 1867, divide today's population by the population t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400,578/ 4,845 = 701.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's’ population has increased in size by almos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02 tim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ince 186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D) Use division to find unit rates and ratios in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population Texas Houston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oldcardboard.com/lsj/texians/popgrow.htm  (permission was granted for use within the mo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students are looking at the graph, ask them about how many times larger the population of Texas was in 1850 compared to 18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50, from the graph it looks like there were about 210,000 people.  In 1840, from the graph, it looks like there were around 70,000 people.  Thus, 210,000/70,000 = 3, so the population was about 3 times bigger in 1850 than it was in 18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Use multiplication and division in problems with equal ratios and 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Estimate and round to approximate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Apply Math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Use problem solving model to answer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Make inferences and convincing arguments based on analysis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4 (A) Communicate mathematical ideas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Predict/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stimate, find, and justify solutions to applicatio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Real-World Appl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Use problem solv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Select an appropriate problem solv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with permission from http://www.oldcardboard.com/lsj/texians/popgrow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sk the students about the trend they see in this 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viously the population is increasing, but is it increasing faster at some points in time compared to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Analyz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raw and compare different graphical representations of the same graphical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Apply Math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Use problem solving model to answer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Interpretation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elect and use an appropriate representation for present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Make inferences and convincing arguments based on analysis of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Real-World Appl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Use problem solv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Select an appropriate problem solv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336A-7B3A-46CF-9B38-C60EF467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1E13-324F-4BDA-9AE8-FD9F09CA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A8A9-B8C5-4B09-BA1D-3BF0BDDE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1BC-A155-4083-9885-AFE12075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948B-EF33-4E5B-97CE-19DED868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8B3-035E-4299-A89E-DC6A14CC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2BC-47F0-48A0-ACFB-18D57128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D52-C767-4D4C-8DD0-02AF208A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9F6-12BE-4B10-B535-BA7C0708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E64A-8EAE-4F82-B155-9BBCE0F1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2F6-031B-49FC-A57D-9D0A3415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7FA-621A-4E82-829A-1B8A62CE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32E4-1BB3-4954-B80D-1549CA66F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Appendices/FraToPer.ppt" TargetMode="External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Appendices/Ratios.ppt" TargetMode="External"/><Relationship Id="rId4" Type="http://schemas.openxmlformats.org/officeDocument/2006/relationships/hyperlink" Target="Appendices/FraToPer.ppt" TargetMode="External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Appendices/TX Math 4 Texas Pop. Maps.pdf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057400" y="1469880"/>
            <a:ext cx="5018040" cy="192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0" y="7621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14840" y="809640"/>
            <a:ext cx="17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X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http://peer.tamu.edu/forms/Curricula_Survey.s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1981080"/>
            <a:ext cx="8570880" cy="4578120"/>
            <a:chOff x="380880" y="1981080"/>
            <a:chExt cx="8570880" cy="4578120"/>
          </a:xfrm>
        </p:grpSpPr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7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1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2960" y="2166840"/>
              <a:ext cx="2728800" cy="43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6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population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percents using rat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and compare graphs representing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Population in 18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math to show the differences between 1867 and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95880" y="4572000"/>
            <a:ext cx="267192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 story, Travis and Roman travel between Texas in the present time, and Texas in 186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think the population of Texas has changed since 1867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872320" y="4278240"/>
            <a:ext cx="2585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38120" y="295272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860, the population in Harris County (Houston) was 4,845 people.  In 2000, the population in Harris County (Houston) was 3,400,578 people.  How much has the population grown since 1860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8120" y="1523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, Houston is one of the largest cities in the United States. In 1867 it was the third largest city in Texas and just beginning to grow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54360" y="3005280"/>
            <a:ext cx="4141800" cy="28890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704880" y="495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ties in 18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22600" y="5900760"/>
            <a:ext cx="44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out more about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percent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800" y="60948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ties in 18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14320" y="6086520"/>
            <a:ext cx="72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out more information on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ratio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percent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805032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867, Texas had a total population of 604,215.  Today, the city of Houston alone has a population of 3,400,57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tal population of Texas in 1867 is what percent of Houston’s present 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population of Houston in 1867 was 4,845 people, how many times greater is the population of Houston in 200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6267600" y="4944960"/>
            <a:ext cx="210960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80960" y="5082840"/>
            <a:ext cx="851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graph shows how thinly populated the wilderness was for the first settlers in Texas.  By 1840 the population still totaled only 70,000 settl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Population Chart B"/>
          <p:cNvPicPr/>
          <p:nvPr/>
        </p:nvPicPr>
        <p:blipFill>
          <a:blip r:embed="rId2"/>
          <a:srcRect l="0" t="12191" r="0" b="0"/>
          <a:stretch/>
        </p:blipFill>
        <p:spPr>
          <a:xfrm>
            <a:off x="1596960" y="1108080"/>
            <a:ext cx="5985000" cy="3930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90720" y="270000"/>
            <a:ext cx="581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0040" y="249120"/>
            <a:ext cx="68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Population Pre-186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Population Chart A"/>
          <p:cNvPicPr/>
          <p:nvPr/>
        </p:nvPicPr>
        <p:blipFill>
          <a:blip r:embed="rId2"/>
          <a:stretch/>
        </p:blipFill>
        <p:spPr>
          <a:xfrm>
            <a:off x="965160" y="1701720"/>
            <a:ext cx="7451640" cy="4910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20" y="347760"/>
            <a:ext cx="846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Population Before and After 186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as this Population Distributed Across Tex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04800" y="2949480"/>
            <a:ext cx="30258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out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8:54:45Z</dcterms:created>
  <dc:creator>Jeremiah McNichols</dc:creator>
  <dc:description/>
  <dc:language>en-US</dc:language>
  <cp:lastModifiedBy>Jeremiah McNichols</cp:lastModifiedBy>
  <dcterms:modified xsi:type="dcterms:W3CDTF">2008-11-10T17:22:17Z</dcterms:modified>
  <cp:revision>1</cp:revision>
  <dc:subject/>
  <dc:title>Slide 1</dc:title>
</cp:coreProperties>
</file>