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5A4-DC23-422F-9ED5-8BAB46B4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1785-B822-43C9-B9BD-73002AC7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3FD-26E0-4A8D-8434-332EF6C9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DD0-E460-4864-B248-D1ECB531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E57-5A2C-4E77-9D45-9CB7F98D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431-FE21-42B3-A0E6-39210B98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946-9EE9-4387-B77F-607D12D1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BD4-2560-4CA0-A7E4-051C6320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0AC-E532-4ECC-B4A8-4D5C835F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84E-3353-45D9-AA34-34C3E15C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A99-43B5-4090-A314-871FB6F6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1CD4-C115-4502-8982-1BA79264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9DB3-A12B-4462-8802-71EB95078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4:17Z</dcterms:created>
  <dc:creator>Jeremiah McNichols</dc:creator>
  <dc:description/>
  <dc:language>en-US</dc:language>
  <cp:lastModifiedBy>Jeremiah McNichols</cp:lastModifiedBy>
  <dcterms:modified xsi:type="dcterms:W3CDTF">2007-12-17T15:54:41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0000000000001023620</vt:lpwstr>
  </property>
</Properties>
</file>