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F78-5276-4182-8CB8-896E2C22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246-D12F-4A99-95B6-3E794FB4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380-74E1-4444-996B-C2DD291E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999-4F3F-4CAA-BD8B-54943FE9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E57-4D1C-42F9-B3F0-B8BD3CEC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BDC-BF75-482C-BB4F-B7B47CBF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829-114C-488F-9EC1-7137C174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C80-7806-456E-9350-D69842B7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125-4EE1-4EBF-A0AB-E751CF15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5E1-41BD-4BB5-B177-B6D4EB6F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1F7-2778-4ADD-9ABC-DD76CB32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D82-E5FD-4B9A-A29B-02C74044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105A-BD8D-46B7-AAFC-BF13B449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1:32Z</dcterms:created>
  <dc:creator>Jeremiah McNichols</dc:creator>
  <dc:description/>
  <dc:language>en-US</dc:language>
  <cp:lastModifiedBy>Jeremiah McNichols</cp:lastModifiedBy>
  <dcterms:modified xsi:type="dcterms:W3CDTF">2007-12-17T15:31:5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1000000000001023620</vt:lpwstr>
  </property>
</Properties>
</file>