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5F1-025F-42B5-87F9-2BEE9485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328-EBE0-4CA4-A9C9-64F187E2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E5A-2A86-4D91-9F30-433920A8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760-AF44-4090-95C8-5BAABC1C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7FC-1137-48C3-BECF-37F4B9EF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8A2-FE90-4EB8-8862-842EED6A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B6A-AD9B-4036-BFE9-F746D16D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51E-A9CD-4BFB-B19A-E98B04AC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FA0-6E3B-43C4-9402-5FA3BA93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6CD-470E-44E8-977A-07C5109C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E48-70F3-41CE-AD3A-87CE7CF9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435-D7BF-4811-89BF-00516624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C626-930F-4120-B933-8C61C1C91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5:39Z</dcterms:created>
  <dc:creator>Jeremiah McNichols</dc:creator>
  <dc:description/>
  <dc:language>en-US</dc:language>
  <cp:lastModifiedBy>Jeremiah McNichols</cp:lastModifiedBy>
  <dcterms:modified xsi:type="dcterms:W3CDTF">2007-12-17T15:55:5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1000000000001023620</vt:lpwstr>
  </property>
</Properties>
</file>