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00C-C514-4888-AA5B-D6F40112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381-CF73-4600-AD9D-8727D68A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EEF-197E-4F73-BE01-F75852DB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BCC-24A5-44F5-809F-60D5CF3F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25E-4199-44FD-B610-895D86F7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B0C-523B-448C-B804-04F0D361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C55-B1A3-4155-A41E-9898B05F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07A-8DEE-4DE6-A6CE-A626A278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DB6-7790-4A49-ADCA-EBDC792E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1A7-10D6-48C8-AC79-5C85B79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7FB-BD62-4BB4-B3D7-48FF8279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A9A-F9F8-4C12-895C-8BD523FF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5254-845C-44B2-A604-B89B53813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2:24Z</dcterms:created>
  <dc:creator>Jeremiah McNichols</dc:creator>
  <dc:description/>
  <dc:language>en-US</dc:language>
  <cp:lastModifiedBy>Jeremiah McNichols</cp:lastModifiedBy>
  <dcterms:modified xsi:type="dcterms:W3CDTF">2007-12-17T15:42:5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2000000000001023620</vt:lpwstr>
  </property>
</Properties>
</file>