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8B4D2-0CB5-4B04-9C2E-FD93B18B4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4744-9BD1-4D2B-BC1B-FC8F52FC1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83D5-40DA-4F9F-B765-1333AEDE4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DD6B-81A3-42D0-A2C5-6351A88EA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C1A6-2FA6-4E07-A9B9-E09A9FA23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D594-AF47-4248-9F36-D3C3D7417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1251-33B1-42F2-A947-6BBF14707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F348-E1BD-44C8-94DC-734471EB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DC63-F93C-494D-B1CD-3770460CB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F893-6331-4226-93FE-DF4161E33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A41B-3DCA-4FA9-8001-9596F191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DDFA-E5EE-4E15-82C4-D73133A1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BDD5-FF26-41FD-8595-F460C4E0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26D11-FB69-42E5-98A4-0B5D414C2D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ljlab</cp:lastModifiedBy>
  <cp:lastPrinted>2002-01-04T15:57:18Z</cp:lastPrinted>
  <dcterms:modified xsi:type="dcterms:W3CDTF">2003-09-11T17:14:12Z</dcterms:modified>
  <cp:revision>29</cp:revision>
  <dc:subject/>
  <dc:title>Sensory Details </dc:title>
</cp:coreProperties>
</file>