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C813-5F48-4810-91EA-E5C2B718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has grown by 3,395,733.  The population today is 702 times what it was in 1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growth Harris County percentages Houston 18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a ratio (Texas pop. in 1867/ Houston’s pop. today) x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04,215/ 3,400,578) x 100% = 17.7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how much the city has grown since 1867, divide today's population by the population t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400,578/ 4,845 = 701.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's’ population has increased in size by almo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2 ti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ce 18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Texas Houston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ldcardboard.com/lsj/texians/popgrow.htm  (permission was granted for use within the mo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tudents are looking at the graph, ask them about how many times larger the population of Texas was in 1850 compared to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50, from the graph it looks like there were about 210,000 people.  In 1840, from the graph, it looks like there were around 70,000 people.  Thus, 210,000/70,000 = 3, so the population was about 3 times bigger in 1850 than it was in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Use multiplication and division in problems with equal ratios and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Estimate and round to approximat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Make inferences and convincing arguments based on analysi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Predict/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ith permission from http://www.oldcardboard.com/lsj/texians/popgrow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sk the students about the trend they see in this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viously the population is increasing, but is it increasing faster at some points in time compared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Analyz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raw and compare different graphical representations of the same graphical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Interpretation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elect and use an appropriate representation for present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Make inferences and convincing arguments based on analysis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724-9575-4B30-9C6B-23A00387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11C-D138-4AE2-9CF8-FF116714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4D3-0837-4BF6-AFFD-51765436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36D-7F94-46AD-8954-D5FB243A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F51-A700-4BEC-81ED-5A72F16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E04-F706-40F0-B49C-775087D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919-507C-42D6-B15C-78DC114A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BA4-6FF8-401D-9C48-19E08BD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38B-C77E-4B4A-B050-8D59DE2C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D45-AFD5-42BF-A7FF-653F999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1B9-8BC7-4039-8A91-11D8A7F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57F-AE96-4A77-8503-A12E6E3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BC10-1D39-48DA-8EDF-5BE222C04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X Math 4 Texas Pop. Maps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opulatio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ercents us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nd compare graphs represent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math to show the differences between 1867 an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2671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 story, Travis and Roman travel between Texas in the present time, and Texas in 186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think the population of Texas has changed since 186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72320" y="4278240"/>
            <a:ext cx="2585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38120" y="29527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0, the population in Harris County (Houston) was 4,845 people.  In 2000, the population in Harris County (Houston) was 3,400,578 people.  How much has the population grown since 186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1523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Houston is one of the largest cities in the United States. In 1867 it was the third largest city in Texas and just beginning to grow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54360" y="3005280"/>
            <a:ext cx="4141800" cy="28890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704880" y="495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2600" y="590076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about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4320" y="608652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information on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805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7, Texas had a total population of 604,215.  Today, the city of Houston alone has a population of 3,400,5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population of Texas in 1867 is what percent of Houston’s present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opulation of Houston in 1867 was 4,845 people, how many times greater is the population of Houston in 200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267600" y="4944960"/>
            <a:ext cx="2109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0960" y="5082840"/>
            <a:ext cx="851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aph shows how thinly populated the wilderness was for the first settlers in Texas.  By 1840 the population still totaled only 70,000 settl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opulation Chart B"/>
          <p:cNvPicPr/>
          <p:nvPr/>
        </p:nvPicPr>
        <p:blipFill>
          <a:blip r:embed="rId2"/>
          <a:srcRect l="0" t="12191" r="0" b="0"/>
          <a:stretch/>
        </p:blipFill>
        <p:spPr>
          <a:xfrm>
            <a:off x="1596960" y="1108080"/>
            <a:ext cx="5985000" cy="3930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90720" y="270000"/>
            <a:ext cx="581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0040" y="249120"/>
            <a:ext cx="68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Pre-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pulation Chart A"/>
          <p:cNvPicPr/>
          <p:nvPr/>
        </p:nvPicPr>
        <p:blipFill>
          <a:blip r:embed="rId2"/>
          <a:stretch/>
        </p:blipFill>
        <p:spPr>
          <a:xfrm>
            <a:off x="965160" y="1701720"/>
            <a:ext cx="7451640" cy="4910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47760"/>
            <a:ext cx="846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Before and After 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this Population Distributed Across Tex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04800" y="2949480"/>
            <a:ext cx="30258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ou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8:54:45Z</dcterms:created>
  <dc:creator>Jeremiah McNichols</dc:creator>
  <dc:description/>
  <dc:language>en-US</dc:language>
  <cp:lastModifiedBy>Jeremiah McNichols</cp:lastModifiedBy>
  <dcterms:modified xsi:type="dcterms:W3CDTF">2008-11-10T17:22:17Z</dcterms:modified>
  <cp:revision>1</cp:revision>
  <dc:subject/>
  <dc:title>Slide 1</dc:title>
</cp:coreProperties>
</file>