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A284-EA16-4A55-961F-7E05547D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69B-E0DB-4521-B87C-D5DEF1E6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5E0-1925-4AF1-9440-06639D5B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634-EF1C-4A95-B1A2-073396CE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9CBE-81B2-48FA-92DD-44D11CA8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848-8BC5-4C8B-9CD5-908862B2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C91-0A41-4F22-9FA0-30646CD1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F907-5DA4-4C0D-AC20-5985F73A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6F92-508D-444C-86FC-6D8C7983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3A93-3870-4590-9B76-2A576D1F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CA2E-18ED-4092-BC28-8C9E13DD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DBD-3409-41AC-BF76-17FB4CA9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3122-1051-4F42-B88F-65B57D911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55:39Z</dcterms:created>
  <dc:creator>Jeremiah McNichols</dc:creator>
  <dc:description/>
  <dc:language>en-US</dc:language>
  <cp:lastModifiedBy>Jeremiah McNichols</cp:lastModifiedBy>
  <dcterms:modified xsi:type="dcterms:W3CDTF">2007-12-17T15:55:56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1000000000001023620</vt:lpwstr>
  </property>
</Properties>
</file>