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87E0-A76A-4E36-B05A-63490343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9685-03E3-4A90-8319-9D240BA1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7612-A85A-47B7-9889-19753FBA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B6BB-6357-4DE5-9459-C0FD0DBA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6478-8163-4614-ABDF-8DA760DB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82DC-5C3B-404E-93BB-CB90F893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6662-5DB6-42E4-B4BD-AD4803E1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1879-26E3-4874-AC02-D82DD465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8649-B875-4371-8E0B-E1C0E6B3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8E38-4C40-4B5A-B62D-E596E1BA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12C4-3C61-4634-8473-7B507466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66F1-2EBD-4B06-97D6-EE0675DF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ECBB-4702-4C0F-A780-E87091BF9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7632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48:08Z</dcterms:created>
  <dc:creator>Jeremiah McNichols</dc:creator>
  <dc:description/>
  <dc:language>en-US</dc:language>
  <cp:lastModifiedBy>Jeremiah McNichols</cp:lastModifiedBy>
  <dcterms:modified xsi:type="dcterms:W3CDTF">2007-12-17T15:48:20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01000000000001023620</vt:lpwstr>
  </property>
</Properties>
</file>