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6E2-E533-42C7-9B04-6BD2529F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time it took for Travis to hear the echo by tw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econds/ 2 =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me it took for Travis’ voice to go from him to the h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is time by the velocity that sound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conds x (330 m/ 1 sec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6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ll is 660 meters away from Tra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cho sound velocity meters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diameter of the tree in 18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= 37.7 cm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ameter = 37.7 cm/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2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units to milli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m x (10 mm/ 1 cm) = 12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ind the original radius of the tree = Diameter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mm / 2 = 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tree’s radius has now doubled in size, the new radius of the tree is 120 mm = 12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new circumference of the tree is C = 2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12 = 75.41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Describe the relationship between radius, diameter, and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 diameter average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formula for the volume of a cylinder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dius (r = 12 cm) and volume (V = 25,765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are given.  All that needs to be solved for is the height from which the formula you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= Volume/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 = 25,765 /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Describe the relationship between radius, diameter, and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lume height cylinder diameter radius square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iest way to do this problem would be to draw a scaled drawing of the ceme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making such a drawing, add the lengths to get the total dimensions of the p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= 1 m + 2.5 m + 0.5 m + 2.5 m + 0.5 m + 2.5 m + 1 m = 10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1s are the space between the graves and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2.5s are for the length of the 3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0.5s are for the two  spaces between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th = 1 m + 1 m + .5 m + 1 m + .5 m + 1 m + 1 m = 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1s are from the space between the graves and f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of the 1s are from the width of the 3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0.5s are for the two  spaces between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nal dimensions of the lot are 10.5 m x 6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surface area simply multiply length by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m x 6 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 Model addition and subtraction involving fractions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attern-oriented direction dimensions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each p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Length x Width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vertical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1m = 0.00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horizontal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0.5m = 0.002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two volumes and then subtract the volume where the two intersect to avoid counting it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inter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0.1m = 0.000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0.002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0.000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7 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r 7,000 c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eter width volume intersection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E1E-2C03-415E-B3E5-B4D03C72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453-0566-47AE-AF4D-16A0FF7E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A5C-72B5-4D85-B4A1-4DA8558D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EA0-FD30-454C-80E1-3F200CAF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CF0-4F2F-450A-9574-5C4D0E5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287-EC2A-4447-93C0-A7DC911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3E5-A978-4ABC-870B-B74BF57C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09B-3B29-499E-86F8-8D3806ED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B74-E5EB-496A-B365-EFC3460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53B-1723-4E66-84F3-E8EAAC3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6EC-7E5B-48B8-9F87-6B0D9D5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AA4-95B3-40C4-9561-20FA3AA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041-AE26-46A3-B153-665E107C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ates to solve problems dealing with sp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relationship between diameter and circum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surface area, volume, and spatial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49160"/>
            <a:ext cx="8058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story begins, Travis is chasing Mr. Clark’s dog Rowdy, and ends up at a grave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notices a lot of the graves have the year 1867 on them, so Travis decides to transport to 1867 using his BPC, and asks Roman to joi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and Travis meet at the graveyard in 1867, and begin investig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052800"/>
            <a:ext cx="7521480" cy="32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chasing Rowdy into the graveyard, Travis called out, and Travis’s voice echoed off of the hillto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took 4 seconds for the echo to return to Travis, how far was he from the hilltop? Assume that sound travels at a velocity of 330 meters per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92400" y="6280200"/>
            <a:ext cx="51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out more information about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9880" y="1438200"/>
            <a:ext cx="1506600" cy="153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5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As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7200"/>
            <a:ext cx="603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vis arrived at the cemetery in 1867, he noticed that the oak trees were smaller than those in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rcumference of one of the oak trees measured 37.7cm.  What would the radius of this tree have been in 186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adius of the tree had doubled in size since 1867, what is the circumference of the tre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08680" y="1735200"/>
            <a:ext cx="1611360" cy="265248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565776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for more information on circum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“oaks” are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3600" y="1631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figured out that the volume of the oak tree in the last question was 25,76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He figured this out by measuring the height of the tree, and then calculating the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volume Travis found, and assuming the stump was a perfect cylinder, how would you solve for how tall the oak stump was? (Recall from the last slide that the radius of the tree is 12 cm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47280" y="608976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information on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metery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85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vis was at the cemetery, he was standing in a lot of 9 graves surrounded by an old, iron fe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ves were arranged in a 3 by 3  pattern with all the graves oriented in the same direction.  Each gravesite measured 1 m by 2.5 m and was located .5m from the next gravesi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tance of 1 m separated the plot of graves from the old, iron fence that surrounded it on all four sides.  Draw a picture to find the dimensions of the lot, and the surface area does it c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8240" y="58816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more about area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5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10560" y="5221440"/>
            <a:ext cx="1838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7600" y="1179360"/>
            <a:ext cx="36194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in the cemetery, Travis noticed an interesting rusty iron cross that stood 1 meter tall and was 0.5 meter wide.  The base and top of the cross measured 5 cm by 10 cm as did the ends of the cross a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e cross had the same thickness everywhere, what is the volume of the cross?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41720" y="1911240"/>
            <a:ext cx="4591080" cy="3875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69200" y="6197760"/>
            <a:ext cx="42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more about geo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18:35Z</dcterms:created>
  <dc:creator>Jeremiah McNichols</dc:creator>
  <dc:description/>
  <dc:language>en-US</dc:language>
  <cp:lastModifiedBy>Jeremiah McNichols</cp:lastModifiedBy>
  <dcterms:modified xsi:type="dcterms:W3CDTF">2008-11-10T17:14:36Z</dcterms:modified>
  <cp:revision>2</cp:revision>
  <dc:subject/>
  <dc:title>Slide 1</dc:title>
</cp:coreProperties>
</file>