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6626-6702-4604-BE52-663385CC4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3FE9-504A-493A-A0CE-17803741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9292-06B3-49D8-943C-0D0F08EC1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08BD-0E10-4257-9040-564702076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7135-ADCB-4761-918F-4FDEC97C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FC38-F510-4AC4-AA74-CB100BEF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A152-16B7-41B6-9723-CF4B6EE3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3331-B78F-439D-BF7B-2F7CD2FC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C503-6837-4F92-9C50-7146BA0E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6FB0-0C2B-489D-8295-9D738ED2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78E4-C99F-4E60-89CD-E81013B0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DB3D-6CD3-43A4-BFFF-47E7573A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5E30-62D3-439E-A914-F16A8BC60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31:32Z</dcterms:created>
  <dc:creator>Jeremiah McNichols</dc:creator>
  <dc:description/>
  <dc:language>en-US</dc:language>
  <cp:lastModifiedBy>Jeremiah McNichols</cp:lastModifiedBy>
  <dcterms:modified xsi:type="dcterms:W3CDTF">2007-12-17T15:31:59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1000000000001023620</vt:lpwstr>
  </property>
</Properties>
</file>