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A046-0940-4EA0-B19F-757CD4265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6DD-1D4E-4B0D-A7BD-DFC79EB2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0355-D930-499F-9117-274391E1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B71-E53E-4890-8D3C-0947EB18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B94F-75C2-461E-BE2F-AA349890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D5F3-FF7E-428A-8B9F-F24A4A0E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FF2-1A9E-49F3-AF86-6913E78C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D73-ADBD-471B-8FE3-1EF727BD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01F6-6EC8-4F21-B76B-5F687B4F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2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0FE-3425-453A-A7C0-70BFB14C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C93-077F-4FB2-8797-34C2D91E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357B-9042-4EF0-9FB9-4FFFCB8D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1D9-690D-4BB6-8468-C6313350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61F7-51D9-40FC-AB75-F43F1CE76D1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360" y="13701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Nettie’s opinion, which of the following helped guard her against swamp vapor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accination from her docto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ting plenty of 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lic worn on a string around her ne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umes from her camphor ra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984240" y="430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992160" y="2521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992160" y="3125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990720" y="3716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809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Nettie rushes away with her brother, Andrew, what does she give to Travis as a symbol of their friendship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air ribb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no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ki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ook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84240" y="4711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92160" y="2913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992160" y="3517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990720" y="4122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64040" y="27781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71960" y="478620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finds himself in an old cemetery because h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looking for a dog named Rowd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lieves his great grandmother is burie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mised to meet his friend Roman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doing a Texas history report on historic grav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rk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84240" y="48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992160" y="2535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9921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990720" y="414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0640" y="13622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notices something unusual about several of the grave markers in one section of the cemetery.  Which of the following best describes what he sees?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marker is engraved with the sam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ne of the markers have a d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markers show that the decease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 died in 1867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marker has three angels carved on the to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-144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84240" y="5695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992160" y="32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992160" y="412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990720" y="4782960"/>
            <a:ext cx="37440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4520" y="13701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understand the grave markers better,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. . . 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ops at the public library to read ab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toric gravesites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tacts his friend Roman and travels back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ks his father what he knows about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emete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refully copies all the information o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rkers so that he can study them lat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82800" y="5410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976320" y="2548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976320" y="350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974880" y="4468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6240" y="13730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meets a new friend, Nettie, in the cemetery.  Netti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errified and asks Travis to protect 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n only child and goes to the cemetery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sit her father’s g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ants flowers at the cemetery every spr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oes to the cemetery to read and write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iv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284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84240" y="4849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992160" y="2535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9921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990720" y="414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373040"/>
            <a:ext cx="802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fter meeting Nettie, Mary, Andrew, Willie and Temple in the cemetery, Travis begins to worry that . . .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hildren will not reach home before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orm hi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identical gravestones mark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ildrens’ grave si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hildren will report Roman and him to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Backpack Computer malfunctioned,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he is not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84240" y="5778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921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992160" y="38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990720" y="47991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4440" y="13730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use the Backpack Computer to make two trips during the story. The second trip takes them back in time to . . .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old cemete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uneral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hurc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ed sto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84240" y="4579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992160" y="279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992160" y="340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990720" y="3990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5600" y="13748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encounters Nettie a second time in the story. Which word best describes Nettie at this meeting?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r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i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84240" y="4576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992160" y="27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99216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990720" y="3975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7680" y="1384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of the following is NOT true of Nettie’s Aunt Eliza?  Sh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not really Nettie’s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n old w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s for the fami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fraid to trav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984240" y="434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992160" y="25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992160" y="3156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990720" y="3746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6:00:21Z</dcterms:created>
  <dc:creator>Dr. Deborah Kochevar</dc:creator>
  <dc:description/>
  <dc:language>en-US</dc:language>
  <cp:lastModifiedBy>Vince Hardy</cp:lastModifiedBy>
  <cp:lastPrinted>2003-01-31T16:54:50Z</cp:lastPrinted>
  <dcterms:modified xsi:type="dcterms:W3CDTF">2007-05-03T19:15:58Z</dcterms:modified>
  <cp:revision>52</cp:revision>
  <dc:subject/>
  <dc:title>Investigator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1000000000001023620</vt:lpwstr>
  </property>
</Properties>
</file>