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4.wmf" ContentType="image/x-wmf"/>
  <Override PartName="/ppt/media/image2.png" ContentType="image/png"/>
  <Override PartName="/ppt/media/image9.jpeg" ContentType="image/jpeg"/>
  <Override PartName="/ppt/media/image3.jpeg" ContentType="image/jpeg"/>
  <Override PartName="/ppt/media/image5.jpeg" ContentType="image/jpeg"/>
  <Override PartName="/ppt/media/image6.jpeg" ContentType="image/jpeg"/>
  <Override PartName="/ppt/media/image12.jpeg" ContentType="image/jpeg"/>
  <Override PartName="/ppt/media/image13.png" ContentType="image/png"/>
  <Override PartName="/ppt/media/image1.jpeg" ContentType="image/jpeg"/>
  <Override PartName="/ppt/media/image7.png" ContentType="image/png"/>
  <Override PartName="/ppt/media/image10.jpeg" ContentType="image/jpeg"/>
  <Override PartName="/ppt/media/image8.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BD43-D76B-4598-A001-227EE3DB6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by a unit rate to represent proportional relationship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nd look at the relationship between the window heights.  You will notice that one window is 5 times higher than the other.  The same relationship holds true for the distance from the wall that the window illuminates.  Multiply 1.5 m by 5 to get the distance from the wall that the higher window begins to illuminate the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 x 5 = </a:t>
            </a:r>
            <a:r>
              <a:rPr b="1" lang="en-US" sz="1200" spc="-1" strike="noStrike">
                <a:solidFill>
                  <a:srgbClr val="000000"/>
                </a:solidFill>
                <a:latin typeface="Arial"/>
              </a:rPr>
              <a:t>7.5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Generate similar shapes using di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Use proportions in similar shapes to find missing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rea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year, you can observe that $1.50 is added to the total amount earned.  Thus the formula is of the form: Total Amount Earned = (1.5</a:t>
            </a:r>
            <a:r>
              <a:rPr b="0" lang="en-US" sz="1200" spc="-1" strike="noStrike">
                <a:solidFill>
                  <a:srgbClr val="000000"/>
                </a:solidFill>
                <a:latin typeface="Wingdings 2"/>
                <a:ea typeface="Wingdings 2"/>
              </a:rPr>
              <a:t></a:t>
            </a:r>
            <a:r>
              <a:rPr b="0" lang="en-US" sz="1200" spc="-1" strike="noStrike">
                <a:solidFill>
                  <a:srgbClr val="000000"/>
                </a:solidFill>
                <a:latin typeface="Arial"/>
              </a:rPr>
              <a:t>n)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Year 1, we would have: Total Amount Earned = 26.50 = (1.50</a:t>
            </a:r>
            <a:r>
              <a:rPr b="0" lang="en-US" sz="1200" spc="-1" strike="noStrike">
                <a:solidFill>
                  <a:srgbClr val="000000"/>
                </a:solidFill>
                <a:latin typeface="Wingdings 2"/>
                <a:ea typeface="Wingdings 2"/>
              </a:rPr>
              <a:t></a:t>
            </a:r>
            <a:r>
              <a:rPr b="0" lang="en-US" sz="1200" spc="-1" strike="noStrike">
                <a:solidFill>
                  <a:srgbClr val="000000"/>
                </a:solidFill>
                <a:latin typeface="Arial"/>
              </a:rPr>
              <a:t>1) + ?, and we can see that the ? must be $25.0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formula is: Total Amount Earned = 1.5</a:t>
            </a:r>
            <a:r>
              <a:rPr b="0" lang="en-US" sz="1200" spc="-1" strike="noStrike">
                <a:solidFill>
                  <a:srgbClr val="000000"/>
                </a:solidFill>
                <a:latin typeface="Wingdings 2"/>
                <a:ea typeface="Wingdings 2"/>
              </a:rPr>
              <a:t></a:t>
            </a:r>
            <a:r>
              <a:rPr b="0" lang="en-US" sz="1200" spc="-1" strike="noStrike">
                <a:solidFill>
                  <a:srgbClr val="000000"/>
                </a:solidFill>
                <a:latin typeface="Arial"/>
              </a:rPr>
              <a:t>n + 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1876 = 129 years have pas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Earned in 2005 = 1.5</a:t>
            </a:r>
            <a:r>
              <a:rPr b="0" lang="en-US" sz="1200" spc="-1" strike="noStrike">
                <a:solidFill>
                  <a:srgbClr val="000000"/>
                </a:solidFill>
                <a:latin typeface="Wingdings 2"/>
                <a:ea typeface="Wingdings 2"/>
              </a:rPr>
              <a:t></a:t>
            </a:r>
            <a:r>
              <a:rPr b="0" lang="en-US" sz="1200" spc="-1" strike="noStrike">
                <a:solidFill>
                  <a:srgbClr val="000000"/>
                </a:solidFill>
                <a:latin typeface="Arial"/>
              </a:rPr>
              <a:t>129 + 25 = $218.5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an equation from a problem situation using letters as unknow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alue dollar go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number of bats by the most number of mosquitoes that can be eaten in a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0,000 x 3,000 = 2,85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ts can eat 2.85 billion mosquitoes a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ats mosqui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ge of the data is 134-44 =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data is (134 + 96 + 44 + 122 + 78 + 101) = 575/6 = 95.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of the data is: (96 + 101)/2 = 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nalyz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be data using median, mode, and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models to connect mathematical operations to 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Describe a set of data using mean, median, mode, and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exican free-tail bats mean, median,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hands-on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02E2B-DB4D-4AEA-9C4C-5273C8D5F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07845-2702-480E-8175-B4BCF0DB8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65241-497F-4A2C-8CF6-C2DE4791F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BF55A-C112-4FA2-A47A-CB909071A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172FB-6CE9-4689-9E43-0EC57EFA6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02AC0-5A59-45E6-85AA-2DE031B73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AC69D-A353-4CDF-8D58-0394AB1A9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8D462-D3F5-4104-973A-BF3016EED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2763F-07D7-40C0-AA30-E49239197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AEAAE-E7CE-43E2-A4BF-A3EA21043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1DC42-F175-4245-888C-6D21D89E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30F2A-0FD2-48CA-B19D-2D9A7A62B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3113-1A23-4D84-85DE-1C57CA9C30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AreaCalc.ppt" TargetMode="External"/><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hyperlink" Target="file:///Appendices/Per%20Problems.ppt"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177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568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838080" y="191916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percents, fractions, and ratio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rates and formula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63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70040"/>
            <a:ext cx="7772400" cy="4425840"/>
          </a:xfrm>
          <a:prstGeom prst="rect">
            <a:avLst/>
          </a:prstGeom>
          <a:noFill/>
          <a:ln w="0">
            <a:noFill/>
          </a:ln>
        </p:spPr>
        <p:txBody>
          <a:bodyPr lIns="90000" rIns="90000" tIns="46800" bIns="46800" anchor="t">
            <a:normAutofit fontScale="99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is and Roman decide to transport themselves to Independence Baptist Church in 1867 to continue to investigate the mysterious death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meet Nettie at the church, and she talks to them about her family, and about a sickness that has recently struck the tow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is and Roman use the BPC to return to the church, in the present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1000"/>
                                        <p:tgtEl>
                                          <p:spTgt spid="55">
                                            <p:txEl>
                                              <p:pRg st="0" end="0"/>
                                            </p:txEl>
                                          </p:spTgt>
                                        </p:tgtEl>
                                      </p:cBhvr>
                                    </p:animEffect>
                                    <p:anim calcmode="lin" valueType="num">
                                      <p:cBhvr additive="repl">
                                        <p:cTn id="8"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5">
                                            <p:txEl>
                                              <p:pRg st="1" end="1"/>
                                            </p:txEl>
                                          </p:spTgt>
                                        </p:tgtEl>
                                        <p:attrNameLst>
                                          <p:attrName>style.visibility</p:attrName>
                                        </p:attrNameLst>
                                      </p:cBhvr>
                                      <p:to>
                                        <p:strVal val="visible"/>
                                      </p:to>
                                    </p:set>
                                    <p:animEffect filter="fade" transition="in">
                                      <p:cBhvr additive="repl">
                                        <p:cTn id="14" dur="1000"/>
                                        <p:tgtEl>
                                          <p:spTgt spid="55">
                                            <p:txEl>
                                              <p:pRg st="1" end="1"/>
                                            </p:txEl>
                                          </p:spTgt>
                                        </p:tgtEl>
                                      </p:cBhvr>
                                    </p:animEffect>
                                    <p:anim calcmode="lin" valueType="num">
                                      <p:cBhvr additive="repl">
                                        <p:cTn id="15"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Effect filter="fade" transition="in">
                                      <p:cBhvr additive="repl">
                                        <p:cTn id="21" dur="1000"/>
                                        <p:tgtEl>
                                          <p:spTgt spid="55">
                                            <p:txEl>
                                              <p:pRg st="2" end="2"/>
                                            </p:txEl>
                                          </p:spTgt>
                                        </p:tgtEl>
                                      </p:cBhvr>
                                    </p:animEffect>
                                    <p:anim calcmode="lin" valueType="num">
                                      <p:cBhvr additive="repl">
                                        <p:cTn id="22"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593960" y="627552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more about </a:t>
            </a:r>
            <a:r>
              <a:rPr b="0" lang="en-US" sz="2400" spc="-1" strike="noStrike" u="sng">
                <a:solidFill>
                  <a:srgbClr val="3333cc"/>
                </a:solidFill>
                <a:uFillTx/>
                <a:latin typeface="Times New Roman"/>
                <a:hlinkClick r:id="rId2"/>
              </a:rPr>
              <a:t>area calculations</a:t>
            </a:r>
            <a:r>
              <a:rPr b="0" lang="en-US" sz="2400" spc="-1" strike="noStrike" u="sng">
                <a:solidFill>
                  <a:srgbClr val="000000"/>
                </a:solidFill>
                <a:uFillTx/>
                <a:latin typeface="Times New Roman"/>
              </a:rPr>
              <a:t>.</a:t>
            </a:r>
            <a:endParaRPr b="0" lang="en-US" sz="2400" spc="-1" strike="noStrike">
              <a:solidFill>
                <a:srgbClr val="000000"/>
              </a:solidFill>
              <a:latin typeface="Arial"/>
            </a:endParaRPr>
          </a:p>
        </p:txBody>
      </p:sp>
      <p:sp>
        <p:nvSpPr>
          <p:cNvPr id="57" name="PlaceHolder 1"/>
          <p:cNvSpPr>
            <a:spLocks noGrp="1"/>
          </p:cNvSpPr>
          <p:nvPr>
            <p:ph type="title"/>
          </p:nvPr>
        </p:nvSpPr>
        <p:spPr>
          <a:xfrm>
            <a:off x="228240" y="438120"/>
            <a:ext cx="863604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ined Glass Panes</a:t>
            </a:r>
            <a:endParaRPr b="0" lang="en-US" sz="4400" spc="-1" strike="noStrike">
              <a:solidFill>
                <a:srgbClr val="000000"/>
              </a:solidFill>
              <a:latin typeface="Times New Roman"/>
            </a:endParaRPr>
          </a:p>
        </p:txBody>
      </p:sp>
      <p:sp>
        <p:nvSpPr>
          <p:cNvPr id="58" name="PlaceHolder 2"/>
          <p:cNvSpPr>
            <a:spLocks noGrp="1"/>
          </p:cNvSpPr>
          <p:nvPr>
            <p:ph/>
          </p:nvPr>
        </p:nvSpPr>
        <p:spPr>
          <a:xfrm>
            <a:off x="353520" y="1143000"/>
            <a:ext cx="8512200" cy="2013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ravis and Nettie were sitting in the church, a stained glass window 1 meter above the floor illuminated the floor 1.5 meters away from the wall.  If there was a higher window located 5 meters above the floor, how far from the wall would it begin to illuminate the floor?</a:t>
            </a:r>
            <a:endParaRPr b="0" lang="en-US" sz="2800" spc="-1" strike="noStrike">
              <a:solidFill>
                <a:srgbClr val="000000"/>
              </a:solidFill>
              <a:latin typeface="Times New Roman"/>
            </a:endParaRPr>
          </a:p>
        </p:txBody>
      </p:sp>
      <p:pic>
        <p:nvPicPr>
          <p:cNvPr id="59" name="" descr=""/>
          <p:cNvPicPr/>
          <p:nvPr/>
        </p:nvPicPr>
        <p:blipFill>
          <a:blip r:embed="rId3"/>
          <a:stretch/>
        </p:blipFill>
        <p:spPr>
          <a:xfrm>
            <a:off x="0" y="0"/>
            <a:ext cx="219240" cy="6858000"/>
          </a:xfrm>
          <a:prstGeom prst="rect">
            <a:avLst/>
          </a:prstGeom>
          <a:ln w="0">
            <a:noFill/>
          </a:ln>
        </p:spPr>
      </p:pic>
      <p:grpSp>
        <p:nvGrpSpPr>
          <p:cNvPr id="60" name=""/>
          <p:cNvGrpSpPr/>
          <p:nvPr/>
        </p:nvGrpSpPr>
        <p:grpSpPr>
          <a:xfrm>
            <a:off x="216000" y="3166920"/>
            <a:ext cx="6670440" cy="3595680"/>
            <a:chOff x="216000" y="3166920"/>
            <a:chExt cx="6670440" cy="3595680"/>
          </a:xfrm>
        </p:grpSpPr>
        <p:sp>
          <p:nvSpPr>
            <p:cNvPr id="61" name=""/>
            <p:cNvSpPr/>
            <p:nvPr/>
          </p:nvSpPr>
          <p:spPr>
            <a:xfrm>
              <a:off x="2430360" y="4559040"/>
              <a:ext cx="2266920" cy="1143000"/>
            </a:xfrm>
            <a:prstGeom prst="rtTriangle">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438280" y="3235320"/>
              <a:ext cx="4448160" cy="2473200"/>
            </a:xfrm>
            <a:prstGeom prst="rtTriangl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663560" y="4662360"/>
              <a:ext cx="665280" cy="1019160"/>
            </a:xfrm>
            <a:custGeom>
              <a:avLst/>
              <a:gdLst>
                <a:gd name="textAreaLeft" fmla="*/ 425160 w 665280"/>
                <a:gd name="textAreaRight" fmla="*/ 665280 w 66528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11080" y="3166920"/>
              <a:ext cx="519120" cy="2514600"/>
            </a:xfrm>
            <a:custGeom>
              <a:avLst/>
              <a:gdLst>
                <a:gd name="textAreaLeft" fmla="*/ 331560 w 519120"/>
                <a:gd name="textAreaRight" fmla="*/ 519480 w 5191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352520" y="4890960"/>
              <a:ext cx="43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m</a:t>
              </a:r>
              <a:endParaRPr b="0" lang="en-US" sz="2800" spc="-1" strike="noStrike">
                <a:solidFill>
                  <a:srgbClr val="000000"/>
                </a:solidFill>
                <a:latin typeface="Arial"/>
              </a:endParaRPr>
            </a:p>
          </p:txBody>
        </p:sp>
        <p:sp>
          <p:nvSpPr>
            <p:cNvPr id="66" name=""/>
            <p:cNvSpPr/>
            <p:nvPr/>
          </p:nvSpPr>
          <p:spPr>
            <a:xfrm>
              <a:off x="216000" y="4149720"/>
              <a:ext cx="66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m</a:t>
              </a:r>
              <a:endParaRPr b="0" lang="en-US" sz="2800" spc="-1" strike="noStrike">
                <a:solidFill>
                  <a:srgbClr val="000000"/>
                </a:solidFill>
                <a:latin typeface="Arial"/>
              </a:endParaRPr>
            </a:p>
          </p:txBody>
        </p:sp>
        <p:sp>
          <p:nvSpPr>
            <p:cNvPr id="67" name=""/>
            <p:cNvSpPr/>
            <p:nvPr/>
          </p:nvSpPr>
          <p:spPr>
            <a:xfrm rot="16200000">
              <a:off x="3325680" y="5074920"/>
              <a:ext cx="393840" cy="2057400"/>
            </a:xfrm>
            <a:custGeom>
              <a:avLst/>
              <a:gdLst>
                <a:gd name="textAreaLeft" fmla="*/ 251640 w 393840"/>
                <a:gd name="textAreaRight" fmla="*/ 394200 w 39384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260880" y="6242040"/>
              <a:ext cx="110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 m</a:t>
              </a:r>
              <a:endParaRPr b="0" lang="en-US" sz="2800" spc="-1" strike="noStrike">
                <a:solidFill>
                  <a:srgbClr val="000000"/>
                </a:solidFill>
                <a:latin typeface="Arial"/>
              </a:endParaRPr>
            </a:p>
          </p:txBody>
        </p:sp>
      </p:grpSp>
      <p:pic>
        <p:nvPicPr>
          <p:cNvPr id="69" name="" descr=""/>
          <p:cNvPicPr/>
          <p:nvPr/>
        </p:nvPicPr>
        <p:blipFill>
          <a:blip r:embed="rId4"/>
          <a:stretch/>
        </p:blipFill>
        <p:spPr>
          <a:xfrm>
            <a:off x="7126200" y="3186000"/>
            <a:ext cx="1455840" cy="221004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3.0</a:t>
            </a:r>
            <a:endParaRPr b="0" lang="en-US" sz="10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58">
                                            <p:txEl>
                                              <p:pRg st="0" end="0"/>
                                            </p:txEl>
                                          </p:spTgt>
                                        </p:tgtEl>
                                        <p:attrNameLst>
                                          <p:attrName>style.visibility</p:attrName>
                                        </p:attrNameLst>
                                      </p:cBhvr>
                                      <p:to>
                                        <p:strVal val="visible"/>
                                      </p:to>
                                    </p:set>
                                    <p:animEffect filter="fade" transition="in">
                                      <p:cBhvr additive="repl">
                                        <p:cTn id="30" dur="1000"/>
                                        <p:tgtEl>
                                          <p:spTgt spid="58">
                                            <p:txEl>
                                              <p:pRg st="0" end="0"/>
                                            </p:txEl>
                                          </p:spTgt>
                                        </p:tgtEl>
                                      </p:cBhvr>
                                    </p:animEffect>
                                    <p:anim calcmode="lin" valueType="num">
                                      <p:cBhvr additive="repl">
                                        <p:cTn id="31"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60"/>
                                        </p:tgtEl>
                                        <p:attrNameLst>
                                          <p:attrName>style.visibility</p:attrName>
                                        </p:attrNameLst>
                                      </p:cBhvr>
                                      <p:to>
                                        <p:strVal val="visible"/>
                                      </p:to>
                                    </p:set>
                                    <p:animEffect filter="fade" transition="in">
                                      <p:cBhvr additive="repl">
                                        <p:cTn id="37" dur="1000"/>
                                        <p:tgtEl>
                                          <p:spTgt spid="60"/>
                                        </p:tgtEl>
                                      </p:cBhvr>
                                    </p:animEffect>
                                    <p:anim calcmode="lin" valueType="num">
                                      <p:cBhvr additive="repl">
                                        <p:cTn id="38" dur="1000" fill="hold"/>
                                        <p:tgtEl>
                                          <p:spTgt spid="60"/>
                                        </p:tgtEl>
                                        <p:attrNameLst>
                                          <p:attrName>ppt_x</p:attrName>
                                        </p:attrNameLst>
                                      </p:cBhvr>
                                      <p:tavLst>
                                        <p:tav tm="0">
                                          <p:val>
                                            <p:strVal val="#ppt_x"/>
                                          </p:val>
                                        </p:tav>
                                        <p:tav tm="100000">
                                          <p:val>
                                            <p:strVal val="#ppt_x"/>
                                          </p:val>
                                        </p:tav>
                                      </p:tavLst>
                                    </p:anim>
                                    <p:anim calcmode="lin" valueType="num">
                                      <p:cBhvr additive="repl">
                                        <p:cTn id="39" dur="1000" fill="hold"/>
                                        <p:tgtEl>
                                          <p:spTgt spid="60"/>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1000"/>
                                        <p:tgtEl>
                                          <p:spTgt spid="56"/>
                                        </p:tgtEl>
                                      </p:cBhvr>
                                    </p:animEffect>
                                    <p:anim calcmode="lin" valueType="num">
                                      <p:cBhvr additive="repl">
                                        <p:cTn id="43" dur="1000" fill="hold"/>
                                        <p:tgtEl>
                                          <p:spTgt spid="56"/>
                                        </p:tgtEl>
                                        <p:attrNameLst>
                                          <p:attrName>ppt_x</p:attrName>
                                        </p:attrNameLst>
                                      </p:cBhvr>
                                      <p:tavLst>
                                        <p:tav tm="0">
                                          <p:val>
                                            <p:strVal val="#ppt_x"/>
                                          </p:val>
                                        </p:tav>
                                        <p:tav tm="100000">
                                          <p:val>
                                            <p:strVal val="#ppt_x"/>
                                          </p:val>
                                        </p:tav>
                                      </p:tavLst>
                                    </p:anim>
                                    <p:anim calcmode="lin" valueType="num">
                                      <p:cBhvr additive="repl">
                                        <p:cTn id="4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52640" y="555120"/>
            <a:ext cx="694512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ey Matters</a:t>
            </a:r>
            <a:endParaRPr b="0" lang="en-US" sz="4400" spc="-1" strike="noStrike">
              <a:solidFill>
                <a:srgbClr val="000000"/>
              </a:solidFill>
              <a:latin typeface="Times New Roman"/>
            </a:endParaRPr>
          </a:p>
        </p:txBody>
      </p:sp>
      <p:sp>
        <p:nvSpPr>
          <p:cNvPr id="72" name="PlaceHolder 2"/>
          <p:cNvSpPr>
            <a:spLocks noGrp="1"/>
          </p:cNvSpPr>
          <p:nvPr>
            <p:ph/>
          </p:nvPr>
        </p:nvSpPr>
        <p:spPr>
          <a:xfrm>
            <a:off x="331920" y="1342800"/>
            <a:ext cx="8524800" cy="253044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hey were sitting at the church, Nettie told Travis and Roman that her Uncle Joshua offered to give her family $2,000 worth of gold in 1867.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value of the gold increased by this table, starting in 1876, what would be the rule to determine the total amount earned?</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0" y="0"/>
            <a:ext cx="219240" cy="68580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1.0</a:t>
            </a:r>
            <a:endParaRPr b="0" lang="en-US" sz="1000" spc="-1" strike="noStrike">
              <a:solidFill>
                <a:srgbClr val="000000"/>
              </a:solidFill>
              <a:latin typeface="Arial"/>
            </a:endParaRPr>
          </a:p>
        </p:txBody>
      </p:sp>
      <p:graphicFrame>
        <p:nvGraphicFramePr>
          <p:cNvPr id="75" name=""/>
          <p:cNvGraphicFramePr/>
          <p:nvPr/>
        </p:nvGraphicFramePr>
        <p:xfrm>
          <a:off x="387360" y="4078440"/>
          <a:ext cx="8029440" cy="1392120"/>
        </p:xfrm>
        <a:graphic>
          <a:graphicData uri="http://schemas.openxmlformats.org/drawingml/2006/table">
            <a:tbl>
              <a:tblPr/>
              <a:tblGrid>
                <a:gridCol w="2501640"/>
                <a:gridCol w="1516320"/>
                <a:gridCol w="1350720"/>
                <a:gridCol w="1268640"/>
                <a:gridCol w="1392120"/>
              </a:tblGrid>
              <a:tr h="51912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ars in Ban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00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Amount Earned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6" name=""/>
          <p:cNvGrpSpPr/>
          <p:nvPr/>
        </p:nvGrpSpPr>
        <p:grpSpPr>
          <a:xfrm>
            <a:off x="7682040" y="5403960"/>
            <a:ext cx="1150920" cy="1137960"/>
            <a:chOff x="7682040" y="5403960"/>
            <a:chExt cx="1150920" cy="1137960"/>
          </a:xfrm>
        </p:grpSpPr>
        <p:grpSp>
          <p:nvGrpSpPr>
            <p:cNvPr id="77" name=""/>
            <p:cNvGrpSpPr/>
            <p:nvPr/>
          </p:nvGrpSpPr>
          <p:grpSpPr>
            <a:xfrm>
              <a:off x="7682040" y="5403960"/>
              <a:ext cx="1150920" cy="1137960"/>
              <a:chOff x="7682040" y="5403960"/>
              <a:chExt cx="1150920" cy="1137960"/>
            </a:xfrm>
          </p:grpSpPr>
          <p:sp>
            <p:nvSpPr>
              <p:cNvPr id="78" name=""/>
              <p:cNvSpPr/>
              <p:nvPr/>
            </p:nvSpPr>
            <p:spPr>
              <a:xfrm>
                <a:off x="7682040" y="5403960"/>
                <a:ext cx="1150920" cy="1137960"/>
              </a:xfrm>
              <a:custGeom>
                <a:avLst/>
                <a:gdLst/>
                <a:ahLst/>
                <a:rect l="l" t="t" r="r" b="b"/>
                <a:pathLst>
                  <a:path w="1666" h="2052">
                    <a:moveTo>
                      <a:pt x="875" y="105"/>
                    </a:moveTo>
                    <a:lnTo>
                      <a:pt x="883" y="111"/>
                    </a:lnTo>
                    <a:lnTo>
                      <a:pt x="891" y="115"/>
                    </a:lnTo>
                    <a:lnTo>
                      <a:pt x="900" y="119"/>
                    </a:lnTo>
                    <a:lnTo>
                      <a:pt x="908" y="122"/>
                    </a:lnTo>
                    <a:lnTo>
                      <a:pt x="917" y="124"/>
                    </a:lnTo>
                    <a:lnTo>
                      <a:pt x="926" y="127"/>
                    </a:lnTo>
                    <a:lnTo>
                      <a:pt x="936" y="128"/>
                    </a:lnTo>
                    <a:lnTo>
                      <a:pt x="945" y="129"/>
                    </a:lnTo>
                    <a:lnTo>
                      <a:pt x="962" y="130"/>
                    </a:lnTo>
                    <a:lnTo>
                      <a:pt x="981" y="131"/>
                    </a:lnTo>
                    <a:lnTo>
                      <a:pt x="998" y="131"/>
                    </a:lnTo>
                    <a:lnTo>
                      <a:pt x="1016" y="130"/>
                    </a:lnTo>
                    <a:lnTo>
                      <a:pt x="1034" y="130"/>
                    </a:lnTo>
                    <a:lnTo>
                      <a:pt x="1052" y="130"/>
                    </a:lnTo>
                    <a:lnTo>
                      <a:pt x="1070" y="129"/>
                    </a:lnTo>
                    <a:lnTo>
                      <a:pt x="1089" y="129"/>
                    </a:lnTo>
                    <a:lnTo>
                      <a:pt x="1111" y="130"/>
                    </a:lnTo>
                    <a:lnTo>
                      <a:pt x="1133" y="134"/>
                    </a:lnTo>
                    <a:lnTo>
                      <a:pt x="1153" y="141"/>
                    </a:lnTo>
                    <a:lnTo>
                      <a:pt x="1174" y="149"/>
                    </a:lnTo>
                    <a:lnTo>
                      <a:pt x="1193" y="160"/>
                    </a:lnTo>
                    <a:lnTo>
                      <a:pt x="1211" y="173"/>
                    </a:lnTo>
                    <a:lnTo>
                      <a:pt x="1227" y="189"/>
                    </a:lnTo>
                    <a:lnTo>
                      <a:pt x="1242" y="207"/>
                    </a:lnTo>
                    <a:lnTo>
                      <a:pt x="1244" y="214"/>
                    </a:lnTo>
                    <a:lnTo>
                      <a:pt x="1247" y="220"/>
                    </a:lnTo>
                    <a:lnTo>
                      <a:pt x="1249" y="227"/>
                    </a:lnTo>
                    <a:lnTo>
                      <a:pt x="1250" y="234"/>
                    </a:lnTo>
                    <a:lnTo>
                      <a:pt x="1231" y="249"/>
                    </a:lnTo>
                    <a:lnTo>
                      <a:pt x="1211" y="265"/>
                    </a:lnTo>
                    <a:lnTo>
                      <a:pt x="1191" y="280"/>
                    </a:lnTo>
                    <a:lnTo>
                      <a:pt x="1172" y="296"/>
                    </a:lnTo>
                    <a:lnTo>
                      <a:pt x="1152" y="311"/>
                    </a:lnTo>
                    <a:lnTo>
                      <a:pt x="1131" y="327"/>
                    </a:lnTo>
                    <a:lnTo>
                      <a:pt x="1112" y="342"/>
                    </a:lnTo>
                    <a:lnTo>
                      <a:pt x="1092" y="358"/>
                    </a:lnTo>
                    <a:lnTo>
                      <a:pt x="1076" y="372"/>
                    </a:lnTo>
                    <a:lnTo>
                      <a:pt x="1060" y="386"/>
                    </a:lnTo>
                    <a:lnTo>
                      <a:pt x="1045" y="401"/>
                    </a:lnTo>
                    <a:lnTo>
                      <a:pt x="1031" y="416"/>
                    </a:lnTo>
                    <a:lnTo>
                      <a:pt x="1019" y="432"/>
                    </a:lnTo>
                    <a:lnTo>
                      <a:pt x="1006" y="449"/>
                    </a:lnTo>
                    <a:lnTo>
                      <a:pt x="996" y="466"/>
                    </a:lnTo>
                    <a:lnTo>
                      <a:pt x="985" y="484"/>
                    </a:lnTo>
                    <a:lnTo>
                      <a:pt x="983" y="493"/>
                    </a:lnTo>
                    <a:lnTo>
                      <a:pt x="981" y="503"/>
                    </a:lnTo>
                    <a:lnTo>
                      <a:pt x="978" y="514"/>
                    </a:lnTo>
                    <a:lnTo>
                      <a:pt x="976" y="524"/>
                    </a:lnTo>
                    <a:lnTo>
                      <a:pt x="983" y="526"/>
                    </a:lnTo>
                    <a:lnTo>
                      <a:pt x="990" y="530"/>
                    </a:lnTo>
                    <a:lnTo>
                      <a:pt x="997" y="533"/>
                    </a:lnTo>
                    <a:lnTo>
                      <a:pt x="1004" y="538"/>
                    </a:lnTo>
                    <a:lnTo>
                      <a:pt x="1009" y="542"/>
                    </a:lnTo>
                    <a:lnTo>
                      <a:pt x="1014" y="548"/>
                    </a:lnTo>
                    <a:lnTo>
                      <a:pt x="1019" y="554"/>
                    </a:lnTo>
                    <a:lnTo>
                      <a:pt x="1021" y="562"/>
                    </a:lnTo>
                    <a:lnTo>
                      <a:pt x="1023" y="571"/>
                    </a:lnTo>
                    <a:lnTo>
                      <a:pt x="1024" y="582"/>
                    </a:lnTo>
                    <a:lnTo>
                      <a:pt x="1023" y="591"/>
                    </a:lnTo>
                    <a:lnTo>
                      <a:pt x="1016" y="598"/>
                    </a:lnTo>
                    <a:lnTo>
                      <a:pt x="1030" y="605"/>
                    </a:lnTo>
                    <a:lnTo>
                      <a:pt x="1044" y="613"/>
                    </a:lnTo>
                    <a:lnTo>
                      <a:pt x="1055" y="622"/>
                    </a:lnTo>
                    <a:lnTo>
                      <a:pt x="1068" y="633"/>
                    </a:lnTo>
                    <a:lnTo>
                      <a:pt x="1078" y="645"/>
                    </a:lnTo>
                    <a:lnTo>
                      <a:pt x="1089" y="658"/>
                    </a:lnTo>
                    <a:lnTo>
                      <a:pt x="1098" y="671"/>
                    </a:lnTo>
                    <a:lnTo>
                      <a:pt x="1106" y="685"/>
                    </a:lnTo>
                    <a:lnTo>
                      <a:pt x="1123" y="715"/>
                    </a:lnTo>
                    <a:lnTo>
                      <a:pt x="1141" y="745"/>
                    </a:lnTo>
                    <a:lnTo>
                      <a:pt x="1160" y="774"/>
                    </a:lnTo>
                    <a:lnTo>
                      <a:pt x="1180" y="803"/>
                    </a:lnTo>
                    <a:lnTo>
                      <a:pt x="1202" y="830"/>
                    </a:lnTo>
                    <a:lnTo>
                      <a:pt x="1224" y="858"/>
                    </a:lnTo>
                    <a:lnTo>
                      <a:pt x="1247" y="885"/>
                    </a:lnTo>
                    <a:lnTo>
                      <a:pt x="1272" y="910"/>
                    </a:lnTo>
                    <a:lnTo>
                      <a:pt x="1293" y="929"/>
                    </a:lnTo>
                    <a:lnTo>
                      <a:pt x="1315" y="949"/>
                    </a:lnTo>
                    <a:lnTo>
                      <a:pt x="1337" y="967"/>
                    </a:lnTo>
                    <a:lnTo>
                      <a:pt x="1358" y="986"/>
                    </a:lnTo>
                    <a:lnTo>
                      <a:pt x="1381" y="1004"/>
                    </a:lnTo>
                    <a:lnTo>
                      <a:pt x="1403" y="1022"/>
                    </a:lnTo>
                    <a:lnTo>
                      <a:pt x="1426" y="1039"/>
                    </a:lnTo>
                    <a:lnTo>
                      <a:pt x="1449" y="1055"/>
                    </a:lnTo>
                    <a:lnTo>
                      <a:pt x="1474" y="1073"/>
                    </a:lnTo>
                    <a:lnTo>
                      <a:pt x="1497" y="1093"/>
                    </a:lnTo>
                    <a:lnTo>
                      <a:pt x="1520" y="1115"/>
                    </a:lnTo>
                    <a:lnTo>
                      <a:pt x="1542" y="1137"/>
                    </a:lnTo>
                    <a:lnTo>
                      <a:pt x="1562" y="1161"/>
                    </a:lnTo>
                    <a:lnTo>
                      <a:pt x="1582" y="1185"/>
                    </a:lnTo>
                    <a:lnTo>
                      <a:pt x="1598" y="1210"/>
                    </a:lnTo>
                    <a:lnTo>
                      <a:pt x="1613" y="1237"/>
                    </a:lnTo>
                    <a:lnTo>
                      <a:pt x="1627" y="1265"/>
                    </a:lnTo>
                    <a:lnTo>
                      <a:pt x="1638" y="1293"/>
                    </a:lnTo>
                    <a:lnTo>
                      <a:pt x="1650" y="1322"/>
                    </a:lnTo>
                    <a:lnTo>
                      <a:pt x="1659" y="1352"/>
                    </a:lnTo>
                    <a:lnTo>
                      <a:pt x="1664" y="1383"/>
                    </a:lnTo>
                    <a:lnTo>
                      <a:pt x="1666" y="1414"/>
                    </a:lnTo>
                    <a:lnTo>
                      <a:pt x="1664" y="1445"/>
                    </a:lnTo>
                    <a:lnTo>
                      <a:pt x="1656" y="1478"/>
                    </a:lnTo>
                    <a:lnTo>
                      <a:pt x="1648" y="1500"/>
                    </a:lnTo>
                    <a:lnTo>
                      <a:pt x="1637" y="1521"/>
                    </a:lnTo>
                    <a:lnTo>
                      <a:pt x="1625" y="1542"/>
                    </a:lnTo>
                    <a:lnTo>
                      <a:pt x="1612" y="1562"/>
                    </a:lnTo>
                    <a:lnTo>
                      <a:pt x="1597" y="1580"/>
                    </a:lnTo>
                    <a:lnTo>
                      <a:pt x="1582" y="1599"/>
                    </a:lnTo>
                    <a:lnTo>
                      <a:pt x="1565" y="1616"/>
                    </a:lnTo>
                    <a:lnTo>
                      <a:pt x="1547" y="1633"/>
                    </a:lnTo>
                    <a:lnTo>
                      <a:pt x="1535" y="1662"/>
                    </a:lnTo>
                    <a:lnTo>
                      <a:pt x="1520" y="1692"/>
                    </a:lnTo>
                    <a:lnTo>
                      <a:pt x="1505" y="1722"/>
                    </a:lnTo>
                    <a:lnTo>
                      <a:pt x="1487" y="1749"/>
                    </a:lnTo>
                    <a:lnTo>
                      <a:pt x="1468" y="1776"/>
                    </a:lnTo>
                    <a:lnTo>
                      <a:pt x="1446" y="1800"/>
                    </a:lnTo>
                    <a:lnTo>
                      <a:pt x="1420" y="1821"/>
                    </a:lnTo>
                    <a:lnTo>
                      <a:pt x="1390" y="1838"/>
                    </a:lnTo>
                    <a:lnTo>
                      <a:pt x="1368" y="1847"/>
                    </a:lnTo>
                    <a:lnTo>
                      <a:pt x="1346" y="1857"/>
                    </a:lnTo>
                    <a:lnTo>
                      <a:pt x="1324" y="1865"/>
                    </a:lnTo>
                    <a:lnTo>
                      <a:pt x="1301" y="1872"/>
                    </a:lnTo>
                    <a:lnTo>
                      <a:pt x="1278" y="1877"/>
                    </a:lnTo>
                    <a:lnTo>
                      <a:pt x="1255" y="1882"/>
                    </a:lnTo>
                    <a:lnTo>
                      <a:pt x="1231" y="1884"/>
                    </a:lnTo>
                    <a:lnTo>
                      <a:pt x="1206" y="1884"/>
                    </a:lnTo>
                    <a:lnTo>
                      <a:pt x="1189" y="1884"/>
                    </a:lnTo>
                    <a:lnTo>
                      <a:pt x="1173" y="1884"/>
                    </a:lnTo>
                    <a:lnTo>
                      <a:pt x="1157" y="1885"/>
                    </a:lnTo>
                    <a:lnTo>
                      <a:pt x="1141" y="1887"/>
                    </a:lnTo>
                    <a:lnTo>
                      <a:pt x="1125" y="1889"/>
                    </a:lnTo>
                    <a:lnTo>
                      <a:pt x="1110" y="1891"/>
                    </a:lnTo>
                    <a:lnTo>
                      <a:pt x="1095" y="1895"/>
                    </a:lnTo>
                    <a:lnTo>
                      <a:pt x="1080" y="1899"/>
                    </a:lnTo>
                    <a:lnTo>
                      <a:pt x="1065" y="1904"/>
                    </a:lnTo>
                    <a:lnTo>
                      <a:pt x="1051" y="1910"/>
                    </a:lnTo>
                    <a:lnTo>
                      <a:pt x="1036" y="1916"/>
                    </a:lnTo>
                    <a:lnTo>
                      <a:pt x="1023" y="1925"/>
                    </a:lnTo>
                    <a:lnTo>
                      <a:pt x="1009" y="1933"/>
                    </a:lnTo>
                    <a:lnTo>
                      <a:pt x="997" y="1942"/>
                    </a:lnTo>
                    <a:lnTo>
                      <a:pt x="984" y="1951"/>
                    </a:lnTo>
                    <a:lnTo>
                      <a:pt x="971" y="1963"/>
                    </a:lnTo>
                    <a:lnTo>
                      <a:pt x="956" y="1976"/>
                    </a:lnTo>
                    <a:lnTo>
                      <a:pt x="940" y="1988"/>
                    </a:lnTo>
                    <a:lnTo>
                      <a:pt x="923" y="1999"/>
                    </a:lnTo>
                    <a:lnTo>
                      <a:pt x="906" y="2009"/>
                    </a:lnTo>
                    <a:lnTo>
                      <a:pt x="888" y="2017"/>
                    </a:lnTo>
                    <a:lnTo>
                      <a:pt x="870" y="2024"/>
                    </a:lnTo>
                    <a:lnTo>
                      <a:pt x="851" y="2031"/>
                    </a:lnTo>
                    <a:lnTo>
                      <a:pt x="832" y="2035"/>
                    </a:lnTo>
                    <a:lnTo>
                      <a:pt x="813" y="2040"/>
                    </a:lnTo>
                    <a:lnTo>
                      <a:pt x="794" y="2043"/>
                    </a:lnTo>
                    <a:lnTo>
                      <a:pt x="774" y="2045"/>
                    </a:lnTo>
                    <a:lnTo>
                      <a:pt x="754" y="2048"/>
                    </a:lnTo>
                    <a:lnTo>
                      <a:pt x="734" y="2049"/>
                    </a:lnTo>
                    <a:lnTo>
                      <a:pt x="714" y="2051"/>
                    </a:lnTo>
                    <a:lnTo>
                      <a:pt x="694" y="2051"/>
                    </a:lnTo>
                    <a:lnTo>
                      <a:pt x="674" y="2052"/>
                    </a:lnTo>
                    <a:lnTo>
                      <a:pt x="659" y="2052"/>
                    </a:lnTo>
                    <a:lnTo>
                      <a:pt x="643" y="2052"/>
                    </a:lnTo>
                    <a:lnTo>
                      <a:pt x="628" y="2052"/>
                    </a:lnTo>
                    <a:lnTo>
                      <a:pt x="613" y="2050"/>
                    </a:lnTo>
                    <a:lnTo>
                      <a:pt x="598" y="2049"/>
                    </a:lnTo>
                    <a:lnTo>
                      <a:pt x="583" y="2047"/>
                    </a:lnTo>
                    <a:lnTo>
                      <a:pt x="569" y="2043"/>
                    </a:lnTo>
                    <a:lnTo>
                      <a:pt x="555" y="2039"/>
                    </a:lnTo>
                    <a:lnTo>
                      <a:pt x="542" y="2034"/>
                    </a:lnTo>
                    <a:lnTo>
                      <a:pt x="528" y="2029"/>
                    </a:lnTo>
                    <a:lnTo>
                      <a:pt x="515" y="2026"/>
                    </a:lnTo>
                    <a:lnTo>
                      <a:pt x="501" y="2021"/>
                    </a:lnTo>
                    <a:lnTo>
                      <a:pt x="487" y="2017"/>
                    </a:lnTo>
                    <a:lnTo>
                      <a:pt x="475" y="2012"/>
                    </a:lnTo>
                    <a:lnTo>
                      <a:pt x="462" y="2006"/>
                    </a:lnTo>
                    <a:lnTo>
                      <a:pt x="449" y="1999"/>
                    </a:lnTo>
                    <a:lnTo>
                      <a:pt x="433" y="1990"/>
                    </a:lnTo>
                    <a:lnTo>
                      <a:pt x="417" y="1980"/>
                    </a:lnTo>
                    <a:lnTo>
                      <a:pt x="402" y="1969"/>
                    </a:lnTo>
                    <a:lnTo>
                      <a:pt x="387" y="1959"/>
                    </a:lnTo>
                    <a:lnTo>
                      <a:pt x="372" y="1948"/>
                    </a:lnTo>
                    <a:lnTo>
                      <a:pt x="358" y="1936"/>
                    </a:lnTo>
                    <a:lnTo>
                      <a:pt x="345" y="1923"/>
                    </a:lnTo>
                    <a:lnTo>
                      <a:pt x="331" y="1912"/>
                    </a:lnTo>
                    <a:lnTo>
                      <a:pt x="317" y="1898"/>
                    </a:lnTo>
                    <a:lnTo>
                      <a:pt x="304" y="1885"/>
                    </a:lnTo>
                    <a:lnTo>
                      <a:pt x="292" y="1872"/>
                    </a:lnTo>
                    <a:lnTo>
                      <a:pt x="280" y="1858"/>
                    </a:lnTo>
                    <a:lnTo>
                      <a:pt x="268" y="1844"/>
                    </a:lnTo>
                    <a:lnTo>
                      <a:pt x="257" y="1830"/>
                    </a:lnTo>
                    <a:lnTo>
                      <a:pt x="245" y="1815"/>
                    </a:lnTo>
                    <a:lnTo>
                      <a:pt x="235" y="1800"/>
                    </a:lnTo>
                    <a:lnTo>
                      <a:pt x="222" y="1776"/>
                    </a:lnTo>
                    <a:lnTo>
                      <a:pt x="215" y="1751"/>
                    </a:lnTo>
                    <a:lnTo>
                      <a:pt x="212" y="1723"/>
                    </a:lnTo>
                    <a:lnTo>
                      <a:pt x="211" y="1694"/>
                    </a:lnTo>
                    <a:lnTo>
                      <a:pt x="209" y="1678"/>
                    </a:lnTo>
                    <a:lnTo>
                      <a:pt x="204" y="1664"/>
                    </a:lnTo>
                    <a:lnTo>
                      <a:pt x="198" y="1650"/>
                    </a:lnTo>
                    <a:lnTo>
                      <a:pt x="190" y="1638"/>
                    </a:lnTo>
                    <a:lnTo>
                      <a:pt x="181" y="1625"/>
                    </a:lnTo>
                    <a:lnTo>
                      <a:pt x="171" y="1614"/>
                    </a:lnTo>
                    <a:lnTo>
                      <a:pt x="159" y="1602"/>
                    </a:lnTo>
                    <a:lnTo>
                      <a:pt x="149" y="1592"/>
                    </a:lnTo>
                    <a:lnTo>
                      <a:pt x="135" y="1578"/>
                    </a:lnTo>
                    <a:lnTo>
                      <a:pt x="120" y="1565"/>
                    </a:lnTo>
                    <a:lnTo>
                      <a:pt x="106" y="1553"/>
                    </a:lnTo>
                    <a:lnTo>
                      <a:pt x="92" y="1540"/>
                    </a:lnTo>
                    <a:lnTo>
                      <a:pt x="78" y="1526"/>
                    </a:lnTo>
                    <a:lnTo>
                      <a:pt x="66" y="1512"/>
                    </a:lnTo>
                    <a:lnTo>
                      <a:pt x="54" y="1497"/>
                    </a:lnTo>
                    <a:lnTo>
                      <a:pt x="44" y="1481"/>
                    </a:lnTo>
                    <a:lnTo>
                      <a:pt x="30" y="1453"/>
                    </a:lnTo>
                    <a:lnTo>
                      <a:pt x="18" y="1426"/>
                    </a:lnTo>
                    <a:lnTo>
                      <a:pt x="10" y="1396"/>
                    </a:lnTo>
                    <a:lnTo>
                      <a:pt x="3" y="1365"/>
                    </a:lnTo>
                    <a:lnTo>
                      <a:pt x="0" y="1334"/>
                    </a:lnTo>
                    <a:lnTo>
                      <a:pt x="0" y="1303"/>
                    </a:lnTo>
                    <a:lnTo>
                      <a:pt x="3" y="1273"/>
                    </a:lnTo>
                    <a:lnTo>
                      <a:pt x="10" y="1242"/>
                    </a:lnTo>
                    <a:lnTo>
                      <a:pt x="16" y="1220"/>
                    </a:lnTo>
                    <a:lnTo>
                      <a:pt x="22" y="1198"/>
                    </a:lnTo>
                    <a:lnTo>
                      <a:pt x="29" y="1177"/>
                    </a:lnTo>
                    <a:lnTo>
                      <a:pt x="37" y="1156"/>
                    </a:lnTo>
                    <a:lnTo>
                      <a:pt x="46" y="1136"/>
                    </a:lnTo>
                    <a:lnTo>
                      <a:pt x="55" y="1115"/>
                    </a:lnTo>
                    <a:lnTo>
                      <a:pt x="67" y="1096"/>
                    </a:lnTo>
                    <a:lnTo>
                      <a:pt x="81" y="1078"/>
                    </a:lnTo>
                    <a:lnTo>
                      <a:pt x="83" y="1070"/>
                    </a:lnTo>
                    <a:lnTo>
                      <a:pt x="88" y="1062"/>
                    </a:lnTo>
                    <a:lnTo>
                      <a:pt x="92" y="1055"/>
                    </a:lnTo>
                    <a:lnTo>
                      <a:pt x="97" y="1049"/>
                    </a:lnTo>
                    <a:lnTo>
                      <a:pt x="103" y="1042"/>
                    </a:lnTo>
                    <a:lnTo>
                      <a:pt x="107" y="1035"/>
                    </a:lnTo>
                    <a:lnTo>
                      <a:pt x="112" y="1029"/>
                    </a:lnTo>
                    <a:lnTo>
                      <a:pt x="116" y="1022"/>
                    </a:lnTo>
                    <a:lnTo>
                      <a:pt x="122" y="1016"/>
                    </a:lnTo>
                    <a:lnTo>
                      <a:pt x="128" y="1010"/>
                    </a:lnTo>
                    <a:lnTo>
                      <a:pt x="134" y="1003"/>
                    </a:lnTo>
                    <a:lnTo>
                      <a:pt x="139" y="997"/>
                    </a:lnTo>
                    <a:lnTo>
                      <a:pt x="144" y="990"/>
                    </a:lnTo>
                    <a:lnTo>
                      <a:pt x="150" y="984"/>
                    </a:lnTo>
                    <a:lnTo>
                      <a:pt x="154" y="977"/>
                    </a:lnTo>
                    <a:lnTo>
                      <a:pt x="160" y="971"/>
                    </a:lnTo>
                    <a:lnTo>
                      <a:pt x="174" y="957"/>
                    </a:lnTo>
                    <a:lnTo>
                      <a:pt x="188" y="944"/>
                    </a:lnTo>
                    <a:lnTo>
                      <a:pt x="203" y="931"/>
                    </a:lnTo>
                    <a:lnTo>
                      <a:pt x="218" y="919"/>
                    </a:lnTo>
                    <a:lnTo>
                      <a:pt x="233" y="906"/>
                    </a:lnTo>
                    <a:lnTo>
                      <a:pt x="248" y="895"/>
                    </a:lnTo>
                    <a:lnTo>
                      <a:pt x="264" y="883"/>
                    </a:lnTo>
                    <a:lnTo>
                      <a:pt x="280" y="872"/>
                    </a:lnTo>
                    <a:lnTo>
                      <a:pt x="295" y="860"/>
                    </a:lnTo>
                    <a:lnTo>
                      <a:pt x="311" y="850"/>
                    </a:lnTo>
                    <a:lnTo>
                      <a:pt x="327" y="838"/>
                    </a:lnTo>
                    <a:lnTo>
                      <a:pt x="343" y="828"/>
                    </a:lnTo>
                    <a:lnTo>
                      <a:pt x="360" y="817"/>
                    </a:lnTo>
                    <a:lnTo>
                      <a:pt x="376" y="806"/>
                    </a:lnTo>
                    <a:lnTo>
                      <a:pt x="391" y="795"/>
                    </a:lnTo>
                    <a:lnTo>
                      <a:pt x="407" y="783"/>
                    </a:lnTo>
                    <a:lnTo>
                      <a:pt x="416" y="775"/>
                    </a:lnTo>
                    <a:lnTo>
                      <a:pt x="425" y="768"/>
                    </a:lnTo>
                    <a:lnTo>
                      <a:pt x="434" y="760"/>
                    </a:lnTo>
                    <a:lnTo>
                      <a:pt x="442" y="751"/>
                    </a:lnTo>
                    <a:lnTo>
                      <a:pt x="452" y="743"/>
                    </a:lnTo>
                    <a:lnTo>
                      <a:pt x="461" y="735"/>
                    </a:lnTo>
                    <a:lnTo>
                      <a:pt x="469" y="727"/>
                    </a:lnTo>
                    <a:lnTo>
                      <a:pt x="478" y="719"/>
                    </a:lnTo>
                    <a:lnTo>
                      <a:pt x="489" y="708"/>
                    </a:lnTo>
                    <a:lnTo>
                      <a:pt x="500" y="699"/>
                    </a:lnTo>
                    <a:lnTo>
                      <a:pt x="512" y="689"/>
                    </a:lnTo>
                    <a:lnTo>
                      <a:pt x="522" y="678"/>
                    </a:lnTo>
                    <a:lnTo>
                      <a:pt x="531" y="668"/>
                    </a:lnTo>
                    <a:lnTo>
                      <a:pt x="542" y="656"/>
                    </a:lnTo>
                    <a:lnTo>
                      <a:pt x="550" y="645"/>
                    </a:lnTo>
                    <a:lnTo>
                      <a:pt x="557" y="631"/>
                    </a:lnTo>
                    <a:lnTo>
                      <a:pt x="547" y="623"/>
                    </a:lnTo>
                    <a:lnTo>
                      <a:pt x="544" y="612"/>
                    </a:lnTo>
                    <a:lnTo>
                      <a:pt x="543" y="599"/>
                    </a:lnTo>
                    <a:lnTo>
                      <a:pt x="544" y="587"/>
                    </a:lnTo>
                    <a:lnTo>
                      <a:pt x="546" y="578"/>
                    </a:lnTo>
                    <a:lnTo>
                      <a:pt x="551" y="569"/>
                    </a:lnTo>
                    <a:lnTo>
                      <a:pt x="558" y="561"/>
                    </a:lnTo>
                    <a:lnTo>
                      <a:pt x="566" y="555"/>
                    </a:lnTo>
                    <a:lnTo>
                      <a:pt x="574" y="549"/>
                    </a:lnTo>
                    <a:lnTo>
                      <a:pt x="584" y="545"/>
                    </a:lnTo>
                    <a:lnTo>
                      <a:pt x="593" y="541"/>
                    </a:lnTo>
                    <a:lnTo>
                      <a:pt x="603" y="539"/>
                    </a:lnTo>
                    <a:lnTo>
                      <a:pt x="600" y="518"/>
                    </a:lnTo>
                    <a:lnTo>
                      <a:pt x="596" y="495"/>
                    </a:lnTo>
                    <a:lnTo>
                      <a:pt x="589" y="473"/>
                    </a:lnTo>
                    <a:lnTo>
                      <a:pt x="581" y="453"/>
                    </a:lnTo>
                    <a:lnTo>
                      <a:pt x="566" y="419"/>
                    </a:lnTo>
                    <a:lnTo>
                      <a:pt x="547" y="387"/>
                    </a:lnTo>
                    <a:lnTo>
                      <a:pt x="528" y="357"/>
                    </a:lnTo>
                    <a:lnTo>
                      <a:pt x="505" y="328"/>
                    </a:lnTo>
                    <a:lnTo>
                      <a:pt x="482" y="299"/>
                    </a:lnTo>
                    <a:lnTo>
                      <a:pt x="459" y="271"/>
                    </a:lnTo>
                    <a:lnTo>
                      <a:pt x="436" y="241"/>
                    </a:lnTo>
                    <a:lnTo>
                      <a:pt x="415" y="211"/>
                    </a:lnTo>
                    <a:lnTo>
                      <a:pt x="407" y="197"/>
                    </a:lnTo>
                    <a:lnTo>
                      <a:pt x="399" y="183"/>
                    </a:lnTo>
                    <a:lnTo>
                      <a:pt x="392" y="169"/>
                    </a:lnTo>
                    <a:lnTo>
                      <a:pt x="386" y="155"/>
                    </a:lnTo>
                    <a:lnTo>
                      <a:pt x="379" y="142"/>
                    </a:lnTo>
                    <a:lnTo>
                      <a:pt x="373" y="128"/>
                    </a:lnTo>
                    <a:lnTo>
                      <a:pt x="368" y="116"/>
                    </a:lnTo>
                    <a:lnTo>
                      <a:pt x="362" y="105"/>
                    </a:lnTo>
                    <a:lnTo>
                      <a:pt x="369" y="98"/>
                    </a:lnTo>
                    <a:lnTo>
                      <a:pt x="377" y="91"/>
                    </a:lnTo>
                    <a:lnTo>
                      <a:pt x="386" y="84"/>
                    </a:lnTo>
                    <a:lnTo>
                      <a:pt x="394" y="78"/>
                    </a:lnTo>
                    <a:lnTo>
                      <a:pt x="403" y="73"/>
                    </a:lnTo>
                    <a:lnTo>
                      <a:pt x="413" y="68"/>
                    </a:lnTo>
                    <a:lnTo>
                      <a:pt x="423" y="63"/>
                    </a:lnTo>
                    <a:lnTo>
                      <a:pt x="432" y="60"/>
                    </a:lnTo>
                    <a:lnTo>
                      <a:pt x="446" y="50"/>
                    </a:lnTo>
                    <a:lnTo>
                      <a:pt x="461" y="41"/>
                    </a:lnTo>
                    <a:lnTo>
                      <a:pt x="476" y="33"/>
                    </a:lnTo>
                    <a:lnTo>
                      <a:pt x="491" y="28"/>
                    </a:lnTo>
                    <a:lnTo>
                      <a:pt x="507" y="22"/>
                    </a:lnTo>
                    <a:lnTo>
                      <a:pt x="523" y="17"/>
                    </a:lnTo>
                    <a:lnTo>
                      <a:pt x="539" y="13"/>
                    </a:lnTo>
                    <a:lnTo>
                      <a:pt x="555" y="9"/>
                    </a:lnTo>
                    <a:lnTo>
                      <a:pt x="572" y="6"/>
                    </a:lnTo>
                    <a:lnTo>
                      <a:pt x="588" y="3"/>
                    </a:lnTo>
                    <a:lnTo>
                      <a:pt x="604" y="2"/>
                    </a:lnTo>
                    <a:lnTo>
                      <a:pt x="621" y="0"/>
                    </a:lnTo>
                    <a:lnTo>
                      <a:pt x="638" y="0"/>
                    </a:lnTo>
                    <a:lnTo>
                      <a:pt x="654" y="0"/>
                    </a:lnTo>
                    <a:lnTo>
                      <a:pt x="672" y="1"/>
                    </a:lnTo>
                    <a:lnTo>
                      <a:pt x="688" y="2"/>
                    </a:lnTo>
                    <a:lnTo>
                      <a:pt x="705" y="5"/>
                    </a:lnTo>
                    <a:lnTo>
                      <a:pt x="721" y="8"/>
                    </a:lnTo>
                    <a:lnTo>
                      <a:pt x="737" y="12"/>
                    </a:lnTo>
                    <a:lnTo>
                      <a:pt x="752" y="17"/>
                    </a:lnTo>
                    <a:lnTo>
                      <a:pt x="769" y="23"/>
                    </a:lnTo>
                    <a:lnTo>
                      <a:pt x="782" y="30"/>
                    </a:lnTo>
                    <a:lnTo>
                      <a:pt x="796" y="38"/>
                    </a:lnTo>
                    <a:lnTo>
                      <a:pt x="810" y="47"/>
                    </a:lnTo>
                    <a:lnTo>
                      <a:pt x="875"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996680" y="5422680"/>
                <a:ext cx="500040" cy="146160"/>
              </a:xfrm>
              <a:custGeom>
                <a:avLst/>
                <a:gdLst/>
                <a:ahLst/>
                <a:rect l="l" t="t" r="r" b="b"/>
                <a:pathLst>
                  <a:path w="725" h="265">
                    <a:moveTo>
                      <a:pt x="369" y="95"/>
                    </a:moveTo>
                    <a:lnTo>
                      <a:pt x="382" y="104"/>
                    </a:lnTo>
                    <a:lnTo>
                      <a:pt x="394" y="111"/>
                    </a:lnTo>
                    <a:lnTo>
                      <a:pt x="408" y="117"/>
                    </a:lnTo>
                    <a:lnTo>
                      <a:pt x="422" y="121"/>
                    </a:lnTo>
                    <a:lnTo>
                      <a:pt x="437" y="125"/>
                    </a:lnTo>
                    <a:lnTo>
                      <a:pt x="452" y="127"/>
                    </a:lnTo>
                    <a:lnTo>
                      <a:pt x="468" y="129"/>
                    </a:lnTo>
                    <a:lnTo>
                      <a:pt x="484" y="129"/>
                    </a:lnTo>
                    <a:lnTo>
                      <a:pt x="500" y="129"/>
                    </a:lnTo>
                    <a:lnTo>
                      <a:pt x="515" y="129"/>
                    </a:lnTo>
                    <a:lnTo>
                      <a:pt x="531" y="129"/>
                    </a:lnTo>
                    <a:lnTo>
                      <a:pt x="548" y="129"/>
                    </a:lnTo>
                    <a:lnTo>
                      <a:pt x="564" y="128"/>
                    </a:lnTo>
                    <a:lnTo>
                      <a:pt x="580" y="128"/>
                    </a:lnTo>
                    <a:lnTo>
                      <a:pt x="595" y="128"/>
                    </a:lnTo>
                    <a:lnTo>
                      <a:pt x="610" y="128"/>
                    </a:lnTo>
                    <a:lnTo>
                      <a:pt x="625" y="126"/>
                    </a:lnTo>
                    <a:lnTo>
                      <a:pt x="640" y="126"/>
                    </a:lnTo>
                    <a:lnTo>
                      <a:pt x="655" y="128"/>
                    </a:lnTo>
                    <a:lnTo>
                      <a:pt x="670" y="132"/>
                    </a:lnTo>
                    <a:lnTo>
                      <a:pt x="685" y="137"/>
                    </a:lnTo>
                    <a:lnTo>
                      <a:pt x="699" y="144"/>
                    </a:lnTo>
                    <a:lnTo>
                      <a:pt x="712" y="152"/>
                    </a:lnTo>
                    <a:lnTo>
                      <a:pt x="725" y="160"/>
                    </a:lnTo>
                    <a:lnTo>
                      <a:pt x="703" y="160"/>
                    </a:lnTo>
                    <a:lnTo>
                      <a:pt x="682" y="163"/>
                    </a:lnTo>
                    <a:lnTo>
                      <a:pt x="660" y="167"/>
                    </a:lnTo>
                    <a:lnTo>
                      <a:pt x="641" y="175"/>
                    </a:lnTo>
                    <a:lnTo>
                      <a:pt x="621" y="187"/>
                    </a:lnTo>
                    <a:lnTo>
                      <a:pt x="604" y="201"/>
                    </a:lnTo>
                    <a:lnTo>
                      <a:pt x="588" y="217"/>
                    </a:lnTo>
                    <a:lnTo>
                      <a:pt x="575" y="237"/>
                    </a:lnTo>
                    <a:lnTo>
                      <a:pt x="568" y="246"/>
                    </a:lnTo>
                    <a:lnTo>
                      <a:pt x="561" y="254"/>
                    </a:lnTo>
                    <a:lnTo>
                      <a:pt x="552" y="261"/>
                    </a:lnTo>
                    <a:lnTo>
                      <a:pt x="543" y="264"/>
                    </a:lnTo>
                    <a:lnTo>
                      <a:pt x="526" y="265"/>
                    </a:lnTo>
                    <a:lnTo>
                      <a:pt x="510" y="262"/>
                    </a:lnTo>
                    <a:lnTo>
                      <a:pt x="497" y="255"/>
                    </a:lnTo>
                    <a:lnTo>
                      <a:pt x="484" y="245"/>
                    </a:lnTo>
                    <a:lnTo>
                      <a:pt x="473" y="234"/>
                    </a:lnTo>
                    <a:lnTo>
                      <a:pt x="461" y="224"/>
                    </a:lnTo>
                    <a:lnTo>
                      <a:pt x="447" y="215"/>
                    </a:lnTo>
                    <a:lnTo>
                      <a:pt x="432" y="208"/>
                    </a:lnTo>
                    <a:lnTo>
                      <a:pt x="419" y="205"/>
                    </a:lnTo>
                    <a:lnTo>
                      <a:pt x="406" y="203"/>
                    </a:lnTo>
                    <a:lnTo>
                      <a:pt x="392" y="203"/>
                    </a:lnTo>
                    <a:lnTo>
                      <a:pt x="379" y="205"/>
                    </a:lnTo>
                    <a:lnTo>
                      <a:pt x="367" y="208"/>
                    </a:lnTo>
                    <a:lnTo>
                      <a:pt x="354" y="212"/>
                    </a:lnTo>
                    <a:lnTo>
                      <a:pt x="342" y="217"/>
                    </a:lnTo>
                    <a:lnTo>
                      <a:pt x="332" y="224"/>
                    </a:lnTo>
                    <a:lnTo>
                      <a:pt x="326" y="230"/>
                    </a:lnTo>
                    <a:lnTo>
                      <a:pt x="322" y="235"/>
                    </a:lnTo>
                    <a:lnTo>
                      <a:pt x="316" y="241"/>
                    </a:lnTo>
                    <a:lnTo>
                      <a:pt x="311" y="247"/>
                    </a:lnTo>
                    <a:lnTo>
                      <a:pt x="307" y="254"/>
                    </a:lnTo>
                    <a:lnTo>
                      <a:pt x="300" y="258"/>
                    </a:lnTo>
                    <a:lnTo>
                      <a:pt x="293" y="262"/>
                    </a:lnTo>
                    <a:lnTo>
                      <a:pt x="285" y="264"/>
                    </a:lnTo>
                    <a:lnTo>
                      <a:pt x="270" y="265"/>
                    </a:lnTo>
                    <a:lnTo>
                      <a:pt x="256" y="263"/>
                    </a:lnTo>
                    <a:lnTo>
                      <a:pt x="243" y="257"/>
                    </a:lnTo>
                    <a:lnTo>
                      <a:pt x="232" y="250"/>
                    </a:lnTo>
                    <a:lnTo>
                      <a:pt x="220" y="242"/>
                    </a:lnTo>
                    <a:lnTo>
                      <a:pt x="210" y="233"/>
                    </a:lnTo>
                    <a:lnTo>
                      <a:pt x="200" y="225"/>
                    </a:lnTo>
                    <a:lnTo>
                      <a:pt x="188" y="216"/>
                    </a:lnTo>
                    <a:lnTo>
                      <a:pt x="169" y="200"/>
                    </a:lnTo>
                    <a:lnTo>
                      <a:pt x="151" y="181"/>
                    </a:lnTo>
                    <a:lnTo>
                      <a:pt x="136" y="164"/>
                    </a:lnTo>
                    <a:lnTo>
                      <a:pt x="120" y="146"/>
                    </a:lnTo>
                    <a:lnTo>
                      <a:pt x="104" y="128"/>
                    </a:lnTo>
                    <a:lnTo>
                      <a:pt x="88" y="112"/>
                    </a:lnTo>
                    <a:lnTo>
                      <a:pt x="69" y="98"/>
                    </a:lnTo>
                    <a:lnTo>
                      <a:pt x="49" y="86"/>
                    </a:lnTo>
                    <a:lnTo>
                      <a:pt x="43" y="82"/>
                    </a:lnTo>
                    <a:lnTo>
                      <a:pt x="37" y="80"/>
                    </a:lnTo>
                    <a:lnTo>
                      <a:pt x="30" y="78"/>
                    </a:lnTo>
                    <a:lnTo>
                      <a:pt x="24" y="75"/>
                    </a:lnTo>
                    <a:lnTo>
                      <a:pt x="19" y="73"/>
                    </a:lnTo>
                    <a:lnTo>
                      <a:pt x="13" y="71"/>
                    </a:lnTo>
                    <a:lnTo>
                      <a:pt x="6" y="68"/>
                    </a:lnTo>
                    <a:lnTo>
                      <a:pt x="0" y="66"/>
                    </a:lnTo>
                    <a:lnTo>
                      <a:pt x="12" y="56"/>
                    </a:lnTo>
                    <a:lnTo>
                      <a:pt x="24" y="46"/>
                    </a:lnTo>
                    <a:lnTo>
                      <a:pt x="37" y="38"/>
                    </a:lnTo>
                    <a:lnTo>
                      <a:pt x="50" y="30"/>
                    </a:lnTo>
                    <a:lnTo>
                      <a:pt x="64" y="25"/>
                    </a:lnTo>
                    <a:lnTo>
                      <a:pt x="79" y="19"/>
                    </a:lnTo>
                    <a:lnTo>
                      <a:pt x="92" y="13"/>
                    </a:lnTo>
                    <a:lnTo>
                      <a:pt x="107" y="10"/>
                    </a:lnTo>
                    <a:lnTo>
                      <a:pt x="122" y="6"/>
                    </a:lnTo>
                    <a:lnTo>
                      <a:pt x="137" y="4"/>
                    </a:lnTo>
                    <a:lnTo>
                      <a:pt x="152" y="2"/>
                    </a:lnTo>
                    <a:lnTo>
                      <a:pt x="166" y="0"/>
                    </a:lnTo>
                    <a:lnTo>
                      <a:pt x="181" y="0"/>
                    </a:lnTo>
                    <a:lnTo>
                      <a:pt x="196" y="0"/>
                    </a:lnTo>
                    <a:lnTo>
                      <a:pt x="210" y="2"/>
                    </a:lnTo>
                    <a:lnTo>
                      <a:pt x="224" y="3"/>
                    </a:lnTo>
                    <a:lnTo>
                      <a:pt x="245" y="7"/>
                    </a:lnTo>
                    <a:lnTo>
                      <a:pt x="264" y="15"/>
                    </a:lnTo>
                    <a:lnTo>
                      <a:pt x="284" y="26"/>
                    </a:lnTo>
                    <a:lnTo>
                      <a:pt x="301" y="38"/>
                    </a:lnTo>
                    <a:lnTo>
                      <a:pt x="318" y="52"/>
                    </a:lnTo>
                    <a:lnTo>
                      <a:pt x="336" y="66"/>
                    </a:lnTo>
                    <a:lnTo>
                      <a:pt x="352" y="81"/>
                    </a:lnTo>
                    <a:lnTo>
                      <a:pt x="369" y="9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097840" y="5717520"/>
                <a:ext cx="248760" cy="20880"/>
              </a:xfrm>
              <a:custGeom>
                <a:avLst/>
                <a:gdLst/>
                <a:ahLst/>
                <a:rect l="l" t="t" r="r" b="b"/>
                <a:pathLst>
                  <a:path w="359" h="38">
                    <a:moveTo>
                      <a:pt x="350" y="4"/>
                    </a:moveTo>
                    <a:lnTo>
                      <a:pt x="352" y="8"/>
                    </a:lnTo>
                    <a:lnTo>
                      <a:pt x="356" y="11"/>
                    </a:lnTo>
                    <a:lnTo>
                      <a:pt x="358" y="14"/>
                    </a:lnTo>
                    <a:lnTo>
                      <a:pt x="359" y="19"/>
                    </a:lnTo>
                    <a:lnTo>
                      <a:pt x="339" y="20"/>
                    </a:lnTo>
                    <a:lnTo>
                      <a:pt x="319" y="21"/>
                    </a:lnTo>
                    <a:lnTo>
                      <a:pt x="299" y="23"/>
                    </a:lnTo>
                    <a:lnTo>
                      <a:pt x="280" y="23"/>
                    </a:lnTo>
                    <a:lnTo>
                      <a:pt x="260" y="24"/>
                    </a:lnTo>
                    <a:lnTo>
                      <a:pt x="241" y="24"/>
                    </a:lnTo>
                    <a:lnTo>
                      <a:pt x="221" y="24"/>
                    </a:lnTo>
                    <a:lnTo>
                      <a:pt x="201" y="24"/>
                    </a:lnTo>
                    <a:lnTo>
                      <a:pt x="181" y="25"/>
                    </a:lnTo>
                    <a:lnTo>
                      <a:pt x="161" y="25"/>
                    </a:lnTo>
                    <a:lnTo>
                      <a:pt x="141" y="25"/>
                    </a:lnTo>
                    <a:lnTo>
                      <a:pt x="122" y="26"/>
                    </a:lnTo>
                    <a:lnTo>
                      <a:pt x="101" y="26"/>
                    </a:lnTo>
                    <a:lnTo>
                      <a:pt x="80" y="27"/>
                    </a:lnTo>
                    <a:lnTo>
                      <a:pt x="60" y="28"/>
                    </a:lnTo>
                    <a:lnTo>
                      <a:pt x="39" y="29"/>
                    </a:lnTo>
                    <a:lnTo>
                      <a:pt x="34" y="29"/>
                    </a:lnTo>
                    <a:lnTo>
                      <a:pt x="30" y="31"/>
                    </a:lnTo>
                    <a:lnTo>
                      <a:pt x="25" y="32"/>
                    </a:lnTo>
                    <a:lnTo>
                      <a:pt x="21" y="32"/>
                    </a:lnTo>
                    <a:lnTo>
                      <a:pt x="17" y="33"/>
                    </a:lnTo>
                    <a:lnTo>
                      <a:pt x="12" y="34"/>
                    </a:lnTo>
                    <a:lnTo>
                      <a:pt x="8" y="36"/>
                    </a:lnTo>
                    <a:lnTo>
                      <a:pt x="4" y="38"/>
                    </a:lnTo>
                    <a:lnTo>
                      <a:pt x="3" y="34"/>
                    </a:lnTo>
                    <a:lnTo>
                      <a:pt x="2" y="31"/>
                    </a:lnTo>
                    <a:lnTo>
                      <a:pt x="0" y="28"/>
                    </a:lnTo>
                    <a:lnTo>
                      <a:pt x="0" y="25"/>
                    </a:lnTo>
                    <a:lnTo>
                      <a:pt x="18" y="19"/>
                    </a:lnTo>
                    <a:lnTo>
                      <a:pt x="37" y="16"/>
                    </a:lnTo>
                    <a:lnTo>
                      <a:pt x="55" y="13"/>
                    </a:lnTo>
                    <a:lnTo>
                      <a:pt x="75" y="11"/>
                    </a:lnTo>
                    <a:lnTo>
                      <a:pt x="94" y="10"/>
                    </a:lnTo>
                    <a:lnTo>
                      <a:pt x="114" y="9"/>
                    </a:lnTo>
                    <a:lnTo>
                      <a:pt x="133" y="8"/>
                    </a:lnTo>
                    <a:lnTo>
                      <a:pt x="153" y="5"/>
                    </a:lnTo>
                    <a:lnTo>
                      <a:pt x="165" y="4"/>
                    </a:lnTo>
                    <a:lnTo>
                      <a:pt x="177" y="3"/>
                    </a:lnTo>
                    <a:lnTo>
                      <a:pt x="189" y="2"/>
                    </a:lnTo>
                    <a:lnTo>
                      <a:pt x="200" y="1"/>
                    </a:lnTo>
                    <a:lnTo>
                      <a:pt x="213" y="1"/>
                    </a:lnTo>
                    <a:lnTo>
                      <a:pt x="226" y="0"/>
                    </a:lnTo>
                    <a:lnTo>
                      <a:pt x="238" y="0"/>
                    </a:lnTo>
                    <a:lnTo>
                      <a:pt x="250" y="0"/>
                    </a:lnTo>
                    <a:lnTo>
                      <a:pt x="262" y="1"/>
                    </a:lnTo>
                    <a:lnTo>
                      <a:pt x="275" y="1"/>
                    </a:lnTo>
                    <a:lnTo>
                      <a:pt x="288" y="1"/>
                    </a:lnTo>
                    <a:lnTo>
                      <a:pt x="300" y="2"/>
                    </a:lnTo>
                    <a:lnTo>
                      <a:pt x="313" y="2"/>
                    </a:lnTo>
                    <a:lnTo>
                      <a:pt x="326" y="3"/>
                    </a:lnTo>
                    <a:lnTo>
                      <a:pt x="337" y="3"/>
                    </a:lnTo>
                    <a:lnTo>
                      <a:pt x="350" y="4"/>
                    </a:lnTo>
                    <a:close/>
                  </a:path>
                </a:pathLst>
              </a:custGeom>
              <a:solidFill>
                <a:srgbClr val="7f7f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1" name=""/>
              <p:cNvSpPr/>
              <p:nvPr/>
            </p:nvSpPr>
            <p:spPr>
              <a:xfrm>
                <a:off x="7988760" y="5489280"/>
                <a:ext cx="512640" cy="212760"/>
              </a:xfrm>
              <a:custGeom>
                <a:avLst/>
                <a:gdLst/>
                <a:ahLst/>
                <a:rect l="l" t="t" r="r" b="b"/>
                <a:pathLst>
                  <a:path w="743" h="384">
                    <a:moveTo>
                      <a:pt x="65" y="36"/>
                    </a:moveTo>
                    <a:lnTo>
                      <a:pt x="82" y="54"/>
                    </a:lnTo>
                    <a:lnTo>
                      <a:pt x="98" y="74"/>
                    </a:lnTo>
                    <a:lnTo>
                      <a:pt x="115" y="92"/>
                    </a:lnTo>
                    <a:lnTo>
                      <a:pt x="132" y="110"/>
                    </a:lnTo>
                    <a:lnTo>
                      <a:pt x="150" y="127"/>
                    </a:lnTo>
                    <a:lnTo>
                      <a:pt x="169" y="143"/>
                    </a:lnTo>
                    <a:lnTo>
                      <a:pt x="188" y="159"/>
                    </a:lnTo>
                    <a:lnTo>
                      <a:pt x="208" y="173"/>
                    </a:lnTo>
                    <a:lnTo>
                      <a:pt x="224" y="181"/>
                    </a:lnTo>
                    <a:lnTo>
                      <a:pt x="242" y="185"/>
                    </a:lnTo>
                    <a:lnTo>
                      <a:pt x="260" y="186"/>
                    </a:lnTo>
                    <a:lnTo>
                      <a:pt x="277" y="182"/>
                    </a:lnTo>
                    <a:lnTo>
                      <a:pt x="296" y="177"/>
                    </a:lnTo>
                    <a:lnTo>
                      <a:pt x="313" y="170"/>
                    </a:lnTo>
                    <a:lnTo>
                      <a:pt x="329" y="159"/>
                    </a:lnTo>
                    <a:lnTo>
                      <a:pt x="345" y="149"/>
                    </a:lnTo>
                    <a:lnTo>
                      <a:pt x="351" y="144"/>
                    </a:lnTo>
                    <a:lnTo>
                      <a:pt x="357" y="137"/>
                    </a:lnTo>
                    <a:lnTo>
                      <a:pt x="362" y="132"/>
                    </a:lnTo>
                    <a:lnTo>
                      <a:pt x="367" y="126"/>
                    </a:lnTo>
                    <a:lnTo>
                      <a:pt x="373" y="121"/>
                    </a:lnTo>
                    <a:lnTo>
                      <a:pt x="379" y="118"/>
                    </a:lnTo>
                    <a:lnTo>
                      <a:pt x="387" y="118"/>
                    </a:lnTo>
                    <a:lnTo>
                      <a:pt x="395" y="121"/>
                    </a:lnTo>
                    <a:lnTo>
                      <a:pt x="412" y="128"/>
                    </a:lnTo>
                    <a:lnTo>
                      <a:pt x="427" y="139"/>
                    </a:lnTo>
                    <a:lnTo>
                      <a:pt x="442" y="150"/>
                    </a:lnTo>
                    <a:lnTo>
                      <a:pt x="456" y="163"/>
                    </a:lnTo>
                    <a:lnTo>
                      <a:pt x="471" y="174"/>
                    </a:lnTo>
                    <a:lnTo>
                      <a:pt x="487" y="183"/>
                    </a:lnTo>
                    <a:lnTo>
                      <a:pt x="506" y="188"/>
                    </a:lnTo>
                    <a:lnTo>
                      <a:pt x="526" y="187"/>
                    </a:lnTo>
                    <a:lnTo>
                      <a:pt x="545" y="181"/>
                    </a:lnTo>
                    <a:lnTo>
                      <a:pt x="563" y="174"/>
                    </a:lnTo>
                    <a:lnTo>
                      <a:pt x="582" y="164"/>
                    </a:lnTo>
                    <a:lnTo>
                      <a:pt x="598" y="152"/>
                    </a:lnTo>
                    <a:lnTo>
                      <a:pt x="614" y="140"/>
                    </a:lnTo>
                    <a:lnTo>
                      <a:pt x="629" y="125"/>
                    </a:lnTo>
                    <a:lnTo>
                      <a:pt x="642" y="110"/>
                    </a:lnTo>
                    <a:lnTo>
                      <a:pt x="652" y="94"/>
                    </a:lnTo>
                    <a:lnTo>
                      <a:pt x="659" y="86"/>
                    </a:lnTo>
                    <a:lnTo>
                      <a:pt x="666" y="80"/>
                    </a:lnTo>
                    <a:lnTo>
                      <a:pt x="675" y="75"/>
                    </a:lnTo>
                    <a:lnTo>
                      <a:pt x="685" y="74"/>
                    </a:lnTo>
                    <a:lnTo>
                      <a:pt x="696" y="73"/>
                    </a:lnTo>
                    <a:lnTo>
                      <a:pt x="706" y="73"/>
                    </a:lnTo>
                    <a:lnTo>
                      <a:pt x="716" y="72"/>
                    </a:lnTo>
                    <a:lnTo>
                      <a:pt x="727" y="72"/>
                    </a:lnTo>
                    <a:lnTo>
                      <a:pt x="733" y="74"/>
                    </a:lnTo>
                    <a:lnTo>
                      <a:pt x="738" y="75"/>
                    </a:lnTo>
                    <a:lnTo>
                      <a:pt x="743" y="79"/>
                    </a:lnTo>
                    <a:lnTo>
                      <a:pt x="743" y="83"/>
                    </a:lnTo>
                    <a:lnTo>
                      <a:pt x="728" y="96"/>
                    </a:lnTo>
                    <a:lnTo>
                      <a:pt x="712" y="107"/>
                    </a:lnTo>
                    <a:lnTo>
                      <a:pt x="696" y="119"/>
                    </a:lnTo>
                    <a:lnTo>
                      <a:pt x="678" y="129"/>
                    </a:lnTo>
                    <a:lnTo>
                      <a:pt x="661" y="139"/>
                    </a:lnTo>
                    <a:lnTo>
                      <a:pt x="645" y="149"/>
                    </a:lnTo>
                    <a:lnTo>
                      <a:pt x="628" y="158"/>
                    </a:lnTo>
                    <a:lnTo>
                      <a:pt x="612" y="168"/>
                    </a:lnTo>
                    <a:lnTo>
                      <a:pt x="599" y="177"/>
                    </a:lnTo>
                    <a:lnTo>
                      <a:pt x="587" y="186"/>
                    </a:lnTo>
                    <a:lnTo>
                      <a:pt x="576" y="196"/>
                    </a:lnTo>
                    <a:lnTo>
                      <a:pt x="564" y="205"/>
                    </a:lnTo>
                    <a:lnTo>
                      <a:pt x="554" y="216"/>
                    </a:lnTo>
                    <a:lnTo>
                      <a:pt x="544" y="227"/>
                    </a:lnTo>
                    <a:lnTo>
                      <a:pt x="533" y="238"/>
                    </a:lnTo>
                    <a:lnTo>
                      <a:pt x="524" y="249"/>
                    </a:lnTo>
                    <a:lnTo>
                      <a:pt x="514" y="262"/>
                    </a:lnTo>
                    <a:lnTo>
                      <a:pt x="504" y="276"/>
                    </a:lnTo>
                    <a:lnTo>
                      <a:pt x="495" y="289"/>
                    </a:lnTo>
                    <a:lnTo>
                      <a:pt x="486" y="303"/>
                    </a:lnTo>
                    <a:lnTo>
                      <a:pt x="479" y="318"/>
                    </a:lnTo>
                    <a:lnTo>
                      <a:pt x="472" y="333"/>
                    </a:lnTo>
                    <a:lnTo>
                      <a:pt x="466" y="348"/>
                    </a:lnTo>
                    <a:lnTo>
                      <a:pt x="463" y="364"/>
                    </a:lnTo>
                    <a:lnTo>
                      <a:pt x="447" y="363"/>
                    </a:lnTo>
                    <a:lnTo>
                      <a:pt x="430" y="363"/>
                    </a:lnTo>
                    <a:lnTo>
                      <a:pt x="413" y="363"/>
                    </a:lnTo>
                    <a:lnTo>
                      <a:pt x="397" y="364"/>
                    </a:lnTo>
                    <a:lnTo>
                      <a:pt x="381" y="365"/>
                    </a:lnTo>
                    <a:lnTo>
                      <a:pt x="364" y="367"/>
                    </a:lnTo>
                    <a:lnTo>
                      <a:pt x="348" y="369"/>
                    </a:lnTo>
                    <a:lnTo>
                      <a:pt x="332" y="370"/>
                    </a:lnTo>
                    <a:lnTo>
                      <a:pt x="315" y="372"/>
                    </a:lnTo>
                    <a:lnTo>
                      <a:pt x="299" y="375"/>
                    </a:lnTo>
                    <a:lnTo>
                      <a:pt x="283" y="377"/>
                    </a:lnTo>
                    <a:lnTo>
                      <a:pt x="267" y="379"/>
                    </a:lnTo>
                    <a:lnTo>
                      <a:pt x="251" y="380"/>
                    </a:lnTo>
                    <a:lnTo>
                      <a:pt x="234" y="382"/>
                    </a:lnTo>
                    <a:lnTo>
                      <a:pt x="218" y="383"/>
                    </a:lnTo>
                    <a:lnTo>
                      <a:pt x="201" y="384"/>
                    </a:lnTo>
                    <a:lnTo>
                      <a:pt x="197" y="360"/>
                    </a:lnTo>
                    <a:lnTo>
                      <a:pt x="193" y="335"/>
                    </a:lnTo>
                    <a:lnTo>
                      <a:pt x="188" y="312"/>
                    </a:lnTo>
                    <a:lnTo>
                      <a:pt x="177" y="291"/>
                    </a:lnTo>
                    <a:lnTo>
                      <a:pt x="165" y="270"/>
                    </a:lnTo>
                    <a:lnTo>
                      <a:pt x="153" y="248"/>
                    </a:lnTo>
                    <a:lnTo>
                      <a:pt x="140" y="227"/>
                    </a:lnTo>
                    <a:lnTo>
                      <a:pt x="128" y="205"/>
                    </a:lnTo>
                    <a:lnTo>
                      <a:pt x="115" y="185"/>
                    </a:lnTo>
                    <a:lnTo>
                      <a:pt x="101" y="165"/>
                    </a:lnTo>
                    <a:lnTo>
                      <a:pt x="86" y="145"/>
                    </a:lnTo>
                    <a:lnTo>
                      <a:pt x="71" y="127"/>
                    </a:lnTo>
                    <a:lnTo>
                      <a:pt x="60" y="112"/>
                    </a:lnTo>
                    <a:lnTo>
                      <a:pt x="48" y="98"/>
                    </a:lnTo>
                    <a:lnTo>
                      <a:pt x="38" y="82"/>
                    </a:lnTo>
                    <a:lnTo>
                      <a:pt x="29" y="67"/>
                    </a:lnTo>
                    <a:lnTo>
                      <a:pt x="21" y="51"/>
                    </a:lnTo>
                    <a:lnTo>
                      <a:pt x="12" y="34"/>
                    </a:lnTo>
                    <a:lnTo>
                      <a:pt x="6" y="18"/>
                    </a:lnTo>
                    <a:lnTo>
                      <a:pt x="0" y="0"/>
                    </a:lnTo>
                    <a:lnTo>
                      <a:pt x="8" y="5"/>
                    </a:lnTo>
                    <a:lnTo>
                      <a:pt x="16" y="10"/>
                    </a:lnTo>
                    <a:lnTo>
                      <a:pt x="24" y="14"/>
                    </a:lnTo>
                    <a:lnTo>
                      <a:pt x="32" y="19"/>
                    </a:lnTo>
                    <a:lnTo>
                      <a:pt x="40" y="23"/>
                    </a:lnTo>
                    <a:lnTo>
                      <a:pt x="48" y="27"/>
                    </a:lnTo>
                    <a:lnTo>
                      <a:pt x="57" y="31"/>
                    </a:lnTo>
                    <a:lnTo>
                      <a:pt x="65" y="36"/>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722000" y="5747760"/>
                <a:ext cx="1070640" cy="769680"/>
              </a:xfrm>
              <a:custGeom>
                <a:avLst/>
                <a:gdLst/>
                <a:ahLst/>
                <a:rect l="l" t="t" r="r" b="b"/>
                <a:pathLst>
                  <a:path w="1548" h="1389">
                    <a:moveTo>
                      <a:pt x="932" y="7"/>
                    </a:moveTo>
                    <a:lnTo>
                      <a:pt x="941" y="15"/>
                    </a:lnTo>
                    <a:lnTo>
                      <a:pt x="950" y="23"/>
                    </a:lnTo>
                    <a:lnTo>
                      <a:pt x="960" y="31"/>
                    </a:lnTo>
                    <a:lnTo>
                      <a:pt x="969" y="39"/>
                    </a:lnTo>
                    <a:lnTo>
                      <a:pt x="978" y="47"/>
                    </a:lnTo>
                    <a:lnTo>
                      <a:pt x="987" y="56"/>
                    </a:lnTo>
                    <a:lnTo>
                      <a:pt x="995" y="66"/>
                    </a:lnTo>
                    <a:lnTo>
                      <a:pt x="1002" y="77"/>
                    </a:lnTo>
                    <a:lnTo>
                      <a:pt x="1015" y="98"/>
                    </a:lnTo>
                    <a:lnTo>
                      <a:pt x="1027" y="119"/>
                    </a:lnTo>
                    <a:lnTo>
                      <a:pt x="1039" y="140"/>
                    </a:lnTo>
                    <a:lnTo>
                      <a:pt x="1051" y="162"/>
                    </a:lnTo>
                    <a:lnTo>
                      <a:pt x="1063" y="183"/>
                    </a:lnTo>
                    <a:lnTo>
                      <a:pt x="1076" y="203"/>
                    </a:lnTo>
                    <a:lnTo>
                      <a:pt x="1089" y="224"/>
                    </a:lnTo>
                    <a:lnTo>
                      <a:pt x="1103" y="245"/>
                    </a:lnTo>
                    <a:lnTo>
                      <a:pt x="1111" y="256"/>
                    </a:lnTo>
                    <a:lnTo>
                      <a:pt x="1119" y="267"/>
                    </a:lnTo>
                    <a:lnTo>
                      <a:pt x="1128" y="277"/>
                    </a:lnTo>
                    <a:lnTo>
                      <a:pt x="1136" y="286"/>
                    </a:lnTo>
                    <a:lnTo>
                      <a:pt x="1144" y="297"/>
                    </a:lnTo>
                    <a:lnTo>
                      <a:pt x="1153" y="307"/>
                    </a:lnTo>
                    <a:lnTo>
                      <a:pt x="1162" y="318"/>
                    </a:lnTo>
                    <a:lnTo>
                      <a:pt x="1172" y="328"/>
                    </a:lnTo>
                    <a:lnTo>
                      <a:pt x="1186" y="343"/>
                    </a:lnTo>
                    <a:lnTo>
                      <a:pt x="1199" y="357"/>
                    </a:lnTo>
                    <a:lnTo>
                      <a:pt x="1214" y="370"/>
                    </a:lnTo>
                    <a:lnTo>
                      <a:pt x="1229" y="384"/>
                    </a:lnTo>
                    <a:lnTo>
                      <a:pt x="1244" y="398"/>
                    </a:lnTo>
                    <a:lnTo>
                      <a:pt x="1259" y="411"/>
                    </a:lnTo>
                    <a:lnTo>
                      <a:pt x="1275" y="423"/>
                    </a:lnTo>
                    <a:lnTo>
                      <a:pt x="1290" y="436"/>
                    </a:lnTo>
                    <a:lnTo>
                      <a:pt x="1307" y="449"/>
                    </a:lnTo>
                    <a:lnTo>
                      <a:pt x="1321" y="461"/>
                    </a:lnTo>
                    <a:lnTo>
                      <a:pt x="1338" y="475"/>
                    </a:lnTo>
                    <a:lnTo>
                      <a:pt x="1353" y="488"/>
                    </a:lnTo>
                    <a:lnTo>
                      <a:pt x="1368" y="501"/>
                    </a:lnTo>
                    <a:lnTo>
                      <a:pt x="1383" y="514"/>
                    </a:lnTo>
                    <a:lnTo>
                      <a:pt x="1398" y="528"/>
                    </a:lnTo>
                    <a:lnTo>
                      <a:pt x="1411" y="543"/>
                    </a:lnTo>
                    <a:lnTo>
                      <a:pt x="1436" y="570"/>
                    </a:lnTo>
                    <a:lnTo>
                      <a:pt x="1459" y="597"/>
                    </a:lnTo>
                    <a:lnTo>
                      <a:pt x="1480" y="626"/>
                    </a:lnTo>
                    <a:lnTo>
                      <a:pt x="1500" y="657"/>
                    </a:lnTo>
                    <a:lnTo>
                      <a:pt x="1516" y="688"/>
                    </a:lnTo>
                    <a:lnTo>
                      <a:pt x="1530" y="721"/>
                    </a:lnTo>
                    <a:lnTo>
                      <a:pt x="1540" y="755"/>
                    </a:lnTo>
                    <a:lnTo>
                      <a:pt x="1547" y="790"/>
                    </a:lnTo>
                    <a:lnTo>
                      <a:pt x="1548" y="820"/>
                    </a:lnTo>
                    <a:lnTo>
                      <a:pt x="1544" y="847"/>
                    </a:lnTo>
                    <a:lnTo>
                      <a:pt x="1536" y="874"/>
                    </a:lnTo>
                    <a:lnTo>
                      <a:pt x="1523" y="899"/>
                    </a:lnTo>
                    <a:lnTo>
                      <a:pt x="1508" y="923"/>
                    </a:lnTo>
                    <a:lnTo>
                      <a:pt x="1490" y="946"/>
                    </a:lnTo>
                    <a:lnTo>
                      <a:pt x="1469" y="968"/>
                    </a:lnTo>
                    <a:lnTo>
                      <a:pt x="1448" y="989"/>
                    </a:lnTo>
                    <a:lnTo>
                      <a:pt x="1431" y="1010"/>
                    </a:lnTo>
                    <a:lnTo>
                      <a:pt x="1417" y="1033"/>
                    </a:lnTo>
                    <a:lnTo>
                      <a:pt x="1406" y="1057"/>
                    </a:lnTo>
                    <a:lnTo>
                      <a:pt x="1396" y="1082"/>
                    </a:lnTo>
                    <a:lnTo>
                      <a:pt x="1385" y="1106"/>
                    </a:lnTo>
                    <a:lnTo>
                      <a:pt x="1372" y="1131"/>
                    </a:lnTo>
                    <a:lnTo>
                      <a:pt x="1355" y="1151"/>
                    </a:lnTo>
                    <a:lnTo>
                      <a:pt x="1333" y="1169"/>
                    </a:lnTo>
                    <a:lnTo>
                      <a:pt x="1321" y="1176"/>
                    </a:lnTo>
                    <a:lnTo>
                      <a:pt x="1309" y="1182"/>
                    </a:lnTo>
                    <a:lnTo>
                      <a:pt x="1297" y="1188"/>
                    </a:lnTo>
                    <a:lnTo>
                      <a:pt x="1285" y="1193"/>
                    </a:lnTo>
                    <a:lnTo>
                      <a:pt x="1272" y="1199"/>
                    </a:lnTo>
                    <a:lnTo>
                      <a:pt x="1259" y="1203"/>
                    </a:lnTo>
                    <a:lnTo>
                      <a:pt x="1247" y="1207"/>
                    </a:lnTo>
                    <a:lnTo>
                      <a:pt x="1233" y="1210"/>
                    </a:lnTo>
                    <a:lnTo>
                      <a:pt x="1220" y="1214"/>
                    </a:lnTo>
                    <a:lnTo>
                      <a:pt x="1206" y="1216"/>
                    </a:lnTo>
                    <a:lnTo>
                      <a:pt x="1192" y="1218"/>
                    </a:lnTo>
                    <a:lnTo>
                      <a:pt x="1179" y="1219"/>
                    </a:lnTo>
                    <a:lnTo>
                      <a:pt x="1165" y="1220"/>
                    </a:lnTo>
                    <a:lnTo>
                      <a:pt x="1151" y="1220"/>
                    </a:lnTo>
                    <a:lnTo>
                      <a:pt x="1137" y="1220"/>
                    </a:lnTo>
                    <a:lnTo>
                      <a:pt x="1122" y="1220"/>
                    </a:lnTo>
                    <a:lnTo>
                      <a:pt x="1109" y="1220"/>
                    </a:lnTo>
                    <a:lnTo>
                      <a:pt x="1096" y="1220"/>
                    </a:lnTo>
                    <a:lnTo>
                      <a:pt x="1083" y="1222"/>
                    </a:lnTo>
                    <a:lnTo>
                      <a:pt x="1070" y="1223"/>
                    </a:lnTo>
                    <a:lnTo>
                      <a:pt x="1058" y="1225"/>
                    </a:lnTo>
                    <a:lnTo>
                      <a:pt x="1046" y="1227"/>
                    </a:lnTo>
                    <a:lnTo>
                      <a:pt x="1033" y="1231"/>
                    </a:lnTo>
                    <a:lnTo>
                      <a:pt x="1022" y="1234"/>
                    </a:lnTo>
                    <a:lnTo>
                      <a:pt x="1010" y="1239"/>
                    </a:lnTo>
                    <a:lnTo>
                      <a:pt x="999" y="1244"/>
                    </a:lnTo>
                    <a:lnTo>
                      <a:pt x="987" y="1249"/>
                    </a:lnTo>
                    <a:lnTo>
                      <a:pt x="976" y="1255"/>
                    </a:lnTo>
                    <a:lnTo>
                      <a:pt x="965" y="1261"/>
                    </a:lnTo>
                    <a:lnTo>
                      <a:pt x="955" y="1268"/>
                    </a:lnTo>
                    <a:lnTo>
                      <a:pt x="945" y="1275"/>
                    </a:lnTo>
                    <a:lnTo>
                      <a:pt x="934" y="1283"/>
                    </a:lnTo>
                    <a:lnTo>
                      <a:pt x="922" y="1293"/>
                    </a:lnTo>
                    <a:lnTo>
                      <a:pt x="909" y="1302"/>
                    </a:lnTo>
                    <a:lnTo>
                      <a:pt x="896" y="1311"/>
                    </a:lnTo>
                    <a:lnTo>
                      <a:pt x="884" y="1321"/>
                    </a:lnTo>
                    <a:lnTo>
                      <a:pt x="871" y="1329"/>
                    </a:lnTo>
                    <a:lnTo>
                      <a:pt x="857" y="1336"/>
                    </a:lnTo>
                    <a:lnTo>
                      <a:pt x="844" y="1343"/>
                    </a:lnTo>
                    <a:lnTo>
                      <a:pt x="831" y="1349"/>
                    </a:lnTo>
                    <a:lnTo>
                      <a:pt x="817" y="1356"/>
                    </a:lnTo>
                    <a:lnTo>
                      <a:pt x="803" y="1361"/>
                    </a:lnTo>
                    <a:lnTo>
                      <a:pt x="788" y="1367"/>
                    </a:lnTo>
                    <a:lnTo>
                      <a:pt x="774" y="1371"/>
                    </a:lnTo>
                    <a:lnTo>
                      <a:pt x="759" y="1375"/>
                    </a:lnTo>
                    <a:lnTo>
                      <a:pt x="744" y="1378"/>
                    </a:lnTo>
                    <a:lnTo>
                      <a:pt x="729" y="1382"/>
                    </a:lnTo>
                    <a:lnTo>
                      <a:pt x="714" y="1384"/>
                    </a:lnTo>
                    <a:lnTo>
                      <a:pt x="703" y="1385"/>
                    </a:lnTo>
                    <a:lnTo>
                      <a:pt x="690" y="1387"/>
                    </a:lnTo>
                    <a:lnTo>
                      <a:pt x="677" y="1387"/>
                    </a:lnTo>
                    <a:lnTo>
                      <a:pt x="666" y="1389"/>
                    </a:lnTo>
                    <a:lnTo>
                      <a:pt x="652" y="1389"/>
                    </a:lnTo>
                    <a:lnTo>
                      <a:pt x="639" y="1389"/>
                    </a:lnTo>
                    <a:lnTo>
                      <a:pt x="627" y="1389"/>
                    </a:lnTo>
                    <a:lnTo>
                      <a:pt x="614" y="1389"/>
                    </a:lnTo>
                    <a:lnTo>
                      <a:pt x="601" y="1387"/>
                    </a:lnTo>
                    <a:lnTo>
                      <a:pt x="588" y="1386"/>
                    </a:lnTo>
                    <a:lnTo>
                      <a:pt x="575" y="1384"/>
                    </a:lnTo>
                    <a:lnTo>
                      <a:pt x="562" y="1383"/>
                    </a:lnTo>
                    <a:lnTo>
                      <a:pt x="551" y="1379"/>
                    </a:lnTo>
                    <a:lnTo>
                      <a:pt x="538" y="1377"/>
                    </a:lnTo>
                    <a:lnTo>
                      <a:pt x="526" y="1374"/>
                    </a:lnTo>
                    <a:lnTo>
                      <a:pt x="515" y="1370"/>
                    </a:lnTo>
                    <a:lnTo>
                      <a:pt x="497" y="1363"/>
                    </a:lnTo>
                    <a:lnTo>
                      <a:pt x="478" y="1356"/>
                    </a:lnTo>
                    <a:lnTo>
                      <a:pt x="461" y="1349"/>
                    </a:lnTo>
                    <a:lnTo>
                      <a:pt x="442" y="1341"/>
                    </a:lnTo>
                    <a:lnTo>
                      <a:pt x="425" y="1334"/>
                    </a:lnTo>
                    <a:lnTo>
                      <a:pt x="408" y="1326"/>
                    </a:lnTo>
                    <a:lnTo>
                      <a:pt x="389" y="1318"/>
                    </a:lnTo>
                    <a:lnTo>
                      <a:pt x="372" y="1310"/>
                    </a:lnTo>
                    <a:lnTo>
                      <a:pt x="348" y="1288"/>
                    </a:lnTo>
                    <a:lnTo>
                      <a:pt x="325" y="1267"/>
                    </a:lnTo>
                    <a:lnTo>
                      <a:pt x="301" y="1245"/>
                    </a:lnTo>
                    <a:lnTo>
                      <a:pt x="278" y="1222"/>
                    </a:lnTo>
                    <a:lnTo>
                      <a:pt x="256" y="1199"/>
                    </a:lnTo>
                    <a:lnTo>
                      <a:pt x="237" y="1173"/>
                    </a:lnTo>
                    <a:lnTo>
                      <a:pt x="220" y="1148"/>
                    </a:lnTo>
                    <a:lnTo>
                      <a:pt x="207" y="1119"/>
                    </a:lnTo>
                    <a:lnTo>
                      <a:pt x="199" y="1085"/>
                    </a:lnTo>
                    <a:lnTo>
                      <a:pt x="196" y="1049"/>
                    </a:lnTo>
                    <a:lnTo>
                      <a:pt x="191" y="1013"/>
                    </a:lnTo>
                    <a:lnTo>
                      <a:pt x="177" y="981"/>
                    </a:lnTo>
                    <a:lnTo>
                      <a:pt x="169" y="968"/>
                    </a:lnTo>
                    <a:lnTo>
                      <a:pt x="161" y="956"/>
                    </a:lnTo>
                    <a:lnTo>
                      <a:pt x="152" y="944"/>
                    </a:lnTo>
                    <a:lnTo>
                      <a:pt x="142" y="931"/>
                    </a:lnTo>
                    <a:lnTo>
                      <a:pt x="131" y="920"/>
                    </a:lnTo>
                    <a:lnTo>
                      <a:pt x="121" y="908"/>
                    </a:lnTo>
                    <a:lnTo>
                      <a:pt x="109" y="898"/>
                    </a:lnTo>
                    <a:lnTo>
                      <a:pt x="98" y="888"/>
                    </a:lnTo>
                    <a:lnTo>
                      <a:pt x="74" y="866"/>
                    </a:lnTo>
                    <a:lnTo>
                      <a:pt x="52" y="840"/>
                    </a:lnTo>
                    <a:lnTo>
                      <a:pt x="35" y="814"/>
                    </a:lnTo>
                    <a:lnTo>
                      <a:pt x="21" y="785"/>
                    </a:lnTo>
                    <a:lnTo>
                      <a:pt x="9" y="755"/>
                    </a:lnTo>
                    <a:lnTo>
                      <a:pt x="2" y="723"/>
                    </a:lnTo>
                    <a:lnTo>
                      <a:pt x="0" y="691"/>
                    </a:lnTo>
                    <a:lnTo>
                      <a:pt x="1" y="657"/>
                    </a:lnTo>
                    <a:lnTo>
                      <a:pt x="5" y="631"/>
                    </a:lnTo>
                    <a:lnTo>
                      <a:pt x="10" y="605"/>
                    </a:lnTo>
                    <a:lnTo>
                      <a:pt x="18" y="580"/>
                    </a:lnTo>
                    <a:lnTo>
                      <a:pt x="26" y="555"/>
                    </a:lnTo>
                    <a:lnTo>
                      <a:pt x="37" y="532"/>
                    </a:lnTo>
                    <a:lnTo>
                      <a:pt x="49" y="509"/>
                    </a:lnTo>
                    <a:lnTo>
                      <a:pt x="63" y="486"/>
                    </a:lnTo>
                    <a:lnTo>
                      <a:pt x="78" y="464"/>
                    </a:lnTo>
                    <a:lnTo>
                      <a:pt x="97" y="440"/>
                    </a:lnTo>
                    <a:lnTo>
                      <a:pt x="115" y="417"/>
                    </a:lnTo>
                    <a:lnTo>
                      <a:pt x="135" y="392"/>
                    </a:lnTo>
                    <a:lnTo>
                      <a:pt x="155" y="368"/>
                    </a:lnTo>
                    <a:lnTo>
                      <a:pt x="176" y="346"/>
                    </a:lnTo>
                    <a:lnTo>
                      <a:pt x="199" y="326"/>
                    </a:lnTo>
                    <a:lnTo>
                      <a:pt x="223" y="307"/>
                    </a:lnTo>
                    <a:lnTo>
                      <a:pt x="249" y="291"/>
                    </a:lnTo>
                    <a:lnTo>
                      <a:pt x="266" y="281"/>
                    </a:lnTo>
                    <a:lnTo>
                      <a:pt x="283" y="270"/>
                    </a:lnTo>
                    <a:lnTo>
                      <a:pt x="300" y="259"/>
                    </a:lnTo>
                    <a:lnTo>
                      <a:pt x="317" y="247"/>
                    </a:lnTo>
                    <a:lnTo>
                      <a:pt x="333" y="236"/>
                    </a:lnTo>
                    <a:lnTo>
                      <a:pt x="348" y="223"/>
                    </a:lnTo>
                    <a:lnTo>
                      <a:pt x="364" y="210"/>
                    </a:lnTo>
                    <a:lnTo>
                      <a:pt x="379" y="198"/>
                    </a:lnTo>
                    <a:lnTo>
                      <a:pt x="394" y="185"/>
                    </a:lnTo>
                    <a:lnTo>
                      <a:pt x="409" y="171"/>
                    </a:lnTo>
                    <a:lnTo>
                      <a:pt x="423" y="157"/>
                    </a:lnTo>
                    <a:lnTo>
                      <a:pt x="438" y="144"/>
                    </a:lnTo>
                    <a:lnTo>
                      <a:pt x="452" y="129"/>
                    </a:lnTo>
                    <a:lnTo>
                      <a:pt x="465" y="115"/>
                    </a:lnTo>
                    <a:lnTo>
                      <a:pt x="478" y="100"/>
                    </a:lnTo>
                    <a:lnTo>
                      <a:pt x="492" y="85"/>
                    </a:lnTo>
                    <a:lnTo>
                      <a:pt x="498" y="78"/>
                    </a:lnTo>
                    <a:lnTo>
                      <a:pt x="502" y="71"/>
                    </a:lnTo>
                    <a:lnTo>
                      <a:pt x="508" y="64"/>
                    </a:lnTo>
                    <a:lnTo>
                      <a:pt x="513" y="56"/>
                    </a:lnTo>
                    <a:lnTo>
                      <a:pt x="517" y="49"/>
                    </a:lnTo>
                    <a:lnTo>
                      <a:pt x="522" y="41"/>
                    </a:lnTo>
                    <a:lnTo>
                      <a:pt x="526" y="33"/>
                    </a:lnTo>
                    <a:lnTo>
                      <a:pt x="531" y="26"/>
                    </a:lnTo>
                    <a:lnTo>
                      <a:pt x="544" y="27"/>
                    </a:lnTo>
                    <a:lnTo>
                      <a:pt x="555" y="28"/>
                    </a:lnTo>
                    <a:lnTo>
                      <a:pt x="567" y="28"/>
                    </a:lnTo>
                    <a:lnTo>
                      <a:pt x="578" y="30"/>
                    </a:lnTo>
                    <a:lnTo>
                      <a:pt x="589" y="28"/>
                    </a:lnTo>
                    <a:lnTo>
                      <a:pt x="600" y="28"/>
                    </a:lnTo>
                    <a:lnTo>
                      <a:pt x="612" y="27"/>
                    </a:lnTo>
                    <a:lnTo>
                      <a:pt x="622" y="27"/>
                    </a:lnTo>
                    <a:lnTo>
                      <a:pt x="634" y="26"/>
                    </a:lnTo>
                    <a:lnTo>
                      <a:pt x="644" y="25"/>
                    </a:lnTo>
                    <a:lnTo>
                      <a:pt x="656" y="25"/>
                    </a:lnTo>
                    <a:lnTo>
                      <a:pt x="667" y="25"/>
                    </a:lnTo>
                    <a:lnTo>
                      <a:pt x="679" y="24"/>
                    </a:lnTo>
                    <a:lnTo>
                      <a:pt x="691" y="25"/>
                    </a:lnTo>
                    <a:lnTo>
                      <a:pt x="703" y="25"/>
                    </a:lnTo>
                    <a:lnTo>
                      <a:pt x="715" y="26"/>
                    </a:lnTo>
                    <a:lnTo>
                      <a:pt x="728" y="24"/>
                    </a:lnTo>
                    <a:lnTo>
                      <a:pt x="741" y="22"/>
                    </a:lnTo>
                    <a:lnTo>
                      <a:pt x="753" y="20"/>
                    </a:lnTo>
                    <a:lnTo>
                      <a:pt x="767" y="19"/>
                    </a:lnTo>
                    <a:lnTo>
                      <a:pt x="780" y="17"/>
                    </a:lnTo>
                    <a:lnTo>
                      <a:pt x="793" y="16"/>
                    </a:lnTo>
                    <a:lnTo>
                      <a:pt x="805" y="15"/>
                    </a:lnTo>
                    <a:lnTo>
                      <a:pt x="819" y="13"/>
                    </a:lnTo>
                    <a:lnTo>
                      <a:pt x="832" y="12"/>
                    </a:lnTo>
                    <a:lnTo>
                      <a:pt x="844" y="11"/>
                    </a:lnTo>
                    <a:lnTo>
                      <a:pt x="857" y="10"/>
                    </a:lnTo>
                    <a:lnTo>
                      <a:pt x="870" y="9"/>
                    </a:lnTo>
                    <a:lnTo>
                      <a:pt x="884" y="7"/>
                    </a:lnTo>
                    <a:lnTo>
                      <a:pt x="896" y="4"/>
                    </a:lnTo>
                    <a:lnTo>
                      <a:pt x="909" y="2"/>
                    </a:lnTo>
                    <a:lnTo>
                      <a:pt x="922" y="0"/>
                    </a:lnTo>
                    <a:lnTo>
                      <a:pt x="926" y="0"/>
                    </a:lnTo>
                    <a:lnTo>
                      <a:pt x="929" y="1"/>
                    </a:lnTo>
                    <a:lnTo>
                      <a:pt x="930" y="4"/>
                    </a:lnTo>
                    <a:lnTo>
                      <a:pt x="932" y="7"/>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8073720" y="5896800"/>
              <a:ext cx="352800" cy="455040"/>
            </a:xfrm>
            <a:custGeom>
              <a:avLst/>
              <a:gdLst/>
              <a:ahLst/>
              <a:rect l="l" t="t" r="r" b="b"/>
              <a:pathLst>
                <a:path w="473" h="811">
                  <a:moveTo>
                    <a:pt x="205" y="534"/>
                  </a:moveTo>
                  <a:lnTo>
                    <a:pt x="256" y="554"/>
                  </a:lnTo>
                  <a:lnTo>
                    <a:pt x="256" y="685"/>
                  </a:lnTo>
                  <a:lnTo>
                    <a:pt x="271" y="684"/>
                  </a:lnTo>
                  <a:lnTo>
                    <a:pt x="286" y="679"/>
                  </a:lnTo>
                  <a:lnTo>
                    <a:pt x="300" y="673"/>
                  </a:lnTo>
                  <a:lnTo>
                    <a:pt x="313" y="663"/>
                  </a:lnTo>
                  <a:lnTo>
                    <a:pt x="324" y="652"/>
                  </a:lnTo>
                  <a:lnTo>
                    <a:pt x="333" y="638"/>
                  </a:lnTo>
                  <a:lnTo>
                    <a:pt x="338" y="623"/>
                  </a:lnTo>
                  <a:lnTo>
                    <a:pt x="341" y="606"/>
                  </a:lnTo>
                  <a:lnTo>
                    <a:pt x="339" y="591"/>
                  </a:lnTo>
                  <a:lnTo>
                    <a:pt x="335" y="577"/>
                  </a:lnTo>
                  <a:lnTo>
                    <a:pt x="326" y="563"/>
                  </a:lnTo>
                  <a:lnTo>
                    <a:pt x="313" y="550"/>
                  </a:lnTo>
                  <a:lnTo>
                    <a:pt x="296" y="537"/>
                  </a:lnTo>
                  <a:lnTo>
                    <a:pt x="271" y="523"/>
                  </a:lnTo>
                  <a:lnTo>
                    <a:pt x="241" y="508"/>
                  </a:lnTo>
                  <a:lnTo>
                    <a:pt x="205" y="492"/>
                  </a:lnTo>
                  <a:lnTo>
                    <a:pt x="182" y="480"/>
                  </a:lnTo>
                  <a:lnTo>
                    <a:pt x="160" y="469"/>
                  </a:lnTo>
                  <a:lnTo>
                    <a:pt x="139" y="457"/>
                  </a:lnTo>
                  <a:lnTo>
                    <a:pt x="121" y="446"/>
                  </a:lnTo>
                  <a:lnTo>
                    <a:pt x="104" y="434"/>
                  </a:lnTo>
                  <a:lnTo>
                    <a:pt x="88" y="423"/>
                  </a:lnTo>
                  <a:lnTo>
                    <a:pt x="74" y="410"/>
                  </a:lnTo>
                  <a:lnTo>
                    <a:pt x="63" y="397"/>
                  </a:lnTo>
                  <a:lnTo>
                    <a:pt x="51" y="383"/>
                  </a:lnTo>
                  <a:lnTo>
                    <a:pt x="42" y="370"/>
                  </a:lnTo>
                  <a:lnTo>
                    <a:pt x="35" y="356"/>
                  </a:lnTo>
                  <a:lnTo>
                    <a:pt x="28" y="341"/>
                  </a:lnTo>
                  <a:lnTo>
                    <a:pt x="24" y="325"/>
                  </a:lnTo>
                  <a:lnTo>
                    <a:pt x="20" y="309"/>
                  </a:lnTo>
                  <a:lnTo>
                    <a:pt x="18" y="291"/>
                  </a:lnTo>
                  <a:lnTo>
                    <a:pt x="18" y="273"/>
                  </a:lnTo>
                  <a:lnTo>
                    <a:pt x="19" y="252"/>
                  </a:lnTo>
                  <a:lnTo>
                    <a:pt x="23" y="233"/>
                  </a:lnTo>
                  <a:lnTo>
                    <a:pt x="27" y="214"/>
                  </a:lnTo>
                  <a:lnTo>
                    <a:pt x="34" y="196"/>
                  </a:lnTo>
                  <a:lnTo>
                    <a:pt x="42" y="178"/>
                  </a:lnTo>
                  <a:lnTo>
                    <a:pt x="51" y="162"/>
                  </a:lnTo>
                  <a:lnTo>
                    <a:pt x="62" y="147"/>
                  </a:lnTo>
                  <a:lnTo>
                    <a:pt x="74" y="132"/>
                  </a:lnTo>
                  <a:lnTo>
                    <a:pt x="87" y="120"/>
                  </a:lnTo>
                  <a:lnTo>
                    <a:pt x="102" y="108"/>
                  </a:lnTo>
                  <a:lnTo>
                    <a:pt x="117" y="98"/>
                  </a:lnTo>
                  <a:lnTo>
                    <a:pt x="133" y="89"/>
                  </a:lnTo>
                  <a:lnTo>
                    <a:pt x="150" y="81"/>
                  </a:lnTo>
                  <a:lnTo>
                    <a:pt x="168" y="74"/>
                  </a:lnTo>
                  <a:lnTo>
                    <a:pt x="186" y="69"/>
                  </a:lnTo>
                  <a:lnTo>
                    <a:pt x="205" y="66"/>
                  </a:lnTo>
                  <a:lnTo>
                    <a:pt x="205" y="0"/>
                  </a:lnTo>
                  <a:lnTo>
                    <a:pt x="256" y="0"/>
                  </a:lnTo>
                  <a:lnTo>
                    <a:pt x="256" y="64"/>
                  </a:lnTo>
                  <a:lnTo>
                    <a:pt x="271" y="66"/>
                  </a:lnTo>
                  <a:lnTo>
                    <a:pt x="286" y="67"/>
                  </a:lnTo>
                  <a:lnTo>
                    <a:pt x="303" y="70"/>
                  </a:lnTo>
                  <a:lnTo>
                    <a:pt x="319" y="74"/>
                  </a:lnTo>
                  <a:lnTo>
                    <a:pt x="335" y="78"/>
                  </a:lnTo>
                  <a:lnTo>
                    <a:pt x="351" y="84"/>
                  </a:lnTo>
                  <a:lnTo>
                    <a:pt x="366" y="91"/>
                  </a:lnTo>
                  <a:lnTo>
                    <a:pt x="381" y="98"/>
                  </a:lnTo>
                  <a:lnTo>
                    <a:pt x="395" y="107"/>
                  </a:lnTo>
                  <a:lnTo>
                    <a:pt x="407" y="117"/>
                  </a:lnTo>
                  <a:lnTo>
                    <a:pt x="419" y="129"/>
                  </a:lnTo>
                  <a:lnTo>
                    <a:pt x="428" y="142"/>
                  </a:lnTo>
                  <a:lnTo>
                    <a:pt x="436" y="155"/>
                  </a:lnTo>
                  <a:lnTo>
                    <a:pt x="443" y="170"/>
                  </a:lnTo>
                  <a:lnTo>
                    <a:pt x="447" y="186"/>
                  </a:lnTo>
                  <a:lnTo>
                    <a:pt x="448" y="205"/>
                  </a:lnTo>
                  <a:lnTo>
                    <a:pt x="447" y="221"/>
                  </a:lnTo>
                  <a:lnTo>
                    <a:pt x="441" y="236"/>
                  </a:lnTo>
                  <a:lnTo>
                    <a:pt x="434" y="249"/>
                  </a:lnTo>
                  <a:lnTo>
                    <a:pt x="424" y="259"/>
                  </a:lnTo>
                  <a:lnTo>
                    <a:pt x="411" y="267"/>
                  </a:lnTo>
                  <a:lnTo>
                    <a:pt x="397" y="273"/>
                  </a:lnTo>
                  <a:lnTo>
                    <a:pt x="382" y="276"/>
                  </a:lnTo>
                  <a:lnTo>
                    <a:pt x="366" y="277"/>
                  </a:lnTo>
                  <a:lnTo>
                    <a:pt x="351" y="276"/>
                  </a:lnTo>
                  <a:lnTo>
                    <a:pt x="337" y="272"/>
                  </a:lnTo>
                  <a:lnTo>
                    <a:pt x="324" y="266"/>
                  </a:lnTo>
                  <a:lnTo>
                    <a:pt x="314" y="258"/>
                  </a:lnTo>
                  <a:lnTo>
                    <a:pt x="305" y="248"/>
                  </a:lnTo>
                  <a:lnTo>
                    <a:pt x="298" y="236"/>
                  </a:lnTo>
                  <a:lnTo>
                    <a:pt x="293" y="222"/>
                  </a:lnTo>
                  <a:lnTo>
                    <a:pt x="292" y="208"/>
                  </a:lnTo>
                  <a:lnTo>
                    <a:pt x="296" y="183"/>
                  </a:lnTo>
                  <a:lnTo>
                    <a:pt x="305" y="163"/>
                  </a:lnTo>
                  <a:lnTo>
                    <a:pt x="314" y="151"/>
                  </a:lnTo>
                  <a:lnTo>
                    <a:pt x="318" y="140"/>
                  </a:lnTo>
                  <a:lnTo>
                    <a:pt x="315" y="134"/>
                  </a:lnTo>
                  <a:lnTo>
                    <a:pt x="309" y="129"/>
                  </a:lnTo>
                  <a:lnTo>
                    <a:pt x="301" y="124"/>
                  </a:lnTo>
                  <a:lnTo>
                    <a:pt x="291" y="121"/>
                  </a:lnTo>
                  <a:lnTo>
                    <a:pt x="281" y="119"/>
                  </a:lnTo>
                  <a:lnTo>
                    <a:pt x="271" y="116"/>
                  </a:lnTo>
                  <a:lnTo>
                    <a:pt x="262" y="116"/>
                  </a:lnTo>
                  <a:lnTo>
                    <a:pt x="256" y="116"/>
                  </a:lnTo>
                  <a:lnTo>
                    <a:pt x="256" y="248"/>
                  </a:lnTo>
                  <a:lnTo>
                    <a:pt x="205" y="226"/>
                  </a:lnTo>
                  <a:lnTo>
                    <a:pt x="205" y="116"/>
                  </a:lnTo>
                  <a:lnTo>
                    <a:pt x="193" y="120"/>
                  </a:lnTo>
                  <a:lnTo>
                    <a:pt x="183" y="125"/>
                  </a:lnTo>
                  <a:lnTo>
                    <a:pt x="174" y="132"/>
                  </a:lnTo>
                  <a:lnTo>
                    <a:pt x="164" y="142"/>
                  </a:lnTo>
                  <a:lnTo>
                    <a:pt x="159" y="152"/>
                  </a:lnTo>
                  <a:lnTo>
                    <a:pt x="154" y="162"/>
                  </a:lnTo>
                  <a:lnTo>
                    <a:pt x="152" y="175"/>
                  </a:lnTo>
                  <a:lnTo>
                    <a:pt x="152" y="189"/>
                  </a:lnTo>
                  <a:lnTo>
                    <a:pt x="156" y="207"/>
                  </a:lnTo>
                  <a:lnTo>
                    <a:pt x="164" y="223"/>
                  </a:lnTo>
                  <a:lnTo>
                    <a:pt x="176" y="238"/>
                  </a:lnTo>
                  <a:lnTo>
                    <a:pt x="190" y="251"/>
                  </a:lnTo>
                  <a:lnTo>
                    <a:pt x="206" y="262"/>
                  </a:lnTo>
                  <a:lnTo>
                    <a:pt x="222" y="273"/>
                  </a:lnTo>
                  <a:lnTo>
                    <a:pt x="239" y="281"/>
                  </a:lnTo>
                  <a:lnTo>
                    <a:pt x="255" y="289"/>
                  </a:lnTo>
                  <a:lnTo>
                    <a:pt x="329" y="324"/>
                  </a:lnTo>
                  <a:lnTo>
                    <a:pt x="361" y="340"/>
                  </a:lnTo>
                  <a:lnTo>
                    <a:pt x="390" y="358"/>
                  </a:lnTo>
                  <a:lnTo>
                    <a:pt x="415" y="378"/>
                  </a:lnTo>
                  <a:lnTo>
                    <a:pt x="436" y="401"/>
                  </a:lnTo>
                  <a:lnTo>
                    <a:pt x="452" y="426"/>
                  </a:lnTo>
                  <a:lnTo>
                    <a:pt x="464" y="455"/>
                  </a:lnTo>
                  <a:lnTo>
                    <a:pt x="471" y="488"/>
                  </a:lnTo>
                  <a:lnTo>
                    <a:pt x="473" y="526"/>
                  </a:lnTo>
                  <a:lnTo>
                    <a:pt x="472" y="549"/>
                  </a:lnTo>
                  <a:lnTo>
                    <a:pt x="468" y="571"/>
                  </a:lnTo>
                  <a:lnTo>
                    <a:pt x="463" y="592"/>
                  </a:lnTo>
                  <a:lnTo>
                    <a:pt x="456" y="611"/>
                  </a:lnTo>
                  <a:lnTo>
                    <a:pt x="447" y="630"/>
                  </a:lnTo>
                  <a:lnTo>
                    <a:pt x="435" y="647"/>
                  </a:lnTo>
                  <a:lnTo>
                    <a:pt x="422" y="662"/>
                  </a:lnTo>
                  <a:lnTo>
                    <a:pt x="409" y="677"/>
                  </a:lnTo>
                  <a:lnTo>
                    <a:pt x="392" y="690"/>
                  </a:lnTo>
                  <a:lnTo>
                    <a:pt x="376" y="701"/>
                  </a:lnTo>
                  <a:lnTo>
                    <a:pt x="358" y="711"/>
                  </a:lnTo>
                  <a:lnTo>
                    <a:pt x="339" y="720"/>
                  </a:lnTo>
                  <a:lnTo>
                    <a:pt x="320" y="727"/>
                  </a:lnTo>
                  <a:lnTo>
                    <a:pt x="299" y="731"/>
                  </a:lnTo>
                  <a:lnTo>
                    <a:pt x="278" y="735"/>
                  </a:lnTo>
                  <a:lnTo>
                    <a:pt x="256" y="737"/>
                  </a:lnTo>
                  <a:lnTo>
                    <a:pt x="256" y="811"/>
                  </a:lnTo>
                  <a:lnTo>
                    <a:pt x="205" y="811"/>
                  </a:lnTo>
                  <a:lnTo>
                    <a:pt x="205" y="737"/>
                  </a:lnTo>
                  <a:lnTo>
                    <a:pt x="188" y="736"/>
                  </a:lnTo>
                  <a:lnTo>
                    <a:pt x="172" y="735"/>
                  </a:lnTo>
                  <a:lnTo>
                    <a:pt x="155" y="731"/>
                  </a:lnTo>
                  <a:lnTo>
                    <a:pt x="138" y="728"/>
                  </a:lnTo>
                  <a:lnTo>
                    <a:pt x="121" y="722"/>
                  </a:lnTo>
                  <a:lnTo>
                    <a:pt x="103" y="716"/>
                  </a:lnTo>
                  <a:lnTo>
                    <a:pt x="87" y="708"/>
                  </a:lnTo>
                  <a:lnTo>
                    <a:pt x="71" y="700"/>
                  </a:lnTo>
                  <a:lnTo>
                    <a:pt x="56" y="690"/>
                  </a:lnTo>
                  <a:lnTo>
                    <a:pt x="43" y="679"/>
                  </a:lnTo>
                  <a:lnTo>
                    <a:pt x="31" y="667"/>
                  </a:lnTo>
                  <a:lnTo>
                    <a:pt x="20" y="653"/>
                  </a:lnTo>
                  <a:lnTo>
                    <a:pt x="11" y="639"/>
                  </a:lnTo>
                  <a:lnTo>
                    <a:pt x="5" y="623"/>
                  </a:lnTo>
                  <a:lnTo>
                    <a:pt x="1" y="606"/>
                  </a:lnTo>
                  <a:lnTo>
                    <a:pt x="0" y="587"/>
                  </a:lnTo>
                  <a:lnTo>
                    <a:pt x="1" y="569"/>
                  </a:lnTo>
                  <a:lnTo>
                    <a:pt x="6" y="553"/>
                  </a:lnTo>
                  <a:lnTo>
                    <a:pt x="13" y="538"/>
                  </a:lnTo>
                  <a:lnTo>
                    <a:pt x="24" y="525"/>
                  </a:lnTo>
                  <a:lnTo>
                    <a:pt x="36" y="515"/>
                  </a:lnTo>
                  <a:lnTo>
                    <a:pt x="51" y="508"/>
                  </a:lnTo>
                  <a:lnTo>
                    <a:pt x="68" y="502"/>
                  </a:lnTo>
                  <a:lnTo>
                    <a:pt x="86" y="501"/>
                  </a:lnTo>
                  <a:lnTo>
                    <a:pt x="102" y="502"/>
                  </a:lnTo>
                  <a:lnTo>
                    <a:pt x="117" y="508"/>
                  </a:lnTo>
                  <a:lnTo>
                    <a:pt x="131" y="515"/>
                  </a:lnTo>
                  <a:lnTo>
                    <a:pt x="142" y="525"/>
                  </a:lnTo>
                  <a:lnTo>
                    <a:pt x="152" y="537"/>
                  </a:lnTo>
                  <a:lnTo>
                    <a:pt x="159" y="550"/>
                  </a:lnTo>
                  <a:lnTo>
                    <a:pt x="163" y="565"/>
                  </a:lnTo>
                  <a:lnTo>
                    <a:pt x="164" y="582"/>
                  </a:lnTo>
                  <a:lnTo>
                    <a:pt x="162" y="600"/>
                  </a:lnTo>
                  <a:lnTo>
                    <a:pt x="156" y="614"/>
                  </a:lnTo>
                  <a:lnTo>
                    <a:pt x="149" y="625"/>
                  </a:lnTo>
                  <a:lnTo>
                    <a:pt x="140" y="633"/>
                  </a:lnTo>
                  <a:lnTo>
                    <a:pt x="131" y="640"/>
                  </a:lnTo>
                  <a:lnTo>
                    <a:pt x="124" y="645"/>
                  </a:lnTo>
                  <a:lnTo>
                    <a:pt x="118" y="649"/>
                  </a:lnTo>
                  <a:lnTo>
                    <a:pt x="116" y="653"/>
                  </a:lnTo>
                  <a:lnTo>
                    <a:pt x="119" y="660"/>
                  </a:lnTo>
                  <a:lnTo>
                    <a:pt x="127" y="666"/>
                  </a:lnTo>
                  <a:lnTo>
                    <a:pt x="140" y="673"/>
                  </a:lnTo>
                  <a:lnTo>
                    <a:pt x="155" y="677"/>
                  </a:lnTo>
                  <a:lnTo>
                    <a:pt x="170" y="682"/>
                  </a:lnTo>
                  <a:lnTo>
                    <a:pt x="184" y="685"/>
                  </a:lnTo>
                  <a:lnTo>
                    <a:pt x="197" y="686"/>
                  </a:lnTo>
                  <a:lnTo>
                    <a:pt x="205" y="685"/>
                  </a:lnTo>
                  <a:lnTo>
                    <a:pt x="205" y="534"/>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270000" y="5853240"/>
            <a:ext cx="841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be the total amount earned in 2005?</a:t>
            </a:r>
            <a:endParaRPr b="0" lang="en-US" sz="2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72">
                                            <p:txEl>
                                              <p:pRg st="0" end="0"/>
                                            </p:txEl>
                                          </p:spTgt>
                                        </p:tgtEl>
                                        <p:attrNameLst>
                                          <p:attrName>style.visibility</p:attrName>
                                        </p:attrNameLst>
                                      </p:cBhvr>
                                      <p:to>
                                        <p:strVal val="visible"/>
                                      </p:to>
                                    </p:set>
                                    <p:animEffect filter="fade" transition="in">
                                      <p:cBhvr additive="repl">
                                        <p:cTn id="51" dur="1000"/>
                                        <p:tgtEl>
                                          <p:spTgt spid="72">
                                            <p:txEl>
                                              <p:pRg st="0" end="0"/>
                                            </p:txEl>
                                          </p:spTgt>
                                        </p:tgtEl>
                                      </p:cBhvr>
                                    </p:animEffect>
                                    <p:anim calcmode="lin" valueType="num">
                                      <p:cBhvr additive="repl">
                                        <p:cTn id="52"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72">
                                            <p:txEl>
                                              <p:pRg st="1" end="1"/>
                                            </p:txEl>
                                          </p:spTgt>
                                        </p:tgtEl>
                                        <p:attrNameLst>
                                          <p:attrName>style.visibility</p:attrName>
                                        </p:attrNameLst>
                                      </p:cBhvr>
                                      <p:to>
                                        <p:strVal val="visible"/>
                                      </p:to>
                                    </p:set>
                                    <p:animEffect filter="fade" transition="in">
                                      <p:cBhvr additive="repl">
                                        <p:cTn id="58" dur="1000"/>
                                        <p:tgtEl>
                                          <p:spTgt spid="72">
                                            <p:txEl>
                                              <p:pRg st="1" end="1"/>
                                            </p:txEl>
                                          </p:spTgt>
                                        </p:tgtEl>
                                      </p:cBhvr>
                                    </p:animEffect>
                                    <p:anim calcmode="lin" valueType="num">
                                      <p:cBhvr additive="repl">
                                        <p:cTn id="59"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72">
                                            <p:txEl>
                                              <p:pRg st="1" end="1"/>
                                            </p:txEl>
                                          </p:spTgt>
                                        </p:tgtEl>
                                        <p:attrNameLst>
                                          <p:attrName>ppt_y</p:attrName>
                                        </p:attrNameLst>
                                      </p:cBhvr>
                                      <p:tavLst>
                                        <p:tav tm="0">
                                          <p:val>
                                            <p:strVal val="#ppt_y+.1"/>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75"/>
                                        </p:tgtEl>
                                        <p:attrNameLst>
                                          <p:attrName>style.visibility</p:attrName>
                                        </p:attrNameLst>
                                      </p:cBhvr>
                                      <p:to>
                                        <p:strVal val="visible"/>
                                      </p:to>
                                    </p:set>
                                    <p:animEffect filter="fade" transition="in">
                                      <p:cBhvr additive="repl">
                                        <p:cTn id="63" dur="1000"/>
                                        <p:tgtEl>
                                          <p:spTgt spid="75"/>
                                        </p:tgtEl>
                                      </p:cBhvr>
                                    </p:animEffect>
                                    <p:anim calcmode="lin" valueType="num">
                                      <p:cBhvr additive="repl">
                                        <p:cTn id="64" dur="1000" fill="hold"/>
                                        <p:tgtEl>
                                          <p:spTgt spid="75"/>
                                        </p:tgtEl>
                                        <p:attrNameLst>
                                          <p:attrName>ppt_x</p:attrName>
                                        </p:attrNameLst>
                                      </p:cBhvr>
                                      <p:tavLst>
                                        <p:tav tm="0">
                                          <p:val>
                                            <p:strVal val="#ppt_x"/>
                                          </p:val>
                                        </p:tav>
                                        <p:tav tm="100000">
                                          <p:val>
                                            <p:strVal val="#ppt_x"/>
                                          </p:val>
                                        </p:tav>
                                      </p:tavLst>
                                    </p:anim>
                                    <p:anim calcmode="lin" valueType="num">
                                      <p:cBhvr additive="repl">
                                        <p:cTn id="65"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84">
                                            <p:txEl>
                                              <p:pRg st="0" end="0"/>
                                            </p:txEl>
                                          </p:spTgt>
                                        </p:tgtEl>
                                        <p:attrNameLst>
                                          <p:attrName>style.visibility</p:attrName>
                                        </p:attrNameLst>
                                      </p:cBhvr>
                                      <p:to>
                                        <p:strVal val="visible"/>
                                      </p:to>
                                    </p:set>
                                    <p:animEffect filter="fade" transition="in">
                                      <p:cBhvr additive="repl">
                                        <p:cTn id="70" dur="1000"/>
                                        <p:tgtEl>
                                          <p:spTgt spid="84">
                                            <p:txEl>
                                              <p:pRg st="0" end="0"/>
                                            </p:txEl>
                                          </p:spTgt>
                                        </p:tgtEl>
                                      </p:cBhvr>
                                    </p:animEffect>
                                    <p:anim calcmode="lin" valueType="num">
                                      <p:cBhvr additive="repl">
                                        <p:cTn id="71"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467160" y="4172040"/>
            <a:ext cx="2235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ermission not granted yet</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have not emailed either</a:t>
            </a:r>
            <a:endParaRPr b="0" lang="en-US" sz="2800" spc="-1" strike="noStrike">
              <a:solidFill>
                <a:srgbClr val="000000"/>
              </a:solidFill>
              <a:latin typeface="Arial"/>
            </a:endParaRPr>
          </a:p>
        </p:txBody>
      </p:sp>
      <p:sp>
        <p:nvSpPr>
          <p:cNvPr id="86" name="PlaceHolder 1"/>
          <p:cNvSpPr>
            <a:spLocks noGrp="1"/>
          </p:cNvSpPr>
          <p:nvPr>
            <p:ph type="title"/>
          </p:nvPr>
        </p:nvSpPr>
        <p:spPr>
          <a:xfrm>
            <a:off x="456840" y="514440"/>
            <a:ext cx="817236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e Batty!</a:t>
            </a:r>
            <a:endParaRPr b="0" lang="en-US" sz="4400" spc="-1" strike="noStrike">
              <a:solidFill>
                <a:srgbClr val="000000"/>
              </a:solidFill>
              <a:latin typeface="Times New Roman"/>
            </a:endParaRPr>
          </a:p>
        </p:txBody>
      </p:sp>
      <p:sp>
        <p:nvSpPr>
          <p:cNvPr id="87" name="PlaceHolder 2"/>
          <p:cNvSpPr>
            <a:spLocks noGrp="1"/>
          </p:cNvSpPr>
          <p:nvPr>
            <p:ph/>
          </p:nvPr>
        </p:nvSpPr>
        <p:spPr>
          <a:xfrm>
            <a:off x="512640" y="1515600"/>
            <a:ext cx="8196480" cy="2613240"/>
          </a:xfrm>
          <a:prstGeom prst="rect">
            <a:avLst/>
          </a:prstGeom>
          <a:noFill/>
          <a:ln w="0">
            <a:noFill/>
          </a:ln>
        </p:spPr>
        <p:txBody>
          <a:bodyPr lIns="90000" rIns="90000" tIns="46800" bIns="46800" anchor="t">
            <a:normAutofit fontScale="96000"/>
          </a:bodyPr>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ravis and Roman used the BPC unit to transport from the church, they saw bats flying.</a:t>
            </a:r>
            <a:endParaRPr b="0" lang="en-US" sz="2800" spc="-1" strike="noStrike">
              <a:solidFill>
                <a:srgbClr val="000000"/>
              </a:solidFill>
              <a:latin typeface="Times New Roman"/>
            </a:endParaRPr>
          </a:p>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s are known to eat between 1,000 and 3,000 mosquitoes per night.  If there are 950,000 bats under the Congress Avenue Bridge, what is the largest number of mosquitoes that could be eaten in one night?</a:t>
            </a:r>
            <a:endParaRPr b="0" lang="en-US" sz="2800" spc="-1" strike="noStrike">
              <a:solidFill>
                <a:srgbClr val="000000"/>
              </a:solidFill>
              <a:latin typeface="Times New Roman"/>
            </a:endParaRPr>
          </a:p>
        </p:txBody>
      </p:sp>
      <p:pic>
        <p:nvPicPr>
          <p:cNvPr id="88" name="" descr=""/>
          <p:cNvPicPr/>
          <p:nvPr/>
        </p:nvPicPr>
        <p:blipFill>
          <a:blip r:embed="rId2"/>
          <a:stretch/>
        </p:blipFill>
        <p:spPr>
          <a:xfrm>
            <a:off x="0" y="0"/>
            <a:ext cx="219240" cy="6858000"/>
          </a:xfrm>
          <a:prstGeom prst="rect">
            <a:avLst/>
          </a:prstGeom>
          <a:ln w="0">
            <a:noFill/>
          </a:ln>
        </p:spPr>
      </p:pic>
      <p:pic>
        <p:nvPicPr>
          <p:cNvPr id="89" name="" descr=""/>
          <p:cNvPicPr/>
          <p:nvPr/>
        </p:nvPicPr>
        <p:blipFill>
          <a:blip r:embed="rId3"/>
          <a:stretch/>
        </p:blipFill>
        <p:spPr>
          <a:xfrm>
            <a:off x="3276720" y="4248000"/>
            <a:ext cx="2584440" cy="1659240"/>
          </a:xfrm>
          <a:prstGeom prst="rect">
            <a:avLst/>
          </a:prstGeom>
          <a:ln w="57240">
            <a:solidFill>
              <a:srgbClr val="3b5323"/>
            </a:solidFill>
            <a:miter/>
          </a:ln>
        </p:spPr>
      </p:pic>
      <p:sp>
        <p:nvSpPr>
          <p:cNvPr id="90" name=""/>
          <p:cNvSpPr/>
          <p:nvPr/>
        </p:nvSpPr>
        <p:spPr>
          <a:xfrm>
            <a:off x="992160" y="5962680"/>
            <a:ext cx="74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out more information about </a:t>
            </a:r>
            <a:r>
              <a:rPr b="0" lang="en-US" sz="2800" spc="-1" strike="noStrike" u="sng">
                <a:solidFill>
                  <a:srgbClr val="3333cc"/>
                </a:solidFill>
                <a:uFillTx/>
                <a:latin typeface="Times New Roman"/>
                <a:hlinkClick r:id="rId4"/>
              </a:rPr>
              <a:t>unit conversions</a:t>
            </a:r>
            <a:r>
              <a:rPr b="0" lang="en-US" sz="2800" spc="-1" strike="noStrike" u="sng">
                <a:solidFill>
                  <a:srgbClr val="000000"/>
                </a:solidFill>
                <a:uFillTx/>
                <a:latin typeface="Times New Roman"/>
              </a:rPr>
              <a:t>.</a:t>
            </a:r>
            <a:endParaRPr b="0" lang="en-US" sz="2800" spc="-1" strike="noStrike">
              <a:solidFill>
                <a:srgbClr val="000000"/>
              </a:solidFill>
              <a:latin typeface="Arial"/>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6.0</a:t>
            </a:r>
            <a:endParaRPr b="0" lang="en-US" sz="10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animEffect filter="fade" transition="in">
                                      <p:cBhvr additive="repl">
                                        <p:cTn id="79" dur="1000"/>
                                        <p:tgtEl>
                                          <p:spTgt spid="87">
                                            <p:txEl>
                                              <p:pRg st="0" end="0"/>
                                            </p:txEl>
                                          </p:spTgt>
                                        </p:tgtEl>
                                      </p:cBhvr>
                                    </p:animEffect>
                                    <p:anim calcmode="lin" valueType="num">
                                      <p:cBhvr additive="repl">
                                        <p:cTn id="80"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87">
                                            <p:txEl>
                                              <p:pRg st="1" end="1"/>
                                            </p:txEl>
                                          </p:spTgt>
                                        </p:tgtEl>
                                        <p:attrNameLst>
                                          <p:attrName>style.visibility</p:attrName>
                                        </p:attrNameLst>
                                      </p:cBhvr>
                                      <p:to>
                                        <p:strVal val="visible"/>
                                      </p:to>
                                    </p:set>
                                    <p:animEffect filter="fade" transition="in">
                                      <p:cBhvr additive="repl">
                                        <p:cTn id="86" dur="1000"/>
                                        <p:tgtEl>
                                          <p:spTgt spid="87">
                                            <p:txEl>
                                              <p:pRg st="1" end="1"/>
                                            </p:txEl>
                                          </p:spTgt>
                                        </p:tgtEl>
                                      </p:cBhvr>
                                    </p:animEffect>
                                    <p:anim calcmode="lin" valueType="num">
                                      <p:cBhvr additive="repl">
                                        <p:cTn id="87"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87">
                                            <p:txEl>
                                              <p:pRg st="1" end="1"/>
                                            </p:txEl>
                                          </p:spTgt>
                                        </p:tgtEl>
                                        <p:attrNameLst>
                                          <p:attrName>ppt_y</p:attrName>
                                        </p:attrNameLst>
                                      </p:cBhvr>
                                      <p:tavLst>
                                        <p:tav tm="0">
                                          <p:val>
                                            <p:strVal val="#ppt_y+.1"/>
                                          </p:val>
                                        </p:tav>
                                        <p:tav tm="100000">
                                          <p:val>
                                            <p:strVal val="#ppt_y"/>
                                          </p:val>
                                        </p:tav>
                                      </p:tavLst>
                                    </p:anim>
                                  </p:childTnLst>
                                </p:cTn>
                              </p:par>
                              <p:par>
                                <p:cTn id="89" nodeType="withEffect" fill="hold" presetClass="entr" presetID="42">
                                  <p:stCondLst>
                                    <p:cond delay="0"/>
                                  </p:stCondLst>
                                  <p:childTnLst>
                                    <p:set>
                                      <p:cBhvr>
                                        <p:cTn id="90" dur="1" fill="hold">
                                          <p:stCondLst>
                                            <p:cond delay="0"/>
                                          </p:stCondLst>
                                        </p:cTn>
                                        <p:tgtEl>
                                          <p:spTgt spid="90"/>
                                        </p:tgtEl>
                                        <p:attrNameLst>
                                          <p:attrName>style.visibility</p:attrName>
                                        </p:attrNameLst>
                                      </p:cBhvr>
                                      <p:to>
                                        <p:strVal val="visible"/>
                                      </p:to>
                                    </p:set>
                                    <p:animEffect filter="fade" transition="in">
                                      <p:cBhvr additive="repl">
                                        <p:cTn id="91" dur="1000"/>
                                        <p:tgtEl>
                                          <p:spTgt spid="90"/>
                                        </p:tgtEl>
                                      </p:cBhvr>
                                    </p:animEffect>
                                    <p:anim calcmode="lin" valueType="num">
                                      <p:cBhvr additive="repl">
                                        <p:cTn id="92" dur="1000" fill="hold"/>
                                        <p:tgtEl>
                                          <p:spTgt spid="90"/>
                                        </p:tgtEl>
                                        <p:attrNameLst>
                                          <p:attrName>ppt_x</p:attrName>
                                        </p:attrNameLst>
                                      </p:cBhvr>
                                      <p:tavLst>
                                        <p:tav tm="0">
                                          <p:val>
                                            <p:strVal val="#ppt_x"/>
                                          </p:val>
                                        </p:tav>
                                        <p:tav tm="100000">
                                          <p:val>
                                            <p:strVal val="#ppt_x"/>
                                          </p:val>
                                        </p:tav>
                                      </p:tavLst>
                                    </p:anim>
                                    <p:anim calcmode="lin" valueType="num">
                                      <p:cBhvr additive="repl">
                                        <p:cTn id="93"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219240" cy="6858000"/>
          </a:xfrm>
          <a:prstGeom prst="rect">
            <a:avLst/>
          </a:prstGeom>
          <a:ln w="0">
            <a:noFill/>
          </a:ln>
        </p:spPr>
      </p:pic>
      <p:sp>
        <p:nvSpPr>
          <p:cNvPr id="93" name=""/>
          <p:cNvSpPr/>
          <p:nvPr/>
        </p:nvSpPr>
        <p:spPr>
          <a:xfrm>
            <a:off x="289080" y="1568520"/>
            <a:ext cx="4564080" cy="428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950,000 Mexican Free-tail bats that live under the Congress Bridge are said to eat 13,500 kilograms of insects in one night.</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for 6 bats is given here, what is the range of the data?</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mean and median of the data?</a:t>
            </a:r>
            <a:endParaRPr b="0" lang="en-US" sz="2800" spc="-1" strike="noStrike">
              <a:solidFill>
                <a:srgbClr val="000000"/>
              </a:solidFill>
              <a:latin typeface="Arial"/>
            </a:endParaRPr>
          </a:p>
        </p:txBody>
      </p:sp>
      <p:sp>
        <p:nvSpPr>
          <p:cNvPr id="94" name="PlaceHolder 1"/>
          <p:cNvSpPr>
            <a:spLocks noGrp="1"/>
          </p:cNvSpPr>
          <p:nvPr>
            <p:ph type="title"/>
          </p:nvPr>
        </p:nvSpPr>
        <p:spPr>
          <a:xfrm>
            <a:off x="68580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e Batty!</a:t>
            </a:r>
            <a:endParaRPr b="0" lang="en-US" sz="4400" spc="-1" strike="noStrike">
              <a:solidFill>
                <a:srgbClr val="000000"/>
              </a:solidFill>
              <a:latin typeface="Times New Roman"/>
            </a:endParaRPr>
          </a:p>
        </p:txBody>
      </p:sp>
      <p:pic>
        <p:nvPicPr>
          <p:cNvPr id="95" name="" descr=""/>
          <p:cNvPicPr/>
          <p:nvPr/>
        </p:nvPicPr>
        <p:blipFill>
          <a:blip r:embed="rId3"/>
          <a:stretch/>
        </p:blipFill>
        <p:spPr>
          <a:xfrm>
            <a:off x="6500880" y="173160"/>
            <a:ext cx="2100240" cy="155736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7.0</a:t>
            </a:r>
            <a:endParaRPr b="0" lang="en-US" sz="1000" spc="-1" strike="noStrike">
              <a:solidFill>
                <a:srgbClr val="000000"/>
              </a:solidFill>
              <a:latin typeface="Arial"/>
            </a:endParaRPr>
          </a:p>
        </p:txBody>
      </p:sp>
      <p:graphicFrame>
        <p:nvGraphicFramePr>
          <p:cNvPr id="97" name=""/>
          <p:cNvGraphicFramePr/>
          <p:nvPr/>
        </p:nvGraphicFramePr>
        <p:xfrm>
          <a:off x="4975200" y="1924200"/>
          <a:ext cx="3809880" cy="4384440"/>
        </p:xfrm>
        <a:graphic>
          <a:graphicData uri="http://schemas.openxmlformats.org/drawingml/2006/table">
            <a:tbl>
              <a:tblPr/>
              <a:tblGrid>
                <a:gridCol w="1546200"/>
                <a:gridCol w="2263680"/>
              </a:tblGrid>
              <a:tr h="86148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Insects 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536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00" dur="1000"/>
                                        <p:tgtEl>
                                          <p:spTgt spid="93">
                                            <p:txEl>
                                              <p:pRg st="0" end="0"/>
                                            </p:txEl>
                                          </p:spTgt>
                                        </p:tgtEl>
                                      </p:cBhvr>
                                    </p:animEffect>
                                    <p:anim calcmode="lin" valueType="num">
                                      <p:cBhvr additive="repl">
                                        <p:cTn id="101"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2">
                                  <p:stCondLst>
                                    <p:cond delay="0"/>
                                  </p:stCondLst>
                                  <p:childTnLst>
                                    <p:set>
                                      <p:cBhvr>
                                        <p:cTn id="10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07" dur="1000"/>
                                        <p:tgtEl>
                                          <p:spTgt spid="93">
                                            <p:txEl>
                                              <p:pRg st="1" end="1"/>
                                            </p:txEl>
                                          </p:spTgt>
                                        </p:tgtEl>
                                      </p:cBhvr>
                                    </p:animEffect>
                                    <p:anim calcmode="lin" valueType="num">
                                      <p:cBhvr additive="repl">
                                        <p:cTn id="108"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93">
                                            <p:txEl>
                                              <p:pRg st="1" end="1"/>
                                            </p:txEl>
                                          </p:spTgt>
                                        </p:tgtEl>
                                        <p:attrNameLst>
                                          <p:attrName>ppt_y</p:attrName>
                                        </p:attrNameLst>
                                      </p:cBhvr>
                                      <p:tavLst>
                                        <p:tav tm="0">
                                          <p:val>
                                            <p:strVal val="#ppt_y+.1"/>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97"/>
                                        </p:tgtEl>
                                        <p:attrNameLst>
                                          <p:attrName>style.visibility</p:attrName>
                                        </p:attrNameLst>
                                      </p:cBhvr>
                                      <p:to>
                                        <p:strVal val="visible"/>
                                      </p:to>
                                    </p:set>
                                    <p:animEffect filter="fade" transition="in">
                                      <p:cBhvr additive="repl">
                                        <p:cTn id="112" dur="1000"/>
                                        <p:tgtEl>
                                          <p:spTgt spid="97"/>
                                        </p:tgtEl>
                                      </p:cBhvr>
                                    </p:animEffect>
                                    <p:anim calcmode="lin" valueType="num">
                                      <p:cBhvr additive="repl">
                                        <p:cTn id="113" dur="1000" fill="hold"/>
                                        <p:tgtEl>
                                          <p:spTgt spid="97"/>
                                        </p:tgtEl>
                                        <p:attrNameLst>
                                          <p:attrName>ppt_x</p:attrName>
                                        </p:attrNameLst>
                                      </p:cBhvr>
                                      <p:tavLst>
                                        <p:tav tm="0">
                                          <p:val>
                                            <p:strVal val="#ppt_x"/>
                                          </p:val>
                                        </p:tav>
                                        <p:tav tm="100000">
                                          <p:val>
                                            <p:strVal val="#ppt_x"/>
                                          </p:val>
                                        </p:tav>
                                      </p:tavLst>
                                    </p:anim>
                                    <p:anim calcmode="lin" valueType="num">
                                      <p:cBhvr additive="repl">
                                        <p:cTn id="114"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93">
                                            <p:txEl>
                                              <p:pRg st="2" end="2"/>
                                            </p:txEl>
                                          </p:spTgt>
                                        </p:tgtEl>
                                        <p:attrNameLst>
                                          <p:attrName>style.visibility</p:attrName>
                                        </p:attrNameLst>
                                      </p:cBhvr>
                                      <p:to>
                                        <p:strVal val="visible"/>
                                      </p:to>
                                    </p:set>
                                    <p:animEffect filter="fade" transition="in">
                                      <p:cBhvr additive="repl">
                                        <p:cTn id="119" dur="1000"/>
                                        <p:tgtEl>
                                          <p:spTgt spid="93">
                                            <p:txEl>
                                              <p:pRg st="2" end="2"/>
                                            </p:txEl>
                                          </p:spTgt>
                                        </p:tgtEl>
                                      </p:cBhvr>
                                    </p:animEffect>
                                    <p:anim calcmode="lin" valueType="num">
                                      <p:cBhvr additive="repl">
                                        <p:cTn id="120"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18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ined Glass Window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45514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hurches have stained glass windows for decoratio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hink of any math concepts that might be used in the design of a stained glass window?</a:t>
            </a:r>
            <a:endParaRPr b="0" lang="en-US" sz="3200" spc="-1" strike="noStrike">
              <a:solidFill>
                <a:srgbClr val="000000"/>
              </a:solidFill>
              <a:latin typeface="Times New Roman"/>
            </a:endParaRPr>
          </a:p>
        </p:txBody>
      </p:sp>
      <p:pic>
        <p:nvPicPr>
          <p:cNvPr id="100" name="" descr=""/>
          <p:cNvPicPr/>
          <p:nvPr/>
        </p:nvPicPr>
        <p:blipFill>
          <a:blip r:embed="rId2"/>
          <a:stretch/>
        </p:blipFill>
        <p:spPr>
          <a:xfrm>
            <a:off x="5473800" y="1400040"/>
            <a:ext cx="3408120" cy="5140440"/>
          </a:xfrm>
          <a:prstGeom prst="rect">
            <a:avLst/>
          </a:prstGeom>
          <a:ln w="0">
            <a:noFill/>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2">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28" dur="1000"/>
                                        <p:tgtEl>
                                          <p:spTgt spid="99">
                                            <p:txEl>
                                              <p:pRg st="0" end="0"/>
                                            </p:txEl>
                                          </p:spTgt>
                                        </p:tgtEl>
                                      </p:cBhvr>
                                    </p:animEffect>
                                    <p:anim calcmode="lin" valueType="num">
                                      <p:cBhvr additive="repl">
                                        <p:cTn id="129"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99">
                                            <p:txEl>
                                              <p:pRg st="1" end="1"/>
                                            </p:txEl>
                                          </p:spTgt>
                                        </p:tgtEl>
                                        <p:attrNameLst>
                                          <p:attrName>style.visibility</p:attrName>
                                        </p:attrNameLst>
                                      </p:cBhvr>
                                      <p:to>
                                        <p:strVal val="visible"/>
                                      </p:to>
                                    </p:set>
                                    <p:animEffect filter="fade" transition="in">
                                      <p:cBhvr additive="repl">
                                        <p:cTn id="135" dur="1000"/>
                                        <p:tgtEl>
                                          <p:spTgt spid="99">
                                            <p:txEl>
                                              <p:pRg st="1" end="1"/>
                                            </p:txEl>
                                          </p:spTgt>
                                        </p:tgtEl>
                                      </p:cBhvr>
                                    </p:animEffect>
                                    <p:anim calcmode="lin" valueType="num">
                                      <p:cBhvr additive="repl">
                                        <p:cTn id="136"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0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grpSp>
        <p:nvGrpSpPr>
          <p:cNvPr id="105" name=""/>
          <p:cNvGrpSpPr/>
          <p:nvPr/>
        </p:nvGrpSpPr>
        <p:grpSpPr>
          <a:xfrm>
            <a:off x="380880" y="1981080"/>
            <a:ext cx="8570880" cy="4578120"/>
            <a:chOff x="380880" y="1981080"/>
            <a:chExt cx="8570880" cy="4578120"/>
          </a:xfrm>
        </p:grpSpPr>
        <p:pic>
          <p:nvPicPr>
            <p:cNvPr id="106" name="" descr=""/>
            <p:cNvPicPr/>
            <p:nvPr/>
          </p:nvPicPr>
          <p:blipFill>
            <a:blip r:embed="rId3"/>
            <a:stretch/>
          </p:blipFill>
          <p:spPr>
            <a:xfrm>
              <a:off x="380880" y="1986120"/>
              <a:ext cx="1371600" cy="1371600"/>
            </a:xfrm>
            <a:prstGeom prst="rect">
              <a:avLst/>
            </a:prstGeom>
            <a:ln w="0">
              <a:noFill/>
            </a:ln>
          </p:spPr>
        </p:pic>
        <p:pic>
          <p:nvPicPr>
            <p:cNvPr id="107" name="" descr=""/>
            <p:cNvPicPr/>
            <p:nvPr/>
          </p:nvPicPr>
          <p:blipFill>
            <a:blip r:embed="rId4"/>
            <a:stretch/>
          </p:blipFill>
          <p:spPr>
            <a:xfrm>
              <a:off x="380880" y="3510000"/>
              <a:ext cx="1371600" cy="1382760"/>
            </a:xfrm>
            <a:prstGeom prst="rect">
              <a:avLst/>
            </a:prstGeom>
            <a:ln w="0">
              <a:noFill/>
            </a:ln>
          </p:spPr>
        </p:pic>
        <p:pic>
          <p:nvPicPr>
            <p:cNvPr id="108" name="" descr=""/>
            <p:cNvPicPr/>
            <p:nvPr/>
          </p:nvPicPr>
          <p:blipFill>
            <a:blip r:embed="rId5"/>
            <a:stretch/>
          </p:blipFill>
          <p:spPr>
            <a:xfrm>
              <a:off x="380880" y="5033880"/>
              <a:ext cx="1359000" cy="1371600"/>
            </a:xfrm>
            <a:prstGeom prst="rect">
              <a:avLst/>
            </a:prstGeom>
            <a:ln w="0">
              <a:noFill/>
            </a:ln>
          </p:spPr>
        </p:pic>
        <p:pic>
          <p:nvPicPr>
            <p:cNvPr id="109" name="" descr=""/>
            <p:cNvPicPr/>
            <p:nvPr/>
          </p:nvPicPr>
          <p:blipFill>
            <a:blip r:embed="rId6"/>
            <a:stretch/>
          </p:blipFill>
          <p:spPr>
            <a:xfrm>
              <a:off x="4724280" y="3510000"/>
              <a:ext cx="1371600" cy="1382760"/>
            </a:xfrm>
            <a:prstGeom prst="rect">
              <a:avLst/>
            </a:prstGeom>
            <a:ln w="0">
              <a:noFill/>
            </a:ln>
          </p:spPr>
        </p:pic>
        <p:pic>
          <p:nvPicPr>
            <p:cNvPr id="110" name="" descr=""/>
            <p:cNvPicPr/>
            <p:nvPr/>
          </p:nvPicPr>
          <p:blipFill>
            <a:blip r:embed="rId7"/>
            <a:stretch/>
          </p:blipFill>
          <p:spPr>
            <a:xfrm>
              <a:off x="4724280" y="5029200"/>
              <a:ext cx="1371600" cy="1371600"/>
            </a:xfrm>
            <a:prstGeom prst="rect">
              <a:avLst/>
            </a:prstGeom>
            <a:ln w="0">
              <a:noFill/>
            </a:ln>
          </p:spPr>
        </p:pic>
        <p:grpSp>
          <p:nvGrpSpPr>
            <p:cNvPr id="111" name=""/>
            <p:cNvGrpSpPr/>
            <p:nvPr/>
          </p:nvGrpSpPr>
          <p:grpSpPr>
            <a:xfrm>
              <a:off x="4643280" y="1981080"/>
              <a:ext cx="1546560" cy="1371600"/>
              <a:chOff x="4643280" y="1981080"/>
              <a:chExt cx="1546560" cy="1371600"/>
            </a:xfrm>
          </p:grpSpPr>
          <p:sp>
            <p:nvSpPr>
              <p:cNvPr id="11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8"/>
              <a:stretch/>
            </p:blipFill>
            <p:spPr>
              <a:xfrm>
                <a:off x="4643280" y="2170080"/>
                <a:ext cx="1546560" cy="1012680"/>
              </a:xfrm>
              <a:prstGeom prst="rect">
                <a:avLst/>
              </a:prstGeom>
              <a:ln w="0">
                <a:noFill/>
              </a:ln>
            </p:spPr>
          </p:pic>
        </p:grpSp>
        <p:sp>
          <p:nvSpPr>
            <p:cNvPr id="11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6:35:30Z</dcterms:created>
  <dc:creator>Jeremiah McNichols</dc:creator>
  <dc:description/>
  <dc:language>en-US</dc:language>
  <cp:lastModifiedBy>Jeremiah McNichols</cp:lastModifiedBy>
  <dcterms:modified xsi:type="dcterms:W3CDTF">2008-11-10T17:18:14Z</dcterms:modified>
  <cp:revision>2</cp:revision>
  <dc:subject/>
  <dc:title>Slide 1</dc:title>
</cp:coreProperties>
</file>