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CCD60-A7D5-4B51-9DA3-8D1966C10D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6CA6D-556F-4A02-A209-CA2D68AF0D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D6261-D7A1-4B1F-B9D9-097C6C9A3A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77C69-FA58-4B37-AB0F-88872B01AC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70867-18B2-4CDA-B024-CCE7B110A9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DFE82-DA3F-496C-BE3C-DA4B8BE5A2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79C37-20AA-45D1-BBC4-0912C92117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2C8AD-6C31-4007-A8FE-50D255083F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0B099-0D9D-42FA-9A91-661CF65039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73FB0-4C6A-468B-AC70-0D83F384B3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41465-42D7-4780-B957-DB92A1B402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4F50C-A20B-4B65-B91C-33B2E8126D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2880A-D314-4A55-8E34-1E4B4E20D682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member that a decimal is a fractional number :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it is a part of something who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58EC3-1D46-42CF-9204-DF103575C61B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 = 0.44444). 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1000th place (e.g. 0.4, 0.44, 0.444).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.4444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8120" y="5105520"/>
            <a:ext cx="2982960" cy="20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BEA66-C10B-4485-9D5E-8D2349D16035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21Z</dcterms:modified>
  <cp:revision>208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e01000000000001023620</vt:lpwstr>
  </property>
</Properties>
</file>