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94C-0E60-4224-92C8-BDEFF446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946-B934-40D6-B81F-701F924F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671E-C67D-4D99-9393-09F5CE34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DAC-5B41-499F-8455-3C045953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07E-5C9C-4407-9776-E7A7D360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C06-679B-4262-8B22-BDA43BE4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EDD-53E6-49B2-98D2-FF89FA9D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C63-7DAD-47C2-9BB4-5264EB18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524-849D-48B6-A60D-EC00040E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4BD-BBB6-4769-AD12-D98A653E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188-A56F-43C4-9DC5-F17F7A63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BA4-A836-4952-857D-03ED99F7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5349-3E3E-41E4-AC2B-282893F2F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4:13Z</dcterms:created>
  <dc:creator>Jeremiah McNichols</dc:creator>
  <dc:description/>
  <dc:language>en-US</dc:language>
  <cp:lastModifiedBy>Jeremiah McNichols</cp:lastModifiedBy>
  <dcterms:modified xsi:type="dcterms:W3CDTF">2007-12-17T15:34:58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1000000000001023620</vt:lpwstr>
  </property>
</Properties>
</file>