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4F12-950A-43D6-A37A-A2BD82E7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C446-29F7-4366-BA14-E61885E3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447-C3C5-4757-B7CF-72FA3B1C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416E-4C90-4992-9226-17C2D346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1A4D-D0F5-4572-9236-39F2119E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C33-6557-43AC-9A77-57970A70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980-15E5-48F6-A1D3-2F8114C2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139-0046-4BAD-81DC-CB6161FD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C194-E267-413D-B500-4A73F409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3D51-E7D7-4CA1-89ED-3223ACD3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C427-1C05-41E5-8E87-1284EF20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80E-C9D0-4D74-8599-E7CAE451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DAE6-6AFD-4FE3-AA9C-90141822A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48:08Z</dcterms:created>
  <dc:creator>Jeremiah McNichols</dc:creator>
  <dc:description/>
  <dc:language>en-US</dc:language>
  <cp:lastModifiedBy>Jeremiah McNichols</cp:lastModifiedBy>
  <dcterms:modified xsi:type="dcterms:W3CDTF">2007-12-17T15:48:20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01000000000001023620</vt:lpwstr>
  </property>
</Properties>
</file>