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1CB364-AE19-407D-BD77-5A0268EC9E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C95E96-8719-455A-AF63-9DB7910389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FD894D-09DF-4432-A3D1-BDDF0062DE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30F7C8-8AC7-4D08-B7A0-BA2E6F76ED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B8A044-1194-402F-9F3C-E3396DB4AA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5778CE-0052-4A7E-BF6D-1EE42F7F8E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B0FE2B-3135-4F2D-9569-CB565F3D74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0D795B-27A7-4775-92D5-623E04C3B7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766762-ED46-43D4-880F-B1B4C77E7D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413091-9BA2-47A1-BD42-120A75F9E9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BDE566-734A-4DFB-8608-D2BAA71E5B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41E22B-9C10-42EA-91DC-B8D95F92CA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2D86A-8D75-4B74-B3BB-488F32B0CA44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Triang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7240" y="1447920"/>
            <a:ext cx="7770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triangle = 1/2 x Base x Heigh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as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5800" y="1447920"/>
            <a:ext cx="7543800" cy="464796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RightTriangle" descr=""/>
          <p:cNvPicPr/>
          <p:nvPr/>
        </p:nvPicPr>
        <p:blipFill>
          <a:blip r:embed="rId2"/>
          <a:stretch/>
        </p:blipFill>
        <p:spPr>
          <a:xfrm>
            <a:off x="3406680" y="3048120"/>
            <a:ext cx="2308320" cy="2320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A214AE-CECE-4F30-AE94-86E5CFCFAC68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Squar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square = Side x Side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d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d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9480" y="1447920"/>
            <a:ext cx="7543800" cy="44956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Box" descr=""/>
          <p:cNvPicPr/>
          <p:nvPr/>
        </p:nvPicPr>
        <p:blipFill>
          <a:blip r:embed="rId2"/>
          <a:stretch/>
        </p:blipFill>
        <p:spPr>
          <a:xfrm>
            <a:off x="3276720" y="3124080"/>
            <a:ext cx="2171520" cy="2160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E7CF70-9E9A-429C-B50D-9488AF1BF8EB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Circ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circle = </a:t>
            </a:r>
            <a:r>
              <a:rPr b="0" lang="en-US" sz="32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x Radius x Radius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amete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09480" y="1447920"/>
            <a:ext cx="7543800" cy="45720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114800" y="42670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114800" y="3124080"/>
            <a:ext cx="0" cy="236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Circle" descr=""/>
          <p:cNvPicPr/>
          <p:nvPr/>
        </p:nvPicPr>
        <p:blipFill>
          <a:blip r:embed="rId2"/>
          <a:stretch/>
        </p:blipFill>
        <p:spPr>
          <a:xfrm>
            <a:off x="2819520" y="3048120"/>
            <a:ext cx="2503440" cy="2503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463DC-AA1A-49A1-A03A-C97A6729D522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Rectang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rectangle = Length x Width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idth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ength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9480" y="1447920"/>
            <a:ext cx="7543800" cy="45720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Rectangle" descr=""/>
          <p:cNvPicPr/>
          <p:nvPr/>
        </p:nvPicPr>
        <p:blipFill>
          <a:blip r:embed="rId2"/>
          <a:stretch/>
        </p:blipFill>
        <p:spPr>
          <a:xfrm>
            <a:off x="2759040" y="3003480"/>
            <a:ext cx="3314880" cy="2251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E35E4C-3B33-47CB-8C64-056C8577DB01}" type="slidenum">
              <a:t>4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6:39Z</dcterms:modified>
  <cp:revision>217</cp:revision>
  <dc:subject/>
  <dc:title>VTPP 423 - PHYSIOLO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2801000000000001023620</vt:lpwstr>
  </property>
</Properties>
</file>