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2183-F264-4DCE-98BC-8E65DB0C3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E0AD-A290-497F-B0F2-C50B356B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D3CE-3E99-4708-BC9E-E4131E00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B4F-9E25-4605-A192-6E4496B3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FF81-FCBC-493B-9816-741C56F7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E9F6-0146-4B81-8F07-14D73232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4C4-62C5-4B0C-A45E-BF9651CD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725-A5E5-4DB3-8CEE-BC4C5F9F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BC4-6188-4A93-AEFF-68C32A1E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2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3A9-12BF-4FBB-8E15-436AED7D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2C3-292D-482F-8466-32F1C34D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C3D-10B6-4B6F-92AB-935819C6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538-2286-47E2-92C7-725FEE79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0435-9755-4D81-94CF-51BE51ADEA7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360" y="13701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Nettie’s opinion, which of the following helped guard her against swamp vapor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accination from her docto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ting plenty of 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lic worn on a string around her ne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umes from her camphor ra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984240" y="430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992160" y="2521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992160" y="3125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990720" y="3716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809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Nettie rushes away with her brother, Andrew, what does she give to Travis as a symbol of their friendship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air ribb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no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ki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ook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84240" y="4711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92160" y="2913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992160" y="3517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990720" y="4122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64040" y="27781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71960" y="478620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finds himself in an old cemetery because h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looking for a dog named Rowd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lieves his great grandmother is burie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mised to meet his friend Roman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doing a Texas history report on historic grav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rk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84240" y="48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992160" y="2535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9921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990720" y="414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0640" y="13622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notices something unusual about several of the grave markers in one section of the cemetery.  Which of the following best describes what he sees?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marker is engraved with the sam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ne of the markers have a d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markers show that the decease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 died in 1867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marker has three angels carved on the to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-144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84240" y="5695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992160" y="32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992160" y="412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990720" y="4782960"/>
            <a:ext cx="37440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4520" y="13701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understand the grave markers better,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. . . 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ops at the public library to read ab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toric gravesites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tacts his friend Roman and travels back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ks his father what he knows about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emete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refully copies all the information o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rkers so that he can study them lat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82800" y="5410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976320" y="2548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976320" y="350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974880" y="4468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6240" y="13730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meets a new friend, Nettie, in the cemetery.  Netti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errified and asks Travis to protect 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n only child and goes to the cemetery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sit her father’s g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ants flowers at the cemetery every spr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oes to the cemetery to read and write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iv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284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84240" y="4849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992160" y="2535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9921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990720" y="414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373040"/>
            <a:ext cx="802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fter meeting Nettie, Mary, Andrew, Willie and Temple in the cemetery, Travis begins to worry that . . .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hildren will not reach home before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orm hi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identical gravestones mark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ildrens’ grave si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hildren will report Roman and him to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Backpack Computer malfunctioned,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he is not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84240" y="5778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921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992160" y="38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990720" y="47991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4440" y="13730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use the Backpack Computer to make two trips during the story. The second trip takes them back in time to . . .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old cemete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uneral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hurc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ed sto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84240" y="4579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992160" y="279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992160" y="340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990720" y="3990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5600" y="13748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encounters Nettie a second time in the story. Which word best describes Nettie at this meeting?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r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i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84240" y="4576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992160" y="27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99216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990720" y="3975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7680" y="1384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of the following is NOT true of Nettie’s Aunt Eliza?  Sh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not really Nettie’s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n old w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s for the fami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fraid to trav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984240" y="434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992160" y="25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992160" y="3156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990720" y="3746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6:00:21Z</dcterms:created>
  <dc:creator>Dr. Deborah Kochevar</dc:creator>
  <dc:description/>
  <dc:language>en-US</dc:language>
  <cp:lastModifiedBy>Vince Hardy</cp:lastModifiedBy>
  <cp:lastPrinted>2003-01-31T16:54:50Z</cp:lastPrinted>
  <dcterms:modified xsi:type="dcterms:W3CDTF">2007-05-03T19:15:58Z</dcterms:modified>
  <cp:revision>52</cp:revision>
  <dc:subject/>
  <dc:title>Investigator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1000000000001023620</vt:lpwstr>
  </property>
</Properties>
</file>