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C7F0-6D1A-48AE-82E2-38B65DA88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A5D-04A3-4876-A974-55A071F3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1CC-4B52-4E02-B052-72107A75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96C-6E63-459D-981F-A7F97AAA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246-382E-4ACA-898B-F51DBCA7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99F-4328-4F90-9541-AEDE2540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AD2-15B7-46D4-8609-103EB9F7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D49-1B9E-4359-ABE4-77A2E9D8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97F-4934-43DA-98EE-C127E143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31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A09-8181-4076-9848-BD8DF57A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762-1BAB-47A2-8E32-BC1C4060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F02-B74E-472D-BF78-CE215121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E80-FD3D-42F4-9BE1-FAE8A0C1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A797-8B16-4B58-8706-3C74C8CE3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lapid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oden box sat on the rude shelf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oth and well sa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open or broken o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down, in a horrible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09520" y="456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0952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9520" y="338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109520" y="3978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 seem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smer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the bat’s aerial maneuvers till a dog’s sudden bark echoed off the hills and broke his reveri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excite or make e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make sick or 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come temporarily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ascinate; hypno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09520" y="49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0952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109520" y="38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109520" y="439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ravis stopped to catch his breath, he watched the dog’s dark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ttl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at split the brightly colored wildflowers like a zipp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disorderly or tang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marked with spots of different colo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thick or d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shar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09520" y="496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09520" y="31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9520" y="37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3750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his eyes adjusted to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luctua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, Travis halted, surprised by what he saw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da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vary irregul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09520" y="459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09520" y="28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09520" y="339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09520" y="39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vis’ initia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rehen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d given way to curiosit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ful or uneasy anticipation of the future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e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anticipation of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ened awareness of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adven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09520" y="50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09520" y="2994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09520" y="390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09520" y="448452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2440" indent="-532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forgive my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gres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I thought you were my younger brothers come to torment my solitude.’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ccident or mistake commit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te of shock or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ck of poli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n, committing an offense; violation of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09520" y="54338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109520" y="327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09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109520" y="4761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w roll of thunder seemed to announce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ister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rival of Nettie’s broth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eaky, mischievous and cru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ting or disappoi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ud, noisy, and lacking in discipli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containing males;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09520" y="4573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0952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09520" y="337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109520" y="398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Mary could answer, a flash of lightning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antane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ap of thunder sent little Temple rushing into Mary’s arms 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oud, sharp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ing at a specific inst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 or surpri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ise followed by an 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09520" y="491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0952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09520" y="37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09520" y="4330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4000" indent="-5040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miss my friends from Galveston who a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arantin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an’t come back to school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ion of a contagious person to prevent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of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d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family moves away from a place 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that happens to a sick pers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hey can’t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09520" y="5421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0952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109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109520" y="4432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tie look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stful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ward the stained glass windows lining the west wall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ver or mischiev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of wishful yearning; 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or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09520" y="4567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09520" y="278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0952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09520" y="397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3T22:25:32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1000000000001023620</vt:lpwstr>
  </property>
</Properties>
</file>