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0C0C-021D-4049-B57A-3D706DD25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CA88-59FF-4E41-9D43-0E7B465B5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7AC1-4BEC-4278-A899-4EF17C6AC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EA1A-3EF7-419A-9E95-CCE7509A5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CCAE-2C71-42FF-882A-2B730F895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C129-5605-4958-8B1A-FF90E1B28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6779-DC03-4BA5-8624-F60DF0C78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A9D9-8313-489E-9FC6-62E73B8ED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5C2A-C311-4334-A1B6-5BCD80AB2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2D22-7896-497A-A903-B0E5DF04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968E-7442-4315-B077-7A0671C5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83B4-A5E3-4E16-B4DE-452183DD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04A60-7ACC-4669-A4A4-66AC45737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5:42:24Z</dcterms:created>
  <dc:creator>Jeremiah McNichols</dc:creator>
  <dc:description/>
  <dc:language>en-US</dc:language>
  <cp:lastModifiedBy>Jeremiah McNichols</cp:lastModifiedBy>
  <dcterms:modified xsi:type="dcterms:W3CDTF">2007-12-17T15:42:50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c02000000000001023620</vt:lpwstr>
  </property>
</Properties>
</file>