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83A-D7DA-4176-B508-861CE682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019-F0F8-4110-98C0-6A6A3C97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B13-44DE-42CC-8294-2B19EB33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E16-F5BB-437C-8801-BA5CF6A9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2DE-2429-4F7A-8D40-96D370A3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228-0EFE-4751-8FE4-AD370A7B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6D18-478A-4162-8996-4BB44AA4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029-EFD2-40F3-BD01-24F44C7D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98D-8542-4978-A69C-C1CE0598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E72-ACBF-4999-A8B8-AF6B248D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E10-2A02-469B-8857-83307D66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E98-B056-437D-B266-DBABAA46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E986-8441-40DA-A7D1-393EFDBF7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8:08Z</dcterms:created>
  <dc:creator>Jeremiah McNichols</dc:creator>
  <dc:description/>
  <dc:language>en-US</dc:language>
  <cp:lastModifiedBy>Jeremiah McNichols</cp:lastModifiedBy>
  <dcterms:modified xsi:type="dcterms:W3CDTF">2007-12-17T15:48:2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1000000000001023620</vt:lpwstr>
  </property>
</Properties>
</file>