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C9CB-8E80-4DFD-9FE6-71C6376D2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B469-706D-44FF-9FFD-3180CB2A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40B1-0191-45DE-8B39-5B9D96BE2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9B91-7418-4340-B701-C56E3CDBA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8DE2-C75A-4862-BD52-8FF07A1D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62D2-A371-42C0-B123-49EAA71C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6505-DC17-4304-A0A3-06812B19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FCCD-0816-42EB-8610-730F13A5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9E96-6124-4CD2-AAC5-3184CDDD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0844-3BBA-4B25-A50E-81469E98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BE69-3C95-46B0-B36C-2041C53A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38F3-48E9-4567-8F71-E300C713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4A1C-A694-4281-8F04-25A954B3D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54:17Z</dcterms:created>
  <dc:creator>Jeremiah McNichols</dc:creator>
  <dc:description/>
  <dc:language>en-US</dc:language>
  <cp:lastModifiedBy>Jeremiah McNichols</cp:lastModifiedBy>
  <dcterms:modified xsi:type="dcterms:W3CDTF">2007-12-17T15:54:41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00000000000001023620</vt:lpwstr>
  </property>
</Properties>
</file>