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C0AE-E3B5-4711-A147-ED5D33BD5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1FCF-E9AB-41A7-84DE-6A89282C8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 Use adjectives, including comparative and superlative forms,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 Use adjectives, including comparative and superlative forms,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ou’re”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our”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“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 and the family”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“T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he family and I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orser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to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orse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eighbore”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eighbor”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 the “?” after the word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a “.”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 meaningful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A)  Use appropriately punctuated independent and dependent clau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EFCD-214A-403A-9DD4-1DCBDFC9C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 Use conjunctions to connect ideas meaningfu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A642-DA77-4B0A-B21C-1DA4DF157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B) Correct sentence punctu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6098-E22B-42D8-B9D7-B6EE47B92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B) Correct sentence punctu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235B-F21C-4CD4-A4F7-E9F216338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 meaningfu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883A-94A5-498F-9000-E3B30B697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 meaningful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)  Employ standard English usage in pronoun refer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 meaningful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)  Employ standard English usage in pronoun refer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809A-DA29-40F1-B536-C1BE9D3E2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7810-D9F8-4E48-A8E4-B72AABF2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7265-996B-49F0-9908-83F9D0889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4CEC-39AF-4DC5-9F33-7EA9EE633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38F5-0050-4745-984E-B5AC3047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6214-9912-4BB4-B992-0BA37F57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E2BC-A42A-4048-BBC7-D1EFC601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F9F7-CD6F-42A5-82CE-3D0F3599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4888-30C2-427E-9DDC-653D83CA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E4D9-8E20-4031-9989-754C8934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4992-B5BC-4804-A48D-BD2112B4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06C5-F7BD-4170-846B-4CB41022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E263-DDEA-4413-A9FF-AE3052D50349}" type="slidenum">
              <a:rPr b="0" lang="en-US" sz="1400" spc="-1" strike="noStrike">
                <a:solidFill>
                  <a:srgbClr val="ebebeb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CeUnlockLang%20Letter.pdf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Unlocking Language Quiz</a:t>
            </a:r>
            <a:endParaRPr b="0" lang="en-US" sz="72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1920" y="405432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Times New Roman"/>
              </a:rPr>
              <a:t>Answer each question by clicking A, B, C, or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drew is younger than Nettie, but Temple is the most youngest of them 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han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fter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 Templ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lete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ke n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174680" y="52052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1166760" y="342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1177920" y="401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1176480" y="4605480"/>
            <a:ext cx="374400" cy="465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d the sentence and correct any errors you f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2856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0.  Roman is tall, but Travis is more t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more t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fte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rav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fte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ravi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ke n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165320" y="4824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1157400" y="3032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1168560" y="3643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1166760" y="423396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d the sentence and correct any errors you f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09480" y="3048120"/>
            <a:ext cx="7848720" cy="3124080"/>
          </a:xfrm>
          <a:prstGeom prst="rect">
            <a:avLst/>
          </a:prstGeom>
          <a:solidFill>
            <a:srgbClr val="ebeb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69608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Andrew decides to write a letter to his sister Maggie to tell her about the sickness in his town.  Help him correct his mistakes before he mails the letter.</a:t>
            </a:r>
            <a:endParaRPr b="0" lang="en-US" sz="20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0948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riting a Letter</a:t>
            </a:r>
            <a:endParaRPr b="0" lang="en-US" sz="3600" spc="-1" strike="noStrike">
              <a:solidFill>
                <a:srgbClr val="ebebeb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6248520"/>
            <a:ext cx="6400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f7fb45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 to print a hard copy of the l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30400" y="3403440"/>
            <a:ext cx="7010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r Maggi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you and you’re family?  Me and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 are fine, but the sickness here gets worser ever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.  Yesterday, our neighbore, Mr. Cole, took ill.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her says that we will come visit you soon?  I hop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you stay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v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re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052880" y="4344840"/>
            <a:ext cx="961920" cy="505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173400" y="279252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6204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is not sick,  ____ many of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ighbors are i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2193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ll in the blank with the word that best completes the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>
            <a:lum contrast="-24000"/>
          </a:blip>
          <a:stretch/>
        </p:blipFill>
        <p:spPr>
          <a:xfrm>
            <a:off x="4800600" y="3524400"/>
            <a:ext cx="3929040" cy="295272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174680" y="5253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166760" y="3432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1177920" y="4043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1176480" y="4643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fore Travis and Roman left, Nettie gave Travis ___  ribb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2193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ll in the blank with the word that best completes the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178160" y="3846600"/>
            <a:ext cx="4432320" cy="25542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181160" y="524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1173240" y="3430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1174680" y="404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1182600" y="46418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  Nettie said Temple was a baby.  He was really almost se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said Temple was a baby, and he was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lly almost se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said Temple was a baby, but he wa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lly almost se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 changes neede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following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66760" y="353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177920" y="4495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176480" y="5396040"/>
            <a:ext cx="37440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and Roman are so lucky.  To have backpack 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and Roman are so lucky to have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pack 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and Roman.  Are so lucky to hav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pack 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 change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171440" y="3532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182600" y="4500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181160" y="539100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following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2571840"/>
            <a:ext cx="185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43540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61600" indent="-561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 New Roman"/>
              <a:buAutoNum type="arabicPeriod" startAt="5"/>
              <a:tabLst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ryone in Nettie’s town is getting sick Nettie is afraid her mother will get sick too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1600" indent="-561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ryone in Nettie’s town is getting sick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is afraid.  Her mother will get sick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1600" indent="-561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ryone in Nettie’s town is getting sick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is afraid her mother will get sick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1600" indent="-561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 changes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171440" y="3532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1182600" y="4500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1181160" y="539604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following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438280"/>
            <a:ext cx="822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1749"/>
              </a:spcBef>
              <a:spcAft>
                <a:spcPts val="876"/>
              </a:spcAft>
              <a:buClr>
                <a:srgbClr val="ebebeb"/>
              </a:buClr>
              <a:buFont typeface="Times New Roman"/>
              <a:buAutoNum type="arabicPeriod" startAt="6"/>
              <a:tabLst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ould Roman stay at home.  Or should he go with Travis to solve the mystery of the graveya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hould Roman stay at home, or should he go with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ravis.  To solve the mystery of the graveya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hould Roman stay at home or should he go.  With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ravis to solve the mystery of the gravey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hould Roman stay at home, or should he go with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ravis to solve the mystery of the graveya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o change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179360" y="5907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171440" y="3495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182600" y="430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181160" y="519732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following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Nettie met Travis and Roman, she thought he wore strange clot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sh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S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h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h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me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m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ke n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79360" y="5238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71440" y="3432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82600" y="4033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1181160" y="463860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d the sentence and correct any errors you f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wdy runs into the woods, Travis follows h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run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follow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d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 Tra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ke n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165320" y="4824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157400" y="3060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168560" y="3643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1166760" y="423396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d the sentence and correct any errors you f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3T18:48:37Z</dcterms:created>
  <dc:creator>peerstudent</dc:creator>
  <dc:description/>
  <dc:language>en-US</dc:language>
  <cp:lastModifiedBy>Vince Hardy</cp:lastModifiedBy>
  <dcterms:modified xsi:type="dcterms:W3CDTF">2007-05-07T17:22:10Z</dcterms:modified>
  <cp:revision>71</cp:revision>
  <dc:subject/>
  <dc:title>Unlocking Langua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02000000000001023620</vt:lpwstr>
  </property>
</Properties>
</file>