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739F-1C3B-40C1-93E4-6BBD126AB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799-DAF0-4F08-8DE9-1B234B5B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89F-23E3-4320-BD69-7647A231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A58-F3C8-41B7-BB60-12017C7A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B0F-6464-4853-AFF3-FA009A8E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82E-5A2C-4B20-A745-D7149706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5ED-5ADB-4CF7-99E8-BCCC5ECE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CA5-20EB-4E0B-BECE-0F241F1F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65C-1FBA-4676-94EC-1262894C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081-D40E-489E-8611-FBD406A4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CB8-7EC1-4732-AD39-B1C47F9A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149-531F-4871-AC24-C9C0868B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51F-6078-4267-A305-11E5FC8D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E211-D40F-4D6A-BCE5-9EFBA0E642E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9-11T17:13:12Z</dcterms:modified>
  <cp:revision>29</cp:revision>
  <dc:subject/>
  <dc:title>Descriptive Writing</dc:title>
</cp:coreProperties>
</file>