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9B6C-A373-4A73-A851-F1F57D5B2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05A-DC45-41A7-B0F5-E46D4FEF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8A0-3ACC-45DF-859A-231410D0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DA5-77EC-4F17-8BD9-F8F61FB2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E0B-824E-4BE0-8454-36001AA5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878-6CC3-4C73-A8A7-BAD6EA07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C9D-050F-474A-A832-77B5B22A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464-5AFB-4EED-B0E7-46E1540D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3FB-35E6-49F5-AE46-9D453A7A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2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D3F-F2A8-48BF-AF5C-A9A84AC5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2F0-F617-4BCF-A61B-C8005B73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2B9-20A0-4370-B558-8EF853ED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C65-04F9-40E8-8DCE-5A2798E8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E05F-E7EC-4975-9949-99A6C1A8FDF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360" y="13701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Nettie’s opinion, which of the following helped guard her against swamp vapor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accination from her docto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ting plenty of 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lic worn on a string around her ne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umes from her camphor ra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84240" y="430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92160" y="252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992160" y="3125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990720" y="3716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809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rushes away with her brother, Andrew, what does she give to Travis as a symbol of their friendship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air ribb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no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ki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ook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84240" y="471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92160" y="291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992160" y="3517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990720" y="4122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64040" y="27781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finds himself in an old cemetery because 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looking for a dog named Rowd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lieves his great grandmother is buri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mised to meet his friend Roman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doing a Texas history report on historic gr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84240" y="48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0640" y="13622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notices something unusual about several of the grave markers in one section of the cemetery.  Which of the following best describes what he sees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is engraved with the sam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ne of the markers have a d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markers show that the deceas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 died in 1867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has three angels carved on the to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-144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84240" y="5695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2160" y="32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992160" y="41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990720" y="4782960"/>
            <a:ext cx="37440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4520" y="13701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understand the grave markers better,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. . . 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ps at the public library to read ab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toric gravesites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tacts his friend Roman and travels back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s his father what he knows about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refully copies all the information o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 so that he can study them lat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82800" y="5410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976320" y="2548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976320" y="350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974880" y="4468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62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meets a new friend, Nettie, in the cemetery.  Netti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errified and asks Travis to protect 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nly child and goes to the cemetery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sit her father’s g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ants flowers at the cemetery every spr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oes to the cemetery to read and write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iv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28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84240" y="484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373040"/>
            <a:ext cx="802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meeting Nettie, Mary, Andrew, Willie and Temple in the cemetery, Travis begins to worry that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not reach home before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rm hi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identical gravestones mark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ildrens’ grave si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report Roman and him to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Backpack Computer malfunctioned,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he is not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84240" y="5778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921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992160" y="38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990720" y="47991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44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use the Backpack Computer to make two trips during the story. The second trip takes them back in time to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old 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uneral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hurc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ed sto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84240" y="457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99216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992160" y="340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990720" y="3990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5600" y="13748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encounters Nettie a second time in the story. Which word best describes Nettie at this meeting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r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84240" y="4576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92160" y="27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99216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990720" y="3975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7680" y="1384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of the following is NOT true of Nettie’s Aunt Eliza?  S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not really Nettie’s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ld w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s for the fami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fraid to trav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84240" y="434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992160" y="25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992160" y="3156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990720" y="3746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6:00:21Z</dcterms:created>
  <dc:creator>Dr. Deborah Kochevar</dc:creator>
  <dc:description/>
  <dc:language>en-US</dc:language>
  <cp:lastModifiedBy>Vince Hardy</cp:lastModifiedBy>
  <cp:lastPrinted>2003-01-31T16:54:50Z</cp:lastPrinted>
  <dcterms:modified xsi:type="dcterms:W3CDTF">2007-05-03T19:15:58Z</dcterms:modified>
  <cp:revision>52</cp:revision>
  <dc:subject/>
  <dc:title>Investigator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1000000000001023620</vt:lpwstr>
  </property>
</Properties>
</file>