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B1A-10D9-4413-AC3C-BC80E631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C2A-054E-47DF-9493-0BF395AE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500-34AB-488E-9997-BD822AA6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822-E124-4DAA-B52D-D4F85D67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99F-EAC3-41EF-951A-E6C04344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F45-8224-4AB1-B4A2-49D96C0C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8EA-57E7-4594-9E71-5DD65259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688-13D9-4BFA-AA9E-E8854595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EE1-4919-45B1-8519-73AB4586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6CB6-41F1-445F-A5A8-501326D5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4AB-2A45-4E62-96F7-B2E1201B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8CD-E308-440D-81B7-6FC0E572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3C9F-5EA3-4383-B58C-5E74A3646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2:24Z</dcterms:created>
  <dc:creator>Jeremiah McNichols</dc:creator>
  <dc:description/>
  <dc:language>en-US</dc:language>
  <cp:lastModifiedBy>Jeremiah McNichols</cp:lastModifiedBy>
  <dcterms:modified xsi:type="dcterms:W3CDTF">2007-12-17T15:42:5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2000000000001023620</vt:lpwstr>
  </property>
</Properties>
</file>