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1710-CA3E-49E6-B6D2-820B2D058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7F41-A382-4B12-8862-42CE41279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2A16-0B34-4270-AC47-D0DDAFC2D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ADC8-F741-44C8-9A03-4A38F8CAE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B5D1-EC5B-4339-9735-06AF2726B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6198-F189-4A84-9773-FA642C8DD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8358-E9A5-4C1B-B662-AECAC547C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35AB-9F1E-4A7B-A83C-75434108D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8BFA-69A5-4F00-A90A-495BF4279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F65C-EB80-4BCB-9501-3F39B906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46F3-4446-4A5B-AB76-32AA7D068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72B5-DDEF-48E6-AEAF-2C4E93E2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01733-FAFA-40A9-8462-71C5023370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15:54:17Z</dcterms:created>
  <dc:creator>Jeremiah McNichols</dc:creator>
  <dc:description/>
  <dc:language>en-US</dc:language>
  <cp:lastModifiedBy>Jeremiah McNichols</cp:lastModifiedBy>
  <dcterms:modified xsi:type="dcterms:W3CDTF">2007-12-17T15:54:41Z</dcterms:modified>
  <cp:revision>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a00000000000001023620</vt:lpwstr>
  </property>
</Properties>
</file>