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210-3925-4B1B-A5CD-5603EFF1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311-43CF-44D6-85FF-A3F4A4FF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A65-B1A2-4182-AFC4-ECD3BD66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09C3-25C1-4456-AB80-0E0A6238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9F48-502D-4514-A737-FC038BE2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A80-1FC6-4B5B-8CC7-9A0B9D46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4FD-417F-45F1-8E45-746F71D0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065-8C62-4CD0-84CC-06FD4B6A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634F-41D5-436C-A79B-CAC058F5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7C8-6547-4B23-A8BD-5A7E4AFE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B0B-0E55-432B-9494-EACEBFA3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C9D2-DB46-4734-9B4E-42E8CBC7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B65E-9CF3-4928-840D-82891D008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1:32Z</dcterms:created>
  <dc:creator>Jeremiah McNichols</dc:creator>
  <dc:description/>
  <dc:language>en-US</dc:language>
  <cp:lastModifiedBy>Jeremiah McNichols</cp:lastModifiedBy>
  <dcterms:modified xsi:type="dcterms:W3CDTF">2007-12-17T15:31:59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1000000000001023620</vt:lpwstr>
  </property>
</Properties>
</file>