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2F81-639D-46AB-AF96-C2EA8A0D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2 (A) Identify components of an eco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2 (B) Observe and describe how organisms use existing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2 (C) Describe how different environments support different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C) Make inferences about effects of human activities on Earth’s 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Describe how human activities have modified soil, water, and air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S: Health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germs can cause fe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S: Health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 Analyze healthy and unhealthy dietary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S: Health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 Analyze healthy and unhealthy dietary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Identify that change in environmental conditions can affect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S: Health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11 (A) Identify that change in environmental conditions can affect survi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Health 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 (A) Analyze healthy and unhealthy dietary pract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11 (A) Identify that change in environmental conditions can affect survi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11 (A) Identify that change in environmental conditions can affect survi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Health 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 (A) Analyze healthy and unhealthy dietary pract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11 (A) Identify that change in environmental conditions can affect survi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Health 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 (A) Analyze healthy and unhealthy dietary pract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037-B356-47EC-82D7-A38F6FAD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1B2-5738-438A-94F0-BFF20977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EFC-7E4C-489F-A858-75C1F236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0E4-9B1C-44C7-BA8C-10ADDFDB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F2A-ED29-436F-AA0B-473641F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9D5-E8EB-4427-9BE3-144193AD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644-021D-4448-A7DF-E57FF57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BB7-1B03-4F3E-95AF-FF5B98A4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967-CA39-42C1-BAD1-6368FBD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EC9-5119-4CD9-9CDB-BA08EC64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09D-E67F-48B3-845C-0D0671B4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1EB-632B-4480-AB46-46A1748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7D9-3C1F-4058-92EA-4C9F20F5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7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think yellow fever still exists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aid, “YES” you are Correc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following maps to see where it is still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as represent where yellow fever still ex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986440" cy="632448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248520" y="29718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562720" cy="62244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638680" y="222552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AME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0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yellow fever causes, symptoms, and briefly overview early treatments for the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yellow fever control methods available in Texas 186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llow F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048120" cy="23688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09480" y="1684440"/>
            <a:ext cx="48006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llow Fever is a disease caused by a virus that produces high fever, dizziness, nausea, headache, backache, and jaundi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eas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ellow f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 patients in the last stages of the disease experience jaundice, a yellow skin col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Main Stages of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asion or Infe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sts 2 to 5 days with sudden onset of a fever of 102 - 1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s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ver falls abruptly 2 to 5 days after on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oxi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sts from 3 to 9 days with fever, jaundice and vomiting of bl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ympto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dden onset of f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ow puls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ack v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867, the cause of yellow fever was not kn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 fever outbreaks seemed to occur around wet and marsh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tors had a few different theories about the cause of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bage heaps and stagnant ponds produced harmful particles in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marshy air caused the dis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th the disease spread the disease directly to othe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you think yellow fever was so common in marshy ar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Theories About the Cause of Yellow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arly Treat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137124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many treatments suggested to get rid of Yellow Fe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itary cleanups – clean up trash and standing w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rantine people with the dise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ous chemicals such as quinine, calomel, caster oil, or powdered charco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letting – causing someone to bleed out the infected blood to get rid of the dise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f these treatments proved useless and some even caused the patient to get sick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68560" y="32893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antine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6400" y="1219320"/>
            <a:ext cx="3832560" cy="2174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025880"/>
            <a:ext cx="2514600" cy="1752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30400" y="588024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antine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iscovering the Cause of           Yellow Fev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881, Dr. Carlos Finlay suggested that mosquitoes may be the cause of Yellow F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Walter Reed’s Yellow Fever Commission went to Cuba to test the theory.  They used human volunteers to prove that Yellow Fever was spread by mosquit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se tests, volunteers allowed themselves to be bitten by infected mosquitoes.  In fact, researcher Jesse Lazear died of Yellow Fever shortly after being bitten by a mosquito in Cub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Jese Lazear"/>
          <p:cNvPicPr/>
          <p:nvPr/>
        </p:nvPicPr>
        <p:blipFill>
          <a:blip r:embed="rId2"/>
          <a:stretch/>
        </p:blipFill>
        <p:spPr>
          <a:xfrm>
            <a:off x="4865760" y="2050920"/>
            <a:ext cx="2906640" cy="350856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pic>
        <p:nvPicPr>
          <p:cNvPr id="77" name="" descr="Walter Reed"/>
          <p:cNvPicPr/>
          <p:nvPr/>
        </p:nvPicPr>
        <p:blipFill>
          <a:blip r:embed="rId3"/>
          <a:stretch/>
        </p:blipFill>
        <p:spPr>
          <a:xfrm>
            <a:off x="6934320" y="3314880"/>
            <a:ext cx="1904760" cy="27810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76920" y="623268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Photos Courtesy of Historical Collections and Servic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S Sans Serif"/>
              </a:rPr>
              <a:t>The Claude Moore Health Sciences Library, University of Virginia</a:t>
            </a:r>
            <a:r>
              <a:rPr b="0" lang="en-US" sz="1000" spc="-1" strike="noStrike">
                <a:solidFill>
                  <a:srgbClr val="ffffff"/>
                </a:solidFill>
                <a:latin typeface="MS Sans Serif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ontrolling Yellow Fev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ed States appointed Maj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am Crawford Gorgas and 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itary officers to try to control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of Yellow Fever in Cuba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in Pan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9480" indent="0">
              <a:lnSpc>
                <a:spcPct val="95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mosquitoes lay eggs in still water, al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nant water was covered with 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9480" indent="0">
              <a:lnSpc>
                <a:spcPct val="95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nking water barrels were coated in oil 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d screens put over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9480" indent="0">
              <a:lnSpc>
                <a:spcPct val="95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tims’ homes were sealed off and pyrethrum was burned to kill any mosquitoes already in the hom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prevention methods worked and fewer people died of Yellow F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think of any other ways to control the spread of Yellow Fe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Fumigation crew sealing walls with paper"/>
          <p:cNvPicPr/>
          <p:nvPr/>
        </p:nvPicPr>
        <p:blipFill>
          <a:blip r:embed="rId2"/>
          <a:stretch/>
        </p:blipFill>
        <p:spPr>
          <a:xfrm>
            <a:off x="5729400" y="1371600"/>
            <a:ext cx="3124080" cy="269388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5583960" y="374508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S Sans Serif"/>
              </a:rPr>
              <a:t>Photo Courtesy of Historical Collections and Servic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S Sans Serif"/>
              </a:rPr>
              <a:t>The Claude Moore Health Sciences Library, Univ. of Virgin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5:40:17Z</dcterms:created>
  <dc:creator>Texas A&amp;M Veterinary Medicine</dc:creator>
  <dc:description/>
  <dc:language>en-US</dc:language>
  <cp:lastModifiedBy>Jeremiah McNichols</cp:lastModifiedBy>
  <dcterms:modified xsi:type="dcterms:W3CDTF">2008-11-10T15:59:53Z</dcterms:modified>
  <cp:revision>43</cp:revision>
  <dc:subject/>
  <dc:title>Objectives- Science  3</dc:title>
</cp:coreProperties>
</file>