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5FD1-FE0F-48DC-8EF9-683465934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F64-E160-4F8B-96DC-36A96DCC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E5A-24CE-4401-B6AF-11C2DCDD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E1F-4973-44FE-A7AF-01554332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8DB-545C-41EA-83F7-7B6956BB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4C7-F29D-45E5-B594-6B0632E1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580-CF02-40AA-977E-7B65B63C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50F-C818-4C78-A21F-98B5254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B94-366E-43ED-A765-5C7EF184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C54-5787-4CC7-B6C9-C2DB4067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415-C42C-4421-AFFB-B16611C4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5EE-E495-46E4-B888-D39EB582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CDC-75F2-48BB-9C52-BA23B6C1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7439-4C16-46FE-88A9-7DC0F418827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9-11T17:13:12Z</dcterms:modified>
  <cp:revision>29</cp:revision>
  <dc:subject/>
  <dc:title>Descriptive Writing</dc:title>
</cp:coreProperties>
</file>