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DD42-10A4-4582-B30B-AC45090B9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052-E767-4F38-B7C7-DBD4F38B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75F-8D1C-4CF5-A28B-51FD8DA0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37E-40C6-45F7-873B-1D9320CC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4DA-5C7F-47D1-B655-59857C4D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4BA-A7E4-4ABE-AC82-5368AE37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6EC-D3DA-49CE-AC2F-4CB86B29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2DD-8F62-42D0-9B3B-169747D4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A62-32A2-48BE-975A-02D981F6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31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F8E-AD70-4D93-BD5E-74A12EE1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1A5E-FC5F-434A-A0A4-54C01D9C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624-9F6B-4293-AC6E-6254EB70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D23-4D67-4C31-9BAD-8FD3E784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E350-2E3F-4877-ACE0-E0AE3A111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lapid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oden box sat on the rude shelf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oth and well sa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open or broken o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down, in a horrible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09520" y="456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0952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9520" y="338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109520" y="3978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 seem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smer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the bat’s aerial maneuvers till a dog’s sudden bark echoed off the hills and broke his reveri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excite or make e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make sick or 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come temporarily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ascinate; hypno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09520" y="49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0952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109520" y="38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109520" y="439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ravis stopped to catch his breath, he watched the dog’s dark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ttl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at split the brightly colored wildflowers like a zipp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disorderly or tang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marked with spots of different colo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thick or d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shar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09520" y="496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09520" y="31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9520" y="37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3750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his eyes adjusted to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luctua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, Travis halted, surprised by what he saw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da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vary irregul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09520" y="459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09520" y="28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09520" y="339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09520" y="39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vis’ initia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rehen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d given way to curiosit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ful or uneasy anticipation of the future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e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anticipation of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ened awareness of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adven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09520" y="50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09520" y="2994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09520" y="390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09520" y="448452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2440" indent="-532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forgive my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gres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I thought you were my younger brothers come to torment my solitude.’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ccident or mistake commit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te of shock or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ck of poli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n, committing an offense; violation of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09520" y="54338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109520" y="327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09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109520" y="4761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w roll of thunder seemed to announce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ister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rival of Nettie’s broth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eaky, mischievous and cru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ting or disappoi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ud, noisy, and lacking in discipli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containing males;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09520" y="4573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0952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09520" y="337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109520" y="398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Mary could answer, a flash of lightning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antane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ap of thunder sent little Temple rushing into Mary’s arms 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oud, sharp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ing at a specific inst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 or surpri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ise followed by an 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09520" y="491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0952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09520" y="37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09520" y="4330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4000" indent="-5040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miss my friends from Galveston who a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arantin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an’t come back to school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ion of a contagious person to prevent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of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d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family moves away from a place 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that happens to a sick pers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hey can’t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09520" y="5421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0952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109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109520" y="4432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tie look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stful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ward the stained glass windows lining the west wall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ver or mischiev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of wishful yearning; 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or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09520" y="4567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09520" y="278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0952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09520" y="397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3T22:25:32Z</dcterms:modified>
  <cp:revision>58</cp:revision>
  <dc:subject/>
  <dc:title>PowerPoint Presentation</dc:title>
</cp:coreProperties>
</file>