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81A-5DF3-4DCA-8C55-4F9A3E71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468-F660-489A-A616-AC87093CB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9F9-55A2-4125-8F05-0C1793CB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068-10E5-4ECC-9FB3-934C9A27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72C-963A-4F46-B763-AE3F6129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897-5B0C-42B4-AEE6-01509BD8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0AF-F7E5-4A0E-8CBB-10E341F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883-626C-4529-BE6F-3B17359A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E6D-529C-414F-A82D-C63C278A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658-7176-405D-A9EF-B7F37AD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E51-E770-429C-A6AF-67F37C1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7F4-5BAA-4401-BF29-2EF31B8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F7B-FF60-4522-8E95-FB464AC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CD6-FC02-4AF0-980A-6CA54EB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A2D-70AD-44A4-86A9-184C9DB4CB7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ljlab</cp:lastModifiedBy>
  <dcterms:modified xsi:type="dcterms:W3CDTF">2003-09-11T17:23:13Z</dcterms:modified>
  <cp:revision>23</cp:revision>
  <dc:subject/>
  <dc:title>What’s the difference between weather and climate?</dc:title>
</cp:coreProperties>
</file>