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B8A8-FE99-4B3C-AEBD-E3EBB5E16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Identify contributions of significant individuals during Texan colon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Trace the development of events that led to the Texas Revolu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same year that Texas declared its Independence  from Mexico, Arkansas was admitted to the U.S. as the 2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C) Explain the significance of these dates: 1519, 1718, 1836, 1845, 18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Trace the development of events that led to the Texas Revolu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C) Explain the significance of these dates: 1519, 1718, 1836, 1845, 18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Trace the development of events that led to the Texas Revolu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same year that Texas became a state, Florida becomes the 27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te in the U.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C) Explain the significance of these dates: 1519, 1718, 1836, 1845, 18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C) Explain the significance of these dates: 1519, 1718, 1836, 1845, 18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California became part of the U.S., the Texas population reached 200,0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ert E. Lee surrendered in 1865, and Texas rejoined the U.S. in 1870, so 5 years pass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C) Explain the significance of these dates: 1519, 1718, 1836, 1845, 18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C) Explain the significance of these dates: 1519, 1718, 1836, 1845, 18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4FDE-4652-425B-9F43-B092E1C10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lines can help you put events in historical context.  It helps to know what happened before and after a particular event in order to understand why it happe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 Reco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Explain the social problems faced by the South during Reconstru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Identify contributions of significant individuals during Texan colon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Trace the development of events that led to the Texas Revolu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 Reco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Explain the social problems faced by the South during Reconstru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D) Identify the impact of the Mexican federal Constitution of 1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Trace the development of events that led to the Texas Revolu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D) Identify the impact of the Mexican federal Constitution of 1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Trace the development of events that led to the Texas Revolu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same year that Moses Austin was granted permission to start a colony in Texas, the first public high school opened in Boston, Massachuset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Identify contributions of significant individuals during Texan colon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172-8D92-42F8-8D67-2B8E4C4B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A04-D441-4DAC-B7C1-5FCAEF41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655-9303-437D-80F4-BF5D79C2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D53-4B12-4C41-9FF8-9AA157C9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ACE-9765-4923-9B0D-D3FAD305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190-4E3A-4251-8407-5469E753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DBB-68CA-4FFA-B62B-29A8A2E9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B59-1D37-445C-AEB9-2304A659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091-7C6B-4840-8007-CDD34B85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96A-F205-4FE2-A543-177BD449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ED8F-996E-4205-AA6B-C210F8CA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F8F-6E20-479E-A584-0C86FC15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B008-3517-4010-B29D-ED04B498631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X%20SS%202%20Worksheet.doc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7400" y="1469880"/>
            <a:ext cx="5018040" cy="192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0" y="7621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14840" y="809640"/>
            <a:ext cx="18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X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143000"/>
            <a:ext cx="9144000" cy="3809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635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20 - 183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49456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what your timeline should look like now.  The Sam Houston events that you should have just added are marked in gre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3680" y="1376280"/>
            <a:ext cx="8318520" cy="335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30 - 184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6880" y="145404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the timeline on your worksheet.  What U.S. event took place in the same year that Texas declared its independence from Mexico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following events in Sam Houston’s life to your time line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35 – Sam Houston chosen as commander in chief of the Texan arm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36 – Sam Houston elected presiden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Republic of Tex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05720" y="4724280"/>
            <a:ext cx="2023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990720"/>
            <a:ext cx="9144000" cy="411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30 - 184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4520" y="1258920"/>
            <a:ext cx="8556480" cy="3751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8280" y="5124240"/>
            <a:ext cx="849456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what your timeline should look like now.  The Sam Houston events that you should have just added are marked in gre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40 - 185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3000" y="1464840"/>
            <a:ext cx="83710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the timeline on your worksheet.  What happened in U.S. history in the same year that Texas became a stat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following events in Sam Houston’s life to your time line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41 – Sam Houston re-elected president of the Republic of Tex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46 – Sam Houston elected as a U.S. senator from Tex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86400" y="5181480"/>
            <a:ext cx="3159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066680"/>
            <a:ext cx="9144000" cy="411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7160" y="1422360"/>
            <a:ext cx="8688240" cy="310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40 - 185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1000" y="5211360"/>
            <a:ext cx="849456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what your timeline should look like now.  The Sam Houston events that you should have just added are marked in gre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0280" y="64911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50 - 186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93560"/>
            <a:ext cx="777240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the timeline on your worksheet.  What was the population in Texas at the time when California became part of the U.S.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following events in Sam Houston’s life to your time line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57 – Sam Houston runs for governor of Texas but is not elect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59 – Sam Houston becomes governor of Tex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66680"/>
            <a:ext cx="9144000" cy="4191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50 - 186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9240" y="1370160"/>
            <a:ext cx="876132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1000" y="5211360"/>
            <a:ext cx="849456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what your timeline should look like now.  The Sam Houston events that you should have just added are marked in gre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60 - 187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89240"/>
            <a:ext cx="77724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the timeline on your worksheet.  How many years passed between the time Robert E. Lee surrendered and Texas rejoined the United State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following events in Sam Houston’s life to your time line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61 – Sam Houston deposed as governor of Texas after he refuses to take an oath of allegiance to the Confederate States of Americ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63 – Sam Houston dies of pneumoni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61440" y="5667480"/>
            <a:ext cx="13284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066680"/>
            <a:ext cx="9144000" cy="4038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60 - 187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6360" y="1422360"/>
            <a:ext cx="8591400" cy="3025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49456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what your timeline should look like now.  The Sam Houston events that you should have just added are marked in gre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Lines and You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a time line help you learn about history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a timeline help you learn about someone’s life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 you’ll be making a timeline of the important events in your life.  You’ll also put on the timeline recent events that happened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have any suggestions on what some important Texas events that happened during        your lifetime would b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467480" y="5234040"/>
            <a:ext cx="13604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 timeline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timelines by developing a sense of the scale on the timel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important events in the life of Sam Houst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about events in recent Texas history, and make a timeline of these events with respect to the important events in your lif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80880" y="1981080"/>
            <a:ext cx="8570880" cy="4578120"/>
            <a:chOff x="380880" y="1981080"/>
            <a:chExt cx="8570880" cy="4578120"/>
          </a:xfrm>
        </p:grpSpPr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39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22960" y="2166840"/>
              <a:ext cx="272880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ime lin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98320" y="16934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ime line is a diagram that shows when events took place in relation to each other.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lines show the sequence of events and the amount of time between events.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a time line help you better understand historical events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26280" y="4703760"/>
            <a:ext cx="24145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0020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160" y="4038480"/>
            <a:ext cx="8381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beginning year and ending year on this timelin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imeline goes from 1820 to 1830, so it shows events that happened between those two year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8564400" cy="2057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1240" y="533520"/>
            <a:ext cx="454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cal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Timeline We Just Looked at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ace between the marks 1820 and 1830 represents the time that passed between those year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an event that occurred in 1821 will be close to the 1820 and an event that occurred in 1829 will be close to the 1830 mar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ame respect, an event that occurred in 1825 will be shown in the middle between the 1820 and 1830 mark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143000"/>
            <a:ext cx="9144000" cy="3809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ime lin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5059080"/>
            <a:ext cx="830592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were to add an event to the time line, such as the signing of the Mexican Constitution of 1824, where would the event be plac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63520" y="1371600"/>
            <a:ext cx="858996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90720"/>
            <a:ext cx="9144000" cy="510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ime lin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39760" y="1370160"/>
            <a:ext cx="8672400" cy="349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76560" y="2039760"/>
            <a:ext cx="2497320" cy="1213200"/>
          </a:xfrm>
          <a:prstGeom prst="ellipse">
            <a:avLst/>
          </a:prstGeom>
          <a:noFill/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554360" y="3376080"/>
            <a:ext cx="897120" cy="2057400"/>
          </a:xfrm>
          <a:prstGeom prst="line">
            <a:avLst/>
          </a:prstGeom>
          <a:ln w="223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5334120"/>
            <a:ext cx="24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ght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Lines and Texas Histor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38240" y="1418760"/>
            <a:ext cx="7391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 we will be making a time line relating the events in Texas history to events in U.S. histor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ng the way you will be asked questions about the time line.  You will also be asked to add events in Sam Houston’s life to the time line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along on your </a:t>
            </a:r>
            <a:r>
              <a:rPr b="0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workshe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943600" y="4133880"/>
            <a:ext cx="27432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20 - 183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5480" y="1360440"/>
            <a:ext cx="8582040" cy="30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the timeline on your worksheet.  What event in U.S. history happened in the same year that Moses Austin was granted permission to start a colony in Texa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following events in Sam Houston’s life to your time line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23 – Sam Houston becomes a  U.S. Representati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27 – Sam Houston elected governor of Tennesse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02:09:41Z</dcterms:created>
  <dc:creator>Unknown User</dc:creator>
  <dc:description/>
  <dc:language>en-US</dc:language>
  <cp:lastModifiedBy>Jeremiah McNichols</cp:lastModifiedBy>
  <dcterms:modified xsi:type="dcterms:W3CDTF">2008-10-22T15:53:06Z</dcterms:modified>
  <cp:revision>73</cp:revision>
  <dc:subject/>
  <dc:title>Historical Information</dc:title>
</cp:coreProperties>
</file>