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798F-280C-425F-9ED7-A2B6DBE20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695D-8280-4DD8-A714-C5DBB8DA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30AC-CFBC-4448-AF37-59D9A4AD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8022-878B-4109-8AE4-3A4EDDA79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2624-21C8-4981-BCA1-2DD41A71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7380-F001-45AF-A56E-EA59C05E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6226-DD00-444A-946E-E5DC7681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57B9-468A-47BF-BDB8-93A8B754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6E9A-950D-4095-9DC9-3CA42A5B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AC6C-DC3F-4242-B9FB-A524FBA5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B6D5-8850-4AC8-9043-E4FA6AAE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5850-D06B-4252-B4CF-6A38CFBC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C8FC-607A-42B9-8E70-713FD1700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31:32Z</dcterms:created>
  <dc:creator>Jeremiah McNichols</dc:creator>
  <dc:description/>
  <dc:language>en-US</dc:language>
  <cp:lastModifiedBy>Jeremiah McNichols</cp:lastModifiedBy>
  <dcterms:modified xsi:type="dcterms:W3CDTF">2007-12-17T15:31:59Z</dcterms:modified>
  <cp:revision>1</cp:revision>
  <dc:subject/>
  <dc:title>Slide 1</dc:title>
</cp:coreProperties>
</file>