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2A1-1834-4D3D-AA26-5D1D77A5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CA0-027B-48CC-B510-8EA836B8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213-34C0-473C-9065-F79C46FD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269-9163-480C-88B4-3E344766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79F-961A-475C-A7CF-B84B50EC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CD4-9866-467B-B1E4-7F544DBF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86F-13CF-4D16-8A89-A255F0A4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9B9-359E-4814-BFE5-7F1F14E8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8CB-BBE6-406A-835A-B768E6D5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BA5-1729-46AC-B5D9-4C801D55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5BA-4CB5-4C69-827C-3E9CC52F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4D0-BA39-470B-9363-8A2EC412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6346-D21B-41F2-B530-C880D50F7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1:32Z</dcterms:created>
  <dc:creator>Jeremiah McNichols</dc:creator>
  <dc:description/>
  <dc:language>en-US</dc:language>
  <cp:lastModifiedBy>Jeremiah McNichols</cp:lastModifiedBy>
  <dcterms:modified xsi:type="dcterms:W3CDTF">2007-12-17T15:31:59Z</dcterms:modified>
  <cp:revision>1</cp:revision>
  <dc:subject/>
  <dc:title>Slide 1</dc:title>
</cp:coreProperties>
</file>