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2262-7109-4D2E-A27F-8D33D1DBA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F00-D9B3-44B2-A323-0EEC1C2B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F34-6551-4D8A-B466-CE63BD1C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2B8-435C-421E-9EDE-740A11D0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FEC-AB95-4E4A-B2F0-DF616302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A8E-34B4-4E93-9DD4-B3A5025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987-693D-4B40-A6C8-C5B081CE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BDB-A0C9-42F2-849A-45A74E2B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C84-9F16-450C-8FE4-EE347C06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2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6BA-92D4-494C-820E-933E4A95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83B-0CA6-494C-B705-FED43132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CC5-A95E-4109-941F-73767DA7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402-94D2-4209-BE3A-69C1F52F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861D-359D-4689-8889-F1919D73C0B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360" y="1370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Nettie’s opinion, which of the following helped guard her against swamp vapor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accination from her docto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ting plenty of 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lic worn on a string around her ne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umes from her camphor ra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84240" y="430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92160" y="252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92160" y="3125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90720" y="3716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809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rushes away with her brother, Andrew, what does she give to Travis as a symbol of their friendship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air ribb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no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ki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4240" y="471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92160" y="291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992160" y="3517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990720" y="4122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64040" y="27781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finds himself in an old cemetery because 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looking for a dog named Rowd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lieves his great grandmother is buri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mised to meet his friend Roman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doing a Texas history report on historic gr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84240" y="48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0640" y="13622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notices something unusual about several of the grave markers in one section of the cemetery.  Which of the following best describes what he sees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is engraved with the sam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ne of the markers have a d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markers show that the deceas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 died in 1867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has three angels carved on the to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84240" y="5695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2160" y="32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992160" y="41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90720" y="4782960"/>
            <a:ext cx="37440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4520" y="13701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understand the grave markers better,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. . . 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ps at the public library to read ab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toric gravesites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tacts his friend Roman and travels back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s his father what he knows about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refully copies all the information o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 so that he can study them lat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82800" y="5410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76320" y="2548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76320" y="350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974880" y="4468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2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meets a new friend, Nettie, in the cemetery.  Netti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errified and asks Travis to protect 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nly child and goes to the cemetery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sit her father’s g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ants flowers at the cemetery every spr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oes to the cemetery to read and write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iv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84240" y="484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37304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meeting Nettie, Mary, Andrew, Willie and Temple in the cemetery, Travis begins to worry that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not reach home before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rm hi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identical gravestones mark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ildrens’ grave si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report Roman and him to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Backpack Computer malfunctioned,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he is not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84240" y="5778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921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92160" y="38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90720" y="47991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44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use the Backpack Computer to make two trips during the story. The second trip takes them back in time to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old 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uneral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hurc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ed sto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84240" y="457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216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92160" y="340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90720" y="3990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5600" y="13748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encounters Nettie a second time in the story. Which word best describes Nettie at this meeting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r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84240" y="4576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92160" y="27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9216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90720" y="3975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384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of the following is NOT true of Nettie’s Aunt Eliza?  S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not really Nettie’s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ld w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s for the fami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fraid to trav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84240" y="434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92160" y="25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92160" y="315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90720" y="3746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6:00:21Z</dcterms:created>
  <dc:creator>Dr. Deborah Kochevar</dc:creator>
  <dc:description/>
  <dc:language>en-US</dc:language>
  <cp:lastModifiedBy>Vince Hardy</cp:lastModifiedBy>
  <cp:lastPrinted>2003-01-31T16:54:50Z</cp:lastPrinted>
  <dcterms:modified xsi:type="dcterms:W3CDTF">2007-05-03T19:15:58Z</dcterms:modified>
  <cp:revision>52</cp:revision>
  <dc:subject/>
  <dc:title>Investigator Challenge Quiz</dc:title>
</cp:coreProperties>
</file>