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6CB5-97A8-4915-92E0-ECB707BB0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29A-B2BA-41E9-914F-F6AA24D3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9E9-2DB4-4DAB-A629-4F89BDBE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F4F-011A-4A64-BA8E-8806006F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495-D1E0-4AF4-A02A-7BB94C86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C69-3E18-4E4F-A452-3C843E23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6BE-A54D-4BD2-B0ED-D5204A3B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5AF-0ED0-4754-B8CC-201289A2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E82-DF10-4184-9A34-1ADFF122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F014-14D1-4AD3-9216-FA2BC530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4A1-D7C5-4CDD-BDEC-B1CAB6D0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D88-6696-44D9-AFC3-384CFD85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F84-AD42-4223-8D11-41FA331B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8A40-8415-4258-B206-6EEDE5533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ljlab</cp:lastModifiedBy>
  <dcterms:modified xsi:type="dcterms:W3CDTF">2003-09-11T17:23:06Z</dcterms:modified>
  <cp:revision>19</cp:revision>
  <dc:subject/>
  <dc:title>What’s the difference between weather and climate?</dc:title>
</cp:coreProperties>
</file>