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7236-97B4-4E17-A188-BAD29AB33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C47A-36D8-4E66-99CB-FB93E9BA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457D-35B3-44AE-8684-8B56EB986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8A13-F81B-4A32-AB43-39BFB499B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A9B8-ABBA-4439-830B-3EE7FDD6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88FF-CD64-4AB4-B405-76AB159B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E9C9-E428-41EB-A4EA-9F244DAA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D47E-EA2E-43D4-9BB7-7CE82BB4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0757-C760-4D42-AA34-27961DCC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EE17-B2F3-4755-9D61-20D34500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64AF-BE53-492F-A3D8-55269875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3ED9-5664-45BE-A6B4-ADA90E03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ABCE-8D3F-46C5-8CF3-AD0B8281A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42:24Z</dcterms:created>
  <dc:creator>Jeremiah McNichols</dc:creator>
  <dc:description/>
  <dc:language>en-US</dc:language>
  <cp:lastModifiedBy>Jeremiah McNichols</cp:lastModifiedBy>
  <dcterms:modified xsi:type="dcterms:W3CDTF">2007-12-17T15:42:50Z</dcterms:modified>
  <cp:revision>1</cp:revision>
  <dc:subject/>
  <dc:title>Slide 1</dc:title>
</cp:coreProperties>
</file>