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206E4-A880-4702-BC4F-F6DAFEAAEB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40D16-1841-4849-A503-8A9EA497E9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3DB5E-B08E-45E3-92C3-BB88D78D37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988AA-05FD-4706-A21B-E302DECBD8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E70F1-FCD2-4CE2-A839-1EDE12A0A2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FDD64-853C-4BA7-835D-D27A6ED96C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DD0A8-3728-442F-9EA5-822114D15D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0592B-957F-47AD-BC78-1C91BBDE11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4590F-BBDC-463A-B4A1-924BC61B97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38D86-8454-4D9D-A963-15AEEA643B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6A6BE-73AB-4F12-B2AF-A60648D461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019E4-A832-49FC-8DBB-1334FF384F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FE967-B389-4864-9506-3CA1CE1E7DD6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 ratio is a comparison of two numbers by division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 comparing 1 to 4 can be stated as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to 4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:4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out of 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4F788-6538-4301-B5EF-6EA982593FBA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4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1 par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1/4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943600" y="914400"/>
            <a:ext cx="2664000" cy="349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30B8F-29F8-4BF4-AEF3-F5B8B3D14AC3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5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3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3/5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791320" y="1143000"/>
            <a:ext cx="2778120" cy="2835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A593F-A78F-400C-8906-CA14DC169D19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7240" y="-228600"/>
            <a:ext cx="77709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534160" cy="569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ompare the ratios 4/6 and 2/3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Draw a rectangle with 6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Draw another rectangle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with 3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3. Shade 4 parts of the upper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rectangle and shade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2 parts of the lower rectangl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nce the areas shaded are the same,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s are equivalent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324480" y="990720"/>
            <a:ext cx="2286000" cy="4035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A8170-34AA-456C-B510-2CF924B08CBE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724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09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nce ratios can be written as fractions,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:6 and 2:3 are equivalent ratios </a:t>
            </a:r>
            <a:br>
              <a:rPr sz="3200"/>
            </a:b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just a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/6 and 2/3 are equivalent fraction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÷ 2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    ÷ 2</a:t>
            </a: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2864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732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05120" y="3809880"/>
            <a:ext cx="1603080" cy="92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1905120" y="4820400"/>
            <a:ext cx="1599120" cy="87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2" y="9473"/>
                </a:moveTo>
                <a:arcTo wR="10800" hR="10800" stAng="-10376525" swAng="10376525"/>
                <a:lnTo>
                  <a:pt x="10800" y="10800"/>
                </a:lnTo>
                <a:close/>
              </a:path>
              <a:path fill="none" w="21600" h="21600">
                <a:moveTo>
                  <a:pt x="82" y="9473"/>
                </a:moveTo>
                <a:arcTo wR="10800" hR="10800" stAng="-10376525" swAng="10376525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5562720" y="4897080"/>
            <a:ext cx="1599120" cy="87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8" y="9501"/>
                </a:moveTo>
                <a:arcTo wR="10800" hR="10800" stAng="-10385669" swAng="10385669"/>
                <a:lnTo>
                  <a:pt x="10800" y="10800"/>
                </a:lnTo>
                <a:close/>
              </a:path>
              <a:path fill="none" w="21600" h="21600">
                <a:moveTo>
                  <a:pt x="78" y="9501"/>
                </a:moveTo>
                <a:arcTo wR="10800" hR="10800" stAng="-10385669" swAng="10385669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562720" y="3733920"/>
            <a:ext cx="1603080" cy="91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/>
          <p:nvPr/>
        </p:nvCxnSpPr>
        <p:spPr>
          <a:xfrm>
            <a:off x="3504960" y="419076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99" name=""/>
          <p:cNvCxnSpPr/>
          <p:nvPr/>
        </p:nvCxnSpPr>
        <p:spPr>
          <a:xfrm>
            <a:off x="7162560" y="411444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0" name=""/>
          <p:cNvCxnSpPr/>
          <p:nvPr/>
        </p:nvCxnSpPr>
        <p:spPr>
          <a:xfrm flipV="1">
            <a:off x="3504960" y="5181120"/>
            <a:ext cx="76680" cy="15336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1" name=""/>
          <p:cNvCxnSpPr/>
          <p:nvPr/>
        </p:nvCxnSpPr>
        <p:spPr>
          <a:xfrm flipV="1">
            <a:off x="7162560" y="525708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15238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26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814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102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86E79-77B4-4AEC-A3F9-0759AB9624FD}" type="slidenum">
              <a:t>5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20:00Z</dcterms:modified>
  <cp:revision>219</cp:revision>
  <dc:subject/>
  <dc:title>VTPP 423 - PHYSIOLOGY</dc:title>
</cp:coreProperties>
</file>