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C38D-FD5B-4FB8-87BD-AEA827F0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B924-EF70-4769-A36F-0731BC25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7D2B-43FE-4185-BEB7-8A7B661C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8066-B895-47C5-B075-CB6A29CE5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892E-93FF-443E-A945-7E0915C8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BAD6-1436-4F93-8C35-9FE99DFD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1B3B-5131-4EF9-9414-BE0C0B89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938F-4ED8-40B2-BCAA-4B50174D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69F4-FCF5-4995-A72F-0F6832D1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2CC0-B175-4784-A79A-3B8D6BDA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0AE7-8419-4AB2-87BF-EFE2A155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141A-EBEA-4B02-9CD5-2917A0BF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D7F7-219A-44FE-8B26-6B1876157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34:13Z</dcterms:created>
  <dc:creator>Jeremiah McNichols</dc:creator>
  <dc:description/>
  <dc:language>en-US</dc:language>
  <cp:lastModifiedBy>Jeremiah McNichols</cp:lastModifiedBy>
  <dcterms:modified xsi:type="dcterms:W3CDTF">2007-12-17T15:34:58Z</dcterms:modified>
  <cp:revision>1</cp:revision>
  <dc:subject/>
  <dc:title>Slide 1</dc:title>
</cp:coreProperties>
</file>