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A292-7D08-4BD6-B923-0CDB46462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C) Identify contributions of significant individuals during Texan colon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E) Trace the development of events that led to the Texas Revolu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same year that Texas declared its Independence  from Mexico, Arkansas was admitted to the U.S. as the 2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C) Explain the significance of these dates: 1519, 1718, 1836, 1845, 18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E) Trace the development of events that led to the Texas Revolu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C) Explain the significance of these dates: 1519, 1718, 1836, 1845, 18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E) Trace the development of events that led to the Texas Revolu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 same year that Texas became a state, Florida becomes the 27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te in the U.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C) Explain the significance of these dates: 1519, 1718, 1836, 1845, 18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C) Explain the significance of these dates: 1519, 1718, 1836, 1845, 18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California became part of the U.S., the Texas population reached 200,0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bert E. Lee surrendered in 1865, and Texas rejoined the U.S. in 1870, so 5 years pass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C) Explain the significance of these dates: 1519, 1718, 1836, 1845, 18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C) Explain the significance of these dates: 1519, 1718, 1836, 1845, 18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0919-B37F-4E64-BB7B-12C96E47B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lines can help you put events in historical context.  It helps to know what happened before and after a particular event in order to understand why it happe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 Reconstr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Explain the social problems faced by the South during Reconstru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C) Identify contributions of significant individuals during Texan colon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E) Trace the development of events that led to the Texas Revolu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 Reconstr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Explain the social problems faced by the South during Reconstru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D) Identify the impact of the Mexican federal Constitution of 1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E) Trace the development of events that led to the Texas Revolu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D) Identify the impact of the Mexican federal Constitution of 1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E) Trace the development of events that led to the Texas Revolu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 same year that Moses Austin was granted permission to start a colony in Texas, the first public high school opened in Boston, Massachuset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Be able to sequence significant people, events, and time periods in Tex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C) Identify contributions of significant individuals during Texan colon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4 (A) Identify people, events, and issues in Texas as a Republic and a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 U.S. History through 18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Identify the major eras in U.S. history through 187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. Industrial R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Identify the economics factors causing industrialization and urbaniz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A456-09CD-431A-8CEA-71491A1A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C11D-CE55-46BA-B9CC-6179D96B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634-ECF5-43FF-8664-419764BA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A4B-8BFE-44CA-8489-DE645AA1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8CA-DD50-45AC-858F-3995B2DE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AB0-5B51-430E-8F8A-649A0BAC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348-3D08-40C5-9EE5-D6DC24C2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C40-047F-4520-9233-E17DA47B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E79-81AE-4843-8D8F-93502F41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66D-D8BD-44DD-A193-0451740E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29A4-6D6D-4D9B-8258-7FC6B862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E5BF-CF00-455A-B864-66FE6A8D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C74C-7770-46B7-888C-EF792665D5F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X%20SS%202%20Worksheet.doc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057400" y="1469880"/>
            <a:ext cx="5018040" cy="192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0" y="7621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14840" y="809640"/>
            <a:ext cx="18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X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143000"/>
            <a:ext cx="9144000" cy="3809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2635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from 1820 - 1830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49456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is what your timeline should look like now.  The Sam Houston events that you should have just added are marked in gre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3680" y="1376280"/>
            <a:ext cx="8318520" cy="335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from 1830 - 1840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6880" y="145404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the timeline on your worksheet.  What U.S. event took place in the same year that Texas declared its independence from Mexico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following events in Sam Houston’s life to your time line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35 – Sam Houston chosen as commander in chief of the Texan arm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36 – Sam Houston elected presiden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Republic of Tex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705720" y="4724280"/>
            <a:ext cx="20239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990720"/>
            <a:ext cx="9144000" cy="4114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from 1830 - 1840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4520" y="1258920"/>
            <a:ext cx="8556480" cy="3751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8280" y="5124240"/>
            <a:ext cx="849456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is what your timeline should look like now.  The Sam Houston events that you should have just added are marked in gre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from 1840 - 1850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3000" y="1464840"/>
            <a:ext cx="83710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the timeline on your worksheet.  What happened in U.S. history in the same year that Texas became a stat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following events in Sam Houston’s life to your time line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41 – Sam Houston re-elected president of the Republic of Tex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46 – Sam Houston elected as a U.S. senator from Tex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86400" y="5181480"/>
            <a:ext cx="31590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066680"/>
            <a:ext cx="9144000" cy="4114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7160" y="1422360"/>
            <a:ext cx="8688240" cy="3100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from 1840 - 1850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1000" y="5211360"/>
            <a:ext cx="849456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is what your timeline should look like now.  The Sam Houston events that you should have just added are marked in gre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0280" y="64911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from 1850 - 1860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93560"/>
            <a:ext cx="777240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the timeline on your worksheet.  What was the population in Texas at the time when California became part of the U.S.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following events in Sam Houston’s life to your time line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57 – Sam Houston runs for governor of Texas but is not elect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59 – Sam Houston becomes governor of Tex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66680"/>
            <a:ext cx="9144000" cy="4191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from 1850 - 1860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9240" y="1370160"/>
            <a:ext cx="876132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1000" y="5211360"/>
            <a:ext cx="849456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is what your timeline should look like now.  The Sam Houston events that you should have just added are marked in gre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from 1860 - 1870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89240"/>
            <a:ext cx="77724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the timeline on your worksheet.  How many years passed between the time Robert E. Lee surrendered and Texas rejoined the United State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following events in Sam Houston’s life to your time line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61 – Sam Houston deposed as governor of Texas after he refuses to take an oath of allegiance to the Confederate States of Americ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63 – Sam Houston dies of pneumoni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561440" y="5667480"/>
            <a:ext cx="132840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066680"/>
            <a:ext cx="9144000" cy="4038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from 1860 - 1870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6360" y="1422360"/>
            <a:ext cx="8591400" cy="3025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49456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is what your timeline should look like now.  The Sam Houston events that you should have just added are marked in gre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Lines and You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4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a time line help you learn about history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a timeline help you learn about someone’s life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 you’ll be making a timeline of the important events in your life.  You’ll also put on the timeline recent events that happened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have any suggestions on what some important Texas events that happened during        your lifetime would b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467480" y="5234040"/>
            <a:ext cx="136044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 timeline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timelines by developing a sense of the scale on the timel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important events in the life of Sam Houst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about events in recent Texas history, and make a timeline of these events with respect to the important events in your lif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peer.tamu.edu/forms/Curricula_Survey.s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80880" y="1981080"/>
            <a:ext cx="8570880" cy="4578120"/>
            <a:chOff x="380880" y="1981080"/>
            <a:chExt cx="8570880" cy="4578120"/>
          </a:xfrm>
        </p:grpSpPr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4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5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6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39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1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22960" y="2166840"/>
              <a:ext cx="2728800" cy="43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ime lin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98320" y="169344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ime line is a diagram that shows when events took place in relation to each other.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lines show the sequence of events and the amount of time between events.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a time line help you better understand historical events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326280" y="4703760"/>
            <a:ext cx="241452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0020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160" y="4038480"/>
            <a:ext cx="8381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beginning year and ending year on this timelin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imeline goes from 1820 to 1830, so it shows events that happened between those two year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8564400" cy="2057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1240" y="533520"/>
            <a:ext cx="454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cal 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Timeline We Just Looked at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ace between the marks 1820 and 1830 represents the time that passed between those years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an event that occurred in 1821 will be close to the 1820 and an event that occurred in 1829 will be close to the 1830 mar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ame respect, an event that occurred in 1825 will be shown in the middle between the 1820 and 1830 mark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143000"/>
            <a:ext cx="9144000" cy="3809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ime lin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5059080"/>
            <a:ext cx="830592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were to add an event to the time line, such as the signing of the Mexican Constitution of 1824, where would the event be plac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63520" y="1371600"/>
            <a:ext cx="858996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90720"/>
            <a:ext cx="9144000" cy="510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ime lin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39760" y="1370160"/>
            <a:ext cx="8672400" cy="349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76560" y="2039760"/>
            <a:ext cx="2497320" cy="1213200"/>
          </a:xfrm>
          <a:prstGeom prst="ellipse">
            <a:avLst/>
          </a:prstGeom>
          <a:noFill/>
          <a:ln w="47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4554360" y="3376080"/>
            <a:ext cx="897120" cy="2057400"/>
          </a:xfrm>
          <a:prstGeom prst="line">
            <a:avLst/>
          </a:prstGeom>
          <a:ln w="223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5334120"/>
            <a:ext cx="24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ight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Lines and Texas History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38240" y="1418760"/>
            <a:ext cx="7391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 we will be making a time line relating the events in Texas history to events in U.S. history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ong the way you will be asked questions about the time line.  You will also be asked to add events in Sam Houston’s life to the time line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along on your </a:t>
            </a:r>
            <a:r>
              <a:rPr b="0" lang="en-US" sz="2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workshee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943600" y="4133880"/>
            <a:ext cx="274320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from 1820 - 183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5480" y="1360440"/>
            <a:ext cx="8582040" cy="30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the timeline on your worksheet.  What event in U.S. history happened in the same year that Moses Austin was granted permission to start a colony in Texa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following events in Sam Houston’s life to your time line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23 – Sam Houston becomes a  U.S. Representati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27 – Sam Houston elected governor of Tennesse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X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02:09:41Z</dcterms:created>
  <dc:creator>Unknown User</dc:creator>
  <dc:description/>
  <dc:language>en-US</dc:language>
  <cp:lastModifiedBy>Jeremiah McNichols</cp:lastModifiedBy>
  <dcterms:modified xsi:type="dcterms:W3CDTF">2008-10-22T15:53:06Z</dcterms:modified>
  <cp:revision>73</cp:revision>
  <dc:subject/>
  <dc:title>Historical Information</dc:title>
</cp:coreProperties>
</file>