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F86-DC41-42CE-A02A-1D021A66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7EB-B561-4B77-BF2D-375E4203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0E3-CFA2-4D72-A1CF-C02214FA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376-FA57-42B1-A77F-A397F162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9A7-E875-4C8A-A567-BD2FCC2F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EBE-5248-4B2F-90AB-D17499A5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A92-871C-440F-B844-74042DB8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CE8-7E92-4321-ACC9-60EFF78F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26E-1D21-423D-B265-3CF0CB9C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42C4-158D-4058-90A6-251EB322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4CD-2E31-4AB7-9259-F05EDAE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A76-5333-4DB9-B707-E996D771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3124-125C-49F5-9844-E7F426580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4:13Z</dcterms:created>
  <dc:creator>Jeremiah McNichols</dc:creator>
  <dc:description/>
  <dc:language>en-US</dc:language>
  <cp:lastModifiedBy>Jeremiah McNichols</cp:lastModifiedBy>
  <dcterms:modified xsi:type="dcterms:W3CDTF">2007-12-17T15:34:58Z</dcterms:modified>
  <cp:revision>1</cp:revision>
  <dc:subject/>
  <dc:title>Slide 1</dc:title>
</cp:coreProperties>
</file>