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5A6A-5608-401A-BFAC-1D0F0E9EE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9F0F-9C7B-4EA1-A66D-E6B0FA6A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D34C-EB0C-48EA-BE17-5A834FAF6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7C04-9C65-448F-B09D-6AA01789B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6294-0898-4A7B-A096-FCEA3614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0992-54C5-410E-9B5C-5FB0172A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04DD-E84A-4B26-A4BA-8AC3EF3E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0E76-7790-4CE4-8B27-61BBC5C6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6C81-19E8-4295-8EC4-640C6739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A6EF-E2AD-458F-91F4-85C6DCB6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25D1-3B05-43A9-839A-CD7500FB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5555-3A1D-4F8D-92D3-B131C424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32F4-0C26-444B-96CB-7917C7AB4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76320"/>
            <a:ext cx="6629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48:08Z</dcterms:created>
  <dc:creator>Jeremiah McNichols</dc:creator>
  <dc:description/>
  <dc:language>en-US</dc:language>
  <cp:lastModifiedBy>Jeremiah McNichols</cp:lastModifiedBy>
  <dcterms:modified xsi:type="dcterms:W3CDTF">2007-12-17T15:48:20Z</dcterms:modified>
  <cp:revision>1</cp:revision>
  <dc:subject/>
  <dc:title>Slide 1</dc:title>
</cp:coreProperties>
</file>