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80C3-05CE-4B81-A355-4CEDAAA5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407-B9B6-458B-85DB-60677A09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A7A-3448-4EA0-874C-E37A4A55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518-A3DC-4DDF-BD65-FEFDF404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B74-6AA4-4ADC-BB75-25E68446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E46-D5EC-4D38-AFEC-A681492B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4DD-D954-4690-A81B-43B9CDC4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A86-4888-4074-A908-603B13F1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399-209C-4997-B312-CF666C42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4A0-1403-47C2-853B-9780799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FCA-220C-4F07-8B13-F44C0155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29A-3BAF-4A3F-902F-5CCE2B6A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C93-459C-4B02-AF9B-92F713AD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E4A-B6B3-4AB3-BE3A-1A5B6B20A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ljlab</cp:lastModifiedBy>
  <dcterms:modified xsi:type="dcterms:W3CDTF">2003-09-11T17:23:06Z</dcterms:modified>
  <cp:revision>19</cp:revision>
  <dc:subject/>
  <dc:title>What’s the difference between weather and climate?</dc:title>
</cp:coreProperties>
</file>