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FA71-195A-483E-B5E0-E672C6204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93F8-833A-4A90-8642-96E96C45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008-5CEC-4DA5-8240-42156D2B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15E-8A92-40BB-BCA3-54EA9283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838C-0429-41D1-9C88-FE2842B8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DBDB-209F-4517-89B5-BB2D9390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0E92-0A27-4455-A4A5-86CA3B8D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43C5-696B-4E2F-9BBC-B69DC7FB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6EA1-9297-447E-826A-461211BF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764A-B48A-4C8B-82D7-44A4342A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6254-396C-4AE0-9866-F1FB60A4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2B22-CE21-4CFB-BFA7-19BDE716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5DC6-3495-41F2-8281-AAB51ECD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7FB1-6AF7-4CE4-895B-EF5D3957E03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9-11T17:13:12Z</dcterms:modified>
  <cp:revision>29</cp:revision>
  <dc:subject/>
  <dc:title>Descriptive Writing</dc:title>
</cp:coreProperties>
</file>