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85B-3D1A-4141-A734-AEA15F41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73C-E74A-4061-BADA-9FEEA31A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F8E-E597-498A-9259-68731C28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B64-01D6-453F-9DB5-E22ECAF8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CF7-1ECF-4AF0-BC04-599EE8A8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62E-E57A-4249-877E-7BE13DF2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06E-F0A9-447B-B737-332F5975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483-5C37-429B-946B-6DF94D14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74D-D505-4231-8D9E-28E3AF3A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976-A73F-47C7-8468-3C643D2A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305-6EAB-4DDF-903C-FE5B0051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B4E-917A-494A-A5C8-872B80AC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0632-9FCC-4D3D-A204-F114C06AC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4:17Z</dcterms:created>
  <dc:creator>Jeremiah McNichols</dc:creator>
  <dc:description/>
  <dc:language>en-US</dc:language>
  <cp:lastModifiedBy>Jeremiah McNichols</cp:lastModifiedBy>
  <dcterms:modified xsi:type="dcterms:W3CDTF">2007-12-17T15:54:41Z</dcterms:modified>
  <cp:revision>1</cp:revision>
  <dc:subject/>
  <dc:title>Slide 1</dc:title>
</cp:coreProperties>
</file>