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C46C-D453-4ED2-8694-6A9CC6A87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27BB-C5DC-4FCF-8E84-5FC34A3A3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 Use adjectives, including comparative and superlative forms,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 Use adjectives, including comparative and superlative forms,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’re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r”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 and the family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“T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e family and I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orser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to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ors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eighbore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eighbor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 the “?” after the word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a “.”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55F6-7B39-489A-B263-60AFF6177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20B5-905E-406E-BAAC-B5AB8C2D5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B) Correct sentence punctu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AFFD-158E-4302-9CE8-B0D613C95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B) Correct sentence punctu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D941-1C73-4BF2-9730-B78B2884F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D566-2DC0-4FBB-9C28-19A259ADF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 Employ standard English usage in pronoun refe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 Employ standard English usage in pronoun refe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35E-D53C-4CF3-B28C-A2E9CE43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440-52F4-4DA1-A32E-7C206149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1C2-CE35-4078-A3EC-D065A1A4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3B7-88C5-4458-A04D-FD7ECFE9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2E0-1CB1-4454-8C72-C040ECA1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628-D8D7-48B1-9DDA-C8CACC67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8F8-D78C-43BB-AF22-7DF30E6D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CF5-71B6-43A0-B025-306C5647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F78F-892F-4539-8C23-79F566F9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53E-DF3E-41F3-9CB3-0E63C469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FB2-920B-4CE5-9A29-E78B4906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A134-F53B-4FA3-89C3-E6909F6B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EA23-F472-459D-B787-6DBA232DDA26}" type="slidenum">
              <a:rPr b="0" lang="en-US" sz="1400" spc="-1" strike="noStrike">
                <a:solidFill>
                  <a:srgbClr val="ebebe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CeUnlockLang%20Letter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Unlocking Language Quiz</a:t>
            </a:r>
            <a:endParaRPr b="0" lang="en-US" sz="72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1920" y="405432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Answer each question by clicking A, B, C, or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rew is younger than Nettie, but Temple is the most youngest of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an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fter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 Templ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et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174680" y="52052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166760" y="342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1177920" y="401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176480" y="4605480"/>
            <a:ext cx="374400" cy="465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2856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  Roman is tall, but Travis is more t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ore t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fte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rav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fte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ravi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65320" y="4824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157400" y="3032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1168560" y="364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1166760" y="423396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3048120"/>
            <a:ext cx="7848720" cy="3124080"/>
          </a:xfrm>
          <a:prstGeom prst="rect">
            <a:avLst/>
          </a:prstGeom>
          <a:solidFill>
            <a:srgbClr val="ebeb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6960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Andrew decides to write a letter to his sister Maggie to tell her about the sickness in his town.  Help him correct his mistakes before he mails the letter.</a:t>
            </a:r>
            <a:endParaRPr b="0" lang="en-US" sz="20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riting a Letter</a:t>
            </a:r>
            <a:endParaRPr b="0" lang="en-US" sz="3600" spc="-1" strike="noStrike">
              <a:solidFill>
                <a:srgbClr val="ebebeb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6248520"/>
            <a:ext cx="6400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f7fb45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 to print a hard copy of the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30400" y="3403440"/>
            <a:ext cx="7010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r Magg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and you’re family?  Me and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are fine, but the sickness here gets worser eve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.  Yesterday, our neighbore, Mr. Cole, took ill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says that we will come visit you soon?  I hop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you stay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052880" y="4344840"/>
            <a:ext cx="961920" cy="505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173400" y="279252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204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not sick,  ____ many of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ighbors are 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19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ll in the blank with the word that best completes the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>
            <a:lum contrast="-24000"/>
          </a:blip>
          <a:stretch/>
        </p:blipFill>
        <p:spPr>
          <a:xfrm>
            <a:off x="4800600" y="3524400"/>
            <a:ext cx="3929040" cy="295272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74680" y="5253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66760" y="3432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177920" y="4043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1176480" y="464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fore Travis and Roman left, Nettie gave Travis ___  rib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219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ll in the blank with the word that best completes the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178160" y="3846600"/>
            <a:ext cx="4432320" cy="25542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181160" y="52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173240" y="343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117468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1182600" y="46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  Nettie said Temple was a baby.  He was 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said Temple was a baby, and he was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said Temple was a baby, but he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66760" y="35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77920" y="4495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76480" y="539604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are so lucky.  To have 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are so lucky to have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.  Are so lucky to hav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71440" y="353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82600" y="450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81160" y="539100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2571840"/>
            <a:ext cx="185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4354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 New Roman"/>
              <a:buAutoNum type="arabicPeriod" startAt="5"/>
              <a:tabLst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 Nettie is afraid her mother will get sick too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afraid.  Her mother will get sick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afraid her mother will get sick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171440" y="353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182600" y="450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181160" y="539604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438280"/>
            <a:ext cx="822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1749"/>
              </a:spcBef>
              <a:spcAft>
                <a:spcPts val="876"/>
              </a:spcAft>
              <a:buClr>
                <a:srgbClr val="ebebeb"/>
              </a:buClr>
              <a:buFont typeface="Times New Roman"/>
              <a:buAutoNum type="arabicPeriod" startAt="6"/>
              <a:tabLst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ould Roman stay at home.  Or should he go with Travis to solve the mystery of the gravey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, or should he go with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.  To solve the mystery of the grave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 or should he go.  With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 to solve the mystery of the gravey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, or should he go with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 to solve the mystery of the grave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 change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179360" y="590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71440" y="3495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18260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181160" y="519732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Nettie met Travis and Roman, she thought he wore strange clot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h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e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79360" y="523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71440" y="3432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26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181160" y="463860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wdy runs into the woods, Travis follows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run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follow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d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 Tr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65320" y="4824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57400" y="30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68560" y="364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1166760" y="423396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18:48:37Z</dcterms:created>
  <dc:creator>peerstudent</dc:creator>
  <dc:description/>
  <dc:language>en-US</dc:language>
  <cp:lastModifiedBy>Vince Hardy</cp:lastModifiedBy>
  <dcterms:modified xsi:type="dcterms:W3CDTF">2007-05-07T17:22:10Z</dcterms:modified>
  <cp:revision>71</cp:revision>
  <dc:subject/>
  <dc:title>Unlocking Language</dc:title>
</cp:coreProperties>
</file>