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F804-AB9B-416A-9930-34725F090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AED3-54FD-450E-9CF6-328389FE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2F77-C28A-4B0E-8E82-089B5C33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B1B9-6AF4-4CDC-855A-D5A38188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D142-1ADE-451D-B601-544E982F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1651-32EB-4DC3-A6F7-3E1BCA09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251A-FB03-493F-B82D-FDA72DEA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6C12-E765-463A-A104-31C6D71A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552C-E17F-4952-B269-274D781F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968C-0B28-4F6F-94B1-A6C1D87B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89DD-C36D-4E3B-B982-CCE64451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1237-B2A7-45F9-8562-71449F07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27BF-B507-449B-80E1-30265485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0C69-D45E-418A-9B9F-1BB3A09CA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9-11T17:14:12Z</dcterms:modified>
  <cp:revision>29</cp:revision>
  <dc:subject/>
  <dc:title>Sensory Details </dc:title>
</cp:coreProperties>
</file>