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8BD-5DC6-4316-92D5-D50F5B71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186-5F74-4D1E-A433-29757778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77E-F6AD-4D81-ADBD-25799866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E2E-952F-495A-8DA0-3405FBCA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644-8921-45CB-9920-494ECA55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01A-2204-4C31-BF77-463BD814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E86-6BF0-46BF-8B10-0F99C2ED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50C-44D4-4C21-95C8-FC76C07E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6AA-595E-4223-8444-F0043337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B63-27ED-44D8-9B1B-535F270F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A65-1722-4CB6-9AC6-E7E9DDA1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25D-1771-4565-8FAA-C364F277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ADF4-2117-40D6-B0B7-6239D1005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5:39Z</dcterms:created>
  <dc:creator>Jeremiah McNichols</dc:creator>
  <dc:description/>
  <dc:language>en-US</dc:language>
  <cp:lastModifiedBy>Jeremiah McNichols</cp:lastModifiedBy>
  <dcterms:modified xsi:type="dcterms:W3CDTF">2007-12-17T15:55:56Z</dcterms:modified>
  <cp:revision>1</cp:revision>
  <dc:subject/>
  <dc:title>Slide 1</dc:title>
</cp:coreProperties>
</file>