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14F1-A825-4FBB-A9F5-7D3319934073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F88-6F89-440D-BDC6-D4C6693A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493-A000-4CB1-A8D2-C9C3184A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85A-36AE-4957-85C4-A493F321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81E-2966-4636-B473-E17E5463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47B-C7E5-44B2-BE2B-AE660323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B71-93FD-4952-A266-3AEE7C6F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65F-9280-455D-AF45-CA4A90BD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2DB-0FDA-4B75-A3A4-C908D627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1E7-593E-42AC-99B0-8357E940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1AF-F260-4AFF-A013-E4A3714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1BF-49C8-46E9-B594-72B503DD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FE8-F90D-4B0F-9F84-879E1A7F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6663-204E-496F-A7C7-91324A59C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3-09-11T17:15:32Z</dcterms:modified>
  <cp:revision>15</cp:revision>
  <dc:subject/>
  <dc:title>Informative Essay</dc:title>
</cp:coreProperties>
</file>