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0FCB2-88F2-4347-90F1-08931497E2D1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0FB4-8C29-4C7F-A165-7C110DC68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14B6-3263-43DB-BF32-06D21913D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488D-DA9A-47C2-9CE0-541A5E85F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6386-E4B9-4CC7-887B-4CC4CC050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29C4-D406-4E9E-B1E5-A117401A9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4739-E462-40E5-B8E7-A9073E10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83B0-39B4-4A46-9818-B40C2AA7F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7A7E-043B-478A-8191-60A869D05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27D9-A0D6-413E-8F73-03B8A2AB0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691A-12C2-48E2-8961-5D26147C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B408-753A-4995-B2DE-3ADC9AFD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5AA1-5499-48E3-8A19-234A335E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855ED-2734-4664-B3FA-8E21C4D6135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3000 University D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llege Station, TX 78572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ar Sir,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1120" y="1904760"/>
            <a:ext cx="4419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incerely,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Monotype Corsiva"/>
              </a:rPr>
              <a:t>John Smith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685800" y="82080"/>
            <a:ext cx="77724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23 Sunset Lane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Bryan, TX 78572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July 20, 2002</a:t>
            </a:r>
            <a:br>
              <a:rPr sz="2000"/>
            </a:b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Texas A&amp;M Veterinary Medicine</cp:lastModifiedBy>
  <dcterms:modified xsi:type="dcterms:W3CDTF">2004-10-27T18:50:40Z</dcterms:modified>
  <cp:revision>16</cp:revision>
  <dc:subject/>
  <dc:title>Writing a Business Letter</dc:title>
</cp:coreProperties>
</file>