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F41-F206-4B9B-B876-B66CC13F182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948-8C1B-4777-9AD0-0120ED22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72E-D31D-4F7E-AD5C-46779FC3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BD4-6D09-4E86-8066-890A0490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F7D-1B4F-448D-9C23-80E6661D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6E9-F15B-41A0-9551-51594710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B6E-16C5-484C-9155-847AE699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B7E-EAAF-486F-A5D8-CD03D7E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A07-C83B-4995-8590-363B95D3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ECB-FEEC-4656-B12F-B8F9AC9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10D-F01E-4574-A88D-7DF1FFE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AED-31BE-419A-BCBF-11B22B8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936-BED8-4019-9618-5CDA2EF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EF4-4A70-444F-B102-16762C535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3-09-11T17:15:32Z</dcterms:modified>
  <cp:revision>15</cp:revision>
  <dc:subject/>
  <dc:title>Informative Essay</dc:title>
</cp:coreProperties>
</file>