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7789-285A-4DEE-A888-181D2B72A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DFD1-F8BB-49F6-BED7-F8B0B23D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FCF-B1DC-45D4-8284-C1FCE53D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020-F9DF-49B0-9905-329DFA91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FA1-1121-4542-AE05-65AD3DCE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0C2-B360-4621-BA85-C650147E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0EB-87C0-4EAA-B139-0133CA4F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2F30-F85B-41A5-9955-79CC4657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DD39-B38C-4D14-BAEA-F6BB3184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7809-7FE5-4443-9A18-14F51C5F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498-F483-4304-AFD3-32D2AA46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C96-4C3D-46FA-ACFB-DC916904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E61-7C37-45EF-8FC6-3B338077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7328-AEAD-4745-8622-17CBB142A83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9-11T17:13:12Z</dcterms:modified>
  <cp:revision>29</cp:revision>
  <dc:subject/>
  <dc:title>Descriptive Writing</dc:title>
</cp:coreProperties>
</file>