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1A772-31FD-4C08-BBA3-B97BB0873F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ldImg"/>
          </p:nvPr>
        </p:nvSpPr>
        <p:spPr>
          <a:xfrm>
            <a:off x="1143000" y="685800"/>
            <a:ext cx="4572000" cy="3429000"/>
          </a:xfrm>
          <a:prstGeom prst="rect">
            <a:avLst/>
          </a:prstGeom>
          <a:ln w="0">
            <a:noFill/>
          </a:ln>
        </p:spPr>
      </p:sp>
      <p:sp>
        <p:nvSpPr>
          <p:cNvPr id="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eld trip to the local water treatment plant would be very helpful. If there is no facility nearby, perhaps students could visit with a local water-well driller and discuss what steps are needed to insure safe water. The issue of salt in the water can also be pursued in the context of high blood pressure, although that has nothing to do with the story line. You might have  some students explore on the Web why chlorine kills bacteria and parasites. Make sure they know why swimming pools are chlori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point out that chlorine is poisonous to humans if it is not diluted. So you might wish to explore why a little chlorine kills microbes but it takes more to kill humans. One answer is that humans have organs that help remove toxins (kidney and liver). Another part of the answer is that humans, being about 94% water and having a lot of it (ask students to calculate how many liters of water must be in the body), dilute substances that are inges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D), </a:t>
            </a:r>
            <a:r>
              <a:rPr b="0" lang="en-US" sz="1200" spc="-1" strike="noStrike">
                <a:solidFill>
                  <a:srgbClr val="000000"/>
                </a:solidFill>
                <a:latin typeface="Times New Roman"/>
                <a:ea typeface="Times New Roman"/>
              </a:rPr>
              <a:t>Evaluating the impact of research</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 (D), 8.3 (D), 8.11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ldImg"/>
          </p:nvPr>
        </p:nvSpPr>
        <p:spPr>
          <a:xfrm>
            <a:off x="1143000" y="685800"/>
            <a:ext cx="4572000" cy="3429000"/>
          </a:xfrm>
          <a:prstGeom prst="rect">
            <a:avLst/>
          </a:prstGeom>
          <a:ln w="0">
            <a:noFill/>
          </a:ln>
        </p:spPr>
      </p:sp>
      <p:sp>
        <p:nvSpPr>
          <p:cNvPr id="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 quests might be useful here, having students look for sites on food poisoning outbreaks in modern times. Ask them to summarize what the causes were in terms of the organisms and the conditions that enabled them to grow in the food or water. Also, have them report on any such incidents that they have personally experienced. Conduct a discussion on why food handlers, restaurant workers, etc. must wash their hands after using the bath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7.11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852255-2B69-4028-8B77-AFC10A8EE7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818E44-F86E-426D-8018-70DEB1D50E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C846B4-AB96-48BA-B662-E3CC475AB3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7CBB9A-BC27-4A0A-A76E-275288FE7F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3B8771-C7E4-4CAF-BC48-8BC28560A6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2B8D4C-C684-439C-AA3A-8038A597F0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5F3FB9-41A4-4174-9005-6B3518C3FE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02A32B-0654-4AAC-8F99-101AA8A164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7ADDD8-961E-4CF7-9277-A5C36780E7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9D70E2-83F5-423B-91C3-6B37787639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CF6DD9-769D-4A80-AC23-3776AB4A9F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331584-54C4-4C74-B910-85D45CA684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CCBE0-E142-4D6F-92AF-28F38A34FEB1}"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4.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114440" y="2862000"/>
            <a:ext cx="4800600" cy="3504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If you use well water, these treatments usually are not done</a:t>
            </a:r>
            <a:endParaRPr b="0" lang="en-US" sz="2400" spc="-1" strike="noStrike">
              <a:solidFill>
                <a:srgbClr val="ebebeb"/>
              </a:solidFill>
              <a:latin typeface="Times New Roman"/>
            </a:endParaRPr>
          </a:p>
        </p:txBody>
      </p:sp>
      <p:sp>
        <p:nvSpPr>
          <p:cNvPr id="49" name="PlaceHolder 2"/>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What Do We Do To Purify Water Today?</a:t>
            </a:r>
            <a:endParaRPr b="0" lang="en-US" sz="3600" spc="-1" strike="noStrike">
              <a:solidFill>
                <a:srgbClr val="ebebeb"/>
              </a:solidFill>
              <a:latin typeface="Times New Roman"/>
            </a:endParaRPr>
          </a:p>
        </p:txBody>
      </p:sp>
      <p:sp>
        <p:nvSpPr>
          <p:cNvPr id="50" name="PlaceHolder 3"/>
          <p:cNvSpPr>
            <a:spLocks noGrp="1"/>
          </p:cNvSpPr>
          <p:nvPr>
            <p:ph/>
          </p:nvPr>
        </p:nvSpPr>
        <p:spPr>
          <a:xfrm>
            <a:off x="685440" y="1371600"/>
            <a:ext cx="3886200" cy="4495680"/>
          </a:xfrm>
          <a:prstGeom prst="rect">
            <a:avLst/>
          </a:prstGeom>
          <a:noFill/>
          <a:ln w="0">
            <a:noFill/>
          </a:ln>
        </p:spPr>
        <p:txBody>
          <a:bodyPr lIns="90000" rIns="90000" tIns="46800" bIns="46800" anchor="t">
            <a:normAutofit/>
          </a:bodyPr>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Most City Water Supply Companies Do the Following to Water:</a:t>
            </a:r>
            <a:endParaRPr b="0" lang="en-US" sz="2800" spc="-1" strike="noStrike">
              <a:solidFill>
                <a:srgbClr val="ebebeb"/>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ilter it</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reat it with a chemical (chlorine) that kills microorganisms</a:t>
            </a:r>
            <a:endParaRPr b="0" lang="en-US" sz="2800" spc="-1" strike="noStrike">
              <a:solidFill>
                <a:srgbClr val="ebebeb"/>
              </a:solidFill>
              <a:latin typeface="Times New Roman"/>
            </a:endParaRPr>
          </a:p>
        </p:txBody>
      </p:sp>
      <p:pic>
        <p:nvPicPr>
          <p:cNvPr id="51" name="" descr=""/>
          <p:cNvPicPr/>
          <p:nvPr/>
        </p:nvPicPr>
        <p:blipFill>
          <a:blip r:embed="rId2"/>
          <a:stretch/>
        </p:blipFill>
        <p:spPr>
          <a:xfrm>
            <a:off x="4630680" y="3048120"/>
            <a:ext cx="4038480" cy="2171520"/>
          </a:xfrm>
          <a:prstGeom prst="rect">
            <a:avLst/>
          </a:prstGeom>
          <a:ln w="88920">
            <a:solidFill>
              <a:srgbClr val="ffffff"/>
            </a:solidFill>
            <a:miter/>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ven today ...</a:t>
            </a:r>
            <a:endParaRPr b="0" lang="en-US" sz="4400" spc="-1" strike="noStrike">
              <a:solidFill>
                <a:srgbClr val="ebebeb"/>
              </a:solidFill>
              <a:latin typeface="Times New Roman"/>
            </a:endParaRPr>
          </a:p>
        </p:txBody>
      </p:sp>
      <p:sp>
        <p:nvSpPr>
          <p:cNvPr id="53" name="PlaceHolder 2"/>
          <p:cNvSpPr>
            <a:spLocks noGrp="1"/>
          </p:cNvSpPr>
          <p:nvPr>
            <p:ph/>
          </p:nvPr>
        </p:nvSpPr>
        <p:spPr>
          <a:xfrm>
            <a:off x="533520" y="1219320"/>
            <a:ext cx="8229600" cy="5333760"/>
          </a:xfrm>
          <a:prstGeom prst="rect">
            <a:avLst/>
          </a:prstGeom>
          <a:noFill/>
          <a:ln w="0">
            <a:noFill/>
          </a:ln>
        </p:spPr>
        <p:txBody>
          <a:bodyPr lIns="90000" rIns="90000" tIns="46800" bIns="46800"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omiting and diarrhea cause dehydration and can cause death, especially in children and the elderly.  </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ost people get over such infections (bacteria) or infestations (parasites) and become temporarily resistant. But they still act as carriers and shed the organisms that can contaminate food and water.</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eople get sick with vomiting and diarrhea from drinking water or eating food that is contaminated with microbes or parasites.</a:t>
            </a: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5T17:33:23Z</dcterms:created>
  <dc:creator>Charles C. Farnsworth, Ph.D. - Instructional Design</dc:creator>
  <dc:description/>
  <dc:language>en-US</dc:language>
  <cp:lastModifiedBy>ljlab</cp:lastModifiedBy>
  <dcterms:modified xsi:type="dcterms:W3CDTF">2003-09-11T17:22:31Z</dcterms:modified>
  <cp:revision>23</cp:revision>
  <dc:subject/>
  <dc:title>What Do We Do To Purify Water Today?</dc:title>
</cp:coreProperties>
</file>