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78729-CEFE-4E70-8F00-130B17D90A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1EE0-3918-424D-BAB7-EC93250DB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03FC-D07B-4089-8B6C-27D2FA5A4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F36D-9CB1-4DCC-BCFC-C47FE4E2C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F9BA-838C-4499-8767-6E2E1B87E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834D-F502-43C0-B43C-4EDF86B0C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D64A-3A3E-467B-9870-1AA3383CA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C232-C1EB-45B8-8389-3FADB0470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131F-0E44-41E5-946F-14FF49A31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1995-3EF9-4160-B13C-2504901A0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1CF1-0FCD-4812-97E5-2B416387B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9880-3487-4960-B537-4660EAE21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350B-F6AA-4E2C-9CB4-9DCBA6DA9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D93E2-1A09-4A73-ACEC-6A802727AC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lume &amp; Weight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66920"/>
            <a:ext cx="777096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Volum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llons per Li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Liter = .264 gall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Weigh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unds per Kilogram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kilogram = 2.20 lb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1219320"/>
            <a:ext cx="1782720" cy="1668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58000" y="3733920"/>
            <a:ext cx="1793880" cy="143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9:54Z</dcterms:created>
  <dc:creator>ITWorkstation</dc:creator>
  <dc:description/>
  <dc:language>en-US</dc:language>
  <cp:lastModifiedBy>Vince Hardy</cp:lastModifiedBy>
  <dcterms:modified xsi:type="dcterms:W3CDTF">2007-05-08T18:40:12Z</dcterms:modified>
  <cp:revision>11</cp:revision>
  <dc:subject/>
  <dc:title>Volume &amp; Weight Conversions</dc:title>
</cp:coreProperties>
</file>