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405C-FFCE-4DB1-8C27-9951D382E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29A0-87F6-4B69-817F-BE6709A5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D84A-D659-483B-AF9E-6E41DE1C4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BE40-B7CC-4AE5-96E8-06B160CEE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EEA7-A54D-4A2A-A6D4-46927AD4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4413-7D83-4B76-9246-397F788B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A23F-11A4-428A-BC15-ACBE3D65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BF2A-4A75-41A2-90BA-281CA8D5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EDAA-8BB3-453C-B6D5-DC049A2E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A763-B5BE-479D-9806-5DE73B75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774D-B1DD-4CBF-8F05-30F191E5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7B1A-F6F9-4CD0-8619-5988E5F4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90D5-48A6-49CF-AD3C-6FE9F5F524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ljlab</cp:lastModifiedBy>
  <dcterms:modified xsi:type="dcterms:W3CDTF">2003-09-11T17:14:38Z</dcterms:modified>
  <cp:revision>9</cp:revision>
  <dc:subject/>
  <dc:title>Adverbs Adverbs modify verbs, adjectives, or other adverbs.</dc:title>
</cp:coreProperties>
</file>