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C865-D686-41B8-9215-2AA752A3F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5C08-297D-4D1C-BA6C-D22AA0346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FAE4-C634-4069-A138-8DDC2DFDF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6E22-2825-4038-9C6E-59DCD2FC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7DA4-F3AC-48F5-AE7B-A786F82E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1456-7D28-4EEA-8118-9858673D8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1331-CA31-4091-B036-21730CAB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1C79-9E85-4765-A662-F9D5F8EF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9D67-4802-4AC3-90F5-275DEBDD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9E35-7BC0-4228-A1B5-D860B202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517D-B64A-467E-A5D9-E1F36505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50B5-0058-431C-894A-10FFD786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7C3D-FB4A-46F6-B4B9-A2CDEAF0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C29E-2895-4701-B276-0A08D602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2538-2ED8-43E9-B4CE-E3978E76032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ljlab</cp:lastModifiedBy>
  <dcterms:modified xsi:type="dcterms:W3CDTF">2003-09-11T17:23:13Z</dcterms:modified>
  <cp:revision>23</cp:revision>
  <dc:subject/>
  <dc:title>What’s the difference between weather and climate?</dc:title>
</cp:coreProperties>
</file>