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4A6A3-A3D1-4932-BDEA-12C360FBFB41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H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F0DD-535F-4727-A754-FF3539591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A0AC-570D-4D54-8AAE-2FEE0C08C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35B7-23D4-4C5A-B222-A85612B33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8283-EDE6-4131-84C3-FDC195209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E7C3-6AA7-473A-9B64-27788C8B2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5438-BD25-49FB-932C-0A3B60D0F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8D95-BCF1-4A0B-92F2-BECE56B03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245B-F294-4088-8DC2-967D28753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BA52-1994-4B88-B8E5-39F432045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39D4-DF30-4F22-8D8F-1353937F6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046D-F524-4635-9898-B7D51BB0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7820-2EEE-4838-81B1-4993D2B34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EF46B-96CF-4937-91A4-65D05411BD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InfoEss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206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Vince Hardy</cp:lastModifiedBy>
  <dcterms:modified xsi:type="dcterms:W3CDTF">2007-01-12T21:45:01Z</dcterms:modified>
  <cp:revision>15</cp:revision>
  <dc:subject/>
  <dc:title>Informative Essa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a00000000000001023620</vt:lpwstr>
  </property>
</Properties>
</file>