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D4BD-16C2-42A1-BDA6-32B6E7B74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DC99-3F3C-459A-ABEB-AA9A311E4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B766-9F77-456C-842D-1A1B89B3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6442-93F6-4FC6-AB14-AA0D3109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E85D-3EAE-4D53-8FE2-329D510F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4CAB-B6AA-45C6-B768-68E89B2D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C537-85EB-4AF0-A895-35E86CE8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61C1-50B5-41E2-BE64-7D895463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F70B-AB60-447C-BE6F-D3D6DC46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C57B-E9E4-4AA7-B811-2858DF43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0DE1-84C4-49C5-965E-232F84C6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6F2A-5079-4504-8016-B369103A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FD87-4E69-481C-B829-EE2CAC4F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CBEE-7F18-4537-A98F-503DD136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8173-1742-4E13-9111-20F8CFF7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E7CD-B2C8-47A0-8507-105CB929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4A67-35D3-4924-AB22-711CA891E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4D5C-BC84-419B-A3A3-0CC7C77F7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41B8-1776-4A28-85AC-4E817B4B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9E24-899C-40FC-92DF-B5293E4C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CEF4-3AF3-4FE1-8DB2-09CF0E24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5EDD-6BC5-4DA9-A718-3186EDB0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E05D-27D3-446C-8E19-8C885FB9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F61A-8B45-4E32-9DDC-B8DF8277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853D-EA73-48E3-8D7F-6C8F0E6B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9CE5-A4D1-4FF4-BDE2-03D4464A189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3F6F-6AC7-403D-B788-EE5D87C552C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94200" y="4905360"/>
            <a:ext cx="3576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15688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9° N.L., 39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1568520" y="4419720"/>
            <a:ext cx="60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6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  The lat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  The long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  The absolute location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6840" y="53863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06840" y="581508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6840" y="625788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908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  The lat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8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  The long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97120" y="58053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  The absolute location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8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68520" y="441972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  What city is located at 5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, 24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568520" y="441972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50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8:55:12Z</dcterms:created>
  <dc:creator>Unknown User</dc:creator>
  <dc:description/>
  <dc:language>en-US</dc:language>
  <cp:lastModifiedBy>Texas A&amp;M Veterinary Medicine</cp:lastModifiedBy>
  <cp:lastPrinted>2002-01-02T19:06:19Z</cp:lastPrinted>
  <dcterms:modified xsi:type="dcterms:W3CDTF">2005-05-17T17:13:59Z</dcterms:modified>
  <cp:revision>6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4000000000001023620</vt:lpwstr>
  </property>
</Properties>
</file>