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70E71-FF23-4975-9B0F-63EC5D9837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Writing to express, discover, record, develop, reflect on ideas and problem so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C)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F) 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H) 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k students to provide some good adjectives that appeal to all five senses. You may want to show a few of these words first to help get them started. What do they hear? What do they smell? Give them the liberty to make up a story as they describe the pi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33B3-ACE9-4386-8E5C-BD514FBEE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8411-3634-485C-8A95-BBBCF13A5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7AF0-15D1-4627-A3B7-75D7B4D24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F1DF-4A34-4B0D-A34D-29870B31C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C824-AC38-4829-A9D1-961063427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06A0-DBA8-45E6-85F0-02AA853F0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F839-1006-4A9C-8704-A356383F4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24B4-0A97-4788-A3CD-D128BF9DB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8CC6-0D99-4307-8CF3-599F9CF46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B029-B279-4188-ACF0-765B274B8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F82D-5694-4EBF-B474-08327AEB0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3C05-34F1-40A9-B0EE-7EFA4D34A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123E6-4250-4DC0-9C4E-1D0488CBCB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liff-in-Clouds1" descr=""/>
          <p:cNvPicPr/>
          <p:nvPr/>
        </p:nvPicPr>
        <p:blipFill>
          <a:blip r:embed="rId2"/>
          <a:stretch/>
        </p:blipFill>
        <p:spPr>
          <a:xfrm>
            <a:off x="206280" y="104760"/>
            <a:ext cx="8793360" cy="6642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nsory Detail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1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nsory details are details that appeal to any of the five sens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od sensory details and words in a descriptive essay actually take a person to a place where they can see, hear, smell, and even feel the descrip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mokey-Light1" descr=""/>
          <p:cNvPicPr/>
          <p:nvPr/>
        </p:nvPicPr>
        <p:blipFill>
          <a:blip r:embed="rId2"/>
          <a:stretch/>
        </p:blipFill>
        <p:spPr>
          <a:xfrm>
            <a:off x="206280" y="100080"/>
            <a:ext cx="8785440" cy="66466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Describe This Pi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1752480"/>
            <a:ext cx="266724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257800" y="1752480"/>
            <a:ext cx="266688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3760" y="1752480"/>
            <a:ext cx="2514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l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e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lori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wak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Ear pier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Warm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urr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837720" y="1752120"/>
            <a:ext cx="2590920" cy="41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Da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en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agr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ri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li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rilli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weet aro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20:08:20Z</dcterms:created>
  <dc:creator>ITMD</dc:creator>
  <dc:description/>
  <dc:language>en-US</dc:language>
  <cp:lastModifiedBy>ljlab</cp:lastModifiedBy>
  <cp:lastPrinted>2002-01-04T15:57:18Z</cp:lastPrinted>
  <dcterms:modified xsi:type="dcterms:W3CDTF">2007-08-02T19:11:24Z</dcterms:modified>
  <cp:revision>30</cp:revision>
  <dc:subject/>
  <dc:title>Sensory Details </dc:title>
</cp:coreProperties>
</file>