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7AD2-E56B-4DD0-BCE5-55F9D1FB7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556F-731D-431F-8396-65A9188D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B3B8-5470-46D9-9999-BF067577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B7F3-3C43-46D9-9447-F9C9036D3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2633-5239-4EE1-96AD-653DA7304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E222-0EB8-43B4-9944-8BCDEC63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9AA4-2477-4302-B939-2D5D751C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D927-BBDF-47AC-8005-7F9BA954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60F3-C5BD-4E16-99F5-330DEC62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1502-20A0-4BD2-AFA8-9B189695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F112-3192-4182-8C57-9F97076E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B061-35A2-4FA3-8A6D-01C08807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833D-891A-499A-8254-DE10E8B2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9968-D582-4F1F-933F-248E609EA94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45721" r="0" b="0"/>
          <a:stretch/>
        </p:blipFill>
        <p:spPr>
          <a:xfrm>
            <a:off x="2362320" y="4343400"/>
            <a:ext cx="41148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1141" t="0" r="0" b="0"/>
          <a:stretch/>
        </p:blipFill>
        <p:spPr>
          <a:xfrm>
            <a:off x="5029200" y="1981080"/>
            <a:ext cx="36115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7-08-02T19:09:28Z</dcterms:modified>
  <cp:revision>30</cp:revision>
  <dc:subject/>
  <dc:title>Descriptive Writing</dc:title>
</cp:coreProperties>
</file>