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2D3D0-189A-4C84-BD60-3A4C52F2192C}" type="slidenum"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H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9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how well own writing achieves purpo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7A14-A703-48F0-846B-E35DCCA8E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3829-C9EA-4839-BD55-84D1354A2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2A3D-83AC-4EB9-AE85-BC6651A7E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6004-FC76-41A0-AF4C-1E6AE8BF8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079A-E1A4-47D9-AF50-3222745CB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1F61-4643-4A7E-A956-8F4B46F5F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157C-DE7E-40AA-AB97-67A73A5A0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395B-FA65-4A3E-858B-7D0C90BC5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F7E9-A0D5-40F2-8484-37D831F47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90A5-1124-417B-AC87-DEF0FB776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9806-85E4-4BAF-A44C-C16B172B6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45EE-1100-4172-A206-D6857F28A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D1062-8B69-42E9-81BC-E00656ABBF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informative essay seeks to inform the reader about something or to tell the reader how to do someth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InfoEssPeople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220644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fore You Beg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you want your reader to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your topic interest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your audie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your topic be thoroughly research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will you organize your pap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ganization of th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roduction should state the topic and the three main subpoints on which you will foc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dy will consist of at least three paragraphs that elaborate on the subpoi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clusion restates the main topic and subpoints and provides the audience with a sense of clos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5:46:56Z</dcterms:created>
  <dc:creator>Gina Balducci</dc:creator>
  <dc:description/>
  <dc:language>en-US</dc:language>
  <cp:lastModifiedBy>Vince Hardy</cp:lastModifiedBy>
  <dcterms:modified xsi:type="dcterms:W3CDTF">2007-01-12T21:45:01Z</dcterms:modified>
  <cp:revision>15</cp:revision>
  <dc:subject/>
  <dc:title>Informative Essa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a00000000000001023620</vt:lpwstr>
  </property>
</Properties>
</file>