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C49F-0437-4D27-8F33-3938C280A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2036-EBA1-4565-8E51-C1437BFDD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437B-379F-45A9-A6A3-9DAD7661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5595-21AB-48BC-8EC3-FF36F9224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3590-7FE1-4FDD-8D2C-55C9F5D44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1068-7FBE-42E7-8717-E2BFD60D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9A69-B0A1-4225-8909-7C01C639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B7D4-ED65-4D42-A1A0-BEE37885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D6D9-69D6-4511-B9ED-F6D738C8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E2BF-20BE-4BDD-91E5-3231DFDB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BE6A-F5D3-4C96-8461-72DC0971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A68D-4BE6-4E9A-96FB-4C6FB82C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C4DB-F4C5-4AA7-A240-67AC7736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543A-5646-4406-B941-DE86CC08829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2920" y="3885840"/>
            <a:ext cx="830736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Do not worry, K.T., you will not have to swim,’ Nikolai said as he removed his shoes and socks tying the laces together and hanging them over his shoulders.  ‘Just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wade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go beyond in amou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rapid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walk in or through wat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35120" y="48830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639800" y="4008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639800" y="44467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turned to the old fisherman.  ‘Thank you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May I take the frog with me so my friends can see it?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old man nodded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wilderm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handing the bucket to K.T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greeme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confus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fright or terro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2521080" cy="2436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35120" y="498780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639800" y="40654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57668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6720" y="192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Nyet, no.  We’re in Pripyat, a town three kilometers from Chernobyl.  My home is over there,’ he said pointing to a plain white house across the street.  ‘I found some food left inside, but they say not to eat it.  It’s bee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rradiate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ed to radi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heating device for the circulation of stea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mmunication of signal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639800" y="378936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639800" y="45514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The truck rocked gently through the early morning fog while its big diesel engine droned along with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yria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trucks and machinery converging on Chernobyl for another day of ceaseless clean up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feminine given na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very large numb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thing of great siz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141960" y="3429000"/>
            <a:ext cx="2017800" cy="2514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639800" y="3998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639800" y="46180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4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blinked in the bright morning sunlight as the door of the transport opened and Nikolai helped her down the cobblestone street. 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Throng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of people walked the wide boulevard beneath tall trees in full bloom with white fragrant blossoms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mall suit worn for sunbath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great number of things crowded togeth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number of different types of thing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639800" y="4160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639800" y="47037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1600" y="2000160"/>
            <a:ext cx="8001000" cy="37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is called Pecherska Layra, the Monastery of the Caves.  He would bring me down here and tell me about all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artyr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nd holy men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dies or suffers for his or her belief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eas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performs in a circu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35120" y="49593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639800" y="3684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639800" y="433224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6672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As the ferry backed away from the dock, K.T. could see the dark slate-colored water that edged the banks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tagna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pools, oily and slick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ul and offensive smell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arse and abrasiv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ot flowing or runn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13560" y="3352680"/>
            <a:ext cx="1616040" cy="1911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01720" y="49878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706400" y="36082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706400" y="43131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ake off scarf.  We can leave it as a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co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’ answered Nikolai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You are serious!  OK, OK.  I’ll jump.’  K.T. tied the scarf to the rail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long strip of material worn by a woma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object used to attract or lur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resent or rewar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35120" y="49784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639800" y="405612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66720" y="19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river, Dnieper, is third longest in all of Europe.  It divides Ukraine into east and west.  And it has become our central sewer.’ ”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s if to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underscor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Nikolai’s words, the barge passed near some pipes that fed from a huge plant directly into the water on the outskirts of the city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emphasize or st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ake a point or points in a game or conte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beneath another objec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35120" y="56642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639800" y="47322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639800" y="51991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and Nikolai shared the water bottle he had bought on the ferry.  It would have to last through the long,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ultr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journey.  Already their dark clothes were hot to the touch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t and moi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ausing fright or har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icul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35120" y="484488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639800" y="39798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639800" y="44179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9:35:23Z</dcterms:created>
  <dc:creator>Media Resources</dc:creator>
  <dc:description/>
  <dc:language>en-US</dc:language>
  <cp:lastModifiedBy>Jeremiah McNichols</cp:lastModifiedBy>
  <cp:lastPrinted>2002-05-23T02:09:08Z</cp:lastPrinted>
  <dcterms:modified xsi:type="dcterms:W3CDTF">2008-10-08T13:32:07Z</dcterms:modified>
  <cp:revision>35</cp:revision>
  <dc:subject/>
  <dc:title>Vocabulary Challe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e02000000000001023620</vt:lpwstr>
  </property>
</Properties>
</file>