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4ADEF-4BF4-4C86-BB2F-AC089C8F76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DC1C-1A1E-4831-90BC-EFA5F0486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4FD6-07B4-48B2-8C46-8F8A06C0E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6765-ABB4-49B4-B0D9-5A6C54EEA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6C32-8E75-476C-A4CC-CF1E12188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4E7D-4328-4938-AE1B-3724588DA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C2AF-9BFC-407C-87EB-6B497FC9A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FF85-DBF0-4064-925B-60D3D90BC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91E1-7CB4-4E1F-BBC6-DC594C1F4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254C-F0BA-4E00-BFA4-BDFDD3E29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3FE9-7F2C-4C7F-902F-2BBBBEA4D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1F27-92E2-4960-9C21-B3CBA122D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B3E5-3E15-4ABA-B8FF-E718AC2E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9F386-7EB5-4EF0-BA00-A12BB717483D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over the past 40 years, in February, New Jersey has had an average temperature of 32 º F and an average precipitation of 2.8 inches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49:56Z</dcterms:created>
  <dc:creator>ITMD</dc:creator>
  <dc:description/>
  <dc:language>en-US</dc:language>
  <cp:lastModifiedBy>ljlab</cp:lastModifiedBy>
  <dcterms:modified xsi:type="dcterms:W3CDTF">2003-09-11T17:22:49Z</dcterms:modified>
  <cp:revision>9</cp:revision>
  <dc:subject/>
  <dc:title>What’s the difference between weather and climate?</dc:title>
</cp:coreProperties>
</file>