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5920" y="685440"/>
            <a:ext cx="42861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0CD2-541D-4180-B703-58BECDD51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996C-AC90-4FE0-ABA2-DF79820F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A4BA-341B-41BB-B885-B0F9D565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8BA6-CFF2-4D1F-BD9A-140F7D69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E8ED-5DE2-4D51-90C0-33AD4A1C5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6467-6253-4F3E-A8B8-CF637454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D3BD-9220-413F-9BBE-C5FFD71E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93D3-150E-41B7-B37B-531BDF13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567D-BD2A-4B26-9D3C-868F8176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5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5160-637C-4B3E-9D3D-268B806F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B38C-1EFC-4A2D-B874-54CF95F1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3847-539D-4899-9741-C48A7B24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BC55-2A88-466E-AF9F-84047324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4320"/>
            <a:ext cx="2895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027C-5095-4CE0-8BF3-4AA70D1EF10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262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ikolai was angr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ctories in the area had driven away 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rm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kes in the area were being drain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 grandfather was arrested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ollution on the river had gotten wor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 could not get a job in one of the factori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ning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212840" y="524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21608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212840" y="347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212840" y="404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216080" y="45990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30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end of the story, K.T. tries to convince Nikolai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immigrate to Europe to escape the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 to give up his fight for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the farms along the river are beautiful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uld not be a source of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industrial pollution is a fact of life an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worry about 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forgive his grandfather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217520" y="600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220760" y="29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217520" y="3546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217520" y="4189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1220760" y="51134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220920" y="3103560"/>
            <a:ext cx="2791080" cy="1257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286160" y="53658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968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62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phrases best de- scribes the two main characters in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girl named Natasha and her brot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studying in Russia and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ach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a Russian boy wh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omes her 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her step-sist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boy and his father, a fire fighter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39840" y="293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38400" y="6194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366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3660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39840" y="5632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96520" y="17600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 the story, the effects of a recent disaster threaten the characters.  The disaster is a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5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rnad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o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est fi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uclear accid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rrorist atta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07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17520" y="37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7520" y="4384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0760" y="4970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6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finds that she has traveled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 in time to the Ukrai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ward in time to Mosc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nother plane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 remote Pacific isla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here due to a malfunctioning travel 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1752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0760" y="2536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17520" y="3089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7520" y="3646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220760" y="4232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094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traveled from her home to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vestigate the kidnapping of a fri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 her pen pal by attending her birth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end an international youth socc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nam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 Nikolai find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the beautiful city of Kiev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220760" y="25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217520" y="3279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217520" y="417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220760" y="4979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10920" y="17888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8384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the soldiers force the characters to leave the “exclusion zone”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rotect them from weapons testing in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is area was used only for milit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and no civilians were allow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didn’t force them to leave.  They ju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ve them a r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ey were paid for every person the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oved from the 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imit their exposure to rad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89160" y="0"/>
            <a:ext cx="605484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217520" y="626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220760" y="295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217520" y="382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217520" y="466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220760" y="55134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uthorities believed K.T.was a sp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ore a black trench c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father worked at the US Embass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backpack contained a suspicious comput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told them she was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rote letters to a Russian girl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nepropetrovs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212840" y="578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211400" y="3046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212840" y="361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212840" y="428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211400" y="51037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uring the story, the characters traveled from place to place by all of the following EXCEPT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s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foo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erry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ar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rmored tru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212840" y="5637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211400" y="34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208160" y="396540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212840" y="45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211400" y="5079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942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 K.T. and Nikolai traveled on the river, what evidence of pollution did they encounte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dead fish with a tum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l smelling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ipes dumping factory wastes into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sh floating in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208160" y="564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211400" y="340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208160" y="3960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208160" y="4527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211400" y="5075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1:31Z</dcterms:created>
  <dc:creator>John</dc:creator>
  <dc:description/>
  <dc:language>en-US</dc:language>
  <cp:lastModifiedBy>Vince Hardy</cp:lastModifiedBy>
  <dcterms:modified xsi:type="dcterms:W3CDTF">2007-05-02T12:08:26Z</dcterms:modified>
  <cp:revision>80</cp:revision>
  <dc:subject/>
  <dc:title>Investigator’s Challeng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2000000000001023620</vt:lpwstr>
  </property>
</Properties>
</file>