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B7EE3-2FD9-417C-857E-BFFD824197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7 A) Write complete sentences, varying the types, and use appropriately punctuated independent and dependent claus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student should take this paragraph of simple sentences and vary the sentence type by combining some into compound or complex sentences.  Watch for fragments and run-ons and be sure that sentences are punctuated correctl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rrection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ould have comma instead of semicolon after gree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spok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to yo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eleb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ould be “friends” not “friend’s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6 writing/punctuation/spell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7 D) using adjectives (comparatives and superlatives) correct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8 E)  Edit drafts to ensure standard us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7 B) Use conjunctions to connect ide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 earli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7 D) Use adjectives (comparatives and superlatives) correct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oung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ller, tall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pronoun might be used in place of a noun or noun phrase to avoid repetition when the noun or noun phrase is already know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7 H) Write with increasing accuracy when using pronoun cas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noun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y, sh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tecedent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ikola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.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n, K.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E8B9-6D53-4910-A730-3FF79D93F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A186-1B61-4E07-8F50-98779189B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7088-F508-4A10-B1EE-B76BE5880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22EC-E32A-47DC-859D-4554DA2A3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9E56-4F5C-48C8-B0F2-55B720736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167C-76E7-40F0-8939-967AC3A6C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0774-EA61-4690-B0F9-F09311844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B55D-DC50-48E9-BDA5-0FE9FB7D3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7B07-974C-47C7-875F-3DF974706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0CE7-674D-4DDB-A9C9-13257255F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82B8-DED0-4F46-815E-750430C72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5913-E903-4FC8-B3D2-F5112DB0C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80512-B0E6-4019-A25F-DA4BDD4D42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../Appendices/English/Super.ppt" TargetMode="Externa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Editing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95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.T. and Natasha have been pen-pals for years.  The letter on the next slide is the last one that  K.T. received from Natasha. 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atasha is learning the differences between her native Russian language and English.  She still makes a few mistakes in her writing. 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dentify and correct the mistakes in her lett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6858000" y="4727520"/>
          <a:ext cx="1623960" cy="1825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0" y="4727520"/>
                    <a:ext cx="1623960" cy="18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You Write I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671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hoose the best way to rewrite the summary on the next slid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clude the same information, but use compound sentences, complex sentences, phrases, and claus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You Write I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671480"/>
            <a:ext cx="777240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K.T. wanted to go to a birthday party. The party was for Natasha. Natasha lives in the Ukraine. She is K.T.’s pen-pal. K.T. did not go to the party. Her computer broke. She arrived in the Ukraine in 1986. This was too early. She was scared. A boy named Nikolai helped her. He was looking for his father. There had been an accident. Some men were chasing K.T. They thought she was a spy. Nikolai took her to the river. There was a boat. It was his uncle’s. They escaped on this boat. Travis found K.T. She said goodbye to Nikolai. Travis took her hom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5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360" y="38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Editing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4360" y="1671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14480">
              <a:spcBef>
                <a:spcPts val="601"/>
              </a:spcBef>
              <a:buClr>
                <a:srgbClr val="ebebeb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Dear K.T.;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480">
              <a:spcBef>
                <a:spcPts val="601"/>
              </a:spcBef>
              <a:buClr>
                <a:srgbClr val="ebebeb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Last time </a:t>
            </a:r>
            <a:r>
              <a:rPr b="0" i="1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I speaked to you on the phone,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I forgot to tell you about my birthday party.  I am turning thirteen next </a:t>
            </a:r>
            <a:r>
              <a:rPr b="0" i="1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month and I am having a big celebrasion.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 All my </a:t>
            </a:r>
            <a:r>
              <a:rPr b="0" i="1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friend’s are coming, and my mom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is making a cake.  It will be the </a:t>
            </a:r>
            <a:r>
              <a:rPr b="0" i="1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bestest birthday ever!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 I wish you </a:t>
            </a:r>
            <a:r>
              <a:rPr b="0" i="1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could be hear.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 I miss you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480">
              <a:spcBef>
                <a:spcPts val="601"/>
              </a:spcBef>
              <a:buClr>
                <a:srgbClr val="ebebeb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Your friend,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480">
              <a:spcBef>
                <a:spcPts val="601"/>
              </a:spcBef>
              <a:buClr>
                <a:srgbClr val="ebebeb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Natasha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6858000" y="4727520"/>
          <a:ext cx="1623960" cy="1825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0" y="4727520"/>
                    <a:ext cx="1623960" cy="18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he Function of Conjunctio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conjunction is a word or a phrase that connects other words, phrases, and claus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view the different types of conjunctions and the functions of each, then choose the conjunction that best completes the following sentenc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he Function of Conjunctio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671480"/>
            <a:ext cx="7772400" cy="343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14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.T. wanted to see Natasha,______ the BPC    broke and sent her back in tim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480" algn="ctr">
              <a:spcBef>
                <a:spcPts val="700"/>
              </a:spcBef>
              <a:buClr>
                <a:srgbClr val="ebebeb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but, for, nor, a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.T. was looking for Natasha,______ Nikolai was looking for his fath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480" algn="ctr">
              <a:spcBef>
                <a:spcPts val="700"/>
              </a:spcBef>
              <a:buClr>
                <a:srgbClr val="ebebeb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and, or, yet, so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iso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671480"/>
            <a:ext cx="7772400" cy="32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mparisons are the forms of adjectives or adverbs that indicate quality, quantity, or mann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three degrees of comparison are positive, comparative, and superlativ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view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comparative degree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learn more about the three degrees, then go on to the next slide to test your knowledg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71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iso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.T. arrived in the Ukraine years _______ than she expected.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earliest          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early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earlier           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more earlier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iso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671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f the three boat passengers, K.T. was probably the _______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younger          younges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young             more young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ikolai is ______than K.T., but Travis is the ______ of all thre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tall                  tallest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taller              most tal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onouns and Anteced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71480"/>
            <a:ext cx="78487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finitions: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ronoun- a word used in place of a nou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tecedent - the noun or noun phrase to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ich a pronoun refers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en might a pronoun be used in place of a noun or noun phrase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onouns and Anteced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66720" y="1671480"/>
            <a:ext cx="7772400" cy="475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hoose the pronoun that matches the antecedent. Choose from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: they, we, her, he, she, it, his, her, him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ikolai was looking for ____ da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ven though K.T. was tired and scared, _____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as still very brav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men ran after K.T. because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_______thought ______might be a sp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ow go back and underline the antecedent of each pronou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7T19:49:27Z</dcterms:created>
  <dc:creator>lakho sidhwani@grp-is@houston</dc:creator>
  <dc:description/>
  <dc:language>en-US</dc:language>
  <cp:lastModifiedBy>Texas A&amp;M Veterinary Medicine</cp:lastModifiedBy>
  <dcterms:modified xsi:type="dcterms:W3CDTF">2005-05-06T15:45:03Z</dcterms:modified>
  <cp:revision>37</cp:revision>
  <dc:subject/>
  <dc:title>Edit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c01000000000001023620</vt:lpwstr>
  </property>
</Properties>
</file>