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988D-B0EC-47B4-BE2F-1AEFEED20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8882-395F-4160-B775-2C857C62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829C-FFFD-4999-991F-5FA4C2C7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264A-04FE-45FE-954E-EB6EA23D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D3C4-C512-4532-96DF-CE9B93827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7874-F6CE-4417-BE55-95993DAF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BEB1-4783-4EA7-928D-979BD7D1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7BBE-E849-4C30-9229-53D73C4A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A2D8-D4EF-4D8F-8DE2-84D409CF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E2D4-6EAE-4641-8FE6-5A70ECBC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F361-6E25-4067-B918-639D6108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E344-91E9-49A8-B0C2-ED6DA974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1CAD-AC46-4EA3-9020-6E9AF73A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C56A-355E-4084-BD72-B47C8948555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45721" r="0" b="0"/>
          <a:stretch/>
        </p:blipFill>
        <p:spPr>
          <a:xfrm>
            <a:off x="2362320" y="4343400"/>
            <a:ext cx="41148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1141" t="0" r="0" b="0"/>
          <a:stretch/>
        </p:blipFill>
        <p:spPr>
          <a:xfrm>
            <a:off x="5029200" y="1981080"/>
            <a:ext cx="36115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7-08-02T19:09:28Z</dcterms:modified>
  <cp:revision>30</cp:revision>
  <dc:subject/>
  <dc:title>Descriptive Writing</dc:title>
</cp:coreProperties>
</file>