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.)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266688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B7F747-9C12-4956-9C3F-70D3ACDF9C1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3D9587-E7A3-44AA-963C-8C65AC47F6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3F6673-5564-4468-BF49-A49DBD78380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66730E-0831-4827-BEA2-B24E336F358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DC9493-02E0-440C-9955-001C68E87A3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A5B38D-7339-4D10-B3B0-59E942FBA7A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DAEC7D-D788-4819-847C-5300CF965F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273928-4A70-47F6-949F-0A76CAABB06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99A8BD-8588-441A-B4F8-6B91D920A91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9F0D3D-2565-40DD-9FFA-02EC62EF75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0C146D-2978-4466-AD6A-A90454FE817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21A3C1-E92A-49E7-8EC8-F0289D29DE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A4130-8BC8-4206-95EA-B4C0A53164CB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533520" y="1066680"/>
            <a:ext cx="8153280" cy="510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width, height, and length of a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box or rectangular prism can b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fferent. If all three are the same,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n the box is a cub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tangular Pris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volume, or the amount of space inside a box, is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 × w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surface area of a box is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(h × w) + 2(h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) + 2(w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)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A shoe box is a rectangular prism with a volume of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6287 cm</a:t>
            </a:r>
            <a:r>
              <a:rPr b="0" i="1" lang="en-US" sz="28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5486400" y="990720"/>
            <a:ext cx="3200400" cy="17668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457200" y="990720"/>
            <a:ext cx="464832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105520" y="1295280"/>
            <a:ext cx="761760" cy="4572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848720" y="2286000"/>
            <a:ext cx="15228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0880" y="2971800"/>
            <a:ext cx="8153640" cy="29718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286525-5E84-4486-8079-B40D7C70581E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Rectangular Prism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3059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Find the volume of this jewelry box by using the equation for a rectangular prism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imensions of the Jewelry Box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 = 14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Length = 30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Width = 18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14 x 30 x 18  =  7,560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3276720" y="2514600"/>
            <a:ext cx="2479680" cy="2354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CCA093-FAD2-4C32-96A1-08C08ADAC907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5079960" y="974880"/>
            <a:ext cx="3225960" cy="20732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radius, r, or the distanc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rom the center of a sphere to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s edge, is the defining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roperty of a spher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Sphere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diameter, or the distance across a sphere that passes    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rough the center point, is 2r (twice the radius)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surface area of a sphere is 4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volume enclosed by a sphere is 4/3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Note that 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=3.1415926535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ebebeb"/>
                </a:solidFill>
                <a:latin typeface="Times New Roman"/>
              </a:rPr>
              <a:t>A basketball has a volume of 7700cm</a:t>
            </a:r>
            <a:r>
              <a:rPr b="0" i="1" lang="en-US" sz="2600" spc="-1" strike="noStrike" baseline="30000">
                <a:solidFill>
                  <a:srgbClr val="ebebeb"/>
                </a:solidFill>
                <a:latin typeface="Times New Roman"/>
              </a:rPr>
              <a:t>3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520" y="3276720"/>
            <a:ext cx="8076960" cy="281916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33520" y="990720"/>
            <a:ext cx="3809880" cy="16002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343400" y="1295280"/>
            <a:ext cx="1523880" cy="2286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603279-C5F0-4C27-B0CA-4D67EA69E640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Spher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Find the volume of this basketball by using the equation for a sphere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imensions of the Basketball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11.9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4/3 x 3.14 x 11.9 x 11.9 x 11.9  =  7,055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3505320" y="2514600"/>
            <a:ext cx="2193840" cy="221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C5CC90-45E7-4424-97C7-3431D7DB3DA6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3352680" y="914400"/>
            <a:ext cx="2737080" cy="1542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6172200" y="609480"/>
            <a:ext cx="2743200" cy="19051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57200" y="914400"/>
            <a:ext cx="274320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76280" y="13320"/>
            <a:ext cx="7848720" cy="271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       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br>
              <a:rPr sz="800"/>
            </a:br>
            <a:br>
              <a:rPr sz="8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radius, r, is the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stance from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enter of a cone to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s edge.</a:t>
            </a:r>
            <a:br>
              <a:rPr sz="2000"/>
            </a:b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600" y="576360"/>
            <a:ext cx="876312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height, h, is th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stance from the tip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f the cone to th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enter of the base of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con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on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diameter, or the distance across the base of the con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rough the center, is 2r (twice the radius)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surface area of a cone is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    h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+ r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+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volume of a cone is 1/3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Note that </a:t>
            </a:r>
            <a:r>
              <a:rPr b="0" lang="en-US" sz="25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=3.1415926535! But you can round to the </a:t>
            </a:r>
            <a:endParaRPr b="0" lang="en-US" sz="25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hundredths place and use 3.14.</a:t>
            </a:r>
            <a:endParaRPr b="0" lang="en-US" sz="25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An ice cream cone is a cone with a volume of 180cm</a:t>
            </a:r>
            <a:r>
              <a:rPr b="0" i="1" lang="en-US" sz="24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200400" y="1143000"/>
            <a:ext cx="685800" cy="30492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5715000" y="1295280"/>
            <a:ext cx="457200" cy="2286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800960" y="3429000"/>
            <a:ext cx="107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724280" y="4114800"/>
            <a:ext cx="81000" cy="7632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800600" y="3885840"/>
            <a:ext cx="81000" cy="30492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33520" y="2666880"/>
            <a:ext cx="8076960" cy="335304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4A8071-F7AC-4DBB-B302-98BA46210C22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Con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120" y="990360"/>
            <a:ext cx="80773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Find the volume of this ice cream cone by using the equation for a cone:</a:t>
            </a:r>
            <a:endParaRPr b="0" lang="en-US" sz="37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Dimensions of the Ice Cream Cone: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3.5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 = 14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1/3 x 3.14 x 3.5 x 3.5 x 14  =  179.5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3962520" y="2286000"/>
            <a:ext cx="1074600" cy="2868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07688C-C4D6-4231-8ABD-6471D67998AA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3505320" y="914400"/>
            <a:ext cx="2577960" cy="147780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br>
              <a:rPr sz="48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If your cylinder is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The radius, r, is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standing upright, you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distance from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might call the “length”,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center of a cylinder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1" i="1" lang="en-US" sz="27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,  a "height" instead.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o its edg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160" y="2666880"/>
            <a:ext cx="79246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Cylinder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diameter, or the distance across a cylinder that passes through the center point, is 2r (twice the radius)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surface area of an open ended cylinder (as shown) is 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If the cylinder has caps on the ends, then the surface area is 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+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volume of a cylinder is 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ebebeb"/>
                </a:solidFill>
                <a:latin typeface="Times New Roman"/>
              </a:rPr>
              <a:t>A soda can has a volume of 335 cm</a:t>
            </a:r>
            <a:r>
              <a:rPr b="0" i="1" lang="en-US" sz="2600" spc="-1" strike="noStrike" baseline="30000">
                <a:solidFill>
                  <a:srgbClr val="ebebeb"/>
                </a:solidFill>
                <a:latin typeface="Times New Roman"/>
              </a:rPr>
              <a:t>3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1371600"/>
            <a:ext cx="914400" cy="38088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 flipV="1">
            <a:off x="5791320" y="1294920"/>
            <a:ext cx="457200" cy="38124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267080" y="1676520"/>
            <a:ext cx="7632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04920" y="762120"/>
            <a:ext cx="297180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248520" y="762120"/>
            <a:ext cx="259056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33520" y="2666880"/>
            <a:ext cx="8153280" cy="35053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32B113-C34D-4FB6-BB2E-85BB80141D88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Cylinder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7240" y="1066680"/>
            <a:ext cx="777096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Find the volume of this spray can by using the equation for a cylinder:</a:t>
            </a:r>
            <a:endParaRPr b="0" lang="en-US" sz="37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Dimensions of the Spray Can: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10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ength = 50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3.14 x 10 x 10 x 50  =  15,700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4114800" y="2362320"/>
            <a:ext cx="949320" cy="2846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10C637-3B9E-48F4-9092-26E7C1A9E710}" type="slidenum">
              <a:t>8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cp:keywords/>
  <dc:language>en-US</dc:language>
  <cp:lastModifiedBy>Vince Hardy</cp:lastModifiedBy>
  <cp:lastPrinted>2001-01-16T19:55:21Z</cp:lastPrinted>
  <dcterms:modified xsi:type="dcterms:W3CDTF">2007-05-03T16:18:47Z</dcterms:modified>
  <cp:revision>241</cp:revision>
  <dc:subject/>
  <dc:title>VTPP 423 - PHYSIOLOG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1a02000000000001023620</vt:lpwstr>
  </property>
</Properties>
</file>