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D969-A783-4AD8-B7FB-21D7A5E3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 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, B, C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Represent ratios/percents with models, fractions,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Predict Proportions using Rat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  Select appropriat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269-6BB3-4C96-915B-8B9B7A00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A24-EDD0-49BE-B0AE-BF5E3D2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E14-9630-464E-8184-A386846C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808-26B9-433C-8D70-06DF0D73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2DB-1178-41F6-92C6-19473BF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44D-1CD4-40DB-9D7C-EF655AF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5DA-0D15-4E0B-9A8C-5F614F5A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DEF-0E64-45F2-AD60-7E6A499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CB1-508E-4FB5-B84A-404EDAA4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409-B4F5-49A9-A5E0-A6BF5A65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113-1DB9-461D-8410-D32B22F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EA7-7C83-41B4-8B2E-302F4F3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6C20-10C8-46E4-9BA6-A1B8767DCE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0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90720"/>
            <a:ext cx="8153280" cy="27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d River Escape 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Perimet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760" y="2743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perimeter of a polygon is the sum of the lengths of all its sides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790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10573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666800" cy="138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124080" y="4876920"/>
            <a:ext cx="1362240" cy="13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895480" y="1295280"/>
            <a:ext cx="13906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bebeb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200400" cy="2256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rectangle has 4 sid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opposite sides of the rectangle have the same length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9.8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6*2 + 9.8*2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31.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Obtuse Angle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  An angle that has a value greater than 90 degrees and less than 180 degre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0494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914400"/>
            <a:ext cx="990360" cy="1676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imes New Roman"/>
              </a:rPr>
              <a:t>Acute Angle</a:t>
            </a:r>
            <a:r>
              <a:rPr b="0" lang="en-US" sz="4000" spc="-1" strike="noStrike">
                <a:solidFill>
                  <a:srgbClr val="cc99ff"/>
                </a:solidFill>
                <a:latin typeface="Times New Roman"/>
              </a:rPr>
              <a:t>: An angle whose measure is less than 90 degrees but greater than 0.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35812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5add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add9"/>
                </a:solidFill>
                <a:latin typeface="Times New Roman"/>
              </a:rPr>
              <a:t>Right Angle</a:t>
            </a:r>
            <a:r>
              <a:rPr b="0" lang="en-US" sz="3600" spc="-1" strike="noStrike">
                <a:solidFill>
                  <a:srgbClr val="65add9"/>
                </a:solidFill>
                <a:latin typeface="Times New Roman"/>
              </a:rPr>
              <a:t>: An angle of 90 degrees or  an angle made by the meeting of two straight lines perpendicular to each other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867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60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02080" y="4549680"/>
            <a:ext cx="467208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b=the base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=the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= b * 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can picture "cutting off" a triangle from one side and "pasting" it onto the other side to form a rectangle with side-length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This rectangle has area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 × 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Parallelogram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429000" cy="196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8191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What is the area of a parallelogram having a base of 20 and a corresponding height of 7?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3962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h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b*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20*7=1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Triangle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4440" y="99036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h=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=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= (1/2)*b*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We take a second triangle identical to the first, rotate it and "paste" it to the first triangle as pictu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parallelogram with bas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, is form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his area is twice that of the triangle, so the triangle has area 1/2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b1b89"/>
                </a:solidFill>
                <a:uFillTx/>
                <a:latin typeface="Times New Roman"/>
              </a:rPr>
              <a:t>Example</a:t>
            </a:r>
            <a:endParaRPr b="0" lang="en-US" sz="4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h = 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b = 6.5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 *b*h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*6.5*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23.4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975120" cy="4105440"/>
          </a:xfrm>
          <a:prstGeom prst="rect">
            <a:avLst/>
          </a:prstGeom>
          <a:ln w="38160">
            <a:solidFill>
              <a:srgbClr val="db1b8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Finding the Area of a Circl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 * 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^2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7335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3.6 *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40.6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10.4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10.4 / 2 = 5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(5.2)^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84.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71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Circumferenc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2*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06720" y="4191120"/>
            <a:ext cx="19936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1387440"/>
            <a:ext cx="2314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39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8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2 *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3.8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946160" cy="233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1371600"/>
            <a:ext cx="24382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50:03Z</dcterms:created>
  <dc:creator>Jeremiah McNichols</dc:creator>
  <dc:description/>
  <dc:language>en-US</dc:language>
  <cp:lastModifiedBy>cdyer</cp:lastModifiedBy>
  <dcterms:modified xsi:type="dcterms:W3CDTF">2008-09-25T20:02:4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3000000000001023620</vt:lpwstr>
  </property>
</Properties>
</file>