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9B5D-0513-442A-8A8A-875C328AE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B1DC-8F86-4D72-81B4-1E213026C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288B-B70B-4457-AA29-9F075CF27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1ABC-9689-41CB-9403-BA5805A0F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F553-4289-49B5-8F86-3E13B999A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6539-879F-4C7D-8C9B-B254730C1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EFDF-48E8-4AC9-B97D-5813D1EDC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4C1D-8093-4488-9820-F27E5FE7E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7092-0C59-40CE-9F31-C172361C4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05E0-5401-491F-B6FF-1A046DC82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E2D5-EC93-4A22-91DB-07BB38D1A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71E0-FB6F-48E4-9C2E-818F01ADB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C924-AC8C-442F-8B90-7B83DED9919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C65C-EAB2-453D-BF40-89CD798AFD4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8D8B-1ECF-41C1-A80E-15220A95C9A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58CA-C0A7-4E22-8274-C0AC2EA71B48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7:11Z</dcterms:modified>
  <cp:revision>206</cp:revision>
  <dc:subject/>
  <dc:title>VTPP 423 - PHYSIOLOGY</dc:title>
</cp:coreProperties>
</file>