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93C77-6658-4758-A64C-882F340654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0DA1A-8F02-4959-984B-A5EDE805B8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FB3E8-1844-468C-9C3E-614733FD09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43266-66EA-45EC-96F5-4DC23B6074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868F3-005A-4F60-92F4-A2F6B21174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C01AE-4994-476D-85A6-7A08E52E43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3B042-55D5-4FAF-9768-47F6C87E5D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7494B-97F3-4965-9E87-E1DE4EE76A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BA486-6F56-4B39-AEA8-5775695487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EF997-E101-4984-8AD8-D22057E6B2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EE40F-BB6C-43C0-A09C-23AF393BAD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01E92-F06C-462C-B430-5C85E3D7BF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A771-F168-4598-8455-33E7C5E0270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8E8BB-6E25-4829-965F-E47DC94E82A9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5:38Z</dcterms:modified>
  <cp:revision>209</cp:revision>
  <dc:subject/>
  <dc:title>VTPP 423 - PHYSIOLOGY</dc:title>
</cp:coreProperties>
</file>