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1BBC-BF25-4412-891B-8201472C1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  slide # 4, 68-79 and UK 1.0, 65.0-76.0 </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ematics  -  slide # 43-44, 52-67 and UK 40.0-41.0, 49.0-64.0 </a:t>
            </a:r>
            <a:br>
              <a:rPr sz="900"/>
            </a:br>
            <a:r>
              <a:rPr b="0" lang="en-US" sz="900" spc="-1" strike="noStrike">
                <a:solidFill>
                  <a:srgbClr val="000000"/>
                </a:solidFill>
                <a:latin typeface="Arial"/>
              </a:rPr>
              <a:t>	</a:t>
            </a:r>
            <a:r>
              <a:rPr b="0" lang="en-US" sz="900" spc="-1" strike="noStrike">
                <a:solidFill>
                  <a:srgbClr val="000000"/>
                </a:solidFill>
                <a:latin typeface="Arial"/>
              </a:rPr>
              <a:t>Social Studies  -  slide # 5-23, 45 and UK 2.0-20.0, 42.0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  slide # 24-42, 46-51 and UK 21.0-39.0, 43.0-48.0</a:t>
            </a:r>
            <a:endParaRPr b="0" lang="en-US" sz="9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Dnipropetrovs’k,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posición absoluta de Dnipropetrovs’k, Ucrani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N.L. y 35°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lobal address absolute location geography world geograph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Dnipropetrovs’k, Ucrania en el map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N.L., 35°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naranjado alrededor de Dnipropetrov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Dnipropetrovs’k?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Dnipropetrovs’k?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Dnipropetrovs’k, Ucrani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latitude longitude absolute location world geography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Dnipropetrovs’k, Ucrania es 48</a:t>
            </a:r>
            <a:r>
              <a:rPr b="0" lang="en-US" sz="1000" spc="-1" strike="noStrike">
                <a:solidFill>
                  <a:srgbClr val="000000"/>
                </a:solidFill>
                <a:latin typeface="Arial"/>
                <a:ea typeface="Times New Roman"/>
              </a:rPr>
              <a:t>° N.L., 35°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al nor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cerca de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este?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absolute location Hemispher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50</a:t>
            </a:r>
            <a:r>
              <a:rPr b="0" lang="en-US" sz="1000" spc="-1" strike="noStrike">
                <a:solidFill>
                  <a:srgbClr val="000000"/>
                </a:solidFill>
                <a:latin typeface="Arial"/>
                <a:ea typeface="Times New Roman"/>
              </a:rPr>
              <a:t>° N.L., 24° E.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50° N.L., 31°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iudad está ubicada a 49 </a:t>
            </a:r>
            <a:r>
              <a:rPr b="0" lang="en-US" sz="1000" spc="-1" strike="noStrike">
                <a:solidFill>
                  <a:srgbClr val="000000"/>
                </a:solidFill>
                <a:latin typeface="Arial"/>
                <a:ea typeface="Times New Roman"/>
              </a:rPr>
              <a:t>° N.L., 39°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6° N.L., 31°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viv está ubicada a 50</a:t>
            </a:r>
            <a:r>
              <a:rPr b="0" lang="en-US" sz="1000" spc="-1" strike="noStrike">
                <a:solidFill>
                  <a:srgbClr val="000000"/>
                </a:solidFill>
                <a:latin typeface="Arial"/>
                <a:ea typeface="Times New Roman"/>
              </a:rPr>
              <a:t>° N.L., 24°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está ubicada a </a:t>
            </a:r>
            <a:r>
              <a:rPr b="0" lang="en-US" sz="1000" spc="-1" strike="noStrike">
                <a:solidFill>
                  <a:srgbClr val="000000"/>
                </a:solidFill>
                <a:latin typeface="Arial"/>
                <a:ea typeface="Times New Roman"/>
              </a:rPr>
              <a:t>50° N.L., 31° E.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hans’k está ubicada a </a:t>
            </a:r>
            <a:r>
              <a:rPr b="0" lang="en-US" sz="1000" spc="-1" strike="noStrike">
                <a:solidFill>
                  <a:srgbClr val="000000"/>
                </a:solidFill>
                <a:latin typeface="Arial"/>
                <a:ea typeface="Times New Roman"/>
              </a:rPr>
              <a:t>49° N.L., 39° E.L.</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esa está ubicada a </a:t>
            </a:r>
            <a:r>
              <a:rPr b="0" lang="en-US" sz="1000" spc="-1" strike="noStrike">
                <a:solidFill>
                  <a:srgbClr val="000000"/>
                </a:solidFill>
                <a:latin typeface="Arial"/>
                <a:ea typeface="Times New Roman"/>
              </a:rPr>
              <a:t>46° N.L., 31°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bal address prime meridian equator latitude longitude geography world geograph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ónde está Ucrania en relación a otros lugares del mun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crania está dentro del círculo negr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n qué continent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Qué continente está al sur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ontinente está al este de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viajaras la distancia más corta de tu casa a Ucran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0920" y="684360"/>
            <a:ext cx="4557600" cy="3417840"/>
          </a:xfrm>
          <a:prstGeom prst="rect">
            <a:avLst/>
          </a:prstGeom>
          <a:ln w="0">
            <a:noFill/>
          </a:ln>
        </p:spPr>
      </p:sp>
      <p:sp>
        <p:nvSpPr>
          <p:cNvPr id="52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rania está dentro del círculo negro en el mapa de arri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países están al oeste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Qué país grande está al noreste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 el mar que está al sur de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nipropetrovs’k está resaltad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ciudad es la capital de Ucrania?_______</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n qué dirección de Dnipropetrovs’k está esta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s-MX" sz="1000" spc="-1" strike="noStrike">
                <a:solidFill>
                  <a:srgbClr val="000000"/>
                </a:solidFill>
                <a:latin typeface="Arial"/>
              </a:rPr>
              <a:t>Cuando K.T. y Nikolai viajaban por el río Dnieper de Kiev a </a:t>
            </a:r>
            <a:r>
              <a:rPr b="0" lang="en-US" sz="1000" spc="-1" strike="noStrike">
                <a:solidFill>
                  <a:srgbClr val="000000"/>
                </a:solidFill>
                <a:latin typeface="Arial"/>
              </a:rPr>
              <a:t>Dnipropetrovs’k</a:t>
            </a:r>
            <a:r>
              <a:rPr b="0" lang="es-MX" sz="1000" spc="-1" strike="noStrike">
                <a:solidFill>
                  <a:srgbClr val="000000"/>
                </a:solidFill>
                <a:latin typeface="Arial"/>
              </a:rPr>
              <a:t>, ¿en qué dirección viajab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En qué dirección de Dnipropetrovs’k está la ciudad de Odesa?</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 map reading</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Ucrania?”  ¿Cómo le contes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Ucran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Ucrania a París, Franc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lem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n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ither by absolute or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outh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erm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684360"/>
            <a:ext cx="4559040" cy="3419280"/>
          </a:xfrm>
          <a:prstGeom prst="rect">
            <a:avLst/>
          </a:prstGeom>
          <a:ln w="0">
            <a:noFill/>
          </a:ln>
        </p:spPr>
      </p:sp>
      <p:sp>
        <p:nvSpPr>
          <p:cNvPr id="53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mos el misteri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z una lista de los problemas básicos de salud del cuento “Escape por 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las causas posibles de estos problemas?  ¿Lo puedes decir en forma de hipótesi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main problems should be eviden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diation sicknes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and sick fish in the Dnieper Riv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the abnormal young frog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uses of the first two are fairly obvious (radiation sickness – Chernobyl meltdown; dead fish – river polluted by industrial waste and farm run-off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se particular hypotheses, evidence needed would incl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such abnormalities be duplicated by exposing frog eggs, sperm, and tadpoles to known concentrations of either radiation or the suspected pollutan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perm or egg exposure results in extra-legged frogs, the alternative hypothesis is supporte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adpole exposure, but not egg or sperm exposure, results in extra-legged frogs, the first hypothesis is support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9480" y="684360"/>
            <a:ext cx="4559040" cy="3419280"/>
          </a:xfrm>
          <a:prstGeom prst="rect">
            <a:avLst/>
          </a:prstGeom>
          <a:ln w="0">
            <a:noFill/>
          </a:ln>
        </p:spPr>
      </p:sp>
      <p:sp>
        <p:nvSpPr>
          <p:cNvPr id="53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redic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redicciones podrías hacer si tu hipótesis fuera correc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ollution is the problem, it will go away if they clean up the environment. If not, the problem will persist and will probably become more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predictions experimental design experimental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9480" y="684360"/>
            <a:ext cx="4559040" cy="3419280"/>
          </a:xfrm>
          <a:prstGeom prst="rect">
            <a:avLst/>
          </a:prstGeom>
          <a:ln w="0">
            <a:noFill/>
          </a:ln>
        </p:spPr>
      </p:sp>
      <p:sp>
        <p:nvSpPr>
          <p:cNvPr id="53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asa con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las posibles causas naturales de una rana con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ómo afectaría al movimiento de la rana una pata terc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algunos posibles contaminantes hechos por los seres humanos que podrían resultar en una rana con tres patas traser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pollutants: in the Hard River story, we have mention of industrial wastes and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uses pollutants industrial wastes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9480" y="684360"/>
            <a:ext cx="4559040" cy="3419280"/>
          </a:xfrm>
          <a:prstGeom prst="rect">
            <a:avLst/>
          </a:prstGeom>
          <a:ln w="0">
            <a:noFill/>
          </a:ln>
        </p:spPr>
      </p:sp>
      <p:sp>
        <p:nvSpPr>
          <p:cNvPr id="53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 mis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están deformadas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l viejo pescador les enseñó a K.T. y a Nikolai una rana abnormal.  Esta anormalidad no </a:t>
            </a:r>
            <a:r>
              <a:rPr b="0" lang="en-US" sz="1000" spc="-1" strike="noStrike">
                <a:solidFill>
                  <a:srgbClr val="000000"/>
                </a:solidFill>
                <a:latin typeface="Arial"/>
              </a:rPr>
              <a:t>ocurría</a:t>
            </a:r>
            <a:r>
              <a:rPr b="0" lang="es-MX" sz="1000" spc="-1" strike="noStrike">
                <a:solidFill>
                  <a:srgbClr val="000000"/>
                </a:solidFill>
                <a:latin typeface="Arial"/>
              </a:rPr>
              <a:t> en otras especies.  ¿Por qué están afectadas las ranas cuando los otros animales que viven en el área no parecen tener problemas?  (Pista:  Piensa en donde viven las ranas en relación a los otros animales.  ¿Qué tipo de animales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anas abnormales son indicadoras buenas de que el medio ambiente no está bien.  ¿Podemos asumir que lo que afecta a las ranas en Ucrania eventualmente podrá afectar a los sere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cology environmental indicators human healt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ranas como indicadoras d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anas son muy sensibles a las toxi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Quizás por los cambios profundos que ocurren entre las etapas de renacuajo y adul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 oído hablar de los canarios en las minas de carbón de pied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mineros traían los canarios dentro de las minas con ellos.  Si los canarios se ponían enfermos, los mineros salían de las mi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indicators environmental monitors toxic hazards ecology</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9480" y="684360"/>
            <a:ext cx="4559040" cy="3419280"/>
          </a:xfrm>
          <a:prstGeom prst="rect">
            <a:avLst/>
          </a:prstGeom>
          <a:ln w="0">
            <a:noFill/>
          </a:ln>
        </p:spPr>
      </p:sp>
      <p:sp>
        <p:nvSpPr>
          <p:cNvPr id="54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odría indicar la presencia de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tipos de cambios ocurren en el cuerpo con el 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fermedades genét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tipos de cambios ocurren en el cuerpo con las enfermedades genét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know that cancer is an unregulated, uncontrolled growth of one tissue type (such as blood cell cancer, skin cancer, brain cell cancer,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ncer genetic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9480" y="684360"/>
            <a:ext cx="4559040" cy="3419280"/>
          </a:xfrm>
          <a:prstGeom prst="rect">
            <a:avLst/>
          </a:prstGeom>
          <a:ln w="0">
            <a:noFill/>
          </a:ln>
        </p:spPr>
      </p:sp>
      <p:sp>
        <p:nvSpPr>
          <p:cNvPr id="54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on consecuencias de la misma contaminación las ranas de tres patas traseras y la enfermedad de lo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in frogs took longer, has different symptoms, and may only be coincidental to the nuclear plant melt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frogs and developmental defects, see our supplement by following the link on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pollution human sickness frog developme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9480" y="684360"/>
            <a:ext cx="4559040" cy="3419280"/>
          </a:xfrm>
          <a:prstGeom prst="rect">
            <a:avLst/>
          </a:prstGeom>
          <a:ln w="0">
            <a:noFill/>
          </a:ln>
        </p:spPr>
      </p:sp>
      <p:sp>
        <p:nvSpPr>
          <p:cNvPr id="54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usas naturales de anorma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el medio ambiente, hay muchas causas de mutaciones genéticas o anormalidades que ocurren espontáneamente, es decir, que no tienen una causa exterior, son solos fenómenos naturales.  ¿Cómo podrías eliminar esta posibilidad como una causa de las ranas de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Otra explicación posible es la radiación de rayos UV.  Se sabe que los rayos UV son una causa de las mutaciones.  ¿Qué experimento podrías hacer para mostrar que la causa no era los rayos U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Otra posibilidad son los minerales tóxicos que son expuestos por las minas y las excav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rule out: check to see if these abnormalities occur in other parts of the world where there is no pollution.  Compare the rates of inc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rpreting the role of genes in inheri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ing organisms’ response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irth defects genetic mutations environmental health hazard UV radiation toxic miner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9480" y="684360"/>
            <a:ext cx="4559040" cy="3419280"/>
          </a:xfrm>
          <a:prstGeom prst="rect">
            <a:avLst/>
          </a:prstGeom>
          <a:ln w="0">
            <a:noFill/>
          </a:ln>
        </p:spPr>
      </p:sp>
      <p:sp>
        <p:nvSpPr>
          <p:cNvPr id="54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ensa en el cuento “Escape por 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condiciones o situaciones en el cuento tenemos que considerar como  causas posibles de las ranas deformad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Hay por lo menos SEI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ould be good for class discuss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radi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strial wast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ticid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drilling and refin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tiliz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 and dairy cow man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ng operations (coal, iron, manganese, lead, copper, mercu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health hazar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9480" y="684360"/>
            <a:ext cx="4559040" cy="3419280"/>
          </a:xfrm>
          <a:prstGeom prst="rect">
            <a:avLst/>
          </a:prstGeom>
          <a:ln w="0">
            <a:noFill/>
          </a:ln>
        </p:spPr>
      </p:sp>
      <p:sp>
        <p:nvSpPr>
          <p:cNvPr id="54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había indicaciones de que las ranas habían comido algo que causó su anorm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gestion deformed frogs ecology investigating f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9480" y="684360"/>
            <a:ext cx="4559040" cy="3419280"/>
          </a:xfrm>
          <a:prstGeom prst="rect">
            <a:avLst/>
          </a:prstGeom>
          <a:ln w="0">
            <a:noFill/>
          </a:ln>
        </p:spPr>
      </p:sp>
      <p:sp>
        <p:nvSpPr>
          <p:cNvPr id="55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qué fuentes de agua contaminada mencionaron que podrían afectar a las ran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The Dnieper River and its lakes which were contaminated by industrial wastes, mining operations, and farm run-of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hydroelectric dam reservoir which was contaminated by wastes from an oil refine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Radioactive fallout into all open water sources was impli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ontaminated investigating wate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9480" y="684360"/>
            <a:ext cx="4559040" cy="3419280"/>
          </a:xfrm>
          <a:prstGeom prst="rect">
            <a:avLst/>
          </a:prstGeom>
          <a:ln w="0">
            <a:noFill/>
          </a:ln>
        </p:spPr>
      </p:sp>
      <p:sp>
        <p:nvSpPr>
          <p:cNvPr id="5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mencionaron contaminantes que tenían contacto con la piel de las ra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 directly, but it is implied in the fact that frogs live in water and their skin is obviously in contact with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skin contact contamina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9480" y="684360"/>
            <a:ext cx="4559040" cy="3419280"/>
          </a:xfrm>
          <a:prstGeom prst="rect">
            <a:avLst/>
          </a:prstGeom>
          <a:ln w="0">
            <a:noFill/>
          </a:ln>
        </p:spPr>
      </p:sp>
      <p:sp>
        <p:nvSpPr>
          <p:cNvPr id="5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qué dijeron acerca de los contaminantes en el aire?  (Recuerda que las ranas tienen pulmones y respiran el aire).</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y haze surrounding Chernobyl</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ell of an oil refine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t>
            </a:r>
            <a:r>
              <a:rPr b="0" lang="en-US" sz="1000" spc="-1" strike="noStrike">
                <a:solidFill>
                  <a:srgbClr val="000000"/>
                </a:solidFill>
                <a:latin typeface="Arial"/>
                <a:ea typeface="Times New Roman"/>
              </a:rPr>
              <a:t>Relationship between structure and function in living syste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air contaminant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9480" y="684360"/>
            <a:ext cx="4559040" cy="3419280"/>
          </a:xfrm>
          <a:prstGeom prst="rect">
            <a:avLst/>
          </a:prstGeom>
          <a:ln w="0">
            <a:noFill/>
          </a:ln>
        </p:spPr>
      </p:sp>
      <p:sp>
        <p:nvSpPr>
          <p:cNvPr id="5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ranas malformadas nos pueden advertir de los peligros en 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son las ranas buenas indicadoras de contaminación d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the value of frogs as sentinels, go to http://cgee.hamline.edu/frogs/science/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opportunity for an educational excursion into the biology of amphibians and the subject of metamorphosis. A good source of information is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cgee.hamline.edu/frogs/science/frogfact.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malformed frogs environmental indicators pollutio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9480" y="684360"/>
            <a:ext cx="4559040" cy="3419280"/>
          </a:xfrm>
          <a:prstGeom prst="rect">
            <a:avLst/>
          </a:prstGeom>
          <a:ln w="0">
            <a:noFill/>
          </a:ln>
        </p:spPr>
      </p:sp>
      <p:sp>
        <p:nvSpPr>
          <p:cNvPr id="5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posibilidad de múltiples maneras de ser expuesto a contamin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son las múltiples maneras posibles de ser expuesto a contaminante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Recuerda los diferentes tipos de contaminantes que mencionaron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 water, and skin contact (via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environmental health hazards pollutan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9480" y="684360"/>
            <a:ext cx="4559040" cy="3419280"/>
          </a:xfrm>
          <a:prstGeom prst="rect">
            <a:avLst/>
          </a:prstGeom>
          <a:ln w="0">
            <a:noFill/>
          </a:ln>
        </p:spPr>
      </p:sp>
      <p:sp>
        <p:nvSpPr>
          <p:cNvPr id="5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aminantes hechos por los seres human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chísimos de los productos químicos hechos hoy pueden causar mutaciones o anormalidades en los anima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visa la lista siguiente.  ¿Cuáles fueron mencionados en el cuen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Pesticidios que se derraman de las granjas con el agua de la lluv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Drogas tirados al lag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Metales pesados (el plomo, el oro, etc.)  de las minas a lo largo d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Radiación del desastre de Chernoby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Contaminación del aire de las industrias de la ciudad cercana de </a:t>
            </a:r>
            <a:r>
              <a:rPr b="0" lang="en-US" sz="1000" spc="-1" strike="noStrike">
                <a:solidFill>
                  <a:srgbClr val="000000"/>
                </a:solidFill>
                <a:latin typeface="Arial"/>
              </a:rPr>
              <a:t>Dnipropetrovs’k</a:t>
            </a:r>
            <a:r>
              <a:rPr b="0" lang="es-MX"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ention was made of drugs thrown into the pond (#2). All the others are real possibilities, and the evidence does not support any one over the oth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nmade pollutants pesticides air pollution environmental health hazards birth defects muta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rd River Escape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9480" y="684360"/>
            <a:ext cx="4559040" cy="341928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accidente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usó la anormalidad en la r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radiación es una causa muy fuerte de las mutaciones genéticas.  ¿Qué podrías hacer para eliminar a la radiación como causa posible de la mutación?  Si la radiación puede causar mutaciones en los animales, ¿puede hacer lo mismo a los sere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or qué, aparte del peligro inmediato de las explosiones, se murió mucha gente poco después del accidente de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humans: yes, irradiation does cause mutations in humans, both in sex cells and in somatic ce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Chernobyl gene mutation deformed frogs human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9480" y="684360"/>
            <a:ext cx="4559040" cy="3419280"/>
          </a:xfrm>
          <a:prstGeom prst="rect">
            <a:avLst/>
          </a:prstGeom>
          <a:ln w="0">
            <a:noFill/>
          </a:ln>
        </p:spPr>
      </p:sp>
      <p:sp>
        <p:nvSpPr>
          <p:cNvPr id="5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causa enfermedades 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rimera manera:  Daño directo al ADN y 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Segunda manera:  La creación de “radicales libres,” que son productos químicos muy reactivos del cuerpo creados por la interacción de la radiación con los productos químicos normales del cuerpo.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 cambian los productos químicos del cuerpo cuando absorban la fuerte energía de la radiación.  No lo pueden soport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opportunity to introduce students to radiation (alpha and beta particles, x- and gamma rays). Also, the electromagnetic spectrum fits in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sickness DNA RNA free radicals</a:t>
            </a: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9480" y="684360"/>
            <a:ext cx="4559040" cy="3419280"/>
          </a:xfrm>
          <a:prstGeom prst="rect">
            <a:avLst/>
          </a:prstGeom>
          <a:ln w="0">
            <a:noFill/>
          </a:ln>
        </p:spPr>
      </p:sp>
      <p:sp>
        <p:nvSpPr>
          <p:cNvPr id="5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rees que aparecerán más efectos de la radiación más tar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í, habrá más efectos.  ¿Sabes de qué tipo serán y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000" spc="-1" strike="noStrike">
                <a:solidFill>
                  <a:srgbClr val="000000"/>
                </a:solidFill>
                <a:latin typeface="Arial"/>
              </a:rPr>
              <a:t>Some </a:t>
            </a:r>
            <a:r>
              <a:rPr b="0" i="1" lang="en-US" sz="1000" spc="-1" strike="noStrike">
                <a:solidFill>
                  <a:srgbClr val="000000"/>
                </a:solidFill>
                <a:latin typeface="Arial"/>
              </a:rPr>
              <a:t>genes</a:t>
            </a:r>
            <a:r>
              <a:rPr b="0" lang="en-US" sz="1000" spc="-1" strike="noStrike">
                <a:solidFill>
                  <a:srgbClr val="000000"/>
                </a:solidFill>
                <a:latin typeface="Arial"/>
              </a:rPr>
              <a:t> (parts of our DNA) contain instructions for controlling when our cells grow and divide. Genes that promote cell division are called </a:t>
            </a:r>
            <a:r>
              <a:rPr b="0" i="1" lang="en-US" sz="1000" spc="-1" strike="noStrike">
                <a:solidFill>
                  <a:srgbClr val="000000"/>
                </a:solidFill>
                <a:latin typeface="Arial"/>
              </a:rPr>
              <a:t>oncogenes</a:t>
            </a:r>
            <a:r>
              <a:rPr b="0" lang="en-US" sz="1000" spc="-1" strike="noStrike">
                <a:solidFill>
                  <a:srgbClr val="000000"/>
                </a:solidFill>
                <a:latin typeface="Arial"/>
              </a:rPr>
              <a:t>. Others that slow down cell division or cause cells to die at the appropriate time are called </a:t>
            </a:r>
            <a:r>
              <a:rPr b="0" i="1" lang="en-US" sz="1000" spc="-1" strike="noStrike">
                <a:solidFill>
                  <a:srgbClr val="000000"/>
                </a:solidFill>
                <a:latin typeface="Arial"/>
              </a:rPr>
              <a:t>tumor suppressor genes</a:t>
            </a:r>
            <a:r>
              <a:rPr b="0" lang="en-US" sz="1000" spc="-1" strike="noStrike">
                <a:solidFill>
                  <a:srgbClr val="000000"/>
                </a:solidFill>
                <a:latin typeface="Arial"/>
              </a:rPr>
              <a:t>. It is known that cancers can be caused by DNA </a:t>
            </a:r>
            <a:r>
              <a:rPr b="0" i="1" lang="en-US" sz="1000" spc="-1" strike="noStrike">
                <a:solidFill>
                  <a:srgbClr val="000000"/>
                </a:solidFill>
                <a:latin typeface="Arial"/>
              </a:rPr>
              <a:t>mutations</a:t>
            </a:r>
            <a:r>
              <a:rPr b="0" lang="en-US" sz="1000" spc="-1" strike="noStrike">
                <a:solidFill>
                  <a:srgbClr val="000000"/>
                </a:solidFill>
                <a:latin typeface="Arial"/>
              </a:rPr>
              <a:t> (defects) that turn on oncogenes or turn off tumor suppressor g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ratical.org/radiation/inetSeries/ChernyThyrd.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human health effec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ión:  Evacu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spués del accidente del reactor nuclear de Chernobyl, la radiación fue emitida en todas direcciones del reactor.  La gente que vivía a menos de 30 kilómetros del reactor fue evacuada para su propia protec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era el área total que fue evacua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a circle = </a:t>
            </a:r>
            <a:r>
              <a:rPr b="0" lang="en-US" sz="1000" spc="-1" strike="noStrike">
                <a:solidFill>
                  <a:srgbClr val="000000"/>
                </a:solidFill>
                <a:latin typeface="Arial"/>
              </a:rPr>
              <a:t></a:t>
            </a:r>
            <a:r>
              <a:rPr b="0" lang="en-US" sz="1000" spc="-1" strike="noStrike">
                <a:solidFill>
                  <a:srgbClr val="000000"/>
                </a:solidFill>
                <a:latin typeface="Arial"/>
              </a:rPr>
              <a:t> r </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30 k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x  (3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828.57 km</a:t>
            </a:r>
            <a:r>
              <a:rPr b="1"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using the </a:t>
            </a:r>
            <a:r>
              <a:rPr b="0" lang="en-US" sz="1000" spc="-1" strike="noStrike">
                <a:solidFill>
                  <a:srgbClr val="000000"/>
                </a:solidFill>
                <a:latin typeface="Arial"/>
              </a:rPr>
              <a:t></a:t>
            </a:r>
            <a:r>
              <a:rPr b="0" lang="en-US" sz="1000" spc="-1" strike="noStrike">
                <a:solidFill>
                  <a:srgbClr val="000000"/>
                </a:solidFill>
                <a:latin typeface="Arial"/>
              </a:rPr>
              <a:t> key on a calculator, the total area will be 2,827.43 k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0920" y="684360"/>
            <a:ext cx="4557600" cy="3417840"/>
          </a:xfrm>
          <a:prstGeom prst="rect">
            <a:avLst/>
          </a:prstGeom>
          <a:ln w="0">
            <a:noFill/>
          </a:ln>
        </p:spPr>
      </p:sp>
      <p:sp>
        <p:nvSpPr>
          <p:cNvPr id="571" name="PlaceHolder 2"/>
          <p:cNvSpPr>
            <a:spLocks noGrp="1"/>
          </p:cNvSpPr>
          <p:nvPr>
            <p:ph type="body"/>
          </p:nvPr>
        </p:nvSpPr>
        <p:spPr>
          <a:xfrm>
            <a:off x="914400" y="4330440"/>
            <a:ext cx="5029200" cy="19746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ullan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los soldados rusos patrullaron la circunferencia total del área evacuado alrededor de Chernobyl, ¿cuánta distancia tendrían que ir para hacer un círculo completo del perímetr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of a circle = 2 </a:t>
            </a:r>
            <a:r>
              <a:rPr b="0" lang="en-US" sz="1000" spc="-1" strike="noStrike">
                <a:solidFill>
                  <a:srgbClr val="000000"/>
                </a:solidFill>
                <a:latin typeface="Arial"/>
              </a:rPr>
              <a:t></a:t>
            </a:r>
            <a:r>
              <a:rPr b="0" lang="en-US" sz="1000" spc="-1" strike="noStrike">
                <a:solidFill>
                  <a:srgbClr val="000000"/>
                </a:solidFill>
                <a:latin typeface="Arial"/>
              </a:rPr>
              <a:t> r = </a:t>
            </a:r>
            <a:r>
              <a:rPr b="0" lang="en-US" sz="1000" spc="-1" strike="noStrike">
                <a:solidFill>
                  <a:srgbClr val="000000"/>
                </a:solidFill>
                <a:latin typeface="Arial"/>
              </a:rPr>
              <a:t></a:t>
            </a:r>
            <a:r>
              <a:rPr b="0" lang="en-US" sz="1000" spc="-1" strike="noStrike">
                <a:solidFill>
                  <a:srgbClr val="000000"/>
                </a:solidFill>
                <a:latin typeface="Arial"/>
              </a:rPr>
              <a:t> 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radius = diame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marL="228600" indent="-228600">
              <a:spcBef>
                <a:spcPts val="374"/>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x  30 km = </a:t>
            </a:r>
            <a:r>
              <a:rPr b="1" lang="en-US" sz="1000" spc="-1" strike="noStrike">
                <a:solidFill>
                  <a:srgbClr val="000000"/>
                </a:solidFill>
                <a:latin typeface="Arial"/>
              </a:rPr>
              <a:t>188.57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rcumferenc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efecto tendría el tiempo en la distribución de la radiación después del accid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ate radiation Chernobyl</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9480" y="684360"/>
            <a:ext cx="4559040" cy="341928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toxinas de los metales pesad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una dosis grande, muchos metales pueden envenenar a los organismos.  Sin embargo, algunos de estos metales son necesarios en el cuerpo en dosis pequeñas para que el cuerpo funcione bien (cobre, cinc, hierro).  ¿Cómo puede ser tanto bueno como malo para el cuerpo un met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lgunos metales tóxicos comunes son el mercurio, el cadmio, el aluminio, el arsénico, el cobre, y el hierro.  Haz una investigación en el internet o en la biblioteca para aprender si algunos de estos metales se encuentran naturalmente en Ucran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ful met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is needed in hemoglobin to carry oxyg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r>
              <a:rPr b="0" lang="en-US" sz="1000" spc="-1" strike="noStrike">
                <a:solidFill>
                  <a:srgbClr val="000000"/>
                </a:solidFill>
                <a:latin typeface="Arial"/>
                <a:ea typeface="Times New Roman"/>
              </a:rPr>
              <a:t> Physical and chemical properties of substa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vy metal poisoning environmental health hazards dose toxicity human healt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9480" y="684360"/>
            <a:ext cx="4559040" cy="3419280"/>
          </a:xfrm>
          <a:prstGeom prst="rect">
            <a:avLst/>
          </a:prstGeom>
          <a:ln w="0">
            <a:noFill/>
          </a:ln>
        </p:spPr>
      </p:sp>
      <p:sp>
        <p:nvSpPr>
          <p:cNvPr id="57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emisiones de las refinerías del petról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efinerías del petróleo echan varios tipos de productos químicos tóxicos a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odrían haber causado las enfermedades de la gente estas emisiones?  ¿y las enfermedades de las ra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il refinery emissions human health toxicity toxic chemicals environmental health hazard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9480" y="684360"/>
            <a:ext cx="4559040" cy="3419280"/>
          </a:xfrm>
          <a:prstGeom prst="rect">
            <a:avLst/>
          </a:prstGeom>
          <a:ln w="0">
            <a:noFill/>
          </a:ln>
        </p:spPr>
      </p:sp>
      <p:sp>
        <p:nvSpPr>
          <p:cNvPr id="57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qué del r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río tenía contaminación de desperdicios industriales y de excremento huma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Afectó a los pe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Qué opi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Crea un experimento que verifique la hipótesis de que estos contaminantes afectaron a los pe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mple experiment is to expose eggs, sperm, and tadpoles to this river water under controlled laboratory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nieper river industrial pollutants sewage contamination ecology fish environmental health hazards hypothesis experimental desig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 qué otras maneras pueden ser contaminados los r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De dónde viene el agua del río?  ¿Qué tipo de toxinas puede llevar el agua que se derrama de la superficie de la tier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iver contamination water drainage environmental health hazards toxi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9480" y="684360"/>
            <a:ext cx="4559040" cy="3419280"/>
          </a:xfrm>
          <a:prstGeom prst="rect">
            <a:avLst/>
          </a:prstGeom>
          <a:ln w="0">
            <a:noFill/>
          </a:ln>
        </p:spPr>
      </p:sp>
      <p:sp>
        <p:nvSpPr>
          <p:cNvPr id="5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errame de los pesticid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granjeros usan los pesticidios para evitar que los insectos coman sus plantas.  ¿Causan el problema los granje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podría probar un científico que los pesticidios causan las anormalidades de las ranas encontradas en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se eggs, sperm, and tadpoles to various concentrations of the pesticides being used by farmers to see which condition, if any, results in abnormal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sticide runoff environmental health hazards scientific method experimental method deformed frog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9480" y="684360"/>
            <a:ext cx="4559040" cy="3419280"/>
          </a:xfrm>
          <a:prstGeom prst="rect">
            <a:avLst/>
          </a:prstGeom>
          <a:ln w="0">
            <a:noFill/>
          </a:ln>
        </p:spPr>
      </p:sp>
      <p:sp>
        <p:nvSpPr>
          <p:cNvPr id="58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pasar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Repasa tu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apoya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experimental method experimental desig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cubierta del transbordador que subieron K.T. y Nikolai estaba a 5 ¼ metros arriba de la superficie del agua.  La cubierta de la barcaza a que saltaron (para escapar del KGB) estaba a 3 1/5 metros arriba del agu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distancia vertical cayeron los dos cuando saltaron de la cubierta del transbordador a la barcaz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Subtract the distance above the water of the two bo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21/4 m - 16/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lowest common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20 m - 64/20 m = 41/20 m = 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25 m - 3.20 m = </a:t>
            </a:r>
            <a:r>
              <a:rPr b="1" lang="en-US" sz="1000" spc="-1" strike="noStrike">
                <a:solidFill>
                  <a:srgbClr val="000000"/>
                </a:solidFill>
                <a:latin typeface="Arial"/>
              </a:rPr>
              <a:t>2.05 m</a:t>
            </a:r>
            <a:r>
              <a:rPr b="0" lang="en-US" sz="1000" spc="-1" strike="noStrike">
                <a:solidFill>
                  <a:srgbClr val="000000"/>
                </a:solidFill>
                <a:latin typeface="Arial"/>
              </a:rPr>
              <a:t>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  5/20 m – 3  4/20 m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Identify common factors/mult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a:t>
            </a:r>
            <a:r>
              <a:rPr b="0" lang="en-US" sz="1000" spc="-1" strike="noStrike">
                <a:solidFill>
                  <a:srgbClr val="000000"/>
                </a:solidFill>
                <a:latin typeface="Arial"/>
                <a:ea typeface="Times New Roman"/>
              </a:rPr>
              <a:t>Solve fractions/decimals using addition/subtr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tance fractions decimals common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50920" y="684360"/>
            <a:ext cx="4557600" cy="3417840"/>
          </a:xfrm>
          <a:prstGeom prst="rect">
            <a:avLst/>
          </a:prstGeom>
          <a:ln w="0">
            <a:noFill/>
          </a:ln>
        </p:spPr>
      </p:sp>
      <p:sp>
        <p:nvSpPr>
          <p:cNvPr id="58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biar el din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ientras K.T. se escondía, Nikolai compró dos boletos para el transbordador del mediodía.  Los dos boletos juntos costaron 116 rubles.  El tipo de cambio entre los rubles rusos y los dólares estadounidenses es: 1 USD (dólares estadounidenses) = 29 RUR (rubles ru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 cuesta un boleto en dólares estadouniden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ickets = 116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icket = 58 rubles  (116 rubles/ 2 tickets = 58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SD = 29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 USD </a:t>
            </a:r>
            <a:r>
              <a:rPr b="0" lang="en-US" sz="1000" spc="-1" strike="noStrike">
                <a:solidFill>
                  <a:srgbClr val="000000"/>
                </a:solidFill>
                <a:latin typeface="Arial"/>
              </a:rPr>
              <a:t>  =    </a:t>
            </a:r>
            <a:r>
              <a:rPr b="0" lang="en-US" sz="1000" spc="-1" strike="noStrike" u="sng">
                <a:solidFill>
                  <a:srgbClr val="000000"/>
                </a:solidFill>
                <a:uFillTx/>
                <a:latin typeface="Arial"/>
              </a:rPr>
              <a:t>_X_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RUR</a:t>
            </a:r>
            <a:r>
              <a:rPr b="0" lang="en-US" sz="1000" spc="-1" strike="noStrike">
                <a:solidFill>
                  <a:srgbClr val="000000"/>
                </a:solidFill>
                <a:latin typeface="Arial"/>
              </a:rPr>
              <a:t>	</a:t>
            </a:r>
            <a:r>
              <a:rPr b="0" lang="en-US" sz="1000" spc="-1" strike="noStrike">
                <a:solidFill>
                  <a:srgbClr val="000000"/>
                </a:solidFill>
                <a:latin typeface="Arial"/>
              </a:rPr>
              <a:t>  58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cost of ticket in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 RUR (1USD) = 29 RUR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a:t>
            </a:r>
            <a:r>
              <a:rPr b="1" lang="en-US" sz="1000" spc="-1" strike="noStrike">
                <a:solidFill>
                  <a:srgbClr val="000000"/>
                </a:solidFill>
                <a:latin typeface="Arial"/>
              </a:rPr>
              <a:t>2 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exchange rate rubles</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84360"/>
            <a:ext cx="4557600" cy="3417840"/>
          </a:xfrm>
          <a:prstGeom prst="rect">
            <a:avLst/>
          </a:prstGeom>
          <a:ln w="0">
            <a:noFill/>
          </a:ln>
        </p:spPr>
      </p:sp>
      <p:sp>
        <p:nvSpPr>
          <p:cNvPr id="5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flujo del agua y la contamin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ume que el río dibujado aquí tiene la misma anchura en una área dada, pero que tiene profundidades diferentes.  ¿En qué parte del río será más rápida la velocidad del flujo de agua?  ¿En las áreas menos profundas (A y C), o en el área más profund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ónde es probable que haya más contamina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locity of water flow will be more rapid in the shallow areas in a river.  Flow will slow down as depth incr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flow rate</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matemáticas de los tum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ez muerto que flotaba cerca de K.T. pesaba 500 gramos y luego aprendieron que el tumor enorme que tenía en un lado pesaba 100 gram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i el peso del tumor como fracción o porcentaje del peso del p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 pesaría el pez si le quitara el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00 gram tumor         </a:t>
            </a:r>
            <a:r>
              <a:rPr b="0" lang="en-US" sz="1000" spc="-1" strike="noStrike">
                <a:solidFill>
                  <a:srgbClr val="000000"/>
                </a:solidFill>
                <a:latin typeface="Arial"/>
              </a:rPr>
              <a:t>    =    </a:t>
            </a:r>
            <a:r>
              <a:rPr b="1" lang="en-US" sz="1000" spc="-1" strike="noStrike">
                <a:solidFill>
                  <a:srgbClr val="000000"/>
                </a:solidFill>
                <a:latin typeface="Arial"/>
              </a:rPr>
              <a:t>1 / 5</a:t>
            </a:r>
            <a:r>
              <a:rPr b="0" lang="en-US" sz="1000" spc="-1" strike="noStrike">
                <a:solidFill>
                  <a:srgbClr val="000000"/>
                </a:solidFill>
                <a:latin typeface="Arial"/>
              </a:rPr>
              <a:t>    =    </a:t>
            </a:r>
            <a:r>
              <a:rPr b="1" lang="en-US" sz="1000" spc="-1" strike="noStrike">
                <a:solidFill>
                  <a:srgbClr val="000000"/>
                </a:solidFill>
                <a:latin typeface="Arial"/>
              </a:rPr>
              <a:t>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gram total bod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umor accounts for 20% of the fish’s total bod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00 grams   (total body weight including the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100 grams</a:t>
            </a:r>
            <a:r>
              <a:rPr b="0" lang="en-US" sz="1000" spc="-1" strike="noStrike">
                <a:solidFill>
                  <a:srgbClr val="000000"/>
                </a:solidFill>
                <a:latin typeface="Arial"/>
              </a:rPr>
              <a:t>   (weight of the tum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400 grams</a:t>
            </a:r>
            <a:r>
              <a:rPr b="0" lang="en-US" sz="1000" spc="-1" strike="noStrike">
                <a:solidFill>
                  <a:srgbClr val="000000"/>
                </a:solidFill>
                <a:latin typeface="Arial"/>
              </a:rPr>
              <a:t>  (body weight of normal, healthy f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fractions ratio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iglesias que vieron K.T. y Nikolai en Kiev tenían cúpulas dorad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uedes identificar cuál de las figuras de abajo es una cúpul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pola is a dome-shaped structure resembling a Hershey’s Ki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descriptions of cupola include dome shapes such as you would see on top of the Texas Capit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hapes geometry cupola</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0920" y="684360"/>
            <a:ext cx="4557600" cy="3417840"/>
          </a:xfrm>
          <a:prstGeom prst="rect">
            <a:avLst/>
          </a:prstGeom>
          <a:ln w="0">
            <a:noFill/>
          </a:ln>
        </p:spPr>
      </p:sp>
      <p:sp>
        <p:nvSpPr>
          <p:cNvPr id="597" name="PlaceHolder 2"/>
          <p:cNvSpPr>
            <a:spLocks noGrp="1"/>
          </p:cNvSpPr>
          <p:nvPr>
            <p:ph type="body"/>
          </p:nvPr>
        </p:nvSpPr>
        <p:spPr>
          <a:xfrm>
            <a:off x="914400" y="4330800"/>
            <a:ext cx="5029200" cy="4254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ápanos si pue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agente del KGB (vestido de una bata gris) y su socio fueron en coche de Kiev a Kremenchug a una velocidad de 100 km/h.  K.T. y Nikolai viajaron por barcaza a una velocidad más lenta de 30 km/h.  Hay una distancia de 300 km por carretera y 200 km por río de Kiev a Kremenchu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ra posible que K.T. y Nikolia llegaran a  Kremenchug antes del KGB si el KGB salieron de Kiev 4 horas después de ell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to Kremenchu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ar:  300 km traveling at 10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300 km  /  100 km/h   =   3 hou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at:   200 km traveling at 3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200 km  /    30 km/h   =  6 hours  40 minu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the distance by boat is shorter than the distance traveled by car, it is faster to travel from Kiev to Kremenchug by car than to travel by bo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r. Trenchcoat (KGB) left 4 hours la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s travel time + 4 hrs behind time = 7 hrs total time for KGB to arrive at Kremenchu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KGB would arrive 20 minutes after K.T. and Nikol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hrs  – 6 hrs 40 mins = 20 m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e proportions using rat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dict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e data using median, mode, rang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equation manipul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los niveles de toxi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cromato es un agente muy eficaz que inhibe la corrosión.  Además, en un pigmento que se usa en algunas pinturas del me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n embargo, el cromato es tóxico para los seres humanos y los animales, y han mostrado que causa el 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HSA limita la cantidad de cromato que puede estar en el agua a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ímite permisible =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romate toxicity level parts per million permissible exposure limit</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0920" y="684360"/>
            <a:ext cx="4557600" cy="3417840"/>
          </a:xfrm>
          <a:prstGeom prst="rect">
            <a:avLst/>
          </a:prstGeom>
          <a:ln w="0">
            <a:noFill/>
          </a:ln>
        </p:spPr>
      </p:sp>
      <p:sp>
        <p:nvSpPr>
          <p:cNvPr id="601" name="PlaceHolder 2"/>
          <p:cNvSpPr>
            <a:spLocks noGrp="1"/>
          </p:cNvSpPr>
          <p:nvPr>
            <p:ph type="body"/>
          </p:nvPr>
        </p:nvSpPr>
        <p:spPr>
          <a:xfrm>
            <a:off x="304920" y="4254480"/>
            <a:ext cx="6324480" cy="471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los niveles de toxi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upone que el pez con el tumor fue criado en un acuario de dimensiones iguales a las de una piscina olímp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rgura = 50 m  Anchura = 25 m   Profundidad = 2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s kilos de cromato tienes que añadir para llegar al límite permisible de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ind the volume of the t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length x width x depth  =  50 m x 25 m x 2 m  =  2,500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convert m</a:t>
            </a:r>
            <a:r>
              <a:rPr b="0" lang="en-US" sz="1000" spc="-1" strike="noStrike" baseline="30000">
                <a:solidFill>
                  <a:srgbClr val="000000"/>
                </a:solidFill>
                <a:latin typeface="Arial"/>
              </a:rPr>
              <a:t>3</a:t>
            </a:r>
            <a:r>
              <a:rPr b="0" lang="en-US" sz="1000" spc="-1" strike="noStrike">
                <a:solidFill>
                  <a:srgbClr val="000000"/>
                </a:solidFill>
                <a:latin typeface="Arial"/>
              </a:rPr>
              <a:t> in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t>
            </a:r>
            <a:r>
              <a:rPr b="0" lang="en-US" sz="1000" spc="-1" strike="noStrike" baseline="30000">
                <a:solidFill>
                  <a:srgbClr val="000000"/>
                </a:solidFill>
                <a:latin typeface="Arial"/>
              </a:rPr>
              <a:t>3</a:t>
            </a:r>
            <a:r>
              <a:rPr b="0" lang="en-US" sz="1000" spc="-1" strike="noStrike">
                <a:solidFill>
                  <a:srgbClr val="000000"/>
                </a:solidFill>
                <a:latin typeface="Arial"/>
              </a:rPr>
              <a:t> = 1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r>
              <a:rPr b="0" lang="en-US" sz="1000" spc="-1" strike="noStrike">
                <a:solidFill>
                  <a:srgbClr val="000000"/>
                </a:solidFill>
                <a:latin typeface="Arial"/>
              </a:rPr>
              <a:t> =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0.1 ppm equal to X/2,500,000 L and solve for X (where X is the amount of Chromium needed to reach the Permissible Exposure Li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ppm = 0.1 mg of Chromium/1 kg of solution = 0.1 mg of Chromium/1 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mg/1L  =  X/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1L) = 0.1 mg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250,000 mg =  250 g  =  </a:t>
            </a:r>
            <a:r>
              <a:rPr b="1" lang="en-US" sz="1000" spc="-1" strike="noStrike">
                <a:solidFill>
                  <a:srgbClr val="000000"/>
                </a:solidFill>
                <a:latin typeface="Arial"/>
              </a:rPr>
              <a:t>0.25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only takes 0.25 kg (or 0.55 lbs) to reach the Permissible Exposure Limit in a tank the size of an Olympic-size swimming pool.  (1 kg = 2.2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ratios conversions permissible exposure limit ppm parts per mill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l centro de Ucrani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49 ° N.L. y 32 °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Ucrania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Ucrania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standard gramma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Hemisphere geography world geography globa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7C4F-3F42-4E19-817A-3CAAE0711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50920" y="684360"/>
            <a:ext cx="4557600" cy="3417840"/>
          </a:xfrm>
          <a:prstGeom prst="rect">
            <a:avLst/>
          </a:prstGeom>
          <a:ln w="0">
            <a:noFill/>
          </a:ln>
        </p:spPr>
      </p:sp>
      <p:sp>
        <p:nvSpPr>
          <p:cNvPr id="60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ensidad de pob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la densidad de población de Ucrania era de 80.77 personas por kilómetro cuadrado antes del accidente de Chernobyl,  ¿cuántas personas tuvieron que ser evacuadas dentro del radio de 30 km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previous question you know there is a area of 2,828.57 square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28.57km</a:t>
            </a:r>
            <a:r>
              <a:rPr b="0" lang="en-US" sz="1000" spc="-1" strike="noStrike" baseline="30000">
                <a:solidFill>
                  <a:srgbClr val="000000"/>
                </a:solidFill>
                <a:latin typeface="Arial"/>
              </a:rPr>
              <a:t>2</a:t>
            </a:r>
            <a:r>
              <a:rPr b="0" lang="en-US" sz="1000" spc="-1" strike="noStrike">
                <a:solidFill>
                  <a:srgbClr val="000000"/>
                </a:solidFill>
                <a:latin typeface="Arial"/>
              </a:rPr>
              <a:t> x (80.77 people / km</a:t>
            </a:r>
            <a:r>
              <a:rPr b="0" lang="en-US" sz="1000" spc="-1" strike="noStrike" baseline="30000">
                <a:solidFill>
                  <a:srgbClr val="000000"/>
                </a:solidFill>
                <a:latin typeface="Arial"/>
              </a:rPr>
              <a:t>2</a:t>
            </a:r>
            <a:r>
              <a:rPr b="0" lang="en-US" sz="1000" spc="-1" strike="noStrike">
                <a:solidFill>
                  <a:srgbClr val="000000"/>
                </a:solidFill>
                <a:latin typeface="Arial"/>
              </a:rPr>
              <a:t>) = 228,463.59 or </a:t>
            </a:r>
            <a:r>
              <a:rPr b="1" lang="en-US" sz="1000" spc="-1" strike="noStrike">
                <a:solidFill>
                  <a:srgbClr val="000000"/>
                </a:solidFill>
                <a:latin typeface="Arial"/>
              </a:rPr>
              <a:t>228,464 people</a:t>
            </a:r>
            <a:r>
              <a:rPr b="0" lang="en-US" sz="1000" spc="-1" strike="noStrike">
                <a:solidFill>
                  <a:srgbClr val="000000"/>
                </a:solidFill>
                <a:latin typeface="Arial"/>
              </a:rPr>
              <a:t> had to be evacu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population density</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D9A0-A6EB-40C6-911D-2C38BF032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50920" y="684360"/>
            <a:ext cx="4557600" cy="3417840"/>
          </a:xfrm>
          <a:prstGeom prst="rect">
            <a:avLst/>
          </a:prstGeom>
          <a:ln w="0">
            <a:noFill/>
          </a:ln>
        </p:spPr>
      </p:sp>
      <p:sp>
        <p:nvSpPr>
          <p:cNvPr id="61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i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ardaron 2 horas en transportar a Nikolai y a K.T. de Pripyat a Kiev.  Si viajaron </a:t>
            </a:r>
            <a:r>
              <a:rPr b="0" lang="en-US" sz="1000" spc="-1" strike="noStrike">
                <a:solidFill>
                  <a:srgbClr val="000000"/>
                </a:solidFill>
                <a:latin typeface="Arial"/>
              </a:rPr>
              <a:t>11.27 km</a:t>
            </a:r>
            <a:r>
              <a:rPr b="0" lang="es-MX" sz="1000" spc="-1" strike="noStrike">
                <a:solidFill>
                  <a:srgbClr val="000000"/>
                </a:solidFill>
                <a:latin typeface="Arial"/>
              </a:rPr>
              <a:t> por 15 minutos, ¿cuánta distancia viajar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vierte la distancia del viaje a mill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urs x (11.27 km/ 15 min.) x (60 min/ 1 hour) = </a:t>
            </a:r>
            <a:r>
              <a:rPr b="1" lang="en-US" sz="1000" spc="-1" strike="noStrike">
                <a:solidFill>
                  <a:srgbClr val="000000"/>
                </a:solidFill>
                <a:latin typeface="Arial"/>
              </a:rPr>
              <a:t>90.16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rom kilometers to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16 km x (0.621 miles / km) = </a:t>
            </a:r>
            <a:r>
              <a:rPr b="1" lang="en-US" sz="1000" spc="-1" strike="noStrike">
                <a:solidFill>
                  <a:srgbClr val="000000"/>
                </a:solidFill>
                <a:latin typeface="Arial"/>
              </a:rPr>
              <a:t>56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86C1-A0D2-45FF-8898-07B2C5284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50920" y="684360"/>
            <a:ext cx="4557600" cy="3417840"/>
          </a:xfrm>
          <a:prstGeom prst="rect">
            <a:avLst/>
          </a:prstGeom>
          <a:ln w="0">
            <a:noFill/>
          </a:ln>
        </p:spPr>
      </p:sp>
      <p:sp>
        <p:nvSpPr>
          <p:cNvPr id="61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ando Nikolai regresó con los boletos para el viaje, también tenía una babushka, o una bufanda, para K.T.  K.T. se la enrolló dos veces por el cuello y todavía tenía 50.8 cm colgando suelta.  Asumiendo que el cuello de K.T. es perfectamente redonda y que tiene un radio de 6.35 cm, ¿cuánto mide la 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vierte la longitud a pulgad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circumference of K.T.’s ne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a:t>
            </a:r>
            <a:r>
              <a:rPr b="0" lang="en-US" sz="1000" spc="-1" strike="noStrike">
                <a:solidFill>
                  <a:srgbClr val="000000"/>
                </a:solidFill>
                <a:latin typeface="Verdana"/>
              </a:rPr>
              <a:t></a:t>
            </a:r>
            <a:r>
              <a:rPr b="0" lang="en-US" sz="1000" spc="-1" strike="noStrike">
                <a:solidFill>
                  <a:srgbClr val="000000"/>
                </a:solidFill>
                <a:latin typeface="Arial"/>
              </a:rPr>
              <a:t> x 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3.14 x 6.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39.9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2 for the number of times around K.T.’s neck and add the 50.8 cm rem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39.9 cm) + 50.8 cm = </a:t>
            </a:r>
            <a:r>
              <a:rPr b="1" lang="en-US" sz="1000" spc="-1" strike="noStrike">
                <a:solidFill>
                  <a:srgbClr val="000000"/>
                </a:solidFill>
                <a:latin typeface="Arial"/>
              </a:rPr>
              <a:t>130.6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6 cm / (2.54 cm/in) = </a:t>
            </a:r>
            <a:r>
              <a:rPr b="1" lang="en-US" sz="1000" spc="-1" strike="noStrike">
                <a:solidFill>
                  <a:srgbClr val="000000"/>
                </a:solidFill>
                <a:latin typeface="Arial"/>
              </a:rPr>
              <a:t>51.4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ircumference length</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926E-DE90-40A2-B674-EEAB8A0E6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50920" y="684360"/>
            <a:ext cx="4557600" cy="3417840"/>
          </a:xfrm>
          <a:prstGeom prst="rect">
            <a:avLst/>
          </a:prstGeom>
          <a:ln w="0">
            <a:noFill/>
          </a:ln>
        </p:spPr>
      </p:sp>
      <p:sp>
        <p:nvSpPr>
          <p:cNvPr id="62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babushka que Nikolai compró para K.T. tenía una anchura de 30 cm.  ¿Qué es el área de la 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onvierte el área a metros cuadr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sume que la babushka tiene la forma de un rectángul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L x 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130.6 cm x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a:t>
            </a:r>
            <a:r>
              <a:rPr b="1" lang="en-US" sz="1000" spc="-1" strike="noStrike">
                <a:solidFill>
                  <a:srgbClr val="000000"/>
                </a:solidFill>
                <a:latin typeface="Arial"/>
              </a:rPr>
              <a:t>3,916.68 c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meters squ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16.68 cm</a:t>
            </a:r>
            <a:r>
              <a:rPr b="0" lang="en-US" sz="1000" spc="-1" strike="noStrike" baseline="30000">
                <a:solidFill>
                  <a:srgbClr val="000000"/>
                </a:solidFill>
                <a:latin typeface="Arial"/>
              </a:rPr>
              <a:t>2</a:t>
            </a:r>
            <a:r>
              <a:rPr b="0" lang="en-US" sz="1000" spc="-1" strike="noStrike">
                <a:solidFill>
                  <a:srgbClr val="000000"/>
                </a:solidFill>
                <a:latin typeface="Arial"/>
              </a:rPr>
              <a:t> x (1 m/ 100 cm) x (1 m/ 100cm) = </a:t>
            </a:r>
            <a:r>
              <a:rPr b="1" lang="en-US" sz="1000" spc="-1" strike="noStrike">
                <a:solidFill>
                  <a:srgbClr val="000000"/>
                </a:solidFill>
                <a:latin typeface="Arial"/>
              </a:rPr>
              <a:t>0.392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conversions</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6F56-622E-4DE1-BBBF-42EFFF991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50920" y="684360"/>
            <a:ext cx="4557600" cy="3417840"/>
          </a:xfrm>
          <a:prstGeom prst="rect">
            <a:avLst/>
          </a:prstGeom>
          <a:ln w="0">
            <a:noFill/>
          </a:ln>
        </p:spPr>
      </p:sp>
      <p:sp>
        <p:nvSpPr>
          <p:cNvPr id="63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ción de 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crania tiene una población de </a:t>
            </a:r>
            <a:r>
              <a:rPr b="0" lang="en-US" sz="1000" spc="-1" strike="noStrike">
                <a:solidFill>
                  <a:srgbClr val="000000"/>
                </a:solidFill>
                <a:latin typeface="Arial"/>
              </a:rPr>
              <a:t>48,760,474</a:t>
            </a:r>
            <a:r>
              <a:rPr b="0" lang="es-MX" sz="1000" spc="-1" strike="noStrike">
                <a:solidFill>
                  <a:srgbClr val="000000"/>
                </a:solidFill>
                <a:latin typeface="Arial"/>
              </a:rPr>
              <a:t>.  17 millones de personas fueron contaminadas de alguna manera de la radiación del accidente de Chernobyl. ¿Qué porcentaje de la población fue afectada por el acciden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00,000 people / 48,760,474 people = </a:t>
            </a:r>
            <a:r>
              <a:rPr b="1" lang="en-US" sz="1000" spc="-1" strike="noStrike">
                <a:solidFill>
                  <a:srgbClr val="000000"/>
                </a:solidFill>
                <a:latin typeface="Arial"/>
              </a:rPr>
              <a:t>0.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s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86 x 100% = </a:t>
            </a:r>
            <a:r>
              <a:rPr b="1" lang="en-US" sz="1000" spc="-1" strike="noStrike">
                <a:solidFill>
                  <a:srgbClr val="000000"/>
                </a:solidFill>
                <a:latin typeface="Arial"/>
              </a:rPr>
              <a:t>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F0A8-914C-4C4D-90BB-6CE417CDD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apá de Nikol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apá de Nikolai era uno de las 800,000 personas que fueron a decontaminar el área alrededor de Chernobyl.  Aproximadamente 17 a 45 por ciento de estas personas recibieron una dosis de más de 10 a 25 rads de radiación.  ¿Qué es el número más alto de personas que posiblemente recibieron una dosis de 10 a 25 rads de radia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he highest percent to a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 x (1 / 100%) = 0.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0 people x 0.45 = </a:t>
            </a:r>
            <a:r>
              <a:rPr b="1" lang="en-US" sz="1000" spc="-1" strike="noStrike">
                <a:solidFill>
                  <a:srgbClr val="000000"/>
                </a:solidFill>
                <a:latin typeface="Arial"/>
              </a:rPr>
              <a:t>360,000 people</a:t>
            </a:r>
            <a:r>
              <a:rPr b="0" lang="en-US" sz="1000" spc="-1" strike="noStrike">
                <a:solidFill>
                  <a:srgbClr val="000000"/>
                </a:solidFill>
                <a:latin typeface="Arial"/>
              </a:rPr>
              <a:t> possibly exposed to the 10 to 25 rad dose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ratio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96BD-2BC8-44E9-9D1C-432C7D2D5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0920" y="684360"/>
            <a:ext cx="4557600" cy="3417840"/>
          </a:xfrm>
          <a:prstGeom prst="rect">
            <a:avLst/>
          </a:prstGeom>
          <a:ln w="0">
            <a:noFill/>
          </a:ln>
        </p:spPr>
      </p:sp>
      <p:sp>
        <p:nvSpPr>
          <p:cNvPr id="64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stados Unidos sólo permite una dosis de 0.1 rad de radiación para el público. </a:t>
            </a:r>
            <a:r>
              <a:rPr b="0" lang="en-US" sz="1000" spc="-1" strike="noStrike">
                <a:solidFill>
                  <a:srgbClr val="000000"/>
                </a:solidFill>
                <a:latin typeface="Arial"/>
              </a:rPr>
              <a:t>¿</a:t>
            </a:r>
            <a:r>
              <a:rPr b="0" lang="es-MX" sz="1000" spc="-1" strike="noStrike">
                <a:solidFill>
                  <a:srgbClr val="000000"/>
                </a:solidFill>
                <a:latin typeface="Arial"/>
              </a:rPr>
              <a:t>Cuántas veces más grande que la dosis permitida para el público son los 25 rads a que estaban expuestos algunos de los trabajadores ucr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25 rad by 0.1 r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rad /0.1 rad= 2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a:t>
            </a:r>
            <a:r>
              <a:rPr b="1" lang="en-US" sz="1000" spc="-1" strike="noStrike">
                <a:solidFill>
                  <a:srgbClr val="000000"/>
                </a:solidFill>
                <a:latin typeface="Arial"/>
              </a:rPr>
              <a:t>250 times</a:t>
            </a:r>
            <a:r>
              <a:rPr b="0" lang="en-US" sz="1000" spc="-1" strike="noStrike">
                <a:solidFill>
                  <a:srgbClr val="000000"/>
                </a:solidFill>
                <a:latin typeface="Arial"/>
              </a:rPr>
              <a:t> greater exposure than what is allowed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xposure ratio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2911-B975-4569-AD44-2CF68D106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0920" y="684360"/>
            <a:ext cx="4557600" cy="3417840"/>
          </a:xfrm>
          <a:prstGeom prst="rect">
            <a:avLst/>
          </a:prstGeom>
          <a:ln w="0">
            <a:noFill/>
          </a:ln>
        </p:spPr>
      </p:sp>
      <p:sp>
        <p:nvSpPr>
          <p:cNvPr id="64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patas de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maginamos que después de cada dosis de 7 rads de radiación, una rana brota una pata extra.  Encuentras  una rana con 10 patas.  ¿A cuánta radiación ha sido expuesta esta ra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e normal number of legs a frog should have from the total number this frog h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legs – 4 legs = 6 extra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number of extra legs by the 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egs x 7 rad/leg = </a:t>
            </a:r>
            <a:r>
              <a:rPr b="1" lang="en-US" sz="1000" spc="-1" strike="noStrike">
                <a:solidFill>
                  <a:srgbClr val="000000"/>
                </a:solidFill>
                <a:latin typeface="Arial"/>
              </a:rPr>
              <a:t>42 rad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manipul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D,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pell frequently misspelled words correc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pell accurately in final draf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in complete sentences, varying the types.</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conjunctions to connect ideas meaningfully.</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 standard English usage in writing.</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djectives (comparatives and superlatives) and adverbs appropriately to make writing vivid or preci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Use verb tenses appropriately and consisten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construction language usage unlocking language</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84360"/>
            <a:ext cx="4557600" cy="3417840"/>
          </a:xfrm>
          <a:prstGeom prst="rect">
            <a:avLst/>
          </a:prstGeom>
          <a:ln w="0">
            <a:noFill/>
          </a:ln>
        </p:spPr>
      </p:sp>
      <p:sp>
        <p:nvSpPr>
          <p:cNvPr id="6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afío de vocabul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ra con cuidado “Escape por el río”  para encontrar pistas de contexto de palabras que pueden tener sentidos escond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el nombre del continente en qu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84360"/>
            <a:ext cx="4557600" cy="3417840"/>
          </a:xfrm>
          <a:prstGeom prst="rect">
            <a:avLst/>
          </a:prstGeom>
          <a:ln w="0">
            <a:noFill/>
          </a:ln>
        </p:spPr>
      </p:sp>
      <p:sp>
        <p:nvSpPr>
          <p:cNvPr id="6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ndiendo la perspec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Desde la perspectiva de quién fue contada esta histo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ómo sería diferente si hubiera sido contada desde otro punto de vis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s told from K.T.’s perspe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slide the students will be asked to take Nikolai’s perspective and provide a description of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mparing percep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escribing how author’s perspective affects tex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a:t>
            </a:r>
            <a:r>
              <a:rPr b="0" lang="en-US" sz="1000" spc="-1" strike="noStrike">
                <a:solidFill>
                  <a:srgbClr val="000000"/>
                </a:solidFill>
                <a:latin typeface="Arial"/>
                <a:ea typeface="Times New Roman"/>
              </a:rPr>
              <a:t>Comparing text events with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 viewpoint</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84360"/>
            <a:ext cx="4557600" cy="3417840"/>
          </a:xfrm>
          <a:prstGeom prst="rect">
            <a:avLst/>
          </a:prstGeom>
          <a:ln w="0">
            <a:noFill/>
          </a:ln>
        </p:spPr>
      </p:sp>
      <p:sp>
        <p:nvSpPr>
          <p:cNvPr id="6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oder de la perspecti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párrafo a la derecha, vemos a Nikolai desde el punto de vista de K.T.  Reescribe este párrafo, describiendo como sería si hubiéramos visto a K.T. desde la perspectiva de Nikolai en la misma esce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 of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El muchacho bajó la linterna y caminó hacia K.T. “¿Qué haces aquí?,”  él le preguntó a K.T..  Él era mucho más alto que ella.  En la tenue luz, ella pudo ver a un muchacho con vivos ojos azules,  mirándola.  Tenía un pequeño bigote en su labio superior, ¿Podría confiar en ese muchacho?  Se veía solamente un poco mayor que ella.  Ella tenía que averiguar en dónde esta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Producing cohesive written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a:t>
            </a:r>
            <a:r>
              <a:rPr b="0" lang="en-US" sz="1000" spc="-1" strike="noStrike">
                <a:solidFill>
                  <a:srgbClr val="000000"/>
                </a:solidFill>
                <a:latin typeface="Arial"/>
                <a:ea typeface="Times New Roman"/>
              </a:rPr>
              <a:t>Generating ideas and plans for writing by using prewriting strateg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perspective</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84360"/>
            <a:ext cx="4557600" cy="3417840"/>
          </a:xfrm>
          <a:prstGeom prst="rect">
            <a:avLst/>
          </a:prstGeom>
          <a:ln w="0">
            <a:noFill/>
          </a:ln>
        </p:spPr>
      </p:sp>
      <p:sp>
        <p:nvSpPr>
          <p:cNvPr id="6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ves las cos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ensayo de una página que resuma los puntos más importantes del cuento como </a:t>
            </a:r>
            <a:r>
              <a:rPr b="0" lang="es-MX" sz="1000" spc="-1" strike="noStrike" u="sng">
                <a:solidFill>
                  <a:srgbClr val="000000"/>
                </a:solidFill>
                <a:uFillTx/>
                <a:latin typeface="Arial"/>
              </a:rPr>
              <a:t>tú</a:t>
            </a:r>
            <a:r>
              <a:rPr b="0" lang="es-MX" sz="1000" spc="-1" strike="noStrike">
                <a:solidFill>
                  <a:srgbClr val="000000"/>
                </a:solidFill>
                <a:latin typeface="Arial"/>
              </a:rPr>
              <a:t> los 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Recuerda incluir la información bás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nt of this exercise is to encourage the students to review the basic elements of the story – who, what, when, where and why.  A good composition will include a strong introduction, clear chronological organization, specific examples of key events, and vocabulary that includes transition words and expanded sentences. Students can refer to the writing appendices to refresh their memories on how to write an informative ess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Reading  with fluency and understanding in texts at appropriate difficulty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a:t>
            </a:r>
            <a:r>
              <a:rPr b="0" lang="en-US" sz="1000" spc="-1" strike="noStrike">
                <a:solidFill>
                  <a:srgbClr val="000000"/>
                </a:solidFill>
                <a:latin typeface="Arial"/>
                <a:ea typeface="Times New Roman"/>
              </a:rPr>
              <a:t>Paraphrasing and summarizing text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t>
            </a:r>
            <a:r>
              <a:rPr b="0" lang="en-US" sz="1000" spc="-1" strike="noStrike">
                <a:solidFill>
                  <a:srgbClr val="000000"/>
                </a:solidFill>
                <a:latin typeface="Arial"/>
                <a:ea typeface="Times New Roman"/>
              </a:rPr>
              <a:t>Writing for a variety of audiences and purposes and in a variety of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major points summariz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0920" y="684360"/>
            <a:ext cx="4557600" cy="3417840"/>
          </a:xfrm>
          <a:prstGeom prst="rect">
            <a:avLst/>
          </a:prstGeom>
          <a:ln w="0">
            <a:noFill/>
          </a:ln>
        </p:spPr>
      </p:sp>
      <p:sp>
        <p:nvSpPr>
          <p:cNvPr id="6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Usando el cuento, determina la fecha del accidente del reactor nuclear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magina que es el 10 de mayo de 1986 y que tú eres un periodista estadounidense haciendo un reportaje del desastre para el periódico de tu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porter newspaper writing activit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0920" y="684360"/>
            <a:ext cx="4557600" cy="3417840"/>
          </a:xfrm>
          <a:prstGeom prst="rect">
            <a:avLst/>
          </a:prstGeom>
          <a:ln w="0">
            <a:noFill/>
          </a:ln>
        </p:spPr>
      </p:sp>
      <p:sp>
        <p:nvSpPr>
          <p:cNvPr id="6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vestiga los detalles del accidente de Chernobyl en la biblioteca de tu escuela o en el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artículo de una página que informe a los lectores de tu ciudad de la información más importante acerca del accid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cluye un mapa simple en tu artículo para informarles a tus lectores dónde está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kills used in this exercise are similar to the those in the previous writing activity but include the element of resear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D,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Generating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veloping drafts by categorizing ideas and organiz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vising selected drafts by adding, elaborating, deleting, combining, and rearrang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vising drafts for coherence, progression, and logical support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Editing drafts for specific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Using available technology to support aspects of creating, revising, editing, and publishing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Refining selected pieces for general to specific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Selecting and using reference materials and resources for writing, revising, and editing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B, C, D,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Framing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Organizing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Taking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Summarizing and organizing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valuating own research and raising furth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Following accepted formats for writing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ismo de pri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Mientras K.T. y Nikolai corrieron por Kiev para escaparse de las autoridades,  K.T. notó los vistos y monumentos hermosos de la ciudad.  Nikolai añadió que había muchos lugares más que </a:t>
            </a:r>
            <a:r>
              <a:rPr b="0" lang="en-US" sz="1000" spc="-1" strike="noStrike">
                <a:solidFill>
                  <a:srgbClr val="000000"/>
                </a:solidFill>
                <a:latin typeface="Arial"/>
              </a:rPr>
              <a:t>él</a:t>
            </a:r>
            <a:r>
              <a:rPr b="0" lang="es-MX" sz="1000" spc="-1" strike="noStrike">
                <a:solidFill>
                  <a:srgbClr val="000000"/>
                </a:solidFill>
                <a:latin typeface="Arial"/>
              </a:rPr>
              <a:t> le querría mostrar a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ee de nuevo esta parte del cuento y describe un lugar que K.T. y Nikolai vieron y un lugar que Nikolai quería mostrarle a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ctivity will also require some research.  Web sites or encyclopedia articles on Kiev will yield useful im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84360"/>
            <a:ext cx="4557600" cy="3417840"/>
          </a:xfrm>
          <a:prstGeom prst="rect">
            <a:avLst/>
          </a:prstGeom>
          <a:ln w="0">
            <a:noFill/>
          </a:ln>
        </p:spPr>
      </p:sp>
      <p:sp>
        <p:nvSpPr>
          <p:cNvPr id="6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rende más de Kie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vestiga la ciudad de Kiev, incluyendo los lugares que acabas de mencion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z un panfleto de viaje de una página que informe a un viajero prospectivo y le persuada visitar Kiev.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cluye un dibujo de por lo menos una de las atracciones de Kiev en tu panfle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travel brochure</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84360"/>
            <a:ext cx="4557600" cy="3417840"/>
          </a:xfrm>
          <a:prstGeom prst="rect">
            <a:avLst/>
          </a:prstGeom>
          <a:ln w="0">
            <a:noFill/>
          </a:ln>
        </p:spPr>
      </p:sp>
      <p:sp>
        <p:nvSpPr>
          <p:cNvPr id="66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ora tú eres el huésped</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magina que Nikolai va a venir a visitar tu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repara un itinerario de un día que nombre y describa los lugares que más quieres que un invitado extranjero vi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oge a un lugar para describirlo con más detalle.  Incluye una foto o dibujo y una descripción completa de este lug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arize the students with the concept of an itinerary. The formal definition of this word is the route or proposed route of a journey or an account or record of a journey.  In common usage, itinerary refers to a sequence of events scheduled at designated times. This is similar to the formal definition but there is sometimes not a journey over distance but rather a progression through the events of a given day or few days. Practice writing an itinerary for something familiar (e.g., a typical school day in which the student “travels” from class to class to lunch room etc.). Now ask the students to prepare a 3 or 4 stop itinerary that highlights local attractions.  These needn’t be large public attractions, but can be places that the students feel represent their community (e.g., a favorite local diner, the library, the swimming pool).  This assignment can be extended by asking the students to pick one local highlight for a more complete description (including pictures).  All the individual descriptions could be combined to produce a class travel brochure for your t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descriptive writing</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84360"/>
            <a:ext cx="4557600" cy="3417840"/>
          </a:xfrm>
          <a:prstGeom prst="rect">
            <a:avLst/>
          </a:prstGeom>
          <a:ln w="0">
            <a:noFill/>
          </a:ln>
        </p:spPr>
      </p:sp>
      <p:sp>
        <p:nvSpPr>
          <p:cNvPr id="67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ás cerca de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inando to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el cuento, Nikolai habla con K.T. de los problemas del medio ambiente que hay en su paí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y problemas del medio ambiente donde vives t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Menciona un problema del medio ambiente que hay en tu ciu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a:t>
            </a:r>
            <a:r>
              <a:rPr b="0" lang="en-US" sz="1000" spc="-1" strike="noStrike">
                <a:solidFill>
                  <a:srgbClr val="000000"/>
                </a:solidFill>
                <a:latin typeface="Arial"/>
                <a:ea typeface="Times New Roman"/>
              </a:rPr>
              <a:t>Demonstrating effective communication skil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t>
            </a:r>
            <a:r>
              <a:rPr b="0" lang="en-US" sz="1000" spc="-1" strike="noStrike">
                <a:solidFill>
                  <a:srgbClr val="000000"/>
                </a:solidFill>
                <a:latin typeface="Arial"/>
                <a:ea typeface="Times New Roman"/>
              </a:rPr>
              <a:t>Interacting with writers inside and outside the classroom in ways that reflect the practical uses of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t>
            </a:r>
            <a:r>
              <a:rPr b="0" lang="en-US" sz="1000" spc="-1" strike="noStrike">
                <a:solidFill>
                  <a:srgbClr val="000000"/>
                </a:solidFill>
                <a:latin typeface="Arial"/>
                <a:ea typeface="Times New Roman"/>
              </a:rPr>
              <a:t>Understanding and interpreting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t>
            </a:r>
            <a:r>
              <a:rPr b="0" lang="en-US" sz="1000" spc="-1" strike="noStrike">
                <a:solidFill>
                  <a:srgbClr val="000000"/>
                </a:solidFill>
                <a:latin typeface="Arial"/>
                <a:ea typeface="Times New Roman"/>
              </a:rPr>
              <a:t>Analyzing and critiquing the significance of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t>
            </a:r>
            <a:r>
              <a:rPr b="0" lang="en-US" sz="1000" spc="-1" strike="noStrike">
                <a:solidFill>
                  <a:srgbClr val="000000"/>
                </a:solidFill>
                <a:latin typeface="Arial"/>
                <a:ea typeface="Times New Roman"/>
              </a:rPr>
              <a:t>Producing visual images, messages, and meanings that communicate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environmental challenge</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ás cerca de ca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inando to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ensayo de una página que proponga una solución para el problema del medio ambiente de tu ciudad.  Incluye argumentos persuasivos que convenzan a tu lector que tu solución va a funcion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E,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to influence such as to persuade, argue, and reque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elect and use voice and style appropriate to audience and purpo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Choose the appropriate form for own purpose for wr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el centro de Ucrania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N.L, 32°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se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emos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 del medio ambiente causó los problemas de salud?  ¿Cómo supi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odrían hacer para evitar los problemas de sal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Ucrani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Ucrani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Ucrani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latitude longitude geography world geography map read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53842-AD0E-4C84-8577-02C553147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0B92-BB2B-4CB2-8D6B-2D8C56F8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2F782-E9A3-491F-85CC-0E606FCCC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562F7-955E-4614-B0CF-1A126A879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14C9-1407-44ED-80A1-76EB95B3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044C-7D35-45A4-975C-F1922E0D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C2536-6462-4B24-9A4F-A832C364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C4A8-23C0-4B6C-BABB-D1483C45D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6D8B9-0DA6-418A-B09B-7593FD9C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A34D-ACE3-4F53-8006-52C00493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B2C33-108B-412E-8564-4C2F6B66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BB4C-E01F-47CA-9B14-DFF64BEF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8443-AACC-4335-B628-B24EE02F0F3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76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24-42, 46-51 and</a:t>
            </a:r>
            <a:r>
              <a:rPr b="1" i="1" lang="en-US" sz="2400" spc="-1" strike="noStrike">
                <a:solidFill>
                  <a:srgbClr val="ebebeb"/>
                </a:solidFill>
                <a:latin typeface="Times New Roman"/>
              </a:rPr>
              <a:t> </a:t>
            </a:r>
            <a:r>
              <a:rPr b="1" lang="en-US" sz="2400" spc="-1" strike="noStrike">
                <a:solidFill>
                  <a:srgbClr val="ebebeb"/>
                </a:solidFill>
                <a:latin typeface="Times New Roman"/>
              </a:rPr>
              <a:t>UK 21.0-39.0, 43.0-48.0</a:t>
            </a:r>
            <a:r>
              <a:rPr b="1" lang="en-US" sz="2400" spc="-1" strike="noStrike">
                <a:solidFill>
                  <a:srgbClr val="ebebeb"/>
                </a:solidFill>
                <a:latin typeface="Times New Roman"/>
              </a:rPr>
              <a:t>	</a:t>
            </a:r>
            <a:br>
              <a:rPr sz="2000"/>
            </a:br>
            <a:r>
              <a:rPr b="1" lang="en-US" sz="2400" spc="-1" strike="noStrike">
                <a:solidFill>
                  <a:srgbClr val="ebebeb"/>
                </a:solidFill>
                <a:latin typeface="Times New Roman"/>
              </a:rPr>
              <a:t>	</a:t>
            </a:r>
            <a:br>
              <a:rPr sz="2400"/>
            </a:br>
            <a:r>
              <a:rPr b="1" lang="en-US" sz="2400" spc="-1" strike="noStrike">
                <a:solidFill>
                  <a:srgbClr val="ebebeb"/>
                </a:solidFill>
                <a:latin typeface="Times New Roman"/>
              </a:rPr>
              <a:t>	</a:t>
            </a:r>
            <a:endParaRPr b="0" lang="en-US" sz="2400" spc="-1" strike="noStrike">
              <a:solidFill>
                <a:srgbClr val="000000"/>
              </a:solidFill>
              <a:latin typeface="Times New Roman"/>
            </a:endParaRPr>
          </a:p>
        </p:txBody>
      </p:sp>
      <p:sp>
        <p:nvSpPr>
          <p:cNvPr id="482" name=""/>
          <p:cNvSpPr/>
          <p:nvPr/>
        </p:nvSpPr>
        <p:spPr>
          <a:xfrm>
            <a:off x="5005440" y="2095560"/>
            <a:ext cx="313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5-23, 45 and UK 2.0-20.0, 42.0</a:t>
            </a:r>
            <a:endParaRPr b="0" lang="en-US" sz="2400" spc="-1" strike="noStrike">
              <a:solidFill>
                <a:srgbClr val="000000"/>
              </a:solidFill>
              <a:latin typeface="Times New Roman"/>
            </a:endParaRPr>
          </a:p>
        </p:txBody>
      </p:sp>
      <p:sp>
        <p:nvSpPr>
          <p:cNvPr id="483" name=""/>
          <p:cNvSpPr/>
          <p:nvPr/>
        </p:nvSpPr>
        <p:spPr>
          <a:xfrm>
            <a:off x="1492200" y="4030560"/>
            <a:ext cx="276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4, 68-79 and UK 1.0, 65.0-76.0</a:t>
            </a:r>
            <a:endParaRPr b="0" lang="en-US" sz="2400" spc="-1" strike="noStrike">
              <a:solidFill>
                <a:srgbClr val="000000"/>
              </a:solidFill>
              <a:latin typeface="Times New Roman"/>
            </a:endParaRPr>
          </a:p>
        </p:txBody>
      </p:sp>
      <p:sp>
        <p:nvSpPr>
          <p:cNvPr id="484" name=""/>
          <p:cNvSpPr/>
          <p:nvPr/>
        </p:nvSpPr>
        <p:spPr>
          <a:xfrm>
            <a:off x="5008680" y="4030560"/>
            <a:ext cx="276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43-44, 52-67 and 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6T14:31:09Z</dcterms:modified>
  <cp:revision>744</cp:revision>
  <dc:subject/>
  <dc:title>PowerPoint Presentation</dc:title>
</cp:coreProperties>
</file>