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EC783-81B9-4743-8A81-51B92EB35F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DA3DC-DE94-4E65-96DA-FBAEE6AC48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D3809-396E-43D4-BBA1-9F5F07C342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B0931-CB89-4F03-8064-9D85382E38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94734-058B-457E-93E9-2C14B69177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EED1C-889D-465C-906A-1807CB7ED5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5FDA3-C313-4B63-82E0-F004D2AEE7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797AD-B8AB-4551-BDBC-0078B55B2E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42C57-9F5C-47B1-A3E2-3457DAF8C5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9C1A2-2B88-4EF0-96B6-FC1611293B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18AAE-6D8B-4A83-BDD9-B7D12DE716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B0838-C40D-41B9-90AF-5F05A39CBA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AB04-987A-49E1-B90E-90F67936327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AA68A-A86C-48AE-91BB-CDCC75AF7C9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5A669-9908-4F59-A163-0DA0C4871E9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4:23Z</dcterms:modified>
  <cp:revision>210</cp:revision>
  <dc:subject/>
  <dc:title>VTPP 423 - PHYSIOLOGY</dc:title>
</cp:coreProperties>
</file>