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A8A5-B443-47E8-9B99-1B9407AF1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27D2-D02C-4AC6-9460-AD05C5D5E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6887-3AF4-4A68-B1AF-CC600CB2C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58B7-B964-49BB-A4EB-0D1748F68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B609-E70E-439B-956B-3C6A18A7B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1D7E-AFF6-4174-9D0D-469EBA25D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1AA9-2BA7-45BF-ABBE-C63F5B1A4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F2E7-FD70-4C81-A34E-EA571D449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94C2-3621-4732-8FCE-E3CB5CDC7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40B4-7FEE-4582-BB33-30ACD42FA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9102-77A0-44EC-9027-F5D652A80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29C5-7341-4621-B293-9F2E0FC81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D6E7-48BB-4F41-A958-D3C29FBE01A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4BF3-7990-4348-ACDB-33CF4ED1E7E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9F16-F37A-44CF-8915-92538E63DF9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7-28T15:13:04Z</dcterms:modified>
  <cp:revision>207</cp:revision>
  <dc:subject/>
  <dc:title>VTPP 423 - PHYSIOLOGY</dc:title>
</cp:coreProperties>
</file>