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7BA3-06AD-490C-AA7F-0AC1AFD12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BCC-0B65-429A-ABA2-B6D3C951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C51-7B2B-49E4-AF3E-AB16BC45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997-0525-43A0-A64A-F73C735F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112-9096-4285-B1D5-3A08FA6F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BE1-2AC3-4479-95D0-CE0BCC47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C30-D227-4E73-B2A9-8ACAC209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FFA-BBB0-42BA-B85F-80662066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B95-D3D0-4C62-80B3-94A88EA8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671-C735-405B-80B3-5A8581DB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633-A1A4-4282-9127-F3CD9242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5B9-7A8E-4301-860C-2667BE76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90B-D8B0-44D7-B57C-321A921F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D308-9250-4D0C-ACF7-A81F75B1FAA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itstudent</cp:lastModifiedBy>
  <dcterms:modified xsi:type="dcterms:W3CDTF">2002-08-06T19:40:15Z</dcterms:modified>
  <cp:revision>8</cp:revision>
  <dc:subject/>
  <dc:title>What’s the difference between weather and climate?</dc:title>
</cp:coreProperties>
</file>