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C6F18B0-4219-46E6-9F1F-A8D5895E1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14A6-BE63-42D8-9107-84AAD6B5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F2B-495B-49DB-9E83-3B0AA690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1E2-01DB-46A1-8D42-170FDD64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C87-D85E-4985-B22D-D3319E06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AFB-000D-4210-A559-9B326EEC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7FD-9C98-4E73-970E-EFE9271C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2DB-6125-4990-B23D-895FAB98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941-007A-4AD1-B578-30F8ACBC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7ED-946A-4BFD-B9C6-071F20FA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0AC-FA90-4152-896D-40810525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874-7643-48CB-A9ED-EE6A6ECD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F6C4-885A-481C-976A-E5826D34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67C2-3B63-4A68-8CF2-43B439C4BE4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vhardy</cp:lastModifiedBy>
  <cp:lastPrinted>2002-05-15T14:22:53Z</cp:lastPrinted>
  <dcterms:modified xsi:type="dcterms:W3CDTF">2003-04-22T14:40:03Z</dcterms:modified>
  <cp:revision>68</cp:revision>
  <dc:subject/>
  <dc:title>Climograph</dc:title>
</cp:coreProperties>
</file>