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0DDF-8A6E-45A8-ABFD-456390D71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C06D-9248-4AA1-BA6F-38B55FFE8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5254-AFB9-4D81-85C6-510D687CF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1235-DE15-4500-9075-B26BC1FA5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9AE1-309E-45F7-8B1C-B381C102A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413B-9E81-4D9C-A121-A4619F198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509C-68D8-4B6C-8C32-9247BDC00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EC5F-07DD-450D-9680-4F3EB86F8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BCCA-8291-40D1-8738-F1D346090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BE8F-3E94-4905-99F7-E1745B703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4545-694A-4A94-B7FA-9880BB091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925F-489D-4BC5-9E1D-AC0B6B602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D695-A642-4C05-A675-7C902442DB4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8642-46DA-4313-A8E0-47764BEB193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B1D0-8015-437B-93BA-D04867B811D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58Z</dcterms:modified>
  <cp:revision>211</cp:revision>
  <dc:subject/>
  <dc:title>VTPP 423 - PHYSIOLOGY</dc:title>
</cp:coreProperties>
</file>