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90E2-CEE8-4B8C-852B-B325BE1A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further no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ston is closer to the Equ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in the Eastern Hemisphere, Houston is in the Western Hemisphe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absolute location Hemisphere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’V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h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global address prime meridian equator latitude longitude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Hemisphere geography world geography global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world geography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latitude longitud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lobal address absolut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260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latitude longitude absolut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C08-B7AC-42A5-8ED3-2BA192AE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465-622F-4177-B383-BCE49A6A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140-C6E2-4A11-837C-67BBAEC8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A80-3134-4118-AB8F-8A9A1E8F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F1D-FE36-4930-B2C1-1AAC0D33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65C-4AC2-497D-85D4-4EF8762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0DF-B4E0-4470-ABF3-11B2F396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902-3BCE-4ADC-9CF2-9B09948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743-6AED-49D3-A75D-94D5313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162-F5BD-4776-8C62-884465A9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F52-E27E-4D97-BE4C-413EB77E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2FB-6E73-4354-A8AE-FE0787AB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4F0-C1AF-4A69-B971-D0AC8E00B5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Uk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2880" y="4924440"/>
            <a:ext cx="8001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absolute location for Dnipropetrovs’k, Ukraine is 4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further north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closer to the Equator?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located in the Eastern Hemisphere?  In the Western Hemispher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4284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ity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50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9° N.L., 39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6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828800" y="4854240"/>
            <a:ext cx="502920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viv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ev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° N.L., 31° E.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uhans’k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, 39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desa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° N.L., 31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280" y="1511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concept of  absolut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280" y="1536840"/>
            <a:ext cx="82234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f the center of Ukrain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 and 32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Northern or Southern Hemisp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Eastern or Western Hemispher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4120"/>
            <a:ext cx="77724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and click on the name of the continent where Ukraine is lo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5238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514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1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523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895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862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371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47640" y="5392800"/>
            <a:ext cx="784872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the center of Ukraine on the map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2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38840" y="1276200"/>
            <a:ext cx="244440" cy="13968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6512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92800" y="1517760"/>
            <a:ext cx="1486080" cy="1333440"/>
          </a:xfrm>
          <a:custGeom>
            <a:avLst/>
            <a:gdLst/>
            <a:ahLst/>
            <a:rect l="l" t="t" r="r" b="b"/>
            <a:pathLst>
              <a:path w="936" h="840">
                <a:moveTo>
                  <a:pt x="32" y="520"/>
                </a:moveTo>
                <a:cubicBezTo>
                  <a:pt x="45" y="501"/>
                  <a:pt x="55" y="480"/>
                  <a:pt x="68" y="460"/>
                </a:cubicBezTo>
                <a:cubicBezTo>
                  <a:pt x="70" y="456"/>
                  <a:pt x="76" y="458"/>
                  <a:pt x="80" y="456"/>
                </a:cubicBezTo>
                <a:cubicBezTo>
                  <a:pt x="91" y="450"/>
                  <a:pt x="95" y="445"/>
                  <a:pt x="104" y="436"/>
                </a:cubicBezTo>
                <a:cubicBezTo>
                  <a:pt x="110" y="418"/>
                  <a:pt x="107" y="414"/>
                  <a:pt x="92" y="404"/>
                </a:cubicBezTo>
                <a:cubicBezTo>
                  <a:pt x="91" y="400"/>
                  <a:pt x="86" y="396"/>
                  <a:pt x="88" y="392"/>
                </a:cubicBezTo>
                <a:cubicBezTo>
                  <a:pt x="90" y="388"/>
                  <a:pt x="101" y="389"/>
                  <a:pt x="100" y="384"/>
                </a:cubicBezTo>
                <a:cubicBezTo>
                  <a:pt x="99" y="374"/>
                  <a:pt x="89" y="368"/>
                  <a:pt x="84" y="360"/>
                </a:cubicBezTo>
                <a:cubicBezTo>
                  <a:pt x="71" y="340"/>
                  <a:pt x="91" y="355"/>
                  <a:pt x="72" y="336"/>
                </a:cubicBezTo>
                <a:cubicBezTo>
                  <a:pt x="62" y="326"/>
                  <a:pt x="47" y="323"/>
                  <a:pt x="36" y="316"/>
                </a:cubicBezTo>
                <a:cubicBezTo>
                  <a:pt x="41" y="300"/>
                  <a:pt x="44" y="293"/>
                  <a:pt x="60" y="288"/>
                </a:cubicBezTo>
                <a:cubicBezTo>
                  <a:pt x="104" y="299"/>
                  <a:pt x="86" y="266"/>
                  <a:pt x="108" y="248"/>
                </a:cubicBezTo>
                <a:cubicBezTo>
                  <a:pt x="124" y="235"/>
                  <a:pt x="152" y="228"/>
                  <a:pt x="172" y="220"/>
                </a:cubicBezTo>
                <a:cubicBezTo>
                  <a:pt x="180" y="217"/>
                  <a:pt x="196" y="212"/>
                  <a:pt x="196" y="212"/>
                </a:cubicBezTo>
                <a:cubicBezTo>
                  <a:pt x="252" y="217"/>
                  <a:pt x="320" y="200"/>
                  <a:pt x="368" y="232"/>
                </a:cubicBezTo>
                <a:cubicBezTo>
                  <a:pt x="369" y="236"/>
                  <a:pt x="368" y="244"/>
                  <a:pt x="372" y="244"/>
                </a:cubicBezTo>
                <a:cubicBezTo>
                  <a:pt x="377" y="244"/>
                  <a:pt x="377" y="235"/>
                  <a:pt x="380" y="232"/>
                </a:cubicBezTo>
                <a:cubicBezTo>
                  <a:pt x="390" y="222"/>
                  <a:pt x="407" y="219"/>
                  <a:pt x="420" y="216"/>
                </a:cubicBezTo>
                <a:cubicBezTo>
                  <a:pt x="427" y="217"/>
                  <a:pt x="434" y="218"/>
                  <a:pt x="440" y="220"/>
                </a:cubicBezTo>
                <a:cubicBezTo>
                  <a:pt x="445" y="222"/>
                  <a:pt x="448" y="230"/>
                  <a:pt x="452" y="228"/>
                </a:cubicBezTo>
                <a:cubicBezTo>
                  <a:pt x="460" y="223"/>
                  <a:pt x="459" y="207"/>
                  <a:pt x="468" y="204"/>
                </a:cubicBezTo>
                <a:cubicBezTo>
                  <a:pt x="472" y="203"/>
                  <a:pt x="476" y="201"/>
                  <a:pt x="480" y="200"/>
                </a:cubicBezTo>
                <a:cubicBezTo>
                  <a:pt x="496" y="211"/>
                  <a:pt x="497" y="219"/>
                  <a:pt x="516" y="224"/>
                </a:cubicBezTo>
                <a:cubicBezTo>
                  <a:pt x="527" y="207"/>
                  <a:pt x="541" y="198"/>
                  <a:pt x="560" y="192"/>
                </a:cubicBezTo>
                <a:cubicBezTo>
                  <a:pt x="588" y="210"/>
                  <a:pt x="575" y="211"/>
                  <a:pt x="596" y="204"/>
                </a:cubicBezTo>
                <a:cubicBezTo>
                  <a:pt x="601" y="188"/>
                  <a:pt x="602" y="195"/>
                  <a:pt x="596" y="176"/>
                </a:cubicBezTo>
                <a:cubicBezTo>
                  <a:pt x="594" y="168"/>
                  <a:pt x="588" y="152"/>
                  <a:pt x="588" y="152"/>
                </a:cubicBezTo>
                <a:cubicBezTo>
                  <a:pt x="594" y="135"/>
                  <a:pt x="600" y="101"/>
                  <a:pt x="620" y="92"/>
                </a:cubicBezTo>
                <a:cubicBezTo>
                  <a:pt x="639" y="84"/>
                  <a:pt x="667" y="80"/>
                  <a:pt x="688" y="76"/>
                </a:cubicBezTo>
                <a:cubicBezTo>
                  <a:pt x="706" y="48"/>
                  <a:pt x="707" y="61"/>
                  <a:pt x="700" y="40"/>
                </a:cubicBezTo>
                <a:cubicBezTo>
                  <a:pt x="710" y="11"/>
                  <a:pt x="696" y="39"/>
                  <a:pt x="748" y="24"/>
                </a:cubicBezTo>
                <a:cubicBezTo>
                  <a:pt x="757" y="21"/>
                  <a:pt x="764" y="13"/>
                  <a:pt x="772" y="8"/>
                </a:cubicBezTo>
                <a:cubicBezTo>
                  <a:pt x="783" y="0"/>
                  <a:pt x="799" y="3"/>
                  <a:pt x="812" y="0"/>
                </a:cubicBezTo>
                <a:cubicBezTo>
                  <a:pt x="821" y="2"/>
                  <a:pt x="834" y="0"/>
                  <a:pt x="840" y="8"/>
                </a:cubicBezTo>
                <a:cubicBezTo>
                  <a:pt x="856" y="30"/>
                  <a:pt x="843" y="38"/>
                  <a:pt x="864" y="52"/>
                </a:cubicBezTo>
                <a:cubicBezTo>
                  <a:pt x="875" y="85"/>
                  <a:pt x="864" y="40"/>
                  <a:pt x="856" y="76"/>
                </a:cubicBezTo>
                <a:cubicBezTo>
                  <a:pt x="850" y="105"/>
                  <a:pt x="870" y="118"/>
                  <a:pt x="892" y="124"/>
                </a:cubicBezTo>
                <a:cubicBezTo>
                  <a:pt x="911" y="120"/>
                  <a:pt x="922" y="109"/>
                  <a:pt x="928" y="128"/>
                </a:cubicBezTo>
                <a:cubicBezTo>
                  <a:pt x="924" y="140"/>
                  <a:pt x="920" y="152"/>
                  <a:pt x="916" y="164"/>
                </a:cubicBezTo>
                <a:cubicBezTo>
                  <a:pt x="915" y="168"/>
                  <a:pt x="912" y="176"/>
                  <a:pt x="912" y="176"/>
                </a:cubicBezTo>
                <a:cubicBezTo>
                  <a:pt x="913" y="181"/>
                  <a:pt x="918" y="187"/>
                  <a:pt x="916" y="192"/>
                </a:cubicBezTo>
                <a:cubicBezTo>
                  <a:pt x="914" y="196"/>
                  <a:pt x="902" y="192"/>
                  <a:pt x="904" y="196"/>
                </a:cubicBezTo>
                <a:cubicBezTo>
                  <a:pt x="909" y="204"/>
                  <a:pt x="928" y="212"/>
                  <a:pt x="928" y="212"/>
                </a:cubicBezTo>
                <a:cubicBezTo>
                  <a:pt x="933" y="228"/>
                  <a:pt x="928" y="236"/>
                  <a:pt x="924" y="252"/>
                </a:cubicBezTo>
                <a:cubicBezTo>
                  <a:pt x="922" y="333"/>
                  <a:pt x="900" y="417"/>
                  <a:pt x="920" y="496"/>
                </a:cubicBezTo>
                <a:cubicBezTo>
                  <a:pt x="916" y="508"/>
                  <a:pt x="913" y="508"/>
                  <a:pt x="920" y="520"/>
                </a:cubicBezTo>
                <a:cubicBezTo>
                  <a:pt x="925" y="528"/>
                  <a:pt x="936" y="544"/>
                  <a:pt x="936" y="544"/>
                </a:cubicBezTo>
                <a:cubicBezTo>
                  <a:pt x="923" y="563"/>
                  <a:pt x="930" y="551"/>
                  <a:pt x="920" y="580"/>
                </a:cubicBezTo>
                <a:cubicBezTo>
                  <a:pt x="919" y="584"/>
                  <a:pt x="916" y="592"/>
                  <a:pt x="916" y="592"/>
                </a:cubicBezTo>
                <a:cubicBezTo>
                  <a:pt x="920" y="605"/>
                  <a:pt x="924" y="619"/>
                  <a:pt x="928" y="632"/>
                </a:cubicBezTo>
                <a:cubicBezTo>
                  <a:pt x="925" y="664"/>
                  <a:pt x="922" y="689"/>
                  <a:pt x="932" y="720"/>
                </a:cubicBezTo>
                <a:cubicBezTo>
                  <a:pt x="931" y="728"/>
                  <a:pt x="927" y="736"/>
                  <a:pt x="928" y="744"/>
                </a:cubicBezTo>
                <a:cubicBezTo>
                  <a:pt x="929" y="752"/>
                  <a:pt x="936" y="768"/>
                  <a:pt x="936" y="768"/>
                </a:cubicBezTo>
                <a:cubicBezTo>
                  <a:pt x="932" y="788"/>
                  <a:pt x="932" y="797"/>
                  <a:pt x="912" y="804"/>
                </a:cubicBezTo>
                <a:cubicBezTo>
                  <a:pt x="886" y="795"/>
                  <a:pt x="888" y="793"/>
                  <a:pt x="884" y="764"/>
                </a:cubicBezTo>
                <a:cubicBezTo>
                  <a:pt x="879" y="765"/>
                  <a:pt x="868" y="773"/>
                  <a:pt x="868" y="768"/>
                </a:cubicBezTo>
                <a:cubicBezTo>
                  <a:pt x="868" y="762"/>
                  <a:pt x="878" y="761"/>
                  <a:pt x="884" y="760"/>
                </a:cubicBezTo>
                <a:cubicBezTo>
                  <a:pt x="898" y="757"/>
                  <a:pt x="913" y="757"/>
                  <a:pt x="928" y="756"/>
                </a:cubicBezTo>
                <a:cubicBezTo>
                  <a:pt x="924" y="752"/>
                  <a:pt x="921" y="747"/>
                  <a:pt x="916" y="744"/>
                </a:cubicBezTo>
                <a:cubicBezTo>
                  <a:pt x="909" y="740"/>
                  <a:pt x="892" y="736"/>
                  <a:pt x="892" y="736"/>
                </a:cubicBezTo>
                <a:cubicBezTo>
                  <a:pt x="861" y="742"/>
                  <a:pt x="877" y="735"/>
                  <a:pt x="848" y="764"/>
                </a:cubicBezTo>
                <a:cubicBezTo>
                  <a:pt x="848" y="764"/>
                  <a:pt x="818" y="774"/>
                  <a:pt x="812" y="776"/>
                </a:cubicBezTo>
                <a:cubicBezTo>
                  <a:pt x="808" y="777"/>
                  <a:pt x="800" y="780"/>
                  <a:pt x="800" y="780"/>
                </a:cubicBezTo>
                <a:cubicBezTo>
                  <a:pt x="784" y="796"/>
                  <a:pt x="780" y="805"/>
                  <a:pt x="772" y="828"/>
                </a:cubicBezTo>
                <a:cubicBezTo>
                  <a:pt x="771" y="832"/>
                  <a:pt x="768" y="840"/>
                  <a:pt x="768" y="840"/>
                </a:cubicBezTo>
                <a:cubicBezTo>
                  <a:pt x="755" y="836"/>
                  <a:pt x="745" y="828"/>
                  <a:pt x="732" y="824"/>
                </a:cubicBezTo>
                <a:cubicBezTo>
                  <a:pt x="719" y="814"/>
                  <a:pt x="704" y="807"/>
                  <a:pt x="696" y="792"/>
                </a:cubicBezTo>
                <a:cubicBezTo>
                  <a:pt x="691" y="782"/>
                  <a:pt x="696" y="768"/>
                  <a:pt x="688" y="760"/>
                </a:cubicBezTo>
                <a:cubicBezTo>
                  <a:pt x="682" y="754"/>
                  <a:pt x="664" y="752"/>
                  <a:pt x="664" y="752"/>
                </a:cubicBezTo>
                <a:cubicBezTo>
                  <a:pt x="653" y="741"/>
                  <a:pt x="651" y="726"/>
                  <a:pt x="640" y="716"/>
                </a:cubicBezTo>
                <a:cubicBezTo>
                  <a:pt x="613" y="692"/>
                  <a:pt x="622" y="710"/>
                  <a:pt x="604" y="688"/>
                </a:cubicBezTo>
                <a:cubicBezTo>
                  <a:pt x="588" y="668"/>
                  <a:pt x="586" y="645"/>
                  <a:pt x="560" y="632"/>
                </a:cubicBezTo>
                <a:cubicBezTo>
                  <a:pt x="531" y="618"/>
                  <a:pt x="496" y="626"/>
                  <a:pt x="464" y="624"/>
                </a:cubicBezTo>
                <a:cubicBezTo>
                  <a:pt x="440" y="616"/>
                  <a:pt x="421" y="631"/>
                  <a:pt x="400" y="640"/>
                </a:cubicBezTo>
                <a:cubicBezTo>
                  <a:pt x="392" y="643"/>
                  <a:pt x="376" y="648"/>
                  <a:pt x="376" y="648"/>
                </a:cubicBezTo>
                <a:cubicBezTo>
                  <a:pt x="369" y="655"/>
                  <a:pt x="358" y="659"/>
                  <a:pt x="352" y="668"/>
                </a:cubicBezTo>
                <a:cubicBezTo>
                  <a:pt x="342" y="685"/>
                  <a:pt x="347" y="705"/>
                  <a:pt x="328" y="716"/>
                </a:cubicBezTo>
                <a:cubicBezTo>
                  <a:pt x="321" y="720"/>
                  <a:pt x="311" y="719"/>
                  <a:pt x="304" y="724"/>
                </a:cubicBezTo>
                <a:cubicBezTo>
                  <a:pt x="296" y="729"/>
                  <a:pt x="288" y="735"/>
                  <a:pt x="280" y="740"/>
                </a:cubicBezTo>
                <a:cubicBezTo>
                  <a:pt x="269" y="748"/>
                  <a:pt x="256" y="755"/>
                  <a:pt x="244" y="760"/>
                </a:cubicBezTo>
                <a:cubicBezTo>
                  <a:pt x="236" y="763"/>
                  <a:pt x="220" y="768"/>
                  <a:pt x="220" y="768"/>
                </a:cubicBezTo>
                <a:cubicBezTo>
                  <a:pt x="215" y="764"/>
                  <a:pt x="204" y="756"/>
                  <a:pt x="196" y="756"/>
                </a:cubicBezTo>
                <a:cubicBezTo>
                  <a:pt x="177" y="757"/>
                  <a:pt x="140" y="764"/>
                  <a:pt x="140" y="764"/>
                </a:cubicBezTo>
                <a:cubicBezTo>
                  <a:pt x="110" y="756"/>
                  <a:pt x="60" y="762"/>
                  <a:pt x="32" y="760"/>
                </a:cubicBezTo>
                <a:cubicBezTo>
                  <a:pt x="10" y="746"/>
                  <a:pt x="14" y="724"/>
                  <a:pt x="8" y="700"/>
                </a:cubicBezTo>
                <a:cubicBezTo>
                  <a:pt x="6" y="692"/>
                  <a:pt x="0" y="676"/>
                  <a:pt x="0" y="676"/>
                </a:cubicBezTo>
                <a:cubicBezTo>
                  <a:pt x="9" y="650"/>
                  <a:pt x="4" y="637"/>
                  <a:pt x="32" y="628"/>
                </a:cubicBezTo>
                <a:cubicBezTo>
                  <a:pt x="25" y="600"/>
                  <a:pt x="20" y="620"/>
                  <a:pt x="12" y="596"/>
                </a:cubicBezTo>
                <a:cubicBezTo>
                  <a:pt x="18" y="568"/>
                  <a:pt x="14" y="582"/>
                  <a:pt x="24" y="552"/>
                </a:cubicBezTo>
                <a:cubicBezTo>
                  <a:pt x="27" y="543"/>
                  <a:pt x="47" y="535"/>
                  <a:pt x="40" y="528"/>
                </a:cubicBezTo>
                <a:cubicBezTo>
                  <a:pt x="37" y="525"/>
                  <a:pt x="35" y="523"/>
                  <a:pt x="32" y="5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8640" y="5257440"/>
            <a:ext cx="7772400" cy="142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re you correct?  Look for the highlight around Ukr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s the latitude for Ukraine?  ______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Ukraine? _______° West or Ea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2"/>
              </a:rPr>
              <a:t>absolute locatio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or Ukraine is _____________________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5396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256440" y="1500120"/>
            <a:ext cx="1566720" cy="1616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440" y="1371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Dnipropetrovs’k,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absolute location of Dnipropetrovs’k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5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6280" y="4508280"/>
            <a:ext cx="8246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Dnipropetrovs’k, Ukraine on the m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44680" y="800280"/>
            <a:ext cx="4425840" cy="34574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105520" y="2871720"/>
            <a:ext cx="1649160" cy="274680"/>
          </a:xfrm>
          <a:custGeom>
            <a:avLst/>
            <a:gdLst/>
            <a:ahLst/>
            <a:rect l="l" t="t" r="r" b="b"/>
            <a:pathLst>
              <a:path w="1039" h="173">
                <a:moveTo>
                  <a:pt x="36" y="58"/>
                </a:moveTo>
                <a:cubicBezTo>
                  <a:pt x="151" y="100"/>
                  <a:pt x="337" y="73"/>
                  <a:pt x="454" y="68"/>
                </a:cubicBezTo>
                <a:cubicBezTo>
                  <a:pt x="475" y="3"/>
                  <a:pt x="453" y="18"/>
                  <a:pt x="500" y="3"/>
                </a:cubicBezTo>
                <a:cubicBezTo>
                  <a:pt x="516" y="6"/>
                  <a:pt x="537" y="0"/>
                  <a:pt x="547" y="12"/>
                </a:cubicBezTo>
                <a:cubicBezTo>
                  <a:pt x="559" y="26"/>
                  <a:pt x="540" y="58"/>
                  <a:pt x="556" y="68"/>
                </a:cubicBezTo>
                <a:cubicBezTo>
                  <a:pt x="575" y="80"/>
                  <a:pt x="599" y="61"/>
                  <a:pt x="621" y="58"/>
                </a:cubicBezTo>
                <a:cubicBezTo>
                  <a:pt x="751" y="67"/>
                  <a:pt x="882" y="59"/>
                  <a:pt x="1011" y="77"/>
                </a:cubicBezTo>
                <a:cubicBezTo>
                  <a:pt x="1032" y="80"/>
                  <a:pt x="1027" y="116"/>
                  <a:pt x="1039" y="133"/>
                </a:cubicBezTo>
                <a:cubicBezTo>
                  <a:pt x="1001" y="157"/>
                  <a:pt x="909" y="170"/>
                  <a:pt x="909" y="170"/>
                </a:cubicBezTo>
                <a:cubicBezTo>
                  <a:pt x="624" y="159"/>
                  <a:pt x="339" y="173"/>
                  <a:pt x="54" y="161"/>
                </a:cubicBezTo>
                <a:cubicBezTo>
                  <a:pt x="0" y="142"/>
                  <a:pt x="12" y="104"/>
                  <a:pt x="36" y="5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80600" y="4349520"/>
            <a:ext cx="82170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you correct?  Look for highlight around Dnipropetrovs’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latitude for Dnipropetrovs’k? __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Dnipropetrovs’k? _________° West or Ea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41440" y="822240"/>
            <a:ext cx="4469040" cy="3409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Jeremiah McNichols</cp:lastModifiedBy>
  <cp:lastPrinted>2002-01-02T19:06:19Z</cp:lastPrinted>
  <dcterms:modified xsi:type="dcterms:W3CDTF">2008-10-14T14:04:25Z</dcterms:modified>
  <cp:revision>7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7000000000001023620</vt:lpwstr>
  </property>
</Properties>
</file>