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3ECE-3EB4-4161-9DA1-92C9E4BB0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6ACB-4C29-458E-A166-A9CBD2BB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1E19-6669-4E6F-96A5-2C4B7D33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48DC-A844-4A68-AA6D-2D52692E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2533-8677-4FDD-AB97-F26508BF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BC6D-1DEA-4130-940D-AD6CE212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38CF-F21B-4F9C-80E6-932A9943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0F1B-F05F-4C27-BE20-AE4AE361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C1EF-620E-44B4-89C9-6CF2F1EF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0951-76E4-4175-A5AB-4F128ECC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9E98-70AD-4F66-9B2F-2F2912B9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2AF7-5C9E-493D-9E09-58D74EC3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EF6C-938C-4202-98CC-FE3BA577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4056-4F54-46E5-A634-EDDE0FE9D46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920" y="3885840"/>
            <a:ext cx="8307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35120" y="48830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39800" y="4008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39800" y="44467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35120" y="498780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39800" y="40654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57668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672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39800" y="378936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639800" y="45514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39800" y="3998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639800" y="46180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39800" y="4160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39800" y="47037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2000160"/>
            <a:ext cx="8001000" cy="37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35120" y="49593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39800" y="3684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39800" y="433224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01720" y="49878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06400" y="36082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706400" y="43131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5120" y="49784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39800" y="405612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35120" y="56642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39800" y="47322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39800" y="51991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35120" y="484488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39800" y="39798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639800" y="44179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Jeremiah McNichols</cp:lastModifiedBy>
  <cp:lastPrinted>2002-05-23T02:09:08Z</cp:lastPrinted>
  <dcterms:modified xsi:type="dcterms:W3CDTF">2008-10-08T13:32:07Z</dcterms:modified>
  <cp:revision>35</cp:revision>
  <dc:subject/>
  <dc:title>Vocabulary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2000000000001023620</vt:lpwstr>
  </property>
</Properties>
</file>