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532-8460-47CC-85C5-1F5D13A00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6BB7-AEED-4A91-A0DB-E7E31A1F2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0920" y="684360"/>
            <a:ext cx="4557600" cy="3417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BDDF-CE92-47A3-90CB-887B367BA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50920" y="684360"/>
            <a:ext cx="4557600" cy="34178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5F8B-87B2-47FD-B209-153B2042C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50920" y="684360"/>
            <a:ext cx="4557600" cy="3417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F0F6-D04C-4161-BE76-1146961D8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0920" y="684360"/>
            <a:ext cx="4557600" cy="3417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B24F-2B1C-4B92-B17F-78AE1FDE4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50920" y="684360"/>
            <a:ext cx="4557600" cy="34178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C52B-A5A7-4C1B-9E81-E516D4CBF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0920" y="684360"/>
            <a:ext cx="4557600" cy="3417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C5EA-4C98-443C-B2EA-A8BBF29EF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50920" y="684360"/>
            <a:ext cx="4557600" cy="34178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7573-F0BF-48B1-AB04-065F4CF99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0920" y="684360"/>
            <a:ext cx="455760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74871-0653-4F39-A615-DBB00D1E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817F-9207-45FE-B674-E46C2DE3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2822-7EB7-4393-924B-1E898E250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7AB02-887B-4390-8499-BA45E04CF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FDE0-6448-4ECF-95C1-D9336DB2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BF75-E1C2-498D-AA37-59E2BA3C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E036C-AE8B-4B77-8ED1-60B7E82FB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C9E9F-8A77-4E24-B49C-37E132B16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6F1C1-B805-4DF1-A5DA-283A75EE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A4D2-3C7C-4592-B4C2-81712F28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B008-45C5-444C-8AAA-3FF7400E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E196-0394-464A-B263-F450C0A34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BE80-05A9-41FF-85A8-E4B33C76C5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570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24-42, </a:t>
            </a:r>
            <a:r>
              <a:rPr b="1" lang="en-US" sz="2400" spc="-1" strike="noStrike">
                <a:solidFill>
                  <a:srgbClr val="ebebeb"/>
                </a:solidFill>
                <a:latin typeface="Times New Roman"/>
              </a:rPr>
              <a:t>	</a:t>
            </a:r>
            <a:r>
              <a:rPr b="1" lang="en-US" sz="2400" spc="-1" strike="noStrike">
                <a:solidFill>
                  <a:srgbClr val="ebebeb"/>
                </a:solidFill>
                <a:latin typeface="Times New Roman"/>
              </a:rPr>
              <a:t>46-5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1.0-39.0, 43.0-48.0</a:t>
            </a:r>
            <a:endParaRPr b="0" lang="en-US" sz="2400" spc="-1" strike="noStrike">
              <a:solidFill>
                <a:srgbClr val="000000"/>
              </a:solidFill>
              <a:latin typeface="Times New Roman"/>
            </a:endParaRPr>
          </a:p>
        </p:txBody>
      </p:sp>
      <p:sp>
        <p:nvSpPr>
          <p:cNvPr id="482"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5-23, 45</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0-20.0, 42.0</a:t>
            </a:r>
            <a:endParaRPr b="0" lang="en-US" sz="2400" spc="-1" strike="noStrike">
              <a:solidFill>
                <a:srgbClr val="000000"/>
              </a:solidFill>
              <a:latin typeface="Times New Roman"/>
            </a:endParaRPr>
          </a:p>
        </p:txBody>
      </p:sp>
      <p:sp>
        <p:nvSpPr>
          <p:cNvPr id="483" name=""/>
          <p:cNvSpPr/>
          <p:nvPr/>
        </p:nvSpPr>
        <p:spPr>
          <a:xfrm>
            <a:off x="1492200" y="4030560"/>
            <a:ext cx="2763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 68-79</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1.0, 65.0-76.0</a:t>
            </a:r>
            <a:endParaRPr b="0" lang="en-US" sz="2400" spc="-1" strike="noStrike">
              <a:solidFill>
                <a:srgbClr val="000000"/>
              </a:solidFill>
              <a:latin typeface="Times New Roman"/>
            </a:endParaRPr>
          </a:p>
        </p:txBody>
      </p:sp>
      <p:sp>
        <p:nvSpPr>
          <p:cNvPr id="484" name=""/>
          <p:cNvSpPr/>
          <p:nvPr/>
        </p:nvSpPr>
        <p:spPr>
          <a:xfrm>
            <a:off x="5008680" y="4030560"/>
            <a:ext cx="2763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3-44,</a:t>
            </a:r>
            <a:r>
              <a:rPr b="1" lang="en-US" sz="2400" spc="-1" strike="noStrike">
                <a:solidFill>
                  <a:srgbClr val="ebebeb"/>
                </a:solidFill>
                <a:latin typeface="Times New Roman"/>
              </a:rPr>
              <a:t>	</a:t>
            </a:r>
            <a:r>
              <a:rPr b="1" lang="en-US" sz="2400" spc="-1" strike="noStrike">
                <a:solidFill>
                  <a:srgbClr val="ebebeb"/>
                </a:solidFill>
                <a:latin typeface="Times New Roman"/>
              </a:rPr>
              <a:t>52-67</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5T19:21:40Z</dcterms:modified>
  <cp:revision>727</cp:revision>
  <dc:subject/>
  <dc:title>PowerPoint Presentation</dc:title>
</cp:coreProperties>
</file>