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8440-75E1-431A-B74F-8AA338347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975-A430-4C3F-87F3-1317C5D5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792-44E6-48E0-B6A3-19E05236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5DA-AB95-4D76-807D-0B9DF412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7A9-EFE1-4A77-A163-2C9CC91A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E61-0AD1-489B-A930-249870CF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5AD-BCFD-4493-98B9-F872B3BD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278-4112-415A-9C23-9508670D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29D-8EFE-406D-8471-18E5FC1B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089-BC52-40D5-BE12-C8933F88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F1C-CE17-4EA5-AB0C-1FABFF20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73A-6117-4328-8193-02F8D9FA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55D-524E-44A6-A629-32391747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1587-630B-4E9E-93E6-6B85655E726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itstudent</cp:lastModifiedBy>
  <dcterms:modified xsi:type="dcterms:W3CDTF">2002-08-06T19:40:55Z</dcterms:modified>
  <cp:revision>7</cp:revision>
  <dc:subject/>
  <dc:title>What’s the difference between weather and climate?</dc:title>
</cp:coreProperties>
</file>