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2A8F-1B16-4415-92B8-A565381C3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0111-7C07-4405-A10F-2238D5F7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A241-3170-44A1-8A93-EB494B52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44D2-BABD-4267-8F8D-E7FED963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7D3B-B5A0-42B3-A188-CEFA6144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B67F-3481-4385-B4E8-640C61F9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12DC-5CB0-4E54-83CD-13D06ACE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887F-1B39-49B4-B4B9-93FED7FA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DD04-9763-4546-93A7-173310AD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CB5B-60DD-4623-AB36-09A9B150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3CC-6543-4E17-A5C0-0DF30A01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11CF-5E55-4841-BC41-7C762815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02D5-E8F4-45A8-98A3-9CE8222C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3456-CCBE-4DC1-B4C3-A2E0076735F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12840" y="524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1608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212840" y="347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1284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16080" y="4599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7520" y="600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20760" y="29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17520" y="3546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217520" y="4189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220760" y="51134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20920" y="3103560"/>
            <a:ext cx="2791080" cy="12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86160" y="53658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39840" y="29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38400" y="6194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366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3660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39840" y="5632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07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17520" y="37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7520" y="438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0760" y="4970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1752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0760" y="2536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17520" y="3089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7520" y="3646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220760" y="4232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20760" y="25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17520" y="3279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7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220760" y="4979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7888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89160" y="0"/>
            <a:ext cx="6054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17520" y="626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0760" y="295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217520" y="382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7520" y="466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20760" y="55134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2840" y="578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11400" y="3046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212840" y="36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12840" y="428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11400" y="5103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2840" y="563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11400" y="34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08160" y="396540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212840" y="45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11400" y="5079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08160" y="564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211400" y="340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08160" y="39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08160" y="4527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211400" y="5075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Vince Hardy</cp:lastModifiedBy>
  <dcterms:modified xsi:type="dcterms:W3CDTF">2007-05-02T12:08:26Z</dcterms:modified>
  <cp:revision>80</cp:revision>
  <dc:subject/>
  <dc:title>Investigator’s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2000000000001023620</vt:lpwstr>
  </property>
</Properties>
</file>