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CD42-1C23-4B6F-B9D9-0AF2BE205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relative location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exas to Ukraine, you would travel east.  The distance between Houston and Kiev is 5982.11 miles or 9627.00 kilo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Use math skills to interpret social studie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, Slovaka, Hung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ither by absolute or relativ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nor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eography world geography relati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A40-9EA6-42D8-BABF-CD7F8789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53F-BCC8-428F-B948-F76CE7D9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B38-92D0-49BA-98BE-EE1C64D7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22B-F0D6-4366-8437-784A3D55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DE3-F346-4C07-9564-BB065575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E13-375E-414D-A56D-D4A03F0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E1D-614A-4FF8-935A-512C3951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CCE-7FCE-4638-A159-22B576B8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714-993E-4F6A-93B9-BB688949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AEB-DD00-421D-9522-5E2E05F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074-F78A-4C06-92FF-0E701B7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027-CBDA-4243-A8DC-F6DF607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0D94-CBF6-4D4D-A6DF-4DF34883829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relative lo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lative Lo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s Ukraine in relation to other places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76120" y="4876920"/>
            <a:ext cx="7848360" cy="18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kraine is circled in black on the map above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what continent is Ukraine located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ontinent is south of Ukrain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ontinent is east of Ukrain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295280"/>
            <a:ext cx="30492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47640" y="5105520"/>
            <a:ext cx="784872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f you were to travel using the shortest distance to Ukraine from your home, in which direction would you travel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295280"/>
            <a:ext cx="30492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circled in black on the map be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24120" y="1561680"/>
            <a:ext cx="259092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countries are to the west of Ukrain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large country is to the northeast of Ukrain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me the sea located south of Ukrain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5829480" cy="53722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352680"/>
            <a:ext cx="213336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4953240" cy="398592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43434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nipropetrovs’k is highlighted on the ma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city is the capital of Ukraine?_______________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city is located in what direction from Dnipropetrovs’k? 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K.T. and Nikolai traveled on the Dnieper River from Kiev to Dnipropetrovs’k, in what direction did they travel? _______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ity of Odesa is located in what direction from Dnipropetrovs’k? 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464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are talking with a friend. She asks, “Where is Ukraine?”  How would you respo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ere to travel from Texas to Ukraine, in what direction would you tra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ere to travel from Ukraine to Paris, France, in what direction would you tra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closer to Ukraine?  ___Germany    ___USA   ___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30:59Z</dcterms:created>
  <dc:creator>Jeremiah McNichols</dc:creator>
  <dc:description/>
  <dc:language>en-US</dc:language>
  <cp:lastModifiedBy>Jeremiah McNichols</cp:lastModifiedBy>
  <dcterms:modified xsi:type="dcterms:W3CDTF">2008-10-14T14:05:0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3620</vt:lpwstr>
  </property>
</Properties>
</file>