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EE78-8D71-4CC2-B42B-D52B5A53F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7F7D-C42B-4249-8CBC-2D3EDEBE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8BE7-7892-4698-9424-582FFCF3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AE05-4A5B-4D52-BDDE-97C850729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B7BA-BA52-45F0-BF96-A4982D54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646D-83E7-4B2B-B8BF-FCF2725E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B85D-567A-4CEB-8DD3-6CE188FB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A6E2-20D1-4045-BCB0-80080485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2F7A-4495-4645-91F2-ED78B4F5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6DEB-EA0F-48F0-ACE6-6C6839FE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FAE9-F027-4626-BF24-9D44B680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AA6A-416F-4B60-A62F-907A016F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79C9-3F31-4234-AC7D-10E86FFC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55F5-23FF-4DC9-A365-4CDEAD7A340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45721" r="0" b="0"/>
          <a:stretch/>
        </p:blipFill>
        <p:spPr>
          <a:xfrm>
            <a:off x="2362320" y="4343400"/>
            <a:ext cx="41148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11141" t="0" r="0" b="0"/>
          <a:stretch/>
        </p:blipFill>
        <p:spPr>
          <a:xfrm>
            <a:off x="5029200" y="1981080"/>
            <a:ext cx="36115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7-08-02T19:09:28Z</dcterms:modified>
  <cp:revision>30</cp:revision>
  <dc:subject/>
  <dc:title>Descriptive Writing</dc:title>
</cp:coreProperties>
</file>