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9A04-4FC7-4B9E-8634-8CDD98D38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E3B2-01D8-4722-B06F-6F73FB450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0DB4-0782-4ECB-8995-53435A405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DC7A-90D2-4D2D-AA00-08F1ADD4F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4D4C-BE5B-4D72-B863-9AB4940FF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0F7A-D8D4-4979-ACEC-C1CE07219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ED34-BE79-4091-8497-BE6B87041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3399-4792-4677-A2B3-1FFD3730C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6448-68C1-40CE-BCCD-3A1E7E853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23BA-FD02-49A8-87D3-040AD917E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C739-1E51-41E7-B624-043A5F3A0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EF76-3DA4-42A8-BCBD-03AE1A9C7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B57C-02D5-450B-99AD-80D3964E8E2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Rectangle2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7092-09A4-485F-8624-F32EE4816E4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6:54Z</dcterms:modified>
  <cp:revision>205</cp:revision>
  <dc:subject/>
  <dc:title>VTPP 423 - PHYSIOLOGY</dc:title>
</cp:coreProperties>
</file>