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E8C0-03C9-41FE-8066-D3EF64787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3A466-229B-4DEE-8117-622081231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ADC45-F91F-4BBD-B066-6DCD1FDC2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8B20E-60DD-4301-97CA-86F8D9348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32FA5-1D45-414C-917D-275A605AC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DA214-BC75-4CC2-AC2E-ABD6D8031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0C9C0-B16B-470C-BDBB-5477028EB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EA5BC-D735-48D3-ACBA-741C81645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BCE5C-5165-4CA1-8301-16D160845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2A7B2-BA6D-4AE6-8B88-F7181992F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D4F30-DF5E-471F-A51D-667DE98B7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4CF6B-9F96-4D2B-B5FE-94ECD8EAC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9116C-07D5-4852-9605-AD2B87E8F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4ED2-AA28-4B7B-8A00-AD1858847C0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vhardy</cp:lastModifiedBy>
  <dcterms:modified xsi:type="dcterms:W3CDTF">2003-05-28T22:05:18Z</dcterms:modified>
  <cp:revision>105</cp:revision>
  <dc:subject/>
  <dc:title>Locating Places</dc:title>
</cp:coreProperties>
</file>