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1B73-2480-413C-A533-91F66F320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489D-BA65-4D17-9C55-D7D372E6C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9CAD-6A9A-4B02-9A58-63C6911EA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F8B1-CFB3-44A5-9A6E-75AAF1C1D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C44B-B332-48A6-A824-A935D86BD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3F7D-447C-45E9-A9F0-C9BC07772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5661-35EA-47AE-984F-B06DF6B54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CF4F-9248-4CD4-98BE-EC8BC0276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4C62-60F5-43B3-908B-2495923F5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A3BF-70D9-4EAC-A4AA-081838C39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2D11-5B11-43E4-B976-E74AD2030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1F9E-8131-4E13-94DE-4112F9CA9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D9D34-A88E-4F8C-83C3-FEA62DE3D9F2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jective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djectives modify nouns or pronou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Using adjectives gives an accurate description of the object at hand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ne?  What kind?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 many?  How much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21:31:57Z</dcterms:created>
  <dc:creator>ITMD</dc:creator>
  <dc:description/>
  <dc:language>en-US</dc:language>
  <cp:lastModifiedBy>vhardy</cp:lastModifiedBy>
  <dcterms:modified xsi:type="dcterms:W3CDTF">2002-12-19T23:01:26Z</dcterms:modified>
  <cp:revision>61</cp:revision>
  <dc:subject/>
  <dc:title>Locating Places</dc:title>
</cp:coreProperties>
</file>