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3AE-6439-4976-8DF3-FEB6FDE8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merican girl and a Russian boy who becomes her 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nuclear accid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ack in time to the Ukra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rprise her pen pal by attending her birthday par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to limit their exposure to radi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er backpack contained a suspicious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 b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all of the above were encounte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pollution on the river had gotten wor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not to give up his fight for the ri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826-BFEC-4137-AA6C-C5526B8F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173-450D-447A-B90A-A413E66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464-E9EA-460E-9ABF-B3F3A288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D6A-4CB9-4F91-9B48-CA7E9F6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C18-E179-4013-ABAF-55705EF5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011-CD5F-440A-9908-9E393DB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D49-581A-4D96-A1A3-687D36F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CB8-CA31-4254-8065-9A2E497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B55-27C1-40A6-9355-F79C111E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5EF-78CE-4752-AC27-50B57D9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DF2-8769-4FEE-B2AB-2B853D7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CBC-CB97-4B51-ACCE-42A7C31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E28-B2C4-4524-8085-1FE518EAE3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174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Hard River Escape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Underline or highlight the important detail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52801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469584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2680" y="4100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2680" y="349092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2680" y="26416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3006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8240" y="3546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4073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8240" y="501984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6035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44440"/>
            <a:ext cx="990360" cy="406440"/>
          </a:xfrm>
          <a:custGeom>
            <a:avLst/>
            <a:gdLst>
              <a:gd name="textAreaLeft" fmla="*/ 26280 w 990360"/>
              <a:gd name="textAreaRight" fmla="*/ 964080 w 99036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52605" h="21600">
                <a:moveTo>
                  <a:pt x="0" y="0"/>
                </a:moveTo>
                <a:lnTo>
                  <a:pt x="52605" y="0"/>
                </a:lnTo>
                <a:lnTo>
                  <a:pt x="52605" y="21600"/>
                </a:lnTo>
                <a:lnTo>
                  <a:pt x="0" y="21600"/>
                </a:lnTo>
                <a:close/>
              </a:path>
              <a:path fill="lightenLess" w="52605" h="21600">
                <a:moveTo>
                  <a:pt x="0" y="0"/>
                </a:moveTo>
                <a:lnTo>
                  <a:pt x="52605" y="0"/>
                </a:lnTo>
                <a:lnTo>
                  <a:pt x="51205" y="1400"/>
                </a:lnTo>
                <a:lnTo>
                  <a:pt x="1400" y="1400"/>
                </a:lnTo>
                <a:close/>
              </a:path>
              <a:path fill="darken" w="52605" h="21600">
                <a:moveTo>
                  <a:pt x="52605" y="0"/>
                </a:moveTo>
                <a:lnTo>
                  <a:pt x="52605" y="21600"/>
                </a:lnTo>
                <a:lnTo>
                  <a:pt x="51205" y="20200"/>
                </a:lnTo>
                <a:lnTo>
                  <a:pt x="51205" y="1400"/>
                </a:lnTo>
                <a:close/>
              </a:path>
              <a:path fill="darkenLess" w="52605" h="21600">
                <a:moveTo>
                  <a:pt x="52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05" y="20200"/>
                </a:lnTo>
                <a:close/>
              </a:path>
              <a:path fill="lighten" w="52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8240" y="29527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8240" y="394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3840" y="4751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08240" y="56008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8240" y="62816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2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125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08240" y="31021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36990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8240" y="4281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8240" y="48909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8240" y="5486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8240" y="4803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8240" y="2530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240" y="311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8240" y="36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4237200"/>
            <a:ext cx="304920" cy="4060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58">
                <a:moveTo>
                  <a:pt x="0" y="0"/>
                </a:moveTo>
                <a:lnTo>
                  <a:pt x="21600" y="0"/>
                </a:lnTo>
                <a:lnTo>
                  <a:pt x="21600" y="28758"/>
                </a:lnTo>
                <a:lnTo>
                  <a:pt x="0" y="28758"/>
                </a:lnTo>
                <a:close/>
              </a:path>
              <a:path fill="lightenLess" w="21600" h="28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8">
                <a:moveTo>
                  <a:pt x="21600" y="0"/>
                </a:moveTo>
                <a:lnTo>
                  <a:pt x="21600" y="28758"/>
                </a:lnTo>
                <a:lnTo>
                  <a:pt x="20200" y="27358"/>
                </a:lnTo>
                <a:lnTo>
                  <a:pt x="20200" y="1400"/>
                </a:lnTo>
                <a:close/>
              </a:path>
              <a:path fill="darkenLess" w="21600" h="28758">
                <a:moveTo>
                  <a:pt x="21600" y="28758"/>
                </a:moveTo>
                <a:lnTo>
                  <a:pt x="0" y="28758"/>
                </a:lnTo>
                <a:lnTo>
                  <a:pt x="1400" y="27358"/>
                </a:lnTo>
                <a:lnTo>
                  <a:pt x="20200" y="27358"/>
                </a:lnTo>
                <a:close/>
              </a:path>
              <a:path fill="lighten" w="21600" h="28758">
                <a:moveTo>
                  <a:pt x="0" y="28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8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8240" y="4978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240" y="24890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8240" y="30574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8240" y="40323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8240" y="55753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6520" y="17744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08240" y="63198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08240" y="5468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8240" y="45608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368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29541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8240" y="299088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3840" y="3600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3840" y="41832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8240" y="508644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8240" y="571176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8240" y="5670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8240" y="511668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8240" y="4559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8240" y="399240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8240" y="3382920"/>
            <a:ext cx="304560" cy="406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817">
                <a:moveTo>
                  <a:pt x="0" y="0"/>
                </a:moveTo>
                <a:lnTo>
                  <a:pt x="21600" y="0"/>
                </a:lnTo>
                <a:lnTo>
                  <a:pt x="21600" y="28817"/>
                </a:lnTo>
                <a:lnTo>
                  <a:pt x="0" y="28817"/>
                </a:lnTo>
                <a:close/>
              </a:path>
              <a:path fill="lightenLess" w="21600" h="28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7">
                <a:moveTo>
                  <a:pt x="21600" y="0"/>
                </a:moveTo>
                <a:lnTo>
                  <a:pt x="21600" y="28817"/>
                </a:lnTo>
                <a:lnTo>
                  <a:pt x="20200" y="27417"/>
                </a:lnTo>
                <a:lnTo>
                  <a:pt x="20200" y="1400"/>
                </a:lnTo>
                <a:close/>
              </a:path>
              <a:path fill="darkenLess" w="21600" h="28817">
                <a:moveTo>
                  <a:pt x="21600" y="28817"/>
                </a:moveTo>
                <a:lnTo>
                  <a:pt x="0" y="28817"/>
                </a:lnTo>
                <a:lnTo>
                  <a:pt x="1400" y="27417"/>
                </a:lnTo>
                <a:lnTo>
                  <a:pt x="20200" y="27417"/>
                </a:lnTo>
                <a:close/>
              </a:path>
              <a:path fill="lighten" w="21600" h="28817">
                <a:moveTo>
                  <a:pt x="0" y="28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7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68520"/>
            <a:ext cx="304920" cy="406440"/>
          </a:xfrm>
          <a:custGeom>
            <a:avLst/>
            <a:gdLst>
              <a:gd name="textAreaLeft" fmla="*/ 0 w 304920"/>
              <a:gd name="textAreaRight" fmla="*/ 305280 w 304920"/>
              <a:gd name="textAreaTop" fmla="*/ 0 h 406440"/>
              <a:gd name="textAreaBottom" fmla="*/ 40644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1600" y="28783"/>
                </a:lnTo>
                <a:lnTo>
                  <a:pt x="21600" y="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0" y="28783"/>
                </a:lnTo>
                <a:lnTo>
                  <a:pt x="21600" y="287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0" y="0"/>
                </a:lnTo>
                <a:lnTo>
                  <a:pt x="0" y="287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95136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53240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102280"/>
            <a:ext cx="304920" cy="406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06440"/>
              <a:gd name="textAreaBottom" fmla="*/ 387000 h 406440"/>
            </a:gdLst>
            <a:ahLst/>
            <a:rect l="textAreaLeft" t="textAreaTop" r="textAreaRight" b="textAreaBottom"/>
            <a:pathLst>
              <a:path w="21600" h="28783">
                <a:moveTo>
                  <a:pt x="0" y="0"/>
                </a:moveTo>
                <a:lnTo>
                  <a:pt x="21600" y="0"/>
                </a:lnTo>
                <a:lnTo>
                  <a:pt x="21600" y="28783"/>
                </a:lnTo>
                <a:lnTo>
                  <a:pt x="0" y="28783"/>
                </a:lnTo>
                <a:close/>
              </a:path>
              <a:path fill="lightenLess" w="21600" h="28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3">
                <a:moveTo>
                  <a:pt x="21600" y="0"/>
                </a:moveTo>
                <a:lnTo>
                  <a:pt x="21600" y="28783"/>
                </a:lnTo>
                <a:lnTo>
                  <a:pt x="20200" y="27383"/>
                </a:lnTo>
                <a:lnTo>
                  <a:pt x="20200" y="1400"/>
                </a:lnTo>
                <a:close/>
              </a:path>
              <a:path fill="darkenLess" w="21600" h="28783">
                <a:moveTo>
                  <a:pt x="21600" y="28783"/>
                </a:moveTo>
                <a:lnTo>
                  <a:pt x="0" y="28783"/>
                </a:lnTo>
                <a:lnTo>
                  <a:pt x="1400" y="27383"/>
                </a:lnTo>
                <a:lnTo>
                  <a:pt x="20200" y="27383"/>
                </a:lnTo>
                <a:close/>
              </a:path>
              <a:path fill="lighten" w="21600" h="28783">
                <a:moveTo>
                  <a:pt x="0" y="28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3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7080" y="5643720"/>
            <a:ext cx="304560" cy="4060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06080"/>
              <a:gd name="textAreaBottom" fmla="*/ 386640 h 40608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</a:pathLst>
          </a:custGeom>
          <a:solidFill>
            <a:srgbClr val="cc6666"/>
          </a:solidFill>
          <a:ln w="9360">
            <a:solidFill>
              <a:srgbClr val="cc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Texas A&amp;M Veterinary Medicine</cp:lastModifiedBy>
  <dcterms:modified xsi:type="dcterms:W3CDTF">2005-05-17T17:13:22Z</dcterms:modified>
  <cp:revision>64</cp:revision>
  <dc:subject/>
  <dc:title>Investigator’s Challenge Quiz</dc:title>
</cp:coreProperties>
</file>