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97337-E881-4D54-9D7E-F135D1586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llege-level site, but the wording is simple, and students should be able to following the logical processes with the help of a teach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1560" y="685800"/>
            <a:ext cx="4573440" cy="34304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ypothesis: contaminated water causes abnormalities in developing fro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need an early stage of development: fertilized eggs or tadpo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e various dilutions of the suspect water; for example, 0%, 25%, 50%, 75% and 100% of the water is contaminat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formed frogs would result from growing embryos or tadpoles in contaminated water.  The number of such frogs and the magnitude of deformity would increase as the concentration of contaminated water increas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ly such an experiment was conducted by scientists in Minnesota.  The test, which takes four days to complete, was run multiple times using dilutions of the water from the Minnesota sites ranging from zero to 100 percent.  At concentrations above 50 percent, a high percentage of the frog embryos developed in the water showed a wide range of abnormalities, similar to what has been observed in frog larvae in the field in Minnesota since 1995.  Moreover, the number of abnormalities increased with the concentration of the water from Minnesota sites.  Water from "normal" sites (no deformed frogs found) did not produce harmful effects in the frogs. Questions regarding this latest information may be referred to Ralph Pribble, MPCA, 651- 296-7792; Tom Hawkins, NIEHS, (919) 541-1402 or Sandy Lange, NIEHS, (919) 541-0530.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ionship between organism and environment</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1560" y="685800"/>
            <a:ext cx="4573440" cy="34304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oblems also in Australia with deformed frogs and a declining population of frogs. See http://www.open.ac.uk/dap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1560" y="685800"/>
            <a:ext cx="4573440" cy="3430440"/>
          </a:xfrm>
          <a:prstGeom prst="rect">
            <a:avLst/>
          </a:prstGeom>
          <a:ln w="0">
            <a:noFill/>
          </a:ln>
        </p:spPr>
      </p:sp>
      <p:sp>
        <p:nvSpPr>
          <p:cNvPr id="72" name="PlaceHolder 2"/>
          <p:cNvSpPr>
            <a:spLocks noGrp="1"/>
          </p:cNvSpPr>
          <p:nvPr>
            <p:ph type="body"/>
          </p:nvPr>
        </p:nvSpPr>
        <p:spPr>
          <a:xfrm>
            <a:off x="228600" y="4343400"/>
            <a:ext cx="64008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strous Mutations                    By: Pamela S. Moy, Morgan Park HS, Chicago, IL</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s:  To understand and observe mutations.  To recognize and adapt to mutations.  To observe how mutations effect survival skill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needed is listed in the presentation.</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Students should form groups of threes.  Each student will simulate an animal that can only digest peanuts as food.  Mutations have produced some unusual characteristics in the offspring.  Each group will find out what mutation that they represent by selecting a letter out of the bag that the teacher provides. (Each group selects one lett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Drawn            Characteristic produc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Long fingernails (plastic knives taped to finger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No fingers (taping the hand clos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ack of peripheral vision (goggles with cotton in the side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Hands fused in front of the body (taping wrist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Feet and ankles fused together (taping ankle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No arms (taping the arms to the side of the body)</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Arms fused together behind the back (taping wrist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Blind (taping over the goggles so that there is no sight)</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the food (9 peanuts)</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the food for later use (in the letter‑designated container)</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e the food at a later time (bring the food back ‘home’)</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 consume the food (eat the food)        </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Each group should be at ‘home’.  The teacher will say go and time the groups.  Each group should proceed to the blanket containing the peanuts and put them in their storage container.  The group members should return back home and then go back to the container for retrieval.  Once the group has all nine peanuts, they will return home and consume the peanuts (each group member must consume 3).  The time it takes to complete this task should be recorded by the teacher and assessed in a bar 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tools and methods for inquiry</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BC1FE-8CF5-480C-8D7B-3DA67C8D3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AB83E-5616-4AFE-8915-B283C775D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7F5DD-D376-4492-836D-55A485CEF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A839B-7331-429A-AF75-F476B1156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5E5EA-2E45-4AD1-A096-BDAF48C50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52829-A48B-4743-8647-E6A1DF2C7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7A223-D1CE-493E-B280-6C749EAA9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1BD1C-7E3B-4F5E-B92D-0B9BCA373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C089C-C673-44DB-9E85-6C9207C40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F384D-F7BA-421D-BD5F-A80664A46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7D1E7-4A0A-4EAB-B570-B1204EEAB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678F1-9493-46CB-9D0E-8339EFE76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CC1E0-0157-4DCB-97E6-03EC77E62EC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ossible Causes of Malformed Frogs</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rform the Problem Solving Exercise at </a:t>
            </a:r>
            <a:r>
              <a:rPr b="0" lang="en-US" sz="2800" spc="-1" strike="noStrike" u="sng">
                <a:solidFill>
                  <a:srgbClr val="ccccff"/>
                </a:solidFill>
                <a:uFillTx/>
                <a:latin typeface="Times New Roman"/>
                <a:hlinkClick r:id="rId2"/>
              </a:rPr>
              <a:t>http://info.hartwick.edu/biology/def_frogs/Introduction/Exploration/explore.html</a:t>
            </a:r>
            <a:endParaRPr b="0" lang="en-US" sz="2800" spc="-1" strike="noStrike">
              <a:solidFill>
                <a:srgbClr val="ebebeb"/>
              </a:solidFill>
              <a:latin typeface="Times New Roman"/>
            </a:endParaRPr>
          </a:p>
        </p:txBody>
      </p:sp>
      <p:sp>
        <p:nvSpPr>
          <p:cNvPr id="5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sign An Experiment</a:t>
            </a:r>
            <a:br>
              <a:rPr sz="4400"/>
            </a:br>
            <a:endParaRPr b="0" lang="en-US" sz="4400" spc="-1" strike="noStrike">
              <a:solidFill>
                <a:srgbClr val="ebebeb"/>
              </a:solidFill>
              <a:latin typeface="Times New Roman"/>
            </a:endParaRPr>
          </a:p>
        </p:txBody>
      </p:sp>
      <p:sp>
        <p:nvSpPr>
          <p:cNvPr id="52"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urpose: To test if polluted water causes </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rogs to become deformed.</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the hypothesis.</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what stage of life cycle you would test and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would the experimental groups be?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results would confirm your hypothesis?</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5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e a Frog Friend</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 national network of students who look for deformed frog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t>
            </a:r>
            <a:r>
              <a:rPr b="0" lang="en-US" sz="3200" spc="-1" strike="noStrike" u="sng">
                <a:solidFill>
                  <a:srgbClr val="ccccff"/>
                </a:solidFill>
                <a:uFillTx/>
                <a:latin typeface="Times New Roman"/>
                <a:hlinkClick r:id="rId2"/>
              </a:rPr>
              <a:t>“A Thousand Friends of Frogs”</a:t>
            </a:r>
            <a:endParaRPr b="0" lang="en-US" sz="3200" spc="-1" strike="noStrike">
              <a:solidFill>
                <a:srgbClr val="ebebeb"/>
              </a:solidFill>
              <a:latin typeface="Times New Roman"/>
            </a:endParaRPr>
          </a:p>
        </p:txBody>
      </p:sp>
      <p:pic>
        <p:nvPicPr>
          <p:cNvPr id="56" name="" descr=""/>
          <p:cNvPicPr/>
          <p:nvPr/>
        </p:nvPicPr>
        <p:blipFill>
          <a:blip r:embed="rId3"/>
          <a:stretch/>
        </p:blipFill>
        <p:spPr>
          <a:xfrm>
            <a:off x="2895480" y="3828960"/>
            <a:ext cx="3400560" cy="2800440"/>
          </a:xfrm>
          <a:prstGeom prst="rect">
            <a:avLst/>
          </a:prstGeom>
          <a:ln w="0">
            <a:noFill/>
          </a:ln>
        </p:spPr>
      </p:pic>
      <p:sp>
        <p:nvSpPr>
          <p:cNvPr id="5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685800"/>
            <a:ext cx="3352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85800"/>
            <a:ext cx="4876920" cy="579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20880" y="4419720"/>
            <a:ext cx="2431800" cy="2249280"/>
          </a:xfrm>
          <a:prstGeom prst="rect">
            <a:avLst/>
          </a:prstGeom>
          <a:ln w="0">
            <a:noFill/>
          </a:ln>
        </p:spPr>
      </p:pic>
      <p:sp>
        <p:nvSpPr>
          <p:cNvPr id="61" name="PlaceHolder 1"/>
          <p:cNvSpPr>
            <a:spLocks noGrp="1"/>
          </p:cNvSpPr>
          <p:nvPr>
            <p:ph type="title"/>
          </p:nvPr>
        </p:nvSpPr>
        <p:spPr>
          <a:xfrm>
            <a:off x="609480" y="43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A HUMAN Mutation Experiment</a:t>
            </a:r>
            <a:endParaRPr b="0" lang="en-US" sz="3600" spc="-1" strike="noStrike">
              <a:solidFill>
                <a:srgbClr val="ebebeb"/>
              </a:solidFill>
              <a:latin typeface="Times New Roman"/>
            </a:endParaRPr>
          </a:p>
        </p:txBody>
      </p:sp>
      <p:sp>
        <p:nvSpPr>
          <p:cNvPr id="62" name="PlaceHolder 2"/>
          <p:cNvSpPr>
            <a:spLocks noGrp="1"/>
          </p:cNvSpPr>
          <p:nvPr>
            <p:ph/>
          </p:nvPr>
        </p:nvSpPr>
        <p:spPr>
          <a:xfrm>
            <a:off x="456840" y="685800"/>
            <a:ext cx="3352680" cy="3733920"/>
          </a:xfrm>
          <a:prstGeom prst="rect">
            <a:avLst/>
          </a:prstGeom>
          <a:noFill/>
          <a:ln w="0">
            <a:noFill/>
          </a:ln>
        </p:spPr>
        <p:txBody>
          <a:bodyPr lIns="90000" rIns="90000" tIns="46800" bIns="46800" anchor="t">
            <a:norm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ebeb"/>
                </a:solidFill>
                <a:uFillTx/>
                <a:latin typeface="Times New Roman"/>
              </a:rPr>
              <a:t>You</a:t>
            </a:r>
            <a:r>
              <a:rPr b="0" lang="en-US" sz="2400" spc="-1" strike="noStrike">
                <a:solidFill>
                  <a:srgbClr val="ebebeb"/>
                </a:solidFill>
                <a:latin typeface="Times New Roman"/>
              </a:rPr>
              <a:t> are about to get mutated!  Something has occurred in your school so that each of you have lost something that you need for survival.  So, BEWARE. You may not survive the day!  See your teacher for complete instructions!</a:t>
            </a:r>
            <a:endParaRPr b="0" lang="en-US" sz="2400" spc="-1" strike="noStrike">
              <a:solidFill>
                <a:srgbClr val="ebebeb"/>
              </a:solidFill>
              <a:latin typeface="Times New Roman"/>
            </a:endParaRPr>
          </a:p>
        </p:txBody>
      </p:sp>
      <p:sp>
        <p:nvSpPr>
          <p:cNvPr id="63" name="PlaceHolder 3"/>
          <p:cNvSpPr>
            <a:spLocks noGrp="1"/>
          </p:cNvSpPr>
          <p:nvPr>
            <p:ph/>
          </p:nvPr>
        </p:nvSpPr>
        <p:spPr>
          <a:xfrm>
            <a:off x="4038480" y="685800"/>
            <a:ext cx="5105520" cy="5867280"/>
          </a:xfrm>
          <a:prstGeom prst="rect">
            <a:avLst/>
          </a:prstGeom>
          <a:noFill/>
          <a:ln w="0">
            <a:noFill/>
          </a:ln>
        </p:spPr>
        <p:txBody>
          <a:bodyPr lIns="90000" rIns="90000" tIns="46800" bIns="46800" anchor="t">
            <a:normAutofit fontScale="99000"/>
          </a:bodyPr>
          <a:p>
            <a:pPr indent="0">
              <a:spcBef>
                <a:spcPts val="1500"/>
              </a:spcBef>
              <a:buNone/>
              <a:tabLst>
                <a:tab algn="l" pos="0"/>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What you need:</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Nine dry, shelled peanuts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Blanket for peanut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Table or Desk</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One cup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30 plastic knives</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ix pairs of goggle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Cotton</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top watch</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Large roll of duct tape or masking      </a:t>
            </a:r>
            <a:r>
              <a:rPr b="0" lang="en-US" sz="2400" spc="-1" strike="noStrike">
                <a:solidFill>
                  <a:srgbClr val="ebebeb"/>
                </a:solidFill>
                <a:latin typeface="Times New Roman"/>
              </a:rPr>
              <a:t>	</a:t>
            </a:r>
            <a:r>
              <a:rPr b="0" lang="en-US" sz="2400" spc="-1" strike="noStrike">
                <a:solidFill>
                  <a:srgbClr val="ebebeb"/>
                </a:solidFill>
                <a:latin typeface="Times New Roman"/>
              </a:rPr>
              <a:t>tape</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tring</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Paper bag containing the letters A </a:t>
            </a:r>
            <a:r>
              <a:rPr b="0" lang="en-US" sz="2400" spc="-1" strike="noStrike">
                <a:solidFill>
                  <a:srgbClr val="ebebeb"/>
                </a:solidFill>
                <a:latin typeface="Times New Roman"/>
              </a:rPr>
              <a:t>	</a:t>
            </a:r>
            <a:r>
              <a:rPr b="0" lang="en-US" sz="2400" spc="-1" strike="noStrike">
                <a:solidFill>
                  <a:srgbClr val="ebebeb"/>
                </a:solidFill>
                <a:latin typeface="Times New Roman"/>
              </a:rPr>
              <a:t>through H on slips of paper</a:t>
            </a:r>
            <a:endParaRPr b="0" lang="en-US" sz="24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6:03:43Z</dcterms:created>
  <dc:creator>Media Resources</dc:creator>
  <dc:description/>
  <dc:language>en-US</dc:language>
  <cp:lastModifiedBy>Texas A&amp;M Veterinary Medicine</cp:lastModifiedBy>
  <dcterms:modified xsi:type="dcterms:W3CDTF">2005-05-06T15:44:42Z</dcterms:modified>
  <cp:revision>11</cp:revision>
  <dc:subject/>
  <dc:title>Design An Experi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1000000000001023620</vt:lpwstr>
  </property>
</Properties>
</file>