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82A1-2389-4A07-81AF-A6D1D801E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2303-AFD6-4E02-A99F-611E4A4B3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9C4E-871C-4F6F-8D35-74E35C97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EB94-7505-4B09-A52E-2AA2424D6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4F50-3B69-4509-B8F2-CCD7CCCF3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D653-FDB4-421F-B22B-8B031389A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6A3C-B9B7-483B-B7D3-31DC2A82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696E-6D03-41C4-9269-589653F4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77FF-1540-4C11-B20E-95E471AE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1A60-D98F-4D62-9364-87A4DBE7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0BD9-C665-4B9E-AABC-6D920F65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B08A-F7E6-4FA0-9131-C92E867D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BEBA-D8E9-4474-8C18-6533845B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25D0-FEF7-412E-A5B3-F2AFAC98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A8DF-E26E-4351-A833-F0EF04CB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A3AD-5C7A-465A-8C8A-39E45D38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EF99-9503-47A6-BE9D-4ECCAFFEC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0F7C-2870-44F2-8BFE-3032FA30D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09EE-0742-45B6-935B-1081EA35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BF52-A828-4CC2-A675-7D8F6A2B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393E-5FE5-4BE1-AD45-A92CD190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046F-EDBB-422E-BFAB-8E8DF927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A36F-A402-4620-AA76-96484AD6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0E1E-A9DC-4905-84AE-897DDCD8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02C8-FC73-4C31-91F2-46C0A0CC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3E52-8998-4715-845F-8655359962D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1DA3-4BE5-4B49-8902-AA62D2ED404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94200" y="4905360"/>
            <a:ext cx="3576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15688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9° N.L., 39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1568520" y="4419720"/>
            <a:ext cx="60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6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  The lat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  The long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  The absolute location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06840" y="53863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06840" y="581508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06840" y="625788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8908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  The lat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8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  The long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97120" y="58053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  The absolute location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8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68520" y="4419720"/>
            <a:ext cx="58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  What city is located at 5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, 24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568520" y="4419720"/>
            <a:ext cx="58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50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8:55:12Z</dcterms:created>
  <dc:creator>Unknown User</dc:creator>
  <dc:description/>
  <dc:language>en-US</dc:language>
  <cp:lastModifiedBy>Texas A&amp;M Veterinary Medicine</cp:lastModifiedBy>
  <cp:lastPrinted>2002-01-02T19:06:19Z</cp:lastPrinted>
  <dcterms:modified xsi:type="dcterms:W3CDTF">2005-05-17T17:13:59Z</dcterms:modified>
  <cp:revision>6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4000000000001023620</vt:lpwstr>
  </property>
</Properties>
</file>