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3A28-3A1B-40F5-BE38-F1E8B195B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) Explain the relationship among religious ideas, philosophy,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 Describe ways in which factors of production influence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Explain aspects that link or separate cultures and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nob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ipropetrovs’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accident, Chernobyl had about 14,000 res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ould be noted that the type of reactor used in the former U.S.S.R. had a different design than reactors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th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Kiev has been a commercial center, located along the ancient trade route between Scandinavia and Constantin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Explain factors that influence economic development and foreign poli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C8A-F758-4CE0-B0FA-8034A0EC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7EF-19B9-4886-B473-BB913476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7C4-30AC-4C92-8A19-41F3D458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7F0-E18F-475E-A98D-BA151522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613-1431-45EC-B13F-FC7C000D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D1E-E1FE-4D4F-9AF1-0E114733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812-04E9-49CF-B8EA-083139A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A0E-2035-45AE-90D3-E9CFC391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035-2C85-4EF4-871B-80A3AE4F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351-C679-4E52-8B03-EB2791A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C0B-F414-4802-BEB9-EAC3C03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74B-7D76-4DC7-8951-608326D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95B-369A-48D8-BD62-F8E7FB16620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3880" y="262080"/>
            <a:ext cx="266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1280" y="1536480"/>
            <a:ext cx="3589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is home to many Orthodox Christian sites including the grand Cathedral of St. Sophia and the Percherska Lavra Monastery of the Cave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also has many gardens, parks, medieval art and architecture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1684440"/>
            <a:ext cx="3657600" cy="44528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50520" y="5030640"/>
            <a:ext cx="7961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is located along the Dnieper river and is an important city for water transpor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79720" y="1689120"/>
            <a:ext cx="4917960" cy="31557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on and steel are the major industries in Dnipropetrovs’k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ity produces heavy machinery, chemicals, and food produ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1617840"/>
            <a:ext cx="3143160" cy="448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3040" y="1552680"/>
            <a:ext cx="310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and other nearby cities get a great deal of their electricity from the Dniporhes dam and power st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located on the Dnieper River and uses the force of the water flowing through the dam to produce electr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29200" y="1695600"/>
            <a:ext cx="4557600" cy="3416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956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5403600"/>
            <a:ext cx="54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is located along the Black Sea and is an important city for trad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169236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5044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was originally the sight of an ancient Greek colony (Odessos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officially founded in 1794 and was used as a Russian naval fortres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4840" y="1636560"/>
            <a:ext cx="3582720" cy="44355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788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6480"/>
            <a:ext cx="436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has a rich culture and is home to people of many different origins including Ukrainian, Russian, Moldavian, Greek, and Romani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 Odesa is an industrial city specializing in ship building, oil refining, chemicals, metal working, and food processing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37160" y="1658880"/>
            <a:ext cx="3160800" cy="439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the capital of Ukra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located along the Black Sea and is important for tra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now abandoned because of a large nuclear explosion that occurred in 1986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uses the Dniprophes dam and power station for electri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could pick one city in Ukraine to travel to, where would you go and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were put in charge of an environmental clean-up committee, what would you do to clean up the present pollution and prevent further pollution in Ukraine?  Please explain your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8480" y="1781280"/>
            <a:ext cx="815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major industrial cities of Ukraine, including Chernobyl, Kiev, Dnipropetrovs’k, and Od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the unique challenges facing Uk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240" y="5211720"/>
            <a:ext cx="83674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nobyl is an abandoned industrial city located on the northern end of the Dnieper Riv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9840" y="1709640"/>
            <a:ext cx="4870440" cy="312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94320" y="1526760"/>
            <a:ext cx="319104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nobyl is the site of the Chernobyl nuclear power s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86, there was a large explosion at the station that sent radioactive material into the atmosphe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1695600"/>
            <a:ext cx="4572000" cy="348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80960" y="1517400"/>
            <a:ext cx="819648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estimated that nearly 8,000 people have died as a result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ople of Ukraine are still feeling the effects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people who lived near the plant at the time of the explosion have had a higher rate of cancer and genetic mutations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19120" y="1500120"/>
            <a:ext cx="455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years, Ukraine has been the breadbasket of Europe, growing large amounts of wheat.  A large amount of the fields growing the wheat have now been contaminated by invisible radiation. These fields will not be safe for growing food for many year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water supply of Ukraine has also been contaminated by radiatio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2760" y="1652760"/>
            <a:ext cx="3054240" cy="4566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47640" y="5048280"/>
            <a:ext cx="801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d on the Dnieper River, Kiev is the capital of Ukraine and the largest city in the coun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43080" y="1689120"/>
            <a:ext cx="4869000" cy="31240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6212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5040" y="1531800"/>
            <a:ext cx="36432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ev is one of the oldest towns in Northern Europe and holds much hi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the capital of medieval Kievan Rus, the first Russian st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known for its electronics, aviation, and chemical indust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3040" y="1708200"/>
            <a:ext cx="4108320" cy="267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60" y="156672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e establishment of the Kievan Academy (1632), Kiev became the center of learning in Ukra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home to the University of Kiev (1833) and the Ukrainian Academy of Sciences (1918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40360" y="1716120"/>
            <a:ext cx="4554360" cy="3040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9:32Z</dcterms:created>
  <dc:creator>Jeremiah McNichols</dc:creator>
  <dc:description/>
  <dc:language>en-US</dc:language>
  <cp:lastModifiedBy>Jeremiah McNichols</cp:lastModifiedBy>
  <dcterms:modified xsi:type="dcterms:W3CDTF">2008-10-13T15:29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9000000000001023620</vt:lpwstr>
  </property>
</Properties>
</file>