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C22B-7761-4D4A-AD10-172E0EEF9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579-CF2D-44DD-98B0-5EC9A5EB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A46-500A-4BBF-9C41-2A93EA03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062-5CCC-4F37-97D3-0F0346AE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9F4-FFBE-4809-A286-FD7531D2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BF8-DBBB-4961-83E1-3395E711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151-71A7-46DD-812E-FEB9508A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219-5D22-44A8-BEE8-877DAAD7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BF1-18B0-496C-804D-7DCE56D2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A91-875F-43D1-80BD-4EB8A7EA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F98-A8A3-460C-9BB1-03C4F926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FB4-BCB3-4AC1-9634-8A84507B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53B-ED07-4F67-86F6-EB878B58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2E09-1CBA-4004-A1AE-047723FA63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itstudent</cp:lastModifiedBy>
  <dcterms:modified xsi:type="dcterms:W3CDTF">2002-08-06T19:40:40Z</dcterms:modified>
  <cp:revision>18</cp:revision>
  <dc:subject/>
  <dc:title>What’s the difference between weather and climate?</dc:title>
</cp:coreProperties>
</file>