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ADEA6-84E9-4362-9CF6-747FBD64E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46FE2-B597-4236-B052-85B6A67B31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21553-4E99-48FC-BE2A-6B004F951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74915-D82F-4393-ADB2-C7EC389F4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D7B67-7E2C-4240-A61A-9294B64639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549DB-32D2-4C8B-A9F8-AE4805D3F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A34BB-70BA-4A49-9A9D-5289745D2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B9EE3-04BF-4AC8-AB98-3BB47CD3C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AEE3C-F569-4E6A-930D-7B6E574C27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5CAD-C589-4725-8AA9-8B269D17A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7C00F-B577-43AD-B7C1-32DAA5B62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6694-D363-49E0-A9E4-761A2BD88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E365-2471-4FBF-968E-AEAE9E60BA8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Fixed%20Rectangle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A049-D0BF-4AA1-A200-B9BA94A6A1F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JBox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8509-B197-4CBB-A209-58E761A53C0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67F1-BCE0-4C18-B516-ACEDB74A2D0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17C05-A945-49CC-99B5-BB07AC1B34A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73AF-B30D-4535-8E9F-D2B7F52B6EE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DB85F-5A57-4163-BD0A-5DFF6342C41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D1F96-400E-4F81-BDA5-DD9F29E53AA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DBFC6-E96E-4DEE-A219-79A5E6763B93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0:27Z</dcterms:modified>
  <cp:revision>238</cp:revision>
  <dc:subject/>
  <dc:title>VTPP 423 - PHYSIOLOGY</dc:title>
</cp:coreProperties>
</file>