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624F-E181-4A79-AF07-BE646A5B3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1DF5-1079-43F1-B48D-A1A1EAED6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B2B2-65D3-4C2B-898C-F58A9965A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D5C1-EC6C-4868-9969-90FB69910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8F77-9D02-427B-AF79-CD8F09DDE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690E-E4CF-438B-8FAF-2810D2982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85CC-5FDB-4858-979B-97E05571F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7B23-4C3C-44A3-9D13-9097988FF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DEDE-0A67-43FA-8E11-21D169F82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D91C-9AD7-4C22-BD7D-B73E3366C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E83D-A5C1-4A41-95DA-491562505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DBD9-A20D-4D2A-A1D4-220410E85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B99A-F4F5-43FC-953D-1027A8311CC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E111-C119-4CD7-A85A-E20F6EA12CD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E428-E328-45FF-9D79-3CFAC6D6A1A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5D77-334F-4763-9DB5-1A183B655E1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1A59-D7F4-46A7-AB5D-4D09B183A7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96D3-085B-48F9-A344-5FD46B549448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6-19T18:46:08Z</dcterms:modified>
  <cp:revision>218</cp:revision>
  <dc:subject/>
  <dc:title>VTPP 423 - PHYSIOLOGY</dc:title>
</cp:coreProperties>
</file>