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828E2-C8E6-4BA5-A4B6-5F5045609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1B9AF-8D5E-49F0-9B35-BBA16ECC3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D3E81-7D33-4EE1-9867-675D3664F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29DE4-C0C7-4E2F-ADA9-F214986CA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EA08C-A416-4C72-9440-A92237FBD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42A21-36CE-4662-B08D-42C9A2B72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3208A-1E28-472D-8B34-994D21F38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C8669-B98D-4C04-B748-FFC129BE8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B9809-8B59-4751-8703-70D78C7D7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64F61-F11B-4132-9DE8-5E69561F3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A7006-A514-436B-B967-FD042D6CC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E10F8-1085-4B57-A117-84E7583F0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32BBC-D356-4BDC-A441-A2A8CD176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9DC50-1E06-4C78-86DD-FCA3C6EFD22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JMcNichols</cp:lastModifiedBy>
  <dcterms:modified xsi:type="dcterms:W3CDTF">2006-05-27T17:08:00Z</dcterms:modified>
  <cp:revision>11</cp:revision>
  <dc:subject/>
  <dc:title>Design An Experiment </dc:title>
</cp:coreProperties>
</file>