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5A51-F314-426F-9713-63E1C7A88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A1BE-4C40-4EE2-A3A5-250FEEDF1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60B1-E03B-4934-AE90-39D02E734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D4F2-BB3F-46A9-95AB-BD5C46B8D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18AD-3306-4091-BBDA-B9924AB1D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74874-6ADD-46AD-B605-D7E1A2FCD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9AF1-D3E2-4EBC-A72C-9CE74D2EB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9AB6-8747-48AF-82D3-627364310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01AD-EB09-4C52-9443-4C21AC1A3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B237-9AB6-4C6D-A0EF-C6C65A7C0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BBCE-EAD8-46C8-BB4B-67AA5D7FC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631B9-089F-4E58-A3C5-E38C2153F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06CB-C8B2-4D0F-8E57-A76D586EF96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19FA-DF15-4F00-816A-5009EAD4391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A1206-4D49-4ECC-9EE2-191A4CC4E3B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25Z</dcterms:modified>
  <cp:revision>210</cp:revision>
  <dc:subject/>
  <dc:title>VTPP 423 - PHYSIOLOGY</dc:title>
</cp:coreProperties>
</file>