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5FBFA-75BF-4A38-B265-7DDD79AFAFA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luenc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3 (A, B, E, G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Forming and revising questions for investig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Using text organ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Using multiple sources to locate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ummarizing and organizing information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) Drawing conclusions from information gathered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3 (A, B, E, G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Forming and revising questions for investig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Using text organ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Using multiple sources to locate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ummarizing and organizing information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) Drawing conclusions from information gathered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6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sing original texts, applying the conventions of written language to communicate clear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ying standard grammar and usage to communicate clearly and effectively in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, C, D, 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Developing drafts by categorizing ideas and organizing th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Revising selected drafts by adding, elaborating, deleting, combining, and rearranging 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) Revising drafts for coherence, progression, and logical support of id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Editing drafts for specific purpo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F9D95-2BD6-44DB-ABAE-247EABF70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A8B8-1B9A-4F79-A2F4-1F14EEF7C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FCBED-5D64-4FAF-81A7-31DFBC523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6CCB-DD3C-49D0-8A33-C673E1452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BDDE-F50A-4ABD-947E-85D512A25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483F-EF6C-4768-8C1E-8B2664D32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1A5AF-9978-4510-84A2-32C9BFD0F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5D8F7-15D7-4DB4-9937-C97953198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B5FA4-A898-405D-AC02-89A5305B4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59E1-7713-4785-AB6A-2EE511873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6903E-89A4-4045-92EF-FD1C26183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440F3-CDF8-4570-8625-A65024DCE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D1FAC-A12B-4D83-A91D-F1C43F14D654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omparing and Contrasting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 essay that compares and contrasts explains how two or more things are alike and how they are different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1061720" y="1766880"/>
            <a:ext cx="1440" cy="1440"/>
          </a:xfrm>
          <a:prstGeom prst="rect">
            <a:avLst/>
          </a:prstGeom>
          <a:solidFill>
            <a:srgbClr val="5b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518840" y="1628640"/>
            <a:ext cx="1440" cy="1800"/>
          </a:xfrm>
          <a:prstGeom prst="rect">
            <a:avLst/>
          </a:prstGeom>
          <a:solidFill>
            <a:srgbClr val="51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518840" y="1628640"/>
            <a:ext cx="1440" cy="1800"/>
          </a:xfrm>
          <a:prstGeom prst="rect">
            <a:avLst/>
          </a:prstGeom>
          <a:solidFill>
            <a:srgbClr val="51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1296800" y="1174680"/>
            <a:ext cx="2880" cy="180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3" y="0"/>
                </a:lnTo>
                <a:lnTo>
                  <a:pt x="0" y="0"/>
                </a:lnTo>
                <a:lnTo>
                  <a:pt x="3" y="0"/>
                </a:lnTo>
                <a:close/>
              </a:path>
            </a:pathLst>
          </a:custGeom>
          <a:solidFill>
            <a:srgbClr val="35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115640" y="1217520"/>
            <a:ext cx="1440" cy="18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2514600" y="3809880"/>
            <a:ext cx="4103640" cy="23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Now You Try I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ist two things that you can compare and contrast.  For example, compare and contrast your preferences in music to those of your parent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ld a sheet of paper in half lengthwise.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ist all the ways the music you like is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different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from the music your parents like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 the other side, list all the ways that the music you like is the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same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as the music your parents prefer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Possible Points to Compar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ypes of Music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ock and roll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ap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echno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lassical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ypes of instrument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Electric guita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Violin or other symphonic instrument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4280" y="190512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rtists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Specific bands or singe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Vintage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hen was the music recorded.  For example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Golden Oldie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ontemporary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oudnes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etting it on Paper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evelop your lists into sentences, then into paragraph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laborate on the detail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hoose how you will organize your comparison and use that plan throughout your essay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Ways to Organize a Compare/Contrast Essay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One Approach…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escribe all the similarities in one paragraph, and all the differences in another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, describe the music you like in one paragraph and the music your parents like in the next paragraph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Or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More Organization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other Way to Go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hoose a specific aspect of the subject to compare and contrast in each paragraph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, in the first paragraph you might explain that you like rap and your parents prefer classical (contrast/difference), but you both like rock and roll (comparison/similarity). In the second paragraph, you might explain that you like contemporary artists while your parents prefer artists of the 70’s and 80’s (contrast/ difference)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imple Ways to Compare Objects</a:t>
            </a: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80720"/>
            <a:ext cx="38102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lo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hap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z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ast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xtur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Use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191120" y="1905120"/>
            <a:ext cx="3736800" cy="29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1T15:04:10Z</dcterms:created>
  <dc:creator>Gina Balducci</dc:creator>
  <dc:description/>
  <dc:language>en-US</dc:language>
  <cp:lastModifiedBy>vhardy</cp:lastModifiedBy>
  <dcterms:modified xsi:type="dcterms:W3CDTF">2003-05-29T00:06:40Z</dcterms:modified>
  <cp:revision>32</cp:revision>
  <dc:subject/>
  <dc:title>Comparing Apples to Oranges</dc:title>
</cp:coreProperties>
</file>