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5026F-C927-4EAA-825E-DD2D77E3A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B12C-A95F-4914-B364-B94EDDD61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AB1D-7F7A-4D0F-8F54-3DC3C888D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E804-4D95-44B1-A2EF-70FD73F3A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ADDF-60D8-401B-9E4B-23C561986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3ADD-D78B-4EAB-A5E4-AE8A13221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202F-CB0D-4018-B897-959210420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2322-7F59-4EFE-95DE-DAFF1C9D3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D9DC-7835-4873-B419-909E0DA8F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0D25-E734-4F4C-80FF-71F0B3522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9803-FF97-4535-93E9-B03618ED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6EBF-86DB-43D9-BDCB-296D52D3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A15B-F9D9-4109-AEBC-7F2DDE1A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88E2B-DFEA-4E55-A181-6828718E24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Wine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WeightLifting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ljlab</cp:lastModifiedBy>
  <dcterms:modified xsi:type="dcterms:W3CDTF">2003-06-19T18:56:08Z</dcterms:modified>
  <cp:revision>9</cp:revision>
  <dc:subject/>
  <dc:title>Volume &amp; Weight Conversions</dc:title>
</cp:coreProperties>
</file>