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C946-D949-4FA1-A5A7-2E9F5021F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682A-F005-4C3B-BC2B-4F3DAEC8A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F06D-007E-45FF-9A44-BC0AB2C9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A713-B693-4A5D-B12D-FFE23B0A5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A2F5-2775-4050-9AFC-628DA6B4B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D520-252B-49A2-BE1C-DD735841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A4E5-A0FF-4A36-A0FC-0A3B9F8F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3FFA-FB89-4B09-8BDE-080CE2F5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B971-0615-45C0-82F8-B7C315CC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3856-964F-4E82-8966-C65458D8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A32B-1CF8-4363-8227-6CA29BC3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6761-7C25-4340-886A-5D475BDC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16B2-8914-438C-996C-CB8098EA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632B-050E-4B31-936A-CA9CBD29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092B-A580-4CBB-B3EB-90E1D5C9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ED69-7D70-4563-9470-45C77468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986F-30DB-45C6-BA31-2A906DDDC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C6D6-887C-477A-AA4D-2C068B659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F858-99D8-4458-BC5E-7D7835EC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4862-6499-444C-878D-939B77F8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EF30-C2C2-4872-A915-EE9DF505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BB45-1C9E-455E-94E0-29831FC2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E1BB-8E5D-42D0-B9DD-054ED34E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AA75-0146-43BC-B746-DE0BD814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4E32-D59D-4698-A17B-72CB96C1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EC70-8934-445C-B5FD-194E290FBBA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27C3-19CE-4394-8D32-2FB9615A139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94200" y="4905360"/>
            <a:ext cx="3576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15688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9° N.L., 39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1568520" y="4419720"/>
            <a:ext cx="60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6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  The lat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  The long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  The absolute location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6840" y="53863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06840" y="581508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06840" y="625788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8908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  The lat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8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  The long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97120" y="58053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  The absolute location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8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68520" y="441972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  What city is located at 5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, 24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568520" y="4419720"/>
            <a:ext cx="58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50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8:55:12Z</dcterms:created>
  <dc:creator>Unknown User</dc:creator>
  <dc:description/>
  <dc:language>en-US</dc:language>
  <cp:lastModifiedBy>Texas A&amp;M Veterinary Medicine</cp:lastModifiedBy>
  <cp:lastPrinted>2002-01-02T19:06:19Z</cp:lastPrinted>
  <dcterms:modified xsi:type="dcterms:W3CDTF">2005-05-17T17:13:59Z</dcterms:modified>
  <cp:revision>6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4000000000001023620</vt:lpwstr>
  </property>
</Properties>
</file>