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D8CB-3F29-4F79-B8FB-4BBB4010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(30 km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828.57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using the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 on a calculator, the total area will be 2,827.43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revious question you know there is a area of 2,828.57 square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28.57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(80.77 people 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228,463.59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8,464 peo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d to be evacu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, Estimation and 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 = 2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radius =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30 km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.57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y and spatial reaso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,000,000 people / 48,760,474 peopl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34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s a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486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.8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ercents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Texas has four reactors at two sites.  One site, Comanche Peak, is near Dallas/Fort Worth; the other site, the South Texas Project, is south of Hous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meant to be a lead in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901-1222-48B8-9E5D-128A32DC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4E1-70FE-4144-A1E6-1847BEE7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FF0-4C49-422A-8B98-C1BCE652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3C8-644B-4F68-893A-185DCA64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2DE-E0F1-4A05-8744-298F7BA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8A1-353E-4295-A29B-1A7F29C7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7E8-02E9-4B2C-B063-DC38A92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5BC-0E3C-4176-8C32-ACC4E67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128-E668-47B9-ACEA-A99E87FD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B3B-98CA-429B-9F66-B81C4BF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9A2-AAE7-46CD-A775-9F70381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1CF-B456-42E0-AE80-283A435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184-DF8F-476B-9E31-C41B5BA281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file:///Appendices/AreaCalc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Appendices/AreaCalc.ppt" TargetMode="External"/><Relationship Id="rId4" Type="http://schemas.openxmlformats.org/officeDocument/2006/relationships/hyperlink" Target="file:///Appendices/Per%20Problems.ppt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file:///Appendices/Circumfe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ppendices/FraToPer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0440" y="1523880"/>
            <a:ext cx="824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the concepts of area and perimeter of a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population density and proportions of a po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scaling on a m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5200" y="1428840"/>
            <a:ext cx="799128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ing the Chernobyl nuclear reactor accident, radiation was emitted in all directions from the reactor.  The people living within 30 km were evacuated for their own prot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560" y="3225960"/>
            <a:ext cx="39103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as the total area evacua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27480" y="3382920"/>
            <a:ext cx="3483000" cy="30178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65200" y="4213080"/>
            <a:ext cx="408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on area calculations, click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5040" y="530280"/>
            <a:ext cx="73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sion : Evac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840" y="1370160"/>
            <a:ext cx="54864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opulation density of Ukraine was  80.77 people per square kilometer during the Chernobyl incident, how many people had to be evacuated from within the 30 km radius of Chernoby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1880" y="4686480"/>
            <a:ext cx="511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more information on area and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or help with solving ‘per’-typ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708600" y="1992240"/>
            <a:ext cx="19321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2760" y="1585440"/>
            <a:ext cx="81612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Russian soldiers patrolled the entire circumference of the area evacuated around Chernobyl, how far would they have to travel to circle once around the perime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584440" y="3078000"/>
            <a:ext cx="3809520" cy="3062520"/>
            <a:chOff x="2584440" y="3078000"/>
            <a:chExt cx="3809520" cy="306252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2584440" y="3311640"/>
              <a:ext cx="1836720" cy="25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3060720" y="3134520"/>
              <a:ext cx="175716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375800" y="3078000"/>
              <a:ext cx="2018160" cy="30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2153160" y="6145200"/>
            <a:ext cx="48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6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r more information on circum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11320" y="53820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The 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 has a population of 48,760,474 people.  17 million people were contaminated to some degree by radiation from the Chernobyl accident.  What proportion of the population was affected by the acciden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98320" y="5789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more information on percents, 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ors, Radiation, and Rad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we have any nuclear power plants here in Tex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look at the area affected by the Chernobyl accident, as well as areas that would be affected if there was a similar acciden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, however, highly unlikely, given the safety considerations and precautions taken by modern power pla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46:13Z</dcterms:created>
  <dc:creator>Jeremiah McNichols</dc:creator>
  <dc:description/>
  <dc:language>en-US</dc:language>
  <cp:lastModifiedBy>Jeremiah McNichols</cp:lastModifiedBy>
  <dcterms:modified xsi:type="dcterms:W3CDTF">2008-10-14T13:56:4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4000000000001023620</vt:lpwstr>
  </property>
</Properties>
</file>