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9118-84F3-4805-B364-9B0054924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9FBE-9829-4931-B5A0-A33310E1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5C26-3493-4990-A85C-1DD37736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26D1-2693-4A5A-B392-DA3E57CC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59A9-BF2B-409F-9117-9F0CD778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63D9-9BA0-442D-9B59-933A7754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945B-D6DE-4703-BDE6-73F972D7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EC03-3DA4-4BC8-A653-90BF6F6E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B96-7CAA-4B46-9023-343F16CF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C447-FA57-40C1-81DE-93832549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2023-0F51-442B-9655-E9E0FEAC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C3D-14AC-4E0E-B0EA-83277A8A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4E1F-4C36-447F-8CDB-CD01EEE7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C8E4-559D-44C9-8996-ACA43A49E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vhardy</cp:lastModifiedBy>
  <dcterms:modified xsi:type="dcterms:W3CDTF">2003-05-23T21:26:30Z</dcterms:modified>
  <cp:revision>5</cp:revision>
  <dc:subject/>
  <dc:title>Metric Multiplication Factors</dc:title>
</cp:coreProperties>
</file>