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100E-06A9-4756-A16E-80595F574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9 (A) Explain the relationship among religious ideas, philosophy,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 Compare ways societies organize production/distribution of goods an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A) Describe ways in which factors of production influence ec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Explain aspects that link or separate cultures and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nob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ipropetrovs’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accident, Chernobyl had about 14,000 resi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hould be noted that the type of reactor used in the former U.S.S.R. had a different design than reactors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the 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, Kiev has been a commercial center, located along the ancient trade route between Scandinavia and Constantin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Explain factors that influence economic development and foreign poli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 Compare ways societies organize production/distribution of goods and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FB3-32DB-4288-8870-B0E51F63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7EE-E057-4191-AB3E-DFD3E21E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231-8714-4968-A005-3AD1F050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080-3032-4109-B147-70B27E76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341-8879-4B26-A419-5468CC56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36C-8292-42F9-ABBD-DADCC933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6D3-74F5-4688-8988-DA08A7B5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96B-7FF3-4360-AB95-DBC389D3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D52-F1FE-44BE-8B57-041C517B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D82-DA13-48D9-828D-C18F397A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26C-9261-4531-8653-F1678C9C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664-A3D0-488B-AD51-2F06968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A0F2-F26C-44AE-BB43-3ACB8C769CF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3880" y="262080"/>
            <a:ext cx="2666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1280" y="1536480"/>
            <a:ext cx="35892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iev is home to many Orthodox Christian sites including the grand Cathedral of St. Sophia and the Percherska Lavra Monastery of the Cave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iev also has many gardens, parks, medieval art and architecture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1684440"/>
            <a:ext cx="3657600" cy="44528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50520" y="5030640"/>
            <a:ext cx="7961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ipropetrovs’k is located along the Dnieper river and is an important city for water transport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79720" y="1689120"/>
            <a:ext cx="4917960" cy="31557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30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on and steel are the major industries in Dnipropetrovs’k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ity produces heavy machinery, chemicals, and food produ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1617840"/>
            <a:ext cx="3143160" cy="4485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3040" y="1552680"/>
            <a:ext cx="310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ipropetrovs’k and other nearby cities get a great deal of their electricity from the Dniporhes dam and power st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located on the Dnieper River and uses the force of the water flowing through the dam to produce electr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29200" y="1695600"/>
            <a:ext cx="4557600" cy="34160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956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440" y="5403600"/>
            <a:ext cx="54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is located along the Black Sea and is an important city for trad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5120" y="169236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5044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was originally the sight of an ancient Greek colony (Odessos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officially founded in 1794 and was used as a Russian naval fortres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4840" y="1636560"/>
            <a:ext cx="3582720" cy="44355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788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06480"/>
            <a:ext cx="436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has a rich culture and is home to people of many different origins including Ukrainian, Russian, Moldavian, Greek, and Romani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 Odesa is an industrial city specializing in ship building, oil refining, chemicals, metal working, and food processing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37160" y="1658880"/>
            <a:ext cx="3160800" cy="4395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the capital of Ukra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located along the Black Sea and is important for tra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now abandoned because of a large nuclear explosion that occurred in 1986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uses the Dniprophes dam and power station for electri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44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could pick one city in Ukraine to travel to, where would you go and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were put in charge of an environmental clean-up committee, what would you do to clean up the present pollution and prevent further pollution in Ukraine?  Please explain your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7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8480" y="1781280"/>
            <a:ext cx="815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the major industrial cities of Ukraine, including Chernobyl, Kiev, Dnipropetrovs’k, and Od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the unique challenges facing Ukra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9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3240" y="5211720"/>
            <a:ext cx="83674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rnobyl is an abandoned industrial city located on the northern end of the Dnieper Riv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39840" y="1709640"/>
            <a:ext cx="4870440" cy="31258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494320" y="1526760"/>
            <a:ext cx="319104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nobyl is the site of the Chernobyl nuclear power st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86, there was a large explosion at the station that sent radioactive material into the atmosphe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666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1695600"/>
            <a:ext cx="4572000" cy="34858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80960" y="1517400"/>
            <a:ext cx="819648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estimated that nearly 8,000 people have died as a result of the accid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ople of Ukraine are still feeling the effects of the accid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people who lived near the plant at the time of the explosion have had a higher rate of cancer and genetic mutations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666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s of the Explo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s of the Explo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19120" y="1500120"/>
            <a:ext cx="4557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 years, Ukraine has been the breadbasket of Europe, growing large amounts of wheat.  A large amount of the fields growing the wheat have now been contaminated by invisible radiation. These fields will not be safe for growing food for many year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water supply of Ukraine has also been contaminated by radiatio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2760" y="1652760"/>
            <a:ext cx="3054240" cy="4566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47640" y="5048280"/>
            <a:ext cx="801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ed on the Dnieper River, Kiev is the capital of Ukraine and the largest city in the countr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143080" y="1689120"/>
            <a:ext cx="4869000" cy="31240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62120" y="29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5040" y="1531800"/>
            <a:ext cx="364320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ev is one of the oldest towns in Northern Europe and holds much hi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the capital of medieval Kievan Rus, the first Russian st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Kiev is known for its electronics, aviation, and chemical indust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3040" y="1708200"/>
            <a:ext cx="4108320" cy="2679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60" y="156672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the establishment of the Kievan Academy (1632), Kiev became the center of learning in Ukra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Kiev is home to the University of Kiev (1833) and the Ukrainian Academy of Sciences (1918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140360" y="1716120"/>
            <a:ext cx="4554360" cy="30402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9:32Z</dcterms:created>
  <dc:creator>Jeremiah McNichols</dc:creator>
  <dc:description/>
  <dc:language>en-US</dc:language>
  <cp:lastModifiedBy>Jeremiah McNichols</cp:lastModifiedBy>
  <dcterms:modified xsi:type="dcterms:W3CDTF">2008-10-13T15:29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9000000000001023620</vt:lpwstr>
  </property>
</Properties>
</file>