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CD0F5-8CA4-4DD4-B791-DEDBF022C6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1497B-782F-487D-B737-DCD5259854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DDFA1-60E6-4AF0-8D05-DF82D47BEF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E77CD-7CAE-4B70-9500-056B2441A4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CED2A-D836-46B5-B7BD-04E06763CE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4DB05-9A5B-4363-8D74-E40F613BC3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D3775-19F5-4760-AC0F-3BB696E7A5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CEB96-00D8-4FD9-91A2-920967E1B1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6EA2B-F0A6-44BF-A1C7-2540C0B072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FB343-6AB9-483A-BF74-3CA85B60DE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F337B-F36B-449C-973D-A529AC51DC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DB30E-D161-40D3-A0D5-FA171662D8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D7A0-DBD8-49A5-82CC-5D27844FCA8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49458-3074-428C-9A54-537D42C99D55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19:48Z</dcterms:modified>
  <cp:revision>207</cp:revision>
  <dc:subject/>
  <dc:title>VTPP 423 - PHYSIOLOGY</dc:title>
</cp:coreProperties>
</file>