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38978-C0FB-47EB-9235-17CF4CA11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2567-7A6D-4A12-8461-6DACE1D39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F908-30E2-47FE-B214-B20728DF2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1160-B2D7-441B-B6BB-75CE2A8D6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5EAE-BCFE-4686-9F45-C383856E7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BF91-32C2-4BAD-ACFA-3EB6B04B4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FFA4-041C-41A6-9DB5-D9D11DF30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5D31-590C-47A0-8B55-046B5B703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CA9A-3E38-4870-835C-3864193C7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1C6D-3D45-4620-AD09-435DEE231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ED60-748C-4892-BD21-D256F003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C8E6-E3B8-4E40-A0C5-1115BEB5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09CE-1FB7-4D6D-BA8D-FDF4C663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9632A-D896-45E7-9FDD-31B6A71CCFB6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rcRect l="0" t="45721" r="0" b="0"/>
          <a:stretch/>
        </p:blipFill>
        <p:spPr>
          <a:xfrm>
            <a:off x="2362320" y="4343400"/>
            <a:ext cx="411480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rcRect l="11141" t="0" r="0" b="0"/>
          <a:stretch/>
        </p:blipFill>
        <p:spPr>
          <a:xfrm>
            <a:off x="5029200" y="1981080"/>
            <a:ext cx="3611520" cy="24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ljlab</cp:lastModifiedBy>
  <dcterms:modified xsi:type="dcterms:W3CDTF">2007-08-02T19:09:28Z</dcterms:modified>
  <cp:revision>30</cp:revision>
  <dc:subject/>
  <dc:title>Descriptive Writing</dc:title>
</cp:coreProperties>
</file>