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64FE-5FFD-43F4-980F-3B610F117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9AAC-28A1-4E3E-89E3-3DBA59DA2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61A9-399C-4B6F-951D-410E0EE40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730B-11C5-427C-B96E-BFFC362EB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76F3-B2E5-4C8D-A9FD-DE9988880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D5D4-63ED-4169-A00E-84299BC5F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6943-6870-4F26-9855-5619E5BB0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B0DE-6EE9-490D-AE65-5236577EC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2A86-19CD-419C-AF37-125A2A440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DDB8-B90E-4B43-94B2-A98CCD8C7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850C-30A6-4FAA-94FD-F80AA2E19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596C-41DE-40E8-83A2-15CD03AF2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1A28-A4A5-44B4-98ED-2E37B8BDA45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FFA4-8156-4248-813E-9E073FE5E8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802A-E06C-40DB-B24F-E92B18557E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B8AF-4311-42FE-9891-A3FD58DA40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7DCA-C27F-44A0-934E-2DC2787DC95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11Z</dcterms:modified>
  <cp:revision>216</cp:revision>
  <dc:subject/>
  <dc:title>VTPP 423 - PHYSIOLOGY</dc:title>
</cp:coreProperties>
</file>