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F708-A7DE-4F3F-9DCA-0B0D5604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1D6-14A6-4C15-B734-7E853E9D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99B-D03F-4F19-B895-0168F81C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2BA-B2D0-4375-AE90-B142B4BA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7CE-FFE6-488D-8B15-A8CCF9BD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2A8-D0B3-41A9-8251-CC48731D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BB9-DAE4-4A0D-A265-44D85C0F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BCF-64EE-4BD3-8A1C-0C70CDB5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671-ECF2-4E6E-96B5-8615F94B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01E-4EB3-4024-A20C-7AD041C9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2E9-33B2-4E35-80CE-EAF4BEC5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180-42ED-4D06-8AA6-41E8A5D7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E39-61B1-43F6-A0C3-E6244C8E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4A3C-87B8-4D15-81A3-D80BA8721C1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itstudent</cp:lastModifiedBy>
  <dcterms:modified xsi:type="dcterms:W3CDTF">2002-08-06T19:40:15Z</dcterms:modified>
  <cp:revision>8</cp:revision>
  <dc:subject/>
  <dc:title>What’s the difference between weather and climate?</dc:title>
</cp:coreProperties>
</file>