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8E00-F831-4130-9F80-BC2711926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9D0C-1B6F-40A9-A412-ADC23587C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8048-C87F-489A-86E8-BEA202F4E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B21C-5E09-4045-A6D2-9267FB0A7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DABA-280B-4276-9A37-5470ED99F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0E2F-DD61-4644-9DA1-639656B0B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2D9C-26A0-4DAD-8D0D-F88A6AD6B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7EEC-B0EE-4842-BBA4-1EF4A3103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7000-8A77-43C1-92C5-59200C3AD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BC9D-E887-4686-814D-3BB26F14F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D273-CD70-4C0C-8AFB-025B3FB18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88BE-2C94-4F4E-885E-DC12867EA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48A9-751C-4DEE-B816-D68E21E4C2A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BF68-66A8-431A-AFF4-6855B05835F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4570-8F46-4979-A0BE-6CC72623C0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2831-CEA4-4DE2-AA70-975BE68DD3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7D1E-47C1-416B-8FA7-DAE39D3C0DE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11Z</dcterms:modified>
  <cp:revision>216</cp:revision>
  <dc:subject/>
  <dc:title>VTPP 423 - PHYSIOLOGY</dc:title>
</cp:coreProperties>
</file>