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2854-BCEC-47E0-94D9-CD122C90B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A9BC-C035-4E03-8635-73821EA16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B180-C3C0-4381-87AF-EA1DA7EA2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724D-0DEE-4F2D-AB79-37BE132A3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8C97-C913-4871-847D-34604D63B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9CD9-44CE-4639-9671-D53FDC448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8551-4F48-4F7C-AC68-93563FE9D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0F0F-0296-4702-93A6-ECA565494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8D34-9D5B-427C-951D-2759751D5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6505-90EE-483B-A1B0-269AC31CF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EBAE-3F5E-4990-B63D-7484B674C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15B9-F7D2-47F2-A775-0E1818D93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95D8-BCFA-49A7-940C-2E7DD73318E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2089-913D-4A7D-8E36-905E11B2066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38Z</dcterms:modified>
  <cp:revision>209</cp:revision>
  <dc:subject/>
  <dc:title>VTPP 423 - PHYSIOLOGY</dc:title>
</cp:coreProperties>
</file>