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5920" y="685440"/>
            <a:ext cx="42861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B5AA-64CD-4777-89DB-4B0631081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an American girl and a Russian boy who becomes her frie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nuclear accid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back in time to the Ukrain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surprise her pen pal by attending her birthday par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(to limit their exposure to radia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her backpack contained a suspicious computer devic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a bu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(all of the above were encounte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pollution on the river had gotten wors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not to give up his fight for the riv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 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6AA1-19A8-4B0E-A575-A1C1EF7F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63AA-53AD-4503-9D2D-2001FF16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7210-1C5F-46B5-841D-D745623E5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F85C-2BF6-4A75-81C2-3C7616A7A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3EA5-C8C7-47DE-9F35-21D5BB53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04FF-B582-4ADE-9E56-BD06F790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3123-3FBC-4890-9289-86C2587F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F4C2-8313-4E49-9DE5-D979B2AB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5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24A2-88FC-4ACD-A22D-518CAD91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0A8D-FD5C-4483-9D6A-FB9F1D37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5C12-432D-49E7-AA4A-C9E3FBC4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FD57-1168-4593-B042-99DDDF31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4320"/>
            <a:ext cx="2895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CDDA-4416-4A19-9258-71E93FC6513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14400" y="174744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Read “Hard River Escape” carefully.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Take the Investigator’s Challenge Quiz to determine how carefully you read the story.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After you complete the quiz and see your score, review each question. 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Find the part of the story that provides the correct answer to the question.  Underline or highlight the important details.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262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ikolai was angr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ctories in the area had driven away 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rm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kes in the area were being drain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 grandfather was arrested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ollution on the river had gotten wor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 could not get a job in one of the factori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ning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68280" y="5280120"/>
            <a:ext cx="304920" cy="4064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783">
                <a:moveTo>
                  <a:pt x="0" y="0"/>
                </a:moveTo>
                <a:lnTo>
                  <a:pt x="21600" y="0"/>
                </a:lnTo>
                <a:lnTo>
                  <a:pt x="21600" y="28783"/>
                </a:lnTo>
                <a:lnTo>
                  <a:pt x="0" y="28783"/>
                </a:lnTo>
                <a:close/>
              </a:path>
              <a:path fill="lightenLess" w="21600" h="28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3">
                <a:moveTo>
                  <a:pt x="21600" y="0"/>
                </a:moveTo>
                <a:lnTo>
                  <a:pt x="21600" y="28783"/>
                </a:lnTo>
                <a:lnTo>
                  <a:pt x="20200" y="27383"/>
                </a:lnTo>
                <a:lnTo>
                  <a:pt x="20200" y="1400"/>
                </a:lnTo>
                <a:close/>
              </a:path>
              <a:path fill="darkenLess" w="21600" h="28783">
                <a:moveTo>
                  <a:pt x="21600" y="28783"/>
                </a:moveTo>
                <a:lnTo>
                  <a:pt x="0" y="28783"/>
                </a:lnTo>
                <a:lnTo>
                  <a:pt x="1400" y="27383"/>
                </a:lnTo>
                <a:lnTo>
                  <a:pt x="20200" y="27383"/>
                </a:lnTo>
                <a:close/>
              </a:path>
              <a:path fill="lighten" w="21600" h="28783">
                <a:moveTo>
                  <a:pt x="0" y="28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3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82680" y="4695840"/>
            <a:ext cx="304920" cy="4064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783">
                <a:moveTo>
                  <a:pt x="0" y="0"/>
                </a:moveTo>
                <a:lnTo>
                  <a:pt x="21600" y="0"/>
                </a:lnTo>
                <a:lnTo>
                  <a:pt x="21600" y="28783"/>
                </a:lnTo>
                <a:lnTo>
                  <a:pt x="0" y="28783"/>
                </a:lnTo>
                <a:close/>
              </a:path>
              <a:path fill="lightenLess" w="21600" h="28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3">
                <a:moveTo>
                  <a:pt x="21600" y="0"/>
                </a:moveTo>
                <a:lnTo>
                  <a:pt x="21600" y="28783"/>
                </a:lnTo>
                <a:lnTo>
                  <a:pt x="20200" y="27383"/>
                </a:lnTo>
                <a:lnTo>
                  <a:pt x="20200" y="1400"/>
                </a:lnTo>
                <a:close/>
              </a:path>
              <a:path fill="darkenLess" w="21600" h="28783">
                <a:moveTo>
                  <a:pt x="21600" y="28783"/>
                </a:moveTo>
                <a:lnTo>
                  <a:pt x="0" y="28783"/>
                </a:lnTo>
                <a:lnTo>
                  <a:pt x="1400" y="27383"/>
                </a:lnTo>
                <a:lnTo>
                  <a:pt x="20200" y="27383"/>
                </a:lnTo>
                <a:close/>
              </a:path>
              <a:path fill="lighten" w="21600" h="28783">
                <a:moveTo>
                  <a:pt x="0" y="28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3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82680" y="4100400"/>
            <a:ext cx="304920" cy="4064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783">
                <a:moveTo>
                  <a:pt x="0" y="0"/>
                </a:moveTo>
                <a:lnTo>
                  <a:pt x="21600" y="0"/>
                </a:lnTo>
                <a:lnTo>
                  <a:pt x="21600" y="28783"/>
                </a:lnTo>
                <a:lnTo>
                  <a:pt x="0" y="28783"/>
                </a:lnTo>
                <a:close/>
              </a:path>
              <a:path fill="lightenLess" w="21600" h="28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3">
                <a:moveTo>
                  <a:pt x="21600" y="0"/>
                </a:moveTo>
                <a:lnTo>
                  <a:pt x="21600" y="28783"/>
                </a:lnTo>
                <a:lnTo>
                  <a:pt x="20200" y="27383"/>
                </a:lnTo>
                <a:lnTo>
                  <a:pt x="20200" y="1400"/>
                </a:lnTo>
                <a:close/>
              </a:path>
              <a:path fill="darkenLess" w="21600" h="28783">
                <a:moveTo>
                  <a:pt x="21600" y="28783"/>
                </a:moveTo>
                <a:lnTo>
                  <a:pt x="0" y="28783"/>
                </a:lnTo>
                <a:lnTo>
                  <a:pt x="1400" y="27383"/>
                </a:lnTo>
                <a:lnTo>
                  <a:pt x="20200" y="27383"/>
                </a:lnTo>
                <a:close/>
              </a:path>
              <a:path fill="lighten" w="21600" h="28783">
                <a:moveTo>
                  <a:pt x="0" y="28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3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82680" y="3490920"/>
            <a:ext cx="304920" cy="4064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783">
                <a:moveTo>
                  <a:pt x="0" y="0"/>
                </a:moveTo>
                <a:lnTo>
                  <a:pt x="21600" y="0"/>
                </a:lnTo>
                <a:lnTo>
                  <a:pt x="21600" y="28783"/>
                </a:lnTo>
                <a:lnTo>
                  <a:pt x="0" y="28783"/>
                </a:lnTo>
                <a:close/>
              </a:path>
              <a:path fill="lightenLess" w="21600" h="28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3">
                <a:moveTo>
                  <a:pt x="21600" y="0"/>
                </a:moveTo>
                <a:lnTo>
                  <a:pt x="21600" y="28783"/>
                </a:lnTo>
                <a:lnTo>
                  <a:pt x="20200" y="27383"/>
                </a:lnTo>
                <a:lnTo>
                  <a:pt x="20200" y="1400"/>
                </a:lnTo>
                <a:close/>
              </a:path>
              <a:path fill="darkenLess" w="21600" h="28783">
                <a:moveTo>
                  <a:pt x="21600" y="28783"/>
                </a:moveTo>
                <a:lnTo>
                  <a:pt x="0" y="28783"/>
                </a:lnTo>
                <a:lnTo>
                  <a:pt x="1400" y="27383"/>
                </a:lnTo>
                <a:lnTo>
                  <a:pt x="20200" y="27383"/>
                </a:lnTo>
                <a:close/>
              </a:path>
              <a:path fill="lighten" w="21600" h="28783">
                <a:moveTo>
                  <a:pt x="0" y="28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3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82680" y="2641680"/>
            <a:ext cx="304920" cy="4064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783">
                <a:moveTo>
                  <a:pt x="0" y="0"/>
                </a:moveTo>
                <a:lnTo>
                  <a:pt x="21600" y="0"/>
                </a:lnTo>
                <a:lnTo>
                  <a:pt x="21600" y="28783"/>
                </a:lnTo>
                <a:lnTo>
                  <a:pt x="0" y="28783"/>
                </a:lnTo>
                <a:close/>
              </a:path>
              <a:path fill="lightenLess" w="21600" h="28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3">
                <a:moveTo>
                  <a:pt x="21600" y="0"/>
                </a:moveTo>
                <a:lnTo>
                  <a:pt x="21600" y="28783"/>
                </a:lnTo>
                <a:lnTo>
                  <a:pt x="20200" y="27383"/>
                </a:lnTo>
                <a:lnTo>
                  <a:pt x="20200" y="1400"/>
                </a:lnTo>
                <a:close/>
              </a:path>
              <a:path fill="darkenLess" w="21600" h="28783">
                <a:moveTo>
                  <a:pt x="21600" y="28783"/>
                </a:moveTo>
                <a:lnTo>
                  <a:pt x="0" y="28783"/>
                </a:lnTo>
                <a:lnTo>
                  <a:pt x="1400" y="27383"/>
                </a:lnTo>
                <a:lnTo>
                  <a:pt x="20200" y="27383"/>
                </a:lnTo>
                <a:close/>
              </a:path>
              <a:path fill="lighten" w="21600" h="28783">
                <a:moveTo>
                  <a:pt x="0" y="28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3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30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end of the story, K.T. tries to convince Nikolai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immigrate to Europe to escape the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 to give up his fight for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the farms along the river are beautiful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uld not be a source of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industrial pollution is a fact of life an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worry about 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forgive his grandfather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08240" y="300672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08240" y="354636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08240" y="407340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08240" y="5019840"/>
            <a:ext cx="304560" cy="4060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080"/>
              <a:gd name="textAreaBottom" fmla="*/ 386640 h 406080"/>
            </a:gdLst>
            <a:ahLst/>
            <a:rect l="textAreaLeft" t="textAreaTop" r="textAreaRight" b="textAreaBottom"/>
            <a:pathLst>
              <a:path w="21600" h="28791">
                <a:moveTo>
                  <a:pt x="0" y="0"/>
                </a:moveTo>
                <a:lnTo>
                  <a:pt x="21600" y="0"/>
                </a:lnTo>
                <a:lnTo>
                  <a:pt x="21600" y="28791"/>
                </a:lnTo>
                <a:lnTo>
                  <a:pt x="0" y="28791"/>
                </a:lnTo>
                <a:close/>
              </a:path>
              <a:path fill="lightenLess" w="21600" h="287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1">
                <a:moveTo>
                  <a:pt x="21600" y="0"/>
                </a:moveTo>
                <a:lnTo>
                  <a:pt x="21600" y="28791"/>
                </a:lnTo>
                <a:lnTo>
                  <a:pt x="20200" y="27392"/>
                </a:lnTo>
                <a:lnTo>
                  <a:pt x="20200" y="1400"/>
                </a:lnTo>
                <a:close/>
              </a:path>
              <a:path fill="darkenLess" w="21600" h="28791">
                <a:moveTo>
                  <a:pt x="21600" y="28791"/>
                </a:moveTo>
                <a:lnTo>
                  <a:pt x="0" y="28791"/>
                </a:lnTo>
                <a:lnTo>
                  <a:pt x="1400" y="27392"/>
                </a:lnTo>
                <a:lnTo>
                  <a:pt x="20200" y="27392"/>
                </a:lnTo>
                <a:close/>
              </a:path>
              <a:path fill="lighten" w="21600" h="28791">
                <a:moveTo>
                  <a:pt x="0" y="287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2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08240" y="603576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848720" y="244440"/>
            <a:ext cx="990360" cy="406440"/>
          </a:xfrm>
          <a:custGeom>
            <a:avLst/>
            <a:gdLst>
              <a:gd name="textAreaLeft" fmla="*/ 26280 w 990360"/>
              <a:gd name="textAreaRight" fmla="*/ 964080 w 99036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52605" h="21600">
                <a:moveTo>
                  <a:pt x="0" y="0"/>
                </a:moveTo>
                <a:lnTo>
                  <a:pt x="52605" y="0"/>
                </a:lnTo>
                <a:lnTo>
                  <a:pt x="52605" y="21600"/>
                </a:lnTo>
                <a:lnTo>
                  <a:pt x="0" y="21600"/>
                </a:lnTo>
                <a:close/>
              </a:path>
              <a:path fill="lightenLess" w="52605" h="21600">
                <a:moveTo>
                  <a:pt x="0" y="0"/>
                </a:moveTo>
                <a:lnTo>
                  <a:pt x="52605" y="0"/>
                </a:lnTo>
                <a:lnTo>
                  <a:pt x="51205" y="1400"/>
                </a:lnTo>
                <a:lnTo>
                  <a:pt x="1400" y="1400"/>
                </a:lnTo>
                <a:close/>
              </a:path>
              <a:path fill="darken" w="52605" h="21600">
                <a:moveTo>
                  <a:pt x="52605" y="0"/>
                </a:moveTo>
                <a:lnTo>
                  <a:pt x="52605" y="21600"/>
                </a:lnTo>
                <a:lnTo>
                  <a:pt x="51205" y="20200"/>
                </a:lnTo>
                <a:lnTo>
                  <a:pt x="51205" y="1400"/>
                </a:lnTo>
                <a:close/>
              </a:path>
              <a:path fill="darkenLess" w="52605" h="21600">
                <a:moveTo>
                  <a:pt x="526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205" y="20200"/>
                </a:lnTo>
                <a:close/>
              </a:path>
              <a:path fill="lighten" w="526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Bookman Old Style"/>
              </a:rPr>
              <a:t>S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968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62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phrases best de- scribes the two main characters in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girl named Natasha and her brot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studying in Russia and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ach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a Russian boy wh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omes her 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her step-sist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boy and his father, a fire fighter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08240" y="295272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08240" y="394164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3840" y="4751280"/>
            <a:ext cx="304920" cy="4064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783">
                <a:moveTo>
                  <a:pt x="0" y="0"/>
                </a:moveTo>
                <a:lnTo>
                  <a:pt x="21600" y="0"/>
                </a:lnTo>
                <a:lnTo>
                  <a:pt x="21600" y="28783"/>
                </a:lnTo>
                <a:lnTo>
                  <a:pt x="0" y="28783"/>
                </a:lnTo>
                <a:close/>
              </a:path>
              <a:path fill="lightenLess" w="21600" h="28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3">
                <a:moveTo>
                  <a:pt x="21600" y="0"/>
                </a:moveTo>
                <a:lnTo>
                  <a:pt x="21600" y="28783"/>
                </a:lnTo>
                <a:lnTo>
                  <a:pt x="20200" y="27383"/>
                </a:lnTo>
                <a:lnTo>
                  <a:pt x="20200" y="1400"/>
                </a:lnTo>
                <a:close/>
              </a:path>
              <a:path fill="darkenLess" w="21600" h="28783">
                <a:moveTo>
                  <a:pt x="21600" y="28783"/>
                </a:moveTo>
                <a:lnTo>
                  <a:pt x="0" y="28783"/>
                </a:lnTo>
                <a:lnTo>
                  <a:pt x="1400" y="27383"/>
                </a:lnTo>
                <a:lnTo>
                  <a:pt x="20200" y="27383"/>
                </a:lnTo>
                <a:close/>
              </a:path>
              <a:path fill="lighten" w="21600" h="28783">
                <a:moveTo>
                  <a:pt x="0" y="28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3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08240" y="5600880"/>
            <a:ext cx="304560" cy="4060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080"/>
              <a:gd name="textAreaBottom" fmla="*/ 386640 h 406080"/>
            </a:gdLst>
            <a:ahLst/>
            <a:rect l="textAreaLeft" t="textAreaTop" r="textAreaRight" b="textAreaBottom"/>
            <a:pathLst>
              <a:path w="21600" h="28791">
                <a:moveTo>
                  <a:pt x="0" y="0"/>
                </a:moveTo>
                <a:lnTo>
                  <a:pt x="21600" y="0"/>
                </a:lnTo>
                <a:lnTo>
                  <a:pt x="21600" y="28791"/>
                </a:lnTo>
                <a:lnTo>
                  <a:pt x="0" y="28791"/>
                </a:lnTo>
                <a:close/>
              </a:path>
              <a:path fill="lightenLess" w="21600" h="287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1">
                <a:moveTo>
                  <a:pt x="21600" y="0"/>
                </a:moveTo>
                <a:lnTo>
                  <a:pt x="21600" y="28791"/>
                </a:lnTo>
                <a:lnTo>
                  <a:pt x="20200" y="27392"/>
                </a:lnTo>
                <a:lnTo>
                  <a:pt x="20200" y="1400"/>
                </a:lnTo>
                <a:close/>
              </a:path>
              <a:path fill="darkenLess" w="21600" h="28791">
                <a:moveTo>
                  <a:pt x="21600" y="28791"/>
                </a:moveTo>
                <a:lnTo>
                  <a:pt x="0" y="28791"/>
                </a:lnTo>
                <a:lnTo>
                  <a:pt x="1400" y="27392"/>
                </a:lnTo>
                <a:lnTo>
                  <a:pt x="20200" y="27392"/>
                </a:lnTo>
                <a:close/>
              </a:path>
              <a:path fill="lighten" w="21600" h="28791">
                <a:moveTo>
                  <a:pt x="0" y="287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2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08240" y="628164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96520" y="17600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 the story, the effects of a recent disaster threaten the characters.  The disaster is a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5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rnad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spcAft>
                <a:spcPts val="125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5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o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est fi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spcAft>
                <a:spcPts val="201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uclear accid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spcAft>
                <a:spcPts val="125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rrorist atta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08240" y="3102120"/>
            <a:ext cx="304560" cy="4060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080"/>
              <a:gd name="textAreaBottom" fmla="*/ 386640 h 406080"/>
            </a:gdLst>
            <a:ahLst/>
            <a:rect l="textAreaLeft" t="textAreaTop" r="textAreaRight" b="textAreaBottom"/>
            <a:pathLst>
              <a:path w="21600" h="28791">
                <a:moveTo>
                  <a:pt x="0" y="0"/>
                </a:moveTo>
                <a:lnTo>
                  <a:pt x="21600" y="0"/>
                </a:lnTo>
                <a:lnTo>
                  <a:pt x="21600" y="28791"/>
                </a:lnTo>
                <a:lnTo>
                  <a:pt x="0" y="28791"/>
                </a:lnTo>
                <a:close/>
              </a:path>
              <a:path fill="lightenLess" w="21600" h="287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1">
                <a:moveTo>
                  <a:pt x="21600" y="0"/>
                </a:moveTo>
                <a:lnTo>
                  <a:pt x="21600" y="28791"/>
                </a:lnTo>
                <a:lnTo>
                  <a:pt x="20200" y="27392"/>
                </a:lnTo>
                <a:lnTo>
                  <a:pt x="20200" y="1400"/>
                </a:lnTo>
                <a:close/>
              </a:path>
              <a:path fill="darkenLess" w="21600" h="28791">
                <a:moveTo>
                  <a:pt x="21600" y="28791"/>
                </a:moveTo>
                <a:lnTo>
                  <a:pt x="0" y="28791"/>
                </a:lnTo>
                <a:lnTo>
                  <a:pt x="1400" y="27392"/>
                </a:lnTo>
                <a:lnTo>
                  <a:pt x="20200" y="27392"/>
                </a:lnTo>
                <a:close/>
              </a:path>
              <a:path fill="lighten" w="21600" h="28791">
                <a:moveTo>
                  <a:pt x="0" y="287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2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08240" y="369900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08240" y="428148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08240" y="489096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08240" y="548640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6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finds that she has traveled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 in time to the Ukrai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ward in time to Mosc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nother plane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 remote Pacific isla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here due to a malfunctioning travel 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08240" y="480384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08240" y="253044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08240" y="311292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08240" y="366876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22280" y="4237200"/>
            <a:ext cx="304920" cy="4060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06080"/>
              <a:gd name="textAreaBottom" fmla="*/ 386640 h 406080"/>
            </a:gdLst>
            <a:ahLst/>
            <a:rect l="textAreaLeft" t="textAreaTop" r="textAreaRight" b="textAreaBottom"/>
            <a:pathLst>
              <a:path w="21600" h="28758">
                <a:moveTo>
                  <a:pt x="0" y="0"/>
                </a:moveTo>
                <a:lnTo>
                  <a:pt x="21600" y="0"/>
                </a:lnTo>
                <a:lnTo>
                  <a:pt x="21600" y="28758"/>
                </a:lnTo>
                <a:lnTo>
                  <a:pt x="0" y="28758"/>
                </a:lnTo>
                <a:close/>
              </a:path>
              <a:path fill="lightenLess" w="21600" h="287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58">
                <a:moveTo>
                  <a:pt x="21600" y="0"/>
                </a:moveTo>
                <a:lnTo>
                  <a:pt x="21600" y="28758"/>
                </a:lnTo>
                <a:lnTo>
                  <a:pt x="20200" y="27358"/>
                </a:lnTo>
                <a:lnTo>
                  <a:pt x="20200" y="1400"/>
                </a:lnTo>
                <a:close/>
              </a:path>
              <a:path fill="darkenLess" w="21600" h="28758">
                <a:moveTo>
                  <a:pt x="21600" y="28758"/>
                </a:moveTo>
                <a:lnTo>
                  <a:pt x="0" y="28758"/>
                </a:lnTo>
                <a:lnTo>
                  <a:pt x="1400" y="27358"/>
                </a:lnTo>
                <a:lnTo>
                  <a:pt x="20200" y="27358"/>
                </a:lnTo>
                <a:close/>
              </a:path>
              <a:path fill="lighten" w="21600" h="28758">
                <a:moveTo>
                  <a:pt x="0" y="287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58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094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traveled from her home to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vestigate the kidnapping of a fri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 her pen pal by attending her birth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end an international youth socc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nam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 Nikolai find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the beautiful city of Kiev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08240" y="497844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08240" y="248904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08240" y="305748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08240" y="403236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08240" y="557532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96520" y="17744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8384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the soldiers force the characters to leave the “exclusion zone”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rotect them from weapons testing in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is area was used only for milit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and no civilians were allow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didn’t force them to leave.  They ju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ve them a r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ey were paid for every person the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oved from the 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imit their exposure to rad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08240" y="631980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08240" y="546876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08240" y="456084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736800"/>
            <a:ext cx="304920" cy="4064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783">
                <a:moveTo>
                  <a:pt x="0" y="0"/>
                </a:moveTo>
                <a:lnTo>
                  <a:pt x="21600" y="0"/>
                </a:lnTo>
                <a:lnTo>
                  <a:pt x="21600" y="28783"/>
                </a:lnTo>
                <a:lnTo>
                  <a:pt x="0" y="28783"/>
                </a:lnTo>
                <a:close/>
              </a:path>
              <a:path fill="lightenLess" w="21600" h="28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3">
                <a:moveTo>
                  <a:pt x="21600" y="0"/>
                </a:moveTo>
                <a:lnTo>
                  <a:pt x="21600" y="28783"/>
                </a:lnTo>
                <a:lnTo>
                  <a:pt x="20200" y="27383"/>
                </a:lnTo>
                <a:lnTo>
                  <a:pt x="20200" y="1400"/>
                </a:lnTo>
                <a:close/>
              </a:path>
              <a:path fill="darkenLess" w="21600" h="28783">
                <a:moveTo>
                  <a:pt x="21600" y="28783"/>
                </a:moveTo>
                <a:lnTo>
                  <a:pt x="0" y="28783"/>
                </a:lnTo>
                <a:lnTo>
                  <a:pt x="1400" y="27383"/>
                </a:lnTo>
                <a:lnTo>
                  <a:pt x="20200" y="27383"/>
                </a:lnTo>
                <a:close/>
              </a:path>
              <a:path fill="lighten" w="21600" h="28783">
                <a:moveTo>
                  <a:pt x="0" y="28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3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2954160"/>
            <a:ext cx="304920" cy="4064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783">
                <a:moveTo>
                  <a:pt x="0" y="0"/>
                </a:moveTo>
                <a:lnTo>
                  <a:pt x="21600" y="0"/>
                </a:lnTo>
                <a:lnTo>
                  <a:pt x="21600" y="28783"/>
                </a:lnTo>
                <a:lnTo>
                  <a:pt x="0" y="28783"/>
                </a:lnTo>
                <a:close/>
              </a:path>
              <a:path fill="lightenLess" w="21600" h="28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3">
                <a:moveTo>
                  <a:pt x="21600" y="0"/>
                </a:moveTo>
                <a:lnTo>
                  <a:pt x="21600" y="28783"/>
                </a:lnTo>
                <a:lnTo>
                  <a:pt x="20200" y="27383"/>
                </a:lnTo>
                <a:lnTo>
                  <a:pt x="20200" y="1400"/>
                </a:lnTo>
                <a:close/>
              </a:path>
              <a:path fill="darkenLess" w="21600" h="28783">
                <a:moveTo>
                  <a:pt x="21600" y="28783"/>
                </a:moveTo>
                <a:lnTo>
                  <a:pt x="0" y="28783"/>
                </a:lnTo>
                <a:lnTo>
                  <a:pt x="1400" y="27383"/>
                </a:lnTo>
                <a:lnTo>
                  <a:pt x="20200" y="27383"/>
                </a:lnTo>
                <a:close/>
              </a:path>
              <a:path fill="lighten" w="21600" h="28783">
                <a:moveTo>
                  <a:pt x="0" y="28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3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uthorities believed K.T.was a sp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ore a black trench c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father worked at the US Embass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backpack contained a suspicious comput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told them she was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rote letters to a Russian girl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nepropetrovs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08240" y="299088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93840" y="3600360"/>
            <a:ext cx="304920" cy="4064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783">
                <a:moveTo>
                  <a:pt x="0" y="0"/>
                </a:moveTo>
                <a:lnTo>
                  <a:pt x="21600" y="0"/>
                </a:lnTo>
                <a:lnTo>
                  <a:pt x="21600" y="28783"/>
                </a:lnTo>
                <a:lnTo>
                  <a:pt x="0" y="28783"/>
                </a:lnTo>
                <a:close/>
              </a:path>
              <a:path fill="lightenLess" w="21600" h="28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3">
                <a:moveTo>
                  <a:pt x="21600" y="0"/>
                </a:moveTo>
                <a:lnTo>
                  <a:pt x="21600" y="28783"/>
                </a:lnTo>
                <a:lnTo>
                  <a:pt x="20200" y="27383"/>
                </a:lnTo>
                <a:lnTo>
                  <a:pt x="20200" y="1400"/>
                </a:lnTo>
                <a:close/>
              </a:path>
              <a:path fill="darkenLess" w="21600" h="28783">
                <a:moveTo>
                  <a:pt x="21600" y="28783"/>
                </a:moveTo>
                <a:lnTo>
                  <a:pt x="0" y="28783"/>
                </a:lnTo>
                <a:lnTo>
                  <a:pt x="1400" y="27383"/>
                </a:lnTo>
                <a:lnTo>
                  <a:pt x="20200" y="27383"/>
                </a:lnTo>
                <a:close/>
              </a:path>
              <a:path fill="lighten" w="21600" h="28783">
                <a:moveTo>
                  <a:pt x="0" y="28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3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3840" y="4183200"/>
            <a:ext cx="304920" cy="4064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783">
                <a:moveTo>
                  <a:pt x="0" y="0"/>
                </a:moveTo>
                <a:lnTo>
                  <a:pt x="21600" y="0"/>
                </a:lnTo>
                <a:lnTo>
                  <a:pt x="21600" y="28783"/>
                </a:lnTo>
                <a:lnTo>
                  <a:pt x="0" y="28783"/>
                </a:lnTo>
                <a:close/>
              </a:path>
              <a:path fill="lightenLess" w="21600" h="28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3">
                <a:moveTo>
                  <a:pt x="21600" y="0"/>
                </a:moveTo>
                <a:lnTo>
                  <a:pt x="21600" y="28783"/>
                </a:lnTo>
                <a:lnTo>
                  <a:pt x="20200" y="27383"/>
                </a:lnTo>
                <a:lnTo>
                  <a:pt x="20200" y="1400"/>
                </a:lnTo>
                <a:close/>
              </a:path>
              <a:path fill="darkenLess" w="21600" h="28783">
                <a:moveTo>
                  <a:pt x="21600" y="28783"/>
                </a:moveTo>
                <a:lnTo>
                  <a:pt x="0" y="28783"/>
                </a:lnTo>
                <a:lnTo>
                  <a:pt x="1400" y="27383"/>
                </a:lnTo>
                <a:lnTo>
                  <a:pt x="20200" y="27383"/>
                </a:lnTo>
                <a:close/>
              </a:path>
              <a:path fill="lighten" w="21600" h="28783">
                <a:moveTo>
                  <a:pt x="0" y="28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3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08240" y="508644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08240" y="571176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uring the story, the characters traveled from place to place by all of the following EXCEPT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s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foo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erry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ar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rmored tru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08240" y="5670720"/>
            <a:ext cx="304560" cy="4060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080"/>
              <a:gd name="textAreaBottom" fmla="*/ 386640 h 406080"/>
            </a:gdLst>
            <a:ahLst/>
            <a:rect l="textAreaLeft" t="textAreaTop" r="textAreaRight" b="textAreaBottom"/>
            <a:pathLst>
              <a:path w="21600" h="28791">
                <a:moveTo>
                  <a:pt x="0" y="0"/>
                </a:moveTo>
                <a:lnTo>
                  <a:pt x="21600" y="0"/>
                </a:lnTo>
                <a:lnTo>
                  <a:pt x="21600" y="28791"/>
                </a:lnTo>
                <a:lnTo>
                  <a:pt x="0" y="28791"/>
                </a:lnTo>
                <a:close/>
              </a:path>
              <a:path fill="lightenLess" w="21600" h="287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1">
                <a:moveTo>
                  <a:pt x="21600" y="0"/>
                </a:moveTo>
                <a:lnTo>
                  <a:pt x="21600" y="28791"/>
                </a:lnTo>
                <a:lnTo>
                  <a:pt x="20200" y="27392"/>
                </a:lnTo>
                <a:lnTo>
                  <a:pt x="20200" y="1400"/>
                </a:lnTo>
                <a:close/>
              </a:path>
              <a:path fill="darkenLess" w="21600" h="28791">
                <a:moveTo>
                  <a:pt x="21600" y="28791"/>
                </a:moveTo>
                <a:lnTo>
                  <a:pt x="0" y="28791"/>
                </a:lnTo>
                <a:lnTo>
                  <a:pt x="1400" y="27392"/>
                </a:lnTo>
                <a:lnTo>
                  <a:pt x="20200" y="27392"/>
                </a:lnTo>
                <a:close/>
              </a:path>
              <a:path fill="lighten" w="21600" h="28791">
                <a:moveTo>
                  <a:pt x="0" y="287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2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8240" y="5116680"/>
            <a:ext cx="304560" cy="4060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080"/>
              <a:gd name="textAreaBottom" fmla="*/ 386640 h 406080"/>
            </a:gdLst>
            <a:ahLst/>
            <a:rect l="textAreaLeft" t="textAreaTop" r="textAreaRight" b="textAreaBottom"/>
            <a:pathLst>
              <a:path w="21600" h="28791">
                <a:moveTo>
                  <a:pt x="0" y="0"/>
                </a:moveTo>
                <a:lnTo>
                  <a:pt x="21600" y="0"/>
                </a:lnTo>
                <a:lnTo>
                  <a:pt x="21600" y="28791"/>
                </a:lnTo>
                <a:lnTo>
                  <a:pt x="0" y="28791"/>
                </a:lnTo>
                <a:close/>
              </a:path>
              <a:path fill="lightenLess" w="21600" h="287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1">
                <a:moveTo>
                  <a:pt x="21600" y="0"/>
                </a:moveTo>
                <a:lnTo>
                  <a:pt x="21600" y="28791"/>
                </a:lnTo>
                <a:lnTo>
                  <a:pt x="20200" y="27392"/>
                </a:lnTo>
                <a:lnTo>
                  <a:pt x="20200" y="1400"/>
                </a:lnTo>
                <a:close/>
              </a:path>
              <a:path fill="darkenLess" w="21600" h="28791">
                <a:moveTo>
                  <a:pt x="21600" y="28791"/>
                </a:moveTo>
                <a:lnTo>
                  <a:pt x="0" y="28791"/>
                </a:lnTo>
                <a:lnTo>
                  <a:pt x="1400" y="27392"/>
                </a:lnTo>
                <a:lnTo>
                  <a:pt x="20200" y="27392"/>
                </a:lnTo>
                <a:close/>
              </a:path>
              <a:path fill="lighten" w="21600" h="28791">
                <a:moveTo>
                  <a:pt x="0" y="287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2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08240" y="455940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08240" y="399240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08240" y="338292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942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 K.T. and Nikolai traveled on the river, what evidence of pollution did they encounte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dead fish with a tum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l smelling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ipes dumping factory wastes into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sh floating in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3368520"/>
            <a:ext cx="304920" cy="406440"/>
          </a:xfrm>
          <a:custGeom>
            <a:avLst/>
            <a:gdLst>
              <a:gd name="textAreaLeft" fmla="*/ 0 w 304920"/>
              <a:gd name="textAreaRight" fmla="*/ 305280 w 304920"/>
              <a:gd name="textAreaTop" fmla="*/ 0 h 406440"/>
              <a:gd name="textAreaBottom" fmla="*/ 406440 h 406440"/>
            </a:gdLst>
            <a:ahLst/>
            <a:rect l="textAreaLeft" t="textAreaTop" r="textAreaRight" b="textAreaBottom"/>
            <a:pathLst>
              <a:path w="21600" h="28783">
                <a:moveTo>
                  <a:pt x="0" y="0"/>
                </a:moveTo>
                <a:lnTo>
                  <a:pt x="21600" y="0"/>
                </a:lnTo>
                <a:lnTo>
                  <a:pt x="21600" y="28783"/>
                </a:lnTo>
                <a:lnTo>
                  <a:pt x="0" y="28783"/>
                </a:lnTo>
                <a:close/>
              </a:path>
              <a:path fill="lightenLess" w="21600" h="28783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8783">
                <a:moveTo>
                  <a:pt x="21600" y="0"/>
                </a:moveTo>
                <a:lnTo>
                  <a:pt x="21600" y="28783"/>
                </a:lnTo>
                <a:lnTo>
                  <a:pt x="21600" y="28783"/>
                </a:lnTo>
                <a:lnTo>
                  <a:pt x="21600" y="0"/>
                </a:lnTo>
                <a:close/>
              </a:path>
              <a:path fill="darkenLess" w="21600" h="28783">
                <a:moveTo>
                  <a:pt x="21600" y="28783"/>
                </a:moveTo>
                <a:lnTo>
                  <a:pt x="0" y="28783"/>
                </a:lnTo>
                <a:lnTo>
                  <a:pt x="0" y="28783"/>
                </a:lnTo>
                <a:lnTo>
                  <a:pt x="21600" y="28783"/>
                </a:lnTo>
                <a:close/>
              </a:path>
              <a:path fill="lighten" w="21600" h="28783">
                <a:moveTo>
                  <a:pt x="0" y="28783"/>
                </a:moveTo>
                <a:lnTo>
                  <a:pt x="0" y="0"/>
                </a:lnTo>
                <a:lnTo>
                  <a:pt x="0" y="0"/>
                </a:lnTo>
                <a:lnTo>
                  <a:pt x="0" y="28783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3951360"/>
            <a:ext cx="304920" cy="4064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783">
                <a:moveTo>
                  <a:pt x="0" y="0"/>
                </a:moveTo>
                <a:lnTo>
                  <a:pt x="21600" y="0"/>
                </a:lnTo>
                <a:lnTo>
                  <a:pt x="21600" y="28783"/>
                </a:lnTo>
                <a:lnTo>
                  <a:pt x="0" y="28783"/>
                </a:lnTo>
                <a:close/>
              </a:path>
              <a:path fill="lightenLess" w="21600" h="28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3">
                <a:moveTo>
                  <a:pt x="21600" y="0"/>
                </a:moveTo>
                <a:lnTo>
                  <a:pt x="21600" y="28783"/>
                </a:lnTo>
                <a:lnTo>
                  <a:pt x="20200" y="27383"/>
                </a:lnTo>
                <a:lnTo>
                  <a:pt x="20200" y="1400"/>
                </a:lnTo>
                <a:close/>
              </a:path>
              <a:path fill="darkenLess" w="21600" h="28783">
                <a:moveTo>
                  <a:pt x="21600" y="28783"/>
                </a:moveTo>
                <a:lnTo>
                  <a:pt x="0" y="28783"/>
                </a:lnTo>
                <a:lnTo>
                  <a:pt x="1400" y="27383"/>
                </a:lnTo>
                <a:lnTo>
                  <a:pt x="20200" y="27383"/>
                </a:lnTo>
                <a:close/>
              </a:path>
              <a:path fill="lighten" w="21600" h="28783">
                <a:moveTo>
                  <a:pt x="0" y="28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3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4532400"/>
            <a:ext cx="304920" cy="4064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783">
                <a:moveTo>
                  <a:pt x="0" y="0"/>
                </a:moveTo>
                <a:lnTo>
                  <a:pt x="21600" y="0"/>
                </a:lnTo>
                <a:lnTo>
                  <a:pt x="21600" y="28783"/>
                </a:lnTo>
                <a:lnTo>
                  <a:pt x="0" y="28783"/>
                </a:lnTo>
                <a:close/>
              </a:path>
              <a:path fill="lightenLess" w="21600" h="28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3">
                <a:moveTo>
                  <a:pt x="21600" y="0"/>
                </a:moveTo>
                <a:lnTo>
                  <a:pt x="21600" y="28783"/>
                </a:lnTo>
                <a:lnTo>
                  <a:pt x="20200" y="27383"/>
                </a:lnTo>
                <a:lnTo>
                  <a:pt x="20200" y="1400"/>
                </a:lnTo>
                <a:close/>
              </a:path>
              <a:path fill="darkenLess" w="21600" h="28783">
                <a:moveTo>
                  <a:pt x="21600" y="28783"/>
                </a:moveTo>
                <a:lnTo>
                  <a:pt x="0" y="28783"/>
                </a:lnTo>
                <a:lnTo>
                  <a:pt x="1400" y="27383"/>
                </a:lnTo>
                <a:lnTo>
                  <a:pt x="20200" y="27383"/>
                </a:lnTo>
                <a:close/>
              </a:path>
              <a:path fill="lighten" w="21600" h="28783">
                <a:moveTo>
                  <a:pt x="0" y="28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3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5102280"/>
            <a:ext cx="304920" cy="4064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783">
                <a:moveTo>
                  <a:pt x="0" y="0"/>
                </a:moveTo>
                <a:lnTo>
                  <a:pt x="21600" y="0"/>
                </a:lnTo>
                <a:lnTo>
                  <a:pt x="21600" y="28783"/>
                </a:lnTo>
                <a:lnTo>
                  <a:pt x="0" y="28783"/>
                </a:lnTo>
                <a:close/>
              </a:path>
              <a:path fill="lightenLess" w="21600" h="28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3">
                <a:moveTo>
                  <a:pt x="21600" y="0"/>
                </a:moveTo>
                <a:lnTo>
                  <a:pt x="21600" y="28783"/>
                </a:lnTo>
                <a:lnTo>
                  <a:pt x="20200" y="27383"/>
                </a:lnTo>
                <a:lnTo>
                  <a:pt x="20200" y="1400"/>
                </a:lnTo>
                <a:close/>
              </a:path>
              <a:path fill="darkenLess" w="21600" h="28783">
                <a:moveTo>
                  <a:pt x="21600" y="28783"/>
                </a:moveTo>
                <a:lnTo>
                  <a:pt x="0" y="28783"/>
                </a:lnTo>
                <a:lnTo>
                  <a:pt x="1400" y="27383"/>
                </a:lnTo>
                <a:lnTo>
                  <a:pt x="20200" y="27383"/>
                </a:lnTo>
                <a:close/>
              </a:path>
              <a:path fill="lighten" w="21600" h="28783">
                <a:moveTo>
                  <a:pt x="0" y="28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3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7080" y="5643720"/>
            <a:ext cx="304560" cy="4060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080"/>
              <a:gd name="textAreaBottom" fmla="*/ 386640 h 406080"/>
            </a:gdLst>
            <a:ahLst/>
            <a:rect l="textAreaLeft" t="textAreaTop" r="textAreaRight" b="textAreaBottom"/>
            <a:pathLst>
              <a:path w="21600" h="28791">
                <a:moveTo>
                  <a:pt x="0" y="0"/>
                </a:moveTo>
                <a:lnTo>
                  <a:pt x="21600" y="0"/>
                </a:lnTo>
                <a:lnTo>
                  <a:pt x="21600" y="28791"/>
                </a:lnTo>
                <a:lnTo>
                  <a:pt x="0" y="28791"/>
                </a:lnTo>
                <a:close/>
              </a:path>
              <a:path fill="lightenLess" w="21600" h="287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1">
                <a:moveTo>
                  <a:pt x="21600" y="0"/>
                </a:moveTo>
                <a:lnTo>
                  <a:pt x="21600" y="28791"/>
                </a:lnTo>
                <a:lnTo>
                  <a:pt x="20200" y="27392"/>
                </a:lnTo>
                <a:lnTo>
                  <a:pt x="20200" y="1400"/>
                </a:lnTo>
                <a:close/>
              </a:path>
              <a:path fill="darkenLess" w="21600" h="28791">
                <a:moveTo>
                  <a:pt x="21600" y="28791"/>
                </a:moveTo>
                <a:lnTo>
                  <a:pt x="0" y="28791"/>
                </a:lnTo>
                <a:lnTo>
                  <a:pt x="1400" y="27392"/>
                </a:lnTo>
                <a:lnTo>
                  <a:pt x="20200" y="27392"/>
                </a:lnTo>
                <a:close/>
              </a:path>
              <a:path fill="lighten" w="21600" h="28791">
                <a:moveTo>
                  <a:pt x="0" y="287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2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1:31Z</dcterms:created>
  <dc:creator>John</dc:creator>
  <dc:description/>
  <dc:language>en-US</dc:language>
  <cp:lastModifiedBy>Texas A&amp;M Veterinary Medicine</cp:lastModifiedBy>
  <dcterms:modified xsi:type="dcterms:W3CDTF">2005-05-17T17:13:22Z</dcterms:modified>
  <cp:revision>64</cp:revision>
  <dc:subject/>
  <dc:title>Investigator’s Challenge Quiz</dc:title>
</cp:coreProperties>
</file>