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6C5E-AC8F-4501-B3BC-8E8597596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762-B296-4D7A-9BEA-5F73E676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6BD-29C1-4D05-A504-4CB4896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09B-D176-4EBC-A898-30B7B439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615-D32F-446D-9FF1-50BBE734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DBD-7D12-41DA-B1A3-E6A90BAF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B05-2A8D-446E-A784-A40A463D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AC5-E917-404C-AA41-A9100807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7B3-2AB9-4B2D-8089-AAF6493F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45E-B1A7-45B9-90DD-2794B2A4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190-D1EE-42D2-9F73-FC93C3F4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2FD-FFBD-4140-B0E4-265517D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D9D-D4FC-4B95-B729-1A570789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10E4-8884-4B0F-A0AD-A28D41C17B2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672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6720" y="1598760"/>
            <a:ext cx="73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ad the following passages from the story and choose the correct meaning of each underlined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5200" y="46148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5200" y="53276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3400" y="60469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36640" y="40053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36640" y="4491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36640" y="4952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36640" y="39765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6640" y="46339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6640" y="5205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30520" y="46688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0520" y="5256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28720" y="41068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999800"/>
            <a:ext cx="8001000" cy="33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6640" y="36432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6640" y="4110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6640" y="4572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36640" y="36147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36640" y="41004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36640" y="45626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36640" y="4024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36640" y="4510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36640" y="4971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6640" y="4745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36640" y="52308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6640" y="5692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28720" y="44467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28720" y="4908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28720" y="39607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36640" y="39387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36640" y="4424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36640" y="48862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Texas A&amp;M Veterinary Medicine</cp:lastModifiedBy>
  <cp:lastPrinted>2002-05-23T02:09:08Z</cp:lastPrinted>
  <dcterms:modified xsi:type="dcterms:W3CDTF">2005-05-17T17:20:05Z</dcterms:modified>
  <cp:revision>31</cp:revision>
  <dc:subject/>
  <dc:title>Vocabulary Challenge</dc:title>
</cp:coreProperties>
</file>