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B377-F9F6-414B-A61A-B2122F798665}"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59272-45E3-40DC-9967-1C6B2134F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32F85-02B7-4CD0-8B83-BE39927BC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03B7F-B891-4F7B-8856-1AC8FB67F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ECF15-E5D8-44A3-B6F0-2EE9F0CDA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A49DE-6098-4B1B-874C-62BB76B8C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D38F8-96D8-4FDE-AE3C-1CF0166FC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04F0B-6BC0-4896-82D5-2BBA40832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BF9EE-D2D7-4239-A247-94BB31B45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444D8-DC98-4FB9-AAD0-992AB113C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ECE4A-B162-42DD-A902-C99BF3C95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2AF75-F071-44DB-B99E-F1D3B6425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492A7-11DD-4D31-A0DA-85EE37F22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BCFD9-291E-49D3-883E-2BBB8B115445}"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t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wklemm</cp:lastModifiedBy>
  <dcterms:modified xsi:type="dcterms:W3CDTF">2003-06-23T21:09:03Z</dcterms:modified>
  <cp:revision>284</cp:revision>
  <dc:subject/>
  <dc:title>Combating Infections</dc:title>
</cp:coreProperties>
</file>