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3C569-95E8-45A8-996A-B2C185E913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19EE4-99C2-4E4C-9834-DB7F47665B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0B5EB-CBB8-46BA-B0E8-F05D1C13F2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87109-19C0-47E7-9FB8-972230B2FA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B1535-D8A2-4056-B8AD-DEA2632886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9AAC3-0093-4825-A584-928B8FA918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C0982-7944-4816-837B-392F4895F5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51051-8935-4765-A465-C4E510F9F0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18273-D8A2-489D-AC02-A111AC216B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8198D-1CD5-40C9-B65F-29B3B5C94F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43FEF-12A6-4BF6-8AFC-EDE054CE67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00296-13D2-4E9F-ACEA-C0594239FB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DFC5-1B0B-4F1A-926E-2D792DA8ED0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543EC-6B58-4627-ADD6-B0062C097D4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57604-0EDE-4C7B-A11D-207E268721C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E2FE1-AEFB-480C-9BC9-52CC56DCDB3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34B6C-F8FE-4D51-81C7-84A5356ABFF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13639-76FA-4CA8-BF70-334C0C33B64C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6-19T18:46:08Z</dcterms:modified>
  <cp:revision>218</cp:revision>
  <dc:subject/>
  <dc:title>VTPP 423 - PHYSIOLOGY</dc:title>
</cp:coreProperties>
</file>