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78CE-162C-43F5-8D53-F82EE9BF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historical origins of democratic forms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 Identify and differentiate among varying economies in selected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C) Explain the impact of scarcity on trade and economic inter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A) Describe ways in which factors of production influence econom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answers inclu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ania, Hungary, Slovakia, Poland, Belarus and Rus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ore, coal, manganese, natural gas,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, maize, buckwheat, red and green vegetables, fruit, melons, and b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and water pollution, Deforestation, Radiation contamination, Lack of drinkable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558-A3E1-4B83-BA58-48918878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C7B-4B54-4698-9462-2A128DDD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FEF-13C1-4C73-878D-2D6880C5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5C6-3876-467F-9FD3-8FD49060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78F-B88A-4A11-AA93-95095E37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7E6-54AC-4F95-AE35-F6ACC77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984-BB80-4917-95CF-CA20791C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8D5-F641-45B4-A8E3-6702FA89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B92-26F1-4B7C-9F8B-9ED591A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85B-12F4-4A80-BF00-DEFE9D8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66D-C943-4949-A56E-05DF919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EE8-70B3-4521-B6EA-FCC1585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1AEE-7CA9-4692-840A-AD3C2490658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0680" y="1530360"/>
            <a:ext cx="819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Ukraine through its economy, agricultural industry, and environmental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4932360"/>
            <a:ext cx="82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located in Eastern Europe and is bordered by the Black Sea, Romania, Hungary, Slovakia, Poland, Belarus and Russi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49560" y="1639800"/>
            <a:ext cx="4809960" cy="30877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49356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is the Ukra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3909960"/>
            <a:ext cx="799776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 1991, Ukraine was part of the former U.S.S.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Ukraine is a republic and has its own Constitu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ians celebrate their independence from the former U.S.S.R. on August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7360" y="1555920"/>
            <a:ext cx="3672000" cy="226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18840" y="512640"/>
            <a:ext cx="43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of the Ukr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4119480"/>
            <a:ext cx="823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raine is rich in natural resources (iron ore, coal, manganese, natural gas, mercur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se resources are refined loc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al, electric power, ferrous and nonferrous metals, machinery and transport equipment, and chemical production are the major industries in Ukraine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844720" y="1673280"/>
            <a:ext cx="3402000" cy="22716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454824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 land in Ukraine is fertile (it can be farme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rainians grow wheat, maize, buckwheat, red and green vegetables, fruit, melons, and berri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raine is also known for the production of suga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94080" y="1697040"/>
            <a:ext cx="4116240" cy="27226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5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an industrial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the larger industrial cities are located along the Dneiper River, which flows through the center of the country.  As a result, there are quite a few industrial plants located on or near the Dneiper Riv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1695600"/>
            <a:ext cx="4057560" cy="25603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36760" y="1533600"/>
            <a:ext cx="3662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krainian industries often produce a great amount of pollu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day, the current environmental issues in Ukraine a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 and water pol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e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ation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 of drinkabl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3640" y="1704960"/>
            <a:ext cx="3978360" cy="294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527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hat year did Ukraine become independ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 2 countries that border Ukra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natural resources are found in Ukra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crops do the Ukrainians gr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urrent environmental concerns in Ukraine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28Z</dcterms:created>
  <dc:creator>Jeremiah McNichols</dc:creator>
  <dc:description/>
  <dc:language>en-US</dc:language>
  <cp:lastModifiedBy>Jeremiah McNichols</cp:lastModifiedBy>
  <dcterms:modified xsi:type="dcterms:W3CDTF">2008-10-14T14:02:15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4000000000001023620</vt:lpwstr>
  </property>
</Properties>
</file>