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EFB2-CAD0-47F5-9825-FB53C468D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E91D-A09A-4A8C-82F8-D6487750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E4D7-75E0-49CB-8B05-26B24F13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2E28-55EB-4F05-80BF-1681E4E7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6A92-FEEE-4581-A29D-2F7D2D1B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BCC9-3688-4F51-B698-75D0E516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BECF-7F95-4D28-B6A7-E050C4A5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5DC-DEA2-42EB-AE79-4CEAD460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32DF-D058-4264-8C55-B5A0A5DC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53B0-6F7C-4EC9-A55D-ADABBC03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EAC7-8F04-4566-AF28-D7EEC9E8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B36-3857-4CAF-B999-0900B919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AA9C-1CB9-4BED-8574-ABDD744F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9D86-A1BD-4589-A5AA-49C89763A4D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itstudent</cp:lastModifiedBy>
  <dcterms:modified xsi:type="dcterms:W3CDTF">2002-08-06T19:40:55Z</dcterms:modified>
  <cp:revision>7</cp:revision>
  <dc:subject/>
  <dc:title>What’s the difference between weather and climate?</dc:title>
</cp:coreProperties>
</file>