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E27-FEE4-49FD-943F-5740A4CF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4CA-35FA-4F61-894D-8717CB8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549-385A-49DB-A0CA-4C18718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47B-E438-4722-8F4E-044DD0A0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064-23C8-4CDC-A42B-AEB51004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9E3-8ACA-4FDF-AE3C-0866B8E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986-6E47-4CE5-BC1E-79E5F615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69C-016B-4CDE-9668-C3B91EFD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014-F142-4002-A239-1F7651F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493-BF55-4FBA-98BC-2C676BE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E47-73D3-418D-9484-17F2197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917-7319-4E62-B3FC-98ABE3E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A86-660D-4596-888E-249640DDE4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ur of Ukrain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ext, you will visit four important industrial cities located in Ukraine.  You will visi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048120"/>
            <a:ext cx="601992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5334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ernobyl is an abandoned industrial city located on the northern end of the Dnieper Ri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57800" y="114264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ernobyl is the site of the Chernobyl nuclear power station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people of Ukraine are still feeling the effects of the accident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effects of the explosion….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600" y="1447560"/>
            <a:ext cx="3657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accident not only effected the people living near Chernobyl; it has effected the country as a whole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years, Ukraine has been the breadbasket of Europe, growing large amounts of wheat.  A large amount of the  fields growing the wheat have now been contaminated by invisible radiation. These fields will not be safe for growing food for many years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water supply of Ukraine has also been contaminated by radiation.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200400" cy="4822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47920" y="52578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810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It was the capital of medieval Kievan Rus, the first Russian stat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s early as the 5</a:t>
            </a:r>
            <a:r>
              <a:rPr b="0" lang="en-US" sz="20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entury, Kiev has been a commer-cial center, located along the ancient trade route between Scandinavia and Constantinopl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572000" cy="2982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57200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38320" y="76320"/>
            <a:ext cx="2667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 also has many gardens, parks, medieval art and architectur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657600" cy="5451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52578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151452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143160" cy="489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e is located in Eastern Europe and is bordered by the Black Sea, Romania, Hungary, Slovakia, Poland, Belarus and Russi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00160" y="75240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7000" y="1905120"/>
            <a:ext cx="4879800" cy="3657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5333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5238720" cy="3362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143160" cy="45720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143160" cy="48355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3886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ebebeb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38280" y="838080"/>
            <a:ext cx="4389480" cy="2525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 our tour of Ukraine, we will look at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conom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gricultural indust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nvironmental issues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krainian cities including Chernobyl, Kiev, Dnipropetrovs’k, and Odesa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038240"/>
            <a:ext cx="4846680" cy="3235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876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1135080"/>
            <a:ext cx="5429160" cy="3589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kraine is an industrial count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851280" cy="2560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257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ir and water pollu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forest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diation contamination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ack of drinkable wate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3640" y="1905120"/>
            <a:ext cx="44355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Texas A&amp;M Veterinary Medicine</cp:lastModifiedBy>
  <dcterms:modified xsi:type="dcterms:W3CDTF">2005-05-06T15:49:16Z</dcterms:modified>
  <cp:revision>75</cp:revision>
  <dc:subject/>
  <dc:title>Tour of the Ukraine</dc:title>
</cp:coreProperties>
</file>