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71DE-083B-44C8-A94D-4D5939E80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2C0-05DC-4EB7-9116-ECBD01EF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0B5-DE01-40C4-9B5F-F76B25B7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6E4-5076-46BC-A1BB-94B03889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E2F-2E1F-4E25-9B60-15D78476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69D-5D53-4A38-8F5A-B2DED0AF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736-D1F2-4BA1-BADD-6E24F109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AED-CA4F-4C6D-A298-08816AB5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FF8-FE51-4B00-B0BE-CAE5CF11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4FC-2A49-48D1-B11B-624DCE8C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82A-B75B-45D1-A693-938D27BB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5EA-A2AF-41C1-8D54-80F62E1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BDA-58A9-4B7E-94E8-2828CC8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CB02-D3E0-4521-86B2-DEEBBC10A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meter = 1.6 m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ljlab</cp:lastModifiedBy>
  <dcterms:modified xsi:type="dcterms:W3CDTF">2003-06-19T18:38:52Z</dcterms:modified>
  <cp:revision>6</cp:revision>
  <dc:subject/>
  <dc:title>Length Conversions</dc:title>
</cp:coreProperties>
</file>