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1C7D-00CF-4D10-B8C6-581DFA1A4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 =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 (30 km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828.57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using the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 on a calculator, the total area will be 2,827.43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ratios/rates using multiplication/division of whole nu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e formulas for perimeter, area, volu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e equation from problem 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length, area, time, temperature, capacity, we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revious question you know there is a area of 2,828.57 square kilo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28.57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(80.77 people 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228,463.59 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8,464 peo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d to be evacu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, Estimation and r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rea population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 = 2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 =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radius =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 30 km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.57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ratios/rates using multiplication/division of whole nu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e formulas for perimeter, area, volu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e equation from problem 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ometry and spatial reaso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length, area, time, temperature, capacity, we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po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,000,000 people / 48,760,474 peopl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34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s a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486 x 100%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.8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percents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Texas has four reactors at two sites.  One site, Comanche Peak, is near Dallas/Fort Worth; the other site, the South Texas Project, is south of Hous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meant to be a lead in to the activity that goes with this mini-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C37-665B-4181-85D3-CD8FC06C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61A-E7E0-4CFD-9460-358E1552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DC0-A1A1-4DC0-9AE4-E574E11A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C6B-ED03-439F-A015-27BE92BC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983-E0C9-4C10-89BF-D85F4392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4A4-B880-4C7E-A9A7-24CF8E07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4CB-1D33-4F2F-BE9F-BB7B746D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331-D08F-4CC2-BF1E-51CB6D0E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18C-482E-4B96-B135-FBD87DFB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75D-03FC-48AE-8688-FC24EF8C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7D3-4921-477E-9419-33C636A1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844-947B-4EDD-A87A-323CF4C0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869B-0B63-4597-8BAC-982E879E451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file:///Appendices/AreaCalc.ppt" TargetMode="External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Appendices/AreaCalc.ppt" TargetMode="External"/><Relationship Id="rId4" Type="http://schemas.openxmlformats.org/officeDocument/2006/relationships/hyperlink" Target="file:///Appendices/Per%20Problems.ppt" TargetMode="External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file:///Appendices/Circumfe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file:///Appendices/FraToPer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0440" y="1523880"/>
            <a:ext cx="824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the concepts of area and perimeter of a cir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population density and proportions of a po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about scaling on a ma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5200" y="1428840"/>
            <a:ext cx="799128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ing the Chernobyl nuclear reactor accident, radiation was emitted in all directions from the reactor.  The people living within 30 km were evacuated for their own prot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7560" y="3225960"/>
            <a:ext cx="39103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as the total area evacua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127480" y="3382920"/>
            <a:ext cx="3483000" cy="30178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565200" y="4213080"/>
            <a:ext cx="408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 on area calculations, click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5040" y="530280"/>
            <a:ext cx="73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sion : Evac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6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pulation Dens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4840" y="1370160"/>
            <a:ext cx="54864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opulation density of Ukraine was  80.77 people per square kilometer during the Chernobyl incident, how many people had to be evacuated from within the 30 km radius of Chernoby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1880" y="4686480"/>
            <a:ext cx="5112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 more information on area and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for help with solving ‘per’-typ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5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708600" y="1992240"/>
            <a:ext cx="193212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2760" y="1585440"/>
            <a:ext cx="81612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Russian soldiers patrolled the entire circumference of the area evacuated around Chernobyl, how far would they have to travel to circle once around the perime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2584440" y="3078000"/>
            <a:ext cx="3809520" cy="3062520"/>
            <a:chOff x="2584440" y="3078000"/>
            <a:chExt cx="3809520" cy="306252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2584440" y="3311640"/>
              <a:ext cx="1836720" cy="254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3060720" y="3134520"/>
              <a:ext cx="1757160" cy="28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4375800" y="3078000"/>
              <a:ext cx="2018160" cy="306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2153160" y="6145200"/>
            <a:ext cx="48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Times New Roman"/>
                <a:hlinkClick r:id="rId6"/>
              </a:rPr>
              <a:t>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or more information on circum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11320" y="538200"/>
            <a:ext cx="50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king The 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46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ation Contamin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09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 has a population of 48,760,474 people.  17 million people were contaminated to some degree by radiation from the Chernobyl accident.  What proportion of the population was affected by the accident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98320" y="57895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more information on percents, click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ctors, Radiation, and Rad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we have any nuclear power plants here in Tex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look at the area affected by the Chernobyl accident, as well as areas that would be affected if there was a similar accident in Tex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, however, highly unlikely, given the safety considerations and precautions taken by modern power pla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5:46:13Z</dcterms:created>
  <dc:creator>Jeremiah McNichols</dc:creator>
  <dc:description/>
  <dc:language>en-US</dc:language>
  <cp:lastModifiedBy>Jeremiah McNichols</cp:lastModifiedBy>
  <dcterms:modified xsi:type="dcterms:W3CDTF">2008-10-14T13:56:4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4000000000001023620</vt:lpwstr>
  </property>
</Properties>
</file>