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0A61-5651-40DE-9672-3B047A45E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A314-B8C2-4E0D-8C4B-3122CF98E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6F9A-A178-406B-BED9-8DACB62D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D619-A265-4019-B195-AE55422A3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4C47-EC84-42B2-81E9-CB5D480A8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F388-AA83-4C53-AD7F-1E82829D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2D44-2D18-483E-841B-46D218DE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CF71-4D08-4479-8148-9F67C1B3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F9E1-BFB0-4252-AE73-D43724AF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F5BF-D6BA-4487-BCA8-A588CCBE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5B6D-26EC-425E-9100-ED210EA1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4CE0-5B97-4FF0-BF58-B88CE84C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B07E-60D2-45BC-B66F-E6C697E4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C1AC-E2BD-4568-80F2-281271D5F5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vhardy</cp:lastModifiedBy>
  <dcterms:modified xsi:type="dcterms:W3CDTF">2002-12-19T23:01:53Z</dcterms:modified>
  <cp:revision>8</cp:revision>
  <dc:subject/>
  <dc:title>Adverbs Adverbs modify verbs, adjectives, or other adverbs.</dc:title>
</cp:coreProperties>
</file>