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A742-1762-42BD-998D-46782CEF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relative location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exas to Ukraine, you would travel east.  The distance between Houston and Kiev is 5982.11 miles or 9627.00 kilo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Use math skills to interpret social studie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, Slovaka, Hung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ither by absolute or relativ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nor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eography world geography relati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007-7C4F-4CE8-8981-CF671299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11F-20EC-4FC5-B8AD-88F09FCC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034-F50E-4E36-977C-F920FA45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678-B1A3-4AC5-810E-1478A43E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689-524A-4303-BA59-76430366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CE8-6C95-46C5-B0E6-6ED13DA9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23B-3DC0-480B-B838-FEC86ECF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4C2-1EB8-4DC6-B98C-0DF6B91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9AB-DCBF-4A79-A7BB-6A1B8C4D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452-841C-49B4-BE38-70E7139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5A8-F745-4514-BFD2-8B331BF5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6C5-D356-46D5-B78F-D6D9074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EAC4-72CB-41DE-859B-81716B6ABA3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relative lo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lative Lo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s Ukraine in relation to other places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76120" y="4876920"/>
            <a:ext cx="7848360" cy="18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kraine is circled in black on the map above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what continent is Ukraine located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ontinent is south of Ukrain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ontinent is east of Ukrain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295280"/>
            <a:ext cx="30492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47640" y="5105520"/>
            <a:ext cx="784872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f you were to travel using the shortest distance to Ukraine from your home, in which direction would you travel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295280"/>
            <a:ext cx="30492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circled in black on the map be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24120" y="1561680"/>
            <a:ext cx="259092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countries are to the west of Ukrain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large country is to the northeast of Ukrain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me the sea located south of Ukrain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5829480" cy="53722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352680"/>
            <a:ext cx="213336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4953240" cy="398592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43434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nipropetrovs’k is highlighted on the ma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city is the capital of Ukraine?_______________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city is located in what direction from Dnipropetrovs’k? 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K.T. and Nikolai traveled on the Dnieper River from Kiev to Dnipropetrovs’k, in what direction did they travel? _______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ity of Odesa is located in what direction from Dnipropetrovs’k? 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464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are talking with a friend. She asks, “Where is Ukraine?”  How would you respo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ere to travel from Texas to Ukraine, in what direction would you tra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ere to travel from Ukraine to Paris, France, in what direction would you tra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closer to Ukraine?  ___Germany    ___USA   ___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30:59Z</dcterms:created>
  <dc:creator>Jeremiah McNichols</dc:creator>
  <dc:description/>
  <dc:language>en-US</dc:language>
  <cp:lastModifiedBy>Jeremiah McNichols</cp:lastModifiedBy>
  <dcterms:modified xsi:type="dcterms:W3CDTF">2008-10-14T14:05:0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3620</vt:lpwstr>
  </property>
</Properties>
</file>