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5BF8E-4B73-435C-BA81-CEC1D6E4E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8C717-AB7A-4615-A785-1F3FAD8BE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EBF1B-85B2-4F16-B57B-DD6254CC4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06933-9CC7-4FBA-AB90-7404E6333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24D8E-B4D2-41AD-B520-5E28921C4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F1F47-FCE5-42E6-BD9B-BB1603A96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24817-CDEE-4830-9B0C-9875AC6FD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85179-446D-4F64-AA43-62DDE540D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0F3DA-F643-43E0-994E-25C1B7423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B2C10-C355-478C-B8AB-7374B0199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2F2EA-931C-412C-9D96-A7BBDC528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3F487-9547-43ED-A75C-47048BCE0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A3B15-2490-4E45-AFC3-198167ED6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1D5C-2631-49AF-915D-BC7C3F78442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Laconia"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vhardy</cp:lastModifiedBy>
  <dcterms:modified xsi:type="dcterms:W3CDTF">2003-02-06T02:02:45Z</dcterms:modified>
  <cp:revision>22</cp:revision>
  <dc:subject/>
  <dc:title>What Do We Do To Purify Water Today?</dc:title>
</cp:coreProperties>
</file>