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E48D-8D8A-4F80-AFDD-C64EC462E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444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activity will also require some research.  Web sites or encyclopedia articles on Kiev will yield useful imag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ints of interest that Nikolai and K.T. actually saw in Kiev were:  Pecherska Lavra, the Monastery of Caves, Hagia Sophia (ancient Eastern orthodox church), and Kheschatyk (central Kiev boulevar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s that Nikolai said he would like to show K.T. were:  the Kiev soccer stadium, statue of Taras Shevchenko (national poet), Andriivska Church, and the Vikings Founder monu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English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 (B, 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B) Demonstrating effective communication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C) Presenting dramatic interpret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8 (B, 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B) Selecting various sources of rea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C) Reading for varied purpo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D), </a:t>
            </a:r>
            <a:r>
              <a:rPr b="0" lang="en-US" sz="800" spc="-1" strike="noStrike">
                <a:solidFill>
                  <a:srgbClr val="000000"/>
                </a:solidFill>
                <a:latin typeface="Arial"/>
                <a:ea typeface="Times New Roman"/>
              </a:rPr>
              <a:t>Describing mental image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1 (B), </a:t>
            </a:r>
            <a:r>
              <a:rPr b="0" lang="en-US" sz="800" spc="-1" strike="noStrike">
                <a:solidFill>
                  <a:srgbClr val="000000"/>
                </a:solidFill>
                <a:latin typeface="Arial"/>
                <a:ea typeface="Times New Roman"/>
              </a:rPr>
              <a:t>Interpreting text ideas through various mean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B, 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A) Identifying purposes of different types of tex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B) Recognizing the distinguishing features of genr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C) Comparing communication in different for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3, </a:t>
            </a:r>
            <a:r>
              <a:rPr b="0" lang="en-US" sz="800" spc="-1" strike="noStrike">
                <a:solidFill>
                  <a:srgbClr val="000000"/>
                </a:solidFill>
                <a:latin typeface="Arial"/>
                <a:ea typeface="Times New Roman"/>
              </a:rPr>
              <a:t>Inquiring and conducting research using a variety of 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5 (C), </a:t>
            </a:r>
            <a:r>
              <a:rPr b="0" lang="en-US" sz="800" spc="-1" strike="noStrike">
                <a:solidFill>
                  <a:srgbClr val="000000"/>
                </a:solidFill>
                <a:latin typeface="Arial"/>
                <a:ea typeface="Times New Roman"/>
              </a:rPr>
              <a:t>Writing to inform</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6 (A, B, C, E, 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A) Writing leg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B) Capitalizing and punctuating correctly to clarify and enhance mea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C) Writing with accurate spelling of syllable constru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E) Using resources to find correct spell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F) Spelling accurately in final draf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7 (D), </a:t>
            </a:r>
            <a:r>
              <a:rPr b="0" lang="en-US" sz="800" spc="-1" strike="noStrike">
                <a:solidFill>
                  <a:srgbClr val="000000"/>
                </a:solidFill>
                <a:latin typeface="Arial"/>
                <a:ea typeface="Times New Roman"/>
              </a:rPr>
              <a:t>Using adjectives and adverbs appropriately</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8, </a:t>
            </a:r>
            <a:r>
              <a:rPr b="0" lang="en-US" sz="800" spc="-1" strike="noStrike">
                <a:solidFill>
                  <a:srgbClr val="000000"/>
                </a:solidFill>
                <a:latin typeface="Arial"/>
                <a:ea typeface="Times New Roman"/>
              </a:rPr>
              <a:t>Selecting and using writing processes for self-initiated and assigned wri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0, </a:t>
            </a:r>
            <a:r>
              <a:rPr b="0" lang="en-US" sz="800" spc="-1" strike="noStrike">
                <a:solidFill>
                  <a:srgbClr val="000000"/>
                </a:solidFill>
                <a:latin typeface="Arial"/>
                <a:ea typeface="Times New Roman"/>
              </a:rPr>
              <a:t>Using writing as a tool for learning and research.</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4 (A), </a:t>
            </a:r>
            <a:r>
              <a:rPr b="0" lang="en-US" sz="800" spc="-1" strike="noStrike">
                <a:solidFill>
                  <a:srgbClr val="000000"/>
                </a:solidFill>
                <a:latin typeface="Arial"/>
                <a:ea typeface="Times New Roman"/>
              </a:rPr>
              <a:t>Selecting, organizing, or producing visuals to complement and extend meaning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descriptive wri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444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ould work in groups of two or three with each person contributing information from their previous research efforts.  The writing skills in this activity go beyond descriptions or summaries and require the student to persuade the audience to visit Kiev.  Both persuasive and descriptive vocabulary should be included. View the persuasive writing appendix by clicking on the link at the bottom of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Demonstrating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Presenting dramatic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Selecting various sources of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ading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a:t>
            </a:r>
            <a:r>
              <a:rPr b="0" lang="en-US" sz="1200" spc="-1" strike="noStrike">
                <a:solidFill>
                  <a:srgbClr val="000000"/>
                </a:solidFill>
                <a:latin typeface="Arial"/>
                <a:ea typeface="Times New Roman"/>
              </a:rPr>
              <a:t>Describing mental imag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a:t>
            </a:r>
            <a:r>
              <a:rPr b="0" lang="en-US" sz="1200" spc="-1" strike="noStrike">
                <a:solidFill>
                  <a:srgbClr val="000000"/>
                </a:solidFill>
                <a:latin typeface="Arial"/>
                <a:ea typeface="Times New Roman"/>
              </a:rPr>
              <a:t>Interpreting text ideas through various mea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Identifying purposes of different types of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Recognizing the distinguishing features of gen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Comparing communication in different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t>
            </a:r>
            <a:r>
              <a:rPr b="0" lang="en-US" sz="1200" spc="-1" strike="noStrike">
                <a:solidFill>
                  <a:srgbClr val="000000"/>
                </a:solidFill>
                <a:latin typeface="Arial"/>
                <a:ea typeface="Times New Roman"/>
              </a:rPr>
              <a:t>Inquiring and conducting research using a variety of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t>
            </a:r>
            <a:r>
              <a:rPr b="0" lang="en-US" sz="1200" spc="-1" strike="noStrike">
                <a:solidFill>
                  <a:srgbClr val="000000"/>
                </a:solidFill>
                <a:latin typeface="Arial"/>
                <a:ea typeface="Times New Roman"/>
              </a:rPr>
              <a:t>Writing to infor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 B, C, E, 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Writing legi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Capitalizing and punctuating correctly to clarify and enhance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Writing with accurate spelling of syllable co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resources to find correct spell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Spelling accurately in final draf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D), </a:t>
            </a:r>
            <a:r>
              <a:rPr b="0" lang="en-US" sz="1200" spc="-1" strike="noStrike">
                <a:solidFill>
                  <a:srgbClr val="000000"/>
                </a:solidFill>
                <a:latin typeface="Arial"/>
                <a:ea typeface="Times New Roman"/>
              </a:rPr>
              <a:t>Using adjectives and adverbs appropriate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t>
            </a:r>
            <a:r>
              <a:rPr b="0" lang="en-US" sz="1200" spc="-1" strike="noStrike">
                <a:solidFill>
                  <a:srgbClr val="000000"/>
                </a:solidFill>
                <a:latin typeface="Arial"/>
                <a:ea typeface="Times New Roman"/>
              </a:rPr>
              <a:t>Selecting and using writing processes for self-initiated and assigned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t>
            </a:r>
            <a:r>
              <a:rPr b="0" lang="en-US" sz="1200" spc="-1" strike="noStrike">
                <a:solidFill>
                  <a:srgbClr val="000000"/>
                </a:solidFill>
                <a:latin typeface="Arial"/>
                <a:ea typeface="Times New Roman"/>
              </a:rPr>
              <a:t>Using writing as a tool for learning and researc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4 (A), </a:t>
            </a:r>
            <a:r>
              <a:rPr b="0" lang="en-US" sz="1200" spc="-1" strike="noStrike">
                <a:solidFill>
                  <a:srgbClr val="000000"/>
                </a:solidFill>
                <a:latin typeface="Arial"/>
                <a:ea typeface="Times New Roman"/>
              </a:rPr>
              <a:t>Selecting, organizing, or producing visuals to complement and extend mean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riting activity travel broch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0B878-9FB5-46AB-BE66-1832353D2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1B718-E5C0-4CBF-BABF-117C4D3CC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EAC20-7987-4574-AA5D-08C5EF870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F955F-0CF4-4EC0-867A-ED67DCCCA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D3CEA-D07D-47FF-93DB-4D109EA92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F2B1F-3191-4B14-97BA-3F72544DA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ED39E-AEBD-4187-AD58-393DD706C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82C43-E0A8-4191-A314-CF23FCAB1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3050B-F470-40A7-AA9D-C6548AF0E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C896D-2B04-4848-A949-26EAF17B0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2EC17-6C8C-4FD7-8678-BAFBE1A7C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9AFD3-656C-41FC-AEA7-6D41B47F4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4F4B-7772-4B14-9F7E-E0188FA0118F}"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a descriptive and persuasive paper.</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ocabulary Challenge</a:t>
            </a:r>
            <a:endParaRPr b="0" lang="en-US" sz="4400" spc="-1" strike="noStrike">
              <a:solidFill>
                <a:srgbClr val="ffffff"/>
              </a:solidFill>
              <a:latin typeface="Times New Roman"/>
            </a:endParaRPr>
          </a:p>
        </p:txBody>
      </p:sp>
      <p:sp>
        <p:nvSpPr>
          <p:cNvPr id="53" name="PlaceHolder 2"/>
          <p:cNvSpPr>
            <a:spLocks noGrp="1"/>
          </p:cNvSpPr>
          <p:nvPr>
            <p:ph/>
          </p:nvPr>
        </p:nvSpPr>
        <p:spPr>
          <a:xfrm>
            <a:off x="4800600" y="1981080"/>
            <a:ext cx="3657600" cy="4114800"/>
          </a:xfrm>
          <a:prstGeom prst="rect">
            <a:avLst/>
          </a:prstGeom>
          <a:noFill/>
          <a:ln w="0">
            <a:noFill/>
          </a:ln>
        </p:spPr>
        <p:txBody>
          <a:bodyPr anchor="t">
            <a:normAutofit/>
          </a:bodyPr>
          <a:p>
            <a:pPr marL="6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the Vocabulary Challenge Quiz to test your knowledge of vocabulary found in “The Hard River Escape.”  </a:t>
            </a:r>
            <a:endParaRPr b="0" lang="en-US" sz="3200" spc="-1" strike="noStrike">
              <a:solidFill>
                <a:srgbClr val="ffffff"/>
              </a:solidFill>
              <a:latin typeface="Times New Roman"/>
            </a:endParaRPr>
          </a:p>
        </p:txBody>
      </p:sp>
      <p:grpSp>
        <p:nvGrpSpPr>
          <p:cNvPr id="54" name=""/>
          <p:cNvGrpSpPr/>
          <p:nvPr/>
        </p:nvGrpSpPr>
        <p:grpSpPr>
          <a:xfrm>
            <a:off x="304920" y="2209680"/>
            <a:ext cx="4069800" cy="3187440"/>
            <a:chOff x="304920" y="2209680"/>
            <a:chExt cx="4069800" cy="3187440"/>
          </a:xfrm>
        </p:grpSpPr>
        <p:sp>
          <p:nvSpPr>
            <p:cNvPr id="55" name=""/>
            <p:cNvSpPr/>
            <p:nvPr/>
          </p:nvSpPr>
          <p:spPr>
            <a:xfrm>
              <a:off x="304920" y="2209680"/>
              <a:ext cx="4069800" cy="3187440"/>
            </a:xfrm>
            <a:custGeom>
              <a:avLst/>
              <a:gdLst/>
              <a:ahLst/>
              <a:rect l="l" t="t" r="r" b="b"/>
              <a:pathLst>
                <a:path w="2292" h="1795">
                  <a:moveTo>
                    <a:pt x="2292" y="946"/>
                  </a:moveTo>
                  <a:lnTo>
                    <a:pt x="1748" y="52"/>
                  </a:lnTo>
                  <a:lnTo>
                    <a:pt x="1609" y="142"/>
                  </a:lnTo>
                  <a:lnTo>
                    <a:pt x="1527" y="0"/>
                  </a:lnTo>
                  <a:lnTo>
                    <a:pt x="1527" y="2"/>
                  </a:lnTo>
                  <a:lnTo>
                    <a:pt x="1528" y="7"/>
                  </a:lnTo>
                  <a:lnTo>
                    <a:pt x="1530" y="15"/>
                  </a:lnTo>
                  <a:lnTo>
                    <a:pt x="1530" y="26"/>
                  </a:lnTo>
                  <a:lnTo>
                    <a:pt x="1530" y="39"/>
                  </a:lnTo>
                  <a:lnTo>
                    <a:pt x="1528" y="52"/>
                  </a:lnTo>
                  <a:lnTo>
                    <a:pt x="1525" y="66"/>
                  </a:lnTo>
                  <a:lnTo>
                    <a:pt x="1520" y="81"/>
                  </a:lnTo>
                  <a:lnTo>
                    <a:pt x="1513" y="94"/>
                  </a:lnTo>
                  <a:lnTo>
                    <a:pt x="1502" y="107"/>
                  </a:lnTo>
                  <a:lnTo>
                    <a:pt x="1489" y="117"/>
                  </a:lnTo>
                  <a:lnTo>
                    <a:pt x="1473" y="125"/>
                  </a:lnTo>
                  <a:lnTo>
                    <a:pt x="1451" y="131"/>
                  </a:lnTo>
                  <a:lnTo>
                    <a:pt x="1426" y="132"/>
                  </a:lnTo>
                  <a:lnTo>
                    <a:pt x="1397" y="129"/>
                  </a:lnTo>
                  <a:lnTo>
                    <a:pt x="1361" y="122"/>
                  </a:lnTo>
                  <a:lnTo>
                    <a:pt x="1325" y="119"/>
                  </a:lnTo>
                  <a:lnTo>
                    <a:pt x="1291" y="125"/>
                  </a:lnTo>
                  <a:lnTo>
                    <a:pt x="1256" y="139"/>
                  </a:lnTo>
                  <a:lnTo>
                    <a:pt x="1222" y="161"/>
                  </a:lnTo>
                  <a:lnTo>
                    <a:pt x="1189" y="190"/>
                  </a:lnTo>
                  <a:lnTo>
                    <a:pt x="1158" y="222"/>
                  </a:lnTo>
                  <a:lnTo>
                    <a:pt x="1127" y="260"/>
                  </a:lnTo>
                  <a:lnTo>
                    <a:pt x="1098" y="299"/>
                  </a:lnTo>
                  <a:lnTo>
                    <a:pt x="1072" y="339"/>
                  </a:lnTo>
                  <a:lnTo>
                    <a:pt x="1047" y="380"/>
                  </a:lnTo>
                  <a:lnTo>
                    <a:pt x="1026" y="419"/>
                  </a:lnTo>
                  <a:lnTo>
                    <a:pt x="1006" y="456"/>
                  </a:lnTo>
                  <a:lnTo>
                    <a:pt x="989" y="489"/>
                  </a:lnTo>
                  <a:lnTo>
                    <a:pt x="976" y="517"/>
                  </a:lnTo>
                  <a:lnTo>
                    <a:pt x="967" y="540"/>
                  </a:lnTo>
                  <a:lnTo>
                    <a:pt x="960" y="554"/>
                  </a:lnTo>
                  <a:lnTo>
                    <a:pt x="951" y="558"/>
                  </a:lnTo>
                  <a:lnTo>
                    <a:pt x="911" y="539"/>
                  </a:lnTo>
                  <a:lnTo>
                    <a:pt x="870" y="524"/>
                  </a:lnTo>
                  <a:lnTo>
                    <a:pt x="831" y="514"/>
                  </a:lnTo>
                  <a:lnTo>
                    <a:pt x="792" y="505"/>
                  </a:lnTo>
                  <a:lnTo>
                    <a:pt x="753" y="502"/>
                  </a:lnTo>
                  <a:lnTo>
                    <a:pt x="715" y="499"/>
                  </a:lnTo>
                  <a:lnTo>
                    <a:pt x="678" y="502"/>
                  </a:lnTo>
                  <a:lnTo>
                    <a:pt x="641" y="505"/>
                  </a:lnTo>
                  <a:lnTo>
                    <a:pt x="604" y="511"/>
                  </a:lnTo>
                  <a:lnTo>
                    <a:pt x="569" y="520"/>
                  </a:lnTo>
                  <a:lnTo>
                    <a:pt x="534" y="530"/>
                  </a:lnTo>
                  <a:lnTo>
                    <a:pt x="501" y="542"/>
                  </a:lnTo>
                  <a:lnTo>
                    <a:pt x="469" y="556"/>
                  </a:lnTo>
                  <a:lnTo>
                    <a:pt x="437" y="571"/>
                  </a:lnTo>
                  <a:lnTo>
                    <a:pt x="407" y="587"/>
                  </a:lnTo>
                  <a:lnTo>
                    <a:pt x="378" y="604"/>
                  </a:lnTo>
                  <a:lnTo>
                    <a:pt x="350" y="622"/>
                  </a:lnTo>
                  <a:lnTo>
                    <a:pt x="324" y="639"/>
                  </a:lnTo>
                  <a:lnTo>
                    <a:pt x="298" y="657"/>
                  </a:lnTo>
                  <a:lnTo>
                    <a:pt x="276" y="676"/>
                  </a:lnTo>
                  <a:lnTo>
                    <a:pt x="253" y="694"/>
                  </a:lnTo>
                  <a:lnTo>
                    <a:pt x="233" y="711"/>
                  </a:lnTo>
                  <a:lnTo>
                    <a:pt x="214" y="728"/>
                  </a:lnTo>
                  <a:lnTo>
                    <a:pt x="196" y="744"/>
                  </a:lnTo>
                  <a:lnTo>
                    <a:pt x="181" y="759"/>
                  </a:lnTo>
                  <a:lnTo>
                    <a:pt x="167" y="772"/>
                  </a:lnTo>
                  <a:lnTo>
                    <a:pt x="156" y="784"/>
                  </a:lnTo>
                  <a:lnTo>
                    <a:pt x="146" y="795"/>
                  </a:lnTo>
                  <a:lnTo>
                    <a:pt x="138" y="803"/>
                  </a:lnTo>
                  <a:lnTo>
                    <a:pt x="133" y="810"/>
                  </a:lnTo>
                  <a:lnTo>
                    <a:pt x="129" y="814"/>
                  </a:lnTo>
                  <a:lnTo>
                    <a:pt x="128" y="815"/>
                  </a:lnTo>
                  <a:lnTo>
                    <a:pt x="133" y="823"/>
                  </a:lnTo>
                  <a:lnTo>
                    <a:pt x="0" y="867"/>
                  </a:lnTo>
                  <a:lnTo>
                    <a:pt x="395" y="1795"/>
                  </a:lnTo>
                  <a:lnTo>
                    <a:pt x="1327" y="1500"/>
                  </a:lnTo>
                  <a:lnTo>
                    <a:pt x="1329" y="1504"/>
                  </a:lnTo>
                  <a:lnTo>
                    <a:pt x="1334" y="1508"/>
                  </a:lnTo>
                  <a:lnTo>
                    <a:pt x="1341" y="1510"/>
                  </a:lnTo>
                  <a:lnTo>
                    <a:pt x="1350" y="1511"/>
                  </a:lnTo>
                  <a:lnTo>
                    <a:pt x="1363" y="1510"/>
                  </a:lnTo>
                  <a:lnTo>
                    <a:pt x="1380" y="1507"/>
                  </a:lnTo>
                  <a:lnTo>
                    <a:pt x="1400" y="1501"/>
                  </a:lnTo>
                  <a:lnTo>
                    <a:pt x="1425" y="1491"/>
                  </a:lnTo>
                  <a:lnTo>
                    <a:pt x="1452" y="1479"/>
                  </a:lnTo>
                  <a:lnTo>
                    <a:pt x="1473" y="1469"/>
                  </a:lnTo>
                  <a:lnTo>
                    <a:pt x="1488" y="1458"/>
                  </a:lnTo>
                  <a:lnTo>
                    <a:pt x="1500" y="1450"/>
                  </a:lnTo>
                  <a:lnTo>
                    <a:pt x="1506" y="1441"/>
                  </a:lnTo>
                  <a:lnTo>
                    <a:pt x="1509" y="1434"/>
                  </a:lnTo>
                  <a:lnTo>
                    <a:pt x="1511" y="1428"/>
                  </a:lnTo>
                  <a:lnTo>
                    <a:pt x="1509" y="1422"/>
                  </a:lnTo>
                  <a:lnTo>
                    <a:pt x="2292" y="9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73120" y="3145320"/>
              <a:ext cx="2077200" cy="1988640"/>
            </a:xfrm>
            <a:custGeom>
              <a:avLst/>
              <a:gdLst/>
              <a:ahLst/>
              <a:rect l="l" t="t" r="r" b="b"/>
              <a:pathLst>
                <a:path w="1170" h="1120">
                  <a:moveTo>
                    <a:pt x="798" y="46"/>
                  </a:moveTo>
                  <a:lnTo>
                    <a:pt x="797" y="46"/>
                  </a:lnTo>
                  <a:lnTo>
                    <a:pt x="793" y="44"/>
                  </a:lnTo>
                  <a:lnTo>
                    <a:pt x="788" y="41"/>
                  </a:lnTo>
                  <a:lnTo>
                    <a:pt x="781" y="38"/>
                  </a:lnTo>
                  <a:lnTo>
                    <a:pt x="772" y="34"/>
                  </a:lnTo>
                  <a:lnTo>
                    <a:pt x="761" y="29"/>
                  </a:lnTo>
                  <a:lnTo>
                    <a:pt x="749" y="26"/>
                  </a:lnTo>
                  <a:lnTo>
                    <a:pt x="734" y="21"/>
                  </a:lnTo>
                  <a:lnTo>
                    <a:pt x="718" y="16"/>
                  </a:lnTo>
                  <a:lnTo>
                    <a:pt x="700" y="12"/>
                  </a:lnTo>
                  <a:lnTo>
                    <a:pt x="680" y="8"/>
                  </a:lnTo>
                  <a:lnTo>
                    <a:pt x="660" y="5"/>
                  </a:lnTo>
                  <a:lnTo>
                    <a:pt x="638" y="2"/>
                  </a:lnTo>
                  <a:lnTo>
                    <a:pt x="614" y="1"/>
                  </a:lnTo>
                  <a:lnTo>
                    <a:pt x="588" y="0"/>
                  </a:lnTo>
                  <a:lnTo>
                    <a:pt x="562" y="0"/>
                  </a:lnTo>
                  <a:lnTo>
                    <a:pt x="533" y="2"/>
                  </a:lnTo>
                  <a:lnTo>
                    <a:pt x="505" y="6"/>
                  </a:lnTo>
                  <a:lnTo>
                    <a:pt x="474" y="10"/>
                  </a:lnTo>
                  <a:lnTo>
                    <a:pt x="443" y="18"/>
                  </a:lnTo>
                  <a:lnTo>
                    <a:pt x="411" y="26"/>
                  </a:lnTo>
                  <a:lnTo>
                    <a:pt x="377" y="37"/>
                  </a:lnTo>
                  <a:lnTo>
                    <a:pt x="343" y="50"/>
                  </a:lnTo>
                  <a:lnTo>
                    <a:pt x="307" y="65"/>
                  </a:lnTo>
                  <a:lnTo>
                    <a:pt x="272" y="84"/>
                  </a:lnTo>
                  <a:lnTo>
                    <a:pt x="235" y="105"/>
                  </a:lnTo>
                  <a:lnTo>
                    <a:pt x="197" y="129"/>
                  </a:lnTo>
                  <a:lnTo>
                    <a:pt x="159" y="156"/>
                  </a:lnTo>
                  <a:lnTo>
                    <a:pt x="120" y="186"/>
                  </a:lnTo>
                  <a:lnTo>
                    <a:pt x="81" y="220"/>
                  </a:lnTo>
                  <a:lnTo>
                    <a:pt x="40" y="257"/>
                  </a:lnTo>
                  <a:lnTo>
                    <a:pt x="0" y="299"/>
                  </a:lnTo>
                  <a:lnTo>
                    <a:pt x="46" y="391"/>
                  </a:lnTo>
                  <a:lnTo>
                    <a:pt x="89" y="480"/>
                  </a:lnTo>
                  <a:lnTo>
                    <a:pt x="128" y="563"/>
                  </a:lnTo>
                  <a:lnTo>
                    <a:pt x="164" y="642"/>
                  </a:lnTo>
                  <a:lnTo>
                    <a:pt x="197" y="715"/>
                  </a:lnTo>
                  <a:lnTo>
                    <a:pt x="227" y="782"/>
                  </a:lnTo>
                  <a:lnTo>
                    <a:pt x="254" y="844"/>
                  </a:lnTo>
                  <a:lnTo>
                    <a:pt x="278" y="900"/>
                  </a:lnTo>
                  <a:lnTo>
                    <a:pt x="298" y="950"/>
                  </a:lnTo>
                  <a:lnTo>
                    <a:pt x="316" y="994"/>
                  </a:lnTo>
                  <a:lnTo>
                    <a:pt x="331" y="1032"/>
                  </a:lnTo>
                  <a:lnTo>
                    <a:pt x="343" y="1063"/>
                  </a:lnTo>
                  <a:lnTo>
                    <a:pt x="353" y="1088"/>
                  </a:lnTo>
                  <a:lnTo>
                    <a:pt x="360" y="1105"/>
                  </a:lnTo>
                  <a:lnTo>
                    <a:pt x="363" y="1116"/>
                  </a:lnTo>
                  <a:lnTo>
                    <a:pt x="364" y="1120"/>
                  </a:lnTo>
                  <a:lnTo>
                    <a:pt x="366" y="1119"/>
                  </a:lnTo>
                  <a:lnTo>
                    <a:pt x="369" y="1114"/>
                  </a:lnTo>
                  <a:lnTo>
                    <a:pt x="375" y="1105"/>
                  </a:lnTo>
                  <a:lnTo>
                    <a:pt x="383" y="1095"/>
                  </a:lnTo>
                  <a:lnTo>
                    <a:pt x="393" y="1083"/>
                  </a:lnTo>
                  <a:lnTo>
                    <a:pt x="405" y="1069"/>
                  </a:lnTo>
                  <a:lnTo>
                    <a:pt x="419" y="1052"/>
                  </a:lnTo>
                  <a:lnTo>
                    <a:pt x="436" y="1033"/>
                  </a:lnTo>
                  <a:lnTo>
                    <a:pt x="452" y="1014"/>
                  </a:lnTo>
                  <a:lnTo>
                    <a:pt x="472" y="994"/>
                  </a:lnTo>
                  <a:lnTo>
                    <a:pt x="493" y="973"/>
                  </a:lnTo>
                  <a:lnTo>
                    <a:pt x="516" y="951"/>
                  </a:lnTo>
                  <a:lnTo>
                    <a:pt x="540" y="930"/>
                  </a:lnTo>
                  <a:lnTo>
                    <a:pt x="565" y="907"/>
                  </a:lnTo>
                  <a:lnTo>
                    <a:pt x="592" y="886"/>
                  </a:lnTo>
                  <a:lnTo>
                    <a:pt x="620" y="866"/>
                  </a:lnTo>
                  <a:lnTo>
                    <a:pt x="649" y="846"/>
                  </a:lnTo>
                  <a:lnTo>
                    <a:pt x="679" y="827"/>
                  </a:lnTo>
                  <a:lnTo>
                    <a:pt x="710" y="809"/>
                  </a:lnTo>
                  <a:lnTo>
                    <a:pt x="742" y="793"/>
                  </a:lnTo>
                  <a:lnTo>
                    <a:pt x="775" y="779"/>
                  </a:lnTo>
                  <a:lnTo>
                    <a:pt x="810" y="767"/>
                  </a:lnTo>
                  <a:lnTo>
                    <a:pt x="843" y="757"/>
                  </a:lnTo>
                  <a:lnTo>
                    <a:pt x="879" y="751"/>
                  </a:lnTo>
                  <a:lnTo>
                    <a:pt x="914" y="746"/>
                  </a:lnTo>
                  <a:lnTo>
                    <a:pt x="950" y="746"/>
                  </a:lnTo>
                  <a:lnTo>
                    <a:pt x="985" y="748"/>
                  </a:lnTo>
                  <a:lnTo>
                    <a:pt x="1022" y="754"/>
                  </a:lnTo>
                  <a:lnTo>
                    <a:pt x="1059" y="765"/>
                  </a:lnTo>
                  <a:lnTo>
                    <a:pt x="1096" y="780"/>
                  </a:lnTo>
                  <a:lnTo>
                    <a:pt x="1133" y="799"/>
                  </a:lnTo>
                  <a:lnTo>
                    <a:pt x="1170" y="823"/>
                  </a:lnTo>
                  <a:lnTo>
                    <a:pt x="1129" y="763"/>
                  </a:lnTo>
                  <a:lnTo>
                    <a:pt x="1090" y="700"/>
                  </a:lnTo>
                  <a:lnTo>
                    <a:pt x="1053" y="636"/>
                  </a:lnTo>
                  <a:lnTo>
                    <a:pt x="1019" y="569"/>
                  </a:lnTo>
                  <a:lnTo>
                    <a:pt x="985" y="504"/>
                  </a:lnTo>
                  <a:lnTo>
                    <a:pt x="956" y="440"/>
                  </a:lnTo>
                  <a:lnTo>
                    <a:pt x="927" y="377"/>
                  </a:lnTo>
                  <a:lnTo>
                    <a:pt x="901" y="317"/>
                  </a:lnTo>
                  <a:lnTo>
                    <a:pt x="879" y="261"/>
                  </a:lnTo>
                  <a:lnTo>
                    <a:pt x="857" y="210"/>
                  </a:lnTo>
                  <a:lnTo>
                    <a:pt x="839" y="163"/>
                  </a:lnTo>
                  <a:lnTo>
                    <a:pt x="825" y="123"/>
                  </a:lnTo>
                  <a:lnTo>
                    <a:pt x="813" y="91"/>
                  </a:lnTo>
                  <a:lnTo>
                    <a:pt x="805" y="66"/>
                  </a:lnTo>
                  <a:lnTo>
                    <a:pt x="799" y="51"/>
                  </a:lnTo>
                  <a:lnTo>
                    <a:pt x="798"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034360" y="2358360"/>
              <a:ext cx="1830960" cy="2214360"/>
            </a:xfrm>
            <a:custGeom>
              <a:avLst/>
              <a:gdLst/>
              <a:ahLst/>
              <a:rect l="l" t="t" r="r" b="b"/>
              <a:pathLst>
                <a:path w="1031" h="1247">
                  <a:moveTo>
                    <a:pt x="0" y="489"/>
                  </a:moveTo>
                  <a:lnTo>
                    <a:pt x="1" y="485"/>
                  </a:lnTo>
                  <a:lnTo>
                    <a:pt x="6" y="476"/>
                  </a:lnTo>
                  <a:lnTo>
                    <a:pt x="13" y="461"/>
                  </a:lnTo>
                  <a:lnTo>
                    <a:pt x="24" y="439"/>
                  </a:lnTo>
                  <a:lnTo>
                    <a:pt x="35" y="415"/>
                  </a:lnTo>
                  <a:lnTo>
                    <a:pt x="50" y="387"/>
                  </a:lnTo>
                  <a:lnTo>
                    <a:pt x="66" y="356"/>
                  </a:lnTo>
                  <a:lnTo>
                    <a:pt x="85" y="324"/>
                  </a:lnTo>
                  <a:lnTo>
                    <a:pt x="105" y="290"/>
                  </a:lnTo>
                  <a:lnTo>
                    <a:pt x="128" y="256"/>
                  </a:lnTo>
                  <a:lnTo>
                    <a:pt x="151" y="222"/>
                  </a:lnTo>
                  <a:lnTo>
                    <a:pt x="176" y="190"/>
                  </a:lnTo>
                  <a:lnTo>
                    <a:pt x="201" y="160"/>
                  </a:lnTo>
                  <a:lnTo>
                    <a:pt x="227" y="132"/>
                  </a:lnTo>
                  <a:lnTo>
                    <a:pt x="254" y="108"/>
                  </a:lnTo>
                  <a:lnTo>
                    <a:pt x="281" y="88"/>
                  </a:lnTo>
                  <a:lnTo>
                    <a:pt x="294" y="81"/>
                  </a:lnTo>
                  <a:lnTo>
                    <a:pt x="309" y="76"/>
                  </a:lnTo>
                  <a:lnTo>
                    <a:pt x="323" y="74"/>
                  </a:lnTo>
                  <a:lnTo>
                    <a:pt x="339" y="73"/>
                  </a:lnTo>
                  <a:lnTo>
                    <a:pt x="355" y="73"/>
                  </a:lnTo>
                  <a:lnTo>
                    <a:pt x="372" y="73"/>
                  </a:lnTo>
                  <a:lnTo>
                    <a:pt x="389" y="75"/>
                  </a:lnTo>
                  <a:lnTo>
                    <a:pt x="406" y="77"/>
                  </a:lnTo>
                  <a:lnTo>
                    <a:pt x="423" y="80"/>
                  </a:lnTo>
                  <a:lnTo>
                    <a:pt x="439" y="83"/>
                  </a:lnTo>
                  <a:lnTo>
                    <a:pt x="455" y="86"/>
                  </a:lnTo>
                  <a:lnTo>
                    <a:pt x="470" y="89"/>
                  </a:lnTo>
                  <a:lnTo>
                    <a:pt x="484" y="90"/>
                  </a:lnTo>
                  <a:lnTo>
                    <a:pt x="497" y="92"/>
                  </a:lnTo>
                  <a:lnTo>
                    <a:pt x="508" y="93"/>
                  </a:lnTo>
                  <a:lnTo>
                    <a:pt x="519" y="92"/>
                  </a:lnTo>
                  <a:lnTo>
                    <a:pt x="535" y="86"/>
                  </a:lnTo>
                  <a:lnTo>
                    <a:pt x="548" y="74"/>
                  </a:lnTo>
                  <a:lnTo>
                    <a:pt x="559" y="60"/>
                  </a:lnTo>
                  <a:lnTo>
                    <a:pt x="566" y="43"/>
                  </a:lnTo>
                  <a:lnTo>
                    <a:pt x="572" y="28"/>
                  </a:lnTo>
                  <a:lnTo>
                    <a:pt x="576" y="13"/>
                  </a:lnTo>
                  <a:lnTo>
                    <a:pt x="578" y="4"/>
                  </a:lnTo>
                  <a:lnTo>
                    <a:pt x="578" y="0"/>
                  </a:lnTo>
                  <a:lnTo>
                    <a:pt x="1031" y="769"/>
                  </a:lnTo>
                  <a:lnTo>
                    <a:pt x="1031" y="773"/>
                  </a:lnTo>
                  <a:lnTo>
                    <a:pt x="1031" y="782"/>
                  </a:lnTo>
                  <a:lnTo>
                    <a:pt x="1031" y="796"/>
                  </a:lnTo>
                  <a:lnTo>
                    <a:pt x="1028" y="813"/>
                  </a:lnTo>
                  <a:lnTo>
                    <a:pt x="1022" y="832"/>
                  </a:lnTo>
                  <a:lnTo>
                    <a:pt x="1015" y="850"/>
                  </a:lnTo>
                  <a:lnTo>
                    <a:pt x="1002" y="865"/>
                  </a:lnTo>
                  <a:lnTo>
                    <a:pt x="985" y="878"/>
                  </a:lnTo>
                  <a:lnTo>
                    <a:pt x="968" y="885"/>
                  </a:lnTo>
                  <a:lnTo>
                    <a:pt x="953" y="889"/>
                  </a:lnTo>
                  <a:lnTo>
                    <a:pt x="940" y="890"/>
                  </a:lnTo>
                  <a:lnTo>
                    <a:pt x="927" y="890"/>
                  </a:lnTo>
                  <a:lnTo>
                    <a:pt x="911" y="890"/>
                  </a:lnTo>
                  <a:lnTo>
                    <a:pt x="889" y="892"/>
                  </a:lnTo>
                  <a:lnTo>
                    <a:pt x="862" y="897"/>
                  </a:lnTo>
                  <a:lnTo>
                    <a:pt x="825" y="908"/>
                  </a:lnTo>
                  <a:lnTo>
                    <a:pt x="803" y="917"/>
                  </a:lnTo>
                  <a:lnTo>
                    <a:pt x="775" y="933"/>
                  </a:lnTo>
                  <a:lnTo>
                    <a:pt x="744" y="952"/>
                  </a:lnTo>
                  <a:lnTo>
                    <a:pt x="711" y="975"/>
                  </a:lnTo>
                  <a:lnTo>
                    <a:pt x="677" y="1002"/>
                  </a:lnTo>
                  <a:lnTo>
                    <a:pt x="641" y="1030"/>
                  </a:lnTo>
                  <a:lnTo>
                    <a:pt x="604" y="1060"/>
                  </a:lnTo>
                  <a:lnTo>
                    <a:pt x="569" y="1091"/>
                  </a:lnTo>
                  <a:lnTo>
                    <a:pt x="534" y="1120"/>
                  </a:lnTo>
                  <a:lnTo>
                    <a:pt x="502" y="1149"/>
                  </a:lnTo>
                  <a:lnTo>
                    <a:pt x="472" y="1176"/>
                  </a:lnTo>
                  <a:lnTo>
                    <a:pt x="446" y="1198"/>
                  </a:lnTo>
                  <a:lnTo>
                    <a:pt x="425" y="1219"/>
                  </a:lnTo>
                  <a:lnTo>
                    <a:pt x="410" y="1234"/>
                  </a:lnTo>
                  <a:lnTo>
                    <a:pt x="399" y="1244"/>
                  </a:lnTo>
                  <a:lnTo>
                    <a:pt x="395" y="1247"/>
                  </a:lnTo>
                  <a:lnTo>
                    <a:pt x="393" y="1241"/>
                  </a:lnTo>
                  <a:lnTo>
                    <a:pt x="388" y="1226"/>
                  </a:lnTo>
                  <a:lnTo>
                    <a:pt x="379" y="1200"/>
                  </a:lnTo>
                  <a:lnTo>
                    <a:pt x="366" y="1166"/>
                  </a:lnTo>
                  <a:lnTo>
                    <a:pt x="349" y="1126"/>
                  </a:lnTo>
                  <a:lnTo>
                    <a:pt x="330" y="1079"/>
                  </a:lnTo>
                  <a:lnTo>
                    <a:pt x="309" y="1025"/>
                  </a:lnTo>
                  <a:lnTo>
                    <a:pt x="284" y="970"/>
                  </a:lnTo>
                  <a:lnTo>
                    <a:pt x="255" y="909"/>
                  </a:lnTo>
                  <a:lnTo>
                    <a:pt x="225" y="847"/>
                  </a:lnTo>
                  <a:lnTo>
                    <a:pt x="192" y="784"/>
                  </a:lnTo>
                  <a:lnTo>
                    <a:pt x="158" y="722"/>
                  </a:lnTo>
                  <a:lnTo>
                    <a:pt x="121" y="659"/>
                  </a:lnTo>
                  <a:lnTo>
                    <a:pt x="82" y="599"/>
                  </a:lnTo>
                  <a:lnTo>
                    <a:pt x="41" y="542"/>
                  </a:lnTo>
                  <a:lnTo>
                    <a:pt x="0" y="4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75840" y="3724560"/>
              <a:ext cx="2293920" cy="1583640"/>
            </a:xfrm>
            <a:custGeom>
              <a:avLst/>
              <a:gdLst/>
              <a:ahLst/>
              <a:rect l="l" t="t" r="r" b="b"/>
              <a:pathLst>
                <a:path w="1292" h="892">
                  <a:moveTo>
                    <a:pt x="70" y="0"/>
                  </a:moveTo>
                  <a:lnTo>
                    <a:pt x="0" y="20"/>
                  </a:lnTo>
                  <a:lnTo>
                    <a:pt x="4" y="30"/>
                  </a:lnTo>
                  <a:lnTo>
                    <a:pt x="16" y="57"/>
                  </a:lnTo>
                  <a:lnTo>
                    <a:pt x="34" y="98"/>
                  </a:lnTo>
                  <a:lnTo>
                    <a:pt x="57" y="153"/>
                  </a:lnTo>
                  <a:lnTo>
                    <a:pt x="86" y="217"/>
                  </a:lnTo>
                  <a:lnTo>
                    <a:pt x="117" y="289"/>
                  </a:lnTo>
                  <a:lnTo>
                    <a:pt x="150" y="367"/>
                  </a:lnTo>
                  <a:lnTo>
                    <a:pt x="186" y="446"/>
                  </a:lnTo>
                  <a:lnTo>
                    <a:pt x="220" y="527"/>
                  </a:lnTo>
                  <a:lnTo>
                    <a:pt x="255" y="605"/>
                  </a:lnTo>
                  <a:lnTo>
                    <a:pt x="287" y="679"/>
                  </a:lnTo>
                  <a:lnTo>
                    <a:pt x="316" y="745"/>
                  </a:lnTo>
                  <a:lnTo>
                    <a:pt x="342" y="802"/>
                  </a:lnTo>
                  <a:lnTo>
                    <a:pt x="363" y="847"/>
                  </a:lnTo>
                  <a:lnTo>
                    <a:pt x="378" y="877"/>
                  </a:lnTo>
                  <a:lnTo>
                    <a:pt x="385" y="891"/>
                  </a:lnTo>
                  <a:lnTo>
                    <a:pt x="390" y="892"/>
                  </a:lnTo>
                  <a:lnTo>
                    <a:pt x="398" y="892"/>
                  </a:lnTo>
                  <a:lnTo>
                    <a:pt x="412" y="890"/>
                  </a:lnTo>
                  <a:lnTo>
                    <a:pt x="430" y="885"/>
                  </a:lnTo>
                  <a:lnTo>
                    <a:pt x="452" y="880"/>
                  </a:lnTo>
                  <a:lnTo>
                    <a:pt x="477" y="873"/>
                  </a:lnTo>
                  <a:lnTo>
                    <a:pt x="504" y="865"/>
                  </a:lnTo>
                  <a:lnTo>
                    <a:pt x="536" y="855"/>
                  </a:lnTo>
                  <a:lnTo>
                    <a:pt x="569" y="846"/>
                  </a:lnTo>
                  <a:lnTo>
                    <a:pt x="605" y="835"/>
                  </a:lnTo>
                  <a:lnTo>
                    <a:pt x="642" y="822"/>
                  </a:lnTo>
                  <a:lnTo>
                    <a:pt x="681" y="810"/>
                  </a:lnTo>
                  <a:lnTo>
                    <a:pt x="721" y="797"/>
                  </a:lnTo>
                  <a:lnTo>
                    <a:pt x="763" y="783"/>
                  </a:lnTo>
                  <a:lnTo>
                    <a:pt x="804" y="770"/>
                  </a:lnTo>
                  <a:lnTo>
                    <a:pt x="846" y="756"/>
                  </a:lnTo>
                  <a:lnTo>
                    <a:pt x="889" y="742"/>
                  </a:lnTo>
                  <a:lnTo>
                    <a:pt x="930" y="727"/>
                  </a:lnTo>
                  <a:lnTo>
                    <a:pt x="971" y="714"/>
                  </a:lnTo>
                  <a:lnTo>
                    <a:pt x="1011" y="700"/>
                  </a:lnTo>
                  <a:lnTo>
                    <a:pt x="1049" y="687"/>
                  </a:lnTo>
                  <a:lnTo>
                    <a:pt x="1086" y="674"/>
                  </a:lnTo>
                  <a:lnTo>
                    <a:pt x="1121" y="662"/>
                  </a:lnTo>
                  <a:lnTo>
                    <a:pt x="1154" y="651"/>
                  </a:lnTo>
                  <a:lnTo>
                    <a:pt x="1183" y="641"/>
                  </a:lnTo>
                  <a:lnTo>
                    <a:pt x="1211" y="631"/>
                  </a:lnTo>
                  <a:lnTo>
                    <a:pt x="1234" y="623"/>
                  </a:lnTo>
                  <a:lnTo>
                    <a:pt x="1254" y="616"/>
                  </a:lnTo>
                  <a:lnTo>
                    <a:pt x="1271" y="610"/>
                  </a:lnTo>
                  <a:lnTo>
                    <a:pt x="1283" y="606"/>
                  </a:lnTo>
                  <a:lnTo>
                    <a:pt x="1290" y="604"/>
                  </a:lnTo>
                  <a:lnTo>
                    <a:pt x="1292" y="603"/>
                  </a:lnTo>
                  <a:lnTo>
                    <a:pt x="1276" y="533"/>
                  </a:lnTo>
                  <a:lnTo>
                    <a:pt x="1273" y="533"/>
                  </a:lnTo>
                  <a:lnTo>
                    <a:pt x="1268" y="535"/>
                  </a:lnTo>
                  <a:lnTo>
                    <a:pt x="1258" y="537"/>
                  </a:lnTo>
                  <a:lnTo>
                    <a:pt x="1245" y="542"/>
                  </a:lnTo>
                  <a:lnTo>
                    <a:pt x="1228" y="547"/>
                  </a:lnTo>
                  <a:lnTo>
                    <a:pt x="1209" y="552"/>
                  </a:lnTo>
                  <a:lnTo>
                    <a:pt x="1187" y="559"/>
                  </a:lnTo>
                  <a:lnTo>
                    <a:pt x="1163" y="566"/>
                  </a:lnTo>
                  <a:lnTo>
                    <a:pt x="1136" y="574"/>
                  </a:lnTo>
                  <a:lnTo>
                    <a:pt x="1107" y="583"/>
                  </a:lnTo>
                  <a:lnTo>
                    <a:pt x="1076" y="592"/>
                  </a:lnTo>
                  <a:lnTo>
                    <a:pt x="1044" y="602"/>
                  </a:lnTo>
                  <a:lnTo>
                    <a:pt x="1011" y="612"/>
                  </a:lnTo>
                  <a:lnTo>
                    <a:pt x="977" y="623"/>
                  </a:lnTo>
                  <a:lnTo>
                    <a:pt x="942" y="634"/>
                  </a:lnTo>
                  <a:lnTo>
                    <a:pt x="906" y="645"/>
                  </a:lnTo>
                  <a:lnTo>
                    <a:pt x="871" y="656"/>
                  </a:lnTo>
                  <a:lnTo>
                    <a:pt x="835" y="668"/>
                  </a:lnTo>
                  <a:lnTo>
                    <a:pt x="800" y="680"/>
                  </a:lnTo>
                  <a:lnTo>
                    <a:pt x="764" y="692"/>
                  </a:lnTo>
                  <a:lnTo>
                    <a:pt x="730" y="705"/>
                  </a:lnTo>
                  <a:lnTo>
                    <a:pt x="696" y="717"/>
                  </a:lnTo>
                  <a:lnTo>
                    <a:pt x="664" y="727"/>
                  </a:lnTo>
                  <a:lnTo>
                    <a:pt x="633" y="739"/>
                  </a:lnTo>
                  <a:lnTo>
                    <a:pt x="605" y="751"/>
                  </a:lnTo>
                  <a:lnTo>
                    <a:pt x="578" y="762"/>
                  </a:lnTo>
                  <a:lnTo>
                    <a:pt x="553" y="772"/>
                  </a:lnTo>
                  <a:lnTo>
                    <a:pt x="530" y="783"/>
                  </a:lnTo>
                  <a:lnTo>
                    <a:pt x="510" y="793"/>
                  </a:lnTo>
                  <a:lnTo>
                    <a:pt x="493" y="802"/>
                  </a:lnTo>
                  <a:lnTo>
                    <a:pt x="480" y="810"/>
                  </a:lnTo>
                  <a:lnTo>
                    <a:pt x="469" y="819"/>
                  </a:lnTo>
                  <a:lnTo>
                    <a:pt x="459" y="796"/>
                  </a:lnTo>
                  <a:lnTo>
                    <a:pt x="441" y="760"/>
                  </a:lnTo>
                  <a:lnTo>
                    <a:pt x="418" y="713"/>
                  </a:lnTo>
                  <a:lnTo>
                    <a:pt x="391" y="656"/>
                  </a:lnTo>
                  <a:lnTo>
                    <a:pt x="360" y="592"/>
                  </a:lnTo>
                  <a:lnTo>
                    <a:pt x="327" y="523"/>
                  </a:lnTo>
                  <a:lnTo>
                    <a:pt x="291" y="452"/>
                  </a:lnTo>
                  <a:lnTo>
                    <a:pt x="256" y="378"/>
                  </a:lnTo>
                  <a:lnTo>
                    <a:pt x="220" y="306"/>
                  </a:lnTo>
                  <a:lnTo>
                    <a:pt x="187" y="237"/>
                  </a:lnTo>
                  <a:lnTo>
                    <a:pt x="155" y="173"/>
                  </a:lnTo>
                  <a:lnTo>
                    <a:pt x="127" y="116"/>
                  </a:lnTo>
                  <a:lnTo>
                    <a:pt x="104" y="69"/>
                  </a:lnTo>
                  <a:lnTo>
                    <a:pt x="86" y="32"/>
                  </a:lnTo>
                  <a:lnTo>
                    <a:pt x="74" y="8"/>
                  </a:lnTo>
                  <a:lnTo>
                    <a:pt x="7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796120" y="2364120"/>
              <a:ext cx="1502280" cy="2375640"/>
            </a:xfrm>
            <a:custGeom>
              <a:avLst/>
              <a:gdLst/>
              <a:ahLst/>
              <a:rect l="l" t="t" r="r" b="b"/>
              <a:pathLst>
                <a:path w="846" h="1338">
                  <a:moveTo>
                    <a:pt x="0" y="1271"/>
                  </a:moveTo>
                  <a:lnTo>
                    <a:pt x="65" y="1338"/>
                  </a:lnTo>
                  <a:lnTo>
                    <a:pt x="846" y="848"/>
                  </a:lnTo>
                  <a:lnTo>
                    <a:pt x="339" y="0"/>
                  </a:lnTo>
                  <a:lnTo>
                    <a:pt x="274" y="42"/>
                  </a:lnTo>
                  <a:lnTo>
                    <a:pt x="761" y="844"/>
                  </a:lnTo>
                  <a:lnTo>
                    <a:pt x="760" y="844"/>
                  </a:lnTo>
                  <a:lnTo>
                    <a:pt x="755" y="845"/>
                  </a:lnTo>
                  <a:lnTo>
                    <a:pt x="749" y="848"/>
                  </a:lnTo>
                  <a:lnTo>
                    <a:pt x="741" y="850"/>
                  </a:lnTo>
                  <a:lnTo>
                    <a:pt x="730" y="853"/>
                  </a:lnTo>
                  <a:lnTo>
                    <a:pt x="718" y="856"/>
                  </a:lnTo>
                  <a:lnTo>
                    <a:pt x="705" y="860"/>
                  </a:lnTo>
                  <a:lnTo>
                    <a:pt x="691" y="864"/>
                  </a:lnTo>
                  <a:lnTo>
                    <a:pt x="675" y="869"/>
                  </a:lnTo>
                  <a:lnTo>
                    <a:pt x="660" y="875"/>
                  </a:lnTo>
                  <a:lnTo>
                    <a:pt x="644" y="881"/>
                  </a:lnTo>
                  <a:lnTo>
                    <a:pt x="628" y="887"/>
                  </a:lnTo>
                  <a:lnTo>
                    <a:pt x="612" y="893"/>
                  </a:lnTo>
                  <a:lnTo>
                    <a:pt x="597" y="900"/>
                  </a:lnTo>
                  <a:lnTo>
                    <a:pt x="583" y="907"/>
                  </a:lnTo>
                  <a:lnTo>
                    <a:pt x="568" y="914"/>
                  </a:lnTo>
                  <a:lnTo>
                    <a:pt x="554" y="924"/>
                  </a:lnTo>
                  <a:lnTo>
                    <a:pt x="535" y="939"/>
                  </a:lnTo>
                  <a:lnTo>
                    <a:pt x="515" y="958"/>
                  </a:lnTo>
                  <a:lnTo>
                    <a:pt x="490" y="980"/>
                  </a:lnTo>
                  <a:lnTo>
                    <a:pt x="463" y="1006"/>
                  </a:lnTo>
                  <a:lnTo>
                    <a:pt x="433" y="1032"/>
                  </a:lnTo>
                  <a:lnTo>
                    <a:pt x="401" y="1061"/>
                  </a:lnTo>
                  <a:lnTo>
                    <a:pt x="365" y="1090"/>
                  </a:lnTo>
                  <a:lnTo>
                    <a:pt x="327" y="1120"/>
                  </a:lnTo>
                  <a:lnTo>
                    <a:pt x="287" y="1148"/>
                  </a:lnTo>
                  <a:lnTo>
                    <a:pt x="244" y="1176"/>
                  </a:lnTo>
                  <a:lnTo>
                    <a:pt x="199" y="1201"/>
                  </a:lnTo>
                  <a:lnTo>
                    <a:pt x="153" y="1225"/>
                  </a:lnTo>
                  <a:lnTo>
                    <a:pt x="103" y="1244"/>
                  </a:lnTo>
                  <a:lnTo>
                    <a:pt x="52" y="1261"/>
                  </a:lnTo>
                  <a:lnTo>
                    <a:pt x="0" y="127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16600" y="4429080"/>
              <a:ext cx="285840" cy="323280"/>
            </a:xfrm>
            <a:custGeom>
              <a:avLst/>
              <a:gdLst/>
              <a:ahLst/>
              <a:rect l="l" t="t" r="r" b="b"/>
              <a:pathLst>
                <a:path w="161" h="182">
                  <a:moveTo>
                    <a:pt x="0" y="182"/>
                  </a:moveTo>
                  <a:lnTo>
                    <a:pt x="161" y="0"/>
                  </a:lnTo>
                  <a:lnTo>
                    <a:pt x="126" y="30"/>
                  </a:lnTo>
                  <a:lnTo>
                    <a:pt x="94" y="61"/>
                  </a:lnTo>
                  <a:lnTo>
                    <a:pt x="66" y="92"/>
                  </a:lnTo>
                  <a:lnTo>
                    <a:pt x="43" y="119"/>
                  </a:lnTo>
                  <a:lnTo>
                    <a:pt x="25" y="144"/>
                  </a:lnTo>
                  <a:lnTo>
                    <a:pt x="11" y="164"/>
                  </a:lnTo>
                  <a:lnTo>
                    <a:pt x="2" y="177"/>
                  </a:lnTo>
                  <a:lnTo>
                    <a:pt x="0" y="18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80840" y="3324600"/>
              <a:ext cx="1413360" cy="1104480"/>
            </a:xfrm>
            <a:custGeom>
              <a:avLst/>
              <a:gdLst/>
              <a:ahLst/>
              <a:rect l="l" t="t" r="r" b="b"/>
              <a:pathLst>
                <a:path w="796" h="622">
                  <a:moveTo>
                    <a:pt x="644" y="536"/>
                  </a:moveTo>
                  <a:lnTo>
                    <a:pt x="791" y="322"/>
                  </a:lnTo>
                  <a:lnTo>
                    <a:pt x="333" y="478"/>
                  </a:lnTo>
                  <a:lnTo>
                    <a:pt x="746" y="206"/>
                  </a:lnTo>
                  <a:lnTo>
                    <a:pt x="744" y="206"/>
                  </a:lnTo>
                  <a:lnTo>
                    <a:pt x="737" y="207"/>
                  </a:lnTo>
                  <a:lnTo>
                    <a:pt x="726" y="208"/>
                  </a:lnTo>
                  <a:lnTo>
                    <a:pt x="711" y="210"/>
                  </a:lnTo>
                  <a:lnTo>
                    <a:pt x="693" y="212"/>
                  </a:lnTo>
                  <a:lnTo>
                    <a:pt x="671" y="214"/>
                  </a:lnTo>
                  <a:lnTo>
                    <a:pt x="646" y="217"/>
                  </a:lnTo>
                  <a:lnTo>
                    <a:pt x="620" y="219"/>
                  </a:lnTo>
                  <a:lnTo>
                    <a:pt x="592" y="221"/>
                  </a:lnTo>
                  <a:lnTo>
                    <a:pt x="561" y="224"/>
                  </a:lnTo>
                  <a:lnTo>
                    <a:pt x="529" y="226"/>
                  </a:lnTo>
                  <a:lnTo>
                    <a:pt x="497" y="229"/>
                  </a:lnTo>
                  <a:lnTo>
                    <a:pt x="464" y="230"/>
                  </a:lnTo>
                  <a:lnTo>
                    <a:pt x="430" y="232"/>
                  </a:lnTo>
                  <a:lnTo>
                    <a:pt x="397" y="233"/>
                  </a:lnTo>
                  <a:lnTo>
                    <a:pt x="364" y="235"/>
                  </a:lnTo>
                  <a:lnTo>
                    <a:pt x="332" y="235"/>
                  </a:lnTo>
                  <a:lnTo>
                    <a:pt x="301" y="235"/>
                  </a:lnTo>
                  <a:lnTo>
                    <a:pt x="271" y="235"/>
                  </a:lnTo>
                  <a:lnTo>
                    <a:pt x="244" y="232"/>
                  </a:lnTo>
                  <a:lnTo>
                    <a:pt x="219" y="231"/>
                  </a:lnTo>
                  <a:lnTo>
                    <a:pt x="195" y="227"/>
                  </a:lnTo>
                  <a:lnTo>
                    <a:pt x="176" y="224"/>
                  </a:lnTo>
                  <a:lnTo>
                    <a:pt x="160" y="219"/>
                  </a:lnTo>
                  <a:lnTo>
                    <a:pt x="146" y="213"/>
                  </a:lnTo>
                  <a:lnTo>
                    <a:pt x="138" y="206"/>
                  </a:lnTo>
                  <a:lnTo>
                    <a:pt x="133" y="199"/>
                  </a:lnTo>
                  <a:lnTo>
                    <a:pt x="135" y="189"/>
                  </a:lnTo>
                  <a:lnTo>
                    <a:pt x="139" y="179"/>
                  </a:lnTo>
                  <a:lnTo>
                    <a:pt x="151" y="167"/>
                  </a:lnTo>
                  <a:lnTo>
                    <a:pt x="168" y="154"/>
                  </a:lnTo>
                  <a:lnTo>
                    <a:pt x="190" y="140"/>
                  </a:lnTo>
                  <a:lnTo>
                    <a:pt x="240" y="112"/>
                  </a:lnTo>
                  <a:lnTo>
                    <a:pt x="287" y="92"/>
                  </a:lnTo>
                  <a:lnTo>
                    <a:pt x="329" y="78"/>
                  </a:lnTo>
                  <a:lnTo>
                    <a:pt x="367" y="67"/>
                  </a:lnTo>
                  <a:lnTo>
                    <a:pt x="403" y="62"/>
                  </a:lnTo>
                  <a:lnTo>
                    <a:pt x="435" y="60"/>
                  </a:lnTo>
                  <a:lnTo>
                    <a:pt x="464" y="60"/>
                  </a:lnTo>
                  <a:lnTo>
                    <a:pt x="490" y="61"/>
                  </a:lnTo>
                  <a:lnTo>
                    <a:pt x="512" y="64"/>
                  </a:lnTo>
                  <a:lnTo>
                    <a:pt x="532" y="66"/>
                  </a:lnTo>
                  <a:lnTo>
                    <a:pt x="550" y="67"/>
                  </a:lnTo>
                  <a:lnTo>
                    <a:pt x="566" y="66"/>
                  </a:lnTo>
                  <a:lnTo>
                    <a:pt x="579" y="62"/>
                  </a:lnTo>
                  <a:lnTo>
                    <a:pt x="591" y="55"/>
                  </a:lnTo>
                  <a:lnTo>
                    <a:pt x="600" y="43"/>
                  </a:lnTo>
                  <a:lnTo>
                    <a:pt x="607" y="27"/>
                  </a:lnTo>
                  <a:lnTo>
                    <a:pt x="602" y="26"/>
                  </a:lnTo>
                  <a:lnTo>
                    <a:pt x="589" y="22"/>
                  </a:lnTo>
                  <a:lnTo>
                    <a:pt x="569" y="17"/>
                  </a:lnTo>
                  <a:lnTo>
                    <a:pt x="542" y="13"/>
                  </a:lnTo>
                  <a:lnTo>
                    <a:pt x="510" y="7"/>
                  </a:lnTo>
                  <a:lnTo>
                    <a:pt x="472" y="3"/>
                  </a:lnTo>
                  <a:lnTo>
                    <a:pt x="430" y="1"/>
                  </a:lnTo>
                  <a:lnTo>
                    <a:pt x="386" y="0"/>
                  </a:lnTo>
                  <a:lnTo>
                    <a:pt x="339" y="3"/>
                  </a:lnTo>
                  <a:lnTo>
                    <a:pt x="291" y="10"/>
                  </a:lnTo>
                  <a:lnTo>
                    <a:pt x="243" y="21"/>
                  </a:lnTo>
                  <a:lnTo>
                    <a:pt x="195" y="39"/>
                  </a:lnTo>
                  <a:lnTo>
                    <a:pt x="149" y="61"/>
                  </a:lnTo>
                  <a:lnTo>
                    <a:pt x="105" y="91"/>
                  </a:lnTo>
                  <a:lnTo>
                    <a:pt x="63" y="129"/>
                  </a:lnTo>
                  <a:lnTo>
                    <a:pt x="27" y="175"/>
                  </a:lnTo>
                  <a:lnTo>
                    <a:pt x="12" y="199"/>
                  </a:lnTo>
                  <a:lnTo>
                    <a:pt x="4" y="219"/>
                  </a:lnTo>
                  <a:lnTo>
                    <a:pt x="0" y="238"/>
                  </a:lnTo>
                  <a:lnTo>
                    <a:pt x="2" y="253"/>
                  </a:lnTo>
                  <a:lnTo>
                    <a:pt x="9" y="267"/>
                  </a:lnTo>
                  <a:lnTo>
                    <a:pt x="19" y="278"/>
                  </a:lnTo>
                  <a:lnTo>
                    <a:pt x="34" y="287"/>
                  </a:lnTo>
                  <a:lnTo>
                    <a:pt x="51" y="294"/>
                  </a:lnTo>
                  <a:lnTo>
                    <a:pt x="73" y="299"/>
                  </a:lnTo>
                  <a:lnTo>
                    <a:pt x="98" y="302"/>
                  </a:lnTo>
                  <a:lnTo>
                    <a:pt x="125" y="304"/>
                  </a:lnTo>
                  <a:lnTo>
                    <a:pt x="154" y="304"/>
                  </a:lnTo>
                  <a:lnTo>
                    <a:pt x="186" y="304"/>
                  </a:lnTo>
                  <a:lnTo>
                    <a:pt x="218" y="302"/>
                  </a:lnTo>
                  <a:lnTo>
                    <a:pt x="252" y="299"/>
                  </a:lnTo>
                  <a:lnTo>
                    <a:pt x="287" y="295"/>
                  </a:lnTo>
                  <a:lnTo>
                    <a:pt x="322" y="290"/>
                  </a:lnTo>
                  <a:lnTo>
                    <a:pt x="358" y="284"/>
                  </a:lnTo>
                  <a:lnTo>
                    <a:pt x="393" y="278"/>
                  </a:lnTo>
                  <a:lnTo>
                    <a:pt x="429" y="272"/>
                  </a:lnTo>
                  <a:lnTo>
                    <a:pt x="462" y="265"/>
                  </a:lnTo>
                  <a:lnTo>
                    <a:pt x="496" y="259"/>
                  </a:lnTo>
                  <a:lnTo>
                    <a:pt x="528" y="252"/>
                  </a:lnTo>
                  <a:lnTo>
                    <a:pt x="556" y="245"/>
                  </a:lnTo>
                  <a:lnTo>
                    <a:pt x="585" y="239"/>
                  </a:lnTo>
                  <a:lnTo>
                    <a:pt x="608" y="233"/>
                  </a:lnTo>
                  <a:lnTo>
                    <a:pt x="631" y="229"/>
                  </a:lnTo>
                  <a:lnTo>
                    <a:pt x="650" y="224"/>
                  </a:lnTo>
                  <a:lnTo>
                    <a:pt x="665" y="220"/>
                  </a:lnTo>
                  <a:lnTo>
                    <a:pt x="676" y="217"/>
                  </a:lnTo>
                  <a:lnTo>
                    <a:pt x="683" y="216"/>
                  </a:lnTo>
                  <a:lnTo>
                    <a:pt x="686" y="214"/>
                  </a:lnTo>
                  <a:lnTo>
                    <a:pt x="162" y="575"/>
                  </a:lnTo>
                  <a:lnTo>
                    <a:pt x="751" y="361"/>
                  </a:lnTo>
                  <a:lnTo>
                    <a:pt x="519" y="622"/>
                  </a:lnTo>
                  <a:lnTo>
                    <a:pt x="530" y="614"/>
                  </a:lnTo>
                  <a:lnTo>
                    <a:pt x="541" y="607"/>
                  </a:lnTo>
                  <a:lnTo>
                    <a:pt x="551" y="600"/>
                  </a:lnTo>
                  <a:lnTo>
                    <a:pt x="563" y="593"/>
                  </a:lnTo>
                  <a:lnTo>
                    <a:pt x="575" y="586"/>
                  </a:lnTo>
                  <a:lnTo>
                    <a:pt x="587" y="580"/>
                  </a:lnTo>
                  <a:lnTo>
                    <a:pt x="599" y="574"/>
                  </a:lnTo>
                  <a:lnTo>
                    <a:pt x="612" y="569"/>
                  </a:lnTo>
                  <a:lnTo>
                    <a:pt x="624" y="564"/>
                  </a:lnTo>
                  <a:lnTo>
                    <a:pt x="637" y="560"/>
                  </a:lnTo>
                  <a:lnTo>
                    <a:pt x="650" y="556"/>
                  </a:lnTo>
                  <a:lnTo>
                    <a:pt x="663" y="554"/>
                  </a:lnTo>
                  <a:lnTo>
                    <a:pt x="676" y="551"/>
                  </a:lnTo>
                  <a:lnTo>
                    <a:pt x="690" y="549"/>
                  </a:lnTo>
                  <a:lnTo>
                    <a:pt x="703" y="548"/>
                  </a:lnTo>
                  <a:lnTo>
                    <a:pt x="718" y="548"/>
                  </a:lnTo>
                  <a:lnTo>
                    <a:pt x="752" y="548"/>
                  </a:lnTo>
                  <a:lnTo>
                    <a:pt x="776" y="548"/>
                  </a:lnTo>
                  <a:lnTo>
                    <a:pt x="790" y="547"/>
                  </a:lnTo>
                  <a:lnTo>
                    <a:pt x="796" y="545"/>
                  </a:lnTo>
                  <a:lnTo>
                    <a:pt x="795" y="545"/>
                  </a:lnTo>
                  <a:lnTo>
                    <a:pt x="788" y="544"/>
                  </a:lnTo>
                  <a:lnTo>
                    <a:pt x="776" y="543"/>
                  </a:lnTo>
                  <a:lnTo>
                    <a:pt x="760" y="542"/>
                  </a:lnTo>
                  <a:lnTo>
                    <a:pt x="743" y="541"/>
                  </a:lnTo>
                  <a:lnTo>
                    <a:pt x="724" y="539"/>
                  </a:lnTo>
                  <a:lnTo>
                    <a:pt x="703" y="538"/>
                  </a:lnTo>
                  <a:lnTo>
                    <a:pt x="686" y="538"/>
                  </a:lnTo>
                  <a:lnTo>
                    <a:pt x="669" y="537"/>
                  </a:lnTo>
                  <a:lnTo>
                    <a:pt x="656" y="536"/>
                  </a:lnTo>
                  <a:lnTo>
                    <a:pt x="648" y="536"/>
                  </a:lnTo>
                  <a:lnTo>
                    <a:pt x="644" y="53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ghtseeing on the Run</a:t>
            </a:r>
            <a:endParaRPr b="0" lang="en-US" sz="4400" spc="-1" strike="noStrike">
              <a:solidFill>
                <a:srgbClr val="ffffff"/>
              </a:solidFill>
              <a:latin typeface="Times New Roman"/>
            </a:endParaRPr>
          </a:p>
        </p:txBody>
      </p:sp>
      <p:sp>
        <p:nvSpPr>
          <p:cNvPr id="63" name="PlaceHolder 2"/>
          <p:cNvSpPr>
            <a:spLocks noGrp="1"/>
          </p:cNvSpPr>
          <p:nvPr>
            <p:ph/>
          </p:nvPr>
        </p:nvSpPr>
        <p:spPr>
          <a:xfrm>
            <a:off x="533160" y="1752480"/>
            <a:ext cx="419076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K.T. and Nikolai ran through the city of Kiev to escape the authorities, K.T. remarked on the beautiful sights of the city. Nikolai added that there were many more places that he would like to show K.T.</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4" name="" descr="RUSSIA46"/>
          <p:cNvPicPr/>
          <p:nvPr/>
        </p:nvPicPr>
        <p:blipFill>
          <a:blip r:embed="rId2"/>
          <a:stretch/>
        </p:blipFill>
        <p:spPr>
          <a:xfrm>
            <a:off x="4876920" y="1828800"/>
            <a:ext cx="3504960" cy="4495680"/>
          </a:xfrm>
          <a:prstGeom prst="rect">
            <a:avLst/>
          </a:prstGeom>
          <a:ln w="88920">
            <a:solidFill>
              <a:srgbClr val="c96464"/>
            </a:solidFill>
            <a:miter/>
          </a:ln>
        </p:spPr>
      </p:pic>
      <p:pic>
        <p:nvPicPr>
          <p:cNvPr id="65" name="" descr=""/>
          <p:cNvPicPr/>
          <p:nvPr/>
        </p:nvPicPr>
        <p:blipFill>
          <a:blip r:embed="rId3"/>
          <a:stretch/>
        </p:blipFill>
        <p:spPr>
          <a:xfrm>
            <a:off x="0" y="0"/>
            <a:ext cx="219240" cy="685800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2.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cribing Landmarks</a:t>
            </a:r>
            <a:endParaRPr b="0" lang="en-US" sz="4400" spc="-1" strike="noStrike">
              <a:solidFill>
                <a:srgbClr val="ffffff"/>
              </a:solidFill>
              <a:latin typeface="Times New Roman"/>
            </a:endParaRPr>
          </a:p>
        </p:txBody>
      </p:sp>
      <p:sp>
        <p:nvSpPr>
          <p:cNvPr id="68" name="PlaceHolder 2"/>
          <p:cNvSpPr>
            <a:spLocks noGrp="1"/>
          </p:cNvSpPr>
          <p:nvPr>
            <p:ph/>
          </p:nvPr>
        </p:nvSpPr>
        <p:spPr>
          <a:xfrm>
            <a:off x="533520" y="1676520"/>
            <a:ext cx="2743200" cy="411480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read this part    of the story and describe one place that K.T. and Nikolai actually saw and one place that Nikolai wanted to show K.T.</a:t>
            </a:r>
            <a:endParaRPr b="0" lang="en-US" sz="2400" spc="-1" strike="noStrike">
              <a:solidFill>
                <a:srgbClr val="ffffff"/>
              </a:solidFill>
              <a:latin typeface="Times New Roman"/>
            </a:endParaRPr>
          </a:p>
          <a:p>
            <a:pPr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3886200" y="1676520"/>
            <a:ext cx="5029200" cy="4800600"/>
          </a:xfrm>
          <a:prstGeom prst="rect">
            <a:avLst/>
          </a:prstGeom>
          <a:blipFill rotWithShape="0">
            <a:blip r:embed="rId2"/>
            <a:srcRect/>
            <a:tile tx="0" ty="0" sx="100000" sy="100000" algn="ctr"/>
          </a:blip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0099"/>
                </a:solidFill>
                <a:latin typeface="Times New Roman"/>
              </a:rPr>
              <a:t>We passed Hagia Sophia, anci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astern Orthodox church that is now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museum.  U.S.S.R.-led government too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many religious buildings and made the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into museums. The Boulevard you saw was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Kheschatyk, central street in Old Kiev.”</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a:t>
            </a:r>
            <a:r>
              <a:rPr b="0" lang="en-US" sz="2000" spc="-1" strike="noStrike">
                <a:solidFill>
                  <a:srgbClr val="000099"/>
                </a:solidFill>
                <a:latin typeface="Times New Roman"/>
              </a:rPr>
              <a:t>Our soccer stadium – it can hold ov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000 people. Statue of our national poe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aras Shevchenko, who believed in fre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a:t>
            </a:r>
            <a:r>
              <a:rPr b="0" lang="en-US" sz="2000" spc="-1" strike="noStrike">
                <a:solidFill>
                  <a:srgbClr val="000099"/>
                </a:solidFill>
                <a:latin typeface="Times New Roman"/>
              </a:rPr>
              <a:t>Ukraine and in our unique cultu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ndriivska Church, so ancient, and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Viking Founders monument built jus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our years ago.  ” </a:t>
            </a:r>
            <a:endParaRPr b="0" lang="en-US" sz="2000" spc="-1" strike="noStrike">
              <a:solidFill>
                <a:srgbClr val="000000"/>
              </a:solidFill>
              <a:latin typeface="Arial"/>
            </a:endParaRPr>
          </a:p>
        </p:txBody>
      </p:sp>
      <p:sp>
        <p:nvSpPr>
          <p:cNvPr id="70" name=""/>
          <p:cNvSpPr/>
          <p:nvPr/>
        </p:nvSpPr>
        <p:spPr>
          <a:xfrm>
            <a:off x="152280" y="5562720"/>
            <a:ext cx="350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here for more information on descriptive writing.</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arn More About Kiev</a:t>
            </a:r>
            <a:endParaRPr b="0" lang="en-US" sz="4400" spc="-1" strike="noStrike">
              <a:solidFill>
                <a:srgbClr val="ffffff"/>
              </a:solidFill>
              <a:latin typeface="Times New Roman"/>
            </a:endParaRPr>
          </a:p>
        </p:txBody>
      </p:sp>
      <p:sp>
        <p:nvSpPr>
          <p:cNvPr id="72" name="PlaceHolder 2"/>
          <p:cNvSpPr>
            <a:spLocks noGrp="1"/>
          </p:cNvSpPr>
          <p:nvPr>
            <p:ph/>
          </p:nvPr>
        </p:nvSpPr>
        <p:spPr>
          <a:xfrm>
            <a:off x="4800240" y="137160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city of Kiev, including the places you just mentioned. </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 one-page travel brochure that informs and persuades a prospective traveler to visit Kiev.</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drawing of at least one Kiev attraction in your brochure.</a:t>
            </a:r>
            <a:r>
              <a:rPr b="0" lang="en-US" sz="2400" spc="-1" strike="noStrike">
                <a:solidFill>
                  <a:srgbClr val="9933ff"/>
                </a:solidFill>
                <a:latin typeface="Times New Roman"/>
              </a:rPr>
              <a:t> </a:t>
            </a:r>
            <a:endParaRPr b="0" lang="en-US" sz="2400" spc="-1" strike="noStrike">
              <a:solidFill>
                <a:srgbClr val="ffffff"/>
              </a:solidFill>
              <a:latin typeface="Times New Roman"/>
            </a:endParaRPr>
          </a:p>
        </p:txBody>
      </p:sp>
      <p:pic>
        <p:nvPicPr>
          <p:cNvPr id="73" name="" descr=""/>
          <p:cNvPicPr/>
          <p:nvPr/>
        </p:nvPicPr>
        <p:blipFill>
          <a:blip r:embed="rId2"/>
          <a:stretch/>
        </p:blipFill>
        <p:spPr>
          <a:xfrm>
            <a:off x="698400" y="1371600"/>
            <a:ext cx="3264120" cy="5029200"/>
          </a:xfrm>
          <a:prstGeom prst="rect">
            <a:avLst/>
          </a:prstGeom>
          <a:ln w="88920">
            <a:solidFill>
              <a:srgbClr val="c96464"/>
            </a:solidFill>
            <a:miter/>
          </a:ln>
        </p:spPr>
      </p:pic>
      <p:pic>
        <p:nvPicPr>
          <p:cNvPr id="74" name="" descr=""/>
          <p:cNvPicPr/>
          <p:nvPr/>
        </p:nvPicPr>
        <p:blipFill>
          <a:blip r:embed="rId3"/>
          <a:stretch/>
        </p:blipFill>
        <p:spPr>
          <a:xfrm>
            <a:off x="0" y="0"/>
            <a:ext cx="219240" cy="6858000"/>
          </a:xfrm>
          <a:prstGeom prst="rect">
            <a:avLst/>
          </a:prstGeom>
          <a:ln w="0">
            <a:noFill/>
          </a:ln>
        </p:spPr>
      </p:pic>
      <p:sp>
        <p:nvSpPr>
          <p:cNvPr id="75" name=""/>
          <p:cNvSpPr/>
          <p:nvPr/>
        </p:nvSpPr>
        <p:spPr>
          <a:xfrm>
            <a:off x="4720680" y="6324480"/>
            <a:ext cx="417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here for help with Persuasive Writing</a:t>
            </a:r>
            <a:endParaRPr b="0" lang="en-US" sz="1800" spc="-1" strike="noStrike">
              <a:solidFill>
                <a:srgbClr val="000000"/>
              </a:solidFill>
              <a:latin typeface="Arial"/>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3.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7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a:solidFill>
                  <a:srgbClr val="ff0000"/>
                </a:solidFill>
                <a:latin typeface="Times New Roman"/>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81" name=""/>
          <p:cNvGrpSpPr/>
          <p:nvPr/>
        </p:nvGrpSpPr>
        <p:grpSpPr>
          <a:xfrm>
            <a:off x="380880" y="1981080"/>
            <a:ext cx="8570880" cy="4517640"/>
            <a:chOff x="380880" y="1981080"/>
            <a:chExt cx="8570880" cy="4517640"/>
          </a:xfrm>
        </p:grpSpPr>
        <p:pic>
          <p:nvPicPr>
            <p:cNvPr id="82" name="" descr=""/>
            <p:cNvPicPr/>
            <p:nvPr/>
          </p:nvPicPr>
          <p:blipFill>
            <a:blip r:embed="rId2"/>
            <a:stretch/>
          </p:blipFill>
          <p:spPr>
            <a:xfrm>
              <a:off x="380880" y="1986120"/>
              <a:ext cx="1371600" cy="1371600"/>
            </a:xfrm>
            <a:prstGeom prst="rect">
              <a:avLst/>
            </a:prstGeom>
            <a:ln w="0">
              <a:noFill/>
            </a:ln>
          </p:spPr>
        </p:pic>
        <p:pic>
          <p:nvPicPr>
            <p:cNvPr id="83" name="" descr=""/>
            <p:cNvPicPr/>
            <p:nvPr/>
          </p:nvPicPr>
          <p:blipFill>
            <a:blip r:embed="rId3"/>
            <a:stretch/>
          </p:blipFill>
          <p:spPr>
            <a:xfrm>
              <a:off x="380880" y="3510000"/>
              <a:ext cx="1371600" cy="1382760"/>
            </a:xfrm>
            <a:prstGeom prst="rect">
              <a:avLst/>
            </a:prstGeom>
            <a:ln w="0">
              <a:noFill/>
            </a:ln>
          </p:spPr>
        </p:pic>
        <p:pic>
          <p:nvPicPr>
            <p:cNvPr id="84" name="" descr=""/>
            <p:cNvPicPr/>
            <p:nvPr/>
          </p:nvPicPr>
          <p:blipFill>
            <a:blip r:embed="rId4"/>
            <a:stretch/>
          </p:blipFill>
          <p:spPr>
            <a:xfrm>
              <a:off x="380880" y="5033880"/>
              <a:ext cx="1359000" cy="1371600"/>
            </a:xfrm>
            <a:prstGeom prst="rect">
              <a:avLst/>
            </a:prstGeom>
            <a:ln w="0">
              <a:noFill/>
            </a:ln>
          </p:spPr>
        </p:pic>
        <p:pic>
          <p:nvPicPr>
            <p:cNvPr id="85" name="" descr=""/>
            <p:cNvPicPr/>
            <p:nvPr/>
          </p:nvPicPr>
          <p:blipFill>
            <a:blip r:embed="rId5"/>
            <a:stretch/>
          </p:blipFill>
          <p:spPr>
            <a:xfrm>
              <a:off x="4724280" y="3510000"/>
              <a:ext cx="1371600" cy="1382760"/>
            </a:xfrm>
            <a:prstGeom prst="rect">
              <a:avLst/>
            </a:prstGeom>
            <a:ln w="0">
              <a:noFill/>
            </a:ln>
          </p:spPr>
        </p:pic>
        <p:pic>
          <p:nvPicPr>
            <p:cNvPr id="86" name="" descr=""/>
            <p:cNvPicPr/>
            <p:nvPr/>
          </p:nvPicPr>
          <p:blipFill>
            <a:blip r:embed="rId6"/>
            <a:stretch/>
          </p:blipFill>
          <p:spPr>
            <a:xfrm>
              <a:off x="4724280" y="5029200"/>
              <a:ext cx="1371600" cy="1371600"/>
            </a:xfrm>
            <a:prstGeom prst="rect">
              <a:avLst/>
            </a:prstGeom>
            <a:ln w="0">
              <a:noFill/>
            </a:ln>
          </p:spPr>
        </p:pic>
        <p:grpSp>
          <p:nvGrpSpPr>
            <p:cNvPr id="87" name=""/>
            <p:cNvGrpSpPr/>
            <p:nvPr/>
          </p:nvGrpSpPr>
          <p:grpSpPr>
            <a:xfrm>
              <a:off x="4643280" y="1981080"/>
              <a:ext cx="1546560" cy="1371600"/>
              <a:chOff x="4643280" y="1981080"/>
              <a:chExt cx="1546560" cy="1371600"/>
            </a:xfrm>
          </p:grpSpPr>
          <p:sp>
            <p:nvSpPr>
              <p:cNvPr id="8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7"/>
              <a:stretch/>
            </p:blipFill>
            <p:spPr>
              <a:xfrm>
                <a:off x="4643280" y="2170080"/>
                <a:ext cx="1546560" cy="1012680"/>
              </a:xfrm>
              <a:prstGeom prst="rect">
                <a:avLst/>
              </a:prstGeom>
              <a:ln w="0">
                <a:noFill/>
              </a:ln>
            </p:spPr>
          </p:pic>
        </p:grpSp>
        <p:sp>
          <p:nvSpPr>
            <p:cNvPr id="90"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37:07Z</dcterms:created>
  <dc:creator>Texas A&amp;M Veterinary Medicine</dc:creator>
  <dc:description/>
  <dc:language>en-US</dc:language>
  <cp:lastModifiedBy>Jeremiah McNichols</cp:lastModifiedBy>
  <dcterms:modified xsi:type="dcterms:W3CDTF">2008-10-14T13:53:41Z</dcterms:modified>
  <cp:revision>1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a03000000000001023620</vt:lpwstr>
  </property>
</Properties>
</file>