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F00F-C43E-4B46-8474-E480F57E9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historical origins of democratic forms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 Identify and differentiate among varying economies in selecte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Explain the impact of scarcity on trade and economic inter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answers inclu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ania, Hungary, Slovakia, Poland, Belarus and 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ore, coal, manganese, natural gas,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, maize, buckwheat, red and green vegetables, fruit, melons, and b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and water pollution, Deforestation, Radiation contamination, Lack of drinkable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A1E-DF8B-4F7E-962A-9C773C3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E80-10B0-425E-88D7-7E23D1CF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102-9180-4FDB-99D5-77422F7B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388-6AB3-49C9-9FBF-4FB6D84E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A56-E915-4EBC-8941-39869AB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C63-C637-420F-B7EB-A461A1F0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00D-2D89-4DF8-A77A-36E3CE3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76B-1284-4A6A-9F32-D3317E0F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5D0-24B9-49A0-88D2-7EDCDB36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700-9547-481F-9DF1-32ED7DD2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D80-6C82-4E3C-ACD4-998ABF7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87F-1C96-4DE2-8D92-D41081B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BE3-3DE5-4217-BC20-70C0DED9F1F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0680" y="1530360"/>
            <a:ext cx="819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Ukraine through its economy, agricultural industry, and environmenta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932360"/>
            <a:ext cx="82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located in Eastern Europe and is bordered by the Black Sea, Romania, Hungary, Slovakia, Poland, Belarus and Russi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49560" y="1639800"/>
            <a:ext cx="4809960" cy="30877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49356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is the Ukr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909960"/>
            <a:ext cx="799776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 1991, Ukraine was part of the former U.S.S.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Ukraine is a republic and has its own Constitu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ians celebrate their independence from the former U.S.S.R. on August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7360" y="1555920"/>
            <a:ext cx="3672000" cy="226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8840" y="51264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the Ukr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4119480"/>
            <a:ext cx="823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e is rich in natural resources (iron ore, coal, manganese, natural gas, mercur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se resources are refined loc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l, electric power, ferrous and nonferrous metals, machinery and transport equipment, and chemical production are the major industries in Ukraine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844720" y="1673280"/>
            <a:ext cx="3402000" cy="22716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454824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 land in Ukraine is fertile (it can be farme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ians grow wheat, maize, buckwheat, red and green vegetables, fruit, melons, and berri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e is also known for the production of suga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94080" y="1697040"/>
            <a:ext cx="4116240" cy="27226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an industrial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the larger industrial cities are located along the Dneiper River, which flows through the center of the country.  As a result, there are quite a few industrial plants located on or near the Dnei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695600"/>
            <a:ext cx="4057560" cy="25603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36760" y="1533600"/>
            <a:ext cx="3662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krainian industries often produce a great amount of pollu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ay, the current environmental issues in Ukraine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water pol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drinkabl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3640" y="1704960"/>
            <a:ext cx="3978360" cy="294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527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year did Ukraine become independ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 2 countries that border Ukra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natural resources are found in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crops do the Ukrainia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urrent environmental concerns in Ukraine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28Z</dcterms:created>
  <dc:creator>Jeremiah McNichols</dc:creator>
  <dc:description/>
  <dc:language>en-US</dc:language>
  <cp:lastModifiedBy>Jeremiah McNichols</cp:lastModifiedBy>
  <dcterms:modified xsi:type="dcterms:W3CDTF">2008-10-14T14:02:1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4000000000001023620</vt:lpwstr>
  </property>
</Properties>
</file>