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BBA00-4E4E-4BB3-A241-CE687A9C28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30CE-0B6C-4B86-A435-19C7C968E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899A-6A8A-4667-A517-566713877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2E90-4AE9-406B-AD2D-D53D7AC66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037C-6BBD-434E-9724-F9436DA1E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19BD-6EF6-40EC-89C3-2C08F3B93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B403-ACA8-409C-9772-FE94757F3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C19B-1B53-49A9-9D01-D8074F399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F976-C82B-4487-AE09-EA8260311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CE22-E64B-4CA1-8277-0299C97A3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4D4D-C7AC-46A6-99C4-9907F1E5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09DB-087F-468A-8B0B-68DC1817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3049-DA91-48FA-B520-2DBCCB78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88660-5373-44C2-B1CF-48E0F437B86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6672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66720" y="235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Nyet, no.  We’re in Pripyat, a town three kilometers from Chernobyl.  My home is over there,’ he said pointing to a plain white house across the street.  ‘I found some food left inside, but they say not to eat it.  It’s been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irradiated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posed to radiat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heating device for the circulation of steam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mmunication of signal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6720" y="1598760"/>
            <a:ext cx="739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ad the following passages from the story and choose the correct meaning of each underlined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35200" y="461484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35200" y="532764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33400" y="60469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K.T. turned to the old fisherman.  ‘Thank you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May I take the frog with me so my friends can see it?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old man nodded in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bewilderm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handing the bucket to K.T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greeme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ate of confus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ate of fright or terro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486400" y="3505320"/>
            <a:ext cx="2521080" cy="24368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36640" y="400536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36640" y="44910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36640" y="49528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848720" y="228600"/>
            <a:ext cx="990360" cy="380880"/>
          </a:xfrm>
          <a:custGeom>
            <a:avLst/>
            <a:gdLst>
              <a:gd name="textAreaLeft" fmla="*/ 24480 w 990360"/>
              <a:gd name="textAreaRight" fmla="*/ 965880 w 9903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31" h="21600">
                <a:moveTo>
                  <a:pt x="0" y="0"/>
                </a:moveTo>
                <a:lnTo>
                  <a:pt x="56131" y="0"/>
                </a:lnTo>
                <a:lnTo>
                  <a:pt x="56131" y="21600"/>
                </a:lnTo>
                <a:lnTo>
                  <a:pt x="0" y="21600"/>
                </a:lnTo>
                <a:close/>
              </a:path>
              <a:path fill="lightenLess" w="56131" h="21600">
                <a:moveTo>
                  <a:pt x="0" y="0"/>
                </a:moveTo>
                <a:lnTo>
                  <a:pt x="56131" y="0"/>
                </a:lnTo>
                <a:lnTo>
                  <a:pt x="54732" y="1400"/>
                </a:lnTo>
                <a:lnTo>
                  <a:pt x="1400" y="1400"/>
                </a:lnTo>
                <a:close/>
              </a:path>
              <a:path fill="darken" w="56131" h="21600">
                <a:moveTo>
                  <a:pt x="56131" y="0"/>
                </a:moveTo>
                <a:lnTo>
                  <a:pt x="56131" y="21600"/>
                </a:lnTo>
                <a:lnTo>
                  <a:pt x="54732" y="20200"/>
                </a:lnTo>
                <a:lnTo>
                  <a:pt x="54732" y="1400"/>
                </a:lnTo>
                <a:close/>
              </a:path>
              <a:path fill="darkenLess" w="56131" h="21600">
                <a:moveTo>
                  <a:pt x="561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32" y="20200"/>
                </a:lnTo>
                <a:close/>
              </a:path>
              <a:path fill="lighten" w="561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SC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6672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The truck rocked gently through the early morning fog while its big diesel engine droned along with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myriad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trucks and machinery converging on Chernobyl for another day of ceaseless clean up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feminine given na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very large numbe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omething of great siz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141960" y="3429000"/>
            <a:ext cx="2017800" cy="2514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736640" y="397656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36640" y="46339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36640" y="520524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714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K.T. blinked in the bright morning sunlight as the door of the transport opened and Nikolai helped her down the cobblestone street. 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Throngs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of people walked the wide boulevard beneath tall trees in full bloom with white fragrant blossoms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mall suit worn for sunbath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great number of things crowded togethe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number of different types of thing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30520" y="466884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30520" y="525636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28720" y="410688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1600" y="1999800"/>
            <a:ext cx="8001000" cy="33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This is called Pecherska Layra, the Monastery of the Caves.  He would bring me down here and tell me about all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martyrs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nd holy men.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omeone who dies or suffers for his or her belief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peasa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omeone who performs in a circu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36640" y="364320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36640" y="41101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36640" y="45720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6672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As the ferry backed away from the dock, K.T. could see the dark slate-colored water that edged the banks in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tagna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pools, oily and slick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ul and offensive smell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arse and abrasiv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ot flowing or runn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613560" y="3352680"/>
            <a:ext cx="1616040" cy="19116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736640" y="361476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736640" y="410040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36640" y="456264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Take off scarf.  We can leave it as a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ecoy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’ answered Nikolai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You are serious!  OK, OK.  I’ll jump.’  K.T. tied the scarf to the rail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long strip of material worn by a woma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object used to attract or lur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present or reward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36640" y="402444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36640" y="451008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36640" y="497196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66720" y="1943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This river, Dnieper, is third longest in all of Europe.  It divides Ukraine into east and west.  And it has become our central sewer.’ ”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s if to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underscor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Nikolai’s words, the barge passed near some pipes that fed from a huge plant directly into the water on the outskirts of the city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emphasize or st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make a point or points in a game or contes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move beneath another object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36640" y="474516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36640" y="52308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36640" y="56926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K.T. and Nikolai shared the water bottle he had bought on the ferry.  It would have to last through the long,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ultry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journey.  Already their dark clothes were hot to the touch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t and mois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ausing fright or harm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icult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28720" y="44467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28720" y="49086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28720" y="396072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Do not worry, K.T., you will not have to swim,’ Nikolai said as he removed his shoes and socks tying the laces together and hanging them over his shoulders.  ‘Just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wade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go beyond in amou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move rapidl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walk in or through wate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36640" y="393876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36640" y="44244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36640" y="488628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1T19:35:23Z</dcterms:created>
  <dc:creator>Media Resources</dc:creator>
  <dc:description/>
  <dc:language>en-US</dc:language>
  <cp:lastModifiedBy>Texas A&amp;M Veterinary Medicine</cp:lastModifiedBy>
  <cp:lastPrinted>2002-05-23T02:09:08Z</cp:lastPrinted>
  <dcterms:modified xsi:type="dcterms:W3CDTF">2005-05-17T17:20:05Z</dcterms:modified>
  <cp:revision>31</cp:revision>
  <dc:subject/>
  <dc:title>Vocabulary Challenge</dc:title>
</cp:coreProperties>
</file>