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CB11-DCF7-4E92-829B-6FB957202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F8CF-B9F3-4FA9-BADB-815424382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689D-71D9-4583-BBC6-AE74911C4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16A4-A042-4F45-BAC2-CFB0A53E7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1F75-E277-4406-B2FB-E498916E9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A659-6099-4ED1-9D58-545313BBB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F1D7-E9DE-4475-B941-F36BE9C29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C5FB-40C2-40CE-82BE-DCAD2C2DB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3373-D036-49A2-986E-5F00BC5AD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0A75-0573-4722-ACF2-FF02BC3EC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E2C4-4552-4025-B508-DEB71A696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FFA6-30CA-4E4D-AD60-CD1313D16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80A5-1181-4BFA-A6D6-AB0991F159D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247E-B16C-4615-ADD9-50721DBA767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8C4F-0633-4B3A-85F5-7F9EF040923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7-28T15:13:04Z</dcterms:modified>
  <cp:revision>207</cp:revision>
  <dc:subject/>
  <dc:title>VTPP 423 - PHYSIOLOGY</dc:title>
</cp:coreProperties>
</file>