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F9212-D3B7-4176-AAAB-6745CE998D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C871B-2E89-49DF-9CC0-F509B858C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F14CD-B754-49E1-A800-E4B148D95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3205A-E011-46DC-AF65-7844E3D8B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822EB-BDD7-4DEE-90DC-EE8B6549B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26E9C-012D-4E7F-99C3-E3B323C81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E1194-5DAB-4E36-AC5C-18E85F722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6F29A-47FE-4829-86B6-21A7C577A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75A9C-BD63-4F3F-B859-2B19F1E26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98C7A-C24C-4214-9DB4-30A1E5C5F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F0320-3BEF-4F0A-B1CB-E3BD9A6E7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F9170-E3C7-4C92-94A0-8C6CCC81F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CA6E4-71FB-4604-9BA9-18F87113A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CDD50-96A3-4089-922A-C6234C35E32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Texas A&amp;M Veterinary Medicine</cp:lastModifiedBy>
  <dcterms:modified xsi:type="dcterms:W3CDTF">2005-05-06T15:44:42Z</dcterms:modified>
  <cp:revision>11</cp:revision>
  <dc:subject/>
  <dc:title>Design An Experi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1000000000001023620</vt:lpwstr>
  </property>
</Properties>
</file>