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C2091-8CA3-4FFD-8E4E-AEB16FE87B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952560" y="0"/>
            <a:ext cx="5010120" cy="375912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0" y="3860640"/>
            <a:ext cx="6858000" cy="5283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Social Studies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2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social studies terminology correct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22 (A), 8.31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9D243-F2E7-40B9-9A6F-1296A1BEE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10FED-5D7B-47C9-96FB-394DF77AE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140FD-EB77-41CB-B210-990570CF1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DDB93-B26A-4010-BA02-AEDC09C1E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CDC45-1E45-428F-A9FB-669907A9D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03347-6414-4E90-9118-CB030ACDF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624BE-524E-439E-A4F5-65667A934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1CA92-DD30-457B-B83A-F98AD695A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F7ECE-96C4-4838-9B30-EA9787122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7EEFF-F112-4F8B-BFFD-BC4F0BCFD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0C148-1ED6-415E-BE9D-BCEEA0B42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B0A14-8513-4FED-A7DA-5E8F29B89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42532-45D4-4210-9004-0CB5499B6786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304920"/>
            <a:ext cx="77709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What’s the difference between weather and climate?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7240" y="1904760"/>
            <a:ext cx="7770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Climate is the average condition of the atmosphere (like temperature and precipitation) over a long period of time.  It is the average of weather conditions in a place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or example, over the past 40 years, in February, New Jersey has had an average temperature of 32 º F and an average precipitation of 2.8 inches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5T19:49:56Z</dcterms:created>
  <dc:creator>ITMD</dc:creator>
  <dc:description/>
  <dc:language>en-US</dc:language>
  <cp:lastModifiedBy>ljlab</cp:lastModifiedBy>
  <dcterms:modified xsi:type="dcterms:W3CDTF">2003-09-11T17:22:49Z</dcterms:modified>
  <cp:revision>9</cp:revision>
  <dc:subject/>
  <dc:title>What’s the difference between weather and climate?</dc:title>
</cp:coreProperties>
</file>