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19.gif" ContentType="image/gif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C3F5-4F68-4FFA-97E0-2FF0CFCC1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F16-FB9C-4BBB-A7A6-B31435A4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3DF-DAF4-40E2-97CD-198E724B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9B9-95A8-47CF-ADBF-A2CEFC08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CC2-BA17-4354-AB9C-95B55C9A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C1F6-709A-4869-8A10-41D73265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FCE4-166E-4107-A794-AFCA07D2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F48A-1363-4CDF-857F-4295E5CC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C569-3A29-4C95-80C5-A42B2F4A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D7CF-A652-491F-98EF-6A23435C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30A8-7A32-41B9-A7BC-4D38155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3EB8-7B13-430A-BC5A-6D14EC0E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5ED-A267-4175-93AE-72792CF2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E980-CD0A-4A9B-8927-7DFEBD15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F956-363A-4A77-B1A6-ED8CC471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CEA5-BC5F-41BD-85F2-7CBCA47D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4D59-EEAA-4100-8ABA-17E4386A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C0B8-2789-4BD1-8D76-860BBD0F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CD1-5294-4D42-B944-DC84B4E8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082-36EB-4CDA-B2E1-FA94E83B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F63-95ED-4F27-A43C-8153B858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EAF-FC80-461C-A0E2-75DA2117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E28-1109-4C49-B920-F917CCE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D6F-D8D9-49D9-B87F-A2008AB7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539-3FED-4384-844E-3BC3BA9D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4CDB-2329-4722-A75A-01E1103FA3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A5B0-8187-4371-A956-6B17317F2E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peer.tamu.edu/curriculum_modules/Cell_Biology/CellBiol/Proteins/whatweknow4.htm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Globe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3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smoker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876920" y="1512720"/>
            <a:ext cx="4057560" cy="4125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CigsToBrain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SmokeInLungs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j0178822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NoSmoking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Airplane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Money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Playing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vhardy</cp:lastModifiedBy>
  <dcterms:modified xsi:type="dcterms:W3CDTF">2003-02-06T05:01:02Z</dcterms:modified>
  <cp:revision>28</cp:revision>
  <dc:subject/>
  <dc:title>Tobacco and the Cellular Mechanisms of Nicotine Addiction</dc:title>
</cp:coreProperties>
</file>