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7964-05EC-43CB-95D7-4696D51B1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784D-35E4-405A-8621-C6A0785EA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9308-137B-41F6-A50E-8F942DA6B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64FF-E04C-4D06-93B6-A8865066A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8345-00C4-4B2D-AADB-F90ADEF11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6EB5-833C-46A7-9303-EB69DD6DA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0542-F6CD-445B-B19B-8A9B64CD6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4E97-90C1-421F-8E0A-B404D397C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B52A-F8F3-4738-B34D-76A9E5161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AAA3-FDBF-400E-89F2-A6CA7F712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55E1-2696-485D-9741-36629FF6E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F0B5-3709-4805-8417-CE145FA4B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9B2-8594-4F39-A816-4A926968B98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Rectangle2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DDE7-9842-4F18-AF6B-52FF8850B5A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6:54Z</dcterms:modified>
  <cp:revision>205</cp:revision>
  <dc:subject/>
  <dc:title>VTPP 423 - PHYSIOLOGY</dc:title>
</cp:coreProperties>
</file>