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A458-5FC1-4DCE-A190-643EC0FFC3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FF1A8-7B9C-4F11-902A-D88553F52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F454A-60EA-418C-B817-1BE5FABDE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59297-C371-43A6-A43D-CB09E9878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A6F92-B570-4EE1-A10A-CB16937C7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F32F2-BD90-434C-99C2-97254B5DC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8777C-B5A2-447D-A3A9-285E1BA68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DD031-50CB-4775-9C93-4C71E3C49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EB570-3F31-4163-A1F2-BE7460130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AB648-D778-43B1-89C7-6FB0539D8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DC004-9BAE-42C8-A875-B88249524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01DCA-B6F4-491E-BBFC-E41D9D672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2CBC2-D7AB-45BC-B783-BCBF103DB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4A12E-922C-4051-AFA8-B91F8DA1F71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vhardy</cp:lastModifiedBy>
  <dcterms:modified xsi:type="dcterms:W3CDTF">2003-05-28T22:05:18Z</dcterms:modified>
  <cp:revision>105</cp:revision>
  <dc:subject/>
  <dc:title>Locating Places</dc:title>
</cp:coreProperties>
</file>