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1A3A0-5517-4A46-80FA-25EF495E08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A, B, C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D0A5-AE7B-4400-8B04-CD011BAA1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D565-4D13-43BE-9FC4-CA22E54BB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74F9-CB36-45B1-9D21-CD686C7C4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90F3-34D5-440D-94D6-9441EDFB9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C109-AED0-444A-8F0C-938D1117D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77B4-5B77-40A9-9F6D-F09A3A414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D31D-C59B-47C8-B39A-54DC69A40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F59E-7ACF-4CF9-BDE4-7016DB1BA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D172-8008-4B2E-9191-5F554B56C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6215-F1FA-475C-8788-07C365B2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5B03-63EC-4EA1-B4DB-3DBD3816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9CAC-B9E1-435C-8C9E-83F70EC67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A4DDE-B451-4DAA-862F-58DEF6A9464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Vocabulary Challenge Quiz</a:t>
            </a:r>
            <a:endParaRPr b="0" lang="en-US" sz="7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12920" y="3885840"/>
            <a:ext cx="8307360" cy="10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Read each passage carefully and then indicate the meaning of each underlined word by clicking A, B, or C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Do not worry, K.T., you will not have to swim,’ Nikolai said as he removed his shoes and socks tying the laces together and hanging them over his shoulders.  ‘Just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wade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go beyond in amou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move rapidl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walk in or through wate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635120" y="488304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639800" y="400860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639800" y="444672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K.T. turned to the old fisherman.  ‘Thank you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May I take the frog with me so my friends can see it?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old man nodded in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bewilderm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handing the bucket to K.T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greeme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ate of confus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ate of fright or terro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486400" y="3505320"/>
            <a:ext cx="2521080" cy="24368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635120" y="4987800"/>
            <a:ext cx="311040" cy="384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1639800" y="40654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1639800" y="45226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176640" y="280044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091040" y="4576680"/>
            <a:ext cx="96192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6672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66720" y="1924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Nyet, no.  We’re in Pripyat, a town three kilometers from Chernobyl.  My home is over there,’ he said pointing to a plain white house across the street.  ‘I found some food left inside, but they say not to eat it.  It’s been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irradiated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posed to radiatio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heating device for the circulation of steam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mmunication of signal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635120" y="52545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639800" y="378936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639800" y="45514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6672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The truck rocked gently through the early morning fog while its big diesel engine droned along with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myriad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trucks and machinery converging on Chernobyl for another day of ceaseless clean up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feminine given na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very large numbe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omething of great siz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141960" y="3429000"/>
            <a:ext cx="2017800" cy="2514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8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635120" y="52545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1639800" y="39988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1639800" y="46180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714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K.T. blinked in the bright morning sunlight as the door of the transport opened and Nikolai helped her down the cobblestone street. 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Throngs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of people walked the wide boulevard beneath tall trees in full bloom with white fragrant blossoms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mall suit worn for sunbath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great number of things crowded together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number of different types of thing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635120" y="52545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639800" y="41608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1639800" y="470376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1600" y="2000160"/>
            <a:ext cx="8001000" cy="37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This is called Pecherska Layra, the Monastery of the Caves.  He would bring me down here and tell me about all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martyrs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nd holy men.’ 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omeone who dies or suffers for his or her belief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peasan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2532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omeone who performs in a circu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635120" y="495936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1639800" y="368460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1639800" y="433224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6672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As the ferry backed away from the dock, K.T. could see the dark slate-colored water that edged the banks in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tagna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pools, oily and slick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ul and offensive smell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arse and abrasiv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ot flowing or running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613560" y="3352680"/>
            <a:ext cx="1616040" cy="19116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701720" y="4987800"/>
            <a:ext cx="311400" cy="384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706400" y="360828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1706400" y="431316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Take off scarf.  We can leave it as a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ecoy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’ answered Nikolai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You are serious!  OK, OK.  I’ll jump.’  K.T. tied the scarf to the rail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long strip of material worn by a woman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object used to attract or lur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1028880"/>
                <a:tab algn="l" pos="1542960"/>
                <a:tab algn="l" pos="205740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present or reward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635120" y="497844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639800" y="405612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639800" y="452268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66720" y="1943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 ‘This river, Dnieper, is third longest in all of Europe.  It divides Ukraine into east and west.  And it has become our central sewer.’ ”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s if to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underscor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Nikolai’s words, the barge passed near some pipes that fed from a huge plant directly into the water on the outskirts of the city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emphasize or stres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make a point or points in a game or contes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move beneath another object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635120" y="5664240"/>
            <a:ext cx="311040" cy="384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639800" y="4732200"/>
            <a:ext cx="311400" cy="384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639800" y="519912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66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“K.T. and Nikolai shared the water bottle he had bought on the ferry.  It would have to last through the long,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ultry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journey.  Already their dark clothes were hot to the touch.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t and moist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ausing fright or harm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366920"/>
                <a:tab algn="l" pos="1822320"/>
                <a:tab algn="l" pos="2278080"/>
                <a:tab algn="l" pos="2733840"/>
                <a:tab algn="l" pos="3189240"/>
                <a:tab algn="l" pos="3645000"/>
                <a:tab algn="l" pos="4100400"/>
                <a:tab algn="l" pos="4556160"/>
                <a:tab algn="l" pos="5011560"/>
                <a:tab algn="l" pos="5467320"/>
                <a:tab algn="l" pos="5923080"/>
                <a:tab algn="l" pos="6378480"/>
                <a:tab algn="l" pos="6834240"/>
                <a:tab algn="l" pos="7289640"/>
                <a:tab algn="l" pos="7745400"/>
                <a:tab algn="l" pos="8201160"/>
                <a:tab algn="l" pos="8656560"/>
                <a:tab algn="l" pos="9112320"/>
                <a:tab algn="l" pos="956772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icult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9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635120" y="4844880"/>
            <a:ext cx="311040" cy="3844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639800" y="3979800"/>
            <a:ext cx="311400" cy="384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1639800" y="4417920"/>
            <a:ext cx="3114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1T19:35:23Z</dcterms:created>
  <dc:creator>Media Resources</dc:creator>
  <dc:description/>
  <dc:language>en-US</dc:language>
  <cp:lastModifiedBy>Jeremiah McNichols</cp:lastModifiedBy>
  <cp:lastPrinted>2002-05-23T02:09:08Z</cp:lastPrinted>
  <dcterms:modified xsi:type="dcterms:W3CDTF">2008-10-08T13:32:07Z</dcterms:modified>
  <cp:revision>35</cp:revision>
  <dc:subject/>
  <dc:title>Vocabulary Challeng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e02000000000001023620</vt:lpwstr>
  </property>
</Properties>
</file>