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6284-C1E9-4004-B903-38A1D9816874}" type="slidenum">
              <a:rPr b="1" lang="en-US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H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9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948-9650-4DCD-9D88-FEAD0A15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FE8-FDDB-400E-9D2C-A3E42BCD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0FF-D6CB-4BD2-BD56-742433C6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064E-07A3-4F06-813E-E40E1312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ACB9-0705-4577-9E4E-18415EA4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3BB-3679-4300-A88D-AC96A9DB8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335-C59D-4464-AC30-58E717E6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E652-9F08-42AE-BB12-DC456DB4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2C5-88F7-415B-BCBD-7B9B6F13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00B8-F244-4258-A397-25B353CB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4A50-469C-4624-9E6D-C59DDC3D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A4A-7417-41E6-A7F0-5E826375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9079-09DB-44BF-92E6-E943D6D8C1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informative essay seeks to inform the reader about something or to tell the reader how to do someth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InfoEssPeople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220644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fore You Begi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do you want your reader to know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your topic interest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is your audienc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your topic be thoroughly research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ill you organize your pap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rganization of th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ormative Ess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roduction should state the topic and the three main subpoints on which you will focu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ody will consist of at least three paragraphs that elaborate on the subpoin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nclusion restates the main topic and subpoints and provides the audience with a sense of closu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15:46:56Z</dcterms:created>
  <dc:creator>Gina Balducci</dc:creator>
  <dc:description/>
  <dc:language>en-US</dc:language>
  <cp:lastModifiedBy>Vince Hardy</cp:lastModifiedBy>
  <dcterms:modified xsi:type="dcterms:W3CDTF">2007-01-12T21:45:01Z</dcterms:modified>
  <cp:revision>15</cp:revision>
  <dc:subject/>
  <dc:title>Informative Essa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a00000000000001023620</vt:lpwstr>
  </property>
</Properties>
</file>