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1.jpeg" ContentType="image/jpeg"/>
  <Override PartName="/ppt/media/image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024E-C6B7-499B-976B-5117A3008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= 3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 (30 km)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828.57 km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using the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 on a calculator, the total area will be 2,827.43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formulas for perimeter, area, 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a previous question you know there is a area of 2,828.57 square kilom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828.57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(80.77 people /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= 228,463.59 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8,464 peop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had to be evacu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A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D), Estimation and rou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area population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 = 2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 =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radius =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x  30 km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.57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ers in real-lif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ratios/rates using multiplication/division of whole nu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te formulas for perimeter, area, volu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ormulate equation from problem situ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ometry and spatial reaso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asure length, area, time, temperature, capacity, weigh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y/apply mathematics to everyday experi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 propor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,000,000 people / 48,760,474 people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34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s a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3486 x 100% =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.8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(C), Integers in real-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(C), Solve ratios/rates using multiplication/division of 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(B),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, Formulate equation from problem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Identify/apply mathematics to everyday experien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percents perce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35080" y="6872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56000"/>
            <a:ext cx="5029200" cy="41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Texas has four reactors at two sites.  One site, Comanche Peak, is near Dallas/Fort Worth; the other site, the South Texas Project, is south of Hous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meant to be a lead in to the activity that goes with this mini-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0E7-818D-45BE-9177-559013C4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75C9-447F-4A06-818D-6C01F522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8FD4-D131-4833-BB60-B8655ED9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BAF-042C-4F76-9AF0-3CFA8CBF1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5F6-1076-4ED8-83C0-6374F19C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2D7-D4D4-4C55-A190-5758EF3E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0C5F-E613-40A8-BD86-FB262F24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662-CCD0-4CA0-A89E-B065369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9265-640E-4265-B925-9322EDC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77F6-912E-43F5-B4DC-DDEAF8CE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375-A890-47D7-86B0-0CC9155DB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22F-6D22-4097-80D1-D40B4ACF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75D3-0EEC-4825-863D-77E3650C516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file:///Appendices/AreaCalc.ppt" TargetMode="External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file:///Appendices/AreaCalc.ppt" TargetMode="External"/><Relationship Id="rId4" Type="http://schemas.openxmlformats.org/officeDocument/2006/relationships/hyperlink" Target="file:///Appendices/Per%20Problems.ppt" TargetMode="External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hyperlink" Target="file:///Appendices/Circumfe.p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hyperlink" Target="file:///Appendices/FraToPer.ppt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579600"/>
            <a:ext cx="6115320" cy="32922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09480" y="3857760"/>
            <a:ext cx="79250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0440" y="1523880"/>
            <a:ext cx="824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the concepts of area and perimeter of a circ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view population density and proportions of a po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3680" indent="-463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about scaling on a ma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5200" y="1428840"/>
            <a:ext cx="7991280" cy="18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ing the Chernobyl nuclear reactor accident, radiation was emitted in all directions from the reactor.  The people living within 30 km were evacuated for their own protection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47560" y="3225960"/>
            <a:ext cx="391032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was the total area evacuat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127480" y="3382920"/>
            <a:ext cx="3483000" cy="3017880"/>
          </a:xfrm>
          <a:prstGeom prst="rect">
            <a:avLst/>
          </a:prstGeom>
          <a:ln w="88920">
            <a:solidFill>
              <a:srgbClr val="c96464"/>
            </a:solidFill>
            <a:miter/>
          </a:ln>
        </p:spPr>
      </p:pic>
      <p:sp>
        <p:nvSpPr>
          <p:cNvPr id="56" name=""/>
          <p:cNvSpPr/>
          <p:nvPr/>
        </p:nvSpPr>
        <p:spPr>
          <a:xfrm>
            <a:off x="565200" y="4213080"/>
            <a:ext cx="408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 on area calculations, click </a:t>
            </a:r>
            <a:r>
              <a:rPr b="0" lang="en-US" sz="28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5040" y="530280"/>
            <a:ext cx="731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ission : Evac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46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opulation Dens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4840" y="1370160"/>
            <a:ext cx="5486400" cy="31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population density of Ukraine was  80.77 people per square kilometer during the Chernobyl incident, how many people had to be evacuated from within the 30 km radius of Chernobyl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61880" y="4686480"/>
            <a:ext cx="5112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er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for more information on area and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Times New Roman"/>
                <a:hlinkClick r:id="rId4"/>
              </a:rPr>
              <a:t>her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 for help with solving ‘per’-type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5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708600" y="1992240"/>
            <a:ext cx="1932120" cy="35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2760" y="1585440"/>
            <a:ext cx="8161200" cy="14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 Russian soldiers patrolled the entire circumference of the area evacuated around Chernobyl, how far would they have to travel to circle once around the perimete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2584440" y="3078000"/>
            <a:ext cx="3809520" cy="3062520"/>
            <a:chOff x="2584440" y="3078000"/>
            <a:chExt cx="3809520" cy="306252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2584440" y="3311640"/>
              <a:ext cx="1836720" cy="254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3060720" y="3134520"/>
              <a:ext cx="1757160" cy="283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4375800" y="3078000"/>
              <a:ext cx="2018160" cy="306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"/>
          <p:cNvSpPr/>
          <p:nvPr/>
        </p:nvSpPr>
        <p:spPr>
          <a:xfrm>
            <a:off x="2153160" y="6145200"/>
            <a:ext cx="483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lick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hlinkClick r:id="rId6"/>
              </a:rPr>
              <a:t>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 for more information on circumfer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11320" y="538200"/>
            <a:ext cx="509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ing The Rou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4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74640" y="345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tion Contam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09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kraine has a population of 48,760,474 people.  17 million people were contaminated to some degree by radiation from the Chernobyl accident.  What proportion of the population was affected by the accident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398320" y="5789520"/>
            <a:ext cx="43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more information on percents, click </a:t>
            </a:r>
            <a:r>
              <a:rPr b="0" lang="en-US" sz="18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here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6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actors, Radiation, and Radi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 we have any nuclear power plants here in Texa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will look at the area affected by the Chernobyl accident, as well as areas that would be affected if there was a similar accident in Tex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is, however, highly unlikely, given the safety considerations and precautions taken by modern power plant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9999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UK-7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80880" y="1981080"/>
            <a:ext cx="8570880" cy="4517640"/>
            <a:chOff x="380880" y="1981080"/>
            <a:chExt cx="8570880" cy="4517640"/>
          </a:xfrm>
        </p:grpSpPr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1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2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3" name=""/>
            <p:cNvSpPr/>
            <p:nvPr/>
          </p:nvSpPr>
          <p:spPr>
            <a:xfrm>
              <a:off x="1898640" y="2206800"/>
              <a:ext cx="2617920" cy="41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22960" y="2166840"/>
              <a:ext cx="2728800" cy="43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5:46:13Z</dcterms:created>
  <dc:creator>Jeremiah McNichols</dc:creator>
  <dc:description/>
  <dc:language>en-US</dc:language>
  <cp:lastModifiedBy>Jeremiah McNichols</cp:lastModifiedBy>
  <dcterms:modified xsi:type="dcterms:W3CDTF">2008-10-14T13:56:45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4000000000001023620</vt:lpwstr>
  </property>
</Properties>
</file>