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DFB6-670D-4AB0-8EF6-6B64C82DD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A) Write complete sentences, varying the types, and use appropriately punctuated independent and dependent claus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tudent should take this paragraph of simple sentences and vary the sentence type by combining some into compound or complex sentences.  Watch for fragments and run-ons and be sure that sentences are punctuated correctl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ectio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have comma instead of semicolon after gr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pok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o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leb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uld be “friends” not “friend’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6 writing/punctuation/spel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ing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8 E)  Edit drafts to ensure standard us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B) Use conjunctions to connect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 earl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D) Use adjectives (comparatives and superlatives) correct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ller, tall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pronoun might be used in place of a noun or noun phrase to avoid repetition when the noun or noun phrase is already kn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7 H) Write with increasing accuracy when using pronoun ca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noun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, s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ced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kol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n, K.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58B-BE2D-4EF3-A416-4843853E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843C-1AAB-478C-9E15-61840BD2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320-E670-4030-A711-0524EF5A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946-F357-4125-A839-D371E988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92F1-E2DC-4650-9775-457A25D6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4E5-52DB-4C3C-A4D5-99C2BAE0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F6A-DD3E-48B9-A1F1-E71F3FD1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3096-D927-4D42-935A-20CFFCE4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D1B-88A3-47FA-B700-BCF650AA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6DD-3AC2-403B-9E0E-C4D45A14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AC7D-F92C-4889-A167-1EDC0D75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571-6B8F-44CF-91D2-3183259E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41E5-D8CF-412D-B01E-40372E7D9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Appendices/English/Super.ppt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95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nd Natasha have been pen-pals for years.  The letter on the next slide is the last one that  K.T. received from Natasha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tasha is learning the differences between her native Russian language and English.  She still makes a few mistakes in her writing.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dentify and correct the mistakes in her lett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best way to rewrite the summary on the next sl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clude the same information, but use compound sentences, complex sentence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You Write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K.T. wanted to go to a birthday party. The party was for Natasha. Natasha lives in the Ukraine. She is K.T.’s pen-pal. K.T. did not go to the party. Her computer broke. She arrived in the Ukraine in 1986. This was too early. She was scared. A boy named Nikolai helped her. He was looking for his father. There had been an accident. Some men were chasing K.T. They thought she was a spy. Nikolai took her to the river. There was a boat. It was his uncle’s. They escaped on this boat. Travis found K.T. She said goodbye to Nikolai. Travis took her hom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ear K.T.;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Last tim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I speaked to you on the phone,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 forgot to tell you about my birthday party.  I am turning thirteen next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month and I am having a big celebrasion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All my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friend’s are coming, and my mom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is making a cake.  It will be the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bestest birthday ever!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wish you </a:t>
            </a:r>
            <a:r>
              <a:rPr b="0" i="1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could be hear.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 I miss you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Your friend,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>
              <a:spcBef>
                <a:spcPts val="601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Natasha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0" y="4727520"/>
          <a:ext cx="1623960" cy="18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0" y="4727520"/>
                    <a:ext cx="162396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conjunction is a word or a phrase that connects other words, phrases, and claus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the different types of conjunctions and the functions of each, then choose the conjunction that best completes the following sentence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he Function of Conjuncti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4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nted to see Natasha,______ the BPC    broke and sent her back in tim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but, for, nor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was looking for Natasha,______ Nikolai was looking for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114480" algn="ctr">
              <a:spcBef>
                <a:spcPts val="700"/>
              </a:spcBef>
              <a:buClr>
                <a:srgbClr val="ebebeb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nd, or, yet, s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32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mparisons are the forms of adjectives or adverbs that indicate quality, quantity, or mann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three degrees of comparison are positive, comparative, and superlati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view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omparative degre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earn more about the three degrees, then go on to the next slide to test your knowled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71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K.T. arrived in the Ukraine years _______ than she expected.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st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y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earlier           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more earlier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son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f the three boat passengers, K.T. was probably the _______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er          younges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young             more young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is ______than K.T., but Travis is the ______ of all thre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                  tallest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taller              most tall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14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finitions: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ronoun- a word used in place of a nou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tecedent - the noun or noun phrase t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ich a pronoun refer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en might a pronoun be used in place of a noun or noun phrase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ronouns and Anteced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6720" y="1671480"/>
            <a:ext cx="7772400" cy="47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hoose the pronoun that matches the antecedent. Choose from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: they, we, her, he, she, it, his, her, him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was looking for ____ da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Even though K.T. was tired and scared, _____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as still very brav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men ran after K.T. becaus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_______thought ______might be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 go back and underline the antecedent of each pronou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4612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49:27Z</dcterms:created>
  <dc:creator>lakho sidhwani@grp-is@houston</dc:creator>
  <dc:description/>
  <dc:language>en-US</dc:language>
  <cp:lastModifiedBy>Texas A&amp;M Veterinary Medicine</cp:lastModifiedBy>
  <dcterms:modified xsi:type="dcterms:W3CDTF">2005-05-06T15:45:03Z</dcterms:modified>
  <cp:revision>37</cp:revision>
  <dc:subject/>
  <dc:title>Ed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1000000000001023620</vt:lpwstr>
  </property>
</Properties>
</file>