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6E0A-E70D-4191-8EF9-8B9DFAE35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4E5C-CD60-4575-A3AE-2738AA91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9B1-1321-4DF1-8169-D8554EE4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6A2-75DC-4832-860A-64DEF5DD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D08F-6044-4922-86FD-083A5E6D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4F33-B543-4DB3-8E18-B9338011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2939-D63E-4453-AA71-5B21FC05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598-BAA5-4BC5-B79B-EB56455A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D23-A514-46E3-B255-D591B742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5332-1B6D-4595-98F8-01C94268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A9DD-F131-4803-899B-D5404FC0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8882B-0B3C-4930-8E8B-5BA50A5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4BA4-B273-440B-A348-9F25BB55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8E46-5B25-432A-84D5-7D95BF0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91C5-AFC4-4B0A-A95B-B3D40921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EEC9-EF65-4824-80D1-DD9814D7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FE389-1658-4A87-AFFE-37E35A62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D328-AA19-4D10-8AEB-175BDC6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2DC0-E74D-4568-88B7-1D149656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658-76CF-4C0A-B8C5-1C25F095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8620-E9E0-4618-BFA4-5A2EE784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D55E-CB57-4FBA-A573-F74D71D2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B5C3-C2C4-4E30-AA9C-9711403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F54E-2CA6-4D83-A023-F927DBC9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FFB4-68A6-4C7D-AAB7-1A0C98D7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C35B-6B7B-4D32-AF1B-297481AE774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3EDE-3309-4949-8938-18BAF063FAC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file:///../Appendices/Social%20Studies/AbsoLoca.ppt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94200" y="4905360"/>
            <a:ext cx="3576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15688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9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9° N.L., 39° E.L.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1568520" y="4419720"/>
            <a:ext cx="60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46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turn to the 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6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  The lat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.  The longitude for the center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Times New Roman"/>
              </a:rPr>
              <a:t>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4965840" y="1415880"/>
            <a:ext cx="244440" cy="140040"/>
          </a:xfrm>
          <a:custGeom>
            <a:avLst/>
            <a:gdLst/>
            <a:ahLst/>
            <a:rect l="l" t="t" r="r" b="b"/>
            <a:pathLst>
              <a:path w="154" h="88">
                <a:moveTo>
                  <a:pt x="25" y="48"/>
                </a:moveTo>
                <a:cubicBezTo>
                  <a:pt x="36" y="64"/>
                  <a:pt x="28" y="69"/>
                  <a:pt x="33" y="88"/>
                </a:cubicBezTo>
                <a:cubicBezTo>
                  <a:pt x="38" y="87"/>
                  <a:pt x="44" y="86"/>
                  <a:pt x="49" y="84"/>
                </a:cubicBezTo>
                <a:cubicBezTo>
                  <a:pt x="53" y="82"/>
                  <a:pt x="56" y="76"/>
                  <a:pt x="61" y="76"/>
                </a:cubicBezTo>
                <a:cubicBezTo>
                  <a:pt x="69" y="76"/>
                  <a:pt x="85" y="84"/>
                  <a:pt x="85" y="84"/>
                </a:cubicBezTo>
                <a:cubicBezTo>
                  <a:pt x="119" y="61"/>
                  <a:pt x="77" y="67"/>
                  <a:pt x="133" y="60"/>
                </a:cubicBezTo>
                <a:cubicBezTo>
                  <a:pt x="137" y="57"/>
                  <a:pt x="144" y="57"/>
                  <a:pt x="145" y="52"/>
                </a:cubicBezTo>
                <a:cubicBezTo>
                  <a:pt x="154" y="16"/>
                  <a:pt x="106" y="19"/>
                  <a:pt x="85" y="16"/>
                </a:cubicBezTo>
                <a:cubicBezTo>
                  <a:pt x="61" y="0"/>
                  <a:pt x="57" y="4"/>
                  <a:pt x="25" y="8"/>
                </a:cubicBezTo>
                <a:cubicBezTo>
                  <a:pt x="22" y="12"/>
                  <a:pt x="20" y="17"/>
                  <a:pt x="17" y="20"/>
                </a:cubicBezTo>
                <a:cubicBezTo>
                  <a:pt x="14" y="23"/>
                  <a:pt x="7" y="23"/>
                  <a:pt x="5" y="28"/>
                </a:cubicBezTo>
                <a:cubicBezTo>
                  <a:pt x="0" y="44"/>
                  <a:pt x="14" y="48"/>
                  <a:pt x="25" y="48"/>
                </a:cubicBezTo>
                <a:close/>
              </a:path>
            </a:pathLst>
          </a:custGeom>
          <a:noFill/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0320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.  The absolute location of Ukraine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06840" y="538632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06840" y="581508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06840" y="625788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908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.  The lat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8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3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97120" y="6262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0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5.  The longitude for the center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4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58053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5505480" cy="442764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190520" y="4952880"/>
            <a:ext cx="771552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.  The absolute location of Dnipropetrovs’k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65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2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48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 and 35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97120" y="53769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97120" y="58197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97120" y="624852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68520" y="4419720"/>
            <a:ext cx="58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7.  What city is located at 50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° N.L., 24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125800" y="380880"/>
            <a:ext cx="4892400" cy="39340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568520" y="4419720"/>
            <a:ext cx="58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8.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What city is located at 50° N.L., 31° E.L.?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94200" y="490536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des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’v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i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uhans’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12960" y="493884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12960" y="535320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12960" y="5767560"/>
            <a:ext cx="244440" cy="30456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560"/>
              <a:gd name="textAreaBottom" fmla="*/ 288720 h 304560"/>
            </a:gdLst>
            <a:ahLst/>
            <a:rect l="textAreaLeft" t="textAreaTop" r="textAreaRight" b="textAreaBottom"/>
            <a:pathLst>
              <a:path w="21600" h="26905">
                <a:moveTo>
                  <a:pt x="0" y="0"/>
                </a:moveTo>
                <a:lnTo>
                  <a:pt x="21600" y="0"/>
                </a:lnTo>
                <a:lnTo>
                  <a:pt x="21600" y="26905"/>
                </a:lnTo>
                <a:lnTo>
                  <a:pt x="0" y="26905"/>
                </a:lnTo>
                <a:close/>
              </a:path>
              <a:path fill="lightenLess" w="21600" h="269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05">
                <a:moveTo>
                  <a:pt x="21600" y="0"/>
                </a:moveTo>
                <a:lnTo>
                  <a:pt x="21600" y="26905"/>
                </a:lnTo>
                <a:lnTo>
                  <a:pt x="20200" y="25505"/>
                </a:lnTo>
                <a:lnTo>
                  <a:pt x="20200" y="1400"/>
                </a:lnTo>
                <a:close/>
              </a:path>
              <a:path fill="darkenLess" w="21600" h="26905">
                <a:moveTo>
                  <a:pt x="21600" y="26905"/>
                </a:moveTo>
                <a:lnTo>
                  <a:pt x="0" y="26905"/>
                </a:lnTo>
                <a:lnTo>
                  <a:pt x="1400" y="25505"/>
                </a:lnTo>
                <a:lnTo>
                  <a:pt x="20200" y="25505"/>
                </a:lnTo>
                <a:close/>
              </a:path>
              <a:path fill="lighten" w="21600" h="26905">
                <a:moveTo>
                  <a:pt x="0" y="269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05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712960" y="6181560"/>
            <a:ext cx="244440" cy="304920"/>
          </a:xfrm>
          <a:custGeom>
            <a:avLst/>
            <a:gdLst>
              <a:gd name="textAreaLeft" fmla="*/ 15840 w 244440"/>
              <a:gd name="textAreaRight" fmla="*/ 228600 w 244440"/>
              <a:gd name="textAreaTop" fmla="*/ 15840 h 304920"/>
              <a:gd name="textAreaBottom" fmla="*/ 289080 h 304920"/>
            </a:gdLst>
            <a:ahLst/>
            <a:rect l="textAreaLeft" t="textAreaTop" r="textAreaRight" b="textAreaBottom"/>
            <a:pathLst>
              <a:path w="21600" h="26936">
                <a:moveTo>
                  <a:pt x="0" y="0"/>
                </a:moveTo>
                <a:lnTo>
                  <a:pt x="21600" y="0"/>
                </a:lnTo>
                <a:lnTo>
                  <a:pt x="21600" y="26936"/>
                </a:lnTo>
                <a:lnTo>
                  <a:pt x="0" y="26936"/>
                </a:lnTo>
                <a:close/>
              </a:path>
              <a:path fill="lightenLess" w="21600" h="269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936">
                <a:moveTo>
                  <a:pt x="21600" y="0"/>
                </a:moveTo>
                <a:lnTo>
                  <a:pt x="21600" y="26936"/>
                </a:lnTo>
                <a:lnTo>
                  <a:pt x="20200" y="25537"/>
                </a:lnTo>
                <a:lnTo>
                  <a:pt x="20200" y="1400"/>
                </a:lnTo>
                <a:close/>
              </a:path>
              <a:path fill="darkenLess" w="21600" h="26936">
                <a:moveTo>
                  <a:pt x="21600" y="26936"/>
                </a:moveTo>
                <a:lnTo>
                  <a:pt x="0" y="26936"/>
                </a:lnTo>
                <a:lnTo>
                  <a:pt x="1400" y="25537"/>
                </a:lnTo>
                <a:lnTo>
                  <a:pt x="20200" y="25537"/>
                </a:lnTo>
                <a:close/>
              </a:path>
              <a:path fill="lighten" w="21600" h="26936">
                <a:moveTo>
                  <a:pt x="0" y="269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537"/>
                </a:lnTo>
                <a:close/>
              </a:path>
            </a:pathLst>
          </a:custGeom>
          <a:solidFill>
            <a:srgbClr val="c96464"/>
          </a:solidFill>
          <a:ln w="9360">
            <a:solidFill>
              <a:srgbClr val="c964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15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8:55:12Z</dcterms:created>
  <dc:creator>Unknown User</dc:creator>
  <dc:description/>
  <dc:language>en-US</dc:language>
  <cp:lastModifiedBy>Texas A&amp;M Veterinary Medicine</cp:lastModifiedBy>
  <cp:lastPrinted>2002-01-02T19:06:19Z</cp:lastPrinted>
  <dcterms:modified xsi:type="dcterms:W3CDTF">2005-05-17T17:13:59Z</dcterms:modified>
  <cp:revision>69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4000000000001023620</vt:lpwstr>
  </property>
</Properties>
</file>