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3F38-F336-41A7-BBBE-0581CDF09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0CC-1546-4D34-94E8-DAE73D3A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DFD0-5AB8-41D1-98DC-E88C91E4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DD0-A862-4F01-9A0F-BAB4FADE1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9FEA-056C-4248-BC1E-555737C0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8D0-B340-45CB-ACA0-DA8F5B0D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E6F-290F-4D1B-A34E-6B8745F66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1EE-DCDE-4C26-A603-5451FA96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3412-F353-49FF-B8A9-95140394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C5A-EB88-4567-9AA9-86A9CD5D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E518-CC78-46F0-BE4E-CF1C5C93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CE85-4678-4265-A8AA-A50F65F3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8474-EE15-45BB-B19F-DF25705A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ED18-3332-4744-A1A9-E05FAF1E8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ljlab</cp:lastModifiedBy>
  <cp:lastPrinted>2002-01-04T15:57:18Z</cp:lastPrinted>
  <dcterms:modified xsi:type="dcterms:W3CDTF">2007-08-02T19:11:24Z</dcterms:modified>
  <cp:revision>30</cp:revision>
  <dc:subject/>
  <dc:title>Sensory Details </dc:title>
</cp:coreProperties>
</file>