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27.png" ContentType="image/png"/>
  <Override PartName="/ppt/media/image4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5.jpeg" ContentType="image/jpe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676F-D300-4371-8EC8-80C26CDEB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 (C) Integers in real-lif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3 (A, B, C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  Describe proportions using rat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) Represent ratios/percents with models, fractions, decim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) Predict Proportions using Rati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5, Formulate equation from problem situ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A, C)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)  Identify/apply mathematics to everyday experi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)  Select appropriate problem-solving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F322-36DF-4F06-ADFC-CC539978F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ECAE-AA8B-4FA4-95E5-798AFEF6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DC56-8619-4DE5-8163-39C8EE09B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05E9-C5B6-4380-980C-7462B2851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3D53-128F-40C4-A369-4D9EF89F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278F-03E6-453A-A1D9-39CDD499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1D00-208D-465B-A3AB-85F3635B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A598-814F-4AE9-8FA5-300EF7FEA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9F37-1D41-4865-A9AE-53A66C3F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F7CB-03CE-49AE-BA13-AE2D60C0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4450-37EF-48BB-BF25-29079B21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EF94-BF80-4AB2-BDA1-427FB9C4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98AB-7061-46D7-87FF-3A73FA50A1C3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image" Target="../media/image28.jpeg"/><Relationship Id="rId6" Type="http://schemas.openxmlformats.org/officeDocument/2006/relationships/image" Target="../media/image29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30.png"/><Relationship Id="rId9" Type="http://schemas.openxmlformats.org/officeDocument/2006/relationships/hyperlink" Target="http://peer.tamu.edu/forms/Curricula_Survey.shtml" TargetMode="External"/><Relationship Id="rId10" Type="http://schemas.openxmlformats.org/officeDocument/2006/relationships/hyperlink" Target="http://peer.tamu.edu/forms/Curricula_Survey.shtml" TargetMode="External"/><Relationship Id="rId1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09480" y="3857760"/>
            <a:ext cx="79250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peer.tamu.edu</a:t>
            </a:r>
            <a:r>
              <a:rPr b="0" lang="en-US" sz="3200" spc="-1" strike="noStrike" u="sng">
                <a:solidFill>
                  <a:srgbClr val="ebebeb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3520" y="990720"/>
            <a:ext cx="8153280" cy="275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ard River Escape Review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inding the Perimeter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190760" y="2743200"/>
            <a:ext cx="4800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bebeb"/>
                </a:solidFill>
                <a:latin typeface="Times New Roman"/>
              </a:rPr>
              <a:t>The perimeter of a polygon is the sum of the lengths of all its sides.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33520" y="1523880"/>
            <a:ext cx="1790640" cy="1524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590920" y="3200400"/>
            <a:ext cx="1057320" cy="1000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533520" y="4495680"/>
            <a:ext cx="1666800" cy="1387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3124080" y="4876920"/>
            <a:ext cx="1362240" cy="1390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2895480" y="1295280"/>
            <a:ext cx="139068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ebebeb"/>
                </a:solidFill>
                <a:uFillTx/>
                <a:latin typeface="Times New Roman"/>
              </a:rPr>
              <a:t>Exampl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3200400" cy="22561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9880" y="1143000"/>
            <a:ext cx="5181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rectangle has 4 sid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e opposite sides of the rectangle have the same length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sides have the length = 6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sides have the length = 9.8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 = 6*2 + 9.8*2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P = 31.6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Determining Angl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343400" y="1752480"/>
            <a:ext cx="41911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99"/>
                </a:solidFill>
                <a:latin typeface="Times New Roman"/>
              </a:rPr>
              <a:t>Obtuse Angle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:  An angle that has a value greater than 90 degrees and less than 180 degre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295280" y="1981080"/>
            <a:ext cx="2049480" cy="3048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33520" y="914400"/>
            <a:ext cx="990360" cy="1676520"/>
          </a:xfrm>
          <a:prstGeom prst="line">
            <a:avLst/>
          </a:prstGeom>
          <a:ln w="63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Determining Angl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0" y="18284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99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ff"/>
                </a:solidFill>
                <a:latin typeface="Times New Roman"/>
              </a:rPr>
              <a:t>Acute Angle</a:t>
            </a:r>
            <a:r>
              <a:rPr b="0" lang="en-US" sz="4000" spc="-1" strike="noStrike">
                <a:solidFill>
                  <a:srgbClr val="cc99ff"/>
                </a:solidFill>
                <a:latin typeface="Times New Roman"/>
              </a:rPr>
              <a:t>: An angle whose measure is less than 90 degrees but greater than 0.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3581280" cy="3581280"/>
          </a:xfrm>
          <a:prstGeom prst="rect">
            <a:avLst/>
          </a:prstGeom>
          <a:ln w="38160">
            <a:solidFill>
              <a:srgbClr val="cc99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Determining Angle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19720" y="1447560"/>
            <a:ext cx="40384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65add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5add9"/>
                </a:solidFill>
                <a:latin typeface="Times New Roman"/>
              </a:rPr>
              <a:t>Right Angle</a:t>
            </a:r>
            <a:r>
              <a:rPr b="0" lang="en-US" sz="3600" spc="-1" strike="noStrike">
                <a:solidFill>
                  <a:srgbClr val="65add9"/>
                </a:solidFill>
                <a:latin typeface="Times New Roman"/>
              </a:rPr>
              <a:t>: An angle of 90 degrees or  an angle made by the meeting of two straight lines perpendicular to each other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38671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80880" y="19098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80880" y="343368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380880" y="4957920"/>
            <a:ext cx="1359000" cy="13716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990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48160" y="2209320"/>
            <a:ext cx="2601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partment of Agricultural Education, 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he Center for Environmental and Rural Health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llege of Veterinary Medicine, Texas A&amp;M Universit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4724280" y="3451320"/>
            <a:ext cx="1371600" cy="13827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4724280" y="49705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643280" y="1928880"/>
            <a:ext cx="1546560" cy="1371600"/>
            <a:chOff x="4643280" y="1928880"/>
            <a:chExt cx="1546560" cy="1371600"/>
          </a:xfrm>
        </p:grpSpPr>
        <p:sp>
          <p:nvSpPr>
            <p:cNvPr id="110" name=""/>
            <p:cNvSpPr/>
            <p:nvPr/>
          </p:nvSpPr>
          <p:spPr>
            <a:xfrm>
              <a:off x="4724280" y="1928880"/>
              <a:ext cx="137160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1" name=""/>
            <p:cNvGraphicFramePr/>
            <p:nvPr/>
          </p:nvGraphicFramePr>
          <p:xfrm>
            <a:off x="4643280" y="2117880"/>
            <a:ext cx="1546560" cy="1012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643280" y="2117880"/>
                      <a:ext cx="1546560" cy="1012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3" name=""/>
          <p:cNvSpPr/>
          <p:nvPr/>
        </p:nvSpPr>
        <p:spPr>
          <a:xfrm>
            <a:off x="1916280" y="2139840"/>
            <a:ext cx="2674800" cy="43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ational Institute of Environmental Health Sci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tnership for Environmental Education and Rural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llege of Education, Texas A&amp;M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http:/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402080" y="4549680"/>
            <a:ext cx="4672080" cy="2185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114800" y="1295280"/>
            <a:ext cx="46483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b=the base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h=the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= b * 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We can picture "cutting off" a triangle from one side and "pasting" it onto the other side to form a rectangle with side-lengths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. This rectangle has area 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 × </a:t>
            </a:r>
            <a:r>
              <a:rPr b="0" i="1" lang="en-US" sz="3200" spc="-1" strike="noStrike">
                <a:solidFill>
                  <a:srgbClr val="ebebeb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Finding the Area of a Parallelogram!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57200" y="4038480"/>
            <a:ext cx="3429000" cy="1962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33520" y="1447920"/>
            <a:ext cx="281916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99ff"/>
                </a:solidFill>
                <a:uFillTx/>
                <a:latin typeface="Times New Roman"/>
              </a:rPr>
              <a:t>Exampl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ff"/>
                </a:solidFill>
                <a:latin typeface="Times New Roman"/>
              </a:rPr>
              <a:t>What is the area of a parallelogram having a base of 20 and a corresponding height of 7?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514600"/>
            <a:ext cx="39625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h=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b=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A=b*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Times New Roman"/>
              </a:rPr>
              <a:t>A=20*7=1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04920" y="2590920"/>
            <a:ext cx="403848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bebeb"/>
                </a:solidFill>
                <a:latin typeface="Times New Roman"/>
              </a:rPr>
              <a:t>Finding the Area of a Triangle!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14440" y="990360"/>
            <a:ext cx="4800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h=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b=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A = (1/2)*b*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We take a second triangle identical to the first, rotate it and "paste" it to the first triangle as pictur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A parallelogram with base </a:t>
            </a:r>
            <a:r>
              <a:rPr b="0" i="1" lang="en-US" sz="28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 and height </a:t>
            </a:r>
            <a:r>
              <a:rPr b="0" i="1" lang="en-US" sz="2800" spc="-1" strike="noStrike">
                <a:solidFill>
                  <a:srgbClr val="00ff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, is formed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This area is twice that of the triangle, so the triangle has area 1/2 × </a:t>
            </a:r>
            <a:r>
              <a:rPr b="0" i="1" lang="en-US" sz="2800" spc="-1" strike="noStrike">
                <a:solidFill>
                  <a:srgbClr val="00ff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 × </a:t>
            </a:r>
            <a:r>
              <a:rPr b="0" i="1" lang="en-US" sz="2800" spc="-1" strike="noStrike">
                <a:solidFill>
                  <a:srgbClr val="00ff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ff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33cc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28600" y="4114800"/>
            <a:ext cx="3657600" cy="2033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80880" y="1371600"/>
            <a:ext cx="304812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b1b89"/>
                </a:solidFill>
                <a:uFillTx/>
                <a:latin typeface="Times New Roman"/>
              </a:rPr>
              <a:t>Example</a:t>
            </a:r>
            <a:endParaRPr b="0" lang="en-US" sz="4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724280" y="1980720"/>
            <a:ext cx="4114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db1b8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b1b89"/>
                </a:solidFill>
                <a:latin typeface="Times New Roman"/>
              </a:rPr>
              <a:t>h = 7.2</a:t>
            </a:r>
            <a:endParaRPr b="0" lang="en-US" sz="3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buClr>
                <a:srgbClr val="db1b8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b1b89"/>
                </a:solidFill>
                <a:latin typeface="Times New Roman"/>
              </a:rPr>
              <a:t>b = 6.5</a:t>
            </a:r>
            <a:endParaRPr b="0" lang="en-US" sz="3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buClr>
                <a:srgbClr val="db1b8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b1b89"/>
                </a:solidFill>
                <a:latin typeface="Times New Roman"/>
              </a:rPr>
              <a:t>A = (1/2) *b*h</a:t>
            </a:r>
            <a:endParaRPr b="0" lang="en-US" sz="3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buClr>
                <a:srgbClr val="db1b8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b1b89"/>
                </a:solidFill>
                <a:latin typeface="Times New Roman"/>
              </a:rPr>
              <a:t>A = (1/2)*6.5*7.2</a:t>
            </a:r>
            <a:endParaRPr b="0" lang="en-US" sz="3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950"/>
              </a:spcBef>
              <a:buClr>
                <a:srgbClr val="db1b8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db1b89"/>
                </a:solidFill>
                <a:latin typeface="Times New Roman"/>
              </a:rPr>
              <a:t>A = 23.4</a:t>
            </a:r>
            <a:endParaRPr b="0" lang="en-US" sz="3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04920" y="1752480"/>
            <a:ext cx="3975120" cy="4105440"/>
          </a:xfrm>
          <a:prstGeom prst="rect">
            <a:avLst/>
          </a:prstGeom>
          <a:ln w="38160">
            <a:solidFill>
              <a:srgbClr val="db1b8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Finding the Area of a Circl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1640" y="1676520"/>
            <a:ext cx="4343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r = radiu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= </a:t>
            </a:r>
            <a:r>
              <a:rPr b="1" lang="el-GR" sz="4400" spc="-1" strike="noStrike">
                <a:solidFill>
                  <a:srgbClr val="ffff00"/>
                </a:solidFill>
                <a:latin typeface="Times New Roman"/>
              </a:rPr>
              <a:t>π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* r * 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A = </a:t>
            </a:r>
            <a:r>
              <a:rPr b="1" lang="el-GR" sz="4400" spc="-1" strike="noStrike">
                <a:solidFill>
                  <a:srgbClr val="ffff00"/>
                </a:solidFill>
                <a:latin typeface="Times New Roman"/>
              </a:rPr>
              <a:t>π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* r^2</a:t>
            </a: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3733560" cy="35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Exampl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43400" y="1371240"/>
            <a:ext cx="4495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ebebeb"/>
                </a:solidFill>
                <a:uFillTx/>
                <a:latin typeface="Times New Roman"/>
              </a:rPr>
              <a:t>Example 1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r = 3.6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A =  </a:t>
            </a:r>
            <a:r>
              <a:rPr b="0" lang="el-GR" sz="3400" spc="-1" strike="noStrike">
                <a:solidFill>
                  <a:srgbClr val="ebebeb"/>
                </a:solidFill>
                <a:latin typeface="Times New Roman"/>
              </a:rPr>
              <a:t>π</a:t>
            </a: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 * 3.6 * 3.6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A = 40.69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ebebeb"/>
                </a:solidFill>
                <a:uFillTx/>
                <a:latin typeface="Times New Roman"/>
              </a:rPr>
              <a:t>Example2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D = 10.4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r = 10.4 / 2 = 5.2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A = </a:t>
            </a:r>
            <a:r>
              <a:rPr b="0" lang="el-GR" sz="3400" spc="-1" strike="noStrike">
                <a:solidFill>
                  <a:srgbClr val="ebebeb"/>
                </a:solidFill>
                <a:latin typeface="Times New Roman"/>
              </a:rPr>
              <a:t>π</a:t>
            </a: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 * (5.2)^2 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A = 84.9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14400" y="1523880"/>
            <a:ext cx="2362320" cy="2214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685800" y="3886200"/>
            <a:ext cx="277164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inding the Circumferenc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1640" y="1676160"/>
            <a:ext cx="3886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1" lang="el-GR" sz="4400" spc="-1" strike="noStrike">
                <a:solidFill>
                  <a:srgbClr val="ebebeb"/>
                </a:solidFill>
                <a:latin typeface="Times New Roman"/>
              </a:rPr>
              <a:t>π</a:t>
            </a: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 * D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o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1" lang="el-GR" sz="4400" spc="-1" strike="noStrike">
                <a:solidFill>
                  <a:srgbClr val="ebebeb"/>
                </a:solidFill>
                <a:latin typeface="Times New Roman"/>
              </a:rPr>
              <a:t>π</a:t>
            </a: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 * 2*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106720" y="4191120"/>
            <a:ext cx="1993680" cy="24382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04920" y="1387440"/>
            <a:ext cx="231444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ff00"/>
                </a:solidFill>
                <a:uFillTx/>
                <a:latin typeface="Times New Roman"/>
              </a:rPr>
              <a:t>Exampl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23920" y="1447560"/>
            <a:ext cx="4419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ebebeb"/>
                </a:solidFill>
                <a:uFillTx/>
                <a:latin typeface="Times New Roman"/>
              </a:rPr>
              <a:t>Example 1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22200" indent="-322200"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D = 5.8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22200" indent="-322200"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l-GR" sz="3400" spc="-1" strike="noStrike">
                <a:solidFill>
                  <a:srgbClr val="ebebeb"/>
                </a:solidFill>
                <a:latin typeface="Times New Roman"/>
              </a:rPr>
              <a:t>π</a:t>
            </a: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 * 5.8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22200" indent="-322200"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C = 18.2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22200" indent="-322200"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 u="sng">
                <a:solidFill>
                  <a:srgbClr val="ebebeb"/>
                </a:solidFill>
                <a:uFillTx/>
                <a:latin typeface="Times New Roman"/>
              </a:rPr>
              <a:t>Example 2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22200" indent="-322200"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r = 2.2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22200" indent="-322200"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l-GR" sz="3400" spc="-1" strike="noStrike">
                <a:solidFill>
                  <a:srgbClr val="ebebeb"/>
                </a:solidFill>
                <a:latin typeface="Times New Roman"/>
              </a:rPr>
              <a:t>π</a:t>
            </a: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 * 2 * 2.2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  <a:p>
            <a:pPr marL="322200" indent="-322200">
              <a:spcBef>
                <a:spcPts val="85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bebeb"/>
                </a:solidFill>
                <a:latin typeface="Times New Roman"/>
              </a:rPr>
              <a:t>C = 13.82 </a:t>
            </a:r>
            <a:endParaRPr b="0" lang="en-US" sz="3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447920" y="4038480"/>
            <a:ext cx="1946160" cy="2333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219320" y="1371600"/>
            <a:ext cx="243828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18:50:03Z</dcterms:created>
  <dc:creator>Jeremiah McNichols</dc:creator>
  <dc:description/>
  <dc:language>en-US</dc:language>
  <cp:lastModifiedBy>cdyer</cp:lastModifiedBy>
  <dcterms:modified xsi:type="dcterms:W3CDTF">2008-09-25T20:02:49Z</dcterms:modified>
  <cp:revision>5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803000000000001023620</vt:lpwstr>
  </property>
</Properties>
</file>