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A826-6BBC-42FC-A274-BE275143F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 TE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5 (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-8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351F-9BF4-46E6-9F05-AE177BF3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0014-8327-49AF-AACE-B423686B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B22A-2914-4235-A5F0-BC21FAAD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599C-10BC-4EFE-A8F8-63F9A140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85F-4F98-476C-A87C-9839E594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AF42-6149-43E0-A472-DF201FFE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64E2-3B9C-4023-94E2-59D8FBE5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EE0-AF8B-4377-AF88-3B482415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6A3E-3775-4355-A2A5-4CF3362E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ADDC-C078-4A75-BE5B-69DCACD4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C38A-F34E-47F5-9D3B-0B7AFF55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4D74-7AB6-45FC-B39D-9369FC3B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1179-478A-4AC1-98B2-EFDC4C2D0D97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45721" r="0" b="0"/>
          <a:stretch/>
        </p:blipFill>
        <p:spPr>
          <a:xfrm>
            <a:off x="2362320" y="4343400"/>
            <a:ext cx="411480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11141" t="0" r="0" b="0"/>
          <a:stretch/>
        </p:blipFill>
        <p:spPr>
          <a:xfrm>
            <a:off x="5029200" y="1981080"/>
            <a:ext cx="36115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rcRect l="1016" t="1031" r="254" b="262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93760" indent="-2937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ljlab</cp:lastModifiedBy>
  <dcterms:modified xsi:type="dcterms:W3CDTF">2007-08-02T19:09:28Z</dcterms:modified>
  <cp:revision>30</cp:revision>
  <dc:subject/>
  <dc:title>Descriptive Writing</dc:title>
</cp:coreProperties>
</file>