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DD78-5718-4F24-B339-9576E31D7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82EF-EDC1-42E8-B0F8-84BA31974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94CA-5125-4ED0-8EB1-7D3331D01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DAA4D-29BC-4940-BEF7-665FD60F1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4C816-3A87-4795-9F24-E803791538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3F6ED-AD2B-4E38-8B75-0D5A5AE08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8589-6BEC-488E-A821-14CFDE76B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3E37-199F-45B9-9733-F03071CCCB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22DF2-837B-473E-9036-5436EF955E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D3A7E-66E6-4BB5-8A04-8A62A006B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74C3-8133-4BFB-B795-22EC876C6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4C7C8-D3BC-4FA5-94C3-3011C6036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A705-50D8-44C1-9834-F6DA26D7115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6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hen it is written as a PERCENT, the decimal number is the part and 100 is always the whole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6E5F-930D-49CB-B32D-BB7F7A62823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) Multiply the decimal by 100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) Add a percent sign after the answer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e.g.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or 100%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.83 or 83%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797200" y="4724280"/>
            <a:ext cx="3451320" cy="146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DAEB-E5D6-4D1D-978C-9F4746279780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09Z</dcterms:modified>
  <cp:revision>211</cp:revision>
  <dc:subject/>
  <dc:title>VTPP 423 - PHYSIOLOGY</dc:title>
</cp:coreProperties>
</file>