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7315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5920" y="685440"/>
            <a:ext cx="428616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65271-A611-4B2E-90B1-A9ED428A4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85920" y="685800"/>
            <a:ext cx="428616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34C0-BEB1-4B7E-BBBE-338ECD83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697-9526-4AD9-BF43-679CF4DF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5B1-760E-49DD-9E13-2E67FBDF2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124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405680"/>
            <a:ext cx="250236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9C25-9039-4775-85E1-89EF6822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566-66F5-468C-8E34-2C4448A9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093-0320-4C0B-AD88-A7F2F6AA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8500-2ACE-466B-B02D-9E7CE715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EA72-A71D-47D0-BD2D-51559232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5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DDF-09F4-485F-927C-F81EB90C4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ACA-9F87-4DD3-B938-342802B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4056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0780-7064-4E47-8DD2-0E1FF881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12480"/>
            <a:ext cx="379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405680"/>
            <a:ext cx="7772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3857-A11F-48B8-BF62-F6A47650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5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12480"/>
            <a:ext cx="77724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4320"/>
            <a:ext cx="28958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664320"/>
            <a:ext cx="19051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E0E2-025A-4D98-ADF9-9BA47915A35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1240" y="221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262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ikolai was angr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ctories in the area had driven away all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farm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akes in the area were being drain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is grandfather was arrested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ollution on the river had gotten wors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 could not get a job in one of the factorie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ining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12840" y="524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216080" y="2631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212840" y="3470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212840" y="4041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16080" y="45990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6307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t the end of the story, K.T. tries to convince Nikolai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immigrate to Europe to escape the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t to give up his fight for the river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the farms along the river are beautiful and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uld not be a source of pollu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at industrial pollution is a fact of life and no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worry about i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63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forgive his grandfather for polluting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217520" y="6008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220760" y="29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217520" y="3546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217520" y="4189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220760" y="51134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220920" y="3103560"/>
            <a:ext cx="2791080" cy="1257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4286160" y="53658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68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62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ich one of the following phrases best de- scribes the two main characters in the story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girl named Natasha and her brot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studying in Russia and h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ach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a Russian boy who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omes her frie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merican girl and her step-sister Natasha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629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Russian boy and his father, a fire fighter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39840" y="293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238400" y="61945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2366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23660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239840" y="5632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96520" y="17600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 the story, the effects of a recent disaster threaten the characters.  The disaster is a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462"/>
              </a:spcBef>
              <a:spcAft>
                <a:spcPts val="462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15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rnado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loo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est fir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uclear accid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114300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rrorist atta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220760" y="3203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217520" y="37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217520" y="4384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220760" y="4970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643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finds that she has traveled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ck in time to the Ukrain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ward in time to Moscow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nother plane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a remote Pacific isla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owhere due to a malfunctioning travel 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217520" y="4827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220760" y="2536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217520" y="3089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217520" y="3646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tretch/>
        </p:blipFill>
        <p:spPr>
          <a:xfrm>
            <a:off x="1220760" y="42321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09480" y="1760040"/>
            <a:ext cx="80265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K.T. traveled from her home to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investigate the kidnapping of a frien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urprise her pen pal by attending her birthda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art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ttend an international youth socc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urnam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lp Nikolai find his father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the beautiful city of Kiev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217520" y="558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220760" y="257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1217520" y="32796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1217520" y="4179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220760" y="49798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0920" y="1788840"/>
            <a:ext cx="803916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83840" indent="0">
              <a:lnSpc>
                <a:spcPct val="8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y did the soldiers force the characters to leave the “exclusion zone”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protect them from weapons testing in the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is area was used only for militar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ining and no civilians were allow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y didn’t force them to leave.  They just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gave them a rid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ecause they were paid for every person they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moved from the area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838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o limit their exposure to radiation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89160" y="0"/>
            <a:ext cx="605484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217520" y="6261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1220760" y="2951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217520" y="3827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1217520" y="466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220760" y="55134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authorities believed K.T.was a spy because 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ore a black trench c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father worked at the US Embass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r backpack contained a suspicious computer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vic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ikolai told them she was a spy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e wrote letters to a Russian girl i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nepropetrovs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212840" y="5784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11400" y="30463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1212840" y="361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6"/>
          <a:stretch/>
        </p:blipFill>
        <p:spPr>
          <a:xfrm>
            <a:off x="1212840" y="4289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1211400" y="510372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22440" y="1760040"/>
            <a:ext cx="8038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uring the story, the characters traveled from place to place by all of the following EXCEPT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us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n foo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ferry boa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barg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5205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n armored truck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212840" y="5637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211400" y="341316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1208160" y="3965400"/>
            <a:ext cx="374400" cy="465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1212840" y="4522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1211400" y="507996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3920" y="6891480"/>
            <a:ext cx="172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UK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22080" y="1760040"/>
            <a:ext cx="80010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942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s K.T. and Nikolai traveled on the river, what evidence of pollution did they encounter?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 dead fish with a tum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ul smelling wa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ipes dumping factory wastes into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rash floating in the riv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49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9844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8026560" y="6683400"/>
            <a:ext cx="882360" cy="434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208160" y="56419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11400" y="340848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208160" y="3960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1208160" y="4527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1211400" y="5075280"/>
            <a:ext cx="37440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1:31Z</dcterms:created>
  <dc:creator>John</dc:creator>
  <dc:description/>
  <dc:language>en-US</dc:language>
  <cp:lastModifiedBy>Vince Hardy</cp:lastModifiedBy>
  <dcterms:modified xsi:type="dcterms:W3CDTF">2007-05-02T12:08:26Z</dcterms:modified>
  <cp:revision>80</cp:revision>
  <dc:subject/>
  <dc:title>Investigator’s Challenge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2000000000001023620</vt:lpwstr>
  </property>
</Properties>
</file>