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5632-7E9C-4528-AEBA-9AC0F15C3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4023-1B58-4C35-BB93-BC7AE395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C0FF-DEAA-4E5D-B61D-619CB79E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6F31-CC8D-44EC-A8B6-A0688CCAB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05B3-8173-44BF-A9CD-D7373CB28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72AA-333B-40A5-A88C-BDCADD26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5949-6FC9-4A7A-92CC-342F6CF7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D27D-FFF9-403E-89DD-AC6F0854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B282-8F0B-4BF5-9E70-C6D63478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D6CB-C6EC-47C3-B9B8-CE727A83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BD6E-318B-4491-9DDB-E06CA2F0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1103-806D-410B-B201-8FB3D062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C080-6196-438B-980A-EB0BCFDA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9E90-D8C2-4D84-87E2-FAD96CE5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002E-D246-451B-BE20-635784D1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ECF6-A5F6-4AD9-87BF-A685A9FC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0185-ECD2-4F64-A990-821B7FF5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3B41-B6B0-48C2-AF97-24B084890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6AAB-57E2-4664-940D-B57EC525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2FE5-4152-4E2A-B9AB-6D49E4C8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80CB-BD6E-4B31-A930-0BC844E1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7024-FA21-4F23-B84F-D106898F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72AB-5F87-4F7A-86BF-CC403051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BE06-B8F6-4B53-B858-3CACA5E7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0DE9-6156-4077-AAC4-E6B50FC8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C2E4-E04D-40BB-80D5-6841056232E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3A3E-C97D-464D-88CA-F77E9907D52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94200" y="4905360"/>
            <a:ext cx="3576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15688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9° N.L., 39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1568520" y="4419720"/>
            <a:ext cx="60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6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  The lat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  The long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  The absolute location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6840" y="53863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06840" y="581508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06840" y="625788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908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  The lat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8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  The long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97120" y="58053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  The absolute location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8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68520" y="441972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  What city is located at 5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, 24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568520" y="441972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50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8:55:12Z</dcterms:created>
  <dc:creator>Unknown User</dc:creator>
  <dc:description/>
  <dc:language>en-US</dc:language>
  <cp:lastModifiedBy>Texas A&amp;M Veterinary Medicine</cp:lastModifiedBy>
  <cp:lastPrinted>2002-01-02T19:06:19Z</cp:lastPrinted>
  <dcterms:modified xsi:type="dcterms:W3CDTF">2005-05-17T17:13:59Z</dcterms:modified>
  <cp:revision>6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4000000000001023620</vt:lpwstr>
  </property>
</Properties>
</file>