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1BA4B-C5FB-458D-A673-131D5ACF44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1B84-83F1-4C3D-953A-F61DF7250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64BB-9B54-4332-9C37-F163F2843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777F-A20C-4D28-9A52-F2E83A50C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4E62-563E-4AC5-A5CD-E14494C2F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3236-C1F0-4E09-B4D4-5CDDFB9C2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6FC8-7F16-4BFF-A1AE-C9D8F8D08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F020-DDDC-4C05-9D62-E531A8977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F6C9-BB58-4007-8B43-0A2E52E47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4914-F733-4FA4-AAC4-CF9A56ACD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EBB3-C3C2-482D-AFCB-835110A5E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D8CF-A9AB-43CB-937E-623362D5E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8691-C3F5-4776-86A0-7F16EB1E3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0A635-ACC1-4BBD-B04D-2F844EA7C3B0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bebeb"/>
                </a:solidFill>
                <a:latin typeface="Times New Roman"/>
              </a:rPr>
              <a:t>Vocabulary Challenge Quiz</a:t>
            </a:r>
            <a:endParaRPr b="0" lang="en-US" sz="7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12920" y="3885840"/>
            <a:ext cx="830736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Read each passage carefully and then indicate the meaning of each underlined word by clicking A, B, or C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66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9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 ‘Do not worry, K.T., you will not have to swim,’ Nikolai said as he removed his shoes and socks tying the laces together and hanging them over his shoulders.  ‘Just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wade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’ 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go beyond in amount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move rapidl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walk in or through water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635120" y="4883040"/>
            <a:ext cx="311040" cy="3841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1639800" y="4008600"/>
            <a:ext cx="311400" cy="3841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1639800" y="444672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666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0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K.T. turned to the old fisherman.  ‘Thank you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May I take the frog with me so my friends can see it?’ 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old man nodded in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bewilderment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 handing the bucket to K.T.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greement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state of confusion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state of fright or terror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5486400" y="3505320"/>
            <a:ext cx="2521080" cy="24368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1635120" y="4987800"/>
            <a:ext cx="311040" cy="3844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1639800" y="4065480"/>
            <a:ext cx="311400" cy="3841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1639800" y="452268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3176640" y="2800440"/>
            <a:ext cx="2790720" cy="12571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4091040" y="4576680"/>
            <a:ext cx="961920" cy="5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66720" y="66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66720" y="1924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 ‘Nyet, no.  We’re in Pripyat, a town three kilometers from Chernobyl.  My home is over there,’ he said pointing to a plain white house across the street.  ‘I found some food left inside, but they say not to eat it.  It’s been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irradiated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’ 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posed to radiation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heating device for the circulation of steam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mmunication of signal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8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635120" y="5254560"/>
            <a:ext cx="311040" cy="384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1639800" y="3789360"/>
            <a:ext cx="311400" cy="384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1639800" y="455148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66720" y="66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66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The truck rocked gently through the early morning fog while its big diesel engine droned along with the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myriad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trucks and machinery converging on Chernobyl for another day of ceaseless clean up.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feminine given nam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very large number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omething of great siz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6141960" y="3429000"/>
            <a:ext cx="2017800" cy="2514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8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1635120" y="5254560"/>
            <a:ext cx="311040" cy="3841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1639800" y="3998880"/>
            <a:ext cx="311400" cy="384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>
            <a:off x="1639800" y="461808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71400" y="66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66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3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K.T. blinked in the bright morning sunlight as the door of the transport opened and Nikolai helped her down the cobblestone street. 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Throngs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of people walked the wide boulevard beneath tall trees in full bloom with white fragrant blossoms.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small suit worn for sunbathing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great number of things crowded together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number of different types of thing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635120" y="5254560"/>
            <a:ext cx="311040" cy="3841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1639800" y="4160880"/>
            <a:ext cx="311400" cy="3841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1639800" y="470376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1600" y="2000160"/>
            <a:ext cx="8001000" cy="37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4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 ‘This is called Pecherska Layra, the Monastery of the Caves.  He would bring me down here and tell me about all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martyrs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nd holy men.’ 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2532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2532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omeone who dies or suffers for his or her belief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25320" indent="0">
              <a:spcBef>
                <a:spcPts val="300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62532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peasant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25320" indent="0">
              <a:spcBef>
                <a:spcPts val="300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62532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omeone who performs in a circu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1635120" y="4959360"/>
            <a:ext cx="311040" cy="384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1639800" y="3684600"/>
            <a:ext cx="311400" cy="3841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1639800" y="433224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66672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5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As the ferry backed away from the dock, K.T. could see the dark slate-colored water that edged the banks in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stagnant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pools, oily and slick.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ul and offensive smelling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     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arse and abrasiv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     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Not flowing or running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6613560" y="3352680"/>
            <a:ext cx="1616040" cy="19116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1701720" y="4987800"/>
            <a:ext cx="311400" cy="3844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1706400" y="3608280"/>
            <a:ext cx="311400" cy="3841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1706400" y="431316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666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6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 ‘Take off scarf.  We can leave it as a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decoy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’ answered Nikolai.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 ‘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You are serious!  OK, OK.  I’ll jump.’  K.T. tied the scarf to the rail.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long strip of material worn by a woman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n object used to attract or lur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present or reward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635120" y="4978440"/>
            <a:ext cx="311040" cy="3841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1639800" y="4056120"/>
            <a:ext cx="311400" cy="3841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1639800" y="452268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66720" y="1943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7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 ‘This river, Dnieper, is third longest in all of Europe.  It divides Ukraine into east and west.  And it has become our central sewer.’ ”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s if to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underscore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Nikolai’s words, the barge passed near some pipes that fed from a huge plant directly into the water on the outskirts of the city.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emphasize or stres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make a point or points in a game or contest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move beneath another object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635120" y="5664240"/>
            <a:ext cx="311040" cy="3841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1639800" y="4732200"/>
            <a:ext cx="311400" cy="3844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1639800" y="519912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66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8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K.T. and Nikolai shared the water bottle he had bought on the ferry.  It would have to last through the long,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sultry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journey.  Already their dark clothes were hot to the touch.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ot and moist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ausing fright or harm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fficult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635120" y="4844880"/>
            <a:ext cx="311040" cy="3844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1639800" y="3979800"/>
            <a:ext cx="311400" cy="3841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1639800" y="441792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21T19:35:23Z</dcterms:created>
  <dc:creator>Media Resources</dc:creator>
  <dc:description/>
  <dc:language>en-US</dc:language>
  <cp:lastModifiedBy>Jeremiah McNichols</cp:lastModifiedBy>
  <cp:lastPrinted>2002-05-23T02:09:08Z</cp:lastPrinted>
  <dcterms:modified xsi:type="dcterms:W3CDTF">2008-10-08T13:32:07Z</dcterms:modified>
  <cp:revision>35</cp:revision>
  <dc:subject/>
  <dc:title>Vocabulary Challeng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e02000000000001023620</vt:lpwstr>
  </property>
</Properties>
</file>