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5920" y="685440"/>
            <a:ext cx="42861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FA74-0852-4E3A-AF25-D56275CFD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9790-6968-40CF-B67E-74D2DA67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D22F-0EC5-430A-9EE8-E0CC3543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FB00-476B-4955-85F4-04CAE597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1DA8-ABD6-4E9F-8E00-7F908734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4B50-2EDF-4DD1-B62A-983CEBB5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85F7-D617-48E9-A62C-904D28EC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8614-DC6F-4402-A5CF-8957F56C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41CC-C0EE-4C86-8FC7-AB82711A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5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23DF-2A3B-4E1F-AF56-2F2151BA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351F-0BF0-480F-9A89-C6890BC4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C105-F656-4128-9974-4D660289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F95F-01BB-45CA-9E4D-D266ED20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4320"/>
            <a:ext cx="2895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AF53-EB50-47CC-88D2-1B55E8EADE8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262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ikolai was angr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ctories in the area had driven away 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rm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kes in the area were being drain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 grandfather was arrested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lution on the river had gotten wor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 could not get a job in one of the factori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ning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212840" y="524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21608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212840" y="347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212840" y="404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216080" y="45990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30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end of the story, K.T. tries to convince Nikolai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immigrate to Europe to escape the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 to give up his fight for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the farms along the river are beautiful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uld not be a source of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industrial pollution is a fact of life an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orry about 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forgive his grandfather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217520" y="600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220760" y="29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217520" y="3546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217520" y="4189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1220760" y="51134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220920" y="3103560"/>
            <a:ext cx="2791080" cy="1257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286160" y="53658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968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62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phrases best de- scribes the two main characters in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girl named Natasha and her brot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studying in Russia and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ach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a Russian boy wh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omes her 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her step-sist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boy and his father, a fire fighter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39840" y="293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38400" y="6194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366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3660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39840" y="5632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96520" y="17600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 the story, the effects of a recent disaster threaten the characters.  The disaster is a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5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rnad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o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est fi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uclear accid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rrorist atta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07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17520" y="37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7520" y="438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0760" y="4970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6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finds that she has traveled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 in time to the Ukrai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ward in time to Mosc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nother plane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 remote Pacific isla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here due to a malfunctioning travel 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1752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0760" y="2536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17520" y="3089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7520" y="3646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220760" y="4232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4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traveled from her home to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vestigate the kidnapping of a fri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 her pen pal by attending her birth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end an international youth socc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nam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 Nikolai find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the beautiful city of Kiev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220760" y="25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217520" y="3279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217520" y="417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220760" y="4979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0920" y="17888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8384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the soldiers force the characters to leave the “exclusion zone”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rotect them from weapons testing i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is area was used only for milit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and no civilians were allow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didn’t force them to leave.  They ju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ve them a r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ey were paid for every person the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oved from the 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imit their exposure to rad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89160" y="0"/>
            <a:ext cx="605484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217520" y="626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220760" y="295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217520" y="382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217520" y="466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220760" y="55134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uthorities believed K.T.was a sp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ore a black trench c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father worked at the US Embass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backpack contained a suspicious comput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told them she was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rote letters to a Russian girl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nepropetrovs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212840" y="578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211400" y="3046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212840" y="361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212840" y="428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211400" y="51037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uring the story, the characters traveled from place to place by all of the following EXCEPT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s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foo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rry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ar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rmored tru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212840" y="5637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211400" y="34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208160" y="396540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212840" y="45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211400" y="5079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942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 K.T. and Nikolai traveled on the river, what evidence of pollution did they encounte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dead fish with a tum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l smelling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ipes dumping factory wastes into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sh floating in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208160" y="564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211400" y="340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208160" y="3960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208160" y="4527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211400" y="5075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1:31Z</dcterms:created>
  <dc:creator>John</dc:creator>
  <dc:description/>
  <dc:language>en-US</dc:language>
  <cp:lastModifiedBy>Vince Hardy</cp:lastModifiedBy>
  <dcterms:modified xsi:type="dcterms:W3CDTF">2007-05-02T12:08:26Z</dcterms:modified>
  <cp:revision>80</cp:revision>
  <dc:subject/>
  <dc:title>Investigator’s Challeng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2000000000001023620</vt:lpwstr>
  </property>
</Properties>
</file>