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DB524-0611-44A2-9672-364DD7366F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F13F2-1BC9-4099-AFE6-86A61DC31A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1B3A7-0880-4181-9D19-B44FEC092E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C19A9-AC72-4955-A345-4BF0033DD8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8144F-0B71-4539-9A77-580D323307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BF76E-FBB7-4EFE-9126-1831AB3B62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1739D-41A1-42A4-A7C3-BA6B0B3655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AFAE2-CA2C-4E90-9201-A1FF1F50FD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7E449-104C-42B7-8E5E-6CE7FC5B8A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ACE0C-39AD-48E2-90AA-3BA30EBBDB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C47AC-0428-4C04-8DB9-D577A132DD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EA6E0-0170-43A9-A27F-667BDCCF17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12482-B977-432A-8C41-AC1DBB63E8F9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6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 it is written as a PERCENT, the decimal number is the part and 100 is always the whole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D7DAB-1D21-4CDD-BBC6-1583C2D1531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6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) Multiply the decimal by 100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) Add a percent sign after the answer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or 100%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.83 or 83%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797200" y="4724280"/>
            <a:ext cx="3451320" cy="14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48231-EA63-4B19-BAB9-1C2CB7D96E48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09Z</dcterms:modified>
  <cp:revision>211</cp:revision>
  <dc:subject/>
  <dc:title>VTPP 423 - PHYSIOLOGY</dc:title>
</cp:coreProperties>
</file>