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9338D-0DB6-4A0F-90E7-93D5A01ADB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C880C-558C-41D7-9071-8C67C4E292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40485-62FD-46E5-BD4A-F2562967BB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6FBAE-80F5-42B4-9312-C565F1F7CB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FEF31-1343-414E-B125-0792467E30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12B25-5905-482E-A1C4-91E9991F50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9A9D2-90BF-47D7-B44D-8EFB718EF8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011CB-8BDD-4EC6-83C5-4A513D23C4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643DA-60A0-4AE7-A37D-723A6DA6AA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766BD-BD06-4032-BDC1-A717EA6A63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2052A-B862-4AD1-AD34-D969809678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15B82-2E92-4E16-A771-15A895A8DD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75D82-C20A-4EF7-B53F-944D471B85D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03356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ircl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Squa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riangl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phe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Cub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Pyrami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pyramid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earth_clear1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Yield" descr=""/>
          <p:cNvPicPr/>
          <p:nvPr/>
        </p:nvPicPr>
        <p:blipFill>
          <a:blip r:embed="rId4"/>
          <a:stretch/>
        </p:blipFill>
        <p:spPr>
          <a:xfrm>
            <a:off x="6229440" y="1905120"/>
            <a:ext cx="1695240" cy="1409760"/>
          </a:xfrm>
          <a:prstGeom prst="rect">
            <a:avLst/>
          </a:prstGeom>
          <a:ln w="0">
            <a:noFill/>
          </a:ln>
        </p:spPr>
      </p:pic>
      <p:pic>
        <p:nvPicPr>
          <p:cNvPr id="84" name="Dollar" descr=""/>
          <p:cNvPicPr/>
          <p:nvPr/>
        </p:nvPicPr>
        <p:blipFill>
          <a:blip r:embed="rId5"/>
          <a:stretch/>
        </p:blipFill>
        <p:spPr>
          <a:xfrm>
            <a:off x="914400" y="1609560"/>
            <a:ext cx="1933560" cy="1895760"/>
          </a:xfrm>
          <a:prstGeom prst="rect">
            <a:avLst/>
          </a:prstGeom>
          <a:ln w="0">
            <a:noFill/>
          </a:ln>
        </p:spPr>
      </p:pic>
      <p:pic>
        <p:nvPicPr>
          <p:cNvPr id="85" name="cube" descr=""/>
          <p:cNvPicPr/>
          <p:nvPr/>
        </p:nvPicPr>
        <p:blipFill>
          <a:blip r:embed="rId6"/>
          <a:stretch/>
        </p:blipFill>
        <p:spPr>
          <a:xfrm>
            <a:off x="3762360" y="4419720"/>
            <a:ext cx="141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CheckerBoard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12924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FB758-0CFB-4CC4-A262-52264CB85B0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ctangl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Con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ent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Hex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ctagon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chinese%20checkers" descr=""/>
          <p:cNvPicPr/>
          <p:nvPr/>
        </p:nvPicPr>
        <p:blipFill>
          <a:blip r:embed="rId2"/>
          <a:stretch/>
        </p:blipFill>
        <p:spPr>
          <a:xfrm>
            <a:off x="3733920" y="4421160"/>
            <a:ext cx="1828800" cy="18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15200" y="1752480"/>
            <a:ext cx="380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op" descr=""/>
          <p:cNvPicPr/>
          <p:nvPr/>
        </p:nvPicPr>
        <p:blipFill>
          <a:blip r:embed="rId3"/>
          <a:stretch/>
        </p:blipFill>
        <p:spPr>
          <a:xfrm>
            <a:off x="6543720" y="441972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TrafficCone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60020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Pentagon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85112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SodaPop" descr=""/>
          <p:cNvPicPr/>
          <p:nvPr/>
        </p:nvPicPr>
        <p:blipFill>
          <a:blip r:embed="rId6"/>
          <a:stretch/>
        </p:blipFill>
        <p:spPr>
          <a:xfrm>
            <a:off x="6934320" y="1828800"/>
            <a:ext cx="925560" cy="1496880"/>
          </a:xfrm>
          <a:prstGeom prst="rect">
            <a:avLst/>
          </a:prstGeom>
          <a:ln w="0">
            <a:noFill/>
          </a:ln>
        </p:spPr>
      </p:pic>
      <p:pic>
        <p:nvPicPr>
          <p:cNvPr id="95" name="Field" descr=""/>
          <p:cNvPicPr/>
          <p:nvPr/>
        </p:nvPicPr>
        <p:blipFill>
          <a:blip r:embed="rId7"/>
          <a:stretch/>
        </p:blipFill>
        <p:spPr>
          <a:xfrm>
            <a:off x="914400" y="1905120"/>
            <a:ext cx="203508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DCA69-1E03-4DA5-B983-A853457DB7FF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8:36Z</dcterms:modified>
  <cp:revision>212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002000000000001023620</vt:lpwstr>
  </property>
</Properties>
</file>