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606F6-A357-41CC-BD29-B61C36BABC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EEFD-35AA-4861-921E-F70352BA6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5EA6-5403-409E-955D-D71549497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B38C-4E01-41E4-9895-C3E9427B4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DA0D-D260-40AE-B8B8-10B7A36B7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967C6-A10E-4526-8FC8-BAEB1F542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FC689-7535-4FEE-A33C-9D1BE2847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C2FE3-6363-416A-99DB-46763DD7F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9C678-2156-4DC0-AD84-9772A5B71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66DD6-848A-4DF9-913C-F05ADA28C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C6D07-34B2-42BE-A970-468D1B283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8B7F9-3816-4712-8273-60361252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4C1B-FC9D-433D-BD60-4674A5977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E3BB9-E3F3-44BD-B4B9-299C46C94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C6A52-C71D-4A7B-BA85-7E6D5C06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BB4E8-9000-4744-BCC8-F037447EB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91D6E-20D2-4C73-85EA-C92B64AD8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CBE36-06F4-4036-A07F-7831AECDD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CD69-7442-400E-B54F-F9D198B27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8232-3DE8-4C68-960E-AF295C94E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5239-96FE-42A4-9350-85A01B0F6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F9AA-99A5-40E8-B0BA-B07EC0BB4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6A3E-F326-4D65-9F47-CF6D4B655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97F5-2C38-46E6-B456-5A10023F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96DB-4DDE-4E86-B1BF-1E5921465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498A1-1FAA-4FF5-8865-7C1E6ADAC53B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247B4-AE95-4800-A584-2E76D2051488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file:///../Appendices/Social%20Studies/AbsoLoca.ppt" TargetMode="External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file:///../Appendices/Social%20Studies/AbsoLoca.ppt" TargetMode="External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094200" y="4905360"/>
            <a:ext cx="35766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63" name=""/>
          <p:cNvSpPr/>
          <p:nvPr/>
        </p:nvSpPr>
        <p:spPr>
          <a:xfrm>
            <a:off x="1568880" y="4419720"/>
            <a:ext cx="58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9.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What city is located at 49° N.L., 39° E.L.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6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094200" y="4905360"/>
            <a:ext cx="5486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72" name=""/>
          <p:cNvSpPr/>
          <p:nvPr/>
        </p:nvSpPr>
        <p:spPr>
          <a:xfrm>
            <a:off x="1568520" y="4419720"/>
            <a:ext cx="603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0.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What city is located at 46° N.L., 31° E.L.?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6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eturn to the 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6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0320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  The latitude for the center of Ukraine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4965840" y="1415880"/>
            <a:ext cx="244440" cy="140040"/>
          </a:xfrm>
          <a:custGeom>
            <a:avLst/>
            <a:gdLst/>
            <a:ahLst/>
            <a:rect l="l" t="t" r="r" b="b"/>
            <a:pathLst>
              <a:path w="154" h="88">
                <a:moveTo>
                  <a:pt x="25" y="48"/>
                </a:moveTo>
                <a:cubicBezTo>
                  <a:pt x="36" y="64"/>
                  <a:pt x="28" y="69"/>
                  <a:pt x="33" y="88"/>
                </a:cubicBezTo>
                <a:cubicBezTo>
                  <a:pt x="38" y="87"/>
                  <a:pt x="44" y="86"/>
                  <a:pt x="49" y="84"/>
                </a:cubicBezTo>
                <a:cubicBezTo>
                  <a:pt x="53" y="82"/>
                  <a:pt x="56" y="76"/>
                  <a:pt x="61" y="76"/>
                </a:cubicBezTo>
                <a:cubicBezTo>
                  <a:pt x="69" y="76"/>
                  <a:pt x="85" y="84"/>
                  <a:pt x="85" y="84"/>
                </a:cubicBezTo>
                <a:cubicBezTo>
                  <a:pt x="119" y="61"/>
                  <a:pt x="77" y="67"/>
                  <a:pt x="133" y="60"/>
                </a:cubicBezTo>
                <a:cubicBezTo>
                  <a:pt x="137" y="57"/>
                  <a:pt x="144" y="57"/>
                  <a:pt x="145" y="52"/>
                </a:cubicBezTo>
                <a:cubicBezTo>
                  <a:pt x="154" y="16"/>
                  <a:pt x="106" y="19"/>
                  <a:pt x="85" y="16"/>
                </a:cubicBezTo>
                <a:cubicBezTo>
                  <a:pt x="61" y="0"/>
                  <a:pt x="57" y="4"/>
                  <a:pt x="25" y="8"/>
                </a:cubicBezTo>
                <a:cubicBezTo>
                  <a:pt x="22" y="12"/>
                  <a:pt x="20" y="17"/>
                  <a:pt x="17" y="20"/>
                </a:cubicBezTo>
                <a:cubicBezTo>
                  <a:pt x="14" y="23"/>
                  <a:pt x="7" y="23"/>
                  <a:pt x="5" y="28"/>
                </a:cubicBezTo>
                <a:cubicBezTo>
                  <a:pt x="0" y="44"/>
                  <a:pt x="14" y="48"/>
                  <a:pt x="25" y="48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97120" y="6262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4965840" y="1415880"/>
            <a:ext cx="244440" cy="140040"/>
          </a:xfrm>
          <a:custGeom>
            <a:avLst/>
            <a:gdLst/>
            <a:ahLst/>
            <a:rect l="l" t="t" r="r" b="b"/>
            <a:pathLst>
              <a:path w="154" h="88">
                <a:moveTo>
                  <a:pt x="25" y="48"/>
                </a:moveTo>
                <a:cubicBezTo>
                  <a:pt x="36" y="64"/>
                  <a:pt x="28" y="69"/>
                  <a:pt x="33" y="88"/>
                </a:cubicBezTo>
                <a:cubicBezTo>
                  <a:pt x="38" y="87"/>
                  <a:pt x="44" y="86"/>
                  <a:pt x="49" y="84"/>
                </a:cubicBezTo>
                <a:cubicBezTo>
                  <a:pt x="53" y="82"/>
                  <a:pt x="56" y="76"/>
                  <a:pt x="61" y="76"/>
                </a:cubicBezTo>
                <a:cubicBezTo>
                  <a:pt x="69" y="76"/>
                  <a:pt x="85" y="84"/>
                  <a:pt x="85" y="84"/>
                </a:cubicBezTo>
                <a:cubicBezTo>
                  <a:pt x="119" y="61"/>
                  <a:pt x="77" y="67"/>
                  <a:pt x="133" y="60"/>
                </a:cubicBezTo>
                <a:cubicBezTo>
                  <a:pt x="137" y="57"/>
                  <a:pt x="144" y="57"/>
                  <a:pt x="145" y="52"/>
                </a:cubicBezTo>
                <a:cubicBezTo>
                  <a:pt x="154" y="16"/>
                  <a:pt x="106" y="19"/>
                  <a:pt x="85" y="16"/>
                </a:cubicBezTo>
                <a:cubicBezTo>
                  <a:pt x="61" y="0"/>
                  <a:pt x="57" y="4"/>
                  <a:pt x="25" y="8"/>
                </a:cubicBezTo>
                <a:cubicBezTo>
                  <a:pt x="22" y="12"/>
                  <a:pt x="20" y="17"/>
                  <a:pt x="17" y="20"/>
                </a:cubicBezTo>
                <a:cubicBezTo>
                  <a:pt x="14" y="23"/>
                  <a:pt x="7" y="23"/>
                  <a:pt x="5" y="28"/>
                </a:cubicBezTo>
                <a:cubicBezTo>
                  <a:pt x="0" y="44"/>
                  <a:pt x="14" y="48"/>
                  <a:pt x="25" y="48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0320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.  The longitude for the center of Ukraine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97120" y="6262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4965840" y="1415880"/>
            <a:ext cx="244440" cy="140040"/>
          </a:xfrm>
          <a:custGeom>
            <a:avLst/>
            <a:gdLst/>
            <a:ahLst/>
            <a:rect l="l" t="t" r="r" b="b"/>
            <a:pathLst>
              <a:path w="154" h="88">
                <a:moveTo>
                  <a:pt x="25" y="48"/>
                </a:moveTo>
                <a:cubicBezTo>
                  <a:pt x="36" y="64"/>
                  <a:pt x="28" y="69"/>
                  <a:pt x="33" y="88"/>
                </a:cubicBezTo>
                <a:cubicBezTo>
                  <a:pt x="38" y="87"/>
                  <a:pt x="44" y="86"/>
                  <a:pt x="49" y="84"/>
                </a:cubicBezTo>
                <a:cubicBezTo>
                  <a:pt x="53" y="82"/>
                  <a:pt x="56" y="76"/>
                  <a:pt x="61" y="76"/>
                </a:cubicBezTo>
                <a:cubicBezTo>
                  <a:pt x="69" y="76"/>
                  <a:pt x="85" y="84"/>
                  <a:pt x="85" y="84"/>
                </a:cubicBezTo>
                <a:cubicBezTo>
                  <a:pt x="119" y="61"/>
                  <a:pt x="77" y="67"/>
                  <a:pt x="133" y="60"/>
                </a:cubicBezTo>
                <a:cubicBezTo>
                  <a:pt x="137" y="57"/>
                  <a:pt x="144" y="57"/>
                  <a:pt x="145" y="52"/>
                </a:cubicBezTo>
                <a:cubicBezTo>
                  <a:pt x="154" y="16"/>
                  <a:pt x="106" y="19"/>
                  <a:pt x="85" y="16"/>
                </a:cubicBezTo>
                <a:cubicBezTo>
                  <a:pt x="61" y="0"/>
                  <a:pt x="57" y="4"/>
                  <a:pt x="25" y="8"/>
                </a:cubicBezTo>
                <a:cubicBezTo>
                  <a:pt x="22" y="12"/>
                  <a:pt x="20" y="17"/>
                  <a:pt x="17" y="20"/>
                </a:cubicBezTo>
                <a:cubicBezTo>
                  <a:pt x="14" y="23"/>
                  <a:pt x="7" y="23"/>
                  <a:pt x="5" y="28"/>
                </a:cubicBezTo>
                <a:cubicBezTo>
                  <a:pt x="0" y="44"/>
                  <a:pt x="14" y="48"/>
                  <a:pt x="25" y="48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0320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.  The absolute location of Ukraine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10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06840" y="53863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06840" y="581508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06840" y="625788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18908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.  The latitude for the center of Dnipropetrovs’k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48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828800" y="380880"/>
            <a:ext cx="5505480" cy="44276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697120" y="6262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828800" y="380880"/>
            <a:ext cx="5505480" cy="44276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30" name=""/>
          <p:cNvSpPr/>
          <p:nvPr/>
        </p:nvSpPr>
        <p:spPr>
          <a:xfrm>
            <a:off x="119052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.  The longitude for the center of Dnipropetrovs’k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45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97120" y="58053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97120" y="62485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828800" y="380880"/>
            <a:ext cx="5505480" cy="44276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37" name=""/>
          <p:cNvSpPr/>
          <p:nvPr/>
        </p:nvSpPr>
        <p:spPr>
          <a:xfrm>
            <a:off x="119052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.  The absolute location of Dnipropetrovs’k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10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8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35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97120" y="62485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44" name=""/>
          <p:cNvSpPr/>
          <p:nvPr/>
        </p:nvSpPr>
        <p:spPr>
          <a:xfrm>
            <a:off x="3094200" y="4905360"/>
            <a:ext cx="5486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68520" y="4419720"/>
            <a:ext cx="58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.  What city is located at 5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, 24° E.L.?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1568520" y="4419720"/>
            <a:ext cx="58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8.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What city is located at 50° N.L., 31° E.L.?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94200" y="4905360"/>
            <a:ext cx="5486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8T18:55:12Z</dcterms:created>
  <dc:creator>Unknown User</dc:creator>
  <dc:description/>
  <dc:language>en-US</dc:language>
  <cp:lastModifiedBy>Texas A&amp;M Veterinary Medicine</cp:lastModifiedBy>
  <cp:lastPrinted>2002-01-02T19:06:19Z</cp:lastPrinted>
  <dcterms:modified xsi:type="dcterms:W3CDTF">2005-05-17T17:13:59Z</dcterms:modified>
  <cp:revision>69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404000000000001023620</vt:lpwstr>
  </property>
</Properties>
</file>