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63903-C955-44D9-A3AC-008767D022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68CB9-3C4B-43CA-8582-BE6A3E74A9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573FD-8646-489B-BC8F-38C7C820C8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DE5D6-C954-4D86-B4C2-585AD03B7F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20FE7-4C72-411A-89E8-F86D2490D4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519E3-8FD2-4165-83D3-123FF85F52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94B91-B7F3-4559-8768-972BD532C6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FE124-C068-4BFC-86AD-B55F61D510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6BCA0-6DA2-4267-8411-2E97866F6F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75462-DC0D-454E-A630-4D45C10B38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450BC-EB9F-4F1C-AC18-6F54856B84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1F509-34E8-4F02-9A02-EE0BB03B7E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556FD-ED08-4E58-89D3-35539E20C40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 it is written as a PERCENT, the decimal number is the part and 100 is always the whole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E2E03-E607-4D21-80DA-18F8882F7AA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) Multiply the decimal by 100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) Add a percent sign after the answer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or 100%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.83 or 83%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7200" y="4724280"/>
            <a:ext cx="345132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7B200-CAA2-40FB-B0A7-44AA60F54241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09Z</dcterms:modified>
  <cp:revision>211</cp:revision>
  <dc:subject/>
  <dc:title>VTPP 423 - PHYSIOLOGY</dc:title>
</cp:coreProperties>
</file>