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7315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85920" y="685440"/>
            <a:ext cx="42861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58531-8BD9-4235-A25B-569A6FA754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A262-AB76-48E1-830D-46543CB35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7772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05680"/>
            <a:ext cx="7772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BEBB-EDD1-4EA3-939F-517B1C319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879D-E3CA-46E5-8B42-3360CD04C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1124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1124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056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056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056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B968-49BE-4007-8DDA-B56D03638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11248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42E4-9614-4365-BA97-23B133D27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85A2-0922-4BD3-BB21-5792BFB90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B638-9B9A-4186-8F3C-FA725206B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303E-6439-49AF-B8E1-47FB8AEE3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5052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5B29-BEDD-448C-905C-EEBF37A3E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CC97-EE67-4245-9A3E-DC00888B2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408D-B493-464C-B3F6-32D757211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05680"/>
            <a:ext cx="7772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72E2-264E-4020-AEDC-6CA49630D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1248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664320"/>
            <a:ext cx="19051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4320"/>
            <a:ext cx="28958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664320"/>
            <a:ext cx="19051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5C0DF-AFD5-4C40-8197-433D7CB210B3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41240" y="2217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262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ikolai was angry because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factories in the area had driven away all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farm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akes in the area were being drain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is grandfather was arrested for pollut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ollution on the river had gotten wors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 could not get a job in one of the factorie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ining the river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212840" y="5241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216080" y="2631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212840" y="3470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1212840" y="4041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1216080" y="45990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22440" y="1760040"/>
            <a:ext cx="8038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6307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0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t the end of the story, K.T. tries to convince Nikolai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immigrate to Europe to escape the pollu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t to give up his fight for the river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at the farms along the river are beautiful and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uld not be a source of pollu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at industrial pollution is a fact of life and no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worry about i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forgive his grandfather for pollut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217520" y="6008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1220760" y="2989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1217520" y="3546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1217520" y="4189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7"/>
          <a:stretch/>
        </p:blipFill>
        <p:spPr>
          <a:xfrm>
            <a:off x="1220760" y="51134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220920" y="3103560"/>
            <a:ext cx="2791080" cy="12574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4286160" y="5365800"/>
            <a:ext cx="96228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96880" y="1760040"/>
            <a:ext cx="80265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629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 of the following phrases best de- scribes the two main characters in the story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ussian girl named Natasha and her broth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merican girl studying in Russia and h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acher Natasha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merican girl and a Russian boy who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ecomes her frie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merican girl and her step-sister Natasha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ussian boy and his father, a fire fighter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239840" y="2932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238400" y="61945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236600" y="3889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236600" y="4827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239840" y="56325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596520" y="1760040"/>
            <a:ext cx="80391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n the story, the effects of a recent disaster threaten the characters.  The disaster is a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462"/>
              </a:spcBef>
              <a:spcAft>
                <a:spcPts val="462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5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rnado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loo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est fir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uclear accid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rrorist attack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217520" y="5580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220760" y="3203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217520" y="3784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1217520" y="4384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220760" y="49705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643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.T. finds that she has traveled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ck in time to the Ukrain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ward in time to Moscow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another plane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a remote Pacific islan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where due to a malfunctioning travel devic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217520" y="4827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220760" y="2536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217520" y="3089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1217520" y="3646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1220760" y="42321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09480" y="1760040"/>
            <a:ext cx="80265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.T. traveled from her home to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vestigate the kidnapping of a frien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rprise her pen pal by attending her birthda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art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ttend an international youth socc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urnam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lp Nikolai find his fat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the beautiful city of Kiev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217520" y="5580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220760" y="2575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1217520" y="32796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1217520" y="4179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7"/>
          <a:stretch/>
        </p:blipFill>
        <p:spPr>
          <a:xfrm>
            <a:off x="1220760" y="497988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10920" y="1788840"/>
            <a:ext cx="80391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83840"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y did the soldiers force the characters to leave the “exclusion zone”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protect them from weapons testing in th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e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ecause this area was used only for militar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ining and no civilians were allow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y didn’t force them to leave.  They jus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gave them a rid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ecause they were paid for every person the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moved from the are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limit their exposure to rad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89160" y="0"/>
            <a:ext cx="605484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217520" y="6261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1220760" y="2951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1217520" y="3827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1217520" y="4660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1220760" y="55134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010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96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authorities believed K.T.was a spy because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e wore a black trench coa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r father worked at the US Embass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r backpack contained a suspicious comput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vic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 told them she was a sp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e wrote letters to a Russian girl i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nepropetrovsk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212840" y="5784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211400" y="30463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1212840" y="3618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1212840" y="4289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1211400" y="51037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22440" y="1760040"/>
            <a:ext cx="8038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uring the story, the characters traveled from place to place by all of the following EXCEPT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us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foo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ferry boa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arg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rmored truck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212840" y="5637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1211400" y="3413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1208160" y="3965400"/>
            <a:ext cx="374400" cy="465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1212840" y="4522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7"/>
          <a:stretch/>
        </p:blipFill>
        <p:spPr>
          <a:xfrm>
            <a:off x="1211400" y="50799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010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942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s K.T. and Nikolai traveled on the river, what evidence of pollution did they encounter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dead fish with a tum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ul smelling wa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ipes dumping factory wastes into the riv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sh floating in the riv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 of the abov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208160" y="56419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1211400" y="3408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1208160" y="3960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1208160" y="4527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1211400" y="50752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8T20:51:31Z</dcterms:created>
  <dc:creator>John</dc:creator>
  <dc:description/>
  <dc:language>en-US</dc:language>
  <cp:lastModifiedBy>Vince Hardy</cp:lastModifiedBy>
  <dcterms:modified xsi:type="dcterms:W3CDTF">2007-05-02T12:08:26Z</dcterms:modified>
  <cp:revision>80</cp:revision>
  <dc:subject/>
  <dc:title>Investigator’s Challenge Quiz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02000000000001023620</vt:lpwstr>
  </property>
</Properties>
</file>