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27.png" ContentType="image/png"/>
  <Override PartName="/ppt/media/image4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jpeg" ContentType="image/jpe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52CF-DA6E-4970-BF01-D2C7AA1C3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C) Integers in real-li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A, B, C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  Describe proportions using rat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Represent ratios/percents with models, fractions, decim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) Predict Proportions using Rati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, Formulate equation from problem situ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A, C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  Identify/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)  Select appropriate problem-solving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E28E-9C0D-4A92-A95F-2CE372DD1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E9A0-DF51-42C9-9C98-FCCD7E37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BC89-05DE-4373-95C6-83064DC8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C061-538E-4C31-A167-6A78BB507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2CEF-F251-435E-B191-2DC0790C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078E-0801-4D21-B80B-B326BD8F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137A-4885-471B-A5B1-4EACE13A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900A-659B-4F90-BC6D-48322FC3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FE88-F8D4-4029-9915-DA35FE74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A63D-8F2E-4D9F-9189-98122937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F242-067E-4682-8E04-95C74A70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FBD6-1F9D-4CE0-B1E3-42F67AD7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6396-520E-4F07-A8C3-E6EC0AF1178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9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30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09480" y="385776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peer.tamu.edu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990720"/>
            <a:ext cx="8153280" cy="27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ard River Escape Revie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inding the Perimet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90760" y="2743200"/>
            <a:ext cx="4800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The perimeter of a polygon is the sum of the lengths of all its sides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1790640" cy="1524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590920" y="3200400"/>
            <a:ext cx="1057320" cy="1000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33520" y="4495680"/>
            <a:ext cx="1666800" cy="1387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3124080" y="4876920"/>
            <a:ext cx="1362240" cy="1390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2895480" y="1295280"/>
            <a:ext cx="139068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bebeb"/>
                </a:solidFill>
                <a:uFillTx/>
                <a:latin typeface="Times New Roman"/>
              </a:rPr>
              <a:t>Exampl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3200400" cy="2256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9880" y="1143000"/>
            <a:ext cx="5181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rectangle has 4 sid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opposite sides of the rectangle have the same length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sides have the length = 6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sides have the length = 9.8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 = 6*2 + 9.8*2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 = 31.6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Determining Angl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343400" y="1752480"/>
            <a:ext cx="41911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Obtuse Angle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:  An angle that has a value greater than 90 degrees and less than 180 degre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295280" y="1981080"/>
            <a:ext cx="2049480" cy="3048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3520" y="914400"/>
            <a:ext cx="990360" cy="167652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Determining Angl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Times New Roman"/>
              </a:rPr>
              <a:t>Acute Angle</a:t>
            </a:r>
            <a:r>
              <a:rPr b="0" lang="en-US" sz="4000" spc="-1" strike="noStrike">
                <a:solidFill>
                  <a:srgbClr val="cc99ff"/>
                </a:solidFill>
                <a:latin typeface="Times New Roman"/>
              </a:rPr>
              <a:t>: An angle whose measure is less than 90 degrees but greater than 0.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3581280" cy="358128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Determining Angl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1972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5add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add9"/>
                </a:solidFill>
                <a:latin typeface="Times New Roman"/>
              </a:rPr>
              <a:t>Right Angle</a:t>
            </a:r>
            <a:r>
              <a:rPr b="0" lang="en-US" sz="3600" spc="-1" strike="noStrike">
                <a:solidFill>
                  <a:srgbClr val="65add9"/>
                </a:solidFill>
                <a:latin typeface="Times New Roman"/>
              </a:rPr>
              <a:t>: An angle of 90 degrees or  an angle made by the meeting of two straight lines perpendicular to each other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38671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48160" y="2209320"/>
            <a:ext cx="2601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110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1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3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02080" y="4549680"/>
            <a:ext cx="4672080" cy="2185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114800" y="1295280"/>
            <a:ext cx="4648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b=the base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=the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= b * 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e can picture "cutting off" a triangle from one side and "pasting" it onto the other side to form a rectangle with side-length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 This rectangle has area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 × 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Finding the Area of a Parallelogram!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57200" y="4038480"/>
            <a:ext cx="3429000" cy="1962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33520" y="1447920"/>
            <a:ext cx="281916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ff"/>
                </a:solidFill>
                <a:uFillTx/>
                <a:latin typeface="Times New Roman"/>
              </a:rPr>
              <a:t>Exampl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What is the area of a parallelogram having a base of 20 and a corresponding height of 7?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514600"/>
            <a:ext cx="39625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h=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b=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A=b*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A=20*7=1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04920" y="2590920"/>
            <a:ext cx="403848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Finding the Area of a Triangle!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14440" y="990360"/>
            <a:ext cx="4800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h=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b=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 = (1/2)*b*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We take a second triangle identical to the first, rotate it and "paste" it to the first triangle as pictu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 parallelogram with base </a:t>
            </a:r>
            <a:r>
              <a:rPr b="0" i="1" lang="en-US" sz="28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and height </a:t>
            </a:r>
            <a:r>
              <a:rPr b="0" i="1" lang="en-US" sz="2800" spc="-1" strike="noStrike">
                <a:solidFill>
                  <a:srgbClr val="00ff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, is form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This area is twice that of the triangle, so the triangle has area 1/2 × </a:t>
            </a:r>
            <a:r>
              <a:rPr b="0" i="1" lang="en-US" sz="28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 × </a:t>
            </a:r>
            <a:r>
              <a:rPr b="0" i="1" lang="en-US" sz="2800" spc="-1" strike="noStrike">
                <a:solidFill>
                  <a:srgbClr val="00ff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8600" y="4114800"/>
            <a:ext cx="3657600" cy="2033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30481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b1b89"/>
                </a:solidFill>
                <a:uFillTx/>
                <a:latin typeface="Times New Roman"/>
              </a:rPr>
              <a:t>Example</a:t>
            </a:r>
            <a:endParaRPr b="0" lang="en-US" sz="4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724280" y="1980720"/>
            <a:ext cx="4114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db1b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b1b89"/>
                </a:solidFill>
                <a:latin typeface="Times New Roman"/>
              </a:rPr>
              <a:t>h = 7.2</a:t>
            </a:r>
            <a:endParaRPr b="0" lang="en-US" sz="3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db1b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b1b89"/>
                </a:solidFill>
                <a:latin typeface="Times New Roman"/>
              </a:rPr>
              <a:t>b = 6.5</a:t>
            </a:r>
            <a:endParaRPr b="0" lang="en-US" sz="3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db1b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b1b89"/>
                </a:solidFill>
                <a:latin typeface="Times New Roman"/>
              </a:rPr>
              <a:t>A = (1/2) *b*h</a:t>
            </a:r>
            <a:endParaRPr b="0" lang="en-US" sz="3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db1b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b1b89"/>
                </a:solidFill>
                <a:latin typeface="Times New Roman"/>
              </a:rPr>
              <a:t>A = (1/2)*6.5*7.2</a:t>
            </a:r>
            <a:endParaRPr b="0" lang="en-US" sz="3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db1b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b1b89"/>
                </a:solidFill>
                <a:latin typeface="Times New Roman"/>
              </a:rPr>
              <a:t>A = 23.4</a:t>
            </a:r>
            <a:endParaRPr b="0" lang="en-US" sz="3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3975120" cy="4105440"/>
          </a:xfrm>
          <a:prstGeom prst="rect">
            <a:avLst/>
          </a:prstGeom>
          <a:ln w="38160">
            <a:solidFill>
              <a:srgbClr val="db1b8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Finding the Area of a Circl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1640" y="1676520"/>
            <a:ext cx="4343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 = radiu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= </a:t>
            </a:r>
            <a:r>
              <a:rPr b="1" lang="el-GR" sz="4400" spc="-1" strike="noStrike">
                <a:solidFill>
                  <a:srgbClr val="ffff00"/>
                </a:solidFill>
                <a:latin typeface="Times New Roman"/>
              </a:rPr>
              <a:t>π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* r * 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 = </a:t>
            </a:r>
            <a:r>
              <a:rPr b="1" lang="el-GR" sz="4400" spc="-1" strike="noStrike">
                <a:solidFill>
                  <a:srgbClr val="ffff00"/>
                </a:solidFill>
                <a:latin typeface="Times New Roman"/>
              </a:rPr>
              <a:t>π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* r^2</a:t>
            </a: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373356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Exampl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43400" y="1371240"/>
            <a:ext cx="4495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ebebeb"/>
                </a:solidFill>
                <a:uFillTx/>
                <a:latin typeface="Times New Roman"/>
              </a:rPr>
              <a:t>Example 1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r = 3.6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A =  </a:t>
            </a:r>
            <a:r>
              <a:rPr b="0" lang="el-GR" sz="3400" spc="-1" strike="noStrike">
                <a:solidFill>
                  <a:srgbClr val="ebebeb"/>
                </a:solidFill>
                <a:latin typeface="Times New Roman"/>
              </a:rPr>
              <a:t>π</a:t>
            </a: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 * 3.6 * 3.6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A = 40.69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ebebeb"/>
                </a:solidFill>
                <a:uFillTx/>
                <a:latin typeface="Times New Roman"/>
              </a:rPr>
              <a:t>Example2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D = 10.4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r = 10.4 / 2 = 5.2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A = </a:t>
            </a:r>
            <a:r>
              <a:rPr b="0" lang="el-GR" sz="3400" spc="-1" strike="noStrike">
                <a:solidFill>
                  <a:srgbClr val="ebebeb"/>
                </a:solidFill>
                <a:latin typeface="Times New Roman"/>
              </a:rPr>
              <a:t>π</a:t>
            </a: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 * (5.2)^2 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A = 84.9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2362320" cy="2214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85800" y="3886200"/>
            <a:ext cx="277164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inding the Circumferenc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1" lang="el-GR" sz="4400" spc="-1" strike="noStrike">
                <a:solidFill>
                  <a:srgbClr val="ebebeb"/>
                </a:solidFill>
                <a:latin typeface="Times New Roman"/>
              </a:rPr>
              <a:t>π</a:t>
            </a: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 * D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o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1" lang="el-GR" sz="4400" spc="-1" strike="noStrike">
                <a:solidFill>
                  <a:srgbClr val="ebebeb"/>
                </a:solidFill>
                <a:latin typeface="Times New Roman"/>
              </a:rPr>
              <a:t>π</a:t>
            </a: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 * 2*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106720" y="4191120"/>
            <a:ext cx="1993680" cy="2438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04920" y="1387440"/>
            <a:ext cx="231444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ff00"/>
                </a:solidFill>
                <a:uFillTx/>
                <a:latin typeface="Times New Roman"/>
              </a:rPr>
              <a:t>Exampl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23920" y="1447560"/>
            <a:ext cx="4419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ebebeb"/>
                </a:solidFill>
                <a:uFillTx/>
                <a:latin typeface="Times New Roman"/>
              </a:rPr>
              <a:t>Example 1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22200" indent="-322200"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D = 5.8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22200" indent="-322200"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l-GR" sz="3400" spc="-1" strike="noStrike">
                <a:solidFill>
                  <a:srgbClr val="ebebeb"/>
                </a:solidFill>
                <a:latin typeface="Times New Roman"/>
              </a:rPr>
              <a:t>π</a:t>
            </a: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 * 5.8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22200" indent="-322200"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C = 18.2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22200" indent="-322200"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ebebeb"/>
                </a:solidFill>
                <a:uFillTx/>
                <a:latin typeface="Times New Roman"/>
              </a:rPr>
              <a:t>Example 2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22200" indent="-322200"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r = 2.2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22200" indent="-322200"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l-GR" sz="3400" spc="-1" strike="noStrike">
                <a:solidFill>
                  <a:srgbClr val="ebebeb"/>
                </a:solidFill>
                <a:latin typeface="Times New Roman"/>
              </a:rPr>
              <a:t>π</a:t>
            </a: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 * 2 * 2.2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22200" indent="-322200"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C = 13.82 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447920" y="4038480"/>
            <a:ext cx="1946160" cy="2333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219320" y="1371600"/>
            <a:ext cx="24382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8:50:03Z</dcterms:created>
  <dc:creator>Jeremiah McNichols</dc:creator>
  <dc:description/>
  <dc:language>en-US</dc:language>
  <cp:lastModifiedBy>cdyer</cp:lastModifiedBy>
  <dcterms:modified xsi:type="dcterms:W3CDTF">2008-09-25T20:02:49Z</dcterms:modified>
  <cp:revision>5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03000000000001023620</vt:lpwstr>
  </property>
</Properties>
</file>