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8887-9A84-440E-B4CB-314876787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4818-229C-449C-B46C-CC9C95142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84A8-FAEB-4ADD-BF76-B1EBF7ED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68FF-668B-4CDE-B328-B7F95E22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C96A-FE2E-46B4-8B25-89DAB8FB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A6A2-20C0-4E71-BC52-37AC09E6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5D2F-0D68-41B5-A71B-14E0677E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37EF-F0E3-484B-AB72-814B6B7B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0C5D-9EC4-41F3-AD44-F808575A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4194-0BF8-41F7-A97A-38BD4703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AA7B-367C-45E6-B7D8-812A94C6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C209-0AA4-4EE7-BB1F-806B71BA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BC8D-1076-40AF-9A25-E1BBA7F4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8E16-4EDB-4864-B1C2-62705C8A5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7-08-02T19:11:24Z</dcterms:modified>
  <cp:revision>30</cp:revision>
  <dc:subject/>
  <dc:title>Sensory Details </dc:title>
</cp:coreProperties>
</file>