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A514-DC52-40EC-ADE7-8048648D0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E545-BD26-4A69-AEA5-99DE07573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078D-F7B4-4704-9AA3-BD2CD97D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F24F-272F-4C4C-AB7A-69037B554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C382-47F4-4C09-BB86-4E0769941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A1E2-D826-4D92-BDC2-BAB4E7DE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1617-2065-4C9F-9636-41F816EA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DE4A-0DAF-44A2-B5C7-A4D3EC7C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7DE3-021A-43BB-9E49-2B7C8FA2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2481-E347-4773-AEE9-C36C462E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ADC4-2EBC-449D-85E3-780A2F5C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3336-8CEE-4AB3-B4D1-37C0D91B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D750-4942-490A-8E34-7241650E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F5E5-D1D4-4C93-9F5B-2FFE4E1230F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2920" y="3885840"/>
            <a:ext cx="830736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Do not worry, K.T., you will not have to swim,’ Nikolai said as he removed his shoes and socks tying the laces together and hanging them over his shoulders.  ‘Just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wade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go beyond in amou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rapidl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walk in or through wat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35120" y="48830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639800" y="4008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639800" y="44467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turned to the old fisherman.  ‘Thank you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May I take the frog with me so my friends can see it?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old man nodded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wilderm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handing the bucket to K.T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greeme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confus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fright or terro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2521080" cy="2436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35120" y="498780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639800" y="40654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091040" y="457668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66720" y="192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Nyet, no.  We’re in Pripyat, a town three kilometers from Chernobyl.  My home is over there,’ he said pointing to a plain white house across the street.  ‘I found some food left inside, but they say not to eat it.  It’s bee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rradiate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posed to radi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heating device for the circulation of stea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mmunication of signal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639800" y="378936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639800" y="45514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The truck rocked gently through the early morning fog while its big diesel engine droned along with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yria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trucks and machinery converging on Chernobyl for another day of ceaseless clean up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feminine given na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very large numb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thing of great siz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141960" y="3429000"/>
            <a:ext cx="2017800" cy="2514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639800" y="3998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639800" y="46180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14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blinked in the bright morning sunlight as the door of the transport opened and Nikolai helped her down the cobblestone street. 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Throng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of people walked the wide boulevard beneath tall trees in full bloom with white fragrant blossoms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mall suit worn for sunbath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great number of things crowded togeth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number of different types of thing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639800" y="4160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639800" y="47037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1600" y="2000160"/>
            <a:ext cx="8001000" cy="37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is called Pecherska Layra, the Monastery of the Caves.  He would bring me down here and tell me about all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artyr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nd holy men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dies or suffers for his or her belief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eas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performs in a circu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35120" y="49593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639800" y="3684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639800" y="433224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6672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As the ferry backed away from the dock, K.T. could see the dark slate-colored water that edged the banks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tagna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pools, oily and slick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ul and offensive smell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arse and abrasiv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ot flowing or runn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613560" y="3352680"/>
            <a:ext cx="1616040" cy="1911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701720" y="49878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706400" y="36082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706400" y="43131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ake off scarf.  We can leave it as a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co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’ answered Nikolai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You are serious!  OK, OK.  I’ll jump.’  K.T. tied the scarf to the rail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long strip of material worn by a woma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object used to attract or lur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resent or reward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35120" y="49784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639800" y="405612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66720" y="1943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river, Dnieper, is third longest in all of Europe.  It divides Ukraine into east and west.  And it has become our central sewer.’ ”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s if to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underscor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Nikolai’s words, the barge passed near some pipes that fed from a huge plant directly into the water on the outskirts of the city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emphasize or st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ake a point or points in a game or conte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beneath another objec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35120" y="56642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639800" y="47322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639800" y="51991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and Nikolai shared the water bottle he had bought on the ferry.  It would have to last through the long,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ultr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journey.  Already their dark clothes were hot to the touch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t and moi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ausing fright or har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icul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635120" y="484488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639800" y="39798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639800" y="44179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9:35:23Z</dcterms:created>
  <dc:creator>Media Resources</dc:creator>
  <dc:description/>
  <dc:language>en-US</dc:language>
  <cp:lastModifiedBy>Jeremiah McNichols</cp:lastModifiedBy>
  <cp:lastPrinted>2002-05-23T02:09:08Z</cp:lastPrinted>
  <dcterms:modified xsi:type="dcterms:W3CDTF">2008-10-08T13:32:07Z</dcterms:modified>
  <cp:revision>35</cp:revision>
  <dc:subject/>
  <dc:title>Vocabulary Challe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e02000000000001023620</vt:lpwstr>
  </property>
</Properties>
</file>