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58B8F-4877-4D09-861F-73FA889015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01C9A-9F80-4B4E-8B94-D137E22038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353D5-512E-4B6C-8F79-D0522D0926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2548B-8942-403C-9758-ACEB6FF4BB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C0F5D-A373-4AFE-B6C2-20FD40A80F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F0A8C-096F-4B91-A6F4-A8AAA124A9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B7250-BB40-4DD8-B5A2-B9C84DCCF0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9077E-0550-49B6-BA78-3BCE62157C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DF65F-BF2A-4255-9581-D2D7B468A3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F0F07-EAFB-4148-A297-1D3D6F3144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E8912-9827-494E-A2E0-D81E519CFF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718D5-771D-44C5-9946-4FF3D6E350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B243B-7992-446C-8EA5-9A41B0DF4411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67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emember that a decimal is a fractional number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en it is written as a PERCENT, the decimal number is the part and 100 is always the whole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o the following steps to convert a decimal to a percent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B2A60-8D39-4909-BA6A-D6BC73B26B71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456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r example: Convert 0.83 to a percen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) Multiply the decimal by 100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e.g. 0.83 x 100 = 83)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) Add a percent sign after the answer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e.g. 83%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00 or 100%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.83 or 83%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 whole in blue)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(part in green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797200" y="4724280"/>
            <a:ext cx="3451320" cy="1463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AF1BE-5251-4789-9672-55B6F190B9B5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09Z</dcterms:modified>
  <cp:revision>211</cp:revision>
  <dc:subject/>
  <dc:title>VTPP 423 - PHYSIOLOGY</dc:title>
</cp:coreProperties>
</file>