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F5A12-AF70-4837-AA79-164F0330D7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F9475-A0E1-4F9C-BE95-8078462D83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1C7AF-9FC7-4D0B-B06C-13F468883E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62904-B4D8-40EA-B587-36EE649871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79704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EB2FA-2156-4993-BE99-A3E4B3BE5F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A) Identify/Apply Mathematics to Everyday Experi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A)(B)(D), 7.13 (A), 8.1 (A)(B), 8.2 (A), 8.14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36EF-20F2-4065-A9B7-1F6844DAD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6F6D-7E68-4CD6-97B5-060F1E165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3205-16E8-4CA8-95FC-C0F215125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65B7-B78C-4260-A2B3-14516883B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4C64-4197-4FED-A96D-942022D9D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2312-1D66-45F2-B046-C56849C70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7DD4-6602-4E3A-81FB-6CAB367AF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DCFD-76BA-40D2-BA10-44305E5E0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7CDE-573F-49AF-8CDA-16955563C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545F-147B-490F-B69F-B663BE7A6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B325-2DF1-490D-8916-462ED96EE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04F0-475F-42FB-B593-A6627FED4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8C7CE-106A-4C28-9581-C69BBED29B32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848720" cy="55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Remember that a decimal is a fractional number: it is a part of something whol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=0.44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      1000th place. (e.g. .4, .44, .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4444 (part in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DecToPer2" descr=""/>
          <p:cNvPicPr/>
          <p:nvPr/>
        </p:nvPicPr>
        <p:blipFill>
          <a:blip r:embed="rId2"/>
          <a:stretch/>
        </p:blipFill>
        <p:spPr>
          <a:xfrm>
            <a:off x="3124080" y="5315040"/>
            <a:ext cx="2982960" cy="200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724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7240" y="1523520"/>
            <a:ext cx="8151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emember that a decimal is a fractional number.  When it is written as a percent, the decimal number is the part and 100 is always the whole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 the following steps to convert a decimal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: Convert 0.83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) Multiply the decimal by 100 (e.g., 0.83 x 100 = 83)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) Add a percent sign after the answer (e.g., 83%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or 100%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.83 or 83% (part in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( 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3" name="DecToPer" descr=""/>
          <p:cNvPicPr/>
          <p:nvPr/>
        </p:nvPicPr>
        <p:blipFill>
          <a:blip r:embed="rId2"/>
          <a:stretch/>
        </p:blipFill>
        <p:spPr>
          <a:xfrm>
            <a:off x="2666880" y="4800600"/>
            <a:ext cx="3451320" cy="146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09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8140680" cy="53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  Decimal 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Percent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6/8 =         6 ÷ 8 =         .75 =      .75 * 100=     75%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2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7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476440" y="26542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829480" y="26542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749160" y="4254480"/>
            <a:ext cx="7238880" cy="2133720"/>
            <a:chOff x="749160" y="4254480"/>
            <a:chExt cx="7238880" cy="2133720"/>
          </a:xfrm>
        </p:grpSpPr>
        <p:sp>
          <p:nvSpPr>
            <p:cNvPr id="59" name=""/>
            <p:cNvSpPr/>
            <p:nvPr/>
          </p:nvSpPr>
          <p:spPr>
            <a:xfrm>
              <a:off x="1892160" y="516888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06360" y="4483080"/>
              <a:ext cx="106668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397120" y="4559400"/>
              <a:ext cx="106704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006960" y="509292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425320" y="4254480"/>
              <a:ext cx="121932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425320" y="4864320"/>
              <a:ext cx="1219320" cy="5331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30040" y="6007320"/>
              <a:ext cx="152388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44840" y="6007320"/>
              <a:ext cx="182880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616440" y="4254480"/>
              <a:ext cx="137160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16440" y="4864320"/>
              <a:ext cx="1371600" cy="4572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9" name="Cutout25%25" descr=""/>
            <p:cNvPicPr/>
            <p:nvPr/>
          </p:nvPicPr>
          <p:blipFill>
            <a:blip r:embed="rId2"/>
            <a:stretch/>
          </p:blipFill>
          <p:spPr>
            <a:xfrm>
              <a:off x="749160" y="4399200"/>
              <a:ext cx="1211040" cy="116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Cutout25%25" descr=""/>
            <p:cNvPicPr/>
            <p:nvPr/>
          </p:nvPicPr>
          <p:blipFill>
            <a:blip r:embed="rId3"/>
            <a:stretch/>
          </p:blipFill>
          <p:spPr>
            <a:xfrm>
              <a:off x="4863960" y="4483080"/>
              <a:ext cx="1211040" cy="11653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at else has a whole = 100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ow about 100 pennies in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is 25% of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5/100  = .25  = a quarter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percentage of one dollar is a dime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en cents = .10 = .10 x 100 = 10%  of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e dollar!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coins would you use to represent 17% of a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7/100 = .17 = .10 + .05 + .02   (a dime, nickel and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nnies!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e how you can always cash in on percentages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73" name="MoneyGraph" descr=""/>
          <p:cNvPicPr/>
          <p:nvPr/>
        </p:nvPicPr>
        <p:blipFill>
          <a:blip r:embed="rId2"/>
          <a:stretch/>
        </p:blipFill>
        <p:spPr>
          <a:xfrm>
            <a:off x="6248520" y="1447920"/>
            <a:ext cx="2422440" cy="1839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7:01:10Z</dcterms:created>
  <dc:creator>Charles C. Farnsworth, Ph.D. - Instructional Design</dc:creator>
  <dc:description/>
  <dc:language>en-US</dc:language>
  <cp:lastModifiedBy>ljlab</cp:lastModifiedBy>
  <dcterms:modified xsi:type="dcterms:W3CDTF">2003-09-11T17:19:20Z</dcterms:modified>
  <cp:revision>32</cp:revision>
  <dc:subject/>
  <dc:title>Fractions to Decimals</dc:title>
</cp:coreProperties>
</file>