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7EEC-9684-4B0C-92FC-D6F668039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5EE5-20CD-4BDC-8BF6-5998456F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FABC-4F40-4F6E-AF96-790F4CCF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78A2-D2C8-4A0E-8D82-DE0EAB27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E45A-8CD0-47B9-85C7-AE3976C7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00BF-3309-4179-A84E-9CBC42AB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6609-FD82-42D0-BD67-DE5CBC0F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2E94-7801-4AC2-B247-4F3E3168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1900-3695-4396-AC7E-3738BF48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7507-59D8-4B8C-849B-2C0D0AAD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37F0-9E72-4B7E-A46D-B446B736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DAB3-FD99-4B7E-BE66-F18AB710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27BC-D562-4691-AFB5-ACE7F22F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E0FF-902B-46DB-9697-3DD448F83D8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920" y="3885840"/>
            <a:ext cx="8307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35120" y="48830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39800" y="4008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39800" y="44467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35120" y="498780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39800" y="40654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57668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672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39800" y="378936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639800" y="45514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39800" y="3998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639800" y="46180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39800" y="4160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39800" y="47037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2000160"/>
            <a:ext cx="8001000" cy="37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35120" y="49593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39800" y="3684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39800" y="433224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01720" y="49878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06400" y="36082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706400" y="43131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5120" y="49784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39800" y="405612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35120" y="56642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39800" y="47322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39800" y="51991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35120" y="484488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39800" y="39798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639800" y="44179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Jeremiah McNichols</cp:lastModifiedBy>
  <cp:lastPrinted>2002-05-23T02:09:08Z</cp:lastPrinted>
  <dcterms:modified xsi:type="dcterms:W3CDTF">2008-10-08T13:32:07Z</dcterms:modified>
  <cp:revision>35</cp:revision>
  <dc:subject/>
  <dc:title>Vocabulary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2000000000001023620</vt:lpwstr>
  </property>
</Properties>
</file>