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677A-6BAE-4A85-938F-74DDD7B92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CBE9-2732-495D-B995-AC5EB2503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0E27-EC3B-4A2D-A903-F48135C2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4728-563A-4F2A-9CB4-6E7B02CA5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611A-40A3-4F13-9429-75413D449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62F0-091B-4E63-B15D-35DE7D854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B564-F5DA-4163-BFC7-99EC7F97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3DD3-BF34-4FFF-89FD-8C363C12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5C1B-185E-408F-8B86-5AA654E8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DD42-B013-4EFF-A258-DD0E4D66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451E-CB86-43E6-AD1D-5A882AA5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0F36-63DA-43B5-A1B2-D4347576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2462-5C79-4C69-97AC-116491A4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D402-E5CE-4B8D-9963-E0FE5111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F663-F4B2-4924-9BE0-DDA3ADCE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6C45-A074-4CF6-B441-042CA0C5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AF3A-E1AB-4912-82FC-A040D4D03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3664-0903-4477-9871-2769F43EF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18B2-D2FB-4BBC-83FC-D0A6C335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EAC9-A688-43F1-AAC1-2298A32E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2D8F-EA51-48C7-9A68-D798085B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2862-2C2A-450A-9022-BD88518D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9476-DD17-4EE4-BA33-8E86295A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6FE6-86DF-4D63-AB64-995262CD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3A83-2738-4F84-9BD7-6EEFC04D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B8BF-0285-4B03-956D-C5FC074F5E1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D928-91F0-4E83-B06B-F09386DBBA7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94200" y="4905360"/>
            <a:ext cx="3576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15688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9° N.L., 39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1568520" y="4419720"/>
            <a:ext cx="60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6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  The lat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  The long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  The absolute location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06840" y="53863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06840" y="581508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06840" y="625788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8908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  The lat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8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  The long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97120" y="58053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  The absolute location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8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68520" y="4419720"/>
            <a:ext cx="58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  What city is located at 5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, 24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568520" y="4419720"/>
            <a:ext cx="58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50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18:55:12Z</dcterms:created>
  <dc:creator>Unknown User</dc:creator>
  <dc:description/>
  <dc:language>en-US</dc:language>
  <cp:lastModifiedBy>Texas A&amp;M Veterinary Medicine</cp:lastModifiedBy>
  <cp:lastPrinted>2002-01-02T19:06:19Z</cp:lastPrinted>
  <dcterms:modified xsi:type="dcterms:W3CDTF">2005-05-17T17:13:59Z</dcterms:modified>
  <cp:revision>6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4000000000001023620</vt:lpwstr>
  </property>
</Properties>
</file>