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5BE3E-4B67-4509-B315-F9E328AEB1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509C-BD3C-49D8-BEA7-9D60B1F37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41AC-B64C-4F21-B68A-CD94C86AD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64AE-4314-484A-8622-01C24982C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4540-70F8-4C8F-86DA-AB2FEB9A9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4B23-E9FD-4DE6-B2E7-978387452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9D84-1900-4CF1-9C29-7C8C66940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223A-0170-4753-850E-3384A3F7D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1992-EB3A-482E-BC20-79E588943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C909-9058-4B30-8705-A5E890A97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E90B-3882-4D26-BECC-2F866A095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7AE0-15B2-4E35-B8A9-1893A22D9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40A3-D2FC-484B-A25C-B3529762F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7E714-3021-4572-990D-4B05AE82A80F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eather is the state of the atmosphere at a given place and time.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right now the temperature in New Jersey is 56º F and it is snowing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50:41Z</dcterms:created>
  <dc:creator>ITMD</dc:creator>
  <dc:description/>
  <dc:language>en-US</dc:language>
  <cp:lastModifiedBy>ljlab</cp:lastModifiedBy>
  <dcterms:modified xsi:type="dcterms:W3CDTF">2003-09-11T17:23:21Z</dcterms:modified>
  <cp:revision>8</cp:revision>
  <dc:subject/>
  <dc:title>What’s the difference between weather and climate?</dc:title>
</cp:coreProperties>
</file>