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898200" y="619200"/>
            <a:ext cx="5062680" cy="379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898560" y="619200"/>
            <a:ext cx="5062680" cy="37972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1B31D-6C5B-4972-80CA-E11B1525E5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BEAFD-EEA0-4CD4-92A8-B9FFB13A4A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997AC-9494-40E8-A705-B8854C3E13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BCB00-456B-44A5-863D-17B5CE15D0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9764D-1302-438C-9C57-6976967432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275D1-F65D-493F-8CB0-EB06193740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4827F-789C-40A0-A0CF-D330806335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E066E-82AC-46F5-BD36-44065BC982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813FF-2969-43EB-923E-8BBF3D820A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72030-E315-498A-84C2-BC03F84952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EE394-80D6-4FE7-B207-906F8303B9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E61B8-E39E-4330-9646-76B4A03729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5F65B-2C3F-4CBA-A116-81E307CB244A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7627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Decimal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Percen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(  6/8 =       6 ÷ 8 =          .75 =       .75 x 100 =     75%  )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                                 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81080" y="31384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4120" y="31384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051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80060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1932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62320" y="40528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 par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8640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553080" y="4038480"/>
            <a:ext cx="276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553080" y="472428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7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99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4038480"/>
            <a:ext cx="441972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00600" y="4038480"/>
            <a:ext cx="411480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Cutout25%25" descr=""/>
          <p:cNvPicPr/>
          <p:nvPr/>
        </p:nvPicPr>
        <p:blipFill>
          <a:blip r:embed="rId2"/>
          <a:stretch/>
        </p:blipFill>
        <p:spPr>
          <a:xfrm>
            <a:off x="762120" y="4267080"/>
            <a:ext cx="1211040" cy="1165320"/>
          </a:xfrm>
          <a:prstGeom prst="rect">
            <a:avLst/>
          </a:prstGeom>
          <a:ln w="0">
            <a:noFill/>
          </a:ln>
        </p:spPr>
      </p:pic>
      <p:pic>
        <p:nvPicPr>
          <p:cNvPr id="94" name="Cutout25%25" descr=""/>
          <p:cNvPicPr/>
          <p:nvPr/>
        </p:nvPicPr>
        <p:blipFill>
          <a:blip r:embed="rId3"/>
          <a:stretch/>
        </p:blipFill>
        <p:spPr>
          <a:xfrm>
            <a:off x="4960800" y="4267080"/>
            <a:ext cx="1211400" cy="116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9DC11-F694-491F-9D5D-224A27291FC9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40Z</dcterms:modified>
  <cp:revision>210</cp:revision>
  <dc:subject/>
  <dc:title>VTPP 423 - PHYSIOLOGY</dc:title>
</cp:coreProperties>
</file>