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CE8EE-56FF-43DA-92CB-82DA99AB70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EC68-C9B7-4126-8401-A3B86E056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183F-065B-4592-A46A-11B1445E0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4FB2-BC9E-4C92-A0B2-7A25C157D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E19A-5AF1-43EE-AD27-69C94DED7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1E025-61B0-4F04-837D-0CB495E18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CE36C-F1A7-4AC8-8EE5-B35CFE2B1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3BCB1-8F85-48B3-8853-BB1A2C78F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6F1F7-D64F-4AB4-8B34-2E89DADC4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87AB9-B829-4F66-9545-853EE70CF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64E90-C8DC-4D46-B1FC-371917A69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8509D-CD1F-4ED1-B1D0-8CB77287A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D89D-5178-4D6B-87F8-5CD92F0FC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9673E-1246-4728-869E-15BB450A8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87600-60AC-45FA-A8A5-D301C7D0A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CE724-848E-4931-8889-1D47C1B60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E84BB-3B13-4614-BA3D-41FE6F2E6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26BE5-2496-42F7-B783-1D03D07DA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F5AA-C8A1-4016-B337-6C367D10D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935C-1B83-45D3-BEC8-59E6F2AAA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8DC4-3FEA-4A0D-A8F0-A407DFE1F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CCB0-2105-4039-BD8A-D88738CB5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4356-B805-4244-B6B0-0323FD65C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620F-24AF-4964-ACD9-0C26B7674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1A79-68E9-4D69-8D75-7E631B21B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355AA-A600-44D5-8EAB-DDD3F6FA85CD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1D535-612F-416E-A4EB-64F770520E03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file:///../Appendices/Social%20Studies/AbsoLoca.ppt" TargetMode="External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file:///../Appendices/Social%20Studies/AbsoLoca.ppt" TargetMode="External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094200" y="4905360"/>
            <a:ext cx="35766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de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’v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i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uhans’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2125800" y="380880"/>
            <a:ext cx="4892400" cy="393408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63" name=""/>
          <p:cNvSpPr/>
          <p:nvPr/>
        </p:nvSpPr>
        <p:spPr>
          <a:xfrm>
            <a:off x="1568880" y="4419720"/>
            <a:ext cx="58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9.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What city is located at 49° N.L., 39° E.L.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12960" y="493884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71296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712960" y="57675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712960" y="6181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6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094200" y="4905360"/>
            <a:ext cx="5486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de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’v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i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uhans’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2125800" y="380880"/>
            <a:ext cx="4892400" cy="393408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72" name=""/>
          <p:cNvSpPr/>
          <p:nvPr/>
        </p:nvSpPr>
        <p:spPr>
          <a:xfrm>
            <a:off x="1568520" y="4419720"/>
            <a:ext cx="603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0.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What city is located at 46° N.L., 31° E.L.?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712960" y="493884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1296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712960" y="57675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12960" y="6181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6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Return to the 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6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0320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  The latitude for the center of Ukraine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5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3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95" name=""/>
          <p:cNvSpPr/>
          <p:nvPr/>
        </p:nvSpPr>
        <p:spPr>
          <a:xfrm>
            <a:off x="4965840" y="1415880"/>
            <a:ext cx="244440" cy="140040"/>
          </a:xfrm>
          <a:custGeom>
            <a:avLst/>
            <a:gdLst/>
            <a:ahLst/>
            <a:rect l="l" t="t" r="r" b="b"/>
            <a:pathLst>
              <a:path w="154" h="88">
                <a:moveTo>
                  <a:pt x="25" y="48"/>
                </a:moveTo>
                <a:cubicBezTo>
                  <a:pt x="36" y="64"/>
                  <a:pt x="28" y="69"/>
                  <a:pt x="33" y="88"/>
                </a:cubicBezTo>
                <a:cubicBezTo>
                  <a:pt x="38" y="87"/>
                  <a:pt x="44" y="86"/>
                  <a:pt x="49" y="84"/>
                </a:cubicBezTo>
                <a:cubicBezTo>
                  <a:pt x="53" y="82"/>
                  <a:pt x="56" y="76"/>
                  <a:pt x="61" y="76"/>
                </a:cubicBezTo>
                <a:cubicBezTo>
                  <a:pt x="69" y="76"/>
                  <a:pt x="85" y="84"/>
                  <a:pt x="85" y="84"/>
                </a:cubicBezTo>
                <a:cubicBezTo>
                  <a:pt x="119" y="61"/>
                  <a:pt x="77" y="67"/>
                  <a:pt x="133" y="60"/>
                </a:cubicBezTo>
                <a:cubicBezTo>
                  <a:pt x="137" y="57"/>
                  <a:pt x="144" y="57"/>
                  <a:pt x="145" y="52"/>
                </a:cubicBezTo>
                <a:cubicBezTo>
                  <a:pt x="154" y="16"/>
                  <a:pt x="106" y="19"/>
                  <a:pt x="85" y="16"/>
                </a:cubicBezTo>
                <a:cubicBezTo>
                  <a:pt x="61" y="0"/>
                  <a:pt x="57" y="4"/>
                  <a:pt x="25" y="8"/>
                </a:cubicBezTo>
                <a:cubicBezTo>
                  <a:pt x="22" y="12"/>
                  <a:pt x="20" y="17"/>
                  <a:pt x="17" y="20"/>
                </a:cubicBezTo>
                <a:cubicBezTo>
                  <a:pt x="14" y="23"/>
                  <a:pt x="7" y="23"/>
                  <a:pt x="5" y="28"/>
                </a:cubicBezTo>
                <a:cubicBezTo>
                  <a:pt x="0" y="44"/>
                  <a:pt x="14" y="48"/>
                  <a:pt x="25" y="48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697120" y="58197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697120" y="6262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4965840" y="1415880"/>
            <a:ext cx="244440" cy="140040"/>
          </a:xfrm>
          <a:custGeom>
            <a:avLst/>
            <a:gdLst/>
            <a:ahLst/>
            <a:rect l="l" t="t" r="r" b="b"/>
            <a:pathLst>
              <a:path w="154" h="88">
                <a:moveTo>
                  <a:pt x="25" y="48"/>
                </a:moveTo>
                <a:cubicBezTo>
                  <a:pt x="36" y="64"/>
                  <a:pt x="28" y="69"/>
                  <a:pt x="33" y="88"/>
                </a:cubicBezTo>
                <a:cubicBezTo>
                  <a:pt x="38" y="87"/>
                  <a:pt x="44" y="86"/>
                  <a:pt x="49" y="84"/>
                </a:cubicBezTo>
                <a:cubicBezTo>
                  <a:pt x="53" y="82"/>
                  <a:pt x="56" y="76"/>
                  <a:pt x="61" y="76"/>
                </a:cubicBezTo>
                <a:cubicBezTo>
                  <a:pt x="69" y="76"/>
                  <a:pt x="85" y="84"/>
                  <a:pt x="85" y="84"/>
                </a:cubicBezTo>
                <a:cubicBezTo>
                  <a:pt x="119" y="61"/>
                  <a:pt x="77" y="67"/>
                  <a:pt x="133" y="60"/>
                </a:cubicBezTo>
                <a:cubicBezTo>
                  <a:pt x="137" y="57"/>
                  <a:pt x="144" y="57"/>
                  <a:pt x="145" y="52"/>
                </a:cubicBezTo>
                <a:cubicBezTo>
                  <a:pt x="154" y="16"/>
                  <a:pt x="106" y="19"/>
                  <a:pt x="85" y="16"/>
                </a:cubicBezTo>
                <a:cubicBezTo>
                  <a:pt x="61" y="0"/>
                  <a:pt x="57" y="4"/>
                  <a:pt x="25" y="8"/>
                </a:cubicBezTo>
                <a:cubicBezTo>
                  <a:pt x="22" y="12"/>
                  <a:pt x="20" y="17"/>
                  <a:pt x="17" y="20"/>
                </a:cubicBezTo>
                <a:cubicBezTo>
                  <a:pt x="14" y="23"/>
                  <a:pt x="7" y="23"/>
                  <a:pt x="5" y="28"/>
                </a:cubicBezTo>
                <a:cubicBezTo>
                  <a:pt x="0" y="44"/>
                  <a:pt x="14" y="48"/>
                  <a:pt x="25" y="48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0320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.  The longitude for the center of Ukraine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97120" y="58197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97120" y="6262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4965840" y="1415880"/>
            <a:ext cx="244440" cy="140040"/>
          </a:xfrm>
          <a:custGeom>
            <a:avLst/>
            <a:gdLst/>
            <a:ahLst/>
            <a:rect l="l" t="t" r="r" b="b"/>
            <a:pathLst>
              <a:path w="154" h="88">
                <a:moveTo>
                  <a:pt x="25" y="48"/>
                </a:moveTo>
                <a:cubicBezTo>
                  <a:pt x="36" y="64"/>
                  <a:pt x="28" y="69"/>
                  <a:pt x="33" y="88"/>
                </a:cubicBezTo>
                <a:cubicBezTo>
                  <a:pt x="38" y="87"/>
                  <a:pt x="44" y="86"/>
                  <a:pt x="49" y="84"/>
                </a:cubicBezTo>
                <a:cubicBezTo>
                  <a:pt x="53" y="82"/>
                  <a:pt x="56" y="76"/>
                  <a:pt x="61" y="76"/>
                </a:cubicBezTo>
                <a:cubicBezTo>
                  <a:pt x="69" y="76"/>
                  <a:pt x="85" y="84"/>
                  <a:pt x="85" y="84"/>
                </a:cubicBezTo>
                <a:cubicBezTo>
                  <a:pt x="119" y="61"/>
                  <a:pt x="77" y="67"/>
                  <a:pt x="133" y="60"/>
                </a:cubicBezTo>
                <a:cubicBezTo>
                  <a:pt x="137" y="57"/>
                  <a:pt x="144" y="57"/>
                  <a:pt x="145" y="52"/>
                </a:cubicBezTo>
                <a:cubicBezTo>
                  <a:pt x="154" y="16"/>
                  <a:pt x="106" y="19"/>
                  <a:pt x="85" y="16"/>
                </a:cubicBezTo>
                <a:cubicBezTo>
                  <a:pt x="61" y="0"/>
                  <a:pt x="57" y="4"/>
                  <a:pt x="25" y="8"/>
                </a:cubicBezTo>
                <a:cubicBezTo>
                  <a:pt x="22" y="12"/>
                  <a:pt x="20" y="17"/>
                  <a:pt x="17" y="20"/>
                </a:cubicBezTo>
                <a:cubicBezTo>
                  <a:pt x="14" y="23"/>
                  <a:pt x="7" y="23"/>
                  <a:pt x="5" y="28"/>
                </a:cubicBezTo>
                <a:cubicBezTo>
                  <a:pt x="0" y="44"/>
                  <a:pt x="14" y="48"/>
                  <a:pt x="25" y="48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0320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.  The absolute location of Ukraine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10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06840" y="53863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706840" y="581508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706840" y="625788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18908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4.  The latitude for the center of Dnipropetrovs’k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5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48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3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828800" y="380880"/>
            <a:ext cx="5505480" cy="44276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2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697120" y="58197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697120" y="6262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828800" y="380880"/>
            <a:ext cx="5505480" cy="44276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30" name=""/>
          <p:cNvSpPr/>
          <p:nvPr/>
        </p:nvSpPr>
        <p:spPr>
          <a:xfrm>
            <a:off x="119052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.  The longitude for the center of Dnipropetrovs’k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45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97120" y="58053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697120" y="62485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828800" y="380880"/>
            <a:ext cx="5505480" cy="44276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37" name=""/>
          <p:cNvSpPr/>
          <p:nvPr/>
        </p:nvSpPr>
        <p:spPr>
          <a:xfrm>
            <a:off x="119052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.  The absolute location of Dnipropetrovs’k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5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10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48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35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697120" y="58197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697120" y="62485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125800" y="380880"/>
            <a:ext cx="4892400" cy="393408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44" name=""/>
          <p:cNvSpPr/>
          <p:nvPr/>
        </p:nvSpPr>
        <p:spPr>
          <a:xfrm>
            <a:off x="3094200" y="4905360"/>
            <a:ext cx="5486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de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’v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i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uhans’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68520" y="4419720"/>
            <a:ext cx="58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7.  What city is located at 50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, 24° E.L.?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712960" y="493884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71296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12960" y="57675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12960" y="6181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2125800" y="380880"/>
            <a:ext cx="4892400" cy="393408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1568520" y="4419720"/>
            <a:ext cx="588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8.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What city is located at 50° N.L., 31° E.L.?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94200" y="4905360"/>
            <a:ext cx="5486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de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’v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i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uhans’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712960" y="493884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71296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712960" y="57675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712960" y="6181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8T18:55:12Z</dcterms:created>
  <dc:creator>Unknown User</dc:creator>
  <dc:description/>
  <dc:language>en-US</dc:language>
  <cp:lastModifiedBy>Texas A&amp;M Veterinary Medicine</cp:lastModifiedBy>
  <cp:lastPrinted>2002-01-02T19:06:19Z</cp:lastPrinted>
  <dcterms:modified xsi:type="dcterms:W3CDTF">2005-05-17T17:13:59Z</dcterms:modified>
  <cp:revision>69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404000000000001023620</vt:lpwstr>
  </property>
</Properties>
</file>