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FE6DE-33A9-49DB-96C7-2731CE49E0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952560" y="0"/>
            <a:ext cx="5010120" cy="37591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0" y="3860640"/>
            <a:ext cx="6858000" cy="528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282F-65A4-4FF2-BFEF-F5F45E77C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67CB-E3B3-4BA9-8991-34D652F1C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A610-F277-408E-A40D-172FB1D72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F1B4-E8E1-44A3-B518-7C9D8F387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45D1-A160-457B-A254-62A719E7E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CDC8-BDBF-409B-AC65-5F3483179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53D0-3E2B-456F-870D-C380F337F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8F8B-53FD-4A3F-8EC7-B82173EDA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6A02-8B6A-45BB-BEB4-282B7800D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29D1-91AC-4C0C-B095-595671397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EEB6-D7B9-422F-80FB-E3001947C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C3E2-6D8D-4859-BE78-B9DB762BF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6EF16-21AA-446B-8687-541F71DA5EEA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30492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7240" y="1904760"/>
            <a:ext cx="777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Climate is the average condition of the atmosphere (like temperature and precipitation) over a long period of time.  It is the average of weather conditions in a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over the past 40 years, in February, New Jersey has had an average temperature of 32 º F and an average precipitation of 2.8 inches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49:56Z</dcterms:created>
  <dc:creator>ITMD</dc:creator>
  <dc:description/>
  <dc:language>en-US</dc:language>
  <cp:lastModifiedBy>ljlab</cp:lastModifiedBy>
  <dcterms:modified xsi:type="dcterms:W3CDTF">2003-09-11T17:22:49Z</dcterms:modified>
  <cp:revision>9</cp:revision>
  <dc:subject/>
  <dc:title>What’s the difference between weather and climate?</dc:title>
</cp:coreProperties>
</file>