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8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6956D-ADE7-45BC-B105-3B209DCD9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ease open the “Read This First - TEACHER INSTRUCTIONS” file on the CD before attempting to view this present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“NOTES” section contains teacher notes for each slide including a variety of inform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se notes identify the specific TEKS addressed on each slid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a substitute for, the full text of the TEK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or to viewing any presentation, check your computer for proper settings as described 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“Read This First - TEACHER INSTRUCTIONS” fi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located on the C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 view in Slide Show mode, one must select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of the Slide Show view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nipropetrovs’k is further nor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uston is closer to the Equ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nipropetrovs’k is in the Eastern Hemisphere, Houston is in the Western Hemispher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 Organize and interpret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C) Organize and interpret information from various 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 Ukraine geography world geography absolute location Hemisphere map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’Vi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i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uhan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de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 Organize and interpret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C) Organize and interpret information from various 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 Ukraine latitude longitude absolute location geography world geography map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 Organize and interpret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C) Organize and interpret information from various 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 Ukraine latitude longitude absolute location geography world geography map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solute Lo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titu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ngitu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gre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 Organize and interpret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C) Organize and interpret information from various 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2 (A) Use social studies terminology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31 (A) Use social studies terminology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 global address prime meridian equator latitude longitude geography world geograph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absolute location challenge qui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2 (A) Use social studies terminology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31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 Ukraine absolute location Hemisphere geography world geography global addr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 Organize and interpret inform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C) Organize and interpret information from various 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 Ukraine absolute location world geography geography map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C) Organize and interpret information from various 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 Ukraine absolute location geography world geography map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titude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 Organize and interpret inform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C) Organize and interpret information from various 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 Ukraine absolute location latitude longitude geography world geography map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 Organize and interpret inform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C) Organize and interpret information from various 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 Ukraine global address absolute location geography world geograph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260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 Organize and interpret inform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C) Organize and interpret information from various 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 Ukraine geography world geography map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 Organize and interpret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C) Organize and interpret information from various 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 Ukraine geography latitude longitude absolute location world geography map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8B63-9BF5-4CCC-8D49-C056927CA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B318-CBA6-435A-934D-7909B9FEC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332C-2359-4962-80EC-8FD4DAF6E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C876-2292-4BA7-B4DC-C4F1E54CD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4EF5-9EEE-4E27-8A14-C9CEDD8F4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D7B6-3C0D-4B19-BAEB-422D40632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BBA4-B024-4703-ADC5-C38D64749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8828-EC49-46E3-AB51-ACAC0D145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1B9C-D537-40F2-87C9-9C71B8466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349D-755A-4F76-B843-82CD4F36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3FF9-1347-467A-B802-276BEE0B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C27D-14A8-4C63-AC00-1630CA17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DCB77-044A-4CD9-84D9-9E13CBC9DD8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Appendices/UkSSQ.ppt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forms/Curricula_Survey.shtml" TargetMode="External"/><Relationship Id="rId3" Type="http://schemas.openxmlformats.org/officeDocument/2006/relationships/hyperlink" Target="http://peer.tamu.edu/forms/Curricula_Survey.shtml" TargetMode="External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1.jpe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Appendices/AbsoLoca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Appendices/AbsoLoca.ppt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81080" y="579600"/>
            <a:ext cx="6115320" cy="3292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3857760"/>
            <a:ext cx="79250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32880" y="4924440"/>
            <a:ext cx="8001000" cy="17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7360"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absolute location for Dnipropetrovs’k, Ukraine is 48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, 35° E.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7360"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bsolute location of Houston, Texas is 30° N.L., 95° W.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736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ch city is further north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736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ch city is closer to the Equator?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736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ch city is located in the Eastern Hemisphere?  In the Western Hemispher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10476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942840" y="4876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ook on the map above to find what cities match the addresses given below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at city is located at 5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, 24° E.L.? __________________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ity is located at 50° N.L., 31° E.L.? __________________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ity is located at 49° N.L., 39° E.L.? __________________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ity is located at 46° N.L., 31° E.L.? __________________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2240" cy="442440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828800" y="4854240"/>
            <a:ext cx="5029200" cy="19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re you correc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’viv is located at 5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, 24° E.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Kiev is located at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0° N.L., 31° E.L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uhans’k is located at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, 39° E.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desa is located at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6° N.L., 31° E.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2240" cy="442440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74640" y="34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ust Check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global address of a place using latitude and longitude is known as _____________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lobal addresses north of the equator are referred to as North ______________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lobal addresses west of the prime meridian are referred to as West ______________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th latitude and longitude are measured in ______________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866880" y="1160640"/>
            <a:ext cx="75121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st your understanding of latitude and longitude by taking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3600" spc="-1" strike="noStrike" u="sng">
                <a:solidFill>
                  <a:srgbClr val="9999ff"/>
                </a:solidFill>
                <a:uFillTx/>
                <a:latin typeface="Times New Roman"/>
                <a:hlinkClick r:id="rId2"/>
              </a:rPr>
              <a:t>Absolute Location Challenge Quiz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9903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9999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9999ff"/>
                </a:solidFill>
                <a:uFillTx/>
                <a:latin typeface="Times New Roman"/>
                <a:hlinkClick r:id="rId3"/>
              </a:rPr>
              <a:t>peer.tamu.edu/forms/Curricula_Survey.shtm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7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80880" y="1981080"/>
            <a:ext cx="8570880" cy="4517640"/>
            <a:chOff x="380880" y="1981080"/>
            <a:chExt cx="8570880" cy="4517640"/>
          </a:xfrm>
        </p:grpSpPr>
        <p:pic>
          <p:nvPicPr>
            <p:cNvPr id="108" name="" descr=""/>
            <p:cNvPicPr/>
            <p:nvPr/>
          </p:nvPicPr>
          <p:blipFill>
            <a:blip r:embed="rId4"/>
            <a:stretch/>
          </p:blipFill>
          <p:spPr>
            <a:xfrm>
              <a:off x="380880" y="19861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5"/>
            <a:stretch/>
          </p:blipFill>
          <p:spPr>
            <a:xfrm>
              <a:off x="3808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6"/>
            <a:stretch/>
          </p:blipFill>
          <p:spPr>
            <a:xfrm>
              <a:off x="380880" y="5033880"/>
              <a:ext cx="1359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7"/>
            <a:stretch/>
          </p:blipFill>
          <p:spPr>
            <a:xfrm>
              <a:off x="47242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8"/>
            <a:stretch/>
          </p:blipFill>
          <p:spPr>
            <a:xfrm>
              <a:off x="4724280" y="50292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3" name=""/>
            <p:cNvGrpSpPr/>
            <p:nvPr/>
          </p:nvGrpSpPr>
          <p:grpSpPr>
            <a:xfrm>
              <a:off x="4643280" y="1981080"/>
              <a:ext cx="1546560" cy="1371600"/>
              <a:chOff x="4643280" y="1981080"/>
              <a:chExt cx="1546560" cy="1371600"/>
            </a:xfrm>
          </p:grpSpPr>
          <p:sp>
            <p:nvSpPr>
              <p:cNvPr id="114" name=""/>
              <p:cNvSpPr/>
              <p:nvPr/>
            </p:nvSpPr>
            <p:spPr>
              <a:xfrm>
                <a:off x="4724280" y="1981080"/>
                <a:ext cx="137160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5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43280" y="2170080"/>
                <a:ext cx="1546560" cy="1012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6" name=""/>
            <p:cNvSpPr/>
            <p:nvPr/>
          </p:nvSpPr>
          <p:spPr>
            <a:xfrm>
              <a:off x="1898640" y="2206800"/>
              <a:ext cx="2617920" cy="41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National Institute of Environmental Health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Scien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artnership for Environmental Education and Rural Heal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ollege of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222960" y="2166840"/>
              <a:ext cx="2728800" cy="43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Department of Agricultural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he Center for Environmental and Rural Heal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ollege of Veterinary Medicine, Texas A&amp;M Univers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bjective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8280" y="1511280"/>
            <a:ext cx="7999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lore the concept of  absolute loc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74640" y="34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Ukrain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2438280"/>
            <a:ext cx="7924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85280" y="1536840"/>
            <a:ext cx="8223480" cy="359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7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global address or </a:t>
            </a:r>
            <a:r>
              <a:rPr b="0" lang="en-US" sz="2800" spc="-1" strike="noStrike" u="sng">
                <a:solidFill>
                  <a:srgbClr val="9999ff"/>
                </a:solidFill>
                <a:uFillTx/>
                <a:latin typeface="Times New Roman"/>
                <a:hlinkClick r:id="rId2"/>
              </a:rPr>
              <a:t>absolute locatio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f the center of Ukraine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2001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 and 32° E.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7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Ukraine in the Northern or Southern Hemispher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7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Ukraine in the Eastern or Western Hemisphere?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5334120"/>
            <a:ext cx="7772400" cy="9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int and click on the name of the continent where Ukraine is locat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90920" y="152388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2514600"/>
            <a:ext cx="762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213372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43600" y="1523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705720" y="2895480"/>
            <a:ext cx="83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886200"/>
            <a:ext cx="990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1371600"/>
            <a:ext cx="609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47640" y="5392800"/>
            <a:ext cx="7848720" cy="18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7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int and click on the center of Ukraine on the map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7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4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, 32° E.L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7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38840" y="1276200"/>
            <a:ext cx="244440" cy="139680"/>
          </a:xfrm>
          <a:custGeom>
            <a:avLst/>
            <a:gdLst/>
            <a:ahLst/>
            <a:rect l="l" t="t" r="r" b="b"/>
            <a:pathLst>
              <a:path w="154" h="88">
                <a:moveTo>
                  <a:pt x="25" y="48"/>
                </a:moveTo>
                <a:cubicBezTo>
                  <a:pt x="36" y="64"/>
                  <a:pt x="28" y="69"/>
                  <a:pt x="33" y="88"/>
                </a:cubicBezTo>
                <a:cubicBezTo>
                  <a:pt x="38" y="87"/>
                  <a:pt x="44" y="86"/>
                  <a:pt x="49" y="84"/>
                </a:cubicBezTo>
                <a:cubicBezTo>
                  <a:pt x="53" y="82"/>
                  <a:pt x="56" y="76"/>
                  <a:pt x="61" y="76"/>
                </a:cubicBezTo>
                <a:cubicBezTo>
                  <a:pt x="69" y="76"/>
                  <a:pt x="85" y="84"/>
                  <a:pt x="85" y="84"/>
                </a:cubicBezTo>
                <a:cubicBezTo>
                  <a:pt x="119" y="61"/>
                  <a:pt x="77" y="67"/>
                  <a:pt x="133" y="60"/>
                </a:cubicBezTo>
                <a:cubicBezTo>
                  <a:pt x="137" y="57"/>
                  <a:pt x="144" y="57"/>
                  <a:pt x="145" y="52"/>
                </a:cubicBezTo>
                <a:cubicBezTo>
                  <a:pt x="154" y="16"/>
                  <a:pt x="106" y="19"/>
                  <a:pt x="85" y="16"/>
                </a:cubicBezTo>
                <a:cubicBezTo>
                  <a:pt x="61" y="0"/>
                  <a:pt x="57" y="4"/>
                  <a:pt x="25" y="8"/>
                </a:cubicBezTo>
                <a:cubicBezTo>
                  <a:pt x="22" y="12"/>
                  <a:pt x="20" y="17"/>
                  <a:pt x="17" y="20"/>
                </a:cubicBezTo>
                <a:cubicBezTo>
                  <a:pt x="14" y="23"/>
                  <a:pt x="7" y="23"/>
                  <a:pt x="5" y="28"/>
                </a:cubicBezTo>
                <a:cubicBezTo>
                  <a:pt x="0" y="44"/>
                  <a:pt x="14" y="48"/>
                  <a:pt x="25" y="48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365120" y="609480"/>
            <a:ext cx="6413760" cy="4548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6292800" y="1517760"/>
            <a:ext cx="1486080" cy="1333440"/>
          </a:xfrm>
          <a:custGeom>
            <a:avLst/>
            <a:gdLst/>
            <a:ahLst/>
            <a:rect l="l" t="t" r="r" b="b"/>
            <a:pathLst>
              <a:path w="936" h="840">
                <a:moveTo>
                  <a:pt x="32" y="520"/>
                </a:moveTo>
                <a:cubicBezTo>
                  <a:pt x="45" y="501"/>
                  <a:pt x="55" y="480"/>
                  <a:pt x="68" y="460"/>
                </a:cubicBezTo>
                <a:cubicBezTo>
                  <a:pt x="70" y="456"/>
                  <a:pt x="76" y="458"/>
                  <a:pt x="80" y="456"/>
                </a:cubicBezTo>
                <a:cubicBezTo>
                  <a:pt x="91" y="450"/>
                  <a:pt x="95" y="445"/>
                  <a:pt x="104" y="436"/>
                </a:cubicBezTo>
                <a:cubicBezTo>
                  <a:pt x="110" y="418"/>
                  <a:pt x="107" y="414"/>
                  <a:pt x="92" y="404"/>
                </a:cubicBezTo>
                <a:cubicBezTo>
                  <a:pt x="91" y="400"/>
                  <a:pt x="86" y="396"/>
                  <a:pt x="88" y="392"/>
                </a:cubicBezTo>
                <a:cubicBezTo>
                  <a:pt x="90" y="388"/>
                  <a:pt x="101" y="389"/>
                  <a:pt x="100" y="384"/>
                </a:cubicBezTo>
                <a:cubicBezTo>
                  <a:pt x="99" y="374"/>
                  <a:pt x="89" y="368"/>
                  <a:pt x="84" y="360"/>
                </a:cubicBezTo>
                <a:cubicBezTo>
                  <a:pt x="71" y="340"/>
                  <a:pt x="91" y="355"/>
                  <a:pt x="72" y="336"/>
                </a:cubicBezTo>
                <a:cubicBezTo>
                  <a:pt x="62" y="326"/>
                  <a:pt x="47" y="323"/>
                  <a:pt x="36" y="316"/>
                </a:cubicBezTo>
                <a:cubicBezTo>
                  <a:pt x="41" y="300"/>
                  <a:pt x="44" y="293"/>
                  <a:pt x="60" y="288"/>
                </a:cubicBezTo>
                <a:cubicBezTo>
                  <a:pt x="104" y="299"/>
                  <a:pt x="86" y="266"/>
                  <a:pt x="108" y="248"/>
                </a:cubicBezTo>
                <a:cubicBezTo>
                  <a:pt x="124" y="235"/>
                  <a:pt x="152" y="228"/>
                  <a:pt x="172" y="220"/>
                </a:cubicBezTo>
                <a:cubicBezTo>
                  <a:pt x="180" y="217"/>
                  <a:pt x="196" y="212"/>
                  <a:pt x="196" y="212"/>
                </a:cubicBezTo>
                <a:cubicBezTo>
                  <a:pt x="252" y="217"/>
                  <a:pt x="320" y="200"/>
                  <a:pt x="368" y="232"/>
                </a:cubicBezTo>
                <a:cubicBezTo>
                  <a:pt x="369" y="236"/>
                  <a:pt x="368" y="244"/>
                  <a:pt x="372" y="244"/>
                </a:cubicBezTo>
                <a:cubicBezTo>
                  <a:pt x="377" y="244"/>
                  <a:pt x="377" y="235"/>
                  <a:pt x="380" y="232"/>
                </a:cubicBezTo>
                <a:cubicBezTo>
                  <a:pt x="390" y="222"/>
                  <a:pt x="407" y="219"/>
                  <a:pt x="420" y="216"/>
                </a:cubicBezTo>
                <a:cubicBezTo>
                  <a:pt x="427" y="217"/>
                  <a:pt x="434" y="218"/>
                  <a:pt x="440" y="220"/>
                </a:cubicBezTo>
                <a:cubicBezTo>
                  <a:pt x="445" y="222"/>
                  <a:pt x="448" y="230"/>
                  <a:pt x="452" y="228"/>
                </a:cubicBezTo>
                <a:cubicBezTo>
                  <a:pt x="460" y="223"/>
                  <a:pt x="459" y="207"/>
                  <a:pt x="468" y="204"/>
                </a:cubicBezTo>
                <a:cubicBezTo>
                  <a:pt x="472" y="203"/>
                  <a:pt x="476" y="201"/>
                  <a:pt x="480" y="200"/>
                </a:cubicBezTo>
                <a:cubicBezTo>
                  <a:pt x="496" y="211"/>
                  <a:pt x="497" y="219"/>
                  <a:pt x="516" y="224"/>
                </a:cubicBezTo>
                <a:cubicBezTo>
                  <a:pt x="527" y="207"/>
                  <a:pt x="541" y="198"/>
                  <a:pt x="560" y="192"/>
                </a:cubicBezTo>
                <a:cubicBezTo>
                  <a:pt x="588" y="210"/>
                  <a:pt x="575" y="211"/>
                  <a:pt x="596" y="204"/>
                </a:cubicBezTo>
                <a:cubicBezTo>
                  <a:pt x="601" y="188"/>
                  <a:pt x="602" y="195"/>
                  <a:pt x="596" y="176"/>
                </a:cubicBezTo>
                <a:cubicBezTo>
                  <a:pt x="594" y="168"/>
                  <a:pt x="588" y="152"/>
                  <a:pt x="588" y="152"/>
                </a:cubicBezTo>
                <a:cubicBezTo>
                  <a:pt x="594" y="135"/>
                  <a:pt x="600" y="101"/>
                  <a:pt x="620" y="92"/>
                </a:cubicBezTo>
                <a:cubicBezTo>
                  <a:pt x="639" y="84"/>
                  <a:pt x="667" y="80"/>
                  <a:pt x="688" y="76"/>
                </a:cubicBezTo>
                <a:cubicBezTo>
                  <a:pt x="706" y="48"/>
                  <a:pt x="707" y="61"/>
                  <a:pt x="700" y="40"/>
                </a:cubicBezTo>
                <a:cubicBezTo>
                  <a:pt x="710" y="11"/>
                  <a:pt x="696" y="39"/>
                  <a:pt x="748" y="24"/>
                </a:cubicBezTo>
                <a:cubicBezTo>
                  <a:pt x="757" y="21"/>
                  <a:pt x="764" y="13"/>
                  <a:pt x="772" y="8"/>
                </a:cubicBezTo>
                <a:cubicBezTo>
                  <a:pt x="783" y="0"/>
                  <a:pt x="799" y="3"/>
                  <a:pt x="812" y="0"/>
                </a:cubicBezTo>
                <a:cubicBezTo>
                  <a:pt x="821" y="2"/>
                  <a:pt x="834" y="0"/>
                  <a:pt x="840" y="8"/>
                </a:cubicBezTo>
                <a:cubicBezTo>
                  <a:pt x="856" y="30"/>
                  <a:pt x="843" y="38"/>
                  <a:pt x="864" y="52"/>
                </a:cubicBezTo>
                <a:cubicBezTo>
                  <a:pt x="875" y="85"/>
                  <a:pt x="864" y="40"/>
                  <a:pt x="856" y="76"/>
                </a:cubicBezTo>
                <a:cubicBezTo>
                  <a:pt x="850" y="105"/>
                  <a:pt x="870" y="118"/>
                  <a:pt x="892" y="124"/>
                </a:cubicBezTo>
                <a:cubicBezTo>
                  <a:pt x="911" y="120"/>
                  <a:pt x="922" y="109"/>
                  <a:pt x="928" y="128"/>
                </a:cubicBezTo>
                <a:cubicBezTo>
                  <a:pt x="924" y="140"/>
                  <a:pt x="920" y="152"/>
                  <a:pt x="916" y="164"/>
                </a:cubicBezTo>
                <a:cubicBezTo>
                  <a:pt x="915" y="168"/>
                  <a:pt x="912" y="176"/>
                  <a:pt x="912" y="176"/>
                </a:cubicBezTo>
                <a:cubicBezTo>
                  <a:pt x="913" y="181"/>
                  <a:pt x="918" y="187"/>
                  <a:pt x="916" y="192"/>
                </a:cubicBezTo>
                <a:cubicBezTo>
                  <a:pt x="914" y="196"/>
                  <a:pt x="902" y="192"/>
                  <a:pt x="904" y="196"/>
                </a:cubicBezTo>
                <a:cubicBezTo>
                  <a:pt x="909" y="204"/>
                  <a:pt x="928" y="212"/>
                  <a:pt x="928" y="212"/>
                </a:cubicBezTo>
                <a:cubicBezTo>
                  <a:pt x="933" y="228"/>
                  <a:pt x="928" y="236"/>
                  <a:pt x="924" y="252"/>
                </a:cubicBezTo>
                <a:cubicBezTo>
                  <a:pt x="922" y="333"/>
                  <a:pt x="900" y="417"/>
                  <a:pt x="920" y="496"/>
                </a:cubicBezTo>
                <a:cubicBezTo>
                  <a:pt x="916" y="508"/>
                  <a:pt x="913" y="508"/>
                  <a:pt x="920" y="520"/>
                </a:cubicBezTo>
                <a:cubicBezTo>
                  <a:pt x="925" y="528"/>
                  <a:pt x="936" y="544"/>
                  <a:pt x="936" y="544"/>
                </a:cubicBezTo>
                <a:cubicBezTo>
                  <a:pt x="923" y="563"/>
                  <a:pt x="930" y="551"/>
                  <a:pt x="920" y="580"/>
                </a:cubicBezTo>
                <a:cubicBezTo>
                  <a:pt x="919" y="584"/>
                  <a:pt x="916" y="592"/>
                  <a:pt x="916" y="592"/>
                </a:cubicBezTo>
                <a:cubicBezTo>
                  <a:pt x="920" y="605"/>
                  <a:pt x="924" y="619"/>
                  <a:pt x="928" y="632"/>
                </a:cubicBezTo>
                <a:cubicBezTo>
                  <a:pt x="925" y="664"/>
                  <a:pt x="922" y="689"/>
                  <a:pt x="932" y="720"/>
                </a:cubicBezTo>
                <a:cubicBezTo>
                  <a:pt x="931" y="728"/>
                  <a:pt x="927" y="736"/>
                  <a:pt x="928" y="744"/>
                </a:cubicBezTo>
                <a:cubicBezTo>
                  <a:pt x="929" y="752"/>
                  <a:pt x="936" y="768"/>
                  <a:pt x="936" y="768"/>
                </a:cubicBezTo>
                <a:cubicBezTo>
                  <a:pt x="932" y="788"/>
                  <a:pt x="932" y="797"/>
                  <a:pt x="912" y="804"/>
                </a:cubicBezTo>
                <a:cubicBezTo>
                  <a:pt x="886" y="795"/>
                  <a:pt x="888" y="793"/>
                  <a:pt x="884" y="764"/>
                </a:cubicBezTo>
                <a:cubicBezTo>
                  <a:pt x="879" y="765"/>
                  <a:pt x="868" y="773"/>
                  <a:pt x="868" y="768"/>
                </a:cubicBezTo>
                <a:cubicBezTo>
                  <a:pt x="868" y="762"/>
                  <a:pt x="878" y="761"/>
                  <a:pt x="884" y="760"/>
                </a:cubicBezTo>
                <a:cubicBezTo>
                  <a:pt x="898" y="757"/>
                  <a:pt x="913" y="757"/>
                  <a:pt x="928" y="756"/>
                </a:cubicBezTo>
                <a:cubicBezTo>
                  <a:pt x="924" y="752"/>
                  <a:pt x="921" y="747"/>
                  <a:pt x="916" y="744"/>
                </a:cubicBezTo>
                <a:cubicBezTo>
                  <a:pt x="909" y="740"/>
                  <a:pt x="892" y="736"/>
                  <a:pt x="892" y="736"/>
                </a:cubicBezTo>
                <a:cubicBezTo>
                  <a:pt x="861" y="742"/>
                  <a:pt x="877" y="735"/>
                  <a:pt x="848" y="764"/>
                </a:cubicBezTo>
                <a:cubicBezTo>
                  <a:pt x="848" y="764"/>
                  <a:pt x="818" y="774"/>
                  <a:pt x="812" y="776"/>
                </a:cubicBezTo>
                <a:cubicBezTo>
                  <a:pt x="808" y="777"/>
                  <a:pt x="800" y="780"/>
                  <a:pt x="800" y="780"/>
                </a:cubicBezTo>
                <a:cubicBezTo>
                  <a:pt x="784" y="796"/>
                  <a:pt x="780" y="805"/>
                  <a:pt x="772" y="828"/>
                </a:cubicBezTo>
                <a:cubicBezTo>
                  <a:pt x="771" y="832"/>
                  <a:pt x="768" y="840"/>
                  <a:pt x="768" y="840"/>
                </a:cubicBezTo>
                <a:cubicBezTo>
                  <a:pt x="755" y="836"/>
                  <a:pt x="745" y="828"/>
                  <a:pt x="732" y="824"/>
                </a:cubicBezTo>
                <a:cubicBezTo>
                  <a:pt x="719" y="814"/>
                  <a:pt x="704" y="807"/>
                  <a:pt x="696" y="792"/>
                </a:cubicBezTo>
                <a:cubicBezTo>
                  <a:pt x="691" y="782"/>
                  <a:pt x="696" y="768"/>
                  <a:pt x="688" y="760"/>
                </a:cubicBezTo>
                <a:cubicBezTo>
                  <a:pt x="682" y="754"/>
                  <a:pt x="664" y="752"/>
                  <a:pt x="664" y="752"/>
                </a:cubicBezTo>
                <a:cubicBezTo>
                  <a:pt x="653" y="741"/>
                  <a:pt x="651" y="726"/>
                  <a:pt x="640" y="716"/>
                </a:cubicBezTo>
                <a:cubicBezTo>
                  <a:pt x="613" y="692"/>
                  <a:pt x="622" y="710"/>
                  <a:pt x="604" y="688"/>
                </a:cubicBezTo>
                <a:cubicBezTo>
                  <a:pt x="588" y="668"/>
                  <a:pt x="586" y="645"/>
                  <a:pt x="560" y="632"/>
                </a:cubicBezTo>
                <a:cubicBezTo>
                  <a:pt x="531" y="618"/>
                  <a:pt x="496" y="626"/>
                  <a:pt x="464" y="624"/>
                </a:cubicBezTo>
                <a:cubicBezTo>
                  <a:pt x="440" y="616"/>
                  <a:pt x="421" y="631"/>
                  <a:pt x="400" y="640"/>
                </a:cubicBezTo>
                <a:cubicBezTo>
                  <a:pt x="392" y="643"/>
                  <a:pt x="376" y="648"/>
                  <a:pt x="376" y="648"/>
                </a:cubicBezTo>
                <a:cubicBezTo>
                  <a:pt x="369" y="655"/>
                  <a:pt x="358" y="659"/>
                  <a:pt x="352" y="668"/>
                </a:cubicBezTo>
                <a:cubicBezTo>
                  <a:pt x="342" y="685"/>
                  <a:pt x="347" y="705"/>
                  <a:pt x="328" y="716"/>
                </a:cubicBezTo>
                <a:cubicBezTo>
                  <a:pt x="321" y="720"/>
                  <a:pt x="311" y="719"/>
                  <a:pt x="304" y="724"/>
                </a:cubicBezTo>
                <a:cubicBezTo>
                  <a:pt x="296" y="729"/>
                  <a:pt x="288" y="735"/>
                  <a:pt x="280" y="740"/>
                </a:cubicBezTo>
                <a:cubicBezTo>
                  <a:pt x="269" y="748"/>
                  <a:pt x="256" y="755"/>
                  <a:pt x="244" y="760"/>
                </a:cubicBezTo>
                <a:cubicBezTo>
                  <a:pt x="236" y="763"/>
                  <a:pt x="220" y="768"/>
                  <a:pt x="220" y="768"/>
                </a:cubicBezTo>
                <a:cubicBezTo>
                  <a:pt x="215" y="764"/>
                  <a:pt x="204" y="756"/>
                  <a:pt x="196" y="756"/>
                </a:cubicBezTo>
                <a:cubicBezTo>
                  <a:pt x="177" y="757"/>
                  <a:pt x="140" y="764"/>
                  <a:pt x="140" y="764"/>
                </a:cubicBezTo>
                <a:cubicBezTo>
                  <a:pt x="110" y="756"/>
                  <a:pt x="60" y="762"/>
                  <a:pt x="32" y="760"/>
                </a:cubicBezTo>
                <a:cubicBezTo>
                  <a:pt x="10" y="746"/>
                  <a:pt x="14" y="724"/>
                  <a:pt x="8" y="700"/>
                </a:cubicBezTo>
                <a:cubicBezTo>
                  <a:pt x="6" y="692"/>
                  <a:pt x="0" y="676"/>
                  <a:pt x="0" y="676"/>
                </a:cubicBezTo>
                <a:cubicBezTo>
                  <a:pt x="9" y="650"/>
                  <a:pt x="4" y="637"/>
                  <a:pt x="32" y="628"/>
                </a:cubicBezTo>
                <a:cubicBezTo>
                  <a:pt x="25" y="600"/>
                  <a:pt x="20" y="620"/>
                  <a:pt x="12" y="596"/>
                </a:cubicBezTo>
                <a:cubicBezTo>
                  <a:pt x="18" y="568"/>
                  <a:pt x="14" y="582"/>
                  <a:pt x="24" y="552"/>
                </a:cubicBezTo>
                <a:cubicBezTo>
                  <a:pt x="27" y="543"/>
                  <a:pt x="47" y="535"/>
                  <a:pt x="40" y="528"/>
                </a:cubicBezTo>
                <a:cubicBezTo>
                  <a:pt x="37" y="525"/>
                  <a:pt x="35" y="523"/>
                  <a:pt x="32" y="52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728640" y="5257440"/>
            <a:ext cx="7772400" cy="142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ere you correct?  Look for the highlight around Ukrain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hat is the latitude for Ukraine?  _______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orth or South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the longitude for Ukraine? _______° West or East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</a:t>
            </a:r>
            <a:r>
              <a:rPr b="0" lang="en-US" sz="1800" spc="-1" strike="noStrike" u="sng">
                <a:solidFill>
                  <a:srgbClr val="9999ff"/>
                </a:solidFill>
                <a:uFillTx/>
                <a:latin typeface="Times New Roman"/>
                <a:ea typeface="Times New Roman"/>
                <a:hlinkClick r:id="rId2"/>
              </a:rPr>
              <a:t>absolute location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or Ukraine is _____________________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353960" y="609480"/>
            <a:ext cx="6413760" cy="4548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6256440" y="1500120"/>
            <a:ext cx="1566720" cy="16160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7440" y="1371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Dnipropetrovs’k, Ukrain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7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global address or absolute location of Dnipropetrovs’k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2001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8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35° E.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2001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76280" y="4508280"/>
            <a:ext cx="82468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90000"/>
              </a:lnSpc>
              <a:spcBef>
                <a:spcPts val="17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int and click on Dnipropetrovs’k, Ukraine on the ma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7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48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, 35° E.L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344680" y="800280"/>
            <a:ext cx="4425840" cy="34574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83" name=""/>
          <p:cNvSpPr/>
          <p:nvPr/>
        </p:nvSpPr>
        <p:spPr>
          <a:xfrm>
            <a:off x="5105520" y="2871720"/>
            <a:ext cx="1649160" cy="274680"/>
          </a:xfrm>
          <a:custGeom>
            <a:avLst/>
            <a:gdLst/>
            <a:ahLst/>
            <a:rect l="l" t="t" r="r" b="b"/>
            <a:pathLst>
              <a:path w="1039" h="173">
                <a:moveTo>
                  <a:pt x="36" y="58"/>
                </a:moveTo>
                <a:cubicBezTo>
                  <a:pt x="151" y="100"/>
                  <a:pt x="337" y="73"/>
                  <a:pt x="454" y="68"/>
                </a:cubicBezTo>
                <a:cubicBezTo>
                  <a:pt x="475" y="3"/>
                  <a:pt x="453" y="18"/>
                  <a:pt x="500" y="3"/>
                </a:cubicBezTo>
                <a:cubicBezTo>
                  <a:pt x="516" y="6"/>
                  <a:pt x="537" y="0"/>
                  <a:pt x="547" y="12"/>
                </a:cubicBezTo>
                <a:cubicBezTo>
                  <a:pt x="559" y="26"/>
                  <a:pt x="540" y="58"/>
                  <a:pt x="556" y="68"/>
                </a:cubicBezTo>
                <a:cubicBezTo>
                  <a:pt x="575" y="80"/>
                  <a:pt x="599" y="61"/>
                  <a:pt x="621" y="58"/>
                </a:cubicBezTo>
                <a:cubicBezTo>
                  <a:pt x="751" y="67"/>
                  <a:pt x="882" y="59"/>
                  <a:pt x="1011" y="77"/>
                </a:cubicBezTo>
                <a:cubicBezTo>
                  <a:pt x="1032" y="80"/>
                  <a:pt x="1027" y="116"/>
                  <a:pt x="1039" y="133"/>
                </a:cubicBezTo>
                <a:cubicBezTo>
                  <a:pt x="1001" y="157"/>
                  <a:pt x="909" y="170"/>
                  <a:pt x="909" y="170"/>
                </a:cubicBezTo>
                <a:cubicBezTo>
                  <a:pt x="624" y="159"/>
                  <a:pt x="339" y="173"/>
                  <a:pt x="54" y="161"/>
                </a:cubicBezTo>
                <a:cubicBezTo>
                  <a:pt x="0" y="142"/>
                  <a:pt x="12" y="104"/>
                  <a:pt x="36" y="58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80600" y="4349520"/>
            <a:ext cx="8217000" cy="206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re you correct?  Look for highlight around Dnipropetrovs’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latitude for Dnipropetrovs’k? _________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orth or South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the longitude for Dnipropetrovs’k? _________° West or Eas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341440" y="822240"/>
            <a:ext cx="4469040" cy="340992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8T18:55:12Z</dcterms:created>
  <dc:creator>Unknown User</dc:creator>
  <dc:description/>
  <dc:language>en-US</dc:language>
  <cp:lastModifiedBy>Jeremiah McNichols</cp:lastModifiedBy>
  <cp:lastPrinted>2002-01-02T19:06:19Z</cp:lastPrinted>
  <dcterms:modified xsi:type="dcterms:W3CDTF">2008-10-14T14:04:25Z</dcterms:modified>
  <cp:revision>7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c07000000000001023620</vt:lpwstr>
  </property>
</Properties>
</file>