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316B-3A9A-4884-9102-6810B5B7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) Explain the relationship among religious ideas, philosophy,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Explain aspects that link or separate cultures an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nob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ipropetrovs’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accident, Chernobyl had about 14,000 resi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the type of reactor used in the former U.S.S.R. had a different design than reactors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B) Describe the consequences of human modification of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the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, Kiev has been a commercial center, located along the ancient trade route between Scandinavia and Constantin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Analyze historical backgrounds to link past conflicts to curre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scribe characteristics of societies resulting from historic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503-BB3D-4F2E-A87E-D63569AD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BF0-8F56-4A83-934A-A6A0B7BE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8F7-6B0D-42DA-8AD1-D1B0E22D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E5E-2CC6-472F-92D2-10FA4C3B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8E8-3C0A-43FF-B142-19CF459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8C2-3173-452E-93D5-0828D43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4C2-CFA9-46A3-BD06-29B59727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F26-B5E0-4F72-8687-D0326E85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32F-BA80-4247-B434-28A1F598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FC5-FE2F-43FE-B777-D1BBA9DF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075-25CA-44B9-B453-0B87CC1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1B8-BB0A-4A9B-978D-D119764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F7E8-AD40-4B98-9D67-1DEE111A35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3880" y="262080"/>
            <a:ext cx="266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1280" y="1536480"/>
            <a:ext cx="358920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is home to many Orthodox Christian sites including the grand Cathedral of St. Sophia and the Percherska Lavra Monastery of the Cave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iev also has many gardens, parks, medieval art and architecture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1684440"/>
            <a:ext cx="3657600" cy="44528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50520" y="5030640"/>
            <a:ext cx="7961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is located along the Dnieper river and is an important city for water transpor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79720" y="1689120"/>
            <a:ext cx="4917960" cy="31557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on and steel are the major industries in Dnipropetrovs’k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ity produces heavy machinery, chemicals, and food produ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1617840"/>
            <a:ext cx="3143160" cy="448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nipropetrovs’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040" y="1552680"/>
            <a:ext cx="310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nipropetrovs’k and other nearby cities get a great deal of their electricity from the Dniporhes dam and power st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cated on the Dnieper River and uses the force of the water flowing through the dam to produce electr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29200" y="1695600"/>
            <a:ext cx="4557600" cy="341604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956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5403600"/>
            <a:ext cx="54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is located along the Black Sea and is an important city for trad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92360"/>
            <a:ext cx="5238720" cy="33624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5044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was originally the sight of an ancient Greek colony (Odessos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officially founded in 1794 and was used as a Russian naval fortres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4840" y="1636560"/>
            <a:ext cx="3582720" cy="44355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788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d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6480"/>
            <a:ext cx="436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esa has a rich culture and is home to people of many different origins including Ukrainian, Russian, Moldavian, Greek, and Romani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 Odesa is an industrial city specializing in ship building, oil refining, chemicals, metal working, and food processing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37160" y="1658880"/>
            <a:ext cx="3160800" cy="4395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the capital of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located along the Black Sea and is important for trad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is now abandoned because of a large nuclear explosion that occurred in 1986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city uses the Dniprophes dam and power station for electri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could pick one city in Ukraine to travel to, where would you go and w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were put in charge of an environmental clean-up committee, what would you do to clean up the present pollution and prevent further pollution in Ukraine?  Please explain your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8480" y="1781280"/>
            <a:ext cx="815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major industrial cities of Ukraine, including Chernobyl, Kiev, Dnipropetrovs’k, and Od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 unique challenges facing Ukr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240" y="5211720"/>
            <a:ext cx="8367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nobyl is an abandoned industrial city located on the northern end of the Dnie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9840" y="1709640"/>
            <a:ext cx="4870440" cy="312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94320" y="1526760"/>
            <a:ext cx="319104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nobyl is the site of the Chernobyl nuclear power st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86, there was a large explosion at the station that sent radioactive material into the atmosphe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1695600"/>
            <a:ext cx="4572000" cy="34858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rnoby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80960" y="1517400"/>
            <a:ext cx="819648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estimated that nearly 8,000 people have died as a result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ople of Ukraine are still feeling the effects of the accide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people who lived near the plant at the time of the explosion have had a higher rate of cancer and genetic mutation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666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s of the Explo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19120" y="1500120"/>
            <a:ext cx="4557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years, Ukraine has been the breadbasket of Europe, growing large amounts of wheat.  A large amount of the fields growing the wheat have now been contaminated by invisible radiation. These fields will not be safe for growing food for many year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water supply of Ukraine has also been contaminated by radiatio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2760" y="1652760"/>
            <a:ext cx="3054240" cy="456696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47640" y="5048280"/>
            <a:ext cx="8018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on the Dnieper River, Kiev is the capital of Ukraine and the largest city in the countr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43080" y="1689120"/>
            <a:ext cx="4869000" cy="31240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62120" y="29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5040" y="1531800"/>
            <a:ext cx="36432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ev is one of the oldest towns in Northern Europe and holds much histo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the capital of medieval Kievan Rus, the first Russian st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known for its electronics, aviation, and chemical indust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73040" y="1708200"/>
            <a:ext cx="4108320" cy="267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e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60" y="156672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the establishment of the Kievan Academy (1632), Kiev became the center of learning in Ukra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Kiev is home to the University of Kiev (1833) and the Ukrainian Academy of Sciences (1918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40360" y="1716120"/>
            <a:ext cx="4554360" cy="30402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9:32Z</dcterms:created>
  <dc:creator>Jeremiah McNichols</dc:creator>
  <dc:description/>
  <dc:language>en-US</dc:language>
  <cp:lastModifiedBy>Jeremiah McNichols</cp:lastModifiedBy>
  <dcterms:modified xsi:type="dcterms:W3CDTF">2008-10-13T15:29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9000000000001023620</vt:lpwstr>
  </property>
</Properties>
</file>