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3B3A-5055-458B-A291-42BB776B1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 to view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viewing any presentation, check your computer for proper settings as describ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 Compare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C) Identify historical origins of democratic forms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 Describe the physical processes that produce natural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A) Compare ways societies organize production/distribution of goods an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) Identify and differentiate among varying economies in selected socie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C) Explain the impact of scarcity on trade and economic inter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A) Describe ways in which factors of production influence econom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 Identify and analyze ways people adapt to the physical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B) Identify and analyze how people have modified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C) Describe ways technology enables us to modify the physic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 Describe the physical processes that produce natural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B) Describe the physical processes that produce natural resou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C) Analyze effects of physical processes and the environment on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answers includ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ania, Hungary, Slovakia, Poland, Belarus and Rus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ore, coal, manganese, natural gas,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, maize, buckwheat, red and green vegetables, fruit, melons, and be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 and water pollution, Deforestation, Radiation contamination, Lack of drinkable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5D34-211E-47AF-B1DB-1892A46D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4E4-CB3F-4C30-A926-EA89F2B2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B30-BEFF-439C-A53E-5A6293A7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6D5-CC25-4592-A662-1BC02F75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659-B684-4CA3-B9D5-0171D9F0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498-8D61-46B3-B474-803E8AAB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332-897C-47CF-B298-33B21512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F0D-5503-458F-9C6E-99B1031E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AE1-280F-4EE0-BB3D-D33B8D25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468-6FCA-4F43-9CB6-CB37CDE0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D7B-6770-4C18-A425-EC01B36E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322-78BE-4FA9-8A9D-2DD031CC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AB1F-FE51-494C-9C62-8B7616E4FB2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0680" y="1530360"/>
            <a:ext cx="819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Ukraine through its economy, agricultural industry, and environmental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4932360"/>
            <a:ext cx="82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raine is located in Eastern Europe and is bordered by the Black Sea, Romania, Hungary, Slovakia, Poland, Belarus and Russi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49560" y="1639800"/>
            <a:ext cx="4809960" cy="308772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493560"/>
            <a:ext cx="47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is the Ukra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3909960"/>
            <a:ext cx="799776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il 1991, Ukraine was part of the former U.S.S.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Ukraine is a republic and has its own Constitu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rainians celebrate their independence from the former U.S.S.R. on August 2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27360" y="1555920"/>
            <a:ext cx="3672000" cy="226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18840" y="512640"/>
            <a:ext cx="43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y of the Ukr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640" y="4119480"/>
            <a:ext cx="8234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kraine is rich in natural resources (iron ore, coal, manganese, natural gas, mercury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of these resources are refined loc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al, electric power, ferrous and nonferrous metals, machinery and transport equipment, and chemical production are the major industries in Ukraine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844720" y="1673280"/>
            <a:ext cx="3402000" cy="227160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454824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of the land in Ukraine is fertile (it can be farme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krainians grow wheat, maize, buckwheat, red and green vegetables, fruit, melons, and berrie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kraine is also known for the production of sugar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94080" y="1697040"/>
            <a:ext cx="4116240" cy="27226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vironmental Concer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5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raine is an industrial coun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of the larger industrial cities are located along the Dneiper River, which flows through the center of the country.  As a result, there are quite a few industrial plants located on or near the Dneiper Riv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1695600"/>
            <a:ext cx="4057560" cy="256032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036760" y="1533600"/>
            <a:ext cx="3662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krainian industries often produce a great amount of pollu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day, the current environmental issues in Ukraine ar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 and water pol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ore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ation conta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ck of drinkable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29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vironmental Concer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3640" y="1704960"/>
            <a:ext cx="3978360" cy="2949480"/>
          </a:xfrm>
          <a:prstGeom prst="rect">
            <a:avLst/>
          </a:prstGeom>
          <a:ln w="88920">
            <a:solidFill>
              <a:srgbClr val="cc6666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527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hat year did Ukraine become independ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 2 countries that border Ukra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natural resources are found in Ukra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crops do the Ukrainians gr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the current environmental concerns in Ukraine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28Z</dcterms:created>
  <dc:creator>Jeremiah McNichols</dc:creator>
  <dc:description/>
  <dc:language>en-US</dc:language>
  <cp:lastModifiedBy>Jeremiah McNichols</cp:lastModifiedBy>
  <dcterms:modified xsi:type="dcterms:W3CDTF">2008-10-14T14:02:15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4000000000001023620</vt:lpwstr>
  </property>
</Properties>
</file>