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D57B-89AC-46FB-9B55-7734E7F4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relative location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exas to Ukraine, you would travel east.  The distance between Houston and Kiev is 5982.11 miles or 9627.00 kilo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F) Use math skills to interpret social studies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nd, Slovaka, Hung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Ukraine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ither by absolute or relative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nor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geography world geography relati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C63-64EC-49C1-97C9-0F5364AF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EF0-8DB7-4D5E-BF22-C443A6BA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331-9163-46A2-8270-2CA201D0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955-5C56-4666-AF7F-6E90923A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2CD-D913-4683-90A8-573D5E30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A34-1951-4672-8B5B-565CCFA7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218-A0CA-41E1-8EB8-1655B7D3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F20-5CD9-4E6C-9C2D-7A7E79F6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866-8350-41F3-8EF7-F64BB686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502-D4C5-4DD4-82E0-6A00CE56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39C-C773-4783-9207-D31854C6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5D9-64BE-4FE1-BFD7-022582C3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734-3144-482A-A838-8CC3DCFB736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relative lo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lative Lo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s Ukraine in relation to other places in the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76120" y="4876920"/>
            <a:ext cx="7848360" cy="18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kraine is circled in black on the map above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what continent is Ukraine located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ontinent is south of Ukrain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ontinent is east of Ukrain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1295280"/>
            <a:ext cx="30492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47640" y="5105520"/>
            <a:ext cx="784872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f you were to travel using the shortest distance to Ukraine from your home, in which direction would you travel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295280"/>
            <a:ext cx="304920" cy="152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circled in black on the map bel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24120" y="1561680"/>
            <a:ext cx="2590920" cy="46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countries are to the west of Ukrain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at large country is to the northeast of Ukraine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me the sea located south of Ukrain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5829480" cy="53722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352680"/>
            <a:ext cx="213336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4953240" cy="398592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43434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nipropetrovs’k is highlighted on the ma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city is the capital of Ukraine?_______________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city is located in what direction from Dnipropetrovs’k? 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en K.T. and Nikolai traveled on the Dnieper River from Kiev to Dnipropetrovs’k, in what direction did they travel? _______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city of Odesa is located in what direction from Dnipropetrovs’k? ________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464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are talking with a friend. She asks, “Where is Ukraine?”  How would you respo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ere to travel from Texas to Ukraine, in what direction would you tra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were to travel from Ukraine to Paris, France, in what direction would you tra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closer to Ukraine?  ___Germany    ___USA   ___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30:59Z</dcterms:created>
  <dc:creator>Jeremiah McNichols</dc:creator>
  <dc:description/>
  <dc:language>en-US</dc:language>
  <cp:lastModifiedBy>Jeremiah McNichols</cp:lastModifiedBy>
  <dcterms:modified xsi:type="dcterms:W3CDTF">2008-10-14T14:05:0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4000000000001023620</vt:lpwstr>
  </property>
</Properties>
</file>