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jpeg" ContentType="image/jpeg"/>
  <Override PartName="/ppt/media/image1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1.jpeg" ContentType="image/jpeg"/>
  <Override PartName="/ppt/media/image9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21CC9-B9D7-4C50-8763-FE0EF56014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Welcome !!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lease open the “Read This First - TEACHER INSTRUCTIONS” file on the CD before attempting to view this presentation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his “NOTES” section contains teacher notes for each slide including a variety of information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uch as activity instructions, quiz answers, etc.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hese notes identify the specific TEKS addressed on each slide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.  Identified TEKS in these notes are intended to be a guide to, not a substitute for, the full text of the TEKS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or to viewing any presentation, check your computer for proper settings as described in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“Read This First - TEACHER INSTRUCTIONS” file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located on the C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view in Slide Show mode, one must select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Arial"/>
              </a:rPr>
              <a:t>Slide Show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and then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Arial"/>
              </a:rPr>
              <a:t>View Show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on the PowerPoint pull down menu.  The ESC key will allow one to “escape” out of the Slide Show view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ial Studies TEK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 (A) Describe characteristics of societies resulting from historical ev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9 (A) Explain the relationship among religious ideas, philosophy, and cul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ial Studies TEK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3 (C) Compare regions using data from maps, charts, models, and data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ial Studies TEK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7 (A) Identify and analyze ways people adapt to the physical environm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7 (B) Identify and analyze how people have modified the physical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7 (C) Describe ways technology enables us to modify the physical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8 (A) Compare ways societies organize production/distribution of goods and serv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9 (A) Describe ways in which factors of production influence econom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ial Studies TEK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7 (A) Identify and analyze ways people adapt to the physical environm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7 (B) Identify and analyze how people have modified the physical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7 (C) Describe ways technology enables us to modify the physical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12 (B) Describe the consequences of human modification of the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ial Studies TEK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3 (C) Compare regions using data from maps, charts, models, and data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ial Studies TEK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 (A) Describe characteristics of societies resulting from historical ev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ial Studies TEK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7 (A) Identify and analyze ways people adapt to the physical environm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7 (B) Identify and analyze how people have modified the physical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7 (C) Describe ways technology enables us to modify the physical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7 (A) Explain aspects that link or separate cultures and socie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e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de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rnoby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nipropetrovs’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ial Studies TEK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3 (B) Pose and answer questions about geographic distributions and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ial Studies TEK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6 (B) Describe the physical processes that produce natural resourc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6 (C) Analyze effects of physical processes and the environment on hum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fore the accident, Chernobyl had about 14,000 resid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ial Studies TEK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3 (C) Compare regions using data from maps, charts, models, and data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should be noted that the type of reactor used in the former U.S.S.R. had a different design than reactors in the U.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ial Studies TEK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 (B) Analyze historical backgrounds to link past conflicts to current cond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12 (B) Describe the consequences of human modification of the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ial Studies TEK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 (B) Analyze historical backgrounds to link past conflicts to current cond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6 (C) Analyze effects of physical processes and the environment on hum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12 (B) Describe the consequences of human modification of the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ial Studies TEK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 (B) Analyze historical backgrounds to link past conflicts to current cond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6 (C) Analyze effects of physical processes and the environment on hum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12 (B) Describe the consequences of human modification of the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ial Studies TEK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3 (C) Compare regions using data from maps, charts, models, and data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early as the 5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entury, Kiev has been a commercial center, located along the ancient trade route between Scandinavia and Constantinop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ial Studies TEK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 (A) Describe characteristics of societies resulting from historical ev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 (B) Analyze historical backgrounds to link past conflicts to current cond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5 (A) Explain factors that influence economic development and foreign polici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8 (A) Compare ways societies organize production/distribution of goods and servic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ial Studies TEK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 (A) Describe characteristics of societies resulting from historical ev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37FCE-5CD6-4F02-8A93-0E0FE2322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65B6B-0314-401C-A069-6D6581A45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4B280-015A-45FB-8DC2-52B234489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56173-6D14-4EEE-AE06-DC04008F7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D70A4-4743-47FC-A747-379D87F7E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6F5B4-A191-4872-8DA0-27C0A89BA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5599F-5D1B-4BE2-A6FB-BC8E8A51E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9199B-3CBE-42C6-9766-ABA2AE28D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8F53A-595E-4501-A408-8ECF92999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BB683-0343-4C4A-BD77-529DB7E2D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D54FE-63CF-4569-8ACE-EC5AD0410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D58CA-6706-4787-9683-D014B4DF3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48788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DD8AE-86C7-4561-A830-68968BA896F4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hyperlink" Target="http://peer.tamu.edu/" TargetMode="External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peer.tamu.edu/forms/Curricula_Survey.shtml" TargetMode="External"/><Relationship Id="rId3" Type="http://schemas.openxmlformats.org/officeDocument/2006/relationships/hyperlink" Target="http://peer.tamu.edu/forms/Curricula_Survey.shtml" TargetMode="External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png"/><Relationship Id="rId7" Type="http://schemas.openxmlformats.org/officeDocument/2006/relationships/image" Target="../media/image19.jpeg"/><Relationship Id="rId8" Type="http://schemas.openxmlformats.org/officeDocument/2006/relationships/image" Target="../media/image20.png"/><Relationship Id="rId9" Type="http://schemas.openxmlformats.org/officeDocument/2006/relationships/image" Target="../media/image21.png"/><Relationship Id="rId10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981080" y="579600"/>
            <a:ext cx="6115320" cy="32922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609480" y="3857760"/>
            <a:ext cx="792504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egrated Middle School Curricul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18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rtnership for Environmental Education and Rural Health (PEER; </a:t>
            </a:r>
            <a:r>
              <a:rPr b="0" lang="en-US" sz="3200" spc="-1" strike="noStrike" u="sng">
                <a:solidFill>
                  <a:srgbClr val="9999ff"/>
                </a:solidFill>
                <a:uFillTx/>
                <a:latin typeface="Times New Roman"/>
                <a:hlinkClick r:id="rId3"/>
              </a:rPr>
              <a:t>http://peer.tamu.edu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)                Texas A&amp;M Univers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233880" y="262080"/>
            <a:ext cx="26668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Kiev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021280" y="1536480"/>
            <a:ext cx="3589200" cy="379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Kiev is home to many Orthodox Christian sites including the grand Cathedral of St. Sophia and the Percherska Lavra Monastery of the Caves. 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Kiev also has many gardens, parks, medieval art and architecture. 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762120" y="1684440"/>
            <a:ext cx="3657600" cy="4452840"/>
          </a:xfrm>
          <a:prstGeom prst="rect">
            <a:avLst/>
          </a:prstGeom>
          <a:ln w="88920">
            <a:solidFill>
              <a:srgbClr val="cc666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79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650520" y="5030640"/>
            <a:ext cx="7961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nipropetrovs’k is located along the Dnieper river and is an important city for water transportation.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2079720" y="1689120"/>
            <a:ext cx="4917960" cy="3155760"/>
          </a:xfrm>
          <a:prstGeom prst="rect">
            <a:avLst/>
          </a:prstGeom>
          <a:ln w="88920">
            <a:solidFill>
              <a:srgbClr val="cc6666"/>
            </a:solidFill>
            <a:miter/>
          </a:ln>
        </p:spPr>
      </p:pic>
      <p:sp>
        <p:nvSpPr>
          <p:cNvPr id="88" name="PlaceHolder 2"/>
          <p:cNvSpPr>
            <a:spLocks noGrp="1"/>
          </p:cNvSpPr>
          <p:nvPr>
            <p:ph type="title"/>
          </p:nvPr>
        </p:nvSpPr>
        <p:spPr>
          <a:xfrm>
            <a:off x="685800" y="302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nipropetrovs’k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8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nipropetrovs’k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647960" y="15238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ron and steel are the major industries in Dnipropetrovs’k.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city produces heavy machinery, chemicals, and food product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685800" y="1617840"/>
            <a:ext cx="3143160" cy="4485960"/>
          </a:xfrm>
          <a:prstGeom prst="rect">
            <a:avLst/>
          </a:prstGeom>
          <a:ln w="88920">
            <a:solidFill>
              <a:srgbClr val="cc6666"/>
            </a:solidFill>
            <a:miter/>
          </a:ln>
        </p:spPr>
      </p:pic>
      <p:sp>
        <p:nvSpPr>
          <p:cNvPr id="93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8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nipropetrovs’k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73040" y="1552680"/>
            <a:ext cx="3108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nipropetrovs’k and other nearby cities get a great deal of their electricity from the Dniporhes dam and power station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t is located on the Dnieper River and uses the force of the water flowing through the dam to produce electricit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4129200" y="1695600"/>
            <a:ext cx="4557600" cy="3416040"/>
          </a:xfrm>
          <a:prstGeom prst="rect">
            <a:avLst/>
          </a:prstGeom>
          <a:ln w="88920">
            <a:solidFill>
              <a:srgbClr val="cc6666"/>
            </a:solidFill>
            <a:miter/>
          </a:ln>
        </p:spPr>
      </p:pic>
      <p:sp>
        <p:nvSpPr>
          <p:cNvPr id="97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82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09560" y="33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des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828440" y="5403600"/>
            <a:ext cx="5452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desa is located along the Black Sea and is an important city for trade.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1905120" y="1692360"/>
            <a:ext cx="5238720" cy="3362400"/>
          </a:xfrm>
          <a:prstGeom prst="rect">
            <a:avLst/>
          </a:prstGeom>
          <a:ln w="88920">
            <a:solidFill>
              <a:srgbClr val="cc6666"/>
            </a:solidFill>
            <a:miter/>
          </a:ln>
        </p:spPr>
      </p:pic>
      <p:sp>
        <p:nvSpPr>
          <p:cNvPr id="101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83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des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47960" y="1504440"/>
            <a:ext cx="38098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desa was originally the sight of an ancient Greek colony (Odessos).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t was officially founded in 1794 and was used as a Russian naval fortress.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474840" y="1636560"/>
            <a:ext cx="3582720" cy="4435560"/>
          </a:xfrm>
          <a:prstGeom prst="rect">
            <a:avLst/>
          </a:prstGeom>
          <a:ln w="88920">
            <a:solidFill>
              <a:srgbClr val="cc6666"/>
            </a:solidFill>
            <a:miter/>
          </a:ln>
        </p:spPr>
      </p:pic>
      <p:sp>
        <p:nvSpPr>
          <p:cNvPr id="105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84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77880" y="33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des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806480"/>
            <a:ext cx="4368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desa has a rich culture and is home to people of many different origins including Ukrainian, Russian, Moldavian, Greek, and Romania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day Odesa is an industrial city specializing in ship building, oil refining, chemicals, metal working, and food processing.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5537160" y="1658880"/>
            <a:ext cx="3160800" cy="4395960"/>
          </a:xfrm>
          <a:prstGeom prst="rect">
            <a:avLst/>
          </a:prstGeom>
          <a:ln w="88920">
            <a:solidFill>
              <a:srgbClr val="cc6666"/>
            </a:solidFill>
            <a:miter/>
          </a:ln>
        </p:spPr>
      </p:pic>
      <p:sp>
        <p:nvSpPr>
          <p:cNvPr id="109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85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Just Checking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city is the capital of Ukrain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city is located along the Black Sea and is important for trad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city is now abandoned because of a large nuclear explosion that occurred in 1986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city uses the Dniprophes dam and power station for electricity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86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364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do you think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544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 you could pick one city in Ukraine to travel to, where would you go and why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 you were put in charge of an environmental clean-up committee, what would you do to clean up the present pollution and prevent further pollution in Ukraine?  Please explain your answ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87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4920" y="99036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s product is available through the cooperation of the following: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027840" y="1805040"/>
            <a:ext cx="2862000" cy="26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04920" y="304920"/>
            <a:ext cx="845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eachers, please click on this link to complete a short survey concerning this module: </a:t>
            </a:r>
            <a:r>
              <a:rPr b="0" lang="en-US" sz="2000" spc="-1" strike="noStrike" u="sng">
                <a:solidFill>
                  <a:srgbClr val="9999ff"/>
                </a:solidFill>
                <a:uFillTx/>
                <a:latin typeface="Times New Roman"/>
                <a:hlinkClick r:id="rId2"/>
              </a:rPr>
              <a:t>http://</a:t>
            </a:r>
            <a:r>
              <a:rPr b="0" lang="en-US" sz="2000" spc="-1" strike="noStrike" u="sng">
                <a:solidFill>
                  <a:srgbClr val="9999ff"/>
                </a:solidFill>
                <a:uFillTx/>
                <a:latin typeface="Times New Roman"/>
                <a:hlinkClick r:id="rId3"/>
              </a:rPr>
              <a:t>peer.tamu.edu/forms/Curricula_Survey.shtml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78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380880" y="1981080"/>
            <a:ext cx="8570880" cy="4517640"/>
            <a:chOff x="380880" y="1981080"/>
            <a:chExt cx="8570880" cy="4517640"/>
          </a:xfrm>
        </p:grpSpPr>
        <p:pic>
          <p:nvPicPr>
            <p:cNvPr id="121" name="" descr=""/>
            <p:cNvPicPr/>
            <p:nvPr/>
          </p:nvPicPr>
          <p:blipFill>
            <a:blip r:embed="rId4"/>
            <a:stretch/>
          </p:blipFill>
          <p:spPr>
            <a:xfrm>
              <a:off x="380880" y="1986120"/>
              <a:ext cx="137160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" name="" descr=""/>
            <p:cNvPicPr/>
            <p:nvPr/>
          </p:nvPicPr>
          <p:blipFill>
            <a:blip r:embed="rId5"/>
            <a:stretch/>
          </p:blipFill>
          <p:spPr>
            <a:xfrm>
              <a:off x="380880" y="3510000"/>
              <a:ext cx="1371600" cy="13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" name="" descr=""/>
            <p:cNvPicPr/>
            <p:nvPr/>
          </p:nvPicPr>
          <p:blipFill>
            <a:blip r:embed="rId6"/>
            <a:stretch/>
          </p:blipFill>
          <p:spPr>
            <a:xfrm>
              <a:off x="380880" y="5033880"/>
              <a:ext cx="135900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" name="" descr=""/>
            <p:cNvPicPr/>
            <p:nvPr/>
          </p:nvPicPr>
          <p:blipFill>
            <a:blip r:embed="rId7"/>
            <a:stretch/>
          </p:blipFill>
          <p:spPr>
            <a:xfrm>
              <a:off x="4724280" y="3510000"/>
              <a:ext cx="1371600" cy="13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" name="" descr=""/>
            <p:cNvPicPr/>
            <p:nvPr/>
          </p:nvPicPr>
          <p:blipFill>
            <a:blip r:embed="rId8"/>
            <a:stretch/>
          </p:blipFill>
          <p:spPr>
            <a:xfrm>
              <a:off x="4724280" y="5029200"/>
              <a:ext cx="1371600" cy="1371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6" name=""/>
            <p:cNvGrpSpPr/>
            <p:nvPr/>
          </p:nvGrpSpPr>
          <p:grpSpPr>
            <a:xfrm>
              <a:off x="4643280" y="1981080"/>
              <a:ext cx="1546560" cy="1371600"/>
              <a:chOff x="4643280" y="1981080"/>
              <a:chExt cx="1546560" cy="1371600"/>
            </a:xfrm>
          </p:grpSpPr>
          <p:sp>
            <p:nvSpPr>
              <p:cNvPr id="127" name=""/>
              <p:cNvSpPr/>
              <p:nvPr/>
            </p:nvSpPr>
            <p:spPr>
              <a:xfrm>
                <a:off x="4724280" y="1981080"/>
                <a:ext cx="1371600" cy="1371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8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4643280" y="2170080"/>
                <a:ext cx="1546560" cy="10126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29" name=""/>
            <p:cNvSpPr/>
            <p:nvPr/>
          </p:nvSpPr>
          <p:spPr>
            <a:xfrm>
              <a:off x="1898640" y="2206800"/>
              <a:ext cx="2617920" cy="41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National Institute of Environmental Health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Scien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Partnership for Environmental Education and Rural Healt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College of Education, Texas A&amp;M Univers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222960" y="2166840"/>
              <a:ext cx="2728800" cy="43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Department of Agricultural Education, Texas A&amp;M Univers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The Center for Environmental and Rural Healt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College of Veterinary Medicine, Texas A&amp;M Univers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bjectives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28480" y="1781280"/>
            <a:ext cx="81518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plore the major industrial cities of Ukraine, including Chernobyl, Kiev, Dnipropetrovs’k, and Odes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nderstand the unique challenges facing Ukra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98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hernoby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63240" y="5211720"/>
            <a:ext cx="836748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ernobyl is an abandoned industrial city located on the northern end of the Dnieper River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2139840" y="1709640"/>
            <a:ext cx="4870440" cy="3125880"/>
          </a:xfrm>
          <a:prstGeom prst="rect">
            <a:avLst/>
          </a:prstGeom>
          <a:ln w="88920">
            <a:solidFill>
              <a:srgbClr val="cc6666"/>
            </a:solidFill>
            <a:miter/>
          </a:ln>
        </p:spPr>
      </p:pic>
      <p:sp>
        <p:nvSpPr>
          <p:cNvPr id="56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73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5494320" y="1526760"/>
            <a:ext cx="3191040" cy="37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ernobyl is the site of the Chernobyl nuclear power station.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 1986, there was a large explosion at the station that sent radioactive material into the atmosphere.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266688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533520" y="1695600"/>
            <a:ext cx="4572000" cy="3485880"/>
          </a:xfrm>
          <a:prstGeom prst="rect">
            <a:avLst/>
          </a:prstGeom>
          <a:ln w="88920">
            <a:solidFill>
              <a:srgbClr val="cc6666"/>
            </a:solidFill>
            <a:miter/>
          </a:ln>
        </p:spPr>
      </p:pic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685800" y="33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hernoby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74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80960" y="1517400"/>
            <a:ext cx="8196480" cy="35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 is estimated that nearly 8,000 people have died as a result of the accident.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people of Ukraine are still feeling the effects of the accident.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ny people who lived near the plant at the time of the explosion have had a higher rate of cancer and genetic mutations.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143000" y="266688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title"/>
          </p:nvPr>
        </p:nvSpPr>
        <p:spPr>
          <a:xfrm>
            <a:off x="685800" y="33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ffects of the Explos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74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6996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ffects of the Explos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119120" y="1500120"/>
            <a:ext cx="45579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For years, Ukraine has been the breadbasket of Europe, growing large amounts of wheat.  A large amount of the fields growing the wheat have now been contaminated by invisible radiation. These fields will not be safe for growing food for many years. 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The water supply of Ukraine has also been contaminated by radiation.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482760" y="1652760"/>
            <a:ext cx="3054240" cy="4566960"/>
          </a:xfrm>
          <a:prstGeom prst="rect">
            <a:avLst/>
          </a:prstGeom>
          <a:ln w="88920">
            <a:solidFill>
              <a:srgbClr val="cc6666"/>
            </a:solidFill>
            <a:miter/>
          </a:ln>
        </p:spPr>
      </p:pic>
      <p:sp>
        <p:nvSpPr>
          <p:cNvPr id="69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75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647640" y="5048280"/>
            <a:ext cx="8018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ocated on the Dnieper River, Kiev is the capital of Ukraine and the largest city in the country.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2143080" y="1689120"/>
            <a:ext cx="4869000" cy="3124080"/>
          </a:xfrm>
          <a:prstGeom prst="rect">
            <a:avLst/>
          </a:prstGeom>
          <a:ln w="88920">
            <a:solidFill>
              <a:srgbClr val="cc6666"/>
            </a:solidFill>
            <a:miter/>
          </a:ln>
        </p:spPr>
      </p:pic>
      <p:sp>
        <p:nvSpPr>
          <p:cNvPr id="72" name="PlaceHolder 2"/>
          <p:cNvSpPr>
            <a:spLocks noGrp="1"/>
          </p:cNvSpPr>
          <p:nvPr>
            <p:ph type="title"/>
          </p:nvPr>
        </p:nvSpPr>
        <p:spPr>
          <a:xfrm>
            <a:off x="762120" y="298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Kiev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76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Kiev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045040" y="1531800"/>
            <a:ext cx="3643200" cy="484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iev is one of the oldest towns in Northern Europe and holds much history.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t was the capital of medieval Kievan Rus, the first Russian stat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day, Kiev is known for its electronics, aviation, and chemical industri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473040" y="1708200"/>
            <a:ext cx="4108320" cy="2679480"/>
          </a:xfrm>
          <a:prstGeom prst="rect">
            <a:avLst/>
          </a:prstGeom>
          <a:ln w="88920">
            <a:solidFill>
              <a:srgbClr val="cc6666"/>
            </a:solidFill>
            <a:miter/>
          </a:ln>
        </p:spPr>
      </p:pic>
      <p:sp>
        <p:nvSpPr>
          <p:cNvPr id="77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77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Kiev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64760" y="1566720"/>
            <a:ext cx="3166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ith the establishment of the Kievan Academy (1632), Kiev became the center of learning in Ukrain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day, Kiev is home to the University of Kiev (1833) and the Ukrainian Academy of Sciences (1918).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4140360" y="1716120"/>
            <a:ext cx="4554360" cy="3040200"/>
          </a:xfrm>
          <a:prstGeom prst="rect">
            <a:avLst/>
          </a:prstGeom>
          <a:ln w="88920">
            <a:solidFill>
              <a:srgbClr val="cc6666"/>
            </a:solidFill>
            <a:miter/>
          </a:ln>
        </p:spPr>
      </p:pic>
      <p:sp>
        <p:nvSpPr>
          <p:cNvPr id="81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78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3T15:29:32Z</dcterms:created>
  <dc:creator>Jeremiah McNichols</dc:creator>
  <dc:description/>
  <dc:language>en-US</dc:language>
  <cp:lastModifiedBy>Jeremiah McNichols</cp:lastModifiedBy>
  <dcterms:modified xsi:type="dcterms:W3CDTF">2008-10-13T15:29:46Z</dcterms:modified>
  <cp:revision>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5209000000000001023620</vt:lpwstr>
  </property>
</Properties>
</file>