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ED191-9A4D-42E1-B453-E5F234AC5C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190871-AA29-4521-9DB7-73426DC1FD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1506AE-C10D-4A0F-BEFB-1FBC79C733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E4DE64-20C4-414F-AEA3-407D20FD0F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C4E5B9-A8E0-4885-84A6-2461F81EA8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4F4363-CA1E-4EE5-BED5-A5713DE370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251B8E-B8F3-4610-B794-5FE1886C16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5A0507-EA76-4893-9D3B-E421A773FC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33C790-B196-42FC-B1A3-687B12F10D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061487-01B4-42F7-B1B6-2AE8E94E5D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C6B6CB-BAF0-4847-B2E8-B36FDBD00C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E45E3B-197B-4F5B-9A5F-69F1FBA9DA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E657B-3772-40E5-8213-3F579CBB55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70D36-5F38-4ABA-B420-AC965160EF2F}"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3-09-11T17:16:09Z</dcterms:modified>
  <cp:revision>26</cp:revision>
  <dc:subject/>
  <dc:title>Persuasive Writ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7601000000000001023620</vt:lpwstr>
  </property>
</Properties>
</file>