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17BED-DD0A-4AA9-8086-A9241817A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lease open the “Read This First - TEACHER INSTRUCTIONS” file on the CD before attempting to view this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se notes identify the specific TEKS addressed on each slid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a substitute for, the full text of the TEK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or to viewing any presentation, check your computer for proper settings as described i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“Read This First - TEACHER INSTRUCTIONS” fi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located on the C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of the Slide Show view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ipropetrovs’k is further no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uston is closer to the Equ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nipropetrovs’k is in the Eastern Hemisphere, Houston is in the Western Hemisphe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world geography absolute location Hemisphere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’Vi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han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de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latitude longitud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latitude longitud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lute Lo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gre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1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global address prime meridian equator latitude longitude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absolute location challenge qui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2 (A) Use social studies terminology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1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Hemisphere geography world geography global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world geography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itude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absolute location latitude longitude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lobal address absolute location geography world 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260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cial Studies 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 (C) Organize and interpret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21 (C) Organize and interpret information from various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30 (C) Interpret information from outlines, reports, databases, and visu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WORDS:  Ukraine geography latitude longitude absolute location world geography map re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D80C-BBA7-4175-92D4-378F972A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B88-8C26-46A3-BE45-FFE7367F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A21-6571-424F-9B8F-0E92B1242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6119-FC97-4C0B-A930-3510DBD9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D6A-AE6F-4278-B19B-3C44FF54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1EF5-2924-4B4C-9307-8DE463D6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7F40-4923-4AB8-8FAB-38C15415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3DD9-0D95-41EB-BD6D-E51EF64FF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BFA-3D2E-4B2C-A0AD-7A2A22DC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B1E0-EF45-4A22-B812-BDC8054D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55D-F017-4DEB-BEA3-03D00447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5D5-874E-43AC-9DD3-603B5EFB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A1A1-2577-4C88-9AB0-9FE7A7AD6DF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UkSSQ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AbsoLoca.ppt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32880" y="4924440"/>
            <a:ext cx="80010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736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absolute location for Dnipropetrovs’k, Ukraine is 48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5° E.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bsolute location of Houston, Texas is 30° N.L., 95° W.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further north?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closer to the Equator?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736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ch city is located in the Eastern Hemisphere?  In the Western Hemispher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0476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42840" y="4876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ok on the map above to find what cities match the addresses given below.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at city is located at 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24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50° N.L., 31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49° N.L., 39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46° N.L., 31° E.L.? __________________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2240" cy="442440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828800" y="4854240"/>
            <a:ext cx="5029200" cy="19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 algn="ct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re you correct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’viv is located at 5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24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Kiev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° N.L., 31° E.L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uhans’k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, 39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desa is located at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6° N.L., 31° E.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2240" cy="442440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464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Check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f a place using latitude and longitude is known as 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ddresses north of the equator are referred to as North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obal addresses west of the prime meridian are referred to as West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h latitude and longitude are measured in ______________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66880" y="1160640"/>
            <a:ext cx="7512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est your understanding of latitude and longitude by taking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Absolute Location Challenge Qui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114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6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8280" y="1511280"/>
            <a:ext cx="799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lore the concept of  absolute lo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74640" y="34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Ukrai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438280"/>
            <a:ext cx="792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5280" y="1536840"/>
            <a:ext cx="8223480" cy="35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r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absolute locatio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f the center of Ukrain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9° N.L. and 32° E.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kraine in the Northern or Southern Hemispher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Ukraine in the Eastern or Western Hemisphere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5334120"/>
            <a:ext cx="77724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and click on the name of the continent where Ukraine is locat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52388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2514600"/>
            <a:ext cx="762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21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1523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05720" y="2895480"/>
            <a:ext cx="838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8862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3716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47640" y="5392800"/>
            <a:ext cx="7848720" cy="18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and click on the center of Ukraine on the map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9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2° E.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38840" y="1276200"/>
            <a:ext cx="244440" cy="13968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365120" y="609480"/>
            <a:ext cx="6413760" cy="4548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6292800" y="1517760"/>
            <a:ext cx="1486080" cy="1333440"/>
          </a:xfrm>
          <a:custGeom>
            <a:avLst/>
            <a:gdLst/>
            <a:ahLst/>
            <a:rect l="l" t="t" r="r" b="b"/>
            <a:pathLst>
              <a:path w="936" h="840">
                <a:moveTo>
                  <a:pt x="32" y="520"/>
                </a:moveTo>
                <a:cubicBezTo>
                  <a:pt x="45" y="501"/>
                  <a:pt x="55" y="480"/>
                  <a:pt x="68" y="460"/>
                </a:cubicBezTo>
                <a:cubicBezTo>
                  <a:pt x="70" y="456"/>
                  <a:pt x="76" y="458"/>
                  <a:pt x="80" y="456"/>
                </a:cubicBezTo>
                <a:cubicBezTo>
                  <a:pt x="91" y="450"/>
                  <a:pt x="95" y="445"/>
                  <a:pt x="104" y="436"/>
                </a:cubicBezTo>
                <a:cubicBezTo>
                  <a:pt x="110" y="418"/>
                  <a:pt x="107" y="414"/>
                  <a:pt x="92" y="404"/>
                </a:cubicBezTo>
                <a:cubicBezTo>
                  <a:pt x="91" y="400"/>
                  <a:pt x="86" y="396"/>
                  <a:pt x="88" y="392"/>
                </a:cubicBezTo>
                <a:cubicBezTo>
                  <a:pt x="90" y="388"/>
                  <a:pt x="101" y="389"/>
                  <a:pt x="100" y="384"/>
                </a:cubicBezTo>
                <a:cubicBezTo>
                  <a:pt x="99" y="374"/>
                  <a:pt x="89" y="368"/>
                  <a:pt x="84" y="360"/>
                </a:cubicBezTo>
                <a:cubicBezTo>
                  <a:pt x="71" y="340"/>
                  <a:pt x="91" y="355"/>
                  <a:pt x="72" y="336"/>
                </a:cubicBezTo>
                <a:cubicBezTo>
                  <a:pt x="62" y="326"/>
                  <a:pt x="47" y="323"/>
                  <a:pt x="36" y="316"/>
                </a:cubicBezTo>
                <a:cubicBezTo>
                  <a:pt x="41" y="300"/>
                  <a:pt x="44" y="293"/>
                  <a:pt x="60" y="288"/>
                </a:cubicBezTo>
                <a:cubicBezTo>
                  <a:pt x="104" y="299"/>
                  <a:pt x="86" y="266"/>
                  <a:pt x="108" y="248"/>
                </a:cubicBezTo>
                <a:cubicBezTo>
                  <a:pt x="124" y="235"/>
                  <a:pt x="152" y="228"/>
                  <a:pt x="172" y="220"/>
                </a:cubicBezTo>
                <a:cubicBezTo>
                  <a:pt x="180" y="217"/>
                  <a:pt x="196" y="212"/>
                  <a:pt x="196" y="212"/>
                </a:cubicBezTo>
                <a:cubicBezTo>
                  <a:pt x="252" y="217"/>
                  <a:pt x="320" y="200"/>
                  <a:pt x="368" y="232"/>
                </a:cubicBezTo>
                <a:cubicBezTo>
                  <a:pt x="369" y="236"/>
                  <a:pt x="368" y="244"/>
                  <a:pt x="372" y="244"/>
                </a:cubicBezTo>
                <a:cubicBezTo>
                  <a:pt x="377" y="244"/>
                  <a:pt x="377" y="235"/>
                  <a:pt x="380" y="232"/>
                </a:cubicBezTo>
                <a:cubicBezTo>
                  <a:pt x="390" y="222"/>
                  <a:pt x="407" y="219"/>
                  <a:pt x="420" y="216"/>
                </a:cubicBezTo>
                <a:cubicBezTo>
                  <a:pt x="427" y="217"/>
                  <a:pt x="434" y="218"/>
                  <a:pt x="440" y="220"/>
                </a:cubicBezTo>
                <a:cubicBezTo>
                  <a:pt x="445" y="222"/>
                  <a:pt x="448" y="230"/>
                  <a:pt x="452" y="228"/>
                </a:cubicBezTo>
                <a:cubicBezTo>
                  <a:pt x="460" y="223"/>
                  <a:pt x="459" y="207"/>
                  <a:pt x="468" y="204"/>
                </a:cubicBezTo>
                <a:cubicBezTo>
                  <a:pt x="472" y="203"/>
                  <a:pt x="476" y="201"/>
                  <a:pt x="480" y="200"/>
                </a:cubicBezTo>
                <a:cubicBezTo>
                  <a:pt x="496" y="211"/>
                  <a:pt x="497" y="219"/>
                  <a:pt x="516" y="224"/>
                </a:cubicBezTo>
                <a:cubicBezTo>
                  <a:pt x="527" y="207"/>
                  <a:pt x="541" y="198"/>
                  <a:pt x="560" y="192"/>
                </a:cubicBezTo>
                <a:cubicBezTo>
                  <a:pt x="588" y="210"/>
                  <a:pt x="575" y="211"/>
                  <a:pt x="596" y="204"/>
                </a:cubicBezTo>
                <a:cubicBezTo>
                  <a:pt x="601" y="188"/>
                  <a:pt x="602" y="195"/>
                  <a:pt x="596" y="176"/>
                </a:cubicBezTo>
                <a:cubicBezTo>
                  <a:pt x="594" y="168"/>
                  <a:pt x="588" y="152"/>
                  <a:pt x="588" y="152"/>
                </a:cubicBezTo>
                <a:cubicBezTo>
                  <a:pt x="594" y="135"/>
                  <a:pt x="600" y="101"/>
                  <a:pt x="620" y="92"/>
                </a:cubicBezTo>
                <a:cubicBezTo>
                  <a:pt x="639" y="84"/>
                  <a:pt x="667" y="80"/>
                  <a:pt x="688" y="76"/>
                </a:cubicBezTo>
                <a:cubicBezTo>
                  <a:pt x="706" y="48"/>
                  <a:pt x="707" y="61"/>
                  <a:pt x="700" y="40"/>
                </a:cubicBezTo>
                <a:cubicBezTo>
                  <a:pt x="710" y="11"/>
                  <a:pt x="696" y="39"/>
                  <a:pt x="748" y="24"/>
                </a:cubicBezTo>
                <a:cubicBezTo>
                  <a:pt x="757" y="21"/>
                  <a:pt x="764" y="13"/>
                  <a:pt x="772" y="8"/>
                </a:cubicBezTo>
                <a:cubicBezTo>
                  <a:pt x="783" y="0"/>
                  <a:pt x="799" y="3"/>
                  <a:pt x="812" y="0"/>
                </a:cubicBezTo>
                <a:cubicBezTo>
                  <a:pt x="821" y="2"/>
                  <a:pt x="834" y="0"/>
                  <a:pt x="840" y="8"/>
                </a:cubicBezTo>
                <a:cubicBezTo>
                  <a:pt x="856" y="30"/>
                  <a:pt x="843" y="38"/>
                  <a:pt x="864" y="52"/>
                </a:cubicBezTo>
                <a:cubicBezTo>
                  <a:pt x="875" y="85"/>
                  <a:pt x="864" y="40"/>
                  <a:pt x="856" y="76"/>
                </a:cubicBezTo>
                <a:cubicBezTo>
                  <a:pt x="850" y="105"/>
                  <a:pt x="870" y="118"/>
                  <a:pt x="892" y="124"/>
                </a:cubicBezTo>
                <a:cubicBezTo>
                  <a:pt x="911" y="120"/>
                  <a:pt x="922" y="109"/>
                  <a:pt x="928" y="128"/>
                </a:cubicBezTo>
                <a:cubicBezTo>
                  <a:pt x="924" y="140"/>
                  <a:pt x="920" y="152"/>
                  <a:pt x="916" y="164"/>
                </a:cubicBezTo>
                <a:cubicBezTo>
                  <a:pt x="915" y="168"/>
                  <a:pt x="912" y="176"/>
                  <a:pt x="912" y="176"/>
                </a:cubicBezTo>
                <a:cubicBezTo>
                  <a:pt x="913" y="181"/>
                  <a:pt x="918" y="187"/>
                  <a:pt x="916" y="192"/>
                </a:cubicBezTo>
                <a:cubicBezTo>
                  <a:pt x="914" y="196"/>
                  <a:pt x="902" y="192"/>
                  <a:pt x="904" y="196"/>
                </a:cubicBezTo>
                <a:cubicBezTo>
                  <a:pt x="909" y="204"/>
                  <a:pt x="928" y="212"/>
                  <a:pt x="928" y="212"/>
                </a:cubicBezTo>
                <a:cubicBezTo>
                  <a:pt x="933" y="228"/>
                  <a:pt x="928" y="236"/>
                  <a:pt x="924" y="252"/>
                </a:cubicBezTo>
                <a:cubicBezTo>
                  <a:pt x="922" y="333"/>
                  <a:pt x="900" y="417"/>
                  <a:pt x="920" y="496"/>
                </a:cubicBezTo>
                <a:cubicBezTo>
                  <a:pt x="916" y="508"/>
                  <a:pt x="913" y="508"/>
                  <a:pt x="920" y="520"/>
                </a:cubicBezTo>
                <a:cubicBezTo>
                  <a:pt x="925" y="528"/>
                  <a:pt x="936" y="544"/>
                  <a:pt x="936" y="544"/>
                </a:cubicBezTo>
                <a:cubicBezTo>
                  <a:pt x="923" y="563"/>
                  <a:pt x="930" y="551"/>
                  <a:pt x="920" y="580"/>
                </a:cubicBezTo>
                <a:cubicBezTo>
                  <a:pt x="919" y="584"/>
                  <a:pt x="916" y="592"/>
                  <a:pt x="916" y="592"/>
                </a:cubicBezTo>
                <a:cubicBezTo>
                  <a:pt x="920" y="605"/>
                  <a:pt x="924" y="619"/>
                  <a:pt x="928" y="632"/>
                </a:cubicBezTo>
                <a:cubicBezTo>
                  <a:pt x="925" y="664"/>
                  <a:pt x="922" y="689"/>
                  <a:pt x="932" y="720"/>
                </a:cubicBezTo>
                <a:cubicBezTo>
                  <a:pt x="931" y="728"/>
                  <a:pt x="927" y="736"/>
                  <a:pt x="928" y="744"/>
                </a:cubicBezTo>
                <a:cubicBezTo>
                  <a:pt x="929" y="752"/>
                  <a:pt x="936" y="768"/>
                  <a:pt x="936" y="768"/>
                </a:cubicBezTo>
                <a:cubicBezTo>
                  <a:pt x="932" y="788"/>
                  <a:pt x="932" y="797"/>
                  <a:pt x="912" y="804"/>
                </a:cubicBezTo>
                <a:cubicBezTo>
                  <a:pt x="886" y="795"/>
                  <a:pt x="888" y="793"/>
                  <a:pt x="884" y="764"/>
                </a:cubicBezTo>
                <a:cubicBezTo>
                  <a:pt x="879" y="765"/>
                  <a:pt x="868" y="773"/>
                  <a:pt x="868" y="768"/>
                </a:cubicBezTo>
                <a:cubicBezTo>
                  <a:pt x="868" y="762"/>
                  <a:pt x="878" y="761"/>
                  <a:pt x="884" y="760"/>
                </a:cubicBezTo>
                <a:cubicBezTo>
                  <a:pt x="898" y="757"/>
                  <a:pt x="913" y="757"/>
                  <a:pt x="928" y="756"/>
                </a:cubicBezTo>
                <a:cubicBezTo>
                  <a:pt x="924" y="752"/>
                  <a:pt x="921" y="747"/>
                  <a:pt x="916" y="744"/>
                </a:cubicBezTo>
                <a:cubicBezTo>
                  <a:pt x="909" y="740"/>
                  <a:pt x="892" y="736"/>
                  <a:pt x="892" y="736"/>
                </a:cubicBezTo>
                <a:cubicBezTo>
                  <a:pt x="861" y="742"/>
                  <a:pt x="877" y="735"/>
                  <a:pt x="848" y="764"/>
                </a:cubicBezTo>
                <a:cubicBezTo>
                  <a:pt x="848" y="764"/>
                  <a:pt x="818" y="774"/>
                  <a:pt x="812" y="776"/>
                </a:cubicBezTo>
                <a:cubicBezTo>
                  <a:pt x="808" y="777"/>
                  <a:pt x="800" y="780"/>
                  <a:pt x="800" y="780"/>
                </a:cubicBezTo>
                <a:cubicBezTo>
                  <a:pt x="784" y="796"/>
                  <a:pt x="780" y="805"/>
                  <a:pt x="772" y="828"/>
                </a:cubicBezTo>
                <a:cubicBezTo>
                  <a:pt x="771" y="832"/>
                  <a:pt x="768" y="840"/>
                  <a:pt x="768" y="840"/>
                </a:cubicBezTo>
                <a:cubicBezTo>
                  <a:pt x="755" y="836"/>
                  <a:pt x="745" y="828"/>
                  <a:pt x="732" y="824"/>
                </a:cubicBezTo>
                <a:cubicBezTo>
                  <a:pt x="719" y="814"/>
                  <a:pt x="704" y="807"/>
                  <a:pt x="696" y="792"/>
                </a:cubicBezTo>
                <a:cubicBezTo>
                  <a:pt x="691" y="782"/>
                  <a:pt x="696" y="768"/>
                  <a:pt x="688" y="760"/>
                </a:cubicBezTo>
                <a:cubicBezTo>
                  <a:pt x="682" y="754"/>
                  <a:pt x="664" y="752"/>
                  <a:pt x="664" y="752"/>
                </a:cubicBezTo>
                <a:cubicBezTo>
                  <a:pt x="653" y="741"/>
                  <a:pt x="651" y="726"/>
                  <a:pt x="640" y="716"/>
                </a:cubicBezTo>
                <a:cubicBezTo>
                  <a:pt x="613" y="692"/>
                  <a:pt x="622" y="710"/>
                  <a:pt x="604" y="688"/>
                </a:cubicBezTo>
                <a:cubicBezTo>
                  <a:pt x="588" y="668"/>
                  <a:pt x="586" y="645"/>
                  <a:pt x="560" y="632"/>
                </a:cubicBezTo>
                <a:cubicBezTo>
                  <a:pt x="531" y="618"/>
                  <a:pt x="496" y="626"/>
                  <a:pt x="464" y="624"/>
                </a:cubicBezTo>
                <a:cubicBezTo>
                  <a:pt x="440" y="616"/>
                  <a:pt x="421" y="631"/>
                  <a:pt x="400" y="640"/>
                </a:cubicBezTo>
                <a:cubicBezTo>
                  <a:pt x="392" y="643"/>
                  <a:pt x="376" y="648"/>
                  <a:pt x="376" y="648"/>
                </a:cubicBezTo>
                <a:cubicBezTo>
                  <a:pt x="369" y="655"/>
                  <a:pt x="358" y="659"/>
                  <a:pt x="352" y="668"/>
                </a:cubicBezTo>
                <a:cubicBezTo>
                  <a:pt x="342" y="685"/>
                  <a:pt x="347" y="705"/>
                  <a:pt x="328" y="716"/>
                </a:cubicBezTo>
                <a:cubicBezTo>
                  <a:pt x="321" y="720"/>
                  <a:pt x="311" y="719"/>
                  <a:pt x="304" y="724"/>
                </a:cubicBezTo>
                <a:cubicBezTo>
                  <a:pt x="296" y="729"/>
                  <a:pt x="288" y="735"/>
                  <a:pt x="280" y="740"/>
                </a:cubicBezTo>
                <a:cubicBezTo>
                  <a:pt x="269" y="748"/>
                  <a:pt x="256" y="755"/>
                  <a:pt x="244" y="760"/>
                </a:cubicBezTo>
                <a:cubicBezTo>
                  <a:pt x="236" y="763"/>
                  <a:pt x="220" y="768"/>
                  <a:pt x="220" y="768"/>
                </a:cubicBezTo>
                <a:cubicBezTo>
                  <a:pt x="215" y="764"/>
                  <a:pt x="204" y="756"/>
                  <a:pt x="196" y="756"/>
                </a:cubicBezTo>
                <a:cubicBezTo>
                  <a:pt x="177" y="757"/>
                  <a:pt x="140" y="764"/>
                  <a:pt x="140" y="764"/>
                </a:cubicBezTo>
                <a:cubicBezTo>
                  <a:pt x="110" y="756"/>
                  <a:pt x="60" y="762"/>
                  <a:pt x="32" y="760"/>
                </a:cubicBezTo>
                <a:cubicBezTo>
                  <a:pt x="10" y="746"/>
                  <a:pt x="14" y="724"/>
                  <a:pt x="8" y="700"/>
                </a:cubicBezTo>
                <a:cubicBezTo>
                  <a:pt x="6" y="692"/>
                  <a:pt x="0" y="676"/>
                  <a:pt x="0" y="676"/>
                </a:cubicBezTo>
                <a:cubicBezTo>
                  <a:pt x="9" y="650"/>
                  <a:pt x="4" y="637"/>
                  <a:pt x="32" y="628"/>
                </a:cubicBezTo>
                <a:cubicBezTo>
                  <a:pt x="25" y="600"/>
                  <a:pt x="20" y="620"/>
                  <a:pt x="12" y="596"/>
                </a:cubicBezTo>
                <a:cubicBezTo>
                  <a:pt x="18" y="568"/>
                  <a:pt x="14" y="582"/>
                  <a:pt x="24" y="552"/>
                </a:cubicBezTo>
                <a:cubicBezTo>
                  <a:pt x="27" y="543"/>
                  <a:pt x="47" y="535"/>
                  <a:pt x="40" y="528"/>
                </a:cubicBezTo>
                <a:cubicBezTo>
                  <a:pt x="37" y="525"/>
                  <a:pt x="35" y="523"/>
                  <a:pt x="32" y="52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8640" y="5257440"/>
            <a:ext cx="7772400" cy="142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re you correct?  Look for the highlight around Ukrai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hat is the latitude for Ukraine?  _______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orth or South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longitude for Ukraine? _______° West or East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ea typeface="Times New Roman"/>
                <a:hlinkClick r:id="rId2"/>
              </a:rPr>
              <a:t>absolute location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for Ukraine is _____________________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53960" y="609480"/>
            <a:ext cx="6413760" cy="4548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256440" y="1500120"/>
            <a:ext cx="1566720" cy="16160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440" y="1371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Dnipropetrovs’k, Ukrain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lobal address or absolute location of Dnipropetrovs’k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8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35° E.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20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76280" y="4508280"/>
            <a:ext cx="8246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int and click on Dnipropetrovs’k, Ukraine on the m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1749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4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35° E.L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344680" y="800280"/>
            <a:ext cx="4425840" cy="34574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5105520" y="2871720"/>
            <a:ext cx="1649160" cy="274680"/>
          </a:xfrm>
          <a:custGeom>
            <a:avLst/>
            <a:gdLst/>
            <a:ahLst/>
            <a:rect l="l" t="t" r="r" b="b"/>
            <a:pathLst>
              <a:path w="1039" h="173">
                <a:moveTo>
                  <a:pt x="36" y="58"/>
                </a:moveTo>
                <a:cubicBezTo>
                  <a:pt x="151" y="100"/>
                  <a:pt x="337" y="73"/>
                  <a:pt x="454" y="68"/>
                </a:cubicBezTo>
                <a:cubicBezTo>
                  <a:pt x="475" y="3"/>
                  <a:pt x="453" y="18"/>
                  <a:pt x="500" y="3"/>
                </a:cubicBezTo>
                <a:cubicBezTo>
                  <a:pt x="516" y="6"/>
                  <a:pt x="537" y="0"/>
                  <a:pt x="547" y="12"/>
                </a:cubicBezTo>
                <a:cubicBezTo>
                  <a:pt x="559" y="26"/>
                  <a:pt x="540" y="58"/>
                  <a:pt x="556" y="68"/>
                </a:cubicBezTo>
                <a:cubicBezTo>
                  <a:pt x="575" y="80"/>
                  <a:pt x="599" y="61"/>
                  <a:pt x="621" y="58"/>
                </a:cubicBezTo>
                <a:cubicBezTo>
                  <a:pt x="751" y="67"/>
                  <a:pt x="882" y="59"/>
                  <a:pt x="1011" y="77"/>
                </a:cubicBezTo>
                <a:cubicBezTo>
                  <a:pt x="1032" y="80"/>
                  <a:pt x="1027" y="116"/>
                  <a:pt x="1039" y="133"/>
                </a:cubicBezTo>
                <a:cubicBezTo>
                  <a:pt x="1001" y="157"/>
                  <a:pt x="909" y="170"/>
                  <a:pt x="909" y="170"/>
                </a:cubicBezTo>
                <a:cubicBezTo>
                  <a:pt x="624" y="159"/>
                  <a:pt x="339" y="173"/>
                  <a:pt x="54" y="161"/>
                </a:cubicBezTo>
                <a:cubicBezTo>
                  <a:pt x="0" y="142"/>
                  <a:pt x="12" y="104"/>
                  <a:pt x="36" y="5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80600" y="4349520"/>
            <a:ext cx="8217000" cy="206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you correct?  Look for highlight around Dnipropetrovs’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is the latitude for Dnipropetrovs’k? _________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orth or South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longitude for Dnipropetrovs’k? _________° West or Eas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41440" y="822240"/>
            <a:ext cx="4469040" cy="340992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Jeremiah McNichols</cp:lastModifiedBy>
  <cp:lastPrinted>2002-01-02T19:06:19Z</cp:lastPrinted>
  <dcterms:modified xsi:type="dcterms:W3CDTF">2008-10-14T14:04:25Z</dcterms:modified>
  <cp:revision>7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c07000000000001023620</vt:lpwstr>
  </property>
</Properties>
</file>