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35B14-7854-45A5-9674-A8900DC0E3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CF10F-E188-43A1-83E7-4BBE79591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DB000-B13C-481C-870F-2D1FDCAF9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5798B-F569-4D63-8759-16EBEE904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10251-EB2E-4505-A793-FE4AFE227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3F9D6-57DA-4AF9-AD84-5E1142B7E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E4EB2-6FE7-42CB-A3FC-E2CD119B0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56908-7016-4D7E-ACCD-DB7844ACF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8D7F3-0378-47E0-BD95-DFC5E701A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3E177-6738-4C0B-AEF8-D0FCF43E7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877D1-7AE2-4B7C-BC35-9F6094009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C546F-ECCB-472B-BA6F-37F44CDFD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B25AA-C56A-4293-8878-9E41E1CA0C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DB9FF-AF48-4A2E-8FF5-646F7787106A}"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Texas A&amp;M Veterinary Medicine</cp:lastModifiedBy>
  <dcterms:modified xsi:type="dcterms:W3CDTF">2005-05-06T15:44:42Z</dcterms:modified>
  <cp:revision>11</cp:revision>
  <dc:subject/>
  <dc:title>Design An Experi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1000000000001023620</vt:lpwstr>
  </property>
</Properties>
</file>