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F04A-D903-43D7-A69F-3BDC512CD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4FD5-B47D-48D7-812C-AD8B1B895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B171-9E18-41F1-9F1B-A1C8EC52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3DAE-2245-4731-8AAC-16ACC7522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DEC7-1EC3-452F-9570-A60EEC569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2385-6190-44C6-BE6D-429188CB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9AFA-F1A8-42C4-B643-D4807747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F489-EE82-4B5C-B7F6-10CD4895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442A-BD1A-4497-B06B-7E86AF3E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D5E6-0FC6-408E-867E-417AE238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D23A-9433-4DF6-AEF6-92015F01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53E9-8D3B-4D65-8976-211EA0D2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CF13-BD59-4BE2-B46B-110F81CD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8D5C-8E95-4714-9616-738C1DD7695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45721" r="0" b="0"/>
          <a:stretch/>
        </p:blipFill>
        <p:spPr>
          <a:xfrm>
            <a:off x="2362320" y="4343400"/>
            <a:ext cx="41148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11141" t="0" r="0" b="0"/>
          <a:stretch/>
        </p:blipFill>
        <p:spPr>
          <a:xfrm>
            <a:off x="5029200" y="1981080"/>
            <a:ext cx="36115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7-08-02T19:09:28Z</dcterms:modified>
  <cp:revision>30</cp:revision>
  <dc:subject/>
  <dc:title>Descriptive Writing</dc:title>
</cp:coreProperties>
</file>