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3A78-F7F6-4258-AB7B-7770A000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relative location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exas to Ukraine, you would travel east.  The distance between Houston and Kiev is 5982.11 miles or 9627.00 kilo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Use math skills to interpret social studie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, Slovaka, Hung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ither by absolute or relativ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nor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eography world geography relati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00B-4BD1-4EAB-88C5-93B08283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482-5B85-41A1-ACC2-9ADC2F9C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E3D-6E8F-41DD-8F7B-64C97050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3CF-CCAA-4DD8-8EF1-70D4981A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46C-6922-4C98-AD45-1F617AAE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F5E-8CB9-4814-9F94-C38D67C9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59E-842E-4CBD-8DB4-A4B6E057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57D-82CA-41C1-BCAA-8F26490B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351-916D-4221-BBD5-5FEAF86E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B29-D803-4053-BE1F-3ED55A91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369-F685-44DF-A1FE-858EF973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681-4091-4966-BDE8-E0B24659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CA7-9CE4-4740-9EA6-9AA808ECF0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relative lo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lative Lo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s Ukraine in relation to other places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76120" y="4876920"/>
            <a:ext cx="7848360" cy="18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kraine is circled in black on the map above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what continent is Ukraine located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ontinent is south of Ukrain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ontinent is east of Ukrain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295280"/>
            <a:ext cx="30492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47640" y="5105520"/>
            <a:ext cx="784872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f you were to travel using the shortest distance to Ukraine from your home, in which direction would you travel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295280"/>
            <a:ext cx="30492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circled in black on the map be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24120" y="1561680"/>
            <a:ext cx="259092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countries are to the west of Ukrain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large country is to the northeast of Ukrain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me the sea located south of Ukrain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5829480" cy="53722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352680"/>
            <a:ext cx="213336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4953240" cy="398592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43434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nipropetrovs’k is highlighted on the ma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city is the capital of Ukraine?_______________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city is located in what direction from Dnipropetrovs’k? 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K.T. and Nikolai traveled on the Dnieper River from Kiev to Dnipropetrovs’k, in what direction did they travel? _______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ity of Odesa is located in what direction from Dnipropetrovs’k? 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464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are talking with a friend. She asks, “Where is Ukraine?”  How would you respo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ere to travel from Texas to Ukraine, in what direction would you tra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ere to travel from Ukraine to Paris, France, in what direction would you tra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closer to Ukraine?  ___Germany    ___USA   ___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30:59Z</dcterms:created>
  <dc:creator>Jeremiah McNichols</dc:creator>
  <dc:description/>
  <dc:language>en-US</dc:language>
  <cp:lastModifiedBy>Jeremiah McNichols</cp:lastModifiedBy>
  <dcterms:modified xsi:type="dcterms:W3CDTF">2008-10-14T14:05:0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3620</vt:lpwstr>
  </property>
</Properties>
</file>