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84B4-407F-4B8D-A334-991A887C2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F52E-2AAE-4854-B898-A310CB1A0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1436-BCA5-4855-802C-0C45A534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4CDF-15DC-40A3-94E1-2E25EF61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AED0-A470-481A-9C63-48A39CDD2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3D7A-6604-4AE7-AD9C-C213DC425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5888-F2CA-4867-B858-C32FB7C0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9848-0C43-49A8-9220-6AEC5DE1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A673-16A9-4F6E-83EE-FDE48A49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3BDF-CA04-45FA-8EDC-CF392AF9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D37A-9173-42EF-AC93-09961FAF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DFE4-FB74-4404-A4BD-4213B52D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3E69-DCF1-4B62-90E1-5492B530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EF17-F815-4CB7-8C61-37EA4D01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136F-A9F7-431F-AFC6-352F534B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1223-5BD6-45CD-8ECA-712B3D9B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8B89-373B-4EC2-AE12-E9FCDEDEB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D2633-36CB-4D0F-B8D4-1B62B2732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8F26-F311-4502-8C43-FB3CA447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31DC-EBBB-406F-9F74-94DF9F62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7919-2D5C-481D-849F-E8010F52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4534-08A4-4555-9C7A-FE0DD186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5797-F672-46E0-80DE-6EC152D4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A511-FDBD-4D96-86AF-5A86E742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E087-5BD7-497E-8136-354F57B4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D54E-4C3D-488A-8A69-F8D84D56D38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9076-BC73-47B1-86DD-50EA70BBF03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94200" y="4905360"/>
            <a:ext cx="3576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15688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9° N.L., 39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1568520" y="4419720"/>
            <a:ext cx="60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6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  The lat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  The long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  The absolute location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06840" y="53863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06840" y="581508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06840" y="625788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8908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  The lat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8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  The long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97120" y="58053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  The absolute location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8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68520" y="4419720"/>
            <a:ext cx="58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  What city is located at 5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, 24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1568520" y="4419720"/>
            <a:ext cx="58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50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8T18:55:12Z</dcterms:created>
  <dc:creator>Unknown User</dc:creator>
  <dc:description/>
  <dc:language>en-US</dc:language>
  <cp:lastModifiedBy>Texas A&amp;M Veterinary Medicine</cp:lastModifiedBy>
  <cp:lastPrinted>2002-01-02T19:06:19Z</cp:lastPrinted>
  <dcterms:modified xsi:type="dcterms:W3CDTF">2005-05-17T17:13:59Z</dcterms:modified>
  <cp:revision>6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4000000000001023620</vt:lpwstr>
  </property>
</Properties>
</file>