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9C927-9632-4B09-BC98-F71E5A780C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79B4-91A9-4DFE-B1A3-CB75E7A81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18B8-A6BC-4DB5-B198-BB67A3920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6467-B1AB-42AA-9238-AF619350E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84FF-E985-4200-ACB9-F2E9985A7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3733-2C50-4D42-9CEC-1C4B358E5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94F1-4981-4359-8DAC-9B7CED86D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1B8B-717A-4497-8C9F-1BBDFE7FE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8BF7-49D1-4373-87FC-55EEBF908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2164-71DB-4063-A037-6201B9DED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8E38-6449-4A2C-AE6E-60479CB7D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7CED-488A-4F56-8B31-C8E7DB20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9B55-EE69-47E1-802E-5DDB66DAA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C8BAA-8AC0-4E60-A243-80F9AD040C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ljlab</cp:lastModifiedBy>
  <cp:lastPrinted>2002-01-04T15:57:18Z</cp:lastPrinted>
  <dcterms:modified xsi:type="dcterms:W3CDTF">2007-08-02T19:11:24Z</dcterms:modified>
  <cp:revision>30</cp:revision>
  <dc:subject/>
  <dc:title>Sensory Details </dc:title>
</cp:coreProperties>
</file>