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FA3AC-2F4B-472A-A285-E9CBBE735D9E}" type="slidenum"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H)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9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ing how well own writing achieves purpos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H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43D1-4523-4ED7-8BF3-96DB63711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AB62-31EE-4F4C-9A33-7AB8D3DD4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4EE0-1501-4A54-AC07-41ED5D76F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BB19-783F-4DAD-B09E-3855C3978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7EC6-26A9-4F38-BE9A-C487BF33D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1B52-3E4B-472E-A1F2-D2DFCB0BB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728A-3AC2-4D70-B8B8-7B90E6959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00F7-8A18-4653-A8CE-429F1D4F0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DE9A-1DDF-49FA-B9F8-794210B96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48F5-FE5E-4EF5-B6BC-C2FA23BA1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54E5-D858-4E7E-BCCB-129D6CDD1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6CD1-94DD-4C84-BF8F-0014079CF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3482E-FC59-4E3F-9793-37DDF9CC3D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ve Ess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informative essay seeks to inform the reader about something or to tell the reader how to do someth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InfoEssPeople" descr=""/>
          <p:cNvPicPr/>
          <p:nvPr/>
        </p:nvPicPr>
        <p:blipFill>
          <a:blip r:embed="rId2"/>
          <a:stretch/>
        </p:blipFill>
        <p:spPr>
          <a:xfrm>
            <a:off x="5791320" y="2133720"/>
            <a:ext cx="220644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efore You Begi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do you want your reader to know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 your topic interest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o is your audienc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s your topic be thoroughly researche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will you organize your pape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rganization of the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ve Ess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ntroduction should state the topic and the three main subpoints on which you will focu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body will consist of at least three paragraphs that elaborate on the subpoin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onclusion restates the main topic and subpoints and provides the audience with a sense of closu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15:46:56Z</dcterms:created>
  <dc:creator>Gina Balducci</dc:creator>
  <dc:description/>
  <dc:language>en-US</dc:language>
  <cp:lastModifiedBy>Vince Hardy</cp:lastModifiedBy>
  <dcterms:modified xsi:type="dcterms:W3CDTF">2007-01-12T21:45:01Z</dcterms:modified>
  <cp:revision>15</cp:revision>
  <dc:subject/>
  <dc:title>Informative Essa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a00000000000001023620</vt:lpwstr>
  </property>
</Properties>
</file>