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Monotype Corsiv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E46A-D222-4603-9C53-5832826B1176}" type="slidenum">
              <a:rPr b="1" lang="en-US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B683-BD2B-4075-A783-A11666BCA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F3F5-BFBB-40B2-9791-8F9A4D3B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0B28-A2F9-4CDB-B3AD-0F4D43613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3A16-41D2-4085-8AFB-36A3A8B2B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432D-DCAE-49E3-983C-28F9C08B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B757-D2B6-497B-9786-A59FFB53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8E0B-BF4E-4C42-9EEB-F231673A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51C3-098D-48B9-A9BF-4E1C2C4E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4A4A-A168-4D0E-AEAA-3C53FCAD5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72EE-E280-4EBE-A000-0902E5AE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9A57-D6AA-4F06-84A8-30CF5B76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E866-92C6-423B-B5E6-8A6C9AC9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B6AA-AE66-474E-9C22-3BC4885B29F5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riting a Business Letter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business letter may be sent to request information, to make a complaint, or to inform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is written in formal languag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t has a heading, inside address, greeting, body, closing, and signature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4572000"/>
            <a:ext cx="1189080" cy="19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726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6840" y="1828800"/>
            <a:ext cx="3886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3000 University D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Station, TX 78572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ar Sir,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Greet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ebebeb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904760"/>
            <a:ext cx="4419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Inside Add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Closing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incerely,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Monotype Corsiva"/>
              </a:rPr>
              <a:t>John Smith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title"/>
          </p:nvPr>
        </p:nvSpPr>
        <p:spPr>
          <a:xfrm>
            <a:off x="685800" y="8208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23 Sunset Lane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ebebeb"/>
                </a:solidFill>
                <a:latin typeface="Arial"/>
              </a:rPr>
              <a:t>Heading/writer’s address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Bryan, TX 78572</a:t>
            </a:r>
            <a:br>
              <a:rPr sz="2000"/>
            </a:b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July 20, 2002</a:t>
            </a:r>
            <a:br>
              <a:rPr sz="2000"/>
            </a:b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Remember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names of companies, streets, cities, and stat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pitalize both letters of the official postal abbreviation for a state. For example, Texas is abbreviated “TX”. Do not use a period after the state abbrev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 a comma or a colon after the greeting of a letter. Use a comma after the clos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068560" cy="16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5:23:29Z</dcterms:created>
  <dc:creator>Gina Balducci</dc:creator>
  <dc:description/>
  <dc:language>en-US</dc:language>
  <cp:lastModifiedBy>Texas A&amp;M Veterinary Medicine</cp:lastModifiedBy>
  <dcterms:modified xsi:type="dcterms:W3CDTF">2004-10-27T18:50:40Z</dcterms:modified>
  <cp:revision>16</cp:revision>
  <dc:subject/>
  <dc:title>Writing a Business Letter</dc:title>
</cp:coreProperties>
</file>