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31F45-973C-47DF-ACE2-1A87D0F396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tire Investigator’s Challenge Quiz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10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: The student is expected to: Monitor comprehension and make modific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H: Draw inferen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K: Answer different types and levels of ques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M: Use study strategies to work on ide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11 C: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upport responses by referring to text and own experienc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12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: Analyze charac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G: Recognize and analyze story plot, setting, and problem resolu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K: Recognize how style, tone, and mood contribute to the affect of t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7EFBB-EFF4-432E-A11D-DD2C6B1CA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CDA2C-0179-4715-979B-D4E706289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8AF55-2A74-4225-A2F7-BD7C9757A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0463B-BF96-4024-9AE2-F82E9C5B7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A6383-0F0E-46E5-9FE7-0A0A66E07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787E3-A77E-47F7-9C77-5946F36A2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281B5-F5F5-4690-BB36-7D43C1381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EEE30-C495-408B-85C2-B30F366CB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18244-8126-4B20-AB61-D1CF0AD82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77E4A-F3C0-437D-A054-53C22CC5B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C1A93-40FB-46C2-9B50-45C1E9F35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01CF5-4BB1-4B13-938A-3F571F8C5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994320" indent="-19872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92120" indent="-19872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789920" indent="-19872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789920" indent="-19872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789920" indent="-19872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51A6B-8BE3-4874-99E5-8DC83E7243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G-8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85800" y="1600200"/>
            <a:ext cx="7848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3120" indent="-57312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9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y was Bobbin leaving for Californi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879560" y="2108160"/>
            <a:ext cx="6280200" cy="39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r. Lowell wanted her to establish a new factory the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ry-O asked her to go to try and find her mot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obbin was fired from her factory job because she was incompet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he was being treated unfairly at the mill and wanted to join her au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arnsley was sending her to a special doctor to take care of her coug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04920" y="53352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1407960" y="46004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3"/>
          <a:stretch/>
        </p:blipFill>
        <p:spPr>
          <a:xfrm>
            <a:off x="1411200" y="21938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4"/>
          <a:stretch/>
        </p:blipFill>
        <p:spPr>
          <a:xfrm>
            <a:off x="1409760" y="29797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5"/>
          <a:stretch/>
        </p:blipFill>
        <p:spPr>
          <a:xfrm>
            <a:off x="1406520" y="37782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6"/>
          <a:stretch/>
        </p:blipFill>
        <p:spPr>
          <a:xfrm>
            <a:off x="1411200" y="5396040"/>
            <a:ext cx="376200" cy="46332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7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G-8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09480" y="1600200"/>
            <a:ext cx="7848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3120" indent="-57312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1023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0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ow was Bobbin going to protect Sheila from Mary-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879560" y="2616120"/>
            <a:ext cx="6095880" cy="366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heila was coming to California with Bobb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obbin left a note for Mary-O that would scare  her into treating Sheila we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obbin threatened to accuse Farnsley of murder if he didn’t protect Sheil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obbin asked Summer to use the BPC to send Sheila into the fu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obbin wrote a letter to Mr. Lowell asking that Sheila be taken into his ho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04920" y="53352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0"/>
            <a:ext cx="916308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1411200" y="47721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>
            <a:off x="1411200" y="26020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4"/>
          <a:stretch/>
        </p:blipFill>
        <p:spPr>
          <a:xfrm>
            <a:off x="1409760" y="3182760"/>
            <a:ext cx="374760" cy="46548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5"/>
          <a:stretch/>
        </p:blipFill>
        <p:spPr>
          <a:xfrm>
            <a:off x="1406520" y="39895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6"/>
          <a:stretch/>
        </p:blipFill>
        <p:spPr>
          <a:xfrm>
            <a:off x="1411200" y="5570640"/>
            <a:ext cx="376200" cy="46332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7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3160800" y="2784600"/>
            <a:ext cx="2790720" cy="125712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4081320" y="4487760"/>
            <a:ext cx="962280" cy="5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G-7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53352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800" y="1600200"/>
            <a:ext cx="784872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09760" indent="-50976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 of the characters below were introduced in the “The Waterfall Ghost” story.  Which list below names the characters in the order Summer encountered them in the stor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879560" y="3390840"/>
            <a:ext cx="6280200" cy="26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arnsley, Bobbin, Mary-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obbin, Mary-O, Farnsl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ry-O, Farnsley, Bobb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ry-O, Bobbin, Farnsl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obbin, Farnsley, Mary-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916956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1407960" y="49989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1411200" y="33656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1409760" y="39067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5"/>
          <a:stretch/>
        </p:blipFill>
        <p:spPr>
          <a:xfrm>
            <a:off x="1409760" y="44481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6"/>
          <a:stretch/>
        </p:blipFill>
        <p:spPr>
          <a:xfrm>
            <a:off x="1411200" y="5548320"/>
            <a:ext cx="376200" cy="4636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7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G-7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85800" y="1600200"/>
            <a:ext cx="784872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09760" indent="-50976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ich of the following characteristics did all of the mill girls in the story share?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 of the girls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879560" y="3086280"/>
            <a:ext cx="6280200" cy="26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ad red hai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ore heavy silk gow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ere friend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orked picking cotton for the mi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ughed repeated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04920" y="53352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0" y="936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1407960" y="47037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1411200" y="30672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4"/>
          <a:stretch/>
        </p:blipFill>
        <p:spPr>
          <a:xfrm>
            <a:off x="1409760" y="36082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1409760" y="41497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6"/>
          <a:stretch/>
        </p:blipFill>
        <p:spPr>
          <a:xfrm>
            <a:off x="1411200" y="5256360"/>
            <a:ext cx="376200" cy="4633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7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G-7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85800" y="1600200"/>
            <a:ext cx="7848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09760" indent="-50976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ow did Summer learn about Bobbin’s stor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879560" y="2235240"/>
            <a:ext cx="6280200" cy="36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er history teacher told the story to the cla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he read the story in an old book she found in a bookst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t was the headline story in the Boston newspap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er mother told her the story because Bobbin was a distant cous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er friend Travis shared the story with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920" y="53352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1407960" y="46213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1411200" y="22194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4"/>
          <a:stretch/>
        </p:blipFill>
        <p:spPr>
          <a:xfrm>
            <a:off x="1409760" y="28782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5"/>
          <a:stretch/>
        </p:blipFill>
        <p:spPr>
          <a:xfrm>
            <a:off x="1406520" y="37497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6"/>
          <a:stretch/>
        </p:blipFill>
        <p:spPr>
          <a:xfrm>
            <a:off x="1411200" y="5386320"/>
            <a:ext cx="376200" cy="46368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7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G-7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85800" y="1600200"/>
            <a:ext cx="784872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09760" indent="-50976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4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first time Summer used her BPC in the story, she arrived at which one of the following location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879560" y="3086280"/>
            <a:ext cx="6280200" cy="26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ry-O’s bedroom at the m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old rush days in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waterfall in Massachuset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machine shop of a textile m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train s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4920" y="53352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1407960" y="4707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1411200" y="30700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4"/>
          <a:stretch/>
        </p:blipFill>
        <p:spPr>
          <a:xfrm>
            <a:off x="1409760" y="36115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5"/>
          <a:stretch/>
        </p:blipFill>
        <p:spPr>
          <a:xfrm>
            <a:off x="1413000" y="41497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6"/>
          <a:stretch/>
        </p:blipFill>
        <p:spPr>
          <a:xfrm>
            <a:off x="1411200" y="5256360"/>
            <a:ext cx="376200" cy="4633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7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304920" y="53352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G-7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879560" y="2641680"/>
            <a:ext cx="6280200" cy="26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usy and industri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quiet and rur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eavily forested with few building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andlock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center for Indian cul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85800" y="1600200"/>
            <a:ext cx="7848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09760" indent="-50976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5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well, Massachusetts was described in the story 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407960" y="42670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1411200" y="26337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4"/>
          <a:stretch/>
        </p:blipFill>
        <p:spPr>
          <a:xfrm>
            <a:off x="1409760" y="31813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5"/>
          <a:stretch/>
        </p:blipFill>
        <p:spPr>
          <a:xfrm>
            <a:off x="1413000" y="37260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6"/>
          <a:stretch/>
        </p:blipFill>
        <p:spPr>
          <a:xfrm>
            <a:off x="1411200" y="4834080"/>
            <a:ext cx="376200" cy="4633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7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G-7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85800" y="1600200"/>
            <a:ext cx="7848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09760" indent="-50976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6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mmer arrived in Lowell during which of  the following tim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879560" y="2641680"/>
            <a:ext cx="6280200" cy="26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600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8th centu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800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900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1st centu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04920" y="53352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1407960" y="42688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1411200" y="26319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4"/>
          <a:stretch/>
        </p:blipFill>
        <p:spPr>
          <a:xfrm>
            <a:off x="1409760" y="31766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5"/>
          <a:stretch/>
        </p:blipFill>
        <p:spPr>
          <a:xfrm>
            <a:off x="1413000" y="372096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6"/>
          <a:stretch/>
        </p:blipFill>
        <p:spPr>
          <a:xfrm>
            <a:off x="1411200" y="4830840"/>
            <a:ext cx="376200" cy="4633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7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G-8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1600200"/>
            <a:ext cx="7848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09760" indent="-50976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7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description of the inside of the factory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ncluded all of the following EXCEP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879560" y="2629080"/>
            <a:ext cx="6280200" cy="26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mell of fabric dy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aste of chalky du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machine named Gri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rafty, cold air from open wind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ark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920" y="53352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1407960" y="42642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1411200" y="26319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1409760" y="31798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5"/>
          <a:stretch/>
        </p:blipFill>
        <p:spPr>
          <a:xfrm>
            <a:off x="1413000" y="37242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6"/>
          <a:stretch/>
        </p:blipFill>
        <p:spPr>
          <a:xfrm>
            <a:off x="1407960" y="4830840"/>
            <a:ext cx="376560" cy="4633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7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WG-8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85800" y="1600200"/>
            <a:ext cx="804384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09760" indent="-50976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tabLst>
                <a:tab algn="l" pos="0"/>
                <a:tab algn="l" pos="509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8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obbin tells Summer that many things seem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unbelievable but are not.  Which of the following examples from the story serve to support this idea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879560" y="3048120"/>
            <a:ext cx="628020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urning dirty white cotton into sky blue clo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r. Lowell memorizing the plans for making a lo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small, young girl who could fix heavy mach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assing as a boy to travel to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 of the examples above support this id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04920" y="53352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1407960" y="53276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1407960" y="30211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4"/>
          <a:stretch/>
        </p:blipFill>
        <p:spPr>
          <a:xfrm>
            <a:off x="1406520" y="36640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5"/>
          <a:stretch/>
        </p:blipFill>
        <p:spPr>
          <a:xfrm>
            <a:off x="1406520" y="45417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6"/>
          <a:stretch/>
        </p:blipFill>
        <p:spPr>
          <a:xfrm>
            <a:off x="1407960" y="5888160"/>
            <a:ext cx="376560" cy="4633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7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7T19:50:03Z</dcterms:created>
  <dc:creator>David Marcovitz</dc:creator>
  <dc:description/>
  <dc:language>en-US</dc:language>
  <cp:lastModifiedBy>Jeremiah McNichols</cp:lastModifiedBy>
  <dcterms:modified xsi:type="dcterms:W3CDTF">2008-09-25T15:19:41Z</dcterms:modified>
  <cp:revision>88</cp:revision>
  <dc:subject/>
  <dc:title>PowerPoint Presentation</dc:title>
</cp:coreProperties>
</file>