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EC6D-6992-46EC-B909-ABBEE4788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criptions of Lowell include: large, huge five story buildings, locks, canals, river traffic, massive factories, long rows of two story buildings, everywhere people bustle, roadways, canal bridges, railroad tracks lining the stree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adjectives might include: large, industrial, old-fashioned, classic, calm, peaceful, red, river-side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A The student is expected to: write to express, discover, record, develop, reflect on ideas, and to problem solve (4-8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uasive reasons might include: income, living in a new place, an opportunity to make friends, experience city life, become a skilled craftsman, etc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A 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guments might include: long work hours, bad working conditions, (i.e. sickness, darkness, cold, pollution, etc.) inability to spend time with family, the need to stay in school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15 (B) The student is expected to: write to influence such as to persuade, argue, and request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takes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ar aunt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tember 13 (comma should be placed between day and yea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rate (spelling error=great); Her name is Summer she is from the future. (Run-on sentence. Summer should be followed by a comma and conjunction [i.e. and], or as two sentences [“Her name is Summer. She is from the future.”]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ifornia (proper name requires capitaliza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ldnt (spelling error=couldn’t); Love (following punctuation should be a comm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6.21A: The student is expected to: collaborate with other writers to compose, organize, and revise various types of texts, including letters, news, records, and forms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E46C-519A-4E8E-9E01-B8D239782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FEF0-AF38-4575-8114-BFDB53F4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EB81-87BD-4152-BF6B-7FFDBCD3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EB3-3BAD-4C04-91B1-4A573A8E5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21A-5553-4660-9BF0-045922AB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E81-01A2-45EA-8F3A-15442091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F974-4B7C-465B-A3AD-CE779B7D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605-FFEF-4F34-BF3F-EB987954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5EC-0C7D-4E68-8ACC-433D08D8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199-0448-48D2-8781-0DC9E798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334B-6750-4E47-B693-5C3F7358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E05-368C-4825-8EF4-CB1A2307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E291-D36A-4F46-B83B-EA8A2459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B126-0A12-4EFC-8732-8551248372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LetterFromBobbin.pdf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<Relationship Id="rId1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e down four ways the author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e Waterfall Gho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describes the town of Lowell, Massachuset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at the picture of the old textile mill to the left and think of three new adjectives to help you describe this pla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4267080" cy="273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tend that you are working in a textile mill in the 1850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ite a short letter to a friend convincing him to come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800600" y="1978200"/>
            <a:ext cx="3957480" cy="267012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friend has decided  to come to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rite a short letter explaining why your friend should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e and work with you at the textile m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3132000" cy="4953240"/>
          </a:xfrm>
          <a:prstGeom prst="rect">
            <a:avLst/>
          </a:prstGeom>
          <a:ln w="28440">
            <a:solidFill>
              <a:srgbClr val="6633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Unlocking Gramma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bbin wants her aunt in California to know that she is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writes a short letter to her aunt to tell her when she’ll arr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p Bobbin by editing her letter.  Correct any mistakes you find. (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Hin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You should find at least seven mistakes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80880" y="1332000"/>
            <a:ext cx="8382240" cy="42084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1584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ar aunt: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      September 13 185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 met a grate new friend today. Her name is Summer she is from the future. She helped me get to the train so I could come to california. Summer couldnt come with me. I will arrive at the train station in San Francisco on Wednesday. Can’t wait to see you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o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obb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12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5638680"/>
            <a:ext cx="58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lick 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to open a printable PDF of this let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400" y="937800"/>
            <a:ext cx="866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90800" y="1944360"/>
            <a:ext cx="2590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i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33840" y="2249640"/>
            <a:ext cx="280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Center for Environmental 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ural Heal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NIEHS" descr=""/>
          <p:cNvPicPr/>
          <p:nvPr/>
        </p:nvPicPr>
        <p:blipFill>
          <a:blip r:embed="rId2"/>
          <a:stretch/>
        </p:blipFill>
        <p:spPr>
          <a:xfrm>
            <a:off x="466560" y="1949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eer" descr=""/>
          <p:cNvPicPr/>
          <p:nvPr/>
        </p:nvPicPr>
        <p:blipFill>
          <a:blip r:embed="rId3"/>
          <a:stretch/>
        </p:blipFill>
        <p:spPr>
          <a:xfrm>
            <a:off x="4665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2" name="CollegeofEdu" descr=""/>
          <p:cNvPicPr/>
          <p:nvPr/>
        </p:nvPicPr>
        <p:blipFill>
          <a:blip r:embed="rId4"/>
          <a:stretch/>
        </p:blipFill>
        <p:spPr>
          <a:xfrm>
            <a:off x="466560" y="4997520"/>
            <a:ext cx="135900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CERH" descr=""/>
          <p:cNvPicPr/>
          <p:nvPr/>
        </p:nvPicPr>
        <p:blipFill>
          <a:blip r:embed="rId5"/>
          <a:stretch/>
        </p:blipFill>
        <p:spPr>
          <a:xfrm>
            <a:off x="4809960" y="34732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74" name="New CVM logo_ any color" descr=""/>
          <p:cNvPicPr/>
          <p:nvPr/>
        </p:nvPicPr>
        <p:blipFill>
          <a:blip r:embed="rId6"/>
          <a:stretch/>
        </p:blipFill>
        <p:spPr>
          <a:xfrm>
            <a:off x="4809960" y="499284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4730760" y="1963800"/>
            <a:ext cx="1546200" cy="1371600"/>
            <a:chOff x="4730760" y="1963800"/>
            <a:chExt cx="1546200" cy="1371600"/>
          </a:xfrm>
        </p:grpSpPr>
        <p:sp>
          <p:nvSpPr>
            <p:cNvPr id="78" name=""/>
            <p:cNvSpPr/>
            <p:nvPr/>
          </p:nvSpPr>
          <p:spPr>
            <a:xfrm>
              <a:off x="4811400" y="1963800"/>
              <a:ext cx="137124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730760" y="2152800"/>
            <a:ext cx="154620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30760" y="2152800"/>
                      <a:ext cx="154620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Verdana"/>
              </a:rPr>
              <a:t>CO-7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2:28:20Z</dcterms:created>
  <dc:creator>Ape</dc:creator>
  <dc:description/>
  <dc:language>en-US</dc:language>
  <cp:lastModifiedBy>Texas A&amp;M Veterinary Medicine</cp:lastModifiedBy>
  <dcterms:modified xsi:type="dcterms:W3CDTF">2007-10-19T14:15:52Z</dcterms:modified>
  <cp:revision>22</cp:revision>
  <dc:subject/>
  <dc:title>Unlocking Language</dc:title>
</cp:coreProperties>
</file>