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13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667C-76CC-4F3F-9020-1F3EA37E5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D1D7-77F9-406C-9191-101E435AE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90CE-0685-450B-8F6C-FA7EFC74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B691-825E-420B-9DE8-00335B6F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6EC1-0F55-4D2A-AE69-E8A2A510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2D87-1BF3-40E9-AF68-977ADC861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2131-DC84-4E1E-B798-29ABFFB7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8961-7F7A-4E3E-B42E-3DA0DF41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8CF5-8D23-48B8-AB99-FBF4495E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C276-7776-4B3E-BF77-84728B34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026F-1235-4B8A-80FB-C50E3536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C54-9095-4BE3-A5DA-F0E9A753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40D2-3049-42DD-9509-3ACA3A3D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7204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92520" indent="-21024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92520" indent="-21024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2AF3-401E-4115-8795-CA003B8A1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9880" y="3962520"/>
            <a:ext cx="8610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C or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57800" y="4127400"/>
            <a:ext cx="2554200" cy="18068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ll, you best be glad Mary-O is so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she’d have seen you weren’t a Lowell heires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ns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ll-wit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ar-sigh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us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38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’ve got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eniority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ven if I’m five years  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nger than Mary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 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nior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r stat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amou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er rank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0160" y="0"/>
            <a:ext cx="33638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091040" y="444672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 body was wiry and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ith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85000"/>
              </a:lnSpc>
              <a:spcBef>
                <a:spcPts val="7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  The wor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i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g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i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952880" y="4114800"/>
            <a:ext cx="3276720" cy="2303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rows of two-story buildings wer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ith the factorie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nterspers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law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ck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x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343400" y="3886200"/>
            <a:ext cx="3576600" cy="2413080"/>
          </a:xfrm>
          <a:prstGeom prst="rect">
            <a:avLst/>
          </a:prstGeom>
          <a:ln w="76320">
            <a:solidFill>
              <a:srgbClr val="673c2c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noticed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ac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spect they gave her and decided to use its pow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acit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u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86680" y="0"/>
            <a:ext cx="28573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4940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044720" y="4200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105084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105084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29200" y="3809880"/>
            <a:ext cx="2924280" cy="25894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said she’s seen enough of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icklenes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machines to trust some little buttons…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 Another word for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ficklenes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ck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ss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redic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p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ign read ‘Ladies’ Room’ on a wide oak door with a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ranso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bove it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 From this passage, one can infer that a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ranso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other word for “handsom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sh c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mall wind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doorkno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 rot="899400">
            <a:off x="5334120" y="3962160"/>
            <a:ext cx="1815840" cy="2257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…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see from the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mbivalenc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Bobbin’s face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 From this passage, one can infer that ambivalence i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kind of make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mo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o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2171880" cy="21715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e was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cutel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ware of her other sense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  From this passage, you can infer that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ute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arp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ri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ak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3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2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could hear Farnsley’s shuffling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rawing clos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 By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ga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the author mea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042920" y="3649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047600" y="4200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054080" y="4743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054080" y="530208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Texas A&amp;M Veterinary Medicine</cp:lastModifiedBy>
  <dcterms:modified xsi:type="dcterms:W3CDTF">2007-10-19T14:18:29Z</dcterms:modified>
  <cp:revision>66</cp:revision>
  <dc:subject/>
  <dc:title>PowerPoint Presentation</dc:title>
</cp:coreProperties>
</file>