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731-6DB5-4341-BA05-D61BF239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 The green goo will fly in on mous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erves as an introduction to the next slide.  In the table, each number represents a single cough event.  The numbers do not represent the number of coughs.  There are only 10 coughs recorded on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median and the mode being greater than the mean, this suggests that the data has a rightward shift.  This means that the mean, as a measure of central tendency, is not as useful.  Since the median and the mode are the same, one would likely expect that the next cough produce 16 g of phleg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that a person with chronic bronchitis will die of it in a given year: (1,172 / 12,100,000) = 0.00009686 = 9.686 x 10^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00 * (4/5) = 880 women of the women at the Channing Home had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0/4000 = 0.22 * 100% =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2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cases in Boston involved women at the Channing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whole numbers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F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Solve problems involving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lready determined that the probability of a person with chronic bronchitis dying from it is 9.686 x 10^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 bronchitis | smoker ) x P( die | bronchitis ) = (3/4) x (9.686 x 10^-5) = 7.264 x 10^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812-9340-4954-97F7-54A2F1DD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1AB-1CE2-46B5-93B5-0D14AF7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92B-EEB0-4E8A-912C-FDFF8EEF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37E-3A07-48ED-ACFA-03937C96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B03-5F45-457A-8904-DDD933C7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758-DA0A-40F9-B0BC-3E4D954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F62-413D-41FC-BC4E-3B39DBB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CE9-4644-4430-803C-63BE6E6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8E7-2A73-4084-A83F-58A20C49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45C-2261-46EE-B56D-2917FBE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3F8-154C-45B2-8F3F-BF7881F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3FB-E972-49E4-82B2-32890E4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F42-70A3-4BCE-90A8-6F5BD3292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Prbablty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hyperlink" Target="http://www.thetruth.com/index.cfm?seek=facts" TargetMode="External"/><Relationship Id="rId4" Type="http://schemas.openxmlformats.org/officeDocument/2006/relationships/hyperlink" Target="http://www.thetruth.com/index.cfm?seek=facts" TargetMode="External"/><Relationship Id="rId5" Type="http://schemas.openxmlformats.org/officeDocument/2006/relationships/hyperlink" Target="http://www.lungusa.org/site/pp.asp?c=dvLUK9O0E&amp;b=22542" TargetMode="External"/><Relationship Id="rId6" Type="http://schemas.openxmlformats.org/officeDocument/2006/relationships/hyperlink" Target="http://www.lungusa.org/site/pp.asp?c=dvLUK9O0E&amp;b=22542" TargetMode="External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86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4520" y="1219320"/>
            <a:ext cx="7914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 the health issue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data to make a pred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robability of simple and compound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819520" cy="266688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gh I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4648320"/>
          <a:ext cx="8229600" cy="838080"/>
        </p:xfrm>
        <a:graphic>
          <a:graphicData uri="http://schemas.openxmlformats.org/drawingml/2006/table">
            <a:tbl>
              <a:tblPr/>
              <a:tblGrid>
                <a:gridCol w="13716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gh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legm 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57600" y="3048120"/>
            <a:ext cx="1981080" cy="116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3880"/>
            <a:ext cx="4114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Mary-O coughed, you measured the amount of phlegm that wa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data you colle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gh I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6720" y="30477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ed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phlegm do you expect Mary-O to cough up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38120" y="3200400"/>
            <a:ext cx="1798920" cy="2666880"/>
          </a:xfrm>
          <a:prstGeom prst="rect">
            <a:avLst/>
          </a:prstGeom>
          <a:ln w="57240">
            <a:solidFill>
              <a:srgbClr val="7b3d0f"/>
            </a:solidFill>
            <a:miter/>
          </a:ln>
        </p:spPr>
      </p:pic>
      <p:graphicFrame>
        <p:nvGraphicFramePr>
          <p:cNvPr id="62" name=""/>
          <p:cNvGraphicFramePr/>
          <p:nvPr/>
        </p:nvGraphicFramePr>
        <p:xfrm>
          <a:off x="457200" y="1447920"/>
          <a:ext cx="8229600" cy="842760"/>
        </p:xfrm>
        <a:graphic>
          <a:graphicData uri="http://schemas.openxmlformats.org/drawingml/2006/table">
            <a:tbl>
              <a:tblPr/>
              <a:tblGrid>
                <a:gridCol w="1119240"/>
                <a:gridCol w="596880"/>
                <a:gridCol w="725400"/>
                <a:gridCol w="722520"/>
                <a:gridCol w="723600"/>
                <a:gridCol w="725760"/>
                <a:gridCol w="720720"/>
                <a:gridCol w="725400"/>
                <a:gridCol w="723960"/>
                <a:gridCol w="720720"/>
                <a:gridCol w="725400"/>
              </a:tblGrid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gh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legm 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304812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ronic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523880"/>
            <a:ext cx="38862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2.1 million people in the United States have chronic bronchitis.  There were 1,172 deaths due to chronic bronchitis in 1999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ability that a person with chronic bronchitis will die in a given year?  State your answer in scientific 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help with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57600" y="1523880"/>
            <a:ext cx="502920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07, there were 4,000 reported cases of tuberculosis in Bos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1,100 women who lived at the Channing Home in Boston, 4/5 of these women had tubercul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ercentage of the cases in Boston were found in the Channing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1892520" cy="228600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1887480" cy="213372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berculosis Puzz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4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ronic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7600" cy="3419280"/>
          </a:xfrm>
          <a:prstGeom prst="rect">
            <a:avLst/>
          </a:prstGeom>
          <a:ln w="57240">
            <a:solidFill>
              <a:srgbClr val="7b3d0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149076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3 out of 4 smokers will develop chronic bronchitis, what is the probability that a smoker will die due to chronic bronchitis within a given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185904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king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been found that most people who develop chronic bronchitis are smo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imulate statistics based on actual values such as those found on websites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www.thetruth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www.lungusa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05520" y="4495680"/>
            <a:ext cx="23619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53:30Z</dcterms:created>
  <dc:creator>Texas A&amp;M Veterinary Medicine</dc:creator>
  <dc:description/>
  <dc:language>en-US</dc:language>
  <cp:lastModifiedBy>Jeremiah McNichols</cp:lastModifiedBy>
  <dcterms:modified xsi:type="dcterms:W3CDTF">2008-09-25T18:12:03Z</dcterms:modified>
  <cp:revision>32</cp:revision>
  <dc:subject/>
  <dc:title>Lesson 1 M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5000000000001023620</vt:lpwstr>
  </property>
</Properties>
</file>