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2792-812E-438D-9176-E589536B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 The green goo will fly in on mous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erves as an introduction to the next slide.  In the table, each number represents a single cough event.  The numbers do not represent the number of coughs.  There are only 10 coughs recorded on this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=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median and the mode being greater than the mean, this suggests that the data has a rightward shift.  This means that the mean, as a measure of central tendency, is not as useful.  Since the median and the mode are the same, one would likely expect that the next cough produce 16 g of phleg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B) Use addition and subtraction in problems with fractions and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D) Use division to find unit rates and ratios in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that a person with chronic bronchitis will die of it in a given year: (1,172 / 12,100,000) = 0.00009686 = 9.686 x 10^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00 * (4/5) = 880 women of the women at the Channing Home had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80/4000 = 0.22 * 100% =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2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cases in Boston involved women at the Channing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whole numbers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F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Solve problems involving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lready determined that the probability of a person with chronic bronchitis dying from it is 9.686 x 10^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 bronchitis | smoker ) x P( die | bronchitis ) = (3/4) x (9.686 x 10^-5) = 7.264 x 10^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9E6-7646-4870-9147-04CFC575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2AB-54F1-412D-BAC4-CF8E1052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D60-7627-4906-9425-E1C3D9EC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6DA-0F76-471F-A3C5-A73A3C42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135-B270-47FC-ACED-406D0891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D99-3206-4B31-B5E2-73907A07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FAA-A422-452F-ACD0-A66299C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08F-9341-4364-AEED-9DE2226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773-ACEA-4FB3-993B-2ED8D705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C37-812C-4B51-9CEE-7F072B10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4B8-3BBC-4B0A-8C33-F129A6B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F64-4D09-4CC4-9210-36A2C41C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20D7-3508-49A8-BC8B-D67D89159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Appendices/Prbablty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hyperlink" Target="http://www.thetruth.com/index.cfm?seek=facts" TargetMode="External"/><Relationship Id="rId4" Type="http://schemas.openxmlformats.org/officeDocument/2006/relationships/hyperlink" Target="http://www.thetruth.com/index.cfm?seek=facts" TargetMode="External"/><Relationship Id="rId5" Type="http://schemas.openxmlformats.org/officeDocument/2006/relationships/hyperlink" Target="http://www.lungusa.org/site/pp.asp?c=dvLUK9O0E&amp;b=22542" TargetMode="External"/><Relationship Id="rId6" Type="http://schemas.openxmlformats.org/officeDocument/2006/relationships/hyperlink" Target="http://www.lungusa.org/site/pp.asp?c=dvLUK9O0E&amp;b=22542" TargetMode="External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862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4520" y="1219320"/>
            <a:ext cx="79149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 the health issue of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data to make a predi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robability of simple and compound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860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819520" cy="2666880"/>
          </a:xfrm>
          <a:prstGeom prst="rect">
            <a:avLst/>
          </a:prstGeom>
          <a:ln w="38160">
            <a:solidFill>
              <a:srgbClr val="673c2c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gh I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4648320"/>
          <a:ext cx="8229600" cy="838080"/>
        </p:xfrm>
        <a:graphic>
          <a:graphicData uri="http://schemas.openxmlformats.org/drawingml/2006/table">
            <a:tbl>
              <a:tblPr/>
              <a:tblGrid>
                <a:gridCol w="13716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gh 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legm (g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657600" y="3048120"/>
            <a:ext cx="1981080" cy="116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WG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523880"/>
            <a:ext cx="4114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time Mary-O coughed, you measured the amount of phlegm that wa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data you collec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gh It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66720" y="304776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edi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phlegm do you expect Mary-O to cough up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38120" y="3200400"/>
            <a:ext cx="1798920" cy="2666880"/>
          </a:xfrm>
          <a:prstGeom prst="rect">
            <a:avLst/>
          </a:prstGeom>
          <a:ln w="57240">
            <a:solidFill>
              <a:srgbClr val="7b3d0f"/>
            </a:solidFill>
            <a:miter/>
          </a:ln>
        </p:spPr>
      </p:pic>
      <p:graphicFrame>
        <p:nvGraphicFramePr>
          <p:cNvPr id="62" name=""/>
          <p:cNvGraphicFramePr/>
          <p:nvPr/>
        </p:nvGraphicFramePr>
        <p:xfrm>
          <a:off x="457200" y="1447920"/>
          <a:ext cx="8229600" cy="842760"/>
        </p:xfrm>
        <a:graphic>
          <a:graphicData uri="http://schemas.openxmlformats.org/drawingml/2006/table">
            <a:tbl>
              <a:tblPr/>
              <a:tblGrid>
                <a:gridCol w="1119240"/>
                <a:gridCol w="596880"/>
                <a:gridCol w="725400"/>
                <a:gridCol w="722520"/>
                <a:gridCol w="723600"/>
                <a:gridCol w="725760"/>
                <a:gridCol w="720720"/>
                <a:gridCol w="725400"/>
                <a:gridCol w="723960"/>
                <a:gridCol w="720720"/>
                <a:gridCol w="725400"/>
              </a:tblGrid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gh 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legm (g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657600" cy="3048120"/>
          </a:xfrm>
          <a:prstGeom prst="rect">
            <a:avLst/>
          </a:prstGeom>
          <a:ln w="38160">
            <a:solidFill>
              <a:srgbClr val="673c2c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ronic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WG-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523880"/>
            <a:ext cx="38862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2.1 million people in the United States have chronic bronchitis.  There were 1,172 deaths due to chronic bronchitis in 1999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ability that a person with chronic bronchitis will die in a given year?  State your answer in scientific n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6019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Click He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help with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57600" y="1523880"/>
            <a:ext cx="5029200" cy="42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07, there were 4,000 reported cases of tuberculosis in Bost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1,100 women who lived at the Channing Home in Boston, 4/5 of these women had tubercul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ercentage of the cases in Boston were found in the Channing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1892520" cy="2286000"/>
          </a:xfrm>
          <a:prstGeom prst="rect">
            <a:avLst/>
          </a:prstGeom>
          <a:ln w="38160">
            <a:solidFill>
              <a:srgbClr val="673c2c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1887480" cy="2133720"/>
          </a:xfrm>
          <a:prstGeom prst="rect">
            <a:avLst/>
          </a:prstGeom>
          <a:ln w="38160">
            <a:solidFill>
              <a:srgbClr val="673c2c"/>
            </a:solidFill>
            <a:miter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berculosis Puzz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WG-4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ronic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57600" cy="3419280"/>
          </a:xfrm>
          <a:prstGeom prst="rect">
            <a:avLst/>
          </a:prstGeom>
          <a:ln w="57240">
            <a:solidFill>
              <a:srgbClr val="7b3d0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57200" y="149076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3 out of 4 smokers will develop chronic bronchitis, what is the probability that a smoker will die due to chronic bronchitis within a given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1859040" cy="20574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king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been found that most people who develop chronic bronchitis are smo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imulate statistics based on actual values such as those found on websites 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www.thetruth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6"/>
              </a:rPr>
              <a:t>www.lungusa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105520" y="4495680"/>
            <a:ext cx="23619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0:53:30Z</dcterms:created>
  <dc:creator>Texas A&amp;M Veterinary Medicine</dc:creator>
  <dc:description/>
  <dc:language>en-US</dc:language>
  <cp:lastModifiedBy>Jeremiah McNichols</cp:lastModifiedBy>
  <dcterms:modified xsi:type="dcterms:W3CDTF">2008-09-25T18:12:03Z</dcterms:modified>
  <cp:revision>32</cp:revision>
  <dc:subject/>
  <dc:title>Lesson 1 Ma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5000000000001023620</vt:lpwstr>
  </property>
</Properties>
</file>