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75B1-0406-49D9-BC10-62260771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letters can be reflected about the horizontal axis: B C D E H I K O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letters can be reflected about the vertical axis: A H I M O T U V W X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aside, point out that H I O X can be reflected about either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graph paper: http://www.gtcocalcomp.com/erc/interwritebackgrounds/Graph_paper_xy_axis%20(med%20-%20numbered)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play any slide, just click on the back arrow in the bottom left corner of the screen while in presentation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(B) Graph reflections across the horizontal or vertical axis and graph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(B)  Graph dilations, reflections, and trans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(A) Identify and apply mathematics to everyday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play any slide, just click on the back arrow in the bottom left corner of the screen while in presentation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54A-6730-4F93-95DF-CF995E7E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991-5A28-4C65-9BEA-D2222C3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787-357E-4790-BEA1-847666F5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BCA-8C23-4184-8207-08AC4C15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0B8-1CA8-4D79-A32D-14299E7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23C-942D-4EC5-ACEA-84AD6ED6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005-32C5-4D4B-BEF5-43C1BB2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A1F-2927-4DF8-A5CB-1478F907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3B9-EB89-40B0-BF26-AB5CFC8A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71C-EA5A-4A9B-A32F-BA343E7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B83-7489-412D-BE39-5A9BC39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0AC-9D4F-4C0A-879C-B557741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2B1-80EF-41E5-AB6B-0B98858F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86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4520" y="1219320"/>
            <a:ext cx="7914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87320"/>
            <a:ext cx="82296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etters can be flipped upside down and still look the same. Lik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H  E  O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etters can be reflected about the horizontal axis. Can you think of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etters can be flipped sideways and still look the same. Lik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U  M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etters can be reflected about the vertical axis. Can you think of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now going to do a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vity, we are going to investigate translations, reflections, and dilations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9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314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linear transformations and di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examples of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linear transformations and di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at the textile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primary products of the factory is shi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richer customers want their monogram on their shi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in is going to sew Mr. John Q. Smith’s monogram on his sh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bin starts s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16280" y="5326200"/>
            <a:ext cx="407880" cy="407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24160" y="574344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55800" y="5327280"/>
            <a:ext cx="406440" cy="41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62240" y="4064040"/>
            <a:ext cx="0" cy="126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5800" y="4067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29080" y="5319360"/>
            <a:ext cx="401760" cy="43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87720" y="574344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581280" y="5314680"/>
            <a:ext cx="40968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74800" y="4486320"/>
            <a:ext cx="3240" cy="8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78400" y="4060800"/>
            <a:ext cx="40320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0880" y="4057560"/>
            <a:ext cx="39816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87720" y="406728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4880" y="4473720"/>
            <a:ext cx="0" cy="85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5840" y="5324400"/>
            <a:ext cx="406440" cy="4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67160" y="4054320"/>
            <a:ext cx="238320" cy="2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3640" y="42480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80120" y="4692600"/>
            <a:ext cx="21888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92880" y="49021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15160" y="4902120"/>
            <a:ext cx="22536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34040" y="5124600"/>
            <a:ext cx="0" cy="37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96080" y="5483160"/>
            <a:ext cx="250560" cy="2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73440" y="57434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66800" y="5505480"/>
            <a:ext cx="21276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9640" y="4064040"/>
            <a:ext cx="40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92840" y="4057560"/>
            <a:ext cx="244440" cy="2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. Smith likes Bobbin’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he wants the monogram in a different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Bobbin will have to move the monogram up and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a trans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916280" y="4064040"/>
            <a:ext cx="1677960" cy="1679400"/>
            <a:chOff x="1916280" y="4064040"/>
            <a:chExt cx="1677960" cy="1679400"/>
          </a:xfrm>
        </p:grpSpPr>
        <p:sp>
          <p:nvSpPr>
            <p:cNvPr id="86" name=""/>
            <p:cNvSpPr/>
            <p:nvPr/>
          </p:nvSpPr>
          <p:spPr>
            <a:xfrm>
              <a:off x="1916280" y="5326200"/>
              <a:ext cx="40788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24160" y="57434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755800" y="5327280"/>
              <a:ext cx="40644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162240" y="4064040"/>
              <a:ext cx="0" cy="12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55800" y="40672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74800" y="4057560"/>
            <a:ext cx="1270080" cy="1692000"/>
            <a:chOff x="3574800" y="4057560"/>
            <a:chExt cx="1270080" cy="1692000"/>
          </a:xfrm>
        </p:grpSpPr>
        <p:sp>
          <p:nvSpPr>
            <p:cNvPr id="92" name=""/>
            <p:cNvSpPr/>
            <p:nvPr/>
          </p:nvSpPr>
          <p:spPr>
            <a:xfrm flipV="1">
              <a:off x="4429080" y="5319360"/>
              <a:ext cx="40176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87720" y="57434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581280" y="5314680"/>
              <a:ext cx="40968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3574800" y="4486320"/>
              <a:ext cx="3240" cy="8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78400" y="4060800"/>
              <a:ext cx="4032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30880" y="4057560"/>
              <a:ext cx="39816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7720" y="406728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44880" y="4473720"/>
              <a:ext cx="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5840" y="5324400"/>
              <a:ext cx="40644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66800" y="4054320"/>
            <a:ext cx="879840" cy="1698840"/>
            <a:chOff x="5266800" y="4054320"/>
            <a:chExt cx="879840" cy="1698840"/>
          </a:xfrm>
        </p:grpSpPr>
        <p:sp>
          <p:nvSpPr>
            <p:cNvPr id="102" name=""/>
            <p:cNvSpPr/>
            <p:nvPr/>
          </p:nvSpPr>
          <p:spPr>
            <a:xfrm flipH="1">
              <a:off x="5267160" y="4054320"/>
              <a:ext cx="238320" cy="20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73640" y="4248000"/>
              <a:ext cx="324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0120" y="4692600"/>
              <a:ext cx="218880" cy="21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2880" y="4902120"/>
              <a:ext cx="43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5160" y="4902120"/>
              <a:ext cx="22536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4040" y="5124600"/>
              <a:ext cx="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896080" y="5483160"/>
              <a:ext cx="25056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473440" y="57434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266800" y="5505480"/>
              <a:ext cx="21276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9640" y="406404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2840" y="4057560"/>
              <a:ext cx="24444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368800" y="1547640"/>
            <a:ext cx="4952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 moves 2 grids to the right and 3 grid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1941480"/>
            <a:ext cx="1704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does the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5360" y="1941480"/>
            <a:ext cx="1247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0.09166 -0.18334 E">
                                      <p:cBhvr>
                                        <p:cTn id="6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3.7037E-006 L 0.09444 -0.18519 E">
                                      <p:cBhvr>
                                        <p:cTn id="11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3.7037E-006 L 0.09306 -0.18519 E"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Smith would also like the letters to be bi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in can sew bigger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a di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28" b="36"/>
          <a:stretch/>
        </p:blipFill>
        <p:spPr>
          <a:xfrm>
            <a:off x="1081080" y="1260360"/>
            <a:ext cx="6905520" cy="528012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2754360" y="2793960"/>
            <a:ext cx="1677960" cy="1679400"/>
            <a:chOff x="2754360" y="2793960"/>
            <a:chExt cx="1677960" cy="1679400"/>
          </a:xfrm>
        </p:grpSpPr>
        <p:sp>
          <p:nvSpPr>
            <p:cNvPr id="120" name=""/>
            <p:cNvSpPr/>
            <p:nvPr/>
          </p:nvSpPr>
          <p:spPr>
            <a:xfrm>
              <a:off x="2754360" y="4056120"/>
              <a:ext cx="40788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2240" y="447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93880" y="4057200"/>
              <a:ext cx="406440" cy="41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000320" y="2793960"/>
              <a:ext cx="0" cy="12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3880" y="2797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2880" y="2774880"/>
            <a:ext cx="1270080" cy="1692000"/>
            <a:chOff x="4412880" y="2774880"/>
            <a:chExt cx="1270080" cy="1692000"/>
          </a:xfrm>
        </p:grpSpPr>
        <p:sp>
          <p:nvSpPr>
            <p:cNvPr id="126" name=""/>
            <p:cNvSpPr/>
            <p:nvPr/>
          </p:nvSpPr>
          <p:spPr>
            <a:xfrm flipV="1">
              <a:off x="5267160" y="4036680"/>
              <a:ext cx="40176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5800" y="44607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419360" y="4032000"/>
              <a:ext cx="40968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412880" y="3203640"/>
              <a:ext cx="3240" cy="8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416480" y="2778120"/>
              <a:ext cx="4032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8960" y="2774880"/>
              <a:ext cx="39816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25800" y="278460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82960" y="3191040"/>
              <a:ext cx="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63920" y="4041720"/>
              <a:ext cx="40644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117840" y="2784600"/>
            <a:ext cx="879840" cy="1698120"/>
            <a:chOff x="6117840" y="2784600"/>
            <a:chExt cx="879840" cy="1698120"/>
          </a:xfrm>
        </p:grpSpPr>
        <p:sp>
          <p:nvSpPr>
            <p:cNvPr id="136" name=""/>
            <p:cNvSpPr/>
            <p:nvPr/>
          </p:nvSpPr>
          <p:spPr>
            <a:xfrm flipH="1">
              <a:off x="6118200" y="2784600"/>
              <a:ext cx="23832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24680" y="2977920"/>
              <a:ext cx="324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1160" y="3422520"/>
              <a:ext cx="2188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920" y="3632040"/>
              <a:ext cx="43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6200" y="3632040"/>
              <a:ext cx="2253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5080" y="3854520"/>
              <a:ext cx="0" cy="37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747120" y="4213080"/>
              <a:ext cx="25056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24480" y="44733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117840" y="4235040"/>
              <a:ext cx="212760" cy="24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0680" y="2793960"/>
              <a:ext cx="4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43880" y="2787480"/>
              <a:ext cx="24444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68800" y="1547640"/>
            <a:ext cx="4761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bin takes off the J and puts a bigger J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6640" y="1941480"/>
            <a:ext cx="1387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77320" y="1941480"/>
            <a:ext cx="1755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the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2360" y="2793960"/>
            <a:ext cx="2101680" cy="2103120"/>
            <a:chOff x="2322360" y="2793960"/>
            <a:chExt cx="2101680" cy="2103120"/>
          </a:xfrm>
        </p:grpSpPr>
        <p:sp>
          <p:nvSpPr>
            <p:cNvPr id="151" name=""/>
            <p:cNvSpPr/>
            <p:nvPr/>
          </p:nvSpPr>
          <p:spPr>
            <a:xfrm>
              <a:off x="2322360" y="4374720"/>
              <a:ext cx="510840" cy="51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3200" y="4897080"/>
              <a:ext cx="54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373920" y="4376520"/>
              <a:ext cx="50904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882960" y="2793960"/>
              <a:ext cx="0" cy="158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73920" y="2797920"/>
              <a:ext cx="105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20920" y="2774880"/>
            <a:ext cx="1581120" cy="2106000"/>
            <a:chOff x="4120920" y="2774880"/>
            <a:chExt cx="1581120" cy="2106000"/>
          </a:xfrm>
        </p:grpSpPr>
        <p:sp>
          <p:nvSpPr>
            <p:cNvPr id="157" name=""/>
            <p:cNvSpPr/>
            <p:nvPr/>
          </p:nvSpPr>
          <p:spPr>
            <a:xfrm flipV="1">
              <a:off x="5184360" y="4345560"/>
              <a:ext cx="50004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4640" y="4873320"/>
              <a:ext cx="5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128480" y="4340160"/>
              <a:ext cx="510120" cy="5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120920" y="3308040"/>
              <a:ext cx="3960" cy="103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125240" y="2778840"/>
              <a:ext cx="501840" cy="52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86520" y="2774880"/>
              <a:ext cx="495720" cy="53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34640" y="2786760"/>
              <a:ext cx="5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040" y="3292560"/>
              <a:ext cx="0" cy="10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0400" y="4351680"/>
              <a:ext cx="505800" cy="52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76640" y="2797200"/>
            <a:ext cx="1096920" cy="2117160"/>
            <a:chOff x="5876640" y="2797200"/>
            <a:chExt cx="1096920" cy="2117160"/>
          </a:xfrm>
        </p:grpSpPr>
        <p:sp>
          <p:nvSpPr>
            <p:cNvPr id="167" name=""/>
            <p:cNvSpPr/>
            <p:nvPr/>
          </p:nvSpPr>
          <p:spPr>
            <a:xfrm flipH="1">
              <a:off x="5876640" y="2797200"/>
              <a:ext cx="297000" cy="26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4920" y="3038400"/>
              <a:ext cx="39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92840" y="3592800"/>
              <a:ext cx="272880" cy="26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8160" y="3853800"/>
              <a:ext cx="54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84840" y="3853800"/>
              <a:ext cx="280800" cy="29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8080" y="4131360"/>
              <a:ext cx="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661080" y="4578120"/>
              <a:ext cx="312480" cy="33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134040" y="4902840"/>
              <a:ext cx="5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5876640" y="4605840"/>
              <a:ext cx="265320" cy="30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4200" y="2809080"/>
              <a:ext cx="50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7120" y="2801160"/>
              <a:ext cx="304560" cy="29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she was sewing the letters, Bobbin noticed that some letters are the same right side up as upside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also noticed that some letters are the same facing up or facing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came up with thes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53:30Z</dcterms:created>
  <dc:creator>Texas A&amp;M Veterinary Medicine</dc:creator>
  <dc:description/>
  <dc:language>en-US</dc:language>
  <cp:lastModifiedBy>Jeremiah McNichols</cp:lastModifiedBy>
  <dcterms:modified xsi:type="dcterms:W3CDTF">2008-09-25T18:03:14Z</dcterms:modified>
  <cp:revision>50</cp:revision>
  <dc:subject/>
  <dc:title>Lesson 1 M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3000000000001023620</vt:lpwstr>
  </property>
</Properties>
</file>