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11.wmf" ContentType="image/x-wmf"/>
  <Override PartName="/ppt/media/image12.png" ContentType="image/png"/>
  <Override PartName="/ppt/media/image8.png" ContentType="image/png"/>
  <Override PartName="/ppt/media/image13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5EB75-1235-477E-ADE0-0EEA8B5785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nswer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.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nswer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.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nswer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.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.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.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.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.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nswer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nswer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nswer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.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nswer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.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nswer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.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nswer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nswer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nswer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6E82B-4B71-488A-A7FD-06BF43968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55A49-B4EF-4BAB-A1F7-2BA85A673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E878A-0F40-44D7-B576-969E27131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21939-581E-48F9-8C59-CC5D76641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04BEC-F6FF-4AB6-8EEC-549472B48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DEB91-AFE2-4D1E-93ED-B350BA792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14400-5635-4309-B908-638E3E173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73119-FB84-4CAF-8F48-FC2D4F1B1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B8A55-5740-4250-93C9-11AB0DBCF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064BA-5CC6-4BC7-AFA7-BF410F79D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1AD9F-664E-42B0-B09D-33D988AF4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C79B5-FCA0-4303-8731-E315E3933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051560" indent="-21024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472040" indent="-21024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892520" indent="-21024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892520" indent="-21024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892520" indent="-21024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94B41-B690-43F3-9EC2-E8D25C293C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wmf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wmf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imes New Roman"/>
              </a:rPr>
              <a:t>Vocabulary Challenge Quiz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99880" y="3962520"/>
            <a:ext cx="861084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Times New Roman"/>
              </a:rPr>
              <a:t>Read each passage carefully and then indicate the meaning of each underlined word by clicking A, B, C or D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G-13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5257800" y="4127400"/>
            <a:ext cx="2554200" cy="180684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ell, you best be glad Mary-O is so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dens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or she’d have seen you weren’t a Lowell heiress…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9.  By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dens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the author mean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ca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ull-wit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ar-sigh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ausea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042920" y="36496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4"/>
          <a:stretch/>
        </p:blipFill>
        <p:spPr>
          <a:xfrm>
            <a:off x="1047600" y="42004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5"/>
          <a:stretch/>
        </p:blipFill>
        <p:spPr>
          <a:xfrm>
            <a:off x="1054080" y="47433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6"/>
          <a:stretch/>
        </p:blipFill>
        <p:spPr>
          <a:xfrm>
            <a:off x="1054080" y="5302080"/>
            <a:ext cx="374760" cy="4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38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’ve got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seniority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ven if I’m five years   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younger than Mary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0.   By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seniority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the author mean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wer stat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ess experie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mall amou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igher rank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780160" y="0"/>
            <a:ext cx="336384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G-13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1042920" y="36496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1047600" y="42004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4"/>
          <a:stretch/>
        </p:blipFill>
        <p:spPr>
          <a:xfrm>
            <a:off x="1054080" y="47433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5"/>
          <a:stretch/>
        </p:blipFill>
        <p:spPr>
          <a:xfrm>
            <a:off x="1054080" y="5302080"/>
            <a:ext cx="374760" cy="4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3176640" y="2800440"/>
            <a:ext cx="2790720" cy="12571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4091040" y="4446720"/>
            <a:ext cx="961920" cy="5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r body was wiry and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lith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lnSpc>
                <a:spcPct val="85000"/>
              </a:lnSpc>
              <a:spcBef>
                <a:spcPts val="7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.   The word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lith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an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racefu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g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reed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wis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G-12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1049400" y="36496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1044720" y="420048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1050840" y="47433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5"/>
          <a:stretch/>
        </p:blipFill>
        <p:spPr>
          <a:xfrm>
            <a:off x="1050840" y="5302080"/>
            <a:ext cx="374760" cy="4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G-12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4952880" y="4114800"/>
            <a:ext cx="3276720" cy="230364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ng rows of two-story buildings were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intersperse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with the factories…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.  Another word for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intersperse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law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n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ck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ix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042920" y="36496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1047600" y="42004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5"/>
          <a:stretch/>
        </p:blipFill>
        <p:spPr>
          <a:xfrm>
            <a:off x="1054080" y="47433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6"/>
          <a:stretch/>
        </p:blipFill>
        <p:spPr>
          <a:xfrm>
            <a:off x="1054080" y="5302080"/>
            <a:ext cx="374760" cy="4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4343400" y="3886200"/>
            <a:ext cx="3576600" cy="2413080"/>
          </a:xfrm>
          <a:prstGeom prst="rect">
            <a:avLst/>
          </a:prstGeom>
          <a:ln w="76320">
            <a:solidFill>
              <a:srgbClr val="673c2c"/>
            </a:solidFill>
            <a:miter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mmer noticed the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aci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respect they gave her and decided to use its power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.  Another word for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tacit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mpli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ques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fus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sponsi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86680" y="0"/>
            <a:ext cx="28573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G-12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1049400" y="36496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4"/>
          <a:stretch/>
        </p:blipFill>
        <p:spPr>
          <a:xfrm>
            <a:off x="1044720" y="420048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5"/>
          <a:stretch/>
        </p:blipFill>
        <p:spPr>
          <a:xfrm>
            <a:off x="1050840" y="47433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6"/>
          <a:stretch/>
        </p:blipFill>
        <p:spPr>
          <a:xfrm>
            <a:off x="1050840" y="5302080"/>
            <a:ext cx="374760" cy="4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G-12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5029200" y="3809880"/>
            <a:ext cx="2924280" cy="258948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he said she’s seen enough of the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fickleness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f machines to trust some little buttons…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4.  Another word for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fickleness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quickn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ssin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predictabil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pin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1042920" y="36496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4"/>
          <a:stretch/>
        </p:blipFill>
        <p:spPr>
          <a:xfrm>
            <a:off x="1047600" y="42004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5"/>
          <a:stretch/>
        </p:blipFill>
        <p:spPr>
          <a:xfrm>
            <a:off x="1054080" y="47433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6"/>
          <a:stretch/>
        </p:blipFill>
        <p:spPr>
          <a:xfrm>
            <a:off x="1054080" y="5302080"/>
            <a:ext cx="374760" cy="4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G-13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ign read ‘Ladies’ Room’ on a wide oak door with a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ransom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above it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5.  From this passage, one can infer that a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transom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other word for “handsome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sh ca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mall windo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doorkno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1042920" y="36496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1047600" y="42004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1054080" y="47433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1054080" y="5302080"/>
            <a:ext cx="374760" cy="4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G-13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 rot="899400">
            <a:off x="5334120" y="3962160"/>
            <a:ext cx="1815840" cy="225720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1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…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mmer could see from the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ambivalence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n Bobbin’s face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9112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6.  From this passage, one can infer that ambivalence i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9112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kind of makeu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9112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 emo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9112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a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9112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col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1042920" y="36496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4"/>
          <a:stretch/>
        </p:blipFill>
        <p:spPr>
          <a:xfrm>
            <a:off x="1047600" y="42004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5"/>
          <a:stretch/>
        </p:blipFill>
        <p:spPr>
          <a:xfrm>
            <a:off x="1054080" y="47433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6"/>
          <a:stretch/>
        </p:blipFill>
        <p:spPr>
          <a:xfrm>
            <a:off x="1054080" y="5302080"/>
            <a:ext cx="374760" cy="4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G-13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5715000" y="3962520"/>
            <a:ext cx="2171880" cy="21715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he was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acutely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aware of her other senses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7.  From this passage, you can infer that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acutely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an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harp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ad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gri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eak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1042920" y="36496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4"/>
          <a:stretch/>
        </p:blipFill>
        <p:spPr>
          <a:xfrm>
            <a:off x="1047600" y="42004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5"/>
          <a:stretch/>
        </p:blipFill>
        <p:spPr>
          <a:xfrm>
            <a:off x="1054080" y="47433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6"/>
          <a:stretch/>
        </p:blipFill>
        <p:spPr>
          <a:xfrm>
            <a:off x="1054080" y="5302080"/>
            <a:ext cx="374760" cy="4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G-13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2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mmer could hear Farnsley’s shuffling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gai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drawing closer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8.  By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gai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the author mean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ho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ug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u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al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1042920" y="36496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1047600" y="42004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1054080" y="47433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1054080" y="5302080"/>
            <a:ext cx="374760" cy="4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7T19:50:03Z</dcterms:created>
  <dc:creator>David Marcovitz</dc:creator>
  <dc:description/>
  <dc:language>en-US</dc:language>
  <cp:lastModifiedBy>Texas A&amp;M Veterinary Medicine</cp:lastModifiedBy>
  <dcterms:modified xsi:type="dcterms:W3CDTF">2007-10-19T14:18:29Z</dcterms:modified>
  <cp:revision>66</cp:revision>
  <dc:subject/>
  <dc:title>PowerPoint Presentation</dc:title>
</cp:coreProperties>
</file>