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8D7A-050F-45E3-9A14-6F43AB878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Slide Show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Show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letters can be reflected about the horizontal axis: B C D E H I K O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(B) Graph reflections across the horizontal or vertical axis and graph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(B)  Graph dilations, reflections, and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letters can be reflected about the vertical axis: A H I M O T U V W X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aside, point out that H I O X can be reflected about either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(B) Graph reflections across the horizontal or vertical axis and graph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(B)  Graph dilations, reflections, and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(B) Graph reflections across the horizontal or vertical axis and graph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(B)  Graph dilations, reflections, and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graph paper: http://www.gtcocalcomp.com/erc/interwritebackgrounds/Graph_paper_xy_axis%20(med%20-%20numbered)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(B) Graph reflections across the horizontal or vertical axis and graph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(B)  Graph dilations, reflections, and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play any slide, just click on the back arrow in the bottom left corner of the screen while in presentation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(B) Graph reflections across the horizontal or vertical axis and graph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(B)  Graph dilations, reflections, and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play any slide, just click on the back arrow in the bottom left corner of the screen while in presentation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C27-F486-43A0-89E0-DC5A1FB3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1AA-D810-4744-BE31-A9E527C5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166-650C-4847-89BB-09F677D0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0ED-28F6-4E7C-BCDA-F4FC25B0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981-6EC0-4FAB-8825-79D90D4B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FDB-8165-4A5D-88BF-452B84EE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459-C2CE-41E0-9774-5F96E571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C8C-3785-477F-9126-BAB3A568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45B-E028-4DAA-8DB4-10F2C7F5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181-51FC-45F2-8193-D7233006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9E6-9CEA-472D-8704-9469F617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1CE-9F33-402D-8BDF-527D5F2F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CBF0-01B9-45DB-BB35-D8F76E5ED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88620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4520" y="1219320"/>
            <a:ext cx="79149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787320"/>
            <a:ext cx="82296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etters can be flipped upside down and still look the same. Like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H  E  O 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letters can be reflected about the horizontal axis. Can you think of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800280"/>
            <a:ext cx="822960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etters can be flipped sideways and still look the same. Like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 U  M 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letters can be reflected about the vertical axis. Can you think of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now going to do an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activity, we are going to investigate translations, reflections, and dilations fur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80880" y="1981080"/>
            <a:ext cx="8570880" cy="4487040"/>
            <a:chOff x="380880" y="1981080"/>
            <a:chExt cx="8570880" cy="4487040"/>
          </a:xfrm>
        </p:grpSpPr>
        <p:pic>
          <p:nvPicPr>
            <p:cNvPr id="189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4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95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22960" y="2166840"/>
              <a:ext cx="2728800" cy="43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314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 linear transformations and di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examples of e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linear transformations and di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at the textile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primary products of the factory is shi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f the richer customers want their monogram on their shi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bin is going to sew Mr. John Q. Smith’s monogram on his shi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bbin starts se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0" r="28" b="36"/>
          <a:stretch/>
        </p:blipFill>
        <p:spPr>
          <a:xfrm>
            <a:off x="1081080" y="1260360"/>
            <a:ext cx="690552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16280" y="5326200"/>
            <a:ext cx="407880" cy="40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24160" y="5743440"/>
            <a:ext cx="43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55800" y="5327280"/>
            <a:ext cx="406440" cy="41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62240" y="4064040"/>
            <a:ext cx="0" cy="126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55800" y="40672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429080" y="5319360"/>
            <a:ext cx="401760" cy="43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87720" y="5743440"/>
            <a:ext cx="43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581280" y="5314680"/>
            <a:ext cx="409680" cy="42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574800" y="4486320"/>
            <a:ext cx="324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578400" y="4060800"/>
            <a:ext cx="403200" cy="41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0880" y="4057560"/>
            <a:ext cx="398160" cy="42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87720" y="4067280"/>
            <a:ext cx="43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44880" y="4473720"/>
            <a:ext cx="0" cy="85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5840" y="5324400"/>
            <a:ext cx="406440" cy="41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67160" y="4054320"/>
            <a:ext cx="238320" cy="2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73640" y="4248000"/>
            <a:ext cx="3240" cy="46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80120" y="4692600"/>
            <a:ext cx="21888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92880" y="4902120"/>
            <a:ext cx="43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15160" y="4902120"/>
            <a:ext cx="225360" cy="2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34040" y="5124600"/>
            <a:ext cx="0" cy="37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96080" y="5483160"/>
            <a:ext cx="250560" cy="27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473440" y="57434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66800" y="5505480"/>
            <a:ext cx="212760" cy="2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89640" y="4064040"/>
            <a:ext cx="40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92840" y="4057560"/>
            <a:ext cx="244440" cy="2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. Smith likes Bobbin’s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, he wants the monogram in a different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o this, Bobbin will have to move the monogram up and to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called a trans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ee 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0" r="28" b="36"/>
          <a:stretch/>
        </p:blipFill>
        <p:spPr>
          <a:xfrm>
            <a:off x="1081080" y="1260360"/>
            <a:ext cx="6905520" cy="52801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1916280" y="4064040"/>
            <a:ext cx="1677960" cy="1679400"/>
            <a:chOff x="1916280" y="4064040"/>
            <a:chExt cx="1677960" cy="1679400"/>
          </a:xfrm>
        </p:grpSpPr>
        <p:sp>
          <p:nvSpPr>
            <p:cNvPr id="86" name=""/>
            <p:cNvSpPr/>
            <p:nvPr/>
          </p:nvSpPr>
          <p:spPr>
            <a:xfrm>
              <a:off x="1916280" y="5326200"/>
              <a:ext cx="407880" cy="40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24160" y="574344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755800" y="5327280"/>
              <a:ext cx="406440" cy="41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162240" y="4064040"/>
              <a:ext cx="0" cy="12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55800" y="40672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574800" y="4057560"/>
            <a:ext cx="1270080" cy="1692000"/>
            <a:chOff x="3574800" y="4057560"/>
            <a:chExt cx="1270080" cy="1692000"/>
          </a:xfrm>
        </p:grpSpPr>
        <p:sp>
          <p:nvSpPr>
            <p:cNvPr id="92" name=""/>
            <p:cNvSpPr/>
            <p:nvPr/>
          </p:nvSpPr>
          <p:spPr>
            <a:xfrm flipV="1">
              <a:off x="4429080" y="5319360"/>
              <a:ext cx="401760" cy="43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87720" y="574344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581280" y="5314680"/>
              <a:ext cx="409680" cy="42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3574800" y="4486320"/>
              <a:ext cx="3240" cy="8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78400" y="4060800"/>
              <a:ext cx="40320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30880" y="4057560"/>
              <a:ext cx="398160" cy="42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87720" y="406728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44880" y="4473720"/>
              <a:ext cx="0" cy="85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25840" y="5324400"/>
              <a:ext cx="40644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266800" y="4054320"/>
            <a:ext cx="879840" cy="1698840"/>
            <a:chOff x="5266800" y="4054320"/>
            <a:chExt cx="879840" cy="1698840"/>
          </a:xfrm>
        </p:grpSpPr>
        <p:sp>
          <p:nvSpPr>
            <p:cNvPr id="102" name=""/>
            <p:cNvSpPr/>
            <p:nvPr/>
          </p:nvSpPr>
          <p:spPr>
            <a:xfrm flipH="1">
              <a:off x="5267160" y="4054320"/>
              <a:ext cx="238320" cy="20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73640" y="4248000"/>
              <a:ext cx="3240" cy="4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80120" y="4692600"/>
              <a:ext cx="218880" cy="21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92880" y="4902120"/>
              <a:ext cx="43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15160" y="4902120"/>
              <a:ext cx="225360" cy="2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34040" y="5124600"/>
              <a:ext cx="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896080" y="5483160"/>
              <a:ext cx="25056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473440" y="574344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5266800" y="5505480"/>
              <a:ext cx="212760" cy="24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89640" y="406404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92840" y="4057560"/>
              <a:ext cx="244440" cy="2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368800" y="1547640"/>
            <a:ext cx="4952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 moves 2 grids to the right and 3 grids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7000" y="1941480"/>
            <a:ext cx="17046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does the 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5360" y="1941480"/>
            <a:ext cx="1247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037E-006 L 0.09166 -0.18334 E">
                                      <p:cBhvr>
                                        <p:cTn id="6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3.7037E-006 L 0.09444 -0.18519 E">
                                      <p:cBhvr>
                                        <p:cTn id="11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" nodeType="after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3.7037E-006 L 0.09306 -0.18519 E">
                                      <p:cBhvr>
                                        <p:cTn id="1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Smith would also like the letters to be bi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bin can sew bigger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called a di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ee 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0" r="28" b="36"/>
          <a:stretch/>
        </p:blipFill>
        <p:spPr>
          <a:xfrm>
            <a:off x="1081080" y="1260360"/>
            <a:ext cx="6905520" cy="528012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2754360" y="2793960"/>
            <a:ext cx="1677960" cy="1679400"/>
            <a:chOff x="2754360" y="2793960"/>
            <a:chExt cx="1677960" cy="1679400"/>
          </a:xfrm>
        </p:grpSpPr>
        <p:sp>
          <p:nvSpPr>
            <p:cNvPr id="120" name=""/>
            <p:cNvSpPr/>
            <p:nvPr/>
          </p:nvSpPr>
          <p:spPr>
            <a:xfrm>
              <a:off x="2754360" y="4056120"/>
              <a:ext cx="407880" cy="40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62240" y="447336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593880" y="4057200"/>
              <a:ext cx="406440" cy="41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000320" y="2793960"/>
              <a:ext cx="0" cy="12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93880" y="27972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12880" y="2774880"/>
            <a:ext cx="1270080" cy="1692000"/>
            <a:chOff x="4412880" y="2774880"/>
            <a:chExt cx="1270080" cy="1692000"/>
          </a:xfrm>
        </p:grpSpPr>
        <p:sp>
          <p:nvSpPr>
            <p:cNvPr id="126" name=""/>
            <p:cNvSpPr/>
            <p:nvPr/>
          </p:nvSpPr>
          <p:spPr>
            <a:xfrm flipV="1">
              <a:off x="5267160" y="4036680"/>
              <a:ext cx="401760" cy="43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5800" y="446076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419360" y="4032000"/>
              <a:ext cx="409680" cy="42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412880" y="3203640"/>
              <a:ext cx="3240" cy="8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416480" y="2778120"/>
              <a:ext cx="40320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8960" y="2774880"/>
              <a:ext cx="398160" cy="42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25800" y="278460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82960" y="3191040"/>
              <a:ext cx="0" cy="85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63920" y="4041720"/>
              <a:ext cx="40644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117840" y="2784600"/>
            <a:ext cx="879840" cy="1698120"/>
            <a:chOff x="6117840" y="2784600"/>
            <a:chExt cx="879840" cy="1698120"/>
          </a:xfrm>
        </p:grpSpPr>
        <p:sp>
          <p:nvSpPr>
            <p:cNvPr id="136" name=""/>
            <p:cNvSpPr/>
            <p:nvPr/>
          </p:nvSpPr>
          <p:spPr>
            <a:xfrm flipH="1">
              <a:off x="6118200" y="2784600"/>
              <a:ext cx="2383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24680" y="2977920"/>
              <a:ext cx="3240" cy="46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31160" y="3422520"/>
              <a:ext cx="218880" cy="21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920" y="3632040"/>
              <a:ext cx="43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6200" y="3632040"/>
              <a:ext cx="22536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85080" y="3854520"/>
              <a:ext cx="0" cy="37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747120" y="4213080"/>
              <a:ext cx="250560" cy="26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324480" y="447336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117840" y="4235040"/>
              <a:ext cx="212760" cy="24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40680" y="279396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43880" y="2787480"/>
              <a:ext cx="24444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368800" y="1547640"/>
            <a:ext cx="4761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bin takes off the J and puts a bigger J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6640" y="1941480"/>
            <a:ext cx="1387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77320" y="1941480"/>
            <a:ext cx="1755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the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2360" y="2793960"/>
            <a:ext cx="2101680" cy="2103120"/>
            <a:chOff x="2322360" y="2793960"/>
            <a:chExt cx="2101680" cy="2103120"/>
          </a:xfrm>
        </p:grpSpPr>
        <p:sp>
          <p:nvSpPr>
            <p:cNvPr id="151" name=""/>
            <p:cNvSpPr/>
            <p:nvPr/>
          </p:nvSpPr>
          <p:spPr>
            <a:xfrm>
              <a:off x="2322360" y="4374720"/>
              <a:ext cx="510840" cy="51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33200" y="4897080"/>
              <a:ext cx="54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373920" y="4376520"/>
              <a:ext cx="509040" cy="52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882960" y="2793960"/>
              <a:ext cx="0" cy="158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73920" y="2797920"/>
              <a:ext cx="105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120920" y="2774880"/>
            <a:ext cx="1581120" cy="2106000"/>
            <a:chOff x="4120920" y="2774880"/>
            <a:chExt cx="1581120" cy="2106000"/>
          </a:xfrm>
        </p:grpSpPr>
        <p:sp>
          <p:nvSpPr>
            <p:cNvPr id="157" name=""/>
            <p:cNvSpPr/>
            <p:nvPr/>
          </p:nvSpPr>
          <p:spPr>
            <a:xfrm flipV="1">
              <a:off x="5184360" y="4345560"/>
              <a:ext cx="50004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34640" y="4873320"/>
              <a:ext cx="5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4128480" y="4340160"/>
              <a:ext cx="510120" cy="52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4120920" y="3308040"/>
              <a:ext cx="3960" cy="103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125240" y="2778840"/>
              <a:ext cx="501840" cy="52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86520" y="2774880"/>
              <a:ext cx="495720" cy="53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34640" y="2786760"/>
              <a:ext cx="5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040" y="3292560"/>
              <a:ext cx="0" cy="10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80400" y="4351680"/>
              <a:ext cx="505800" cy="52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876640" y="2797200"/>
            <a:ext cx="1096920" cy="2117160"/>
            <a:chOff x="5876640" y="2797200"/>
            <a:chExt cx="1096920" cy="2117160"/>
          </a:xfrm>
        </p:grpSpPr>
        <p:sp>
          <p:nvSpPr>
            <p:cNvPr id="167" name=""/>
            <p:cNvSpPr/>
            <p:nvPr/>
          </p:nvSpPr>
          <p:spPr>
            <a:xfrm flipH="1">
              <a:off x="5876640" y="2797200"/>
              <a:ext cx="297000" cy="26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84920" y="3038400"/>
              <a:ext cx="3960" cy="57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92840" y="3592800"/>
              <a:ext cx="272880" cy="26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58160" y="3853800"/>
              <a:ext cx="54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84840" y="3853800"/>
              <a:ext cx="280800" cy="29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58080" y="4131360"/>
              <a:ext cx="0" cy="4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661080" y="4578120"/>
              <a:ext cx="312480" cy="33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134040" y="4902840"/>
              <a:ext cx="53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5876640" y="4605840"/>
              <a:ext cx="265320" cy="30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4200" y="2809080"/>
              <a:ext cx="50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57120" y="2801160"/>
              <a:ext cx="304560" cy="29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she was sewing the letters, Bobbin noticed that some letters are the same right side up as upside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also noticed that some letters are the same facing up or facing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came up with thes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20:53:30Z</dcterms:created>
  <dc:creator>Texas A&amp;M Veterinary Medicine</dc:creator>
  <dc:description/>
  <dc:language>en-US</dc:language>
  <cp:lastModifiedBy>Jeremiah McNichols</cp:lastModifiedBy>
  <dcterms:modified xsi:type="dcterms:W3CDTF">2008-09-25T18:03:14Z</dcterms:modified>
  <cp:revision>50</cp:revision>
  <dc:subject/>
  <dc:title>Lesson 1 Mat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3000000000001023620</vt:lpwstr>
  </property>
</Properties>
</file>