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FB695-815F-4840-B86B-E2CBED9585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0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: The student is expected to: Monitor comprehension and make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: Draw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: Answer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: Use study strategies to work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1 C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2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: Analyze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: Recognize and analyze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: Recognize how style, tone, and mood contribute to the affec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C801-068A-45CD-B34C-BB904E9D4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731F-72E4-4F93-80C7-BFDB4EAD7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3EE2-105B-415C-B603-6624794A4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82F0-943C-44AB-BA29-BAF011FF8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9A2F-7074-4BB0-9711-F7BC2E721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DD7B-BE57-40E6-8E1E-F64345A60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FA30-C731-4A25-B954-7C8A32402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E3F6-6156-411E-AF51-FCCA84616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3DCB-EE2D-42BF-B781-43F888C78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3C32-00C2-4BB1-BDA6-ECF49CDE9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E913-018E-49C3-95FB-C018F653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BE1D-BD1F-4BF5-96F0-A3C9D9FCE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921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73C24-E227-4765-951C-13478D91B1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hyperlink" Target="file:///../../../../../Product/Modules/8th%20Grade/14%20-%20The%20Waterfall%20Ghost/Powerpoint%20Files/Brown%20Lung%203.0/Supplements/WGStory.doc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hyperlink" Target="file:///../../../../../Product/Modules/8th%20Grade/14%20-%20The%20Waterfall%20Ghost/Powerpoint%20Files/Brown%20Lung%203.0/Supplements/WGStory.doc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hyperlink" Target="file:///../../../../../Product/Modules/8th%20Grade/14%20-%20The%20Waterfall%20Ghost/Powerpoint%20Files/Brown%20Lung%203.0/Supplements/WGStory.doc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hyperlink" Target="file:///../../../../../Product/Modules/8th%20Grade/14%20-%20The%20Waterfall%20Ghost/Powerpoint%20Files/Brown%20Lung%203.0/Supplements/WGStory.doc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hyperlink" Target="file:///../../../../../Product/Modules/8th%20Grade/14%20-%20The%20Waterfall%20Ghost/Powerpoint%20Files/Brown%20Lung%203.0/Supplements/WGStory.doc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hyperlink" Target="file:///../../../../../Product/Modules/8th%20Grade/14%20-%20The%20Waterfall%20Ghost/Powerpoint%20Files/Brown%20Lung%203.0/Supplements/WGStory.doc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hyperlink" Target="file:///../../../../../Product/Modules/8th%20Grade/14%20-%20The%20Waterfall%20Ghost/Powerpoint%20Files/Brown%20Lung%203.0/Supplements/WGStory.doc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8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1600200"/>
            <a:ext cx="784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3120" indent="-57312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y was Bobbin leaving for Californi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79560" y="2108160"/>
            <a:ext cx="628020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r. Lowell wanted her to establish a new factory t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y-O asked her to go to try and find her m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 was fired from her factory job because she was incompe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e was being treated unfairly at the mill and wanted to join her au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rnsley was sending her to a special doctor to take care of her coug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407960" y="4600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1411200" y="2193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1409760" y="2979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1406520" y="3778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6"/>
          <a:stretch/>
        </p:blipFill>
        <p:spPr>
          <a:xfrm>
            <a:off x="1411200" y="5396040"/>
            <a:ext cx="376200" cy="4633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8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1600200"/>
            <a:ext cx="7848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3120" indent="-57312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was Bobbin going to protect Sheila from Mary-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879560" y="2616120"/>
            <a:ext cx="6095880" cy="36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eila was coming to California with Bobb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 left a note for Mary-O that would scare  her into treating Sheila w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 threatened to accuse Farnsley of murder if he didn’t protect Shei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 asked Summer to use the BPC to send Sheila into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 wrote a letter to Mr. Lowell asking that Sheila be taken into his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91630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411200" y="4772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1411200" y="2602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1409760" y="318276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1406520" y="3989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6"/>
          <a:stretch/>
        </p:blipFill>
        <p:spPr>
          <a:xfrm>
            <a:off x="1411200" y="5570640"/>
            <a:ext cx="376200" cy="4633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3160800" y="278460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4081320" y="4487760"/>
            <a:ext cx="96228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7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1600200"/>
            <a:ext cx="78487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of the characters below were introduced in the “The Waterfall Ghost” story.  Which list below names the characters in the order Summer encountered them in the stor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79560" y="3390840"/>
            <a:ext cx="62802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rnsley, Bobbin, Mary-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, Mary-O, Farns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y-O, Farnsley, Bobb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y-O, Bobbin, Farns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, Farnsley, Mary-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695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407960" y="499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411200" y="3365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409760" y="3906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1409760" y="4448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1411200" y="5548320"/>
            <a:ext cx="376200" cy="4636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7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600200"/>
            <a:ext cx="78487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f the following characteristics did all of the mill girls in the story share?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of the girl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79560" y="3086280"/>
            <a:ext cx="62802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d red ha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re heavy silk gow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re friend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rked picking cotton for the m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ughed repeated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936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407960" y="4703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411200" y="3067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1409760" y="3608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1409760" y="4149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1411200" y="5256360"/>
            <a:ext cx="376200" cy="4633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7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600200"/>
            <a:ext cx="784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did Summer learn about Bobbin’s stor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79560" y="2235240"/>
            <a:ext cx="6280200" cy="36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r history teacher told the story to the c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e read the story in an old book she found in a bookst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was the headline story in the Boston newspap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r mother told her the story because Bobbin was a distant cous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r friend Travis shared the story with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407960" y="4621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411200" y="2219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1409760" y="2878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406520" y="3749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>
            <a:off x="1411200" y="5386320"/>
            <a:ext cx="376200" cy="4636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7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1600200"/>
            <a:ext cx="78487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first time Summer used her BPC in the story, she arrived at which one of the following locatio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879560" y="3086280"/>
            <a:ext cx="62802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y-O’s bedroom at the m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ld rush days in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waterfall in Massachuset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machine shop of a textile m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train s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407960" y="4707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411200" y="3070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1409760" y="3611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1413000" y="4149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6"/>
          <a:stretch/>
        </p:blipFill>
        <p:spPr>
          <a:xfrm>
            <a:off x="1411200" y="5256360"/>
            <a:ext cx="376200" cy="4633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7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79560" y="2641680"/>
            <a:ext cx="62802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sy and industr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iet and ru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avily forested with few build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ndloc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center for Indian cul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600200"/>
            <a:ext cx="7848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well, Massachusetts was described in the story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407960" y="4267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411200" y="2633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409760" y="3181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1413000" y="37260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1411200" y="4834080"/>
            <a:ext cx="376200" cy="4633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7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1600200"/>
            <a:ext cx="7848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mer arrived in Lowell during which of  the following tim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879560" y="2641680"/>
            <a:ext cx="62802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0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8th cent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80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0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1st cent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407960" y="4268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411200" y="2631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1409760" y="3176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1413000" y="37209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1411200" y="4830840"/>
            <a:ext cx="376200" cy="4633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8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600200"/>
            <a:ext cx="7848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escription of the inside of the factor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ncluded all of the following EXCEP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79560" y="2629080"/>
            <a:ext cx="62802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mell of fabric d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ste of chalky d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achine named Gri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rafty, cold air from open 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rk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407960" y="4264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1411200" y="2631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1409760" y="3179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1413000" y="3724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1407960" y="4830840"/>
            <a:ext cx="376560" cy="4633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8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1600200"/>
            <a:ext cx="804384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bbin tells Summer that many things seem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unbelievable but are not.  Which of the following examples from the story serve to support this idea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879560" y="3048120"/>
            <a:ext cx="628020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urning dirty white cotton into sky blue clo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r. Lowell memorizing the plans for making a l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small, young girl who could fix heavy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ssing as a boy to travel to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 of the examples above support this id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407960" y="5327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1407960" y="3021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1406520" y="3664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1406520" y="4541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1407960" y="5888160"/>
            <a:ext cx="376560" cy="4633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Texas A&amp;M Veterinary Medicine</cp:lastModifiedBy>
  <dcterms:modified xsi:type="dcterms:W3CDTF">2007-10-19T14:13:57Z</dcterms:modified>
  <cp:revision>87</cp:revision>
  <dc:subject/>
  <dc:title>PowerPoint Presentation</dc:title>
</cp:coreProperties>
</file>