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2.jpeg" ContentType="image/jpeg"/>
  <Override PartName="/ppt/media/image13.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0325-6A8A-4113-98C4-16048880B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ritants in the lung or breathing passageways trigger a nervous system reflex for coughing. Coughing forces under great pressure a large volume of air out of the lungs, which helps to eject whatever was causing the irritation. Secretions in the airways are also expelled, and they help carry out the irrit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he slide show presentation on respiration by Dr. Johnson on the PEER Web site http://peer.tamu.edu/scientist_presentation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something is in the air is irritating to the lungs and its airways. Maybe workers are allergic to the cotton or chemicals used to process it (like dy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Describe how human activities have modified soil, water, and air qu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a:t>
            </a:r>
            <a:r>
              <a:rPr b="0" lang="en-US" sz="1000" spc="-1" strike="noStrike">
                <a:solidFill>
                  <a:srgbClr val="000000"/>
                </a:solidFill>
                <a:latin typeface="Arial"/>
              </a:rPr>
              <a:t>  With three clicks of the mouse, the phlegm lassos the irri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be the irritants in the textile mill in the story were doing the same thing.  If phlegm cannot be moved out of the airways easily, you have to cough more often to get rid of it. Worst case: you get pneumonia, because bacteria grow out of control deep within the lungs and don’t get expelled through coug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C) Describe interactions within eco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27A18-27F8-4C7B-808F-B748ED7C6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8656F-8BC9-48E2-9AE5-4668D31F8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5D8BA-1852-4F3C-A2A6-279F5ECDA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CDFFB-9E3C-4797-82A6-68F596321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000CE-B75C-40B4-9C27-51C2A3D80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8BE60-28FA-468B-85E3-AAE2FD23A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D542A-FEB2-4C6A-8EB7-712FE9C06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644E-C3CC-4E51-81AC-65C4D94D8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E2BB2-5AA5-4FF6-BF72-0AE090682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28F6C-F6F9-4F80-83F8-EFA06828D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5A190-1318-4761-B833-0496B3EF2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094C-15F3-42A1-9BF5-90EDCA77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DEEBF-13C7-4709-9066-393EE8B6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C38C7-67A8-4C95-AE19-138F77DF0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D8765-EE62-4729-95F7-D774FC77F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16162-2FB4-408A-9820-FFA227F75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94D86-0E1F-4C50-AA7B-9DB049058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22CB-2017-4595-8DE6-94738230C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9C946-53E2-4857-BFBC-DA87B41B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4E625-1F8E-4FDA-9B32-EE71A45B9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52768-8403-4C0F-A5FC-9913E9EE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466E-9178-4C2A-82A8-9EDECFC0F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062A-3A4F-4A1B-9C14-F8B0BAE0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13F2-0B81-4313-ABA7-07265AA73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56F8-CF9C-4CDA-A9B6-F019F610EF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7C5E-C92A-42E1-89A1-C8E93A2CBF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er.tamu.edu/curriculum_modules/OrganSystems/module_5/whatweknow2.htm"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http://peer.tamu.edu/forms/Curricula_Survey.shtml" TargetMode="External"/><Relationship Id="rId4" Type="http://schemas.openxmlformats.org/officeDocument/2006/relationships/hyperlink" Target="http://peer.tamu.edu/forms/Curricula_Survey.shtml" TargetMode="Externa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53240" y="4392720"/>
            <a:ext cx="1895400" cy="771480"/>
          </a:xfrm>
          <a:custGeom>
            <a:avLst/>
            <a:gdLst/>
            <a:ahLst/>
            <a:rect l="l" t="t" r="r" b="b"/>
            <a:pathLst>
              <a:path w="1194" h="486">
                <a:moveTo>
                  <a:pt x="100" y="217"/>
                </a:moveTo>
                <a:cubicBezTo>
                  <a:pt x="105" y="181"/>
                  <a:pt x="0" y="0"/>
                  <a:pt x="132" y="3"/>
                </a:cubicBezTo>
                <a:cubicBezTo>
                  <a:pt x="264" y="6"/>
                  <a:pt x="724" y="170"/>
                  <a:pt x="894" y="236"/>
                </a:cubicBezTo>
                <a:cubicBezTo>
                  <a:pt x="1064" y="302"/>
                  <a:pt x="1108" y="360"/>
                  <a:pt x="1151" y="402"/>
                </a:cubicBezTo>
                <a:cubicBezTo>
                  <a:pt x="1194" y="444"/>
                  <a:pt x="1153" y="469"/>
                  <a:pt x="1153" y="48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6542640" y="4250160"/>
            <a:ext cx="1857600" cy="1236240"/>
            <a:chOff x="6542640" y="4250160"/>
            <a:chExt cx="1857600" cy="1236240"/>
          </a:xfrm>
        </p:grpSpPr>
        <p:sp>
          <p:nvSpPr>
            <p:cNvPr id="320" name=""/>
            <p:cNvSpPr/>
            <p:nvPr/>
          </p:nvSpPr>
          <p:spPr>
            <a:xfrm rot="21468000">
              <a:off x="6652440" y="434700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6542640" y="4250160"/>
              <a:ext cx="1857600" cy="1236240"/>
              <a:chOff x="6542640" y="4250160"/>
              <a:chExt cx="1857600" cy="1236240"/>
            </a:xfrm>
          </p:grpSpPr>
          <p:sp>
            <p:nvSpPr>
              <p:cNvPr id="322" name=""/>
              <p:cNvSpPr/>
              <p:nvPr/>
            </p:nvSpPr>
            <p:spPr>
              <a:xfrm rot="21468000">
                <a:off x="7234560" y="513000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468000">
                <a:off x="7714800" y="493488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468000">
                <a:off x="7368120" y="475452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5" name=""/>
              <p:cNvSpPr/>
              <p:nvPr/>
            </p:nvSpPr>
            <p:spPr>
              <a:xfrm rot="21468000">
                <a:off x="7446960" y="454068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468000">
                <a:off x="7221600" y="461016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
              <p:cNvSpPr/>
              <p:nvPr/>
            </p:nvSpPr>
            <p:spPr>
              <a:xfrm rot="21468000">
                <a:off x="6564240" y="428436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329" name="PlaceHolder 2"/>
          <p:cNvSpPr>
            <a:spLocks noGrp="1"/>
          </p:cNvSpPr>
          <p:nvPr>
            <p:ph/>
          </p:nvPr>
        </p:nvSpPr>
        <p:spPr>
          <a:xfrm>
            <a:off x="576000" y="1508040"/>
            <a:ext cx="536580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331" name=""/>
          <p:cNvSpPr/>
          <p:nvPr/>
        </p:nvSpPr>
        <p:spPr>
          <a:xfrm>
            <a:off x="6562800" y="4749840"/>
            <a:ext cx="2036520" cy="511200"/>
          </a:xfrm>
          <a:custGeom>
            <a:avLst/>
            <a:gdLst/>
            <a:ahLst/>
            <a:rect l="l" t="t" r="r" b="b"/>
            <a:pathLst>
              <a:path w="1283" h="322">
                <a:moveTo>
                  <a:pt x="0" y="76"/>
                </a:moveTo>
                <a:cubicBezTo>
                  <a:pt x="35" y="63"/>
                  <a:pt x="136" y="0"/>
                  <a:pt x="210" y="0"/>
                </a:cubicBezTo>
                <a:cubicBezTo>
                  <a:pt x="284" y="0"/>
                  <a:pt x="313" y="31"/>
                  <a:pt x="445" y="77"/>
                </a:cubicBezTo>
                <a:cubicBezTo>
                  <a:pt x="577" y="123"/>
                  <a:pt x="873" y="239"/>
                  <a:pt x="1000" y="279"/>
                </a:cubicBezTo>
                <a:cubicBezTo>
                  <a:pt x="1127" y="319"/>
                  <a:pt x="1161" y="322"/>
                  <a:pt x="1208" y="315"/>
                </a:cubicBezTo>
                <a:cubicBezTo>
                  <a:pt x="1255" y="308"/>
                  <a:pt x="1268" y="254"/>
                  <a:pt x="1283" y="238"/>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335"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336" name=""/>
          <p:cNvGrpSpPr/>
          <p:nvPr/>
        </p:nvGrpSpPr>
        <p:grpSpPr>
          <a:xfrm>
            <a:off x="5608800" y="4459320"/>
            <a:ext cx="985680" cy="477720"/>
            <a:chOff x="5608800" y="4459320"/>
            <a:chExt cx="985680" cy="477720"/>
          </a:xfrm>
        </p:grpSpPr>
        <p:sp>
          <p:nvSpPr>
            <p:cNvPr id="337"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9"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45"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317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s of a Cough</a:t>
            </a:r>
            <a:endParaRPr b="0" lang="en-US" sz="4400" spc="-1" strike="noStrike">
              <a:solidFill>
                <a:srgbClr val="000000"/>
              </a:solidFill>
              <a:latin typeface="Times New Roman"/>
            </a:endParaRPr>
          </a:p>
        </p:txBody>
      </p:sp>
      <p:sp>
        <p:nvSpPr>
          <p:cNvPr id="347" name="PlaceHolder 2"/>
          <p:cNvSpPr>
            <a:spLocks noGrp="1"/>
          </p:cNvSpPr>
          <p:nvPr>
            <p:ph/>
          </p:nvPr>
        </p:nvSpPr>
        <p:spPr>
          <a:xfrm>
            <a:off x="487080" y="1527120"/>
            <a:ext cx="4389480" cy="4114800"/>
          </a:xfrm>
          <a:prstGeom prst="rect">
            <a:avLst/>
          </a:prstGeom>
          <a:noFill/>
          <a:ln w="0">
            <a:noFill/>
          </a:ln>
        </p:spPr>
        <p:txBody>
          <a:bodyPr lIns="90000" rIns="90000" tIns="46800" bIns="46800" anchor="t">
            <a:normAutofit/>
          </a:bodyPr>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gh reflex occurs when nerve fibers in the pharynx and bronchi are stretched or irritated.</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rve signal is sent to the brai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ain then sends a signal to the diaphragm and other muscles telling them to contract forcefully to push air and any mucus out of the lungs. </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ghing occurs as part of an automatic reflex. </a:t>
            </a:r>
            <a:r>
              <a:rPr b="0" lang="en-US" sz="2400" spc="-1" strike="noStrike" u="sng">
                <a:solidFill>
                  <a:srgbClr val="a86148"/>
                </a:solidFill>
                <a:uFillTx/>
                <a:latin typeface="Times New Roman"/>
                <a:hlinkClick r:id="rId2"/>
              </a:rPr>
              <a:t>Click here for more on reflex action.</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 descr="Diaphragm and lungs"/>
          <p:cNvPicPr/>
          <p:nvPr/>
        </p:nvPicPr>
        <p:blipFill>
          <a:blip r:embed="rId3"/>
          <a:stretch/>
        </p:blipFill>
        <p:spPr>
          <a:xfrm>
            <a:off x="5181480" y="1679400"/>
            <a:ext cx="3606840" cy="2664000"/>
          </a:xfrm>
          <a:prstGeom prst="rect">
            <a:avLst/>
          </a:prstGeom>
          <a:ln w="88920">
            <a:solidFill>
              <a:srgbClr val="673c2c"/>
            </a:solidFill>
            <a:miter/>
          </a:ln>
        </p:spPr>
      </p:pic>
      <p:sp>
        <p:nvSpPr>
          <p:cNvPr id="349" name=""/>
          <p:cNvSpPr/>
          <p:nvPr/>
        </p:nvSpPr>
        <p:spPr>
          <a:xfrm>
            <a:off x="6335640" y="4449600"/>
            <a:ext cx="2503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sp>
        <p:nvSpPr>
          <p:cNvPr id="3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Throat anatomy"/>
          <p:cNvPicPr/>
          <p:nvPr/>
        </p:nvPicPr>
        <p:blipFill>
          <a:blip r:embed="rId2"/>
          <a:stretch/>
        </p:blipFill>
        <p:spPr>
          <a:xfrm>
            <a:off x="541440" y="1600200"/>
            <a:ext cx="2514600" cy="2009880"/>
          </a:xfrm>
          <a:prstGeom prst="rect">
            <a:avLst/>
          </a:prstGeom>
          <a:ln w="38160">
            <a:solidFill>
              <a:srgbClr val="a86148"/>
            </a:solidFill>
            <a:miter/>
          </a:ln>
        </p:spPr>
      </p:pic>
      <p:sp>
        <p:nvSpPr>
          <p:cNvPr id="352" name="PlaceHolder 1"/>
          <p:cNvSpPr>
            <a:spLocks noGrp="1"/>
          </p:cNvSpPr>
          <p:nvPr>
            <p:ph type="title"/>
          </p:nvPr>
        </p:nvSpPr>
        <p:spPr>
          <a:xfrm>
            <a:off x="228240" y="3045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 Cough Occurs</a:t>
            </a:r>
            <a:endParaRPr b="0" lang="en-US" sz="4400" spc="-1" strike="noStrike">
              <a:solidFill>
                <a:srgbClr val="000000"/>
              </a:solidFill>
              <a:latin typeface="Times New Roman"/>
            </a:endParaRPr>
          </a:p>
        </p:txBody>
      </p:sp>
      <p:sp>
        <p:nvSpPr>
          <p:cNvPr id="353" name="PlaceHolder 2"/>
          <p:cNvSpPr>
            <a:spLocks noGrp="1"/>
          </p:cNvSpPr>
          <p:nvPr>
            <p:ph/>
          </p:nvPr>
        </p:nvSpPr>
        <p:spPr>
          <a:xfrm>
            <a:off x="4825800" y="1523880"/>
            <a:ext cx="4012920" cy="411480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hase, the inspiratory phase, occurs when a person takes a deep breath.</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ext phase, the compression phase, the glottis closes and the bronchi narrow.</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nal phase, the expulsion phase, the glottis opens and the chest muscles contract forcefully to push air and any mucus out of the lungs.</a:t>
            </a:r>
            <a:endParaRPr b="0" lang="en-US" sz="2400" spc="-1" strike="noStrike">
              <a:solidFill>
                <a:srgbClr val="000000"/>
              </a:solidFill>
              <a:latin typeface="Times New Roman"/>
            </a:endParaRPr>
          </a:p>
        </p:txBody>
      </p:sp>
      <p:sp>
        <p:nvSpPr>
          <p:cNvPr id="354" name=""/>
          <p:cNvSpPr/>
          <p:nvPr/>
        </p:nvSpPr>
        <p:spPr>
          <a:xfrm>
            <a:off x="457200" y="56386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glottis, or vocal fold, can contract and cut off air flow in and out of the lungs.</a:t>
            </a:r>
            <a:endParaRPr b="0" lang="en-US" sz="1800" spc="-1" strike="noStrike">
              <a:solidFill>
                <a:srgbClr val="000000"/>
              </a:solidFill>
              <a:latin typeface="Arial"/>
            </a:endParaRPr>
          </a:p>
        </p:txBody>
      </p:sp>
      <p:sp>
        <p:nvSpPr>
          <p:cNvPr id="355" name=""/>
          <p:cNvSpPr/>
          <p:nvPr/>
        </p:nvSpPr>
        <p:spPr>
          <a:xfrm>
            <a:off x="316080" y="3691080"/>
            <a:ext cx="1589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edlinePlus</a:t>
            </a:r>
            <a:endParaRPr b="0" lang="en-US" sz="1200" spc="-1" strike="noStrike">
              <a:solidFill>
                <a:srgbClr val="000000"/>
              </a:solidFill>
              <a:latin typeface="Arial"/>
            </a:endParaRPr>
          </a:p>
        </p:txBody>
      </p:sp>
      <p:pic>
        <p:nvPicPr>
          <p:cNvPr id="356" name="" descr=""/>
          <p:cNvPicPr/>
          <p:nvPr/>
        </p:nvPicPr>
        <p:blipFill>
          <a:blip r:embed="rId3"/>
          <a:stretch/>
        </p:blipFill>
        <p:spPr>
          <a:xfrm>
            <a:off x="2217600" y="3537000"/>
            <a:ext cx="1671840" cy="1655640"/>
          </a:xfrm>
          <a:prstGeom prst="rect">
            <a:avLst/>
          </a:prstGeom>
          <a:ln w="38160">
            <a:solidFill>
              <a:srgbClr val="a86148"/>
            </a:solidFill>
            <a:miter/>
          </a:ln>
        </p:spPr>
      </p:pic>
      <p:sp>
        <p:nvSpPr>
          <p:cNvPr id="357" name=""/>
          <p:cNvSpPr/>
          <p:nvPr/>
        </p:nvSpPr>
        <p:spPr>
          <a:xfrm>
            <a:off x="2133720" y="5291280"/>
            <a:ext cx="180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peech.llnl.gov</a:t>
            </a:r>
            <a:endParaRPr b="0" lang="en-US" sz="1200" spc="-1" strike="noStrike">
              <a:solidFill>
                <a:srgbClr val="000000"/>
              </a:solidFill>
              <a:latin typeface="Arial"/>
            </a:endParaRPr>
          </a:p>
        </p:txBody>
      </p:sp>
      <p:sp>
        <p:nvSpPr>
          <p:cNvPr id="3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0" y="0"/>
            <a:ext cx="9144000" cy="6858000"/>
          </a:xfrm>
          <a:prstGeom prst="rect">
            <a:avLst/>
          </a:prstGeom>
          <a:ln w="0">
            <a:noFill/>
          </a:ln>
        </p:spPr>
      </p:pic>
      <p:sp>
        <p:nvSpPr>
          <p:cNvPr id="36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36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achers, please click on this link to complete a short survey concerning this module: </a:t>
            </a:r>
            <a:r>
              <a:rPr b="0" lang="en-US" sz="2200" spc="-1" strike="noStrike" u="sng">
                <a:solidFill>
                  <a:srgbClr val="ff0000"/>
                </a:solidFill>
                <a:uFillTx/>
                <a:latin typeface="Times New Roman"/>
                <a:hlinkClick r:id="rId3"/>
              </a:rPr>
              <a:t>http://</a:t>
            </a:r>
            <a:r>
              <a:rPr b="0" lang="en-US" sz="2200" spc="-1" strike="noStrike" u="sng">
                <a:solidFill>
                  <a:srgbClr val="ff0000"/>
                </a:solidFill>
                <a:uFillTx/>
                <a:latin typeface="Times New Roman"/>
                <a:hlinkClick r:id="rId4"/>
              </a:rPr>
              <a:t>peer.tamu.edu/forms/Curricula_Survey.shtml</a:t>
            </a:r>
            <a:r>
              <a:rPr b="0" lang="en-US" sz="2200" spc="-1" strike="noStrike">
                <a:solidFill>
                  <a:srgbClr val="000000"/>
                </a:solidFill>
                <a:latin typeface="Times New Roman"/>
              </a:rPr>
              <a:t>.</a:t>
            </a:r>
            <a:endParaRPr b="0" lang="en-US" sz="2200" spc="-1" strike="noStrike">
              <a:solidFill>
                <a:srgbClr val="000000"/>
              </a:solidFill>
              <a:latin typeface="Arial"/>
            </a:endParaRPr>
          </a:p>
        </p:txBody>
      </p:sp>
      <p:grpSp>
        <p:nvGrpSpPr>
          <p:cNvPr id="363" name=""/>
          <p:cNvGrpSpPr/>
          <p:nvPr/>
        </p:nvGrpSpPr>
        <p:grpSpPr>
          <a:xfrm>
            <a:off x="380880" y="1981080"/>
            <a:ext cx="8570880" cy="4487040"/>
            <a:chOff x="380880" y="1981080"/>
            <a:chExt cx="8570880" cy="4487040"/>
          </a:xfrm>
        </p:grpSpPr>
        <p:pic>
          <p:nvPicPr>
            <p:cNvPr id="364" name="" descr=""/>
            <p:cNvPicPr/>
            <p:nvPr/>
          </p:nvPicPr>
          <p:blipFill>
            <a:blip r:embed="rId5"/>
            <a:stretch/>
          </p:blipFill>
          <p:spPr>
            <a:xfrm>
              <a:off x="380880" y="1986120"/>
              <a:ext cx="1371600" cy="1371600"/>
            </a:xfrm>
            <a:prstGeom prst="rect">
              <a:avLst/>
            </a:prstGeom>
            <a:ln w="0">
              <a:noFill/>
            </a:ln>
          </p:spPr>
        </p:pic>
        <p:pic>
          <p:nvPicPr>
            <p:cNvPr id="365" name="" descr=""/>
            <p:cNvPicPr/>
            <p:nvPr/>
          </p:nvPicPr>
          <p:blipFill>
            <a:blip r:embed="rId6"/>
            <a:stretch/>
          </p:blipFill>
          <p:spPr>
            <a:xfrm>
              <a:off x="380880" y="3510000"/>
              <a:ext cx="1371600" cy="1382760"/>
            </a:xfrm>
            <a:prstGeom prst="rect">
              <a:avLst/>
            </a:prstGeom>
            <a:ln w="0">
              <a:noFill/>
            </a:ln>
          </p:spPr>
        </p:pic>
        <p:pic>
          <p:nvPicPr>
            <p:cNvPr id="366" name="" descr=""/>
            <p:cNvPicPr/>
            <p:nvPr/>
          </p:nvPicPr>
          <p:blipFill>
            <a:blip r:embed="rId7"/>
            <a:stretch/>
          </p:blipFill>
          <p:spPr>
            <a:xfrm>
              <a:off x="380880" y="5033880"/>
              <a:ext cx="1359000" cy="1371600"/>
            </a:xfrm>
            <a:prstGeom prst="rect">
              <a:avLst/>
            </a:prstGeom>
            <a:ln w="0">
              <a:noFill/>
            </a:ln>
          </p:spPr>
        </p:pic>
        <p:pic>
          <p:nvPicPr>
            <p:cNvPr id="367" name="" descr=""/>
            <p:cNvPicPr/>
            <p:nvPr/>
          </p:nvPicPr>
          <p:blipFill>
            <a:blip r:embed="rId8"/>
            <a:stretch/>
          </p:blipFill>
          <p:spPr>
            <a:xfrm>
              <a:off x="4724280" y="3510000"/>
              <a:ext cx="1371600" cy="1382760"/>
            </a:xfrm>
            <a:prstGeom prst="rect">
              <a:avLst/>
            </a:prstGeom>
            <a:ln w="0">
              <a:noFill/>
            </a:ln>
          </p:spPr>
        </p:pic>
        <p:pic>
          <p:nvPicPr>
            <p:cNvPr id="368" name="" descr=""/>
            <p:cNvPicPr/>
            <p:nvPr/>
          </p:nvPicPr>
          <p:blipFill>
            <a:blip r:embed="rId9"/>
            <a:stretch/>
          </p:blipFill>
          <p:spPr>
            <a:xfrm>
              <a:off x="4724280" y="5029200"/>
              <a:ext cx="1371600" cy="1371600"/>
            </a:xfrm>
            <a:prstGeom prst="rect">
              <a:avLst/>
            </a:prstGeom>
            <a:ln w="0">
              <a:noFill/>
            </a:ln>
          </p:spPr>
        </p:pic>
        <p:grpSp>
          <p:nvGrpSpPr>
            <p:cNvPr id="369" name=""/>
            <p:cNvGrpSpPr/>
            <p:nvPr/>
          </p:nvGrpSpPr>
          <p:grpSpPr>
            <a:xfrm>
              <a:off x="4643280" y="1981080"/>
              <a:ext cx="1546560" cy="1371600"/>
              <a:chOff x="4643280" y="1981080"/>
              <a:chExt cx="1546560" cy="1371600"/>
            </a:xfrm>
          </p:grpSpPr>
          <p:sp>
            <p:nvSpPr>
              <p:cNvPr id="37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10"/>
              <a:stretch/>
            </p:blipFill>
            <p:spPr>
              <a:xfrm>
                <a:off x="4643280" y="2170080"/>
                <a:ext cx="1546560" cy="1012680"/>
              </a:xfrm>
              <a:prstGeom prst="rect">
                <a:avLst/>
              </a:prstGeom>
              <a:ln w="0">
                <a:noFill/>
              </a:ln>
            </p:spPr>
          </p:pic>
        </p:grpSp>
        <p:sp>
          <p:nvSpPr>
            <p:cNvPr id="37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basic anatomy and physiology of the respiratory system.</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the mechanics of coughing.</a:t>
            </a:r>
            <a:endParaRPr b="0" lang="en-US" sz="3200" spc="-1" strike="noStrike">
              <a:solidFill>
                <a:srgbClr val="000000"/>
              </a:solidFill>
              <a:latin typeface="Times New Roman"/>
            </a:endParaRPr>
          </a:p>
        </p:txBody>
      </p:sp>
      <p:sp>
        <p:nvSpPr>
          <p:cNvPr id="92" name=""/>
          <p:cNvSpPr/>
          <p:nvPr/>
        </p:nvSpPr>
        <p:spPr>
          <a:xfrm>
            <a:off x="1265400" y="558720"/>
            <a:ext cx="6568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94" name=""/>
          <p:cNvSpPr/>
          <p:nvPr/>
        </p:nvSpPr>
        <p:spPr>
          <a:xfrm>
            <a:off x="1308240" y="2106720"/>
            <a:ext cx="163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hea</a:t>
            </a:r>
            <a:endParaRPr b="0" lang="en-US" sz="3200" spc="-1" strike="noStrike">
              <a:solidFill>
                <a:srgbClr val="000000"/>
              </a:solidFill>
              <a:latin typeface="Arial"/>
            </a:endParaRPr>
          </a:p>
        </p:txBody>
      </p:sp>
      <p:sp>
        <p:nvSpPr>
          <p:cNvPr id="95" name=""/>
          <p:cNvSpPr/>
          <p:nvPr/>
        </p:nvSpPr>
        <p:spPr>
          <a:xfrm>
            <a:off x="693720" y="2894040"/>
            <a:ext cx="4111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hea is a flexible windpipe that connects the larynx to the bronchi.  The trachea is lined with mucus and tiny hairs that act to trap and remove debris from the respiratory tract.</a:t>
            </a:r>
            <a:endParaRPr b="0" lang="en-US" sz="2800" spc="-1" strike="noStrike">
              <a:solidFill>
                <a:srgbClr val="000000"/>
              </a:solidFill>
              <a:latin typeface="Arial"/>
            </a:endParaRPr>
          </a:p>
        </p:txBody>
      </p:sp>
      <p:sp>
        <p:nvSpPr>
          <p:cNvPr id="96"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27"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 name=""/>
          <p:cNvSpPr/>
          <p:nvPr/>
        </p:nvSpPr>
        <p:spPr>
          <a:xfrm>
            <a:off x="2967120" y="2463840"/>
            <a:ext cx="3560760" cy="13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par>
                                <p:cTn id="8" nodeType="withEffect" fill="hold" presetClass="entr" presetID="9">
                                  <p:stCondLst>
                                    <p:cond delay="0"/>
                                  </p:stCondLst>
                                  <p:childTnLst>
                                    <p:set>
                                      <p:cBhvr>
                                        <p:cTn id="9" dur="1" fill="hold">
                                          <p:stCondLst>
                                            <p:cond delay="0"/>
                                          </p:stCondLst>
                                        </p:cTn>
                                        <p:tgtEl>
                                          <p:spTgt spid="130"/>
                                        </p:tgtEl>
                                        <p:attrNameLst>
                                          <p:attrName>style.visibility</p:attrName>
                                        </p:attrNameLst>
                                      </p:cBhvr>
                                      <p:to>
                                        <p:strVal val="visible"/>
                                      </p:to>
                                    </p:set>
                                    <p:animEffect filter="dissolve" transition="in">
                                      <p:cBhvr additive="repl">
                                        <p:cTn id="10" dur="500"/>
                                        <p:tgtEl>
                                          <p:spTgt spid="13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95"/>
                                        </p:tgtEl>
                                        <p:attrNameLst>
                                          <p:attrName>style.visibility</p:attrName>
                                        </p:attrNameLst>
                                      </p:cBhvr>
                                      <p:to>
                                        <p:strVal val="visible"/>
                                      </p:to>
                                    </p:set>
                                    <p:animEffect filter="dissolve" transition="in">
                                      <p:cBhvr additive="repl">
                                        <p:cTn id="1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32" name=""/>
          <p:cNvSpPr/>
          <p:nvPr/>
        </p:nvSpPr>
        <p:spPr>
          <a:xfrm>
            <a:off x="1022400" y="2270160"/>
            <a:ext cx="178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ngs</a:t>
            </a:r>
            <a:endParaRPr b="0" lang="en-US" sz="3200" spc="-1" strike="noStrike">
              <a:solidFill>
                <a:srgbClr val="000000"/>
              </a:solidFill>
              <a:latin typeface="Arial"/>
            </a:endParaRPr>
          </a:p>
        </p:txBody>
      </p:sp>
      <p:sp>
        <p:nvSpPr>
          <p:cNvPr id="133" name=""/>
          <p:cNvSpPr/>
          <p:nvPr/>
        </p:nvSpPr>
        <p:spPr>
          <a:xfrm>
            <a:off x="453960" y="2940120"/>
            <a:ext cx="3679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ungs conta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twig-like airways called bronchioles. At the end of these are tiny air sacs called alveoli. This is where gas exchange occurs.</a:t>
            </a:r>
            <a:endParaRPr b="0" lang="en-US" sz="2800" spc="-1" strike="noStrike">
              <a:solidFill>
                <a:srgbClr val="000000"/>
              </a:solidFill>
              <a:latin typeface="Arial"/>
            </a:endParaRPr>
          </a:p>
        </p:txBody>
      </p:sp>
      <p:sp>
        <p:nvSpPr>
          <p:cNvPr id="134"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5"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8" name=""/>
          <p:cNvSpPr/>
          <p:nvPr/>
        </p:nvSpPr>
        <p:spPr>
          <a:xfrm>
            <a:off x="2273400" y="2592360"/>
            <a:ext cx="4599000" cy="179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289240" y="2620800"/>
            <a:ext cx="379728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par>
                                <p:cTn id="23" nodeType="withEffect" fill="hold" presetClass="entr" presetID="9">
                                  <p:stCondLst>
                                    <p:cond delay="0"/>
                                  </p:stCondLst>
                                  <p:childTnLst>
                                    <p:set>
                                      <p:cBhvr>
                                        <p:cTn id="24" dur="1" fill="hold">
                                          <p:stCondLst>
                                            <p:cond delay="0"/>
                                          </p:stCondLst>
                                        </p:cTn>
                                        <p:tgtEl>
                                          <p:spTgt spid="169"/>
                                        </p:tgtEl>
                                        <p:attrNameLst>
                                          <p:attrName>style.visibility</p:attrName>
                                        </p:attrNameLst>
                                      </p:cBhvr>
                                      <p:to>
                                        <p:strVal val="visible"/>
                                      </p:to>
                                    </p:set>
                                    <p:animEffect filter="dissolve" transition="in">
                                      <p:cBhvr additive="repl">
                                        <p:cTn id="25" dur="500"/>
                                        <p:tgtEl>
                                          <p:spTgt spid="169"/>
                                        </p:tgtEl>
                                      </p:cBhvr>
                                    </p:animEffect>
                                  </p:childTnLst>
                                </p:cTn>
                              </p:par>
                              <p:par>
                                <p:cTn id="26" nodeType="withEffect" fill="hold" presetClass="entr" presetID="9">
                                  <p:stCondLst>
                                    <p:cond delay="0"/>
                                  </p:stCondLst>
                                  <p:childTnLst>
                                    <p:set>
                                      <p:cBhvr>
                                        <p:cTn id="27" dur="1" fill="hold">
                                          <p:stCondLst>
                                            <p:cond delay="0"/>
                                          </p:stCondLst>
                                        </p:cTn>
                                        <p:tgtEl>
                                          <p:spTgt spid="168"/>
                                        </p:tgtEl>
                                        <p:attrNameLst>
                                          <p:attrName>style.visibility</p:attrName>
                                        </p:attrNameLst>
                                      </p:cBhvr>
                                      <p:to>
                                        <p:strVal val="visible"/>
                                      </p:to>
                                    </p:set>
                                    <p:animEffect filter="dissolve"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33"/>
                                        </p:tgtEl>
                                        <p:attrNameLst>
                                          <p:attrName>style.visibility</p:attrName>
                                        </p:attrNameLst>
                                      </p:cBhvr>
                                      <p:to>
                                        <p:strVal val="visible"/>
                                      </p:to>
                                    </p:set>
                                    <p:animEffect filter="dissolve" transition="in">
                                      <p:cBhvr additive="repl">
                                        <p:cTn id="3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171" name=""/>
          <p:cNvSpPr/>
          <p:nvPr/>
        </p:nvSpPr>
        <p:spPr>
          <a:xfrm>
            <a:off x="738360" y="3044880"/>
            <a:ext cx="3657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onchi are the main airways into the lungs.  Each bronchi is divided into smaller airways called bronchiol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2" name=""/>
          <p:cNvSpPr/>
          <p:nvPr/>
        </p:nvSpPr>
        <p:spPr>
          <a:xfrm>
            <a:off x="1148400" y="220968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nchi</a:t>
            </a:r>
            <a:endParaRPr b="0" lang="en-US" sz="3200" spc="-1" strike="noStrike">
              <a:solidFill>
                <a:srgbClr val="000000"/>
              </a:solidFill>
              <a:latin typeface="Arial"/>
            </a:endParaRPr>
          </a:p>
        </p:txBody>
      </p:sp>
      <p:sp>
        <p:nvSpPr>
          <p:cNvPr id="173"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4"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2844720" y="2579760"/>
            <a:ext cx="3863880" cy="194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9">
                                  <p:stCondLst>
                                    <p:cond delay="0"/>
                                  </p:stCondLst>
                                  <p:childTnLst>
                                    <p:set>
                                      <p:cBhvr>
                                        <p:cTn id="39" dur="1" fill="hold">
                                          <p:stCondLst>
                                            <p:cond delay="0"/>
                                          </p:stCondLst>
                                        </p:cTn>
                                        <p:tgtEl>
                                          <p:spTgt spid="172"/>
                                        </p:tgtEl>
                                        <p:attrNameLst>
                                          <p:attrName>style.visibility</p:attrName>
                                        </p:attrNameLst>
                                      </p:cBhvr>
                                      <p:to>
                                        <p:strVal val="visible"/>
                                      </p:to>
                                    </p:set>
                                    <p:animEffect filter="dissolve" transition="in">
                                      <p:cBhvr additive="repl">
                                        <p:cTn id="40" dur="500"/>
                                        <p:tgtEl>
                                          <p:spTgt spid="172"/>
                                        </p:tgtEl>
                                      </p:cBhvr>
                                    </p:animEffect>
                                  </p:childTnLst>
                                </p:cTn>
                              </p:par>
                              <p:par>
                                <p:cTn id="41" nodeType="withEffect" fill="hold" presetClass="entr" presetID="9">
                                  <p:stCondLst>
                                    <p:cond delay="0"/>
                                  </p:stCondLst>
                                  <p:childTnLst>
                                    <p:set>
                                      <p:cBhvr>
                                        <p:cTn id="42" dur="1" fill="hold">
                                          <p:stCondLst>
                                            <p:cond delay="0"/>
                                          </p:stCondLst>
                                        </p:cTn>
                                        <p:tgtEl>
                                          <p:spTgt spid="207"/>
                                        </p:tgtEl>
                                        <p:attrNameLst>
                                          <p:attrName>style.visibility</p:attrName>
                                        </p:attrNameLst>
                                      </p:cBhvr>
                                      <p:to>
                                        <p:strVal val="visible"/>
                                      </p:to>
                                    </p:set>
                                    <p:animEffect filter="dissolve" transition="in">
                                      <p:cBhvr additive="repl">
                                        <p:cTn id="43" dur="500"/>
                                        <p:tgtEl>
                                          <p:spTgt spid="207"/>
                                        </p:tgtEl>
                                      </p:cBhvr>
                                    </p:animEffect>
                                  </p:childTnLst>
                                </p:cTn>
                              </p:par>
                              <p:par>
                                <p:cTn id="44" nodeType="withEffect" fill="hold" presetClass="entr" presetID="9">
                                  <p:stCondLst>
                                    <p:cond delay="0"/>
                                  </p:stCondLst>
                                  <p:childTnLst>
                                    <p:set>
                                      <p:cBhvr>
                                        <p:cTn id="45" dur="1" fill="hold">
                                          <p:stCondLst>
                                            <p:cond delay="0"/>
                                          </p:stCondLst>
                                        </p:cTn>
                                        <p:tgtEl>
                                          <p:spTgt spid="171"/>
                                        </p:tgtEl>
                                        <p:attrNameLst>
                                          <p:attrName>style.visibility</p:attrName>
                                        </p:attrNameLst>
                                      </p:cBhvr>
                                      <p:to>
                                        <p:strVal val="visible"/>
                                      </p:to>
                                    </p:set>
                                    <p:animEffect filter="dissolve" transition="in">
                                      <p:cBhvr additive="repl">
                                        <p:cTn id="4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the Respiratory System</a:t>
            </a:r>
            <a:endParaRPr b="0" lang="en-US" sz="4400" spc="-1" strike="noStrike">
              <a:solidFill>
                <a:srgbClr val="000000"/>
              </a:solidFill>
              <a:latin typeface="Times New Roman"/>
            </a:endParaRPr>
          </a:p>
        </p:txBody>
      </p:sp>
      <p:sp>
        <p:nvSpPr>
          <p:cNvPr id="209" name=""/>
          <p:cNvSpPr/>
          <p:nvPr/>
        </p:nvSpPr>
        <p:spPr>
          <a:xfrm>
            <a:off x="739440" y="141588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phragm</a:t>
            </a:r>
            <a:endParaRPr b="0" lang="en-US" sz="3200" spc="-1" strike="noStrike">
              <a:solidFill>
                <a:srgbClr val="000000"/>
              </a:solidFill>
              <a:latin typeface="Arial"/>
            </a:endParaRPr>
          </a:p>
        </p:txBody>
      </p:sp>
      <p:sp>
        <p:nvSpPr>
          <p:cNvPr id="210" name=""/>
          <p:cNvSpPr/>
          <p:nvPr/>
        </p:nvSpPr>
        <p:spPr>
          <a:xfrm>
            <a:off x="527040" y="2232000"/>
            <a:ext cx="475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s the che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ity from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dominal cavity.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the in, the muscle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phragm contract causing air to be sucked into the lungs. When the diaphragm relaxes, air is forced out of the lungs.</a:t>
            </a:r>
            <a:endParaRPr b="0" lang="en-US" sz="2800" spc="-1" strike="noStrike">
              <a:solidFill>
                <a:srgbClr val="000000"/>
              </a:solidFill>
              <a:latin typeface="Arial"/>
            </a:endParaRPr>
          </a:p>
        </p:txBody>
      </p:sp>
      <p:sp>
        <p:nvSpPr>
          <p:cNvPr id="211" name=""/>
          <p:cNvSpPr/>
          <p:nvPr/>
        </p:nvSpPr>
        <p:spPr>
          <a:xfrm>
            <a:off x="5576760" y="1600200"/>
            <a:ext cx="2046240" cy="4262400"/>
          </a:xfrm>
          <a:custGeom>
            <a:avLst/>
            <a:gdLst/>
            <a:ahLst/>
            <a:rect l="l" t="t" r="r" b="b"/>
            <a:pathLst>
              <a:path w="1289" h="2685">
                <a:moveTo>
                  <a:pt x="134" y="1000"/>
                </a:moveTo>
                <a:lnTo>
                  <a:pt x="138" y="1124"/>
                </a:lnTo>
                <a:lnTo>
                  <a:pt x="170" y="1152"/>
                </a:lnTo>
                <a:lnTo>
                  <a:pt x="266" y="1136"/>
                </a:lnTo>
                <a:lnTo>
                  <a:pt x="374" y="1120"/>
                </a:lnTo>
                <a:cubicBezTo>
                  <a:pt x="402" y="1117"/>
                  <a:pt x="420" y="1117"/>
                  <a:pt x="436" y="1119"/>
                </a:cubicBezTo>
                <a:cubicBezTo>
                  <a:pt x="463" y="1127"/>
                  <a:pt x="460" y="1129"/>
                  <a:pt x="468" y="1133"/>
                </a:cubicBezTo>
                <a:cubicBezTo>
                  <a:pt x="468" y="1133"/>
                  <a:pt x="481" y="1140"/>
                  <a:pt x="494" y="1151"/>
                </a:cubicBezTo>
                <a:cubicBezTo>
                  <a:pt x="507" y="1162"/>
                  <a:pt x="492" y="1144"/>
                  <a:pt x="504" y="1163"/>
                </a:cubicBezTo>
                <a:cubicBezTo>
                  <a:pt x="516" y="1182"/>
                  <a:pt x="512" y="1178"/>
                  <a:pt x="516" y="1186"/>
                </a:cubicBezTo>
                <a:lnTo>
                  <a:pt x="530" y="1210"/>
                </a:lnTo>
                <a:lnTo>
                  <a:pt x="536" y="1242"/>
                </a:lnTo>
                <a:cubicBezTo>
                  <a:pt x="537" y="1253"/>
                  <a:pt x="536" y="1267"/>
                  <a:pt x="534" y="1276"/>
                </a:cubicBezTo>
                <a:cubicBezTo>
                  <a:pt x="532" y="1285"/>
                  <a:pt x="528" y="1289"/>
                  <a:pt x="525" y="1294"/>
                </a:cubicBezTo>
                <a:cubicBezTo>
                  <a:pt x="522" y="1299"/>
                  <a:pt x="517" y="1302"/>
                  <a:pt x="513" y="1305"/>
                </a:cubicBezTo>
                <a:cubicBezTo>
                  <a:pt x="509" y="1308"/>
                  <a:pt x="501" y="1313"/>
                  <a:pt x="501" y="1313"/>
                </a:cubicBezTo>
                <a:cubicBezTo>
                  <a:pt x="501" y="1313"/>
                  <a:pt x="494" y="1318"/>
                  <a:pt x="490" y="1321"/>
                </a:cubicBezTo>
                <a:cubicBezTo>
                  <a:pt x="486" y="1324"/>
                  <a:pt x="481" y="1328"/>
                  <a:pt x="476" y="1329"/>
                </a:cubicBezTo>
                <a:cubicBezTo>
                  <a:pt x="471" y="1330"/>
                  <a:pt x="467" y="1330"/>
                  <a:pt x="460" y="1330"/>
                </a:cubicBezTo>
                <a:lnTo>
                  <a:pt x="432" y="1331"/>
                </a:lnTo>
                <a:cubicBezTo>
                  <a:pt x="386" y="1345"/>
                  <a:pt x="232" y="1328"/>
                  <a:pt x="181" y="1412"/>
                </a:cubicBezTo>
                <a:cubicBezTo>
                  <a:pt x="104" y="1511"/>
                  <a:pt x="135" y="1655"/>
                  <a:pt x="127" y="1838"/>
                </a:cubicBezTo>
                <a:cubicBezTo>
                  <a:pt x="119" y="2021"/>
                  <a:pt x="135" y="2370"/>
                  <a:pt x="134" y="2508"/>
                </a:cubicBezTo>
                <a:lnTo>
                  <a:pt x="123" y="2668"/>
                </a:lnTo>
                <a:cubicBezTo>
                  <a:pt x="279" y="2674"/>
                  <a:pt x="471" y="2662"/>
                  <a:pt x="721" y="2668"/>
                </a:cubicBezTo>
                <a:cubicBezTo>
                  <a:pt x="971" y="2674"/>
                  <a:pt x="1121" y="2685"/>
                  <a:pt x="1289" y="2673"/>
                </a:cubicBezTo>
                <a:cubicBezTo>
                  <a:pt x="1289" y="2481"/>
                  <a:pt x="1285" y="2488"/>
                  <a:pt x="1274" y="2288"/>
                </a:cubicBezTo>
                <a:lnTo>
                  <a:pt x="1256" y="1641"/>
                </a:lnTo>
                <a:cubicBezTo>
                  <a:pt x="1250" y="1512"/>
                  <a:pt x="1243" y="1530"/>
                  <a:pt x="1235" y="1516"/>
                </a:cubicBezTo>
                <a:cubicBezTo>
                  <a:pt x="1227" y="1502"/>
                  <a:pt x="1208" y="1494"/>
                  <a:pt x="1193" y="1487"/>
                </a:cubicBezTo>
                <a:cubicBezTo>
                  <a:pt x="1178" y="1480"/>
                  <a:pt x="1159" y="1478"/>
                  <a:pt x="1144" y="1473"/>
                </a:cubicBezTo>
                <a:lnTo>
                  <a:pt x="1100" y="1454"/>
                </a:lnTo>
                <a:lnTo>
                  <a:pt x="1079" y="1434"/>
                </a:lnTo>
                <a:lnTo>
                  <a:pt x="1062" y="1411"/>
                </a:lnTo>
                <a:lnTo>
                  <a:pt x="1049" y="1388"/>
                </a:lnTo>
                <a:lnTo>
                  <a:pt x="1041" y="1355"/>
                </a:lnTo>
                <a:lnTo>
                  <a:pt x="1037" y="1328"/>
                </a:lnTo>
                <a:lnTo>
                  <a:pt x="1037" y="509"/>
                </a:lnTo>
                <a:lnTo>
                  <a:pt x="1035" y="459"/>
                </a:lnTo>
                <a:lnTo>
                  <a:pt x="1030" y="408"/>
                </a:lnTo>
                <a:lnTo>
                  <a:pt x="1016" y="360"/>
                </a:lnTo>
                <a:lnTo>
                  <a:pt x="1005" y="311"/>
                </a:lnTo>
                <a:lnTo>
                  <a:pt x="982" y="270"/>
                </a:lnTo>
                <a:lnTo>
                  <a:pt x="958" y="226"/>
                </a:lnTo>
                <a:lnTo>
                  <a:pt x="935" y="187"/>
                </a:lnTo>
                <a:lnTo>
                  <a:pt x="905" y="152"/>
                </a:lnTo>
                <a:lnTo>
                  <a:pt x="871" y="118"/>
                </a:lnTo>
                <a:lnTo>
                  <a:pt x="835" y="85"/>
                </a:lnTo>
                <a:lnTo>
                  <a:pt x="797" y="60"/>
                </a:lnTo>
                <a:lnTo>
                  <a:pt x="757" y="39"/>
                </a:lnTo>
                <a:lnTo>
                  <a:pt x="717" y="23"/>
                </a:lnTo>
                <a:lnTo>
                  <a:pt x="672" y="7"/>
                </a:lnTo>
                <a:lnTo>
                  <a:pt x="628" y="2"/>
                </a:lnTo>
                <a:lnTo>
                  <a:pt x="579" y="0"/>
                </a:lnTo>
                <a:lnTo>
                  <a:pt x="513" y="5"/>
                </a:lnTo>
                <a:lnTo>
                  <a:pt x="452" y="21"/>
                </a:lnTo>
                <a:lnTo>
                  <a:pt x="392" y="44"/>
                </a:lnTo>
                <a:lnTo>
                  <a:pt x="335" y="78"/>
                </a:lnTo>
                <a:lnTo>
                  <a:pt x="288" y="118"/>
                </a:lnTo>
                <a:lnTo>
                  <a:pt x="242" y="166"/>
                </a:lnTo>
                <a:lnTo>
                  <a:pt x="204" y="219"/>
                </a:lnTo>
                <a:lnTo>
                  <a:pt x="170" y="281"/>
                </a:lnTo>
                <a:lnTo>
                  <a:pt x="165" y="295"/>
                </a:lnTo>
                <a:lnTo>
                  <a:pt x="161" y="313"/>
                </a:lnTo>
                <a:lnTo>
                  <a:pt x="151" y="332"/>
                </a:lnTo>
                <a:lnTo>
                  <a:pt x="146" y="346"/>
                </a:lnTo>
                <a:lnTo>
                  <a:pt x="0" y="705"/>
                </a:lnTo>
                <a:lnTo>
                  <a:pt x="127" y="761"/>
                </a:lnTo>
                <a:lnTo>
                  <a:pt x="127" y="885"/>
                </a:lnTo>
                <a:lnTo>
                  <a:pt x="130" y="947"/>
                </a:lnTo>
                <a:lnTo>
                  <a:pt x="203" y="953"/>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637240" y="2438280"/>
            <a:ext cx="1131840" cy="1768680"/>
          </a:xfrm>
          <a:custGeom>
            <a:avLst/>
            <a:gdLst/>
            <a:ahLst/>
            <a:rect l="l" t="t" r="r" b="b"/>
            <a:pathLst>
              <a:path w="713" h="1114">
                <a:moveTo>
                  <a:pt x="615" y="876"/>
                </a:moveTo>
                <a:cubicBezTo>
                  <a:pt x="599" y="748"/>
                  <a:pt x="588" y="345"/>
                  <a:pt x="565" y="216"/>
                </a:cubicBezTo>
                <a:cubicBezTo>
                  <a:pt x="542" y="87"/>
                  <a:pt x="513" y="113"/>
                  <a:pt x="475" y="100"/>
                </a:cubicBezTo>
                <a:cubicBezTo>
                  <a:pt x="437" y="87"/>
                  <a:pt x="378" y="127"/>
                  <a:pt x="337" y="138"/>
                </a:cubicBezTo>
                <a:cubicBezTo>
                  <a:pt x="296" y="149"/>
                  <a:pt x="247" y="163"/>
                  <a:pt x="229" y="168"/>
                </a:cubicBezTo>
                <a:cubicBezTo>
                  <a:pt x="211" y="173"/>
                  <a:pt x="252" y="160"/>
                  <a:pt x="229" y="168"/>
                </a:cubicBezTo>
                <a:cubicBezTo>
                  <a:pt x="206" y="176"/>
                  <a:pt x="122" y="218"/>
                  <a:pt x="93" y="214"/>
                </a:cubicBezTo>
                <a:cubicBezTo>
                  <a:pt x="64" y="210"/>
                  <a:pt x="0" y="178"/>
                  <a:pt x="55" y="146"/>
                </a:cubicBezTo>
                <a:cubicBezTo>
                  <a:pt x="110" y="114"/>
                  <a:pt x="336" y="44"/>
                  <a:pt x="421" y="24"/>
                </a:cubicBezTo>
                <a:cubicBezTo>
                  <a:pt x="506" y="4"/>
                  <a:pt x="525" y="0"/>
                  <a:pt x="565" y="24"/>
                </a:cubicBezTo>
                <a:cubicBezTo>
                  <a:pt x="605" y="48"/>
                  <a:pt x="636" y="9"/>
                  <a:pt x="661" y="168"/>
                </a:cubicBezTo>
                <a:cubicBezTo>
                  <a:pt x="686" y="327"/>
                  <a:pt x="713" y="842"/>
                  <a:pt x="713" y="978"/>
                </a:cubicBezTo>
                <a:cubicBezTo>
                  <a:pt x="713" y="1114"/>
                  <a:pt x="677" y="1001"/>
                  <a:pt x="661" y="984"/>
                </a:cubicBezTo>
                <a:cubicBezTo>
                  <a:pt x="645" y="967"/>
                  <a:pt x="631" y="1004"/>
                  <a:pt x="615" y="876"/>
                </a:cubicBezTo>
                <a:close/>
              </a:path>
            </a:pathLst>
          </a:custGeom>
          <a:solidFill>
            <a:srgbClr val="ffff99"/>
          </a:solidFill>
          <a:ln w="4428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870600" y="4257720"/>
            <a:ext cx="600120" cy="1338120"/>
          </a:xfrm>
          <a:custGeom>
            <a:avLst/>
            <a:gdLst/>
            <a:ahLst/>
            <a:rect l="l" t="t" r="r" b="b"/>
            <a:pathLst>
              <a:path w="754" h="1686">
                <a:moveTo>
                  <a:pt x="62" y="411"/>
                </a:moveTo>
                <a:lnTo>
                  <a:pt x="62" y="410"/>
                </a:lnTo>
                <a:lnTo>
                  <a:pt x="63" y="406"/>
                </a:lnTo>
                <a:lnTo>
                  <a:pt x="63" y="405"/>
                </a:lnTo>
                <a:lnTo>
                  <a:pt x="65" y="401"/>
                </a:lnTo>
                <a:lnTo>
                  <a:pt x="67" y="398"/>
                </a:lnTo>
                <a:lnTo>
                  <a:pt x="68" y="395"/>
                </a:lnTo>
                <a:lnTo>
                  <a:pt x="70" y="388"/>
                </a:lnTo>
                <a:lnTo>
                  <a:pt x="72" y="383"/>
                </a:lnTo>
                <a:lnTo>
                  <a:pt x="73" y="379"/>
                </a:lnTo>
                <a:lnTo>
                  <a:pt x="76" y="374"/>
                </a:lnTo>
                <a:lnTo>
                  <a:pt x="78" y="367"/>
                </a:lnTo>
                <a:lnTo>
                  <a:pt x="81" y="361"/>
                </a:lnTo>
                <a:lnTo>
                  <a:pt x="85" y="354"/>
                </a:lnTo>
                <a:lnTo>
                  <a:pt x="88" y="348"/>
                </a:lnTo>
                <a:lnTo>
                  <a:pt x="91" y="339"/>
                </a:lnTo>
                <a:lnTo>
                  <a:pt x="94" y="331"/>
                </a:lnTo>
                <a:lnTo>
                  <a:pt x="96" y="325"/>
                </a:lnTo>
                <a:lnTo>
                  <a:pt x="101" y="317"/>
                </a:lnTo>
                <a:lnTo>
                  <a:pt x="104" y="308"/>
                </a:lnTo>
                <a:lnTo>
                  <a:pt x="107" y="300"/>
                </a:lnTo>
                <a:lnTo>
                  <a:pt x="112" y="290"/>
                </a:lnTo>
                <a:lnTo>
                  <a:pt x="116" y="282"/>
                </a:lnTo>
                <a:lnTo>
                  <a:pt x="120" y="274"/>
                </a:lnTo>
                <a:lnTo>
                  <a:pt x="124" y="264"/>
                </a:lnTo>
                <a:lnTo>
                  <a:pt x="129" y="255"/>
                </a:lnTo>
                <a:lnTo>
                  <a:pt x="133" y="246"/>
                </a:lnTo>
                <a:lnTo>
                  <a:pt x="138" y="237"/>
                </a:lnTo>
                <a:lnTo>
                  <a:pt x="143" y="227"/>
                </a:lnTo>
                <a:lnTo>
                  <a:pt x="148" y="217"/>
                </a:lnTo>
                <a:lnTo>
                  <a:pt x="153" y="209"/>
                </a:lnTo>
                <a:lnTo>
                  <a:pt x="158" y="199"/>
                </a:lnTo>
                <a:lnTo>
                  <a:pt x="163" y="188"/>
                </a:lnTo>
                <a:lnTo>
                  <a:pt x="168" y="178"/>
                </a:lnTo>
                <a:lnTo>
                  <a:pt x="173" y="170"/>
                </a:lnTo>
                <a:lnTo>
                  <a:pt x="177" y="160"/>
                </a:lnTo>
                <a:lnTo>
                  <a:pt x="182" y="150"/>
                </a:lnTo>
                <a:lnTo>
                  <a:pt x="189" y="140"/>
                </a:lnTo>
                <a:lnTo>
                  <a:pt x="194" y="132"/>
                </a:lnTo>
                <a:lnTo>
                  <a:pt x="200" y="123"/>
                </a:lnTo>
                <a:lnTo>
                  <a:pt x="205" y="114"/>
                </a:lnTo>
                <a:lnTo>
                  <a:pt x="210" y="106"/>
                </a:lnTo>
                <a:lnTo>
                  <a:pt x="217" y="98"/>
                </a:lnTo>
                <a:lnTo>
                  <a:pt x="221" y="88"/>
                </a:lnTo>
                <a:lnTo>
                  <a:pt x="228" y="82"/>
                </a:lnTo>
                <a:lnTo>
                  <a:pt x="235" y="74"/>
                </a:lnTo>
                <a:lnTo>
                  <a:pt x="239" y="67"/>
                </a:lnTo>
                <a:lnTo>
                  <a:pt x="244" y="59"/>
                </a:lnTo>
                <a:lnTo>
                  <a:pt x="251" y="52"/>
                </a:lnTo>
                <a:lnTo>
                  <a:pt x="256" y="46"/>
                </a:lnTo>
                <a:lnTo>
                  <a:pt x="262" y="39"/>
                </a:lnTo>
                <a:lnTo>
                  <a:pt x="267" y="34"/>
                </a:lnTo>
                <a:lnTo>
                  <a:pt x="274" y="28"/>
                </a:lnTo>
                <a:lnTo>
                  <a:pt x="279" y="23"/>
                </a:lnTo>
                <a:lnTo>
                  <a:pt x="285" y="20"/>
                </a:lnTo>
                <a:lnTo>
                  <a:pt x="290" y="15"/>
                </a:lnTo>
                <a:lnTo>
                  <a:pt x="296" y="12"/>
                </a:lnTo>
                <a:lnTo>
                  <a:pt x="301" y="7"/>
                </a:lnTo>
                <a:lnTo>
                  <a:pt x="308" y="5"/>
                </a:lnTo>
                <a:lnTo>
                  <a:pt x="313" y="3"/>
                </a:lnTo>
                <a:lnTo>
                  <a:pt x="319" y="2"/>
                </a:lnTo>
                <a:lnTo>
                  <a:pt x="324" y="0"/>
                </a:lnTo>
                <a:lnTo>
                  <a:pt x="331" y="0"/>
                </a:lnTo>
                <a:lnTo>
                  <a:pt x="336" y="0"/>
                </a:lnTo>
                <a:lnTo>
                  <a:pt x="340" y="0"/>
                </a:lnTo>
                <a:lnTo>
                  <a:pt x="345" y="0"/>
                </a:lnTo>
                <a:lnTo>
                  <a:pt x="350" y="2"/>
                </a:lnTo>
                <a:lnTo>
                  <a:pt x="355" y="3"/>
                </a:lnTo>
                <a:lnTo>
                  <a:pt x="360" y="5"/>
                </a:lnTo>
                <a:lnTo>
                  <a:pt x="367" y="7"/>
                </a:lnTo>
                <a:lnTo>
                  <a:pt x="371" y="10"/>
                </a:lnTo>
                <a:lnTo>
                  <a:pt x="376" y="13"/>
                </a:lnTo>
                <a:lnTo>
                  <a:pt x="380" y="17"/>
                </a:lnTo>
                <a:lnTo>
                  <a:pt x="384" y="20"/>
                </a:lnTo>
                <a:lnTo>
                  <a:pt x="389" y="25"/>
                </a:lnTo>
                <a:lnTo>
                  <a:pt x="394" y="28"/>
                </a:lnTo>
                <a:lnTo>
                  <a:pt x="399" y="33"/>
                </a:lnTo>
                <a:lnTo>
                  <a:pt x="404" y="38"/>
                </a:lnTo>
                <a:lnTo>
                  <a:pt x="409" y="44"/>
                </a:lnTo>
                <a:lnTo>
                  <a:pt x="414" y="48"/>
                </a:lnTo>
                <a:lnTo>
                  <a:pt x="417" y="54"/>
                </a:lnTo>
                <a:lnTo>
                  <a:pt x="422" y="59"/>
                </a:lnTo>
                <a:lnTo>
                  <a:pt x="427" y="65"/>
                </a:lnTo>
                <a:lnTo>
                  <a:pt x="430" y="72"/>
                </a:lnTo>
                <a:lnTo>
                  <a:pt x="435" y="77"/>
                </a:lnTo>
                <a:lnTo>
                  <a:pt x="438" y="83"/>
                </a:lnTo>
                <a:lnTo>
                  <a:pt x="443" y="92"/>
                </a:lnTo>
                <a:lnTo>
                  <a:pt x="446" y="96"/>
                </a:lnTo>
                <a:lnTo>
                  <a:pt x="451" y="105"/>
                </a:lnTo>
                <a:lnTo>
                  <a:pt x="455" y="111"/>
                </a:lnTo>
                <a:lnTo>
                  <a:pt x="458" y="118"/>
                </a:lnTo>
                <a:lnTo>
                  <a:pt x="461" y="124"/>
                </a:lnTo>
                <a:lnTo>
                  <a:pt x="466" y="132"/>
                </a:lnTo>
                <a:lnTo>
                  <a:pt x="469" y="139"/>
                </a:lnTo>
                <a:lnTo>
                  <a:pt x="474" y="147"/>
                </a:lnTo>
                <a:lnTo>
                  <a:pt x="476" y="154"/>
                </a:lnTo>
                <a:lnTo>
                  <a:pt x="479" y="160"/>
                </a:lnTo>
                <a:lnTo>
                  <a:pt x="482" y="167"/>
                </a:lnTo>
                <a:lnTo>
                  <a:pt x="485" y="175"/>
                </a:lnTo>
                <a:lnTo>
                  <a:pt x="489" y="181"/>
                </a:lnTo>
                <a:lnTo>
                  <a:pt x="492" y="188"/>
                </a:lnTo>
                <a:lnTo>
                  <a:pt x="494" y="194"/>
                </a:lnTo>
                <a:lnTo>
                  <a:pt x="497" y="201"/>
                </a:lnTo>
                <a:lnTo>
                  <a:pt x="499" y="207"/>
                </a:lnTo>
                <a:lnTo>
                  <a:pt x="502" y="214"/>
                </a:lnTo>
                <a:lnTo>
                  <a:pt x="505" y="219"/>
                </a:lnTo>
                <a:lnTo>
                  <a:pt x="507" y="225"/>
                </a:lnTo>
                <a:lnTo>
                  <a:pt x="510" y="232"/>
                </a:lnTo>
                <a:lnTo>
                  <a:pt x="512" y="238"/>
                </a:lnTo>
                <a:lnTo>
                  <a:pt x="513" y="243"/>
                </a:lnTo>
                <a:lnTo>
                  <a:pt x="516" y="250"/>
                </a:lnTo>
                <a:lnTo>
                  <a:pt x="518" y="255"/>
                </a:lnTo>
                <a:lnTo>
                  <a:pt x="520" y="260"/>
                </a:lnTo>
                <a:lnTo>
                  <a:pt x="520" y="264"/>
                </a:lnTo>
                <a:lnTo>
                  <a:pt x="523" y="269"/>
                </a:lnTo>
                <a:lnTo>
                  <a:pt x="523" y="273"/>
                </a:lnTo>
                <a:lnTo>
                  <a:pt x="525" y="277"/>
                </a:lnTo>
                <a:lnTo>
                  <a:pt x="526" y="281"/>
                </a:lnTo>
                <a:lnTo>
                  <a:pt x="528" y="284"/>
                </a:lnTo>
                <a:lnTo>
                  <a:pt x="529" y="290"/>
                </a:lnTo>
                <a:lnTo>
                  <a:pt x="531" y="294"/>
                </a:lnTo>
                <a:lnTo>
                  <a:pt x="531" y="297"/>
                </a:lnTo>
                <a:lnTo>
                  <a:pt x="533" y="299"/>
                </a:lnTo>
                <a:lnTo>
                  <a:pt x="533" y="299"/>
                </a:lnTo>
                <a:lnTo>
                  <a:pt x="533" y="302"/>
                </a:lnTo>
                <a:lnTo>
                  <a:pt x="533" y="304"/>
                </a:lnTo>
                <a:lnTo>
                  <a:pt x="533" y="307"/>
                </a:lnTo>
                <a:lnTo>
                  <a:pt x="533" y="310"/>
                </a:lnTo>
                <a:lnTo>
                  <a:pt x="534" y="315"/>
                </a:lnTo>
                <a:lnTo>
                  <a:pt x="534" y="318"/>
                </a:lnTo>
                <a:lnTo>
                  <a:pt x="536" y="321"/>
                </a:lnTo>
                <a:lnTo>
                  <a:pt x="536" y="326"/>
                </a:lnTo>
                <a:lnTo>
                  <a:pt x="538" y="331"/>
                </a:lnTo>
                <a:lnTo>
                  <a:pt x="539" y="336"/>
                </a:lnTo>
                <a:lnTo>
                  <a:pt x="539" y="343"/>
                </a:lnTo>
                <a:lnTo>
                  <a:pt x="541" y="349"/>
                </a:lnTo>
                <a:lnTo>
                  <a:pt x="544" y="354"/>
                </a:lnTo>
                <a:lnTo>
                  <a:pt x="544" y="361"/>
                </a:lnTo>
                <a:lnTo>
                  <a:pt x="546" y="367"/>
                </a:lnTo>
                <a:lnTo>
                  <a:pt x="547" y="372"/>
                </a:lnTo>
                <a:lnTo>
                  <a:pt x="549" y="379"/>
                </a:lnTo>
                <a:lnTo>
                  <a:pt x="551" y="383"/>
                </a:lnTo>
                <a:lnTo>
                  <a:pt x="552" y="390"/>
                </a:lnTo>
                <a:lnTo>
                  <a:pt x="554" y="396"/>
                </a:lnTo>
                <a:lnTo>
                  <a:pt x="557" y="403"/>
                </a:lnTo>
                <a:lnTo>
                  <a:pt x="559" y="408"/>
                </a:lnTo>
                <a:lnTo>
                  <a:pt x="560" y="414"/>
                </a:lnTo>
                <a:lnTo>
                  <a:pt x="564" y="419"/>
                </a:lnTo>
                <a:lnTo>
                  <a:pt x="565" y="426"/>
                </a:lnTo>
                <a:lnTo>
                  <a:pt x="567" y="429"/>
                </a:lnTo>
                <a:lnTo>
                  <a:pt x="570" y="434"/>
                </a:lnTo>
                <a:lnTo>
                  <a:pt x="574" y="439"/>
                </a:lnTo>
                <a:lnTo>
                  <a:pt x="577" y="444"/>
                </a:lnTo>
                <a:lnTo>
                  <a:pt x="578" y="449"/>
                </a:lnTo>
                <a:lnTo>
                  <a:pt x="582" y="452"/>
                </a:lnTo>
                <a:lnTo>
                  <a:pt x="585" y="458"/>
                </a:lnTo>
                <a:lnTo>
                  <a:pt x="590" y="465"/>
                </a:lnTo>
                <a:lnTo>
                  <a:pt x="591" y="467"/>
                </a:lnTo>
                <a:lnTo>
                  <a:pt x="595" y="470"/>
                </a:lnTo>
                <a:lnTo>
                  <a:pt x="598" y="473"/>
                </a:lnTo>
                <a:lnTo>
                  <a:pt x="600" y="478"/>
                </a:lnTo>
                <a:lnTo>
                  <a:pt x="603" y="481"/>
                </a:lnTo>
                <a:lnTo>
                  <a:pt x="606" y="485"/>
                </a:lnTo>
                <a:lnTo>
                  <a:pt x="608" y="489"/>
                </a:lnTo>
                <a:lnTo>
                  <a:pt x="611" y="493"/>
                </a:lnTo>
                <a:lnTo>
                  <a:pt x="614" y="496"/>
                </a:lnTo>
                <a:lnTo>
                  <a:pt x="618" y="501"/>
                </a:lnTo>
                <a:lnTo>
                  <a:pt x="621" y="504"/>
                </a:lnTo>
                <a:lnTo>
                  <a:pt x="624" y="509"/>
                </a:lnTo>
                <a:lnTo>
                  <a:pt x="627" y="512"/>
                </a:lnTo>
                <a:lnTo>
                  <a:pt x="631" y="517"/>
                </a:lnTo>
                <a:lnTo>
                  <a:pt x="634" y="522"/>
                </a:lnTo>
                <a:lnTo>
                  <a:pt x="639" y="527"/>
                </a:lnTo>
                <a:lnTo>
                  <a:pt x="642" y="532"/>
                </a:lnTo>
                <a:lnTo>
                  <a:pt x="645" y="537"/>
                </a:lnTo>
                <a:lnTo>
                  <a:pt x="648" y="542"/>
                </a:lnTo>
                <a:lnTo>
                  <a:pt x="652" y="547"/>
                </a:lnTo>
                <a:lnTo>
                  <a:pt x="655" y="551"/>
                </a:lnTo>
                <a:lnTo>
                  <a:pt x="658" y="556"/>
                </a:lnTo>
                <a:lnTo>
                  <a:pt x="663" y="561"/>
                </a:lnTo>
                <a:lnTo>
                  <a:pt x="666" y="568"/>
                </a:lnTo>
                <a:lnTo>
                  <a:pt x="670" y="573"/>
                </a:lnTo>
                <a:lnTo>
                  <a:pt x="673" y="577"/>
                </a:lnTo>
                <a:lnTo>
                  <a:pt x="676" y="582"/>
                </a:lnTo>
                <a:lnTo>
                  <a:pt x="679" y="589"/>
                </a:lnTo>
                <a:lnTo>
                  <a:pt x="683" y="594"/>
                </a:lnTo>
                <a:lnTo>
                  <a:pt x="688" y="600"/>
                </a:lnTo>
                <a:lnTo>
                  <a:pt x="691" y="605"/>
                </a:lnTo>
                <a:lnTo>
                  <a:pt x="694" y="612"/>
                </a:lnTo>
                <a:lnTo>
                  <a:pt x="697" y="617"/>
                </a:lnTo>
                <a:lnTo>
                  <a:pt x="701" y="623"/>
                </a:lnTo>
                <a:lnTo>
                  <a:pt x="704" y="628"/>
                </a:lnTo>
                <a:lnTo>
                  <a:pt x="707" y="635"/>
                </a:lnTo>
                <a:lnTo>
                  <a:pt x="709" y="641"/>
                </a:lnTo>
                <a:lnTo>
                  <a:pt x="712" y="646"/>
                </a:lnTo>
                <a:lnTo>
                  <a:pt x="715" y="653"/>
                </a:lnTo>
                <a:lnTo>
                  <a:pt x="719" y="657"/>
                </a:lnTo>
                <a:lnTo>
                  <a:pt x="720" y="664"/>
                </a:lnTo>
                <a:lnTo>
                  <a:pt x="723" y="670"/>
                </a:lnTo>
                <a:lnTo>
                  <a:pt x="725" y="675"/>
                </a:lnTo>
                <a:lnTo>
                  <a:pt x="728" y="682"/>
                </a:lnTo>
                <a:lnTo>
                  <a:pt x="730" y="688"/>
                </a:lnTo>
                <a:lnTo>
                  <a:pt x="732" y="693"/>
                </a:lnTo>
                <a:lnTo>
                  <a:pt x="733" y="700"/>
                </a:lnTo>
                <a:lnTo>
                  <a:pt x="736" y="706"/>
                </a:lnTo>
                <a:lnTo>
                  <a:pt x="738" y="711"/>
                </a:lnTo>
                <a:lnTo>
                  <a:pt x="740" y="718"/>
                </a:lnTo>
                <a:lnTo>
                  <a:pt x="741" y="723"/>
                </a:lnTo>
                <a:lnTo>
                  <a:pt x="743" y="729"/>
                </a:lnTo>
                <a:lnTo>
                  <a:pt x="745" y="736"/>
                </a:lnTo>
                <a:lnTo>
                  <a:pt x="745" y="741"/>
                </a:lnTo>
                <a:lnTo>
                  <a:pt x="746" y="747"/>
                </a:lnTo>
                <a:lnTo>
                  <a:pt x="748" y="754"/>
                </a:lnTo>
                <a:lnTo>
                  <a:pt x="748" y="759"/>
                </a:lnTo>
                <a:lnTo>
                  <a:pt x="748" y="765"/>
                </a:lnTo>
                <a:lnTo>
                  <a:pt x="750" y="770"/>
                </a:lnTo>
                <a:lnTo>
                  <a:pt x="750" y="776"/>
                </a:lnTo>
                <a:lnTo>
                  <a:pt x="750" y="781"/>
                </a:lnTo>
                <a:lnTo>
                  <a:pt x="751" y="788"/>
                </a:lnTo>
                <a:lnTo>
                  <a:pt x="751" y="794"/>
                </a:lnTo>
                <a:lnTo>
                  <a:pt x="751" y="801"/>
                </a:lnTo>
                <a:lnTo>
                  <a:pt x="751" y="806"/>
                </a:lnTo>
                <a:lnTo>
                  <a:pt x="753" y="812"/>
                </a:lnTo>
                <a:lnTo>
                  <a:pt x="753" y="819"/>
                </a:lnTo>
                <a:lnTo>
                  <a:pt x="753" y="825"/>
                </a:lnTo>
                <a:lnTo>
                  <a:pt x="753" y="830"/>
                </a:lnTo>
                <a:lnTo>
                  <a:pt x="754" y="837"/>
                </a:lnTo>
                <a:lnTo>
                  <a:pt x="754" y="843"/>
                </a:lnTo>
                <a:lnTo>
                  <a:pt x="754" y="850"/>
                </a:lnTo>
                <a:lnTo>
                  <a:pt x="754" y="856"/>
                </a:lnTo>
                <a:lnTo>
                  <a:pt x="754" y="863"/>
                </a:lnTo>
                <a:lnTo>
                  <a:pt x="754" y="869"/>
                </a:lnTo>
                <a:lnTo>
                  <a:pt x="754" y="876"/>
                </a:lnTo>
                <a:lnTo>
                  <a:pt x="754" y="882"/>
                </a:lnTo>
                <a:lnTo>
                  <a:pt x="754" y="891"/>
                </a:lnTo>
                <a:lnTo>
                  <a:pt x="754" y="897"/>
                </a:lnTo>
                <a:lnTo>
                  <a:pt x="754" y="904"/>
                </a:lnTo>
                <a:lnTo>
                  <a:pt x="754" y="910"/>
                </a:lnTo>
                <a:lnTo>
                  <a:pt x="754" y="918"/>
                </a:lnTo>
                <a:lnTo>
                  <a:pt x="754" y="925"/>
                </a:lnTo>
                <a:lnTo>
                  <a:pt x="754" y="931"/>
                </a:lnTo>
                <a:lnTo>
                  <a:pt x="754" y="940"/>
                </a:lnTo>
                <a:lnTo>
                  <a:pt x="754" y="946"/>
                </a:lnTo>
                <a:lnTo>
                  <a:pt x="754" y="954"/>
                </a:lnTo>
                <a:lnTo>
                  <a:pt x="754" y="962"/>
                </a:lnTo>
                <a:lnTo>
                  <a:pt x="753" y="969"/>
                </a:lnTo>
                <a:lnTo>
                  <a:pt x="753" y="977"/>
                </a:lnTo>
                <a:lnTo>
                  <a:pt x="751" y="984"/>
                </a:lnTo>
                <a:lnTo>
                  <a:pt x="751" y="992"/>
                </a:lnTo>
                <a:lnTo>
                  <a:pt x="750" y="1000"/>
                </a:lnTo>
                <a:lnTo>
                  <a:pt x="750" y="1008"/>
                </a:lnTo>
                <a:lnTo>
                  <a:pt x="748" y="1015"/>
                </a:lnTo>
                <a:lnTo>
                  <a:pt x="748" y="1024"/>
                </a:lnTo>
                <a:lnTo>
                  <a:pt x="746" y="1031"/>
                </a:lnTo>
                <a:lnTo>
                  <a:pt x="746" y="1039"/>
                </a:lnTo>
                <a:lnTo>
                  <a:pt x="745" y="1049"/>
                </a:lnTo>
                <a:lnTo>
                  <a:pt x="745" y="1057"/>
                </a:lnTo>
                <a:lnTo>
                  <a:pt x="743" y="1065"/>
                </a:lnTo>
                <a:lnTo>
                  <a:pt x="741" y="1073"/>
                </a:lnTo>
                <a:lnTo>
                  <a:pt x="740" y="1083"/>
                </a:lnTo>
                <a:lnTo>
                  <a:pt x="740" y="1091"/>
                </a:lnTo>
                <a:lnTo>
                  <a:pt x="738" y="1099"/>
                </a:lnTo>
                <a:lnTo>
                  <a:pt x="736" y="1109"/>
                </a:lnTo>
                <a:lnTo>
                  <a:pt x="733" y="1117"/>
                </a:lnTo>
                <a:lnTo>
                  <a:pt x="733" y="1127"/>
                </a:lnTo>
                <a:lnTo>
                  <a:pt x="732" y="1137"/>
                </a:lnTo>
                <a:lnTo>
                  <a:pt x="730" y="1147"/>
                </a:lnTo>
                <a:lnTo>
                  <a:pt x="728" y="1156"/>
                </a:lnTo>
                <a:lnTo>
                  <a:pt x="727" y="1166"/>
                </a:lnTo>
                <a:lnTo>
                  <a:pt x="723" y="1174"/>
                </a:lnTo>
                <a:lnTo>
                  <a:pt x="722" y="1186"/>
                </a:lnTo>
                <a:lnTo>
                  <a:pt x="720" y="1196"/>
                </a:lnTo>
                <a:lnTo>
                  <a:pt x="717" y="1205"/>
                </a:lnTo>
                <a:lnTo>
                  <a:pt x="715" y="1215"/>
                </a:lnTo>
                <a:lnTo>
                  <a:pt x="714" y="1227"/>
                </a:lnTo>
                <a:lnTo>
                  <a:pt x="710" y="1236"/>
                </a:lnTo>
                <a:lnTo>
                  <a:pt x="709" y="1248"/>
                </a:lnTo>
                <a:lnTo>
                  <a:pt x="706" y="1258"/>
                </a:lnTo>
                <a:lnTo>
                  <a:pt x="704" y="1269"/>
                </a:lnTo>
                <a:lnTo>
                  <a:pt x="701" y="1279"/>
                </a:lnTo>
                <a:lnTo>
                  <a:pt x="697" y="1288"/>
                </a:lnTo>
                <a:lnTo>
                  <a:pt x="694" y="1298"/>
                </a:lnTo>
                <a:lnTo>
                  <a:pt x="692" y="1310"/>
                </a:lnTo>
                <a:lnTo>
                  <a:pt x="689" y="1319"/>
                </a:lnTo>
                <a:lnTo>
                  <a:pt x="688" y="1331"/>
                </a:lnTo>
                <a:lnTo>
                  <a:pt x="683" y="1341"/>
                </a:lnTo>
                <a:lnTo>
                  <a:pt x="681" y="1350"/>
                </a:lnTo>
                <a:lnTo>
                  <a:pt x="678" y="1360"/>
                </a:lnTo>
                <a:lnTo>
                  <a:pt x="675" y="1370"/>
                </a:lnTo>
                <a:lnTo>
                  <a:pt x="671" y="1381"/>
                </a:lnTo>
                <a:lnTo>
                  <a:pt x="670" y="1391"/>
                </a:lnTo>
                <a:lnTo>
                  <a:pt x="666" y="1401"/>
                </a:lnTo>
                <a:lnTo>
                  <a:pt x="663" y="1411"/>
                </a:lnTo>
                <a:lnTo>
                  <a:pt x="660" y="1421"/>
                </a:lnTo>
                <a:lnTo>
                  <a:pt x="657" y="1429"/>
                </a:lnTo>
                <a:lnTo>
                  <a:pt x="653" y="1439"/>
                </a:lnTo>
                <a:lnTo>
                  <a:pt x="650" y="1448"/>
                </a:lnTo>
                <a:lnTo>
                  <a:pt x="647" y="1456"/>
                </a:lnTo>
                <a:lnTo>
                  <a:pt x="644" y="1466"/>
                </a:lnTo>
                <a:lnTo>
                  <a:pt x="640" y="1476"/>
                </a:lnTo>
                <a:lnTo>
                  <a:pt x="639" y="1484"/>
                </a:lnTo>
                <a:lnTo>
                  <a:pt x="635" y="1494"/>
                </a:lnTo>
                <a:lnTo>
                  <a:pt x="632" y="1502"/>
                </a:lnTo>
                <a:lnTo>
                  <a:pt x="629" y="1510"/>
                </a:lnTo>
                <a:lnTo>
                  <a:pt x="626" y="1518"/>
                </a:lnTo>
                <a:lnTo>
                  <a:pt x="622" y="1527"/>
                </a:lnTo>
                <a:lnTo>
                  <a:pt x="621" y="1535"/>
                </a:lnTo>
                <a:lnTo>
                  <a:pt x="618" y="1543"/>
                </a:lnTo>
                <a:lnTo>
                  <a:pt x="616" y="1551"/>
                </a:lnTo>
                <a:lnTo>
                  <a:pt x="611" y="1559"/>
                </a:lnTo>
                <a:lnTo>
                  <a:pt x="609" y="1566"/>
                </a:lnTo>
                <a:lnTo>
                  <a:pt x="606" y="1572"/>
                </a:lnTo>
                <a:lnTo>
                  <a:pt x="603" y="1580"/>
                </a:lnTo>
                <a:lnTo>
                  <a:pt x="601" y="1587"/>
                </a:lnTo>
                <a:lnTo>
                  <a:pt x="598" y="1593"/>
                </a:lnTo>
                <a:lnTo>
                  <a:pt x="595" y="1600"/>
                </a:lnTo>
                <a:lnTo>
                  <a:pt x="593" y="1606"/>
                </a:lnTo>
                <a:lnTo>
                  <a:pt x="591" y="1611"/>
                </a:lnTo>
                <a:lnTo>
                  <a:pt x="588" y="1618"/>
                </a:lnTo>
                <a:lnTo>
                  <a:pt x="587" y="1624"/>
                </a:lnTo>
                <a:lnTo>
                  <a:pt x="585" y="1629"/>
                </a:lnTo>
                <a:lnTo>
                  <a:pt x="582" y="1634"/>
                </a:lnTo>
                <a:lnTo>
                  <a:pt x="580" y="1639"/>
                </a:lnTo>
                <a:lnTo>
                  <a:pt x="578" y="1644"/>
                </a:lnTo>
                <a:lnTo>
                  <a:pt x="577" y="1649"/>
                </a:lnTo>
                <a:lnTo>
                  <a:pt x="575" y="1652"/>
                </a:lnTo>
                <a:lnTo>
                  <a:pt x="574" y="1657"/>
                </a:lnTo>
                <a:lnTo>
                  <a:pt x="570" y="1660"/>
                </a:lnTo>
                <a:lnTo>
                  <a:pt x="570" y="1665"/>
                </a:lnTo>
                <a:lnTo>
                  <a:pt x="567" y="1670"/>
                </a:lnTo>
                <a:lnTo>
                  <a:pt x="565" y="1677"/>
                </a:lnTo>
                <a:lnTo>
                  <a:pt x="564" y="1680"/>
                </a:lnTo>
                <a:lnTo>
                  <a:pt x="562" y="1683"/>
                </a:lnTo>
                <a:lnTo>
                  <a:pt x="562" y="1685"/>
                </a:lnTo>
                <a:lnTo>
                  <a:pt x="562" y="1686"/>
                </a:lnTo>
                <a:lnTo>
                  <a:pt x="560" y="1686"/>
                </a:lnTo>
                <a:lnTo>
                  <a:pt x="557" y="1685"/>
                </a:lnTo>
                <a:lnTo>
                  <a:pt x="554" y="1683"/>
                </a:lnTo>
                <a:lnTo>
                  <a:pt x="549" y="1681"/>
                </a:lnTo>
                <a:lnTo>
                  <a:pt x="544" y="1680"/>
                </a:lnTo>
                <a:lnTo>
                  <a:pt x="541" y="1678"/>
                </a:lnTo>
                <a:lnTo>
                  <a:pt x="538" y="1677"/>
                </a:lnTo>
                <a:lnTo>
                  <a:pt x="533" y="1677"/>
                </a:lnTo>
                <a:lnTo>
                  <a:pt x="529" y="1673"/>
                </a:lnTo>
                <a:lnTo>
                  <a:pt x="525" y="1672"/>
                </a:lnTo>
                <a:lnTo>
                  <a:pt x="520" y="1670"/>
                </a:lnTo>
                <a:lnTo>
                  <a:pt x="515" y="1668"/>
                </a:lnTo>
                <a:lnTo>
                  <a:pt x="508" y="1665"/>
                </a:lnTo>
                <a:lnTo>
                  <a:pt x="502" y="1664"/>
                </a:lnTo>
                <a:lnTo>
                  <a:pt x="497" y="1660"/>
                </a:lnTo>
                <a:lnTo>
                  <a:pt x="490" y="1659"/>
                </a:lnTo>
                <a:lnTo>
                  <a:pt x="484" y="1655"/>
                </a:lnTo>
                <a:lnTo>
                  <a:pt x="477" y="1654"/>
                </a:lnTo>
                <a:lnTo>
                  <a:pt x="471" y="1651"/>
                </a:lnTo>
                <a:lnTo>
                  <a:pt x="464" y="1649"/>
                </a:lnTo>
                <a:lnTo>
                  <a:pt x="458" y="1646"/>
                </a:lnTo>
                <a:lnTo>
                  <a:pt x="450" y="1641"/>
                </a:lnTo>
                <a:lnTo>
                  <a:pt x="443" y="1637"/>
                </a:lnTo>
                <a:lnTo>
                  <a:pt x="435" y="1636"/>
                </a:lnTo>
                <a:lnTo>
                  <a:pt x="428" y="1631"/>
                </a:lnTo>
                <a:lnTo>
                  <a:pt x="420" y="1629"/>
                </a:lnTo>
                <a:lnTo>
                  <a:pt x="412" y="1624"/>
                </a:lnTo>
                <a:lnTo>
                  <a:pt x="406" y="1623"/>
                </a:lnTo>
                <a:lnTo>
                  <a:pt x="397" y="1618"/>
                </a:lnTo>
                <a:lnTo>
                  <a:pt x="389" y="1615"/>
                </a:lnTo>
                <a:lnTo>
                  <a:pt x="381" y="1610"/>
                </a:lnTo>
                <a:lnTo>
                  <a:pt x="373" y="1606"/>
                </a:lnTo>
                <a:lnTo>
                  <a:pt x="367" y="1602"/>
                </a:lnTo>
                <a:lnTo>
                  <a:pt x="358" y="1598"/>
                </a:lnTo>
                <a:lnTo>
                  <a:pt x="350" y="1593"/>
                </a:lnTo>
                <a:lnTo>
                  <a:pt x="342" y="1590"/>
                </a:lnTo>
                <a:lnTo>
                  <a:pt x="334" y="1585"/>
                </a:lnTo>
                <a:lnTo>
                  <a:pt x="326" y="1580"/>
                </a:lnTo>
                <a:lnTo>
                  <a:pt x="319" y="1577"/>
                </a:lnTo>
                <a:lnTo>
                  <a:pt x="311" y="1572"/>
                </a:lnTo>
                <a:lnTo>
                  <a:pt x="303" y="1567"/>
                </a:lnTo>
                <a:lnTo>
                  <a:pt x="295" y="1562"/>
                </a:lnTo>
                <a:lnTo>
                  <a:pt x="288" y="1559"/>
                </a:lnTo>
                <a:lnTo>
                  <a:pt x="282" y="1554"/>
                </a:lnTo>
                <a:lnTo>
                  <a:pt x="274" y="1549"/>
                </a:lnTo>
                <a:lnTo>
                  <a:pt x="267" y="1545"/>
                </a:lnTo>
                <a:lnTo>
                  <a:pt x="261" y="1540"/>
                </a:lnTo>
                <a:lnTo>
                  <a:pt x="254" y="1535"/>
                </a:lnTo>
                <a:lnTo>
                  <a:pt x="248" y="1528"/>
                </a:lnTo>
                <a:lnTo>
                  <a:pt x="241" y="1525"/>
                </a:lnTo>
                <a:lnTo>
                  <a:pt x="235" y="1518"/>
                </a:lnTo>
                <a:lnTo>
                  <a:pt x="230" y="1515"/>
                </a:lnTo>
                <a:lnTo>
                  <a:pt x="225" y="1509"/>
                </a:lnTo>
                <a:lnTo>
                  <a:pt x="218" y="1504"/>
                </a:lnTo>
                <a:lnTo>
                  <a:pt x="213" y="1497"/>
                </a:lnTo>
                <a:lnTo>
                  <a:pt x="208" y="1494"/>
                </a:lnTo>
                <a:lnTo>
                  <a:pt x="204" y="1487"/>
                </a:lnTo>
                <a:lnTo>
                  <a:pt x="200" y="1483"/>
                </a:lnTo>
                <a:lnTo>
                  <a:pt x="195" y="1478"/>
                </a:lnTo>
                <a:lnTo>
                  <a:pt x="192" y="1473"/>
                </a:lnTo>
                <a:lnTo>
                  <a:pt x="189" y="1466"/>
                </a:lnTo>
                <a:lnTo>
                  <a:pt x="184" y="1461"/>
                </a:lnTo>
                <a:lnTo>
                  <a:pt x="181" y="1456"/>
                </a:lnTo>
                <a:lnTo>
                  <a:pt x="179" y="1452"/>
                </a:lnTo>
                <a:lnTo>
                  <a:pt x="176" y="1447"/>
                </a:lnTo>
                <a:lnTo>
                  <a:pt x="173" y="1442"/>
                </a:lnTo>
                <a:lnTo>
                  <a:pt x="169" y="1437"/>
                </a:lnTo>
                <a:lnTo>
                  <a:pt x="168" y="1432"/>
                </a:lnTo>
                <a:lnTo>
                  <a:pt x="164" y="1429"/>
                </a:lnTo>
                <a:lnTo>
                  <a:pt x="163" y="1424"/>
                </a:lnTo>
                <a:lnTo>
                  <a:pt x="160" y="1419"/>
                </a:lnTo>
                <a:lnTo>
                  <a:pt x="158" y="1416"/>
                </a:lnTo>
                <a:lnTo>
                  <a:pt x="156" y="1411"/>
                </a:lnTo>
                <a:lnTo>
                  <a:pt x="153" y="1408"/>
                </a:lnTo>
                <a:lnTo>
                  <a:pt x="151" y="1403"/>
                </a:lnTo>
                <a:lnTo>
                  <a:pt x="150" y="1399"/>
                </a:lnTo>
                <a:lnTo>
                  <a:pt x="148" y="1396"/>
                </a:lnTo>
                <a:lnTo>
                  <a:pt x="147" y="1391"/>
                </a:lnTo>
                <a:lnTo>
                  <a:pt x="145" y="1388"/>
                </a:lnTo>
                <a:lnTo>
                  <a:pt x="142" y="1385"/>
                </a:lnTo>
                <a:lnTo>
                  <a:pt x="138" y="1378"/>
                </a:lnTo>
                <a:lnTo>
                  <a:pt x="137" y="1373"/>
                </a:lnTo>
                <a:lnTo>
                  <a:pt x="133" y="1367"/>
                </a:lnTo>
                <a:lnTo>
                  <a:pt x="130" y="1360"/>
                </a:lnTo>
                <a:lnTo>
                  <a:pt x="129" y="1355"/>
                </a:lnTo>
                <a:lnTo>
                  <a:pt x="125" y="1350"/>
                </a:lnTo>
                <a:lnTo>
                  <a:pt x="122" y="1344"/>
                </a:lnTo>
                <a:lnTo>
                  <a:pt x="120" y="1339"/>
                </a:lnTo>
                <a:lnTo>
                  <a:pt x="117" y="1334"/>
                </a:lnTo>
                <a:lnTo>
                  <a:pt x="114" y="1331"/>
                </a:lnTo>
                <a:lnTo>
                  <a:pt x="111" y="1326"/>
                </a:lnTo>
                <a:lnTo>
                  <a:pt x="107" y="1323"/>
                </a:lnTo>
                <a:lnTo>
                  <a:pt x="103" y="1318"/>
                </a:lnTo>
                <a:lnTo>
                  <a:pt x="99" y="1315"/>
                </a:lnTo>
                <a:lnTo>
                  <a:pt x="94" y="1310"/>
                </a:lnTo>
                <a:lnTo>
                  <a:pt x="89" y="1306"/>
                </a:lnTo>
                <a:lnTo>
                  <a:pt x="85" y="1302"/>
                </a:lnTo>
                <a:lnTo>
                  <a:pt x="80" y="1298"/>
                </a:lnTo>
                <a:lnTo>
                  <a:pt x="73" y="1295"/>
                </a:lnTo>
                <a:lnTo>
                  <a:pt x="67" y="1292"/>
                </a:lnTo>
                <a:lnTo>
                  <a:pt x="63" y="1288"/>
                </a:lnTo>
                <a:lnTo>
                  <a:pt x="60" y="1287"/>
                </a:lnTo>
                <a:lnTo>
                  <a:pt x="57" y="1285"/>
                </a:lnTo>
                <a:lnTo>
                  <a:pt x="54" y="1284"/>
                </a:lnTo>
                <a:lnTo>
                  <a:pt x="0" y="1266"/>
                </a:lnTo>
                <a:lnTo>
                  <a:pt x="0" y="1264"/>
                </a:lnTo>
                <a:lnTo>
                  <a:pt x="0" y="1262"/>
                </a:lnTo>
                <a:lnTo>
                  <a:pt x="0" y="1259"/>
                </a:lnTo>
                <a:lnTo>
                  <a:pt x="3" y="1256"/>
                </a:lnTo>
                <a:lnTo>
                  <a:pt x="3" y="1251"/>
                </a:lnTo>
                <a:lnTo>
                  <a:pt x="5" y="1246"/>
                </a:lnTo>
                <a:lnTo>
                  <a:pt x="6" y="1243"/>
                </a:lnTo>
                <a:lnTo>
                  <a:pt x="8" y="1240"/>
                </a:lnTo>
                <a:lnTo>
                  <a:pt x="10" y="1235"/>
                </a:lnTo>
                <a:lnTo>
                  <a:pt x="11" y="1231"/>
                </a:lnTo>
                <a:lnTo>
                  <a:pt x="11" y="1227"/>
                </a:lnTo>
                <a:lnTo>
                  <a:pt x="13" y="1223"/>
                </a:lnTo>
                <a:lnTo>
                  <a:pt x="14" y="1218"/>
                </a:lnTo>
                <a:lnTo>
                  <a:pt x="16" y="1213"/>
                </a:lnTo>
                <a:lnTo>
                  <a:pt x="16" y="1209"/>
                </a:lnTo>
                <a:lnTo>
                  <a:pt x="18" y="1204"/>
                </a:lnTo>
                <a:lnTo>
                  <a:pt x="19" y="1200"/>
                </a:lnTo>
                <a:lnTo>
                  <a:pt x="21" y="1196"/>
                </a:lnTo>
                <a:lnTo>
                  <a:pt x="23" y="1189"/>
                </a:lnTo>
                <a:lnTo>
                  <a:pt x="24" y="1182"/>
                </a:lnTo>
                <a:lnTo>
                  <a:pt x="26" y="1178"/>
                </a:lnTo>
                <a:lnTo>
                  <a:pt x="28" y="1173"/>
                </a:lnTo>
                <a:lnTo>
                  <a:pt x="29" y="1166"/>
                </a:lnTo>
                <a:lnTo>
                  <a:pt x="31" y="1160"/>
                </a:lnTo>
                <a:lnTo>
                  <a:pt x="32" y="1155"/>
                </a:lnTo>
                <a:lnTo>
                  <a:pt x="34" y="1148"/>
                </a:lnTo>
                <a:lnTo>
                  <a:pt x="34" y="1142"/>
                </a:lnTo>
                <a:lnTo>
                  <a:pt x="36" y="1135"/>
                </a:lnTo>
                <a:lnTo>
                  <a:pt x="37" y="1127"/>
                </a:lnTo>
                <a:lnTo>
                  <a:pt x="39" y="1122"/>
                </a:lnTo>
                <a:lnTo>
                  <a:pt x="41" y="1114"/>
                </a:lnTo>
                <a:lnTo>
                  <a:pt x="42" y="1107"/>
                </a:lnTo>
                <a:lnTo>
                  <a:pt x="42" y="1101"/>
                </a:lnTo>
                <a:lnTo>
                  <a:pt x="44" y="1094"/>
                </a:lnTo>
                <a:lnTo>
                  <a:pt x="45" y="1086"/>
                </a:lnTo>
                <a:lnTo>
                  <a:pt x="47" y="1080"/>
                </a:lnTo>
                <a:lnTo>
                  <a:pt x="47" y="1073"/>
                </a:lnTo>
                <a:lnTo>
                  <a:pt x="49" y="1065"/>
                </a:lnTo>
                <a:lnTo>
                  <a:pt x="50" y="1059"/>
                </a:lnTo>
                <a:lnTo>
                  <a:pt x="50" y="1052"/>
                </a:lnTo>
                <a:lnTo>
                  <a:pt x="52" y="1044"/>
                </a:lnTo>
                <a:lnTo>
                  <a:pt x="54" y="1037"/>
                </a:lnTo>
                <a:lnTo>
                  <a:pt x="54" y="1029"/>
                </a:lnTo>
                <a:lnTo>
                  <a:pt x="54" y="1023"/>
                </a:lnTo>
                <a:lnTo>
                  <a:pt x="54" y="1015"/>
                </a:lnTo>
                <a:lnTo>
                  <a:pt x="55" y="1008"/>
                </a:lnTo>
                <a:lnTo>
                  <a:pt x="55" y="1000"/>
                </a:lnTo>
                <a:lnTo>
                  <a:pt x="55" y="993"/>
                </a:lnTo>
                <a:lnTo>
                  <a:pt x="55" y="985"/>
                </a:lnTo>
                <a:lnTo>
                  <a:pt x="55" y="979"/>
                </a:lnTo>
                <a:lnTo>
                  <a:pt x="55" y="970"/>
                </a:lnTo>
                <a:lnTo>
                  <a:pt x="55" y="964"/>
                </a:lnTo>
                <a:lnTo>
                  <a:pt x="55" y="956"/>
                </a:lnTo>
                <a:lnTo>
                  <a:pt x="55" y="949"/>
                </a:lnTo>
                <a:lnTo>
                  <a:pt x="54" y="943"/>
                </a:lnTo>
                <a:lnTo>
                  <a:pt x="54" y="936"/>
                </a:lnTo>
                <a:lnTo>
                  <a:pt x="54" y="928"/>
                </a:lnTo>
                <a:lnTo>
                  <a:pt x="54" y="923"/>
                </a:lnTo>
                <a:lnTo>
                  <a:pt x="52" y="915"/>
                </a:lnTo>
                <a:lnTo>
                  <a:pt x="50" y="909"/>
                </a:lnTo>
                <a:lnTo>
                  <a:pt x="50" y="902"/>
                </a:lnTo>
                <a:lnTo>
                  <a:pt x="49" y="894"/>
                </a:lnTo>
                <a:lnTo>
                  <a:pt x="47" y="886"/>
                </a:lnTo>
                <a:lnTo>
                  <a:pt x="47" y="879"/>
                </a:lnTo>
                <a:lnTo>
                  <a:pt x="47" y="871"/>
                </a:lnTo>
                <a:lnTo>
                  <a:pt x="47" y="864"/>
                </a:lnTo>
                <a:lnTo>
                  <a:pt x="45" y="856"/>
                </a:lnTo>
                <a:lnTo>
                  <a:pt x="44" y="848"/>
                </a:lnTo>
                <a:lnTo>
                  <a:pt x="44" y="840"/>
                </a:lnTo>
                <a:lnTo>
                  <a:pt x="44" y="834"/>
                </a:lnTo>
                <a:lnTo>
                  <a:pt x="44" y="825"/>
                </a:lnTo>
                <a:lnTo>
                  <a:pt x="44" y="817"/>
                </a:lnTo>
                <a:lnTo>
                  <a:pt x="44" y="809"/>
                </a:lnTo>
                <a:lnTo>
                  <a:pt x="44" y="803"/>
                </a:lnTo>
                <a:lnTo>
                  <a:pt x="42" y="794"/>
                </a:lnTo>
                <a:lnTo>
                  <a:pt x="42" y="786"/>
                </a:lnTo>
                <a:lnTo>
                  <a:pt x="42" y="778"/>
                </a:lnTo>
                <a:lnTo>
                  <a:pt x="42" y="772"/>
                </a:lnTo>
                <a:lnTo>
                  <a:pt x="42" y="763"/>
                </a:lnTo>
                <a:lnTo>
                  <a:pt x="42" y="755"/>
                </a:lnTo>
                <a:lnTo>
                  <a:pt x="42" y="747"/>
                </a:lnTo>
                <a:lnTo>
                  <a:pt x="42" y="739"/>
                </a:lnTo>
                <a:lnTo>
                  <a:pt x="42" y="731"/>
                </a:lnTo>
                <a:lnTo>
                  <a:pt x="42" y="723"/>
                </a:lnTo>
                <a:lnTo>
                  <a:pt x="42" y="716"/>
                </a:lnTo>
                <a:lnTo>
                  <a:pt x="42" y="710"/>
                </a:lnTo>
                <a:lnTo>
                  <a:pt x="42" y="701"/>
                </a:lnTo>
                <a:lnTo>
                  <a:pt x="42" y="693"/>
                </a:lnTo>
                <a:lnTo>
                  <a:pt x="42" y="687"/>
                </a:lnTo>
                <a:lnTo>
                  <a:pt x="42" y="680"/>
                </a:lnTo>
                <a:lnTo>
                  <a:pt x="42" y="672"/>
                </a:lnTo>
                <a:lnTo>
                  <a:pt x="42" y="666"/>
                </a:lnTo>
                <a:lnTo>
                  <a:pt x="42" y="657"/>
                </a:lnTo>
                <a:lnTo>
                  <a:pt x="42" y="651"/>
                </a:lnTo>
                <a:lnTo>
                  <a:pt x="42" y="644"/>
                </a:lnTo>
                <a:lnTo>
                  <a:pt x="44" y="638"/>
                </a:lnTo>
                <a:lnTo>
                  <a:pt x="44" y="633"/>
                </a:lnTo>
                <a:lnTo>
                  <a:pt x="44" y="626"/>
                </a:lnTo>
                <a:lnTo>
                  <a:pt x="44" y="620"/>
                </a:lnTo>
                <a:lnTo>
                  <a:pt x="44" y="613"/>
                </a:lnTo>
                <a:lnTo>
                  <a:pt x="44" y="608"/>
                </a:lnTo>
                <a:lnTo>
                  <a:pt x="44" y="604"/>
                </a:lnTo>
                <a:lnTo>
                  <a:pt x="44" y="597"/>
                </a:lnTo>
                <a:lnTo>
                  <a:pt x="44" y="592"/>
                </a:lnTo>
                <a:lnTo>
                  <a:pt x="44" y="589"/>
                </a:lnTo>
                <a:lnTo>
                  <a:pt x="45" y="584"/>
                </a:lnTo>
                <a:lnTo>
                  <a:pt x="45" y="579"/>
                </a:lnTo>
                <a:lnTo>
                  <a:pt x="45" y="576"/>
                </a:lnTo>
                <a:lnTo>
                  <a:pt x="45" y="571"/>
                </a:lnTo>
                <a:lnTo>
                  <a:pt x="45" y="568"/>
                </a:lnTo>
                <a:lnTo>
                  <a:pt x="45" y="561"/>
                </a:lnTo>
                <a:lnTo>
                  <a:pt x="47" y="556"/>
                </a:lnTo>
                <a:lnTo>
                  <a:pt x="47" y="551"/>
                </a:lnTo>
                <a:lnTo>
                  <a:pt x="47" y="548"/>
                </a:lnTo>
                <a:lnTo>
                  <a:pt x="47" y="547"/>
                </a:lnTo>
                <a:lnTo>
                  <a:pt x="47" y="547"/>
                </a:lnTo>
                <a:lnTo>
                  <a:pt x="49" y="547"/>
                </a:lnTo>
                <a:lnTo>
                  <a:pt x="55" y="548"/>
                </a:lnTo>
                <a:lnTo>
                  <a:pt x="59" y="550"/>
                </a:lnTo>
                <a:lnTo>
                  <a:pt x="63" y="551"/>
                </a:lnTo>
                <a:lnTo>
                  <a:pt x="68" y="555"/>
                </a:lnTo>
                <a:lnTo>
                  <a:pt x="73" y="558"/>
                </a:lnTo>
                <a:lnTo>
                  <a:pt x="80" y="561"/>
                </a:lnTo>
                <a:lnTo>
                  <a:pt x="86" y="564"/>
                </a:lnTo>
                <a:lnTo>
                  <a:pt x="89" y="566"/>
                </a:lnTo>
                <a:lnTo>
                  <a:pt x="94" y="569"/>
                </a:lnTo>
                <a:lnTo>
                  <a:pt x="98" y="571"/>
                </a:lnTo>
                <a:lnTo>
                  <a:pt x="101" y="573"/>
                </a:lnTo>
                <a:lnTo>
                  <a:pt x="106" y="576"/>
                </a:lnTo>
                <a:lnTo>
                  <a:pt x="109" y="577"/>
                </a:lnTo>
                <a:lnTo>
                  <a:pt x="114" y="579"/>
                </a:lnTo>
                <a:lnTo>
                  <a:pt x="117" y="582"/>
                </a:lnTo>
                <a:lnTo>
                  <a:pt x="122" y="586"/>
                </a:lnTo>
                <a:lnTo>
                  <a:pt x="125" y="589"/>
                </a:lnTo>
                <a:lnTo>
                  <a:pt x="130" y="591"/>
                </a:lnTo>
                <a:lnTo>
                  <a:pt x="135" y="594"/>
                </a:lnTo>
                <a:lnTo>
                  <a:pt x="138" y="595"/>
                </a:lnTo>
                <a:lnTo>
                  <a:pt x="143" y="600"/>
                </a:lnTo>
                <a:lnTo>
                  <a:pt x="147" y="602"/>
                </a:lnTo>
                <a:lnTo>
                  <a:pt x="151" y="605"/>
                </a:lnTo>
                <a:lnTo>
                  <a:pt x="156" y="608"/>
                </a:lnTo>
                <a:lnTo>
                  <a:pt x="160" y="612"/>
                </a:lnTo>
                <a:lnTo>
                  <a:pt x="164" y="615"/>
                </a:lnTo>
                <a:lnTo>
                  <a:pt x="169" y="620"/>
                </a:lnTo>
                <a:lnTo>
                  <a:pt x="173" y="623"/>
                </a:lnTo>
                <a:lnTo>
                  <a:pt x="176" y="626"/>
                </a:lnTo>
                <a:lnTo>
                  <a:pt x="181" y="630"/>
                </a:lnTo>
                <a:lnTo>
                  <a:pt x="184" y="635"/>
                </a:lnTo>
                <a:lnTo>
                  <a:pt x="187" y="638"/>
                </a:lnTo>
                <a:lnTo>
                  <a:pt x="192" y="643"/>
                </a:lnTo>
                <a:lnTo>
                  <a:pt x="195" y="646"/>
                </a:lnTo>
                <a:lnTo>
                  <a:pt x="200" y="651"/>
                </a:lnTo>
                <a:lnTo>
                  <a:pt x="202" y="654"/>
                </a:lnTo>
                <a:lnTo>
                  <a:pt x="207" y="659"/>
                </a:lnTo>
                <a:lnTo>
                  <a:pt x="208" y="664"/>
                </a:lnTo>
                <a:lnTo>
                  <a:pt x="213" y="669"/>
                </a:lnTo>
                <a:lnTo>
                  <a:pt x="215" y="672"/>
                </a:lnTo>
                <a:lnTo>
                  <a:pt x="218" y="677"/>
                </a:lnTo>
                <a:lnTo>
                  <a:pt x="220" y="682"/>
                </a:lnTo>
                <a:lnTo>
                  <a:pt x="225" y="687"/>
                </a:lnTo>
                <a:lnTo>
                  <a:pt x="226" y="692"/>
                </a:lnTo>
                <a:lnTo>
                  <a:pt x="228" y="697"/>
                </a:lnTo>
                <a:lnTo>
                  <a:pt x="230" y="701"/>
                </a:lnTo>
                <a:lnTo>
                  <a:pt x="233" y="706"/>
                </a:lnTo>
                <a:lnTo>
                  <a:pt x="235" y="711"/>
                </a:lnTo>
                <a:lnTo>
                  <a:pt x="236" y="716"/>
                </a:lnTo>
                <a:lnTo>
                  <a:pt x="238" y="721"/>
                </a:lnTo>
                <a:lnTo>
                  <a:pt x="239" y="728"/>
                </a:lnTo>
                <a:lnTo>
                  <a:pt x="238" y="728"/>
                </a:lnTo>
                <a:lnTo>
                  <a:pt x="238" y="731"/>
                </a:lnTo>
                <a:lnTo>
                  <a:pt x="238" y="732"/>
                </a:lnTo>
                <a:lnTo>
                  <a:pt x="238" y="736"/>
                </a:lnTo>
                <a:lnTo>
                  <a:pt x="236" y="739"/>
                </a:lnTo>
                <a:lnTo>
                  <a:pt x="236" y="742"/>
                </a:lnTo>
                <a:lnTo>
                  <a:pt x="235" y="745"/>
                </a:lnTo>
                <a:lnTo>
                  <a:pt x="233" y="750"/>
                </a:lnTo>
                <a:lnTo>
                  <a:pt x="231" y="754"/>
                </a:lnTo>
                <a:lnTo>
                  <a:pt x="230" y="760"/>
                </a:lnTo>
                <a:lnTo>
                  <a:pt x="228" y="765"/>
                </a:lnTo>
                <a:lnTo>
                  <a:pt x="226" y="772"/>
                </a:lnTo>
                <a:lnTo>
                  <a:pt x="225" y="778"/>
                </a:lnTo>
                <a:lnTo>
                  <a:pt x="221" y="785"/>
                </a:lnTo>
                <a:lnTo>
                  <a:pt x="218" y="789"/>
                </a:lnTo>
                <a:lnTo>
                  <a:pt x="215" y="798"/>
                </a:lnTo>
                <a:lnTo>
                  <a:pt x="212" y="804"/>
                </a:lnTo>
                <a:lnTo>
                  <a:pt x="208" y="811"/>
                </a:lnTo>
                <a:lnTo>
                  <a:pt x="207" y="814"/>
                </a:lnTo>
                <a:lnTo>
                  <a:pt x="204" y="819"/>
                </a:lnTo>
                <a:lnTo>
                  <a:pt x="202" y="822"/>
                </a:lnTo>
                <a:lnTo>
                  <a:pt x="200" y="825"/>
                </a:lnTo>
                <a:lnTo>
                  <a:pt x="197" y="830"/>
                </a:lnTo>
                <a:lnTo>
                  <a:pt x="195" y="834"/>
                </a:lnTo>
                <a:lnTo>
                  <a:pt x="194" y="838"/>
                </a:lnTo>
                <a:lnTo>
                  <a:pt x="191" y="842"/>
                </a:lnTo>
                <a:lnTo>
                  <a:pt x="187" y="847"/>
                </a:lnTo>
                <a:lnTo>
                  <a:pt x="186" y="850"/>
                </a:lnTo>
                <a:lnTo>
                  <a:pt x="182" y="853"/>
                </a:lnTo>
                <a:lnTo>
                  <a:pt x="179" y="858"/>
                </a:lnTo>
                <a:lnTo>
                  <a:pt x="176" y="861"/>
                </a:lnTo>
                <a:lnTo>
                  <a:pt x="173" y="866"/>
                </a:lnTo>
                <a:lnTo>
                  <a:pt x="169" y="869"/>
                </a:lnTo>
                <a:lnTo>
                  <a:pt x="166" y="874"/>
                </a:lnTo>
                <a:lnTo>
                  <a:pt x="163" y="878"/>
                </a:lnTo>
                <a:lnTo>
                  <a:pt x="160" y="882"/>
                </a:lnTo>
                <a:lnTo>
                  <a:pt x="156" y="887"/>
                </a:lnTo>
                <a:lnTo>
                  <a:pt x="153" y="891"/>
                </a:lnTo>
                <a:lnTo>
                  <a:pt x="148" y="895"/>
                </a:lnTo>
                <a:lnTo>
                  <a:pt x="145" y="899"/>
                </a:lnTo>
                <a:lnTo>
                  <a:pt x="142" y="904"/>
                </a:lnTo>
                <a:lnTo>
                  <a:pt x="137" y="909"/>
                </a:lnTo>
                <a:lnTo>
                  <a:pt x="166" y="953"/>
                </a:lnTo>
                <a:lnTo>
                  <a:pt x="166" y="951"/>
                </a:lnTo>
                <a:lnTo>
                  <a:pt x="169" y="946"/>
                </a:lnTo>
                <a:lnTo>
                  <a:pt x="173" y="941"/>
                </a:lnTo>
                <a:lnTo>
                  <a:pt x="176" y="938"/>
                </a:lnTo>
                <a:lnTo>
                  <a:pt x="179" y="931"/>
                </a:lnTo>
                <a:lnTo>
                  <a:pt x="182" y="928"/>
                </a:lnTo>
                <a:lnTo>
                  <a:pt x="187" y="922"/>
                </a:lnTo>
                <a:lnTo>
                  <a:pt x="192" y="915"/>
                </a:lnTo>
                <a:lnTo>
                  <a:pt x="197" y="909"/>
                </a:lnTo>
                <a:lnTo>
                  <a:pt x="202" y="902"/>
                </a:lnTo>
                <a:lnTo>
                  <a:pt x="207" y="895"/>
                </a:lnTo>
                <a:lnTo>
                  <a:pt x="213" y="889"/>
                </a:lnTo>
                <a:lnTo>
                  <a:pt x="220" y="882"/>
                </a:lnTo>
                <a:lnTo>
                  <a:pt x="226" y="876"/>
                </a:lnTo>
                <a:lnTo>
                  <a:pt x="233" y="869"/>
                </a:lnTo>
                <a:lnTo>
                  <a:pt x="238" y="863"/>
                </a:lnTo>
                <a:lnTo>
                  <a:pt x="244" y="856"/>
                </a:lnTo>
                <a:lnTo>
                  <a:pt x="252" y="851"/>
                </a:lnTo>
                <a:lnTo>
                  <a:pt x="257" y="845"/>
                </a:lnTo>
                <a:lnTo>
                  <a:pt x="265" y="840"/>
                </a:lnTo>
                <a:lnTo>
                  <a:pt x="272" y="835"/>
                </a:lnTo>
                <a:lnTo>
                  <a:pt x="279" y="834"/>
                </a:lnTo>
                <a:lnTo>
                  <a:pt x="283" y="829"/>
                </a:lnTo>
                <a:lnTo>
                  <a:pt x="288" y="827"/>
                </a:lnTo>
                <a:lnTo>
                  <a:pt x="295" y="825"/>
                </a:lnTo>
                <a:lnTo>
                  <a:pt x="301" y="825"/>
                </a:lnTo>
                <a:lnTo>
                  <a:pt x="306" y="825"/>
                </a:lnTo>
                <a:lnTo>
                  <a:pt x="311" y="827"/>
                </a:lnTo>
                <a:lnTo>
                  <a:pt x="316" y="829"/>
                </a:lnTo>
                <a:lnTo>
                  <a:pt x="321" y="834"/>
                </a:lnTo>
                <a:lnTo>
                  <a:pt x="324" y="837"/>
                </a:lnTo>
                <a:lnTo>
                  <a:pt x="326" y="842"/>
                </a:lnTo>
                <a:lnTo>
                  <a:pt x="327" y="847"/>
                </a:lnTo>
                <a:lnTo>
                  <a:pt x="329" y="853"/>
                </a:lnTo>
                <a:lnTo>
                  <a:pt x="331" y="860"/>
                </a:lnTo>
                <a:lnTo>
                  <a:pt x="331" y="866"/>
                </a:lnTo>
                <a:lnTo>
                  <a:pt x="329" y="873"/>
                </a:lnTo>
                <a:lnTo>
                  <a:pt x="329" y="879"/>
                </a:lnTo>
                <a:lnTo>
                  <a:pt x="329" y="882"/>
                </a:lnTo>
                <a:lnTo>
                  <a:pt x="327" y="886"/>
                </a:lnTo>
                <a:lnTo>
                  <a:pt x="326" y="891"/>
                </a:lnTo>
                <a:lnTo>
                  <a:pt x="326" y="894"/>
                </a:lnTo>
                <a:lnTo>
                  <a:pt x="324" y="897"/>
                </a:lnTo>
                <a:lnTo>
                  <a:pt x="323" y="902"/>
                </a:lnTo>
                <a:lnTo>
                  <a:pt x="323" y="905"/>
                </a:lnTo>
                <a:lnTo>
                  <a:pt x="321" y="909"/>
                </a:lnTo>
                <a:lnTo>
                  <a:pt x="319" y="912"/>
                </a:lnTo>
                <a:lnTo>
                  <a:pt x="318" y="917"/>
                </a:lnTo>
                <a:lnTo>
                  <a:pt x="316" y="920"/>
                </a:lnTo>
                <a:lnTo>
                  <a:pt x="314" y="925"/>
                </a:lnTo>
                <a:lnTo>
                  <a:pt x="313" y="928"/>
                </a:lnTo>
                <a:lnTo>
                  <a:pt x="311" y="931"/>
                </a:lnTo>
                <a:lnTo>
                  <a:pt x="309" y="936"/>
                </a:lnTo>
                <a:lnTo>
                  <a:pt x="308" y="940"/>
                </a:lnTo>
                <a:lnTo>
                  <a:pt x="305" y="946"/>
                </a:lnTo>
                <a:lnTo>
                  <a:pt x="300" y="954"/>
                </a:lnTo>
                <a:lnTo>
                  <a:pt x="296" y="961"/>
                </a:lnTo>
                <a:lnTo>
                  <a:pt x="292" y="967"/>
                </a:lnTo>
                <a:lnTo>
                  <a:pt x="288" y="974"/>
                </a:lnTo>
                <a:lnTo>
                  <a:pt x="285" y="980"/>
                </a:lnTo>
                <a:lnTo>
                  <a:pt x="282" y="987"/>
                </a:lnTo>
                <a:lnTo>
                  <a:pt x="279" y="992"/>
                </a:lnTo>
                <a:lnTo>
                  <a:pt x="274" y="997"/>
                </a:lnTo>
                <a:lnTo>
                  <a:pt x="272" y="1000"/>
                </a:lnTo>
                <a:lnTo>
                  <a:pt x="269" y="1005"/>
                </a:lnTo>
                <a:lnTo>
                  <a:pt x="267" y="1008"/>
                </a:lnTo>
                <a:lnTo>
                  <a:pt x="264" y="1013"/>
                </a:lnTo>
                <a:lnTo>
                  <a:pt x="264" y="1015"/>
                </a:lnTo>
                <a:lnTo>
                  <a:pt x="262" y="1015"/>
                </a:lnTo>
                <a:lnTo>
                  <a:pt x="259" y="1018"/>
                </a:lnTo>
                <a:lnTo>
                  <a:pt x="256" y="1021"/>
                </a:lnTo>
                <a:lnTo>
                  <a:pt x="254" y="1024"/>
                </a:lnTo>
                <a:lnTo>
                  <a:pt x="251" y="1028"/>
                </a:lnTo>
                <a:lnTo>
                  <a:pt x="248" y="1031"/>
                </a:lnTo>
                <a:lnTo>
                  <a:pt x="244" y="1034"/>
                </a:lnTo>
                <a:lnTo>
                  <a:pt x="241" y="1037"/>
                </a:lnTo>
                <a:lnTo>
                  <a:pt x="236" y="1042"/>
                </a:lnTo>
                <a:lnTo>
                  <a:pt x="231" y="1049"/>
                </a:lnTo>
                <a:lnTo>
                  <a:pt x="226" y="1052"/>
                </a:lnTo>
                <a:lnTo>
                  <a:pt x="221" y="1059"/>
                </a:lnTo>
                <a:lnTo>
                  <a:pt x="217" y="1063"/>
                </a:lnTo>
                <a:lnTo>
                  <a:pt x="213" y="1070"/>
                </a:lnTo>
                <a:lnTo>
                  <a:pt x="207" y="1075"/>
                </a:lnTo>
                <a:lnTo>
                  <a:pt x="202" y="1080"/>
                </a:lnTo>
                <a:lnTo>
                  <a:pt x="195" y="1086"/>
                </a:lnTo>
                <a:lnTo>
                  <a:pt x="191" y="1091"/>
                </a:lnTo>
                <a:lnTo>
                  <a:pt x="184" y="1096"/>
                </a:lnTo>
                <a:lnTo>
                  <a:pt x="179" y="1103"/>
                </a:lnTo>
                <a:lnTo>
                  <a:pt x="173" y="1107"/>
                </a:lnTo>
                <a:lnTo>
                  <a:pt x="168" y="1114"/>
                </a:lnTo>
                <a:lnTo>
                  <a:pt x="163" y="1119"/>
                </a:lnTo>
                <a:lnTo>
                  <a:pt x="156" y="1124"/>
                </a:lnTo>
                <a:lnTo>
                  <a:pt x="151" y="1129"/>
                </a:lnTo>
                <a:lnTo>
                  <a:pt x="147" y="1134"/>
                </a:lnTo>
                <a:lnTo>
                  <a:pt x="142" y="1137"/>
                </a:lnTo>
                <a:lnTo>
                  <a:pt x="137" y="1142"/>
                </a:lnTo>
                <a:lnTo>
                  <a:pt x="132" y="1145"/>
                </a:lnTo>
                <a:lnTo>
                  <a:pt x="129" y="1148"/>
                </a:lnTo>
                <a:lnTo>
                  <a:pt x="151" y="1181"/>
                </a:lnTo>
                <a:lnTo>
                  <a:pt x="151" y="1179"/>
                </a:lnTo>
                <a:lnTo>
                  <a:pt x="156" y="1174"/>
                </a:lnTo>
                <a:lnTo>
                  <a:pt x="158" y="1169"/>
                </a:lnTo>
                <a:lnTo>
                  <a:pt x="161" y="1166"/>
                </a:lnTo>
                <a:lnTo>
                  <a:pt x="166" y="1163"/>
                </a:lnTo>
                <a:lnTo>
                  <a:pt x="169" y="1158"/>
                </a:lnTo>
                <a:lnTo>
                  <a:pt x="174" y="1153"/>
                </a:lnTo>
                <a:lnTo>
                  <a:pt x="179" y="1148"/>
                </a:lnTo>
                <a:lnTo>
                  <a:pt x="184" y="1143"/>
                </a:lnTo>
                <a:lnTo>
                  <a:pt x="191" y="1137"/>
                </a:lnTo>
                <a:lnTo>
                  <a:pt x="197" y="1132"/>
                </a:lnTo>
                <a:lnTo>
                  <a:pt x="202" y="1127"/>
                </a:lnTo>
                <a:lnTo>
                  <a:pt x="208" y="1122"/>
                </a:lnTo>
                <a:lnTo>
                  <a:pt x="215" y="1117"/>
                </a:lnTo>
                <a:lnTo>
                  <a:pt x="221" y="1111"/>
                </a:lnTo>
                <a:lnTo>
                  <a:pt x="226" y="1106"/>
                </a:lnTo>
                <a:lnTo>
                  <a:pt x="235" y="1103"/>
                </a:lnTo>
                <a:lnTo>
                  <a:pt x="241" y="1099"/>
                </a:lnTo>
                <a:lnTo>
                  <a:pt x="246" y="1094"/>
                </a:lnTo>
                <a:lnTo>
                  <a:pt x="252" y="1093"/>
                </a:lnTo>
                <a:lnTo>
                  <a:pt x="257" y="1090"/>
                </a:lnTo>
                <a:lnTo>
                  <a:pt x="264" y="1090"/>
                </a:lnTo>
                <a:lnTo>
                  <a:pt x="269" y="1088"/>
                </a:lnTo>
                <a:lnTo>
                  <a:pt x="274" y="1088"/>
                </a:lnTo>
                <a:lnTo>
                  <a:pt x="279" y="1088"/>
                </a:lnTo>
                <a:lnTo>
                  <a:pt x="283" y="1091"/>
                </a:lnTo>
                <a:lnTo>
                  <a:pt x="287" y="1093"/>
                </a:lnTo>
                <a:lnTo>
                  <a:pt x="290" y="1098"/>
                </a:lnTo>
                <a:lnTo>
                  <a:pt x="293" y="1103"/>
                </a:lnTo>
                <a:lnTo>
                  <a:pt x="295" y="1109"/>
                </a:lnTo>
                <a:lnTo>
                  <a:pt x="296" y="1116"/>
                </a:lnTo>
                <a:lnTo>
                  <a:pt x="298" y="1122"/>
                </a:lnTo>
                <a:lnTo>
                  <a:pt x="300" y="1127"/>
                </a:lnTo>
                <a:lnTo>
                  <a:pt x="301" y="1134"/>
                </a:lnTo>
                <a:lnTo>
                  <a:pt x="301" y="1140"/>
                </a:lnTo>
                <a:lnTo>
                  <a:pt x="303" y="1145"/>
                </a:lnTo>
                <a:lnTo>
                  <a:pt x="305" y="1150"/>
                </a:lnTo>
                <a:lnTo>
                  <a:pt x="306" y="1155"/>
                </a:lnTo>
                <a:lnTo>
                  <a:pt x="306" y="1160"/>
                </a:lnTo>
                <a:lnTo>
                  <a:pt x="306" y="1165"/>
                </a:lnTo>
                <a:lnTo>
                  <a:pt x="306" y="1169"/>
                </a:lnTo>
                <a:lnTo>
                  <a:pt x="308" y="1174"/>
                </a:lnTo>
                <a:lnTo>
                  <a:pt x="308" y="1178"/>
                </a:lnTo>
                <a:lnTo>
                  <a:pt x="308" y="1182"/>
                </a:lnTo>
                <a:lnTo>
                  <a:pt x="308" y="1186"/>
                </a:lnTo>
                <a:lnTo>
                  <a:pt x="309" y="1191"/>
                </a:lnTo>
                <a:lnTo>
                  <a:pt x="309" y="1196"/>
                </a:lnTo>
                <a:lnTo>
                  <a:pt x="309" y="1199"/>
                </a:lnTo>
                <a:lnTo>
                  <a:pt x="311" y="1202"/>
                </a:lnTo>
                <a:lnTo>
                  <a:pt x="311" y="1207"/>
                </a:lnTo>
                <a:lnTo>
                  <a:pt x="311" y="1212"/>
                </a:lnTo>
                <a:lnTo>
                  <a:pt x="313" y="1215"/>
                </a:lnTo>
                <a:lnTo>
                  <a:pt x="313" y="1220"/>
                </a:lnTo>
                <a:lnTo>
                  <a:pt x="314" y="1225"/>
                </a:lnTo>
                <a:lnTo>
                  <a:pt x="316" y="1230"/>
                </a:lnTo>
                <a:lnTo>
                  <a:pt x="316" y="1235"/>
                </a:lnTo>
                <a:lnTo>
                  <a:pt x="318" y="1240"/>
                </a:lnTo>
                <a:lnTo>
                  <a:pt x="319" y="1244"/>
                </a:lnTo>
                <a:lnTo>
                  <a:pt x="321" y="1251"/>
                </a:lnTo>
                <a:lnTo>
                  <a:pt x="323" y="1258"/>
                </a:lnTo>
                <a:lnTo>
                  <a:pt x="326" y="1262"/>
                </a:lnTo>
                <a:lnTo>
                  <a:pt x="327" y="1269"/>
                </a:lnTo>
                <a:lnTo>
                  <a:pt x="329" y="1275"/>
                </a:lnTo>
                <a:lnTo>
                  <a:pt x="331" y="1282"/>
                </a:lnTo>
                <a:lnTo>
                  <a:pt x="332" y="1288"/>
                </a:lnTo>
                <a:lnTo>
                  <a:pt x="334" y="1295"/>
                </a:lnTo>
                <a:lnTo>
                  <a:pt x="336" y="1300"/>
                </a:lnTo>
                <a:lnTo>
                  <a:pt x="336" y="1306"/>
                </a:lnTo>
                <a:lnTo>
                  <a:pt x="337" y="1313"/>
                </a:lnTo>
                <a:lnTo>
                  <a:pt x="339" y="1319"/>
                </a:lnTo>
                <a:lnTo>
                  <a:pt x="339" y="1324"/>
                </a:lnTo>
                <a:lnTo>
                  <a:pt x="339" y="1331"/>
                </a:lnTo>
                <a:lnTo>
                  <a:pt x="339" y="1336"/>
                </a:lnTo>
                <a:lnTo>
                  <a:pt x="339" y="1342"/>
                </a:lnTo>
                <a:lnTo>
                  <a:pt x="339" y="1347"/>
                </a:lnTo>
                <a:lnTo>
                  <a:pt x="339" y="1352"/>
                </a:lnTo>
                <a:lnTo>
                  <a:pt x="339" y="1357"/>
                </a:lnTo>
                <a:lnTo>
                  <a:pt x="339" y="1362"/>
                </a:lnTo>
                <a:lnTo>
                  <a:pt x="337" y="1367"/>
                </a:lnTo>
                <a:lnTo>
                  <a:pt x="337" y="1370"/>
                </a:lnTo>
                <a:lnTo>
                  <a:pt x="336" y="1375"/>
                </a:lnTo>
                <a:lnTo>
                  <a:pt x="336" y="1378"/>
                </a:lnTo>
                <a:lnTo>
                  <a:pt x="336" y="1385"/>
                </a:lnTo>
                <a:lnTo>
                  <a:pt x="334" y="1391"/>
                </a:lnTo>
                <a:lnTo>
                  <a:pt x="332" y="1396"/>
                </a:lnTo>
                <a:lnTo>
                  <a:pt x="332" y="1399"/>
                </a:lnTo>
                <a:lnTo>
                  <a:pt x="332" y="1403"/>
                </a:lnTo>
                <a:lnTo>
                  <a:pt x="332" y="1403"/>
                </a:lnTo>
                <a:lnTo>
                  <a:pt x="308" y="1468"/>
                </a:lnTo>
                <a:lnTo>
                  <a:pt x="353" y="1479"/>
                </a:lnTo>
                <a:lnTo>
                  <a:pt x="353" y="1478"/>
                </a:lnTo>
                <a:lnTo>
                  <a:pt x="355" y="1473"/>
                </a:lnTo>
                <a:lnTo>
                  <a:pt x="355" y="1471"/>
                </a:lnTo>
                <a:lnTo>
                  <a:pt x="357" y="1466"/>
                </a:lnTo>
                <a:lnTo>
                  <a:pt x="360" y="1463"/>
                </a:lnTo>
                <a:lnTo>
                  <a:pt x="362" y="1458"/>
                </a:lnTo>
                <a:lnTo>
                  <a:pt x="363" y="1453"/>
                </a:lnTo>
                <a:lnTo>
                  <a:pt x="365" y="1447"/>
                </a:lnTo>
                <a:lnTo>
                  <a:pt x="367" y="1442"/>
                </a:lnTo>
                <a:lnTo>
                  <a:pt x="370" y="1435"/>
                </a:lnTo>
                <a:lnTo>
                  <a:pt x="370" y="1432"/>
                </a:lnTo>
                <a:lnTo>
                  <a:pt x="371" y="1429"/>
                </a:lnTo>
                <a:lnTo>
                  <a:pt x="373" y="1424"/>
                </a:lnTo>
                <a:lnTo>
                  <a:pt x="373" y="1421"/>
                </a:lnTo>
                <a:lnTo>
                  <a:pt x="375" y="1417"/>
                </a:lnTo>
                <a:lnTo>
                  <a:pt x="376" y="1414"/>
                </a:lnTo>
                <a:lnTo>
                  <a:pt x="376" y="1409"/>
                </a:lnTo>
                <a:lnTo>
                  <a:pt x="380" y="1406"/>
                </a:lnTo>
                <a:lnTo>
                  <a:pt x="380" y="1403"/>
                </a:lnTo>
                <a:lnTo>
                  <a:pt x="380" y="1398"/>
                </a:lnTo>
                <a:lnTo>
                  <a:pt x="381" y="1393"/>
                </a:lnTo>
                <a:lnTo>
                  <a:pt x="383" y="1390"/>
                </a:lnTo>
                <a:lnTo>
                  <a:pt x="383" y="1385"/>
                </a:lnTo>
                <a:lnTo>
                  <a:pt x="384" y="1381"/>
                </a:lnTo>
                <a:lnTo>
                  <a:pt x="384" y="1377"/>
                </a:lnTo>
                <a:lnTo>
                  <a:pt x="386" y="1372"/>
                </a:lnTo>
                <a:lnTo>
                  <a:pt x="388" y="1367"/>
                </a:lnTo>
                <a:lnTo>
                  <a:pt x="388" y="1364"/>
                </a:lnTo>
                <a:lnTo>
                  <a:pt x="388" y="1359"/>
                </a:lnTo>
                <a:lnTo>
                  <a:pt x="389" y="1354"/>
                </a:lnTo>
                <a:lnTo>
                  <a:pt x="389" y="1350"/>
                </a:lnTo>
                <a:lnTo>
                  <a:pt x="389" y="1346"/>
                </a:lnTo>
                <a:lnTo>
                  <a:pt x="391" y="1341"/>
                </a:lnTo>
                <a:lnTo>
                  <a:pt x="391" y="1336"/>
                </a:lnTo>
                <a:lnTo>
                  <a:pt x="391" y="1331"/>
                </a:lnTo>
                <a:lnTo>
                  <a:pt x="391" y="1326"/>
                </a:lnTo>
                <a:lnTo>
                  <a:pt x="391" y="1323"/>
                </a:lnTo>
                <a:lnTo>
                  <a:pt x="391" y="1318"/>
                </a:lnTo>
                <a:lnTo>
                  <a:pt x="391" y="1313"/>
                </a:lnTo>
                <a:lnTo>
                  <a:pt x="391" y="1308"/>
                </a:lnTo>
                <a:lnTo>
                  <a:pt x="391" y="1303"/>
                </a:lnTo>
                <a:lnTo>
                  <a:pt x="391" y="1298"/>
                </a:lnTo>
                <a:lnTo>
                  <a:pt x="389" y="1293"/>
                </a:lnTo>
                <a:lnTo>
                  <a:pt x="389" y="1288"/>
                </a:lnTo>
                <a:lnTo>
                  <a:pt x="389" y="1285"/>
                </a:lnTo>
                <a:lnTo>
                  <a:pt x="389" y="1280"/>
                </a:lnTo>
                <a:lnTo>
                  <a:pt x="388" y="1275"/>
                </a:lnTo>
                <a:lnTo>
                  <a:pt x="388" y="1271"/>
                </a:lnTo>
                <a:lnTo>
                  <a:pt x="386" y="1267"/>
                </a:lnTo>
                <a:lnTo>
                  <a:pt x="384" y="1262"/>
                </a:lnTo>
                <a:lnTo>
                  <a:pt x="383" y="1258"/>
                </a:lnTo>
                <a:lnTo>
                  <a:pt x="381" y="1254"/>
                </a:lnTo>
                <a:lnTo>
                  <a:pt x="380" y="1248"/>
                </a:lnTo>
                <a:lnTo>
                  <a:pt x="380" y="1244"/>
                </a:lnTo>
                <a:lnTo>
                  <a:pt x="378" y="1240"/>
                </a:lnTo>
                <a:lnTo>
                  <a:pt x="376" y="1235"/>
                </a:lnTo>
                <a:lnTo>
                  <a:pt x="376" y="1230"/>
                </a:lnTo>
                <a:lnTo>
                  <a:pt x="375" y="1227"/>
                </a:lnTo>
                <a:lnTo>
                  <a:pt x="373" y="1222"/>
                </a:lnTo>
                <a:lnTo>
                  <a:pt x="373" y="1217"/>
                </a:lnTo>
                <a:lnTo>
                  <a:pt x="371" y="1213"/>
                </a:lnTo>
                <a:lnTo>
                  <a:pt x="371" y="1209"/>
                </a:lnTo>
                <a:lnTo>
                  <a:pt x="370" y="1204"/>
                </a:lnTo>
                <a:lnTo>
                  <a:pt x="370" y="1200"/>
                </a:lnTo>
                <a:lnTo>
                  <a:pt x="370" y="1196"/>
                </a:lnTo>
                <a:lnTo>
                  <a:pt x="370" y="1191"/>
                </a:lnTo>
                <a:lnTo>
                  <a:pt x="368" y="1186"/>
                </a:lnTo>
                <a:lnTo>
                  <a:pt x="367" y="1182"/>
                </a:lnTo>
                <a:lnTo>
                  <a:pt x="367" y="1178"/>
                </a:lnTo>
                <a:lnTo>
                  <a:pt x="367" y="1173"/>
                </a:lnTo>
                <a:lnTo>
                  <a:pt x="367" y="1169"/>
                </a:lnTo>
                <a:lnTo>
                  <a:pt x="365" y="1165"/>
                </a:lnTo>
                <a:lnTo>
                  <a:pt x="365" y="1160"/>
                </a:lnTo>
                <a:lnTo>
                  <a:pt x="365" y="1156"/>
                </a:lnTo>
                <a:lnTo>
                  <a:pt x="365" y="1152"/>
                </a:lnTo>
                <a:lnTo>
                  <a:pt x="365" y="1148"/>
                </a:lnTo>
                <a:lnTo>
                  <a:pt x="365" y="1143"/>
                </a:lnTo>
                <a:lnTo>
                  <a:pt x="365" y="1138"/>
                </a:lnTo>
                <a:lnTo>
                  <a:pt x="365" y="1135"/>
                </a:lnTo>
                <a:lnTo>
                  <a:pt x="365" y="1132"/>
                </a:lnTo>
                <a:lnTo>
                  <a:pt x="365" y="1127"/>
                </a:lnTo>
                <a:lnTo>
                  <a:pt x="365" y="1124"/>
                </a:lnTo>
                <a:lnTo>
                  <a:pt x="365" y="1121"/>
                </a:lnTo>
                <a:lnTo>
                  <a:pt x="365" y="1116"/>
                </a:lnTo>
                <a:lnTo>
                  <a:pt x="365" y="1112"/>
                </a:lnTo>
                <a:lnTo>
                  <a:pt x="365" y="1107"/>
                </a:lnTo>
                <a:lnTo>
                  <a:pt x="367" y="1101"/>
                </a:lnTo>
                <a:lnTo>
                  <a:pt x="367" y="1094"/>
                </a:lnTo>
                <a:lnTo>
                  <a:pt x="368" y="1086"/>
                </a:lnTo>
                <a:lnTo>
                  <a:pt x="370" y="1080"/>
                </a:lnTo>
                <a:lnTo>
                  <a:pt x="370" y="1075"/>
                </a:lnTo>
                <a:lnTo>
                  <a:pt x="373" y="1068"/>
                </a:lnTo>
                <a:lnTo>
                  <a:pt x="373" y="1062"/>
                </a:lnTo>
                <a:lnTo>
                  <a:pt x="376" y="1057"/>
                </a:lnTo>
                <a:lnTo>
                  <a:pt x="378" y="1052"/>
                </a:lnTo>
                <a:lnTo>
                  <a:pt x="380" y="1049"/>
                </a:lnTo>
                <a:lnTo>
                  <a:pt x="383" y="1044"/>
                </a:lnTo>
                <a:lnTo>
                  <a:pt x="386" y="1041"/>
                </a:lnTo>
                <a:lnTo>
                  <a:pt x="389" y="1037"/>
                </a:lnTo>
                <a:lnTo>
                  <a:pt x="393" y="1036"/>
                </a:lnTo>
                <a:lnTo>
                  <a:pt x="399" y="1031"/>
                </a:lnTo>
                <a:lnTo>
                  <a:pt x="404" y="1028"/>
                </a:lnTo>
                <a:lnTo>
                  <a:pt x="411" y="1024"/>
                </a:lnTo>
                <a:lnTo>
                  <a:pt x="417" y="1024"/>
                </a:lnTo>
                <a:lnTo>
                  <a:pt x="424" y="1023"/>
                </a:lnTo>
                <a:lnTo>
                  <a:pt x="428" y="1023"/>
                </a:lnTo>
                <a:lnTo>
                  <a:pt x="435" y="1023"/>
                </a:lnTo>
                <a:lnTo>
                  <a:pt x="441" y="1024"/>
                </a:lnTo>
                <a:lnTo>
                  <a:pt x="445" y="1026"/>
                </a:lnTo>
                <a:lnTo>
                  <a:pt x="450" y="1028"/>
                </a:lnTo>
                <a:lnTo>
                  <a:pt x="453" y="1029"/>
                </a:lnTo>
                <a:lnTo>
                  <a:pt x="458" y="1031"/>
                </a:lnTo>
                <a:lnTo>
                  <a:pt x="461" y="1034"/>
                </a:lnTo>
                <a:lnTo>
                  <a:pt x="464" y="1036"/>
                </a:lnTo>
                <a:lnTo>
                  <a:pt x="466" y="1037"/>
                </a:lnTo>
                <a:lnTo>
                  <a:pt x="469" y="1041"/>
                </a:lnTo>
                <a:lnTo>
                  <a:pt x="471" y="1042"/>
                </a:lnTo>
                <a:lnTo>
                  <a:pt x="474" y="1046"/>
                </a:lnTo>
                <a:lnTo>
                  <a:pt x="477" y="1050"/>
                </a:lnTo>
                <a:lnTo>
                  <a:pt x="482" y="1054"/>
                </a:lnTo>
                <a:lnTo>
                  <a:pt x="485" y="1059"/>
                </a:lnTo>
                <a:lnTo>
                  <a:pt x="489" y="1062"/>
                </a:lnTo>
                <a:lnTo>
                  <a:pt x="492" y="1065"/>
                </a:lnTo>
                <a:lnTo>
                  <a:pt x="495" y="1070"/>
                </a:lnTo>
                <a:lnTo>
                  <a:pt x="499" y="1073"/>
                </a:lnTo>
                <a:lnTo>
                  <a:pt x="500" y="1076"/>
                </a:lnTo>
                <a:lnTo>
                  <a:pt x="502" y="1080"/>
                </a:lnTo>
                <a:lnTo>
                  <a:pt x="505" y="1083"/>
                </a:lnTo>
                <a:lnTo>
                  <a:pt x="508" y="1088"/>
                </a:lnTo>
                <a:lnTo>
                  <a:pt x="515" y="1096"/>
                </a:lnTo>
                <a:lnTo>
                  <a:pt x="518" y="1099"/>
                </a:lnTo>
                <a:lnTo>
                  <a:pt x="521" y="1103"/>
                </a:lnTo>
                <a:lnTo>
                  <a:pt x="526" y="1106"/>
                </a:lnTo>
                <a:lnTo>
                  <a:pt x="531" y="1111"/>
                </a:lnTo>
                <a:lnTo>
                  <a:pt x="534" y="1114"/>
                </a:lnTo>
                <a:lnTo>
                  <a:pt x="539" y="1117"/>
                </a:lnTo>
                <a:lnTo>
                  <a:pt x="544" y="1121"/>
                </a:lnTo>
                <a:lnTo>
                  <a:pt x="547" y="1124"/>
                </a:lnTo>
                <a:lnTo>
                  <a:pt x="552" y="1125"/>
                </a:lnTo>
                <a:lnTo>
                  <a:pt x="556" y="1129"/>
                </a:lnTo>
                <a:lnTo>
                  <a:pt x="559" y="1132"/>
                </a:lnTo>
                <a:lnTo>
                  <a:pt x="562" y="1135"/>
                </a:lnTo>
                <a:lnTo>
                  <a:pt x="564" y="1137"/>
                </a:lnTo>
                <a:lnTo>
                  <a:pt x="567" y="1142"/>
                </a:lnTo>
                <a:lnTo>
                  <a:pt x="569" y="1147"/>
                </a:lnTo>
                <a:lnTo>
                  <a:pt x="572" y="1153"/>
                </a:lnTo>
                <a:lnTo>
                  <a:pt x="574" y="1155"/>
                </a:lnTo>
                <a:lnTo>
                  <a:pt x="575" y="1160"/>
                </a:lnTo>
                <a:lnTo>
                  <a:pt x="577" y="1163"/>
                </a:lnTo>
                <a:lnTo>
                  <a:pt x="578" y="1166"/>
                </a:lnTo>
                <a:lnTo>
                  <a:pt x="580" y="1171"/>
                </a:lnTo>
                <a:lnTo>
                  <a:pt x="582" y="1174"/>
                </a:lnTo>
                <a:lnTo>
                  <a:pt x="583" y="1179"/>
                </a:lnTo>
                <a:lnTo>
                  <a:pt x="585" y="1182"/>
                </a:lnTo>
                <a:lnTo>
                  <a:pt x="585" y="1186"/>
                </a:lnTo>
                <a:lnTo>
                  <a:pt x="588" y="1191"/>
                </a:lnTo>
                <a:lnTo>
                  <a:pt x="588" y="1194"/>
                </a:lnTo>
                <a:lnTo>
                  <a:pt x="590" y="1199"/>
                </a:lnTo>
                <a:lnTo>
                  <a:pt x="591" y="1205"/>
                </a:lnTo>
                <a:lnTo>
                  <a:pt x="595" y="1212"/>
                </a:lnTo>
                <a:lnTo>
                  <a:pt x="596" y="1217"/>
                </a:lnTo>
                <a:lnTo>
                  <a:pt x="598" y="1220"/>
                </a:lnTo>
                <a:lnTo>
                  <a:pt x="598" y="1223"/>
                </a:lnTo>
                <a:lnTo>
                  <a:pt x="600" y="1223"/>
                </a:lnTo>
                <a:lnTo>
                  <a:pt x="626" y="1218"/>
                </a:lnTo>
                <a:lnTo>
                  <a:pt x="626" y="1217"/>
                </a:lnTo>
                <a:lnTo>
                  <a:pt x="626" y="1213"/>
                </a:lnTo>
                <a:lnTo>
                  <a:pt x="626" y="1210"/>
                </a:lnTo>
                <a:lnTo>
                  <a:pt x="626" y="1207"/>
                </a:lnTo>
                <a:lnTo>
                  <a:pt x="624" y="1202"/>
                </a:lnTo>
                <a:lnTo>
                  <a:pt x="624" y="1200"/>
                </a:lnTo>
                <a:lnTo>
                  <a:pt x="622" y="1194"/>
                </a:lnTo>
                <a:lnTo>
                  <a:pt x="622" y="1189"/>
                </a:lnTo>
                <a:lnTo>
                  <a:pt x="621" y="1184"/>
                </a:lnTo>
                <a:lnTo>
                  <a:pt x="621" y="1179"/>
                </a:lnTo>
                <a:lnTo>
                  <a:pt x="619" y="1173"/>
                </a:lnTo>
                <a:lnTo>
                  <a:pt x="618" y="1168"/>
                </a:lnTo>
                <a:lnTo>
                  <a:pt x="616" y="1161"/>
                </a:lnTo>
                <a:lnTo>
                  <a:pt x="614" y="1155"/>
                </a:lnTo>
                <a:lnTo>
                  <a:pt x="611" y="1152"/>
                </a:lnTo>
                <a:lnTo>
                  <a:pt x="611" y="1148"/>
                </a:lnTo>
                <a:lnTo>
                  <a:pt x="609" y="1145"/>
                </a:lnTo>
                <a:lnTo>
                  <a:pt x="608" y="1142"/>
                </a:lnTo>
                <a:lnTo>
                  <a:pt x="604" y="1134"/>
                </a:lnTo>
                <a:lnTo>
                  <a:pt x="603" y="1127"/>
                </a:lnTo>
                <a:lnTo>
                  <a:pt x="601" y="1124"/>
                </a:lnTo>
                <a:lnTo>
                  <a:pt x="598" y="1121"/>
                </a:lnTo>
                <a:lnTo>
                  <a:pt x="596" y="1116"/>
                </a:lnTo>
                <a:lnTo>
                  <a:pt x="595" y="1112"/>
                </a:lnTo>
                <a:lnTo>
                  <a:pt x="593" y="1109"/>
                </a:lnTo>
                <a:lnTo>
                  <a:pt x="591" y="1106"/>
                </a:lnTo>
                <a:lnTo>
                  <a:pt x="590" y="1101"/>
                </a:lnTo>
                <a:lnTo>
                  <a:pt x="588" y="1098"/>
                </a:lnTo>
                <a:lnTo>
                  <a:pt x="585" y="1094"/>
                </a:lnTo>
                <a:lnTo>
                  <a:pt x="582" y="1090"/>
                </a:lnTo>
                <a:lnTo>
                  <a:pt x="578" y="1086"/>
                </a:lnTo>
                <a:lnTo>
                  <a:pt x="577" y="1083"/>
                </a:lnTo>
                <a:lnTo>
                  <a:pt x="570" y="1076"/>
                </a:lnTo>
                <a:lnTo>
                  <a:pt x="565" y="1070"/>
                </a:lnTo>
                <a:lnTo>
                  <a:pt x="559" y="1062"/>
                </a:lnTo>
                <a:lnTo>
                  <a:pt x="552" y="1055"/>
                </a:lnTo>
                <a:lnTo>
                  <a:pt x="547" y="1052"/>
                </a:lnTo>
                <a:lnTo>
                  <a:pt x="544" y="1050"/>
                </a:lnTo>
                <a:lnTo>
                  <a:pt x="541" y="1047"/>
                </a:lnTo>
                <a:lnTo>
                  <a:pt x="538" y="1044"/>
                </a:lnTo>
                <a:lnTo>
                  <a:pt x="533" y="1041"/>
                </a:lnTo>
                <a:lnTo>
                  <a:pt x="529" y="1037"/>
                </a:lnTo>
                <a:lnTo>
                  <a:pt x="525" y="1034"/>
                </a:lnTo>
                <a:lnTo>
                  <a:pt x="521" y="1031"/>
                </a:lnTo>
                <a:lnTo>
                  <a:pt x="513" y="1024"/>
                </a:lnTo>
                <a:lnTo>
                  <a:pt x="507" y="1018"/>
                </a:lnTo>
                <a:lnTo>
                  <a:pt x="503" y="1013"/>
                </a:lnTo>
                <a:lnTo>
                  <a:pt x="500" y="1010"/>
                </a:lnTo>
                <a:lnTo>
                  <a:pt x="497" y="1006"/>
                </a:lnTo>
                <a:lnTo>
                  <a:pt x="495" y="1003"/>
                </a:lnTo>
                <a:lnTo>
                  <a:pt x="492" y="998"/>
                </a:lnTo>
                <a:lnTo>
                  <a:pt x="489" y="995"/>
                </a:lnTo>
                <a:lnTo>
                  <a:pt x="485" y="990"/>
                </a:lnTo>
                <a:lnTo>
                  <a:pt x="484" y="987"/>
                </a:lnTo>
                <a:lnTo>
                  <a:pt x="482" y="984"/>
                </a:lnTo>
                <a:lnTo>
                  <a:pt x="479" y="980"/>
                </a:lnTo>
                <a:lnTo>
                  <a:pt x="476" y="975"/>
                </a:lnTo>
                <a:lnTo>
                  <a:pt x="474" y="972"/>
                </a:lnTo>
                <a:lnTo>
                  <a:pt x="472" y="967"/>
                </a:lnTo>
                <a:lnTo>
                  <a:pt x="471" y="964"/>
                </a:lnTo>
                <a:lnTo>
                  <a:pt x="469" y="959"/>
                </a:lnTo>
                <a:lnTo>
                  <a:pt x="466" y="956"/>
                </a:lnTo>
                <a:lnTo>
                  <a:pt x="464" y="953"/>
                </a:lnTo>
                <a:lnTo>
                  <a:pt x="463" y="949"/>
                </a:lnTo>
                <a:lnTo>
                  <a:pt x="461" y="944"/>
                </a:lnTo>
                <a:lnTo>
                  <a:pt x="459" y="941"/>
                </a:lnTo>
                <a:lnTo>
                  <a:pt x="458" y="936"/>
                </a:lnTo>
                <a:lnTo>
                  <a:pt x="458" y="933"/>
                </a:lnTo>
                <a:lnTo>
                  <a:pt x="456" y="928"/>
                </a:lnTo>
                <a:lnTo>
                  <a:pt x="456" y="925"/>
                </a:lnTo>
                <a:lnTo>
                  <a:pt x="453" y="922"/>
                </a:lnTo>
                <a:lnTo>
                  <a:pt x="453" y="918"/>
                </a:lnTo>
                <a:lnTo>
                  <a:pt x="451" y="913"/>
                </a:lnTo>
                <a:lnTo>
                  <a:pt x="451" y="910"/>
                </a:lnTo>
                <a:lnTo>
                  <a:pt x="450" y="905"/>
                </a:lnTo>
                <a:lnTo>
                  <a:pt x="450" y="902"/>
                </a:lnTo>
                <a:lnTo>
                  <a:pt x="448" y="899"/>
                </a:lnTo>
                <a:lnTo>
                  <a:pt x="448" y="895"/>
                </a:lnTo>
                <a:lnTo>
                  <a:pt x="448" y="887"/>
                </a:lnTo>
                <a:lnTo>
                  <a:pt x="446" y="881"/>
                </a:lnTo>
                <a:lnTo>
                  <a:pt x="446" y="876"/>
                </a:lnTo>
                <a:lnTo>
                  <a:pt x="446" y="869"/>
                </a:lnTo>
                <a:lnTo>
                  <a:pt x="446" y="863"/>
                </a:lnTo>
                <a:lnTo>
                  <a:pt x="446" y="858"/>
                </a:lnTo>
                <a:lnTo>
                  <a:pt x="448" y="851"/>
                </a:lnTo>
                <a:lnTo>
                  <a:pt x="448" y="848"/>
                </a:lnTo>
                <a:lnTo>
                  <a:pt x="450" y="843"/>
                </a:lnTo>
                <a:lnTo>
                  <a:pt x="451" y="840"/>
                </a:lnTo>
                <a:lnTo>
                  <a:pt x="453" y="835"/>
                </a:lnTo>
                <a:lnTo>
                  <a:pt x="455" y="834"/>
                </a:lnTo>
                <a:lnTo>
                  <a:pt x="458" y="827"/>
                </a:lnTo>
                <a:lnTo>
                  <a:pt x="461" y="822"/>
                </a:lnTo>
                <a:lnTo>
                  <a:pt x="466" y="817"/>
                </a:lnTo>
                <a:lnTo>
                  <a:pt x="472" y="814"/>
                </a:lnTo>
                <a:lnTo>
                  <a:pt x="477" y="809"/>
                </a:lnTo>
                <a:lnTo>
                  <a:pt x="482" y="806"/>
                </a:lnTo>
                <a:lnTo>
                  <a:pt x="489" y="803"/>
                </a:lnTo>
                <a:lnTo>
                  <a:pt x="494" y="801"/>
                </a:lnTo>
                <a:lnTo>
                  <a:pt x="499" y="798"/>
                </a:lnTo>
                <a:lnTo>
                  <a:pt x="503" y="796"/>
                </a:lnTo>
                <a:lnTo>
                  <a:pt x="507" y="794"/>
                </a:lnTo>
                <a:lnTo>
                  <a:pt x="512" y="794"/>
                </a:lnTo>
                <a:lnTo>
                  <a:pt x="515" y="793"/>
                </a:lnTo>
                <a:lnTo>
                  <a:pt x="518" y="791"/>
                </a:lnTo>
                <a:lnTo>
                  <a:pt x="520" y="791"/>
                </a:lnTo>
                <a:lnTo>
                  <a:pt x="520" y="791"/>
                </a:lnTo>
                <a:lnTo>
                  <a:pt x="521" y="791"/>
                </a:lnTo>
                <a:lnTo>
                  <a:pt x="523" y="791"/>
                </a:lnTo>
                <a:lnTo>
                  <a:pt x="526" y="789"/>
                </a:lnTo>
                <a:lnTo>
                  <a:pt x="533" y="789"/>
                </a:lnTo>
                <a:lnTo>
                  <a:pt x="539" y="788"/>
                </a:lnTo>
                <a:lnTo>
                  <a:pt x="546" y="788"/>
                </a:lnTo>
                <a:lnTo>
                  <a:pt x="551" y="786"/>
                </a:lnTo>
                <a:lnTo>
                  <a:pt x="554" y="786"/>
                </a:lnTo>
                <a:lnTo>
                  <a:pt x="559" y="786"/>
                </a:lnTo>
                <a:lnTo>
                  <a:pt x="564" y="786"/>
                </a:lnTo>
                <a:lnTo>
                  <a:pt x="567" y="785"/>
                </a:lnTo>
                <a:lnTo>
                  <a:pt x="572" y="785"/>
                </a:lnTo>
                <a:lnTo>
                  <a:pt x="577" y="785"/>
                </a:lnTo>
                <a:lnTo>
                  <a:pt x="582" y="785"/>
                </a:lnTo>
                <a:lnTo>
                  <a:pt x="585" y="783"/>
                </a:lnTo>
                <a:lnTo>
                  <a:pt x="590" y="783"/>
                </a:lnTo>
                <a:lnTo>
                  <a:pt x="595" y="783"/>
                </a:lnTo>
                <a:lnTo>
                  <a:pt x="598" y="783"/>
                </a:lnTo>
                <a:lnTo>
                  <a:pt x="601" y="783"/>
                </a:lnTo>
                <a:lnTo>
                  <a:pt x="606" y="783"/>
                </a:lnTo>
                <a:lnTo>
                  <a:pt x="609" y="783"/>
                </a:lnTo>
                <a:lnTo>
                  <a:pt x="614" y="785"/>
                </a:lnTo>
                <a:lnTo>
                  <a:pt x="621" y="785"/>
                </a:lnTo>
                <a:lnTo>
                  <a:pt x="626" y="786"/>
                </a:lnTo>
                <a:lnTo>
                  <a:pt x="616" y="728"/>
                </a:lnTo>
                <a:lnTo>
                  <a:pt x="613" y="728"/>
                </a:lnTo>
                <a:lnTo>
                  <a:pt x="609" y="728"/>
                </a:lnTo>
                <a:lnTo>
                  <a:pt x="606" y="729"/>
                </a:lnTo>
                <a:lnTo>
                  <a:pt x="603" y="729"/>
                </a:lnTo>
                <a:lnTo>
                  <a:pt x="600" y="729"/>
                </a:lnTo>
                <a:lnTo>
                  <a:pt x="595" y="731"/>
                </a:lnTo>
                <a:lnTo>
                  <a:pt x="590" y="731"/>
                </a:lnTo>
                <a:lnTo>
                  <a:pt x="585" y="732"/>
                </a:lnTo>
                <a:lnTo>
                  <a:pt x="578" y="732"/>
                </a:lnTo>
                <a:lnTo>
                  <a:pt x="574" y="734"/>
                </a:lnTo>
                <a:lnTo>
                  <a:pt x="567" y="734"/>
                </a:lnTo>
                <a:lnTo>
                  <a:pt x="560" y="734"/>
                </a:lnTo>
                <a:lnTo>
                  <a:pt x="554" y="734"/>
                </a:lnTo>
                <a:lnTo>
                  <a:pt x="549" y="734"/>
                </a:lnTo>
                <a:lnTo>
                  <a:pt x="544" y="732"/>
                </a:lnTo>
                <a:lnTo>
                  <a:pt x="541" y="732"/>
                </a:lnTo>
                <a:lnTo>
                  <a:pt x="538" y="731"/>
                </a:lnTo>
                <a:lnTo>
                  <a:pt x="534" y="731"/>
                </a:lnTo>
                <a:lnTo>
                  <a:pt x="526" y="729"/>
                </a:lnTo>
                <a:lnTo>
                  <a:pt x="520" y="728"/>
                </a:lnTo>
                <a:lnTo>
                  <a:pt x="516" y="726"/>
                </a:lnTo>
                <a:lnTo>
                  <a:pt x="513" y="726"/>
                </a:lnTo>
                <a:lnTo>
                  <a:pt x="510" y="724"/>
                </a:lnTo>
                <a:lnTo>
                  <a:pt x="507" y="723"/>
                </a:lnTo>
                <a:lnTo>
                  <a:pt x="499" y="719"/>
                </a:lnTo>
                <a:lnTo>
                  <a:pt x="492" y="718"/>
                </a:lnTo>
                <a:lnTo>
                  <a:pt x="485" y="713"/>
                </a:lnTo>
                <a:lnTo>
                  <a:pt x="479" y="710"/>
                </a:lnTo>
                <a:lnTo>
                  <a:pt x="472" y="703"/>
                </a:lnTo>
                <a:lnTo>
                  <a:pt x="466" y="698"/>
                </a:lnTo>
                <a:lnTo>
                  <a:pt x="459" y="692"/>
                </a:lnTo>
                <a:lnTo>
                  <a:pt x="455" y="685"/>
                </a:lnTo>
                <a:lnTo>
                  <a:pt x="451" y="682"/>
                </a:lnTo>
                <a:lnTo>
                  <a:pt x="448" y="677"/>
                </a:lnTo>
                <a:lnTo>
                  <a:pt x="446" y="674"/>
                </a:lnTo>
                <a:lnTo>
                  <a:pt x="445" y="670"/>
                </a:lnTo>
                <a:lnTo>
                  <a:pt x="441" y="666"/>
                </a:lnTo>
                <a:lnTo>
                  <a:pt x="438" y="661"/>
                </a:lnTo>
                <a:lnTo>
                  <a:pt x="437" y="656"/>
                </a:lnTo>
                <a:lnTo>
                  <a:pt x="435" y="653"/>
                </a:lnTo>
                <a:lnTo>
                  <a:pt x="432" y="648"/>
                </a:lnTo>
                <a:lnTo>
                  <a:pt x="430" y="644"/>
                </a:lnTo>
                <a:lnTo>
                  <a:pt x="428" y="641"/>
                </a:lnTo>
                <a:lnTo>
                  <a:pt x="427" y="638"/>
                </a:lnTo>
                <a:lnTo>
                  <a:pt x="424" y="633"/>
                </a:lnTo>
                <a:lnTo>
                  <a:pt x="422" y="630"/>
                </a:lnTo>
                <a:lnTo>
                  <a:pt x="420" y="625"/>
                </a:lnTo>
                <a:lnTo>
                  <a:pt x="417" y="622"/>
                </a:lnTo>
                <a:lnTo>
                  <a:pt x="414" y="615"/>
                </a:lnTo>
                <a:lnTo>
                  <a:pt x="411" y="608"/>
                </a:lnTo>
                <a:lnTo>
                  <a:pt x="407" y="602"/>
                </a:lnTo>
                <a:lnTo>
                  <a:pt x="404" y="595"/>
                </a:lnTo>
                <a:lnTo>
                  <a:pt x="401" y="589"/>
                </a:lnTo>
                <a:lnTo>
                  <a:pt x="397" y="584"/>
                </a:lnTo>
                <a:lnTo>
                  <a:pt x="394" y="577"/>
                </a:lnTo>
                <a:lnTo>
                  <a:pt x="393" y="573"/>
                </a:lnTo>
                <a:lnTo>
                  <a:pt x="389" y="566"/>
                </a:lnTo>
                <a:lnTo>
                  <a:pt x="388" y="561"/>
                </a:lnTo>
                <a:lnTo>
                  <a:pt x="386" y="555"/>
                </a:lnTo>
                <a:lnTo>
                  <a:pt x="384" y="550"/>
                </a:lnTo>
                <a:lnTo>
                  <a:pt x="383" y="545"/>
                </a:lnTo>
                <a:lnTo>
                  <a:pt x="381" y="538"/>
                </a:lnTo>
                <a:lnTo>
                  <a:pt x="380" y="533"/>
                </a:lnTo>
                <a:lnTo>
                  <a:pt x="378" y="527"/>
                </a:lnTo>
                <a:lnTo>
                  <a:pt x="378" y="522"/>
                </a:lnTo>
                <a:lnTo>
                  <a:pt x="378" y="517"/>
                </a:lnTo>
                <a:lnTo>
                  <a:pt x="376" y="511"/>
                </a:lnTo>
                <a:lnTo>
                  <a:pt x="376" y="506"/>
                </a:lnTo>
                <a:lnTo>
                  <a:pt x="376" y="499"/>
                </a:lnTo>
                <a:lnTo>
                  <a:pt x="376" y="494"/>
                </a:lnTo>
                <a:lnTo>
                  <a:pt x="376" y="488"/>
                </a:lnTo>
                <a:lnTo>
                  <a:pt x="378" y="483"/>
                </a:lnTo>
                <a:lnTo>
                  <a:pt x="380" y="476"/>
                </a:lnTo>
                <a:lnTo>
                  <a:pt x="381" y="470"/>
                </a:lnTo>
                <a:lnTo>
                  <a:pt x="381" y="463"/>
                </a:lnTo>
                <a:lnTo>
                  <a:pt x="383" y="455"/>
                </a:lnTo>
                <a:lnTo>
                  <a:pt x="384" y="449"/>
                </a:lnTo>
                <a:lnTo>
                  <a:pt x="386" y="442"/>
                </a:lnTo>
                <a:lnTo>
                  <a:pt x="388" y="436"/>
                </a:lnTo>
                <a:lnTo>
                  <a:pt x="389" y="429"/>
                </a:lnTo>
                <a:lnTo>
                  <a:pt x="393" y="421"/>
                </a:lnTo>
                <a:lnTo>
                  <a:pt x="394" y="416"/>
                </a:lnTo>
                <a:lnTo>
                  <a:pt x="396" y="410"/>
                </a:lnTo>
                <a:lnTo>
                  <a:pt x="397" y="403"/>
                </a:lnTo>
                <a:lnTo>
                  <a:pt x="401" y="396"/>
                </a:lnTo>
                <a:lnTo>
                  <a:pt x="402" y="390"/>
                </a:lnTo>
                <a:lnTo>
                  <a:pt x="404" y="383"/>
                </a:lnTo>
                <a:lnTo>
                  <a:pt x="407" y="379"/>
                </a:lnTo>
                <a:lnTo>
                  <a:pt x="409" y="374"/>
                </a:lnTo>
                <a:lnTo>
                  <a:pt x="411" y="367"/>
                </a:lnTo>
                <a:lnTo>
                  <a:pt x="412" y="362"/>
                </a:lnTo>
                <a:lnTo>
                  <a:pt x="414" y="357"/>
                </a:lnTo>
                <a:lnTo>
                  <a:pt x="417" y="352"/>
                </a:lnTo>
                <a:lnTo>
                  <a:pt x="419" y="348"/>
                </a:lnTo>
                <a:lnTo>
                  <a:pt x="420" y="343"/>
                </a:lnTo>
                <a:lnTo>
                  <a:pt x="422" y="339"/>
                </a:lnTo>
                <a:lnTo>
                  <a:pt x="424" y="336"/>
                </a:lnTo>
                <a:lnTo>
                  <a:pt x="425" y="333"/>
                </a:lnTo>
                <a:lnTo>
                  <a:pt x="427" y="326"/>
                </a:lnTo>
                <a:lnTo>
                  <a:pt x="430" y="323"/>
                </a:lnTo>
                <a:lnTo>
                  <a:pt x="432" y="320"/>
                </a:lnTo>
                <a:lnTo>
                  <a:pt x="432" y="320"/>
                </a:lnTo>
                <a:lnTo>
                  <a:pt x="393" y="307"/>
                </a:lnTo>
                <a:lnTo>
                  <a:pt x="391" y="308"/>
                </a:lnTo>
                <a:lnTo>
                  <a:pt x="389" y="312"/>
                </a:lnTo>
                <a:lnTo>
                  <a:pt x="388" y="315"/>
                </a:lnTo>
                <a:lnTo>
                  <a:pt x="386" y="320"/>
                </a:lnTo>
                <a:lnTo>
                  <a:pt x="384" y="325"/>
                </a:lnTo>
                <a:lnTo>
                  <a:pt x="381" y="330"/>
                </a:lnTo>
                <a:lnTo>
                  <a:pt x="378" y="335"/>
                </a:lnTo>
                <a:lnTo>
                  <a:pt x="376" y="341"/>
                </a:lnTo>
                <a:lnTo>
                  <a:pt x="373" y="348"/>
                </a:lnTo>
                <a:lnTo>
                  <a:pt x="370" y="354"/>
                </a:lnTo>
                <a:lnTo>
                  <a:pt x="365" y="361"/>
                </a:lnTo>
                <a:lnTo>
                  <a:pt x="362" y="369"/>
                </a:lnTo>
                <a:lnTo>
                  <a:pt x="360" y="372"/>
                </a:lnTo>
                <a:lnTo>
                  <a:pt x="357" y="375"/>
                </a:lnTo>
                <a:lnTo>
                  <a:pt x="355" y="380"/>
                </a:lnTo>
                <a:lnTo>
                  <a:pt x="353" y="383"/>
                </a:lnTo>
                <a:lnTo>
                  <a:pt x="350" y="387"/>
                </a:lnTo>
                <a:lnTo>
                  <a:pt x="349" y="390"/>
                </a:lnTo>
                <a:lnTo>
                  <a:pt x="345" y="395"/>
                </a:lnTo>
                <a:lnTo>
                  <a:pt x="344" y="398"/>
                </a:lnTo>
                <a:lnTo>
                  <a:pt x="340" y="401"/>
                </a:lnTo>
                <a:lnTo>
                  <a:pt x="339" y="405"/>
                </a:lnTo>
                <a:lnTo>
                  <a:pt x="336" y="408"/>
                </a:lnTo>
                <a:lnTo>
                  <a:pt x="334" y="413"/>
                </a:lnTo>
                <a:lnTo>
                  <a:pt x="327" y="419"/>
                </a:lnTo>
                <a:lnTo>
                  <a:pt x="323" y="426"/>
                </a:lnTo>
                <a:lnTo>
                  <a:pt x="318" y="432"/>
                </a:lnTo>
                <a:lnTo>
                  <a:pt x="313" y="441"/>
                </a:lnTo>
                <a:lnTo>
                  <a:pt x="306" y="445"/>
                </a:lnTo>
                <a:lnTo>
                  <a:pt x="300" y="452"/>
                </a:lnTo>
                <a:lnTo>
                  <a:pt x="295" y="455"/>
                </a:lnTo>
                <a:lnTo>
                  <a:pt x="288" y="460"/>
                </a:lnTo>
                <a:lnTo>
                  <a:pt x="282" y="463"/>
                </a:lnTo>
                <a:lnTo>
                  <a:pt x="275" y="468"/>
                </a:lnTo>
                <a:lnTo>
                  <a:pt x="269" y="470"/>
                </a:lnTo>
                <a:lnTo>
                  <a:pt x="264" y="473"/>
                </a:lnTo>
                <a:lnTo>
                  <a:pt x="256" y="473"/>
                </a:lnTo>
                <a:lnTo>
                  <a:pt x="249" y="473"/>
                </a:lnTo>
                <a:lnTo>
                  <a:pt x="243" y="475"/>
                </a:lnTo>
                <a:lnTo>
                  <a:pt x="236" y="475"/>
                </a:lnTo>
                <a:lnTo>
                  <a:pt x="230" y="475"/>
                </a:lnTo>
                <a:lnTo>
                  <a:pt x="223" y="475"/>
                </a:lnTo>
                <a:lnTo>
                  <a:pt x="217" y="475"/>
                </a:lnTo>
                <a:lnTo>
                  <a:pt x="210" y="475"/>
                </a:lnTo>
                <a:lnTo>
                  <a:pt x="204" y="473"/>
                </a:lnTo>
                <a:lnTo>
                  <a:pt x="197" y="473"/>
                </a:lnTo>
                <a:lnTo>
                  <a:pt x="189" y="471"/>
                </a:lnTo>
                <a:lnTo>
                  <a:pt x="184" y="471"/>
                </a:lnTo>
                <a:lnTo>
                  <a:pt x="177" y="470"/>
                </a:lnTo>
                <a:lnTo>
                  <a:pt x="173" y="468"/>
                </a:lnTo>
                <a:lnTo>
                  <a:pt x="166" y="467"/>
                </a:lnTo>
                <a:lnTo>
                  <a:pt x="161" y="467"/>
                </a:lnTo>
                <a:lnTo>
                  <a:pt x="155" y="465"/>
                </a:lnTo>
                <a:lnTo>
                  <a:pt x="148" y="463"/>
                </a:lnTo>
                <a:lnTo>
                  <a:pt x="143" y="462"/>
                </a:lnTo>
                <a:lnTo>
                  <a:pt x="140" y="462"/>
                </a:lnTo>
                <a:lnTo>
                  <a:pt x="135" y="458"/>
                </a:lnTo>
                <a:lnTo>
                  <a:pt x="130" y="458"/>
                </a:lnTo>
                <a:lnTo>
                  <a:pt x="127" y="457"/>
                </a:lnTo>
                <a:lnTo>
                  <a:pt x="124" y="455"/>
                </a:lnTo>
                <a:lnTo>
                  <a:pt x="117" y="454"/>
                </a:lnTo>
                <a:lnTo>
                  <a:pt x="112" y="452"/>
                </a:lnTo>
                <a:lnTo>
                  <a:pt x="111" y="452"/>
                </a:lnTo>
                <a:lnTo>
                  <a:pt x="109" y="452"/>
                </a:lnTo>
                <a:lnTo>
                  <a:pt x="62" y="411"/>
                </a:lnTo>
                <a:lnTo>
                  <a:pt x="62" y="41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064200" y="4221000"/>
            <a:ext cx="568440" cy="1249560"/>
          </a:xfrm>
          <a:custGeom>
            <a:avLst/>
            <a:gdLst/>
            <a:ahLst/>
            <a:rect l="l" t="t" r="r" b="b"/>
            <a:pathLst>
              <a:path w="717" h="1573">
                <a:moveTo>
                  <a:pt x="314" y="251"/>
                </a:moveTo>
                <a:lnTo>
                  <a:pt x="314" y="249"/>
                </a:lnTo>
                <a:lnTo>
                  <a:pt x="314" y="247"/>
                </a:lnTo>
                <a:lnTo>
                  <a:pt x="318" y="243"/>
                </a:lnTo>
                <a:lnTo>
                  <a:pt x="321" y="238"/>
                </a:lnTo>
                <a:lnTo>
                  <a:pt x="323" y="233"/>
                </a:lnTo>
                <a:lnTo>
                  <a:pt x="324" y="229"/>
                </a:lnTo>
                <a:lnTo>
                  <a:pt x="326" y="226"/>
                </a:lnTo>
                <a:lnTo>
                  <a:pt x="329" y="223"/>
                </a:lnTo>
                <a:lnTo>
                  <a:pt x="331" y="218"/>
                </a:lnTo>
                <a:lnTo>
                  <a:pt x="334" y="213"/>
                </a:lnTo>
                <a:lnTo>
                  <a:pt x="337" y="208"/>
                </a:lnTo>
                <a:lnTo>
                  <a:pt x="340" y="203"/>
                </a:lnTo>
                <a:lnTo>
                  <a:pt x="344" y="199"/>
                </a:lnTo>
                <a:lnTo>
                  <a:pt x="347" y="192"/>
                </a:lnTo>
                <a:lnTo>
                  <a:pt x="350" y="187"/>
                </a:lnTo>
                <a:lnTo>
                  <a:pt x="354" y="182"/>
                </a:lnTo>
                <a:lnTo>
                  <a:pt x="358" y="174"/>
                </a:lnTo>
                <a:lnTo>
                  <a:pt x="362" y="169"/>
                </a:lnTo>
                <a:lnTo>
                  <a:pt x="365" y="163"/>
                </a:lnTo>
                <a:lnTo>
                  <a:pt x="370" y="158"/>
                </a:lnTo>
                <a:lnTo>
                  <a:pt x="375" y="151"/>
                </a:lnTo>
                <a:lnTo>
                  <a:pt x="380" y="145"/>
                </a:lnTo>
                <a:lnTo>
                  <a:pt x="383" y="137"/>
                </a:lnTo>
                <a:lnTo>
                  <a:pt x="389" y="132"/>
                </a:lnTo>
                <a:lnTo>
                  <a:pt x="393" y="125"/>
                </a:lnTo>
                <a:lnTo>
                  <a:pt x="399" y="119"/>
                </a:lnTo>
                <a:lnTo>
                  <a:pt x="404" y="112"/>
                </a:lnTo>
                <a:lnTo>
                  <a:pt x="409" y="106"/>
                </a:lnTo>
                <a:lnTo>
                  <a:pt x="414" y="99"/>
                </a:lnTo>
                <a:lnTo>
                  <a:pt x="419" y="93"/>
                </a:lnTo>
                <a:lnTo>
                  <a:pt x="424" y="86"/>
                </a:lnTo>
                <a:lnTo>
                  <a:pt x="430" y="79"/>
                </a:lnTo>
                <a:lnTo>
                  <a:pt x="435" y="75"/>
                </a:lnTo>
                <a:lnTo>
                  <a:pt x="442" y="68"/>
                </a:lnTo>
                <a:lnTo>
                  <a:pt x="446" y="62"/>
                </a:lnTo>
                <a:lnTo>
                  <a:pt x="453" y="57"/>
                </a:lnTo>
                <a:lnTo>
                  <a:pt x="458" y="52"/>
                </a:lnTo>
                <a:lnTo>
                  <a:pt x="464" y="45"/>
                </a:lnTo>
                <a:lnTo>
                  <a:pt x="469" y="40"/>
                </a:lnTo>
                <a:lnTo>
                  <a:pt x="476" y="35"/>
                </a:lnTo>
                <a:lnTo>
                  <a:pt x="482" y="31"/>
                </a:lnTo>
                <a:lnTo>
                  <a:pt x="487" y="27"/>
                </a:lnTo>
                <a:lnTo>
                  <a:pt x="494" y="22"/>
                </a:lnTo>
                <a:lnTo>
                  <a:pt x="500" y="19"/>
                </a:lnTo>
                <a:lnTo>
                  <a:pt x="505" y="16"/>
                </a:lnTo>
                <a:lnTo>
                  <a:pt x="512" y="13"/>
                </a:lnTo>
                <a:lnTo>
                  <a:pt x="518" y="9"/>
                </a:lnTo>
                <a:lnTo>
                  <a:pt x="523" y="8"/>
                </a:lnTo>
                <a:lnTo>
                  <a:pt x="530" y="4"/>
                </a:lnTo>
                <a:lnTo>
                  <a:pt x="536" y="3"/>
                </a:lnTo>
                <a:lnTo>
                  <a:pt x="541" y="1"/>
                </a:lnTo>
                <a:lnTo>
                  <a:pt x="547" y="1"/>
                </a:lnTo>
                <a:lnTo>
                  <a:pt x="554" y="0"/>
                </a:lnTo>
                <a:lnTo>
                  <a:pt x="560" y="0"/>
                </a:lnTo>
                <a:lnTo>
                  <a:pt x="565" y="0"/>
                </a:lnTo>
                <a:lnTo>
                  <a:pt x="572" y="1"/>
                </a:lnTo>
                <a:lnTo>
                  <a:pt x="577" y="1"/>
                </a:lnTo>
                <a:lnTo>
                  <a:pt x="583" y="4"/>
                </a:lnTo>
                <a:lnTo>
                  <a:pt x="590" y="6"/>
                </a:lnTo>
                <a:lnTo>
                  <a:pt x="596" y="9"/>
                </a:lnTo>
                <a:lnTo>
                  <a:pt x="598" y="11"/>
                </a:lnTo>
                <a:lnTo>
                  <a:pt x="600" y="13"/>
                </a:lnTo>
                <a:lnTo>
                  <a:pt x="603" y="16"/>
                </a:lnTo>
                <a:lnTo>
                  <a:pt x="606" y="21"/>
                </a:lnTo>
                <a:lnTo>
                  <a:pt x="611" y="27"/>
                </a:lnTo>
                <a:lnTo>
                  <a:pt x="613" y="31"/>
                </a:lnTo>
                <a:lnTo>
                  <a:pt x="616" y="35"/>
                </a:lnTo>
                <a:lnTo>
                  <a:pt x="618" y="39"/>
                </a:lnTo>
                <a:lnTo>
                  <a:pt x="621" y="45"/>
                </a:lnTo>
                <a:lnTo>
                  <a:pt x="624" y="48"/>
                </a:lnTo>
                <a:lnTo>
                  <a:pt x="627" y="55"/>
                </a:lnTo>
                <a:lnTo>
                  <a:pt x="627" y="58"/>
                </a:lnTo>
                <a:lnTo>
                  <a:pt x="629" y="62"/>
                </a:lnTo>
                <a:lnTo>
                  <a:pt x="631" y="65"/>
                </a:lnTo>
                <a:lnTo>
                  <a:pt x="632" y="68"/>
                </a:lnTo>
                <a:lnTo>
                  <a:pt x="634" y="73"/>
                </a:lnTo>
                <a:lnTo>
                  <a:pt x="635" y="76"/>
                </a:lnTo>
                <a:lnTo>
                  <a:pt x="637" y="79"/>
                </a:lnTo>
                <a:lnTo>
                  <a:pt x="639" y="84"/>
                </a:lnTo>
                <a:lnTo>
                  <a:pt x="640" y="88"/>
                </a:lnTo>
                <a:lnTo>
                  <a:pt x="642" y="93"/>
                </a:lnTo>
                <a:lnTo>
                  <a:pt x="644" y="96"/>
                </a:lnTo>
                <a:lnTo>
                  <a:pt x="645" y="102"/>
                </a:lnTo>
                <a:lnTo>
                  <a:pt x="647" y="106"/>
                </a:lnTo>
                <a:lnTo>
                  <a:pt x="649" y="110"/>
                </a:lnTo>
                <a:lnTo>
                  <a:pt x="650" y="115"/>
                </a:lnTo>
                <a:lnTo>
                  <a:pt x="652" y="122"/>
                </a:lnTo>
                <a:lnTo>
                  <a:pt x="653" y="127"/>
                </a:lnTo>
                <a:lnTo>
                  <a:pt x="655" y="132"/>
                </a:lnTo>
                <a:lnTo>
                  <a:pt x="657" y="138"/>
                </a:lnTo>
                <a:lnTo>
                  <a:pt x="658" y="145"/>
                </a:lnTo>
                <a:lnTo>
                  <a:pt x="660" y="150"/>
                </a:lnTo>
                <a:lnTo>
                  <a:pt x="662" y="156"/>
                </a:lnTo>
                <a:lnTo>
                  <a:pt x="663" y="163"/>
                </a:lnTo>
                <a:lnTo>
                  <a:pt x="665" y="169"/>
                </a:lnTo>
                <a:lnTo>
                  <a:pt x="666" y="176"/>
                </a:lnTo>
                <a:lnTo>
                  <a:pt x="668" y="182"/>
                </a:lnTo>
                <a:lnTo>
                  <a:pt x="670" y="190"/>
                </a:lnTo>
                <a:lnTo>
                  <a:pt x="673" y="199"/>
                </a:lnTo>
                <a:lnTo>
                  <a:pt x="673" y="205"/>
                </a:lnTo>
                <a:lnTo>
                  <a:pt x="675" y="212"/>
                </a:lnTo>
                <a:lnTo>
                  <a:pt x="676" y="218"/>
                </a:lnTo>
                <a:lnTo>
                  <a:pt x="678" y="226"/>
                </a:lnTo>
                <a:lnTo>
                  <a:pt x="678" y="233"/>
                </a:lnTo>
                <a:lnTo>
                  <a:pt x="679" y="239"/>
                </a:lnTo>
                <a:lnTo>
                  <a:pt x="681" y="246"/>
                </a:lnTo>
                <a:lnTo>
                  <a:pt x="683" y="254"/>
                </a:lnTo>
                <a:lnTo>
                  <a:pt x="683" y="259"/>
                </a:lnTo>
                <a:lnTo>
                  <a:pt x="684" y="265"/>
                </a:lnTo>
                <a:lnTo>
                  <a:pt x="684" y="272"/>
                </a:lnTo>
                <a:lnTo>
                  <a:pt x="686" y="278"/>
                </a:lnTo>
                <a:lnTo>
                  <a:pt x="686" y="285"/>
                </a:lnTo>
                <a:lnTo>
                  <a:pt x="688" y="290"/>
                </a:lnTo>
                <a:lnTo>
                  <a:pt x="689" y="296"/>
                </a:lnTo>
                <a:lnTo>
                  <a:pt x="691" y="303"/>
                </a:lnTo>
                <a:lnTo>
                  <a:pt x="691" y="308"/>
                </a:lnTo>
                <a:lnTo>
                  <a:pt x="693" y="313"/>
                </a:lnTo>
                <a:lnTo>
                  <a:pt x="693" y="319"/>
                </a:lnTo>
                <a:lnTo>
                  <a:pt x="693" y="324"/>
                </a:lnTo>
                <a:lnTo>
                  <a:pt x="694" y="329"/>
                </a:lnTo>
                <a:lnTo>
                  <a:pt x="694" y="335"/>
                </a:lnTo>
                <a:lnTo>
                  <a:pt x="696" y="340"/>
                </a:lnTo>
                <a:lnTo>
                  <a:pt x="696" y="345"/>
                </a:lnTo>
                <a:lnTo>
                  <a:pt x="696" y="350"/>
                </a:lnTo>
                <a:lnTo>
                  <a:pt x="697" y="355"/>
                </a:lnTo>
                <a:lnTo>
                  <a:pt x="697" y="360"/>
                </a:lnTo>
                <a:lnTo>
                  <a:pt x="699" y="365"/>
                </a:lnTo>
                <a:lnTo>
                  <a:pt x="699" y="368"/>
                </a:lnTo>
                <a:lnTo>
                  <a:pt x="699" y="373"/>
                </a:lnTo>
                <a:lnTo>
                  <a:pt x="699" y="378"/>
                </a:lnTo>
                <a:lnTo>
                  <a:pt x="701" y="383"/>
                </a:lnTo>
                <a:lnTo>
                  <a:pt x="701" y="386"/>
                </a:lnTo>
                <a:lnTo>
                  <a:pt x="702" y="389"/>
                </a:lnTo>
                <a:lnTo>
                  <a:pt x="702" y="394"/>
                </a:lnTo>
                <a:lnTo>
                  <a:pt x="702" y="397"/>
                </a:lnTo>
                <a:lnTo>
                  <a:pt x="702" y="404"/>
                </a:lnTo>
                <a:lnTo>
                  <a:pt x="704" y="410"/>
                </a:lnTo>
                <a:lnTo>
                  <a:pt x="704" y="417"/>
                </a:lnTo>
                <a:lnTo>
                  <a:pt x="704" y="422"/>
                </a:lnTo>
                <a:lnTo>
                  <a:pt x="706" y="427"/>
                </a:lnTo>
                <a:lnTo>
                  <a:pt x="706" y="432"/>
                </a:lnTo>
                <a:lnTo>
                  <a:pt x="706" y="435"/>
                </a:lnTo>
                <a:lnTo>
                  <a:pt x="706" y="440"/>
                </a:lnTo>
                <a:lnTo>
                  <a:pt x="706" y="443"/>
                </a:lnTo>
                <a:lnTo>
                  <a:pt x="707" y="445"/>
                </a:lnTo>
                <a:lnTo>
                  <a:pt x="707" y="448"/>
                </a:lnTo>
                <a:lnTo>
                  <a:pt x="707" y="450"/>
                </a:lnTo>
                <a:lnTo>
                  <a:pt x="706" y="451"/>
                </a:lnTo>
                <a:lnTo>
                  <a:pt x="701" y="456"/>
                </a:lnTo>
                <a:lnTo>
                  <a:pt x="697" y="458"/>
                </a:lnTo>
                <a:lnTo>
                  <a:pt x="693" y="461"/>
                </a:lnTo>
                <a:lnTo>
                  <a:pt x="689" y="466"/>
                </a:lnTo>
                <a:lnTo>
                  <a:pt x="684" y="471"/>
                </a:lnTo>
                <a:lnTo>
                  <a:pt x="679" y="474"/>
                </a:lnTo>
                <a:lnTo>
                  <a:pt x="673" y="481"/>
                </a:lnTo>
                <a:lnTo>
                  <a:pt x="666" y="484"/>
                </a:lnTo>
                <a:lnTo>
                  <a:pt x="660" y="490"/>
                </a:lnTo>
                <a:lnTo>
                  <a:pt x="657" y="492"/>
                </a:lnTo>
                <a:lnTo>
                  <a:pt x="653" y="495"/>
                </a:lnTo>
                <a:lnTo>
                  <a:pt x="649" y="499"/>
                </a:lnTo>
                <a:lnTo>
                  <a:pt x="645" y="502"/>
                </a:lnTo>
                <a:lnTo>
                  <a:pt x="642" y="503"/>
                </a:lnTo>
                <a:lnTo>
                  <a:pt x="639" y="508"/>
                </a:lnTo>
                <a:lnTo>
                  <a:pt x="635" y="510"/>
                </a:lnTo>
                <a:lnTo>
                  <a:pt x="632" y="513"/>
                </a:lnTo>
                <a:lnTo>
                  <a:pt x="627" y="515"/>
                </a:lnTo>
                <a:lnTo>
                  <a:pt x="622" y="518"/>
                </a:lnTo>
                <a:lnTo>
                  <a:pt x="619" y="521"/>
                </a:lnTo>
                <a:lnTo>
                  <a:pt x="614" y="523"/>
                </a:lnTo>
                <a:lnTo>
                  <a:pt x="611" y="526"/>
                </a:lnTo>
                <a:lnTo>
                  <a:pt x="608" y="528"/>
                </a:lnTo>
                <a:lnTo>
                  <a:pt x="603" y="531"/>
                </a:lnTo>
                <a:lnTo>
                  <a:pt x="600" y="534"/>
                </a:lnTo>
                <a:lnTo>
                  <a:pt x="595" y="536"/>
                </a:lnTo>
                <a:lnTo>
                  <a:pt x="590" y="538"/>
                </a:lnTo>
                <a:lnTo>
                  <a:pt x="587" y="539"/>
                </a:lnTo>
                <a:lnTo>
                  <a:pt x="583" y="543"/>
                </a:lnTo>
                <a:lnTo>
                  <a:pt x="578" y="544"/>
                </a:lnTo>
                <a:lnTo>
                  <a:pt x="575" y="546"/>
                </a:lnTo>
                <a:lnTo>
                  <a:pt x="570" y="547"/>
                </a:lnTo>
                <a:lnTo>
                  <a:pt x="567" y="549"/>
                </a:lnTo>
                <a:lnTo>
                  <a:pt x="564" y="551"/>
                </a:lnTo>
                <a:lnTo>
                  <a:pt x="559" y="552"/>
                </a:lnTo>
                <a:lnTo>
                  <a:pt x="556" y="552"/>
                </a:lnTo>
                <a:lnTo>
                  <a:pt x="551" y="554"/>
                </a:lnTo>
                <a:lnTo>
                  <a:pt x="547" y="554"/>
                </a:lnTo>
                <a:lnTo>
                  <a:pt x="543" y="556"/>
                </a:lnTo>
                <a:lnTo>
                  <a:pt x="539" y="556"/>
                </a:lnTo>
                <a:lnTo>
                  <a:pt x="536" y="556"/>
                </a:lnTo>
                <a:lnTo>
                  <a:pt x="530" y="556"/>
                </a:lnTo>
                <a:lnTo>
                  <a:pt x="523" y="556"/>
                </a:lnTo>
                <a:lnTo>
                  <a:pt x="516" y="552"/>
                </a:lnTo>
                <a:lnTo>
                  <a:pt x="512" y="551"/>
                </a:lnTo>
                <a:lnTo>
                  <a:pt x="505" y="547"/>
                </a:lnTo>
                <a:lnTo>
                  <a:pt x="500" y="544"/>
                </a:lnTo>
                <a:lnTo>
                  <a:pt x="494" y="539"/>
                </a:lnTo>
                <a:lnTo>
                  <a:pt x="489" y="536"/>
                </a:lnTo>
                <a:lnTo>
                  <a:pt x="482" y="531"/>
                </a:lnTo>
                <a:lnTo>
                  <a:pt x="476" y="528"/>
                </a:lnTo>
                <a:lnTo>
                  <a:pt x="471" y="523"/>
                </a:lnTo>
                <a:lnTo>
                  <a:pt x="464" y="518"/>
                </a:lnTo>
                <a:lnTo>
                  <a:pt x="459" y="513"/>
                </a:lnTo>
                <a:lnTo>
                  <a:pt x="453" y="508"/>
                </a:lnTo>
                <a:lnTo>
                  <a:pt x="448" y="503"/>
                </a:lnTo>
                <a:lnTo>
                  <a:pt x="442" y="499"/>
                </a:lnTo>
                <a:lnTo>
                  <a:pt x="437" y="492"/>
                </a:lnTo>
                <a:lnTo>
                  <a:pt x="430" y="487"/>
                </a:lnTo>
                <a:lnTo>
                  <a:pt x="425" y="481"/>
                </a:lnTo>
                <a:lnTo>
                  <a:pt x="420" y="476"/>
                </a:lnTo>
                <a:lnTo>
                  <a:pt x="415" y="469"/>
                </a:lnTo>
                <a:lnTo>
                  <a:pt x="411" y="463"/>
                </a:lnTo>
                <a:lnTo>
                  <a:pt x="404" y="456"/>
                </a:lnTo>
                <a:lnTo>
                  <a:pt x="399" y="451"/>
                </a:lnTo>
                <a:lnTo>
                  <a:pt x="394" y="443"/>
                </a:lnTo>
                <a:lnTo>
                  <a:pt x="389" y="437"/>
                </a:lnTo>
                <a:lnTo>
                  <a:pt x="384" y="430"/>
                </a:lnTo>
                <a:lnTo>
                  <a:pt x="380" y="424"/>
                </a:lnTo>
                <a:lnTo>
                  <a:pt x="378" y="420"/>
                </a:lnTo>
                <a:lnTo>
                  <a:pt x="376" y="415"/>
                </a:lnTo>
                <a:lnTo>
                  <a:pt x="373" y="412"/>
                </a:lnTo>
                <a:lnTo>
                  <a:pt x="371" y="409"/>
                </a:lnTo>
                <a:lnTo>
                  <a:pt x="370" y="404"/>
                </a:lnTo>
                <a:lnTo>
                  <a:pt x="367" y="402"/>
                </a:lnTo>
                <a:lnTo>
                  <a:pt x="365" y="397"/>
                </a:lnTo>
                <a:lnTo>
                  <a:pt x="363" y="394"/>
                </a:lnTo>
                <a:lnTo>
                  <a:pt x="362" y="391"/>
                </a:lnTo>
                <a:lnTo>
                  <a:pt x="360" y="386"/>
                </a:lnTo>
                <a:lnTo>
                  <a:pt x="357" y="383"/>
                </a:lnTo>
                <a:lnTo>
                  <a:pt x="355" y="380"/>
                </a:lnTo>
                <a:lnTo>
                  <a:pt x="354" y="375"/>
                </a:lnTo>
                <a:lnTo>
                  <a:pt x="352" y="371"/>
                </a:lnTo>
                <a:lnTo>
                  <a:pt x="350" y="368"/>
                </a:lnTo>
                <a:lnTo>
                  <a:pt x="349" y="365"/>
                </a:lnTo>
                <a:lnTo>
                  <a:pt x="292" y="393"/>
                </a:lnTo>
                <a:lnTo>
                  <a:pt x="292" y="394"/>
                </a:lnTo>
                <a:lnTo>
                  <a:pt x="296" y="399"/>
                </a:lnTo>
                <a:lnTo>
                  <a:pt x="300" y="402"/>
                </a:lnTo>
                <a:lnTo>
                  <a:pt x="305" y="407"/>
                </a:lnTo>
                <a:lnTo>
                  <a:pt x="308" y="412"/>
                </a:lnTo>
                <a:lnTo>
                  <a:pt x="313" y="417"/>
                </a:lnTo>
                <a:lnTo>
                  <a:pt x="318" y="422"/>
                </a:lnTo>
                <a:lnTo>
                  <a:pt x="324" y="428"/>
                </a:lnTo>
                <a:lnTo>
                  <a:pt x="326" y="432"/>
                </a:lnTo>
                <a:lnTo>
                  <a:pt x="329" y="435"/>
                </a:lnTo>
                <a:lnTo>
                  <a:pt x="332" y="440"/>
                </a:lnTo>
                <a:lnTo>
                  <a:pt x="336" y="443"/>
                </a:lnTo>
                <a:lnTo>
                  <a:pt x="339" y="446"/>
                </a:lnTo>
                <a:lnTo>
                  <a:pt x="342" y="451"/>
                </a:lnTo>
                <a:lnTo>
                  <a:pt x="344" y="455"/>
                </a:lnTo>
                <a:lnTo>
                  <a:pt x="347" y="459"/>
                </a:lnTo>
                <a:lnTo>
                  <a:pt x="350" y="463"/>
                </a:lnTo>
                <a:lnTo>
                  <a:pt x="354" y="468"/>
                </a:lnTo>
                <a:lnTo>
                  <a:pt x="357" y="472"/>
                </a:lnTo>
                <a:lnTo>
                  <a:pt x="360" y="477"/>
                </a:lnTo>
                <a:lnTo>
                  <a:pt x="363" y="481"/>
                </a:lnTo>
                <a:lnTo>
                  <a:pt x="365" y="484"/>
                </a:lnTo>
                <a:lnTo>
                  <a:pt x="368" y="489"/>
                </a:lnTo>
                <a:lnTo>
                  <a:pt x="371" y="494"/>
                </a:lnTo>
                <a:lnTo>
                  <a:pt x="375" y="497"/>
                </a:lnTo>
                <a:lnTo>
                  <a:pt x="378" y="503"/>
                </a:lnTo>
                <a:lnTo>
                  <a:pt x="380" y="507"/>
                </a:lnTo>
                <a:lnTo>
                  <a:pt x="383" y="512"/>
                </a:lnTo>
                <a:lnTo>
                  <a:pt x="386" y="516"/>
                </a:lnTo>
                <a:lnTo>
                  <a:pt x="388" y="521"/>
                </a:lnTo>
                <a:lnTo>
                  <a:pt x="389" y="525"/>
                </a:lnTo>
                <a:lnTo>
                  <a:pt x="393" y="531"/>
                </a:lnTo>
                <a:lnTo>
                  <a:pt x="394" y="534"/>
                </a:lnTo>
                <a:lnTo>
                  <a:pt x="396" y="539"/>
                </a:lnTo>
                <a:lnTo>
                  <a:pt x="399" y="544"/>
                </a:lnTo>
                <a:lnTo>
                  <a:pt x="401" y="549"/>
                </a:lnTo>
                <a:lnTo>
                  <a:pt x="402" y="552"/>
                </a:lnTo>
                <a:lnTo>
                  <a:pt x="404" y="557"/>
                </a:lnTo>
                <a:lnTo>
                  <a:pt x="404" y="562"/>
                </a:lnTo>
                <a:lnTo>
                  <a:pt x="406" y="565"/>
                </a:lnTo>
                <a:lnTo>
                  <a:pt x="406" y="570"/>
                </a:lnTo>
                <a:lnTo>
                  <a:pt x="407" y="574"/>
                </a:lnTo>
                <a:lnTo>
                  <a:pt x="407" y="578"/>
                </a:lnTo>
                <a:lnTo>
                  <a:pt x="409" y="583"/>
                </a:lnTo>
                <a:lnTo>
                  <a:pt x="407" y="587"/>
                </a:lnTo>
                <a:lnTo>
                  <a:pt x="407" y="590"/>
                </a:lnTo>
                <a:lnTo>
                  <a:pt x="407" y="593"/>
                </a:lnTo>
                <a:lnTo>
                  <a:pt x="407" y="598"/>
                </a:lnTo>
                <a:lnTo>
                  <a:pt x="406" y="605"/>
                </a:lnTo>
                <a:lnTo>
                  <a:pt x="404" y="611"/>
                </a:lnTo>
                <a:lnTo>
                  <a:pt x="399" y="618"/>
                </a:lnTo>
                <a:lnTo>
                  <a:pt x="396" y="622"/>
                </a:lnTo>
                <a:lnTo>
                  <a:pt x="393" y="627"/>
                </a:lnTo>
                <a:lnTo>
                  <a:pt x="389" y="634"/>
                </a:lnTo>
                <a:lnTo>
                  <a:pt x="384" y="639"/>
                </a:lnTo>
                <a:lnTo>
                  <a:pt x="381" y="644"/>
                </a:lnTo>
                <a:lnTo>
                  <a:pt x="378" y="647"/>
                </a:lnTo>
                <a:lnTo>
                  <a:pt x="375" y="652"/>
                </a:lnTo>
                <a:lnTo>
                  <a:pt x="370" y="655"/>
                </a:lnTo>
                <a:lnTo>
                  <a:pt x="367" y="660"/>
                </a:lnTo>
                <a:lnTo>
                  <a:pt x="363" y="663"/>
                </a:lnTo>
                <a:lnTo>
                  <a:pt x="360" y="667"/>
                </a:lnTo>
                <a:lnTo>
                  <a:pt x="354" y="673"/>
                </a:lnTo>
                <a:lnTo>
                  <a:pt x="349" y="678"/>
                </a:lnTo>
                <a:lnTo>
                  <a:pt x="342" y="683"/>
                </a:lnTo>
                <a:lnTo>
                  <a:pt x="336" y="686"/>
                </a:lnTo>
                <a:lnTo>
                  <a:pt x="332" y="689"/>
                </a:lnTo>
                <a:lnTo>
                  <a:pt x="327" y="693"/>
                </a:lnTo>
                <a:lnTo>
                  <a:pt x="323" y="694"/>
                </a:lnTo>
                <a:lnTo>
                  <a:pt x="321" y="696"/>
                </a:lnTo>
                <a:lnTo>
                  <a:pt x="318" y="696"/>
                </a:lnTo>
                <a:lnTo>
                  <a:pt x="313" y="699"/>
                </a:lnTo>
                <a:lnTo>
                  <a:pt x="308" y="701"/>
                </a:lnTo>
                <a:lnTo>
                  <a:pt x="305" y="702"/>
                </a:lnTo>
                <a:lnTo>
                  <a:pt x="300" y="706"/>
                </a:lnTo>
                <a:lnTo>
                  <a:pt x="295" y="711"/>
                </a:lnTo>
                <a:lnTo>
                  <a:pt x="288" y="712"/>
                </a:lnTo>
                <a:lnTo>
                  <a:pt x="282" y="715"/>
                </a:lnTo>
                <a:lnTo>
                  <a:pt x="277" y="719"/>
                </a:lnTo>
                <a:lnTo>
                  <a:pt x="274" y="720"/>
                </a:lnTo>
                <a:lnTo>
                  <a:pt x="270" y="722"/>
                </a:lnTo>
                <a:lnTo>
                  <a:pt x="267" y="725"/>
                </a:lnTo>
                <a:lnTo>
                  <a:pt x="262" y="727"/>
                </a:lnTo>
                <a:lnTo>
                  <a:pt x="259" y="730"/>
                </a:lnTo>
                <a:lnTo>
                  <a:pt x="254" y="732"/>
                </a:lnTo>
                <a:lnTo>
                  <a:pt x="251" y="735"/>
                </a:lnTo>
                <a:lnTo>
                  <a:pt x="246" y="737"/>
                </a:lnTo>
                <a:lnTo>
                  <a:pt x="243" y="740"/>
                </a:lnTo>
                <a:lnTo>
                  <a:pt x="238" y="743"/>
                </a:lnTo>
                <a:lnTo>
                  <a:pt x="235" y="746"/>
                </a:lnTo>
                <a:lnTo>
                  <a:pt x="230" y="748"/>
                </a:lnTo>
                <a:lnTo>
                  <a:pt x="225" y="751"/>
                </a:lnTo>
                <a:lnTo>
                  <a:pt x="220" y="755"/>
                </a:lnTo>
                <a:lnTo>
                  <a:pt x="217" y="758"/>
                </a:lnTo>
                <a:lnTo>
                  <a:pt x="212" y="759"/>
                </a:lnTo>
                <a:lnTo>
                  <a:pt x="207" y="763"/>
                </a:lnTo>
                <a:lnTo>
                  <a:pt x="202" y="766"/>
                </a:lnTo>
                <a:lnTo>
                  <a:pt x="199" y="769"/>
                </a:lnTo>
                <a:lnTo>
                  <a:pt x="194" y="771"/>
                </a:lnTo>
                <a:lnTo>
                  <a:pt x="189" y="774"/>
                </a:lnTo>
                <a:lnTo>
                  <a:pt x="186" y="779"/>
                </a:lnTo>
                <a:lnTo>
                  <a:pt x="181" y="782"/>
                </a:lnTo>
                <a:lnTo>
                  <a:pt x="176" y="786"/>
                </a:lnTo>
                <a:lnTo>
                  <a:pt x="173" y="789"/>
                </a:lnTo>
                <a:lnTo>
                  <a:pt x="168" y="792"/>
                </a:lnTo>
                <a:lnTo>
                  <a:pt x="164" y="795"/>
                </a:lnTo>
                <a:lnTo>
                  <a:pt x="160" y="799"/>
                </a:lnTo>
                <a:lnTo>
                  <a:pt x="155" y="802"/>
                </a:lnTo>
                <a:lnTo>
                  <a:pt x="151" y="805"/>
                </a:lnTo>
                <a:lnTo>
                  <a:pt x="147" y="808"/>
                </a:lnTo>
                <a:lnTo>
                  <a:pt x="143" y="812"/>
                </a:lnTo>
                <a:lnTo>
                  <a:pt x="138" y="815"/>
                </a:lnTo>
                <a:lnTo>
                  <a:pt x="135" y="818"/>
                </a:lnTo>
                <a:lnTo>
                  <a:pt x="132" y="823"/>
                </a:lnTo>
                <a:lnTo>
                  <a:pt x="124" y="830"/>
                </a:lnTo>
                <a:lnTo>
                  <a:pt x="119" y="836"/>
                </a:lnTo>
                <a:lnTo>
                  <a:pt x="112" y="843"/>
                </a:lnTo>
                <a:lnTo>
                  <a:pt x="107" y="851"/>
                </a:lnTo>
                <a:lnTo>
                  <a:pt x="130" y="874"/>
                </a:lnTo>
                <a:lnTo>
                  <a:pt x="132" y="870"/>
                </a:lnTo>
                <a:lnTo>
                  <a:pt x="137" y="867"/>
                </a:lnTo>
                <a:lnTo>
                  <a:pt x="140" y="865"/>
                </a:lnTo>
                <a:lnTo>
                  <a:pt x="145" y="862"/>
                </a:lnTo>
                <a:lnTo>
                  <a:pt x="150" y="859"/>
                </a:lnTo>
                <a:lnTo>
                  <a:pt x="156" y="857"/>
                </a:lnTo>
                <a:lnTo>
                  <a:pt x="161" y="852"/>
                </a:lnTo>
                <a:lnTo>
                  <a:pt x="169" y="849"/>
                </a:lnTo>
                <a:lnTo>
                  <a:pt x="173" y="848"/>
                </a:lnTo>
                <a:lnTo>
                  <a:pt x="176" y="844"/>
                </a:lnTo>
                <a:lnTo>
                  <a:pt x="179" y="843"/>
                </a:lnTo>
                <a:lnTo>
                  <a:pt x="184" y="841"/>
                </a:lnTo>
                <a:lnTo>
                  <a:pt x="187" y="839"/>
                </a:lnTo>
                <a:lnTo>
                  <a:pt x="191" y="838"/>
                </a:lnTo>
                <a:lnTo>
                  <a:pt x="195" y="836"/>
                </a:lnTo>
                <a:lnTo>
                  <a:pt x="199" y="833"/>
                </a:lnTo>
                <a:lnTo>
                  <a:pt x="202" y="831"/>
                </a:lnTo>
                <a:lnTo>
                  <a:pt x="207" y="830"/>
                </a:lnTo>
                <a:lnTo>
                  <a:pt x="212" y="828"/>
                </a:lnTo>
                <a:lnTo>
                  <a:pt x="217" y="826"/>
                </a:lnTo>
                <a:lnTo>
                  <a:pt x="220" y="825"/>
                </a:lnTo>
                <a:lnTo>
                  <a:pt x="223" y="823"/>
                </a:lnTo>
                <a:lnTo>
                  <a:pt x="228" y="820"/>
                </a:lnTo>
                <a:lnTo>
                  <a:pt x="231" y="818"/>
                </a:lnTo>
                <a:lnTo>
                  <a:pt x="236" y="817"/>
                </a:lnTo>
                <a:lnTo>
                  <a:pt x="239" y="815"/>
                </a:lnTo>
                <a:lnTo>
                  <a:pt x="243" y="813"/>
                </a:lnTo>
                <a:lnTo>
                  <a:pt x="248" y="813"/>
                </a:lnTo>
                <a:lnTo>
                  <a:pt x="252" y="812"/>
                </a:lnTo>
                <a:lnTo>
                  <a:pt x="256" y="810"/>
                </a:lnTo>
                <a:lnTo>
                  <a:pt x="261" y="808"/>
                </a:lnTo>
                <a:lnTo>
                  <a:pt x="264" y="808"/>
                </a:lnTo>
                <a:lnTo>
                  <a:pt x="267" y="807"/>
                </a:lnTo>
                <a:lnTo>
                  <a:pt x="270" y="805"/>
                </a:lnTo>
                <a:lnTo>
                  <a:pt x="275" y="805"/>
                </a:lnTo>
                <a:lnTo>
                  <a:pt x="279" y="805"/>
                </a:lnTo>
                <a:lnTo>
                  <a:pt x="285" y="805"/>
                </a:lnTo>
                <a:lnTo>
                  <a:pt x="292" y="805"/>
                </a:lnTo>
                <a:lnTo>
                  <a:pt x="296" y="805"/>
                </a:lnTo>
                <a:lnTo>
                  <a:pt x="303" y="808"/>
                </a:lnTo>
                <a:lnTo>
                  <a:pt x="306" y="810"/>
                </a:lnTo>
                <a:lnTo>
                  <a:pt x="311" y="813"/>
                </a:lnTo>
                <a:lnTo>
                  <a:pt x="314" y="817"/>
                </a:lnTo>
                <a:lnTo>
                  <a:pt x="316" y="823"/>
                </a:lnTo>
                <a:lnTo>
                  <a:pt x="318" y="828"/>
                </a:lnTo>
                <a:lnTo>
                  <a:pt x="318" y="833"/>
                </a:lnTo>
                <a:lnTo>
                  <a:pt x="318" y="838"/>
                </a:lnTo>
                <a:lnTo>
                  <a:pt x="318" y="843"/>
                </a:lnTo>
                <a:lnTo>
                  <a:pt x="316" y="848"/>
                </a:lnTo>
                <a:lnTo>
                  <a:pt x="314" y="852"/>
                </a:lnTo>
                <a:lnTo>
                  <a:pt x="311" y="857"/>
                </a:lnTo>
                <a:lnTo>
                  <a:pt x="310" y="861"/>
                </a:lnTo>
                <a:lnTo>
                  <a:pt x="305" y="865"/>
                </a:lnTo>
                <a:lnTo>
                  <a:pt x="301" y="870"/>
                </a:lnTo>
                <a:lnTo>
                  <a:pt x="298" y="874"/>
                </a:lnTo>
                <a:lnTo>
                  <a:pt x="293" y="879"/>
                </a:lnTo>
                <a:lnTo>
                  <a:pt x="288" y="882"/>
                </a:lnTo>
                <a:lnTo>
                  <a:pt x="283" y="887"/>
                </a:lnTo>
                <a:lnTo>
                  <a:pt x="279" y="892"/>
                </a:lnTo>
                <a:lnTo>
                  <a:pt x="274" y="895"/>
                </a:lnTo>
                <a:lnTo>
                  <a:pt x="267" y="900"/>
                </a:lnTo>
                <a:lnTo>
                  <a:pt x="262" y="903"/>
                </a:lnTo>
                <a:lnTo>
                  <a:pt x="256" y="908"/>
                </a:lnTo>
                <a:lnTo>
                  <a:pt x="251" y="911"/>
                </a:lnTo>
                <a:lnTo>
                  <a:pt x="244" y="916"/>
                </a:lnTo>
                <a:lnTo>
                  <a:pt x="238" y="921"/>
                </a:lnTo>
                <a:lnTo>
                  <a:pt x="233" y="926"/>
                </a:lnTo>
                <a:lnTo>
                  <a:pt x="226" y="931"/>
                </a:lnTo>
                <a:lnTo>
                  <a:pt x="220" y="936"/>
                </a:lnTo>
                <a:lnTo>
                  <a:pt x="215" y="940"/>
                </a:lnTo>
                <a:lnTo>
                  <a:pt x="208" y="947"/>
                </a:lnTo>
                <a:lnTo>
                  <a:pt x="204" y="952"/>
                </a:lnTo>
                <a:lnTo>
                  <a:pt x="197" y="957"/>
                </a:lnTo>
                <a:lnTo>
                  <a:pt x="192" y="963"/>
                </a:lnTo>
                <a:lnTo>
                  <a:pt x="189" y="970"/>
                </a:lnTo>
                <a:lnTo>
                  <a:pt x="186" y="976"/>
                </a:lnTo>
                <a:lnTo>
                  <a:pt x="181" y="983"/>
                </a:lnTo>
                <a:lnTo>
                  <a:pt x="176" y="989"/>
                </a:lnTo>
                <a:lnTo>
                  <a:pt x="173" y="996"/>
                </a:lnTo>
                <a:lnTo>
                  <a:pt x="169" y="1002"/>
                </a:lnTo>
                <a:lnTo>
                  <a:pt x="164" y="1009"/>
                </a:lnTo>
                <a:lnTo>
                  <a:pt x="161" y="1015"/>
                </a:lnTo>
                <a:lnTo>
                  <a:pt x="158" y="1022"/>
                </a:lnTo>
                <a:lnTo>
                  <a:pt x="155" y="1030"/>
                </a:lnTo>
                <a:lnTo>
                  <a:pt x="151" y="1035"/>
                </a:lnTo>
                <a:lnTo>
                  <a:pt x="148" y="1043"/>
                </a:lnTo>
                <a:lnTo>
                  <a:pt x="145" y="1050"/>
                </a:lnTo>
                <a:lnTo>
                  <a:pt x="142" y="1056"/>
                </a:lnTo>
                <a:lnTo>
                  <a:pt x="138" y="1063"/>
                </a:lnTo>
                <a:lnTo>
                  <a:pt x="135" y="1068"/>
                </a:lnTo>
                <a:lnTo>
                  <a:pt x="134" y="1074"/>
                </a:lnTo>
                <a:lnTo>
                  <a:pt x="130" y="1081"/>
                </a:lnTo>
                <a:lnTo>
                  <a:pt x="129" y="1086"/>
                </a:lnTo>
                <a:lnTo>
                  <a:pt x="125" y="1091"/>
                </a:lnTo>
                <a:lnTo>
                  <a:pt x="124" y="1095"/>
                </a:lnTo>
                <a:lnTo>
                  <a:pt x="122" y="1100"/>
                </a:lnTo>
                <a:lnTo>
                  <a:pt x="120" y="1105"/>
                </a:lnTo>
                <a:lnTo>
                  <a:pt x="117" y="1110"/>
                </a:lnTo>
                <a:lnTo>
                  <a:pt x="117" y="1113"/>
                </a:lnTo>
                <a:lnTo>
                  <a:pt x="116" y="1118"/>
                </a:lnTo>
                <a:lnTo>
                  <a:pt x="112" y="1125"/>
                </a:lnTo>
                <a:lnTo>
                  <a:pt x="111" y="1128"/>
                </a:lnTo>
                <a:lnTo>
                  <a:pt x="111" y="1131"/>
                </a:lnTo>
                <a:lnTo>
                  <a:pt x="111" y="1133"/>
                </a:lnTo>
                <a:lnTo>
                  <a:pt x="153" y="1151"/>
                </a:lnTo>
                <a:lnTo>
                  <a:pt x="153" y="1151"/>
                </a:lnTo>
                <a:lnTo>
                  <a:pt x="153" y="1149"/>
                </a:lnTo>
                <a:lnTo>
                  <a:pt x="153" y="1146"/>
                </a:lnTo>
                <a:lnTo>
                  <a:pt x="155" y="1143"/>
                </a:lnTo>
                <a:lnTo>
                  <a:pt x="155" y="1138"/>
                </a:lnTo>
                <a:lnTo>
                  <a:pt x="156" y="1133"/>
                </a:lnTo>
                <a:lnTo>
                  <a:pt x="158" y="1126"/>
                </a:lnTo>
                <a:lnTo>
                  <a:pt x="161" y="1121"/>
                </a:lnTo>
                <a:lnTo>
                  <a:pt x="161" y="1117"/>
                </a:lnTo>
                <a:lnTo>
                  <a:pt x="163" y="1113"/>
                </a:lnTo>
                <a:lnTo>
                  <a:pt x="164" y="1108"/>
                </a:lnTo>
                <a:lnTo>
                  <a:pt x="166" y="1105"/>
                </a:lnTo>
                <a:lnTo>
                  <a:pt x="168" y="1102"/>
                </a:lnTo>
                <a:lnTo>
                  <a:pt x="169" y="1097"/>
                </a:lnTo>
                <a:lnTo>
                  <a:pt x="171" y="1094"/>
                </a:lnTo>
                <a:lnTo>
                  <a:pt x="173" y="1091"/>
                </a:lnTo>
                <a:lnTo>
                  <a:pt x="174" y="1086"/>
                </a:lnTo>
                <a:lnTo>
                  <a:pt x="176" y="1081"/>
                </a:lnTo>
                <a:lnTo>
                  <a:pt x="178" y="1076"/>
                </a:lnTo>
                <a:lnTo>
                  <a:pt x="179" y="1073"/>
                </a:lnTo>
                <a:lnTo>
                  <a:pt x="182" y="1068"/>
                </a:lnTo>
                <a:lnTo>
                  <a:pt x="184" y="1063"/>
                </a:lnTo>
                <a:lnTo>
                  <a:pt x="187" y="1058"/>
                </a:lnTo>
                <a:lnTo>
                  <a:pt x="189" y="1055"/>
                </a:lnTo>
                <a:lnTo>
                  <a:pt x="192" y="1050"/>
                </a:lnTo>
                <a:lnTo>
                  <a:pt x="194" y="1045"/>
                </a:lnTo>
                <a:lnTo>
                  <a:pt x="195" y="1040"/>
                </a:lnTo>
                <a:lnTo>
                  <a:pt x="199" y="1035"/>
                </a:lnTo>
                <a:lnTo>
                  <a:pt x="202" y="1030"/>
                </a:lnTo>
                <a:lnTo>
                  <a:pt x="205" y="1025"/>
                </a:lnTo>
                <a:lnTo>
                  <a:pt x="207" y="1022"/>
                </a:lnTo>
                <a:lnTo>
                  <a:pt x="212" y="1019"/>
                </a:lnTo>
                <a:lnTo>
                  <a:pt x="213" y="1014"/>
                </a:lnTo>
                <a:lnTo>
                  <a:pt x="217" y="1009"/>
                </a:lnTo>
                <a:lnTo>
                  <a:pt x="220" y="1004"/>
                </a:lnTo>
                <a:lnTo>
                  <a:pt x="223" y="1001"/>
                </a:lnTo>
                <a:lnTo>
                  <a:pt x="226" y="998"/>
                </a:lnTo>
                <a:lnTo>
                  <a:pt x="231" y="993"/>
                </a:lnTo>
                <a:lnTo>
                  <a:pt x="235" y="989"/>
                </a:lnTo>
                <a:lnTo>
                  <a:pt x="239" y="986"/>
                </a:lnTo>
                <a:lnTo>
                  <a:pt x="243" y="983"/>
                </a:lnTo>
                <a:lnTo>
                  <a:pt x="246" y="978"/>
                </a:lnTo>
                <a:lnTo>
                  <a:pt x="251" y="975"/>
                </a:lnTo>
                <a:lnTo>
                  <a:pt x="254" y="973"/>
                </a:lnTo>
                <a:lnTo>
                  <a:pt x="257" y="970"/>
                </a:lnTo>
                <a:lnTo>
                  <a:pt x="262" y="967"/>
                </a:lnTo>
                <a:lnTo>
                  <a:pt x="267" y="965"/>
                </a:lnTo>
                <a:lnTo>
                  <a:pt x="272" y="963"/>
                </a:lnTo>
                <a:lnTo>
                  <a:pt x="275" y="960"/>
                </a:lnTo>
                <a:lnTo>
                  <a:pt x="280" y="958"/>
                </a:lnTo>
                <a:lnTo>
                  <a:pt x="285" y="957"/>
                </a:lnTo>
                <a:lnTo>
                  <a:pt x="290" y="957"/>
                </a:lnTo>
                <a:lnTo>
                  <a:pt x="295" y="955"/>
                </a:lnTo>
                <a:lnTo>
                  <a:pt x="300" y="954"/>
                </a:lnTo>
                <a:lnTo>
                  <a:pt x="305" y="954"/>
                </a:lnTo>
                <a:lnTo>
                  <a:pt x="311" y="954"/>
                </a:lnTo>
                <a:lnTo>
                  <a:pt x="316" y="954"/>
                </a:lnTo>
                <a:lnTo>
                  <a:pt x="321" y="954"/>
                </a:lnTo>
                <a:lnTo>
                  <a:pt x="324" y="954"/>
                </a:lnTo>
                <a:lnTo>
                  <a:pt x="329" y="954"/>
                </a:lnTo>
                <a:lnTo>
                  <a:pt x="332" y="954"/>
                </a:lnTo>
                <a:lnTo>
                  <a:pt x="337" y="955"/>
                </a:lnTo>
                <a:lnTo>
                  <a:pt x="340" y="955"/>
                </a:lnTo>
                <a:lnTo>
                  <a:pt x="345" y="957"/>
                </a:lnTo>
                <a:lnTo>
                  <a:pt x="350" y="960"/>
                </a:lnTo>
                <a:lnTo>
                  <a:pt x="355" y="963"/>
                </a:lnTo>
                <a:lnTo>
                  <a:pt x="360" y="967"/>
                </a:lnTo>
                <a:lnTo>
                  <a:pt x="365" y="971"/>
                </a:lnTo>
                <a:lnTo>
                  <a:pt x="367" y="976"/>
                </a:lnTo>
                <a:lnTo>
                  <a:pt x="370" y="981"/>
                </a:lnTo>
                <a:lnTo>
                  <a:pt x="371" y="988"/>
                </a:lnTo>
                <a:lnTo>
                  <a:pt x="373" y="993"/>
                </a:lnTo>
                <a:lnTo>
                  <a:pt x="373" y="999"/>
                </a:lnTo>
                <a:lnTo>
                  <a:pt x="373" y="1004"/>
                </a:lnTo>
                <a:lnTo>
                  <a:pt x="373" y="1012"/>
                </a:lnTo>
                <a:lnTo>
                  <a:pt x="373" y="1019"/>
                </a:lnTo>
                <a:lnTo>
                  <a:pt x="373" y="1024"/>
                </a:lnTo>
                <a:lnTo>
                  <a:pt x="371" y="1030"/>
                </a:lnTo>
                <a:lnTo>
                  <a:pt x="370" y="1037"/>
                </a:lnTo>
                <a:lnTo>
                  <a:pt x="368" y="1043"/>
                </a:lnTo>
                <a:lnTo>
                  <a:pt x="367" y="1048"/>
                </a:lnTo>
                <a:lnTo>
                  <a:pt x="365" y="1055"/>
                </a:lnTo>
                <a:lnTo>
                  <a:pt x="363" y="1060"/>
                </a:lnTo>
                <a:lnTo>
                  <a:pt x="362" y="1064"/>
                </a:lnTo>
                <a:lnTo>
                  <a:pt x="360" y="1069"/>
                </a:lnTo>
                <a:lnTo>
                  <a:pt x="358" y="1073"/>
                </a:lnTo>
                <a:lnTo>
                  <a:pt x="355" y="1076"/>
                </a:lnTo>
                <a:lnTo>
                  <a:pt x="355" y="1081"/>
                </a:lnTo>
                <a:lnTo>
                  <a:pt x="352" y="1084"/>
                </a:lnTo>
                <a:lnTo>
                  <a:pt x="352" y="1087"/>
                </a:lnTo>
                <a:lnTo>
                  <a:pt x="352" y="1087"/>
                </a:lnTo>
                <a:lnTo>
                  <a:pt x="349" y="1094"/>
                </a:lnTo>
                <a:lnTo>
                  <a:pt x="345" y="1097"/>
                </a:lnTo>
                <a:lnTo>
                  <a:pt x="344" y="1102"/>
                </a:lnTo>
                <a:lnTo>
                  <a:pt x="340" y="1107"/>
                </a:lnTo>
                <a:lnTo>
                  <a:pt x="339" y="1113"/>
                </a:lnTo>
                <a:lnTo>
                  <a:pt x="336" y="1118"/>
                </a:lnTo>
                <a:lnTo>
                  <a:pt x="334" y="1121"/>
                </a:lnTo>
                <a:lnTo>
                  <a:pt x="332" y="1125"/>
                </a:lnTo>
                <a:lnTo>
                  <a:pt x="331" y="1130"/>
                </a:lnTo>
                <a:lnTo>
                  <a:pt x="329" y="1133"/>
                </a:lnTo>
                <a:lnTo>
                  <a:pt x="327" y="1138"/>
                </a:lnTo>
                <a:lnTo>
                  <a:pt x="326" y="1141"/>
                </a:lnTo>
                <a:lnTo>
                  <a:pt x="324" y="1148"/>
                </a:lnTo>
                <a:lnTo>
                  <a:pt x="323" y="1151"/>
                </a:lnTo>
                <a:lnTo>
                  <a:pt x="321" y="1157"/>
                </a:lnTo>
                <a:lnTo>
                  <a:pt x="318" y="1162"/>
                </a:lnTo>
                <a:lnTo>
                  <a:pt x="316" y="1167"/>
                </a:lnTo>
                <a:lnTo>
                  <a:pt x="314" y="1172"/>
                </a:lnTo>
                <a:lnTo>
                  <a:pt x="313" y="1179"/>
                </a:lnTo>
                <a:lnTo>
                  <a:pt x="311" y="1185"/>
                </a:lnTo>
                <a:lnTo>
                  <a:pt x="311" y="1192"/>
                </a:lnTo>
                <a:lnTo>
                  <a:pt x="308" y="1197"/>
                </a:lnTo>
                <a:lnTo>
                  <a:pt x="306" y="1203"/>
                </a:lnTo>
                <a:lnTo>
                  <a:pt x="305" y="1210"/>
                </a:lnTo>
                <a:lnTo>
                  <a:pt x="305" y="1216"/>
                </a:lnTo>
                <a:lnTo>
                  <a:pt x="301" y="1221"/>
                </a:lnTo>
                <a:lnTo>
                  <a:pt x="301" y="1229"/>
                </a:lnTo>
                <a:lnTo>
                  <a:pt x="300" y="1236"/>
                </a:lnTo>
                <a:lnTo>
                  <a:pt x="298" y="1244"/>
                </a:lnTo>
                <a:lnTo>
                  <a:pt x="298" y="1250"/>
                </a:lnTo>
                <a:lnTo>
                  <a:pt x="296" y="1257"/>
                </a:lnTo>
                <a:lnTo>
                  <a:pt x="295" y="1265"/>
                </a:lnTo>
                <a:lnTo>
                  <a:pt x="295" y="1272"/>
                </a:lnTo>
                <a:lnTo>
                  <a:pt x="293" y="1280"/>
                </a:lnTo>
                <a:lnTo>
                  <a:pt x="293" y="1288"/>
                </a:lnTo>
                <a:lnTo>
                  <a:pt x="293" y="1296"/>
                </a:lnTo>
                <a:lnTo>
                  <a:pt x="293" y="1303"/>
                </a:lnTo>
                <a:lnTo>
                  <a:pt x="292" y="1311"/>
                </a:lnTo>
                <a:lnTo>
                  <a:pt x="292" y="1319"/>
                </a:lnTo>
                <a:lnTo>
                  <a:pt x="292" y="1327"/>
                </a:lnTo>
                <a:lnTo>
                  <a:pt x="293" y="1335"/>
                </a:lnTo>
                <a:lnTo>
                  <a:pt x="293" y="1343"/>
                </a:lnTo>
                <a:lnTo>
                  <a:pt x="293" y="1351"/>
                </a:lnTo>
                <a:lnTo>
                  <a:pt x="293" y="1360"/>
                </a:lnTo>
                <a:lnTo>
                  <a:pt x="295" y="1368"/>
                </a:lnTo>
                <a:lnTo>
                  <a:pt x="295" y="1376"/>
                </a:lnTo>
                <a:lnTo>
                  <a:pt x="296" y="1384"/>
                </a:lnTo>
                <a:lnTo>
                  <a:pt x="298" y="1394"/>
                </a:lnTo>
                <a:lnTo>
                  <a:pt x="300" y="1402"/>
                </a:lnTo>
                <a:lnTo>
                  <a:pt x="301" y="1412"/>
                </a:lnTo>
                <a:lnTo>
                  <a:pt x="305" y="1420"/>
                </a:lnTo>
                <a:lnTo>
                  <a:pt x="306" y="1430"/>
                </a:lnTo>
                <a:lnTo>
                  <a:pt x="310" y="1439"/>
                </a:lnTo>
                <a:lnTo>
                  <a:pt x="355" y="1430"/>
                </a:lnTo>
                <a:lnTo>
                  <a:pt x="355" y="1428"/>
                </a:lnTo>
                <a:lnTo>
                  <a:pt x="355" y="1426"/>
                </a:lnTo>
                <a:lnTo>
                  <a:pt x="354" y="1423"/>
                </a:lnTo>
                <a:lnTo>
                  <a:pt x="354" y="1420"/>
                </a:lnTo>
                <a:lnTo>
                  <a:pt x="352" y="1413"/>
                </a:lnTo>
                <a:lnTo>
                  <a:pt x="352" y="1409"/>
                </a:lnTo>
                <a:lnTo>
                  <a:pt x="352" y="1404"/>
                </a:lnTo>
                <a:lnTo>
                  <a:pt x="352" y="1400"/>
                </a:lnTo>
                <a:lnTo>
                  <a:pt x="352" y="1395"/>
                </a:lnTo>
                <a:lnTo>
                  <a:pt x="352" y="1392"/>
                </a:lnTo>
                <a:lnTo>
                  <a:pt x="350" y="1389"/>
                </a:lnTo>
                <a:lnTo>
                  <a:pt x="350" y="1384"/>
                </a:lnTo>
                <a:lnTo>
                  <a:pt x="349" y="1379"/>
                </a:lnTo>
                <a:lnTo>
                  <a:pt x="349" y="1374"/>
                </a:lnTo>
                <a:lnTo>
                  <a:pt x="349" y="1369"/>
                </a:lnTo>
                <a:lnTo>
                  <a:pt x="349" y="1364"/>
                </a:lnTo>
                <a:lnTo>
                  <a:pt x="349" y="1358"/>
                </a:lnTo>
                <a:lnTo>
                  <a:pt x="349" y="1355"/>
                </a:lnTo>
                <a:lnTo>
                  <a:pt x="349" y="1348"/>
                </a:lnTo>
                <a:lnTo>
                  <a:pt x="349" y="1342"/>
                </a:lnTo>
                <a:lnTo>
                  <a:pt x="349" y="1337"/>
                </a:lnTo>
                <a:lnTo>
                  <a:pt x="349" y="1330"/>
                </a:lnTo>
                <a:lnTo>
                  <a:pt x="349" y="1325"/>
                </a:lnTo>
                <a:lnTo>
                  <a:pt x="349" y="1319"/>
                </a:lnTo>
                <a:lnTo>
                  <a:pt x="350" y="1314"/>
                </a:lnTo>
                <a:lnTo>
                  <a:pt x="350" y="1307"/>
                </a:lnTo>
                <a:lnTo>
                  <a:pt x="350" y="1301"/>
                </a:lnTo>
                <a:lnTo>
                  <a:pt x="350" y="1294"/>
                </a:lnTo>
                <a:lnTo>
                  <a:pt x="352" y="1288"/>
                </a:lnTo>
                <a:lnTo>
                  <a:pt x="352" y="1281"/>
                </a:lnTo>
                <a:lnTo>
                  <a:pt x="352" y="1275"/>
                </a:lnTo>
                <a:lnTo>
                  <a:pt x="354" y="1268"/>
                </a:lnTo>
                <a:lnTo>
                  <a:pt x="354" y="1262"/>
                </a:lnTo>
                <a:lnTo>
                  <a:pt x="355" y="1255"/>
                </a:lnTo>
                <a:lnTo>
                  <a:pt x="355" y="1249"/>
                </a:lnTo>
                <a:lnTo>
                  <a:pt x="357" y="1242"/>
                </a:lnTo>
                <a:lnTo>
                  <a:pt x="358" y="1236"/>
                </a:lnTo>
                <a:lnTo>
                  <a:pt x="360" y="1229"/>
                </a:lnTo>
                <a:lnTo>
                  <a:pt x="360" y="1223"/>
                </a:lnTo>
                <a:lnTo>
                  <a:pt x="363" y="1216"/>
                </a:lnTo>
                <a:lnTo>
                  <a:pt x="365" y="1210"/>
                </a:lnTo>
                <a:lnTo>
                  <a:pt x="367" y="1205"/>
                </a:lnTo>
                <a:lnTo>
                  <a:pt x="368" y="1198"/>
                </a:lnTo>
                <a:lnTo>
                  <a:pt x="370" y="1192"/>
                </a:lnTo>
                <a:lnTo>
                  <a:pt x="371" y="1187"/>
                </a:lnTo>
                <a:lnTo>
                  <a:pt x="375" y="1180"/>
                </a:lnTo>
                <a:lnTo>
                  <a:pt x="376" y="1174"/>
                </a:lnTo>
                <a:lnTo>
                  <a:pt x="380" y="1169"/>
                </a:lnTo>
                <a:lnTo>
                  <a:pt x="383" y="1162"/>
                </a:lnTo>
                <a:lnTo>
                  <a:pt x="386" y="1157"/>
                </a:lnTo>
                <a:lnTo>
                  <a:pt x="388" y="1151"/>
                </a:lnTo>
                <a:lnTo>
                  <a:pt x="391" y="1146"/>
                </a:lnTo>
                <a:lnTo>
                  <a:pt x="394" y="1141"/>
                </a:lnTo>
                <a:lnTo>
                  <a:pt x="399" y="1136"/>
                </a:lnTo>
                <a:lnTo>
                  <a:pt x="402" y="1131"/>
                </a:lnTo>
                <a:lnTo>
                  <a:pt x="406" y="1128"/>
                </a:lnTo>
                <a:lnTo>
                  <a:pt x="411" y="1123"/>
                </a:lnTo>
                <a:lnTo>
                  <a:pt x="415" y="1120"/>
                </a:lnTo>
                <a:lnTo>
                  <a:pt x="419" y="1115"/>
                </a:lnTo>
                <a:lnTo>
                  <a:pt x="424" y="1110"/>
                </a:lnTo>
                <a:lnTo>
                  <a:pt x="427" y="1107"/>
                </a:lnTo>
                <a:lnTo>
                  <a:pt x="430" y="1104"/>
                </a:lnTo>
                <a:lnTo>
                  <a:pt x="433" y="1100"/>
                </a:lnTo>
                <a:lnTo>
                  <a:pt x="438" y="1097"/>
                </a:lnTo>
                <a:lnTo>
                  <a:pt x="442" y="1095"/>
                </a:lnTo>
                <a:lnTo>
                  <a:pt x="445" y="1094"/>
                </a:lnTo>
                <a:lnTo>
                  <a:pt x="451" y="1087"/>
                </a:lnTo>
                <a:lnTo>
                  <a:pt x="458" y="1084"/>
                </a:lnTo>
                <a:lnTo>
                  <a:pt x="464" y="1081"/>
                </a:lnTo>
                <a:lnTo>
                  <a:pt x="471" y="1079"/>
                </a:lnTo>
                <a:lnTo>
                  <a:pt x="476" y="1076"/>
                </a:lnTo>
                <a:lnTo>
                  <a:pt x="481" y="1074"/>
                </a:lnTo>
                <a:lnTo>
                  <a:pt x="486" y="1073"/>
                </a:lnTo>
                <a:lnTo>
                  <a:pt x="490" y="1073"/>
                </a:lnTo>
                <a:lnTo>
                  <a:pt x="495" y="1073"/>
                </a:lnTo>
                <a:lnTo>
                  <a:pt x="499" y="1073"/>
                </a:lnTo>
                <a:lnTo>
                  <a:pt x="502" y="1074"/>
                </a:lnTo>
                <a:lnTo>
                  <a:pt x="507" y="1076"/>
                </a:lnTo>
                <a:lnTo>
                  <a:pt x="512" y="1077"/>
                </a:lnTo>
                <a:lnTo>
                  <a:pt x="516" y="1081"/>
                </a:lnTo>
                <a:lnTo>
                  <a:pt x="521" y="1084"/>
                </a:lnTo>
                <a:lnTo>
                  <a:pt x="525" y="1087"/>
                </a:lnTo>
                <a:lnTo>
                  <a:pt x="528" y="1094"/>
                </a:lnTo>
                <a:lnTo>
                  <a:pt x="530" y="1097"/>
                </a:lnTo>
                <a:lnTo>
                  <a:pt x="539" y="1120"/>
                </a:lnTo>
                <a:lnTo>
                  <a:pt x="591" y="1115"/>
                </a:lnTo>
                <a:lnTo>
                  <a:pt x="591" y="1113"/>
                </a:lnTo>
                <a:lnTo>
                  <a:pt x="590" y="1112"/>
                </a:lnTo>
                <a:lnTo>
                  <a:pt x="587" y="1107"/>
                </a:lnTo>
                <a:lnTo>
                  <a:pt x="585" y="1102"/>
                </a:lnTo>
                <a:lnTo>
                  <a:pt x="583" y="1097"/>
                </a:lnTo>
                <a:lnTo>
                  <a:pt x="582" y="1094"/>
                </a:lnTo>
                <a:lnTo>
                  <a:pt x="580" y="1091"/>
                </a:lnTo>
                <a:lnTo>
                  <a:pt x="577" y="1087"/>
                </a:lnTo>
                <a:lnTo>
                  <a:pt x="575" y="1082"/>
                </a:lnTo>
                <a:lnTo>
                  <a:pt x="572" y="1077"/>
                </a:lnTo>
                <a:lnTo>
                  <a:pt x="570" y="1073"/>
                </a:lnTo>
                <a:lnTo>
                  <a:pt x="567" y="1069"/>
                </a:lnTo>
                <a:lnTo>
                  <a:pt x="564" y="1063"/>
                </a:lnTo>
                <a:lnTo>
                  <a:pt x="560" y="1058"/>
                </a:lnTo>
                <a:lnTo>
                  <a:pt x="557" y="1053"/>
                </a:lnTo>
                <a:lnTo>
                  <a:pt x="556" y="1048"/>
                </a:lnTo>
                <a:lnTo>
                  <a:pt x="551" y="1042"/>
                </a:lnTo>
                <a:lnTo>
                  <a:pt x="547" y="1037"/>
                </a:lnTo>
                <a:lnTo>
                  <a:pt x="544" y="1030"/>
                </a:lnTo>
                <a:lnTo>
                  <a:pt x="541" y="1025"/>
                </a:lnTo>
                <a:lnTo>
                  <a:pt x="536" y="1019"/>
                </a:lnTo>
                <a:lnTo>
                  <a:pt x="533" y="1014"/>
                </a:lnTo>
                <a:lnTo>
                  <a:pt x="528" y="1007"/>
                </a:lnTo>
                <a:lnTo>
                  <a:pt x="525" y="1002"/>
                </a:lnTo>
                <a:lnTo>
                  <a:pt x="520" y="996"/>
                </a:lnTo>
                <a:lnTo>
                  <a:pt x="515" y="991"/>
                </a:lnTo>
                <a:lnTo>
                  <a:pt x="510" y="986"/>
                </a:lnTo>
                <a:lnTo>
                  <a:pt x="507" y="981"/>
                </a:lnTo>
                <a:lnTo>
                  <a:pt x="502" y="976"/>
                </a:lnTo>
                <a:lnTo>
                  <a:pt x="497" y="970"/>
                </a:lnTo>
                <a:lnTo>
                  <a:pt x="494" y="965"/>
                </a:lnTo>
                <a:lnTo>
                  <a:pt x="490" y="960"/>
                </a:lnTo>
                <a:lnTo>
                  <a:pt x="487" y="954"/>
                </a:lnTo>
                <a:lnTo>
                  <a:pt x="486" y="949"/>
                </a:lnTo>
                <a:lnTo>
                  <a:pt x="482" y="942"/>
                </a:lnTo>
                <a:lnTo>
                  <a:pt x="481" y="937"/>
                </a:lnTo>
                <a:lnTo>
                  <a:pt x="479" y="931"/>
                </a:lnTo>
                <a:lnTo>
                  <a:pt x="477" y="926"/>
                </a:lnTo>
                <a:lnTo>
                  <a:pt x="476" y="919"/>
                </a:lnTo>
                <a:lnTo>
                  <a:pt x="476" y="914"/>
                </a:lnTo>
                <a:lnTo>
                  <a:pt x="474" y="908"/>
                </a:lnTo>
                <a:lnTo>
                  <a:pt x="474" y="903"/>
                </a:lnTo>
                <a:lnTo>
                  <a:pt x="474" y="898"/>
                </a:lnTo>
                <a:lnTo>
                  <a:pt x="474" y="893"/>
                </a:lnTo>
                <a:lnTo>
                  <a:pt x="474" y="887"/>
                </a:lnTo>
                <a:lnTo>
                  <a:pt x="474" y="882"/>
                </a:lnTo>
                <a:lnTo>
                  <a:pt x="474" y="879"/>
                </a:lnTo>
                <a:lnTo>
                  <a:pt x="474" y="874"/>
                </a:lnTo>
                <a:lnTo>
                  <a:pt x="474" y="869"/>
                </a:lnTo>
                <a:lnTo>
                  <a:pt x="474" y="865"/>
                </a:lnTo>
                <a:lnTo>
                  <a:pt x="476" y="862"/>
                </a:lnTo>
                <a:lnTo>
                  <a:pt x="476" y="859"/>
                </a:lnTo>
                <a:lnTo>
                  <a:pt x="477" y="854"/>
                </a:lnTo>
                <a:lnTo>
                  <a:pt x="477" y="849"/>
                </a:lnTo>
                <a:lnTo>
                  <a:pt x="479" y="848"/>
                </a:lnTo>
                <a:lnTo>
                  <a:pt x="479" y="846"/>
                </a:lnTo>
                <a:lnTo>
                  <a:pt x="479" y="843"/>
                </a:lnTo>
                <a:lnTo>
                  <a:pt x="482" y="839"/>
                </a:lnTo>
                <a:lnTo>
                  <a:pt x="486" y="833"/>
                </a:lnTo>
                <a:lnTo>
                  <a:pt x="492" y="826"/>
                </a:lnTo>
                <a:lnTo>
                  <a:pt x="495" y="823"/>
                </a:lnTo>
                <a:lnTo>
                  <a:pt x="500" y="821"/>
                </a:lnTo>
                <a:lnTo>
                  <a:pt x="503" y="820"/>
                </a:lnTo>
                <a:lnTo>
                  <a:pt x="508" y="820"/>
                </a:lnTo>
                <a:lnTo>
                  <a:pt x="515" y="818"/>
                </a:lnTo>
                <a:lnTo>
                  <a:pt x="520" y="820"/>
                </a:lnTo>
                <a:lnTo>
                  <a:pt x="526" y="823"/>
                </a:lnTo>
                <a:lnTo>
                  <a:pt x="533" y="828"/>
                </a:lnTo>
                <a:lnTo>
                  <a:pt x="539" y="833"/>
                </a:lnTo>
                <a:lnTo>
                  <a:pt x="546" y="838"/>
                </a:lnTo>
                <a:lnTo>
                  <a:pt x="547" y="841"/>
                </a:lnTo>
                <a:lnTo>
                  <a:pt x="551" y="844"/>
                </a:lnTo>
                <a:lnTo>
                  <a:pt x="554" y="848"/>
                </a:lnTo>
                <a:lnTo>
                  <a:pt x="556" y="852"/>
                </a:lnTo>
                <a:lnTo>
                  <a:pt x="559" y="856"/>
                </a:lnTo>
                <a:lnTo>
                  <a:pt x="560" y="859"/>
                </a:lnTo>
                <a:lnTo>
                  <a:pt x="562" y="862"/>
                </a:lnTo>
                <a:lnTo>
                  <a:pt x="565" y="867"/>
                </a:lnTo>
                <a:lnTo>
                  <a:pt x="567" y="870"/>
                </a:lnTo>
                <a:lnTo>
                  <a:pt x="569" y="874"/>
                </a:lnTo>
                <a:lnTo>
                  <a:pt x="570" y="879"/>
                </a:lnTo>
                <a:lnTo>
                  <a:pt x="572" y="882"/>
                </a:lnTo>
                <a:lnTo>
                  <a:pt x="574" y="888"/>
                </a:lnTo>
                <a:lnTo>
                  <a:pt x="577" y="895"/>
                </a:lnTo>
                <a:lnTo>
                  <a:pt x="578" y="900"/>
                </a:lnTo>
                <a:lnTo>
                  <a:pt x="580" y="906"/>
                </a:lnTo>
                <a:lnTo>
                  <a:pt x="580" y="909"/>
                </a:lnTo>
                <a:lnTo>
                  <a:pt x="582" y="914"/>
                </a:lnTo>
                <a:lnTo>
                  <a:pt x="582" y="916"/>
                </a:lnTo>
                <a:lnTo>
                  <a:pt x="583" y="918"/>
                </a:lnTo>
                <a:lnTo>
                  <a:pt x="616" y="895"/>
                </a:lnTo>
                <a:lnTo>
                  <a:pt x="614" y="892"/>
                </a:lnTo>
                <a:lnTo>
                  <a:pt x="613" y="887"/>
                </a:lnTo>
                <a:lnTo>
                  <a:pt x="611" y="882"/>
                </a:lnTo>
                <a:lnTo>
                  <a:pt x="608" y="879"/>
                </a:lnTo>
                <a:lnTo>
                  <a:pt x="606" y="874"/>
                </a:lnTo>
                <a:lnTo>
                  <a:pt x="605" y="869"/>
                </a:lnTo>
                <a:lnTo>
                  <a:pt x="603" y="862"/>
                </a:lnTo>
                <a:lnTo>
                  <a:pt x="600" y="856"/>
                </a:lnTo>
                <a:lnTo>
                  <a:pt x="598" y="851"/>
                </a:lnTo>
                <a:lnTo>
                  <a:pt x="598" y="848"/>
                </a:lnTo>
                <a:lnTo>
                  <a:pt x="596" y="844"/>
                </a:lnTo>
                <a:lnTo>
                  <a:pt x="595" y="841"/>
                </a:lnTo>
                <a:lnTo>
                  <a:pt x="593" y="836"/>
                </a:lnTo>
                <a:lnTo>
                  <a:pt x="593" y="833"/>
                </a:lnTo>
                <a:lnTo>
                  <a:pt x="590" y="828"/>
                </a:lnTo>
                <a:lnTo>
                  <a:pt x="590" y="825"/>
                </a:lnTo>
                <a:lnTo>
                  <a:pt x="588" y="820"/>
                </a:lnTo>
                <a:lnTo>
                  <a:pt x="588" y="817"/>
                </a:lnTo>
                <a:lnTo>
                  <a:pt x="587" y="812"/>
                </a:lnTo>
                <a:lnTo>
                  <a:pt x="587" y="807"/>
                </a:lnTo>
                <a:lnTo>
                  <a:pt x="583" y="802"/>
                </a:lnTo>
                <a:lnTo>
                  <a:pt x="583" y="799"/>
                </a:lnTo>
                <a:lnTo>
                  <a:pt x="582" y="792"/>
                </a:lnTo>
                <a:lnTo>
                  <a:pt x="582" y="789"/>
                </a:lnTo>
                <a:lnTo>
                  <a:pt x="580" y="784"/>
                </a:lnTo>
                <a:lnTo>
                  <a:pt x="580" y="779"/>
                </a:lnTo>
                <a:lnTo>
                  <a:pt x="578" y="774"/>
                </a:lnTo>
                <a:lnTo>
                  <a:pt x="578" y="771"/>
                </a:lnTo>
                <a:lnTo>
                  <a:pt x="578" y="766"/>
                </a:lnTo>
                <a:lnTo>
                  <a:pt x="577" y="761"/>
                </a:lnTo>
                <a:lnTo>
                  <a:pt x="577" y="756"/>
                </a:lnTo>
                <a:lnTo>
                  <a:pt x="577" y="753"/>
                </a:lnTo>
                <a:lnTo>
                  <a:pt x="577" y="748"/>
                </a:lnTo>
                <a:lnTo>
                  <a:pt x="577" y="743"/>
                </a:lnTo>
                <a:lnTo>
                  <a:pt x="577" y="738"/>
                </a:lnTo>
                <a:lnTo>
                  <a:pt x="577" y="735"/>
                </a:lnTo>
                <a:lnTo>
                  <a:pt x="577" y="730"/>
                </a:lnTo>
                <a:lnTo>
                  <a:pt x="577" y="725"/>
                </a:lnTo>
                <a:lnTo>
                  <a:pt x="578" y="720"/>
                </a:lnTo>
                <a:lnTo>
                  <a:pt x="580" y="717"/>
                </a:lnTo>
                <a:lnTo>
                  <a:pt x="580" y="714"/>
                </a:lnTo>
                <a:lnTo>
                  <a:pt x="580" y="709"/>
                </a:lnTo>
                <a:lnTo>
                  <a:pt x="582" y="706"/>
                </a:lnTo>
                <a:lnTo>
                  <a:pt x="583" y="702"/>
                </a:lnTo>
                <a:lnTo>
                  <a:pt x="585" y="698"/>
                </a:lnTo>
                <a:lnTo>
                  <a:pt x="587" y="694"/>
                </a:lnTo>
                <a:lnTo>
                  <a:pt x="588" y="691"/>
                </a:lnTo>
                <a:lnTo>
                  <a:pt x="590" y="688"/>
                </a:lnTo>
                <a:lnTo>
                  <a:pt x="595" y="681"/>
                </a:lnTo>
                <a:lnTo>
                  <a:pt x="601" y="675"/>
                </a:lnTo>
                <a:lnTo>
                  <a:pt x="606" y="670"/>
                </a:lnTo>
                <a:lnTo>
                  <a:pt x="611" y="665"/>
                </a:lnTo>
                <a:lnTo>
                  <a:pt x="618" y="658"/>
                </a:lnTo>
                <a:lnTo>
                  <a:pt x="622" y="655"/>
                </a:lnTo>
                <a:lnTo>
                  <a:pt x="627" y="649"/>
                </a:lnTo>
                <a:lnTo>
                  <a:pt x="632" y="645"/>
                </a:lnTo>
                <a:lnTo>
                  <a:pt x="639" y="640"/>
                </a:lnTo>
                <a:lnTo>
                  <a:pt x="644" y="637"/>
                </a:lnTo>
                <a:lnTo>
                  <a:pt x="649" y="634"/>
                </a:lnTo>
                <a:lnTo>
                  <a:pt x="652" y="629"/>
                </a:lnTo>
                <a:lnTo>
                  <a:pt x="657" y="626"/>
                </a:lnTo>
                <a:lnTo>
                  <a:pt x="662" y="624"/>
                </a:lnTo>
                <a:lnTo>
                  <a:pt x="666" y="621"/>
                </a:lnTo>
                <a:lnTo>
                  <a:pt x="671" y="618"/>
                </a:lnTo>
                <a:lnTo>
                  <a:pt x="676" y="616"/>
                </a:lnTo>
                <a:lnTo>
                  <a:pt x="679" y="614"/>
                </a:lnTo>
                <a:lnTo>
                  <a:pt x="683" y="611"/>
                </a:lnTo>
                <a:lnTo>
                  <a:pt x="688" y="609"/>
                </a:lnTo>
                <a:lnTo>
                  <a:pt x="691" y="606"/>
                </a:lnTo>
                <a:lnTo>
                  <a:pt x="694" y="606"/>
                </a:lnTo>
                <a:lnTo>
                  <a:pt x="699" y="603"/>
                </a:lnTo>
                <a:lnTo>
                  <a:pt x="706" y="601"/>
                </a:lnTo>
                <a:lnTo>
                  <a:pt x="709" y="600"/>
                </a:lnTo>
                <a:lnTo>
                  <a:pt x="712" y="598"/>
                </a:lnTo>
                <a:lnTo>
                  <a:pt x="714" y="598"/>
                </a:lnTo>
                <a:lnTo>
                  <a:pt x="715" y="598"/>
                </a:lnTo>
                <a:lnTo>
                  <a:pt x="715" y="598"/>
                </a:lnTo>
                <a:lnTo>
                  <a:pt x="715" y="601"/>
                </a:lnTo>
                <a:lnTo>
                  <a:pt x="715" y="603"/>
                </a:lnTo>
                <a:lnTo>
                  <a:pt x="715" y="606"/>
                </a:lnTo>
                <a:lnTo>
                  <a:pt x="715" y="609"/>
                </a:lnTo>
                <a:lnTo>
                  <a:pt x="717" y="614"/>
                </a:lnTo>
                <a:lnTo>
                  <a:pt x="717" y="618"/>
                </a:lnTo>
                <a:lnTo>
                  <a:pt x="717" y="622"/>
                </a:lnTo>
                <a:lnTo>
                  <a:pt x="717" y="627"/>
                </a:lnTo>
                <a:lnTo>
                  <a:pt x="717" y="634"/>
                </a:lnTo>
                <a:lnTo>
                  <a:pt x="717" y="639"/>
                </a:lnTo>
                <a:lnTo>
                  <a:pt x="717" y="645"/>
                </a:lnTo>
                <a:lnTo>
                  <a:pt x="717" y="647"/>
                </a:lnTo>
                <a:lnTo>
                  <a:pt x="717" y="652"/>
                </a:lnTo>
                <a:lnTo>
                  <a:pt x="717" y="655"/>
                </a:lnTo>
                <a:lnTo>
                  <a:pt x="717" y="658"/>
                </a:lnTo>
                <a:lnTo>
                  <a:pt x="715" y="665"/>
                </a:lnTo>
                <a:lnTo>
                  <a:pt x="714" y="673"/>
                </a:lnTo>
                <a:lnTo>
                  <a:pt x="714" y="676"/>
                </a:lnTo>
                <a:lnTo>
                  <a:pt x="714" y="681"/>
                </a:lnTo>
                <a:lnTo>
                  <a:pt x="714" y="684"/>
                </a:lnTo>
                <a:lnTo>
                  <a:pt x="714" y="689"/>
                </a:lnTo>
                <a:lnTo>
                  <a:pt x="712" y="693"/>
                </a:lnTo>
                <a:lnTo>
                  <a:pt x="712" y="696"/>
                </a:lnTo>
                <a:lnTo>
                  <a:pt x="710" y="701"/>
                </a:lnTo>
                <a:lnTo>
                  <a:pt x="710" y="706"/>
                </a:lnTo>
                <a:lnTo>
                  <a:pt x="709" y="709"/>
                </a:lnTo>
                <a:lnTo>
                  <a:pt x="709" y="714"/>
                </a:lnTo>
                <a:lnTo>
                  <a:pt x="709" y="719"/>
                </a:lnTo>
                <a:lnTo>
                  <a:pt x="709" y="724"/>
                </a:lnTo>
                <a:lnTo>
                  <a:pt x="707" y="727"/>
                </a:lnTo>
                <a:lnTo>
                  <a:pt x="707" y="732"/>
                </a:lnTo>
                <a:lnTo>
                  <a:pt x="706" y="737"/>
                </a:lnTo>
                <a:lnTo>
                  <a:pt x="704" y="742"/>
                </a:lnTo>
                <a:lnTo>
                  <a:pt x="702" y="745"/>
                </a:lnTo>
                <a:lnTo>
                  <a:pt x="702" y="750"/>
                </a:lnTo>
                <a:lnTo>
                  <a:pt x="701" y="755"/>
                </a:lnTo>
                <a:lnTo>
                  <a:pt x="701" y="759"/>
                </a:lnTo>
                <a:lnTo>
                  <a:pt x="699" y="764"/>
                </a:lnTo>
                <a:lnTo>
                  <a:pt x="697" y="769"/>
                </a:lnTo>
                <a:lnTo>
                  <a:pt x="696" y="774"/>
                </a:lnTo>
                <a:lnTo>
                  <a:pt x="694" y="779"/>
                </a:lnTo>
                <a:lnTo>
                  <a:pt x="693" y="784"/>
                </a:lnTo>
                <a:lnTo>
                  <a:pt x="691" y="789"/>
                </a:lnTo>
                <a:lnTo>
                  <a:pt x="689" y="794"/>
                </a:lnTo>
                <a:lnTo>
                  <a:pt x="689" y="799"/>
                </a:lnTo>
                <a:lnTo>
                  <a:pt x="686" y="804"/>
                </a:lnTo>
                <a:lnTo>
                  <a:pt x="684" y="808"/>
                </a:lnTo>
                <a:lnTo>
                  <a:pt x="683" y="813"/>
                </a:lnTo>
                <a:lnTo>
                  <a:pt x="681" y="818"/>
                </a:lnTo>
                <a:lnTo>
                  <a:pt x="679" y="821"/>
                </a:lnTo>
                <a:lnTo>
                  <a:pt x="676" y="826"/>
                </a:lnTo>
                <a:lnTo>
                  <a:pt x="676" y="831"/>
                </a:lnTo>
                <a:lnTo>
                  <a:pt x="675" y="836"/>
                </a:lnTo>
                <a:lnTo>
                  <a:pt x="673" y="839"/>
                </a:lnTo>
                <a:lnTo>
                  <a:pt x="670" y="843"/>
                </a:lnTo>
                <a:lnTo>
                  <a:pt x="668" y="848"/>
                </a:lnTo>
                <a:lnTo>
                  <a:pt x="668" y="851"/>
                </a:lnTo>
                <a:lnTo>
                  <a:pt x="666" y="856"/>
                </a:lnTo>
                <a:lnTo>
                  <a:pt x="665" y="859"/>
                </a:lnTo>
                <a:lnTo>
                  <a:pt x="663" y="864"/>
                </a:lnTo>
                <a:lnTo>
                  <a:pt x="663" y="867"/>
                </a:lnTo>
                <a:lnTo>
                  <a:pt x="662" y="870"/>
                </a:lnTo>
                <a:lnTo>
                  <a:pt x="660" y="874"/>
                </a:lnTo>
                <a:lnTo>
                  <a:pt x="658" y="879"/>
                </a:lnTo>
                <a:lnTo>
                  <a:pt x="657" y="882"/>
                </a:lnTo>
                <a:lnTo>
                  <a:pt x="655" y="885"/>
                </a:lnTo>
                <a:lnTo>
                  <a:pt x="655" y="888"/>
                </a:lnTo>
                <a:lnTo>
                  <a:pt x="653" y="892"/>
                </a:lnTo>
                <a:lnTo>
                  <a:pt x="653" y="896"/>
                </a:lnTo>
                <a:lnTo>
                  <a:pt x="652" y="903"/>
                </a:lnTo>
                <a:lnTo>
                  <a:pt x="649" y="909"/>
                </a:lnTo>
                <a:lnTo>
                  <a:pt x="649" y="913"/>
                </a:lnTo>
                <a:lnTo>
                  <a:pt x="649" y="918"/>
                </a:lnTo>
                <a:lnTo>
                  <a:pt x="647" y="921"/>
                </a:lnTo>
                <a:lnTo>
                  <a:pt x="647" y="926"/>
                </a:lnTo>
                <a:lnTo>
                  <a:pt x="645" y="929"/>
                </a:lnTo>
                <a:lnTo>
                  <a:pt x="645" y="932"/>
                </a:lnTo>
                <a:lnTo>
                  <a:pt x="644" y="936"/>
                </a:lnTo>
                <a:lnTo>
                  <a:pt x="642" y="939"/>
                </a:lnTo>
                <a:lnTo>
                  <a:pt x="642" y="944"/>
                </a:lnTo>
                <a:lnTo>
                  <a:pt x="642" y="947"/>
                </a:lnTo>
                <a:lnTo>
                  <a:pt x="640" y="952"/>
                </a:lnTo>
                <a:lnTo>
                  <a:pt x="640" y="957"/>
                </a:lnTo>
                <a:lnTo>
                  <a:pt x="640" y="960"/>
                </a:lnTo>
                <a:lnTo>
                  <a:pt x="639" y="963"/>
                </a:lnTo>
                <a:lnTo>
                  <a:pt x="639" y="968"/>
                </a:lnTo>
                <a:lnTo>
                  <a:pt x="639" y="973"/>
                </a:lnTo>
                <a:lnTo>
                  <a:pt x="639" y="976"/>
                </a:lnTo>
                <a:lnTo>
                  <a:pt x="637" y="981"/>
                </a:lnTo>
                <a:lnTo>
                  <a:pt x="637" y="986"/>
                </a:lnTo>
                <a:lnTo>
                  <a:pt x="637" y="991"/>
                </a:lnTo>
                <a:lnTo>
                  <a:pt x="635" y="994"/>
                </a:lnTo>
                <a:lnTo>
                  <a:pt x="635" y="1001"/>
                </a:lnTo>
                <a:lnTo>
                  <a:pt x="635" y="1004"/>
                </a:lnTo>
                <a:lnTo>
                  <a:pt x="635" y="1011"/>
                </a:lnTo>
                <a:lnTo>
                  <a:pt x="634" y="1015"/>
                </a:lnTo>
                <a:lnTo>
                  <a:pt x="634" y="1020"/>
                </a:lnTo>
                <a:lnTo>
                  <a:pt x="634" y="1027"/>
                </a:lnTo>
                <a:lnTo>
                  <a:pt x="634" y="1032"/>
                </a:lnTo>
                <a:lnTo>
                  <a:pt x="634" y="1038"/>
                </a:lnTo>
                <a:lnTo>
                  <a:pt x="634" y="1043"/>
                </a:lnTo>
                <a:lnTo>
                  <a:pt x="634" y="1050"/>
                </a:lnTo>
                <a:lnTo>
                  <a:pt x="634" y="1056"/>
                </a:lnTo>
                <a:lnTo>
                  <a:pt x="634" y="1063"/>
                </a:lnTo>
                <a:lnTo>
                  <a:pt x="634" y="1069"/>
                </a:lnTo>
                <a:lnTo>
                  <a:pt x="634" y="1076"/>
                </a:lnTo>
                <a:lnTo>
                  <a:pt x="634" y="1082"/>
                </a:lnTo>
                <a:lnTo>
                  <a:pt x="632" y="1089"/>
                </a:lnTo>
                <a:lnTo>
                  <a:pt x="632" y="1095"/>
                </a:lnTo>
                <a:lnTo>
                  <a:pt x="632" y="1102"/>
                </a:lnTo>
                <a:lnTo>
                  <a:pt x="632" y="1108"/>
                </a:lnTo>
                <a:lnTo>
                  <a:pt x="632" y="1115"/>
                </a:lnTo>
                <a:lnTo>
                  <a:pt x="632" y="1121"/>
                </a:lnTo>
                <a:lnTo>
                  <a:pt x="632" y="1128"/>
                </a:lnTo>
                <a:lnTo>
                  <a:pt x="632" y="1135"/>
                </a:lnTo>
                <a:lnTo>
                  <a:pt x="632" y="1139"/>
                </a:lnTo>
                <a:lnTo>
                  <a:pt x="632" y="1144"/>
                </a:lnTo>
                <a:lnTo>
                  <a:pt x="632" y="1151"/>
                </a:lnTo>
                <a:lnTo>
                  <a:pt x="632" y="1156"/>
                </a:lnTo>
                <a:lnTo>
                  <a:pt x="632" y="1162"/>
                </a:lnTo>
                <a:lnTo>
                  <a:pt x="634" y="1167"/>
                </a:lnTo>
                <a:lnTo>
                  <a:pt x="634" y="1172"/>
                </a:lnTo>
                <a:lnTo>
                  <a:pt x="634" y="1177"/>
                </a:lnTo>
                <a:lnTo>
                  <a:pt x="634" y="1182"/>
                </a:lnTo>
                <a:lnTo>
                  <a:pt x="634" y="1187"/>
                </a:lnTo>
                <a:lnTo>
                  <a:pt x="634" y="1192"/>
                </a:lnTo>
                <a:lnTo>
                  <a:pt x="635" y="1197"/>
                </a:lnTo>
                <a:lnTo>
                  <a:pt x="635" y="1200"/>
                </a:lnTo>
                <a:lnTo>
                  <a:pt x="635" y="1205"/>
                </a:lnTo>
                <a:lnTo>
                  <a:pt x="635" y="1208"/>
                </a:lnTo>
                <a:lnTo>
                  <a:pt x="635" y="1213"/>
                </a:lnTo>
                <a:lnTo>
                  <a:pt x="635" y="1218"/>
                </a:lnTo>
                <a:lnTo>
                  <a:pt x="637" y="1221"/>
                </a:lnTo>
                <a:lnTo>
                  <a:pt x="637" y="1224"/>
                </a:lnTo>
                <a:lnTo>
                  <a:pt x="637" y="1229"/>
                </a:lnTo>
                <a:lnTo>
                  <a:pt x="639" y="1236"/>
                </a:lnTo>
                <a:lnTo>
                  <a:pt x="639" y="1242"/>
                </a:lnTo>
                <a:lnTo>
                  <a:pt x="639" y="1249"/>
                </a:lnTo>
                <a:lnTo>
                  <a:pt x="640" y="1255"/>
                </a:lnTo>
                <a:lnTo>
                  <a:pt x="640" y="1258"/>
                </a:lnTo>
                <a:lnTo>
                  <a:pt x="642" y="1265"/>
                </a:lnTo>
                <a:lnTo>
                  <a:pt x="642" y="1268"/>
                </a:lnTo>
                <a:lnTo>
                  <a:pt x="642" y="1273"/>
                </a:lnTo>
                <a:lnTo>
                  <a:pt x="642" y="1276"/>
                </a:lnTo>
                <a:lnTo>
                  <a:pt x="644" y="1280"/>
                </a:lnTo>
                <a:lnTo>
                  <a:pt x="645" y="1286"/>
                </a:lnTo>
                <a:lnTo>
                  <a:pt x="645" y="1289"/>
                </a:lnTo>
                <a:lnTo>
                  <a:pt x="647" y="1291"/>
                </a:lnTo>
                <a:lnTo>
                  <a:pt x="647" y="1293"/>
                </a:lnTo>
                <a:lnTo>
                  <a:pt x="645" y="1293"/>
                </a:lnTo>
                <a:lnTo>
                  <a:pt x="642" y="1293"/>
                </a:lnTo>
                <a:lnTo>
                  <a:pt x="637" y="1293"/>
                </a:lnTo>
                <a:lnTo>
                  <a:pt x="634" y="1294"/>
                </a:lnTo>
                <a:lnTo>
                  <a:pt x="631" y="1294"/>
                </a:lnTo>
                <a:lnTo>
                  <a:pt x="626" y="1296"/>
                </a:lnTo>
                <a:lnTo>
                  <a:pt x="621" y="1296"/>
                </a:lnTo>
                <a:lnTo>
                  <a:pt x="616" y="1298"/>
                </a:lnTo>
                <a:lnTo>
                  <a:pt x="609" y="1299"/>
                </a:lnTo>
                <a:lnTo>
                  <a:pt x="605" y="1301"/>
                </a:lnTo>
                <a:lnTo>
                  <a:pt x="598" y="1303"/>
                </a:lnTo>
                <a:lnTo>
                  <a:pt x="591" y="1306"/>
                </a:lnTo>
                <a:lnTo>
                  <a:pt x="585" y="1307"/>
                </a:lnTo>
                <a:lnTo>
                  <a:pt x="580" y="1309"/>
                </a:lnTo>
                <a:lnTo>
                  <a:pt x="572" y="1312"/>
                </a:lnTo>
                <a:lnTo>
                  <a:pt x="565" y="1314"/>
                </a:lnTo>
                <a:lnTo>
                  <a:pt x="559" y="1317"/>
                </a:lnTo>
                <a:lnTo>
                  <a:pt x="552" y="1320"/>
                </a:lnTo>
                <a:lnTo>
                  <a:pt x="546" y="1324"/>
                </a:lnTo>
                <a:lnTo>
                  <a:pt x="539" y="1327"/>
                </a:lnTo>
                <a:lnTo>
                  <a:pt x="533" y="1330"/>
                </a:lnTo>
                <a:lnTo>
                  <a:pt x="526" y="1335"/>
                </a:lnTo>
                <a:lnTo>
                  <a:pt x="521" y="1338"/>
                </a:lnTo>
                <a:lnTo>
                  <a:pt x="515" y="1343"/>
                </a:lnTo>
                <a:lnTo>
                  <a:pt x="510" y="1347"/>
                </a:lnTo>
                <a:lnTo>
                  <a:pt x="505" y="1351"/>
                </a:lnTo>
                <a:lnTo>
                  <a:pt x="502" y="1356"/>
                </a:lnTo>
                <a:lnTo>
                  <a:pt x="499" y="1361"/>
                </a:lnTo>
                <a:lnTo>
                  <a:pt x="495" y="1368"/>
                </a:lnTo>
                <a:lnTo>
                  <a:pt x="492" y="1373"/>
                </a:lnTo>
                <a:lnTo>
                  <a:pt x="489" y="1378"/>
                </a:lnTo>
                <a:lnTo>
                  <a:pt x="487" y="1384"/>
                </a:lnTo>
                <a:lnTo>
                  <a:pt x="486" y="1387"/>
                </a:lnTo>
                <a:lnTo>
                  <a:pt x="482" y="1391"/>
                </a:lnTo>
                <a:lnTo>
                  <a:pt x="481" y="1395"/>
                </a:lnTo>
                <a:lnTo>
                  <a:pt x="479" y="1399"/>
                </a:lnTo>
                <a:lnTo>
                  <a:pt x="477" y="1402"/>
                </a:lnTo>
                <a:lnTo>
                  <a:pt x="474" y="1405"/>
                </a:lnTo>
                <a:lnTo>
                  <a:pt x="472" y="1410"/>
                </a:lnTo>
                <a:lnTo>
                  <a:pt x="471" y="1413"/>
                </a:lnTo>
                <a:lnTo>
                  <a:pt x="468" y="1418"/>
                </a:lnTo>
                <a:lnTo>
                  <a:pt x="464" y="1423"/>
                </a:lnTo>
                <a:lnTo>
                  <a:pt x="463" y="1426"/>
                </a:lnTo>
                <a:lnTo>
                  <a:pt x="461" y="1431"/>
                </a:lnTo>
                <a:lnTo>
                  <a:pt x="458" y="1436"/>
                </a:lnTo>
                <a:lnTo>
                  <a:pt x="455" y="1439"/>
                </a:lnTo>
                <a:lnTo>
                  <a:pt x="451" y="1444"/>
                </a:lnTo>
                <a:lnTo>
                  <a:pt x="448" y="1449"/>
                </a:lnTo>
                <a:lnTo>
                  <a:pt x="445" y="1453"/>
                </a:lnTo>
                <a:lnTo>
                  <a:pt x="442" y="1457"/>
                </a:lnTo>
                <a:lnTo>
                  <a:pt x="437" y="1462"/>
                </a:lnTo>
                <a:lnTo>
                  <a:pt x="433" y="1467"/>
                </a:lnTo>
                <a:lnTo>
                  <a:pt x="430" y="1470"/>
                </a:lnTo>
                <a:lnTo>
                  <a:pt x="427" y="1475"/>
                </a:lnTo>
                <a:lnTo>
                  <a:pt x="422" y="1480"/>
                </a:lnTo>
                <a:lnTo>
                  <a:pt x="419" y="1485"/>
                </a:lnTo>
                <a:lnTo>
                  <a:pt x="414" y="1488"/>
                </a:lnTo>
                <a:lnTo>
                  <a:pt x="411" y="1493"/>
                </a:lnTo>
                <a:lnTo>
                  <a:pt x="406" y="1498"/>
                </a:lnTo>
                <a:lnTo>
                  <a:pt x="402" y="1501"/>
                </a:lnTo>
                <a:lnTo>
                  <a:pt x="396" y="1506"/>
                </a:lnTo>
                <a:lnTo>
                  <a:pt x="393" y="1510"/>
                </a:lnTo>
                <a:lnTo>
                  <a:pt x="386" y="1514"/>
                </a:lnTo>
                <a:lnTo>
                  <a:pt x="383" y="1518"/>
                </a:lnTo>
                <a:lnTo>
                  <a:pt x="376" y="1521"/>
                </a:lnTo>
                <a:lnTo>
                  <a:pt x="371" y="1526"/>
                </a:lnTo>
                <a:lnTo>
                  <a:pt x="367" y="1529"/>
                </a:lnTo>
                <a:lnTo>
                  <a:pt x="362" y="1532"/>
                </a:lnTo>
                <a:lnTo>
                  <a:pt x="355" y="1536"/>
                </a:lnTo>
                <a:lnTo>
                  <a:pt x="350" y="1539"/>
                </a:lnTo>
                <a:lnTo>
                  <a:pt x="345" y="1542"/>
                </a:lnTo>
                <a:lnTo>
                  <a:pt x="339" y="1545"/>
                </a:lnTo>
                <a:lnTo>
                  <a:pt x="334" y="1549"/>
                </a:lnTo>
                <a:lnTo>
                  <a:pt x="327" y="1552"/>
                </a:lnTo>
                <a:lnTo>
                  <a:pt x="323" y="1554"/>
                </a:lnTo>
                <a:lnTo>
                  <a:pt x="316" y="1557"/>
                </a:lnTo>
                <a:lnTo>
                  <a:pt x="308" y="1560"/>
                </a:lnTo>
                <a:lnTo>
                  <a:pt x="303" y="1562"/>
                </a:lnTo>
                <a:lnTo>
                  <a:pt x="295" y="1563"/>
                </a:lnTo>
                <a:lnTo>
                  <a:pt x="290" y="1565"/>
                </a:lnTo>
                <a:lnTo>
                  <a:pt x="282" y="1567"/>
                </a:lnTo>
                <a:lnTo>
                  <a:pt x="275" y="1568"/>
                </a:lnTo>
                <a:lnTo>
                  <a:pt x="269" y="1570"/>
                </a:lnTo>
                <a:lnTo>
                  <a:pt x="262" y="1572"/>
                </a:lnTo>
                <a:lnTo>
                  <a:pt x="254" y="1572"/>
                </a:lnTo>
                <a:lnTo>
                  <a:pt x="246" y="1573"/>
                </a:lnTo>
                <a:lnTo>
                  <a:pt x="239" y="1573"/>
                </a:lnTo>
                <a:lnTo>
                  <a:pt x="233" y="1573"/>
                </a:lnTo>
                <a:lnTo>
                  <a:pt x="225" y="1573"/>
                </a:lnTo>
                <a:lnTo>
                  <a:pt x="217" y="1573"/>
                </a:lnTo>
                <a:lnTo>
                  <a:pt x="208" y="1572"/>
                </a:lnTo>
                <a:lnTo>
                  <a:pt x="202" y="1572"/>
                </a:lnTo>
                <a:lnTo>
                  <a:pt x="200" y="1570"/>
                </a:lnTo>
                <a:lnTo>
                  <a:pt x="199" y="1567"/>
                </a:lnTo>
                <a:lnTo>
                  <a:pt x="195" y="1565"/>
                </a:lnTo>
                <a:lnTo>
                  <a:pt x="194" y="1562"/>
                </a:lnTo>
                <a:lnTo>
                  <a:pt x="192" y="1559"/>
                </a:lnTo>
                <a:lnTo>
                  <a:pt x="191" y="1555"/>
                </a:lnTo>
                <a:lnTo>
                  <a:pt x="187" y="1549"/>
                </a:lnTo>
                <a:lnTo>
                  <a:pt x="184" y="1545"/>
                </a:lnTo>
                <a:lnTo>
                  <a:pt x="181" y="1539"/>
                </a:lnTo>
                <a:lnTo>
                  <a:pt x="179" y="1534"/>
                </a:lnTo>
                <a:lnTo>
                  <a:pt x="174" y="1528"/>
                </a:lnTo>
                <a:lnTo>
                  <a:pt x="171" y="1521"/>
                </a:lnTo>
                <a:lnTo>
                  <a:pt x="166" y="1513"/>
                </a:lnTo>
                <a:lnTo>
                  <a:pt x="163" y="1506"/>
                </a:lnTo>
                <a:lnTo>
                  <a:pt x="158" y="1498"/>
                </a:lnTo>
                <a:lnTo>
                  <a:pt x="153" y="1490"/>
                </a:lnTo>
                <a:lnTo>
                  <a:pt x="148" y="1480"/>
                </a:lnTo>
                <a:lnTo>
                  <a:pt x="145" y="1472"/>
                </a:lnTo>
                <a:lnTo>
                  <a:pt x="138" y="1462"/>
                </a:lnTo>
                <a:lnTo>
                  <a:pt x="134" y="1453"/>
                </a:lnTo>
                <a:lnTo>
                  <a:pt x="130" y="1443"/>
                </a:lnTo>
                <a:lnTo>
                  <a:pt x="125" y="1433"/>
                </a:lnTo>
                <a:lnTo>
                  <a:pt x="119" y="1422"/>
                </a:lnTo>
                <a:lnTo>
                  <a:pt x="114" y="1410"/>
                </a:lnTo>
                <a:lnTo>
                  <a:pt x="109" y="1399"/>
                </a:lnTo>
                <a:lnTo>
                  <a:pt x="104" y="1387"/>
                </a:lnTo>
                <a:lnTo>
                  <a:pt x="99" y="1374"/>
                </a:lnTo>
                <a:lnTo>
                  <a:pt x="93" y="1363"/>
                </a:lnTo>
                <a:lnTo>
                  <a:pt x="88" y="1350"/>
                </a:lnTo>
                <a:lnTo>
                  <a:pt x="83" y="1337"/>
                </a:lnTo>
                <a:lnTo>
                  <a:pt x="78" y="1324"/>
                </a:lnTo>
                <a:lnTo>
                  <a:pt x="73" y="1309"/>
                </a:lnTo>
                <a:lnTo>
                  <a:pt x="67" y="1296"/>
                </a:lnTo>
                <a:lnTo>
                  <a:pt x="63" y="1283"/>
                </a:lnTo>
                <a:lnTo>
                  <a:pt x="57" y="1267"/>
                </a:lnTo>
                <a:lnTo>
                  <a:pt x="52" y="1252"/>
                </a:lnTo>
                <a:lnTo>
                  <a:pt x="49" y="1237"/>
                </a:lnTo>
                <a:lnTo>
                  <a:pt x="44" y="1224"/>
                </a:lnTo>
                <a:lnTo>
                  <a:pt x="39" y="1208"/>
                </a:lnTo>
                <a:lnTo>
                  <a:pt x="36" y="1193"/>
                </a:lnTo>
                <a:lnTo>
                  <a:pt x="31" y="1177"/>
                </a:lnTo>
                <a:lnTo>
                  <a:pt x="28" y="1162"/>
                </a:lnTo>
                <a:lnTo>
                  <a:pt x="24" y="1146"/>
                </a:lnTo>
                <a:lnTo>
                  <a:pt x="21" y="1130"/>
                </a:lnTo>
                <a:lnTo>
                  <a:pt x="18" y="1113"/>
                </a:lnTo>
                <a:lnTo>
                  <a:pt x="15" y="1099"/>
                </a:lnTo>
                <a:lnTo>
                  <a:pt x="11" y="1081"/>
                </a:lnTo>
                <a:lnTo>
                  <a:pt x="8" y="1064"/>
                </a:lnTo>
                <a:lnTo>
                  <a:pt x="6" y="1048"/>
                </a:lnTo>
                <a:lnTo>
                  <a:pt x="5" y="1032"/>
                </a:lnTo>
                <a:lnTo>
                  <a:pt x="3" y="1014"/>
                </a:lnTo>
                <a:lnTo>
                  <a:pt x="1" y="998"/>
                </a:lnTo>
                <a:lnTo>
                  <a:pt x="0" y="981"/>
                </a:lnTo>
                <a:lnTo>
                  <a:pt x="0" y="965"/>
                </a:lnTo>
                <a:lnTo>
                  <a:pt x="0" y="947"/>
                </a:lnTo>
                <a:lnTo>
                  <a:pt x="0" y="929"/>
                </a:lnTo>
                <a:lnTo>
                  <a:pt x="0" y="913"/>
                </a:lnTo>
                <a:lnTo>
                  <a:pt x="1" y="896"/>
                </a:lnTo>
                <a:lnTo>
                  <a:pt x="1" y="879"/>
                </a:lnTo>
                <a:lnTo>
                  <a:pt x="3" y="861"/>
                </a:lnTo>
                <a:lnTo>
                  <a:pt x="5" y="844"/>
                </a:lnTo>
                <a:lnTo>
                  <a:pt x="8" y="828"/>
                </a:lnTo>
                <a:lnTo>
                  <a:pt x="8" y="826"/>
                </a:lnTo>
                <a:lnTo>
                  <a:pt x="10" y="821"/>
                </a:lnTo>
                <a:lnTo>
                  <a:pt x="11" y="818"/>
                </a:lnTo>
                <a:lnTo>
                  <a:pt x="13" y="813"/>
                </a:lnTo>
                <a:lnTo>
                  <a:pt x="16" y="810"/>
                </a:lnTo>
                <a:lnTo>
                  <a:pt x="19" y="805"/>
                </a:lnTo>
                <a:lnTo>
                  <a:pt x="21" y="799"/>
                </a:lnTo>
                <a:lnTo>
                  <a:pt x="24" y="794"/>
                </a:lnTo>
                <a:lnTo>
                  <a:pt x="28" y="787"/>
                </a:lnTo>
                <a:lnTo>
                  <a:pt x="31" y="781"/>
                </a:lnTo>
                <a:lnTo>
                  <a:pt x="36" y="774"/>
                </a:lnTo>
                <a:lnTo>
                  <a:pt x="39" y="768"/>
                </a:lnTo>
                <a:lnTo>
                  <a:pt x="41" y="763"/>
                </a:lnTo>
                <a:lnTo>
                  <a:pt x="44" y="759"/>
                </a:lnTo>
                <a:lnTo>
                  <a:pt x="45" y="755"/>
                </a:lnTo>
                <a:lnTo>
                  <a:pt x="49" y="751"/>
                </a:lnTo>
                <a:lnTo>
                  <a:pt x="50" y="748"/>
                </a:lnTo>
                <a:lnTo>
                  <a:pt x="52" y="743"/>
                </a:lnTo>
                <a:lnTo>
                  <a:pt x="55" y="738"/>
                </a:lnTo>
                <a:lnTo>
                  <a:pt x="59" y="735"/>
                </a:lnTo>
                <a:lnTo>
                  <a:pt x="60" y="730"/>
                </a:lnTo>
                <a:lnTo>
                  <a:pt x="63" y="727"/>
                </a:lnTo>
                <a:lnTo>
                  <a:pt x="67" y="722"/>
                </a:lnTo>
                <a:lnTo>
                  <a:pt x="70" y="717"/>
                </a:lnTo>
                <a:lnTo>
                  <a:pt x="72" y="714"/>
                </a:lnTo>
                <a:lnTo>
                  <a:pt x="75" y="709"/>
                </a:lnTo>
                <a:lnTo>
                  <a:pt x="78" y="704"/>
                </a:lnTo>
                <a:lnTo>
                  <a:pt x="81" y="701"/>
                </a:lnTo>
                <a:lnTo>
                  <a:pt x="83" y="696"/>
                </a:lnTo>
                <a:lnTo>
                  <a:pt x="88" y="693"/>
                </a:lnTo>
                <a:lnTo>
                  <a:pt x="90" y="688"/>
                </a:lnTo>
                <a:lnTo>
                  <a:pt x="94" y="684"/>
                </a:lnTo>
                <a:lnTo>
                  <a:pt x="98" y="680"/>
                </a:lnTo>
                <a:lnTo>
                  <a:pt x="101" y="675"/>
                </a:lnTo>
                <a:lnTo>
                  <a:pt x="104" y="670"/>
                </a:lnTo>
                <a:lnTo>
                  <a:pt x="107" y="667"/>
                </a:lnTo>
                <a:lnTo>
                  <a:pt x="111" y="662"/>
                </a:lnTo>
                <a:lnTo>
                  <a:pt x="114" y="658"/>
                </a:lnTo>
                <a:lnTo>
                  <a:pt x="117" y="655"/>
                </a:lnTo>
                <a:lnTo>
                  <a:pt x="120" y="650"/>
                </a:lnTo>
                <a:lnTo>
                  <a:pt x="124" y="647"/>
                </a:lnTo>
                <a:lnTo>
                  <a:pt x="129" y="642"/>
                </a:lnTo>
                <a:lnTo>
                  <a:pt x="132" y="639"/>
                </a:lnTo>
                <a:lnTo>
                  <a:pt x="135" y="634"/>
                </a:lnTo>
                <a:lnTo>
                  <a:pt x="140" y="631"/>
                </a:lnTo>
                <a:lnTo>
                  <a:pt x="143" y="627"/>
                </a:lnTo>
                <a:lnTo>
                  <a:pt x="148" y="624"/>
                </a:lnTo>
                <a:lnTo>
                  <a:pt x="151" y="621"/>
                </a:lnTo>
                <a:lnTo>
                  <a:pt x="158" y="614"/>
                </a:lnTo>
                <a:lnTo>
                  <a:pt x="164" y="606"/>
                </a:lnTo>
                <a:lnTo>
                  <a:pt x="171" y="600"/>
                </a:lnTo>
                <a:lnTo>
                  <a:pt x="178" y="593"/>
                </a:lnTo>
                <a:lnTo>
                  <a:pt x="182" y="587"/>
                </a:lnTo>
                <a:lnTo>
                  <a:pt x="189" y="580"/>
                </a:lnTo>
                <a:lnTo>
                  <a:pt x="194" y="572"/>
                </a:lnTo>
                <a:lnTo>
                  <a:pt x="199" y="567"/>
                </a:lnTo>
                <a:lnTo>
                  <a:pt x="202" y="561"/>
                </a:lnTo>
                <a:lnTo>
                  <a:pt x="207" y="554"/>
                </a:lnTo>
                <a:lnTo>
                  <a:pt x="210" y="547"/>
                </a:lnTo>
                <a:lnTo>
                  <a:pt x="213" y="541"/>
                </a:lnTo>
                <a:lnTo>
                  <a:pt x="217" y="536"/>
                </a:lnTo>
                <a:lnTo>
                  <a:pt x="220" y="531"/>
                </a:lnTo>
                <a:lnTo>
                  <a:pt x="223" y="525"/>
                </a:lnTo>
                <a:lnTo>
                  <a:pt x="226" y="521"/>
                </a:lnTo>
                <a:lnTo>
                  <a:pt x="226" y="515"/>
                </a:lnTo>
                <a:lnTo>
                  <a:pt x="230" y="510"/>
                </a:lnTo>
                <a:lnTo>
                  <a:pt x="230" y="505"/>
                </a:lnTo>
                <a:lnTo>
                  <a:pt x="233" y="502"/>
                </a:lnTo>
                <a:lnTo>
                  <a:pt x="233" y="497"/>
                </a:lnTo>
                <a:lnTo>
                  <a:pt x="235" y="494"/>
                </a:lnTo>
                <a:lnTo>
                  <a:pt x="236" y="490"/>
                </a:lnTo>
                <a:lnTo>
                  <a:pt x="236" y="487"/>
                </a:lnTo>
                <a:lnTo>
                  <a:pt x="238" y="482"/>
                </a:lnTo>
                <a:lnTo>
                  <a:pt x="239" y="479"/>
                </a:lnTo>
                <a:lnTo>
                  <a:pt x="239" y="476"/>
                </a:lnTo>
                <a:lnTo>
                  <a:pt x="239" y="476"/>
                </a:lnTo>
                <a:lnTo>
                  <a:pt x="239" y="474"/>
                </a:lnTo>
                <a:lnTo>
                  <a:pt x="241" y="469"/>
                </a:lnTo>
                <a:lnTo>
                  <a:pt x="241" y="464"/>
                </a:lnTo>
                <a:lnTo>
                  <a:pt x="243" y="459"/>
                </a:lnTo>
                <a:lnTo>
                  <a:pt x="244" y="455"/>
                </a:lnTo>
                <a:lnTo>
                  <a:pt x="246" y="450"/>
                </a:lnTo>
                <a:lnTo>
                  <a:pt x="246" y="443"/>
                </a:lnTo>
                <a:lnTo>
                  <a:pt x="249" y="437"/>
                </a:lnTo>
                <a:lnTo>
                  <a:pt x="249" y="432"/>
                </a:lnTo>
                <a:lnTo>
                  <a:pt x="251" y="428"/>
                </a:lnTo>
                <a:lnTo>
                  <a:pt x="251" y="425"/>
                </a:lnTo>
                <a:lnTo>
                  <a:pt x="252" y="422"/>
                </a:lnTo>
                <a:lnTo>
                  <a:pt x="254" y="419"/>
                </a:lnTo>
                <a:lnTo>
                  <a:pt x="254" y="414"/>
                </a:lnTo>
                <a:lnTo>
                  <a:pt x="256" y="410"/>
                </a:lnTo>
                <a:lnTo>
                  <a:pt x="257" y="406"/>
                </a:lnTo>
                <a:lnTo>
                  <a:pt x="257" y="402"/>
                </a:lnTo>
                <a:lnTo>
                  <a:pt x="259" y="397"/>
                </a:lnTo>
                <a:lnTo>
                  <a:pt x="261" y="394"/>
                </a:lnTo>
                <a:lnTo>
                  <a:pt x="262" y="389"/>
                </a:lnTo>
                <a:lnTo>
                  <a:pt x="262" y="384"/>
                </a:lnTo>
                <a:lnTo>
                  <a:pt x="264" y="381"/>
                </a:lnTo>
                <a:lnTo>
                  <a:pt x="266" y="376"/>
                </a:lnTo>
                <a:lnTo>
                  <a:pt x="267" y="371"/>
                </a:lnTo>
                <a:lnTo>
                  <a:pt x="267" y="366"/>
                </a:lnTo>
                <a:lnTo>
                  <a:pt x="269" y="363"/>
                </a:lnTo>
                <a:lnTo>
                  <a:pt x="270" y="358"/>
                </a:lnTo>
                <a:lnTo>
                  <a:pt x="272" y="353"/>
                </a:lnTo>
                <a:lnTo>
                  <a:pt x="274" y="350"/>
                </a:lnTo>
                <a:lnTo>
                  <a:pt x="274" y="345"/>
                </a:lnTo>
                <a:lnTo>
                  <a:pt x="275" y="340"/>
                </a:lnTo>
                <a:lnTo>
                  <a:pt x="277" y="335"/>
                </a:lnTo>
                <a:lnTo>
                  <a:pt x="279" y="332"/>
                </a:lnTo>
                <a:lnTo>
                  <a:pt x="280" y="327"/>
                </a:lnTo>
                <a:lnTo>
                  <a:pt x="282" y="324"/>
                </a:lnTo>
                <a:lnTo>
                  <a:pt x="283" y="319"/>
                </a:lnTo>
                <a:lnTo>
                  <a:pt x="285" y="316"/>
                </a:lnTo>
                <a:lnTo>
                  <a:pt x="287" y="311"/>
                </a:lnTo>
                <a:lnTo>
                  <a:pt x="288" y="308"/>
                </a:lnTo>
                <a:lnTo>
                  <a:pt x="290" y="303"/>
                </a:lnTo>
                <a:lnTo>
                  <a:pt x="293" y="296"/>
                </a:lnTo>
                <a:lnTo>
                  <a:pt x="296" y="290"/>
                </a:lnTo>
                <a:lnTo>
                  <a:pt x="298" y="282"/>
                </a:lnTo>
                <a:lnTo>
                  <a:pt x="303" y="277"/>
                </a:lnTo>
                <a:lnTo>
                  <a:pt x="305" y="270"/>
                </a:lnTo>
                <a:lnTo>
                  <a:pt x="310" y="267"/>
                </a:lnTo>
                <a:lnTo>
                  <a:pt x="314" y="251"/>
                </a:lnTo>
                <a:lnTo>
                  <a:pt x="314" y="251"/>
                </a:lnTo>
                <a:close/>
              </a:path>
            </a:pathLst>
          </a:custGeom>
          <a:solidFill>
            <a:srgbClr val="faad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114960" y="3841920"/>
            <a:ext cx="1230480" cy="1552320"/>
          </a:xfrm>
          <a:custGeom>
            <a:avLst/>
            <a:gdLst/>
            <a:ahLst/>
            <a:rect l="l" t="t" r="r" b="b"/>
            <a:pathLst>
              <a:path w="1550" h="1957">
                <a:moveTo>
                  <a:pt x="198" y="822"/>
                </a:moveTo>
                <a:lnTo>
                  <a:pt x="247" y="794"/>
                </a:lnTo>
                <a:lnTo>
                  <a:pt x="248" y="796"/>
                </a:lnTo>
                <a:lnTo>
                  <a:pt x="248" y="797"/>
                </a:lnTo>
                <a:lnTo>
                  <a:pt x="250" y="800"/>
                </a:lnTo>
                <a:lnTo>
                  <a:pt x="251" y="805"/>
                </a:lnTo>
                <a:lnTo>
                  <a:pt x="255" y="810"/>
                </a:lnTo>
                <a:lnTo>
                  <a:pt x="258" y="815"/>
                </a:lnTo>
                <a:lnTo>
                  <a:pt x="261" y="823"/>
                </a:lnTo>
                <a:lnTo>
                  <a:pt x="263" y="825"/>
                </a:lnTo>
                <a:lnTo>
                  <a:pt x="266" y="828"/>
                </a:lnTo>
                <a:lnTo>
                  <a:pt x="268" y="833"/>
                </a:lnTo>
                <a:lnTo>
                  <a:pt x="269" y="836"/>
                </a:lnTo>
                <a:lnTo>
                  <a:pt x="273" y="841"/>
                </a:lnTo>
                <a:lnTo>
                  <a:pt x="274" y="844"/>
                </a:lnTo>
                <a:lnTo>
                  <a:pt x="276" y="848"/>
                </a:lnTo>
                <a:lnTo>
                  <a:pt x="279" y="853"/>
                </a:lnTo>
                <a:lnTo>
                  <a:pt x="282" y="858"/>
                </a:lnTo>
                <a:lnTo>
                  <a:pt x="286" y="862"/>
                </a:lnTo>
                <a:lnTo>
                  <a:pt x="287" y="866"/>
                </a:lnTo>
                <a:lnTo>
                  <a:pt x="291" y="871"/>
                </a:lnTo>
                <a:lnTo>
                  <a:pt x="294" y="875"/>
                </a:lnTo>
                <a:lnTo>
                  <a:pt x="297" y="880"/>
                </a:lnTo>
                <a:lnTo>
                  <a:pt x="300" y="884"/>
                </a:lnTo>
                <a:lnTo>
                  <a:pt x="305" y="890"/>
                </a:lnTo>
                <a:lnTo>
                  <a:pt x="308" y="893"/>
                </a:lnTo>
                <a:lnTo>
                  <a:pt x="312" y="898"/>
                </a:lnTo>
                <a:lnTo>
                  <a:pt x="315" y="902"/>
                </a:lnTo>
                <a:lnTo>
                  <a:pt x="318" y="906"/>
                </a:lnTo>
                <a:lnTo>
                  <a:pt x="323" y="910"/>
                </a:lnTo>
                <a:lnTo>
                  <a:pt x="326" y="915"/>
                </a:lnTo>
                <a:lnTo>
                  <a:pt x="330" y="919"/>
                </a:lnTo>
                <a:lnTo>
                  <a:pt x="335" y="924"/>
                </a:lnTo>
                <a:lnTo>
                  <a:pt x="339" y="928"/>
                </a:lnTo>
                <a:lnTo>
                  <a:pt x="343" y="933"/>
                </a:lnTo>
                <a:lnTo>
                  <a:pt x="348" y="936"/>
                </a:lnTo>
                <a:lnTo>
                  <a:pt x="352" y="941"/>
                </a:lnTo>
                <a:lnTo>
                  <a:pt x="356" y="944"/>
                </a:lnTo>
                <a:lnTo>
                  <a:pt x="361" y="949"/>
                </a:lnTo>
                <a:lnTo>
                  <a:pt x="365" y="952"/>
                </a:lnTo>
                <a:lnTo>
                  <a:pt x="370" y="955"/>
                </a:lnTo>
                <a:lnTo>
                  <a:pt x="374" y="959"/>
                </a:lnTo>
                <a:lnTo>
                  <a:pt x="380" y="962"/>
                </a:lnTo>
                <a:lnTo>
                  <a:pt x="385" y="965"/>
                </a:lnTo>
                <a:lnTo>
                  <a:pt x="390" y="968"/>
                </a:lnTo>
                <a:lnTo>
                  <a:pt x="395" y="972"/>
                </a:lnTo>
                <a:lnTo>
                  <a:pt x="400" y="973"/>
                </a:lnTo>
                <a:lnTo>
                  <a:pt x="405" y="977"/>
                </a:lnTo>
                <a:lnTo>
                  <a:pt x="411" y="978"/>
                </a:lnTo>
                <a:lnTo>
                  <a:pt x="416" y="980"/>
                </a:lnTo>
                <a:lnTo>
                  <a:pt x="423" y="981"/>
                </a:lnTo>
                <a:lnTo>
                  <a:pt x="427" y="983"/>
                </a:lnTo>
                <a:lnTo>
                  <a:pt x="432" y="986"/>
                </a:lnTo>
                <a:lnTo>
                  <a:pt x="439" y="986"/>
                </a:lnTo>
                <a:lnTo>
                  <a:pt x="445" y="986"/>
                </a:lnTo>
                <a:lnTo>
                  <a:pt x="450" y="988"/>
                </a:lnTo>
                <a:lnTo>
                  <a:pt x="457" y="990"/>
                </a:lnTo>
                <a:lnTo>
                  <a:pt x="457" y="988"/>
                </a:lnTo>
                <a:lnTo>
                  <a:pt x="460" y="988"/>
                </a:lnTo>
                <a:lnTo>
                  <a:pt x="463" y="988"/>
                </a:lnTo>
                <a:lnTo>
                  <a:pt x="465" y="988"/>
                </a:lnTo>
                <a:lnTo>
                  <a:pt x="468" y="986"/>
                </a:lnTo>
                <a:lnTo>
                  <a:pt x="473" y="986"/>
                </a:lnTo>
                <a:lnTo>
                  <a:pt x="476" y="985"/>
                </a:lnTo>
                <a:lnTo>
                  <a:pt x="481" y="983"/>
                </a:lnTo>
                <a:lnTo>
                  <a:pt x="486" y="981"/>
                </a:lnTo>
                <a:lnTo>
                  <a:pt x="493" y="980"/>
                </a:lnTo>
                <a:lnTo>
                  <a:pt x="497" y="977"/>
                </a:lnTo>
                <a:lnTo>
                  <a:pt x="504" y="975"/>
                </a:lnTo>
                <a:lnTo>
                  <a:pt x="507" y="972"/>
                </a:lnTo>
                <a:lnTo>
                  <a:pt x="512" y="972"/>
                </a:lnTo>
                <a:lnTo>
                  <a:pt x="515" y="970"/>
                </a:lnTo>
                <a:lnTo>
                  <a:pt x="520" y="968"/>
                </a:lnTo>
                <a:lnTo>
                  <a:pt x="524" y="965"/>
                </a:lnTo>
                <a:lnTo>
                  <a:pt x="527" y="964"/>
                </a:lnTo>
                <a:lnTo>
                  <a:pt x="532" y="962"/>
                </a:lnTo>
                <a:lnTo>
                  <a:pt x="535" y="960"/>
                </a:lnTo>
                <a:lnTo>
                  <a:pt x="538" y="957"/>
                </a:lnTo>
                <a:lnTo>
                  <a:pt x="543" y="955"/>
                </a:lnTo>
                <a:lnTo>
                  <a:pt x="548" y="952"/>
                </a:lnTo>
                <a:lnTo>
                  <a:pt x="553" y="949"/>
                </a:lnTo>
                <a:lnTo>
                  <a:pt x="556" y="946"/>
                </a:lnTo>
                <a:lnTo>
                  <a:pt x="561" y="942"/>
                </a:lnTo>
                <a:lnTo>
                  <a:pt x="566" y="939"/>
                </a:lnTo>
                <a:lnTo>
                  <a:pt x="571" y="936"/>
                </a:lnTo>
                <a:lnTo>
                  <a:pt x="576" y="933"/>
                </a:lnTo>
                <a:lnTo>
                  <a:pt x="581" y="928"/>
                </a:lnTo>
                <a:lnTo>
                  <a:pt x="586" y="924"/>
                </a:lnTo>
                <a:lnTo>
                  <a:pt x="592" y="921"/>
                </a:lnTo>
                <a:lnTo>
                  <a:pt x="597" y="916"/>
                </a:lnTo>
                <a:lnTo>
                  <a:pt x="602" y="911"/>
                </a:lnTo>
                <a:lnTo>
                  <a:pt x="607" y="906"/>
                </a:lnTo>
                <a:lnTo>
                  <a:pt x="613" y="902"/>
                </a:lnTo>
                <a:lnTo>
                  <a:pt x="620" y="897"/>
                </a:lnTo>
                <a:lnTo>
                  <a:pt x="625" y="892"/>
                </a:lnTo>
                <a:lnTo>
                  <a:pt x="631" y="885"/>
                </a:lnTo>
                <a:lnTo>
                  <a:pt x="636" y="880"/>
                </a:lnTo>
                <a:lnTo>
                  <a:pt x="643" y="874"/>
                </a:lnTo>
                <a:lnTo>
                  <a:pt x="649" y="869"/>
                </a:lnTo>
                <a:lnTo>
                  <a:pt x="654" y="862"/>
                </a:lnTo>
                <a:lnTo>
                  <a:pt x="660" y="856"/>
                </a:lnTo>
                <a:lnTo>
                  <a:pt x="667" y="848"/>
                </a:lnTo>
                <a:lnTo>
                  <a:pt x="674" y="841"/>
                </a:lnTo>
                <a:lnTo>
                  <a:pt x="680" y="835"/>
                </a:lnTo>
                <a:lnTo>
                  <a:pt x="687" y="828"/>
                </a:lnTo>
                <a:lnTo>
                  <a:pt x="687" y="827"/>
                </a:lnTo>
                <a:lnTo>
                  <a:pt x="688" y="825"/>
                </a:lnTo>
                <a:lnTo>
                  <a:pt x="691" y="820"/>
                </a:lnTo>
                <a:lnTo>
                  <a:pt x="695" y="815"/>
                </a:lnTo>
                <a:lnTo>
                  <a:pt x="695" y="812"/>
                </a:lnTo>
                <a:lnTo>
                  <a:pt x="696" y="809"/>
                </a:lnTo>
                <a:lnTo>
                  <a:pt x="698" y="804"/>
                </a:lnTo>
                <a:lnTo>
                  <a:pt x="701" y="800"/>
                </a:lnTo>
                <a:lnTo>
                  <a:pt x="703" y="797"/>
                </a:lnTo>
                <a:lnTo>
                  <a:pt x="704" y="792"/>
                </a:lnTo>
                <a:lnTo>
                  <a:pt x="706" y="787"/>
                </a:lnTo>
                <a:lnTo>
                  <a:pt x="708" y="783"/>
                </a:lnTo>
                <a:lnTo>
                  <a:pt x="709" y="776"/>
                </a:lnTo>
                <a:lnTo>
                  <a:pt x="711" y="771"/>
                </a:lnTo>
                <a:lnTo>
                  <a:pt x="714" y="766"/>
                </a:lnTo>
                <a:lnTo>
                  <a:pt x="716" y="760"/>
                </a:lnTo>
                <a:lnTo>
                  <a:pt x="718" y="753"/>
                </a:lnTo>
                <a:lnTo>
                  <a:pt x="719" y="747"/>
                </a:lnTo>
                <a:lnTo>
                  <a:pt x="721" y="740"/>
                </a:lnTo>
                <a:lnTo>
                  <a:pt x="722" y="735"/>
                </a:lnTo>
                <a:lnTo>
                  <a:pt x="722" y="727"/>
                </a:lnTo>
                <a:lnTo>
                  <a:pt x="724" y="721"/>
                </a:lnTo>
                <a:lnTo>
                  <a:pt x="726" y="714"/>
                </a:lnTo>
                <a:lnTo>
                  <a:pt x="726" y="707"/>
                </a:lnTo>
                <a:lnTo>
                  <a:pt x="726" y="703"/>
                </a:lnTo>
                <a:lnTo>
                  <a:pt x="726" y="699"/>
                </a:lnTo>
                <a:lnTo>
                  <a:pt x="726" y="696"/>
                </a:lnTo>
                <a:lnTo>
                  <a:pt x="727" y="693"/>
                </a:lnTo>
                <a:lnTo>
                  <a:pt x="727" y="688"/>
                </a:lnTo>
                <a:lnTo>
                  <a:pt x="727" y="685"/>
                </a:lnTo>
                <a:lnTo>
                  <a:pt x="727" y="681"/>
                </a:lnTo>
                <a:lnTo>
                  <a:pt x="727" y="678"/>
                </a:lnTo>
                <a:lnTo>
                  <a:pt x="727" y="677"/>
                </a:lnTo>
                <a:lnTo>
                  <a:pt x="727" y="673"/>
                </a:lnTo>
                <a:lnTo>
                  <a:pt x="727" y="670"/>
                </a:lnTo>
                <a:lnTo>
                  <a:pt x="727" y="663"/>
                </a:lnTo>
                <a:lnTo>
                  <a:pt x="727" y="660"/>
                </a:lnTo>
                <a:lnTo>
                  <a:pt x="727" y="657"/>
                </a:lnTo>
                <a:lnTo>
                  <a:pt x="727" y="652"/>
                </a:lnTo>
                <a:lnTo>
                  <a:pt x="727" y="647"/>
                </a:lnTo>
                <a:lnTo>
                  <a:pt x="727" y="642"/>
                </a:lnTo>
                <a:lnTo>
                  <a:pt x="727" y="636"/>
                </a:lnTo>
                <a:lnTo>
                  <a:pt x="727" y="631"/>
                </a:lnTo>
                <a:lnTo>
                  <a:pt x="727" y="626"/>
                </a:lnTo>
                <a:lnTo>
                  <a:pt x="727" y="618"/>
                </a:lnTo>
                <a:lnTo>
                  <a:pt x="727" y="611"/>
                </a:lnTo>
                <a:lnTo>
                  <a:pt x="727" y="605"/>
                </a:lnTo>
                <a:lnTo>
                  <a:pt x="727" y="598"/>
                </a:lnTo>
                <a:lnTo>
                  <a:pt x="726" y="588"/>
                </a:lnTo>
                <a:lnTo>
                  <a:pt x="726" y="582"/>
                </a:lnTo>
                <a:lnTo>
                  <a:pt x="726" y="572"/>
                </a:lnTo>
                <a:lnTo>
                  <a:pt x="726" y="564"/>
                </a:lnTo>
                <a:lnTo>
                  <a:pt x="726" y="556"/>
                </a:lnTo>
                <a:lnTo>
                  <a:pt x="726" y="546"/>
                </a:lnTo>
                <a:lnTo>
                  <a:pt x="724" y="536"/>
                </a:lnTo>
                <a:lnTo>
                  <a:pt x="724" y="526"/>
                </a:lnTo>
                <a:lnTo>
                  <a:pt x="722" y="517"/>
                </a:lnTo>
                <a:lnTo>
                  <a:pt x="722" y="507"/>
                </a:lnTo>
                <a:lnTo>
                  <a:pt x="722" y="497"/>
                </a:lnTo>
                <a:lnTo>
                  <a:pt x="721" y="486"/>
                </a:lnTo>
                <a:lnTo>
                  <a:pt x="719" y="474"/>
                </a:lnTo>
                <a:lnTo>
                  <a:pt x="718" y="465"/>
                </a:lnTo>
                <a:lnTo>
                  <a:pt x="718" y="451"/>
                </a:lnTo>
                <a:lnTo>
                  <a:pt x="716" y="440"/>
                </a:lnTo>
                <a:lnTo>
                  <a:pt x="714" y="429"/>
                </a:lnTo>
                <a:lnTo>
                  <a:pt x="713" y="417"/>
                </a:lnTo>
                <a:lnTo>
                  <a:pt x="711" y="404"/>
                </a:lnTo>
                <a:lnTo>
                  <a:pt x="709" y="391"/>
                </a:lnTo>
                <a:lnTo>
                  <a:pt x="708" y="378"/>
                </a:lnTo>
                <a:lnTo>
                  <a:pt x="706" y="365"/>
                </a:lnTo>
                <a:lnTo>
                  <a:pt x="704" y="352"/>
                </a:lnTo>
                <a:lnTo>
                  <a:pt x="701" y="339"/>
                </a:lnTo>
                <a:lnTo>
                  <a:pt x="700" y="326"/>
                </a:lnTo>
                <a:lnTo>
                  <a:pt x="698" y="313"/>
                </a:lnTo>
                <a:lnTo>
                  <a:pt x="695" y="298"/>
                </a:lnTo>
                <a:lnTo>
                  <a:pt x="693" y="285"/>
                </a:lnTo>
                <a:lnTo>
                  <a:pt x="690" y="270"/>
                </a:lnTo>
                <a:lnTo>
                  <a:pt x="687" y="256"/>
                </a:lnTo>
                <a:lnTo>
                  <a:pt x="683" y="241"/>
                </a:lnTo>
                <a:lnTo>
                  <a:pt x="680" y="228"/>
                </a:lnTo>
                <a:lnTo>
                  <a:pt x="677" y="213"/>
                </a:lnTo>
                <a:lnTo>
                  <a:pt x="674" y="199"/>
                </a:lnTo>
                <a:lnTo>
                  <a:pt x="670" y="184"/>
                </a:lnTo>
                <a:lnTo>
                  <a:pt x="667" y="169"/>
                </a:lnTo>
                <a:lnTo>
                  <a:pt x="662" y="155"/>
                </a:lnTo>
                <a:lnTo>
                  <a:pt x="657" y="138"/>
                </a:lnTo>
                <a:lnTo>
                  <a:pt x="654" y="124"/>
                </a:lnTo>
                <a:lnTo>
                  <a:pt x="651" y="109"/>
                </a:lnTo>
                <a:lnTo>
                  <a:pt x="644" y="94"/>
                </a:lnTo>
                <a:lnTo>
                  <a:pt x="639" y="78"/>
                </a:lnTo>
                <a:lnTo>
                  <a:pt x="636" y="63"/>
                </a:lnTo>
                <a:lnTo>
                  <a:pt x="631" y="49"/>
                </a:lnTo>
                <a:lnTo>
                  <a:pt x="631" y="47"/>
                </a:lnTo>
                <a:lnTo>
                  <a:pt x="633" y="45"/>
                </a:lnTo>
                <a:lnTo>
                  <a:pt x="634" y="41"/>
                </a:lnTo>
                <a:lnTo>
                  <a:pt x="639" y="37"/>
                </a:lnTo>
                <a:lnTo>
                  <a:pt x="644" y="32"/>
                </a:lnTo>
                <a:lnTo>
                  <a:pt x="651" y="27"/>
                </a:lnTo>
                <a:lnTo>
                  <a:pt x="654" y="26"/>
                </a:lnTo>
                <a:lnTo>
                  <a:pt x="657" y="23"/>
                </a:lnTo>
                <a:lnTo>
                  <a:pt x="660" y="19"/>
                </a:lnTo>
                <a:lnTo>
                  <a:pt x="665" y="18"/>
                </a:lnTo>
                <a:lnTo>
                  <a:pt x="670" y="14"/>
                </a:lnTo>
                <a:lnTo>
                  <a:pt x="674" y="11"/>
                </a:lnTo>
                <a:lnTo>
                  <a:pt x="678" y="10"/>
                </a:lnTo>
                <a:lnTo>
                  <a:pt x="685" y="8"/>
                </a:lnTo>
                <a:lnTo>
                  <a:pt x="690" y="6"/>
                </a:lnTo>
                <a:lnTo>
                  <a:pt x="695" y="5"/>
                </a:lnTo>
                <a:lnTo>
                  <a:pt x="701" y="1"/>
                </a:lnTo>
                <a:lnTo>
                  <a:pt x="708" y="1"/>
                </a:lnTo>
                <a:lnTo>
                  <a:pt x="714" y="0"/>
                </a:lnTo>
                <a:lnTo>
                  <a:pt x="721" y="0"/>
                </a:lnTo>
                <a:lnTo>
                  <a:pt x="724" y="0"/>
                </a:lnTo>
                <a:lnTo>
                  <a:pt x="727" y="0"/>
                </a:lnTo>
                <a:lnTo>
                  <a:pt x="731" y="0"/>
                </a:lnTo>
                <a:lnTo>
                  <a:pt x="735" y="0"/>
                </a:lnTo>
                <a:lnTo>
                  <a:pt x="739" y="0"/>
                </a:lnTo>
                <a:lnTo>
                  <a:pt x="742" y="0"/>
                </a:lnTo>
                <a:lnTo>
                  <a:pt x="745" y="1"/>
                </a:lnTo>
                <a:lnTo>
                  <a:pt x="750" y="1"/>
                </a:lnTo>
                <a:lnTo>
                  <a:pt x="753" y="1"/>
                </a:lnTo>
                <a:lnTo>
                  <a:pt x="758" y="3"/>
                </a:lnTo>
                <a:lnTo>
                  <a:pt x="762" y="3"/>
                </a:lnTo>
                <a:lnTo>
                  <a:pt x="766" y="5"/>
                </a:lnTo>
                <a:lnTo>
                  <a:pt x="766" y="8"/>
                </a:lnTo>
                <a:lnTo>
                  <a:pt x="766" y="11"/>
                </a:lnTo>
                <a:lnTo>
                  <a:pt x="768" y="16"/>
                </a:lnTo>
                <a:lnTo>
                  <a:pt x="768" y="19"/>
                </a:lnTo>
                <a:lnTo>
                  <a:pt x="770" y="23"/>
                </a:lnTo>
                <a:lnTo>
                  <a:pt x="770" y="26"/>
                </a:lnTo>
                <a:lnTo>
                  <a:pt x="771" y="29"/>
                </a:lnTo>
                <a:lnTo>
                  <a:pt x="771" y="34"/>
                </a:lnTo>
                <a:lnTo>
                  <a:pt x="773" y="39"/>
                </a:lnTo>
                <a:lnTo>
                  <a:pt x="773" y="44"/>
                </a:lnTo>
                <a:lnTo>
                  <a:pt x="776" y="50"/>
                </a:lnTo>
                <a:lnTo>
                  <a:pt x="776" y="54"/>
                </a:lnTo>
                <a:lnTo>
                  <a:pt x="778" y="60"/>
                </a:lnTo>
                <a:lnTo>
                  <a:pt x="778" y="67"/>
                </a:lnTo>
                <a:lnTo>
                  <a:pt x="779" y="73"/>
                </a:lnTo>
                <a:lnTo>
                  <a:pt x="779" y="78"/>
                </a:lnTo>
                <a:lnTo>
                  <a:pt x="783" y="86"/>
                </a:lnTo>
                <a:lnTo>
                  <a:pt x="783" y="93"/>
                </a:lnTo>
                <a:lnTo>
                  <a:pt x="784" y="101"/>
                </a:lnTo>
                <a:lnTo>
                  <a:pt x="786" y="107"/>
                </a:lnTo>
                <a:lnTo>
                  <a:pt x="788" y="116"/>
                </a:lnTo>
                <a:lnTo>
                  <a:pt x="789" y="124"/>
                </a:lnTo>
                <a:lnTo>
                  <a:pt x="791" y="132"/>
                </a:lnTo>
                <a:lnTo>
                  <a:pt x="792" y="140"/>
                </a:lnTo>
                <a:lnTo>
                  <a:pt x="794" y="148"/>
                </a:lnTo>
                <a:lnTo>
                  <a:pt x="794" y="158"/>
                </a:lnTo>
                <a:lnTo>
                  <a:pt x="796" y="168"/>
                </a:lnTo>
                <a:lnTo>
                  <a:pt x="797" y="176"/>
                </a:lnTo>
                <a:lnTo>
                  <a:pt x="799" y="186"/>
                </a:lnTo>
                <a:lnTo>
                  <a:pt x="799" y="195"/>
                </a:lnTo>
                <a:lnTo>
                  <a:pt x="802" y="205"/>
                </a:lnTo>
                <a:lnTo>
                  <a:pt x="802" y="215"/>
                </a:lnTo>
                <a:lnTo>
                  <a:pt x="804" y="225"/>
                </a:lnTo>
                <a:lnTo>
                  <a:pt x="806" y="235"/>
                </a:lnTo>
                <a:lnTo>
                  <a:pt x="807" y="246"/>
                </a:lnTo>
                <a:lnTo>
                  <a:pt x="807" y="256"/>
                </a:lnTo>
                <a:lnTo>
                  <a:pt x="809" y="267"/>
                </a:lnTo>
                <a:lnTo>
                  <a:pt x="810" y="277"/>
                </a:lnTo>
                <a:lnTo>
                  <a:pt x="812" y="290"/>
                </a:lnTo>
                <a:lnTo>
                  <a:pt x="812" y="300"/>
                </a:lnTo>
                <a:lnTo>
                  <a:pt x="814" y="311"/>
                </a:lnTo>
                <a:lnTo>
                  <a:pt x="815" y="323"/>
                </a:lnTo>
                <a:lnTo>
                  <a:pt x="817" y="334"/>
                </a:lnTo>
                <a:lnTo>
                  <a:pt x="817" y="345"/>
                </a:lnTo>
                <a:lnTo>
                  <a:pt x="817" y="359"/>
                </a:lnTo>
                <a:lnTo>
                  <a:pt x="819" y="370"/>
                </a:lnTo>
                <a:lnTo>
                  <a:pt x="820" y="381"/>
                </a:lnTo>
                <a:lnTo>
                  <a:pt x="820" y="393"/>
                </a:lnTo>
                <a:lnTo>
                  <a:pt x="820" y="406"/>
                </a:lnTo>
                <a:lnTo>
                  <a:pt x="820" y="417"/>
                </a:lnTo>
                <a:lnTo>
                  <a:pt x="822" y="430"/>
                </a:lnTo>
                <a:lnTo>
                  <a:pt x="822" y="442"/>
                </a:lnTo>
                <a:lnTo>
                  <a:pt x="823" y="455"/>
                </a:lnTo>
                <a:lnTo>
                  <a:pt x="823" y="466"/>
                </a:lnTo>
                <a:lnTo>
                  <a:pt x="823" y="479"/>
                </a:lnTo>
                <a:lnTo>
                  <a:pt x="823" y="492"/>
                </a:lnTo>
                <a:lnTo>
                  <a:pt x="823" y="504"/>
                </a:lnTo>
                <a:lnTo>
                  <a:pt x="823" y="517"/>
                </a:lnTo>
                <a:lnTo>
                  <a:pt x="823" y="530"/>
                </a:lnTo>
                <a:lnTo>
                  <a:pt x="823" y="541"/>
                </a:lnTo>
                <a:lnTo>
                  <a:pt x="823" y="554"/>
                </a:lnTo>
                <a:lnTo>
                  <a:pt x="823" y="564"/>
                </a:lnTo>
                <a:lnTo>
                  <a:pt x="823" y="577"/>
                </a:lnTo>
                <a:lnTo>
                  <a:pt x="823" y="587"/>
                </a:lnTo>
                <a:lnTo>
                  <a:pt x="825" y="598"/>
                </a:lnTo>
                <a:lnTo>
                  <a:pt x="825" y="608"/>
                </a:lnTo>
                <a:lnTo>
                  <a:pt x="827" y="619"/>
                </a:lnTo>
                <a:lnTo>
                  <a:pt x="827" y="629"/>
                </a:lnTo>
                <a:lnTo>
                  <a:pt x="828" y="639"/>
                </a:lnTo>
                <a:lnTo>
                  <a:pt x="830" y="649"/>
                </a:lnTo>
                <a:lnTo>
                  <a:pt x="833" y="659"/>
                </a:lnTo>
                <a:lnTo>
                  <a:pt x="835" y="667"/>
                </a:lnTo>
                <a:lnTo>
                  <a:pt x="836" y="677"/>
                </a:lnTo>
                <a:lnTo>
                  <a:pt x="838" y="685"/>
                </a:lnTo>
                <a:lnTo>
                  <a:pt x="841" y="694"/>
                </a:lnTo>
                <a:lnTo>
                  <a:pt x="843" y="701"/>
                </a:lnTo>
                <a:lnTo>
                  <a:pt x="845" y="709"/>
                </a:lnTo>
                <a:lnTo>
                  <a:pt x="848" y="717"/>
                </a:lnTo>
                <a:lnTo>
                  <a:pt x="850" y="725"/>
                </a:lnTo>
                <a:lnTo>
                  <a:pt x="851" y="732"/>
                </a:lnTo>
                <a:lnTo>
                  <a:pt x="854" y="738"/>
                </a:lnTo>
                <a:lnTo>
                  <a:pt x="858" y="745"/>
                </a:lnTo>
                <a:lnTo>
                  <a:pt x="861" y="752"/>
                </a:lnTo>
                <a:lnTo>
                  <a:pt x="863" y="758"/>
                </a:lnTo>
                <a:lnTo>
                  <a:pt x="866" y="763"/>
                </a:lnTo>
                <a:lnTo>
                  <a:pt x="867" y="769"/>
                </a:lnTo>
                <a:lnTo>
                  <a:pt x="871" y="776"/>
                </a:lnTo>
                <a:lnTo>
                  <a:pt x="874" y="781"/>
                </a:lnTo>
                <a:lnTo>
                  <a:pt x="877" y="786"/>
                </a:lnTo>
                <a:lnTo>
                  <a:pt x="880" y="791"/>
                </a:lnTo>
                <a:lnTo>
                  <a:pt x="884" y="797"/>
                </a:lnTo>
                <a:lnTo>
                  <a:pt x="885" y="800"/>
                </a:lnTo>
                <a:lnTo>
                  <a:pt x="889" y="805"/>
                </a:lnTo>
                <a:lnTo>
                  <a:pt x="892" y="809"/>
                </a:lnTo>
                <a:lnTo>
                  <a:pt x="895" y="813"/>
                </a:lnTo>
                <a:lnTo>
                  <a:pt x="897" y="817"/>
                </a:lnTo>
                <a:lnTo>
                  <a:pt x="900" y="822"/>
                </a:lnTo>
                <a:lnTo>
                  <a:pt x="903" y="825"/>
                </a:lnTo>
                <a:lnTo>
                  <a:pt x="907" y="828"/>
                </a:lnTo>
                <a:lnTo>
                  <a:pt x="911" y="833"/>
                </a:lnTo>
                <a:lnTo>
                  <a:pt x="916" y="840"/>
                </a:lnTo>
                <a:lnTo>
                  <a:pt x="921" y="844"/>
                </a:lnTo>
                <a:lnTo>
                  <a:pt x="926" y="849"/>
                </a:lnTo>
                <a:lnTo>
                  <a:pt x="931" y="853"/>
                </a:lnTo>
                <a:lnTo>
                  <a:pt x="934" y="856"/>
                </a:lnTo>
                <a:lnTo>
                  <a:pt x="938" y="858"/>
                </a:lnTo>
                <a:lnTo>
                  <a:pt x="941" y="861"/>
                </a:lnTo>
                <a:lnTo>
                  <a:pt x="946" y="862"/>
                </a:lnTo>
                <a:lnTo>
                  <a:pt x="947" y="864"/>
                </a:lnTo>
                <a:lnTo>
                  <a:pt x="949" y="866"/>
                </a:lnTo>
                <a:lnTo>
                  <a:pt x="952" y="871"/>
                </a:lnTo>
                <a:lnTo>
                  <a:pt x="955" y="872"/>
                </a:lnTo>
                <a:lnTo>
                  <a:pt x="959" y="877"/>
                </a:lnTo>
                <a:lnTo>
                  <a:pt x="964" y="880"/>
                </a:lnTo>
                <a:lnTo>
                  <a:pt x="970" y="885"/>
                </a:lnTo>
                <a:lnTo>
                  <a:pt x="975" y="890"/>
                </a:lnTo>
                <a:lnTo>
                  <a:pt x="982" y="895"/>
                </a:lnTo>
                <a:lnTo>
                  <a:pt x="983" y="897"/>
                </a:lnTo>
                <a:lnTo>
                  <a:pt x="988" y="900"/>
                </a:lnTo>
                <a:lnTo>
                  <a:pt x="991" y="902"/>
                </a:lnTo>
                <a:lnTo>
                  <a:pt x="996" y="905"/>
                </a:lnTo>
                <a:lnTo>
                  <a:pt x="999" y="906"/>
                </a:lnTo>
                <a:lnTo>
                  <a:pt x="1004" y="910"/>
                </a:lnTo>
                <a:lnTo>
                  <a:pt x="1008" y="913"/>
                </a:lnTo>
                <a:lnTo>
                  <a:pt x="1013" y="915"/>
                </a:lnTo>
                <a:lnTo>
                  <a:pt x="1017" y="918"/>
                </a:lnTo>
                <a:lnTo>
                  <a:pt x="1022" y="919"/>
                </a:lnTo>
                <a:lnTo>
                  <a:pt x="1027" y="923"/>
                </a:lnTo>
                <a:lnTo>
                  <a:pt x="1032" y="924"/>
                </a:lnTo>
                <a:lnTo>
                  <a:pt x="1037" y="928"/>
                </a:lnTo>
                <a:lnTo>
                  <a:pt x="1042" y="929"/>
                </a:lnTo>
                <a:lnTo>
                  <a:pt x="1047" y="931"/>
                </a:lnTo>
                <a:lnTo>
                  <a:pt x="1052" y="933"/>
                </a:lnTo>
                <a:lnTo>
                  <a:pt x="1058" y="934"/>
                </a:lnTo>
                <a:lnTo>
                  <a:pt x="1063" y="936"/>
                </a:lnTo>
                <a:lnTo>
                  <a:pt x="1070" y="937"/>
                </a:lnTo>
                <a:lnTo>
                  <a:pt x="1074" y="939"/>
                </a:lnTo>
                <a:lnTo>
                  <a:pt x="1081" y="941"/>
                </a:lnTo>
                <a:lnTo>
                  <a:pt x="1086" y="941"/>
                </a:lnTo>
                <a:lnTo>
                  <a:pt x="1092" y="942"/>
                </a:lnTo>
                <a:lnTo>
                  <a:pt x="1099" y="944"/>
                </a:lnTo>
                <a:lnTo>
                  <a:pt x="1105" y="944"/>
                </a:lnTo>
                <a:lnTo>
                  <a:pt x="1112" y="944"/>
                </a:lnTo>
                <a:lnTo>
                  <a:pt x="1118" y="944"/>
                </a:lnTo>
                <a:lnTo>
                  <a:pt x="1125" y="946"/>
                </a:lnTo>
                <a:lnTo>
                  <a:pt x="1131" y="944"/>
                </a:lnTo>
                <a:lnTo>
                  <a:pt x="1138" y="944"/>
                </a:lnTo>
                <a:lnTo>
                  <a:pt x="1145" y="944"/>
                </a:lnTo>
                <a:lnTo>
                  <a:pt x="1153" y="944"/>
                </a:lnTo>
                <a:lnTo>
                  <a:pt x="1159" y="942"/>
                </a:lnTo>
                <a:lnTo>
                  <a:pt x="1166" y="941"/>
                </a:lnTo>
                <a:lnTo>
                  <a:pt x="1174" y="939"/>
                </a:lnTo>
                <a:lnTo>
                  <a:pt x="1180" y="937"/>
                </a:lnTo>
                <a:lnTo>
                  <a:pt x="1189" y="934"/>
                </a:lnTo>
                <a:lnTo>
                  <a:pt x="1195" y="933"/>
                </a:lnTo>
                <a:lnTo>
                  <a:pt x="1202" y="929"/>
                </a:lnTo>
                <a:lnTo>
                  <a:pt x="1210" y="928"/>
                </a:lnTo>
                <a:lnTo>
                  <a:pt x="1218" y="923"/>
                </a:lnTo>
                <a:lnTo>
                  <a:pt x="1226" y="919"/>
                </a:lnTo>
                <a:lnTo>
                  <a:pt x="1234" y="915"/>
                </a:lnTo>
                <a:lnTo>
                  <a:pt x="1242" y="911"/>
                </a:lnTo>
                <a:lnTo>
                  <a:pt x="1242" y="910"/>
                </a:lnTo>
                <a:lnTo>
                  <a:pt x="1244" y="908"/>
                </a:lnTo>
                <a:lnTo>
                  <a:pt x="1246" y="903"/>
                </a:lnTo>
                <a:lnTo>
                  <a:pt x="1250" y="900"/>
                </a:lnTo>
                <a:lnTo>
                  <a:pt x="1252" y="897"/>
                </a:lnTo>
                <a:lnTo>
                  <a:pt x="1255" y="893"/>
                </a:lnTo>
                <a:lnTo>
                  <a:pt x="1257" y="890"/>
                </a:lnTo>
                <a:lnTo>
                  <a:pt x="1260" y="885"/>
                </a:lnTo>
                <a:lnTo>
                  <a:pt x="1263" y="882"/>
                </a:lnTo>
                <a:lnTo>
                  <a:pt x="1267" y="879"/>
                </a:lnTo>
                <a:lnTo>
                  <a:pt x="1270" y="874"/>
                </a:lnTo>
                <a:lnTo>
                  <a:pt x="1273" y="871"/>
                </a:lnTo>
                <a:lnTo>
                  <a:pt x="1277" y="866"/>
                </a:lnTo>
                <a:lnTo>
                  <a:pt x="1280" y="861"/>
                </a:lnTo>
                <a:lnTo>
                  <a:pt x="1283" y="856"/>
                </a:lnTo>
                <a:lnTo>
                  <a:pt x="1286" y="851"/>
                </a:lnTo>
                <a:lnTo>
                  <a:pt x="1288" y="844"/>
                </a:lnTo>
                <a:lnTo>
                  <a:pt x="1291" y="841"/>
                </a:lnTo>
                <a:lnTo>
                  <a:pt x="1294" y="835"/>
                </a:lnTo>
                <a:lnTo>
                  <a:pt x="1298" y="830"/>
                </a:lnTo>
                <a:lnTo>
                  <a:pt x="1299" y="825"/>
                </a:lnTo>
                <a:lnTo>
                  <a:pt x="1303" y="818"/>
                </a:lnTo>
                <a:lnTo>
                  <a:pt x="1304" y="813"/>
                </a:lnTo>
                <a:lnTo>
                  <a:pt x="1307" y="809"/>
                </a:lnTo>
                <a:lnTo>
                  <a:pt x="1309" y="802"/>
                </a:lnTo>
                <a:lnTo>
                  <a:pt x="1311" y="797"/>
                </a:lnTo>
                <a:lnTo>
                  <a:pt x="1312" y="792"/>
                </a:lnTo>
                <a:lnTo>
                  <a:pt x="1314" y="787"/>
                </a:lnTo>
                <a:lnTo>
                  <a:pt x="1353" y="805"/>
                </a:lnTo>
                <a:lnTo>
                  <a:pt x="1351" y="807"/>
                </a:lnTo>
                <a:lnTo>
                  <a:pt x="1348" y="810"/>
                </a:lnTo>
                <a:lnTo>
                  <a:pt x="1347" y="813"/>
                </a:lnTo>
                <a:lnTo>
                  <a:pt x="1345" y="817"/>
                </a:lnTo>
                <a:lnTo>
                  <a:pt x="1343" y="822"/>
                </a:lnTo>
                <a:lnTo>
                  <a:pt x="1342" y="827"/>
                </a:lnTo>
                <a:lnTo>
                  <a:pt x="1338" y="831"/>
                </a:lnTo>
                <a:lnTo>
                  <a:pt x="1335" y="836"/>
                </a:lnTo>
                <a:lnTo>
                  <a:pt x="1332" y="843"/>
                </a:lnTo>
                <a:lnTo>
                  <a:pt x="1330" y="849"/>
                </a:lnTo>
                <a:lnTo>
                  <a:pt x="1327" y="856"/>
                </a:lnTo>
                <a:lnTo>
                  <a:pt x="1324" y="862"/>
                </a:lnTo>
                <a:lnTo>
                  <a:pt x="1322" y="867"/>
                </a:lnTo>
                <a:lnTo>
                  <a:pt x="1321" y="871"/>
                </a:lnTo>
                <a:lnTo>
                  <a:pt x="1319" y="875"/>
                </a:lnTo>
                <a:lnTo>
                  <a:pt x="1317" y="880"/>
                </a:lnTo>
                <a:lnTo>
                  <a:pt x="1316" y="884"/>
                </a:lnTo>
                <a:lnTo>
                  <a:pt x="1314" y="887"/>
                </a:lnTo>
                <a:lnTo>
                  <a:pt x="1314" y="892"/>
                </a:lnTo>
                <a:lnTo>
                  <a:pt x="1312" y="897"/>
                </a:lnTo>
                <a:lnTo>
                  <a:pt x="1311" y="900"/>
                </a:lnTo>
                <a:lnTo>
                  <a:pt x="1309" y="905"/>
                </a:lnTo>
                <a:lnTo>
                  <a:pt x="1307" y="910"/>
                </a:lnTo>
                <a:lnTo>
                  <a:pt x="1307" y="913"/>
                </a:lnTo>
                <a:lnTo>
                  <a:pt x="1304" y="918"/>
                </a:lnTo>
                <a:lnTo>
                  <a:pt x="1304" y="923"/>
                </a:lnTo>
                <a:lnTo>
                  <a:pt x="1303" y="928"/>
                </a:lnTo>
                <a:lnTo>
                  <a:pt x="1303" y="931"/>
                </a:lnTo>
                <a:lnTo>
                  <a:pt x="1301" y="936"/>
                </a:lnTo>
                <a:lnTo>
                  <a:pt x="1301" y="941"/>
                </a:lnTo>
                <a:lnTo>
                  <a:pt x="1299" y="946"/>
                </a:lnTo>
                <a:lnTo>
                  <a:pt x="1299" y="950"/>
                </a:lnTo>
                <a:lnTo>
                  <a:pt x="1298" y="955"/>
                </a:lnTo>
                <a:lnTo>
                  <a:pt x="1298" y="959"/>
                </a:lnTo>
                <a:lnTo>
                  <a:pt x="1298" y="964"/>
                </a:lnTo>
                <a:lnTo>
                  <a:pt x="1298" y="968"/>
                </a:lnTo>
                <a:lnTo>
                  <a:pt x="1296" y="973"/>
                </a:lnTo>
                <a:lnTo>
                  <a:pt x="1296" y="978"/>
                </a:lnTo>
                <a:lnTo>
                  <a:pt x="1296" y="981"/>
                </a:lnTo>
                <a:lnTo>
                  <a:pt x="1298" y="988"/>
                </a:lnTo>
                <a:lnTo>
                  <a:pt x="1298" y="991"/>
                </a:lnTo>
                <a:lnTo>
                  <a:pt x="1298" y="996"/>
                </a:lnTo>
                <a:lnTo>
                  <a:pt x="1298" y="1001"/>
                </a:lnTo>
                <a:lnTo>
                  <a:pt x="1299" y="1006"/>
                </a:lnTo>
                <a:lnTo>
                  <a:pt x="1299" y="1009"/>
                </a:lnTo>
                <a:lnTo>
                  <a:pt x="1301" y="1014"/>
                </a:lnTo>
                <a:lnTo>
                  <a:pt x="1301" y="1019"/>
                </a:lnTo>
                <a:lnTo>
                  <a:pt x="1303" y="1024"/>
                </a:lnTo>
                <a:lnTo>
                  <a:pt x="1303" y="1027"/>
                </a:lnTo>
                <a:lnTo>
                  <a:pt x="1304" y="1032"/>
                </a:lnTo>
                <a:lnTo>
                  <a:pt x="1306" y="1035"/>
                </a:lnTo>
                <a:lnTo>
                  <a:pt x="1307" y="1040"/>
                </a:lnTo>
                <a:lnTo>
                  <a:pt x="1307" y="1043"/>
                </a:lnTo>
                <a:lnTo>
                  <a:pt x="1309" y="1048"/>
                </a:lnTo>
                <a:lnTo>
                  <a:pt x="1311" y="1052"/>
                </a:lnTo>
                <a:lnTo>
                  <a:pt x="1312" y="1056"/>
                </a:lnTo>
                <a:lnTo>
                  <a:pt x="1314" y="1060"/>
                </a:lnTo>
                <a:lnTo>
                  <a:pt x="1314" y="1065"/>
                </a:lnTo>
                <a:lnTo>
                  <a:pt x="1316" y="1068"/>
                </a:lnTo>
                <a:lnTo>
                  <a:pt x="1317" y="1071"/>
                </a:lnTo>
                <a:lnTo>
                  <a:pt x="1319" y="1074"/>
                </a:lnTo>
                <a:lnTo>
                  <a:pt x="1321" y="1079"/>
                </a:lnTo>
                <a:lnTo>
                  <a:pt x="1322" y="1083"/>
                </a:lnTo>
                <a:lnTo>
                  <a:pt x="1324" y="1087"/>
                </a:lnTo>
                <a:lnTo>
                  <a:pt x="1327" y="1094"/>
                </a:lnTo>
                <a:lnTo>
                  <a:pt x="1330" y="1100"/>
                </a:lnTo>
                <a:lnTo>
                  <a:pt x="1334" y="1107"/>
                </a:lnTo>
                <a:lnTo>
                  <a:pt x="1337" y="1114"/>
                </a:lnTo>
                <a:lnTo>
                  <a:pt x="1340" y="1118"/>
                </a:lnTo>
                <a:lnTo>
                  <a:pt x="1343" y="1125"/>
                </a:lnTo>
                <a:lnTo>
                  <a:pt x="1347" y="1130"/>
                </a:lnTo>
                <a:lnTo>
                  <a:pt x="1350" y="1136"/>
                </a:lnTo>
                <a:lnTo>
                  <a:pt x="1351" y="1141"/>
                </a:lnTo>
                <a:lnTo>
                  <a:pt x="1355" y="1146"/>
                </a:lnTo>
                <a:lnTo>
                  <a:pt x="1358" y="1149"/>
                </a:lnTo>
                <a:lnTo>
                  <a:pt x="1361" y="1154"/>
                </a:lnTo>
                <a:lnTo>
                  <a:pt x="1363" y="1158"/>
                </a:lnTo>
                <a:lnTo>
                  <a:pt x="1365" y="1162"/>
                </a:lnTo>
                <a:lnTo>
                  <a:pt x="1368" y="1166"/>
                </a:lnTo>
                <a:lnTo>
                  <a:pt x="1369" y="1169"/>
                </a:lnTo>
                <a:lnTo>
                  <a:pt x="1373" y="1174"/>
                </a:lnTo>
                <a:lnTo>
                  <a:pt x="1376" y="1177"/>
                </a:lnTo>
                <a:lnTo>
                  <a:pt x="1378" y="1179"/>
                </a:lnTo>
                <a:lnTo>
                  <a:pt x="1379" y="1180"/>
                </a:lnTo>
                <a:lnTo>
                  <a:pt x="1379" y="1182"/>
                </a:lnTo>
                <a:lnTo>
                  <a:pt x="1382" y="1187"/>
                </a:lnTo>
                <a:lnTo>
                  <a:pt x="1386" y="1189"/>
                </a:lnTo>
                <a:lnTo>
                  <a:pt x="1389" y="1193"/>
                </a:lnTo>
                <a:lnTo>
                  <a:pt x="1394" y="1197"/>
                </a:lnTo>
                <a:lnTo>
                  <a:pt x="1400" y="1200"/>
                </a:lnTo>
                <a:lnTo>
                  <a:pt x="1404" y="1202"/>
                </a:lnTo>
                <a:lnTo>
                  <a:pt x="1407" y="1203"/>
                </a:lnTo>
                <a:lnTo>
                  <a:pt x="1412" y="1205"/>
                </a:lnTo>
                <a:lnTo>
                  <a:pt x="1415" y="1206"/>
                </a:lnTo>
                <a:lnTo>
                  <a:pt x="1420" y="1206"/>
                </a:lnTo>
                <a:lnTo>
                  <a:pt x="1425" y="1208"/>
                </a:lnTo>
                <a:lnTo>
                  <a:pt x="1430" y="1210"/>
                </a:lnTo>
                <a:lnTo>
                  <a:pt x="1436" y="1211"/>
                </a:lnTo>
                <a:lnTo>
                  <a:pt x="1443" y="1211"/>
                </a:lnTo>
                <a:lnTo>
                  <a:pt x="1448" y="1211"/>
                </a:lnTo>
                <a:lnTo>
                  <a:pt x="1451" y="1211"/>
                </a:lnTo>
                <a:lnTo>
                  <a:pt x="1454" y="1211"/>
                </a:lnTo>
                <a:lnTo>
                  <a:pt x="1459" y="1211"/>
                </a:lnTo>
                <a:lnTo>
                  <a:pt x="1462" y="1211"/>
                </a:lnTo>
                <a:lnTo>
                  <a:pt x="1466" y="1211"/>
                </a:lnTo>
                <a:lnTo>
                  <a:pt x="1470" y="1211"/>
                </a:lnTo>
                <a:lnTo>
                  <a:pt x="1474" y="1211"/>
                </a:lnTo>
                <a:lnTo>
                  <a:pt x="1477" y="1211"/>
                </a:lnTo>
                <a:lnTo>
                  <a:pt x="1482" y="1211"/>
                </a:lnTo>
                <a:lnTo>
                  <a:pt x="1485" y="1211"/>
                </a:lnTo>
                <a:lnTo>
                  <a:pt x="1490" y="1210"/>
                </a:lnTo>
                <a:lnTo>
                  <a:pt x="1495" y="1210"/>
                </a:lnTo>
                <a:lnTo>
                  <a:pt x="1534" y="1202"/>
                </a:lnTo>
                <a:lnTo>
                  <a:pt x="1542" y="1267"/>
                </a:lnTo>
                <a:lnTo>
                  <a:pt x="1541" y="1265"/>
                </a:lnTo>
                <a:lnTo>
                  <a:pt x="1536" y="1265"/>
                </a:lnTo>
                <a:lnTo>
                  <a:pt x="1532" y="1264"/>
                </a:lnTo>
                <a:lnTo>
                  <a:pt x="1528" y="1264"/>
                </a:lnTo>
                <a:lnTo>
                  <a:pt x="1523" y="1264"/>
                </a:lnTo>
                <a:lnTo>
                  <a:pt x="1518" y="1264"/>
                </a:lnTo>
                <a:lnTo>
                  <a:pt x="1513" y="1264"/>
                </a:lnTo>
                <a:lnTo>
                  <a:pt x="1506" y="1264"/>
                </a:lnTo>
                <a:lnTo>
                  <a:pt x="1500" y="1264"/>
                </a:lnTo>
                <a:lnTo>
                  <a:pt x="1493" y="1264"/>
                </a:lnTo>
                <a:lnTo>
                  <a:pt x="1490" y="1264"/>
                </a:lnTo>
                <a:lnTo>
                  <a:pt x="1487" y="1264"/>
                </a:lnTo>
                <a:lnTo>
                  <a:pt x="1482" y="1264"/>
                </a:lnTo>
                <a:lnTo>
                  <a:pt x="1479" y="1264"/>
                </a:lnTo>
                <a:lnTo>
                  <a:pt x="1475" y="1264"/>
                </a:lnTo>
                <a:lnTo>
                  <a:pt x="1472" y="1264"/>
                </a:lnTo>
                <a:lnTo>
                  <a:pt x="1467" y="1264"/>
                </a:lnTo>
                <a:lnTo>
                  <a:pt x="1464" y="1265"/>
                </a:lnTo>
                <a:lnTo>
                  <a:pt x="1461" y="1265"/>
                </a:lnTo>
                <a:lnTo>
                  <a:pt x="1456" y="1265"/>
                </a:lnTo>
                <a:lnTo>
                  <a:pt x="1453" y="1265"/>
                </a:lnTo>
                <a:lnTo>
                  <a:pt x="1449" y="1265"/>
                </a:lnTo>
                <a:lnTo>
                  <a:pt x="1446" y="1265"/>
                </a:lnTo>
                <a:lnTo>
                  <a:pt x="1441" y="1267"/>
                </a:lnTo>
                <a:lnTo>
                  <a:pt x="1438" y="1267"/>
                </a:lnTo>
                <a:lnTo>
                  <a:pt x="1435" y="1268"/>
                </a:lnTo>
                <a:lnTo>
                  <a:pt x="1431" y="1268"/>
                </a:lnTo>
                <a:lnTo>
                  <a:pt x="1426" y="1270"/>
                </a:lnTo>
                <a:lnTo>
                  <a:pt x="1423" y="1270"/>
                </a:lnTo>
                <a:lnTo>
                  <a:pt x="1420" y="1272"/>
                </a:lnTo>
                <a:lnTo>
                  <a:pt x="1413" y="1273"/>
                </a:lnTo>
                <a:lnTo>
                  <a:pt x="1409" y="1277"/>
                </a:lnTo>
                <a:lnTo>
                  <a:pt x="1402" y="1278"/>
                </a:lnTo>
                <a:lnTo>
                  <a:pt x="1395" y="1282"/>
                </a:lnTo>
                <a:lnTo>
                  <a:pt x="1391" y="1285"/>
                </a:lnTo>
                <a:lnTo>
                  <a:pt x="1386" y="1288"/>
                </a:lnTo>
                <a:lnTo>
                  <a:pt x="1382" y="1291"/>
                </a:lnTo>
                <a:lnTo>
                  <a:pt x="1379" y="1296"/>
                </a:lnTo>
                <a:lnTo>
                  <a:pt x="1376" y="1301"/>
                </a:lnTo>
                <a:lnTo>
                  <a:pt x="1374" y="1308"/>
                </a:lnTo>
                <a:lnTo>
                  <a:pt x="1373" y="1311"/>
                </a:lnTo>
                <a:lnTo>
                  <a:pt x="1371" y="1317"/>
                </a:lnTo>
                <a:lnTo>
                  <a:pt x="1369" y="1321"/>
                </a:lnTo>
                <a:lnTo>
                  <a:pt x="1369" y="1327"/>
                </a:lnTo>
                <a:lnTo>
                  <a:pt x="1368" y="1332"/>
                </a:lnTo>
                <a:lnTo>
                  <a:pt x="1368" y="1337"/>
                </a:lnTo>
                <a:lnTo>
                  <a:pt x="1368" y="1342"/>
                </a:lnTo>
                <a:lnTo>
                  <a:pt x="1368" y="1348"/>
                </a:lnTo>
                <a:lnTo>
                  <a:pt x="1368" y="1352"/>
                </a:lnTo>
                <a:lnTo>
                  <a:pt x="1368" y="1358"/>
                </a:lnTo>
                <a:lnTo>
                  <a:pt x="1368" y="1363"/>
                </a:lnTo>
                <a:lnTo>
                  <a:pt x="1368" y="1368"/>
                </a:lnTo>
                <a:lnTo>
                  <a:pt x="1368" y="1373"/>
                </a:lnTo>
                <a:lnTo>
                  <a:pt x="1369" y="1379"/>
                </a:lnTo>
                <a:lnTo>
                  <a:pt x="1371" y="1383"/>
                </a:lnTo>
                <a:lnTo>
                  <a:pt x="1373" y="1389"/>
                </a:lnTo>
                <a:lnTo>
                  <a:pt x="1373" y="1394"/>
                </a:lnTo>
                <a:lnTo>
                  <a:pt x="1374" y="1399"/>
                </a:lnTo>
                <a:lnTo>
                  <a:pt x="1376" y="1404"/>
                </a:lnTo>
                <a:lnTo>
                  <a:pt x="1379" y="1409"/>
                </a:lnTo>
                <a:lnTo>
                  <a:pt x="1381" y="1414"/>
                </a:lnTo>
                <a:lnTo>
                  <a:pt x="1382" y="1418"/>
                </a:lnTo>
                <a:lnTo>
                  <a:pt x="1386" y="1425"/>
                </a:lnTo>
                <a:lnTo>
                  <a:pt x="1389" y="1430"/>
                </a:lnTo>
                <a:lnTo>
                  <a:pt x="1391" y="1435"/>
                </a:lnTo>
                <a:lnTo>
                  <a:pt x="1394" y="1440"/>
                </a:lnTo>
                <a:lnTo>
                  <a:pt x="1395" y="1445"/>
                </a:lnTo>
                <a:lnTo>
                  <a:pt x="1400" y="1449"/>
                </a:lnTo>
                <a:lnTo>
                  <a:pt x="1402" y="1454"/>
                </a:lnTo>
                <a:lnTo>
                  <a:pt x="1405" y="1461"/>
                </a:lnTo>
                <a:lnTo>
                  <a:pt x="1410" y="1466"/>
                </a:lnTo>
                <a:lnTo>
                  <a:pt x="1413" y="1472"/>
                </a:lnTo>
                <a:lnTo>
                  <a:pt x="1417" y="1476"/>
                </a:lnTo>
                <a:lnTo>
                  <a:pt x="1420" y="1480"/>
                </a:lnTo>
                <a:lnTo>
                  <a:pt x="1423" y="1485"/>
                </a:lnTo>
                <a:lnTo>
                  <a:pt x="1426" y="1490"/>
                </a:lnTo>
                <a:lnTo>
                  <a:pt x="1430" y="1493"/>
                </a:lnTo>
                <a:lnTo>
                  <a:pt x="1433" y="1497"/>
                </a:lnTo>
                <a:lnTo>
                  <a:pt x="1436" y="1500"/>
                </a:lnTo>
                <a:lnTo>
                  <a:pt x="1439" y="1505"/>
                </a:lnTo>
                <a:lnTo>
                  <a:pt x="1444" y="1510"/>
                </a:lnTo>
                <a:lnTo>
                  <a:pt x="1451" y="1516"/>
                </a:lnTo>
                <a:lnTo>
                  <a:pt x="1454" y="1521"/>
                </a:lnTo>
                <a:lnTo>
                  <a:pt x="1461" y="1526"/>
                </a:lnTo>
                <a:lnTo>
                  <a:pt x="1464" y="1529"/>
                </a:lnTo>
                <a:lnTo>
                  <a:pt x="1467" y="1533"/>
                </a:lnTo>
                <a:lnTo>
                  <a:pt x="1469" y="1534"/>
                </a:lnTo>
                <a:lnTo>
                  <a:pt x="1472" y="1538"/>
                </a:lnTo>
                <a:lnTo>
                  <a:pt x="1475" y="1539"/>
                </a:lnTo>
                <a:lnTo>
                  <a:pt x="1477" y="1541"/>
                </a:lnTo>
                <a:lnTo>
                  <a:pt x="1479" y="1542"/>
                </a:lnTo>
                <a:lnTo>
                  <a:pt x="1480" y="1544"/>
                </a:lnTo>
                <a:lnTo>
                  <a:pt x="1485" y="1547"/>
                </a:lnTo>
                <a:lnTo>
                  <a:pt x="1488" y="1552"/>
                </a:lnTo>
                <a:lnTo>
                  <a:pt x="1493" y="1557"/>
                </a:lnTo>
                <a:lnTo>
                  <a:pt x="1497" y="1560"/>
                </a:lnTo>
                <a:lnTo>
                  <a:pt x="1500" y="1564"/>
                </a:lnTo>
                <a:lnTo>
                  <a:pt x="1501" y="1567"/>
                </a:lnTo>
                <a:lnTo>
                  <a:pt x="1505" y="1572"/>
                </a:lnTo>
                <a:lnTo>
                  <a:pt x="1508" y="1575"/>
                </a:lnTo>
                <a:lnTo>
                  <a:pt x="1511" y="1578"/>
                </a:lnTo>
                <a:lnTo>
                  <a:pt x="1513" y="1582"/>
                </a:lnTo>
                <a:lnTo>
                  <a:pt x="1516" y="1586"/>
                </a:lnTo>
                <a:lnTo>
                  <a:pt x="1518" y="1591"/>
                </a:lnTo>
                <a:lnTo>
                  <a:pt x="1521" y="1596"/>
                </a:lnTo>
                <a:lnTo>
                  <a:pt x="1524" y="1601"/>
                </a:lnTo>
                <a:lnTo>
                  <a:pt x="1528" y="1606"/>
                </a:lnTo>
                <a:lnTo>
                  <a:pt x="1529" y="1611"/>
                </a:lnTo>
                <a:lnTo>
                  <a:pt x="1531" y="1616"/>
                </a:lnTo>
                <a:lnTo>
                  <a:pt x="1532" y="1622"/>
                </a:lnTo>
                <a:lnTo>
                  <a:pt x="1536" y="1629"/>
                </a:lnTo>
                <a:lnTo>
                  <a:pt x="1537" y="1634"/>
                </a:lnTo>
                <a:lnTo>
                  <a:pt x="1539" y="1640"/>
                </a:lnTo>
                <a:lnTo>
                  <a:pt x="1541" y="1647"/>
                </a:lnTo>
                <a:lnTo>
                  <a:pt x="1542" y="1653"/>
                </a:lnTo>
                <a:lnTo>
                  <a:pt x="1550" y="1692"/>
                </a:lnTo>
                <a:lnTo>
                  <a:pt x="1519" y="1705"/>
                </a:lnTo>
                <a:lnTo>
                  <a:pt x="1519" y="1705"/>
                </a:lnTo>
                <a:lnTo>
                  <a:pt x="1519" y="1702"/>
                </a:lnTo>
                <a:lnTo>
                  <a:pt x="1518" y="1697"/>
                </a:lnTo>
                <a:lnTo>
                  <a:pt x="1518" y="1692"/>
                </a:lnTo>
                <a:lnTo>
                  <a:pt x="1516" y="1688"/>
                </a:lnTo>
                <a:lnTo>
                  <a:pt x="1514" y="1684"/>
                </a:lnTo>
                <a:lnTo>
                  <a:pt x="1514" y="1681"/>
                </a:lnTo>
                <a:lnTo>
                  <a:pt x="1514" y="1678"/>
                </a:lnTo>
                <a:lnTo>
                  <a:pt x="1513" y="1673"/>
                </a:lnTo>
                <a:lnTo>
                  <a:pt x="1511" y="1670"/>
                </a:lnTo>
                <a:lnTo>
                  <a:pt x="1510" y="1665"/>
                </a:lnTo>
                <a:lnTo>
                  <a:pt x="1510" y="1661"/>
                </a:lnTo>
                <a:lnTo>
                  <a:pt x="1508" y="1657"/>
                </a:lnTo>
                <a:lnTo>
                  <a:pt x="1505" y="1652"/>
                </a:lnTo>
                <a:lnTo>
                  <a:pt x="1503" y="1647"/>
                </a:lnTo>
                <a:lnTo>
                  <a:pt x="1501" y="1644"/>
                </a:lnTo>
                <a:lnTo>
                  <a:pt x="1500" y="1637"/>
                </a:lnTo>
                <a:lnTo>
                  <a:pt x="1498" y="1634"/>
                </a:lnTo>
                <a:lnTo>
                  <a:pt x="1495" y="1629"/>
                </a:lnTo>
                <a:lnTo>
                  <a:pt x="1493" y="1624"/>
                </a:lnTo>
                <a:lnTo>
                  <a:pt x="1490" y="1619"/>
                </a:lnTo>
                <a:lnTo>
                  <a:pt x="1487" y="1614"/>
                </a:lnTo>
                <a:lnTo>
                  <a:pt x="1483" y="1611"/>
                </a:lnTo>
                <a:lnTo>
                  <a:pt x="1480" y="1606"/>
                </a:lnTo>
                <a:lnTo>
                  <a:pt x="1477" y="1603"/>
                </a:lnTo>
                <a:lnTo>
                  <a:pt x="1474" y="1599"/>
                </a:lnTo>
                <a:lnTo>
                  <a:pt x="1470" y="1596"/>
                </a:lnTo>
                <a:lnTo>
                  <a:pt x="1467" y="1593"/>
                </a:lnTo>
                <a:lnTo>
                  <a:pt x="1462" y="1590"/>
                </a:lnTo>
                <a:lnTo>
                  <a:pt x="1457" y="1586"/>
                </a:lnTo>
                <a:lnTo>
                  <a:pt x="1454" y="1583"/>
                </a:lnTo>
                <a:lnTo>
                  <a:pt x="1451" y="1582"/>
                </a:lnTo>
                <a:lnTo>
                  <a:pt x="1444" y="1575"/>
                </a:lnTo>
                <a:lnTo>
                  <a:pt x="1438" y="1572"/>
                </a:lnTo>
                <a:lnTo>
                  <a:pt x="1433" y="1565"/>
                </a:lnTo>
                <a:lnTo>
                  <a:pt x="1426" y="1560"/>
                </a:lnTo>
                <a:lnTo>
                  <a:pt x="1423" y="1557"/>
                </a:lnTo>
                <a:lnTo>
                  <a:pt x="1418" y="1552"/>
                </a:lnTo>
                <a:lnTo>
                  <a:pt x="1413" y="1547"/>
                </a:lnTo>
                <a:lnTo>
                  <a:pt x="1410" y="1544"/>
                </a:lnTo>
                <a:lnTo>
                  <a:pt x="1407" y="1539"/>
                </a:lnTo>
                <a:lnTo>
                  <a:pt x="1404" y="1536"/>
                </a:lnTo>
                <a:lnTo>
                  <a:pt x="1400" y="1531"/>
                </a:lnTo>
                <a:lnTo>
                  <a:pt x="1397" y="1528"/>
                </a:lnTo>
                <a:lnTo>
                  <a:pt x="1394" y="1524"/>
                </a:lnTo>
                <a:lnTo>
                  <a:pt x="1392" y="1521"/>
                </a:lnTo>
                <a:lnTo>
                  <a:pt x="1387" y="1516"/>
                </a:lnTo>
                <a:lnTo>
                  <a:pt x="1384" y="1513"/>
                </a:lnTo>
                <a:lnTo>
                  <a:pt x="1381" y="1510"/>
                </a:lnTo>
                <a:lnTo>
                  <a:pt x="1378" y="1507"/>
                </a:lnTo>
                <a:lnTo>
                  <a:pt x="1373" y="1503"/>
                </a:lnTo>
                <a:lnTo>
                  <a:pt x="1368" y="1500"/>
                </a:lnTo>
                <a:lnTo>
                  <a:pt x="1365" y="1497"/>
                </a:lnTo>
                <a:lnTo>
                  <a:pt x="1360" y="1497"/>
                </a:lnTo>
                <a:lnTo>
                  <a:pt x="1355" y="1493"/>
                </a:lnTo>
                <a:lnTo>
                  <a:pt x="1350" y="1493"/>
                </a:lnTo>
                <a:lnTo>
                  <a:pt x="1343" y="1492"/>
                </a:lnTo>
                <a:lnTo>
                  <a:pt x="1340" y="1493"/>
                </a:lnTo>
                <a:lnTo>
                  <a:pt x="1334" y="1493"/>
                </a:lnTo>
                <a:lnTo>
                  <a:pt x="1330" y="1495"/>
                </a:lnTo>
                <a:lnTo>
                  <a:pt x="1324" y="1497"/>
                </a:lnTo>
                <a:lnTo>
                  <a:pt x="1321" y="1502"/>
                </a:lnTo>
                <a:lnTo>
                  <a:pt x="1316" y="1503"/>
                </a:lnTo>
                <a:lnTo>
                  <a:pt x="1311" y="1508"/>
                </a:lnTo>
                <a:lnTo>
                  <a:pt x="1307" y="1511"/>
                </a:lnTo>
                <a:lnTo>
                  <a:pt x="1303" y="1516"/>
                </a:lnTo>
                <a:lnTo>
                  <a:pt x="1299" y="1521"/>
                </a:lnTo>
                <a:lnTo>
                  <a:pt x="1294" y="1528"/>
                </a:lnTo>
                <a:lnTo>
                  <a:pt x="1291" y="1533"/>
                </a:lnTo>
                <a:lnTo>
                  <a:pt x="1290" y="1541"/>
                </a:lnTo>
                <a:lnTo>
                  <a:pt x="1286" y="1546"/>
                </a:lnTo>
                <a:lnTo>
                  <a:pt x="1285" y="1554"/>
                </a:lnTo>
                <a:lnTo>
                  <a:pt x="1283" y="1557"/>
                </a:lnTo>
                <a:lnTo>
                  <a:pt x="1281" y="1560"/>
                </a:lnTo>
                <a:lnTo>
                  <a:pt x="1281" y="1565"/>
                </a:lnTo>
                <a:lnTo>
                  <a:pt x="1281" y="1569"/>
                </a:lnTo>
                <a:lnTo>
                  <a:pt x="1280" y="1573"/>
                </a:lnTo>
                <a:lnTo>
                  <a:pt x="1280" y="1577"/>
                </a:lnTo>
                <a:lnTo>
                  <a:pt x="1280" y="1582"/>
                </a:lnTo>
                <a:lnTo>
                  <a:pt x="1280" y="1586"/>
                </a:lnTo>
                <a:lnTo>
                  <a:pt x="1280" y="1591"/>
                </a:lnTo>
                <a:lnTo>
                  <a:pt x="1280" y="1596"/>
                </a:lnTo>
                <a:lnTo>
                  <a:pt x="1280" y="1601"/>
                </a:lnTo>
                <a:lnTo>
                  <a:pt x="1280" y="1606"/>
                </a:lnTo>
                <a:lnTo>
                  <a:pt x="1280" y="1609"/>
                </a:lnTo>
                <a:lnTo>
                  <a:pt x="1280" y="1614"/>
                </a:lnTo>
                <a:lnTo>
                  <a:pt x="1280" y="1619"/>
                </a:lnTo>
                <a:lnTo>
                  <a:pt x="1281" y="1624"/>
                </a:lnTo>
                <a:lnTo>
                  <a:pt x="1281" y="1627"/>
                </a:lnTo>
                <a:lnTo>
                  <a:pt x="1281" y="1632"/>
                </a:lnTo>
                <a:lnTo>
                  <a:pt x="1281" y="1635"/>
                </a:lnTo>
                <a:lnTo>
                  <a:pt x="1283" y="1640"/>
                </a:lnTo>
                <a:lnTo>
                  <a:pt x="1283" y="1644"/>
                </a:lnTo>
                <a:lnTo>
                  <a:pt x="1283" y="1647"/>
                </a:lnTo>
                <a:lnTo>
                  <a:pt x="1283" y="1650"/>
                </a:lnTo>
                <a:lnTo>
                  <a:pt x="1283" y="1655"/>
                </a:lnTo>
                <a:lnTo>
                  <a:pt x="1283" y="1657"/>
                </a:lnTo>
                <a:lnTo>
                  <a:pt x="1283" y="1661"/>
                </a:lnTo>
                <a:lnTo>
                  <a:pt x="1283" y="1665"/>
                </a:lnTo>
                <a:lnTo>
                  <a:pt x="1285" y="1668"/>
                </a:lnTo>
                <a:lnTo>
                  <a:pt x="1285" y="1675"/>
                </a:lnTo>
                <a:lnTo>
                  <a:pt x="1286" y="1683"/>
                </a:lnTo>
                <a:lnTo>
                  <a:pt x="1286" y="1686"/>
                </a:lnTo>
                <a:lnTo>
                  <a:pt x="1286" y="1689"/>
                </a:lnTo>
                <a:lnTo>
                  <a:pt x="1288" y="1692"/>
                </a:lnTo>
                <a:lnTo>
                  <a:pt x="1290" y="1697"/>
                </a:lnTo>
                <a:lnTo>
                  <a:pt x="1290" y="1701"/>
                </a:lnTo>
                <a:lnTo>
                  <a:pt x="1291" y="1705"/>
                </a:lnTo>
                <a:lnTo>
                  <a:pt x="1291" y="1709"/>
                </a:lnTo>
                <a:lnTo>
                  <a:pt x="1293" y="1714"/>
                </a:lnTo>
                <a:lnTo>
                  <a:pt x="1294" y="1717"/>
                </a:lnTo>
                <a:lnTo>
                  <a:pt x="1296" y="1722"/>
                </a:lnTo>
                <a:lnTo>
                  <a:pt x="1298" y="1727"/>
                </a:lnTo>
                <a:lnTo>
                  <a:pt x="1301" y="1732"/>
                </a:lnTo>
                <a:lnTo>
                  <a:pt x="1301" y="1736"/>
                </a:lnTo>
                <a:lnTo>
                  <a:pt x="1303" y="1741"/>
                </a:lnTo>
                <a:lnTo>
                  <a:pt x="1304" y="1746"/>
                </a:lnTo>
                <a:lnTo>
                  <a:pt x="1306" y="1751"/>
                </a:lnTo>
                <a:lnTo>
                  <a:pt x="1306" y="1756"/>
                </a:lnTo>
                <a:lnTo>
                  <a:pt x="1307" y="1761"/>
                </a:lnTo>
                <a:lnTo>
                  <a:pt x="1307" y="1766"/>
                </a:lnTo>
                <a:lnTo>
                  <a:pt x="1309" y="1771"/>
                </a:lnTo>
                <a:lnTo>
                  <a:pt x="1309" y="1774"/>
                </a:lnTo>
                <a:lnTo>
                  <a:pt x="1311" y="1781"/>
                </a:lnTo>
                <a:lnTo>
                  <a:pt x="1311" y="1784"/>
                </a:lnTo>
                <a:lnTo>
                  <a:pt x="1311" y="1789"/>
                </a:lnTo>
                <a:lnTo>
                  <a:pt x="1311" y="1794"/>
                </a:lnTo>
                <a:lnTo>
                  <a:pt x="1311" y="1798"/>
                </a:lnTo>
                <a:lnTo>
                  <a:pt x="1311" y="1802"/>
                </a:lnTo>
                <a:lnTo>
                  <a:pt x="1311" y="1807"/>
                </a:lnTo>
                <a:lnTo>
                  <a:pt x="1311" y="1810"/>
                </a:lnTo>
                <a:lnTo>
                  <a:pt x="1311" y="1813"/>
                </a:lnTo>
                <a:lnTo>
                  <a:pt x="1311" y="1816"/>
                </a:lnTo>
                <a:lnTo>
                  <a:pt x="1311" y="1821"/>
                </a:lnTo>
                <a:lnTo>
                  <a:pt x="1311" y="1826"/>
                </a:lnTo>
                <a:lnTo>
                  <a:pt x="1311" y="1833"/>
                </a:lnTo>
                <a:lnTo>
                  <a:pt x="1309" y="1836"/>
                </a:lnTo>
                <a:lnTo>
                  <a:pt x="1309" y="1839"/>
                </a:lnTo>
                <a:lnTo>
                  <a:pt x="1309" y="1842"/>
                </a:lnTo>
                <a:lnTo>
                  <a:pt x="1309" y="1842"/>
                </a:lnTo>
                <a:lnTo>
                  <a:pt x="1309" y="1842"/>
                </a:lnTo>
                <a:lnTo>
                  <a:pt x="1307" y="1846"/>
                </a:lnTo>
                <a:lnTo>
                  <a:pt x="1307" y="1849"/>
                </a:lnTo>
                <a:lnTo>
                  <a:pt x="1306" y="1856"/>
                </a:lnTo>
                <a:lnTo>
                  <a:pt x="1304" y="1860"/>
                </a:lnTo>
                <a:lnTo>
                  <a:pt x="1303" y="1867"/>
                </a:lnTo>
                <a:lnTo>
                  <a:pt x="1301" y="1872"/>
                </a:lnTo>
                <a:lnTo>
                  <a:pt x="1301" y="1875"/>
                </a:lnTo>
                <a:lnTo>
                  <a:pt x="1299" y="1880"/>
                </a:lnTo>
                <a:lnTo>
                  <a:pt x="1299" y="1885"/>
                </a:lnTo>
                <a:lnTo>
                  <a:pt x="1298" y="1888"/>
                </a:lnTo>
                <a:lnTo>
                  <a:pt x="1296" y="1893"/>
                </a:lnTo>
                <a:lnTo>
                  <a:pt x="1294" y="1898"/>
                </a:lnTo>
                <a:lnTo>
                  <a:pt x="1293" y="1903"/>
                </a:lnTo>
                <a:lnTo>
                  <a:pt x="1291" y="1908"/>
                </a:lnTo>
                <a:lnTo>
                  <a:pt x="1290" y="1911"/>
                </a:lnTo>
                <a:lnTo>
                  <a:pt x="1288" y="1916"/>
                </a:lnTo>
                <a:lnTo>
                  <a:pt x="1286" y="1921"/>
                </a:lnTo>
                <a:lnTo>
                  <a:pt x="1285" y="1926"/>
                </a:lnTo>
                <a:lnTo>
                  <a:pt x="1283" y="1931"/>
                </a:lnTo>
                <a:lnTo>
                  <a:pt x="1280" y="1935"/>
                </a:lnTo>
                <a:lnTo>
                  <a:pt x="1278" y="1940"/>
                </a:lnTo>
                <a:lnTo>
                  <a:pt x="1277" y="1944"/>
                </a:lnTo>
                <a:lnTo>
                  <a:pt x="1275" y="1948"/>
                </a:lnTo>
                <a:lnTo>
                  <a:pt x="1273" y="1952"/>
                </a:lnTo>
                <a:lnTo>
                  <a:pt x="1270" y="1957"/>
                </a:lnTo>
                <a:lnTo>
                  <a:pt x="1233" y="1945"/>
                </a:lnTo>
                <a:lnTo>
                  <a:pt x="1233" y="1944"/>
                </a:lnTo>
                <a:lnTo>
                  <a:pt x="1233" y="1940"/>
                </a:lnTo>
                <a:lnTo>
                  <a:pt x="1236" y="1935"/>
                </a:lnTo>
                <a:lnTo>
                  <a:pt x="1239" y="1929"/>
                </a:lnTo>
                <a:lnTo>
                  <a:pt x="1239" y="1926"/>
                </a:lnTo>
                <a:lnTo>
                  <a:pt x="1241" y="1921"/>
                </a:lnTo>
                <a:lnTo>
                  <a:pt x="1242" y="1916"/>
                </a:lnTo>
                <a:lnTo>
                  <a:pt x="1246" y="1911"/>
                </a:lnTo>
                <a:lnTo>
                  <a:pt x="1246" y="1906"/>
                </a:lnTo>
                <a:lnTo>
                  <a:pt x="1249" y="1901"/>
                </a:lnTo>
                <a:lnTo>
                  <a:pt x="1250" y="1895"/>
                </a:lnTo>
                <a:lnTo>
                  <a:pt x="1252" y="1890"/>
                </a:lnTo>
                <a:lnTo>
                  <a:pt x="1254" y="1883"/>
                </a:lnTo>
                <a:lnTo>
                  <a:pt x="1255" y="1877"/>
                </a:lnTo>
                <a:lnTo>
                  <a:pt x="1255" y="1870"/>
                </a:lnTo>
                <a:lnTo>
                  <a:pt x="1259" y="1864"/>
                </a:lnTo>
                <a:lnTo>
                  <a:pt x="1259" y="1857"/>
                </a:lnTo>
                <a:lnTo>
                  <a:pt x="1260" y="1851"/>
                </a:lnTo>
                <a:lnTo>
                  <a:pt x="1260" y="1844"/>
                </a:lnTo>
                <a:lnTo>
                  <a:pt x="1262" y="1838"/>
                </a:lnTo>
                <a:lnTo>
                  <a:pt x="1262" y="1833"/>
                </a:lnTo>
                <a:lnTo>
                  <a:pt x="1262" y="1829"/>
                </a:lnTo>
                <a:lnTo>
                  <a:pt x="1262" y="1826"/>
                </a:lnTo>
                <a:lnTo>
                  <a:pt x="1262" y="1823"/>
                </a:lnTo>
                <a:lnTo>
                  <a:pt x="1262" y="1815"/>
                </a:lnTo>
                <a:lnTo>
                  <a:pt x="1262" y="1808"/>
                </a:lnTo>
                <a:lnTo>
                  <a:pt x="1262" y="1802"/>
                </a:lnTo>
                <a:lnTo>
                  <a:pt x="1260" y="1795"/>
                </a:lnTo>
                <a:lnTo>
                  <a:pt x="1260" y="1787"/>
                </a:lnTo>
                <a:lnTo>
                  <a:pt x="1259" y="1782"/>
                </a:lnTo>
                <a:lnTo>
                  <a:pt x="1257" y="1774"/>
                </a:lnTo>
                <a:lnTo>
                  <a:pt x="1255" y="1769"/>
                </a:lnTo>
                <a:lnTo>
                  <a:pt x="1252" y="1763"/>
                </a:lnTo>
                <a:lnTo>
                  <a:pt x="1250" y="1756"/>
                </a:lnTo>
                <a:lnTo>
                  <a:pt x="1249" y="1751"/>
                </a:lnTo>
                <a:lnTo>
                  <a:pt x="1247" y="1745"/>
                </a:lnTo>
                <a:lnTo>
                  <a:pt x="1246" y="1740"/>
                </a:lnTo>
                <a:lnTo>
                  <a:pt x="1246" y="1735"/>
                </a:lnTo>
                <a:lnTo>
                  <a:pt x="1242" y="1730"/>
                </a:lnTo>
                <a:lnTo>
                  <a:pt x="1242" y="1725"/>
                </a:lnTo>
                <a:lnTo>
                  <a:pt x="1241" y="1720"/>
                </a:lnTo>
                <a:lnTo>
                  <a:pt x="1239" y="1715"/>
                </a:lnTo>
                <a:lnTo>
                  <a:pt x="1237" y="1712"/>
                </a:lnTo>
                <a:lnTo>
                  <a:pt x="1237" y="1707"/>
                </a:lnTo>
                <a:lnTo>
                  <a:pt x="1236" y="1702"/>
                </a:lnTo>
                <a:lnTo>
                  <a:pt x="1236" y="1699"/>
                </a:lnTo>
                <a:lnTo>
                  <a:pt x="1234" y="1694"/>
                </a:lnTo>
                <a:lnTo>
                  <a:pt x="1234" y="1691"/>
                </a:lnTo>
                <a:lnTo>
                  <a:pt x="1233" y="1686"/>
                </a:lnTo>
                <a:lnTo>
                  <a:pt x="1233" y="1683"/>
                </a:lnTo>
                <a:lnTo>
                  <a:pt x="1231" y="1678"/>
                </a:lnTo>
                <a:lnTo>
                  <a:pt x="1231" y="1675"/>
                </a:lnTo>
                <a:lnTo>
                  <a:pt x="1229" y="1671"/>
                </a:lnTo>
                <a:lnTo>
                  <a:pt x="1229" y="1666"/>
                </a:lnTo>
                <a:lnTo>
                  <a:pt x="1229" y="1661"/>
                </a:lnTo>
                <a:lnTo>
                  <a:pt x="1229" y="1658"/>
                </a:lnTo>
                <a:lnTo>
                  <a:pt x="1229" y="1655"/>
                </a:lnTo>
                <a:lnTo>
                  <a:pt x="1229" y="1650"/>
                </a:lnTo>
                <a:lnTo>
                  <a:pt x="1229" y="1645"/>
                </a:lnTo>
                <a:lnTo>
                  <a:pt x="1229" y="1642"/>
                </a:lnTo>
                <a:lnTo>
                  <a:pt x="1229" y="1637"/>
                </a:lnTo>
                <a:lnTo>
                  <a:pt x="1231" y="1634"/>
                </a:lnTo>
                <a:lnTo>
                  <a:pt x="1229" y="1629"/>
                </a:lnTo>
                <a:lnTo>
                  <a:pt x="1229" y="1624"/>
                </a:lnTo>
                <a:lnTo>
                  <a:pt x="1229" y="1619"/>
                </a:lnTo>
                <a:lnTo>
                  <a:pt x="1229" y="1616"/>
                </a:lnTo>
                <a:lnTo>
                  <a:pt x="1229" y="1613"/>
                </a:lnTo>
                <a:lnTo>
                  <a:pt x="1229" y="1608"/>
                </a:lnTo>
                <a:lnTo>
                  <a:pt x="1228" y="1604"/>
                </a:lnTo>
                <a:lnTo>
                  <a:pt x="1228" y="1603"/>
                </a:lnTo>
                <a:lnTo>
                  <a:pt x="1224" y="1596"/>
                </a:lnTo>
                <a:lnTo>
                  <a:pt x="1223" y="1590"/>
                </a:lnTo>
                <a:lnTo>
                  <a:pt x="1219" y="1585"/>
                </a:lnTo>
                <a:lnTo>
                  <a:pt x="1218" y="1582"/>
                </a:lnTo>
                <a:lnTo>
                  <a:pt x="1215" y="1577"/>
                </a:lnTo>
                <a:lnTo>
                  <a:pt x="1211" y="1573"/>
                </a:lnTo>
                <a:lnTo>
                  <a:pt x="1208" y="1570"/>
                </a:lnTo>
                <a:lnTo>
                  <a:pt x="1205" y="1569"/>
                </a:lnTo>
                <a:lnTo>
                  <a:pt x="1200" y="1565"/>
                </a:lnTo>
                <a:lnTo>
                  <a:pt x="1197" y="1565"/>
                </a:lnTo>
                <a:lnTo>
                  <a:pt x="1192" y="1565"/>
                </a:lnTo>
                <a:lnTo>
                  <a:pt x="1185" y="1569"/>
                </a:lnTo>
                <a:lnTo>
                  <a:pt x="1182" y="1572"/>
                </a:lnTo>
                <a:lnTo>
                  <a:pt x="1179" y="1573"/>
                </a:lnTo>
                <a:lnTo>
                  <a:pt x="1174" y="1575"/>
                </a:lnTo>
                <a:lnTo>
                  <a:pt x="1171" y="1578"/>
                </a:lnTo>
                <a:lnTo>
                  <a:pt x="1167" y="1582"/>
                </a:lnTo>
                <a:lnTo>
                  <a:pt x="1162" y="1583"/>
                </a:lnTo>
                <a:lnTo>
                  <a:pt x="1159" y="1586"/>
                </a:lnTo>
                <a:lnTo>
                  <a:pt x="1158" y="1588"/>
                </a:lnTo>
                <a:lnTo>
                  <a:pt x="1153" y="1591"/>
                </a:lnTo>
                <a:lnTo>
                  <a:pt x="1151" y="1593"/>
                </a:lnTo>
                <a:lnTo>
                  <a:pt x="1151" y="1593"/>
                </a:lnTo>
                <a:lnTo>
                  <a:pt x="1148" y="1596"/>
                </a:lnTo>
                <a:lnTo>
                  <a:pt x="1145" y="1598"/>
                </a:lnTo>
                <a:lnTo>
                  <a:pt x="1141" y="1601"/>
                </a:lnTo>
                <a:lnTo>
                  <a:pt x="1136" y="1604"/>
                </a:lnTo>
                <a:lnTo>
                  <a:pt x="1130" y="1609"/>
                </a:lnTo>
                <a:lnTo>
                  <a:pt x="1125" y="1614"/>
                </a:lnTo>
                <a:lnTo>
                  <a:pt x="1120" y="1621"/>
                </a:lnTo>
                <a:lnTo>
                  <a:pt x="1112" y="1626"/>
                </a:lnTo>
                <a:lnTo>
                  <a:pt x="1107" y="1630"/>
                </a:lnTo>
                <a:lnTo>
                  <a:pt x="1099" y="1637"/>
                </a:lnTo>
                <a:lnTo>
                  <a:pt x="1094" y="1642"/>
                </a:lnTo>
                <a:lnTo>
                  <a:pt x="1089" y="1647"/>
                </a:lnTo>
                <a:lnTo>
                  <a:pt x="1084" y="1652"/>
                </a:lnTo>
                <a:lnTo>
                  <a:pt x="1081" y="1657"/>
                </a:lnTo>
                <a:lnTo>
                  <a:pt x="1079" y="1660"/>
                </a:lnTo>
                <a:lnTo>
                  <a:pt x="1045" y="1621"/>
                </a:lnTo>
                <a:lnTo>
                  <a:pt x="1045" y="1619"/>
                </a:lnTo>
                <a:lnTo>
                  <a:pt x="1050" y="1616"/>
                </a:lnTo>
                <a:lnTo>
                  <a:pt x="1053" y="1613"/>
                </a:lnTo>
                <a:lnTo>
                  <a:pt x="1058" y="1609"/>
                </a:lnTo>
                <a:lnTo>
                  <a:pt x="1061" y="1606"/>
                </a:lnTo>
                <a:lnTo>
                  <a:pt x="1068" y="1601"/>
                </a:lnTo>
                <a:lnTo>
                  <a:pt x="1073" y="1596"/>
                </a:lnTo>
                <a:lnTo>
                  <a:pt x="1079" y="1591"/>
                </a:lnTo>
                <a:lnTo>
                  <a:pt x="1084" y="1585"/>
                </a:lnTo>
                <a:lnTo>
                  <a:pt x="1092" y="1580"/>
                </a:lnTo>
                <a:lnTo>
                  <a:pt x="1096" y="1575"/>
                </a:lnTo>
                <a:lnTo>
                  <a:pt x="1099" y="1572"/>
                </a:lnTo>
                <a:lnTo>
                  <a:pt x="1102" y="1569"/>
                </a:lnTo>
                <a:lnTo>
                  <a:pt x="1107" y="1565"/>
                </a:lnTo>
                <a:lnTo>
                  <a:pt x="1110" y="1562"/>
                </a:lnTo>
                <a:lnTo>
                  <a:pt x="1114" y="1559"/>
                </a:lnTo>
                <a:lnTo>
                  <a:pt x="1118" y="1555"/>
                </a:lnTo>
                <a:lnTo>
                  <a:pt x="1122" y="1552"/>
                </a:lnTo>
                <a:lnTo>
                  <a:pt x="1127" y="1547"/>
                </a:lnTo>
                <a:lnTo>
                  <a:pt x="1130" y="1544"/>
                </a:lnTo>
                <a:lnTo>
                  <a:pt x="1133" y="1539"/>
                </a:lnTo>
                <a:lnTo>
                  <a:pt x="1138" y="1536"/>
                </a:lnTo>
                <a:lnTo>
                  <a:pt x="1141" y="1531"/>
                </a:lnTo>
                <a:lnTo>
                  <a:pt x="1146" y="1528"/>
                </a:lnTo>
                <a:lnTo>
                  <a:pt x="1149" y="1523"/>
                </a:lnTo>
                <a:lnTo>
                  <a:pt x="1154" y="1518"/>
                </a:lnTo>
                <a:lnTo>
                  <a:pt x="1158" y="1513"/>
                </a:lnTo>
                <a:lnTo>
                  <a:pt x="1161" y="1510"/>
                </a:lnTo>
                <a:lnTo>
                  <a:pt x="1166" y="1505"/>
                </a:lnTo>
                <a:lnTo>
                  <a:pt x="1169" y="1500"/>
                </a:lnTo>
                <a:lnTo>
                  <a:pt x="1174" y="1495"/>
                </a:lnTo>
                <a:lnTo>
                  <a:pt x="1177" y="1490"/>
                </a:lnTo>
                <a:lnTo>
                  <a:pt x="1180" y="1485"/>
                </a:lnTo>
                <a:lnTo>
                  <a:pt x="1185" y="1482"/>
                </a:lnTo>
                <a:lnTo>
                  <a:pt x="1189" y="1477"/>
                </a:lnTo>
                <a:lnTo>
                  <a:pt x="1192" y="1472"/>
                </a:lnTo>
                <a:lnTo>
                  <a:pt x="1195" y="1467"/>
                </a:lnTo>
                <a:lnTo>
                  <a:pt x="1200" y="1463"/>
                </a:lnTo>
                <a:lnTo>
                  <a:pt x="1203" y="1458"/>
                </a:lnTo>
                <a:lnTo>
                  <a:pt x="1206" y="1453"/>
                </a:lnTo>
                <a:lnTo>
                  <a:pt x="1210" y="1448"/>
                </a:lnTo>
                <a:lnTo>
                  <a:pt x="1213" y="1443"/>
                </a:lnTo>
                <a:lnTo>
                  <a:pt x="1216" y="1438"/>
                </a:lnTo>
                <a:lnTo>
                  <a:pt x="1219" y="1433"/>
                </a:lnTo>
                <a:lnTo>
                  <a:pt x="1221" y="1427"/>
                </a:lnTo>
                <a:lnTo>
                  <a:pt x="1226" y="1423"/>
                </a:lnTo>
                <a:lnTo>
                  <a:pt x="1228" y="1417"/>
                </a:lnTo>
                <a:lnTo>
                  <a:pt x="1231" y="1414"/>
                </a:lnTo>
                <a:lnTo>
                  <a:pt x="1233" y="1407"/>
                </a:lnTo>
                <a:lnTo>
                  <a:pt x="1236" y="1404"/>
                </a:lnTo>
                <a:lnTo>
                  <a:pt x="1237" y="1397"/>
                </a:lnTo>
                <a:lnTo>
                  <a:pt x="1239" y="1392"/>
                </a:lnTo>
                <a:lnTo>
                  <a:pt x="1241" y="1387"/>
                </a:lnTo>
                <a:lnTo>
                  <a:pt x="1242" y="1383"/>
                </a:lnTo>
                <a:lnTo>
                  <a:pt x="1244" y="1379"/>
                </a:lnTo>
                <a:lnTo>
                  <a:pt x="1246" y="1374"/>
                </a:lnTo>
                <a:lnTo>
                  <a:pt x="1247" y="1371"/>
                </a:lnTo>
                <a:lnTo>
                  <a:pt x="1249" y="1366"/>
                </a:lnTo>
                <a:lnTo>
                  <a:pt x="1249" y="1363"/>
                </a:lnTo>
                <a:lnTo>
                  <a:pt x="1250" y="1358"/>
                </a:lnTo>
                <a:lnTo>
                  <a:pt x="1252" y="1355"/>
                </a:lnTo>
                <a:lnTo>
                  <a:pt x="1252" y="1352"/>
                </a:lnTo>
                <a:lnTo>
                  <a:pt x="1254" y="1345"/>
                </a:lnTo>
                <a:lnTo>
                  <a:pt x="1255" y="1339"/>
                </a:lnTo>
                <a:lnTo>
                  <a:pt x="1255" y="1334"/>
                </a:lnTo>
                <a:lnTo>
                  <a:pt x="1257" y="1329"/>
                </a:lnTo>
                <a:lnTo>
                  <a:pt x="1257" y="1322"/>
                </a:lnTo>
                <a:lnTo>
                  <a:pt x="1257" y="1319"/>
                </a:lnTo>
                <a:lnTo>
                  <a:pt x="1255" y="1314"/>
                </a:lnTo>
                <a:lnTo>
                  <a:pt x="1255" y="1311"/>
                </a:lnTo>
                <a:lnTo>
                  <a:pt x="1255" y="1308"/>
                </a:lnTo>
                <a:lnTo>
                  <a:pt x="1255" y="1304"/>
                </a:lnTo>
                <a:lnTo>
                  <a:pt x="1252" y="1298"/>
                </a:lnTo>
                <a:lnTo>
                  <a:pt x="1249" y="1295"/>
                </a:lnTo>
                <a:lnTo>
                  <a:pt x="1246" y="1290"/>
                </a:lnTo>
                <a:lnTo>
                  <a:pt x="1244" y="1288"/>
                </a:lnTo>
                <a:lnTo>
                  <a:pt x="1239" y="1286"/>
                </a:lnTo>
                <a:lnTo>
                  <a:pt x="1239" y="1285"/>
                </a:lnTo>
                <a:lnTo>
                  <a:pt x="1237" y="1285"/>
                </a:lnTo>
                <a:lnTo>
                  <a:pt x="1234" y="1285"/>
                </a:lnTo>
                <a:lnTo>
                  <a:pt x="1231" y="1285"/>
                </a:lnTo>
                <a:lnTo>
                  <a:pt x="1228" y="1286"/>
                </a:lnTo>
                <a:lnTo>
                  <a:pt x="1224" y="1288"/>
                </a:lnTo>
                <a:lnTo>
                  <a:pt x="1221" y="1290"/>
                </a:lnTo>
                <a:lnTo>
                  <a:pt x="1216" y="1291"/>
                </a:lnTo>
                <a:lnTo>
                  <a:pt x="1211" y="1295"/>
                </a:lnTo>
                <a:lnTo>
                  <a:pt x="1206" y="1298"/>
                </a:lnTo>
                <a:lnTo>
                  <a:pt x="1202" y="1301"/>
                </a:lnTo>
                <a:lnTo>
                  <a:pt x="1197" y="1304"/>
                </a:lnTo>
                <a:lnTo>
                  <a:pt x="1192" y="1311"/>
                </a:lnTo>
                <a:lnTo>
                  <a:pt x="1189" y="1312"/>
                </a:lnTo>
                <a:lnTo>
                  <a:pt x="1185" y="1316"/>
                </a:lnTo>
                <a:lnTo>
                  <a:pt x="1182" y="1321"/>
                </a:lnTo>
                <a:lnTo>
                  <a:pt x="1180" y="1324"/>
                </a:lnTo>
                <a:lnTo>
                  <a:pt x="1175" y="1327"/>
                </a:lnTo>
                <a:lnTo>
                  <a:pt x="1172" y="1332"/>
                </a:lnTo>
                <a:lnTo>
                  <a:pt x="1169" y="1335"/>
                </a:lnTo>
                <a:lnTo>
                  <a:pt x="1166" y="1339"/>
                </a:lnTo>
                <a:lnTo>
                  <a:pt x="1161" y="1343"/>
                </a:lnTo>
                <a:lnTo>
                  <a:pt x="1158" y="1348"/>
                </a:lnTo>
                <a:lnTo>
                  <a:pt x="1154" y="1352"/>
                </a:lnTo>
                <a:lnTo>
                  <a:pt x="1151" y="1357"/>
                </a:lnTo>
                <a:lnTo>
                  <a:pt x="1148" y="1361"/>
                </a:lnTo>
                <a:lnTo>
                  <a:pt x="1143" y="1366"/>
                </a:lnTo>
                <a:lnTo>
                  <a:pt x="1140" y="1370"/>
                </a:lnTo>
                <a:lnTo>
                  <a:pt x="1136" y="1376"/>
                </a:lnTo>
                <a:lnTo>
                  <a:pt x="1131" y="1379"/>
                </a:lnTo>
                <a:lnTo>
                  <a:pt x="1128" y="1384"/>
                </a:lnTo>
                <a:lnTo>
                  <a:pt x="1125" y="1389"/>
                </a:lnTo>
                <a:lnTo>
                  <a:pt x="1123" y="1394"/>
                </a:lnTo>
                <a:lnTo>
                  <a:pt x="1118" y="1397"/>
                </a:lnTo>
                <a:lnTo>
                  <a:pt x="1115" y="1401"/>
                </a:lnTo>
                <a:lnTo>
                  <a:pt x="1112" y="1405"/>
                </a:lnTo>
                <a:lnTo>
                  <a:pt x="1110" y="1409"/>
                </a:lnTo>
                <a:lnTo>
                  <a:pt x="1104" y="1415"/>
                </a:lnTo>
                <a:lnTo>
                  <a:pt x="1101" y="1422"/>
                </a:lnTo>
                <a:lnTo>
                  <a:pt x="1096" y="1427"/>
                </a:lnTo>
                <a:lnTo>
                  <a:pt x="1094" y="1432"/>
                </a:lnTo>
                <a:lnTo>
                  <a:pt x="1092" y="1433"/>
                </a:lnTo>
                <a:lnTo>
                  <a:pt x="1092" y="1435"/>
                </a:lnTo>
                <a:lnTo>
                  <a:pt x="1057" y="1389"/>
                </a:lnTo>
                <a:lnTo>
                  <a:pt x="1058" y="1387"/>
                </a:lnTo>
                <a:lnTo>
                  <a:pt x="1061" y="1383"/>
                </a:lnTo>
                <a:lnTo>
                  <a:pt x="1065" y="1379"/>
                </a:lnTo>
                <a:lnTo>
                  <a:pt x="1068" y="1376"/>
                </a:lnTo>
                <a:lnTo>
                  <a:pt x="1071" y="1370"/>
                </a:lnTo>
                <a:lnTo>
                  <a:pt x="1076" y="1366"/>
                </a:lnTo>
                <a:lnTo>
                  <a:pt x="1079" y="1360"/>
                </a:lnTo>
                <a:lnTo>
                  <a:pt x="1086" y="1353"/>
                </a:lnTo>
                <a:lnTo>
                  <a:pt x="1089" y="1347"/>
                </a:lnTo>
                <a:lnTo>
                  <a:pt x="1096" y="1340"/>
                </a:lnTo>
                <a:lnTo>
                  <a:pt x="1097" y="1335"/>
                </a:lnTo>
                <a:lnTo>
                  <a:pt x="1101" y="1332"/>
                </a:lnTo>
                <a:lnTo>
                  <a:pt x="1104" y="1329"/>
                </a:lnTo>
                <a:lnTo>
                  <a:pt x="1107" y="1326"/>
                </a:lnTo>
                <a:lnTo>
                  <a:pt x="1110" y="1321"/>
                </a:lnTo>
                <a:lnTo>
                  <a:pt x="1114" y="1317"/>
                </a:lnTo>
                <a:lnTo>
                  <a:pt x="1115" y="1314"/>
                </a:lnTo>
                <a:lnTo>
                  <a:pt x="1118" y="1311"/>
                </a:lnTo>
                <a:lnTo>
                  <a:pt x="1120" y="1306"/>
                </a:lnTo>
                <a:lnTo>
                  <a:pt x="1123" y="1301"/>
                </a:lnTo>
                <a:lnTo>
                  <a:pt x="1127" y="1298"/>
                </a:lnTo>
                <a:lnTo>
                  <a:pt x="1130" y="1293"/>
                </a:lnTo>
                <a:lnTo>
                  <a:pt x="1131" y="1288"/>
                </a:lnTo>
                <a:lnTo>
                  <a:pt x="1135" y="1285"/>
                </a:lnTo>
                <a:lnTo>
                  <a:pt x="1136" y="1280"/>
                </a:lnTo>
                <a:lnTo>
                  <a:pt x="1140" y="1277"/>
                </a:lnTo>
                <a:lnTo>
                  <a:pt x="1141" y="1272"/>
                </a:lnTo>
                <a:lnTo>
                  <a:pt x="1145" y="1268"/>
                </a:lnTo>
                <a:lnTo>
                  <a:pt x="1146" y="1264"/>
                </a:lnTo>
                <a:lnTo>
                  <a:pt x="1149" y="1260"/>
                </a:lnTo>
                <a:lnTo>
                  <a:pt x="1151" y="1257"/>
                </a:lnTo>
                <a:lnTo>
                  <a:pt x="1153" y="1252"/>
                </a:lnTo>
                <a:lnTo>
                  <a:pt x="1154" y="1249"/>
                </a:lnTo>
                <a:lnTo>
                  <a:pt x="1158" y="1244"/>
                </a:lnTo>
                <a:lnTo>
                  <a:pt x="1159" y="1241"/>
                </a:lnTo>
                <a:lnTo>
                  <a:pt x="1161" y="1236"/>
                </a:lnTo>
                <a:lnTo>
                  <a:pt x="1161" y="1233"/>
                </a:lnTo>
                <a:lnTo>
                  <a:pt x="1164" y="1229"/>
                </a:lnTo>
                <a:lnTo>
                  <a:pt x="1166" y="1221"/>
                </a:lnTo>
                <a:lnTo>
                  <a:pt x="1167" y="1215"/>
                </a:lnTo>
                <a:lnTo>
                  <a:pt x="1167" y="1208"/>
                </a:lnTo>
                <a:lnTo>
                  <a:pt x="1169" y="1202"/>
                </a:lnTo>
                <a:lnTo>
                  <a:pt x="1169" y="1197"/>
                </a:lnTo>
                <a:lnTo>
                  <a:pt x="1167" y="1192"/>
                </a:lnTo>
                <a:lnTo>
                  <a:pt x="1166" y="1187"/>
                </a:lnTo>
                <a:lnTo>
                  <a:pt x="1164" y="1182"/>
                </a:lnTo>
                <a:lnTo>
                  <a:pt x="1161" y="1177"/>
                </a:lnTo>
                <a:lnTo>
                  <a:pt x="1159" y="1174"/>
                </a:lnTo>
                <a:lnTo>
                  <a:pt x="1158" y="1169"/>
                </a:lnTo>
                <a:lnTo>
                  <a:pt x="1154" y="1164"/>
                </a:lnTo>
                <a:lnTo>
                  <a:pt x="1151" y="1161"/>
                </a:lnTo>
                <a:lnTo>
                  <a:pt x="1149" y="1156"/>
                </a:lnTo>
                <a:lnTo>
                  <a:pt x="1146" y="1153"/>
                </a:lnTo>
                <a:lnTo>
                  <a:pt x="1143" y="1149"/>
                </a:lnTo>
                <a:lnTo>
                  <a:pt x="1140" y="1145"/>
                </a:lnTo>
                <a:lnTo>
                  <a:pt x="1138" y="1141"/>
                </a:lnTo>
                <a:lnTo>
                  <a:pt x="1131" y="1135"/>
                </a:lnTo>
                <a:lnTo>
                  <a:pt x="1127" y="1130"/>
                </a:lnTo>
                <a:lnTo>
                  <a:pt x="1120" y="1123"/>
                </a:lnTo>
                <a:lnTo>
                  <a:pt x="1115" y="1118"/>
                </a:lnTo>
                <a:lnTo>
                  <a:pt x="1110" y="1115"/>
                </a:lnTo>
                <a:lnTo>
                  <a:pt x="1107" y="1112"/>
                </a:lnTo>
                <a:lnTo>
                  <a:pt x="1101" y="1109"/>
                </a:lnTo>
                <a:lnTo>
                  <a:pt x="1099" y="1107"/>
                </a:lnTo>
                <a:lnTo>
                  <a:pt x="1096" y="1105"/>
                </a:lnTo>
                <a:lnTo>
                  <a:pt x="1092" y="1102"/>
                </a:lnTo>
                <a:lnTo>
                  <a:pt x="1091" y="1099"/>
                </a:lnTo>
                <a:lnTo>
                  <a:pt x="1087" y="1096"/>
                </a:lnTo>
                <a:lnTo>
                  <a:pt x="1084" y="1092"/>
                </a:lnTo>
                <a:lnTo>
                  <a:pt x="1081" y="1091"/>
                </a:lnTo>
                <a:lnTo>
                  <a:pt x="1076" y="1086"/>
                </a:lnTo>
                <a:lnTo>
                  <a:pt x="1071" y="1083"/>
                </a:lnTo>
                <a:lnTo>
                  <a:pt x="1066" y="1078"/>
                </a:lnTo>
                <a:lnTo>
                  <a:pt x="1060" y="1073"/>
                </a:lnTo>
                <a:lnTo>
                  <a:pt x="1053" y="1068"/>
                </a:lnTo>
                <a:lnTo>
                  <a:pt x="1048" y="1063"/>
                </a:lnTo>
                <a:lnTo>
                  <a:pt x="1042" y="1058"/>
                </a:lnTo>
                <a:lnTo>
                  <a:pt x="1035" y="1053"/>
                </a:lnTo>
                <a:lnTo>
                  <a:pt x="1030" y="1050"/>
                </a:lnTo>
                <a:lnTo>
                  <a:pt x="1027" y="1047"/>
                </a:lnTo>
                <a:lnTo>
                  <a:pt x="1022" y="1043"/>
                </a:lnTo>
                <a:lnTo>
                  <a:pt x="1019" y="1040"/>
                </a:lnTo>
                <a:lnTo>
                  <a:pt x="1014" y="1037"/>
                </a:lnTo>
                <a:lnTo>
                  <a:pt x="1011" y="1035"/>
                </a:lnTo>
                <a:lnTo>
                  <a:pt x="1008" y="1032"/>
                </a:lnTo>
                <a:lnTo>
                  <a:pt x="1003" y="1030"/>
                </a:lnTo>
                <a:lnTo>
                  <a:pt x="998" y="1027"/>
                </a:lnTo>
                <a:lnTo>
                  <a:pt x="995" y="1024"/>
                </a:lnTo>
                <a:lnTo>
                  <a:pt x="990" y="1021"/>
                </a:lnTo>
                <a:lnTo>
                  <a:pt x="985" y="1019"/>
                </a:lnTo>
                <a:lnTo>
                  <a:pt x="980" y="1016"/>
                </a:lnTo>
                <a:lnTo>
                  <a:pt x="977" y="1012"/>
                </a:lnTo>
                <a:lnTo>
                  <a:pt x="972" y="1009"/>
                </a:lnTo>
                <a:lnTo>
                  <a:pt x="968" y="1008"/>
                </a:lnTo>
                <a:lnTo>
                  <a:pt x="964" y="1004"/>
                </a:lnTo>
                <a:lnTo>
                  <a:pt x="959" y="1001"/>
                </a:lnTo>
                <a:lnTo>
                  <a:pt x="954" y="999"/>
                </a:lnTo>
                <a:lnTo>
                  <a:pt x="949" y="996"/>
                </a:lnTo>
                <a:lnTo>
                  <a:pt x="944" y="993"/>
                </a:lnTo>
                <a:lnTo>
                  <a:pt x="939" y="991"/>
                </a:lnTo>
                <a:lnTo>
                  <a:pt x="934" y="988"/>
                </a:lnTo>
                <a:lnTo>
                  <a:pt x="931" y="986"/>
                </a:lnTo>
                <a:lnTo>
                  <a:pt x="926" y="983"/>
                </a:lnTo>
                <a:lnTo>
                  <a:pt x="921" y="981"/>
                </a:lnTo>
                <a:lnTo>
                  <a:pt x="916" y="978"/>
                </a:lnTo>
                <a:lnTo>
                  <a:pt x="911" y="977"/>
                </a:lnTo>
                <a:lnTo>
                  <a:pt x="905" y="975"/>
                </a:lnTo>
                <a:lnTo>
                  <a:pt x="902" y="973"/>
                </a:lnTo>
                <a:lnTo>
                  <a:pt x="897" y="972"/>
                </a:lnTo>
                <a:lnTo>
                  <a:pt x="892" y="970"/>
                </a:lnTo>
                <a:lnTo>
                  <a:pt x="885" y="968"/>
                </a:lnTo>
                <a:lnTo>
                  <a:pt x="882" y="965"/>
                </a:lnTo>
                <a:lnTo>
                  <a:pt x="876" y="964"/>
                </a:lnTo>
                <a:lnTo>
                  <a:pt x="871" y="964"/>
                </a:lnTo>
                <a:lnTo>
                  <a:pt x="864" y="962"/>
                </a:lnTo>
                <a:lnTo>
                  <a:pt x="861" y="960"/>
                </a:lnTo>
                <a:lnTo>
                  <a:pt x="854" y="959"/>
                </a:lnTo>
                <a:lnTo>
                  <a:pt x="850" y="959"/>
                </a:lnTo>
                <a:lnTo>
                  <a:pt x="845" y="959"/>
                </a:lnTo>
                <a:lnTo>
                  <a:pt x="838" y="957"/>
                </a:lnTo>
                <a:lnTo>
                  <a:pt x="833" y="957"/>
                </a:lnTo>
                <a:lnTo>
                  <a:pt x="827" y="957"/>
                </a:lnTo>
                <a:lnTo>
                  <a:pt x="822" y="957"/>
                </a:lnTo>
                <a:lnTo>
                  <a:pt x="817" y="957"/>
                </a:lnTo>
                <a:lnTo>
                  <a:pt x="810" y="959"/>
                </a:lnTo>
                <a:lnTo>
                  <a:pt x="806" y="959"/>
                </a:lnTo>
                <a:lnTo>
                  <a:pt x="799" y="959"/>
                </a:lnTo>
                <a:lnTo>
                  <a:pt x="794" y="959"/>
                </a:lnTo>
                <a:lnTo>
                  <a:pt x="789" y="959"/>
                </a:lnTo>
                <a:lnTo>
                  <a:pt x="784" y="960"/>
                </a:lnTo>
                <a:lnTo>
                  <a:pt x="778" y="960"/>
                </a:lnTo>
                <a:lnTo>
                  <a:pt x="773" y="962"/>
                </a:lnTo>
                <a:lnTo>
                  <a:pt x="768" y="962"/>
                </a:lnTo>
                <a:lnTo>
                  <a:pt x="763" y="964"/>
                </a:lnTo>
                <a:lnTo>
                  <a:pt x="757" y="965"/>
                </a:lnTo>
                <a:lnTo>
                  <a:pt x="752" y="965"/>
                </a:lnTo>
                <a:lnTo>
                  <a:pt x="747" y="967"/>
                </a:lnTo>
                <a:lnTo>
                  <a:pt x="742" y="968"/>
                </a:lnTo>
                <a:lnTo>
                  <a:pt x="737" y="968"/>
                </a:lnTo>
                <a:lnTo>
                  <a:pt x="732" y="970"/>
                </a:lnTo>
                <a:lnTo>
                  <a:pt x="727" y="972"/>
                </a:lnTo>
                <a:lnTo>
                  <a:pt x="722" y="973"/>
                </a:lnTo>
                <a:lnTo>
                  <a:pt x="718" y="975"/>
                </a:lnTo>
                <a:lnTo>
                  <a:pt x="713" y="975"/>
                </a:lnTo>
                <a:lnTo>
                  <a:pt x="708" y="977"/>
                </a:lnTo>
                <a:lnTo>
                  <a:pt x="704" y="978"/>
                </a:lnTo>
                <a:lnTo>
                  <a:pt x="700" y="980"/>
                </a:lnTo>
                <a:lnTo>
                  <a:pt x="695" y="981"/>
                </a:lnTo>
                <a:lnTo>
                  <a:pt x="691" y="983"/>
                </a:lnTo>
                <a:lnTo>
                  <a:pt x="687" y="985"/>
                </a:lnTo>
                <a:lnTo>
                  <a:pt x="683" y="986"/>
                </a:lnTo>
                <a:lnTo>
                  <a:pt x="680" y="988"/>
                </a:lnTo>
                <a:lnTo>
                  <a:pt x="675" y="990"/>
                </a:lnTo>
                <a:lnTo>
                  <a:pt x="672" y="991"/>
                </a:lnTo>
                <a:lnTo>
                  <a:pt x="665" y="993"/>
                </a:lnTo>
                <a:lnTo>
                  <a:pt x="660" y="996"/>
                </a:lnTo>
                <a:lnTo>
                  <a:pt x="654" y="999"/>
                </a:lnTo>
                <a:lnTo>
                  <a:pt x="649" y="1001"/>
                </a:lnTo>
                <a:lnTo>
                  <a:pt x="644" y="1003"/>
                </a:lnTo>
                <a:lnTo>
                  <a:pt x="641" y="1004"/>
                </a:lnTo>
                <a:lnTo>
                  <a:pt x="636" y="1008"/>
                </a:lnTo>
                <a:lnTo>
                  <a:pt x="634" y="1009"/>
                </a:lnTo>
                <a:lnTo>
                  <a:pt x="633" y="1009"/>
                </a:lnTo>
                <a:lnTo>
                  <a:pt x="628" y="1011"/>
                </a:lnTo>
                <a:lnTo>
                  <a:pt x="625" y="1012"/>
                </a:lnTo>
                <a:lnTo>
                  <a:pt x="620" y="1014"/>
                </a:lnTo>
                <a:lnTo>
                  <a:pt x="616" y="1017"/>
                </a:lnTo>
                <a:lnTo>
                  <a:pt x="612" y="1021"/>
                </a:lnTo>
                <a:lnTo>
                  <a:pt x="605" y="1024"/>
                </a:lnTo>
                <a:lnTo>
                  <a:pt x="599" y="1027"/>
                </a:lnTo>
                <a:lnTo>
                  <a:pt x="594" y="1030"/>
                </a:lnTo>
                <a:lnTo>
                  <a:pt x="587" y="1034"/>
                </a:lnTo>
                <a:lnTo>
                  <a:pt x="581" y="1039"/>
                </a:lnTo>
                <a:lnTo>
                  <a:pt x="574" y="1043"/>
                </a:lnTo>
                <a:lnTo>
                  <a:pt x="568" y="1047"/>
                </a:lnTo>
                <a:lnTo>
                  <a:pt x="561" y="1053"/>
                </a:lnTo>
                <a:lnTo>
                  <a:pt x="556" y="1055"/>
                </a:lnTo>
                <a:lnTo>
                  <a:pt x="553" y="1058"/>
                </a:lnTo>
                <a:lnTo>
                  <a:pt x="550" y="1061"/>
                </a:lnTo>
                <a:lnTo>
                  <a:pt x="546" y="1063"/>
                </a:lnTo>
                <a:lnTo>
                  <a:pt x="538" y="1070"/>
                </a:lnTo>
                <a:lnTo>
                  <a:pt x="532" y="1074"/>
                </a:lnTo>
                <a:lnTo>
                  <a:pt x="525" y="1081"/>
                </a:lnTo>
                <a:lnTo>
                  <a:pt x="519" y="1087"/>
                </a:lnTo>
                <a:lnTo>
                  <a:pt x="514" y="1094"/>
                </a:lnTo>
                <a:lnTo>
                  <a:pt x="507" y="1100"/>
                </a:lnTo>
                <a:lnTo>
                  <a:pt x="502" y="1107"/>
                </a:lnTo>
                <a:lnTo>
                  <a:pt x="497" y="1114"/>
                </a:lnTo>
                <a:lnTo>
                  <a:pt x="493" y="1120"/>
                </a:lnTo>
                <a:lnTo>
                  <a:pt x="491" y="1127"/>
                </a:lnTo>
                <a:lnTo>
                  <a:pt x="488" y="1130"/>
                </a:lnTo>
                <a:lnTo>
                  <a:pt x="486" y="1133"/>
                </a:lnTo>
                <a:lnTo>
                  <a:pt x="484" y="1138"/>
                </a:lnTo>
                <a:lnTo>
                  <a:pt x="484" y="1141"/>
                </a:lnTo>
                <a:lnTo>
                  <a:pt x="483" y="1145"/>
                </a:lnTo>
                <a:lnTo>
                  <a:pt x="483" y="1148"/>
                </a:lnTo>
                <a:lnTo>
                  <a:pt x="483" y="1153"/>
                </a:lnTo>
                <a:lnTo>
                  <a:pt x="483" y="1156"/>
                </a:lnTo>
                <a:lnTo>
                  <a:pt x="481" y="1162"/>
                </a:lnTo>
                <a:lnTo>
                  <a:pt x="481" y="1171"/>
                </a:lnTo>
                <a:lnTo>
                  <a:pt x="481" y="1174"/>
                </a:lnTo>
                <a:lnTo>
                  <a:pt x="481" y="1177"/>
                </a:lnTo>
                <a:lnTo>
                  <a:pt x="481" y="1180"/>
                </a:lnTo>
                <a:lnTo>
                  <a:pt x="483" y="1184"/>
                </a:lnTo>
                <a:lnTo>
                  <a:pt x="483" y="1189"/>
                </a:lnTo>
                <a:lnTo>
                  <a:pt x="483" y="1192"/>
                </a:lnTo>
                <a:lnTo>
                  <a:pt x="483" y="1195"/>
                </a:lnTo>
                <a:lnTo>
                  <a:pt x="483" y="1198"/>
                </a:lnTo>
                <a:lnTo>
                  <a:pt x="484" y="1202"/>
                </a:lnTo>
                <a:lnTo>
                  <a:pt x="484" y="1206"/>
                </a:lnTo>
                <a:lnTo>
                  <a:pt x="486" y="1210"/>
                </a:lnTo>
                <a:lnTo>
                  <a:pt x="486" y="1215"/>
                </a:lnTo>
                <a:lnTo>
                  <a:pt x="486" y="1218"/>
                </a:lnTo>
                <a:lnTo>
                  <a:pt x="488" y="1221"/>
                </a:lnTo>
                <a:lnTo>
                  <a:pt x="488" y="1224"/>
                </a:lnTo>
                <a:lnTo>
                  <a:pt x="489" y="1229"/>
                </a:lnTo>
                <a:lnTo>
                  <a:pt x="489" y="1233"/>
                </a:lnTo>
                <a:lnTo>
                  <a:pt x="491" y="1236"/>
                </a:lnTo>
                <a:lnTo>
                  <a:pt x="491" y="1239"/>
                </a:lnTo>
                <a:lnTo>
                  <a:pt x="493" y="1242"/>
                </a:lnTo>
                <a:lnTo>
                  <a:pt x="494" y="1249"/>
                </a:lnTo>
                <a:lnTo>
                  <a:pt x="497" y="1257"/>
                </a:lnTo>
                <a:lnTo>
                  <a:pt x="499" y="1264"/>
                </a:lnTo>
                <a:lnTo>
                  <a:pt x="501" y="1270"/>
                </a:lnTo>
                <a:lnTo>
                  <a:pt x="502" y="1275"/>
                </a:lnTo>
                <a:lnTo>
                  <a:pt x="504" y="1282"/>
                </a:lnTo>
                <a:lnTo>
                  <a:pt x="507" y="1286"/>
                </a:lnTo>
                <a:lnTo>
                  <a:pt x="509" y="1293"/>
                </a:lnTo>
                <a:lnTo>
                  <a:pt x="511" y="1298"/>
                </a:lnTo>
                <a:lnTo>
                  <a:pt x="512" y="1303"/>
                </a:lnTo>
                <a:lnTo>
                  <a:pt x="514" y="1308"/>
                </a:lnTo>
                <a:lnTo>
                  <a:pt x="517" y="1311"/>
                </a:lnTo>
                <a:lnTo>
                  <a:pt x="519" y="1317"/>
                </a:lnTo>
                <a:lnTo>
                  <a:pt x="520" y="1324"/>
                </a:lnTo>
                <a:lnTo>
                  <a:pt x="522" y="1327"/>
                </a:lnTo>
                <a:lnTo>
                  <a:pt x="524" y="1329"/>
                </a:lnTo>
                <a:lnTo>
                  <a:pt x="484" y="1352"/>
                </a:lnTo>
                <a:lnTo>
                  <a:pt x="484" y="1348"/>
                </a:lnTo>
                <a:lnTo>
                  <a:pt x="483" y="1345"/>
                </a:lnTo>
                <a:lnTo>
                  <a:pt x="481" y="1342"/>
                </a:lnTo>
                <a:lnTo>
                  <a:pt x="481" y="1340"/>
                </a:lnTo>
                <a:lnTo>
                  <a:pt x="480" y="1337"/>
                </a:lnTo>
                <a:lnTo>
                  <a:pt x="480" y="1334"/>
                </a:lnTo>
                <a:lnTo>
                  <a:pt x="476" y="1329"/>
                </a:lnTo>
                <a:lnTo>
                  <a:pt x="476" y="1324"/>
                </a:lnTo>
                <a:lnTo>
                  <a:pt x="473" y="1319"/>
                </a:lnTo>
                <a:lnTo>
                  <a:pt x="473" y="1316"/>
                </a:lnTo>
                <a:lnTo>
                  <a:pt x="470" y="1311"/>
                </a:lnTo>
                <a:lnTo>
                  <a:pt x="468" y="1306"/>
                </a:lnTo>
                <a:lnTo>
                  <a:pt x="467" y="1301"/>
                </a:lnTo>
                <a:lnTo>
                  <a:pt x="463" y="1296"/>
                </a:lnTo>
                <a:lnTo>
                  <a:pt x="460" y="1291"/>
                </a:lnTo>
                <a:lnTo>
                  <a:pt x="458" y="1286"/>
                </a:lnTo>
                <a:lnTo>
                  <a:pt x="455" y="1282"/>
                </a:lnTo>
                <a:lnTo>
                  <a:pt x="452" y="1277"/>
                </a:lnTo>
                <a:lnTo>
                  <a:pt x="449" y="1273"/>
                </a:lnTo>
                <a:lnTo>
                  <a:pt x="445" y="1268"/>
                </a:lnTo>
                <a:lnTo>
                  <a:pt x="442" y="1265"/>
                </a:lnTo>
                <a:lnTo>
                  <a:pt x="439" y="1262"/>
                </a:lnTo>
                <a:lnTo>
                  <a:pt x="436" y="1259"/>
                </a:lnTo>
                <a:lnTo>
                  <a:pt x="431" y="1257"/>
                </a:lnTo>
                <a:lnTo>
                  <a:pt x="427" y="1254"/>
                </a:lnTo>
                <a:lnTo>
                  <a:pt x="423" y="1254"/>
                </a:lnTo>
                <a:lnTo>
                  <a:pt x="419" y="1252"/>
                </a:lnTo>
                <a:lnTo>
                  <a:pt x="414" y="1252"/>
                </a:lnTo>
                <a:lnTo>
                  <a:pt x="409" y="1254"/>
                </a:lnTo>
                <a:lnTo>
                  <a:pt x="406" y="1255"/>
                </a:lnTo>
                <a:lnTo>
                  <a:pt x="401" y="1257"/>
                </a:lnTo>
                <a:lnTo>
                  <a:pt x="396" y="1259"/>
                </a:lnTo>
                <a:lnTo>
                  <a:pt x="393" y="1260"/>
                </a:lnTo>
                <a:lnTo>
                  <a:pt x="390" y="1264"/>
                </a:lnTo>
                <a:lnTo>
                  <a:pt x="385" y="1270"/>
                </a:lnTo>
                <a:lnTo>
                  <a:pt x="380" y="1277"/>
                </a:lnTo>
                <a:lnTo>
                  <a:pt x="379" y="1280"/>
                </a:lnTo>
                <a:lnTo>
                  <a:pt x="377" y="1283"/>
                </a:lnTo>
                <a:lnTo>
                  <a:pt x="375" y="1288"/>
                </a:lnTo>
                <a:lnTo>
                  <a:pt x="375" y="1291"/>
                </a:lnTo>
                <a:lnTo>
                  <a:pt x="374" y="1296"/>
                </a:lnTo>
                <a:lnTo>
                  <a:pt x="374" y="1299"/>
                </a:lnTo>
                <a:lnTo>
                  <a:pt x="374" y="1304"/>
                </a:lnTo>
                <a:lnTo>
                  <a:pt x="374" y="1308"/>
                </a:lnTo>
                <a:lnTo>
                  <a:pt x="374" y="1311"/>
                </a:lnTo>
                <a:lnTo>
                  <a:pt x="374" y="1316"/>
                </a:lnTo>
                <a:lnTo>
                  <a:pt x="374" y="1319"/>
                </a:lnTo>
                <a:lnTo>
                  <a:pt x="374" y="1324"/>
                </a:lnTo>
                <a:lnTo>
                  <a:pt x="374" y="1330"/>
                </a:lnTo>
                <a:lnTo>
                  <a:pt x="375" y="1337"/>
                </a:lnTo>
                <a:lnTo>
                  <a:pt x="377" y="1342"/>
                </a:lnTo>
                <a:lnTo>
                  <a:pt x="379" y="1345"/>
                </a:lnTo>
                <a:lnTo>
                  <a:pt x="379" y="1348"/>
                </a:lnTo>
                <a:lnTo>
                  <a:pt x="379" y="1350"/>
                </a:lnTo>
                <a:lnTo>
                  <a:pt x="379" y="1352"/>
                </a:lnTo>
                <a:lnTo>
                  <a:pt x="380" y="1353"/>
                </a:lnTo>
                <a:lnTo>
                  <a:pt x="382" y="1358"/>
                </a:lnTo>
                <a:lnTo>
                  <a:pt x="382" y="1361"/>
                </a:lnTo>
                <a:lnTo>
                  <a:pt x="385" y="1366"/>
                </a:lnTo>
                <a:lnTo>
                  <a:pt x="387" y="1373"/>
                </a:lnTo>
                <a:lnTo>
                  <a:pt x="392" y="1379"/>
                </a:lnTo>
                <a:lnTo>
                  <a:pt x="393" y="1386"/>
                </a:lnTo>
                <a:lnTo>
                  <a:pt x="398" y="1392"/>
                </a:lnTo>
                <a:lnTo>
                  <a:pt x="400" y="1397"/>
                </a:lnTo>
                <a:lnTo>
                  <a:pt x="403" y="1401"/>
                </a:lnTo>
                <a:lnTo>
                  <a:pt x="405" y="1404"/>
                </a:lnTo>
                <a:lnTo>
                  <a:pt x="409" y="1409"/>
                </a:lnTo>
                <a:lnTo>
                  <a:pt x="411" y="1412"/>
                </a:lnTo>
                <a:lnTo>
                  <a:pt x="414" y="1417"/>
                </a:lnTo>
                <a:lnTo>
                  <a:pt x="418" y="1420"/>
                </a:lnTo>
                <a:lnTo>
                  <a:pt x="423" y="1425"/>
                </a:lnTo>
                <a:lnTo>
                  <a:pt x="426" y="1428"/>
                </a:lnTo>
                <a:lnTo>
                  <a:pt x="429" y="1432"/>
                </a:lnTo>
                <a:lnTo>
                  <a:pt x="434" y="1436"/>
                </a:lnTo>
                <a:lnTo>
                  <a:pt x="439" y="1441"/>
                </a:lnTo>
                <a:lnTo>
                  <a:pt x="442" y="1445"/>
                </a:lnTo>
                <a:lnTo>
                  <a:pt x="445" y="1448"/>
                </a:lnTo>
                <a:lnTo>
                  <a:pt x="450" y="1451"/>
                </a:lnTo>
                <a:lnTo>
                  <a:pt x="453" y="1456"/>
                </a:lnTo>
                <a:lnTo>
                  <a:pt x="457" y="1461"/>
                </a:lnTo>
                <a:lnTo>
                  <a:pt x="460" y="1466"/>
                </a:lnTo>
                <a:lnTo>
                  <a:pt x="463" y="1469"/>
                </a:lnTo>
                <a:lnTo>
                  <a:pt x="467" y="1474"/>
                </a:lnTo>
                <a:lnTo>
                  <a:pt x="470" y="1479"/>
                </a:lnTo>
                <a:lnTo>
                  <a:pt x="473" y="1484"/>
                </a:lnTo>
                <a:lnTo>
                  <a:pt x="475" y="1487"/>
                </a:lnTo>
                <a:lnTo>
                  <a:pt x="478" y="1492"/>
                </a:lnTo>
                <a:lnTo>
                  <a:pt x="480" y="1497"/>
                </a:lnTo>
                <a:lnTo>
                  <a:pt x="483" y="1502"/>
                </a:lnTo>
                <a:lnTo>
                  <a:pt x="484" y="1507"/>
                </a:lnTo>
                <a:lnTo>
                  <a:pt x="486" y="1510"/>
                </a:lnTo>
                <a:lnTo>
                  <a:pt x="488" y="1513"/>
                </a:lnTo>
                <a:lnTo>
                  <a:pt x="489" y="1518"/>
                </a:lnTo>
                <a:lnTo>
                  <a:pt x="491" y="1521"/>
                </a:lnTo>
                <a:lnTo>
                  <a:pt x="493" y="1524"/>
                </a:lnTo>
                <a:lnTo>
                  <a:pt x="494" y="1531"/>
                </a:lnTo>
                <a:lnTo>
                  <a:pt x="497" y="1538"/>
                </a:lnTo>
                <a:lnTo>
                  <a:pt x="497" y="1542"/>
                </a:lnTo>
                <a:lnTo>
                  <a:pt x="499" y="1546"/>
                </a:lnTo>
                <a:lnTo>
                  <a:pt x="501" y="1547"/>
                </a:lnTo>
                <a:lnTo>
                  <a:pt x="501" y="1549"/>
                </a:lnTo>
                <a:lnTo>
                  <a:pt x="440" y="1554"/>
                </a:lnTo>
                <a:lnTo>
                  <a:pt x="440" y="1554"/>
                </a:lnTo>
                <a:lnTo>
                  <a:pt x="439" y="1551"/>
                </a:lnTo>
                <a:lnTo>
                  <a:pt x="437" y="1547"/>
                </a:lnTo>
                <a:lnTo>
                  <a:pt x="436" y="1542"/>
                </a:lnTo>
                <a:lnTo>
                  <a:pt x="434" y="1536"/>
                </a:lnTo>
                <a:lnTo>
                  <a:pt x="431" y="1529"/>
                </a:lnTo>
                <a:lnTo>
                  <a:pt x="427" y="1523"/>
                </a:lnTo>
                <a:lnTo>
                  <a:pt x="424" y="1516"/>
                </a:lnTo>
                <a:lnTo>
                  <a:pt x="419" y="1510"/>
                </a:lnTo>
                <a:lnTo>
                  <a:pt x="414" y="1505"/>
                </a:lnTo>
                <a:lnTo>
                  <a:pt x="409" y="1500"/>
                </a:lnTo>
                <a:lnTo>
                  <a:pt x="403" y="1497"/>
                </a:lnTo>
                <a:lnTo>
                  <a:pt x="398" y="1493"/>
                </a:lnTo>
                <a:lnTo>
                  <a:pt x="395" y="1493"/>
                </a:lnTo>
                <a:lnTo>
                  <a:pt x="392" y="1492"/>
                </a:lnTo>
                <a:lnTo>
                  <a:pt x="388" y="1492"/>
                </a:lnTo>
                <a:lnTo>
                  <a:pt x="385" y="1492"/>
                </a:lnTo>
                <a:lnTo>
                  <a:pt x="380" y="1493"/>
                </a:lnTo>
                <a:lnTo>
                  <a:pt x="377" y="1495"/>
                </a:lnTo>
                <a:lnTo>
                  <a:pt x="372" y="1497"/>
                </a:lnTo>
                <a:lnTo>
                  <a:pt x="367" y="1500"/>
                </a:lnTo>
                <a:lnTo>
                  <a:pt x="362" y="1502"/>
                </a:lnTo>
                <a:lnTo>
                  <a:pt x="357" y="1505"/>
                </a:lnTo>
                <a:lnTo>
                  <a:pt x="354" y="1510"/>
                </a:lnTo>
                <a:lnTo>
                  <a:pt x="349" y="1513"/>
                </a:lnTo>
                <a:lnTo>
                  <a:pt x="346" y="1516"/>
                </a:lnTo>
                <a:lnTo>
                  <a:pt x="341" y="1521"/>
                </a:lnTo>
                <a:lnTo>
                  <a:pt x="338" y="1526"/>
                </a:lnTo>
                <a:lnTo>
                  <a:pt x="333" y="1531"/>
                </a:lnTo>
                <a:lnTo>
                  <a:pt x="330" y="1536"/>
                </a:lnTo>
                <a:lnTo>
                  <a:pt x="325" y="1541"/>
                </a:lnTo>
                <a:lnTo>
                  <a:pt x="321" y="1547"/>
                </a:lnTo>
                <a:lnTo>
                  <a:pt x="318" y="1552"/>
                </a:lnTo>
                <a:lnTo>
                  <a:pt x="315" y="1557"/>
                </a:lnTo>
                <a:lnTo>
                  <a:pt x="312" y="1562"/>
                </a:lnTo>
                <a:lnTo>
                  <a:pt x="308" y="1569"/>
                </a:lnTo>
                <a:lnTo>
                  <a:pt x="305" y="1573"/>
                </a:lnTo>
                <a:lnTo>
                  <a:pt x="302" y="1578"/>
                </a:lnTo>
                <a:lnTo>
                  <a:pt x="299" y="1583"/>
                </a:lnTo>
                <a:lnTo>
                  <a:pt x="297" y="1588"/>
                </a:lnTo>
                <a:lnTo>
                  <a:pt x="294" y="1591"/>
                </a:lnTo>
                <a:lnTo>
                  <a:pt x="292" y="1596"/>
                </a:lnTo>
                <a:lnTo>
                  <a:pt x="289" y="1601"/>
                </a:lnTo>
                <a:lnTo>
                  <a:pt x="289" y="1606"/>
                </a:lnTo>
                <a:lnTo>
                  <a:pt x="284" y="1611"/>
                </a:lnTo>
                <a:lnTo>
                  <a:pt x="282" y="1617"/>
                </a:lnTo>
                <a:lnTo>
                  <a:pt x="281" y="1621"/>
                </a:lnTo>
                <a:lnTo>
                  <a:pt x="281" y="1622"/>
                </a:lnTo>
                <a:lnTo>
                  <a:pt x="279" y="1622"/>
                </a:lnTo>
                <a:lnTo>
                  <a:pt x="279" y="1626"/>
                </a:lnTo>
                <a:lnTo>
                  <a:pt x="276" y="1627"/>
                </a:lnTo>
                <a:lnTo>
                  <a:pt x="276" y="1630"/>
                </a:lnTo>
                <a:lnTo>
                  <a:pt x="274" y="1634"/>
                </a:lnTo>
                <a:lnTo>
                  <a:pt x="273" y="1639"/>
                </a:lnTo>
                <a:lnTo>
                  <a:pt x="271" y="1642"/>
                </a:lnTo>
                <a:lnTo>
                  <a:pt x="269" y="1647"/>
                </a:lnTo>
                <a:lnTo>
                  <a:pt x="266" y="1652"/>
                </a:lnTo>
                <a:lnTo>
                  <a:pt x="266" y="1658"/>
                </a:lnTo>
                <a:lnTo>
                  <a:pt x="263" y="1665"/>
                </a:lnTo>
                <a:lnTo>
                  <a:pt x="261" y="1671"/>
                </a:lnTo>
                <a:lnTo>
                  <a:pt x="260" y="1675"/>
                </a:lnTo>
                <a:lnTo>
                  <a:pt x="260" y="1678"/>
                </a:lnTo>
                <a:lnTo>
                  <a:pt x="258" y="1683"/>
                </a:lnTo>
                <a:lnTo>
                  <a:pt x="258" y="1686"/>
                </a:lnTo>
                <a:lnTo>
                  <a:pt x="256" y="1689"/>
                </a:lnTo>
                <a:lnTo>
                  <a:pt x="256" y="1694"/>
                </a:lnTo>
                <a:lnTo>
                  <a:pt x="255" y="1697"/>
                </a:lnTo>
                <a:lnTo>
                  <a:pt x="255" y="1702"/>
                </a:lnTo>
                <a:lnTo>
                  <a:pt x="253" y="1705"/>
                </a:lnTo>
                <a:lnTo>
                  <a:pt x="253" y="1710"/>
                </a:lnTo>
                <a:lnTo>
                  <a:pt x="251" y="1715"/>
                </a:lnTo>
                <a:lnTo>
                  <a:pt x="251" y="1720"/>
                </a:lnTo>
                <a:lnTo>
                  <a:pt x="251" y="1723"/>
                </a:lnTo>
                <a:lnTo>
                  <a:pt x="251" y="1730"/>
                </a:lnTo>
                <a:lnTo>
                  <a:pt x="250" y="1733"/>
                </a:lnTo>
                <a:lnTo>
                  <a:pt x="250" y="1740"/>
                </a:lnTo>
                <a:lnTo>
                  <a:pt x="250" y="1745"/>
                </a:lnTo>
                <a:lnTo>
                  <a:pt x="250" y="1750"/>
                </a:lnTo>
                <a:lnTo>
                  <a:pt x="250" y="1754"/>
                </a:lnTo>
                <a:lnTo>
                  <a:pt x="250" y="1761"/>
                </a:lnTo>
                <a:lnTo>
                  <a:pt x="250" y="1766"/>
                </a:lnTo>
                <a:lnTo>
                  <a:pt x="250" y="1771"/>
                </a:lnTo>
                <a:lnTo>
                  <a:pt x="250" y="1777"/>
                </a:lnTo>
                <a:lnTo>
                  <a:pt x="250" y="1782"/>
                </a:lnTo>
                <a:lnTo>
                  <a:pt x="250" y="1789"/>
                </a:lnTo>
                <a:lnTo>
                  <a:pt x="250" y="1794"/>
                </a:lnTo>
                <a:lnTo>
                  <a:pt x="251" y="1800"/>
                </a:lnTo>
                <a:lnTo>
                  <a:pt x="251" y="1807"/>
                </a:lnTo>
                <a:lnTo>
                  <a:pt x="251" y="1813"/>
                </a:lnTo>
                <a:lnTo>
                  <a:pt x="253" y="1818"/>
                </a:lnTo>
                <a:lnTo>
                  <a:pt x="255" y="1825"/>
                </a:lnTo>
                <a:lnTo>
                  <a:pt x="255" y="1833"/>
                </a:lnTo>
                <a:lnTo>
                  <a:pt x="256" y="1838"/>
                </a:lnTo>
                <a:lnTo>
                  <a:pt x="258" y="1844"/>
                </a:lnTo>
                <a:lnTo>
                  <a:pt x="260" y="1851"/>
                </a:lnTo>
                <a:lnTo>
                  <a:pt x="261" y="1859"/>
                </a:lnTo>
                <a:lnTo>
                  <a:pt x="216" y="1875"/>
                </a:lnTo>
                <a:lnTo>
                  <a:pt x="216" y="1873"/>
                </a:lnTo>
                <a:lnTo>
                  <a:pt x="214" y="1870"/>
                </a:lnTo>
                <a:lnTo>
                  <a:pt x="212" y="1869"/>
                </a:lnTo>
                <a:lnTo>
                  <a:pt x="212" y="1865"/>
                </a:lnTo>
                <a:lnTo>
                  <a:pt x="211" y="1862"/>
                </a:lnTo>
                <a:lnTo>
                  <a:pt x="211" y="1859"/>
                </a:lnTo>
                <a:lnTo>
                  <a:pt x="207" y="1854"/>
                </a:lnTo>
                <a:lnTo>
                  <a:pt x="207" y="1849"/>
                </a:lnTo>
                <a:lnTo>
                  <a:pt x="206" y="1842"/>
                </a:lnTo>
                <a:lnTo>
                  <a:pt x="204" y="1838"/>
                </a:lnTo>
                <a:lnTo>
                  <a:pt x="203" y="1831"/>
                </a:lnTo>
                <a:lnTo>
                  <a:pt x="203" y="1825"/>
                </a:lnTo>
                <a:lnTo>
                  <a:pt x="201" y="1818"/>
                </a:lnTo>
                <a:lnTo>
                  <a:pt x="201" y="1811"/>
                </a:lnTo>
                <a:lnTo>
                  <a:pt x="199" y="1807"/>
                </a:lnTo>
                <a:lnTo>
                  <a:pt x="199" y="1802"/>
                </a:lnTo>
                <a:lnTo>
                  <a:pt x="198" y="1798"/>
                </a:lnTo>
                <a:lnTo>
                  <a:pt x="198" y="1794"/>
                </a:lnTo>
                <a:lnTo>
                  <a:pt x="198" y="1789"/>
                </a:lnTo>
                <a:lnTo>
                  <a:pt x="198" y="1784"/>
                </a:lnTo>
                <a:lnTo>
                  <a:pt x="198" y="1781"/>
                </a:lnTo>
                <a:lnTo>
                  <a:pt x="198" y="1776"/>
                </a:lnTo>
                <a:lnTo>
                  <a:pt x="198" y="1771"/>
                </a:lnTo>
                <a:lnTo>
                  <a:pt x="198" y="1766"/>
                </a:lnTo>
                <a:lnTo>
                  <a:pt x="198" y="1761"/>
                </a:lnTo>
                <a:lnTo>
                  <a:pt x="198" y="1756"/>
                </a:lnTo>
                <a:lnTo>
                  <a:pt x="198" y="1751"/>
                </a:lnTo>
                <a:lnTo>
                  <a:pt x="198" y="1746"/>
                </a:lnTo>
                <a:lnTo>
                  <a:pt x="198" y="1740"/>
                </a:lnTo>
                <a:lnTo>
                  <a:pt x="198" y="1736"/>
                </a:lnTo>
                <a:lnTo>
                  <a:pt x="198" y="1730"/>
                </a:lnTo>
                <a:lnTo>
                  <a:pt x="198" y="1723"/>
                </a:lnTo>
                <a:lnTo>
                  <a:pt x="199" y="1719"/>
                </a:lnTo>
                <a:lnTo>
                  <a:pt x="199" y="1712"/>
                </a:lnTo>
                <a:lnTo>
                  <a:pt x="201" y="1705"/>
                </a:lnTo>
                <a:lnTo>
                  <a:pt x="201" y="1701"/>
                </a:lnTo>
                <a:lnTo>
                  <a:pt x="203" y="1694"/>
                </a:lnTo>
                <a:lnTo>
                  <a:pt x="204" y="1688"/>
                </a:lnTo>
                <a:lnTo>
                  <a:pt x="204" y="1681"/>
                </a:lnTo>
                <a:lnTo>
                  <a:pt x="206" y="1675"/>
                </a:lnTo>
                <a:lnTo>
                  <a:pt x="207" y="1668"/>
                </a:lnTo>
                <a:lnTo>
                  <a:pt x="209" y="1663"/>
                </a:lnTo>
                <a:lnTo>
                  <a:pt x="211" y="1657"/>
                </a:lnTo>
                <a:lnTo>
                  <a:pt x="212" y="1650"/>
                </a:lnTo>
                <a:lnTo>
                  <a:pt x="214" y="1644"/>
                </a:lnTo>
                <a:lnTo>
                  <a:pt x="216" y="1637"/>
                </a:lnTo>
                <a:lnTo>
                  <a:pt x="217" y="1629"/>
                </a:lnTo>
                <a:lnTo>
                  <a:pt x="219" y="1622"/>
                </a:lnTo>
                <a:lnTo>
                  <a:pt x="220" y="1616"/>
                </a:lnTo>
                <a:lnTo>
                  <a:pt x="224" y="1611"/>
                </a:lnTo>
                <a:lnTo>
                  <a:pt x="225" y="1604"/>
                </a:lnTo>
                <a:lnTo>
                  <a:pt x="227" y="1598"/>
                </a:lnTo>
                <a:lnTo>
                  <a:pt x="229" y="1591"/>
                </a:lnTo>
                <a:lnTo>
                  <a:pt x="230" y="1586"/>
                </a:lnTo>
                <a:lnTo>
                  <a:pt x="232" y="1582"/>
                </a:lnTo>
                <a:lnTo>
                  <a:pt x="233" y="1575"/>
                </a:lnTo>
                <a:lnTo>
                  <a:pt x="235" y="1569"/>
                </a:lnTo>
                <a:lnTo>
                  <a:pt x="238" y="1565"/>
                </a:lnTo>
                <a:lnTo>
                  <a:pt x="238" y="1559"/>
                </a:lnTo>
                <a:lnTo>
                  <a:pt x="242" y="1554"/>
                </a:lnTo>
                <a:lnTo>
                  <a:pt x="243" y="1549"/>
                </a:lnTo>
                <a:lnTo>
                  <a:pt x="245" y="1544"/>
                </a:lnTo>
                <a:lnTo>
                  <a:pt x="247" y="1539"/>
                </a:lnTo>
                <a:lnTo>
                  <a:pt x="248" y="1534"/>
                </a:lnTo>
                <a:lnTo>
                  <a:pt x="248" y="1529"/>
                </a:lnTo>
                <a:lnTo>
                  <a:pt x="251" y="1526"/>
                </a:lnTo>
                <a:lnTo>
                  <a:pt x="251" y="1521"/>
                </a:lnTo>
                <a:lnTo>
                  <a:pt x="255" y="1516"/>
                </a:lnTo>
                <a:lnTo>
                  <a:pt x="255" y="1513"/>
                </a:lnTo>
                <a:lnTo>
                  <a:pt x="258" y="1510"/>
                </a:lnTo>
                <a:lnTo>
                  <a:pt x="258" y="1505"/>
                </a:lnTo>
                <a:lnTo>
                  <a:pt x="260" y="1502"/>
                </a:lnTo>
                <a:lnTo>
                  <a:pt x="261" y="1497"/>
                </a:lnTo>
                <a:lnTo>
                  <a:pt x="263" y="1493"/>
                </a:lnTo>
                <a:lnTo>
                  <a:pt x="264" y="1485"/>
                </a:lnTo>
                <a:lnTo>
                  <a:pt x="268" y="1480"/>
                </a:lnTo>
                <a:lnTo>
                  <a:pt x="269" y="1472"/>
                </a:lnTo>
                <a:lnTo>
                  <a:pt x="271" y="1467"/>
                </a:lnTo>
                <a:lnTo>
                  <a:pt x="273" y="1461"/>
                </a:lnTo>
                <a:lnTo>
                  <a:pt x="273" y="1456"/>
                </a:lnTo>
                <a:lnTo>
                  <a:pt x="274" y="1449"/>
                </a:lnTo>
                <a:lnTo>
                  <a:pt x="274" y="1445"/>
                </a:lnTo>
                <a:lnTo>
                  <a:pt x="276" y="1440"/>
                </a:lnTo>
                <a:lnTo>
                  <a:pt x="276" y="1436"/>
                </a:lnTo>
                <a:lnTo>
                  <a:pt x="276" y="1432"/>
                </a:lnTo>
                <a:lnTo>
                  <a:pt x="274" y="1427"/>
                </a:lnTo>
                <a:lnTo>
                  <a:pt x="274" y="1423"/>
                </a:lnTo>
                <a:lnTo>
                  <a:pt x="273" y="1420"/>
                </a:lnTo>
                <a:lnTo>
                  <a:pt x="271" y="1415"/>
                </a:lnTo>
                <a:lnTo>
                  <a:pt x="269" y="1412"/>
                </a:lnTo>
                <a:lnTo>
                  <a:pt x="268" y="1409"/>
                </a:lnTo>
                <a:lnTo>
                  <a:pt x="266" y="1405"/>
                </a:lnTo>
                <a:lnTo>
                  <a:pt x="260" y="1399"/>
                </a:lnTo>
                <a:lnTo>
                  <a:pt x="251" y="1394"/>
                </a:lnTo>
                <a:lnTo>
                  <a:pt x="248" y="1392"/>
                </a:lnTo>
                <a:lnTo>
                  <a:pt x="245" y="1391"/>
                </a:lnTo>
                <a:lnTo>
                  <a:pt x="240" y="1389"/>
                </a:lnTo>
                <a:lnTo>
                  <a:pt x="237" y="1389"/>
                </a:lnTo>
                <a:lnTo>
                  <a:pt x="233" y="1389"/>
                </a:lnTo>
                <a:lnTo>
                  <a:pt x="229" y="1389"/>
                </a:lnTo>
                <a:lnTo>
                  <a:pt x="225" y="1389"/>
                </a:lnTo>
                <a:lnTo>
                  <a:pt x="222" y="1389"/>
                </a:lnTo>
                <a:lnTo>
                  <a:pt x="219" y="1389"/>
                </a:lnTo>
                <a:lnTo>
                  <a:pt x="214" y="1389"/>
                </a:lnTo>
                <a:lnTo>
                  <a:pt x="211" y="1391"/>
                </a:lnTo>
                <a:lnTo>
                  <a:pt x="207" y="1392"/>
                </a:lnTo>
                <a:lnTo>
                  <a:pt x="204" y="1392"/>
                </a:lnTo>
                <a:lnTo>
                  <a:pt x="199" y="1394"/>
                </a:lnTo>
                <a:lnTo>
                  <a:pt x="196" y="1394"/>
                </a:lnTo>
                <a:lnTo>
                  <a:pt x="194" y="1396"/>
                </a:lnTo>
                <a:lnTo>
                  <a:pt x="188" y="1397"/>
                </a:lnTo>
                <a:lnTo>
                  <a:pt x="183" y="1401"/>
                </a:lnTo>
                <a:lnTo>
                  <a:pt x="178" y="1402"/>
                </a:lnTo>
                <a:lnTo>
                  <a:pt x="175" y="1404"/>
                </a:lnTo>
                <a:lnTo>
                  <a:pt x="173" y="1405"/>
                </a:lnTo>
                <a:lnTo>
                  <a:pt x="173" y="1405"/>
                </a:lnTo>
                <a:lnTo>
                  <a:pt x="172" y="1405"/>
                </a:lnTo>
                <a:lnTo>
                  <a:pt x="170" y="1407"/>
                </a:lnTo>
                <a:lnTo>
                  <a:pt x="167" y="1409"/>
                </a:lnTo>
                <a:lnTo>
                  <a:pt x="162" y="1412"/>
                </a:lnTo>
                <a:lnTo>
                  <a:pt x="155" y="1417"/>
                </a:lnTo>
                <a:lnTo>
                  <a:pt x="149" y="1423"/>
                </a:lnTo>
                <a:lnTo>
                  <a:pt x="145" y="1425"/>
                </a:lnTo>
                <a:lnTo>
                  <a:pt x="142" y="1430"/>
                </a:lnTo>
                <a:lnTo>
                  <a:pt x="137" y="1435"/>
                </a:lnTo>
                <a:lnTo>
                  <a:pt x="134" y="1440"/>
                </a:lnTo>
                <a:lnTo>
                  <a:pt x="129" y="1445"/>
                </a:lnTo>
                <a:lnTo>
                  <a:pt x="126" y="1449"/>
                </a:lnTo>
                <a:lnTo>
                  <a:pt x="121" y="1454"/>
                </a:lnTo>
                <a:lnTo>
                  <a:pt x="116" y="1463"/>
                </a:lnTo>
                <a:lnTo>
                  <a:pt x="115" y="1466"/>
                </a:lnTo>
                <a:lnTo>
                  <a:pt x="113" y="1469"/>
                </a:lnTo>
                <a:lnTo>
                  <a:pt x="110" y="1472"/>
                </a:lnTo>
                <a:lnTo>
                  <a:pt x="108" y="1477"/>
                </a:lnTo>
                <a:lnTo>
                  <a:pt x="106" y="1480"/>
                </a:lnTo>
                <a:lnTo>
                  <a:pt x="103" y="1485"/>
                </a:lnTo>
                <a:lnTo>
                  <a:pt x="101" y="1490"/>
                </a:lnTo>
                <a:lnTo>
                  <a:pt x="100" y="1493"/>
                </a:lnTo>
                <a:lnTo>
                  <a:pt x="97" y="1498"/>
                </a:lnTo>
                <a:lnTo>
                  <a:pt x="95" y="1503"/>
                </a:lnTo>
                <a:lnTo>
                  <a:pt x="93" y="1507"/>
                </a:lnTo>
                <a:lnTo>
                  <a:pt x="92" y="1513"/>
                </a:lnTo>
                <a:lnTo>
                  <a:pt x="88" y="1518"/>
                </a:lnTo>
                <a:lnTo>
                  <a:pt x="87" y="1523"/>
                </a:lnTo>
                <a:lnTo>
                  <a:pt x="85" y="1529"/>
                </a:lnTo>
                <a:lnTo>
                  <a:pt x="84" y="1534"/>
                </a:lnTo>
                <a:lnTo>
                  <a:pt x="82" y="1541"/>
                </a:lnTo>
                <a:lnTo>
                  <a:pt x="79" y="1546"/>
                </a:lnTo>
                <a:lnTo>
                  <a:pt x="77" y="1552"/>
                </a:lnTo>
                <a:lnTo>
                  <a:pt x="75" y="1559"/>
                </a:lnTo>
                <a:lnTo>
                  <a:pt x="74" y="1565"/>
                </a:lnTo>
                <a:lnTo>
                  <a:pt x="71" y="1572"/>
                </a:lnTo>
                <a:lnTo>
                  <a:pt x="71" y="1578"/>
                </a:lnTo>
                <a:lnTo>
                  <a:pt x="69" y="1585"/>
                </a:lnTo>
                <a:lnTo>
                  <a:pt x="0" y="1570"/>
                </a:lnTo>
                <a:lnTo>
                  <a:pt x="0" y="1569"/>
                </a:lnTo>
                <a:lnTo>
                  <a:pt x="2" y="1562"/>
                </a:lnTo>
                <a:lnTo>
                  <a:pt x="4" y="1559"/>
                </a:lnTo>
                <a:lnTo>
                  <a:pt x="5" y="1554"/>
                </a:lnTo>
                <a:lnTo>
                  <a:pt x="7" y="1549"/>
                </a:lnTo>
                <a:lnTo>
                  <a:pt x="10" y="1544"/>
                </a:lnTo>
                <a:lnTo>
                  <a:pt x="13" y="1538"/>
                </a:lnTo>
                <a:lnTo>
                  <a:pt x="17" y="1531"/>
                </a:lnTo>
                <a:lnTo>
                  <a:pt x="18" y="1526"/>
                </a:lnTo>
                <a:lnTo>
                  <a:pt x="20" y="1523"/>
                </a:lnTo>
                <a:lnTo>
                  <a:pt x="22" y="1520"/>
                </a:lnTo>
                <a:lnTo>
                  <a:pt x="25" y="1516"/>
                </a:lnTo>
                <a:lnTo>
                  <a:pt x="27" y="1511"/>
                </a:lnTo>
                <a:lnTo>
                  <a:pt x="28" y="1507"/>
                </a:lnTo>
                <a:lnTo>
                  <a:pt x="30" y="1503"/>
                </a:lnTo>
                <a:lnTo>
                  <a:pt x="31" y="1500"/>
                </a:lnTo>
                <a:lnTo>
                  <a:pt x="35" y="1495"/>
                </a:lnTo>
                <a:lnTo>
                  <a:pt x="36" y="1490"/>
                </a:lnTo>
                <a:lnTo>
                  <a:pt x="40" y="1485"/>
                </a:lnTo>
                <a:lnTo>
                  <a:pt x="43" y="1482"/>
                </a:lnTo>
                <a:lnTo>
                  <a:pt x="44" y="1477"/>
                </a:lnTo>
                <a:lnTo>
                  <a:pt x="48" y="1472"/>
                </a:lnTo>
                <a:lnTo>
                  <a:pt x="49" y="1467"/>
                </a:lnTo>
                <a:lnTo>
                  <a:pt x="53" y="1463"/>
                </a:lnTo>
                <a:lnTo>
                  <a:pt x="54" y="1458"/>
                </a:lnTo>
                <a:lnTo>
                  <a:pt x="57" y="1454"/>
                </a:lnTo>
                <a:lnTo>
                  <a:pt x="61" y="1448"/>
                </a:lnTo>
                <a:lnTo>
                  <a:pt x="64" y="1445"/>
                </a:lnTo>
                <a:lnTo>
                  <a:pt x="67" y="1440"/>
                </a:lnTo>
                <a:lnTo>
                  <a:pt x="71" y="1435"/>
                </a:lnTo>
                <a:lnTo>
                  <a:pt x="74" y="1430"/>
                </a:lnTo>
                <a:lnTo>
                  <a:pt x="77" y="1425"/>
                </a:lnTo>
                <a:lnTo>
                  <a:pt x="80" y="1422"/>
                </a:lnTo>
                <a:lnTo>
                  <a:pt x="84" y="1417"/>
                </a:lnTo>
                <a:lnTo>
                  <a:pt x="87" y="1412"/>
                </a:lnTo>
                <a:lnTo>
                  <a:pt x="92" y="1407"/>
                </a:lnTo>
                <a:lnTo>
                  <a:pt x="95" y="1404"/>
                </a:lnTo>
                <a:lnTo>
                  <a:pt x="98" y="1399"/>
                </a:lnTo>
                <a:lnTo>
                  <a:pt x="101" y="1394"/>
                </a:lnTo>
                <a:lnTo>
                  <a:pt x="106" y="1389"/>
                </a:lnTo>
                <a:lnTo>
                  <a:pt x="110" y="1386"/>
                </a:lnTo>
                <a:lnTo>
                  <a:pt x="113" y="1381"/>
                </a:lnTo>
                <a:lnTo>
                  <a:pt x="118" y="1378"/>
                </a:lnTo>
                <a:lnTo>
                  <a:pt x="121" y="1373"/>
                </a:lnTo>
                <a:lnTo>
                  <a:pt x="126" y="1370"/>
                </a:lnTo>
                <a:lnTo>
                  <a:pt x="129" y="1366"/>
                </a:lnTo>
                <a:lnTo>
                  <a:pt x="132" y="1361"/>
                </a:lnTo>
                <a:lnTo>
                  <a:pt x="137" y="1358"/>
                </a:lnTo>
                <a:lnTo>
                  <a:pt x="142" y="1355"/>
                </a:lnTo>
                <a:lnTo>
                  <a:pt x="147" y="1352"/>
                </a:lnTo>
                <a:lnTo>
                  <a:pt x="150" y="1348"/>
                </a:lnTo>
                <a:lnTo>
                  <a:pt x="155" y="1345"/>
                </a:lnTo>
                <a:lnTo>
                  <a:pt x="160" y="1342"/>
                </a:lnTo>
                <a:lnTo>
                  <a:pt x="163" y="1339"/>
                </a:lnTo>
                <a:lnTo>
                  <a:pt x="167" y="1335"/>
                </a:lnTo>
                <a:lnTo>
                  <a:pt x="172" y="1334"/>
                </a:lnTo>
                <a:lnTo>
                  <a:pt x="178" y="1327"/>
                </a:lnTo>
                <a:lnTo>
                  <a:pt x="185" y="1322"/>
                </a:lnTo>
                <a:lnTo>
                  <a:pt x="191" y="1316"/>
                </a:lnTo>
                <a:lnTo>
                  <a:pt x="196" y="1311"/>
                </a:lnTo>
                <a:lnTo>
                  <a:pt x="201" y="1306"/>
                </a:lnTo>
                <a:lnTo>
                  <a:pt x="206" y="1301"/>
                </a:lnTo>
                <a:lnTo>
                  <a:pt x="209" y="1296"/>
                </a:lnTo>
                <a:lnTo>
                  <a:pt x="212" y="1291"/>
                </a:lnTo>
                <a:lnTo>
                  <a:pt x="216" y="1286"/>
                </a:lnTo>
                <a:lnTo>
                  <a:pt x="219" y="1282"/>
                </a:lnTo>
                <a:lnTo>
                  <a:pt x="220" y="1278"/>
                </a:lnTo>
                <a:lnTo>
                  <a:pt x="222" y="1273"/>
                </a:lnTo>
                <a:lnTo>
                  <a:pt x="224" y="1270"/>
                </a:lnTo>
                <a:lnTo>
                  <a:pt x="225" y="1267"/>
                </a:lnTo>
                <a:lnTo>
                  <a:pt x="225" y="1264"/>
                </a:lnTo>
                <a:lnTo>
                  <a:pt x="227" y="1260"/>
                </a:lnTo>
                <a:lnTo>
                  <a:pt x="227" y="1257"/>
                </a:lnTo>
                <a:lnTo>
                  <a:pt x="227" y="1254"/>
                </a:lnTo>
                <a:lnTo>
                  <a:pt x="227" y="1249"/>
                </a:lnTo>
                <a:lnTo>
                  <a:pt x="227" y="1244"/>
                </a:lnTo>
                <a:lnTo>
                  <a:pt x="225" y="1239"/>
                </a:lnTo>
                <a:lnTo>
                  <a:pt x="225" y="1237"/>
                </a:lnTo>
                <a:lnTo>
                  <a:pt x="224" y="1236"/>
                </a:lnTo>
                <a:lnTo>
                  <a:pt x="220" y="1233"/>
                </a:lnTo>
                <a:lnTo>
                  <a:pt x="216" y="1229"/>
                </a:lnTo>
                <a:lnTo>
                  <a:pt x="211" y="1229"/>
                </a:lnTo>
                <a:lnTo>
                  <a:pt x="207" y="1229"/>
                </a:lnTo>
                <a:lnTo>
                  <a:pt x="203" y="1231"/>
                </a:lnTo>
                <a:lnTo>
                  <a:pt x="198" y="1233"/>
                </a:lnTo>
                <a:lnTo>
                  <a:pt x="194" y="1234"/>
                </a:lnTo>
                <a:lnTo>
                  <a:pt x="191" y="1236"/>
                </a:lnTo>
                <a:lnTo>
                  <a:pt x="188" y="1236"/>
                </a:lnTo>
                <a:lnTo>
                  <a:pt x="183" y="1239"/>
                </a:lnTo>
                <a:lnTo>
                  <a:pt x="180" y="1241"/>
                </a:lnTo>
                <a:lnTo>
                  <a:pt x="175" y="1242"/>
                </a:lnTo>
                <a:lnTo>
                  <a:pt x="170" y="1246"/>
                </a:lnTo>
                <a:lnTo>
                  <a:pt x="165" y="1249"/>
                </a:lnTo>
                <a:lnTo>
                  <a:pt x="160" y="1252"/>
                </a:lnTo>
                <a:lnTo>
                  <a:pt x="154" y="1255"/>
                </a:lnTo>
                <a:lnTo>
                  <a:pt x="147" y="1259"/>
                </a:lnTo>
                <a:lnTo>
                  <a:pt x="141" y="1260"/>
                </a:lnTo>
                <a:lnTo>
                  <a:pt x="136" y="1265"/>
                </a:lnTo>
                <a:lnTo>
                  <a:pt x="129" y="1268"/>
                </a:lnTo>
                <a:lnTo>
                  <a:pt x="123" y="1272"/>
                </a:lnTo>
                <a:lnTo>
                  <a:pt x="116" y="1277"/>
                </a:lnTo>
                <a:lnTo>
                  <a:pt x="110" y="1280"/>
                </a:lnTo>
                <a:lnTo>
                  <a:pt x="103" y="1283"/>
                </a:lnTo>
                <a:lnTo>
                  <a:pt x="97" y="1286"/>
                </a:lnTo>
                <a:lnTo>
                  <a:pt x="90" y="1290"/>
                </a:lnTo>
                <a:lnTo>
                  <a:pt x="85" y="1295"/>
                </a:lnTo>
                <a:lnTo>
                  <a:pt x="79" y="1296"/>
                </a:lnTo>
                <a:lnTo>
                  <a:pt x="74" y="1299"/>
                </a:lnTo>
                <a:lnTo>
                  <a:pt x="69" y="1303"/>
                </a:lnTo>
                <a:lnTo>
                  <a:pt x="66" y="1306"/>
                </a:lnTo>
                <a:lnTo>
                  <a:pt x="61" y="1308"/>
                </a:lnTo>
                <a:lnTo>
                  <a:pt x="56" y="1311"/>
                </a:lnTo>
                <a:lnTo>
                  <a:pt x="53" y="1312"/>
                </a:lnTo>
                <a:lnTo>
                  <a:pt x="51" y="1314"/>
                </a:lnTo>
                <a:lnTo>
                  <a:pt x="46" y="1316"/>
                </a:lnTo>
                <a:lnTo>
                  <a:pt x="46" y="1317"/>
                </a:lnTo>
                <a:lnTo>
                  <a:pt x="7" y="1282"/>
                </a:lnTo>
                <a:lnTo>
                  <a:pt x="7" y="1280"/>
                </a:lnTo>
                <a:lnTo>
                  <a:pt x="10" y="1277"/>
                </a:lnTo>
                <a:lnTo>
                  <a:pt x="13" y="1273"/>
                </a:lnTo>
                <a:lnTo>
                  <a:pt x="17" y="1272"/>
                </a:lnTo>
                <a:lnTo>
                  <a:pt x="20" y="1268"/>
                </a:lnTo>
                <a:lnTo>
                  <a:pt x="23" y="1265"/>
                </a:lnTo>
                <a:lnTo>
                  <a:pt x="27" y="1260"/>
                </a:lnTo>
                <a:lnTo>
                  <a:pt x="31" y="1257"/>
                </a:lnTo>
                <a:lnTo>
                  <a:pt x="36" y="1252"/>
                </a:lnTo>
                <a:lnTo>
                  <a:pt x="43" y="1249"/>
                </a:lnTo>
                <a:lnTo>
                  <a:pt x="48" y="1242"/>
                </a:lnTo>
                <a:lnTo>
                  <a:pt x="54" y="1239"/>
                </a:lnTo>
                <a:lnTo>
                  <a:pt x="61" y="1233"/>
                </a:lnTo>
                <a:lnTo>
                  <a:pt x="67" y="1229"/>
                </a:lnTo>
                <a:lnTo>
                  <a:pt x="75" y="1223"/>
                </a:lnTo>
                <a:lnTo>
                  <a:pt x="82" y="1218"/>
                </a:lnTo>
                <a:lnTo>
                  <a:pt x="85" y="1215"/>
                </a:lnTo>
                <a:lnTo>
                  <a:pt x="88" y="1211"/>
                </a:lnTo>
                <a:lnTo>
                  <a:pt x="93" y="1208"/>
                </a:lnTo>
                <a:lnTo>
                  <a:pt x="97" y="1206"/>
                </a:lnTo>
                <a:lnTo>
                  <a:pt x="101" y="1203"/>
                </a:lnTo>
                <a:lnTo>
                  <a:pt x="105" y="1200"/>
                </a:lnTo>
                <a:lnTo>
                  <a:pt x="110" y="1198"/>
                </a:lnTo>
                <a:lnTo>
                  <a:pt x="113" y="1195"/>
                </a:lnTo>
                <a:lnTo>
                  <a:pt x="116" y="1192"/>
                </a:lnTo>
                <a:lnTo>
                  <a:pt x="121" y="1190"/>
                </a:lnTo>
                <a:lnTo>
                  <a:pt x="126" y="1187"/>
                </a:lnTo>
                <a:lnTo>
                  <a:pt x="131" y="1185"/>
                </a:lnTo>
                <a:lnTo>
                  <a:pt x="134" y="1182"/>
                </a:lnTo>
                <a:lnTo>
                  <a:pt x="139" y="1179"/>
                </a:lnTo>
                <a:lnTo>
                  <a:pt x="142" y="1177"/>
                </a:lnTo>
                <a:lnTo>
                  <a:pt x="147" y="1174"/>
                </a:lnTo>
                <a:lnTo>
                  <a:pt x="152" y="1171"/>
                </a:lnTo>
                <a:lnTo>
                  <a:pt x="157" y="1169"/>
                </a:lnTo>
                <a:lnTo>
                  <a:pt x="160" y="1167"/>
                </a:lnTo>
                <a:lnTo>
                  <a:pt x="165" y="1164"/>
                </a:lnTo>
                <a:lnTo>
                  <a:pt x="170" y="1162"/>
                </a:lnTo>
                <a:lnTo>
                  <a:pt x="173" y="1161"/>
                </a:lnTo>
                <a:lnTo>
                  <a:pt x="178" y="1158"/>
                </a:lnTo>
                <a:lnTo>
                  <a:pt x="183" y="1156"/>
                </a:lnTo>
                <a:lnTo>
                  <a:pt x="188" y="1154"/>
                </a:lnTo>
                <a:lnTo>
                  <a:pt x="193" y="1153"/>
                </a:lnTo>
                <a:lnTo>
                  <a:pt x="198" y="1151"/>
                </a:lnTo>
                <a:lnTo>
                  <a:pt x="203" y="1149"/>
                </a:lnTo>
                <a:lnTo>
                  <a:pt x="206" y="1146"/>
                </a:lnTo>
                <a:lnTo>
                  <a:pt x="211" y="1145"/>
                </a:lnTo>
                <a:lnTo>
                  <a:pt x="214" y="1143"/>
                </a:lnTo>
                <a:lnTo>
                  <a:pt x="219" y="1141"/>
                </a:lnTo>
                <a:lnTo>
                  <a:pt x="220" y="1140"/>
                </a:lnTo>
                <a:lnTo>
                  <a:pt x="225" y="1136"/>
                </a:lnTo>
                <a:lnTo>
                  <a:pt x="229" y="1135"/>
                </a:lnTo>
                <a:lnTo>
                  <a:pt x="233" y="1133"/>
                </a:lnTo>
                <a:lnTo>
                  <a:pt x="240" y="1128"/>
                </a:lnTo>
                <a:lnTo>
                  <a:pt x="247" y="1125"/>
                </a:lnTo>
                <a:lnTo>
                  <a:pt x="253" y="1120"/>
                </a:lnTo>
                <a:lnTo>
                  <a:pt x="260" y="1115"/>
                </a:lnTo>
                <a:lnTo>
                  <a:pt x="263" y="1110"/>
                </a:lnTo>
                <a:lnTo>
                  <a:pt x="269" y="1105"/>
                </a:lnTo>
                <a:lnTo>
                  <a:pt x="273" y="1102"/>
                </a:lnTo>
                <a:lnTo>
                  <a:pt x="279" y="1097"/>
                </a:lnTo>
                <a:lnTo>
                  <a:pt x="282" y="1092"/>
                </a:lnTo>
                <a:lnTo>
                  <a:pt x="286" y="1087"/>
                </a:lnTo>
                <a:lnTo>
                  <a:pt x="289" y="1083"/>
                </a:lnTo>
                <a:lnTo>
                  <a:pt x="292" y="1079"/>
                </a:lnTo>
                <a:lnTo>
                  <a:pt x="295" y="1074"/>
                </a:lnTo>
                <a:lnTo>
                  <a:pt x="299" y="1070"/>
                </a:lnTo>
                <a:lnTo>
                  <a:pt x="300" y="1066"/>
                </a:lnTo>
                <a:lnTo>
                  <a:pt x="302" y="1061"/>
                </a:lnTo>
                <a:lnTo>
                  <a:pt x="304" y="1058"/>
                </a:lnTo>
                <a:lnTo>
                  <a:pt x="307" y="1055"/>
                </a:lnTo>
                <a:lnTo>
                  <a:pt x="307" y="1050"/>
                </a:lnTo>
                <a:lnTo>
                  <a:pt x="310" y="1047"/>
                </a:lnTo>
                <a:lnTo>
                  <a:pt x="310" y="1040"/>
                </a:lnTo>
                <a:lnTo>
                  <a:pt x="312" y="1037"/>
                </a:lnTo>
                <a:lnTo>
                  <a:pt x="313" y="1032"/>
                </a:lnTo>
                <a:lnTo>
                  <a:pt x="313" y="1030"/>
                </a:lnTo>
                <a:lnTo>
                  <a:pt x="313" y="1027"/>
                </a:lnTo>
                <a:lnTo>
                  <a:pt x="313" y="1024"/>
                </a:lnTo>
                <a:lnTo>
                  <a:pt x="313" y="1021"/>
                </a:lnTo>
                <a:lnTo>
                  <a:pt x="313" y="1016"/>
                </a:lnTo>
                <a:lnTo>
                  <a:pt x="313" y="1009"/>
                </a:lnTo>
                <a:lnTo>
                  <a:pt x="313" y="1003"/>
                </a:lnTo>
                <a:lnTo>
                  <a:pt x="312" y="999"/>
                </a:lnTo>
                <a:lnTo>
                  <a:pt x="312" y="996"/>
                </a:lnTo>
                <a:lnTo>
                  <a:pt x="310" y="991"/>
                </a:lnTo>
                <a:lnTo>
                  <a:pt x="310" y="988"/>
                </a:lnTo>
                <a:lnTo>
                  <a:pt x="308" y="983"/>
                </a:lnTo>
                <a:lnTo>
                  <a:pt x="307" y="978"/>
                </a:lnTo>
                <a:lnTo>
                  <a:pt x="305" y="973"/>
                </a:lnTo>
                <a:lnTo>
                  <a:pt x="304" y="968"/>
                </a:lnTo>
                <a:lnTo>
                  <a:pt x="300" y="964"/>
                </a:lnTo>
                <a:lnTo>
                  <a:pt x="299" y="959"/>
                </a:lnTo>
                <a:lnTo>
                  <a:pt x="295" y="952"/>
                </a:lnTo>
                <a:lnTo>
                  <a:pt x="292" y="947"/>
                </a:lnTo>
                <a:lnTo>
                  <a:pt x="289" y="941"/>
                </a:lnTo>
                <a:lnTo>
                  <a:pt x="286" y="934"/>
                </a:lnTo>
                <a:lnTo>
                  <a:pt x="281" y="928"/>
                </a:lnTo>
                <a:lnTo>
                  <a:pt x="276" y="921"/>
                </a:lnTo>
                <a:lnTo>
                  <a:pt x="273" y="918"/>
                </a:lnTo>
                <a:lnTo>
                  <a:pt x="269" y="915"/>
                </a:lnTo>
                <a:lnTo>
                  <a:pt x="268" y="910"/>
                </a:lnTo>
                <a:lnTo>
                  <a:pt x="264" y="906"/>
                </a:lnTo>
                <a:lnTo>
                  <a:pt x="258" y="900"/>
                </a:lnTo>
                <a:lnTo>
                  <a:pt x="251" y="893"/>
                </a:lnTo>
                <a:lnTo>
                  <a:pt x="198" y="822"/>
                </a:lnTo>
                <a:lnTo>
                  <a:pt x="198" y="822"/>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61120" y="3844800"/>
            <a:ext cx="442800" cy="797040"/>
          </a:xfrm>
          <a:custGeom>
            <a:avLst/>
            <a:gdLst/>
            <a:ahLst/>
            <a:rect l="l" t="t" r="r" b="b"/>
            <a:pathLst>
              <a:path w="279" h="502">
                <a:moveTo>
                  <a:pt x="37" y="387"/>
                </a:moveTo>
                <a:lnTo>
                  <a:pt x="37" y="388"/>
                </a:lnTo>
                <a:lnTo>
                  <a:pt x="38" y="390"/>
                </a:lnTo>
                <a:lnTo>
                  <a:pt x="40" y="392"/>
                </a:lnTo>
                <a:lnTo>
                  <a:pt x="40" y="395"/>
                </a:lnTo>
                <a:lnTo>
                  <a:pt x="43" y="398"/>
                </a:lnTo>
                <a:lnTo>
                  <a:pt x="43" y="399"/>
                </a:lnTo>
                <a:lnTo>
                  <a:pt x="44" y="402"/>
                </a:lnTo>
                <a:lnTo>
                  <a:pt x="45" y="403"/>
                </a:lnTo>
                <a:lnTo>
                  <a:pt x="46" y="406"/>
                </a:lnTo>
                <a:lnTo>
                  <a:pt x="48" y="407"/>
                </a:lnTo>
                <a:lnTo>
                  <a:pt x="48" y="410"/>
                </a:lnTo>
                <a:lnTo>
                  <a:pt x="49" y="412"/>
                </a:lnTo>
                <a:lnTo>
                  <a:pt x="51" y="414"/>
                </a:lnTo>
                <a:lnTo>
                  <a:pt x="53" y="416"/>
                </a:lnTo>
                <a:lnTo>
                  <a:pt x="54" y="419"/>
                </a:lnTo>
                <a:lnTo>
                  <a:pt x="55" y="421"/>
                </a:lnTo>
                <a:lnTo>
                  <a:pt x="57" y="425"/>
                </a:lnTo>
                <a:lnTo>
                  <a:pt x="58" y="426"/>
                </a:lnTo>
                <a:lnTo>
                  <a:pt x="60" y="429"/>
                </a:lnTo>
                <a:lnTo>
                  <a:pt x="62" y="431"/>
                </a:lnTo>
                <a:lnTo>
                  <a:pt x="63" y="434"/>
                </a:lnTo>
                <a:lnTo>
                  <a:pt x="65" y="436"/>
                </a:lnTo>
                <a:lnTo>
                  <a:pt x="67" y="439"/>
                </a:lnTo>
                <a:lnTo>
                  <a:pt x="69" y="442"/>
                </a:lnTo>
                <a:lnTo>
                  <a:pt x="71" y="445"/>
                </a:lnTo>
                <a:lnTo>
                  <a:pt x="73" y="447"/>
                </a:lnTo>
                <a:lnTo>
                  <a:pt x="75" y="449"/>
                </a:lnTo>
                <a:lnTo>
                  <a:pt x="76" y="451"/>
                </a:lnTo>
                <a:lnTo>
                  <a:pt x="79" y="454"/>
                </a:lnTo>
                <a:lnTo>
                  <a:pt x="80" y="456"/>
                </a:lnTo>
                <a:lnTo>
                  <a:pt x="83" y="459"/>
                </a:lnTo>
                <a:lnTo>
                  <a:pt x="85" y="460"/>
                </a:lnTo>
                <a:lnTo>
                  <a:pt x="87" y="463"/>
                </a:lnTo>
                <a:lnTo>
                  <a:pt x="89" y="465"/>
                </a:lnTo>
                <a:lnTo>
                  <a:pt x="92" y="467"/>
                </a:lnTo>
                <a:lnTo>
                  <a:pt x="93" y="469"/>
                </a:lnTo>
                <a:lnTo>
                  <a:pt x="96" y="471"/>
                </a:lnTo>
                <a:lnTo>
                  <a:pt x="98" y="473"/>
                </a:lnTo>
                <a:lnTo>
                  <a:pt x="101" y="474"/>
                </a:lnTo>
                <a:lnTo>
                  <a:pt x="103" y="476"/>
                </a:lnTo>
                <a:lnTo>
                  <a:pt x="106" y="478"/>
                </a:lnTo>
                <a:lnTo>
                  <a:pt x="107" y="479"/>
                </a:lnTo>
                <a:lnTo>
                  <a:pt x="110" y="480"/>
                </a:lnTo>
                <a:lnTo>
                  <a:pt x="112" y="481"/>
                </a:lnTo>
                <a:lnTo>
                  <a:pt x="114" y="482"/>
                </a:lnTo>
                <a:lnTo>
                  <a:pt x="117" y="482"/>
                </a:lnTo>
                <a:lnTo>
                  <a:pt x="119" y="484"/>
                </a:lnTo>
                <a:lnTo>
                  <a:pt x="122" y="484"/>
                </a:lnTo>
                <a:lnTo>
                  <a:pt x="124" y="485"/>
                </a:lnTo>
                <a:lnTo>
                  <a:pt x="127" y="485"/>
                </a:lnTo>
                <a:lnTo>
                  <a:pt x="129" y="485"/>
                </a:lnTo>
                <a:lnTo>
                  <a:pt x="132" y="484"/>
                </a:lnTo>
                <a:lnTo>
                  <a:pt x="135" y="484"/>
                </a:lnTo>
                <a:lnTo>
                  <a:pt x="137" y="484"/>
                </a:lnTo>
                <a:lnTo>
                  <a:pt x="140" y="483"/>
                </a:lnTo>
                <a:lnTo>
                  <a:pt x="142" y="482"/>
                </a:lnTo>
                <a:lnTo>
                  <a:pt x="145" y="481"/>
                </a:lnTo>
                <a:lnTo>
                  <a:pt x="147" y="479"/>
                </a:lnTo>
                <a:lnTo>
                  <a:pt x="150" y="478"/>
                </a:lnTo>
                <a:lnTo>
                  <a:pt x="152" y="477"/>
                </a:lnTo>
                <a:lnTo>
                  <a:pt x="154" y="475"/>
                </a:lnTo>
                <a:lnTo>
                  <a:pt x="157" y="473"/>
                </a:lnTo>
                <a:lnTo>
                  <a:pt x="159" y="472"/>
                </a:lnTo>
                <a:lnTo>
                  <a:pt x="162" y="470"/>
                </a:lnTo>
                <a:lnTo>
                  <a:pt x="164" y="469"/>
                </a:lnTo>
                <a:lnTo>
                  <a:pt x="167" y="467"/>
                </a:lnTo>
                <a:lnTo>
                  <a:pt x="169" y="465"/>
                </a:lnTo>
                <a:lnTo>
                  <a:pt x="172" y="464"/>
                </a:lnTo>
                <a:lnTo>
                  <a:pt x="174" y="462"/>
                </a:lnTo>
                <a:lnTo>
                  <a:pt x="176" y="460"/>
                </a:lnTo>
                <a:lnTo>
                  <a:pt x="179" y="458"/>
                </a:lnTo>
                <a:lnTo>
                  <a:pt x="181" y="456"/>
                </a:lnTo>
                <a:lnTo>
                  <a:pt x="184" y="455"/>
                </a:lnTo>
                <a:lnTo>
                  <a:pt x="185" y="453"/>
                </a:lnTo>
                <a:lnTo>
                  <a:pt x="189" y="451"/>
                </a:lnTo>
                <a:lnTo>
                  <a:pt x="190" y="449"/>
                </a:lnTo>
                <a:lnTo>
                  <a:pt x="193" y="447"/>
                </a:lnTo>
                <a:lnTo>
                  <a:pt x="195" y="445"/>
                </a:lnTo>
                <a:lnTo>
                  <a:pt x="198" y="443"/>
                </a:lnTo>
                <a:lnTo>
                  <a:pt x="199" y="441"/>
                </a:lnTo>
                <a:lnTo>
                  <a:pt x="203" y="439"/>
                </a:lnTo>
                <a:lnTo>
                  <a:pt x="204" y="437"/>
                </a:lnTo>
                <a:lnTo>
                  <a:pt x="206" y="435"/>
                </a:lnTo>
                <a:lnTo>
                  <a:pt x="208" y="433"/>
                </a:lnTo>
                <a:lnTo>
                  <a:pt x="211" y="431"/>
                </a:lnTo>
                <a:lnTo>
                  <a:pt x="212" y="429"/>
                </a:lnTo>
                <a:lnTo>
                  <a:pt x="215" y="428"/>
                </a:lnTo>
                <a:lnTo>
                  <a:pt x="216" y="425"/>
                </a:lnTo>
                <a:lnTo>
                  <a:pt x="219" y="424"/>
                </a:lnTo>
                <a:lnTo>
                  <a:pt x="220" y="422"/>
                </a:lnTo>
                <a:lnTo>
                  <a:pt x="222" y="420"/>
                </a:lnTo>
                <a:lnTo>
                  <a:pt x="224" y="418"/>
                </a:lnTo>
                <a:lnTo>
                  <a:pt x="225" y="416"/>
                </a:lnTo>
                <a:lnTo>
                  <a:pt x="229" y="412"/>
                </a:lnTo>
                <a:lnTo>
                  <a:pt x="233" y="409"/>
                </a:lnTo>
                <a:lnTo>
                  <a:pt x="235" y="406"/>
                </a:lnTo>
                <a:lnTo>
                  <a:pt x="238" y="403"/>
                </a:lnTo>
                <a:lnTo>
                  <a:pt x="241" y="400"/>
                </a:lnTo>
                <a:lnTo>
                  <a:pt x="243" y="398"/>
                </a:lnTo>
                <a:lnTo>
                  <a:pt x="245" y="395"/>
                </a:lnTo>
                <a:lnTo>
                  <a:pt x="247" y="394"/>
                </a:lnTo>
                <a:lnTo>
                  <a:pt x="249" y="391"/>
                </a:lnTo>
                <a:lnTo>
                  <a:pt x="251" y="390"/>
                </a:lnTo>
                <a:lnTo>
                  <a:pt x="252" y="388"/>
                </a:lnTo>
                <a:lnTo>
                  <a:pt x="253" y="387"/>
                </a:lnTo>
                <a:lnTo>
                  <a:pt x="253" y="386"/>
                </a:lnTo>
                <a:lnTo>
                  <a:pt x="254" y="385"/>
                </a:lnTo>
                <a:lnTo>
                  <a:pt x="254" y="383"/>
                </a:lnTo>
                <a:lnTo>
                  <a:pt x="255" y="381"/>
                </a:lnTo>
                <a:lnTo>
                  <a:pt x="255" y="380"/>
                </a:lnTo>
                <a:lnTo>
                  <a:pt x="256" y="377"/>
                </a:lnTo>
                <a:lnTo>
                  <a:pt x="257" y="375"/>
                </a:lnTo>
                <a:lnTo>
                  <a:pt x="257" y="372"/>
                </a:lnTo>
                <a:lnTo>
                  <a:pt x="258" y="369"/>
                </a:lnTo>
                <a:lnTo>
                  <a:pt x="259" y="366"/>
                </a:lnTo>
                <a:lnTo>
                  <a:pt x="260" y="363"/>
                </a:lnTo>
                <a:lnTo>
                  <a:pt x="260" y="359"/>
                </a:lnTo>
                <a:lnTo>
                  <a:pt x="260" y="357"/>
                </a:lnTo>
                <a:lnTo>
                  <a:pt x="261" y="355"/>
                </a:lnTo>
                <a:lnTo>
                  <a:pt x="262" y="353"/>
                </a:lnTo>
                <a:lnTo>
                  <a:pt x="262" y="351"/>
                </a:lnTo>
                <a:lnTo>
                  <a:pt x="262" y="349"/>
                </a:lnTo>
                <a:lnTo>
                  <a:pt x="263" y="347"/>
                </a:lnTo>
                <a:lnTo>
                  <a:pt x="263" y="345"/>
                </a:lnTo>
                <a:lnTo>
                  <a:pt x="264" y="342"/>
                </a:lnTo>
                <a:lnTo>
                  <a:pt x="264" y="340"/>
                </a:lnTo>
                <a:lnTo>
                  <a:pt x="264" y="337"/>
                </a:lnTo>
                <a:lnTo>
                  <a:pt x="264" y="335"/>
                </a:lnTo>
                <a:lnTo>
                  <a:pt x="264" y="333"/>
                </a:lnTo>
                <a:lnTo>
                  <a:pt x="264" y="330"/>
                </a:lnTo>
                <a:lnTo>
                  <a:pt x="265" y="328"/>
                </a:lnTo>
                <a:lnTo>
                  <a:pt x="265" y="325"/>
                </a:lnTo>
                <a:lnTo>
                  <a:pt x="265" y="323"/>
                </a:lnTo>
                <a:lnTo>
                  <a:pt x="265" y="319"/>
                </a:lnTo>
                <a:lnTo>
                  <a:pt x="266" y="317"/>
                </a:lnTo>
                <a:lnTo>
                  <a:pt x="266" y="314"/>
                </a:lnTo>
                <a:lnTo>
                  <a:pt x="266" y="312"/>
                </a:lnTo>
                <a:lnTo>
                  <a:pt x="266" y="309"/>
                </a:lnTo>
                <a:lnTo>
                  <a:pt x="266" y="306"/>
                </a:lnTo>
                <a:lnTo>
                  <a:pt x="266" y="303"/>
                </a:lnTo>
                <a:lnTo>
                  <a:pt x="266" y="300"/>
                </a:lnTo>
                <a:lnTo>
                  <a:pt x="266" y="297"/>
                </a:lnTo>
                <a:lnTo>
                  <a:pt x="266" y="294"/>
                </a:lnTo>
                <a:lnTo>
                  <a:pt x="266" y="291"/>
                </a:lnTo>
                <a:lnTo>
                  <a:pt x="266" y="288"/>
                </a:lnTo>
                <a:lnTo>
                  <a:pt x="265" y="285"/>
                </a:lnTo>
                <a:lnTo>
                  <a:pt x="265" y="282"/>
                </a:lnTo>
                <a:lnTo>
                  <a:pt x="265" y="279"/>
                </a:lnTo>
                <a:lnTo>
                  <a:pt x="265" y="275"/>
                </a:lnTo>
                <a:lnTo>
                  <a:pt x="264" y="272"/>
                </a:lnTo>
                <a:lnTo>
                  <a:pt x="264" y="270"/>
                </a:lnTo>
                <a:lnTo>
                  <a:pt x="264" y="266"/>
                </a:lnTo>
                <a:lnTo>
                  <a:pt x="264" y="263"/>
                </a:lnTo>
                <a:lnTo>
                  <a:pt x="264" y="262"/>
                </a:lnTo>
                <a:lnTo>
                  <a:pt x="264" y="261"/>
                </a:lnTo>
                <a:lnTo>
                  <a:pt x="264" y="259"/>
                </a:lnTo>
                <a:lnTo>
                  <a:pt x="263" y="257"/>
                </a:lnTo>
                <a:lnTo>
                  <a:pt x="263" y="255"/>
                </a:lnTo>
                <a:lnTo>
                  <a:pt x="262" y="253"/>
                </a:lnTo>
                <a:lnTo>
                  <a:pt x="262" y="252"/>
                </a:lnTo>
                <a:lnTo>
                  <a:pt x="262" y="250"/>
                </a:lnTo>
                <a:lnTo>
                  <a:pt x="261" y="248"/>
                </a:lnTo>
                <a:lnTo>
                  <a:pt x="261" y="245"/>
                </a:lnTo>
                <a:lnTo>
                  <a:pt x="260" y="243"/>
                </a:lnTo>
                <a:lnTo>
                  <a:pt x="260" y="241"/>
                </a:lnTo>
                <a:lnTo>
                  <a:pt x="260" y="238"/>
                </a:lnTo>
                <a:lnTo>
                  <a:pt x="260" y="235"/>
                </a:lnTo>
                <a:lnTo>
                  <a:pt x="259" y="232"/>
                </a:lnTo>
                <a:lnTo>
                  <a:pt x="259" y="229"/>
                </a:lnTo>
                <a:lnTo>
                  <a:pt x="258" y="226"/>
                </a:lnTo>
                <a:lnTo>
                  <a:pt x="258" y="222"/>
                </a:lnTo>
                <a:lnTo>
                  <a:pt x="257" y="218"/>
                </a:lnTo>
                <a:lnTo>
                  <a:pt x="257" y="215"/>
                </a:lnTo>
                <a:lnTo>
                  <a:pt x="256" y="212"/>
                </a:lnTo>
                <a:lnTo>
                  <a:pt x="255" y="208"/>
                </a:lnTo>
                <a:lnTo>
                  <a:pt x="255" y="204"/>
                </a:lnTo>
                <a:lnTo>
                  <a:pt x="255" y="200"/>
                </a:lnTo>
                <a:lnTo>
                  <a:pt x="253" y="196"/>
                </a:lnTo>
                <a:lnTo>
                  <a:pt x="253" y="192"/>
                </a:lnTo>
                <a:lnTo>
                  <a:pt x="252" y="188"/>
                </a:lnTo>
                <a:lnTo>
                  <a:pt x="252" y="184"/>
                </a:lnTo>
                <a:lnTo>
                  <a:pt x="251" y="179"/>
                </a:lnTo>
                <a:lnTo>
                  <a:pt x="250" y="175"/>
                </a:lnTo>
                <a:lnTo>
                  <a:pt x="249" y="171"/>
                </a:lnTo>
                <a:lnTo>
                  <a:pt x="248" y="166"/>
                </a:lnTo>
                <a:lnTo>
                  <a:pt x="247" y="161"/>
                </a:lnTo>
                <a:lnTo>
                  <a:pt x="247" y="157"/>
                </a:lnTo>
                <a:lnTo>
                  <a:pt x="245" y="152"/>
                </a:lnTo>
                <a:lnTo>
                  <a:pt x="244" y="148"/>
                </a:lnTo>
                <a:lnTo>
                  <a:pt x="243" y="143"/>
                </a:lnTo>
                <a:lnTo>
                  <a:pt x="242" y="138"/>
                </a:lnTo>
                <a:lnTo>
                  <a:pt x="241" y="133"/>
                </a:lnTo>
                <a:lnTo>
                  <a:pt x="240" y="128"/>
                </a:lnTo>
                <a:lnTo>
                  <a:pt x="238" y="123"/>
                </a:lnTo>
                <a:lnTo>
                  <a:pt x="238" y="118"/>
                </a:lnTo>
                <a:lnTo>
                  <a:pt x="237" y="113"/>
                </a:lnTo>
                <a:lnTo>
                  <a:pt x="235" y="109"/>
                </a:lnTo>
                <a:lnTo>
                  <a:pt x="233" y="103"/>
                </a:lnTo>
                <a:lnTo>
                  <a:pt x="233" y="98"/>
                </a:lnTo>
                <a:lnTo>
                  <a:pt x="231" y="94"/>
                </a:lnTo>
                <a:lnTo>
                  <a:pt x="230" y="89"/>
                </a:lnTo>
                <a:lnTo>
                  <a:pt x="229" y="84"/>
                </a:lnTo>
                <a:lnTo>
                  <a:pt x="227" y="79"/>
                </a:lnTo>
                <a:lnTo>
                  <a:pt x="226" y="74"/>
                </a:lnTo>
                <a:lnTo>
                  <a:pt x="225" y="69"/>
                </a:lnTo>
                <a:lnTo>
                  <a:pt x="223" y="64"/>
                </a:lnTo>
                <a:lnTo>
                  <a:pt x="221" y="59"/>
                </a:lnTo>
                <a:lnTo>
                  <a:pt x="220" y="54"/>
                </a:lnTo>
                <a:lnTo>
                  <a:pt x="218" y="49"/>
                </a:lnTo>
                <a:lnTo>
                  <a:pt x="216" y="44"/>
                </a:lnTo>
                <a:lnTo>
                  <a:pt x="215" y="40"/>
                </a:lnTo>
                <a:lnTo>
                  <a:pt x="213" y="35"/>
                </a:lnTo>
                <a:lnTo>
                  <a:pt x="211" y="31"/>
                </a:lnTo>
                <a:lnTo>
                  <a:pt x="236" y="0"/>
                </a:lnTo>
                <a:lnTo>
                  <a:pt x="245" y="51"/>
                </a:lnTo>
                <a:lnTo>
                  <a:pt x="252" y="86"/>
                </a:lnTo>
                <a:lnTo>
                  <a:pt x="253" y="91"/>
                </a:lnTo>
                <a:lnTo>
                  <a:pt x="257" y="107"/>
                </a:lnTo>
                <a:lnTo>
                  <a:pt x="261" y="125"/>
                </a:lnTo>
                <a:lnTo>
                  <a:pt x="262" y="129"/>
                </a:lnTo>
                <a:lnTo>
                  <a:pt x="264" y="136"/>
                </a:lnTo>
                <a:lnTo>
                  <a:pt x="265" y="148"/>
                </a:lnTo>
                <a:lnTo>
                  <a:pt x="267" y="154"/>
                </a:lnTo>
                <a:lnTo>
                  <a:pt x="268" y="160"/>
                </a:lnTo>
                <a:lnTo>
                  <a:pt x="269" y="167"/>
                </a:lnTo>
                <a:lnTo>
                  <a:pt x="270" y="173"/>
                </a:lnTo>
                <a:lnTo>
                  <a:pt x="271" y="179"/>
                </a:lnTo>
                <a:lnTo>
                  <a:pt x="272" y="186"/>
                </a:lnTo>
                <a:lnTo>
                  <a:pt x="273" y="193"/>
                </a:lnTo>
                <a:lnTo>
                  <a:pt x="273" y="200"/>
                </a:lnTo>
                <a:lnTo>
                  <a:pt x="274" y="206"/>
                </a:lnTo>
                <a:lnTo>
                  <a:pt x="275" y="213"/>
                </a:lnTo>
                <a:lnTo>
                  <a:pt x="276" y="220"/>
                </a:lnTo>
                <a:lnTo>
                  <a:pt x="277" y="227"/>
                </a:lnTo>
                <a:lnTo>
                  <a:pt x="277" y="234"/>
                </a:lnTo>
                <a:lnTo>
                  <a:pt x="277" y="241"/>
                </a:lnTo>
                <a:lnTo>
                  <a:pt x="277" y="248"/>
                </a:lnTo>
                <a:lnTo>
                  <a:pt x="278" y="256"/>
                </a:lnTo>
                <a:lnTo>
                  <a:pt x="279" y="263"/>
                </a:lnTo>
                <a:lnTo>
                  <a:pt x="279" y="270"/>
                </a:lnTo>
                <a:lnTo>
                  <a:pt x="279" y="278"/>
                </a:lnTo>
                <a:lnTo>
                  <a:pt x="279" y="285"/>
                </a:lnTo>
                <a:lnTo>
                  <a:pt x="279" y="285"/>
                </a:lnTo>
                <a:lnTo>
                  <a:pt x="279" y="287"/>
                </a:lnTo>
                <a:lnTo>
                  <a:pt x="279" y="288"/>
                </a:lnTo>
                <a:lnTo>
                  <a:pt x="279" y="290"/>
                </a:lnTo>
                <a:lnTo>
                  <a:pt x="279" y="292"/>
                </a:lnTo>
                <a:lnTo>
                  <a:pt x="279" y="295"/>
                </a:lnTo>
                <a:lnTo>
                  <a:pt x="279" y="297"/>
                </a:lnTo>
                <a:lnTo>
                  <a:pt x="279" y="298"/>
                </a:lnTo>
                <a:lnTo>
                  <a:pt x="279" y="300"/>
                </a:lnTo>
                <a:lnTo>
                  <a:pt x="279" y="302"/>
                </a:lnTo>
                <a:lnTo>
                  <a:pt x="278" y="304"/>
                </a:lnTo>
                <a:lnTo>
                  <a:pt x="278" y="306"/>
                </a:lnTo>
                <a:lnTo>
                  <a:pt x="278" y="308"/>
                </a:lnTo>
                <a:lnTo>
                  <a:pt x="278" y="310"/>
                </a:lnTo>
                <a:lnTo>
                  <a:pt x="278" y="312"/>
                </a:lnTo>
                <a:lnTo>
                  <a:pt x="278" y="314"/>
                </a:lnTo>
                <a:lnTo>
                  <a:pt x="278" y="317"/>
                </a:lnTo>
                <a:lnTo>
                  <a:pt x="278" y="319"/>
                </a:lnTo>
                <a:lnTo>
                  <a:pt x="277" y="322"/>
                </a:lnTo>
                <a:lnTo>
                  <a:pt x="277" y="324"/>
                </a:lnTo>
                <a:lnTo>
                  <a:pt x="277" y="327"/>
                </a:lnTo>
                <a:lnTo>
                  <a:pt x="277" y="330"/>
                </a:lnTo>
                <a:lnTo>
                  <a:pt x="277" y="332"/>
                </a:lnTo>
                <a:lnTo>
                  <a:pt x="277" y="335"/>
                </a:lnTo>
                <a:lnTo>
                  <a:pt x="277" y="337"/>
                </a:lnTo>
                <a:lnTo>
                  <a:pt x="277" y="341"/>
                </a:lnTo>
                <a:lnTo>
                  <a:pt x="277" y="343"/>
                </a:lnTo>
                <a:lnTo>
                  <a:pt x="277" y="345"/>
                </a:lnTo>
                <a:lnTo>
                  <a:pt x="276" y="349"/>
                </a:lnTo>
                <a:lnTo>
                  <a:pt x="276" y="351"/>
                </a:lnTo>
                <a:lnTo>
                  <a:pt x="276" y="354"/>
                </a:lnTo>
                <a:lnTo>
                  <a:pt x="276" y="357"/>
                </a:lnTo>
                <a:lnTo>
                  <a:pt x="275" y="359"/>
                </a:lnTo>
                <a:lnTo>
                  <a:pt x="275" y="363"/>
                </a:lnTo>
                <a:lnTo>
                  <a:pt x="274" y="364"/>
                </a:lnTo>
                <a:lnTo>
                  <a:pt x="274" y="367"/>
                </a:lnTo>
                <a:lnTo>
                  <a:pt x="273" y="370"/>
                </a:lnTo>
                <a:lnTo>
                  <a:pt x="273" y="372"/>
                </a:lnTo>
                <a:lnTo>
                  <a:pt x="273" y="375"/>
                </a:lnTo>
                <a:lnTo>
                  <a:pt x="273" y="378"/>
                </a:lnTo>
                <a:lnTo>
                  <a:pt x="273" y="381"/>
                </a:lnTo>
                <a:lnTo>
                  <a:pt x="273" y="383"/>
                </a:lnTo>
                <a:lnTo>
                  <a:pt x="272" y="385"/>
                </a:lnTo>
                <a:lnTo>
                  <a:pt x="272" y="388"/>
                </a:lnTo>
                <a:lnTo>
                  <a:pt x="271" y="390"/>
                </a:lnTo>
                <a:lnTo>
                  <a:pt x="271" y="392"/>
                </a:lnTo>
                <a:lnTo>
                  <a:pt x="270" y="394"/>
                </a:lnTo>
                <a:lnTo>
                  <a:pt x="270" y="396"/>
                </a:lnTo>
                <a:lnTo>
                  <a:pt x="269" y="398"/>
                </a:lnTo>
                <a:lnTo>
                  <a:pt x="269" y="400"/>
                </a:lnTo>
                <a:lnTo>
                  <a:pt x="269" y="404"/>
                </a:lnTo>
                <a:lnTo>
                  <a:pt x="267" y="407"/>
                </a:lnTo>
                <a:lnTo>
                  <a:pt x="266" y="410"/>
                </a:lnTo>
                <a:lnTo>
                  <a:pt x="265" y="412"/>
                </a:lnTo>
                <a:lnTo>
                  <a:pt x="264" y="414"/>
                </a:lnTo>
                <a:lnTo>
                  <a:pt x="262" y="416"/>
                </a:lnTo>
                <a:lnTo>
                  <a:pt x="260" y="419"/>
                </a:lnTo>
                <a:lnTo>
                  <a:pt x="257" y="422"/>
                </a:lnTo>
                <a:lnTo>
                  <a:pt x="255" y="425"/>
                </a:lnTo>
                <a:lnTo>
                  <a:pt x="251" y="428"/>
                </a:lnTo>
                <a:lnTo>
                  <a:pt x="248" y="431"/>
                </a:lnTo>
                <a:lnTo>
                  <a:pt x="245" y="434"/>
                </a:lnTo>
                <a:lnTo>
                  <a:pt x="242" y="436"/>
                </a:lnTo>
                <a:lnTo>
                  <a:pt x="240" y="438"/>
                </a:lnTo>
                <a:lnTo>
                  <a:pt x="238" y="439"/>
                </a:lnTo>
                <a:lnTo>
                  <a:pt x="237" y="441"/>
                </a:lnTo>
                <a:lnTo>
                  <a:pt x="234" y="443"/>
                </a:lnTo>
                <a:lnTo>
                  <a:pt x="232" y="445"/>
                </a:lnTo>
                <a:lnTo>
                  <a:pt x="229" y="447"/>
                </a:lnTo>
                <a:lnTo>
                  <a:pt x="228" y="448"/>
                </a:lnTo>
                <a:lnTo>
                  <a:pt x="225" y="450"/>
                </a:lnTo>
                <a:lnTo>
                  <a:pt x="223" y="452"/>
                </a:lnTo>
                <a:lnTo>
                  <a:pt x="220" y="454"/>
                </a:lnTo>
                <a:lnTo>
                  <a:pt x="219" y="456"/>
                </a:lnTo>
                <a:lnTo>
                  <a:pt x="216" y="457"/>
                </a:lnTo>
                <a:lnTo>
                  <a:pt x="214" y="460"/>
                </a:lnTo>
                <a:lnTo>
                  <a:pt x="211" y="461"/>
                </a:lnTo>
                <a:lnTo>
                  <a:pt x="209" y="464"/>
                </a:lnTo>
                <a:lnTo>
                  <a:pt x="207" y="465"/>
                </a:lnTo>
                <a:lnTo>
                  <a:pt x="204" y="467"/>
                </a:lnTo>
                <a:lnTo>
                  <a:pt x="202" y="468"/>
                </a:lnTo>
                <a:lnTo>
                  <a:pt x="199" y="470"/>
                </a:lnTo>
                <a:lnTo>
                  <a:pt x="197" y="471"/>
                </a:lnTo>
                <a:lnTo>
                  <a:pt x="194" y="473"/>
                </a:lnTo>
                <a:lnTo>
                  <a:pt x="192" y="474"/>
                </a:lnTo>
                <a:lnTo>
                  <a:pt x="190" y="477"/>
                </a:lnTo>
                <a:lnTo>
                  <a:pt x="187" y="478"/>
                </a:lnTo>
                <a:lnTo>
                  <a:pt x="185" y="479"/>
                </a:lnTo>
                <a:lnTo>
                  <a:pt x="183" y="481"/>
                </a:lnTo>
                <a:lnTo>
                  <a:pt x="181" y="482"/>
                </a:lnTo>
                <a:lnTo>
                  <a:pt x="178" y="484"/>
                </a:lnTo>
                <a:lnTo>
                  <a:pt x="176" y="486"/>
                </a:lnTo>
                <a:lnTo>
                  <a:pt x="174" y="487"/>
                </a:lnTo>
                <a:lnTo>
                  <a:pt x="172" y="488"/>
                </a:lnTo>
                <a:lnTo>
                  <a:pt x="170" y="489"/>
                </a:lnTo>
                <a:lnTo>
                  <a:pt x="167" y="491"/>
                </a:lnTo>
                <a:lnTo>
                  <a:pt x="165" y="492"/>
                </a:lnTo>
                <a:lnTo>
                  <a:pt x="163" y="493"/>
                </a:lnTo>
                <a:lnTo>
                  <a:pt x="162" y="495"/>
                </a:lnTo>
                <a:lnTo>
                  <a:pt x="159" y="495"/>
                </a:lnTo>
                <a:lnTo>
                  <a:pt x="158" y="496"/>
                </a:lnTo>
                <a:lnTo>
                  <a:pt x="156" y="497"/>
                </a:lnTo>
                <a:lnTo>
                  <a:pt x="153" y="499"/>
                </a:lnTo>
                <a:lnTo>
                  <a:pt x="150" y="500"/>
                </a:lnTo>
                <a:lnTo>
                  <a:pt x="147" y="501"/>
                </a:lnTo>
                <a:lnTo>
                  <a:pt x="145" y="502"/>
                </a:lnTo>
                <a:lnTo>
                  <a:pt x="142" y="502"/>
                </a:lnTo>
                <a:lnTo>
                  <a:pt x="140" y="502"/>
                </a:lnTo>
                <a:lnTo>
                  <a:pt x="137" y="502"/>
                </a:lnTo>
                <a:lnTo>
                  <a:pt x="135" y="502"/>
                </a:lnTo>
                <a:lnTo>
                  <a:pt x="132" y="501"/>
                </a:lnTo>
                <a:lnTo>
                  <a:pt x="129" y="500"/>
                </a:lnTo>
                <a:lnTo>
                  <a:pt x="127" y="500"/>
                </a:lnTo>
                <a:lnTo>
                  <a:pt x="124" y="499"/>
                </a:lnTo>
                <a:lnTo>
                  <a:pt x="121" y="498"/>
                </a:lnTo>
                <a:lnTo>
                  <a:pt x="119" y="496"/>
                </a:lnTo>
                <a:lnTo>
                  <a:pt x="115" y="495"/>
                </a:lnTo>
                <a:lnTo>
                  <a:pt x="113" y="494"/>
                </a:lnTo>
                <a:lnTo>
                  <a:pt x="110" y="492"/>
                </a:lnTo>
                <a:lnTo>
                  <a:pt x="107" y="491"/>
                </a:lnTo>
                <a:lnTo>
                  <a:pt x="105" y="489"/>
                </a:lnTo>
                <a:lnTo>
                  <a:pt x="102" y="487"/>
                </a:lnTo>
                <a:lnTo>
                  <a:pt x="99" y="485"/>
                </a:lnTo>
                <a:lnTo>
                  <a:pt x="97" y="483"/>
                </a:lnTo>
                <a:lnTo>
                  <a:pt x="93" y="481"/>
                </a:lnTo>
                <a:lnTo>
                  <a:pt x="92" y="479"/>
                </a:lnTo>
                <a:lnTo>
                  <a:pt x="88" y="478"/>
                </a:lnTo>
                <a:lnTo>
                  <a:pt x="86" y="475"/>
                </a:lnTo>
                <a:lnTo>
                  <a:pt x="84" y="473"/>
                </a:lnTo>
                <a:lnTo>
                  <a:pt x="82" y="471"/>
                </a:lnTo>
                <a:lnTo>
                  <a:pt x="79" y="469"/>
                </a:lnTo>
                <a:lnTo>
                  <a:pt x="78" y="467"/>
                </a:lnTo>
                <a:lnTo>
                  <a:pt x="75" y="465"/>
                </a:lnTo>
                <a:lnTo>
                  <a:pt x="75" y="464"/>
                </a:lnTo>
                <a:lnTo>
                  <a:pt x="71" y="461"/>
                </a:lnTo>
                <a:lnTo>
                  <a:pt x="69" y="459"/>
                </a:lnTo>
                <a:lnTo>
                  <a:pt x="66" y="455"/>
                </a:lnTo>
                <a:lnTo>
                  <a:pt x="64" y="451"/>
                </a:lnTo>
                <a:lnTo>
                  <a:pt x="62" y="450"/>
                </a:lnTo>
                <a:lnTo>
                  <a:pt x="61" y="447"/>
                </a:lnTo>
                <a:lnTo>
                  <a:pt x="60" y="445"/>
                </a:lnTo>
                <a:lnTo>
                  <a:pt x="58" y="443"/>
                </a:lnTo>
                <a:lnTo>
                  <a:pt x="57" y="441"/>
                </a:lnTo>
                <a:lnTo>
                  <a:pt x="55" y="438"/>
                </a:lnTo>
                <a:lnTo>
                  <a:pt x="53" y="436"/>
                </a:lnTo>
                <a:lnTo>
                  <a:pt x="53" y="434"/>
                </a:lnTo>
                <a:lnTo>
                  <a:pt x="51" y="431"/>
                </a:lnTo>
                <a:lnTo>
                  <a:pt x="49" y="429"/>
                </a:lnTo>
                <a:lnTo>
                  <a:pt x="48" y="426"/>
                </a:lnTo>
                <a:lnTo>
                  <a:pt x="46" y="425"/>
                </a:lnTo>
                <a:lnTo>
                  <a:pt x="44" y="422"/>
                </a:lnTo>
                <a:lnTo>
                  <a:pt x="44" y="420"/>
                </a:lnTo>
                <a:lnTo>
                  <a:pt x="42" y="417"/>
                </a:lnTo>
                <a:lnTo>
                  <a:pt x="40" y="415"/>
                </a:lnTo>
                <a:lnTo>
                  <a:pt x="40" y="413"/>
                </a:lnTo>
                <a:lnTo>
                  <a:pt x="38" y="411"/>
                </a:lnTo>
                <a:lnTo>
                  <a:pt x="37" y="409"/>
                </a:lnTo>
                <a:lnTo>
                  <a:pt x="36" y="407"/>
                </a:lnTo>
                <a:lnTo>
                  <a:pt x="34" y="404"/>
                </a:lnTo>
                <a:lnTo>
                  <a:pt x="33" y="403"/>
                </a:lnTo>
                <a:lnTo>
                  <a:pt x="32" y="401"/>
                </a:lnTo>
                <a:lnTo>
                  <a:pt x="32" y="401"/>
                </a:lnTo>
                <a:lnTo>
                  <a:pt x="12" y="410"/>
                </a:lnTo>
                <a:lnTo>
                  <a:pt x="0" y="410"/>
                </a:lnTo>
                <a:lnTo>
                  <a:pt x="37" y="387"/>
                </a:lnTo>
                <a:lnTo>
                  <a:pt x="37" y="38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111720" y="4502160"/>
            <a:ext cx="262080" cy="392040"/>
          </a:xfrm>
          <a:custGeom>
            <a:avLst/>
            <a:gdLst/>
            <a:ahLst/>
            <a:rect l="l" t="t" r="r" b="b"/>
            <a:pathLst>
              <a:path w="329" h="495">
                <a:moveTo>
                  <a:pt x="194" y="0"/>
                </a:moveTo>
                <a:lnTo>
                  <a:pt x="212" y="0"/>
                </a:lnTo>
                <a:lnTo>
                  <a:pt x="214" y="2"/>
                </a:lnTo>
                <a:lnTo>
                  <a:pt x="217" y="5"/>
                </a:lnTo>
                <a:lnTo>
                  <a:pt x="219" y="7"/>
                </a:lnTo>
                <a:lnTo>
                  <a:pt x="223" y="12"/>
                </a:lnTo>
                <a:lnTo>
                  <a:pt x="227" y="15"/>
                </a:lnTo>
                <a:lnTo>
                  <a:pt x="232" y="20"/>
                </a:lnTo>
                <a:lnTo>
                  <a:pt x="235" y="23"/>
                </a:lnTo>
                <a:lnTo>
                  <a:pt x="241" y="30"/>
                </a:lnTo>
                <a:lnTo>
                  <a:pt x="245" y="35"/>
                </a:lnTo>
                <a:lnTo>
                  <a:pt x="251" y="41"/>
                </a:lnTo>
                <a:lnTo>
                  <a:pt x="258" y="48"/>
                </a:lnTo>
                <a:lnTo>
                  <a:pt x="263" y="54"/>
                </a:lnTo>
                <a:lnTo>
                  <a:pt x="266" y="57"/>
                </a:lnTo>
                <a:lnTo>
                  <a:pt x="269" y="62"/>
                </a:lnTo>
                <a:lnTo>
                  <a:pt x="272" y="66"/>
                </a:lnTo>
                <a:lnTo>
                  <a:pt x="276" y="69"/>
                </a:lnTo>
                <a:lnTo>
                  <a:pt x="277" y="72"/>
                </a:lnTo>
                <a:lnTo>
                  <a:pt x="280" y="77"/>
                </a:lnTo>
                <a:lnTo>
                  <a:pt x="282" y="80"/>
                </a:lnTo>
                <a:lnTo>
                  <a:pt x="285" y="85"/>
                </a:lnTo>
                <a:lnTo>
                  <a:pt x="289" y="88"/>
                </a:lnTo>
                <a:lnTo>
                  <a:pt x="290" y="92"/>
                </a:lnTo>
                <a:lnTo>
                  <a:pt x="294" y="97"/>
                </a:lnTo>
                <a:lnTo>
                  <a:pt x="297" y="102"/>
                </a:lnTo>
                <a:lnTo>
                  <a:pt x="298" y="105"/>
                </a:lnTo>
                <a:lnTo>
                  <a:pt x="302" y="110"/>
                </a:lnTo>
                <a:lnTo>
                  <a:pt x="303" y="113"/>
                </a:lnTo>
                <a:lnTo>
                  <a:pt x="307" y="118"/>
                </a:lnTo>
                <a:lnTo>
                  <a:pt x="308" y="123"/>
                </a:lnTo>
                <a:lnTo>
                  <a:pt x="311" y="128"/>
                </a:lnTo>
                <a:lnTo>
                  <a:pt x="313" y="131"/>
                </a:lnTo>
                <a:lnTo>
                  <a:pt x="316" y="136"/>
                </a:lnTo>
                <a:lnTo>
                  <a:pt x="316" y="141"/>
                </a:lnTo>
                <a:lnTo>
                  <a:pt x="320" y="144"/>
                </a:lnTo>
                <a:lnTo>
                  <a:pt x="320" y="149"/>
                </a:lnTo>
                <a:lnTo>
                  <a:pt x="323" y="154"/>
                </a:lnTo>
                <a:lnTo>
                  <a:pt x="323" y="159"/>
                </a:lnTo>
                <a:lnTo>
                  <a:pt x="324" y="162"/>
                </a:lnTo>
                <a:lnTo>
                  <a:pt x="326" y="167"/>
                </a:lnTo>
                <a:lnTo>
                  <a:pt x="326" y="172"/>
                </a:lnTo>
                <a:lnTo>
                  <a:pt x="328" y="175"/>
                </a:lnTo>
                <a:lnTo>
                  <a:pt x="328" y="180"/>
                </a:lnTo>
                <a:lnTo>
                  <a:pt x="328" y="185"/>
                </a:lnTo>
                <a:lnTo>
                  <a:pt x="329" y="190"/>
                </a:lnTo>
                <a:lnTo>
                  <a:pt x="329" y="193"/>
                </a:lnTo>
                <a:lnTo>
                  <a:pt x="329" y="198"/>
                </a:lnTo>
                <a:lnTo>
                  <a:pt x="329" y="203"/>
                </a:lnTo>
                <a:lnTo>
                  <a:pt x="329" y="208"/>
                </a:lnTo>
                <a:lnTo>
                  <a:pt x="328" y="211"/>
                </a:lnTo>
                <a:lnTo>
                  <a:pt x="326" y="214"/>
                </a:lnTo>
                <a:lnTo>
                  <a:pt x="326" y="219"/>
                </a:lnTo>
                <a:lnTo>
                  <a:pt x="324" y="222"/>
                </a:lnTo>
                <a:lnTo>
                  <a:pt x="323" y="225"/>
                </a:lnTo>
                <a:lnTo>
                  <a:pt x="321" y="230"/>
                </a:lnTo>
                <a:lnTo>
                  <a:pt x="320" y="234"/>
                </a:lnTo>
                <a:lnTo>
                  <a:pt x="320" y="237"/>
                </a:lnTo>
                <a:lnTo>
                  <a:pt x="315" y="243"/>
                </a:lnTo>
                <a:lnTo>
                  <a:pt x="311" y="250"/>
                </a:lnTo>
                <a:lnTo>
                  <a:pt x="307" y="256"/>
                </a:lnTo>
                <a:lnTo>
                  <a:pt x="303" y="263"/>
                </a:lnTo>
                <a:lnTo>
                  <a:pt x="298" y="268"/>
                </a:lnTo>
                <a:lnTo>
                  <a:pt x="294" y="273"/>
                </a:lnTo>
                <a:lnTo>
                  <a:pt x="289" y="278"/>
                </a:lnTo>
                <a:lnTo>
                  <a:pt x="284" y="283"/>
                </a:lnTo>
                <a:lnTo>
                  <a:pt x="279" y="287"/>
                </a:lnTo>
                <a:lnTo>
                  <a:pt x="272" y="292"/>
                </a:lnTo>
                <a:lnTo>
                  <a:pt x="267" y="296"/>
                </a:lnTo>
                <a:lnTo>
                  <a:pt x="263" y="299"/>
                </a:lnTo>
                <a:lnTo>
                  <a:pt x="256" y="302"/>
                </a:lnTo>
                <a:lnTo>
                  <a:pt x="251" y="305"/>
                </a:lnTo>
                <a:lnTo>
                  <a:pt x="246" y="309"/>
                </a:lnTo>
                <a:lnTo>
                  <a:pt x="241" y="312"/>
                </a:lnTo>
                <a:lnTo>
                  <a:pt x="235" y="314"/>
                </a:lnTo>
                <a:lnTo>
                  <a:pt x="232" y="315"/>
                </a:lnTo>
                <a:lnTo>
                  <a:pt x="227" y="317"/>
                </a:lnTo>
                <a:lnTo>
                  <a:pt x="223" y="320"/>
                </a:lnTo>
                <a:lnTo>
                  <a:pt x="220" y="320"/>
                </a:lnTo>
                <a:lnTo>
                  <a:pt x="217" y="322"/>
                </a:lnTo>
                <a:lnTo>
                  <a:pt x="214" y="322"/>
                </a:lnTo>
                <a:lnTo>
                  <a:pt x="210" y="323"/>
                </a:lnTo>
                <a:lnTo>
                  <a:pt x="207" y="325"/>
                </a:lnTo>
                <a:lnTo>
                  <a:pt x="207" y="325"/>
                </a:lnTo>
                <a:lnTo>
                  <a:pt x="204" y="325"/>
                </a:lnTo>
                <a:lnTo>
                  <a:pt x="201" y="328"/>
                </a:lnTo>
                <a:lnTo>
                  <a:pt x="196" y="330"/>
                </a:lnTo>
                <a:lnTo>
                  <a:pt x="192" y="331"/>
                </a:lnTo>
                <a:lnTo>
                  <a:pt x="188" y="335"/>
                </a:lnTo>
                <a:lnTo>
                  <a:pt x="183" y="338"/>
                </a:lnTo>
                <a:lnTo>
                  <a:pt x="178" y="340"/>
                </a:lnTo>
                <a:lnTo>
                  <a:pt x="171" y="343"/>
                </a:lnTo>
                <a:lnTo>
                  <a:pt x="165" y="346"/>
                </a:lnTo>
                <a:lnTo>
                  <a:pt x="160" y="351"/>
                </a:lnTo>
                <a:lnTo>
                  <a:pt x="155" y="353"/>
                </a:lnTo>
                <a:lnTo>
                  <a:pt x="152" y="354"/>
                </a:lnTo>
                <a:lnTo>
                  <a:pt x="148" y="356"/>
                </a:lnTo>
                <a:lnTo>
                  <a:pt x="145" y="358"/>
                </a:lnTo>
                <a:lnTo>
                  <a:pt x="140" y="361"/>
                </a:lnTo>
                <a:lnTo>
                  <a:pt x="137" y="362"/>
                </a:lnTo>
                <a:lnTo>
                  <a:pt x="134" y="366"/>
                </a:lnTo>
                <a:lnTo>
                  <a:pt x="131" y="367"/>
                </a:lnTo>
                <a:lnTo>
                  <a:pt x="126" y="371"/>
                </a:lnTo>
                <a:lnTo>
                  <a:pt x="122" y="372"/>
                </a:lnTo>
                <a:lnTo>
                  <a:pt x="119" y="374"/>
                </a:lnTo>
                <a:lnTo>
                  <a:pt x="114" y="377"/>
                </a:lnTo>
                <a:lnTo>
                  <a:pt x="111" y="379"/>
                </a:lnTo>
                <a:lnTo>
                  <a:pt x="106" y="380"/>
                </a:lnTo>
                <a:lnTo>
                  <a:pt x="103" y="384"/>
                </a:lnTo>
                <a:lnTo>
                  <a:pt x="98" y="387"/>
                </a:lnTo>
                <a:lnTo>
                  <a:pt x="95" y="389"/>
                </a:lnTo>
                <a:lnTo>
                  <a:pt x="91" y="392"/>
                </a:lnTo>
                <a:lnTo>
                  <a:pt x="87" y="395"/>
                </a:lnTo>
                <a:lnTo>
                  <a:pt x="83" y="397"/>
                </a:lnTo>
                <a:lnTo>
                  <a:pt x="78" y="400"/>
                </a:lnTo>
                <a:lnTo>
                  <a:pt x="75" y="402"/>
                </a:lnTo>
                <a:lnTo>
                  <a:pt x="72" y="405"/>
                </a:lnTo>
                <a:lnTo>
                  <a:pt x="69" y="408"/>
                </a:lnTo>
                <a:lnTo>
                  <a:pt x="64" y="410"/>
                </a:lnTo>
                <a:lnTo>
                  <a:pt x="60" y="413"/>
                </a:lnTo>
                <a:lnTo>
                  <a:pt x="57" y="415"/>
                </a:lnTo>
                <a:lnTo>
                  <a:pt x="54" y="418"/>
                </a:lnTo>
                <a:lnTo>
                  <a:pt x="47" y="424"/>
                </a:lnTo>
                <a:lnTo>
                  <a:pt x="43" y="429"/>
                </a:lnTo>
                <a:lnTo>
                  <a:pt x="36" y="434"/>
                </a:lnTo>
                <a:lnTo>
                  <a:pt x="31" y="439"/>
                </a:lnTo>
                <a:lnTo>
                  <a:pt x="26" y="446"/>
                </a:lnTo>
                <a:lnTo>
                  <a:pt x="23" y="451"/>
                </a:lnTo>
                <a:lnTo>
                  <a:pt x="41" y="468"/>
                </a:lnTo>
                <a:lnTo>
                  <a:pt x="51" y="495"/>
                </a:lnTo>
                <a:lnTo>
                  <a:pt x="0" y="447"/>
                </a:lnTo>
                <a:lnTo>
                  <a:pt x="0" y="446"/>
                </a:lnTo>
                <a:lnTo>
                  <a:pt x="3" y="442"/>
                </a:lnTo>
                <a:lnTo>
                  <a:pt x="5" y="441"/>
                </a:lnTo>
                <a:lnTo>
                  <a:pt x="8" y="439"/>
                </a:lnTo>
                <a:lnTo>
                  <a:pt x="12" y="436"/>
                </a:lnTo>
                <a:lnTo>
                  <a:pt x="16" y="433"/>
                </a:lnTo>
                <a:lnTo>
                  <a:pt x="20" y="429"/>
                </a:lnTo>
                <a:lnTo>
                  <a:pt x="23" y="424"/>
                </a:lnTo>
                <a:lnTo>
                  <a:pt x="28" y="421"/>
                </a:lnTo>
                <a:lnTo>
                  <a:pt x="34" y="416"/>
                </a:lnTo>
                <a:lnTo>
                  <a:pt x="41" y="411"/>
                </a:lnTo>
                <a:lnTo>
                  <a:pt x="46" y="406"/>
                </a:lnTo>
                <a:lnTo>
                  <a:pt x="52" y="402"/>
                </a:lnTo>
                <a:lnTo>
                  <a:pt x="59" y="398"/>
                </a:lnTo>
                <a:lnTo>
                  <a:pt x="65" y="392"/>
                </a:lnTo>
                <a:lnTo>
                  <a:pt x="72" y="387"/>
                </a:lnTo>
                <a:lnTo>
                  <a:pt x="75" y="384"/>
                </a:lnTo>
                <a:lnTo>
                  <a:pt x="78" y="380"/>
                </a:lnTo>
                <a:lnTo>
                  <a:pt x="83" y="377"/>
                </a:lnTo>
                <a:lnTo>
                  <a:pt x="87" y="375"/>
                </a:lnTo>
                <a:lnTo>
                  <a:pt x="90" y="372"/>
                </a:lnTo>
                <a:lnTo>
                  <a:pt x="95" y="371"/>
                </a:lnTo>
                <a:lnTo>
                  <a:pt x="98" y="367"/>
                </a:lnTo>
                <a:lnTo>
                  <a:pt x="101" y="364"/>
                </a:lnTo>
                <a:lnTo>
                  <a:pt x="106" y="362"/>
                </a:lnTo>
                <a:lnTo>
                  <a:pt x="109" y="359"/>
                </a:lnTo>
                <a:lnTo>
                  <a:pt x="114" y="358"/>
                </a:lnTo>
                <a:lnTo>
                  <a:pt x="118" y="354"/>
                </a:lnTo>
                <a:lnTo>
                  <a:pt x="122" y="351"/>
                </a:lnTo>
                <a:lnTo>
                  <a:pt x="126" y="349"/>
                </a:lnTo>
                <a:lnTo>
                  <a:pt x="129" y="346"/>
                </a:lnTo>
                <a:lnTo>
                  <a:pt x="134" y="343"/>
                </a:lnTo>
                <a:lnTo>
                  <a:pt x="137" y="341"/>
                </a:lnTo>
                <a:lnTo>
                  <a:pt x="142" y="338"/>
                </a:lnTo>
                <a:lnTo>
                  <a:pt x="145" y="336"/>
                </a:lnTo>
                <a:lnTo>
                  <a:pt x="150" y="333"/>
                </a:lnTo>
                <a:lnTo>
                  <a:pt x="153" y="331"/>
                </a:lnTo>
                <a:lnTo>
                  <a:pt x="157" y="330"/>
                </a:lnTo>
                <a:lnTo>
                  <a:pt x="162" y="327"/>
                </a:lnTo>
                <a:lnTo>
                  <a:pt x="165" y="325"/>
                </a:lnTo>
                <a:lnTo>
                  <a:pt x="170" y="322"/>
                </a:lnTo>
                <a:lnTo>
                  <a:pt x="173" y="320"/>
                </a:lnTo>
                <a:lnTo>
                  <a:pt x="176" y="318"/>
                </a:lnTo>
                <a:lnTo>
                  <a:pt x="181" y="317"/>
                </a:lnTo>
                <a:lnTo>
                  <a:pt x="184" y="315"/>
                </a:lnTo>
                <a:lnTo>
                  <a:pt x="189" y="312"/>
                </a:lnTo>
                <a:lnTo>
                  <a:pt x="192" y="310"/>
                </a:lnTo>
                <a:lnTo>
                  <a:pt x="196" y="309"/>
                </a:lnTo>
                <a:lnTo>
                  <a:pt x="199" y="305"/>
                </a:lnTo>
                <a:lnTo>
                  <a:pt x="204" y="304"/>
                </a:lnTo>
                <a:lnTo>
                  <a:pt x="207" y="302"/>
                </a:lnTo>
                <a:lnTo>
                  <a:pt x="210" y="300"/>
                </a:lnTo>
                <a:lnTo>
                  <a:pt x="217" y="296"/>
                </a:lnTo>
                <a:lnTo>
                  <a:pt x="223" y="291"/>
                </a:lnTo>
                <a:lnTo>
                  <a:pt x="230" y="286"/>
                </a:lnTo>
                <a:lnTo>
                  <a:pt x="236" y="281"/>
                </a:lnTo>
                <a:lnTo>
                  <a:pt x="241" y="276"/>
                </a:lnTo>
                <a:lnTo>
                  <a:pt x="248" y="271"/>
                </a:lnTo>
                <a:lnTo>
                  <a:pt x="253" y="266"/>
                </a:lnTo>
                <a:lnTo>
                  <a:pt x="259" y="261"/>
                </a:lnTo>
                <a:lnTo>
                  <a:pt x="264" y="256"/>
                </a:lnTo>
                <a:lnTo>
                  <a:pt x="269" y="252"/>
                </a:lnTo>
                <a:lnTo>
                  <a:pt x="274" y="247"/>
                </a:lnTo>
                <a:lnTo>
                  <a:pt x="279" y="242"/>
                </a:lnTo>
                <a:lnTo>
                  <a:pt x="282" y="235"/>
                </a:lnTo>
                <a:lnTo>
                  <a:pt x="285" y="230"/>
                </a:lnTo>
                <a:lnTo>
                  <a:pt x="289" y="225"/>
                </a:lnTo>
                <a:lnTo>
                  <a:pt x="292" y="219"/>
                </a:lnTo>
                <a:lnTo>
                  <a:pt x="294" y="214"/>
                </a:lnTo>
                <a:lnTo>
                  <a:pt x="295" y="209"/>
                </a:lnTo>
                <a:lnTo>
                  <a:pt x="298" y="204"/>
                </a:lnTo>
                <a:lnTo>
                  <a:pt x="300" y="199"/>
                </a:lnTo>
                <a:lnTo>
                  <a:pt x="300" y="193"/>
                </a:lnTo>
                <a:lnTo>
                  <a:pt x="302" y="188"/>
                </a:lnTo>
                <a:lnTo>
                  <a:pt x="302" y="181"/>
                </a:lnTo>
                <a:lnTo>
                  <a:pt x="303" y="178"/>
                </a:lnTo>
                <a:lnTo>
                  <a:pt x="302" y="172"/>
                </a:lnTo>
                <a:lnTo>
                  <a:pt x="302" y="168"/>
                </a:lnTo>
                <a:lnTo>
                  <a:pt x="300" y="162"/>
                </a:lnTo>
                <a:lnTo>
                  <a:pt x="300" y="159"/>
                </a:lnTo>
                <a:lnTo>
                  <a:pt x="297" y="152"/>
                </a:lnTo>
                <a:lnTo>
                  <a:pt x="294" y="147"/>
                </a:lnTo>
                <a:lnTo>
                  <a:pt x="292" y="141"/>
                </a:lnTo>
                <a:lnTo>
                  <a:pt x="289" y="134"/>
                </a:lnTo>
                <a:lnTo>
                  <a:pt x="285" y="128"/>
                </a:lnTo>
                <a:lnTo>
                  <a:pt x="282" y="123"/>
                </a:lnTo>
                <a:lnTo>
                  <a:pt x="277" y="116"/>
                </a:lnTo>
                <a:lnTo>
                  <a:pt x="274" y="110"/>
                </a:lnTo>
                <a:lnTo>
                  <a:pt x="269" y="103"/>
                </a:lnTo>
                <a:lnTo>
                  <a:pt x="264" y="97"/>
                </a:lnTo>
                <a:lnTo>
                  <a:pt x="261" y="90"/>
                </a:lnTo>
                <a:lnTo>
                  <a:pt x="256" y="84"/>
                </a:lnTo>
                <a:lnTo>
                  <a:pt x="251" y="77"/>
                </a:lnTo>
                <a:lnTo>
                  <a:pt x="248" y="71"/>
                </a:lnTo>
                <a:lnTo>
                  <a:pt x="243" y="66"/>
                </a:lnTo>
                <a:lnTo>
                  <a:pt x="238" y="59"/>
                </a:lnTo>
                <a:lnTo>
                  <a:pt x="235" y="53"/>
                </a:lnTo>
                <a:lnTo>
                  <a:pt x="230" y="46"/>
                </a:lnTo>
                <a:lnTo>
                  <a:pt x="225" y="41"/>
                </a:lnTo>
                <a:lnTo>
                  <a:pt x="222" y="36"/>
                </a:lnTo>
                <a:lnTo>
                  <a:pt x="217" y="30"/>
                </a:lnTo>
                <a:lnTo>
                  <a:pt x="214" y="25"/>
                </a:lnTo>
                <a:lnTo>
                  <a:pt x="210" y="22"/>
                </a:lnTo>
                <a:lnTo>
                  <a:pt x="207" y="17"/>
                </a:lnTo>
                <a:lnTo>
                  <a:pt x="204" y="13"/>
                </a:lnTo>
                <a:lnTo>
                  <a:pt x="201" y="10"/>
                </a:lnTo>
                <a:lnTo>
                  <a:pt x="199" y="7"/>
                </a:lnTo>
                <a:lnTo>
                  <a:pt x="197" y="5"/>
                </a:lnTo>
                <a:lnTo>
                  <a:pt x="194" y="2"/>
                </a:lnTo>
                <a:lnTo>
                  <a:pt x="194" y="0"/>
                </a:lnTo>
                <a:lnTo>
                  <a:pt x="194"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523200" y="4589640"/>
            <a:ext cx="401400" cy="144360"/>
          </a:xfrm>
          <a:custGeom>
            <a:avLst/>
            <a:gdLst/>
            <a:ahLst/>
            <a:rect l="l" t="t" r="r" b="b"/>
            <a:pathLst>
              <a:path w="506" h="181">
                <a:moveTo>
                  <a:pt x="506" y="126"/>
                </a:moveTo>
                <a:lnTo>
                  <a:pt x="483" y="70"/>
                </a:lnTo>
                <a:lnTo>
                  <a:pt x="483" y="69"/>
                </a:lnTo>
                <a:lnTo>
                  <a:pt x="481" y="67"/>
                </a:lnTo>
                <a:lnTo>
                  <a:pt x="478" y="64"/>
                </a:lnTo>
                <a:lnTo>
                  <a:pt x="475" y="62"/>
                </a:lnTo>
                <a:lnTo>
                  <a:pt x="470" y="57"/>
                </a:lnTo>
                <a:lnTo>
                  <a:pt x="465" y="54"/>
                </a:lnTo>
                <a:lnTo>
                  <a:pt x="460" y="49"/>
                </a:lnTo>
                <a:lnTo>
                  <a:pt x="453" y="44"/>
                </a:lnTo>
                <a:lnTo>
                  <a:pt x="449" y="41"/>
                </a:lnTo>
                <a:lnTo>
                  <a:pt x="444" y="39"/>
                </a:lnTo>
                <a:lnTo>
                  <a:pt x="440" y="36"/>
                </a:lnTo>
                <a:lnTo>
                  <a:pt x="436" y="33"/>
                </a:lnTo>
                <a:lnTo>
                  <a:pt x="431" y="31"/>
                </a:lnTo>
                <a:lnTo>
                  <a:pt x="426" y="28"/>
                </a:lnTo>
                <a:lnTo>
                  <a:pt x="421" y="26"/>
                </a:lnTo>
                <a:lnTo>
                  <a:pt x="416" y="23"/>
                </a:lnTo>
                <a:lnTo>
                  <a:pt x="409" y="22"/>
                </a:lnTo>
                <a:lnTo>
                  <a:pt x="403" y="18"/>
                </a:lnTo>
                <a:lnTo>
                  <a:pt x="398" y="17"/>
                </a:lnTo>
                <a:lnTo>
                  <a:pt x="392" y="15"/>
                </a:lnTo>
                <a:lnTo>
                  <a:pt x="385" y="12"/>
                </a:lnTo>
                <a:lnTo>
                  <a:pt x="379" y="10"/>
                </a:lnTo>
                <a:lnTo>
                  <a:pt x="370" y="8"/>
                </a:lnTo>
                <a:lnTo>
                  <a:pt x="364" y="7"/>
                </a:lnTo>
                <a:lnTo>
                  <a:pt x="356" y="5"/>
                </a:lnTo>
                <a:lnTo>
                  <a:pt x="349" y="4"/>
                </a:lnTo>
                <a:lnTo>
                  <a:pt x="341" y="2"/>
                </a:lnTo>
                <a:lnTo>
                  <a:pt x="333" y="2"/>
                </a:lnTo>
                <a:lnTo>
                  <a:pt x="323" y="2"/>
                </a:lnTo>
                <a:lnTo>
                  <a:pt x="315" y="0"/>
                </a:lnTo>
                <a:lnTo>
                  <a:pt x="305" y="0"/>
                </a:lnTo>
                <a:lnTo>
                  <a:pt x="297" y="2"/>
                </a:lnTo>
                <a:lnTo>
                  <a:pt x="287" y="2"/>
                </a:lnTo>
                <a:lnTo>
                  <a:pt x="279" y="2"/>
                </a:lnTo>
                <a:lnTo>
                  <a:pt x="268" y="2"/>
                </a:lnTo>
                <a:lnTo>
                  <a:pt x="258" y="5"/>
                </a:lnTo>
                <a:lnTo>
                  <a:pt x="248" y="7"/>
                </a:lnTo>
                <a:lnTo>
                  <a:pt x="238" y="8"/>
                </a:lnTo>
                <a:lnTo>
                  <a:pt x="227" y="10"/>
                </a:lnTo>
                <a:lnTo>
                  <a:pt x="217" y="15"/>
                </a:lnTo>
                <a:lnTo>
                  <a:pt x="204" y="17"/>
                </a:lnTo>
                <a:lnTo>
                  <a:pt x="193" y="20"/>
                </a:lnTo>
                <a:lnTo>
                  <a:pt x="181" y="25"/>
                </a:lnTo>
                <a:lnTo>
                  <a:pt x="170" y="30"/>
                </a:lnTo>
                <a:lnTo>
                  <a:pt x="157" y="33"/>
                </a:lnTo>
                <a:lnTo>
                  <a:pt x="145" y="39"/>
                </a:lnTo>
                <a:lnTo>
                  <a:pt x="132" y="44"/>
                </a:lnTo>
                <a:lnTo>
                  <a:pt x="119" y="52"/>
                </a:lnTo>
                <a:lnTo>
                  <a:pt x="106" y="57"/>
                </a:lnTo>
                <a:lnTo>
                  <a:pt x="93" y="66"/>
                </a:lnTo>
                <a:lnTo>
                  <a:pt x="80" y="74"/>
                </a:lnTo>
                <a:lnTo>
                  <a:pt x="67" y="83"/>
                </a:lnTo>
                <a:lnTo>
                  <a:pt x="53" y="92"/>
                </a:lnTo>
                <a:lnTo>
                  <a:pt x="38" y="101"/>
                </a:lnTo>
                <a:lnTo>
                  <a:pt x="23" y="111"/>
                </a:lnTo>
                <a:lnTo>
                  <a:pt x="10" y="123"/>
                </a:lnTo>
                <a:lnTo>
                  <a:pt x="0" y="181"/>
                </a:lnTo>
                <a:lnTo>
                  <a:pt x="22" y="165"/>
                </a:lnTo>
                <a:lnTo>
                  <a:pt x="25" y="162"/>
                </a:lnTo>
                <a:lnTo>
                  <a:pt x="30" y="160"/>
                </a:lnTo>
                <a:lnTo>
                  <a:pt x="33" y="157"/>
                </a:lnTo>
                <a:lnTo>
                  <a:pt x="38" y="154"/>
                </a:lnTo>
                <a:lnTo>
                  <a:pt x="41" y="150"/>
                </a:lnTo>
                <a:lnTo>
                  <a:pt x="46" y="147"/>
                </a:lnTo>
                <a:lnTo>
                  <a:pt x="51" y="144"/>
                </a:lnTo>
                <a:lnTo>
                  <a:pt x="57" y="141"/>
                </a:lnTo>
                <a:lnTo>
                  <a:pt x="62" y="137"/>
                </a:lnTo>
                <a:lnTo>
                  <a:pt x="69" y="134"/>
                </a:lnTo>
                <a:lnTo>
                  <a:pt x="74" y="131"/>
                </a:lnTo>
                <a:lnTo>
                  <a:pt x="80" y="129"/>
                </a:lnTo>
                <a:lnTo>
                  <a:pt x="87" y="124"/>
                </a:lnTo>
                <a:lnTo>
                  <a:pt x="93" y="121"/>
                </a:lnTo>
                <a:lnTo>
                  <a:pt x="100" y="118"/>
                </a:lnTo>
                <a:lnTo>
                  <a:pt x="108" y="114"/>
                </a:lnTo>
                <a:lnTo>
                  <a:pt x="115" y="111"/>
                </a:lnTo>
                <a:lnTo>
                  <a:pt x="123" y="108"/>
                </a:lnTo>
                <a:lnTo>
                  <a:pt x="131" y="105"/>
                </a:lnTo>
                <a:lnTo>
                  <a:pt x="139" y="103"/>
                </a:lnTo>
                <a:lnTo>
                  <a:pt x="145" y="98"/>
                </a:lnTo>
                <a:lnTo>
                  <a:pt x="154" y="97"/>
                </a:lnTo>
                <a:lnTo>
                  <a:pt x="162" y="93"/>
                </a:lnTo>
                <a:lnTo>
                  <a:pt x="172" y="92"/>
                </a:lnTo>
                <a:lnTo>
                  <a:pt x="180" y="88"/>
                </a:lnTo>
                <a:lnTo>
                  <a:pt x="188" y="85"/>
                </a:lnTo>
                <a:lnTo>
                  <a:pt x="196" y="83"/>
                </a:lnTo>
                <a:lnTo>
                  <a:pt x="207" y="82"/>
                </a:lnTo>
                <a:lnTo>
                  <a:pt x="216" y="80"/>
                </a:lnTo>
                <a:lnTo>
                  <a:pt x="224" y="77"/>
                </a:lnTo>
                <a:lnTo>
                  <a:pt x="233" y="75"/>
                </a:lnTo>
                <a:lnTo>
                  <a:pt x="243" y="75"/>
                </a:lnTo>
                <a:lnTo>
                  <a:pt x="255" y="74"/>
                </a:lnTo>
                <a:lnTo>
                  <a:pt x="264" y="74"/>
                </a:lnTo>
                <a:lnTo>
                  <a:pt x="274" y="74"/>
                </a:lnTo>
                <a:lnTo>
                  <a:pt x="284" y="74"/>
                </a:lnTo>
                <a:lnTo>
                  <a:pt x="295" y="72"/>
                </a:lnTo>
                <a:lnTo>
                  <a:pt x="305" y="72"/>
                </a:lnTo>
                <a:lnTo>
                  <a:pt x="315" y="74"/>
                </a:lnTo>
                <a:lnTo>
                  <a:pt x="326" y="74"/>
                </a:lnTo>
                <a:lnTo>
                  <a:pt x="336" y="75"/>
                </a:lnTo>
                <a:lnTo>
                  <a:pt x="348" y="77"/>
                </a:lnTo>
                <a:lnTo>
                  <a:pt x="359" y="79"/>
                </a:lnTo>
                <a:lnTo>
                  <a:pt x="370" y="82"/>
                </a:lnTo>
                <a:lnTo>
                  <a:pt x="382" y="83"/>
                </a:lnTo>
                <a:lnTo>
                  <a:pt x="393" y="87"/>
                </a:lnTo>
                <a:lnTo>
                  <a:pt x="403" y="90"/>
                </a:lnTo>
                <a:lnTo>
                  <a:pt x="416" y="95"/>
                </a:lnTo>
                <a:lnTo>
                  <a:pt x="427" y="98"/>
                </a:lnTo>
                <a:lnTo>
                  <a:pt x="439" y="103"/>
                </a:lnTo>
                <a:lnTo>
                  <a:pt x="450" y="108"/>
                </a:lnTo>
                <a:lnTo>
                  <a:pt x="462" y="114"/>
                </a:lnTo>
                <a:lnTo>
                  <a:pt x="506" y="126"/>
                </a:lnTo>
                <a:lnTo>
                  <a:pt x="506" y="126"/>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40440" y="4675320"/>
            <a:ext cx="111240" cy="312480"/>
          </a:xfrm>
          <a:custGeom>
            <a:avLst/>
            <a:gdLst/>
            <a:ahLst/>
            <a:rect l="l" t="t" r="r" b="b"/>
            <a:pathLst>
              <a:path w="138" h="395">
                <a:moveTo>
                  <a:pt x="3" y="0"/>
                </a:moveTo>
                <a:lnTo>
                  <a:pt x="3" y="2"/>
                </a:lnTo>
                <a:lnTo>
                  <a:pt x="8" y="5"/>
                </a:lnTo>
                <a:lnTo>
                  <a:pt x="10" y="5"/>
                </a:lnTo>
                <a:lnTo>
                  <a:pt x="15" y="8"/>
                </a:lnTo>
                <a:lnTo>
                  <a:pt x="18" y="10"/>
                </a:lnTo>
                <a:lnTo>
                  <a:pt x="24" y="13"/>
                </a:lnTo>
                <a:lnTo>
                  <a:pt x="28" y="16"/>
                </a:lnTo>
                <a:lnTo>
                  <a:pt x="32" y="20"/>
                </a:lnTo>
                <a:lnTo>
                  <a:pt x="39" y="23"/>
                </a:lnTo>
                <a:lnTo>
                  <a:pt x="44" y="28"/>
                </a:lnTo>
                <a:lnTo>
                  <a:pt x="50" y="31"/>
                </a:lnTo>
                <a:lnTo>
                  <a:pt x="57" y="36"/>
                </a:lnTo>
                <a:lnTo>
                  <a:pt x="63" y="41"/>
                </a:lnTo>
                <a:lnTo>
                  <a:pt x="70" y="46"/>
                </a:lnTo>
                <a:lnTo>
                  <a:pt x="76" y="50"/>
                </a:lnTo>
                <a:lnTo>
                  <a:pt x="81" y="55"/>
                </a:lnTo>
                <a:lnTo>
                  <a:pt x="88" y="62"/>
                </a:lnTo>
                <a:lnTo>
                  <a:pt x="94" y="68"/>
                </a:lnTo>
                <a:lnTo>
                  <a:pt x="99" y="73"/>
                </a:lnTo>
                <a:lnTo>
                  <a:pt x="106" y="80"/>
                </a:lnTo>
                <a:lnTo>
                  <a:pt x="111" y="86"/>
                </a:lnTo>
                <a:lnTo>
                  <a:pt x="116" y="93"/>
                </a:lnTo>
                <a:lnTo>
                  <a:pt x="120" y="99"/>
                </a:lnTo>
                <a:lnTo>
                  <a:pt x="125" y="104"/>
                </a:lnTo>
                <a:lnTo>
                  <a:pt x="129" y="111"/>
                </a:lnTo>
                <a:lnTo>
                  <a:pt x="132" y="119"/>
                </a:lnTo>
                <a:lnTo>
                  <a:pt x="133" y="124"/>
                </a:lnTo>
                <a:lnTo>
                  <a:pt x="137" y="132"/>
                </a:lnTo>
                <a:lnTo>
                  <a:pt x="137" y="139"/>
                </a:lnTo>
                <a:lnTo>
                  <a:pt x="138" y="145"/>
                </a:lnTo>
                <a:lnTo>
                  <a:pt x="137" y="152"/>
                </a:lnTo>
                <a:lnTo>
                  <a:pt x="137" y="158"/>
                </a:lnTo>
                <a:lnTo>
                  <a:pt x="135" y="161"/>
                </a:lnTo>
                <a:lnTo>
                  <a:pt x="133" y="166"/>
                </a:lnTo>
                <a:lnTo>
                  <a:pt x="133" y="170"/>
                </a:lnTo>
                <a:lnTo>
                  <a:pt x="132" y="174"/>
                </a:lnTo>
                <a:lnTo>
                  <a:pt x="130" y="178"/>
                </a:lnTo>
                <a:lnTo>
                  <a:pt x="129" y="181"/>
                </a:lnTo>
                <a:lnTo>
                  <a:pt x="129" y="184"/>
                </a:lnTo>
                <a:lnTo>
                  <a:pt x="127" y="189"/>
                </a:lnTo>
                <a:lnTo>
                  <a:pt x="125" y="192"/>
                </a:lnTo>
                <a:lnTo>
                  <a:pt x="124" y="196"/>
                </a:lnTo>
                <a:lnTo>
                  <a:pt x="122" y="201"/>
                </a:lnTo>
                <a:lnTo>
                  <a:pt x="120" y="204"/>
                </a:lnTo>
                <a:lnTo>
                  <a:pt x="117" y="207"/>
                </a:lnTo>
                <a:lnTo>
                  <a:pt x="116" y="212"/>
                </a:lnTo>
                <a:lnTo>
                  <a:pt x="112" y="215"/>
                </a:lnTo>
                <a:lnTo>
                  <a:pt x="111" y="220"/>
                </a:lnTo>
                <a:lnTo>
                  <a:pt x="109" y="223"/>
                </a:lnTo>
                <a:lnTo>
                  <a:pt x="106" y="227"/>
                </a:lnTo>
                <a:lnTo>
                  <a:pt x="104" y="232"/>
                </a:lnTo>
                <a:lnTo>
                  <a:pt x="101" y="235"/>
                </a:lnTo>
                <a:lnTo>
                  <a:pt x="99" y="238"/>
                </a:lnTo>
                <a:lnTo>
                  <a:pt x="96" y="243"/>
                </a:lnTo>
                <a:lnTo>
                  <a:pt x="94" y="246"/>
                </a:lnTo>
                <a:lnTo>
                  <a:pt x="91" y="251"/>
                </a:lnTo>
                <a:lnTo>
                  <a:pt x="89" y="254"/>
                </a:lnTo>
                <a:lnTo>
                  <a:pt x="86" y="258"/>
                </a:lnTo>
                <a:lnTo>
                  <a:pt x="85" y="261"/>
                </a:lnTo>
                <a:lnTo>
                  <a:pt x="81" y="266"/>
                </a:lnTo>
                <a:lnTo>
                  <a:pt x="76" y="272"/>
                </a:lnTo>
                <a:lnTo>
                  <a:pt x="72" y="279"/>
                </a:lnTo>
                <a:lnTo>
                  <a:pt x="67" y="285"/>
                </a:lnTo>
                <a:lnTo>
                  <a:pt x="62" y="292"/>
                </a:lnTo>
                <a:lnTo>
                  <a:pt x="57" y="297"/>
                </a:lnTo>
                <a:lnTo>
                  <a:pt x="52" y="302"/>
                </a:lnTo>
                <a:lnTo>
                  <a:pt x="47" y="307"/>
                </a:lnTo>
                <a:lnTo>
                  <a:pt x="44" y="313"/>
                </a:lnTo>
                <a:lnTo>
                  <a:pt x="41" y="316"/>
                </a:lnTo>
                <a:lnTo>
                  <a:pt x="37" y="320"/>
                </a:lnTo>
                <a:lnTo>
                  <a:pt x="34" y="323"/>
                </a:lnTo>
                <a:lnTo>
                  <a:pt x="31" y="326"/>
                </a:lnTo>
                <a:lnTo>
                  <a:pt x="28" y="329"/>
                </a:lnTo>
                <a:lnTo>
                  <a:pt x="28" y="333"/>
                </a:lnTo>
                <a:lnTo>
                  <a:pt x="47" y="364"/>
                </a:lnTo>
                <a:lnTo>
                  <a:pt x="44" y="395"/>
                </a:lnTo>
                <a:lnTo>
                  <a:pt x="3" y="339"/>
                </a:lnTo>
                <a:lnTo>
                  <a:pt x="3" y="336"/>
                </a:lnTo>
                <a:lnTo>
                  <a:pt x="8" y="333"/>
                </a:lnTo>
                <a:lnTo>
                  <a:pt x="10" y="328"/>
                </a:lnTo>
                <a:lnTo>
                  <a:pt x="13" y="324"/>
                </a:lnTo>
                <a:lnTo>
                  <a:pt x="16" y="320"/>
                </a:lnTo>
                <a:lnTo>
                  <a:pt x="21" y="315"/>
                </a:lnTo>
                <a:lnTo>
                  <a:pt x="26" y="308"/>
                </a:lnTo>
                <a:lnTo>
                  <a:pt x="31" y="303"/>
                </a:lnTo>
                <a:lnTo>
                  <a:pt x="36" y="297"/>
                </a:lnTo>
                <a:lnTo>
                  <a:pt x="41" y="290"/>
                </a:lnTo>
                <a:lnTo>
                  <a:pt x="44" y="285"/>
                </a:lnTo>
                <a:lnTo>
                  <a:pt x="45" y="282"/>
                </a:lnTo>
                <a:lnTo>
                  <a:pt x="49" y="279"/>
                </a:lnTo>
                <a:lnTo>
                  <a:pt x="52" y="276"/>
                </a:lnTo>
                <a:lnTo>
                  <a:pt x="54" y="271"/>
                </a:lnTo>
                <a:lnTo>
                  <a:pt x="57" y="267"/>
                </a:lnTo>
                <a:lnTo>
                  <a:pt x="60" y="264"/>
                </a:lnTo>
                <a:lnTo>
                  <a:pt x="63" y="261"/>
                </a:lnTo>
                <a:lnTo>
                  <a:pt x="65" y="256"/>
                </a:lnTo>
                <a:lnTo>
                  <a:pt x="68" y="251"/>
                </a:lnTo>
                <a:lnTo>
                  <a:pt x="70" y="248"/>
                </a:lnTo>
                <a:lnTo>
                  <a:pt x="73" y="245"/>
                </a:lnTo>
                <a:lnTo>
                  <a:pt x="75" y="240"/>
                </a:lnTo>
                <a:lnTo>
                  <a:pt x="78" y="235"/>
                </a:lnTo>
                <a:lnTo>
                  <a:pt x="80" y="232"/>
                </a:lnTo>
                <a:lnTo>
                  <a:pt x="83" y="227"/>
                </a:lnTo>
                <a:lnTo>
                  <a:pt x="85" y="223"/>
                </a:lnTo>
                <a:lnTo>
                  <a:pt x="86" y="218"/>
                </a:lnTo>
                <a:lnTo>
                  <a:pt x="88" y="215"/>
                </a:lnTo>
                <a:lnTo>
                  <a:pt x="91" y="210"/>
                </a:lnTo>
                <a:lnTo>
                  <a:pt x="93" y="207"/>
                </a:lnTo>
                <a:lnTo>
                  <a:pt x="94" y="202"/>
                </a:lnTo>
                <a:lnTo>
                  <a:pt x="98" y="199"/>
                </a:lnTo>
                <a:lnTo>
                  <a:pt x="99" y="196"/>
                </a:lnTo>
                <a:lnTo>
                  <a:pt x="99" y="191"/>
                </a:lnTo>
                <a:lnTo>
                  <a:pt x="101" y="187"/>
                </a:lnTo>
                <a:lnTo>
                  <a:pt x="103" y="183"/>
                </a:lnTo>
                <a:lnTo>
                  <a:pt x="104" y="179"/>
                </a:lnTo>
                <a:lnTo>
                  <a:pt x="106" y="171"/>
                </a:lnTo>
                <a:lnTo>
                  <a:pt x="107" y="165"/>
                </a:lnTo>
                <a:lnTo>
                  <a:pt x="107" y="158"/>
                </a:lnTo>
                <a:lnTo>
                  <a:pt x="107" y="153"/>
                </a:lnTo>
                <a:lnTo>
                  <a:pt x="107" y="147"/>
                </a:lnTo>
                <a:lnTo>
                  <a:pt x="106" y="142"/>
                </a:lnTo>
                <a:lnTo>
                  <a:pt x="103" y="137"/>
                </a:lnTo>
                <a:lnTo>
                  <a:pt x="99" y="130"/>
                </a:lnTo>
                <a:lnTo>
                  <a:pt x="96" y="126"/>
                </a:lnTo>
                <a:lnTo>
                  <a:pt x="93" y="121"/>
                </a:lnTo>
                <a:lnTo>
                  <a:pt x="89" y="114"/>
                </a:lnTo>
                <a:lnTo>
                  <a:pt x="85" y="111"/>
                </a:lnTo>
                <a:lnTo>
                  <a:pt x="81" y="104"/>
                </a:lnTo>
                <a:lnTo>
                  <a:pt x="78" y="101"/>
                </a:lnTo>
                <a:lnTo>
                  <a:pt x="73" y="95"/>
                </a:lnTo>
                <a:lnTo>
                  <a:pt x="68" y="90"/>
                </a:lnTo>
                <a:lnTo>
                  <a:pt x="65" y="85"/>
                </a:lnTo>
                <a:lnTo>
                  <a:pt x="60" y="80"/>
                </a:lnTo>
                <a:lnTo>
                  <a:pt x="55" y="75"/>
                </a:lnTo>
                <a:lnTo>
                  <a:pt x="50" y="72"/>
                </a:lnTo>
                <a:lnTo>
                  <a:pt x="47" y="67"/>
                </a:lnTo>
                <a:lnTo>
                  <a:pt x="42" y="64"/>
                </a:lnTo>
                <a:lnTo>
                  <a:pt x="37" y="59"/>
                </a:lnTo>
                <a:lnTo>
                  <a:pt x="34" y="55"/>
                </a:lnTo>
                <a:lnTo>
                  <a:pt x="29" y="50"/>
                </a:lnTo>
                <a:lnTo>
                  <a:pt x="26" y="49"/>
                </a:lnTo>
                <a:lnTo>
                  <a:pt x="18" y="42"/>
                </a:lnTo>
                <a:lnTo>
                  <a:pt x="13" y="37"/>
                </a:lnTo>
                <a:lnTo>
                  <a:pt x="6" y="33"/>
                </a:lnTo>
                <a:lnTo>
                  <a:pt x="3" y="29"/>
                </a:lnTo>
                <a:lnTo>
                  <a:pt x="0" y="28"/>
                </a:lnTo>
                <a:lnTo>
                  <a:pt x="0" y="28"/>
                </a:lnTo>
                <a:lnTo>
                  <a:pt x="3" y="0"/>
                </a:lnTo>
                <a:lnTo>
                  <a:pt x="3"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108840" y="4809960"/>
            <a:ext cx="201600" cy="306720"/>
          </a:xfrm>
          <a:custGeom>
            <a:avLst/>
            <a:gdLst/>
            <a:ahLst/>
            <a:rect l="l" t="t" r="r" b="b"/>
            <a:pathLst>
              <a:path w="255" h="386">
                <a:moveTo>
                  <a:pt x="56" y="70"/>
                </a:moveTo>
                <a:lnTo>
                  <a:pt x="57" y="68"/>
                </a:lnTo>
                <a:lnTo>
                  <a:pt x="64" y="65"/>
                </a:lnTo>
                <a:lnTo>
                  <a:pt x="67" y="63"/>
                </a:lnTo>
                <a:lnTo>
                  <a:pt x="74" y="60"/>
                </a:lnTo>
                <a:lnTo>
                  <a:pt x="79" y="57"/>
                </a:lnTo>
                <a:lnTo>
                  <a:pt x="85" y="53"/>
                </a:lnTo>
                <a:lnTo>
                  <a:pt x="90" y="50"/>
                </a:lnTo>
                <a:lnTo>
                  <a:pt x="98" y="47"/>
                </a:lnTo>
                <a:lnTo>
                  <a:pt x="101" y="44"/>
                </a:lnTo>
                <a:lnTo>
                  <a:pt x="106" y="42"/>
                </a:lnTo>
                <a:lnTo>
                  <a:pt x="109" y="40"/>
                </a:lnTo>
                <a:lnTo>
                  <a:pt x="114" y="39"/>
                </a:lnTo>
                <a:lnTo>
                  <a:pt x="118" y="37"/>
                </a:lnTo>
                <a:lnTo>
                  <a:pt x="121" y="34"/>
                </a:lnTo>
                <a:lnTo>
                  <a:pt x="126" y="32"/>
                </a:lnTo>
                <a:lnTo>
                  <a:pt x="131" y="31"/>
                </a:lnTo>
                <a:lnTo>
                  <a:pt x="134" y="29"/>
                </a:lnTo>
                <a:lnTo>
                  <a:pt x="139" y="26"/>
                </a:lnTo>
                <a:lnTo>
                  <a:pt x="144" y="24"/>
                </a:lnTo>
                <a:lnTo>
                  <a:pt x="149" y="22"/>
                </a:lnTo>
                <a:lnTo>
                  <a:pt x="152" y="21"/>
                </a:lnTo>
                <a:lnTo>
                  <a:pt x="157" y="19"/>
                </a:lnTo>
                <a:lnTo>
                  <a:pt x="162" y="17"/>
                </a:lnTo>
                <a:lnTo>
                  <a:pt x="165" y="16"/>
                </a:lnTo>
                <a:lnTo>
                  <a:pt x="170" y="13"/>
                </a:lnTo>
                <a:lnTo>
                  <a:pt x="175" y="11"/>
                </a:lnTo>
                <a:lnTo>
                  <a:pt x="178" y="9"/>
                </a:lnTo>
                <a:lnTo>
                  <a:pt x="183" y="9"/>
                </a:lnTo>
                <a:lnTo>
                  <a:pt x="188" y="8"/>
                </a:lnTo>
                <a:lnTo>
                  <a:pt x="191" y="6"/>
                </a:lnTo>
                <a:lnTo>
                  <a:pt x="196" y="4"/>
                </a:lnTo>
                <a:lnTo>
                  <a:pt x="199" y="4"/>
                </a:lnTo>
                <a:lnTo>
                  <a:pt x="204" y="3"/>
                </a:lnTo>
                <a:lnTo>
                  <a:pt x="207" y="1"/>
                </a:lnTo>
                <a:lnTo>
                  <a:pt x="212" y="1"/>
                </a:lnTo>
                <a:lnTo>
                  <a:pt x="215" y="1"/>
                </a:lnTo>
                <a:lnTo>
                  <a:pt x="222" y="0"/>
                </a:lnTo>
                <a:lnTo>
                  <a:pt x="228" y="0"/>
                </a:lnTo>
                <a:lnTo>
                  <a:pt x="233" y="0"/>
                </a:lnTo>
                <a:lnTo>
                  <a:pt x="240" y="1"/>
                </a:lnTo>
                <a:lnTo>
                  <a:pt x="243" y="3"/>
                </a:lnTo>
                <a:lnTo>
                  <a:pt x="248" y="6"/>
                </a:lnTo>
                <a:lnTo>
                  <a:pt x="250" y="9"/>
                </a:lnTo>
                <a:lnTo>
                  <a:pt x="253" y="14"/>
                </a:lnTo>
                <a:lnTo>
                  <a:pt x="253" y="19"/>
                </a:lnTo>
                <a:lnTo>
                  <a:pt x="255" y="24"/>
                </a:lnTo>
                <a:lnTo>
                  <a:pt x="253" y="29"/>
                </a:lnTo>
                <a:lnTo>
                  <a:pt x="253" y="34"/>
                </a:lnTo>
                <a:lnTo>
                  <a:pt x="251" y="39"/>
                </a:lnTo>
                <a:lnTo>
                  <a:pt x="250" y="44"/>
                </a:lnTo>
                <a:lnTo>
                  <a:pt x="246" y="50"/>
                </a:lnTo>
                <a:lnTo>
                  <a:pt x="245" y="55"/>
                </a:lnTo>
                <a:lnTo>
                  <a:pt x="240" y="60"/>
                </a:lnTo>
                <a:lnTo>
                  <a:pt x="237" y="65"/>
                </a:lnTo>
                <a:lnTo>
                  <a:pt x="232" y="70"/>
                </a:lnTo>
                <a:lnTo>
                  <a:pt x="227" y="76"/>
                </a:lnTo>
                <a:lnTo>
                  <a:pt x="222" y="81"/>
                </a:lnTo>
                <a:lnTo>
                  <a:pt x="217" y="88"/>
                </a:lnTo>
                <a:lnTo>
                  <a:pt x="212" y="92"/>
                </a:lnTo>
                <a:lnTo>
                  <a:pt x="206" y="99"/>
                </a:lnTo>
                <a:lnTo>
                  <a:pt x="199" y="104"/>
                </a:lnTo>
                <a:lnTo>
                  <a:pt x="194" y="109"/>
                </a:lnTo>
                <a:lnTo>
                  <a:pt x="188" y="115"/>
                </a:lnTo>
                <a:lnTo>
                  <a:pt x="181" y="120"/>
                </a:lnTo>
                <a:lnTo>
                  <a:pt x="175" y="125"/>
                </a:lnTo>
                <a:lnTo>
                  <a:pt x="168" y="132"/>
                </a:lnTo>
                <a:lnTo>
                  <a:pt x="162" y="137"/>
                </a:lnTo>
                <a:lnTo>
                  <a:pt x="155" y="143"/>
                </a:lnTo>
                <a:lnTo>
                  <a:pt x="147" y="148"/>
                </a:lnTo>
                <a:lnTo>
                  <a:pt x="140" y="154"/>
                </a:lnTo>
                <a:lnTo>
                  <a:pt x="136" y="159"/>
                </a:lnTo>
                <a:lnTo>
                  <a:pt x="129" y="166"/>
                </a:lnTo>
                <a:lnTo>
                  <a:pt x="124" y="171"/>
                </a:lnTo>
                <a:lnTo>
                  <a:pt x="118" y="177"/>
                </a:lnTo>
                <a:lnTo>
                  <a:pt x="113" y="182"/>
                </a:lnTo>
                <a:lnTo>
                  <a:pt x="108" y="189"/>
                </a:lnTo>
                <a:lnTo>
                  <a:pt x="103" y="194"/>
                </a:lnTo>
                <a:lnTo>
                  <a:pt x="98" y="200"/>
                </a:lnTo>
                <a:lnTo>
                  <a:pt x="93" y="205"/>
                </a:lnTo>
                <a:lnTo>
                  <a:pt x="88" y="212"/>
                </a:lnTo>
                <a:lnTo>
                  <a:pt x="83" y="218"/>
                </a:lnTo>
                <a:lnTo>
                  <a:pt x="80" y="225"/>
                </a:lnTo>
                <a:lnTo>
                  <a:pt x="75" y="231"/>
                </a:lnTo>
                <a:lnTo>
                  <a:pt x="74" y="238"/>
                </a:lnTo>
                <a:lnTo>
                  <a:pt x="69" y="244"/>
                </a:lnTo>
                <a:lnTo>
                  <a:pt x="65" y="251"/>
                </a:lnTo>
                <a:lnTo>
                  <a:pt x="61" y="257"/>
                </a:lnTo>
                <a:lnTo>
                  <a:pt x="59" y="264"/>
                </a:lnTo>
                <a:lnTo>
                  <a:pt x="54" y="270"/>
                </a:lnTo>
                <a:lnTo>
                  <a:pt x="52" y="277"/>
                </a:lnTo>
                <a:lnTo>
                  <a:pt x="49" y="283"/>
                </a:lnTo>
                <a:lnTo>
                  <a:pt x="46" y="290"/>
                </a:lnTo>
                <a:lnTo>
                  <a:pt x="43" y="295"/>
                </a:lnTo>
                <a:lnTo>
                  <a:pt x="41" y="300"/>
                </a:lnTo>
                <a:lnTo>
                  <a:pt x="38" y="306"/>
                </a:lnTo>
                <a:lnTo>
                  <a:pt x="36" y="311"/>
                </a:lnTo>
                <a:lnTo>
                  <a:pt x="35" y="316"/>
                </a:lnTo>
                <a:lnTo>
                  <a:pt x="33" y="321"/>
                </a:lnTo>
                <a:lnTo>
                  <a:pt x="31" y="324"/>
                </a:lnTo>
                <a:lnTo>
                  <a:pt x="30" y="329"/>
                </a:lnTo>
                <a:lnTo>
                  <a:pt x="26" y="335"/>
                </a:lnTo>
                <a:lnTo>
                  <a:pt x="25" y="340"/>
                </a:lnTo>
                <a:lnTo>
                  <a:pt x="25" y="345"/>
                </a:lnTo>
                <a:lnTo>
                  <a:pt x="25" y="345"/>
                </a:lnTo>
                <a:lnTo>
                  <a:pt x="67" y="358"/>
                </a:lnTo>
                <a:lnTo>
                  <a:pt x="79" y="386"/>
                </a:lnTo>
                <a:lnTo>
                  <a:pt x="0" y="353"/>
                </a:lnTo>
                <a:lnTo>
                  <a:pt x="0" y="352"/>
                </a:lnTo>
                <a:lnTo>
                  <a:pt x="2" y="347"/>
                </a:lnTo>
                <a:lnTo>
                  <a:pt x="4" y="344"/>
                </a:lnTo>
                <a:lnTo>
                  <a:pt x="5" y="340"/>
                </a:lnTo>
                <a:lnTo>
                  <a:pt x="7" y="335"/>
                </a:lnTo>
                <a:lnTo>
                  <a:pt x="8" y="331"/>
                </a:lnTo>
                <a:lnTo>
                  <a:pt x="12" y="324"/>
                </a:lnTo>
                <a:lnTo>
                  <a:pt x="13" y="319"/>
                </a:lnTo>
                <a:lnTo>
                  <a:pt x="15" y="313"/>
                </a:lnTo>
                <a:lnTo>
                  <a:pt x="18" y="306"/>
                </a:lnTo>
                <a:lnTo>
                  <a:pt x="20" y="301"/>
                </a:lnTo>
                <a:lnTo>
                  <a:pt x="21" y="298"/>
                </a:lnTo>
                <a:lnTo>
                  <a:pt x="23" y="295"/>
                </a:lnTo>
                <a:lnTo>
                  <a:pt x="25" y="291"/>
                </a:lnTo>
                <a:lnTo>
                  <a:pt x="28" y="287"/>
                </a:lnTo>
                <a:lnTo>
                  <a:pt x="30" y="283"/>
                </a:lnTo>
                <a:lnTo>
                  <a:pt x="31" y="280"/>
                </a:lnTo>
                <a:lnTo>
                  <a:pt x="35" y="277"/>
                </a:lnTo>
                <a:lnTo>
                  <a:pt x="36" y="272"/>
                </a:lnTo>
                <a:lnTo>
                  <a:pt x="38" y="267"/>
                </a:lnTo>
                <a:lnTo>
                  <a:pt x="39" y="262"/>
                </a:lnTo>
                <a:lnTo>
                  <a:pt x="43" y="259"/>
                </a:lnTo>
                <a:lnTo>
                  <a:pt x="44" y="254"/>
                </a:lnTo>
                <a:lnTo>
                  <a:pt x="46" y="251"/>
                </a:lnTo>
                <a:lnTo>
                  <a:pt x="49" y="246"/>
                </a:lnTo>
                <a:lnTo>
                  <a:pt x="51" y="243"/>
                </a:lnTo>
                <a:lnTo>
                  <a:pt x="52" y="238"/>
                </a:lnTo>
                <a:lnTo>
                  <a:pt x="56" y="233"/>
                </a:lnTo>
                <a:lnTo>
                  <a:pt x="59" y="228"/>
                </a:lnTo>
                <a:lnTo>
                  <a:pt x="61" y="225"/>
                </a:lnTo>
                <a:lnTo>
                  <a:pt x="64" y="220"/>
                </a:lnTo>
                <a:lnTo>
                  <a:pt x="67" y="215"/>
                </a:lnTo>
                <a:lnTo>
                  <a:pt x="69" y="212"/>
                </a:lnTo>
                <a:lnTo>
                  <a:pt x="74" y="207"/>
                </a:lnTo>
                <a:lnTo>
                  <a:pt x="75" y="203"/>
                </a:lnTo>
                <a:lnTo>
                  <a:pt x="79" y="198"/>
                </a:lnTo>
                <a:lnTo>
                  <a:pt x="80" y="194"/>
                </a:lnTo>
                <a:lnTo>
                  <a:pt x="83" y="190"/>
                </a:lnTo>
                <a:lnTo>
                  <a:pt x="87" y="187"/>
                </a:lnTo>
                <a:lnTo>
                  <a:pt x="90" y="182"/>
                </a:lnTo>
                <a:lnTo>
                  <a:pt x="93" y="179"/>
                </a:lnTo>
                <a:lnTo>
                  <a:pt x="96" y="176"/>
                </a:lnTo>
                <a:lnTo>
                  <a:pt x="100" y="171"/>
                </a:lnTo>
                <a:lnTo>
                  <a:pt x="103" y="167"/>
                </a:lnTo>
                <a:lnTo>
                  <a:pt x="106" y="163"/>
                </a:lnTo>
                <a:lnTo>
                  <a:pt x="109" y="159"/>
                </a:lnTo>
                <a:lnTo>
                  <a:pt x="114" y="156"/>
                </a:lnTo>
                <a:lnTo>
                  <a:pt x="118" y="153"/>
                </a:lnTo>
                <a:lnTo>
                  <a:pt x="121" y="150"/>
                </a:lnTo>
                <a:lnTo>
                  <a:pt x="124" y="146"/>
                </a:lnTo>
                <a:lnTo>
                  <a:pt x="131" y="140"/>
                </a:lnTo>
                <a:lnTo>
                  <a:pt x="137" y="133"/>
                </a:lnTo>
                <a:lnTo>
                  <a:pt x="144" y="128"/>
                </a:lnTo>
                <a:lnTo>
                  <a:pt x="150" y="122"/>
                </a:lnTo>
                <a:lnTo>
                  <a:pt x="157" y="115"/>
                </a:lnTo>
                <a:lnTo>
                  <a:pt x="162" y="110"/>
                </a:lnTo>
                <a:lnTo>
                  <a:pt x="168" y="106"/>
                </a:lnTo>
                <a:lnTo>
                  <a:pt x="173" y="101"/>
                </a:lnTo>
                <a:lnTo>
                  <a:pt x="178" y="96"/>
                </a:lnTo>
                <a:lnTo>
                  <a:pt x="181" y="91"/>
                </a:lnTo>
                <a:lnTo>
                  <a:pt x="186" y="88"/>
                </a:lnTo>
                <a:lnTo>
                  <a:pt x="189" y="83"/>
                </a:lnTo>
                <a:lnTo>
                  <a:pt x="193" y="79"/>
                </a:lnTo>
                <a:lnTo>
                  <a:pt x="197" y="75"/>
                </a:lnTo>
                <a:lnTo>
                  <a:pt x="201" y="71"/>
                </a:lnTo>
                <a:lnTo>
                  <a:pt x="204" y="68"/>
                </a:lnTo>
                <a:lnTo>
                  <a:pt x="207" y="62"/>
                </a:lnTo>
                <a:lnTo>
                  <a:pt x="212" y="55"/>
                </a:lnTo>
                <a:lnTo>
                  <a:pt x="214" y="50"/>
                </a:lnTo>
                <a:lnTo>
                  <a:pt x="215" y="45"/>
                </a:lnTo>
                <a:lnTo>
                  <a:pt x="215" y="40"/>
                </a:lnTo>
                <a:lnTo>
                  <a:pt x="215" y="37"/>
                </a:lnTo>
                <a:lnTo>
                  <a:pt x="212" y="34"/>
                </a:lnTo>
                <a:lnTo>
                  <a:pt x="211" y="32"/>
                </a:lnTo>
                <a:lnTo>
                  <a:pt x="207" y="29"/>
                </a:lnTo>
                <a:lnTo>
                  <a:pt x="206" y="29"/>
                </a:lnTo>
                <a:lnTo>
                  <a:pt x="201" y="29"/>
                </a:lnTo>
                <a:lnTo>
                  <a:pt x="197" y="29"/>
                </a:lnTo>
                <a:lnTo>
                  <a:pt x="193" y="29"/>
                </a:lnTo>
                <a:lnTo>
                  <a:pt x="188" y="31"/>
                </a:lnTo>
                <a:lnTo>
                  <a:pt x="183" y="32"/>
                </a:lnTo>
                <a:lnTo>
                  <a:pt x="178" y="34"/>
                </a:lnTo>
                <a:lnTo>
                  <a:pt x="171" y="35"/>
                </a:lnTo>
                <a:lnTo>
                  <a:pt x="167" y="37"/>
                </a:lnTo>
                <a:lnTo>
                  <a:pt x="160" y="40"/>
                </a:lnTo>
                <a:lnTo>
                  <a:pt x="155" y="44"/>
                </a:lnTo>
                <a:lnTo>
                  <a:pt x="147" y="45"/>
                </a:lnTo>
                <a:lnTo>
                  <a:pt x="140" y="48"/>
                </a:lnTo>
                <a:lnTo>
                  <a:pt x="134" y="52"/>
                </a:lnTo>
                <a:lnTo>
                  <a:pt x="129" y="57"/>
                </a:lnTo>
                <a:lnTo>
                  <a:pt x="123" y="58"/>
                </a:lnTo>
                <a:lnTo>
                  <a:pt x="116" y="62"/>
                </a:lnTo>
                <a:lnTo>
                  <a:pt x="109" y="65"/>
                </a:lnTo>
                <a:lnTo>
                  <a:pt x="103" y="68"/>
                </a:lnTo>
                <a:lnTo>
                  <a:pt x="98" y="71"/>
                </a:lnTo>
                <a:lnTo>
                  <a:pt x="92" y="75"/>
                </a:lnTo>
                <a:lnTo>
                  <a:pt x="87" y="78"/>
                </a:lnTo>
                <a:lnTo>
                  <a:pt x="83" y="81"/>
                </a:lnTo>
                <a:lnTo>
                  <a:pt x="79" y="83"/>
                </a:lnTo>
                <a:lnTo>
                  <a:pt x="74" y="86"/>
                </a:lnTo>
                <a:lnTo>
                  <a:pt x="70" y="88"/>
                </a:lnTo>
                <a:lnTo>
                  <a:pt x="69" y="89"/>
                </a:lnTo>
                <a:lnTo>
                  <a:pt x="64" y="92"/>
                </a:lnTo>
                <a:lnTo>
                  <a:pt x="62" y="94"/>
                </a:lnTo>
                <a:lnTo>
                  <a:pt x="56" y="70"/>
                </a:lnTo>
                <a:lnTo>
                  <a:pt x="56" y="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934320" y="4849920"/>
            <a:ext cx="190440" cy="320400"/>
          </a:xfrm>
          <a:custGeom>
            <a:avLst/>
            <a:gdLst/>
            <a:ahLst/>
            <a:rect l="l" t="t" r="r" b="b"/>
            <a:pathLst>
              <a:path w="241" h="405">
                <a:moveTo>
                  <a:pt x="60" y="142"/>
                </a:moveTo>
                <a:lnTo>
                  <a:pt x="60" y="140"/>
                </a:lnTo>
                <a:lnTo>
                  <a:pt x="60" y="140"/>
                </a:lnTo>
                <a:lnTo>
                  <a:pt x="62" y="137"/>
                </a:lnTo>
                <a:lnTo>
                  <a:pt x="65" y="134"/>
                </a:lnTo>
                <a:lnTo>
                  <a:pt x="69" y="129"/>
                </a:lnTo>
                <a:lnTo>
                  <a:pt x="72" y="124"/>
                </a:lnTo>
                <a:lnTo>
                  <a:pt x="77" y="117"/>
                </a:lnTo>
                <a:lnTo>
                  <a:pt x="82" y="113"/>
                </a:lnTo>
                <a:lnTo>
                  <a:pt x="86" y="104"/>
                </a:lnTo>
                <a:lnTo>
                  <a:pt x="93" y="98"/>
                </a:lnTo>
                <a:lnTo>
                  <a:pt x="95" y="95"/>
                </a:lnTo>
                <a:lnTo>
                  <a:pt x="99" y="90"/>
                </a:lnTo>
                <a:lnTo>
                  <a:pt x="101" y="87"/>
                </a:lnTo>
                <a:lnTo>
                  <a:pt x="106" y="83"/>
                </a:lnTo>
                <a:lnTo>
                  <a:pt x="109" y="78"/>
                </a:lnTo>
                <a:lnTo>
                  <a:pt x="113" y="75"/>
                </a:lnTo>
                <a:lnTo>
                  <a:pt x="116" y="72"/>
                </a:lnTo>
                <a:lnTo>
                  <a:pt x="119" y="69"/>
                </a:lnTo>
                <a:lnTo>
                  <a:pt x="122" y="64"/>
                </a:lnTo>
                <a:lnTo>
                  <a:pt x="127" y="60"/>
                </a:lnTo>
                <a:lnTo>
                  <a:pt x="130" y="56"/>
                </a:lnTo>
                <a:lnTo>
                  <a:pt x="135" y="52"/>
                </a:lnTo>
                <a:lnTo>
                  <a:pt x="139" y="49"/>
                </a:lnTo>
                <a:lnTo>
                  <a:pt x="142" y="44"/>
                </a:lnTo>
                <a:lnTo>
                  <a:pt x="145" y="41"/>
                </a:lnTo>
                <a:lnTo>
                  <a:pt x="148" y="38"/>
                </a:lnTo>
                <a:lnTo>
                  <a:pt x="152" y="34"/>
                </a:lnTo>
                <a:lnTo>
                  <a:pt x="157" y="31"/>
                </a:lnTo>
                <a:lnTo>
                  <a:pt x="160" y="28"/>
                </a:lnTo>
                <a:lnTo>
                  <a:pt x="165" y="25"/>
                </a:lnTo>
                <a:lnTo>
                  <a:pt x="168" y="21"/>
                </a:lnTo>
                <a:lnTo>
                  <a:pt x="171" y="18"/>
                </a:lnTo>
                <a:lnTo>
                  <a:pt x="174" y="15"/>
                </a:lnTo>
                <a:lnTo>
                  <a:pt x="179" y="13"/>
                </a:lnTo>
                <a:lnTo>
                  <a:pt x="183" y="12"/>
                </a:lnTo>
                <a:lnTo>
                  <a:pt x="186" y="10"/>
                </a:lnTo>
                <a:lnTo>
                  <a:pt x="189" y="7"/>
                </a:lnTo>
                <a:lnTo>
                  <a:pt x="194" y="7"/>
                </a:lnTo>
                <a:lnTo>
                  <a:pt x="199" y="3"/>
                </a:lnTo>
                <a:lnTo>
                  <a:pt x="205" y="2"/>
                </a:lnTo>
                <a:lnTo>
                  <a:pt x="210" y="0"/>
                </a:lnTo>
                <a:lnTo>
                  <a:pt x="217" y="2"/>
                </a:lnTo>
                <a:lnTo>
                  <a:pt x="222" y="3"/>
                </a:lnTo>
                <a:lnTo>
                  <a:pt x="227" y="7"/>
                </a:lnTo>
                <a:lnTo>
                  <a:pt x="230" y="10"/>
                </a:lnTo>
                <a:lnTo>
                  <a:pt x="235" y="16"/>
                </a:lnTo>
                <a:lnTo>
                  <a:pt x="236" y="23"/>
                </a:lnTo>
                <a:lnTo>
                  <a:pt x="238" y="29"/>
                </a:lnTo>
                <a:lnTo>
                  <a:pt x="238" y="33"/>
                </a:lnTo>
                <a:lnTo>
                  <a:pt x="240" y="36"/>
                </a:lnTo>
                <a:lnTo>
                  <a:pt x="240" y="41"/>
                </a:lnTo>
                <a:lnTo>
                  <a:pt x="241" y="44"/>
                </a:lnTo>
                <a:lnTo>
                  <a:pt x="240" y="47"/>
                </a:lnTo>
                <a:lnTo>
                  <a:pt x="240" y="51"/>
                </a:lnTo>
                <a:lnTo>
                  <a:pt x="240" y="56"/>
                </a:lnTo>
                <a:lnTo>
                  <a:pt x="240" y="59"/>
                </a:lnTo>
                <a:lnTo>
                  <a:pt x="238" y="64"/>
                </a:lnTo>
                <a:lnTo>
                  <a:pt x="238" y="67"/>
                </a:lnTo>
                <a:lnTo>
                  <a:pt x="238" y="72"/>
                </a:lnTo>
                <a:lnTo>
                  <a:pt x="238" y="75"/>
                </a:lnTo>
                <a:lnTo>
                  <a:pt x="236" y="80"/>
                </a:lnTo>
                <a:lnTo>
                  <a:pt x="235" y="83"/>
                </a:lnTo>
                <a:lnTo>
                  <a:pt x="233" y="88"/>
                </a:lnTo>
                <a:lnTo>
                  <a:pt x="231" y="93"/>
                </a:lnTo>
                <a:lnTo>
                  <a:pt x="230" y="96"/>
                </a:lnTo>
                <a:lnTo>
                  <a:pt x="228" y="101"/>
                </a:lnTo>
                <a:lnTo>
                  <a:pt x="228" y="104"/>
                </a:lnTo>
                <a:lnTo>
                  <a:pt x="227" y="109"/>
                </a:lnTo>
                <a:lnTo>
                  <a:pt x="223" y="113"/>
                </a:lnTo>
                <a:lnTo>
                  <a:pt x="222" y="117"/>
                </a:lnTo>
                <a:lnTo>
                  <a:pt x="220" y="121"/>
                </a:lnTo>
                <a:lnTo>
                  <a:pt x="218" y="126"/>
                </a:lnTo>
                <a:lnTo>
                  <a:pt x="217" y="131"/>
                </a:lnTo>
                <a:lnTo>
                  <a:pt x="214" y="134"/>
                </a:lnTo>
                <a:lnTo>
                  <a:pt x="212" y="139"/>
                </a:lnTo>
                <a:lnTo>
                  <a:pt x="210" y="144"/>
                </a:lnTo>
                <a:lnTo>
                  <a:pt x="209" y="147"/>
                </a:lnTo>
                <a:lnTo>
                  <a:pt x="205" y="150"/>
                </a:lnTo>
                <a:lnTo>
                  <a:pt x="204" y="155"/>
                </a:lnTo>
                <a:lnTo>
                  <a:pt x="202" y="158"/>
                </a:lnTo>
                <a:lnTo>
                  <a:pt x="199" y="162"/>
                </a:lnTo>
                <a:lnTo>
                  <a:pt x="197" y="166"/>
                </a:lnTo>
                <a:lnTo>
                  <a:pt x="194" y="170"/>
                </a:lnTo>
                <a:lnTo>
                  <a:pt x="192" y="175"/>
                </a:lnTo>
                <a:lnTo>
                  <a:pt x="187" y="181"/>
                </a:lnTo>
                <a:lnTo>
                  <a:pt x="183" y="188"/>
                </a:lnTo>
                <a:lnTo>
                  <a:pt x="178" y="194"/>
                </a:lnTo>
                <a:lnTo>
                  <a:pt x="174" y="202"/>
                </a:lnTo>
                <a:lnTo>
                  <a:pt x="170" y="207"/>
                </a:lnTo>
                <a:lnTo>
                  <a:pt x="166" y="212"/>
                </a:lnTo>
                <a:lnTo>
                  <a:pt x="161" y="217"/>
                </a:lnTo>
                <a:lnTo>
                  <a:pt x="158" y="222"/>
                </a:lnTo>
                <a:lnTo>
                  <a:pt x="155" y="227"/>
                </a:lnTo>
                <a:lnTo>
                  <a:pt x="152" y="230"/>
                </a:lnTo>
                <a:lnTo>
                  <a:pt x="150" y="233"/>
                </a:lnTo>
                <a:lnTo>
                  <a:pt x="148" y="237"/>
                </a:lnTo>
                <a:lnTo>
                  <a:pt x="145" y="238"/>
                </a:lnTo>
                <a:lnTo>
                  <a:pt x="142" y="240"/>
                </a:lnTo>
                <a:lnTo>
                  <a:pt x="139" y="243"/>
                </a:lnTo>
                <a:lnTo>
                  <a:pt x="135" y="246"/>
                </a:lnTo>
                <a:lnTo>
                  <a:pt x="132" y="250"/>
                </a:lnTo>
                <a:lnTo>
                  <a:pt x="129" y="254"/>
                </a:lnTo>
                <a:lnTo>
                  <a:pt x="124" y="259"/>
                </a:lnTo>
                <a:lnTo>
                  <a:pt x="119" y="264"/>
                </a:lnTo>
                <a:lnTo>
                  <a:pt x="114" y="268"/>
                </a:lnTo>
                <a:lnTo>
                  <a:pt x="108" y="272"/>
                </a:lnTo>
                <a:lnTo>
                  <a:pt x="103" y="277"/>
                </a:lnTo>
                <a:lnTo>
                  <a:pt x="98" y="282"/>
                </a:lnTo>
                <a:lnTo>
                  <a:pt x="93" y="287"/>
                </a:lnTo>
                <a:lnTo>
                  <a:pt x="88" y="292"/>
                </a:lnTo>
                <a:lnTo>
                  <a:pt x="82" y="297"/>
                </a:lnTo>
                <a:lnTo>
                  <a:pt x="77" y="302"/>
                </a:lnTo>
                <a:lnTo>
                  <a:pt x="70" y="307"/>
                </a:lnTo>
                <a:lnTo>
                  <a:pt x="65" y="312"/>
                </a:lnTo>
                <a:lnTo>
                  <a:pt x="60" y="316"/>
                </a:lnTo>
                <a:lnTo>
                  <a:pt x="55" y="321"/>
                </a:lnTo>
                <a:lnTo>
                  <a:pt x="51" y="325"/>
                </a:lnTo>
                <a:lnTo>
                  <a:pt x="46" y="329"/>
                </a:lnTo>
                <a:lnTo>
                  <a:pt x="42" y="333"/>
                </a:lnTo>
                <a:lnTo>
                  <a:pt x="38" y="336"/>
                </a:lnTo>
                <a:lnTo>
                  <a:pt x="34" y="339"/>
                </a:lnTo>
                <a:lnTo>
                  <a:pt x="31" y="343"/>
                </a:lnTo>
                <a:lnTo>
                  <a:pt x="28" y="344"/>
                </a:lnTo>
                <a:lnTo>
                  <a:pt x="26" y="347"/>
                </a:lnTo>
                <a:lnTo>
                  <a:pt x="23" y="351"/>
                </a:lnTo>
                <a:lnTo>
                  <a:pt x="21" y="352"/>
                </a:lnTo>
                <a:lnTo>
                  <a:pt x="44" y="378"/>
                </a:lnTo>
                <a:lnTo>
                  <a:pt x="44" y="405"/>
                </a:lnTo>
                <a:lnTo>
                  <a:pt x="0" y="352"/>
                </a:lnTo>
                <a:lnTo>
                  <a:pt x="2" y="349"/>
                </a:lnTo>
                <a:lnTo>
                  <a:pt x="8" y="344"/>
                </a:lnTo>
                <a:lnTo>
                  <a:pt x="11" y="339"/>
                </a:lnTo>
                <a:lnTo>
                  <a:pt x="16" y="336"/>
                </a:lnTo>
                <a:lnTo>
                  <a:pt x="23" y="331"/>
                </a:lnTo>
                <a:lnTo>
                  <a:pt x="29" y="326"/>
                </a:lnTo>
                <a:lnTo>
                  <a:pt x="33" y="323"/>
                </a:lnTo>
                <a:lnTo>
                  <a:pt x="36" y="320"/>
                </a:lnTo>
                <a:lnTo>
                  <a:pt x="39" y="316"/>
                </a:lnTo>
                <a:lnTo>
                  <a:pt x="44" y="313"/>
                </a:lnTo>
                <a:lnTo>
                  <a:pt x="47" y="308"/>
                </a:lnTo>
                <a:lnTo>
                  <a:pt x="52" y="305"/>
                </a:lnTo>
                <a:lnTo>
                  <a:pt x="55" y="302"/>
                </a:lnTo>
                <a:lnTo>
                  <a:pt x="60" y="299"/>
                </a:lnTo>
                <a:lnTo>
                  <a:pt x="64" y="294"/>
                </a:lnTo>
                <a:lnTo>
                  <a:pt x="69" y="289"/>
                </a:lnTo>
                <a:lnTo>
                  <a:pt x="73" y="284"/>
                </a:lnTo>
                <a:lnTo>
                  <a:pt x="78" y="281"/>
                </a:lnTo>
                <a:lnTo>
                  <a:pt x="82" y="276"/>
                </a:lnTo>
                <a:lnTo>
                  <a:pt x="86" y="271"/>
                </a:lnTo>
                <a:lnTo>
                  <a:pt x="91" y="268"/>
                </a:lnTo>
                <a:lnTo>
                  <a:pt x="96" y="263"/>
                </a:lnTo>
                <a:lnTo>
                  <a:pt x="101" y="258"/>
                </a:lnTo>
                <a:lnTo>
                  <a:pt x="104" y="253"/>
                </a:lnTo>
                <a:lnTo>
                  <a:pt x="109" y="248"/>
                </a:lnTo>
                <a:lnTo>
                  <a:pt x="114" y="243"/>
                </a:lnTo>
                <a:lnTo>
                  <a:pt x="119" y="238"/>
                </a:lnTo>
                <a:lnTo>
                  <a:pt x="122" y="233"/>
                </a:lnTo>
                <a:lnTo>
                  <a:pt x="127" y="227"/>
                </a:lnTo>
                <a:lnTo>
                  <a:pt x="132" y="222"/>
                </a:lnTo>
                <a:lnTo>
                  <a:pt x="135" y="217"/>
                </a:lnTo>
                <a:lnTo>
                  <a:pt x="140" y="212"/>
                </a:lnTo>
                <a:lnTo>
                  <a:pt x="145" y="207"/>
                </a:lnTo>
                <a:lnTo>
                  <a:pt x="148" y="202"/>
                </a:lnTo>
                <a:lnTo>
                  <a:pt x="153" y="196"/>
                </a:lnTo>
                <a:lnTo>
                  <a:pt x="157" y="191"/>
                </a:lnTo>
                <a:lnTo>
                  <a:pt x="161" y="186"/>
                </a:lnTo>
                <a:lnTo>
                  <a:pt x="165" y="181"/>
                </a:lnTo>
                <a:lnTo>
                  <a:pt x="168" y="175"/>
                </a:lnTo>
                <a:lnTo>
                  <a:pt x="171" y="170"/>
                </a:lnTo>
                <a:lnTo>
                  <a:pt x="174" y="165"/>
                </a:lnTo>
                <a:lnTo>
                  <a:pt x="178" y="160"/>
                </a:lnTo>
                <a:lnTo>
                  <a:pt x="181" y="155"/>
                </a:lnTo>
                <a:lnTo>
                  <a:pt x="184" y="148"/>
                </a:lnTo>
                <a:lnTo>
                  <a:pt x="187" y="144"/>
                </a:lnTo>
                <a:lnTo>
                  <a:pt x="189" y="139"/>
                </a:lnTo>
                <a:lnTo>
                  <a:pt x="191" y="134"/>
                </a:lnTo>
                <a:lnTo>
                  <a:pt x="194" y="129"/>
                </a:lnTo>
                <a:lnTo>
                  <a:pt x="196" y="124"/>
                </a:lnTo>
                <a:lnTo>
                  <a:pt x="197" y="119"/>
                </a:lnTo>
                <a:lnTo>
                  <a:pt x="199" y="113"/>
                </a:lnTo>
                <a:lnTo>
                  <a:pt x="201" y="109"/>
                </a:lnTo>
                <a:lnTo>
                  <a:pt x="201" y="103"/>
                </a:lnTo>
                <a:lnTo>
                  <a:pt x="202" y="100"/>
                </a:lnTo>
                <a:lnTo>
                  <a:pt x="202" y="95"/>
                </a:lnTo>
                <a:lnTo>
                  <a:pt x="202" y="90"/>
                </a:lnTo>
                <a:lnTo>
                  <a:pt x="202" y="87"/>
                </a:lnTo>
                <a:lnTo>
                  <a:pt x="204" y="82"/>
                </a:lnTo>
                <a:lnTo>
                  <a:pt x="204" y="78"/>
                </a:lnTo>
                <a:lnTo>
                  <a:pt x="204" y="75"/>
                </a:lnTo>
                <a:lnTo>
                  <a:pt x="204" y="72"/>
                </a:lnTo>
                <a:lnTo>
                  <a:pt x="204" y="69"/>
                </a:lnTo>
                <a:lnTo>
                  <a:pt x="202" y="62"/>
                </a:lnTo>
                <a:lnTo>
                  <a:pt x="201" y="59"/>
                </a:lnTo>
                <a:lnTo>
                  <a:pt x="199" y="56"/>
                </a:lnTo>
                <a:lnTo>
                  <a:pt x="197" y="52"/>
                </a:lnTo>
                <a:lnTo>
                  <a:pt x="192" y="47"/>
                </a:lnTo>
                <a:lnTo>
                  <a:pt x="187" y="47"/>
                </a:lnTo>
                <a:lnTo>
                  <a:pt x="179" y="47"/>
                </a:lnTo>
                <a:lnTo>
                  <a:pt x="174" y="51"/>
                </a:lnTo>
                <a:lnTo>
                  <a:pt x="170" y="51"/>
                </a:lnTo>
                <a:lnTo>
                  <a:pt x="166" y="54"/>
                </a:lnTo>
                <a:lnTo>
                  <a:pt x="163" y="56"/>
                </a:lnTo>
                <a:lnTo>
                  <a:pt x="160" y="57"/>
                </a:lnTo>
                <a:lnTo>
                  <a:pt x="153" y="62"/>
                </a:lnTo>
                <a:lnTo>
                  <a:pt x="148" y="67"/>
                </a:lnTo>
                <a:lnTo>
                  <a:pt x="142" y="70"/>
                </a:lnTo>
                <a:lnTo>
                  <a:pt x="139" y="75"/>
                </a:lnTo>
                <a:lnTo>
                  <a:pt x="135" y="77"/>
                </a:lnTo>
                <a:lnTo>
                  <a:pt x="135" y="78"/>
                </a:lnTo>
                <a:lnTo>
                  <a:pt x="62" y="165"/>
                </a:lnTo>
                <a:lnTo>
                  <a:pt x="60" y="142"/>
                </a:lnTo>
                <a:lnTo>
                  <a:pt x="60" y="1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64280" y="4933800"/>
            <a:ext cx="182520" cy="405000"/>
          </a:xfrm>
          <a:custGeom>
            <a:avLst/>
            <a:gdLst/>
            <a:ahLst/>
            <a:rect l="l" t="t" r="r" b="b"/>
            <a:pathLst>
              <a:path w="228" h="511">
                <a:moveTo>
                  <a:pt x="0" y="196"/>
                </a:moveTo>
                <a:lnTo>
                  <a:pt x="0" y="194"/>
                </a:lnTo>
                <a:lnTo>
                  <a:pt x="0" y="193"/>
                </a:lnTo>
                <a:lnTo>
                  <a:pt x="0" y="189"/>
                </a:lnTo>
                <a:lnTo>
                  <a:pt x="2" y="184"/>
                </a:lnTo>
                <a:lnTo>
                  <a:pt x="2" y="179"/>
                </a:lnTo>
                <a:lnTo>
                  <a:pt x="3" y="175"/>
                </a:lnTo>
                <a:lnTo>
                  <a:pt x="7" y="168"/>
                </a:lnTo>
                <a:lnTo>
                  <a:pt x="10" y="162"/>
                </a:lnTo>
                <a:lnTo>
                  <a:pt x="10" y="157"/>
                </a:lnTo>
                <a:lnTo>
                  <a:pt x="11" y="152"/>
                </a:lnTo>
                <a:lnTo>
                  <a:pt x="13" y="148"/>
                </a:lnTo>
                <a:lnTo>
                  <a:pt x="15" y="144"/>
                </a:lnTo>
                <a:lnTo>
                  <a:pt x="16" y="140"/>
                </a:lnTo>
                <a:lnTo>
                  <a:pt x="18" y="135"/>
                </a:lnTo>
                <a:lnTo>
                  <a:pt x="21" y="131"/>
                </a:lnTo>
                <a:lnTo>
                  <a:pt x="23" y="127"/>
                </a:lnTo>
                <a:lnTo>
                  <a:pt x="24" y="121"/>
                </a:lnTo>
                <a:lnTo>
                  <a:pt x="28" y="116"/>
                </a:lnTo>
                <a:lnTo>
                  <a:pt x="29" y="111"/>
                </a:lnTo>
                <a:lnTo>
                  <a:pt x="33" y="108"/>
                </a:lnTo>
                <a:lnTo>
                  <a:pt x="34" y="103"/>
                </a:lnTo>
                <a:lnTo>
                  <a:pt x="37" y="98"/>
                </a:lnTo>
                <a:lnTo>
                  <a:pt x="41" y="93"/>
                </a:lnTo>
                <a:lnTo>
                  <a:pt x="44" y="88"/>
                </a:lnTo>
                <a:lnTo>
                  <a:pt x="46" y="83"/>
                </a:lnTo>
                <a:lnTo>
                  <a:pt x="49" y="78"/>
                </a:lnTo>
                <a:lnTo>
                  <a:pt x="52" y="73"/>
                </a:lnTo>
                <a:lnTo>
                  <a:pt x="55" y="69"/>
                </a:lnTo>
                <a:lnTo>
                  <a:pt x="59" y="64"/>
                </a:lnTo>
                <a:lnTo>
                  <a:pt x="62" y="59"/>
                </a:lnTo>
                <a:lnTo>
                  <a:pt x="67" y="56"/>
                </a:lnTo>
                <a:lnTo>
                  <a:pt x="70" y="51"/>
                </a:lnTo>
                <a:lnTo>
                  <a:pt x="75" y="46"/>
                </a:lnTo>
                <a:lnTo>
                  <a:pt x="78" y="42"/>
                </a:lnTo>
                <a:lnTo>
                  <a:pt x="83" y="38"/>
                </a:lnTo>
                <a:lnTo>
                  <a:pt x="86" y="34"/>
                </a:lnTo>
                <a:lnTo>
                  <a:pt x="91" y="31"/>
                </a:lnTo>
                <a:lnTo>
                  <a:pt x="96" y="26"/>
                </a:lnTo>
                <a:lnTo>
                  <a:pt x="99" y="23"/>
                </a:lnTo>
                <a:lnTo>
                  <a:pt x="106" y="21"/>
                </a:lnTo>
                <a:lnTo>
                  <a:pt x="109" y="16"/>
                </a:lnTo>
                <a:lnTo>
                  <a:pt x="116" y="13"/>
                </a:lnTo>
                <a:lnTo>
                  <a:pt x="119" y="11"/>
                </a:lnTo>
                <a:lnTo>
                  <a:pt x="125" y="10"/>
                </a:lnTo>
                <a:lnTo>
                  <a:pt x="130" y="7"/>
                </a:lnTo>
                <a:lnTo>
                  <a:pt x="137" y="5"/>
                </a:lnTo>
                <a:lnTo>
                  <a:pt x="143" y="3"/>
                </a:lnTo>
                <a:lnTo>
                  <a:pt x="148" y="2"/>
                </a:lnTo>
                <a:lnTo>
                  <a:pt x="155" y="0"/>
                </a:lnTo>
                <a:lnTo>
                  <a:pt x="161" y="0"/>
                </a:lnTo>
                <a:lnTo>
                  <a:pt x="166" y="0"/>
                </a:lnTo>
                <a:lnTo>
                  <a:pt x="174" y="0"/>
                </a:lnTo>
                <a:lnTo>
                  <a:pt x="179" y="0"/>
                </a:lnTo>
                <a:lnTo>
                  <a:pt x="187" y="0"/>
                </a:lnTo>
                <a:lnTo>
                  <a:pt x="194" y="0"/>
                </a:lnTo>
                <a:lnTo>
                  <a:pt x="202" y="2"/>
                </a:lnTo>
                <a:lnTo>
                  <a:pt x="204" y="3"/>
                </a:lnTo>
                <a:lnTo>
                  <a:pt x="209" y="7"/>
                </a:lnTo>
                <a:lnTo>
                  <a:pt x="212" y="10"/>
                </a:lnTo>
                <a:lnTo>
                  <a:pt x="217" y="15"/>
                </a:lnTo>
                <a:lnTo>
                  <a:pt x="218" y="16"/>
                </a:lnTo>
                <a:lnTo>
                  <a:pt x="220" y="20"/>
                </a:lnTo>
                <a:lnTo>
                  <a:pt x="222" y="23"/>
                </a:lnTo>
                <a:lnTo>
                  <a:pt x="223" y="28"/>
                </a:lnTo>
                <a:lnTo>
                  <a:pt x="225" y="31"/>
                </a:lnTo>
                <a:lnTo>
                  <a:pt x="225" y="34"/>
                </a:lnTo>
                <a:lnTo>
                  <a:pt x="227" y="39"/>
                </a:lnTo>
                <a:lnTo>
                  <a:pt x="228" y="44"/>
                </a:lnTo>
                <a:lnTo>
                  <a:pt x="228" y="49"/>
                </a:lnTo>
                <a:lnTo>
                  <a:pt x="228" y="56"/>
                </a:lnTo>
                <a:lnTo>
                  <a:pt x="228" y="62"/>
                </a:lnTo>
                <a:lnTo>
                  <a:pt x="228" y="69"/>
                </a:lnTo>
                <a:lnTo>
                  <a:pt x="227" y="72"/>
                </a:lnTo>
                <a:lnTo>
                  <a:pt x="227" y="75"/>
                </a:lnTo>
                <a:lnTo>
                  <a:pt x="225" y="78"/>
                </a:lnTo>
                <a:lnTo>
                  <a:pt x="225" y="83"/>
                </a:lnTo>
                <a:lnTo>
                  <a:pt x="223" y="87"/>
                </a:lnTo>
                <a:lnTo>
                  <a:pt x="223" y="90"/>
                </a:lnTo>
                <a:lnTo>
                  <a:pt x="222" y="95"/>
                </a:lnTo>
                <a:lnTo>
                  <a:pt x="222" y="100"/>
                </a:lnTo>
                <a:lnTo>
                  <a:pt x="218" y="103"/>
                </a:lnTo>
                <a:lnTo>
                  <a:pt x="218" y="108"/>
                </a:lnTo>
                <a:lnTo>
                  <a:pt x="215" y="113"/>
                </a:lnTo>
                <a:lnTo>
                  <a:pt x="215" y="117"/>
                </a:lnTo>
                <a:lnTo>
                  <a:pt x="212" y="122"/>
                </a:lnTo>
                <a:lnTo>
                  <a:pt x="210" y="127"/>
                </a:lnTo>
                <a:lnTo>
                  <a:pt x="209" y="134"/>
                </a:lnTo>
                <a:lnTo>
                  <a:pt x="207" y="140"/>
                </a:lnTo>
                <a:lnTo>
                  <a:pt x="204" y="145"/>
                </a:lnTo>
                <a:lnTo>
                  <a:pt x="200" y="150"/>
                </a:lnTo>
                <a:lnTo>
                  <a:pt x="197" y="155"/>
                </a:lnTo>
                <a:lnTo>
                  <a:pt x="196" y="162"/>
                </a:lnTo>
                <a:lnTo>
                  <a:pt x="194" y="166"/>
                </a:lnTo>
                <a:lnTo>
                  <a:pt x="191" y="171"/>
                </a:lnTo>
                <a:lnTo>
                  <a:pt x="189" y="178"/>
                </a:lnTo>
                <a:lnTo>
                  <a:pt x="187" y="184"/>
                </a:lnTo>
                <a:lnTo>
                  <a:pt x="184" y="189"/>
                </a:lnTo>
                <a:lnTo>
                  <a:pt x="183" y="196"/>
                </a:lnTo>
                <a:lnTo>
                  <a:pt x="179" y="201"/>
                </a:lnTo>
                <a:lnTo>
                  <a:pt x="178" y="206"/>
                </a:lnTo>
                <a:lnTo>
                  <a:pt x="176" y="212"/>
                </a:lnTo>
                <a:lnTo>
                  <a:pt x="174" y="219"/>
                </a:lnTo>
                <a:lnTo>
                  <a:pt x="171" y="223"/>
                </a:lnTo>
                <a:lnTo>
                  <a:pt x="171" y="230"/>
                </a:lnTo>
                <a:lnTo>
                  <a:pt x="168" y="235"/>
                </a:lnTo>
                <a:lnTo>
                  <a:pt x="166" y="241"/>
                </a:lnTo>
                <a:lnTo>
                  <a:pt x="165" y="246"/>
                </a:lnTo>
                <a:lnTo>
                  <a:pt x="163" y="253"/>
                </a:lnTo>
                <a:lnTo>
                  <a:pt x="161" y="258"/>
                </a:lnTo>
                <a:lnTo>
                  <a:pt x="158" y="264"/>
                </a:lnTo>
                <a:lnTo>
                  <a:pt x="156" y="271"/>
                </a:lnTo>
                <a:lnTo>
                  <a:pt x="156" y="276"/>
                </a:lnTo>
                <a:lnTo>
                  <a:pt x="155" y="281"/>
                </a:lnTo>
                <a:lnTo>
                  <a:pt x="153" y="287"/>
                </a:lnTo>
                <a:lnTo>
                  <a:pt x="152" y="294"/>
                </a:lnTo>
                <a:lnTo>
                  <a:pt x="150" y="299"/>
                </a:lnTo>
                <a:lnTo>
                  <a:pt x="148" y="305"/>
                </a:lnTo>
                <a:lnTo>
                  <a:pt x="148" y="310"/>
                </a:lnTo>
                <a:lnTo>
                  <a:pt x="147" y="316"/>
                </a:lnTo>
                <a:lnTo>
                  <a:pt x="147" y="321"/>
                </a:lnTo>
                <a:lnTo>
                  <a:pt x="143" y="328"/>
                </a:lnTo>
                <a:lnTo>
                  <a:pt x="143" y="333"/>
                </a:lnTo>
                <a:lnTo>
                  <a:pt x="142" y="339"/>
                </a:lnTo>
                <a:lnTo>
                  <a:pt x="142" y="344"/>
                </a:lnTo>
                <a:lnTo>
                  <a:pt x="140" y="349"/>
                </a:lnTo>
                <a:lnTo>
                  <a:pt x="140" y="356"/>
                </a:lnTo>
                <a:lnTo>
                  <a:pt x="140" y="360"/>
                </a:lnTo>
                <a:lnTo>
                  <a:pt x="140" y="367"/>
                </a:lnTo>
                <a:lnTo>
                  <a:pt x="139" y="372"/>
                </a:lnTo>
                <a:lnTo>
                  <a:pt x="139" y="377"/>
                </a:lnTo>
                <a:lnTo>
                  <a:pt x="137" y="383"/>
                </a:lnTo>
                <a:lnTo>
                  <a:pt x="137" y="388"/>
                </a:lnTo>
                <a:lnTo>
                  <a:pt x="137" y="393"/>
                </a:lnTo>
                <a:lnTo>
                  <a:pt x="137" y="398"/>
                </a:lnTo>
                <a:lnTo>
                  <a:pt x="137" y="405"/>
                </a:lnTo>
                <a:lnTo>
                  <a:pt x="139" y="409"/>
                </a:lnTo>
                <a:lnTo>
                  <a:pt x="139" y="414"/>
                </a:lnTo>
                <a:lnTo>
                  <a:pt x="139" y="419"/>
                </a:lnTo>
                <a:lnTo>
                  <a:pt x="139" y="426"/>
                </a:lnTo>
                <a:lnTo>
                  <a:pt x="140" y="431"/>
                </a:lnTo>
                <a:lnTo>
                  <a:pt x="140" y="435"/>
                </a:lnTo>
                <a:lnTo>
                  <a:pt x="140" y="440"/>
                </a:lnTo>
                <a:lnTo>
                  <a:pt x="142" y="445"/>
                </a:lnTo>
                <a:lnTo>
                  <a:pt x="143" y="450"/>
                </a:lnTo>
                <a:lnTo>
                  <a:pt x="143" y="455"/>
                </a:lnTo>
                <a:lnTo>
                  <a:pt x="143" y="460"/>
                </a:lnTo>
                <a:lnTo>
                  <a:pt x="145" y="465"/>
                </a:lnTo>
                <a:lnTo>
                  <a:pt x="147" y="470"/>
                </a:lnTo>
                <a:lnTo>
                  <a:pt x="148" y="475"/>
                </a:lnTo>
                <a:lnTo>
                  <a:pt x="150" y="480"/>
                </a:lnTo>
                <a:lnTo>
                  <a:pt x="152" y="483"/>
                </a:lnTo>
                <a:lnTo>
                  <a:pt x="153" y="489"/>
                </a:lnTo>
                <a:lnTo>
                  <a:pt x="187" y="484"/>
                </a:lnTo>
                <a:lnTo>
                  <a:pt x="207" y="494"/>
                </a:lnTo>
                <a:lnTo>
                  <a:pt x="145" y="511"/>
                </a:lnTo>
                <a:lnTo>
                  <a:pt x="143" y="507"/>
                </a:lnTo>
                <a:lnTo>
                  <a:pt x="142" y="504"/>
                </a:lnTo>
                <a:lnTo>
                  <a:pt x="140" y="499"/>
                </a:lnTo>
                <a:lnTo>
                  <a:pt x="140" y="496"/>
                </a:lnTo>
                <a:lnTo>
                  <a:pt x="139" y="491"/>
                </a:lnTo>
                <a:lnTo>
                  <a:pt x="137" y="486"/>
                </a:lnTo>
                <a:lnTo>
                  <a:pt x="135" y="480"/>
                </a:lnTo>
                <a:lnTo>
                  <a:pt x="134" y="473"/>
                </a:lnTo>
                <a:lnTo>
                  <a:pt x="132" y="468"/>
                </a:lnTo>
                <a:lnTo>
                  <a:pt x="132" y="465"/>
                </a:lnTo>
                <a:lnTo>
                  <a:pt x="130" y="460"/>
                </a:lnTo>
                <a:lnTo>
                  <a:pt x="130" y="457"/>
                </a:lnTo>
                <a:lnTo>
                  <a:pt x="129" y="453"/>
                </a:lnTo>
                <a:lnTo>
                  <a:pt x="129" y="449"/>
                </a:lnTo>
                <a:lnTo>
                  <a:pt x="127" y="444"/>
                </a:lnTo>
                <a:lnTo>
                  <a:pt x="127" y="439"/>
                </a:lnTo>
                <a:lnTo>
                  <a:pt x="127" y="434"/>
                </a:lnTo>
                <a:lnTo>
                  <a:pt x="125" y="429"/>
                </a:lnTo>
                <a:lnTo>
                  <a:pt x="125" y="426"/>
                </a:lnTo>
                <a:lnTo>
                  <a:pt x="125" y="421"/>
                </a:lnTo>
                <a:lnTo>
                  <a:pt x="125" y="414"/>
                </a:lnTo>
                <a:lnTo>
                  <a:pt x="124" y="409"/>
                </a:lnTo>
                <a:lnTo>
                  <a:pt x="124" y="403"/>
                </a:lnTo>
                <a:lnTo>
                  <a:pt x="124" y="398"/>
                </a:lnTo>
                <a:lnTo>
                  <a:pt x="124" y="391"/>
                </a:lnTo>
                <a:lnTo>
                  <a:pt x="124" y="387"/>
                </a:lnTo>
                <a:lnTo>
                  <a:pt x="124" y="380"/>
                </a:lnTo>
                <a:lnTo>
                  <a:pt x="124" y="374"/>
                </a:lnTo>
                <a:lnTo>
                  <a:pt x="124" y="367"/>
                </a:lnTo>
                <a:lnTo>
                  <a:pt x="124" y="360"/>
                </a:lnTo>
                <a:lnTo>
                  <a:pt x="124" y="354"/>
                </a:lnTo>
                <a:lnTo>
                  <a:pt x="125" y="349"/>
                </a:lnTo>
                <a:lnTo>
                  <a:pt x="125" y="341"/>
                </a:lnTo>
                <a:lnTo>
                  <a:pt x="127" y="334"/>
                </a:lnTo>
                <a:lnTo>
                  <a:pt x="127" y="328"/>
                </a:lnTo>
                <a:lnTo>
                  <a:pt x="129" y="321"/>
                </a:lnTo>
                <a:lnTo>
                  <a:pt x="129" y="313"/>
                </a:lnTo>
                <a:lnTo>
                  <a:pt x="130" y="307"/>
                </a:lnTo>
                <a:lnTo>
                  <a:pt x="130" y="299"/>
                </a:lnTo>
                <a:lnTo>
                  <a:pt x="134" y="292"/>
                </a:lnTo>
                <a:lnTo>
                  <a:pt x="134" y="284"/>
                </a:lnTo>
                <a:lnTo>
                  <a:pt x="137" y="277"/>
                </a:lnTo>
                <a:lnTo>
                  <a:pt x="139" y="269"/>
                </a:lnTo>
                <a:lnTo>
                  <a:pt x="140" y="261"/>
                </a:lnTo>
                <a:lnTo>
                  <a:pt x="142" y="253"/>
                </a:lnTo>
                <a:lnTo>
                  <a:pt x="143" y="246"/>
                </a:lnTo>
                <a:lnTo>
                  <a:pt x="147" y="238"/>
                </a:lnTo>
                <a:lnTo>
                  <a:pt x="150" y="230"/>
                </a:lnTo>
                <a:lnTo>
                  <a:pt x="152" y="222"/>
                </a:lnTo>
                <a:lnTo>
                  <a:pt x="155" y="214"/>
                </a:lnTo>
                <a:lnTo>
                  <a:pt x="158" y="206"/>
                </a:lnTo>
                <a:lnTo>
                  <a:pt x="163" y="197"/>
                </a:lnTo>
                <a:lnTo>
                  <a:pt x="165" y="189"/>
                </a:lnTo>
                <a:lnTo>
                  <a:pt x="168" y="181"/>
                </a:lnTo>
                <a:lnTo>
                  <a:pt x="171" y="173"/>
                </a:lnTo>
                <a:lnTo>
                  <a:pt x="174" y="165"/>
                </a:lnTo>
                <a:lnTo>
                  <a:pt x="176" y="158"/>
                </a:lnTo>
                <a:lnTo>
                  <a:pt x="179" y="152"/>
                </a:lnTo>
                <a:lnTo>
                  <a:pt x="181" y="144"/>
                </a:lnTo>
                <a:lnTo>
                  <a:pt x="184" y="137"/>
                </a:lnTo>
                <a:lnTo>
                  <a:pt x="184" y="131"/>
                </a:lnTo>
                <a:lnTo>
                  <a:pt x="187" y="126"/>
                </a:lnTo>
                <a:lnTo>
                  <a:pt x="187" y="119"/>
                </a:lnTo>
                <a:lnTo>
                  <a:pt x="189" y="114"/>
                </a:lnTo>
                <a:lnTo>
                  <a:pt x="191" y="108"/>
                </a:lnTo>
                <a:lnTo>
                  <a:pt x="191" y="103"/>
                </a:lnTo>
                <a:lnTo>
                  <a:pt x="192" y="98"/>
                </a:lnTo>
                <a:lnTo>
                  <a:pt x="194" y="95"/>
                </a:lnTo>
                <a:lnTo>
                  <a:pt x="194" y="90"/>
                </a:lnTo>
                <a:lnTo>
                  <a:pt x="196" y="85"/>
                </a:lnTo>
                <a:lnTo>
                  <a:pt x="196" y="80"/>
                </a:lnTo>
                <a:lnTo>
                  <a:pt x="196" y="77"/>
                </a:lnTo>
                <a:lnTo>
                  <a:pt x="196" y="72"/>
                </a:lnTo>
                <a:lnTo>
                  <a:pt x="196" y="69"/>
                </a:lnTo>
                <a:lnTo>
                  <a:pt x="196" y="65"/>
                </a:lnTo>
                <a:lnTo>
                  <a:pt x="196" y="62"/>
                </a:lnTo>
                <a:lnTo>
                  <a:pt x="196" y="57"/>
                </a:lnTo>
                <a:lnTo>
                  <a:pt x="196" y="51"/>
                </a:lnTo>
                <a:lnTo>
                  <a:pt x="194" y="47"/>
                </a:lnTo>
                <a:lnTo>
                  <a:pt x="192" y="42"/>
                </a:lnTo>
                <a:lnTo>
                  <a:pt x="191" y="39"/>
                </a:lnTo>
                <a:lnTo>
                  <a:pt x="189" y="36"/>
                </a:lnTo>
                <a:lnTo>
                  <a:pt x="187" y="33"/>
                </a:lnTo>
                <a:lnTo>
                  <a:pt x="184" y="31"/>
                </a:lnTo>
                <a:lnTo>
                  <a:pt x="181" y="26"/>
                </a:lnTo>
                <a:lnTo>
                  <a:pt x="178" y="25"/>
                </a:lnTo>
                <a:lnTo>
                  <a:pt x="173" y="23"/>
                </a:lnTo>
                <a:lnTo>
                  <a:pt x="171" y="23"/>
                </a:lnTo>
                <a:lnTo>
                  <a:pt x="168" y="23"/>
                </a:lnTo>
                <a:lnTo>
                  <a:pt x="168" y="23"/>
                </a:lnTo>
                <a:lnTo>
                  <a:pt x="166" y="23"/>
                </a:lnTo>
                <a:lnTo>
                  <a:pt x="165" y="23"/>
                </a:lnTo>
                <a:lnTo>
                  <a:pt x="161" y="23"/>
                </a:lnTo>
                <a:lnTo>
                  <a:pt x="156" y="25"/>
                </a:lnTo>
                <a:lnTo>
                  <a:pt x="152" y="25"/>
                </a:lnTo>
                <a:lnTo>
                  <a:pt x="147" y="26"/>
                </a:lnTo>
                <a:lnTo>
                  <a:pt x="139" y="28"/>
                </a:lnTo>
                <a:lnTo>
                  <a:pt x="132" y="33"/>
                </a:lnTo>
                <a:lnTo>
                  <a:pt x="127" y="34"/>
                </a:lnTo>
                <a:lnTo>
                  <a:pt x="124" y="36"/>
                </a:lnTo>
                <a:lnTo>
                  <a:pt x="119" y="38"/>
                </a:lnTo>
                <a:lnTo>
                  <a:pt x="116" y="41"/>
                </a:lnTo>
                <a:lnTo>
                  <a:pt x="111" y="42"/>
                </a:lnTo>
                <a:lnTo>
                  <a:pt x="106" y="46"/>
                </a:lnTo>
                <a:lnTo>
                  <a:pt x="103" y="49"/>
                </a:lnTo>
                <a:lnTo>
                  <a:pt x="98" y="54"/>
                </a:lnTo>
                <a:lnTo>
                  <a:pt x="93" y="57"/>
                </a:lnTo>
                <a:lnTo>
                  <a:pt x="90" y="60"/>
                </a:lnTo>
                <a:lnTo>
                  <a:pt x="83" y="65"/>
                </a:lnTo>
                <a:lnTo>
                  <a:pt x="80" y="70"/>
                </a:lnTo>
                <a:lnTo>
                  <a:pt x="75" y="75"/>
                </a:lnTo>
                <a:lnTo>
                  <a:pt x="70" y="82"/>
                </a:lnTo>
                <a:lnTo>
                  <a:pt x="65" y="87"/>
                </a:lnTo>
                <a:lnTo>
                  <a:pt x="62" y="95"/>
                </a:lnTo>
                <a:lnTo>
                  <a:pt x="57" y="100"/>
                </a:lnTo>
                <a:lnTo>
                  <a:pt x="52" y="106"/>
                </a:lnTo>
                <a:lnTo>
                  <a:pt x="49" y="113"/>
                </a:lnTo>
                <a:lnTo>
                  <a:pt x="46" y="119"/>
                </a:lnTo>
                <a:lnTo>
                  <a:pt x="42" y="126"/>
                </a:lnTo>
                <a:lnTo>
                  <a:pt x="39" y="132"/>
                </a:lnTo>
                <a:lnTo>
                  <a:pt x="36" y="139"/>
                </a:lnTo>
                <a:lnTo>
                  <a:pt x="34" y="145"/>
                </a:lnTo>
                <a:lnTo>
                  <a:pt x="31" y="150"/>
                </a:lnTo>
                <a:lnTo>
                  <a:pt x="29" y="157"/>
                </a:lnTo>
                <a:lnTo>
                  <a:pt x="28" y="162"/>
                </a:lnTo>
                <a:lnTo>
                  <a:pt x="24" y="168"/>
                </a:lnTo>
                <a:lnTo>
                  <a:pt x="23" y="173"/>
                </a:lnTo>
                <a:lnTo>
                  <a:pt x="23" y="179"/>
                </a:lnTo>
                <a:lnTo>
                  <a:pt x="21" y="184"/>
                </a:lnTo>
                <a:lnTo>
                  <a:pt x="21" y="189"/>
                </a:lnTo>
                <a:lnTo>
                  <a:pt x="18" y="194"/>
                </a:lnTo>
                <a:lnTo>
                  <a:pt x="18" y="199"/>
                </a:lnTo>
                <a:lnTo>
                  <a:pt x="16" y="202"/>
                </a:lnTo>
                <a:lnTo>
                  <a:pt x="16" y="207"/>
                </a:lnTo>
                <a:lnTo>
                  <a:pt x="16" y="210"/>
                </a:lnTo>
                <a:lnTo>
                  <a:pt x="15" y="219"/>
                </a:lnTo>
                <a:lnTo>
                  <a:pt x="15" y="222"/>
                </a:lnTo>
                <a:lnTo>
                  <a:pt x="15" y="227"/>
                </a:lnTo>
                <a:lnTo>
                  <a:pt x="15" y="233"/>
                </a:lnTo>
                <a:lnTo>
                  <a:pt x="0" y="196"/>
                </a:lnTo>
                <a:lnTo>
                  <a:pt x="0" y="19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07200" y="5018040"/>
            <a:ext cx="199800" cy="298440"/>
          </a:xfrm>
          <a:custGeom>
            <a:avLst/>
            <a:gdLst/>
            <a:ahLst/>
            <a:rect l="l" t="t" r="r" b="b"/>
            <a:pathLst>
              <a:path w="253" h="377">
                <a:moveTo>
                  <a:pt x="23" y="377"/>
                </a:moveTo>
                <a:lnTo>
                  <a:pt x="8" y="367"/>
                </a:lnTo>
                <a:lnTo>
                  <a:pt x="8" y="365"/>
                </a:lnTo>
                <a:lnTo>
                  <a:pt x="7" y="362"/>
                </a:lnTo>
                <a:lnTo>
                  <a:pt x="5" y="359"/>
                </a:lnTo>
                <a:lnTo>
                  <a:pt x="5" y="356"/>
                </a:lnTo>
                <a:lnTo>
                  <a:pt x="5" y="351"/>
                </a:lnTo>
                <a:lnTo>
                  <a:pt x="5" y="347"/>
                </a:lnTo>
                <a:lnTo>
                  <a:pt x="4" y="341"/>
                </a:lnTo>
                <a:lnTo>
                  <a:pt x="2" y="336"/>
                </a:lnTo>
                <a:lnTo>
                  <a:pt x="2" y="329"/>
                </a:lnTo>
                <a:lnTo>
                  <a:pt x="2" y="323"/>
                </a:lnTo>
                <a:lnTo>
                  <a:pt x="0" y="318"/>
                </a:lnTo>
                <a:lnTo>
                  <a:pt x="0" y="315"/>
                </a:lnTo>
                <a:lnTo>
                  <a:pt x="0" y="312"/>
                </a:lnTo>
                <a:lnTo>
                  <a:pt x="0" y="308"/>
                </a:lnTo>
                <a:lnTo>
                  <a:pt x="0" y="303"/>
                </a:lnTo>
                <a:lnTo>
                  <a:pt x="0" y="300"/>
                </a:lnTo>
                <a:lnTo>
                  <a:pt x="0" y="295"/>
                </a:lnTo>
                <a:lnTo>
                  <a:pt x="0" y="292"/>
                </a:lnTo>
                <a:lnTo>
                  <a:pt x="0" y="287"/>
                </a:lnTo>
                <a:lnTo>
                  <a:pt x="0" y="282"/>
                </a:lnTo>
                <a:lnTo>
                  <a:pt x="0" y="277"/>
                </a:lnTo>
                <a:lnTo>
                  <a:pt x="0" y="274"/>
                </a:lnTo>
                <a:lnTo>
                  <a:pt x="0" y="268"/>
                </a:lnTo>
                <a:lnTo>
                  <a:pt x="0" y="264"/>
                </a:lnTo>
                <a:lnTo>
                  <a:pt x="0" y="259"/>
                </a:lnTo>
                <a:lnTo>
                  <a:pt x="2" y="254"/>
                </a:lnTo>
                <a:lnTo>
                  <a:pt x="2" y="250"/>
                </a:lnTo>
                <a:lnTo>
                  <a:pt x="2" y="243"/>
                </a:lnTo>
                <a:lnTo>
                  <a:pt x="2" y="238"/>
                </a:lnTo>
                <a:lnTo>
                  <a:pt x="2" y="233"/>
                </a:lnTo>
                <a:lnTo>
                  <a:pt x="4" y="228"/>
                </a:lnTo>
                <a:lnTo>
                  <a:pt x="5" y="223"/>
                </a:lnTo>
                <a:lnTo>
                  <a:pt x="5" y="217"/>
                </a:lnTo>
                <a:lnTo>
                  <a:pt x="7" y="214"/>
                </a:lnTo>
                <a:lnTo>
                  <a:pt x="7" y="207"/>
                </a:lnTo>
                <a:lnTo>
                  <a:pt x="8" y="202"/>
                </a:lnTo>
                <a:lnTo>
                  <a:pt x="8" y="196"/>
                </a:lnTo>
                <a:lnTo>
                  <a:pt x="12" y="191"/>
                </a:lnTo>
                <a:lnTo>
                  <a:pt x="12" y="184"/>
                </a:lnTo>
                <a:lnTo>
                  <a:pt x="13" y="179"/>
                </a:lnTo>
                <a:lnTo>
                  <a:pt x="17" y="173"/>
                </a:lnTo>
                <a:lnTo>
                  <a:pt x="18" y="168"/>
                </a:lnTo>
                <a:lnTo>
                  <a:pt x="20" y="162"/>
                </a:lnTo>
                <a:lnTo>
                  <a:pt x="21" y="157"/>
                </a:lnTo>
                <a:lnTo>
                  <a:pt x="23" y="150"/>
                </a:lnTo>
                <a:lnTo>
                  <a:pt x="26" y="145"/>
                </a:lnTo>
                <a:lnTo>
                  <a:pt x="28" y="139"/>
                </a:lnTo>
                <a:lnTo>
                  <a:pt x="31" y="132"/>
                </a:lnTo>
                <a:lnTo>
                  <a:pt x="33" y="127"/>
                </a:lnTo>
                <a:lnTo>
                  <a:pt x="36" y="121"/>
                </a:lnTo>
                <a:lnTo>
                  <a:pt x="39" y="116"/>
                </a:lnTo>
                <a:lnTo>
                  <a:pt x="41" y="109"/>
                </a:lnTo>
                <a:lnTo>
                  <a:pt x="44" y="103"/>
                </a:lnTo>
                <a:lnTo>
                  <a:pt x="48" y="100"/>
                </a:lnTo>
                <a:lnTo>
                  <a:pt x="49" y="93"/>
                </a:lnTo>
                <a:lnTo>
                  <a:pt x="52" y="88"/>
                </a:lnTo>
                <a:lnTo>
                  <a:pt x="54" y="83"/>
                </a:lnTo>
                <a:lnTo>
                  <a:pt x="57" y="78"/>
                </a:lnTo>
                <a:lnTo>
                  <a:pt x="59" y="75"/>
                </a:lnTo>
                <a:lnTo>
                  <a:pt x="62" y="70"/>
                </a:lnTo>
                <a:lnTo>
                  <a:pt x="65" y="65"/>
                </a:lnTo>
                <a:lnTo>
                  <a:pt x="67" y="62"/>
                </a:lnTo>
                <a:lnTo>
                  <a:pt x="70" y="59"/>
                </a:lnTo>
                <a:lnTo>
                  <a:pt x="72" y="56"/>
                </a:lnTo>
                <a:lnTo>
                  <a:pt x="75" y="52"/>
                </a:lnTo>
                <a:lnTo>
                  <a:pt x="77" y="49"/>
                </a:lnTo>
                <a:lnTo>
                  <a:pt x="82" y="42"/>
                </a:lnTo>
                <a:lnTo>
                  <a:pt x="87" y="38"/>
                </a:lnTo>
                <a:lnTo>
                  <a:pt x="90" y="31"/>
                </a:lnTo>
                <a:lnTo>
                  <a:pt x="95" y="28"/>
                </a:lnTo>
                <a:lnTo>
                  <a:pt x="98" y="23"/>
                </a:lnTo>
                <a:lnTo>
                  <a:pt x="103" y="20"/>
                </a:lnTo>
                <a:lnTo>
                  <a:pt x="106" y="15"/>
                </a:lnTo>
                <a:lnTo>
                  <a:pt x="111" y="13"/>
                </a:lnTo>
                <a:lnTo>
                  <a:pt x="118" y="8"/>
                </a:lnTo>
                <a:lnTo>
                  <a:pt x="124" y="5"/>
                </a:lnTo>
                <a:lnTo>
                  <a:pt x="129" y="2"/>
                </a:lnTo>
                <a:lnTo>
                  <a:pt x="136" y="2"/>
                </a:lnTo>
                <a:lnTo>
                  <a:pt x="139" y="0"/>
                </a:lnTo>
                <a:lnTo>
                  <a:pt x="144" y="0"/>
                </a:lnTo>
                <a:lnTo>
                  <a:pt x="147" y="0"/>
                </a:lnTo>
                <a:lnTo>
                  <a:pt x="152" y="2"/>
                </a:lnTo>
                <a:lnTo>
                  <a:pt x="157" y="3"/>
                </a:lnTo>
                <a:lnTo>
                  <a:pt x="163" y="7"/>
                </a:lnTo>
                <a:lnTo>
                  <a:pt x="166" y="8"/>
                </a:lnTo>
                <a:lnTo>
                  <a:pt x="170" y="10"/>
                </a:lnTo>
                <a:lnTo>
                  <a:pt x="175" y="13"/>
                </a:lnTo>
                <a:lnTo>
                  <a:pt x="178" y="16"/>
                </a:lnTo>
                <a:lnTo>
                  <a:pt x="181" y="20"/>
                </a:lnTo>
                <a:lnTo>
                  <a:pt x="184" y="25"/>
                </a:lnTo>
                <a:lnTo>
                  <a:pt x="188" y="29"/>
                </a:lnTo>
                <a:lnTo>
                  <a:pt x="193" y="34"/>
                </a:lnTo>
                <a:lnTo>
                  <a:pt x="194" y="41"/>
                </a:lnTo>
                <a:lnTo>
                  <a:pt x="197" y="47"/>
                </a:lnTo>
                <a:lnTo>
                  <a:pt x="197" y="51"/>
                </a:lnTo>
                <a:lnTo>
                  <a:pt x="199" y="54"/>
                </a:lnTo>
                <a:lnTo>
                  <a:pt x="201" y="59"/>
                </a:lnTo>
                <a:lnTo>
                  <a:pt x="202" y="62"/>
                </a:lnTo>
                <a:lnTo>
                  <a:pt x="248" y="64"/>
                </a:lnTo>
                <a:lnTo>
                  <a:pt x="253" y="80"/>
                </a:lnTo>
                <a:lnTo>
                  <a:pt x="199" y="80"/>
                </a:lnTo>
                <a:lnTo>
                  <a:pt x="199" y="78"/>
                </a:lnTo>
                <a:lnTo>
                  <a:pt x="197" y="77"/>
                </a:lnTo>
                <a:lnTo>
                  <a:pt x="196" y="72"/>
                </a:lnTo>
                <a:lnTo>
                  <a:pt x="193" y="69"/>
                </a:lnTo>
                <a:lnTo>
                  <a:pt x="189" y="62"/>
                </a:lnTo>
                <a:lnTo>
                  <a:pt x="186" y="57"/>
                </a:lnTo>
                <a:lnTo>
                  <a:pt x="183" y="52"/>
                </a:lnTo>
                <a:lnTo>
                  <a:pt x="178" y="46"/>
                </a:lnTo>
                <a:lnTo>
                  <a:pt x="171" y="39"/>
                </a:lnTo>
                <a:lnTo>
                  <a:pt x="166" y="34"/>
                </a:lnTo>
                <a:lnTo>
                  <a:pt x="162" y="31"/>
                </a:lnTo>
                <a:lnTo>
                  <a:pt x="155" y="28"/>
                </a:lnTo>
                <a:lnTo>
                  <a:pt x="149" y="25"/>
                </a:lnTo>
                <a:lnTo>
                  <a:pt x="142" y="25"/>
                </a:lnTo>
                <a:lnTo>
                  <a:pt x="136" y="28"/>
                </a:lnTo>
                <a:lnTo>
                  <a:pt x="127" y="31"/>
                </a:lnTo>
                <a:lnTo>
                  <a:pt x="124" y="33"/>
                </a:lnTo>
                <a:lnTo>
                  <a:pt x="121" y="36"/>
                </a:lnTo>
                <a:lnTo>
                  <a:pt x="116" y="38"/>
                </a:lnTo>
                <a:lnTo>
                  <a:pt x="113" y="41"/>
                </a:lnTo>
                <a:lnTo>
                  <a:pt x="109" y="44"/>
                </a:lnTo>
                <a:lnTo>
                  <a:pt x="106" y="47"/>
                </a:lnTo>
                <a:lnTo>
                  <a:pt x="103" y="52"/>
                </a:lnTo>
                <a:lnTo>
                  <a:pt x="100" y="56"/>
                </a:lnTo>
                <a:lnTo>
                  <a:pt x="96" y="59"/>
                </a:lnTo>
                <a:lnTo>
                  <a:pt x="93" y="62"/>
                </a:lnTo>
                <a:lnTo>
                  <a:pt x="90" y="67"/>
                </a:lnTo>
                <a:lnTo>
                  <a:pt x="87" y="72"/>
                </a:lnTo>
                <a:lnTo>
                  <a:pt x="83" y="75"/>
                </a:lnTo>
                <a:lnTo>
                  <a:pt x="80" y="80"/>
                </a:lnTo>
                <a:lnTo>
                  <a:pt x="77" y="85"/>
                </a:lnTo>
                <a:lnTo>
                  <a:pt x="75" y="90"/>
                </a:lnTo>
                <a:lnTo>
                  <a:pt x="72" y="93"/>
                </a:lnTo>
                <a:lnTo>
                  <a:pt x="69" y="100"/>
                </a:lnTo>
                <a:lnTo>
                  <a:pt x="65" y="103"/>
                </a:lnTo>
                <a:lnTo>
                  <a:pt x="64" y="109"/>
                </a:lnTo>
                <a:lnTo>
                  <a:pt x="59" y="114"/>
                </a:lnTo>
                <a:lnTo>
                  <a:pt x="57" y="121"/>
                </a:lnTo>
                <a:lnTo>
                  <a:pt x="54" y="126"/>
                </a:lnTo>
                <a:lnTo>
                  <a:pt x="52" y="132"/>
                </a:lnTo>
                <a:lnTo>
                  <a:pt x="49" y="137"/>
                </a:lnTo>
                <a:lnTo>
                  <a:pt x="48" y="144"/>
                </a:lnTo>
                <a:lnTo>
                  <a:pt x="44" y="150"/>
                </a:lnTo>
                <a:lnTo>
                  <a:pt x="43" y="155"/>
                </a:lnTo>
                <a:lnTo>
                  <a:pt x="39" y="162"/>
                </a:lnTo>
                <a:lnTo>
                  <a:pt x="38" y="168"/>
                </a:lnTo>
                <a:lnTo>
                  <a:pt x="36" y="175"/>
                </a:lnTo>
                <a:lnTo>
                  <a:pt x="34" y="181"/>
                </a:lnTo>
                <a:lnTo>
                  <a:pt x="31" y="188"/>
                </a:lnTo>
                <a:lnTo>
                  <a:pt x="30" y="194"/>
                </a:lnTo>
                <a:lnTo>
                  <a:pt x="28" y="197"/>
                </a:lnTo>
                <a:lnTo>
                  <a:pt x="28" y="201"/>
                </a:lnTo>
                <a:lnTo>
                  <a:pt x="26" y="206"/>
                </a:lnTo>
                <a:lnTo>
                  <a:pt x="26" y="209"/>
                </a:lnTo>
                <a:lnTo>
                  <a:pt x="26" y="212"/>
                </a:lnTo>
                <a:lnTo>
                  <a:pt x="25" y="215"/>
                </a:lnTo>
                <a:lnTo>
                  <a:pt x="25" y="220"/>
                </a:lnTo>
                <a:lnTo>
                  <a:pt x="25" y="223"/>
                </a:lnTo>
                <a:lnTo>
                  <a:pt x="23" y="228"/>
                </a:lnTo>
                <a:lnTo>
                  <a:pt x="23" y="232"/>
                </a:lnTo>
                <a:lnTo>
                  <a:pt x="23" y="237"/>
                </a:lnTo>
                <a:lnTo>
                  <a:pt x="23" y="241"/>
                </a:lnTo>
                <a:lnTo>
                  <a:pt x="21" y="245"/>
                </a:lnTo>
                <a:lnTo>
                  <a:pt x="21" y="248"/>
                </a:lnTo>
                <a:lnTo>
                  <a:pt x="20" y="253"/>
                </a:lnTo>
                <a:lnTo>
                  <a:pt x="20" y="256"/>
                </a:lnTo>
                <a:lnTo>
                  <a:pt x="20" y="261"/>
                </a:lnTo>
                <a:lnTo>
                  <a:pt x="20" y="264"/>
                </a:lnTo>
                <a:lnTo>
                  <a:pt x="20" y="268"/>
                </a:lnTo>
                <a:lnTo>
                  <a:pt x="20" y="272"/>
                </a:lnTo>
                <a:lnTo>
                  <a:pt x="20" y="276"/>
                </a:lnTo>
                <a:lnTo>
                  <a:pt x="20" y="281"/>
                </a:lnTo>
                <a:lnTo>
                  <a:pt x="20" y="284"/>
                </a:lnTo>
                <a:lnTo>
                  <a:pt x="20" y="289"/>
                </a:lnTo>
                <a:lnTo>
                  <a:pt x="20" y="292"/>
                </a:lnTo>
                <a:lnTo>
                  <a:pt x="20" y="295"/>
                </a:lnTo>
                <a:lnTo>
                  <a:pt x="20" y="300"/>
                </a:lnTo>
                <a:lnTo>
                  <a:pt x="20" y="305"/>
                </a:lnTo>
                <a:lnTo>
                  <a:pt x="20" y="312"/>
                </a:lnTo>
                <a:lnTo>
                  <a:pt x="20" y="318"/>
                </a:lnTo>
                <a:lnTo>
                  <a:pt x="20" y="325"/>
                </a:lnTo>
                <a:lnTo>
                  <a:pt x="20" y="333"/>
                </a:lnTo>
                <a:lnTo>
                  <a:pt x="20" y="338"/>
                </a:lnTo>
                <a:lnTo>
                  <a:pt x="20" y="344"/>
                </a:lnTo>
                <a:lnTo>
                  <a:pt x="20" y="349"/>
                </a:lnTo>
                <a:lnTo>
                  <a:pt x="21" y="356"/>
                </a:lnTo>
                <a:lnTo>
                  <a:pt x="21" y="359"/>
                </a:lnTo>
                <a:lnTo>
                  <a:pt x="21" y="364"/>
                </a:lnTo>
                <a:lnTo>
                  <a:pt x="21" y="367"/>
                </a:lnTo>
                <a:lnTo>
                  <a:pt x="21" y="370"/>
                </a:lnTo>
                <a:lnTo>
                  <a:pt x="21" y="374"/>
                </a:lnTo>
                <a:lnTo>
                  <a:pt x="23" y="377"/>
                </a:lnTo>
                <a:lnTo>
                  <a:pt x="23" y="377"/>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405480" y="4827600"/>
            <a:ext cx="130320" cy="244440"/>
          </a:xfrm>
          <a:custGeom>
            <a:avLst/>
            <a:gdLst/>
            <a:ahLst/>
            <a:rect l="l" t="t" r="r" b="b"/>
            <a:pathLst>
              <a:path w="163" h="309">
                <a:moveTo>
                  <a:pt x="119" y="294"/>
                </a:moveTo>
                <a:lnTo>
                  <a:pt x="119" y="292"/>
                </a:lnTo>
                <a:lnTo>
                  <a:pt x="117" y="291"/>
                </a:lnTo>
                <a:lnTo>
                  <a:pt x="116" y="287"/>
                </a:lnTo>
                <a:lnTo>
                  <a:pt x="116" y="284"/>
                </a:lnTo>
                <a:lnTo>
                  <a:pt x="113" y="278"/>
                </a:lnTo>
                <a:lnTo>
                  <a:pt x="109" y="271"/>
                </a:lnTo>
                <a:lnTo>
                  <a:pt x="106" y="265"/>
                </a:lnTo>
                <a:lnTo>
                  <a:pt x="103" y="258"/>
                </a:lnTo>
                <a:lnTo>
                  <a:pt x="101" y="253"/>
                </a:lnTo>
                <a:lnTo>
                  <a:pt x="100" y="250"/>
                </a:lnTo>
                <a:lnTo>
                  <a:pt x="96" y="245"/>
                </a:lnTo>
                <a:lnTo>
                  <a:pt x="93" y="240"/>
                </a:lnTo>
                <a:lnTo>
                  <a:pt x="90" y="237"/>
                </a:lnTo>
                <a:lnTo>
                  <a:pt x="88" y="232"/>
                </a:lnTo>
                <a:lnTo>
                  <a:pt x="85" y="227"/>
                </a:lnTo>
                <a:lnTo>
                  <a:pt x="83" y="224"/>
                </a:lnTo>
                <a:lnTo>
                  <a:pt x="78" y="219"/>
                </a:lnTo>
                <a:lnTo>
                  <a:pt x="75" y="214"/>
                </a:lnTo>
                <a:lnTo>
                  <a:pt x="72" y="211"/>
                </a:lnTo>
                <a:lnTo>
                  <a:pt x="69" y="206"/>
                </a:lnTo>
                <a:lnTo>
                  <a:pt x="64" y="203"/>
                </a:lnTo>
                <a:lnTo>
                  <a:pt x="60" y="198"/>
                </a:lnTo>
                <a:lnTo>
                  <a:pt x="56" y="194"/>
                </a:lnTo>
                <a:lnTo>
                  <a:pt x="52" y="191"/>
                </a:lnTo>
                <a:lnTo>
                  <a:pt x="47" y="186"/>
                </a:lnTo>
                <a:lnTo>
                  <a:pt x="42" y="183"/>
                </a:lnTo>
                <a:lnTo>
                  <a:pt x="39" y="178"/>
                </a:lnTo>
                <a:lnTo>
                  <a:pt x="34" y="173"/>
                </a:lnTo>
                <a:lnTo>
                  <a:pt x="31" y="168"/>
                </a:lnTo>
                <a:lnTo>
                  <a:pt x="28" y="163"/>
                </a:lnTo>
                <a:lnTo>
                  <a:pt x="25" y="159"/>
                </a:lnTo>
                <a:lnTo>
                  <a:pt x="21" y="154"/>
                </a:lnTo>
                <a:lnTo>
                  <a:pt x="18" y="147"/>
                </a:lnTo>
                <a:lnTo>
                  <a:pt x="16" y="142"/>
                </a:lnTo>
                <a:lnTo>
                  <a:pt x="13" y="137"/>
                </a:lnTo>
                <a:lnTo>
                  <a:pt x="12" y="131"/>
                </a:lnTo>
                <a:lnTo>
                  <a:pt x="10" y="126"/>
                </a:lnTo>
                <a:lnTo>
                  <a:pt x="7" y="121"/>
                </a:lnTo>
                <a:lnTo>
                  <a:pt x="5" y="115"/>
                </a:lnTo>
                <a:lnTo>
                  <a:pt x="5" y="110"/>
                </a:lnTo>
                <a:lnTo>
                  <a:pt x="3" y="103"/>
                </a:lnTo>
                <a:lnTo>
                  <a:pt x="2" y="98"/>
                </a:lnTo>
                <a:lnTo>
                  <a:pt x="0" y="93"/>
                </a:lnTo>
                <a:lnTo>
                  <a:pt x="0" y="87"/>
                </a:lnTo>
                <a:lnTo>
                  <a:pt x="0" y="82"/>
                </a:lnTo>
                <a:lnTo>
                  <a:pt x="0" y="77"/>
                </a:lnTo>
                <a:lnTo>
                  <a:pt x="0" y="72"/>
                </a:lnTo>
                <a:lnTo>
                  <a:pt x="0" y="67"/>
                </a:lnTo>
                <a:lnTo>
                  <a:pt x="0" y="62"/>
                </a:lnTo>
                <a:lnTo>
                  <a:pt x="0" y="57"/>
                </a:lnTo>
                <a:lnTo>
                  <a:pt x="0" y="53"/>
                </a:lnTo>
                <a:lnTo>
                  <a:pt x="2" y="48"/>
                </a:lnTo>
                <a:lnTo>
                  <a:pt x="2" y="44"/>
                </a:lnTo>
                <a:lnTo>
                  <a:pt x="3" y="41"/>
                </a:lnTo>
                <a:lnTo>
                  <a:pt x="5" y="36"/>
                </a:lnTo>
                <a:lnTo>
                  <a:pt x="7" y="35"/>
                </a:lnTo>
                <a:lnTo>
                  <a:pt x="10" y="28"/>
                </a:lnTo>
                <a:lnTo>
                  <a:pt x="13" y="22"/>
                </a:lnTo>
                <a:lnTo>
                  <a:pt x="16" y="17"/>
                </a:lnTo>
                <a:lnTo>
                  <a:pt x="21" y="13"/>
                </a:lnTo>
                <a:lnTo>
                  <a:pt x="25" y="9"/>
                </a:lnTo>
                <a:lnTo>
                  <a:pt x="28" y="7"/>
                </a:lnTo>
                <a:lnTo>
                  <a:pt x="33" y="4"/>
                </a:lnTo>
                <a:lnTo>
                  <a:pt x="38" y="2"/>
                </a:lnTo>
                <a:lnTo>
                  <a:pt x="42" y="0"/>
                </a:lnTo>
                <a:lnTo>
                  <a:pt x="46" y="0"/>
                </a:lnTo>
                <a:lnTo>
                  <a:pt x="51" y="0"/>
                </a:lnTo>
                <a:lnTo>
                  <a:pt x="56" y="0"/>
                </a:lnTo>
                <a:lnTo>
                  <a:pt x="59" y="2"/>
                </a:lnTo>
                <a:lnTo>
                  <a:pt x="64" y="4"/>
                </a:lnTo>
                <a:lnTo>
                  <a:pt x="69" y="5"/>
                </a:lnTo>
                <a:lnTo>
                  <a:pt x="72" y="10"/>
                </a:lnTo>
                <a:lnTo>
                  <a:pt x="77" y="12"/>
                </a:lnTo>
                <a:lnTo>
                  <a:pt x="80" y="17"/>
                </a:lnTo>
                <a:lnTo>
                  <a:pt x="85" y="22"/>
                </a:lnTo>
                <a:lnTo>
                  <a:pt x="88" y="28"/>
                </a:lnTo>
                <a:lnTo>
                  <a:pt x="90" y="31"/>
                </a:lnTo>
                <a:lnTo>
                  <a:pt x="91" y="35"/>
                </a:lnTo>
                <a:lnTo>
                  <a:pt x="93" y="40"/>
                </a:lnTo>
                <a:lnTo>
                  <a:pt x="96" y="43"/>
                </a:lnTo>
                <a:lnTo>
                  <a:pt x="98" y="46"/>
                </a:lnTo>
                <a:lnTo>
                  <a:pt x="100" y="51"/>
                </a:lnTo>
                <a:lnTo>
                  <a:pt x="101" y="54"/>
                </a:lnTo>
                <a:lnTo>
                  <a:pt x="103" y="59"/>
                </a:lnTo>
                <a:lnTo>
                  <a:pt x="106" y="66"/>
                </a:lnTo>
                <a:lnTo>
                  <a:pt x="109" y="72"/>
                </a:lnTo>
                <a:lnTo>
                  <a:pt x="113" y="79"/>
                </a:lnTo>
                <a:lnTo>
                  <a:pt x="114" y="85"/>
                </a:lnTo>
                <a:lnTo>
                  <a:pt x="116" y="90"/>
                </a:lnTo>
                <a:lnTo>
                  <a:pt x="117" y="93"/>
                </a:lnTo>
                <a:lnTo>
                  <a:pt x="119" y="95"/>
                </a:lnTo>
                <a:lnTo>
                  <a:pt x="119" y="97"/>
                </a:lnTo>
                <a:lnTo>
                  <a:pt x="148" y="84"/>
                </a:lnTo>
                <a:lnTo>
                  <a:pt x="163" y="93"/>
                </a:lnTo>
                <a:lnTo>
                  <a:pt x="114" y="119"/>
                </a:lnTo>
                <a:lnTo>
                  <a:pt x="113" y="118"/>
                </a:lnTo>
                <a:lnTo>
                  <a:pt x="113" y="115"/>
                </a:lnTo>
                <a:lnTo>
                  <a:pt x="111" y="110"/>
                </a:lnTo>
                <a:lnTo>
                  <a:pt x="109" y="103"/>
                </a:lnTo>
                <a:lnTo>
                  <a:pt x="108" y="98"/>
                </a:lnTo>
                <a:lnTo>
                  <a:pt x="106" y="95"/>
                </a:lnTo>
                <a:lnTo>
                  <a:pt x="104" y="90"/>
                </a:lnTo>
                <a:lnTo>
                  <a:pt x="103" y="87"/>
                </a:lnTo>
                <a:lnTo>
                  <a:pt x="101" y="82"/>
                </a:lnTo>
                <a:lnTo>
                  <a:pt x="100" y="77"/>
                </a:lnTo>
                <a:lnTo>
                  <a:pt x="98" y="72"/>
                </a:lnTo>
                <a:lnTo>
                  <a:pt x="96" y="69"/>
                </a:lnTo>
                <a:lnTo>
                  <a:pt x="95" y="64"/>
                </a:lnTo>
                <a:lnTo>
                  <a:pt x="93" y="59"/>
                </a:lnTo>
                <a:lnTo>
                  <a:pt x="90" y="54"/>
                </a:lnTo>
                <a:lnTo>
                  <a:pt x="88" y="51"/>
                </a:lnTo>
                <a:lnTo>
                  <a:pt x="85" y="46"/>
                </a:lnTo>
                <a:lnTo>
                  <a:pt x="83" y="41"/>
                </a:lnTo>
                <a:lnTo>
                  <a:pt x="80" y="38"/>
                </a:lnTo>
                <a:lnTo>
                  <a:pt x="77" y="35"/>
                </a:lnTo>
                <a:lnTo>
                  <a:pt x="72" y="30"/>
                </a:lnTo>
                <a:lnTo>
                  <a:pt x="65" y="25"/>
                </a:lnTo>
                <a:lnTo>
                  <a:pt x="59" y="23"/>
                </a:lnTo>
                <a:lnTo>
                  <a:pt x="52" y="25"/>
                </a:lnTo>
                <a:lnTo>
                  <a:pt x="46" y="26"/>
                </a:lnTo>
                <a:lnTo>
                  <a:pt x="41" y="30"/>
                </a:lnTo>
                <a:lnTo>
                  <a:pt x="36" y="33"/>
                </a:lnTo>
                <a:lnTo>
                  <a:pt x="33" y="38"/>
                </a:lnTo>
                <a:lnTo>
                  <a:pt x="29" y="43"/>
                </a:lnTo>
                <a:lnTo>
                  <a:pt x="28" y="49"/>
                </a:lnTo>
                <a:lnTo>
                  <a:pt x="26" y="56"/>
                </a:lnTo>
                <a:lnTo>
                  <a:pt x="26" y="62"/>
                </a:lnTo>
                <a:lnTo>
                  <a:pt x="25" y="67"/>
                </a:lnTo>
                <a:lnTo>
                  <a:pt x="25" y="72"/>
                </a:lnTo>
                <a:lnTo>
                  <a:pt x="25" y="77"/>
                </a:lnTo>
                <a:lnTo>
                  <a:pt x="25" y="84"/>
                </a:lnTo>
                <a:lnTo>
                  <a:pt x="25" y="87"/>
                </a:lnTo>
                <a:lnTo>
                  <a:pt x="26" y="90"/>
                </a:lnTo>
                <a:lnTo>
                  <a:pt x="26" y="92"/>
                </a:lnTo>
                <a:lnTo>
                  <a:pt x="28" y="93"/>
                </a:lnTo>
                <a:lnTo>
                  <a:pt x="28" y="95"/>
                </a:lnTo>
                <a:lnTo>
                  <a:pt x="28" y="97"/>
                </a:lnTo>
                <a:lnTo>
                  <a:pt x="28" y="100"/>
                </a:lnTo>
                <a:lnTo>
                  <a:pt x="28" y="105"/>
                </a:lnTo>
                <a:lnTo>
                  <a:pt x="29" y="110"/>
                </a:lnTo>
                <a:lnTo>
                  <a:pt x="31" y="115"/>
                </a:lnTo>
                <a:lnTo>
                  <a:pt x="34" y="121"/>
                </a:lnTo>
                <a:lnTo>
                  <a:pt x="36" y="128"/>
                </a:lnTo>
                <a:lnTo>
                  <a:pt x="39" y="134"/>
                </a:lnTo>
                <a:lnTo>
                  <a:pt x="41" y="139"/>
                </a:lnTo>
                <a:lnTo>
                  <a:pt x="42" y="142"/>
                </a:lnTo>
                <a:lnTo>
                  <a:pt x="44" y="147"/>
                </a:lnTo>
                <a:lnTo>
                  <a:pt x="47" y="150"/>
                </a:lnTo>
                <a:lnTo>
                  <a:pt x="49" y="155"/>
                </a:lnTo>
                <a:lnTo>
                  <a:pt x="52" y="159"/>
                </a:lnTo>
                <a:lnTo>
                  <a:pt x="56" y="162"/>
                </a:lnTo>
                <a:lnTo>
                  <a:pt x="59" y="167"/>
                </a:lnTo>
                <a:lnTo>
                  <a:pt x="60" y="172"/>
                </a:lnTo>
                <a:lnTo>
                  <a:pt x="65" y="175"/>
                </a:lnTo>
                <a:lnTo>
                  <a:pt x="69" y="180"/>
                </a:lnTo>
                <a:lnTo>
                  <a:pt x="72" y="185"/>
                </a:lnTo>
                <a:lnTo>
                  <a:pt x="75" y="188"/>
                </a:lnTo>
                <a:lnTo>
                  <a:pt x="78" y="193"/>
                </a:lnTo>
                <a:lnTo>
                  <a:pt x="83" y="196"/>
                </a:lnTo>
                <a:lnTo>
                  <a:pt x="86" y="201"/>
                </a:lnTo>
                <a:lnTo>
                  <a:pt x="90" y="206"/>
                </a:lnTo>
                <a:lnTo>
                  <a:pt x="93" y="211"/>
                </a:lnTo>
                <a:lnTo>
                  <a:pt x="96" y="216"/>
                </a:lnTo>
                <a:lnTo>
                  <a:pt x="100" y="222"/>
                </a:lnTo>
                <a:lnTo>
                  <a:pt x="103" y="227"/>
                </a:lnTo>
                <a:lnTo>
                  <a:pt x="104" y="232"/>
                </a:lnTo>
                <a:lnTo>
                  <a:pt x="108" y="237"/>
                </a:lnTo>
                <a:lnTo>
                  <a:pt x="111" y="242"/>
                </a:lnTo>
                <a:lnTo>
                  <a:pt x="113" y="247"/>
                </a:lnTo>
                <a:lnTo>
                  <a:pt x="116" y="251"/>
                </a:lnTo>
                <a:lnTo>
                  <a:pt x="117" y="258"/>
                </a:lnTo>
                <a:lnTo>
                  <a:pt x="119" y="263"/>
                </a:lnTo>
                <a:lnTo>
                  <a:pt x="121" y="266"/>
                </a:lnTo>
                <a:lnTo>
                  <a:pt x="124" y="271"/>
                </a:lnTo>
                <a:lnTo>
                  <a:pt x="126" y="276"/>
                </a:lnTo>
                <a:lnTo>
                  <a:pt x="127" y="281"/>
                </a:lnTo>
                <a:lnTo>
                  <a:pt x="129" y="284"/>
                </a:lnTo>
                <a:lnTo>
                  <a:pt x="130" y="287"/>
                </a:lnTo>
                <a:lnTo>
                  <a:pt x="130" y="291"/>
                </a:lnTo>
                <a:lnTo>
                  <a:pt x="132" y="296"/>
                </a:lnTo>
                <a:lnTo>
                  <a:pt x="134" y="300"/>
                </a:lnTo>
                <a:lnTo>
                  <a:pt x="135" y="305"/>
                </a:lnTo>
                <a:lnTo>
                  <a:pt x="137" y="307"/>
                </a:lnTo>
                <a:lnTo>
                  <a:pt x="137" y="309"/>
                </a:lnTo>
                <a:lnTo>
                  <a:pt x="119" y="294"/>
                </a:lnTo>
                <a:lnTo>
                  <a:pt x="119" y="29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86480" y="4708440"/>
            <a:ext cx="49320" cy="181080"/>
          </a:xfrm>
          <a:custGeom>
            <a:avLst/>
            <a:gdLst/>
            <a:ahLst/>
            <a:rect l="l" t="t" r="r" b="b"/>
            <a:pathLst>
              <a:path w="60" h="229">
                <a:moveTo>
                  <a:pt x="39" y="222"/>
                </a:moveTo>
                <a:lnTo>
                  <a:pt x="37" y="219"/>
                </a:lnTo>
                <a:lnTo>
                  <a:pt x="36" y="214"/>
                </a:lnTo>
                <a:lnTo>
                  <a:pt x="34" y="209"/>
                </a:lnTo>
                <a:lnTo>
                  <a:pt x="31" y="206"/>
                </a:lnTo>
                <a:lnTo>
                  <a:pt x="29" y="201"/>
                </a:lnTo>
                <a:lnTo>
                  <a:pt x="27" y="196"/>
                </a:lnTo>
                <a:lnTo>
                  <a:pt x="24" y="188"/>
                </a:lnTo>
                <a:lnTo>
                  <a:pt x="23" y="181"/>
                </a:lnTo>
                <a:lnTo>
                  <a:pt x="21" y="178"/>
                </a:lnTo>
                <a:lnTo>
                  <a:pt x="19" y="175"/>
                </a:lnTo>
                <a:lnTo>
                  <a:pt x="18" y="172"/>
                </a:lnTo>
                <a:lnTo>
                  <a:pt x="18" y="168"/>
                </a:lnTo>
                <a:lnTo>
                  <a:pt x="16" y="163"/>
                </a:lnTo>
                <a:lnTo>
                  <a:pt x="14" y="159"/>
                </a:lnTo>
                <a:lnTo>
                  <a:pt x="13" y="155"/>
                </a:lnTo>
                <a:lnTo>
                  <a:pt x="13" y="150"/>
                </a:lnTo>
                <a:lnTo>
                  <a:pt x="11" y="147"/>
                </a:lnTo>
                <a:lnTo>
                  <a:pt x="10" y="142"/>
                </a:lnTo>
                <a:lnTo>
                  <a:pt x="10" y="137"/>
                </a:lnTo>
                <a:lnTo>
                  <a:pt x="8" y="134"/>
                </a:lnTo>
                <a:lnTo>
                  <a:pt x="6" y="129"/>
                </a:lnTo>
                <a:lnTo>
                  <a:pt x="6" y="124"/>
                </a:lnTo>
                <a:lnTo>
                  <a:pt x="5" y="119"/>
                </a:lnTo>
                <a:lnTo>
                  <a:pt x="3" y="116"/>
                </a:lnTo>
                <a:lnTo>
                  <a:pt x="3" y="110"/>
                </a:lnTo>
                <a:lnTo>
                  <a:pt x="3" y="106"/>
                </a:lnTo>
                <a:lnTo>
                  <a:pt x="1" y="101"/>
                </a:lnTo>
                <a:lnTo>
                  <a:pt x="1" y="97"/>
                </a:lnTo>
                <a:lnTo>
                  <a:pt x="1" y="92"/>
                </a:lnTo>
                <a:lnTo>
                  <a:pt x="0" y="87"/>
                </a:lnTo>
                <a:lnTo>
                  <a:pt x="0" y="82"/>
                </a:lnTo>
                <a:lnTo>
                  <a:pt x="0" y="79"/>
                </a:lnTo>
                <a:lnTo>
                  <a:pt x="0" y="74"/>
                </a:lnTo>
                <a:lnTo>
                  <a:pt x="0" y="69"/>
                </a:lnTo>
                <a:lnTo>
                  <a:pt x="1" y="64"/>
                </a:lnTo>
                <a:lnTo>
                  <a:pt x="1" y="61"/>
                </a:lnTo>
                <a:lnTo>
                  <a:pt x="1" y="56"/>
                </a:lnTo>
                <a:lnTo>
                  <a:pt x="3" y="51"/>
                </a:lnTo>
                <a:lnTo>
                  <a:pt x="3" y="48"/>
                </a:lnTo>
                <a:lnTo>
                  <a:pt x="5" y="43"/>
                </a:lnTo>
                <a:lnTo>
                  <a:pt x="5" y="38"/>
                </a:lnTo>
                <a:lnTo>
                  <a:pt x="6" y="35"/>
                </a:lnTo>
                <a:lnTo>
                  <a:pt x="8" y="31"/>
                </a:lnTo>
                <a:lnTo>
                  <a:pt x="10" y="26"/>
                </a:lnTo>
                <a:lnTo>
                  <a:pt x="11" y="23"/>
                </a:lnTo>
                <a:lnTo>
                  <a:pt x="13" y="20"/>
                </a:lnTo>
                <a:lnTo>
                  <a:pt x="16" y="15"/>
                </a:lnTo>
                <a:lnTo>
                  <a:pt x="18" y="12"/>
                </a:lnTo>
                <a:lnTo>
                  <a:pt x="24" y="5"/>
                </a:lnTo>
                <a:lnTo>
                  <a:pt x="31" y="0"/>
                </a:lnTo>
                <a:lnTo>
                  <a:pt x="39" y="35"/>
                </a:lnTo>
                <a:lnTo>
                  <a:pt x="37" y="35"/>
                </a:lnTo>
                <a:lnTo>
                  <a:pt x="37" y="38"/>
                </a:lnTo>
                <a:lnTo>
                  <a:pt x="34" y="41"/>
                </a:lnTo>
                <a:lnTo>
                  <a:pt x="32" y="48"/>
                </a:lnTo>
                <a:lnTo>
                  <a:pt x="31" y="49"/>
                </a:lnTo>
                <a:lnTo>
                  <a:pt x="29" y="53"/>
                </a:lnTo>
                <a:lnTo>
                  <a:pt x="27" y="57"/>
                </a:lnTo>
                <a:lnTo>
                  <a:pt x="27" y="61"/>
                </a:lnTo>
                <a:lnTo>
                  <a:pt x="26" y="66"/>
                </a:lnTo>
                <a:lnTo>
                  <a:pt x="26" y="72"/>
                </a:lnTo>
                <a:lnTo>
                  <a:pt x="24" y="77"/>
                </a:lnTo>
                <a:lnTo>
                  <a:pt x="24" y="84"/>
                </a:lnTo>
                <a:lnTo>
                  <a:pt x="23" y="88"/>
                </a:lnTo>
                <a:lnTo>
                  <a:pt x="23" y="97"/>
                </a:lnTo>
                <a:lnTo>
                  <a:pt x="23" y="98"/>
                </a:lnTo>
                <a:lnTo>
                  <a:pt x="23" y="101"/>
                </a:lnTo>
                <a:lnTo>
                  <a:pt x="23" y="106"/>
                </a:lnTo>
                <a:lnTo>
                  <a:pt x="23" y="110"/>
                </a:lnTo>
                <a:lnTo>
                  <a:pt x="23" y="113"/>
                </a:lnTo>
                <a:lnTo>
                  <a:pt x="23" y="118"/>
                </a:lnTo>
                <a:lnTo>
                  <a:pt x="24" y="121"/>
                </a:lnTo>
                <a:lnTo>
                  <a:pt x="24" y="126"/>
                </a:lnTo>
                <a:lnTo>
                  <a:pt x="24" y="129"/>
                </a:lnTo>
                <a:lnTo>
                  <a:pt x="26" y="134"/>
                </a:lnTo>
                <a:lnTo>
                  <a:pt x="27" y="139"/>
                </a:lnTo>
                <a:lnTo>
                  <a:pt x="27" y="144"/>
                </a:lnTo>
                <a:lnTo>
                  <a:pt x="29" y="147"/>
                </a:lnTo>
                <a:lnTo>
                  <a:pt x="31" y="152"/>
                </a:lnTo>
                <a:lnTo>
                  <a:pt x="31" y="157"/>
                </a:lnTo>
                <a:lnTo>
                  <a:pt x="32" y="162"/>
                </a:lnTo>
                <a:lnTo>
                  <a:pt x="34" y="167"/>
                </a:lnTo>
                <a:lnTo>
                  <a:pt x="36" y="172"/>
                </a:lnTo>
                <a:lnTo>
                  <a:pt x="37" y="176"/>
                </a:lnTo>
                <a:lnTo>
                  <a:pt x="39" y="183"/>
                </a:lnTo>
                <a:lnTo>
                  <a:pt x="41" y="188"/>
                </a:lnTo>
                <a:lnTo>
                  <a:pt x="44" y="193"/>
                </a:lnTo>
                <a:lnTo>
                  <a:pt x="45" y="198"/>
                </a:lnTo>
                <a:lnTo>
                  <a:pt x="49" y="204"/>
                </a:lnTo>
                <a:lnTo>
                  <a:pt x="50" y="209"/>
                </a:lnTo>
                <a:lnTo>
                  <a:pt x="54" y="216"/>
                </a:lnTo>
                <a:lnTo>
                  <a:pt x="57" y="222"/>
                </a:lnTo>
                <a:lnTo>
                  <a:pt x="60" y="229"/>
                </a:lnTo>
                <a:lnTo>
                  <a:pt x="49" y="224"/>
                </a:lnTo>
                <a:lnTo>
                  <a:pt x="39" y="222"/>
                </a:lnTo>
                <a:lnTo>
                  <a:pt x="39" y="22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46760" y="3794040"/>
            <a:ext cx="459000" cy="817560"/>
          </a:xfrm>
          <a:custGeom>
            <a:avLst/>
            <a:gdLst/>
            <a:ahLst/>
            <a:rect l="l" t="t" r="r" b="b"/>
            <a:pathLst>
              <a:path w="289" h="515">
                <a:moveTo>
                  <a:pt x="133" y="485"/>
                </a:moveTo>
                <a:lnTo>
                  <a:pt x="133" y="485"/>
                </a:lnTo>
                <a:lnTo>
                  <a:pt x="135" y="486"/>
                </a:lnTo>
                <a:lnTo>
                  <a:pt x="137" y="486"/>
                </a:lnTo>
                <a:lnTo>
                  <a:pt x="138" y="488"/>
                </a:lnTo>
                <a:lnTo>
                  <a:pt x="140" y="489"/>
                </a:lnTo>
                <a:lnTo>
                  <a:pt x="141" y="489"/>
                </a:lnTo>
                <a:lnTo>
                  <a:pt x="144" y="490"/>
                </a:lnTo>
                <a:lnTo>
                  <a:pt x="146" y="491"/>
                </a:lnTo>
                <a:lnTo>
                  <a:pt x="148" y="492"/>
                </a:lnTo>
                <a:lnTo>
                  <a:pt x="150" y="494"/>
                </a:lnTo>
                <a:lnTo>
                  <a:pt x="154" y="494"/>
                </a:lnTo>
                <a:lnTo>
                  <a:pt x="156" y="495"/>
                </a:lnTo>
                <a:lnTo>
                  <a:pt x="159" y="496"/>
                </a:lnTo>
                <a:lnTo>
                  <a:pt x="163" y="497"/>
                </a:lnTo>
                <a:lnTo>
                  <a:pt x="166" y="497"/>
                </a:lnTo>
                <a:lnTo>
                  <a:pt x="168" y="498"/>
                </a:lnTo>
                <a:lnTo>
                  <a:pt x="172" y="498"/>
                </a:lnTo>
                <a:lnTo>
                  <a:pt x="176" y="498"/>
                </a:lnTo>
                <a:lnTo>
                  <a:pt x="178" y="498"/>
                </a:lnTo>
                <a:lnTo>
                  <a:pt x="182" y="499"/>
                </a:lnTo>
                <a:lnTo>
                  <a:pt x="185" y="498"/>
                </a:lnTo>
                <a:lnTo>
                  <a:pt x="189" y="498"/>
                </a:lnTo>
                <a:lnTo>
                  <a:pt x="192" y="498"/>
                </a:lnTo>
                <a:lnTo>
                  <a:pt x="195" y="497"/>
                </a:lnTo>
                <a:lnTo>
                  <a:pt x="199" y="496"/>
                </a:lnTo>
                <a:lnTo>
                  <a:pt x="202" y="495"/>
                </a:lnTo>
                <a:lnTo>
                  <a:pt x="205" y="493"/>
                </a:lnTo>
                <a:lnTo>
                  <a:pt x="208" y="491"/>
                </a:lnTo>
                <a:lnTo>
                  <a:pt x="211" y="489"/>
                </a:lnTo>
                <a:lnTo>
                  <a:pt x="214" y="486"/>
                </a:lnTo>
                <a:lnTo>
                  <a:pt x="217" y="483"/>
                </a:lnTo>
                <a:lnTo>
                  <a:pt x="219" y="481"/>
                </a:lnTo>
                <a:lnTo>
                  <a:pt x="223" y="477"/>
                </a:lnTo>
                <a:lnTo>
                  <a:pt x="225" y="475"/>
                </a:lnTo>
                <a:lnTo>
                  <a:pt x="228" y="471"/>
                </a:lnTo>
                <a:lnTo>
                  <a:pt x="229" y="468"/>
                </a:lnTo>
                <a:lnTo>
                  <a:pt x="232" y="465"/>
                </a:lnTo>
                <a:lnTo>
                  <a:pt x="234" y="463"/>
                </a:lnTo>
                <a:lnTo>
                  <a:pt x="236" y="459"/>
                </a:lnTo>
                <a:lnTo>
                  <a:pt x="238" y="456"/>
                </a:lnTo>
                <a:lnTo>
                  <a:pt x="240" y="452"/>
                </a:lnTo>
                <a:lnTo>
                  <a:pt x="241" y="450"/>
                </a:lnTo>
                <a:lnTo>
                  <a:pt x="243" y="447"/>
                </a:lnTo>
                <a:lnTo>
                  <a:pt x="245" y="443"/>
                </a:lnTo>
                <a:lnTo>
                  <a:pt x="246" y="441"/>
                </a:lnTo>
                <a:lnTo>
                  <a:pt x="248" y="438"/>
                </a:lnTo>
                <a:lnTo>
                  <a:pt x="249" y="435"/>
                </a:lnTo>
                <a:lnTo>
                  <a:pt x="250" y="433"/>
                </a:lnTo>
                <a:lnTo>
                  <a:pt x="251" y="430"/>
                </a:lnTo>
                <a:lnTo>
                  <a:pt x="253" y="428"/>
                </a:lnTo>
                <a:lnTo>
                  <a:pt x="254" y="426"/>
                </a:lnTo>
                <a:lnTo>
                  <a:pt x="254" y="424"/>
                </a:lnTo>
                <a:lnTo>
                  <a:pt x="255" y="422"/>
                </a:lnTo>
                <a:lnTo>
                  <a:pt x="256" y="421"/>
                </a:lnTo>
                <a:lnTo>
                  <a:pt x="258" y="417"/>
                </a:lnTo>
                <a:lnTo>
                  <a:pt x="258" y="416"/>
                </a:lnTo>
                <a:lnTo>
                  <a:pt x="259" y="414"/>
                </a:lnTo>
                <a:lnTo>
                  <a:pt x="259" y="414"/>
                </a:lnTo>
                <a:lnTo>
                  <a:pt x="289" y="427"/>
                </a:lnTo>
                <a:lnTo>
                  <a:pt x="278" y="432"/>
                </a:lnTo>
                <a:lnTo>
                  <a:pt x="263" y="427"/>
                </a:lnTo>
                <a:lnTo>
                  <a:pt x="263" y="428"/>
                </a:lnTo>
                <a:lnTo>
                  <a:pt x="262" y="430"/>
                </a:lnTo>
                <a:lnTo>
                  <a:pt x="261" y="431"/>
                </a:lnTo>
                <a:lnTo>
                  <a:pt x="260" y="434"/>
                </a:lnTo>
                <a:lnTo>
                  <a:pt x="259" y="435"/>
                </a:lnTo>
                <a:lnTo>
                  <a:pt x="258" y="438"/>
                </a:lnTo>
                <a:lnTo>
                  <a:pt x="257" y="441"/>
                </a:lnTo>
                <a:lnTo>
                  <a:pt x="255" y="444"/>
                </a:lnTo>
                <a:lnTo>
                  <a:pt x="254" y="447"/>
                </a:lnTo>
                <a:lnTo>
                  <a:pt x="253" y="451"/>
                </a:lnTo>
                <a:lnTo>
                  <a:pt x="251" y="453"/>
                </a:lnTo>
                <a:lnTo>
                  <a:pt x="249" y="457"/>
                </a:lnTo>
                <a:lnTo>
                  <a:pt x="248" y="459"/>
                </a:lnTo>
                <a:lnTo>
                  <a:pt x="247" y="461"/>
                </a:lnTo>
                <a:lnTo>
                  <a:pt x="246" y="463"/>
                </a:lnTo>
                <a:lnTo>
                  <a:pt x="245" y="465"/>
                </a:lnTo>
                <a:lnTo>
                  <a:pt x="243" y="468"/>
                </a:lnTo>
                <a:lnTo>
                  <a:pt x="241" y="472"/>
                </a:lnTo>
                <a:lnTo>
                  <a:pt x="240" y="474"/>
                </a:lnTo>
                <a:lnTo>
                  <a:pt x="238" y="476"/>
                </a:lnTo>
                <a:lnTo>
                  <a:pt x="236" y="478"/>
                </a:lnTo>
                <a:lnTo>
                  <a:pt x="236" y="480"/>
                </a:lnTo>
                <a:lnTo>
                  <a:pt x="233" y="483"/>
                </a:lnTo>
                <a:lnTo>
                  <a:pt x="231" y="486"/>
                </a:lnTo>
                <a:lnTo>
                  <a:pt x="228" y="489"/>
                </a:lnTo>
                <a:lnTo>
                  <a:pt x="226" y="494"/>
                </a:lnTo>
                <a:lnTo>
                  <a:pt x="223" y="496"/>
                </a:lnTo>
                <a:lnTo>
                  <a:pt x="219" y="498"/>
                </a:lnTo>
                <a:lnTo>
                  <a:pt x="217" y="501"/>
                </a:lnTo>
                <a:lnTo>
                  <a:pt x="214" y="504"/>
                </a:lnTo>
                <a:lnTo>
                  <a:pt x="210" y="506"/>
                </a:lnTo>
                <a:lnTo>
                  <a:pt x="207" y="507"/>
                </a:lnTo>
                <a:lnTo>
                  <a:pt x="204" y="509"/>
                </a:lnTo>
                <a:lnTo>
                  <a:pt x="202" y="511"/>
                </a:lnTo>
                <a:lnTo>
                  <a:pt x="199" y="512"/>
                </a:lnTo>
                <a:lnTo>
                  <a:pt x="195" y="512"/>
                </a:lnTo>
                <a:lnTo>
                  <a:pt x="192" y="512"/>
                </a:lnTo>
                <a:lnTo>
                  <a:pt x="189" y="513"/>
                </a:lnTo>
                <a:lnTo>
                  <a:pt x="185" y="514"/>
                </a:lnTo>
                <a:lnTo>
                  <a:pt x="183" y="514"/>
                </a:lnTo>
                <a:lnTo>
                  <a:pt x="180" y="515"/>
                </a:lnTo>
                <a:lnTo>
                  <a:pt x="177" y="515"/>
                </a:lnTo>
                <a:lnTo>
                  <a:pt x="173" y="515"/>
                </a:lnTo>
                <a:lnTo>
                  <a:pt x="171" y="515"/>
                </a:lnTo>
                <a:lnTo>
                  <a:pt x="168" y="515"/>
                </a:lnTo>
                <a:lnTo>
                  <a:pt x="164" y="515"/>
                </a:lnTo>
                <a:lnTo>
                  <a:pt x="161" y="515"/>
                </a:lnTo>
                <a:lnTo>
                  <a:pt x="158" y="514"/>
                </a:lnTo>
                <a:lnTo>
                  <a:pt x="155" y="514"/>
                </a:lnTo>
                <a:lnTo>
                  <a:pt x="152" y="514"/>
                </a:lnTo>
                <a:lnTo>
                  <a:pt x="149" y="512"/>
                </a:lnTo>
                <a:lnTo>
                  <a:pt x="146" y="512"/>
                </a:lnTo>
                <a:lnTo>
                  <a:pt x="142" y="511"/>
                </a:lnTo>
                <a:lnTo>
                  <a:pt x="139" y="510"/>
                </a:lnTo>
                <a:lnTo>
                  <a:pt x="135" y="509"/>
                </a:lnTo>
                <a:lnTo>
                  <a:pt x="132" y="507"/>
                </a:lnTo>
                <a:lnTo>
                  <a:pt x="128" y="507"/>
                </a:lnTo>
                <a:lnTo>
                  <a:pt x="125" y="505"/>
                </a:lnTo>
                <a:lnTo>
                  <a:pt x="121" y="503"/>
                </a:lnTo>
                <a:lnTo>
                  <a:pt x="118" y="502"/>
                </a:lnTo>
                <a:lnTo>
                  <a:pt x="114" y="500"/>
                </a:lnTo>
                <a:lnTo>
                  <a:pt x="111" y="498"/>
                </a:lnTo>
                <a:lnTo>
                  <a:pt x="109" y="497"/>
                </a:lnTo>
                <a:lnTo>
                  <a:pt x="108" y="496"/>
                </a:lnTo>
                <a:lnTo>
                  <a:pt x="106" y="495"/>
                </a:lnTo>
                <a:lnTo>
                  <a:pt x="104" y="494"/>
                </a:lnTo>
                <a:lnTo>
                  <a:pt x="102" y="493"/>
                </a:lnTo>
                <a:lnTo>
                  <a:pt x="100" y="492"/>
                </a:lnTo>
                <a:lnTo>
                  <a:pt x="99" y="491"/>
                </a:lnTo>
                <a:lnTo>
                  <a:pt x="97" y="490"/>
                </a:lnTo>
                <a:lnTo>
                  <a:pt x="95" y="489"/>
                </a:lnTo>
                <a:lnTo>
                  <a:pt x="93" y="487"/>
                </a:lnTo>
                <a:lnTo>
                  <a:pt x="90" y="486"/>
                </a:lnTo>
                <a:lnTo>
                  <a:pt x="89" y="485"/>
                </a:lnTo>
                <a:lnTo>
                  <a:pt x="86" y="482"/>
                </a:lnTo>
                <a:lnTo>
                  <a:pt x="82" y="480"/>
                </a:lnTo>
                <a:lnTo>
                  <a:pt x="78" y="477"/>
                </a:lnTo>
                <a:lnTo>
                  <a:pt x="75" y="475"/>
                </a:lnTo>
                <a:lnTo>
                  <a:pt x="73" y="472"/>
                </a:lnTo>
                <a:lnTo>
                  <a:pt x="69" y="471"/>
                </a:lnTo>
                <a:lnTo>
                  <a:pt x="67" y="467"/>
                </a:lnTo>
                <a:lnTo>
                  <a:pt x="64" y="466"/>
                </a:lnTo>
                <a:lnTo>
                  <a:pt x="61" y="463"/>
                </a:lnTo>
                <a:lnTo>
                  <a:pt x="58" y="461"/>
                </a:lnTo>
                <a:lnTo>
                  <a:pt x="55" y="457"/>
                </a:lnTo>
                <a:lnTo>
                  <a:pt x="52" y="456"/>
                </a:lnTo>
                <a:lnTo>
                  <a:pt x="51" y="452"/>
                </a:lnTo>
                <a:lnTo>
                  <a:pt x="48" y="450"/>
                </a:lnTo>
                <a:lnTo>
                  <a:pt x="46" y="447"/>
                </a:lnTo>
                <a:lnTo>
                  <a:pt x="44" y="445"/>
                </a:lnTo>
                <a:lnTo>
                  <a:pt x="42" y="442"/>
                </a:lnTo>
                <a:lnTo>
                  <a:pt x="40" y="439"/>
                </a:lnTo>
                <a:lnTo>
                  <a:pt x="39" y="436"/>
                </a:lnTo>
                <a:lnTo>
                  <a:pt x="37" y="434"/>
                </a:lnTo>
                <a:lnTo>
                  <a:pt x="35" y="431"/>
                </a:lnTo>
                <a:lnTo>
                  <a:pt x="34" y="429"/>
                </a:lnTo>
                <a:lnTo>
                  <a:pt x="32" y="425"/>
                </a:lnTo>
                <a:lnTo>
                  <a:pt x="30" y="422"/>
                </a:lnTo>
                <a:lnTo>
                  <a:pt x="29" y="420"/>
                </a:lnTo>
                <a:lnTo>
                  <a:pt x="28" y="416"/>
                </a:lnTo>
                <a:lnTo>
                  <a:pt x="27" y="413"/>
                </a:lnTo>
                <a:lnTo>
                  <a:pt x="26" y="411"/>
                </a:lnTo>
                <a:lnTo>
                  <a:pt x="25" y="407"/>
                </a:lnTo>
                <a:lnTo>
                  <a:pt x="24" y="404"/>
                </a:lnTo>
                <a:lnTo>
                  <a:pt x="23" y="401"/>
                </a:lnTo>
                <a:lnTo>
                  <a:pt x="23" y="400"/>
                </a:lnTo>
                <a:lnTo>
                  <a:pt x="22" y="398"/>
                </a:lnTo>
                <a:lnTo>
                  <a:pt x="21" y="396"/>
                </a:lnTo>
                <a:lnTo>
                  <a:pt x="21" y="393"/>
                </a:lnTo>
                <a:lnTo>
                  <a:pt x="21" y="391"/>
                </a:lnTo>
                <a:lnTo>
                  <a:pt x="21" y="388"/>
                </a:lnTo>
                <a:lnTo>
                  <a:pt x="20" y="386"/>
                </a:lnTo>
                <a:lnTo>
                  <a:pt x="19" y="382"/>
                </a:lnTo>
                <a:lnTo>
                  <a:pt x="19" y="380"/>
                </a:lnTo>
                <a:lnTo>
                  <a:pt x="18" y="377"/>
                </a:lnTo>
                <a:lnTo>
                  <a:pt x="18" y="374"/>
                </a:lnTo>
                <a:lnTo>
                  <a:pt x="17" y="371"/>
                </a:lnTo>
                <a:lnTo>
                  <a:pt x="17" y="368"/>
                </a:lnTo>
                <a:lnTo>
                  <a:pt x="17" y="365"/>
                </a:lnTo>
                <a:lnTo>
                  <a:pt x="17" y="361"/>
                </a:lnTo>
                <a:lnTo>
                  <a:pt x="16" y="358"/>
                </a:lnTo>
                <a:lnTo>
                  <a:pt x="15" y="355"/>
                </a:lnTo>
                <a:lnTo>
                  <a:pt x="15" y="351"/>
                </a:lnTo>
                <a:lnTo>
                  <a:pt x="14" y="347"/>
                </a:lnTo>
                <a:lnTo>
                  <a:pt x="13" y="343"/>
                </a:lnTo>
                <a:lnTo>
                  <a:pt x="13" y="340"/>
                </a:lnTo>
                <a:lnTo>
                  <a:pt x="13" y="336"/>
                </a:lnTo>
                <a:lnTo>
                  <a:pt x="13" y="332"/>
                </a:lnTo>
                <a:lnTo>
                  <a:pt x="12" y="329"/>
                </a:lnTo>
                <a:lnTo>
                  <a:pt x="12" y="325"/>
                </a:lnTo>
                <a:lnTo>
                  <a:pt x="12" y="322"/>
                </a:lnTo>
                <a:lnTo>
                  <a:pt x="11" y="318"/>
                </a:lnTo>
                <a:lnTo>
                  <a:pt x="10" y="314"/>
                </a:lnTo>
                <a:lnTo>
                  <a:pt x="10" y="310"/>
                </a:lnTo>
                <a:lnTo>
                  <a:pt x="10" y="307"/>
                </a:lnTo>
                <a:lnTo>
                  <a:pt x="10" y="304"/>
                </a:lnTo>
                <a:lnTo>
                  <a:pt x="9" y="300"/>
                </a:lnTo>
                <a:lnTo>
                  <a:pt x="8" y="296"/>
                </a:lnTo>
                <a:lnTo>
                  <a:pt x="8" y="292"/>
                </a:lnTo>
                <a:lnTo>
                  <a:pt x="8" y="284"/>
                </a:lnTo>
                <a:lnTo>
                  <a:pt x="8" y="281"/>
                </a:lnTo>
                <a:lnTo>
                  <a:pt x="7" y="275"/>
                </a:lnTo>
                <a:lnTo>
                  <a:pt x="7" y="271"/>
                </a:lnTo>
                <a:lnTo>
                  <a:pt x="7" y="267"/>
                </a:lnTo>
                <a:lnTo>
                  <a:pt x="6" y="265"/>
                </a:lnTo>
                <a:lnTo>
                  <a:pt x="6" y="262"/>
                </a:lnTo>
                <a:lnTo>
                  <a:pt x="5" y="253"/>
                </a:lnTo>
                <a:lnTo>
                  <a:pt x="4" y="241"/>
                </a:lnTo>
                <a:lnTo>
                  <a:pt x="4" y="240"/>
                </a:lnTo>
                <a:lnTo>
                  <a:pt x="4" y="235"/>
                </a:lnTo>
                <a:lnTo>
                  <a:pt x="2" y="214"/>
                </a:lnTo>
                <a:lnTo>
                  <a:pt x="3" y="202"/>
                </a:lnTo>
                <a:lnTo>
                  <a:pt x="2" y="166"/>
                </a:lnTo>
                <a:lnTo>
                  <a:pt x="0" y="88"/>
                </a:lnTo>
                <a:lnTo>
                  <a:pt x="0" y="0"/>
                </a:lnTo>
                <a:lnTo>
                  <a:pt x="18" y="18"/>
                </a:lnTo>
                <a:lnTo>
                  <a:pt x="18" y="19"/>
                </a:lnTo>
                <a:lnTo>
                  <a:pt x="18" y="21"/>
                </a:lnTo>
                <a:lnTo>
                  <a:pt x="18" y="23"/>
                </a:lnTo>
                <a:lnTo>
                  <a:pt x="18" y="25"/>
                </a:lnTo>
                <a:lnTo>
                  <a:pt x="18" y="26"/>
                </a:lnTo>
                <a:lnTo>
                  <a:pt x="19" y="28"/>
                </a:lnTo>
                <a:lnTo>
                  <a:pt x="19" y="31"/>
                </a:lnTo>
                <a:lnTo>
                  <a:pt x="19" y="32"/>
                </a:lnTo>
                <a:lnTo>
                  <a:pt x="20" y="35"/>
                </a:lnTo>
                <a:lnTo>
                  <a:pt x="20" y="37"/>
                </a:lnTo>
                <a:lnTo>
                  <a:pt x="21" y="40"/>
                </a:lnTo>
                <a:lnTo>
                  <a:pt x="21" y="42"/>
                </a:lnTo>
                <a:lnTo>
                  <a:pt x="21" y="45"/>
                </a:lnTo>
                <a:lnTo>
                  <a:pt x="21" y="48"/>
                </a:lnTo>
                <a:lnTo>
                  <a:pt x="21" y="51"/>
                </a:lnTo>
                <a:lnTo>
                  <a:pt x="21" y="54"/>
                </a:lnTo>
                <a:lnTo>
                  <a:pt x="21" y="57"/>
                </a:lnTo>
                <a:lnTo>
                  <a:pt x="21" y="61"/>
                </a:lnTo>
                <a:lnTo>
                  <a:pt x="22" y="65"/>
                </a:lnTo>
                <a:lnTo>
                  <a:pt x="22" y="69"/>
                </a:lnTo>
                <a:lnTo>
                  <a:pt x="22" y="72"/>
                </a:lnTo>
                <a:lnTo>
                  <a:pt x="23" y="76"/>
                </a:lnTo>
                <a:lnTo>
                  <a:pt x="24" y="80"/>
                </a:lnTo>
                <a:lnTo>
                  <a:pt x="24" y="84"/>
                </a:lnTo>
                <a:lnTo>
                  <a:pt x="24" y="87"/>
                </a:lnTo>
                <a:lnTo>
                  <a:pt x="24" y="92"/>
                </a:lnTo>
                <a:lnTo>
                  <a:pt x="25" y="96"/>
                </a:lnTo>
                <a:lnTo>
                  <a:pt x="25" y="100"/>
                </a:lnTo>
                <a:lnTo>
                  <a:pt x="26" y="104"/>
                </a:lnTo>
                <a:lnTo>
                  <a:pt x="26" y="108"/>
                </a:lnTo>
                <a:lnTo>
                  <a:pt x="26" y="113"/>
                </a:lnTo>
                <a:lnTo>
                  <a:pt x="26" y="117"/>
                </a:lnTo>
                <a:lnTo>
                  <a:pt x="26" y="122"/>
                </a:lnTo>
                <a:lnTo>
                  <a:pt x="26" y="127"/>
                </a:lnTo>
                <a:lnTo>
                  <a:pt x="27" y="132"/>
                </a:lnTo>
                <a:lnTo>
                  <a:pt x="27" y="136"/>
                </a:lnTo>
                <a:lnTo>
                  <a:pt x="27" y="141"/>
                </a:lnTo>
                <a:lnTo>
                  <a:pt x="28" y="145"/>
                </a:lnTo>
                <a:lnTo>
                  <a:pt x="28" y="150"/>
                </a:lnTo>
                <a:lnTo>
                  <a:pt x="28" y="155"/>
                </a:lnTo>
                <a:lnTo>
                  <a:pt x="29" y="160"/>
                </a:lnTo>
                <a:lnTo>
                  <a:pt x="29" y="164"/>
                </a:lnTo>
                <a:lnTo>
                  <a:pt x="30" y="168"/>
                </a:lnTo>
                <a:lnTo>
                  <a:pt x="30" y="173"/>
                </a:lnTo>
                <a:lnTo>
                  <a:pt x="30" y="179"/>
                </a:lnTo>
                <a:lnTo>
                  <a:pt x="30" y="183"/>
                </a:lnTo>
                <a:lnTo>
                  <a:pt x="30" y="188"/>
                </a:lnTo>
                <a:lnTo>
                  <a:pt x="30" y="193"/>
                </a:lnTo>
                <a:lnTo>
                  <a:pt x="30" y="197"/>
                </a:lnTo>
                <a:lnTo>
                  <a:pt x="30" y="202"/>
                </a:lnTo>
                <a:lnTo>
                  <a:pt x="31" y="207"/>
                </a:lnTo>
                <a:lnTo>
                  <a:pt x="31" y="211"/>
                </a:lnTo>
                <a:lnTo>
                  <a:pt x="31" y="215"/>
                </a:lnTo>
                <a:lnTo>
                  <a:pt x="31" y="220"/>
                </a:lnTo>
                <a:lnTo>
                  <a:pt x="31" y="224"/>
                </a:lnTo>
                <a:lnTo>
                  <a:pt x="31" y="229"/>
                </a:lnTo>
                <a:lnTo>
                  <a:pt x="31" y="234"/>
                </a:lnTo>
                <a:lnTo>
                  <a:pt x="31" y="238"/>
                </a:lnTo>
                <a:lnTo>
                  <a:pt x="32" y="243"/>
                </a:lnTo>
                <a:lnTo>
                  <a:pt x="32" y="246"/>
                </a:lnTo>
                <a:lnTo>
                  <a:pt x="32" y="250"/>
                </a:lnTo>
                <a:lnTo>
                  <a:pt x="32" y="254"/>
                </a:lnTo>
                <a:lnTo>
                  <a:pt x="32" y="258"/>
                </a:lnTo>
                <a:lnTo>
                  <a:pt x="32" y="262"/>
                </a:lnTo>
                <a:lnTo>
                  <a:pt x="32" y="267"/>
                </a:lnTo>
                <a:lnTo>
                  <a:pt x="32" y="271"/>
                </a:lnTo>
                <a:lnTo>
                  <a:pt x="32" y="275"/>
                </a:lnTo>
                <a:lnTo>
                  <a:pt x="32" y="278"/>
                </a:lnTo>
                <a:lnTo>
                  <a:pt x="32" y="282"/>
                </a:lnTo>
                <a:lnTo>
                  <a:pt x="32" y="285"/>
                </a:lnTo>
                <a:lnTo>
                  <a:pt x="33" y="290"/>
                </a:lnTo>
                <a:lnTo>
                  <a:pt x="33" y="293"/>
                </a:lnTo>
                <a:lnTo>
                  <a:pt x="33" y="297"/>
                </a:lnTo>
                <a:lnTo>
                  <a:pt x="34" y="300"/>
                </a:lnTo>
                <a:lnTo>
                  <a:pt x="34" y="305"/>
                </a:lnTo>
                <a:lnTo>
                  <a:pt x="34" y="308"/>
                </a:lnTo>
                <a:lnTo>
                  <a:pt x="35" y="311"/>
                </a:lnTo>
                <a:lnTo>
                  <a:pt x="35" y="314"/>
                </a:lnTo>
                <a:lnTo>
                  <a:pt x="35" y="318"/>
                </a:lnTo>
                <a:lnTo>
                  <a:pt x="35" y="321"/>
                </a:lnTo>
                <a:lnTo>
                  <a:pt x="36" y="324"/>
                </a:lnTo>
                <a:lnTo>
                  <a:pt x="36" y="327"/>
                </a:lnTo>
                <a:lnTo>
                  <a:pt x="37" y="331"/>
                </a:lnTo>
                <a:lnTo>
                  <a:pt x="37" y="334"/>
                </a:lnTo>
                <a:lnTo>
                  <a:pt x="38" y="337"/>
                </a:lnTo>
                <a:lnTo>
                  <a:pt x="39" y="340"/>
                </a:lnTo>
                <a:lnTo>
                  <a:pt x="39" y="343"/>
                </a:lnTo>
                <a:lnTo>
                  <a:pt x="39" y="347"/>
                </a:lnTo>
                <a:lnTo>
                  <a:pt x="40" y="350"/>
                </a:lnTo>
                <a:lnTo>
                  <a:pt x="41" y="352"/>
                </a:lnTo>
                <a:lnTo>
                  <a:pt x="42" y="356"/>
                </a:lnTo>
                <a:lnTo>
                  <a:pt x="42" y="359"/>
                </a:lnTo>
                <a:lnTo>
                  <a:pt x="43" y="361"/>
                </a:lnTo>
                <a:lnTo>
                  <a:pt x="43" y="364"/>
                </a:lnTo>
                <a:lnTo>
                  <a:pt x="44" y="367"/>
                </a:lnTo>
                <a:lnTo>
                  <a:pt x="44" y="369"/>
                </a:lnTo>
                <a:lnTo>
                  <a:pt x="45" y="372"/>
                </a:lnTo>
                <a:lnTo>
                  <a:pt x="46" y="374"/>
                </a:lnTo>
                <a:lnTo>
                  <a:pt x="47" y="378"/>
                </a:lnTo>
                <a:lnTo>
                  <a:pt x="48" y="379"/>
                </a:lnTo>
                <a:lnTo>
                  <a:pt x="48" y="382"/>
                </a:lnTo>
                <a:lnTo>
                  <a:pt x="49" y="384"/>
                </a:lnTo>
                <a:lnTo>
                  <a:pt x="50" y="387"/>
                </a:lnTo>
                <a:lnTo>
                  <a:pt x="51" y="390"/>
                </a:lnTo>
                <a:lnTo>
                  <a:pt x="52" y="391"/>
                </a:lnTo>
                <a:lnTo>
                  <a:pt x="52" y="394"/>
                </a:lnTo>
                <a:lnTo>
                  <a:pt x="54" y="396"/>
                </a:lnTo>
                <a:lnTo>
                  <a:pt x="55" y="399"/>
                </a:lnTo>
                <a:lnTo>
                  <a:pt x="55" y="401"/>
                </a:lnTo>
                <a:lnTo>
                  <a:pt x="56" y="403"/>
                </a:lnTo>
                <a:lnTo>
                  <a:pt x="58" y="406"/>
                </a:lnTo>
                <a:lnTo>
                  <a:pt x="59" y="408"/>
                </a:lnTo>
                <a:lnTo>
                  <a:pt x="59" y="411"/>
                </a:lnTo>
                <a:lnTo>
                  <a:pt x="60" y="412"/>
                </a:lnTo>
                <a:lnTo>
                  <a:pt x="62" y="415"/>
                </a:lnTo>
                <a:lnTo>
                  <a:pt x="63" y="416"/>
                </a:lnTo>
                <a:lnTo>
                  <a:pt x="64" y="419"/>
                </a:lnTo>
                <a:lnTo>
                  <a:pt x="65" y="421"/>
                </a:lnTo>
                <a:lnTo>
                  <a:pt x="66" y="422"/>
                </a:lnTo>
                <a:lnTo>
                  <a:pt x="67" y="425"/>
                </a:lnTo>
                <a:lnTo>
                  <a:pt x="68" y="426"/>
                </a:lnTo>
                <a:lnTo>
                  <a:pt x="70" y="429"/>
                </a:lnTo>
                <a:lnTo>
                  <a:pt x="71" y="430"/>
                </a:lnTo>
                <a:lnTo>
                  <a:pt x="73" y="434"/>
                </a:lnTo>
                <a:lnTo>
                  <a:pt x="76" y="438"/>
                </a:lnTo>
                <a:lnTo>
                  <a:pt x="78" y="441"/>
                </a:lnTo>
                <a:lnTo>
                  <a:pt x="81" y="444"/>
                </a:lnTo>
                <a:lnTo>
                  <a:pt x="83" y="447"/>
                </a:lnTo>
                <a:lnTo>
                  <a:pt x="86" y="450"/>
                </a:lnTo>
                <a:lnTo>
                  <a:pt x="89" y="452"/>
                </a:lnTo>
                <a:lnTo>
                  <a:pt x="91" y="456"/>
                </a:lnTo>
                <a:lnTo>
                  <a:pt x="94" y="459"/>
                </a:lnTo>
                <a:lnTo>
                  <a:pt x="96" y="461"/>
                </a:lnTo>
                <a:lnTo>
                  <a:pt x="99" y="463"/>
                </a:lnTo>
                <a:lnTo>
                  <a:pt x="102" y="465"/>
                </a:lnTo>
                <a:lnTo>
                  <a:pt x="104" y="467"/>
                </a:lnTo>
                <a:lnTo>
                  <a:pt x="107" y="469"/>
                </a:lnTo>
                <a:lnTo>
                  <a:pt x="109" y="471"/>
                </a:lnTo>
                <a:lnTo>
                  <a:pt x="112" y="472"/>
                </a:lnTo>
                <a:lnTo>
                  <a:pt x="113" y="474"/>
                </a:lnTo>
                <a:lnTo>
                  <a:pt x="116" y="476"/>
                </a:lnTo>
                <a:lnTo>
                  <a:pt x="117" y="476"/>
                </a:lnTo>
                <a:lnTo>
                  <a:pt x="120" y="478"/>
                </a:lnTo>
                <a:lnTo>
                  <a:pt x="121" y="479"/>
                </a:lnTo>
                <a:lnTo>
                  <a:pt x="123" y="480"/>
                </a:lnTo>
                <a:lnTo>
                  <a:pt x="125" y="481"/>
                </a:lnTo>
                <a:lnTo>
                  <a:pt x="126" y="482"/>
                </a:lnTo>
                <a:lnTo>
                  <a:pt x="129" y="483"/>
                </a:lnTo>
                <a:lnTo>
                  <a:pt x="132" y="485"/>
                </a:lnTo>
                <a:lnTo>
                  <a:pt x="133" y="485"/>
                </a:lnTo>
                <a:lnTo>
                  <a:pt x="133" y="485"/>
                </a:lnTo>
                <a:lnTo>
                  <a:pt x="133" y="485"/>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137360" y="4481640"/>
            <a:ext cx="211320" cy="365040"/>
          </a:xfrm>
          <a:custGeom>
            <a:avLst/>
            <a:gdLst/>
            <a:ahLst/>
            <a:rect l="l" t="t" r="r" b="b"/>
            <a:pathLst>
              <a:path w="265" h="460">
                <a:moveTo>
                  <a:pt x="259" y="386"/>
                </a:moveTo>
                <a:lnTo>
                  <a:pt x="265" y="460"/>
                </a:lnTo>
                <a:lnTo>
                  <a:pt x="244" y="442"/>
                </a:lnTo>
                <a:lnTo>
                  <a:pt x="241" y="401"/>
                </a:lnTo>
                <a:lnTo>
                  <a:pt x="238" y="401"/>
                </a:lnTo>
                <a:lnTo>
                  <a:pt x="234" y="401"/>
                </a:lnTo>
                <a:lnTo>
                  <a:pt x="231" y="403"/>
                </a:lnTo>
                <a:lnTo>
                  <a:pt x="228" y="404"/>
                </a:lnTo>
                <a:lnTo>
                  <a:pt x="224" y="404"/>
                </a:lnTo>
                <a:lnTo>
                  <a:pt x="221" y="406"/>
                </a:lnTo>
                <a:lnTo>
                  <a:pt x="215" y="408"/>
                </a:lnTo>
                <a:lnTo>
                  <a:pt x="210" y="408"/>
                </a:lnTo>
                <a:lnTo>
                  <a:pt x="203" y="409"/>
                </a:lnTo>
                <a:lnTo>
                  <a:pt x="198" y="411"/>
                </a:lnTo>
                <a:lnTo>
                  <a:pt x="192" y="413"/>
                </a:lnTo>
                <a:lnTo>
                  <a:pt x="187" y="413"/>
                </a:lnTo>
                <a:lnTo>
                  <a:pt x="180" y="413"/>
                </a:lnTo>
                <a:lnTo>
                  <a:pt x="174" y="414"/>
                </a:lnTo>
                <a:lnTo>
                  <a:pt x="171" y="413"/>
                </a:lnTo>
                <a:lnTo>
                  <a:pt x="166" y="413"/>
                </a:lnTo>
                <a:lnTo>
                  <a:pt x="163" y="413"/>
                </a:lnTo>
                <a:lnTo>
                  <a:pt x="159" y="413"/>
                </a:lnTo>
                <a:lnTo>
                  <a:pt x="153" y="413"/>
                </a:lnTo>
                <a:lnTo>
                  <a:pt x="146" y="413"/>
                </a:lnTo>
                <a:lnTo>
                  <a:pt x="141" y="411"/>
                </a:lnTo>
                <a:lnTo>
                  <a:pt x="138" y="409"/>
                </a:lnTo>
                <a:lnTo>
                  <a:pt x="135" y="409"/>
                </a:lnTo>
                <a:lnTo>
                  <a:pt x="132" y="408"/>
                </a:lnTo>
                <a:lnTo>
                  <a:pt x="123" y="406"/>
                </a:lnTo>
                <a:lnTo>
                  <a:pt x="119" y="404"/>
                </a:lnTo>
                <a:lnTo>
                  <a:pt x="110" y="399"/>
                </a:lnTo>
                <a:lnTo>
                  <a:pt x="104" y="396"/>
                </a:lnTo>
                <a:lnTo>
                  <a:pt x="99" y="391"/>
                </a:lnTo>
                <a:lnTo>
                  <a:pt x="92" y="388"/>
                </a:lnTo>
                <a:lnTo>
                  <a:pt x="86" y="382"/>
                </a:lnTo>
                <a:lnTo>
                  <a:pt x="81" y="375"/>
                </a:lnTo>
                <a:lnTo>
                  <a:pt x="78" y="372"/>
                </a:lnTo>
                <a:lnTo>
                  <a:pt x="76" y="369"/>
                </a:lnTo>
                <a:lnTo>
                  <a:pt x="75" y="365"/>
                </a:lnTo>
                <a:lnTo>
                  <a:pt x="71" y="362"/>
                </a:lnTo>
                <a:lnTo>
                  <a:pt x="70" y="357"/>
                </a:lnTo>
                <a:lnTo>
                  <a:pt x="66" y="354"/>
                </a:lnTo>
                <a:lnTo>
                  <a:pt x="65" y="349"/>
                </a:lnTo>
                <a:lnTo>
                  <a:pt x="61" y="344"/>
                </a:lnTo>
                <a:lnTo>
                  <a:pt x="60" y="339"/>
                </a:lnTo>
                <a:lnTo>
                  <a:pt x="57" y="336"/>
                </a:lnTo>
                <a:lnTo>
                  <a:pt x="53" y="333"/>
                </a:lnTo>
                <a:lnTo>
                  <a:pt x="52" y="328"/>
                </a:lnTo>
                <a:lnTo>
                  <a:pt x="50" y="323"/>
                </a:lnTo>
                <a:lnTo>
                  <a:pt x="47" y="320"/>
                </a:lnTo>
                <a:lnTo>
                  <a:pt x="44" y="315"/>
                </a:lnTo>
                <a:lnTo>
                  <a:pt x="42" y="311"/>
                </a:lnTo>
                <a:lnTo>
                  <a:pt x="40" y="307"/>
                </a:lnTo>
                <a:lnTo>
                  <a:pt x="37" y="302"/>
                </a:lnTo>
                <a:lnTo>
                  <a:pt x="35" y="298"/>
                </a:lnTo>
                <a:lnTo>
                  <a:pt x="34" y="295"/>
                </a:lnTo>
                <a:lnTo>
                  <a:pt x="31" y="290"/>
                </a:lnTo>
                <a:lnTo>
                  <a:pt x="29" y="285"/>
                </a:lnTo>
                <a:lnTo>
                  <a:pt x="26" y="280"/>
                </a:lnTo>
                <a:lnTo>
                  <a:pt x="24" y="277"/>
                </a:lnTo>
                <a:lnTo>
                  <a:pt x="22" y="272"/>
                </a:lnTo>
                <a:lnTo>
                  <a:pt x="21" y="267"/>
                </a:lnTo>
                <a:lnTo>
                  <a:pt x="17" y="263"/>
                </a:lnTo>
                <a:lnTo>
                  <a:pt x="17" y="259"/>
                </a:lnTo>
                <a:lnTo>
                  <a:pt x="14" y="254"/>
                </a:lnTo>
                <a:lnTo>
                  <a:pt x="13" y="249"/>
                </a:lnTo>
                <a:lnTo>
                  <a:pt x="11" y="245"/>
                </a:lnTo>
                <a:lnTo>
                  <a:pt x="9" y="240"/>
                </a:lnTo>
                <a:lnTo>
                  <a:pt x="8" y="235"/>
                </a:lnTo>
                <a:lnTo>
                  <a:pt x="8" y="230"/>
                </a:lnTo>
                <a:lnTo>
                  <a:pt x="6" y="225"/>
                </a:lnTo>
                <a:lnTo>
                  <a:pt x="4" y="220"/>
                </a:lnTo>
                <a:lnTo>
                  <a:pt x="3" y="215"/>
                </a:lnTo>
                <a:lnTo>
                  <a:pt x="3" y="209"/>
                </a:lnTo>
                <a:lnTo>
                  <a:pt x="1" y="204"/>
                </a:lnTo>
                <a:lnTo>
                  <a:pt x="1" y="199"/>
                </a:lnTo>
                <a:lnTo>
                  <a:pt x="0" y="192"/>
                </a:lnTo>
                <a:lnTo>
                  <a:pt x="0" y="187"/>
                </a:lnTo>
                <a:lnTo>
                  <a:pt x="0" y="183"/>
                </a:lnTo>
                <a:lnTo>
                  <a:pt x="0" y="176"/>
                </a:lnTo>
                <a:lnTo>
                  <a:pt x="0" y="171"/>
                </a:lnTo>
                <a:lnTo>
                  <a:pt x="0" y="165"/>
                </a:lnTo>
                <a:lnTo>
                  <a:pt x="0" y="158"/>
                </a:lnTo>
                <a:lnTo>
                  <a:pt x="0" y="153"/>
                </a:lnTo>
                <a:lnTo>
                  <a:pt x="0" y="147"/>
                </a:lnTo>
                <a:lnTo>
                  <a:pt x="1" y="140"/>
                </a:lnTo>
                <a:lnTo>
                  <a:pt x="1" y="134"/>
                </a:lnTo>
                <a:lnTo>
                  <a:pt x="3" y="129"/>
                </a:lnTo>
                <a:lnTo>
                  <a:pt x="4" y="121"/>
                </a:lnTo>
                <a:lnTo>
                  <a:pt x="6" y="114"/>
                </a:lnTo>
                <a:lnTo>
                  <a:pt x="8" y="108"/>
                </a:lnTo>
                <a:lnTo>
                  <a:pt x="9" y="101"/>
                </a:lnTo>
                <a:lnTo>
                  <a:pt x="11" y="93"/>
                </a:lnTo>
                <a:lnTo>
                  <a:pt x="13" y="86"/>
                </a:lnTo>
                <a:lnTo>
                  <a:pt x="16" y="78"/>
                </a:lnTo>
                <a:lnTo>
                  <a:pt x="19" y="73"/>
                </a:lnTo>
                <a:lnTo>
                  <a:pt x="21" y="65"/>
                </a:lnTo>
                <a:lnTo>
                  <a:pt x="24" y="57"/>
                </a:lnTo>
                <a:lnTo>
                  <a:pt x="27" y="49"/>
                </a:lnTo>
                <a:lnTo>
                  <a:pt x="32" y="42"/>
                </a:lnTo>
                <a:lnTo>
                  <a:pt x="35" y="34"/>
                </a:lnTo>
                <a:lnTo>
                  <a:pt x="40" y="26"/>
                </a:lnTo>
                <a:lnTo>
                  <a:pt x="44" y="18"/>
                </a:lnTo>
                <a:lnTo>
                  <a:pt x="48" y="10"/>
                </a:lnTo>
                <a:lnTo>
                  <a:pt x="71" y="0"/>
                </a:lnTo>
                <a:lnTo>
                  <a:pt x="71" y="2"/>
                </a:lnTo>
                <a:lnTo>
                  <a:pt x="68" y="6"/>
                </a:lnTo>
                <a:lnTo>
                  <a:pt x="66" y="8"/>
                </a:lnTo>
                <a:lnTo>
                  <a:pt x="65" y="11"/>
                </a:lnTo>
                <a:lnTo>
                  <a:pt x="61" y="16"/>
                </a:lnTo>
                <a:lnTo>
                  <a:pt x="60" y="21"/>
                </a:lnTo>
                <a:lnTo>
                  <a:pt x="57" y="26"/>
                </a:lnTo>
                <a:lnTo>
                  <a:pt x="53" y="31"/>
                </a:lnTo>
                <a:lnTo>
                  <a:pt x="52" y="37"/>
                </a:lnTo>
                <a:lnTo>
                  <a:pt x="48" y="44"/>
                </a:lnTo>
                <a:lnTo>
                  <a:pt x="45" y="51"/>
                </a:lnTo>
                <a:lnTo>
                  <a:pt x="44" y="57"/>
                </a:lnTo>
                <a:lnTo>
                  <a:pt x="40" y="62"/>
                </a:lnTo>
                <a:lnTo>
                  <a:pt x="40" y="65"/>
                </a:lnTo>
                <a:lnTo>
                  <a:pt x="39" y="68"/>
                </a:lnTo>
                <a:lnTo>
                  <a:pt x="37" y="73"/>
                </a:lnTo>
                <a:lnTo>
                  <a:pt x="35" y="77"/>
                </a:lnTo>
                <a:lnTo>
                  <a:pt x="34" y="80"/>
                </a:lnTo>
                <a:lnTo>
                  <a:pt x="32" y="85"/>
                </a:lnTo>
                <a:lnTo>
                  <a:pt x="31" y="88"/>
                </a:lnTo>
                <a:lnTo>
                  <a:pt x="29" y="93"/>
                </a:lnTo>
                <a:lnTo>
                  <a:pt x="27" y="96"/>
                </a:lnTo>
                <a:lnTo>
                  <a:pt x="27" y="99"/>
                </a:lnTo>
                <a:lnTo>
                  <a:pt x="26" y="104"/>
                </a:lnTo>
                <a:lnTo>
                  <a:pt x="24" y="109"/>
                </a:lnTo>
                <a:lnTo>
                  <a:pt x="24" y="112"/>
                </a:lnTo>
                <a:lnTo>
                  <a:pt x="22" y="116"/>
                </a:lnTo>
                <a:lnTo>
                  <a:pt x="21" y="121"/>
                </a:lnTo>
                <a:lnTo>
                  <a:pt x="21" y="126"/>
                </a:lnTo>
                <a:lnTo>
                  <a:pt x="19" y="130"/>
                </a:lnTo>
                <a:lnTo>
                  <a:pt x="19" y="134"/>
                </a:lnTo>
                <a:lnTo>
                  <a:pt x="19" y="139"/>
                </a:lnTo>
                <a:lnTo>
                  <a:pt x="17" y="142"/>
                </a:lnTo>
                <a:lnTo>
                  <a:pt x="17" y="147"/>
                </a:lnTo>
                <a:lnTo>
                  <a:pt x="16" y="150"/>
                </a:lnTo>
                <a:lnTo>
                  <a:pt x="16" y="155"/>
                </a:lnTo>
                <a:lnTo>
                  <a:pt x="16" y="158"/>
                </a:lnTo>
                <a:lnTo>
                  <a:pt x="16" y="161"/>
                </a:lnTo>
                <a:lnTo>
                  <a:pt x="16" y="166"/>
                </a:lnTo>
                <a:lnTo>
                  <a:pt x="16" y="170"/>
                </a:lnTo>
                <a:lnTo>
                  <a:pt x="16" y="173"/>
                </a:lnTo>
                <a:lnTo>
                  <a:pt x="16" y="178"/>
                </a:lnTo>
                <a:lnTo>
                  <a:pt x="17" y="181"/>
                </a:lnTo>
                <a:lnTo>
                  <a:pt x="17" y="186"/>
                </a:lnTo>
                <a:lnTo>
                  <a:pt x="17" y="189"/>
                </a:lnTo>
                <a:lnTo>
                  <a:pt x="19" y="192"/>
                </a:lnTo>
                <a:lnTo>
                  <a:pt x="21" y="196"/>
                </a:lnTo>
                <a:lnTo>
                  <a:pt x="22" y="201"/>
                </a:lnTo>
                <a:lnTo>
                  <a:pt x="24" y="207"/>
                </a:lnTo>
                <a:lnTo>
                  <a:pt x="26" y="214"/>
                </a:lnTo>
                <a:lnTo>
                  <a:pt x="29" y="220"/>
                </a:lnTo>
                <a:lnTo>
                  <a:pt x="31" y="228"/>
                </a:lnTo>
                <a:lnTo>
                  <a:pt x="32" y="232"/>
                </a:lnTo>
                <a:lnTo>
                  <a:pt x="34" y="235"/>
                </a:lnTo>
                <a:lnTo>
                  <a:pt x="34" y="238"/>
                </a:lnTo>
                <a:lnTo>
                  <a:pt x="37" y="243"/>
                </a:lnTo>
                <a:lnTo>
                  <a:pt x="37" y="246"/>
                </a:lnTo>
                <a:lnTo>
                  <a:pt x="39" y="249"/>
                </a:lnTo>
                <a:lnTo>
                  <a:pt x="40" y="253"/>
                </a:lnTo>
                <a:lnTo>
                  <a:pt x="44" y="258"/>
                </a:lnTo>
                <a:lnTo>
                  <a:pt x="45" y="264"/>
                </a:lnTo>
                <a:lnTo>
                  <a:pt x="48" y="271"/>
                </a:lnTo>
                <a:lnTo>
                  <a:pt x="52" y="274"/>
                </a:lnTo>
                <a:lnTo>
                  <a:pt x="53" y="277"/>
                </a:lnTo>
                <a:lnTo>
                  <a:pt x="55" y="280"/>
                </a:lnTo>
                <a:lnTo>
                  <a:pt x="57" y="285"/>
                </a:lnTo>
                <a:lnTo>
                  <a:pt x="60" y="292"/>
                </a:lnTo>
                <a:lnTo>
                  <a:pt x="65" y="298"/>
                </a:lnTo>
                <a:lnTo>
                  <a:pt x="68" y="305"/>
                </a:lnTo>
                <a:lnTo>
                  <a:pt x="73" y="313"/>
                </a:lnTo>
                <a:lnTo>
                  <a:pt x="76" y="318"/>
                </a:lnTo>
                <a:lnTo>
                  <a:pt x="81" y="324"/>
                </a:lnTo>
                <a:lnTo>
                  <a:pt x="84" y="331"/>
                </a:lnTo>
                <a:lnTo>
                  <a:pt x="91" y="336"/>
                </a:lnTo>
                <a:lnTo>
                  <a:pt x="94" y="342"/>
                </a:lnTo>
                <a:lnTo>
                  <a:pt x="99" y="347"/>
                </a:lnTo>
                <a:lnTo>
                  <a:pt x="105" y="352"/>
                </a:lnTo>
                <a:lnTo>
                  <a:pt x="110" y="357"/>
                </a:lnTo>
                <a:lnTo>
                  <a:pt x="115" y="362"/>
                </a:lnTo>
                <a:lnTo>
                  <a:pt x="122" y="367"/>
                </a:lnTo>
                <a:lnTo>
                  <a:pt x="127" y="370"/>
                </a:lnTo>
                <a:lnTo>
                  <a:pt x="133" y="373"/>
                </a:lnTo>
                <a:lnTo>
                  <a:pt x="140" y="377"/>
                </a:lnTo>
                <a:lnTo>
                  <a:pt x="146" y="380"/>
                </a:lnTo>
                <a:lnTo>
                  <a:pt x="153" y="383"/>
                </a:lnTo>
                <a:lnTo>
                  <a:pt x="161" y="385"/>
                </a:lnTo>
                <a:lnTo>
                  <a:pt x="166" y="386"/>
                </a:lnTo>
                <a:lnTo>
                  <a:pt x="172" y="386"/>
                </a:lnTo>
                <a:lnTo>
                  <a:pt x="177" y="388"/>
                </a:lnTo>
                <a:lnTo>
                  <a:pt x="184" y="390"/>
                </a:lnTo>
                <a:lnTo>
                  <a:pt x="189" y="390"/>
                </a:lnTo>
                <a:lnTo>
                  <a:pt x="193" y="391"/>
                </a:lnTo>
                <a:lnTo>
                  <a:pt x="200" y="391"/>
                </a:lnTo>
                <a:lnTo>
                  <a:pt x="205" y="393"/>
                </a:lnTo>
                <a:lnTo>
                  <a:pt x="208" y="393"/>
                </a:lnTo>
                <a:lnTo>
                  <a:pt x="213" y="393"/>
                </a:lnTo>
                <a:lnTo>
                  <a:pt x="218" y="393"/>
                </a:lnTo>
                <a:lnTo>
                  <a:pt x="221" y="393"/>
                </a:lnTo>
                <a:lnTo>
                  <a:pt x="224" y="391"/>
                </a:lnTo>
                <a:lnTo>
                  <a:pt x="229" y="391"/>
                </a:lnTo>
                <a:lnTo>
                  <a:pt x="233" y="391"/>
                </a:lnTo>
                <a:lnTo>
                  <a:pt x="236" y="391"/>
                </a:lnTo>
                <a:lnTo>
                  <a:pt x="241" y="391"/>
                </a:lnTo>
                <a:lnTo>
                  <a:pt x="246" y="390"/>
                </a:lnTo>
                <a:lnTo>
                  <a:pt x="249" y="388"/>
                </a:lnTo>
                <a:lnTo>
                  <a:pt x="252" y="388"/>
                </a:lnTo>
                <a:lnTo>
                  <a:pt x="255" y="386"/>
                </a:lnTo>
                <a:lnTo>
                  <a:pt x="259" y="386"/>
                </a:lnTo>
                <a:lnTo>
                  <a:pt x="259" y="386"/>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192800" y="4840200"/>
            <a:ext cx="160560" cy="358920"/>
          </a:xfrm>
          <a:custGeom>
            <a:avLst/>
            <a:gdLst/>
            <a:ahLst/>
            <a:rect l="l" t="t" r="r" b="b"/>
            <a:pathLst>
              <a:path w="202" h="453">
                <a:moveTo>
                  <a:pt x="170" y="3"/>
                </a:moveTo>
                <a:lnTo>
                  <a:pt x="197" y="18"/>
                </a:lnTo>
                <a:lnTo>
                  <a:pt x="194" y="16"/>
                </a:lnTo>
                <a:lnTo>
                  <a:pt x="191" y="16"/>
                </a:lnTo>
                <a:lnTo>
                  <a:pt x="187" y="16"/>
                </a:lnTo>
                <a:lnTo>
                  <a:pt x="184" y="16"/>
                </a:lnTo>
                <a:lnTo>
                  <a:pt x="181" y="16"/>
                </a:lnTo>
                <a:lnTo>
                  <a:pt x="176" y="16"/>
                </a:lnTo>
                <a:lnTo>
                  <a:pt x="171" y="16"/>
                </a:lnTo>
                <a:lnTo>
                  <a:pt x="166" y="16"/>
                </a:lnTo>
                <a:lnTo>
                  <a:pt x="160" y="16"/>
                </a:lnTo>
                <a:lnTo>
                  <a:pt x="155" y="16"/>
                </a:lnTo>
                <a:lnTo>
                  <a:pt x="148" y="16"/>
                </a:lnTo>
                <a:lnTo>
                  <a:pt x="142" y="16"/>
                </a:lnTo>
                <a:lnTo>
                  <a:pt x="135" y="16"/>
                </a:lnTo>
                <a:lnTo>
                  <a:pt x="129" y="18"/>
                </a:lnTo>
                <a:lnTo>
                  <a:pt x="122" y="18"/>
                </a:lnTo>
                <a:lnTo>
                  <a:pt x="116" y="18"/>
                </a:lnTo>
                <a:lnTo>
                  <a:pt x="108" y="20"/>
                </a:lnTo>
                <a:lnTo>
                  <a:pt x="101" y="20"/>
                </a:lnTo>
                <a:lnTo>
                  <a:pt x="95" y="21"/>
                </a:lnTo>
                <a:lnTo>
                  <a:pt x="88" y="23"/>
                </a:lnTo>
                <a:lnTo>
                  <a:pt x="81" y="25"/>
                </a:lnTo>
                <a:lnTo>
                  <a:pt x="75" y="26"/>
                </a:lnTo>
                <a:lnTo>
                  <a:pt x="68" y="29"/>
                </a:lnTo>
                <a:lnTo>
                  <a:pt x="64" y="31"/>
                </a:lnTo>
                <a:lnTo>
                  <a:pt x="57" y="33"/>
                </a:lnTo>
                <a:lnTo>
                  <a:pt x="52" y="38"/>
                </a:lnTo>
                <a:lnTo>
                  <a:pt x="47" y="39"/>
                </a:lnTo>
                <a:lnTo>
                  <a:pt x="44" y="42"/>
                </a:lnTo>
                <a:lnTo>
                  <a:pt x="39" y="47"/>
                </a:lnTo>
                <a:lnTo>
                  <a:pt x="36" y="51"/>
                </a:lnTo>
                <a:lnTo>
                  <a:pt x="33" y="55"/>
                </a:lnTo>
                <a:lnTo>
                  <a:pt x="29" y="59"/>
                </a:lnTo>
                <a:lnTo>
                  <a:pt x="28" y="64"/>
                </a:lnTo>
                <a:lnTo>
                  <a:pt x="26" y="69"/>
                </a:lnTo>
                <a:lnTo>
                  <a:pt x="24" y="73"/>
                </a:lnTo>
                <a:lnTo>
                  <a:pt x="23" y="78"/>
                </a:lnTo>
                <a:lnTo>
                  <a:pt x="23" y="83"/>
                </a:lnTo>
                <a:lnTo>
                  <a:pt x="23" y="88"/>
                </a:lnTo>
                <a:lnTo>
                  <a:pt x="21" y="93"/>
                </a:lnTo>
                <a:lnTo>
                  <a:pt x="21" y="100"/>
                </a:lnTo>
                <a:lnTo>
                  <a:pt x="21" y="103"/>
                </a:lnTo>
                <a:lnTo>
                  <a:pt x="23" y="109"/>
                </a:lnTo>
                <a:lnTo>
                  <a:pt x="23" y="113"/>
                </a:lnTo>
                <a:lnTo>
                  <a:pt x="24" y="117"/>
                </a:lnTo>
                <a:lnTo>
                  <a:pt x="24" y="122"/>
                </a:lnTo>
                <a:lnTo>
                  <a:pt x="26" y="127"/>
                </a:lnTo>
                <a:lnTo>
                  <a:pt x="28" y="132"/>
                </a:lnTo>
                <a:lnTo>
                  <a:pt x="28" y="135"/>
                </a:lnTo>
                <a:lnTo>
                  <a:pt x="29" y="140"/>
                </a:lnTo>
                <a:lnTo>
                  <a:pt x="31" y="144"/>
                </a:lnTo>
                <a:lnTo>
                  <a:pt x="31" y="147"/>
                </a:lnTo>
                <a:lnTo>
                  <a:pt x="33" y="150"/>
                </a:lnTo>
                <a:lnTo>
                  <a:pt x="34" y="153"/>
                </a:lnTo>
                <a:lnTo>
                  <a:pt x="36" y="157"/>
                </a:lnTo>
                <a:lnTo>
                  <a:pt x="37" y="161"/>
                </a:lnTo>
                <a:lnTo>
                  <a:pt x="41" y="166"/>
                </a:lnTo>
                <a:lnTo>
                  <a:pt x="42" y="168"/>
                </a:lnTo>
                <a:lnTo>
                  <a:pt x="42" y="170"/>
                </a:lnTo>
                <a:lnTo>
                  <a:pt x="42" y="170"/>
                </a:lnTo>
                <a:lnTo>
                  <a:pt x="44" y="173"/>
                </a:lnTo>
                <a:lnTo>
                  <a:pt x="47" y="176"/>
                </a:lnTo>
                <a:lnTo>
                  <a:pt x="52" y="183"/>
                </a:lnTo>
                <a:lnTo>
                  <a:pt x="54" y="184"/>
                </a:lnTo>
                <a:lnTo>
                  <a:pt x="55" y="189"/>
                </a:lnTo>
                <a:lnTo>
                  <a:pt x="57" y="192"/>
                </a:lnTo>
                <a:lnTo>
                  <a:pt x="62" y="197"/>
                </a:lnTo>
                <a:lnTo>
                  <a:pt x="64" y="201"/>
                </a:lnTo>
                <a:lnTo>
                  <a:pt x="67" y="206"/>
                </a:lnTo>
                <a:lnTo>
                  <a:pt x="72" y="210"/>
                </a:lnTo>
                <a:lnTo>
                  <a:pt x="75" y="215"/>
                </a:lnTo>
                <a:lnTo>
                  <a:pt x="78" y="219"/>
                </a:lnTo>
                <a:lnTo>
                  <a:pt x="81" y="225"/>
                </a:lnTo>
                <a:lnTo>
                  <a:pt x="85" y="228"/>
                </a:lnTo>
                <a:lnTo>
                  <a:pt x="90" y="235"/>
                </a:lnTo>
                <a:lnTo>
                  <a:pt x="93" y="240"/>
                </a:lnTo>
                <a:lnTo>
                  <a:pt x="98" y="245"/>
                </a:lnTo>
                <a:lnTo>
                  <a:pt x="103" y="250"/>
                </a:lnTo>
                <a:lnTo>
                  <a:pt x="106" y="254"/>
                </a:lnTo>
                <a:lnTo>
                  <a:pt x="111" y="259"/>
                </a:lnTo>
                <a:lnTo>
                  <a:pt x="116" y="264"/>
                </a:lnTo>
                <a:lnTo>
                  <a:pt x="119" y="269"/>
                </a:lnTo>
                <a:lnTo>
                  <a:pt x="124" y="274"/>
                </a:lnTo>
                <a:lnTo>
                  <a:pt x="129" y="277"/>
                </a:lnTo>
                <a:lnTo>
                  <a:pt x="134" y="282"/>
                </a:lnTo>
                <a:lnTo>
                  <a:pt x="137" y="287"/>
                </a:lnTo>
                <a:lnTo>
                  <a:pt x="142" y="290"/>
                </a:lnTo>
                <a:lnTo>
                  <a:pt x="145" y="294"/>
                </a:lnTo>
                <a:lnTo>
                  <a:pt x="150" y="298"/>
                </a:lnTo>
                <a:lnTo>
                  <a:pt x="153" y="303"/>
                </a:lnTo>
                <a:lnTo>
                  <a:pt x="156" y="308"/>
                </a:lnTo>
                <a:lnTo>
                  <a:pt x="160" y="313"/>
                </a:lnTo>
                <a:lnTo>
                  <a:pt x="163" y="318"/>
                </a:lnTo>
                <a:lnTo>
                  <a:pt x="166" y="325"/>
                </a:lnTo>
                <a:lnTo>
                  <a:pt x="170" y="331"/>
                </a:lnTo>
                <a:lnTo>
                  <a:pt x="173" y="336"/>
                </a:lnTo>
                <a:lnTo>
                  <a:pt x="174" y="342"/>
                </a:lnTo>
                <a:lnTo>
                  <a:pt x="178" y="349"/>
                </a:lnTo>
                <a:lnTo>
                  <a:pt x="181" y="356"/>
                </a:lnTo>
                <a:lnTo>
                  <a:pt x="183" y="360"/>
                </a:lnTo>
                <a:lnTo>
                  <a:pt x="184" y="367"/>
                </a:lnTo>
                <a:lnTo>
                  <a:pt x="186" y="373"/>
                </a:lnTo>
                <a:lnTo>
                  <a:pt x="189" y="380"/>
                </a:lnTo>
                <a:lnTo>
                  <a:pt x="191" y="387"/>
                </a:lnTo>
                <a:lnTo>
                  <a:pt x="191" y="391"/>
                </a:lnTo>
                <a:lnTo>
                  <a:pt x="192" y="398"/>
                </a:lnTo>
                <a:lnTo>
                  <a:pt x="194" y="403"/>
                </a:lnTo>
                <a:lnTo>
                  <a:pt x="196" y="408"/>
                </a:lnTo>
                <a:lnTo>
                  <a:pt x="197" y="413"/>
                </a:lnTo>
                <a:lnTo>
                  <a:pt x="197" y="418"/>
                </a:lnTo>
                <a:lnTo>
                  <a:pt x="199" y="422"/>
                </a:lnTo>
                <a:lnTo>
                  <a:pt x="199" y="426"/>
                </a:lnTo>
                <a:lnTo>
                  <a:pt x="199" y="431"/>
                </a:lnTo>
                <a:lnTo>
                  <a:pt x="200" y="432"/>
                </a:lnTo>
                <a:lnTo>
                  <a:pt x="200" y="435"/>
                </a:lnTo>
                <a:lnTo>
                  <a:pt x="200" y="439"/>
                </a:lnTo>
                <a:lnTo>
                  <a:pt x="202" y="440"/>
                </a:lnTo>
                <a:lnTo>
                  <a:pt x="166" y="453"/>
                </a:lnTo>
                <a:lnTo>
                  <a:pt x="170" y="442"/>
                </a:lnTo>
                <a:lnTo>
                  <a:pt x="184" y="432"/>
                </a:lnTo>
                <a:lnTo>
                  <a:pt x="184" y="431"/>
                </a:lnTo>
                <a:lnTo>
                  <a:pt x="184" y="427"/>
                </a:lnTo>
                <a:lnTo>
                  <a:pt x="183" y="421"/>
                </a:lnTo>
                <a:lnTo>
                  <a:pt x="183" y="416"/>
                </a:lnTo>
                <a:lnTo>
                  <a:pt x="181" y="411"/>
                </a:lnTo>
                <a:lnTo>
                  <a:pt x="181" y="408"/>
                </a:lnTo>
                <a:lnTo>
                  <a:pt x="179" y="403"/>
                </a:lnTo>
                <a:lnTo>
                  <a:pt x="178" y="398"/>
                </a:lnTo>
                <a:lnTo>
                  <a:pt x="178" y="393"/>
                </a:lnTo>
                <a:lnTo>
                  <a:pt x="176" y="388"/>
                </a:lnTo>
                <a:lnTo>
                  <a:pt x="174" y="383"/>
                </a:lnTo>
                <a:lnTo>
                  <a:pt x="173" y="378"/>
                </a:lnTo>
                <a:lnTo>
                  <a:pt x="170" y="372"/>
                </a:lnTo>
                <a:lnTo>
                  <a:pt x="168" y="365"/>
                </a:lnTo>
                <a:lnTo>
                  <a:pt x="166" y="360"/>
                </a:lnTo>
                <a:lnTo>
                  <a:pt x="165" y="356"/>
                </a:lnTo>
                <a:lnTo>
                  <a:pt x="161" y="349"/>
                </a:lnTo>
                <a:lnTo>
                  <a:pt x="160" y="342"/>
                </a:lnTo>
                <a:lnTo>
                  <a:pt x="156" y="338"/>
                </a:lnTo>
                <a:lnTo>
                  <a:pt x="153" y="333"/>
                </a:lnTo>
                <a:lnTo>
                  <a:pt x="150" y="326"/>
                </a:lnTo>
                <a:lnTo>
                  <a:pt x="147" y="321"/>
                </a:lnTo>
                <a:lnTo>
                  <a:pt x="143" y="315"/>
                </a:lnTo>
                <a:lnTo>
                  <a:pt x="140" y="312"/>
                </a:lnTo>
                <a:lnTo>
                  <a:pt x="135" y="305"/>
                </a:lnTo>
                <a:lnTo>
                  <a:pt x="130" y="302"/>
                </a:lnTo>
                <a:lnTo>
                  <a:pt x="125" y="297"/>
                </a:lnTo>
                <a:lnTo>
                  <a:pt x="122" y="294"/>
                </a:lnTo>
                <a:lnTo>
                  <a:pt x="116" y="289"/>
                </a:lnTo>
                <a:lnTo>
                  <a:pt x="111" y="284"/>
                </a:lnTo>
                <a:lnTo>
                  <a:pt x="106" y="281"/>
                </a:lnTo>
                <a:lnTo>
                  <a:pt x="99" y="276"/>
                </a:lnTo>
                <a:lnTo>
                  <a:pt x="95" y="271"/>
                </a:lnTo>
                <a:lnTo>
                  <a:pt x="90" y="264"/>
                </a:lnTo>
                <a:lnTo>
                  <a:pt x="85" y="259"/>
                </a:lnTo>
                <a:lnTo>
                  <a:pt x="80" y="253"/>
                </a:lnTo>
                <a:lnTo>
                  <a:pt x="75" y="246"/>
                </a:lnTo>
                <a:lnTo>
                  <a:pt x="70" y="241"/>
                </a:lnTo>
                <a:lnTo>
                  <a:pt x="65" y="235"/>
                </a:lnTo>
                <a:lnTo>
                  <a:pt x="60" y="228"/>
                </a:lnTo>
                <a:lnTo>
                  <a:pt x="55" y="222"/>
                </a:lnTo>
                <a:lnTo>
                  <a:pt x="52" y="215"/>
                </a:lnTo>
                <a:lnTo>
                  <a:pt x="47" y="209"/>
                </a:lnTo>
                <a:lnTo>
                  <a:pt x="44" y="204"/>
                </a:lnTo>
                <a:lnTo>
                  <a:pt x="39" y="196"/>
                </a:lnTo>
                <a:lnTo>
                  <a:pt x="34" y="189"/>
                </a:lnTo>
                <a:lnTo>
                  <a:pt x="31" y="183"/>
                </a:lnTo>
                <a:lnTo>
                  <a:pt x="28" y="176"/>
                </a:lnTo>
                <a:lnTo>
                  <a:pt x="24" y="170"/>
                </a:lnTo>
                <a:lnTo>
                  <a:pt x="21" y="163"/>
                </a:lnTo>
                <a:lnTo>
                  <a:pt x="16" y="155"/>
                </a:lnTo>
                <a:lnTo>
                  <a:pt x="15" y="150"/>
                </a:lnTo>
                <a:lnTo>
                  <a:pt x="11" y="144"/>
                </a:lnTo>
                <a:lnTo>
                  <a:pt x="10" y="137"/>
                </a:lnTo>
                <a:lnTo>
                  <a:pt x="8" y="129"/>
                </a:lnTo>
                <a:lnTo>
                  <a:pt x="7" y="124"/>
                </a:lnTo>
                <a:lnTo>
                  <a:pt x="3" y="117"/>
                </a:lnTo>
                <a:lnTo>
                  <a:pt x="3" y="113"/>
                </a:lnTo>
                <a:lnTo>
                  <a:pt x="2" y="106"/>
                </a:lnTo>
                <a:lnTo>
                  <a:pt x="2" y="101"/>
                </a:lnTo>
                <a:lnTo>
                  <a:pt x="0" y="95"/>
                </a:lnTo>
                <a:lnTo>
                  <a:pt x="0" y="88"/>
                </a:lnTo>
                <a:lnTo>
                  <a:pt x="0" y="83"/>
                </a:lnTo>
                <a:lnTo>
                  <a:pt x="0" y="78"/>
                </a:lnTo>
                <a:lnTo>
                  <a:pt x="0" y="75"/>
                </a:lnTo>
                <a:lnTo>
                  <a:pt x="2" y="70"/>
                </a:lnTo>
                <a:lnTo>
                  <a:pt x="2" y="65"/>
                </a:lnTo>
                <a:lnTo>
                  <a:pt x="3" y="62"/>
                </a:lnTo>
                <a:lnTo>
                  <a:pt x="3" y="57"/>
                </a:lnTo>
                <a:lnTo>
                  <a:pt x="5" y="54"/>
                </a:lnTo>
                <a:lnTo>
                  <a:pt x="7" y="51"/>
                </a:lnTo>
                <a:lnTo>
                  <a:pt x="8" y="47"/>
                </a:lnTo>
                <a:lnTo>
                  <a:pt x="11" y="41"/>
                </a:lnTo>
                <a:lnTo>
                  <a:pt x="16" y="36"/>
                </a:lnTo>
                <a:lnTo>
                  <a:pt x="20" y="31"/>
                </a:lnTo>
                <a:lnTo>
                  <a:pt x="23" y="28"/>
                </a:lnTo>
                <a:lnTo>
                  <a:pt x="26" y="23"/>
                </a:lnTo>
                <a:lnTo>
                  <a:pt x="29" y="21"/>
                </a:lnTo>
                <a:lnTo>
                  <a:pt x="34" y="18"/>
                </a:lnTo>
                <a:lnTo>
                  <a:pt x="36" y="18"/>
                </a:lnTo>
                <a:lnTo>
                  <a:pt x="36" y="16"/>
                </a:lnTo>
                <a:lnTo>
                  <a:pt x="37" y="16"/>
                </a:lnTo>
                <a:lnTo>
                  <a:pt x="41" y="15"/>
                </a:lnTo>
                <a:lnTo>
                  <a:pt x="44" y="15"/>
                </a:lnTo>
                <a:lnTo>
                  <a:pt x="47" y="13"/>
                </a:lnTo>
                <a:lnTo>
                  <a:pt x="54" y="11"/>
                </a:lnTo>
                <a:lnTo>
                  <a:pt x="59" y="10"/>
                </a:lnTo>
                <a:lnTo>
                  <a:pt x="67" y="8"/>
                </a:lnTo>
                <a:lnTo>
                  <a:pt x="70" y="7"/>
                </a:lnTo>
                <a:lnTo>
                  <a:pt x="73" y="7"/>
                </a:lnTo>
                <a:lnTo>
                  <a:pt x="77" y="5"/>
                </a:lnTo>
                <a:lnTo>
                  <a:pt x="81" y="3"/>
                </a:lnTo>
                <a:lnTo>
                  <a:pt x="85" y="3"/>
                </a:lnTo>
                <a:lnTo>
                  <a:pt x="90" y="3"/>
                </a:lnTo>
                <a:lnTo>
                  <a:pt x="95" y="2"/>
                </a:lnTo>
                <a:lnTo>
                  <a:pt x="98" y="2"/>
                </a:lnTo>
                <a:lnTo>
                  <a:pt x="103" y="2"/>
                </a:lnTo>
                <a:lnTo>
                  <a:pt x="108" y="0"/>
                </a:lnTo>
                <a:lnTo>
                  <a:pt x="112" y="0"/>
                </a:lnTo>
                <a:lnTo>
                  <a:pt x="117" y="0"/>
                </a:lnTo>
                <a:lnTo>
                  <a:pt x="122" y="0"/>
                </a:lnTo>
                <a:lnTo>
                  <a:pt x="127" y="0"/>
                </a:lnTo>
                <a:lnTo>
                  <a:pt x="132" y="0"/>
                </a:lnTo>
                <a:lnTo>
                  <a:pt x="137" y="2"/>
                </a:lnTo>
                <a:lnTo>
                  <a:pt x="170" y="3"/>
                </a:lnTo>
                <a:lnTo>
                  <a:pt x="170" y="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089840" y="5021280"/>
            <a:ext cx="231840" cy="382680"/>
          </a:xfrm>
          <a:custGeom>
            <a:avLst/>
            <a:gdLst/>
            <a:ahLst/>
            <a:rect l="l" t="t" r="r" b="b"/>
            <a:pathLst>
              <a:path w="292" h="483">
                <a:moveTo>
                  <a:pt x="292" y="211"/>
                </a:moveTo>
                <a:lnTo>
                  <a:pt x="284" y="224"/>
                </a:lnTo>
                <a:lnTo>
                  <a:pt x="284" y="224"/>
                </a:lnTo>
                <a:lnTo>
                  <a:pt x="282" y="220"/>
                </a:lnTo>
                <a:lnTo>
                  <a:pt x="282" y="216"/>
                </a:lnTo>
                <a:lnTo>
                  <a:pt x="281" y="209"/>
                </a:lnTo>
                <a:lnTo>
                  <a:pt x="279" y="206"/>
                </a:lnTo>
                <a:lnTo>
                  <a:pt x="279" y="201"/>
                </a:lnTo>
                <a:lnTo>
                  <a:pt x="277" y="196"/>
                </a:lnTo>
                <a:lnTo>
                  <a:pt x="276" y="193"/>
                </a:lnTo>
                <a:lnTo>
                  <a:pt x="274" y="188"/>
                </a:lnTo>
                <a:lnTo>
                  <a:pt x="272" y="183"/>
                </a:lnTo>
                <a:lnTo>
                  <a:pt x="272" y="180"/>
                </a:lnTo>
                <a:lnTo>
                  <a:pt x="271" y="175"/>
                </a:lnTo>
                <a:lnTo>
                  <a:pt x="268" y="170"/>
                </a:lnTo>
                <a:lnTo>
                  <a:pt x="266" y="163"/>
                </a:lnTo>
                <a:lnTo>
                  <a:pt x="263" y="159"/>
                </a:lnTo>
                <a:lnTo>
                  <a:pt x="261" y="154"/>
                </a:lnTo>
                <a:lnTo>
                  <a:pt x="258" y="149"/>
                </a:lnTo>
                <a:lnTo>
                  <a:pt x="256" y="144"/>
                </a:lnTo>
                <a:lnTo>
                  <a:pt x="253" y="139"/>
                </a:lnTo>
                <a:lnTo>
                  <a:pt x="251" y="134"/>
                </a:lnTo>
                <a:lnTo>
                  <a:pt x="248" y="131"/>
                </a:lnTo>
                <a:lnTo>
                  <a:pt x="245" y="126"/>
                </a:lnTo>
                <a:lnTo>
                  <a:pt x="240" y="121"/>
                </a:lnTo>
                <a:lnTo>
                  <a:pt x="237" y="118"/>
                </a:lnTo>
                <a:lnTo>
                  <a:pt x="233" y="114"/>
                </a:lnTo>
                <a:lnTo>
                  <a:pt x="228" y="111"/>
                </a:lnTo>
                <a:lnTo>
                  <a:pt x="225" y="110"/>
                </a:lnTo>
                <a:lnTo>
                  <a:pt x="222" y="106"/>
                </a:lnTo>
                <a:lnTo>
                  <a:pt x="215" y="103"/>
                </a:lnTo>
                <a:lnTo>
                  <a:pt x="210" y="101"/>
                </a:lnTo>
                <a:lnTo>
                  <a:pt x="207" y="98"/>
                </a:lnTo>
                <a:lnTo>
                  <a:pt x="204" y="95"/>
                </a:lnTo>
                <a:lnTo>
                  <a:pt x="199" y="92"/>
                </a:lnTo>
                <a:lnTo>
                  <a:pt x="194" y="87"/>
                </a:lnTo>
                <a:lnTo>
                  <a:pt x="191" y="84"/>
                </a:lnTo>
                <a:lnTo>
                  <a:pt x="188" y="80"/>
                </a:lnTo>
                <a:lnTo>
                  <a:pt x="183" y="75"/>
                </a:lnTo>
                <a:lnTo>
                  <a:pt x="180" y="70"/>
                </a:lnTo>
                <a:lnTo>
                  <a:pt x="176" y="67"/>
                </a:lnTo>
                <a:lnTo>
                  <a:pt x="173" y="62"/>
                </a:lnTo>
                <a:lnTo>
                  <a:pt x="170" y="59"/>
                </a:lnTo>
                <a:lnTo>
                  <a:pt x="166" y="54"/>
                </a:lnTo>
                <a:lnTo>
                  <a:pt x="163" y="51"/>
                </a:lnTo>
                <a:lnTo>
                  <a:pt x="160" y="48"/>
                </a:lnTo>
                <a:lnTo>
                  <a:pt x="157" y="43"/>
                </a:lnTo>
                <a:lnTo>
                  <a:pt x="153" y="39"/>
                </a:lnTo>
                <a:lnTo>
                  <a:pt x="149" y="35"/>
                </a:lnTo>
                <a:lnTo>
                  <a:pt x="145" y="33"/>
                </a:lnTo>
                <a:lnTo>
                  <a:pt x="139" y="26"/>
                </a:lnTo>
                <a:lnTo>
                  <a:pt x="132" y="23"/>
                </a:lnTo>
                <a:lnTo>
                  <a:pt x="127" y="22"/>
                </a:lnTo>
                <a:lnTo>
                  <a:pt x="124" y="22"/>
                </a:lnTo>
                <a:lnTo>
                  <a:pt x="119" y="20"/>
                </a:lnTo>
                <a:lnTo>
                  <a:pt x="116" y="22"/>
                </a:lnTo>
                <a:lnTo>
                  <a:pt x="113" y="22"/>
                </a:lnTo>
                <a:lnTo>
                  <a:pt x="109" y="22"/>
                </a:lnTo>
                <a:lnTo>
                  <a:pt x="105" y="23"/>
                </a:lnTo>
                <a:lnTo>
                  <a:pt x="101" y="26"/>
                </a:lnTo>
                <a:lnTo>
                  <a:pt x="96" y="28"/>
                </a:lnTo>
                <a:lnTo>
                  <a:pt x="92" y="33"/>
                </a:lnTo>
                <a:lnTo>
                  <a:pt x="88" y="36"/>
                </a:lnTo>
                <a:lnTo>
                  <a:pt x="85" y="41"/>
                </a:lnTo>
                <a:lnTo>
                  <a:pt x="82" y="44"/>
                </a:lnTo>
                <a:lnTo>
                  <a:pt x="80" y="49"/>
                </a:lnTo>
                <a:lnTo>
                  <a:pt x="78" y="54"/>
                </a:lnTo>
                <a:lnTo>
                  <a:pt x="75" y="61"/>
                </a:lnTo>
                <a:lnTo>
                  <a:pt x="74" y="66"/>
                </a:lnTo>
                <a:lnTo>
                  <a:pt x="72" y="72"/>
                </a:lnTo>
                <a:lnTo>
                  <a:pt x="70" y="77"/>
                </a:lnTo>
                <a:lnTo>
                  <a:pt x="70" y="84"/>
                </a:lnTo>
                <a:lnTo>
                  <a:pt x="69" y="90"/>
                </a:lnTo>
                <a:lnTo>
                  <a:pt x="69" y="97"/>
                </a:lnTo>
                <a:lnTo>
                  <a:pt x="67" y="103"/>
                </a:lnTo>
                <a:lnTo>
                  <a:pt x="67" y="110"/>
                </a:lnTo>
                <a:lnTo>
                  <a:pt x="67" y="116"/>
                </a:lnTo>
                <a:lnTo>
                  <a:pt x="65" y="121"/>
                </a:lnTo>
                <a:lnTo>
                  <a:pt x="65" y="128"/>
                </a:lnTo>
                <a:lnTo>
                  <a:pt x="65" y="134"/>
                </a:lnTo>
                <a:lnTo>
                  <a:pt x="65" y="137"/>
                </a:lnTo>
                <a:lnTo>
                  <a:pt x="65" y="144"/>
                </a:lnTo>
                <a:lnTo>
                  <a:pt x="65" y="149"/>
                </a:lnTo>
                <a:lnTo>
                  <a:pt x="67" y="154"/>
                </a:lnTo>
                <a:lnTo>
                  <a:pt x="67" y="157"/>
                </a:lnTo>
                <a:lnTo>
                  <a:pt x="67" y="162"/>
                </a:lnTo>
                <a:lnTo>
                  <a:pt x="67" y="163"/>
                </a:lnTo>
                <a:lnTo>
                  <a:pt x="67" y="167"/>
                </a:lnTo>
                <a:lnTo>
                  <a:pt x="69" y="172"/>
                </a:lnTo>
                <a:lnTo>
                  <a:pt x="69" y="173"/>
                </a:lnTo>
                <a:lnTo>
                  <a:pt x="69" y="175"/>
                </a:lnTo>
                <a:lnTo>
                  <a:pt x="69" y="176"/>
                </a:lnTo>
                <a:lnTo>
                  <a:pt x="70" y="181"/>
                </a:lnTo>
                <a:lnTo>
                  <a:pt x="72" y="186"/>
                </a:lnTo>
                <a:lnTo>
                  <a:pt x="72" y="193"/>
                </a:lnTo>
                <a:lnTo>
                  <a:pt x="72" y="194"/>
                </a:lnTo>
                <a:lnTo>
                  <a:pt x="74" y="199"/>
                </a:lnTo>
                <a:lnTo>
                  <a:pt x="74" y="203"/>
                </a:lnTo>
                <a:lnTo>
                  <a:pt x="75" y="207"/>
                </a:lnTo>
                <a:lnTo>
                  <a:pt x="75" y="211"/>
                </a:lnTo>
                <a:lnTo>
                  <a:pt x="77" y="214"/>
                </a:lnTo>
                <a:lnTo>
                  <a:pt x="77" y="219"/>
                </a:lnTo>
                <a:lnTo>
                  <a:pt x="78" y="224"/>
                </a:lnTo>
                <a:lnTo>
                  <a:pt x="78" y="227"/>
                </a:lnTo>
                <a:lnTo>
                  <a:pt x="78" y="234"/>
                </a:lnTo>
                <a:lnTo>
                  <a:pt x="80" y="238"/>
                </a:lnTo>
                <a:lnTo>
                  <a:pt x="82" y="243"/>
                </a:lnTo>
                <a:lnTo>
                  <a:pt x="82" y="248"/>
                </a:lnTo>
                <a:lnTo>
                  <a:pt x="82" y="253"/>
                </a:lnTo>
                <a:lnTo>
                  <a:pt x="82" y="260"/>
                </a:lnTo>
                <a:lnTo>
                  <a:pt x="83" y="265"/>
                </a:lnTo>
                <a:lnTo>
                  <a:pt x="83" y="271"/>
                </a:lnTo>
                <a:lnTo>
                  <a:pt x="85" y="276"/>
                </a:lnTo>
                <a:lnTo>
                  <a:pt x="85" y="282"/>
                </a:lnTo>
                <a:lnTo>
                  <a:pt x="87" y="289"/>
                </a:lnTo>
                <a:lnTo>
                  <a:pt x="87" y="296"/>
                </a:lnTo>
                <a:lnTo>
                  <a:pt x="87" y="300"/>
                </a:lnTo>
                <a:lnTo>
                  <a:pt x="87" y="307"/>
                </a:lnTo>
                <a:lnTo>
                  <a:pt x="87" y="313"/>
                </a:lnTo>
                <a:lnTo>
                  <a:pt x="87" y="320"/>
                </a:lnTo>
                <a:lnTo>
                  <a:pt x="87" y="326"/>
                </a:lnTo>
                <a:lnTo>
                  <a:pt x="87" y="333"/>
                </a:lnTo>
                <a:lnTo>
                  <a:pt x="87" y="340"/>
                </a:lnTo>
                <a:lnTo>
                  <a:pt x="87" y="344"/>
                </a:lnTo>
                <a:lnTo>
                  <a:pt x="87" y="351"/>
                </a:lnTo>
                <a:lnTo>
                  <a:pt x="85" y="357"/>
                </a:lnTo>
                <a:lnTo>
                  <a:pt x="85" y="364"/>
                </a:lnTo>
                <a:lnTo>
                  <a:pt x="85" y="371"/>
                </a:lnTo>
                <a:lnTo>
                  <a:pt x="85" y="377"/>
                </a:lnTo>
                <a:lnTo>
                  <a:pt x="83" y="384"/>
                </a:lnTo>
                <a:lnTo>
                  <a:pt x="83" y="390"/>
                </a:lnTo>
                <a:lnTo>
                  <a:pt x="82" y="397"/>
                </a:lnTo>
                <a:lnTo>
                  <a:pt x="82" y="403"/>
                </a:lnTo>
                <a:lnTo>
                  <a:pt x="80" y="408"/>
                </a:lnTo>
                <a:lnTo>
                  <a:pt x="78" y="416"/>
                </a:lnTo>
                <a:lnTo>
                  <a:pt x="77" y="421"/>
                </a:lnTo>
                <a:lnTo>
                  <a:pt x="75" y="428"/>
                </a:lnTo>
                <a:lnTo>
                  <a:pt x="74" y="432"/>
                </a:lnTo>
                <a:lnTo>
                  <a:pt x="72" y="441"/>
                </a:lnTo>
                <a:lnTo>
                  <a:pt x="70" y="446"/>
                </a:lnTo>
                <a:lnTo>
                  <a:pt x="69" y="450"/>
                </a:lnTo>
                <a:lnTo>
                  <a:pt x="65" y="457"/>
                </a:lnTo>
                <a:lnTo>
                  <a:pt x="64" y="462"/>
                </a:lnTo>
                <a:lnTo>
                  <a:pt x="61" y="467"/>
                </a:lnTo>
                <a:lnTo>
                  <a:pt x="57" y="473"/>
                </a:lnTo>
                <a:lnTo>
                  <a:pt x="56" y="478"/>
                </a:lnTo>
                <a:lnTo>
                  <a:pt x="52" y="483"/>
                </a:lnTo>
                <a:lnTo>
                  <a:pt x="0" y="472"/>
                </a:lnTo>
                <a:lnTo>
                  <a:pt x="13" y="459"/>
                </a:lnTo>
                <a:lnTo>
                  <a:pt x="39" y="463"/>
                </a:lnTo>
                <a:lnTo>
                  <a:pt x="39" y="460"/>
                </a:lnTo>
                <a:lnTo>
                  <a:pt x="41" y="457"/>
                </a:lnTo>
                <a:lnTo>
                  <a:pt x="41" y="454"/>
                </a:lnTo>
                <a:lnTo>
                  <a:pt x="44" y="450"/>
                </a:lnTo>
                <a:lnTo>
                  <a:pt x="46" y="446"/>
                </a:lnTo>
                <a:lnTo>
                  <a:pt x="48" y="442"/>
                </a:lnTo>
                <a:lnTo>
                  <a:pt x="49" y="436"/>
                </a:lnTo>
                <a:lnTo>
                  <a:pt x="51" y="431"/>
                </a:lnTo>
                <a:lnTo>
                  <a:pt x="54" y="426"/>
                </a:lnTo>
                <a:lnTo>
                  <a:pt x="56" y="419"/>
                </a:lnTo>
                <a:lnTo>
                  <a:pt x="57" y="413"/>
                </a:lnTo>
                <a:lnTo>
                  <a:pt x="61" y="405"/>
                </a:lnTo>
                <a:lnTo>
                  <a:pt x="61" y="402"/>
                </a:lnTo>
                <a:lnTo>
                  <a:pt x="62" y="398"/>
                </a:lnTo>
                <a:lnTo>
                  <a:pt x="64" y="395"/>
                </a:lnTo>
                <a:lnTo>
                  <a:pt x="65" y="392"/>
                </a:lnTo>
                <a:lnTo>
                  <a:pt x="65" y="387"/>
                </a:lnTo>
                <a:lnTo>
                  <a:pt x="67" y="382"/>
                </a:lnTo>
                <a:lnTo>
                  <a:pt x="67" y="377"/>
                </a:lnTo>
                <a:lnTo>
                  <a:pt x="69" y="374"/>
                </a:lnTo>
                <a:lnTo>
                  <a:pt x="69" y="369"/>
                </a:lnTo>
                <a:lnTo>
                  <a:pt x="70" y="366"/>
                </a:lnTo>
                <a:lnTo>
                  <a:pt x="70" y="361"/>
                </a:lnTo>
                <a:lnTo>
                  <a:pt x="72" y="357"/>
                </a:lnTo>
                <a:lnTo>
                  <a:pt x="72" y="353"/>
                </a:lnTo>
                <a:lnTo>
                  <a:pt x="72" y="348"/>
                </a:lnTo>
                <a:lnTo>
                  <a:pt x="72" y="343"/>
                </a:lnTo>
                <a:lnTo>
                  <a:pt x="74" y="338"/>
                </a:lnTo>
                <a:lnTo>
                  <a:pt x="74" y="333"/>
                </a:lnTo>
                <a:lnTo>
                  <a:pt x="74" y="330"/>
                </a:lnTo>
                <a:lnTo>
                  <a:pt x="74" y="325"/>
                </a:lnTo>
                <a:lnTo>
                  <a:pt x="75" y="320"/>
                </a:lnTo>
                <a:lnTo>
                  <a:pt x="74" y="315"/>
                </a:lnTo>
                <a:lnTo>
                  <a:pt x="74" y="310"/>
                </a:lnTo>
                <a:lnTo>
                  <a:pt x="74" y="307"/>
                </a:lnTo>
                <a:lnTo>
                  <a:pt x="74" y="302"/>
                </a:lnTo>
                <a:lnTo>
                  <a:pt x="74" y="296"/>
                </a:lnTo>
                <a:lnTo>
                  <a:pt x="74" y="292"/>
                </a:lnTo>
                <a:lnTo>
                  <a:pt x="74" y="287"/>
                </a:lnTo>
                <a:lnTo>
                  <a:pt x="74" y="282"/>
                </a:lnTo>
                <a:lnTo>
                  <a:pt x="72" y="278"/>
                </a:lnTo>
                <a:lnTo>
                  <a:pt x="72" y="273"/>
                </a:lnTo>
                <a:lnTo>
                  <a:pt x="70" y="268"/>
                </a:lnTo>
                <a:lnTo>
                  <a:pt x="69" y="265"/>
                </a:lnTo>
                <a:lnTo>
                  <a:pt x="69" y="260"/>
                </a:lnTo>
                <a:lnTo>
                  <a:pt x="67" y="255"/>
                </a:lnTo>
                <a:lnTo>
                  <a:pt x="65" y="251"/>
                </a:lnTo>
                <a:lnTo>
                  <a:pt x="64" y="247"/>
                </a:lnTo>
                <a:lnTo>
                  <a:pt x="62" y="242"/>
                </a:lnTo>
                <a:lnTo>
                  <a:pt x="61" y="237"/>
                </a:lnTo>
                <a:lnTo>
                  <a:pt x="59" y="232"/>
                </a:lnTo>
                <a:lnTo>
                  <a:pt x="57" y="229"/>
                </a:lnTo>
                <a:lnTo>
                  <a:pt x="56" y="224"/>
                </a:lnTo>
                <a:lnTo>
                  <a:pt x="54" y="219"/>
                </a:lnTo>
                <a:lnTo>
                  <a:pt x="54" y="214"/>
                </a:lnTo>
                <a:lnTo>
                  <a:pt x="52" y="211"/>
                </a:lnTo>
                <a:lnTo>
                  <a:pt x="51" y="206"/>
                </a:lnTo>
                <a:lnTo>
                  <a:pt x="51" y="201"/>
                </a:lnTo>
                <a:lnTo>
                  <a:pt x="49" y="196"/>
                </a:lnTo>
                <a:lnTo>
                  <a:pt x="49" y="193"/>
                </a:lnTo>
                <a:lnTo>
                  <a:pt x="48" y="188"/>
                </a:lnTo>
                <a:lnTo>
                  <a:pt x="48" y="183"/>
                </a:lnTo>
                <a:lnTo>
                  <a:pt x="48" y="180"/>
                </a:lnTo>
                <a:lnTo>
                  <a:pt x="48" y="175"/>
                </a:lnTo>
                <a:lnTo>
                  <a:pt x="46" y="172"/>
                </a:lnTo>
                <a:lnTo>
                  <a:pt x="46" y="167"/>
                </a:lnTo>
                <a:lnTo>
                  <a:pt x="44" y="162"/>
                </a:lnTo>
                <a:lnTo>
                  <a:pt x="44" y="159"/>
                </a:lnTo>
                <a:lnTo>
                  <a:pt x="44" y="154"/>
                </a:lnTo>
                <a:lnTo>
                  <a:pt x="44" y="150"/>
                </a:lnTo>
                <a:lnTo>
                  <a:pt x="44" y="145"/>
                </a:lnTo>
                <a:lnTo>
                  <a:pt x="44" y="142"/>
                </a:lnTo>
                <a:lnTo>
                  <a:pt x="44" y="139"/>
                </a:lnTo>
                <a:lnTo>
                  <a:pt x="44" y="134"/>
                </a:lnTo>
                <a:lnTo>
                  <a:pt x="44" y="131"/>
                </a:lnTo>
                <a:lnTo>
                  <a:pt x="44" y="128"/>
                </a:lnTo>
                <a:lnTo>
                  <a:pt x="44" y="119"/>
                </a:lnTo>
                <a:lnTo>
                  <a:pt x="46" y="114"/>
                </a:lnTo>
                <a:lnTo>
                  <a:pt x="46" y="106"/>
                </a:lnTo>
                <a:lnTo>
                  <a:pt x="46" y="100"/>
                </a:lnTo>
                <a:lnTo>
                  <a:pt x="48" y="93"/>
                </a:lnTo>
                <a:lnTo>
                  <a:pt x="48" y="88"/>
                </a:lnTo>
                <a:lnTo>
                  <a:pt x="48" y="84"/>
                </a:lnTo>
                <a:lnTo>
                  <a:pt x="49" y="79"/>
                </a:lnTo>
                <a:lnTo>
                  <a:pt x="51" y="74"/>
                </a:lnTo>
                <a:lnTo>
                  <a:pt x="51" y="69"/>
                </a:lnTo>
                <a:lnTo>
                  <a:pt x="51" y="66"/>
                </a:lnTo>
                <a:lnTo>
                  <a:pt x="52" y="62"/>
                </a:lnTo>
                <a:lnTo>
                  <a:pt x="52" y="59"/>
                </a:lnTo>
                <a:lnTo>
                  <a:pt x="54" y="57"/>
                </a:lnTo>
                <a:lnTo>
                  <a:pt x="54" y="54"/>
                </a:lnTo>
                <a:lnTo>
                  <a:pt x="56" y="54"/>
                </a:lnTo>
                <a:lnTo>
                  <a:pt x="56" y="53"/>
                </a:lnTo>
                <a:lnTo>
                  <a:pt x="56" y="51"/>
                </a:lnTo>
                <a:lnTo>
                  <a:pt x="57" y="49"/>
                </a:lnTo>
                <a:lnTo>
                  <a:pt x="59" y="46"/>
                </a:lnTo>
                <a:lnTo>
                  <a:pt x="61" y="41"/>
                </a:lnTo>
                <a:lnTo>
                  <a:pt x="64" y="36"/>
                </a:lnTo>
                <a:lnTo>
                  <a:pt x="67" y="31"/>
                </a:lnTo>
                <a:lnTo>
                  <a:pt x="70" y="28"/>
                </a:lnTo>
                <a:lnTo>
                  <a:pt x="74" y="22"/>
                </a:lnTo>
                <a:lnTo>
                  <a:pt x="78" y="18"/>
                </a:lnTo>
                <a:lnTo>
                  <a:pt x="83" y="13"/>
                </a:lnTo>
                <a:lnTo>
                  <a:pt x="88" y="8"/>
                </a:lnTo>
                <a:lnTo>
                  <a:pt x="95" y="5"/>
                </a:lnTo>
                <a:lnTo>
                  <a:pt x="101" y="4"/>
                </a:lnTo>
                <a:lnTo>
                  <a:pt x="105" y="2"/>
                </a:lnTo>
                <a:lnTo>
                  <a:pt x="108" y="0"/>
                </a:lnTo>
                <a:lnTo>
                  <a:pt x="111" y="0"/>
                </a:lnTo>
                <a:lnTo>
                  <a:pt x="114" y="0"/>
                </a:lnTo>
                <a:lnTo>
                  <a:pt x="122" y="0"/>
                </a:lnTo>
                <a:lnTo>
                  <a:pt x="129" y="2"/>
                </a:lnTo>
                <a:lnTo>
                  <a:pt x="136" y="5"/>
                </a:lnTo>
                <a:lnTo>
                  <a:pt x="142" y="8"/>
                </a:lnTo>
                <a:lnTo>
                  <a:pt x="149" y="12"/>
                </a:lnTo>
                <a:lnTo>
                  <a:pt x="153" y="17"/>
                </a:lnTo>
                <a:lnTo>
                  <a:pt x="160" y="22"/>
                </a:lnTo>
                <a:lnTo>
                  <a:pt x="165" y="26"/>
                </a:lnTo>
                <a:lnTo>
                  <a:pt x="170" y="30"/>
                </a:lnTo>
                <a:lnTo>
                  <a:pt x="173" y="35"/>
                </a:lnTo>
                <a:lnTo>
                  <a:pt x="176" y="38"/>
                </a:lnTo>
                <a:lnTo>
                  <a:pt x="181" y="43"/>
                </a:lnTo>
                <a:lnTo>
                  <a:pt x="184" y="49"/>
                </a:lnTo>
                <a:lnTo>
                  <a:pt x="186" y="51"/>
                </a:lnTo>
                <a:lnTo>
                  <a:pt x="188" y="53"/>
                </a:lnTo>
                <a:lnTo>
                  <a:pt x="191" y="56"/>
                </a:lnTo>
                <a:lnTo>
                  <a:pt x="194" y="59"/>
                </a:lnTo>
                <a:lnTo>
                  <a:pt x="197" y="62"/>
                </a:lnTo>
                <a:lnTo>
                  <a:pt x="201" y="66"/>
                </a:lnTo>
                <a:lnTo>
                  <a:pt x="206" y="69"/>
                </a:lnTo>
                <a:lnTo>
                  <a:pt x="210" y="72"/>
                </a:lnTo>
                <a:lnTo>
                  <a:pt x="214" y="75"/>
                </a:lnTo>
                <a:lnTo>
                  <a:pt x="219" y="79"/>
                </a:lnTo>
                <a:lnTo>
                  <a:pt x="224" y="84"/>
                </a:lnTo>
                <a:lnTo>
                  <a:pt x="227" y="85"/>
                </a:lnTo>
                <a:lnTo>
                  <a:pt x="232" y="88"/>
                </a:lnTo>
                <a:lnTo>
                  <a:pt x="237" y="90"/>
                </a:lnTo>
                <a:lnTo>
                  <a:pt x="241" y="93"/>
                </a:lnTo>
                <a:lnTo>
                  <a:pt x="245" y="95"/>
                </a:lnTo>
                <a:lnTo>
                  <a:pt x="250" y="98"/>
                </a:lnTo>
                <a:lnTo>
                  <a:pt x="253" y="103"/>
                </a:lnTo>
                <a:lnTo>
                  <a:pt x="258" y="110"/>
                </a:lnTo>
                <a:lnTo>
                  <a:pt x="259" y="113"/>
                </a:lnTo>
                <a:lnTo>
                  <a:pt x="263" y="116"/>
                </a:lnTo>
                <a:lnTo>
                  <a:pt x="264" y="121"/>
                </a:lnTo>
                <a:lnTo>
                  <a:pt x="266" y="124"/>
                </a:lnTo>
                <a:lnTo>
                  <a:pt x="268" y="128"/>
                </a:lnTo>
                <a:lnTo>
                  <a:pt x="269" y="132"/>
                </a:lnTo>
                <a:lnTo>
                  <a:pt x="272" y="137"/>
                </a:lnTo>
                <a:lnTo>
                  <a:pt x="274" y="142"/>
                </a:lnTo>
                <a:lnTo>
                  <a:pt x="276" y="145"/>
                </a:lnTo>
                <a:lnTo>
                  <a:pt x="277" y="149"/>
                </a:lnTo>
                <a:lnTo>
                  <a:pt x="279" y="154"/>
                </a:lnTo>
                <a:lnTo>
                  <a:pt x="281" y="157"/>
                </a:lnTo>
                <a:lnTo>
                  <a:pt x="282" y="160"/>
                </a:lnTo>
                <a:lnTo>
                  <a:pt x="284" y="165"/>
                </a:lnTo>
                <a:lnTo>
                  <a:pt x="285" y="168"/>
                </a:lnTo>
                <a:lnTo>
                  <a:pt x="287" y="172"/>
                </a:lnTo>
                <a:lnTo>
                  <a:pt x="289" y="176"/>
                </a:lnTo>
                <a:lnTo>
                  <a:pt x="290" y="181"/>
                </a:lnTo>
                <a:lnTo>
                  <a:pt x="292" y="183"/>
                </a:lnTo>
                <a:lnTo>
                  <a:pt x="292" y="185"/>
                </a:lnTo>
                <a:lnTo>
                  <a:pt x="292" y="211"/>
                </a:lnTo>
                <a:lnTo>
                  <a:pt x="292" y="211"/>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973920" y="5075280"/>
            <a:ext cx="149040" cy="309600"/>
          </a:xfrm>
          <a:custGeom>
            <a:avLst/>
            <a:gdLst/>
            <a:ahLst/>
            <a:rect l="l" t="t" r="r" b="b"/>
            <a:pathLst>
              <a:path w="187" h="390">
                <a:moveTo>
                  <a:pt x="136" y="390"/>
                </a:moveTo>
                <a:lnTo>
                  <a:pt x="136" y="388"/>
                </a:lnTo>
                <a:lnTo>
                  <a:pt x="138" y="385"/>
                </a:lnTo>
                <a:lnTo>
                  <a:pt x="141" y="381"/>
                </a:lnTo>
                <a:lnTo>
                  <a:pt x="145" y="375"/>
                </a:lnTo>
                <a:lnTo>
                  <a:pt x="146" y="372"/>
                </a:lnTo>
                <a:lnTo>
                  <a:pt x="148" y="367"/>
                </a:lnTo>
                <a:lnTo>
                  <a:pt x="150" y="362"/>
                </a:lnTo>
                <a:lnTo>
                  <a:pt x="151" y="357"/>
                </a:lnTo>
                <a:lnTo>
                  <a:pt x="153" y="352"/>
                </a:lnTo>
                <a:lnTo>
                  <a:pt x="156" y="347"/>
                </a:lnTo>
                <a:lnTo>
                  <a:pt x="158" y="341"/>
                </a:lnTo>
                <a:lnTo>
                  <a:pt x="159" y="336"/>
                </a:lnTo>
                <a:lnTo>
                  <a:pt x="161" y="329"/>
                </a:lnTo>
                <a:lnTo>
                  <a:pt x="163" y="323"/>
                </a:lnTo>
                <a:lnTo>
                  <a:pt x="163" y="316"/>
                </a:lnTo>
                <a:lnTo>
                  <a:pt x="166" y="308"/>
                </a:lnTo>
                <a:lnTo>
                  <a:pt x="166" y="305"/>
                </a:lnTo>
                <a:lnTo>
                  <a:pt x="166" y="302"/>
                </a:lnTo>
                <a:lnTo>
                  <a:pt x="166" y="298"/>
                </a:lnTo>
                <a:lnTo>
                  <a:pt x="166" y="295"/>
                </a:lnTo>
                <a:lnTo>
                  <a:pt x="166" y="290"/>
                </a:lnTo>
                <a:lnTo>
                  <a:pt x="167" y="287"/>
                </a:lnTo>
                <a:lnTo>
                  <a:pt x="167" y="282"/>
                </a:lnTo>
                <a:lnTo>
                  <a:pt x="169" y="279"/>
                </a:lnTo>
                <a:lnTo>
                  <a:pt x="169" y="275"/>
                </a:lnTo>
                <a:lnTo>
                  <a:pt x="169" y="271"/>
                </a:lnTo>
                <a:lnTo>
                  <a:pt x="169" y="267"/>
                </a:lnTo>
                <a:lnTo>
                  <a:pt x="169" y="264"/>
                </a:lnTo>
                <a:lnTo>
                  <a:pt x="167" y="259"/>
                </a:lnTo>
                <a:lnTo>
                  <a:pt x="167" y="256"/>
                </a:lnTo>
                <a:lnTo>
                  <a:pt x="167" y="251"/>
                </a:lnTo>
                <a:lnTo>
                  <a:pt x="167" y="248"/>
                </a:lnTo>
                <a:lnTo>
                  <a:pt x="166" y="243"/>
                </a:lnTo>
                <a:lnTo>
                  <a:pt x="166" y="240"/>
                </a:lnTo>
                <a:lnTo>
                  <a:pt x="164" y="235"/>
                </a:lnTo>
                <a:lnTo>
                  <a:pt x="164" y="231"/>
                </a:lnTo>
                <a:lnTo>
                  <a:pt x="163" y="227"/>
                </a:lnTo>
                <a:lnTo>
                  <a:pt x="163" y="223"/>
                </a:lnTo>
                <a:lnTo>
                  <a:pt x="161" y="220"/>
                </a:lnTo>
                <a:lnTo>
                  <a:pt x="159" y="215"/>
                </a:lnTo>
                <a:lnTo>
                  <a:pt x="158" y="210"/>
                </a:lnTo>
                <a:lnTo>
                  <a:pt x="156" y="207"/>
                </a:lnTo>
                <a:lnTo>
                  <a:pt x="156" y="202"/>
                </a:lnTo>
                <a:lnTo>
                  <a:pt x="154" y="197"/>
                </a:lnTo>
                <a:lnTo>
                  <a:pt x="153" y="194"/>
                </a:lnTo>
                <a:lnTo>
                  <a:pt x="151" y="189"/>
                </a:lnTo>
                <a:lnTo>
                  <a:pt x="150" y="186"/>
                </a:lnTo>
                <a:lnTo>
                  <a:pt x="150" y="182"/>
                </a:lnTo>
                <a:lnTo>
                  <a:pt x="148" y="178"/>
                </a:lnTo>
                <a:lnTo>
                  <a:pt x="148" y="174"/>
                </a:lnTo>
                <a:lnTo>
                  <a:pt x="146" y="169"/>
                </a:lnTo>
                <a:lnTo>
                  <a:pt x="146" y="166"/>
                </a:lnTo>
                <a:lnTo>
                  <a:pt x="145" y="161"/>
                </a:lnTo>
                <a:lnTo>
                  <a:pt x="145" y="158"/>
                </a:lnTo>
                <a:lnTo>
                  <a:pt x="143" y="155"/>
                </a:lnTo>
                <a:lnTo>
                  <a:pt x="143" y="151"/>
                </a:lnTo>
                <a:lnTo>
                  <a:pt x="141" y="148"/>
                </a:lnTo>
                <a:lnTo>
                  <a:pt x="141" y="143"/>
                </a:lnTo>
                <a:lnTo>
                  <a:pt x="140" y="140"/>
                </a:lnTo>
                <a:lnTo>
                  <a:pt x="140" y="137"/>
                </a:lnTo>
                <a:lnTo>
                  <a:pt x="138" y="129"/>
                </a:lnTo>
                <a:lnTo>
                  <a:pt x="138" y="124"/>
                </a:lnTo>
                <a:lnTo>
                  <a:pt x="136" y="117"/>
                </a:lnTo>
                <a:lnTo>
                  <a:pt x="136" y="111"/>
                </a:lnTo>
                <a:lnTo>
                  <a:pt x="136" y="104"/>
                </a:lnTo>
                <a:lnTo>
                  <a:pt x="136" y="99"/>
                </a:lnTo>
                <a:lnTo>
                  <a:pt x="135" y="93"/>
                </a:lnTo>
                <a:lnTo>
                  <a:pt x="135" y="88"/>
                </a:lnTo>
                <a:lnTo>
                  <a:pt x="133" y="83"/>
                </a:lnTo>
                <a:lnTo>
                  <a:pt x="133" y="80"/>
                </a:lnTo>
                <a:lnTo>
                  <a:pt x="133" y="75"/>
                </a:lnTo>
                <a:lnTo>
                  <a:pt x="133" y="70"/>
                </a:lnTo>
                <a:lnTo>
                  <a:pt x="133" y="67"/>
                </a:lnTo>
                <a:lnTo>
                  <a:pt x="133" y="65"/>
                </a:lnTo>
                <a:lnTo>
                  <a:pt x="133" y="59"/>
                </a:lnTo>
                <a:lnTo>
                  <a:pt x="133" y="55"/>
                </a:lnTo>
                <a:lnTo>
                  <a:pt x="133" y="52"/>
                </a:lnTo>
                <a:lnTo>
                  <a:pt x="135" y="52"/>
                </a:lnTo>
                <a:lnTo>
                  <a:pt x="133" y="50"/>
                </a:lnTo>
                <a:lnTo>
                  <a:pt x="132" y="45"/>
                </a:lnTo>
                <a:lnTo>
                  <a:pt x="130" y="39"/>
                </a:lnTo>
                <a:lnTo>
                  <a:pt x="128" y="32"/>
                </a:lnTo>
                <a:lnTo>
                  <a:pt x="123" y="24"/>
                </a:lnTo>
                <a:lnTo>
                  <a:pt x="119" y="21"/>
                </a:lnTo>
                <a:lnTo>
                  <a:pt x="115" y="18"/>
                </a:lnTo>
                <a:lnTo>
                  <a:pt x="112" y="18"/>
                </a:lnTo>
                <a:lnTo>
                  <a:pt x="109" y="18"/>
                </a:lnTo>
                <a:lnTo>
                  <a:pt x="106" y="19"/>
                </a:lnTo>
                <a:lnTo>
                  <a:pt x="99" y="21"/>
                </a:lnTo>
                <a:lnTo>
                  <a:pt x="94" y="26"/>
                </a:lnTo>
                <a:lnTo>
                  <a:pt x="89" y="28"/>
                </a:lnTo>
                <a:lnTo>
                  <a:pt x="86" y="31"/>
                </a:lnTo>
                <a:lnTo>
                  <a:pt x="83" y="32"/>
                </a:lnTo>
                <a:lnTo>
                  <a:pt x="79" y="37"/>
                </a:lnTo>
                <a:lnTo>
                  <a:pt x="75" y="39"/>
                </a:lnTo>
                <a:lnTo>
                  <a:pt x="71" y="42"/>
                </a:lnTo>
                <a:lnTo>
                  <a:pt x="66" y="47"/>
                </a:lnTo>
                <a:lnTo>
                  <a:pt x="62" y="50"/>
                </a:lnTo>
                <a:lnTo>
                  <a:pt x="57" y="55"/>
                </a:lnTo>
                <a:lnTo>
                  <a:pt x="53" y="59"/>
                </a:lnTo>
                <a:lnTo>
                  <a:pt x="50" y="62"/>
                </a:lnTo>
                <a:lnTo>
                  <a:pt x="45" y="67"/>
                </a:lnTo>
                <a:lnTo>
                  <a:pt x="40" y="70"/>
                </a:lnTo>
                <a:lnTo>
                  <a:pt x="37" y="73"/>
                </a:lnTo>
                <a:lnTo>
                  <a:pt x="34" y="76"/>
                </a:lnTo>
                <a:lnTo>
                  <a:pt x="29" y="81"/>
                </a:lnTo>
                <a:lnTo>
                  <a:pt x="22" y="88"/>
                </a:lnTo>
                <a:lnTo>
                  <a:pt x="16" y="94"/>
                </a:lnTo>
                <a:lnTo>
                  <a:pt x="11" y="99"/>
                </a:lnTo>
                <a:lnTo>
                  <a:pt x="6" y="103"/>
                </a:lnTo>
                <a:lnTo>
                  <a:pt x="4" y="106"/>
                </a:lnTo>
                <a:lnTo>
                  <a:pt x="4" y="106"/>
                </a:lnTo>
                <a:lnTo>
                  <a:pt x="0" y="93"/>
                </a:lnTo>
                <a:lnTo>
                  <a:pt x="0" y="91"/>
                </a:lnTo>
                <a:lnTo>
                  <a:pt x="3" y="88"/>
                </a:lnTo>
                <a:lnTo>
                  <a:pt x="8" y="83"/>
                </a:lnTo>
                <a:lnTo>
                  <a:pt x="14" y="76"/>
                </a:lnTo>
                <a:lnTo>
                  <a:pt x="18" y="73"/>
                </a:lnTo>
                <a:lnTo>
                  <a:pt x="21" y="68"/>
                </a:lnTo>
                <a:lnTo>
                  <a:pt x="26" y="63"/>
                </a:lnTo>
                <a:lnTo>
                  <a:pt x="31" y="60"/>
                </a:lnTo>
                <a:lnTo>
                  <a:pt x="35" y="55"/>
                </a:lnTo>
                <a:lnTo>
                  <a:pt x="40" y="50"/>
                </a:lnTo>
                <a:lnTo>
                  <a:pt x="45" y="45"/>
                </a:lnTo>
                <a:lnTo>
                  <a:pt x="52" y="42"/>
                </a:lnTo>
                <a:lnTo>
                  <a:pt x="57" y="37"/>
                </a:lnTo>
                <a:lnTo>
                  <a:pt x="62" y="32"/>
                </a:lnTo>
                <a:lnTo>
                  <a:pt x="66" y="28"/>
                </a:lnTo>
                <a:lnTo>
                  <a:pt x="73" y="24"/>
                </a:lnTo>
                <a:lnTo>
                  <a:pt x="78" y="19"/>
                </a:lnTo>
                <a:lnTo>
                  <a:pt x="83" y="16"/>
                </a:lnTo>
                <a:lnTo>
                  <a:pt x="88" y="13"/>
                </a:lnTo>
                <a:lnTo>
                  <a:pt x="94" y="11"/>
                </a:lnTo>
                <a:lnTo>
                  <a:pt x="97" y="6"/>
                </a:lnTo>
                <a:lnTo>
                  <a:pt x="102" y="5"/>
                </a:lnTo>
                <a:lnTo>
                  <a:pt x="107" y="3"/>
                </a:lnTo>
                <a:lnTo>
                  <a:pt x="112" y="1"/>
                </a:lnTo>
                <a:lnTo>
                  <a:pt x="115" y="0"/>
                </a:lnTo>
                <a:lnTo>
                  <a:pt x="119" y="1"/>
                </a:lnTo>
                <a:lnTo>
                  <a:pt x="122" y="1"/>
                </a:lnTo>
                <a:lnTo>
                  <a:pt x="125" y="3"/>
                </a:lnTo>
                <a:lnTo>
                  <a:pt x="128" y="6"/>
                </a:lnTo>
                <a:lnTo>
                  <a:pt x="133" y="11"/>
                </a:lnTo>
                <a:lnTo>
                  <a:pt x="136" y="16"/>
                </a:lnTo>
                <a:lnTo>
                  <a:pt x="141" y="21"/>
                </a:lnTo>
                <a:lnTo>
                  <a:pt x="143" y="28"/>
                </a:lnTo>
                <a:lnTo>
                  <a:pt x="145" y="34"/>
                </a:lnTo>
                <a:lnTo>
                  <a:pt x="146" y="42"/>
                </a:lnTo>
                <a:lnTo>
                  <a:pt x="150" y="49"/>
                </a:lnTo>
                <a:lnTo>
                  <a:pt x="150" y="55"/>
                </a:lnTo>
                <a:lnTo>
                  <a:pt x="151" y="62"/>
                </a:lnTo>
                <a:lnTo>
                  <a:pt x="151" y="67"/>
                </a:lnTo>
                <a:lnTo>
                  <a:pt x="153" y="73"/>
                </a:lnTo>
                <a:lnTo>
                  <a:pt x="153" y="76"/>
                </a:lnTo>
                <a:lnTo>
                  <a:pt x="153" y="80"/>
                </a:lnTo>
                <a:lnTo>
                  <a:pt x="153" y="81"/>
                </a:lnTo>
                <a:lnTo>
                  <a:pt x="153" y="83"/>
                </a:lnTo>
                <a:lnTo>
                  <a:pt x="153" y="85"/>
                </a:lnTo>
                <a:lnTo>
                  <a:pt x="153" y="88"/>
                </a:lnTo>
                <a:lnTo>
                  <a:pt x="153" y="93"/>
                </a:lnTo>
                <a:lnTo>
                  <a:pt x="153" y="98"/>
                </a:lnTo>
                <a:lnTo>
                  <a:pt x="153" y="103"/>
                </a:lnTo>
                <a:lnTo>
                  <a:pt x="153" y="106"/>
                </a:lnTo>
                <a:lnTo>
                  <a:pt x="154" y="109"/>
                </a:lnTo>
                <a:lnTo>
                  <a:pt x="154" y="114"/>
                </a:lnTo>
                <a:lnTo>
                  <a:pt x="156" y="117"/>
                </a:lnTo>
                <a:lnTo>
                  <a:pt x="156" y="121"/>
                </a:lnTo>
                <a:lnTo>
                  <a:pt x="156" y="124"/>
                </a:lnTo>
                <a:lnTo>
                  <a:pt x="156" y="129"/>
                </a:lnTo>
                <a:lnTo>
                  <a:pt x="158" y="132"/>
                </a:lnTo>
                <a:lnTo>
                  <a:pt x="158" y="135"/>
                </a:lnTo>
                <a:lnTo>
                  <a:pt x="158" y="140"/>
                </a:lnTo>
                <a:lnTo>
                  <a:pt x="159" y="143"/>
                </a:lnTo>
                <a:lnTo>
                  <a:pt x="159" y="148"/>
                </a:lnTo>
                <a:lnTo>
                  <a:pt x="163" y="155"/>
                </a:lnTo>
                <a:lnTo>
                  <a:pt x="164" y="161"/>
                </a:lnTo>
                <a:lnTo>
                  <a:pt x="166" y="168"/>
                </a:lnTo>
                <a:lnTo>
                  <a:pt x="169" y="174"/>
                </a:lnTo>
                <a:lnTo>
                  <a:pt x="171" y="179"/>
                </a:lnTo>
                <a:lnTo>
                  <a:pt x="174" y="186"/>
                </a:lnTo>
                <a:lnTo>
                  <a:pt x="174" y="189"/>
                </a:lnTo>
                <a:lnTo>
                  <a:pt x="176" y="194"/>
                </a:lnTo>
                <a:lnTo>
                  <a:pt x="177" y="197"/>
                </a:lnTo>
                <a:lnTo>
                  <a:pt x="179" y="202"/>
                </a:lnTo>
                <a:lnTo>
                  <a:pt x="179" y="207"/>
                </a:lnTo>
                <a:lnTo>
                  <a:pt x="179" y="212"/>
                </a:lnTo>
                <a:lnTo>
                  <a:pt x="180" y="217"/>
                </a:lnTo>
                <a:lnTo>
                  <a:pt x="182" y="222"/>
                </a:lnTo>
                <a:lnTo>
                  <a:pt x="182" y="227"/>
                </a:lnTo>
                <a:lnTo>
                  <a:pt x="184" y="233"/>
                </a:lnTo>
                <a:lnTo>
                  <a:pt x="184" y="238"/>
                </a:lnTo>
                <a:lnTo>
                  <a:pt x="185" y="244"/>
                </a:lnTo>
                <a:lnTo>
                  <a:pt x="185" y="249"/>
                </a:lnTo>
                <a:lnTo>
                  <a:pt x="185" y="254"/>
                </a:lnTo>
                <a:lnTo>
                  <a:pt x="185" y="259"/>
                </a:lnTo>
                <a:lnTo>
                  <a:pt x="187" y="266"/>
                </a:lnTo>
                <a:lnTo>
                  <a:pt x="185" y="271"/>
                </a:lnTo>
                <a:lnTo>
                  <a:pt x="185" y="275"/>
                </a:lnTo>
                <a:lnTo>
                  <a:pt x="185" y="282"/>
                </a:lnTo>
                <a:lnTo>
                  <a:pt x="185" y="287"/>
                </a:lnTo>
                <a:lnTo>
                  <a:pt x="185" y="292"/>
                </a:lnTo>
                <a:lnTo>
                  <a:pt x="184" y="297"/>
                </a:lnTo>
                <a:lnTo>
                  <a:pt x="184" y="302"/>
                </a:lnTo>
                <a:lnTo>
                  <a:pt x="184" y="308"/>
                </a:lnTo>
                <a:lnTo>
                  <a:pt x="182" y="313"/>
                </a:lnTo>
                <a:lnTo>
                  <a:pt x="180" y="316"/>
                </a:lnTo>
                <a:lnTo>
                  <a:pt x="179" y="321"/>
                </a:lnTo>
                <a:lnTo>
                  <a:pt x="179" y="326"/>
                </a:lnTo>
                <a:lnTo>
                  <a:pt x="174" y="333"/>
                </a:lnTo>
                <a:lnTo>
                  <a:pt x="172" y="339"/>
                </a:lnTo>
                <a:lnTo>
                  <a:pt x="169" y="346"/>
                </a:lnTo>
                <a:lnTo>
                  <a:pt x="166" y="352"/>
                </a:lnTo>
                <a:lnTo>
                  <a:pt x="164" y="357"/>
                </a:lnTo>
                <a:lnTo>
                  <a:pt x="163" y="362"/>
                </a:lnTo>
                <a:lnTo>
                  <a:pt x="161" y="365"/>
                </a:lnTo>
                <a:lnTo>
                  <a:pt x="159" y="370"/>
                </a:lnTo>
                <a:lnTo>
                  <a:pt x="158" y="377"/>
                </a:lnTo>
                <a:lnTo>
                  <a:pt x="156" y="381"/>
                </a:lnTo>
                <a:lnTo>
                  <a:pt x="156" y="383"/>
                </a:lnTo>
                <a:lnTo>
                  <a:pt x="156" y="385"/>
                </a:lnTo>
                <a:lnTo>
                  <a:pt x="136" y="390"/>
                </a:lnTo>
                <a:lnTo>
                  <a:pt x="136" y="39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956200" y="4137120"/>
            <a:ext cx="655560" cy="1368360"/>
          </a:xfrm>
          <a:custGeom>
            <a:avLst/>
            <a:gdLst/>
            <a:ahLst/>
            <a:rect l="l" t="t" r="r" b="b"/>
            <a:pathLst>
              <a:path w="824" h="1723">
                <a:moveTo>
                  <a:pt x="705" y="1351"/>
                </a:moveTo>
                <a:lnTo>
                  <a:pt x="770" y="1407"/>
                </a:lnTo>
                <a:lnTo>
                  <a:pt x="770" y="1407"/>
                </a:lnTo>
                <a:lnTo>
                  <a:pt x="767" y="1407"/>
                </a:lnTo>
                <a:lnTo>
                  <a:pt x="762" y="1407"/>
                </a:lnTo>
                <a:lnTo>
                  <a:pt x="761" y="1407"/>
                </a:lnTo>
                <a:lnTo>
                  <a:pt x="757" y="1407"/>
                </a:lnTo>
                <a:lnTo>
                  <a:pt x="754" y="1409"/>
                </a:lnTo>
                <a:lnTo>
                  <a:pt x="749" y="1409"/>
                </a:lnTo>
                <a:lnTo>
                  <a:pt x="744" y="1410"/>
                </a:lnTo>
                <a:lnTo>
                  <a:pt x="740" y="1412"/>
                </a:lnTo>
                <a:lnTo>
                  <a:pt x="735" y="1413"/>
                </a:lnTo>
                <a:lnTo>
                  <a:pt x="730" y="1415"/>
                </a:lnTo>
                <a:lnTo>
                  <a:pt x="723" y="1417"/>
                </a:lnTo>
                <a:lnTo>
                  <a:pt x="718" y="1418"/>
                </a:lnTo>
                <a:lnTo>
                  <a:pt x="712" y="1422"/>
                </a:lnTo>
                <a:lnTo>
                  <a:pt x="705" y="1423"/>
                </a:lnTo>
                <a:lnTo>
                  <a:pt x="699" y="1426"/>
                </a:lnTo>
                <a:lnTo>
                  <a:pt x="692" y="1428"/>
                </a:lnTo>
                <a:lnTo>
                  <a:pt x="687" y="1433"/>
                </a:lnTo>
                <a:lnTo>
                  <a:pt x="681" y="1436"/>
                </a:lnTo>
                <a:lnTo>
                  <a:pt x="674" y="1439"/>
                </a:lnTo>
                <a:lnTo>
                  <a:pt x="668" y="1443"/>
                </a:lnTo>
                <a:lnTo>
                  <a:pt x="661" y="1449"/>
                </a:lnTo>
                <a:lnTo>
                  <a:pt x="655" y="1453"/>
                </a:lnTo>
                <a:lnTo>
                  <a:pt x="648" y="1457"/>
                </a:lnTo>
                <a:lnTo>
                  <a:pt x="642" y="1464"/>
                </a:lnTo>
                <a:lnTo>
                  <a:pt x="637" y="1470"/>
                </a:lnTo>
                <a:lnTo>
                  <a:pt x="630" y="1475"/>
                </a:lnTo>
                <a:lnTo>
                  <a:pt x="624" y="1484"/>
                </a:lnTo>
                <a:lnTo>
                  <a:pt x="622" y="1487"/>
                </a:lnTo>
                <a:lnTo>
                  <a:pt x="619" y="1490"/>
                </a:lnTo>
                <a:lnTo>
                  <a:pt x="617" y="1495"/>
                </a:lnTo>
                <a:lnTo>
                  <a:pt x="614" y="1498"/>
                </a:lnTo>
                <a:lnTo>
                  <a:pt x="611" y="1501"/>
                </a:lnTo>
                <a:lnTo>
                  <a:pt x="609" y="1505"/>
                </a:lnTo>
                <a:lnTo>
                  <a:pt x="606" y="1510"/>
                </a:lnTo>
                <a:lnTo>
                  <a:pt x="603" y="1513"/>
                </a:lnTo>
                <a:lnTo>
                  <a:pt x="599" y="1518"/>
                </a:lnTo>
                <a:lnTo>
                  <a:pt x="596" y="1521"/>
                </a:lnTo>
                <a:lnTo>
                  <a:pt x="593" y="1526"/>
                </a:lnTo>
                <a:lnTo>
                  <a:pt x="590" y="1531"/>
                </a:lnTo>
                <a:lnTo>
                  <a:pt x="586" y="1534"/>
                </a:lnTo>
                <a:lnTo>
                  <a:pt x="583" y="1539"/>
                </a:lnTo>
                <a:lnTo>
                  <a:pt x="578" y="1542"/>
                </a:lnTo>
                <a:lnTo>
                  <a:pt x="575" y="1547"/>
                </a:lnTo>
                <a:lnTo>
                  <a:pt x="572" y="1552"/>
                </a:lnTo>
                <a:lnTo>
                  <a:pt x="567" y="1555"/>
                </a:lnTo>
                <a:lnTo>
                  <a:pt x="563" y="1560"/>
                </a:lnTo>
                <a:lnTo>
                  <a:pt x="559" y="1565"/>
                </a:lnTo>
                <a:lnTo>
                  <a:pt x="555" y="1570"/>
                </a:lnTo>
                <a:lnTo>
                  <a:pt x="550" y="1573"/>
                </a:lnTo>
                <a:lnTo>
                  <a:pt x="546" y="1578"/>
                </a:lnTo>
                <a:lnTo>
                  <a:pt x="541" y="1583"/>
                </a:lnTo>
                <a:lnTo>
                  <a:pt x="537" y="1586"/>
                </a:lnTo>
                <a:lnTo>
                  <a:pt x="533" y="1591"/>
                </a:lnTo>
                <a:lnTo>
                  <a:pt x="528" y="1596"/>
                </a:lnTo>
                <a:lnTo>
                  <a:pt x="523" y="1601"/>
                </a:lnTo>
                <a:lnTo>
                  <a:pt x="518" y="1604"/>
                </a:lnTo>
                <a:lnTo>
                  <a:pt x="513" y="1609"/>
                </a:lnTo>
                <a:lnTo>
                  <a:pt x="508" y="1612"/>
                </a:lnTo>
                <a:lnTo>
                  <a:pt x="503" y="1617"/>
                </a:lnTo>
                <a:lnTo>
                  <a:pt x="497" y="1622"/>
                </a:lnTo>
                <a:lnTo>
                  <a:pt x="492" y="1625"/>
                </a:lnTo>
                <a:lnTo>
                  <a:pt x="487" y="1630"/>
                </a:lnTo>
                <a:lnTo>
                  <a:pt x="480" y="1635"/>
                </a:lnTo>
                <a:lnTo>
                  <a:pt x="475" y="1638"/>
                </a:lnTo>
                <a:lnTo>
                  <a:pt x="469" y="1642"/>
                </a:lnTo>
                <a:lnTo>
                  <a:pt x="464" y="1645"/>
                </a:lnTo>
                <a:lnTo>
                  <a:pt x="458" y="1650"/>
                </a:lnTo>
                <a:lnTo>
                  <a:pt x="451" y="1653"/>
                </a:lnTo>
                <a:lnTo>
                  <a:pt x="445" y="1656"/>
                </a:lnTo>
                <a:lnTo>
                  <a:pt x="440" y="1661"/>
                </a:lnTo>
                <a:lnTo>
                  <a:pt x="433" y="1665"/>
                </a:lnTo>
                <a:lnTo>
                  <a:pt x="427" y="1668"/>
                </a:lnTo>
                <a:lnTo>
                  <a:pt x="420" y="1671"/>
                </a:lnTo>
                <a:lnTo>
                  <a:pt x="412" y="1674"/>
                </a:lnTo>
                <a:lnTo>
                  <a:pt x="407" y="1679"/>
                </a:lnTo>
                <a:lnTo>
                  <a:pt x="399" y="1682"/>
                </a:lnTo>
                <a:lnTo>
                  <a:pt x="392" y="1686"/>
                </a:lnTo>
                <a:lnTo>
                  <a:pt x="386" y="1689"/>
                </a:lnTo>
                <a:lnTo>
                  <a:pt x="379" y="1692"/>
                </a:lnTo>
                <a:lnTo>
                  <a:pt x="371" y="1694"/>
                </a:lnTo>
                <a:lnTo>
                  <a:pt x="365" y="1697"/>
                </a:lnTo>
                <a:lnTo>
                  <a:pt x="358" y="1700"/>
                </a:lnTo>
                <a:lnTo>
                  <a:pt x="350" y="1702"/>
                </a:lnTo>
                <a:lnTo>
                  <a:pt x="342" y="1704"/>
                </a:lnTo>
                <a:lnTo>
                  <a:pt x="335" y="1707"/>
                </a:lnTo>
                <a:lnTo>
                  <a:pt x="327" y="1709"/>
                </a:lnTo>
                <a:lnTo>
                  <a:pt x="321" y="1712"/>
                </a:lnTo>
                <a:lnTo>
                  <a:pt x="313" y="1713"/>
                </a:lnTo>
                <a:lnTo>
                  <a:pt x="304" y="1715"/>
                </a:lnTo>
                <a:lnTo>
                  <a:pt x="296" y="1717"/>
                </a:lnTo>
                <a:lnTo>
                  <a:pt x="290" y="1718"/>
                </a:lnTo>
                <a:lnTo>
                  <a:pt x="280" y="1720"/>
                </a:lnTo>
                <a:lnTo>
                  <a:pt x="273" y="1720"/>
                </a:lnTo>
                <a:lnTo>
                  <a:pt x="265" y="1722"/>
                </a:lnTo>
                <a:lnTo>
                  <a:pt x="257" y="1723"/>
                </a:lnTo>
                <a:lnTo>
                  <a:pt x="255" y="1722"/>
                </a:lnTo>
                <a:lnTo>
                  <a:pt x="252" y="1717"/>
                </a:lnTo>
                <a:lnTo>
                  <a:pt x="251" y="1713"/>
                </a:lnTo>
                <a:lnTo>
                  <a:pt x="249" y="1710"/>
                </a:lnTo>
                <a:lnTo>
                  <a:pt x="246" y="1707"/>
                </a:lnTo>
                <a:lnTo>
                  <a:pt x="242" y="1702"/>
                </a:lnTo>
                <a:lnTo>
                  <a:pt x="239" y="1697"/>
                </a:lnTo>
                <a:lnTo>
                  <a:pt x="236" y="1691"/>
                </a:lnTo>
                <a:lnTo>
                  <a:pt x="231" y="1684"/>
                </a:lnTo>
                <a:lnTo>
                  <a:pt x="228" y="1678"/>
                </a:lnTo>
                <a:lnTo>
                  <a:pt x="223" y="1669"/>
                </a:lnTo>
                <a:lnTo>
                  <a:pt x="218" y="1663"/>
                </a:lnTo>
                <a:lnTo>
                  <a:pt x="213" y="1655"/>
                </a:lnTo>
                <a:lnTo>
                  <a:pt x="208" y="1645"/>
                </a:lnTo>
                <a:lnTo>
                  <a:pt x="203" y="1635"/>
                </a:lnTo>
                <a:lnTo>
                  <a:pt x="198" y="1625"/>
                </a:lnTo>
                <a:lnTo>
                  <a:pt x="192" y="1616"/>
                </a:lnTo>
                <a:lnTo>
                  <a:pt x="185" y="1604"/>
                </a:lnTo>
                <a:lnTo>
                  <a:pt x="179" y="1593"/>
                </a:lnTo>
                <a:lnTo>
                  <a:pt x="174" y="1581"/>
                </a:lnTo>
                <a:lnTo>
                  <a:pt x="167" y="1570"/>
                </a:lnTo>
                <a:lnTo>
                  <a:pt x="161" y="1559"/>
                </a:lnTo>
                <a:lnTo>
                  <a:pt x="154" y="1545"/>
                </a:lnTo>
                <a:lnTo>
                  <a:pt x="148" y="1532"/>
                </a:lnTo>
                <a:lnTo>
                  <a:pt x="141" y="1518"/>
                </a:lnTo>
                <a:lnTo>
                  <a:pt x="135" y="1505"/>
                </a:lnTo>
                <a:lnTo>
                  <a:pt x="128" y="1490"/>
                </a:lnTo>
                <a:lnTo>
                  <a:pt x="122" y="1477"/>
                </a:lnTo>
                <a:lnTo>
                  <a:pt x="115" y="1462"/>
                </a:lnTo>
                <a:lnTo>
                  <a:pt x="109" y="1448"/>
                </a:lnTo>
                <a:lnTo>
                  <a:pt x="102" y="1431"/>
                </a:lnTo>
                <a:lnTo>
                  <a:pt x="96" y="1415"/>
                </a:lnTo>
                <a:lnTo>
                  <a:pt x="89" y="1400"/>
                </a:lnTo>
                <a:lnTo>
                  <a:pt x="83" y="1384"/>
                </a:lnTo>
                <a:lnTo>
                  <a:pt x="76" y="1368"/>
                </a:lnTo>
                <a:lnTo>
                  <a:pt x="71" y="1351"/>
                </a:lnTo>
                <a:lnTo>
                  <a:pt x="65" y="1333"/>
                </a:lnTo>
                <a:lnTo>
                  <a:pt x="60" y="1317"/>
                </a:lnTo>
                <a:lnTo>
                  <a:pt x="53" y="1299"/>
                </a:lnTo>
                <a:lnTo>
                  <a:pt x="48" y="1283"/>
                </a:lnTo>
                <a:lnTo>
                  <a:pt x="42" y="1265"/>
                </a:lnTo>
                <a:lnTo>
                  <a:pt x="39" y="1249"/>
                </a:lnTo>
                <a:lnTo>
                  <a:pt x="34" y="1231"/>
                </a:lnTo>
                <a:lnTo>
                  <a:pt x="29" y="1213"/>
                </a:lnTo>
                <a:lnTo>
                  <a:pt x="24" y="1195"/>
                </a:lnTo>
                <a:lnTo>
                  <a:pt x="21" y="1177"/>
                </a:lnTo>
                <a:lnTo>
                  <a:pt x="18" y="1159"/>
                </a:lnTo>
                <a:lnTo>
                  <a:pt x="14" y="1141"/>
                </a:lnTo>
                <a:lnTo>
                  <a:pt x="11" y="1121"/>
                </a:lnTo>
                <a:lnTo>
                  <a:pt x="8" y="1104"/>
                </a:lnTo>
                <a:lnTo>
                  <a:pt x="4" y="1086"/>
                </a:lnTo>
                <a:lnTo>
                  <a:pt x="4" y="1068"/>
                </a:lnTo>
                <a:lnTo>
                  <a:pt x="1" y="1050"/>
                </a:lnTo>
                <a:lnTo>
                  <a:pt x="1" y="1032"/>
                </a:lnTo>
                <a:lnTo>
                  <a:pt x="0" y="1012"/>
                </a:lnTo>
                <a:lnTo>
                  <a:pt x="0" y="994"/>
                </a:lnTo>
                <a:lnTo>
                  <a:pt x="0" y="976"/>
                </a:lnTo>
                <a:lnTo>
                  <a:pt x="1" y="958"/>
                </a:lnTo>
                <a:lnTo>
                  <a:pt x="1" y="939"/>
                </a:lnTo>
                <a:lnTo>
                  <a:pt x="3" y="923"/>
                </a:lnTo>
                <a:lnTo>
                  <a:pt x="4" y="905"/>
                </a:lnTo>
                <a:lnTo>
                  <a:pt x="8" y="887"/>
                </a:lnTo>
                <a:lnTo>
                  <a:pt x="8" y="885"/>
                </a:lnTo>
                <a:lnTo>
                  <a:pt x="8" y="883"/>
                </a:lnTo>
                <a:lnTo>
                  <a:pt x="9" y="880"/>
                </a:lnTo>
                <a:lnTo>
                  <a:pt x="11" y="877"/>
                </a:lnTo>
                <a:lnTo>
                  <a:pt x="13" y="874"/>
                </a:lnTo>
                <a:lnTo>
                  <a:pt x="14" y="867"/>
                </a:lnTo>
                <a:lnTo>
                  <a:pt x="18" y="861"/>
                </a:lnTo>
                <a:lnTo>
                  <a:pt x="21" y="856"/>
                </a:lnTo>
                <a:lnTo>
                  <a:pt x="22" y="851"/>
                </a:lnTo>
                <a:lnTo>
                  <a:pt x="24" y="848"/>
                </a:lnTo>
                <a:lnTo>
                  <a:pt x="26" y="843"/>
                </a:lnTo>
                <a:lnTo>
                  <a:pt x="29" y="839"/>
                </a:lnTo>
                <a:lnTo>
                  <a:pt x="31" y="834"/>
                </a:lnTo>
                <a:lnTo>
                  <a:pt x="32" y="831"/>
                </a:lnTo>
                <a:lnTo>
                  <a:pt x="35" y="826"/>
                </a:lnTo>
                <a:lnTo>
                  <a:pt x="37" y="821"/>
                </a:lnTo>
                <a:lnTo>
                  <a:pt x="40" y="817"/>
                </a:lnTo>
                <a:lnTo>
                  <a:pt x="44" y="812"/>
                </a:lnTo>
                <a:lnTo>
                  <a:pt x="45" y="807"/>
                </a:lnTo>
                <a:lnTo>
                  <a:pt x="48" y="802"/>
                </a:lnTo>
                <a:lnTo>
                  <a:pt x="52" y="795"/>
                </a:lnTo>
                <a:lnTo>
                  <a:pt x="55" y="792"/>
                </a:lnTo>
                <a:lnTo>
                  <a:pt x="58" y="786"/>
                </a:lnTo>
                <a:lnTo>
                  <a:pt x="63" y="781"/>
                </a:lnTo>
                <a:lnTo>
                  <a:pt x="66" y="774"/>
                </a:lnTo>
                <a:lnTo>
                  <a:pt x="70" y="769"/>
                </a:lnTo>
                <a:lnTo>
                  <a:pt x="73" y="763"/>
                </a:lnTo>
                <a:lnTo>
                  <a:pt x="78" y="758"/>
                </a:lnTo>
                <a:lnTo>
                  <a:pt x="81" y="751"/>
                </a:lnTo>
                <a:lnTo>
                  <a:pt x="86" y="745"/>
                </a:lnTo>
                <a:lnTo>
                  <a:pt x="89" y="740"/>
                </a:lnTo>
                <a:lnTo>
                  <a:pt x="96" y="733"/>
                </a:lnTo>
                <a:lnTo>
                  <a:pt x="99" y="727"/>
                </a:lnTo>
                <a:lnTo>
                  <a:pt x="104" y="722"/>
                </a:lnTo>
                <a:lnTo>
                  <a:pt x="109" y="715"/>
                </a:lnTo>
                <a:lnTo>
                  <a:pt x="114" y="709"/>
                </a:lnTo>
                <a:lnTo>
                  <a:pt x="119" y="704"/>
                </a:lnTo>
                <a:lnTo>
                  <a:pt x="123" y="698"/>
                </a:lnTo>
                <a:lnTo>
                  <a:pt x="130" y="693"/>
                </a:lnTo>
                <a:lnTo>
                  <a:pt x="136" y="686"/>
                </a:lnTo>
                <a:lnTo>
                  <a:pt x="141" y="680"/>
                </a:lnTo>
                <a:lnTo>
                  <a:pt x="146" y="673"/>
                </a:lnTo>
                <a:lnTo>
                  <a:pt x="153" y="668"/>
                </a:lnTo>
                <a:lnTo>
                  <a:pt x="159" y="662"/>
                </a:lnTo>
                <a:lnTo>
                  <a:pt x="164" y="655"/>
                </a:lnTo>
                <a:lnTo>
                  <a:pt x="171" y="650"/>
                </a:lnTo>
                <a:lnTo>
                  <a:pt x="177" y="644"/>
                </a:lnTo>
                <a:lnTo>
                  <a:pt x="184" y="639"/>
                </a:lnTo>
                <a:lnTo>
                  <a:pt x="190" y="632"/>
                </a:lnTo>
                <a:lnTo>
                  <a:pt x="198" y="627"/>
                </a:lnTo>
                <a:lnTo>
                  <a:pt x="205" y="621"/>
                </a:lnTo>
                <a:lnTo>
                  <a:pt x="211" y="616"/>
                </a:lnTo>
                <a:lnTo>
                  <a:pt x="218" y="611"/>
                </a:lnTo>
                <a:lnTo>
                  <a:pt x="226" y="606"/>
                </a:lnTo>
                <a:lnTo>
                  <a:pt x="234" y="601"/>
                </a:lnTo>
                <a:lnTo>
                  <a:pt x="242" y="596"/>
                </a:lnTo>
                <a:lnTo>
                  <a:pt x="242" y="595"/>
                </a:lnTo>
                <a:lnTo>
                  <a:pt x="246" y="593"/>
                </a:lnTo>
                <a:lnTo>
                  <a:pt x="249" y="588"/>
                </a:lnTo>
                <a:lnTo>
                  <a:pt x="255" y="582"/>
                </a:lnTo>
                <a:lnTo>
                  <a:pt x="257" y="578"/>
                </a:lnTo>
                <a:lnTo>
                  <a:pt x="260" y="574"/>
                </a:lnTo>
                <a:lnTo>
                  <a:pt x="264" y="569"/>
                </a:lnTo>
                <a:lnTo>
                  <a:pt x="269" y="565"/>
                </a:lnTo>
                <a:lnTo>
                  <a:pt x="272" y="559"/>
                </a:lnTo>
                <a:lnTo>
                  <a:pt x="275" y="554"/>
                </a:lnTo>
                <a:lnTo>
                  <a:pt x="280" y="549"/>
                </a:lnTo>
                <a:lnTo>
                  <a:pt x="283" y="543"/>
                </a:lnTo>
                <a:lnTo>
                  <a:pt x="285" y="538"/>
                </a:lnTo>
                <a:lnTo>
                  <a:pt x="286" y="534"/>
                </a:lnTo>
                <a:lnTo>
                  <a:pt x="288" y="531"/>
                </a:lnTo>
                <a:lnTo>
                  <a:pt x="290" y="528"/>
                </a:lnTo>
                <a:lnTo>
                  <a:pt x="291" y="525"/>
                </a:lnTo>
                <a:lnTo>
                  <a:pt x="293" y="520"/>
                </a:lnTo>
                <a:lnTo>
                  <a:pt x="295" y="516"/>
                </a:lnTo>
                <a:lnTo>
                  <a:pt x="296" y="513"/>
                </a:lnTo>
                <a:lnTo>
                  <a:pt x="298" y="508"/>
                </a:lnTo>
                <a:lnTo>
                  <a:pt x="299" y="503"/>
                </a:lnTo>
                <a:lnTo>
                  <a:pt x="301" y="500"/>
                </a:lnTo>
                <a:lnTo>
                  <a:pt x="304" y="497"/>
                </a:lnTo>
                <a:lnTo>
                  <a:pt x="304" y="492"/>
                </a:lnTo>
                <a:lnTo>
                  <a:pt x="306" y="487"/>
                </a:lnTo>
                <a:lnTo>
                  <a:pt x="308" y="482"/>
                </a:lnTo>
                <a:lnTo>
                  <a:pt x="309" y="479"/>
                </a:lnTo>
                <a:lnTo>
                  <a:pt x="311" y="474"/>
                </a:lnTo>
                <a:lnTo>
                  <a:pt x="311" y="469"/>
                </a:lnTo>
                <a:lnTo>
                  <a:pt x="313" y="464"/>
                </a:lnTo>
                <a:lnTo>
                  <a:pt x="314" y="459"/>
                </a:lnTo>
                <a:lnTo>
                  <a:pt x="314" y="455"/>
                </a:lnTo>
                <a:lnTo>
                  <a:pt x="316" y="450"/>
                </a:lnTo>
                <a:lnTo>
                  <a:pt x="316" y="445"/>
                </a:lnTo>
                <a:lnTo>
                  <a:pt x="317" y="440"/>
                </a:lnTo>
                <a:lnTo>
                  <a:pt x="317" y="435"/>
                </a:lnTo>
                <a:lnTo>
                  <a:pt x="317" y="430"/>
                </a:lnTo>
                <a:lnTo>
                  <a:pt x="319" y="425"/>
                </a:lnTo>
                <a:lnTo>
                  <a:pt x="319" y="419"/>
                </a:lnTo>
                <a:lnTo>
                  <a:pt x="319" y="414"/>
                </a:lnTo>
                <a:lnTo>
                  <a:pt x="319" y="409"/>
                </a:lnTo>
                <a:lnTo>
                  <a:pt x="319" y="404"/>
                </a:lnTo>
                <a:lnTo>
                  <a:pt x="321" y="397"/>
                </a:lnTo>
                <a:lnTo>
                  <a:pt x="319" y="391"/>
                </a:lnTo>
                <a:lnTo>
                  <a:pt x="319" y="386"/>
                </a:lnTo>
                <a:lnTo>
                  <a:pt x="321" y="380"/>
                </a:lnTo>
                <a:lnTo>
                  <a:pt x="321" y="373"/>
                </a:lnTo>
                <a:lnTo>
                  <a:pt x="321" y="366"/>
                </a:lnTo>
                <a:lnTo>
                  <a:pt x="322" y="360"/>
                </a:lnTo>
                <a:lnTo>
                  <a:pt x="324" y="353"/>
                </a:lnTo>
                <a:lnTo>
                  <a:pt x="327" y="347"/>
                </a:lnTo>
                <a:lnTo>
                  <a:pt x="329" y="340"/>
                </a:lnTo>
                <a:lnTo>
                  <a:pt x="330" y="332"/>
                </a:lnTo>
                <a:lnTo>
                  <a:pt x="332" y="326"/>
                </a:lnTo>
                <a:lnTo>
                  <a:pt x="335" y="319"/>
                </a:lnTo>
                <a:lnTo>
                  <a:pt x="339" y="313"/>
                </a:lnTo>
                <a:lnTo>
                  <a:pt x="342" y="305"/>
                </a:lnTo>
                <a:lnTo>
                  <a:pt x="345" y="298"/>
                </a:lnTo>
                <a:lnTo>
                  <a:pt x="348" y="290"/>
                </a:lnTo>
                <a:lnTo>
                  <a:pt x="352" y="282"/>
                </a:lnTo>
                <a:lnTo>
                  <a:pt x="355" y="275"/>
                </a:lnTo>
                <a:lnTo>
                  <a:pt x="360" y="267"/>
                </a:lnTo>
                <a:lnTo>
                  <a:pt x="365" y="259"/>
                </a:lnTo>
                <a:lnTo>
                  <a:pt x="368" y="251"/>
                </a:lnTo>
                <a:lnTo>
                  <a:pt x="371" y="244"/>
                </a:lnTo>
                <a:lnTo>
                  <a:pt x="376" y="236"/>
                </a:lnTo>
                <a:lnTo>
                  <a:pt x="381" y="229"/>
                </a:lnTo>
                <a:lnTo>
                  <a:pt x="386" y="221"/>
                </a:lnTo>
                <a:lnTo>
                  <a:pt x="391" y="213"/>
                </a:lnTo>
                <a:lnTo>
                  <a:pt x="396" y="205"/>
                </a:lnTo>
                <a:lnTo>
                  <a:pt x="402" y="199"/>
                </a:lnTo>
                <a:lnTo>
                  <a:pt x="405" y="190"/>
                </a:lnTo>
                <a:lnTo>
                  <a:pt x="412" y="182"/>
                </a:lnTo>
                <a:lnTo>
                  <a:pt x="417" y="176"/>
                </a:lnTo>
                <a:lnTo>
                  <a:pt x="423" y="168"/>
                </a:lnTo>
                <a:lnTo>
                  <a:pt x="428" y="161"/>
                </a:lnTo>
                <a:lnTo>
                  <a:pt x="433" y="153"/>
                </a:lnTo>
                <a:lnTo>
                  <a:pt x="440" y="146"/>
                </a:lnTo>
                <a:lnTo>
                  <a:pt x="445" y="138"/>
                </a:lnTo>
                <a:lnTo>
                  <a:pt x="449" y="132"/>
                </a:lnTo>
                <a:lnTo>
                  <a:pt x="456" y="125"/>
                </a:lnTo>
                <a:lnTo>
                  <a:pt x="462" y="117"/>
                </a:lnTo>
                <a:lnTo>
                  <a:pt x="467" y="112"/>
                </a:lnTo>
                <a:lnTo>
                  <a:pt x="474" y="104"/>
                </a:lnTo>
                <a:lnTo>
                  <a:pt x="479" y="97"/>
                </a:lnTo>
                <a:lnTo>
                  <a:pt x="484" y="93"/>
                </a:lnTo>
                <a:lnTo>
                  <a:pt x="490" y="86"/>
                </a:lnTo>
                <a:lnTo>
                  <a:pt x="495" y="79"/>
                </a:lnTo>
                <a:lnTo>
                  <a:pt x="502" y="73"/>
                </a:lnTo>
                <a:lnTo>
                  <a:pt x="508" y="68"/>
                </a:lnTo>
                <a:lnTo>
                  <a:pt x="513" y="63"/>
                </a:lnTo>
                <a:lnTo>
                  <a:pt x="518" y="57"/>
                </a:lnTo>
                <a:lnTo>
                  <a:pt x="524" y="52"/>
                </a:lnTo>
                <a:lnTo>
                  <a:pt x="529" y="47"/>
                </a:lnTo>
                <a:lnTo>
                  <a:pt x="534" y="42"/>
                </a:lnTo>
                <a:lnTo>
                  <a:pt x="539" y="37"/>
                </a:lnTo>
                <a:lnTo>
                  <a:pt x="546" y="34"/>
                </a:lnTo>
                <a:lnTo>
                  <a:pt x="550" y="31"/>
                </a:lnTo>
                <a:lnTo>
                  <a:pt x="555" y="27"/>
                </a:lnTo>
                <a:lnTo>
                  <a:pt x="560" y="22"/>
                </a:lnTo>
                <a:lnTo>
                  <a:pt x="565" y="21"/>
                </a:lnTo>
                <a:lnTo>
                  <a:pt x="568" y="17"/>
                </a:lnTo>
                <a:lnTo>
                  <a:pt x="575" y="14"/>
                </a:lnTo>
                <a:lnTo>
                  <a:pt x="578" y="13"/>
                </a:lnTo>
                <a:lnTo>
                  <a:pt x="583" y="9"/>
                </a:lnTo>
                <a:lnTo>
                  <a:pt x="586" y="8"/>
                </a:lnTo>
                <a:lnTo>
                  <a:pt x="591" y="8"/>
                </a:lnTo>
                <a:lnTo>
                  <a:pt x="598" y="4"/>
                </a:lnTo>
                <a:lnTo>
                  <a:pt x="606" y="3"/>
                </a:lnTo>
                <a:lnTo>
                  <a:pt x="609" y="1"/>
                </a:lnTo>
                <a:lnTo>
                  <a:pt x="612" y="1"/>
                </a:lnTo>
                <a:lnTo>
                  <a:pt x="616" y="0"/>
                </a:lnTo>
                <a:lnTo>
                  <a:pt x="621" y="0"/>
                </a:lnTo>
                <a:lnTo>
                  <a:pt x="625" y="0"/>
                </a:lnTo>
                <a:lnTo>
                  <a:pt x="632" y="0"/>
                </a:lnTo>
                <a:lnTo>
                  <a:pt x="638" y="0"/>
                </a:lnTo>
                <a:lnTo>
                  <a:pt x="645" y="0"/>
                </a:lnTo>
                <a:lnTo>
                  <a:pt x="650" y="0"/>
                </a:lnTo>
                <a:lnTo>
                  <a:pt x="655" y="1"/>
                </a:lnTo>
                <a:lnTo>
                  <a:pt x="661" y="3"/>
                </a:lnTo>
                <a:lnTo>
                  <a:pt x="666" y="4"/>
                </a:lnTo>
                <a:lnTo>
                  <a:pt x="671" y="6"/>
                </a:lnTo>
                <a:lnTo>
                  <a:pt x="676" y="8"/>
                </a:lnTo>
                <a:lnTo>
                  <a:pt x="681" y="11"/>
                </a:lnTo>
                <a:lnTo>
                  <a:pt x="686" y="14"/>
                </a:lnTo>
                <a:lnTo>
                  <a:pt x="689" y="16"/>
                </a:lnTo>
                <a:lnTo>
                  <a:pt x="694" y="19"/>
                </a:lnTo>
                <a:lnTo>
                  <a:pt x="697" y="24"/>
                </a:lnTo>
                <a:lnTo>
                  <a:pt x="702" y="27"/>
                </a:lnTo>
                <a:lnTo>
                  <a:pt x="705" y="31"/>
                </a:lnTo>
                <a:lnTo>
                  <a:pt x="709" y="34"/>
                </a:lnTo>
                <a:lnTo>
                  <a:pt x="712" y="39"/>
                </a:lnTo>
                <a:lnTo>
                  <a:pt x="715" y="45"/>
                </a:lnTo>
                <a:lnTo>
                  <a:pt x="718" y="48"/>
                </a:lnTo>
                <a:lnTo>
                  <a:pt x="722" y="53"/>
                </a:lnTo>
                <a:lnTo>
                  <a:pt x="725" y="58"/>
                </a:lnTo>
                <a:lnTo>
                  <a:pt x="730" y="65"/>
                </a:lnTo>
                <a:lnTo>
                  <a:pt x="731" y="68"/>
                </a:lnTo>
                <a:lnTo>
                  <a:pt x="736" y="75"/>
                </a:lnTo>
                <a:lnTo>
                  <a:pt x="738" y="79"/>
                </a:lnTo>
                <a:lnTo>
                  <a:pt x="743" y="86"/>
                </a:lnTo>
                <a:lnTo>
                  <a:pt x="744" y="91"/>
                </a:lnTo>
                <a:lnTo>
                  <a:pt x="748" y="99"/>
                </a:lnTo>
                <a:lnTo>
                  <a:pt x="749" y="102"/>
                </a:lnTo>
                <a:lnTo>
                  <a:pt x="751" y="106"/>
                </a:lnTo>
                <a:lnTo>
                  <a:pt x="753" y="110"/>
                </a:lnTo>
                <a:lnTo>
                  <a:pt x="754" y="115"/>
                </a:lnTo>
                <a:lnTo>
                  <a:pt x="756" y="120"/>
                </a:lnTo>
                <a:lnTo>
                  <a:pt x="757" y="125"/>
                </a:lnTo>
                <a:lnTo>
                  <a:pt x="759" y="130"/>
                </a:lnTo>
                <a:lnTo>
                  <a:pt x="761" y="137"/>
                </a:lnTo>
                <a:lnTo>
                  <a:pt x="762" y="141"/>
                </a:lnTo>
                <a:lnTo>
                  <a:pt x="764" y="148"/>
                </a:lnTo>
                <a:lnTo>
                  <a:pt x="767" y="153"/>
                </a:lnTo>
                <a:lnTo>
                  <a:pt x="769" y="159"/>
                </a:lnTo>
                <a:lnTo>
                  <a:pt x="770" y="166"/>
                </a:lnTo>
                <a:lnTo>
                  <a:pt x="772" y="171"/>
                </a:lnTo>
                <a:lnTo>
                  <a:pt x="774" y="177"/>
                </a:lnTo>
                <a:lnTo>
                  <a:pt x="775" y="184"/>
                </a:lnTo>
                <a:lnTo>
                  <a:pt x="777" y="190"/>
                </a:lnTo>
                <a:lnTo>
                  <a:pt x="779" y="197"/>
                </a:lnTo>
                <a:lnTo>
                  <a:pt x="780" y="203"/>
                </a:lnTo>
                <a:lnTo>
                  <a:pt x="782" y="210"/>
                </a:lnTo>
                <a:lnTo>
                  <a:pt x="784" y="216"/>
                </a:lnTo>
                <a:lnTo>
                  <a:pt x="785" y="223"/>
                </a:lnTo>
                <a:lnTo>
                  <a:pt x="787" y="229"/>
                </a:lnTo>
                <a:lnTo>
                  <a:pt x="788" y="238"/>
                </a:lnTo>
                <a:lnTo>
                  <a:pt x="790" y="243"/>
                </a:lnTo>
                <a:lnTo>
                  <a:pt x="792" y="251"/>
                </a:lnTo>
                <a:lnTo>
                  <a:pt x="793" y="257"/>
                </a:lnTo>
                <a:lnTo>
                  <a:pt x="795" y="264"/>
                </a:lnTo>
                <a:lnTo>
                  <a:pt x="797" y="270"/>
                </a:lnTo>
                <a:lnTo>
                  <a:pt x="798" y="277"/>
                </a:lnTo>
                <a:lnTo>
                  <a:pt x="800" y="283"/>
                </a:lnTo>
                <a:lnTo>
                  <a:pt x="800" y="290"/>
                </a:lnTo>
                <a:lnTo>
                  <a:pt x="801" y="295"/>
                </a:lnTo>
                <a:lnTo>
                  <a:pt x="803" y="301"/>
                </a:lnTo>
                <a:lnTo>
                  <a:pt x="805" y="308"/>
                </a:lnTo>
                <a:lnTo>
                  <a:pt x="806" y="314"/>
                </a:lnTo>
                <a:lnTo>
                  <a:pt x="808" y="319"/>
                </a:lnTo>
                <a:lnTo>
                  <a:pt x="810" y="326"/>
                </a:lnTo>
                <a:lnTo>
                  <a:pt x="810" y="331"/>
                </a:lnTo>
                <a:lnTo>
                  <a:pt x="811" y="337"/>
                </a:lnTo>
                <a:lnTo>
                  <a:pt x="813" y="342"/>
                </a:lnTo>
                <a:lnTo>
                  <a:pt x="814" y="347"/>
                </a:lnTo>
                <a:lnTo>
                  <a:pt x="814" y="352"/>
                </a:lnTo>
                <a:lnTo>
                  <a:pt x="816" y="357"/>
                </a:lnTo>
                <a:lnTo>
                  <a:pt x="818" y="362"/>
                </a:lnTo>
                <a:lnTo>
                  <a:pt x="818" y="366"/>
                </a:lnTo>
                <a:lnTo>
                  <a:pt x="818" y="370"/>
                </a:lnTo>
                <a:lnTo>
                  <a:pt x="819" y="373"/>
                </a:lnTo>
                <a:lnTo>
                  <a:pt x="819" y="376"/>
                </a:lnTo>
                <a:lnTo>
                  <a:pt x="821" y="381"/>
                </a:lnTo>
                <a:lnTo>
                  <a:pt x="821" y="384"/>
                </a:lnTo>
                <a:lnTo>
                  <a:pt x="823" y="388"/>
                </a:lnTo>
                <a:lnTo>
                  <a:pt x="823" y="391"/>
                </a:lnTo>
                <a:lnTo>
                  <a:pt x="824" y="394"/>
                </a:lnTo>
                <a:lnTo>
                  <a:pt x="824" y="397"/>
                </a:lnTo>
                <a:lnTo>
                  <a:pt x="824" y="397"/>
                </a:lnTo>
                <a:lnTo>
                  <a:pt x="793" y="459"/>
                </a:lnTo>
                <a:lnTo>
                  <a:pt x="792" y="458"/>
                </a:lnTo>
                <a:lnTo>
                  <a:pt x="792" y="455"/>
                </a:lnTo>
                <a:lnTo>
                  <a:pt x="792" y="451"/>
                </a:lnTo>
                <a:lnTo>
                  <a:pt x="792" y="448"/>
                </a:lnTo>
                <a:lnTo>
                  <a:pt x="790" y="445"/>
                </a:lnTo>
                <a:lnTo>
                  <a:pt x="790" y="441"/>
                </a:lnTo>
                <a:lnTo>
                  <a:pt x="790" y="437"/>
                </a:lnTo>
                <a:lnTo>
                  <a:pt x="790" y="432"/>
                </a:lnTo>
                <a:lnTo>
                  <a:pt x="788" y="427"/>
                </a:lnTo>
                <a:lnTo>
                  <a:pt x="788" y="422"/>
                </a:lnTo>
                <a:lnTo>
                  <a:pt x="787" y="417"/>
                </a:lnTo>
                <a:lnTo>
                  <a:pt x="787" y="411"/>
                </a:lnTo>
                <a:lnTo>
                  <a:pt x="785" y="404"/>
                </a:lnTo>
                <a:lnTo>
                  <a:pt x="785" y="397"/>
                </a:lnTo>
                <a:lnTo>
                  <a:pt x="784" y="391"/>
                </a:lnTo>
                <a:lnTo>
                  <a:pt x="782" y="384"/>
                </a:lnTo>
                <a:lnTo>
                  <a:pt x="780" y="376"/>
                </a:lnTo>
                <a:lnTo>
                  <a:pt x="780" y="368"/>
                </a:lnTo>
                <a:lnTo>
                  <a:pt x="779" y="360"/>
                </a:lnTo>
                <a:lnTo>
                  <a:pt x="777" y="352"/>
                </a:lnTo>
                <a:lnTo>
                  <a:pt x="775" y="344"/>
                </a:lnTo>
                <a:lnTo>
                  <a:pt x="775" y="335"/>
                </a:lnTo>
                <a:lnTo>
                  <a:pt x="774" y="326"/>
                </a:lnTo>
                <a:lnTo>
                  <a:pt x="772" y="318"/>
                </a:lnTo>
                <a:lnTo>
                  <a:pt x="770" y="309"/>
                </a:lnTo>
                <a:lnTo>
                  <a:pt x="769" y="301"/>
                </a:lnTo>
                <a:lnTo>
                  <a:pt x="767" y="291"/>
                </a:lnTo>
                <a:lnTo>
                  <a:pt x="766" y="283"/>
                </a:lnTo>
                <a:lnTo>
                  <a:pt x="762" y="274"/>
                </a:lnTo>
                <a:lnTo>
                  <a:pt x="762" y="265"/>
                </a:lnTo>
                <a:lnTo>
                  <a:pt x="759" y="256"/>
                </a:lnTo>
                <a:lnTo>
                  <a:pt x="757" y="247"/>
                </a:lnTo>
                <a:lnTo>
                  <a:pt x="756" y="236"/>
                </a:lnTo>
                <a:lnTo>
                  <a:pt x="753" y="228"/>
                </a:lnTo>
                <a:lnTo>
                  <a:pt x="751" y="220"/>
                </a:lnTo>
                <a:lnTo>
                  <a:pt x="749" y="210"/>
                </a:lnTo>
                <a:lnTo>
                  <a:pt x="746" y="202"/>
                </a:lnTo>
                <a:lnTo>
                  <a:pt x="744" y="194"/>
                </a:lnTo>
                <a:lnTo>
                  <a:pt x="743" y="185"/>
                </a:lnTo>
                <a:lnTo>
                  <a:pt x="740" y="176"/>
                </a:lnTo>
                <a:lnTo>
                  <a:pt x="736" y="168"/>
                </a:lnTo>
                <a:lnTo>
                  <a:pt x="735" y="161"/>
                </a:lnTo>
                <a:lnTo>
                  <a:pt x="731" y="153"/>
                </a:lnTo>
                <a:lnTo>
                  <a:pt x="730" y="145"/>
                </a:lnTo>
                <a:lnTo>
                  <a:pt x="726" y="138"/>
                </a:lnTo>
                <a:lnTo>
                  <a:pt x="725" y="132"/>
                </a:lnTo>
                <a:lnTo>
                  <a:pt x="722" y="125"/>
                </a:lnTo>
                <a:lnTo>
                  <a:pt x="718" y="119"/>
                </a:lnTo>
                <a:lnTo>
                  <a:pt x="715" y="112"/>
                </a:lnTo>
                <a:lnTo>
                  <a:pt x="712" y="107"/>
                </a:lnTo>
                <a:lnTo>
                  <a:pt x="709" y="101"/>
                </a:lnTo>
                <a:lnTo>
                  <a:pt x="707" y="96"/>
                </a:lnTo>
                <a:lnTo>
                  <a:pt x="704" y="93"/>
                </a:lnTo>
                <a:lnTo>
                  <a:pt x="700" y="88"/>
                </a:lnTo>
                <a:lnTo>
                  <a:pt x="697" y="84"/>
                </a:lnTo>
                <a:lnTo>
                  <a:pt x="694" y="81"/>
                </a:lnTo>
                <a:lnTo>
                  <a:pt x="691" y="78"/>
                </a:lnTo>
                <a:lnTo>
                  <a:pt x="687" y="76"/>
                </a:lnTo>
                <a:lnTo>
                  <a:pt x="681" y="73"/>
                </a:lnTo>
                <a:lnTo>
                  <a:pt x="674" y="73"/>
                </a:lnTo>
                <a:lnTo>
                  <a:pt x="669" y="73"/>
                </a:lnTo>
                <a:lnTo>
                  <a:pt x="666" y="73"/>
                </a:lnTo>
                <a:lnTo>
                  <a:pt x="661" y="73"/>
                </a:lnTo>
                <a:lnTo>
                  <a:pt x="658" y="73"/>
                </a:lnTo>
                <a:lnTo>
                  <a:pt x="653" y="75"/>
                </a:lnTo>
                <a:lnTo>
                  <a:pt x="650" y="75"/>
                </a:lnTo>
                <a:lnTo>
                  <a:pt x="645" y="78"/>
                </a:lnTo>
                <a:lnTo>
                  <a:pt x="642" y="79"/>
                </a:lnTo>
                <a:lnTo>
                  <a:pt x="637" y="81"/>
                </a:lnTo>
                <a:lnTo>
                  <a:pt x="634" y="83"/>
                </a:lnTo>
                <a:lnTo>
                  <a:pt x="629" y="84"/>
                </a:lnTo>
                <a:lnTo>
                  <a:pt x="624" y="88"/>
                </a:lnTo>
                <a:lnTo>
                  <a:pt x="621" y="89"/>
                </a:lnTo>
                <a:lnTo>
                  <a:pt x="616" y="93"/>
                </a:lnTo>
                <a:lnTo>
                  <a:pt x="612" y="96"/>
                </a:lnTo>
                <a:lnTo>
                  <a:pt x="607" y="99"/>
                </a:lnTo>
                <a:lnTo>
                  <a:pt x="603" y="102"/>
                </a:lnTo>
                <a:lnTo>
                  <a:pt x="599" y="106"/>
                </a:lnTo>
                <a:lnTo>
                  <a:pt x="594" y="107"/>
                </a:lnTo>
                <a:lnTo>
                  <a:pt x="590" y="112"/>
                </a:lnTo>
                <a:lnTo>
                  <a:pt x="586" y="115"/>
                </a:lnTo>
                <a:lnTo>
                  <a:pt x="581" y="119"/>
                </a:lnTo>
                <a:lnTo>
                  <a:pt x="577" y="123"/>
                </a:lnTo>
                <a:lnTo>
                  <a:pt x="572" y="127"/>
                </a:lnTo>
                <a:lnTo>
                  <a:pt x="568" y="130"/>
                </a:lnTo>
                <a:lnTo>
                  <a:pt x="563" y="135"/>
                </a:lnTo>
                <a:lnTo>
                  <a:pt x="559" y="138"/>
                </a:lnTo>
                <a:lnTo>
                  <a:pt x="555" y="143"/>
                </a:lnTo>
                <a:lnTo>
                  <a:pt x="550" y="146"/>
                </a:lnTo>
                <a:lnTo>
                  <a:pt x="547" y="151"/>
                </a:lnTo>
                <a:lnTo>
                  <a:pt x="542" y="154"/>
                </a:lnTo>
                <a:lnTo>
                  <a:pt x="539" y="159"/>
                </a:lnTo>
                <a:lnTo>
                  <a:pt x="534" y="163"/>
                </a:lnTo>
                <a:lnTo>
                  <a:pt x="531" y="168"/>
                </a:lnTo>
                <a:lnTo>
                  <a:pt x="526" y="171"/>
                </a:lnTo>
                <a:lnTo>
                  <a:pt x="523" y="174"/>
                </a:lnTo>
                <a:lnTo>
                  <a:pt x="518" y="179"/>
                </a:lnTo>
                <a:lnTo>
                  <a:pt x="515" y="182"/>
                </a:lnTo>
                <a:lnTo>
                  <a:pt x="511" y="187"/>
                </a:lnTo>
                <a:lnTo>
                  <a:pt x="508" y="190"/>
                </a:lnTo>
                <a:lnTo>
                  <a:pt x="505" y="194"/>
                </a:lnTo>
                <a:lnTo>
                  <a:pt x="502" y="199"/>
                </a:lnTo>
                <a:lnTo>
                  <a:pt x="498" y="202"/>
                </a:lnTo>
                <a:lnTo>
                  <a:pt x="495" y="205"/>
                </a:lnTo>
                <a:lnTo>
                  <a:pt x="490" y="212"/>
                </a:lnTo>
                <a:lnTo>
                  <a:pt x="485" y="220"/>
                </a:lnTo>
                <a:lnTo>
                  <a:pt x="479" y="225"/>
                </a:lnTo>
                <a:lnTo>
                  <a:pt x="475" y="229"/>
                </a:lnTo>
                <a:lnTo>
                  <a:pt x="471" y="234"/>
                </a:lnTo>
                <a:lnTo>
                  <a:pt x="469" y="239"/>
                </a:lnTo>
                <a:lnTo>
                  <a:pt x="464" y="244"/>
                </a:lnTo>
                <a:lnTo>
                  <a:pt x="464" y="247"/>
                </a:lnTo>
                <a:lnTo>
                  <a:pt x="462" y="247"/>
                </a:lnTo>
                <a:lnTo>
                  <a:pt x="459" y="251"/>
                </a:lnTo>
                <a:lnTo>
                  <a:pt x="458" y="254"/>
                </a:lnTo>
                <a:lnTo>
                  <a:pt x="456" y="257"/>
                </a:lnTo>
                <a:lnTo>
                  <a:pt x="454" y="260"/>
                </a:lnTo>
                <a:lnTo>
                  <a:pt x="453" y="265"/>
                </a:lnTo>
                <a:lnTo>
                  <a:pt x="449" y="269"/>
                </a:lnTo>
                <a:lnTo>
                  <a:pt x="446" y="275"/>
                </a:lnTo>
                <a:lnTo>
                  <a:pt x="443" y="280"/>
                </a:lnTo>
                <a:lnTo>
                  <a:pt x="441" y="287"/>
                </a:lnTo>
                <a:lnTo>
                  <a:pt x="438" y="291"/>
                </a:lnTo>
                <a:lnTo>
                  <a:pt x="435" y="300"/>
                </a:lnTo>
                <a:lnTo>
                  <a:pt x="433" y="303"/>
                </a:lnTo>
                <a:lnTo>
                  <a:pt x="431" y="308"/>
                </a:lnTo>
                <a:lnTo>
                  <a:pt x="430" y="311"/>
                </a:lnTo>
                <a:lnTo>
                  <a:pt x="428" y="316"/>
                </a:lnTo>
                <a:lnTo>
                  <a:pt x="427" y="319"/>
                </a:lnTo>
                <a:lnTo>
                  <a:pt x="423" y="322"/>
                </a:lnTo>
                <a:lnTo>
                  <a:pt x="422" y="327"/>
                </a:lnTo>
                <a:lnTo>
                  <a:pt x="420" y="331"/>
                </a:lnTo>
                <a:lnTo>
                  <a:pt x="418" y="335"/>
                </a:lnTo>
                <a:lnTo>
                  <a:pt x="417" y="339"/>
                </a:lnTo>
                <a:lnTo>
                  <a:pt x="414" y="344"/>
                </a:lnTo>
                <a:lnTo>
                  <a:pt x="412" y="349"/>
                </a:lnTo>
                <a:lnTo>
                  <a:pt x="410" y="353"/>
                </a:lnTo>
                <a:lnTo>
                  <a:pt x="409" y="358"/>
                </a:lnTo>
                <a:lnTo>
                  <a:pt x="407" y="363"/>
                </a:lnTo>
                <a:lnTo>
                  <a:pt x="405" y="368"/>
                </a:lnTo>
                <a:lnTo>
                  <a:pt x="404" y="373"/>
                </a:lnTo>
                <a:lnTo>
                  <a:pt x="402" y="378"/>
                </a:lnTo>
                <a:lnTo>
                  <a:pt x="399" y="383"/>
                </a:lnTo>
                <a:lnTo>
                  <a:pt x="399" y="388"/>
                </a:lnTo>
                <a:lnTo>
                  <a:pt x="396" y="393"/>
                </a:lnTo>
                <a:lnTo>
                  <a:pt x="394" y="397"/>
                </a:lnTo>
                <a:lnTo>
                  <a:pt x="392" y="404"/>
                </a:lnTo>
                <a:lnTo>
                  <a:pt x="391" y="409"/>
                </a:lnTo>
                <a:lnTo>
                  <a:pt x="389" y="414"/>
                </a:lnTo>
                <a:lnTo>
                  <a:pt x="387" y="419"/>
                </a:lnTo>
                <a:lnTo>
                  <a:pt x="386" y="425"/>
                </a:lnTo>
                <a:lnTo>
                  <a:pt x="386" y="432"/>
                </a:lnTo>
                <a:lnTo>
                  <a:pt x="383" y="437"/>
                </a:lnTo>
                <a:lnTo>
                  <a:pt x="381" y="441"/>
                </a:lnTo>
                <a:lnTo>
                  <a:pt x="381" y="448"/>
                </a:lnTo>
                <a:lnTo>
                  <a:pt x="379" y="453"/>
                </a:lnTo>
                <a:lnTo>
                  <a:pt x="378" y="459"/>
                </a:lnTo>
                <a:lnTo>
                  <a:pt x="378" y="466"/>
                </a:lnTo>
                <a:lnTo>
                  <a:pt x="376" y="471"/>
                </a:lnTo>
                <a:lnTo>
                  <a:pt x="374" y="477"/>
                </a:lnTo>
                <a:lnTo>
                  <a:pt x="373" y="482"/>
                </a:lnTo>
                <a:lnTo>
                  <a:pt x="373" y="487"/>
                </a:lnTo>
                <a:lnTo>
                  <a:pt x="371" y="494"/>
                </a:lnTo>
                <a:lnTo>
                  <a:pt x="370" y="499"/>
                </a:lnTo>
                <a:lnTo>
                  <a:pt x="368" y="503"/>
                </a:lnTo>
                <a:lnTo>
                  <a:pt x="368" y="510"/>
                </a:lnTo>
                <a:lnTo>
                  <a:pt x="365" y="515"/>
                </a:lnTo>
                <a:lnTo>
                  <a:pt x="365" y="520"/>
                </a:lnTo>
                <a:lnTo>
                  <a:pt x="363" y="525"/>
                </a:lnTo>
                <a:lnTo>
                  <a:pt x="361" y="530"/>
                </a:lnTo>
                <a:lnTo>
                  <a:pt x="360" y="534"/>
                </a:lnTo>
                <a:lnTo>
                  <a:pt x="358" y="538"/>
                </a:lnTo>
                <a:lnTo>
                  <a:pt x="357" y="543"/>
                </a:lnTo>
                <a:lnTo>
                  <a:pt x="355" y="547"/>
                </a:lnTo>
                <a:lnTo>
                  <a:pt x="355" y="551"/>
                </a:lnTo>
                <a:lnTo>
                  <a:pt x="353" y="556"/>
                </a:lnTo>
                <a:lnTo>
                  <a:pt x="352" y="561"/>
                </a:lnTo>
                <a:lnTo>
                  <a:pt x="348" y="564"/>
                </a:lnTo>
                <a:lnTo>
                  <a:pt x="348" y="569"/>
                </a:lnTo>
                <a:lnTo>
                  <a:pt x="347" y="572"/>
                </a:lnTo>
                <a:lnTo>
                  <a:pt x="345" y="575"/>
                </a:lnTo>
                <a:lnTo>
                  <a:pt x="342" y="578"/>
                </a:lnTo>
                <a:lnTo>
                  <a:pt x="340" y="583"/>
                </a:lnTo>
                <a:lnTo>
                  <a:pt x="340" y="587"/>
                </a:lnTo>
                <a:lnTo>
                  <a:pt x="337" y="593"/>
                </a:lnTo>
                <a:lnTo>
                  <a:pt x="334" y="600"/>
                </a:lnTo>
                <a:lnTo>
                  <a:pt x="330" y="605"/>
                </a:lnTo>
                <a:lnTo>
                  <a:pt x="327" y="611"/>
                </a:lnTo>
                <a:lnTo>
                  <a:pt x="324" y="616"/>
                </a:lnTo>
                <a:lnTo>
                  <a:pt x="321" y="621"/>
                </a:lnTo>
                <a:lnTo>
                  <a:pt x="317" y="624"/>
                </a:lnTo>
                <a:lnTo>
                  <a:pt x="316" y="629"/>
                </a:lnTo>
                <a:lnTo>
                  <a:pt x="311" y="636"/>
                </a:lnTo>
                <a:lnTo>
                  <a:pt x="306" y="640"/>
                </a:lnTo>
                <a:lnTo>
                  <a:pt x="303" y="645"/>
                </a:lnTo>
                <a:lnTo>
                  <a:pt x="299" y="649"/>
                </a:lnTo>
                <a:lnTo>
                  <a:pt x="298" y="650"/>
                </a:lnTo>
                <a:lnTo>
                  <a:pt x="298" y="652"/>
                </a:lnTo>
                <a:lnTo>
                  <a:pt x="296" y="652"/>
                </a:lnTo>
                <a:lnTo>
                  <a:pt x="295" y="653"/>
                </a:lnTo>
                <a:lnTo>
                  <a:pt x="293" y="655"/>
                </a:lnTo>
                <a:lnTo>
                  <a:pt x="290" y="660"/>
                </a:lnTo>
                <a:lnTo>
                  <a:pt x="285" y="663"/>
                </a:lnTo>
                <a:lnTo>
                  <a:pt x="280" y="668"/>
                </a:lnTo>
                <a:lnTo>
                  <a:pt x="277" y="671"/>
                </a:lnTo>
                <a:lnTo>
                  <a:pt x="275" y="675"/>
                </a:lnTo>
                <a:lnTo>
                  <a:pt x="272" y="678"/>
                </a:lnTo>
                <a:lnTo>
                  <a:pt x="269" y="683"/>
                </a:lnTo>
                <a:lnTo>
                  <a:pt x="265" y="686"/>
                </a:lnTo>
                <a:lnTo>
                  <a:pt x="262" y="689"/>
                </a:lnTo>
                <a:lnTo>
                  <a:pt x="259" y="694"/>
                </a:lnTo>
                <a:lnTo>
                  <a:pt x="255" y="698"/>
                </a:lnTo>
                <a:lnTo>
                  <a:pt x="252" y="702"/>
                </a:lnTo>
                <a:lnTo>
                  <a:pt x="247" y="706"/>
                </a:lnTo>
                <a:lnTo>
                  <a:pt x="244" y="711"/>
                </a:lnTo>
                <a:lnTo>
                  <a:pt x="241" y="715"/>
                </a:lnTo>
                <a:lnTo>
                  <a:pt x="236" y="720"/>
                </a:lnTo>
                <a:lnTo>
                  <a:pt x="233" y="725"/>
                </a:lnTo>
                <a:lnTo>
                  <a:pt x="228" y="730"/>
                </a:lnTo>
                <a:lnTo>
                  <a:pt x="225" y="737"/>
                </a:lnTo>
                <a:lnTo>
                  <a:pt x="220" y="742"/>
                </a:lnTo>
                <a:lnTo>
                  <a:pt x="215" y="746"/>
                </a:lnTo>
                <a:lnTo>
                  <a:pt x="211" y="751"/>
                </a:lnTo>
                <a:lnTo>
                  <a:pt x="208" y="758"/>
                </a:lnTo>
                <a:lnTo>
                  <a:pt x="203" y="763"/>
                </a:lnTo>
                <a:lnTo>
                  <a:pt x="198" y="768"/>
                </a:lnTo>
                <a:lnTo>
                  <a:pt x="195" y="774"/>
                </a:lnTo>
                <a:lnTo>
                  <a:pt x="190" y="779"/>
                </a:lnTo>
                <a:lnTo>
                  <a:pt x="187" y="784"/>
                </a:lnTo>
                <a:lnTo>
                  <a:pt x="182" y="790"/>
                </a:lnTo>
                <a:lnTo>
                  <a:pt x="179" y="797"/>
                </a:lnTo>
                <a:lnTo>
                  <a:pt x="174" y="802"/>
                </a:lnTo>
                <a:lnTo>
                  <a:pt x="171" y="808"/>
                </a:lnTo>
                <a:lnTo>
                  <a:pt x="167" y="813"/>
                </a:lnTo>
                <a:lnTo>
                  <a:pt x="163" y="820"/>
                </a:lnTo>
                <a:lnTo>
                  <a:pt x="159" y="825"/>
                </a:lnTo>
                <a:lnTo>
                  <a:pt x="154" y="830"/>
                </a:lnTo>
                <a:lnTo>
                  <a:pt x="151" y="836"/>
                </a:lnTo>
                <a:lnTo>
                  <a:pt x="148" y="841"/>
                </a:lnTo>
                <a:lnTo>
                  <a:pt x="146" y="848"/>
                </a:lnTo>
                <a:lnTo>
                  <a:pt x="141" y="852"/>
                </a:lnTo>
                <a:lnTo>
                  <a:pt x="140" y="857"/>
                </a:lnTo>
                <a:lnTo>
                  <a:pt x="136" y="864"/>
                </a:lnTo>
                <a:lnTo>
                  <a:pt x="133" y="869"/>
                </a:lnTo>
                <a:lnTo>
                  <a:pt x="132" y="874"/>
                </a:lnTo>
                <a:lnTo>
                  <a:pt x="130" y="879"/>
                </a:lnTo>
                <a:lnTo>
                  <a:pt x="127" y="883"/>
                </a:lnTo>
                <a:lnTo>
                  <a:pt x="125" y="888"/>
                </a:lnTo>
                <a:lnTo>
                  <a:pt x="123" y="893"/>
                </a:lnTo>
                <a:lnTo>
                  <a:pt x="122" y="898"/>
                </a:lnTo>
                <a:lnTo>
                  <a:pt x="120" y="903"/>
                </a:lnTo>
                <a:lnTo>
                  <a:pt x="120" y="908"/>
                </a:lnTo>
                <a:lnTo>
                  <a:pt x="119" y="911"/>
                </a:lnTo>
                <a:lnTo>
                  <a:pt x="119" y="916"/>
                </a:lnTo>
                <a:lnTo>
                  <a:pt x="119" y="919"/>
                </a:lnTo>
                <a:lnTo>
                  <a:pt x="119" y="924"/>
                </a:lnTo>
                <a:lnTo>
                  <a:pt x="119" y="927"/>
                </a:lnTo>
                <a:lnTo>
                  <a:pt x="119" y="931"/>
                </a:lnTo>
                <a:lnTo>
                  <a:pt x="119" y="936"/>
                </a:lnTo>
                <a:lnTo>
                  <a:pt x="119" y="940"/>
                </a:lnTo>
                <a:lnTo>
                  <a:pt x="119" y="945"/>
                </a:lnTo>
                <a:lnTo>
                  <a:pt x="119" y="952"/>
                </a:lnTo>
                <a:lnTo>
                  <a:pt x="119" y="957"/>
                </a:lnTo>
                <a:lnTo>
                  <a:pt x="119" y="963"/>
                </a:lnTo>
                <a:lnTo>
                  <a:pt x="119" y="970"/>
                </a:lnTo>
                <a:lnTo>
                  <a:pt x="119" y="976"/>
                </a:lnTo>
                <a:lnTo>
                  <a:pt x="119" y="985"/>
                </a:lnTo>
                <a:lnTo>
                  <a:pt x="119" y="993"/>
                </a:lnTo>
                <a:lnTo>
                  <a:pt x="119" y="1001"/>
                </a:lnTo>
                <a:lnTo>
                  <a:pt x="120" y="1009"/>
                </a:lnTo>
                <a:lnTo>
                  <a:pt x="120" y="1017"/>
                </a:lnTo>
                <a:lnTo>
                  <a:pt x="122" y="1027"/>
                </a:lnTo>
                <a:lnTo>
                  <a:pt x="122" y="1035"/>
                </a:lnTo>
                <a:lnTo>
                  <a:pt x="122" y="1045"/>
                </a:lnTo>
                <a:lnTo>
                  <a:pt x="123" y="1053"/>
                </a:lnTo>
                <a:lnTo>
                  <a:pt x="123" y="1063"/>
                </a:lnTo>
                <a:lnTo>
                  <a:pt x="125" y="1073"/>
                </a:lnTo>
                <a:lnTo>
                  <a:pt x="127" y="1082"/>
                </a:lnTo>
                <a:lnTo>
                  <a:pt x="127" y="1094"/>
                </a:lnTo>
                <a:lnTo>
                  <a:pt x="128" y="1105"/>
                </a:lnTo>
                <a:lnTo>
                  <a:pt x="130" y="1115"/>
                </a:lnTo>
                <a:lnTo>
                  <a:pt x="130" y="1126"/>
                </a:lnTo>
                <a:lnTo>
                  <a:pt x="133" y="1138"/>
                </a:lnTo>
                <a:lnTo>
                  <a:pt x="135" y="1149"/>
                </a:lnTo>
                <a:lnTo>
                  <a:pt x="136" y="1161"/>
                </a:lnTo>
                <a:lnTo>
                  <a:pt x="138" y="1172"/>
                </a:lnTo>
                <a:lnTo>
                  <a:pt x="140" y="1185"/>
                </a:lnTo>
                <a:lnTo>
                  <a:pt x="143" y="1197"/>
                </a:lnTo>
                <a:lnTo>
                  <a:pt x="145" y="1210"/>
                </a:lnTo>
                <a:lnTo>
                  <a:pt x="146" y="1221"/>
                </a:lnTo>
                <a:lnTo>
                  <a:pt x="150" y="1234"/>
                </a:lnTo>
                <a:lnTo>
                  <a:pt x="153" y="1245"/>
                </a:lnTo>
                <a:lnTo>
                  <a:pt x="156" y="1258"/>
                </a:lnTo>
                <a:lnTo>
                  <a:pt x="159" y="1272"/>
                </a:lnTo>
                <a:lnTo>
                  <a:pt x="163" y="1285"/>
                </a:lnTo>
                <a:lnTo>
                  <a:pt x="166" y="1298"/>
                </a:lnTo>
                <a:lnTo>
                  <a:pt x="169" y="1309"/>
                </a:lnTo>
                <a:lnTo>
                  <a:pt x="172" y="1324"/>
                </a:lnTo>
                <a:lnTo>
                  <a:pt x="177" y="1337"/>
                </a:lnTo>
                <a:lnTo>
                  <a:pt x="180" y="1350"/>
                </a:lnTo>
                <a:lnTo>
                  <a:pt x="185" y="1363"/>
                </a:lnTo>
                <a:lnTo>
                  <a:pt x="190" y="1376"/>
                </a:lnTo>
                <a:lnTo>
                  <a:pt x="195" y="1389"/>
                </a:lnTo>
                <a:lnTo>
                  <a:pt x="200" y="1404"/>
                </a:lnTo>
                <a:lnTo>
                  <a:pt x="205" y="1417"/>
                </a:lnTo>
                <a:lnTo>
                  <a:pt x="210" y="1430"/>
                </a:lnTo>
                <a:lnTo>
                  <a:pt x="216" y="1443"/>
                </a:lnTo>
                <a:lnTo>
                  <a:pt x="223" y="1456"/>
                </a:lnTo>
                <a:lnTo>
                  <a:pt x="228" y="1469"/>
                </a:lnTo>
                <a:lnTo>
                  <a:pt x="234" y="1482"/>
                </a:lnTo>
                <a:lnTo>
                  <a:pt x="241" y="1495"/>
                </a:lnTo>
                <a:lnTo>
                  <a:pt x="247" y="1510"/>
                </a:lnTo>
                <a:lnTo>
                  <a:pt x="254" y="1521"/>
                </a:lnTo>
                <a:lnTo>
                  <a:pt x="262" y="1536"/>
                </a:lnTo>
                <a:lnTo>
                  <a:pt x="269" y="1549"/>
                </a:lnTo>
                <a:lnTo>
                  <a:pt x="277" y="1562"/>
                </a:lnTo>
                <a:lnTo>
                  <a:pt x="285" y="1575"/>
                </a:lnTo>
                <a:lnTo>
                  <a:pt x="293" y="1588"/>
                </a:lnTo>
                <a:lnTo>
                  <a:pt x="301" y="1601"/>
                </a:lnTo>
                <a:lnTo>
                  <a:pt x="311" y="1614"/>
                </a:lnTo>
                <a:lnTo>
                  <a:pt x="311" y="1614"/>
                </a:lnTo>
                <a:lnTo>
                  <a:pt x="316" y="1614"/>
                </a:lnTo>
                <a:lnTo>
                  <a:pt x="317" y="1614"/>
                </a:lnTo>
                <a:lnTo>
                  <a:pt x="321" y="1614"/>
                </a:lnTo>
                <a:lnTo>
                  <a:pt x="324" y="1614"/>
                </a:lnTo>
                <a:lnTo>
                  <a:pt x="329" y="1614"/>
                </a:lnTo>
                <a:lnTo>
                  <a:pt x="334" y="1614"/>
                </a:lnTo>
                <a:lnTo>
                  <a:pt x="339" y="1614"/>
                </a:lnTo>
                <a:lnTo>
                  <a:pt x="343" y="1612"/>
                </a:lnTo>
                <a:lnTo>
                  <a:pt x="350" y="1612"/>
                </a:lnTo>
                <a:lnTo>
                  <a:pt x="355" y="1611"/>
                </a:lnTo>
                <a:lnTo>
                  <a:pt x="361" y="1611"/>
                </a:lnTo>
                <a:lnTo>
                  <a:pt x="365" y="1611"/>
                </a:lnTo>
                <a:lnTo>
                  <a:pt x="368" y="1611"/>
                </a:lnTo>
                <a:lnTo>
                  <a:pt x="371" y="1609"/>
                </a:lnTo>
                <a:lnTo>
                  <a:pt x="376" y="1609"/>
                </a:lnTo>
                <a:lnTo>
                  <a:pt x="383" y="1607"/>
                </a:lnTo>
                <a:lnTo>
                  <a:pt x="389" y="1606"/>
                </a:lnTo>
                <a:lnTo>
                  <a:pt x="392" y="1604"/>
                </a:lnTo>
                <a:lnTo>
                  <a:pt x="397" y="1604"/>
                </a:lnTo>
                <a:lnTo>
                  <a:pt x="401" y="1603"/>
                </a:lnTo>
                <a:lnTo>
                  <a:pt x="405" y="1603"/>
                </a:lnTo>
                <a:lnTo>
                  <a:pt x="409" y="1601"/>
                </a:lnTo>
                <a:lnTo>
                  <a:pt x="412" y="1599"/>
                </a:lnTo>
                <a:lnTo>
                  <a:pt x="417" y="1598"/>
                </a:lnTo>
                <a:lnTo>
                  <a:pt x="420" y="1596"/>
                </a:lnTo>
                <a:lnTo>
                  <a:pt x="425" y="1594"/>
                </a:lnTo>
                <a:lnTo>
                  <a:pt x="428" y="1593"/>
                </a:lnTo>
                <a:lnTo>
                  <a:pt x="433" y="1591"/>
                </a:lnTo>
                <a:lnTo>
                  <a:pt x="436" y="1590"/>
                </a:lnTo>
                <a:lnTo>
                  <a:pt x="441" y="1586"/>
                </a:lnTo>
                <a:lnTo>
                  <a:pt x="445" y="1585"/>
                </a:lnTo>
                <a:lnTo>
                  <a:pt x="449" y="1583"/>
                </a:lnTo>
                <a:lnTo>
                  <a:pt x="453" y="1581"/>
                </a:lnTo>
                <a:lnTo>
                  <a:pt x="458" y="1578"/>
                </a:lnTo>
                <a:lnTo>
                  <a:pt x="461" y="1576"/>
                </a:lnTo>
                <a:lnTo>
                  <a:pt x="464" y="1573"/>
                </a:lnTo>
                <a:lnTo>
                  <a:pt x="469" y="1572"/>
                </a:lnTo>
                <a:lnTo>
                  <a:pt x="472" y="1568"/>
                </a:lnTo>
                <a:lnTo>
                  <a:pt x="475" y="1565"/>
                </a:lnTo>
                <a:lnTo>
                  <a:pt x="480" y="1562"/>
                </a:lnTo>
                <a:lnTo>
                  <a:pt x="484" y="1559"/>
                </a:lnTo>
                <a:lnTo>
                  <a:pt x="487" y="1555"/>
                </a:lnTo>
                <a:lnTo>
                  <a:pt x="492" y="1552"/>
                </a:lnTo>
                <a:lnTo>
                  <a:pt x="495" y="1549"/>
                </a:lnTo>
                <a:lnTo>
                  <a:pt x="500" y="1545"/>
                </a:lnTo>
                <a:lnTo>
                  <a:pt x="502" y="1541"/>
                </a:lnTo>
                <a:lnTo>
                  <a:pt x="506" y="1537"/>
                </a:lnTo>
                <a:lnTo>
                  <a:pt x="508" y="1532"/>
                </a:lnTo>
                <a:lnTo>
                  <a:pt x="513" y="1529"/>
                </a:lnTo>
                <a:lnTo>
                  <a:pt x="515" y="1526"/>
                </a:lnTo>
                <a:lnTo>
                  <a:pt x="518" y="1521"/>
                </a:lnTo>
                <a:lnTo>
                  <a:pt x="521" y="1518"/>
                </a:lnTo>
                <a:lnTo>
                  <a:pt x="524" y="1515"/>
                </a:lnTo>
                <a:lnTo>
                  <a:pt x="528" y="1510"/>
                </a:lnTo>
                <a:lnTo>
                  <a:pt x="531" y="1506"/>
                </a:lnTo>
                <a:lnTo>
                  <a:pt x="533" y="1503"/>
                </a:lnTo>
                <a:lnTo>
                  <a:pt x="536" y="1500"/>
                </a:lnTo>
                <a:lnTo>
                  <a:pt x="541" y="1492"/>
                </a:lnTo>
                <a:lnTo>
                  <a:pt x="546" y="1485"/>
                </a:lnTo>
                <a:lnTo>
                  <a:pt x="547" y="1482"/>
                </a:lnTo>
                <a:lnTo>
                  <a:pt x="549" y="1477"/>
                </a:lnTo>
                <a:lnTo>
                  <a:pt x="552" y="1474"/>
                </a:lnTo>
                <a:lnTo>
                  <a:pt x="554" y="1470"/>
                </a:lnTo>
                <a:lnTo>
                  <a:pt x="559" y="1464"/>
                </a:lnTo>
                <a:lnTo>
                  <a:pt x="562" y="1457"/>
                </a:lnTo>
                <a:lnTo>
                  <a:pt x="565" y="1451"/>
                </a:lnTo>
                <a:lnTo>
                  <a:pt x="570" y="1446"/>
                </a:lnTo>
                <a:lnTo>
                  <a:pt x="573" y="1439"/>
                </a:lnTo>
                <a:lnTo>
                  <a:pt x="578" y="1435"/>
                </a:lnTo>
                <a:lnTo>
                  <a:pt x="581" y="1428"/>
                </a:lnTo>
                <a:lnTo>
                  <a:pt x="585" y="1422"/>
                </a:lnTo>
                <a:lnTo>
                  <a:pt x="588" y="1417"/>
                </a:lnTo>
                <a:lnTo>
                  <a:pt x="591" y="1412"/>
                </a:lnTo>
                <a:lnTo>
                  <a:pt x="594" y="1407"/>
                </a:lnTo>
                <a:lnTo>
                  <a:pt x="599" y="1402"/>
                </a:lnTo>
                <a:lnTo>
                  <a:pt x="603" y="1399"/>
                </a:lnTo>
                <a:lnTo>
                  <a:pt x="607" y="1394"/>
                </a:lnTo>
                <a:lnTo>
                  <a:pt x="611" y="1389"/>
                </a:lnTo>
                <a:lnTo>
                  <a:pt x="616" y="1386"/>
                </a:lnTo>
                <a:lnTo>
                  <a:pt x="619" y="1382"/>
                </a:lnTo>
                <a:lnTo>
                  <a:pt x="624" y="1379"/>
                </a:lnTo>
                <a:lnTo>
                  <a:pt x="629" y="1376"/>
                </a:lnTo>
                <a:lnTo>
                  <a:pt x="634" y="1373"/>
                </a:lnTo>
                <a:lnTo>
                  <a:pt x="640" y="1371"/>
                </a:lnTo>
                <a:lnTo>
                  <a:pt x="647" y="1369"/>
                </a:lnTo>
                <a:lnTo>
                  <a:pt x="705" y="1351"/>
                </a:lnTo>
                <a:lnTo>
                  <a:pt x="705" y="1351"/>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527880" y="4680000"/>
            <a:ext cx="98280" cy="554040"/>
          </a:xfrm>
          <a:custGeom>
            <a:avLst/>
            <a:gdLst/>
            <a:ahLst/>
            <a:rect l="l" t="t" r="r" b="b"/>
            <a:pathLst>
              <a:path w="124" h="698">
                <a:moveTo>
                  <a:pt x="55" y="698"/>
                </a:moveTo>
                <a:lnTo>
                  <a:pt x="13" y="653"/>
                </a:lnTo>
                <a:lnTo>
                  <a:pt x="13" y="653"/>
                </a:lnTo>
                <a:lnTo>
                  <a:pt x="13" y="649"/>
                </a:lnTo>
                <a:lnTo>
                  <a:pt x="13" y="645"/>
                </a:lnTo>
                <a:lnTo>
                  <a:pt x="11" y="640"/>
                </a:lnTo>
                <a:lnTo>
                  <a:pt x="11" y="636"/>
                </a:lnTo>
                <a:lnTo>
                  <a:pt x="10" y="632"/>
                </a:lnTo>
                <a:lnTo>
                  <a:pt x="10" y="628"/>
                </a:lnTo>
                <a:lnTo>
                  <a:pt x="10" y="623"/>
                </a:lnTo>
                <a:lnTo>
                  <a:pt x="10" y="619"/>
                </a:lnTo>
                <a:lnTo>
                  <a:pt x="10" y="614"/>
                </a:lnTo>
                <a:lnTo>
                  <a:pt x="8" y="609"/>
                </a:lnTo>
                <a:lnTo>
                  <a:pt x="8" y="604"/>
                </a:lnTo>
                <a:lnTo>
                  <a:pt x="8" y="597"/>
                </a:lnTo>
                <a:lnTo>
                  <a:pt x="6" y="591"/>
                </a:lnTo>
                <a:lnTo>
                  <a:pt x="6" y="584"/>
                </a:lnTo>
                <a:lnTo>
                  <a:pt x="6" y="579"/>
                </a:lnTo>
                <a:lnTo>
                  <a:pt x="5" y="571"/>
                </a:lnTo>
                <a:lnTo>
                  <a:pt x="5" y="565"/>
                </a:lnTo>
                <a:lnTo>
                  <a:pt x="5" y="558"/>
                </a:lnTo>
                <a:lnTo>
                  <a:pt x="5" y="552"/>
                </a:lnTo>
                <a:lnTo>
                  <a:pt x="3" y="543"/>
                </a:lnTo>
                <a:lnTo>
                  <a:pt x="3" y="535"/>
                </a:lnTo>
                <a:lnTo>
                  <a:pt x="2" y="527"/>
                </a:lnTo>
                <a:lnTo>
                  <a:pt x="2" y="521"/>
                </a:lnTo>
                <a:lnTo>
                  <a:pt x="2" y="513"/>
                </a:lnTo>
                <a:lnTo>
                  <a:pt x="2" y="504"/>
                </a:lnTo>
                <a:lnTo>
                  <a:pt x="2" y="496"/>
                </a:lnTo>
                <a:lnTo>
                  <a:pt x="2" y="488"/>
                </a:lnTo>
                <a:lnTo>
                  <a:pt x="2" y="480"/>
                </a:lnTo>
                <a:lnTo>
                  <a:pt x="2" y="472"/>
                </a:lnTo>
                <a:lnTo>
                  <a:pt x="0" y="462"/>
                </a:lnTo>
                <a:lnTo>
                  <a:pt x="0" y="454"/>
                </a:lnTo>
                <a:lnTo>
                  <a:pt x="0" y="446"/>
                </a:lnTo>
                <a:lnTo>
                  <a:pt x="0" y="437"/>
                </a:lnTo>
                <a:lnTo>
                  <a:pt x="0" y="428"/>
                </a:lnTo>
                <a:lnTo>
                  <a:pt x="2" y="420"/>
                </a:lnTo>
                <a:lnTo>
                  <a:pt x="2" y="411"/>
                </a:lnTo>
                <a:lnTo>
                  <a:pt x="2" y="403"/>
                </a:lnTo>
                <a:lnTo>
                  <a:pt x="2" y="393"/>
                </a:lnTo>
                <a:lnTo>
                  <a:pt x="2" y="385"/>
                </a:lnTo>
                <a:lnTo>
                  <a:pt x="2" y="377"/>
                </a:lnTo>
                <a:lnTo>
                  <a:pt x="3" y="369"/>
                </a:lnTo>
                <a:lnTo>
                  <a:pt x="5" y="361"/>
                </a:lnTo>
                <a:lnTo>
                  <a:pt x="5" y="354"/>
                </a:lnTo>
                <a:lnTo>
                  <a:pt x="5" y="346"/>
                </a:lnTo>
                <a:lnTo>
                  <a:pt x="6" y="338"/>
                </a:lnTo>
                <a:lnTo>
                  <a:pt x="8" y="330"/>
                </a:lnTo>
                <a:lnTo>
                  <a:pt x="10" y="323"/>
                </a:lnTo>
                <a:lnTo>
                  <a:pt x="10" y="315"/>
                </a:lnTo>
                <a:lnTo>
                  <a:pt x="11" y="307"/>
                </a:lnTo>
                <a:lnTo>
                  <a:pt x="13" y="301"/>
                </a:lnTo>
                <a:lnTo>
                  <a:pt x="15" y="294"/>
                </a:lnTo>
                <a:lnTo>
                  <a:pt x="16" y="287"/>
                </a:lnTo>
                <a:lnTo>
                  <a:pt x="18" y="281"/>
                </a:lnTo>
                <a:lnTo>
                  <a:pt x="20" y="274"/>
                </a:lnTo>
                <a:lnTo>
                  <a:pt x="21" y="270"/>
                </a:lnTo>
                <a:lnTo>
                  <a:pt x="23" y="263"/>
                </a:lnTo>
                <a:lnTo>
                  <a:pt x="26" y="258"/>
                </a:lnTo>
                <a:lnTo>
                  <a:pt x="28" y="252"/>
                </a:lnTo>
                <a:lnTo>
                  <a:pt x="31" y="248"/>
                </a:lnTo>
                <a:lnTo>
                  <a:pt x="33" y="243"/>
                </a:lnTo>
                <a:lnTo>
                  <a:pt x="36" y="239"/>
                </a:lnTo>
                <a:lnTo>
                  <a:pt x="37" y="234"/>
                </a:lnTo>
                <a:lnTo>
                  <a:pt x="41" y="229"/>
                </a:lnTo>
                <a:lnTo>
                  <a:pt x="42" y="224"/>
                </a:lnTo>
                <a:lnTo>
                  <a:pt x="44" y="219"/>
                </a:lnTo>
                <a:lnTo>
                  <a:pt x="47" y="214"/>
                </a:lnTo>
                <a:lnTo>
                  <a:pt x="49" y="209"/>
                </a:lnTo>
                <a:lnTo>
                  <a:pt x="50" y="204"/>
                </a:lnTo>
                <a:lnTo>
                  <a:pt x="54" y="199"/>
                </a:lnTo>
                <a:lnTo>
                  <a:pt x="55" y="193"/>
                </a:lnTo>
                <a:lnTo>
                  <a:pt x="57" y="190"/>
                </a:lnTo>
                <a:lnTo>
                  <a:pt x="59" y="183"/>
                </a:lnTo>
                <a:lnTo>
                  <a:pt x="60" y="180"/>
                </a:lnTo>
                <a:lnTo>
                  <a:pt x="62" y="175"/>
                </a:lnTo>
                <a:lnTo>
                  <a:pt x="64" y="170"/>
                </a:lnTo>
                <a:lnTo>
                  <a:pt x="65" y="165"/>
                </a:lnTo>
                <a:lnTo>
                  <a:pt x="67" y="160"/>
                </a:lnTo>
                <a:lnTo>
                  <a:pt x="67" y="155"/>
                </a:lnTo>
                <a:lnTo>
                  <a:pt x="68" y="150"/>
                </a:lnTo>
                <a:lnTo>
                  <a:pt x="70" y="146"/>
                </a:lnTo>
                <a:lnTo>
                  <a:pt x="72" y="141"/>
                </a:lnTo>
                <a:lnTo>
                  <a:pt x="73" y="136"/>
                </a:lnTo>
                <a:lnTo>
                  <a:pt x="73" y="133"/>
                </a:lnTo>
                <a:lnTo>
                  <a:pt x="75" y="128"/>
                </a:lnTo>
                <a:lnTo>
                  <a:pt x="77" y="123"/>
                </a:lnTo>
                <a:lnTo>
                  <a:pt x="77" y="118"/>
                </a:lnTo>
                <a:lnTo>
                  <a:pt x="78" y="115"/>
                </a:lnTo>
                <a:lnTo>
                  <a:pt x="78" y="110"/>
                </a:lnTo>
                <a:lnTo>
                  <a:pt x="80" y="106"/>
                </a:lnTo>
                <a:lnTo>
                  <a:pt x="81" y="102"/>
                </a:lnTo>
                <a:lnTo>
                  <a:pt x="83" y="98"/>
                </a:lnTo>
                <a:lnTo>
                  <a:pt x="83" y="93"/>
                </a:lnTo>
                <a:lnTo>
                  <a:pt x="83" y="90"/>
                </a:lnTo>
                <a:lnTo>
                  <a:pt x="83" y="85"/>
                </a:lnTo>
                <a:lnTo>
                  <a:pt x="85" y="82"/>
                </a:lnTo>
                <a:lnTo>
                  <a:pt x="86" y="74"/>
                </a:lnTo>
                <a:lnTo>
                  <a:pt x="88" y="67"/>
                </a:lnTo>
                <a:lnTo>
                  <a:pt x="88" y="61"/>
                </a:lnTo>
                <a:lnTo>
                  <a:pt x="88" y="54"/>
                </a:lnTo>
                <a:lnTo>
                  <a:pt x="90" y="49"/>
                </a:lnTo>
                <a:lnTo>
                  <a:pt x="91" y="44"/>
                </a:lnTo>
                <a:lnTo>
                  <a:pt x="91" y="40"/>
                </a:lnTo>
                <a:lnTo>
                  <a:pt x="91" y="35"/>
                </a:lnTo>
                <a:lnTo>
                  <a:pt x="91" y="31"/>
                </a:lnTo>
                <a:lnTo>
                  <a:pt x="91" y="28"/>
                </a:lnTo>
                <a:lnTo>
                  <a:pt x="91" y="25"/>
                </a:lnTo>
                <a:lnTo>
                  <a:pt x="93" y="23"/>
                </a:lnTo>
                <a:lnTo>
                  <a:pt x="124" y="0"/>
                </a:lnTo>
                <a:lnTo>
                  <a:pt x="124" y="2"/>
                </a:lnTo>
                <a:lnTo>
                  <a:pt x="124" y="5"/>
                </a:lnTo>
                <a:lnTo>
                  <a:pt x="124" y="9"/>
                </a:lnTo>
                <a:lnTo>
                  <a:pt x="124" y="12"/>
                </a:lnTo>
                <a:lnTo>
                  <a:pt x="122" y="17"/>
                </a:lnTo>
                <a:lnTo>
                  <a:pt x="122" y="23"/>
                </a:lnTo>
                <a:lnTo>
                  <a:pt x="122" y="28"/>
                </a:lnTo>
                <a:lnTo>
                  <a:pt x="121" y="35"/>
                </a:lnTo>
                <a:lnTo>
                  <a:pt x="121" y="38"/>
                </a:lnTo>
                <a:lnTo>
                  <a:pt x="121" y="41"/>
                </a:lnTo>
                <a:lnTo>
                  <a:pt x="119" y="46"/>
                </a:lnTo>
                <a:lnTo>
                  <a:pt x="119" y="49"/>
                </a:lnTo>
                <a:lnTo>
                  <a:pt x="117" y="53"/>
                </a:lnTo>
                <a:lnTo>
                  <a:pt x="117" y="58"/>
                </a:lnTo>
                <a:lnTo>
                  <a:pt x="117" y="61"/>
                </a:lnTo>
                <a:lnTo>
                  <a:pt x="117" y="67"/>
                </a:lnTo>
                <a:lnTo>
                  <a:pt x="116" y="71"/>
                </a:lnTo>
                <a:lnTo>
                  <a:pt x="116" y="75"/>
                </a:lnTo>
                <a:lnTo>
                  <a:pt x="114" y="80"/>
                </a:lnTo>
                <a:lnTo>
                  <a:pt x="114" y="85"/>
                </a:lnTo>
                <a:lnTo>
                  <a:pt x="112" y="90"/>
                </a:lnTo>
                <a:lnTo>
                  <a:pt x="111" y="95"/>
                </a:lnTo>
                <a:lnTo>
                  <a:pt x="111" y="100"/>
                </a:lnTo>
                <a:lnTo>
                  <a:pt x="109" y="105"/>
                </a:lnTo>
                <a:lnTo>
                  <a:pt x="108" y="111"/>
                </a:lnTo>
                <a:lnTo>
                  <a:pt x="108" y="116"/>
                </a:lnTo>
                <a:lnTo>
                  <a:pt x="106" y="121"/>
                </a:lnTo>
                <a:lnTo>
                  <a:pt x="106" y="128"/>
                </a:lnTo>
                <a:lnTo>
                  <a:pt x="104" y="133"/>
                </a:lnTo>
                <a:lnTo>
                  <a:pt x="103" y="139"/>
                </a:lnTo>
                <a:lnTo>
                  <a:pt x="101" y="146"/>
                </a:lnTo>
                <a:lnTo>
                  <a:pt x="101" y="150"/>
                </a:lnTo>
                <a:lnTo>
                  <a:pt x="98" y="157"/>
                </a:lnTo>
                <a:lnTo>
                  <a:pt x="98" y="164"/>
                </a:lnTo>
                <a:lnTo>
                  <a:pt x="96" y="170"/>
                </a:lnTo>
                <a:lnTo>
                  <a:pt x="94" y="177"/>
                </a:lnTo>
                <a:lnTo>
                  <a:pt x="93" y="181"/>
                </a:lnTo>
                <a:lnTo>
                  <a:pt x="91" y="188"/>
                </a:lnTo>
                <a:lnTo>
                  <a:pt x="88" y="195"/>
                </a:lnTo>
                <a:lnTo>
                  <a:pt x="86" y="201"/>
                </a:lnTo>
                <a:lnTo>
                  <a:pt x="85" y="208"/>
                </a:lnTo>
                <a:lnTo>
                  <a:pt x="83" y="214"/>
                </a:lnTo>
                <a:lnTo>
                  <a:pt x="80" y="221"/>
                </a:lnTo>
                <a:lnTo>
                  <a:pt x="78" y="227"/>
                </a:lnTo>
                <a:lnTo>
                  <a:pt x="77" y="234"/>
                </a:lnTo>
                <a:lnTo>
                  <a:pt x="73" y="242"/>
                </a:lnTo>
                <a:lnTo>
                  <a:pt x="72" y="248"/>
                </a:lnTo>
                <a:lnTo>
                  <a:pt x="70" y="255"/>
                </a:lnTo>
                <a:lnTo>
                  <a:pt x="67" y="261"/>
                </a:lnTo>
                <a:lnTo>
                  <a:pt x="64" y="270"/>
                </a:lnTo>
                <a:lnTo>
                  <a:pt x="62" y="276"/>
                </a:lnTo>
                <a:lnTo>
                  <a:pt x="60" y="284"/>
                </a:lnTo>
                <a:lnTo>
                  <a:pt x="57" y="291"/>
                </a:lnTo>
                <a:lnTo>
                  <a:pt x="54" y="299"/>
                </a:lnTo>
                <a:lnTo>
                  <a:pt x="50" y="305"/>
                </a:lnTo>
                <a:lnTo>
                  <a:pt x="49" y="314"/>
                </a:lnTo>
                <a:lnTo>
                  <a:pt x="47" y="320"/>
                </a:lnTo>
                <a:lnTo>
                  <a:pt x="44" y="328"/>
                </a:lnTo>
                <a:lnTo>
                  <a:pt x="42" y="336"/>
                </a:lnTo>
                <a:lnTo>
                  <a:pt x="42" y="345"/>
                </a:lnTo>
                <a:lnTo>
                  <a:pt x="39" y="353"/>
                </a:lnTo>
                <a:lnTo>
                  <a:pt x="37" y="361"/>
                </a:lnTo>
                <a:lnTo>
                  <a:pt x="36" y="369"/>
                </a:lnTo>
                <a:lnTo>
                  <a:pt x="36" y="379"/>
                </a:lnTo>
                <a:lnTo>
                  <a:pt x="34" y="387"/>
                </a:lnTo>
                <a:lnTo>
                  <a:pt x="34" y="395"/>
                </a:lnTo>
                <a:lnTo>
                  <a:pt x="33" y="403"/>
                </a:lnTo>
                <a:lnTo>
                  <a:pt x="33" y="413"/>
                </a:lnTo>
                <a:lnTo>
                  <a:pt x="33" y="421"/>
                </a:lnTo>
                <a:lnTo>
                  <a:pt x="31" y="429"/>
                </a:lnTo>
                <a:lnTo>
                  <a:pt x="31" y="437"/>
                </a:lnTo>
                <a:lnTo>
                  <a:pt x="31" y="447"/>
                </a:lnTo>
                <a:lnTo>
                  <a:pt x="31" y="455"/>
                </a:lnTo>
                <a:lnTo>
                  <a:pt x="31" y="464"/>
                </a:lnTo>
                <a:lnTo>
                  <a:pt x="31" y="472"/>
                </a:lnTo>
                <a:lnTo>
                  <a:pt x="31" y="482"/>
                </a:lnTo>
                <a:lnTo>
                  <a:pt x="31" y="490"/>
                </a:lnTo>
                <a:lnTo>
                  <a:pt x="31" y="498"/>
                </a:lnTo>
                <a:lnTo>
                  <a:pt x="31" y="506"/>
                </a:lnTo>
                <a:lnTo>
                  <a:pt x="33" y="516"/>
                </a:lnTo>
                <a:lnTo>
                  <a:pt x="33" y="522"/>
                </a:lnTo>
                <a:lnTo>
                  <a:pt x="33" y="532"/>
                </a:lnTo>
                <a:lnTo>
                  <a:pt x="33" y="540"/>
                </a:lnTo>
                <a:lnTo>
                  <a:pt x="34" y="548"/>
                </a:lnTo>
                <a:lnTo>
                  <a:pt x="34" y="555"/>
                </a:lnTo>
                <a:lnTo>
                  <a:pt x="36" y="563"/>
                </a:lnTo>
                <a:lnTo>
                  <a:pt x="36" y="571"/>
                </a:lnTo>
                <a:lnTo>
                  <a:pt x="36" y="578"/>
                </a:lnTo>
                <a:lnTo>
                  <a:pt x="37" y="584"/>
                </a:lnTo>
                <a:lnTo>
                  <a:pt x="37" y="592"/>
                </a:lnTo>
                <a:lnTo>
                  <a:pt x="39" y="599"/>
                </a:lnTo>
                <a:lnTo>
                  <a:pt x="39" y="607"/>
                </a:lnTo>
                <a:lnTo>
                  <a:pt x="41" y="614"/>
                </a:lnTo>
                <a:lnTo>
                  <a:pt x="41" y="620"/>
                </a:lnTo>
                <a:lnTo>
                  <a:pt x="42" y="625"/>
                </a:lnTo>
                <a:lnTo>
                  <a:pt x="42" y="632"/>
                </a:lnTo>
                <a:lnTo>
                  <a:pt x="44" y="638"/>
                </a:lnTo>
                <a:lnTo>
                  <a:pt x="46" y="643"/>
                </a:lnTo>
                <a:lnTo>
                  <a:pt x="46" y="649"/>
                </a:lnTo>
                <a:lnTo>
                  <a:pt x="47" y="654"/>
                </a:lnTo>
                <a:lnTo>
                  <a:pt x="47" y="659"/>
                </a:lnTo>
                <a:lnTo>
                  <a:pt x="49" y="664"/>
                </a:lnTo>
                <a:lnTo>
                  <a:pt x="49" y="667"/>
                </a:lnTo>
                <a:lnTo>
                  <a:pt x="50" y="672"/>
                </a:lnTo>
                <a:lnTo>
                  <a:pt x="50" y="677"/>
                </a:lnTo>
                <a:lnTo>
                  <a:pt x="50" y="680"/>
                </a:lnTo>
                <a:lnTo>
                  <a:pt x="50" y="684"/>
                </a:lnTo>
                <a:lnTo>
                  <a:pt x="52" y="687"/>
                </a:lnTo>
                <a:lnTo>
                  <a:pt x="54" y="692"/>
                </a:lnTo>
                <a:lnTo>
                  <a:pt x="54" y="695"/>
                </a:lnTo>
                <a:lnTo>
                  <a:pt x="54" y="697"/>
                </a:lnTo>
                <a:lnTo>
                  <a:pt x="55" y="698"/>
                </a:lnTo>
                <a:lnTo>
                  <a:pt x="55" y="69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8680" y="4683240"/>
            <a:ext cx="98640" cy="573120"/>
          </a:xfrm>
          <a:custGeom>
            <a:avLst/>
            <a:gdLst/>
            <a:ahLst/>
            <a:rect l="l" t="t" r="r" b="b"/>
            <a:pathLst>
              <a:path w="123" h="722">
                <a:moveTo>
                  <a:pt x="50" y="0"/>
                </a:moveTo>
                <a:lnTo>
                  <a:pt x="123" y="60"/>
                </a:lnTo>
                <a:lnTo>
                  <a:pt x="122" y="62"/>
                </a:lnTo>
                <a:lnTo>
                  <a:pt x="122" y="67"/>
                </a:lnTo>
                <a:lnTo>
                  <a:pt x="120" y="70"/>
                </a:lnTo>
                <a:lnTo>
                  <a:pt x="119" y="75"/>
                </a:lnTo>
                <a:lnTo>
                  <a:pt x="119" y="80"/>
                </a:lnTo>
                <a:lnTo>
                  <a:pt x="119" y="86"/>
                </a:lnTo>
                <a:lnTo>
                  <a:pt x="117" y="91"/>
                </a:lnTo>
                <a:lnTo>
                  <a:pt x="115" y="98"/>
                </a:lnTo>
                <a:lnTo>
                  <a:pt x="114" y="101"/>
                </a:lnTo>
                <a:lnTo>
                  <a:pt x="114" y="106"/>
                </a:lnTo>
                <a:lnTo>
                  <a:pt x="114" y="109"/>
                </a:lnTo>
                <a:lnTo>
                  <a:pt x="114" y="114"/>
                </a:lnTo>
                <a:lnTo>
                  <a:pt x="112" y="117"/>
                </a:lnTo>
                <a:lnTo>
                  <a:pt x="112" y="120"/>
                </a:lnTo>
                <a:lnTo>
                  <a:pt x="110" y="125"/>
                </a:lnTo>
                <a:lnTo>
                  <a:pt x="110" y="130"/>
                </a:lnTo>
                <a:lnTo>
                  <a:pt x="110" y="133"/>
                </a:lnTo>
                <a:lnTo>
                  <a:pt x="110" y="138"/>
                </a:lnTo>
                <a:lnTo>
                  <a:pt x="109" y="143"/>
                </a:lnTo>
                <a:lnTo>
                  <a:pt x="109" y="148"/>
                </a:lnTo>
                <a:lnTo>
                  <a:pt x="109" y="153"/>
                </a:lnTo>
                <a:lnTo>
                  <a:pt x="107" y="158"/>
                </a:lnTo>
                <a:lnTo>
                  <a:pt x="107" y="163"/>
                </a:lnTo>
                <a:lnTo>
                  <a:pt x="107" y="168"/>
                </a:lnTo>
                <a:lnTo>
                  <a:pt x="107" y="173"/>
                </a:lnTo>
                <a:lnTo>
                  <a:pt x="106" y="177"/>
                </a:lnTo>
                <a:lnTo>
                  <a:pt x="106" y="182"/>
                </a:lnTo>
                <a:lnTo>
                  <a:pt x="106" y="189"/>
                </a:lnTo>
                <a:lnTo>
                  <a:pt x="106" y="192"/>
                </a:lnTo>
                <a:lnTo>
                  <a:pt x="106" y="199"/>
                </a:lnTo>
                <a:lnTo>
                  <a:pt x="104" y="204"/>
                </a:lnTo>
                <a:lnTo>
                  <a:pt x="104" y="210"/>
                </a:lnTo>
                <a:lnTo>
                  <a:pt x="104" y="215"/>
                </a:lnTo>
                <a:lnTo>
                  <a:pt x="104" y="220"/>
                </a:lnTo>
                <a:lnTo>
                  <a:pt x="104" y="225"/>
                </a:lnTo>
                <a:lnTo>
                  <a:pt x="106" y="231"/>
                </a:lnTo>
                <a:lnTo>
                  <a:pt x="106" y="236"/>
                </a:lnTo>
                <a:lnTo>
                  <a:pt x="106" y="241"/>
                </a:lnTo>
                <a:lnTo>
                  <a:pt x="106" y="246"/>
                </a:lnTo>
                <a:lnTo>
                  <a:pt x="106" y="252"/>
                </a:lnTo>
                <a:lnTo>
                  <a:pt x="106" y="257"/>
                </a:lnTo>
                <a:lnTo>
                  <a:pt x="106" y="262"/>
                </a:lnTo>
                <a:lnTo>
                  <a:pt x="107" y="267"/>
                </a:lnTo>
                <a:lnTo>
                  <a:pt x="107" y="274"/>
                </a:lnTo>
                <a:lnTo>
                  <a:pt x="107" y="279"/>
                </a:lnTo>
                <a:lnTo>
                  <a:pt x="107" y="283"/>
                </a:lnTo>
                <a:lnTo>
                  <a:pt x="109" y="288"/>
                </a:lnTo>
                <a:lnTo>
                  <a:pt x="109" y="293"/>
                </a:lnTo>
                <a:lnTo>
                  <a:pt x="110" y="298"/>
                </a:lnTo>
                <a:lnTo>
                  <a:pt x="110" y="303"/>
                </a:lnTo>
                <a:lnTo>
                  <a:pt x="112" y="308"/>
                </a:lnTo>
                <a:lnTo>
                  <a:pt x="114" y="313"/>
                </a:lnTo>
                <a:lnTo>
                  <a:pt x="114" y="318"/>
                </a:lnTo>
                <a:lnTo>
                  <a:pt x="115" y="323"/>
                </a:lnTo>
                <a:lnTo>
                  <a:pt x="115" y="327"/>
                </a:lnTo>
                <a:lnTo>
                  <a:pt x="117" y="334"/>
                </a:lnTo>
                <a:lnTo>
                  <a:pt x="117" y="339"/>
                </a:lnTo>
                <a:lnTo>
                  <a:pt x="117" y="344"/>
                </a:lnTo>
                <a:lnTo>
                  <a:pt x="119" y="350"/>
                </a:lnTo>
                <a:lnTo>
                  <a:pt x="119" y="357"/>
                </a:lnTo>
                <a:lnTo>
                  <a:pt x="119" y="363"/>
                </a:lnTo>
                <a:lnTo>
                  <a:pt x="119" y="368"/>
                </a:lnTo>
                <a:lnTo>
                  <a:pt x="119" y="375"/>
                </a:lnTo>
                <a:lnTo>
                  <a:pt x="119" y="383"/>
                </a:lnTo>
                <a:lnTo>
                  <a:pt x="117" y="389"/>
                </a:lnTo>
                <a:lnTo>
                  <a:pt x="117" y="396"/>
                </a:lnTo>
                <a:lnTo>
                  <a:pt x="117" y="403"/>
                </a:lnTo>
                <a:lnTo>
                  <a:pt x="117" y="411"/>
                </a:lnTo>
                <a:lnTo>
                  <a:pt x="115" y="417"/>
                </a:lnTo>
                <a:lnTo>
                  <a:pt x="114" y="425"/>
                </a:lnTo>
                <a:lnTo>
                  <a:pt x="114" y="432"/>
                </a:lnTo>
                <a:lnTo>
                  <a:pt x="114" y="440"/>
                </a:lnTo>
                <a:lnTo>
                  <a:pt x="112" y="447"/>
                </a:lnTo>
                <a:lnTo>
                  <a:pt x="110" y="455"/>
                </a:lnTo>
                <a:lnTo>
                  <a:pt x="110" y="461"/>
                </a:lnTo>
                <a:lnTo>
                  <a:pt x="109" y="469"/>
                </a:lnTo>
                <a:lnTo>
                  <a:pt x="107" y="478"/>
                </a:lnTo>
                <a:lnTo>
                  <a:pt x="107" y="484"/>
                </a:lnTo>
                <a:lnTo>
                  <a:pt x="106" y="491"/>
                </a:lnTo>
                <a:lnTo>
                  <a:pt x="104" y="499"/>
                </a:lnTo>
                <a:lnTo>
                  <a:pt x="104" y="505"/>
                </a:lnTo>
                <a:lnTo>
                  <a:pt x="102" y="513"/>
                </a:lnTo>
                <a:lnTo>
                  <a:pt x="101" y="520"/>
                </a:lnTo>
                <a:lnTo>
                  <a:pt x="101" y="528"/>
                </a:lnTo>
                <a:lnTo>
                  <a:pt x="97" y="535"/>
                </a:lnTo>
                <a:lnTo>
                  <a:pt x="97" y="541"/>
                </a:lnTo>
                <a:lnTo>
                  <a:pt x="96" y="548"/>
                </a:lnTo>
                <a:lnTo>
                  <a:pt x="94" y="556"/>
                </a:lnTo>
                <a:lnTo>
                  <a:pt x="92" y="562"/>
                </a:lnTo>
                <a:lnTo>
                  <a:pt x="91" y="569"/>
                </a:lnTo>
                <a:lnTo>
                  <a:pt x="89" y="575"/>
                </a:lnTo>
                <a:lnTo>
                  <a:pt x="89" y="582"/>
                </a:lnTo>
                <a:lnTo>
                  <a:pt x="88" y="587"/>
                </a:lnTo>
                <a:lnTo>
                  <a:pt x="86" y="593"/>
                </a:lnTo>
                <a:lnTo>
                  <a:pt x="84" y="598"/>
                </a:lnTo>
                <a:lnTo>
                  <a:pt x="83" y="605"/>
                </a:lnTo>
                <a:lnTo>
                  <a:pt x="81" y="610"/>
                </a:lnTo>
                <a:lnTo>
                  <a:pt x="81" y="616"/>
                </a:lnTo>
                <a:lnTo>
                  <a:pt x="79" y="621"/>
                </a:lnTo>
                <a:lnTo>
                  <a:pt x="79" y="626"/>
                </a:lnTo>
                <a:lnTo>
                  <a:pt x="78" y="631"/>
                </a:lnTo>
                <a:lnTo>
                  <a:pt x="76" y="636"/>
                </a:lnTo>
                <a:lnTo>
                  <a:pt x="75" y="639"/>
                </a:lnTo>
                <a:lnTo>
                  <a:pt x="75" y="642"/>
                </a:lnTo>
                <a:lnTo>
                  <a:pt x="73" y="645"/>
                </a:lnTo>
                <a:lnTo>
                  <a:pt x="73" y="649"/>
                </a:lnTo>
                <a:lnTo>
                  <a:pt x="71" y="652"/>
                </a:lnTo>
                <a:lnTo>
                  <a:pt x="71" y="655"/>
                </a:lnTo>
                <a:lnTo>
                  <a:pt x="70" y="660"/>
                </a:lnTo>
                <a:lnTo>
                  <a:pt x="70" y="665"/>
                </a:lnTo>
                <a:lnTo>
                  <a:pt x="70" y="667"/>
                </a:lnTo>
                <a:lnTo>
                  <a:pt x="70" y="668"/>
                </a:lnTo>
                <a:lnTo>
                  <a:pt x="0" y="722"/>
                </a:lnTo>
                <a:lnTo>
                  <a:pt x="0" y="721"/>
                </a:lnTo>
                <a:lnTo>
                  <a:pt x="0" y="719"/>
                </a:lnTo>
                <a:lnTo>
                  <a:pt x="0" y="716"/>
                </a:lnTo>
                <a:lnTo>
                  <a:pt x="1" y="712"/>
                </a:lnTo>
                <a:lnTo>
                  <a:pt x="1" y="707"/>
                </a:lnTo>
                <a:lnTo>
                  <a:pt x="4" y="703"/>
                </a:lnTo>
                <a:lnTo>
                  <a:pt x="6" y="696"/>
                </a:lnTo>
                <a:lnTo>
                  <a:pt x="9" y="690"/>
                </a:lnTo>
                <a:lnTo>
                  <a:pt x="9" y="685"/>
                </a:lnTo>
                <a:lnTo>
                  <a:pt x="11" y="681"/>
                </a:lnTo>
                <a:lnTo>
                  <a:pt x="13" y="676"/>
                </a:lnTo>
                <a:lnTo>
                  <a:pt x="13" y="673"/>
                </a:lnTo>
                <a:lnTo>
                  <a:pt x="14" y="668"/>
                </a:lnTo>
                <a:lnTo>
                  <a:pt x="16" y="663"/>
                </a:lnTo>
                <a:lnTo>
                  <a:pt x="18" y="659"/>
                </a:lnTo>
                <a:lnTo>
                  <a:pt x="19" y="654"/>
                </a:lnTo>
                <a:lnTo>
                  <a:pt x="21" y="649"/>
                </a:lnTo>
                <a:lnTo>
                  <a:pt x="22" y="642"/>
                </a:lnTo>
                <a:lnTo>
                  <a:pt x="22" y="637"/>
                </a:lnTo>
                <a:lnTo>
                  <a:pt x="26" y="632"/>
                </a:lnTo>
                <a:lnTo>
                  <a:pt x="26" y="626"/>
                </a:lnTo>
                <a:lnTo>
                  <a:pt x="27" y="621"/>
                </a:lnTo>
                <a:lnTo>
                  <a:pt x="29" y="615"/>
                </a:lnTo>
                <a:lnTo>
                  <a:pt x="31" y="610"/>
                </a:lnTo>
                <a:lnTo>
                  <a:pt x="32" y="603"/>
                </a:lnTo>
                <a:lnTo>
                  <a:pt x="32" y="597"/>
                </a:lnTo>
                <a:lnTo>
                  <a:pt x="34" y="590"/>
                </a:lnTo>
                <a:lnTo>
                  <a:pt x="35" y="584"/>
                </a:lnTo>
                <a:lnTo>
                  <a:pt x="37" y="577"/>
                </a:lnTo>
                <a:lnTo>
                  <a:pt x="39" y="572"/>
                </a:lnTo>
                <a:lnTo>
                  <a:pt x="40" y="566"/>
                </a:lnTo>
                <a:lnTo>
                  <a:pt x="40" y="559"/>
                </a:lnTo>
                <a:lnTo>
                  <a:pt x="42" y="553"/>
                </a:lnTo>
                <a:lnTo>
                  <a:pt x="42" y="546"/>
                </a:lnTo>
                <a:lnTo>
                  <a:pt x="44" y="539"/>
                </a:lnTo>
                <a:lnTo>
                  <a:pt x="45" y="533"/>
                </a:lnTo>
                <a:lnTo>
                  <a:pt x="47" y="525"/>
                </a:lnTo>
                <a:lnTo>
                  <a:pt x="47" y="520"/>
                </a:lnTo>
                <a:lnTo>
                  <a:pt x="48" y="512"/>
                </a:lnTo>
                <a:lnTo>
                  <a:pt x="50" y="507"/>
                </a:lnTo>
                <a:lnTo>
                  <a:pt x="50" y="499"/>
                </a:lnTo>
                <a:lnTo>
                  <a:pt x="50" y="492"/>
                </a:lnTo>
                <a:lnTo>
                  <a:pt x="50" y="486"/>
                </a:lnTo>
                <a:lnTo>
                  <a:pt x="52" y="479"/>
                </a:lnTo>
                <a:lnTo>
                  <a:pt x="52" y="473"/>
                </a:lnTo>
                <a:lnTo>
                  <a:pt x="52" y="466"/>
                </a:lnTo>
                <a:lnTo>
                  <a:pt x="52" y="460"/>
                </a:lnTo>
                <a:lnTo>
                  <a:pt x="52" y="453"/>
                </a:lnTo>
                <a:lnTo>
                  <a:pt x="52" y="447"/>
                </a:lnTo>
                <a:lnTo>
                  <a:pt x="52" y="440"/>
                </a:lnTo>
                <a:lnTo>
                  <a:pt x="52" y="433"/>
                </a:lnTo>
                <a:lnTo>
                  <a:pt x="52" y="429"/>
                </a:lnTo>
                <a:lnTo>
                  <a:pt x="50" y="422"/>
                </a:lnTo>
                <a:lnTo>
                  <a:pt x="50" y="416"/>
                </a:lnTo>
                <a:lnTo>
                  <a:pt x="50" y="411"/>
                </a:lnTo>
                <a:lnTo>
                  <a:pt x="50" y="406"/>
                </a:lnTo>
                <a:lnTo>
                  <a:pt x="48" y="399"/>
                </a:lnTo>
                <a:lnTo>
                  <a:pt x="47" y="393"/>
                </a:lnTo>
                <a:lnTo>
                  <a:pt x="47" y="388"/>
                </a:lnTo>
                <a:lnTo>
                  <a:pt x="45" y="381"/>
                </a:lnTo>
                <a:lnTo>
                  <a:pt x="44" y="375"/>
                </a:lnTo>
                <a:lnTo>
                  <a:pt x="44" y="370"/>
                </a:lnTo>
                <a:lnTo>
                  <a:pt x="42" y="363"/>
                </a:lnTo>
                <a:lnTo>
                  <a:pt x="42" y="357"/>
                </a:lnTo>
                <a:lnTo>
                  <a:pt x="40" y="352"/>
                </a:lnTo>
                <a:lnTo>
                  <a:pt x="40" y="345"/>
                </a:lnTo>
                <a:lnTo>
                  <a:pt x="40" y="341"/>
                </a:lnTo>
                <a:lnTo>
                  <a:pt x="39" y="334"/>
                </a:lnTo>
                <a:lnTo>
                  <a:pt x="39" y="327"/>
                </a:lnTo>
                <a:lnTo>
                  <a:pt x="37" y="323"/>
                </a:lnTo>
                <a:lnTo>
                  <a:pt x="37" y="316"/>
                </a:lnTo>
                <a:lnTo>
                  <a:pt x="37" y="310"/>
                </a:lnTo>
                <a:lnTo>
                  <a:pt x="35" y="305"/>
                </a:lnTo>
                <a:lnTo>
                  <a:pt x="35" y="298"/>
                </a:lnTo>
                <a:lnTo>
                  <a:pt x="34" y="292"/>
                </a:lnTo>
                <a:lnTo>
                  <a:pt x="34" y="287"/>
                </a:lnTo>
                <a:lnTo>
                  <a:pt x="32" y="280"/>
                </a:lnTo>
                <a:lnTo>
                  <a:pt x="32" y="275"/>
                </a:lnTo>
                <a:lnTo>
                  <a:pt x="32" y="269"/>
                </a:lnTo>
                <a:lnTo>
                  <a:pt x="32" y="262"/>
                </a:lnTo>
                <a:lnTo>
                  <a:pt x="31" y="257"/>
                </a:lnTo>
                <a:lnTo>
                  <a:pt x="31" y="251"/>
                </a:lnTo>
                <a:lnTo>
                  <a:pt x="29" y="244"/>
                </a:lnTo>
                <a:lnTo>
                  <a:pt x="29" y="239"/>
                </a:lnTo>
                <a:lnTo>
                  <a:pt x="29" y="235"/>
                </a:lnTo>
                <a:lnTo>
                  <a:pt x="29" y="228"/>
                </a:lnTo>
                <a:lnTo>
                  <a:pt x="29" y="223"/>
                </a:lnTo>
                <a:lnTo>
                  <a:pt x="29" y="218"/>
                </a:lnTo>
                <a:lnTo>
                  <a:pt x="29" y="212"/>
                </a:lnTo>
                <a:lnTo>
                  <a:pt x="27" y="207"/>
                </a:lnTo>
                <a:lnTo>
                  <a:pt x="27" y="200"/>
                </a:lnTo>
                <a:lnTo>
                  <a:pt x="27" y="195"/>
                </a:lnTo>
                <a:lnTo>
                  <a:pt x="27" y="189"/>
                </a:lnTo>
                <a:lnTo>
                  <a:pt x="27" y="184"/>
                </a:lnTo>
                <a:lnTo>
                  <a:pt x="27" y="179"/>
                </a:lnTo>
                <a:lnTo>
                  <a:pt x="27" y="173"/>
                </a:lnTo>
                <a:lnTo>
                  <a:pt x="26" y="168"/>
                </a:lnTo>
                <a:lnTo>
                  <a:pt x="26" y="161"/>
                </a:lnTo>
                <a:lnTo>
                  <a:pt x="26" y="156"/>
                </a:lnTo>
                <a:lnTo>
                  <a:pt x="26" y="151"/>
                </a:lnTo>
                <a:lnTo>
                  <a:pt x="26" y="145"/>
                </a:lnTo>
                <a:lnTo>
                  <a:pt x="26" y="142"/>
                </a:lnTo>
                <a:lnTo>
                  <a:pt x="26" y="135"/>
                </a:lnTo>
                <a:lnTo>
                  <a:pt x="27" y="132"/>
                </a:lnTo>
                <a:lnTo>
                  <a:pt x="27" y="125"/>
                </a:lnTo>
                <a:lnTo>
                  <a:pt x="27" y="120"/>
                </a:lnTo>
                <a:lnTo>
                  <a:pt x="27" y="116"/>
                </a:lnTo>
                <a:lnTo>
                  <a:pt x="27" y="111"/>
                </a:lnTo>
                <a:lnTo>
                  <a:pt x="27" y="106"/>
                </a:lnTo>
                <a:lnTo>
                  <a:pt x="29" y="101"/>
                </a:lnTo>
                <a:lnTo>
                  <a:pt x="29" y="96"/>
                </a:lnTo>
                <a:lnTo>
                  <a:pt x="29" y="91"/>
                </a:lnTo>
                <a:lnTo>
                  <a:pt x="29" y="86"/>
                </a:lnTo>
                <a:lnTo>
                  <a:pt x="31" y="81"/>
                </a:lnTo>
                <a:lnTo>
                  <a:pt x="31" y="76"/>
                </a:lnTo>
                <a:lnTo>
                  <a:pt x="32" y="73"/>
                </a:lnTo>
                <a:lnTo>
                  <a:pt x="32" y="68"/>
                </a:lnTo>
                <a:lnTo>
                  <a:pt x="34" y="63"/>
                </a:lnTo>
                <a:lnTo>
                  <a:pt x="35" y="60"/>
                </a:lnTo>
                <a:lnTo>
                  <a:pt x="35" y="55"/>
                </a:lnTo>
                <a:lnTo>
                  <a:pt x="50" y="0"/>
                </a:lnTo>
                <a:lnTo>
                  <a:pt x="5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850080" y="5224320"/>
            <a:ext cx="436680" cy="365400"/>
          </a:xfrm>
          <a:custGeom>
            <a:avLst/>
            <a:gdLst/>
            <a:ahLst/>
            <a:rect l="l" t="t" r="r" b="b"/>
            <a:pathLst>
              <a:path w="551" h="460">
                <a:moveTo>
                  <a:pt x="0" y="33"/>
                </a:moveTo>
                <a:lnTo>
                  <a:pt x="51" y="0"/>
                </a:lnTo>
                <a:lnTo>
                  <a:pt x="51" y="0"/>
                </a:lnTo>
                <a:lnTo>
                  <a:pt x="54" y="0"/>
                </a:lnTo>
                <a:lnTo>
                  <a:pt x="59" y="2"/>
                </a:lnTo>
                <a:lnTo>
                  <a:pt x="65" y="5"/>
                </a:lnTo>
                <a:lnTo>
                  <a:pt x="69" y="5"/>
                </a:lnTo>
                <a:lnTo>
                  <a:pt x="72" y="7"/>
                </a:lnTo>
                <a:lnTo>
                  <a:pt x="77" y="9"/>
                </a:lnTo>
                <a:lnTo>
                  <a:pt x="82" y="12"/>
                </a:lnTo>
                <a:lnTo>
                  <a:pt x="85" y="13"/>
                </a:lnTo>
                <a:lnTo>
                  <a:pt x="91" y="17"/>
                </a:lnTo>
                <a:lnTo>
                  <a:pt x="95" y="20"/>
                </a:lnTo>
                <a:lnTo>
                  <a:pt x="101" y="23"/>
                </a:lnTo>
                <a:lnTo>
                  <a:pt x="106" y="26"/>
                </a:lnTo>
                <a:lnTo>
                  <a:pt x="111" y="31"/>
                </a:lnTo>
                <a:lnTo>
                  <a:pt x="116" y="35"/>
                </a:lnTo>
                <a:lnTo>
                  <a:pt x="122" y="40"/>
                </a:lnTo>
                <a:lnTo>
                  <a:pt x="126" y="44"/>
                </a:lnTo>
                <a:lnTo>
                  <a:pt x="132" y="51"/>
                </a:lnTo>
                <a:lnTo>
                  <a:pt x="137" y="57"/>
                </a:lnTo>
                <a:lnTo>
                  <a:pt x="142" y="64"/>
                </a:lnTo>
                <a:lnTo>
                  <a:pt x="144" y="67"/>
                </a:lnTo>
                <a:lnTo>
                  <a:pt x="147" y="70"/>
                </a:lnTo>
                <a:lnTo>
                  <a:pt x="148" y="74"/>
                </a:lnTo>
                <a:lnTo>
                  <a:pt x="152" y="79"/>
                </a:lnTo>
                <a:lnTo>
                  <a:pt x="153" y="82"/>
                </a:lnTo>
                <a:lnTo>
                  <a:pt x="155" y="85"/>
                </a:lnTo>
                <a:lnTo>
                  <a:pt x="157" y="90"/>
                </a:lnTo>
                <a:lnTo>
                  <a:pt x="160" y="95"/>
                </a:lnTo>
                <a:lnTo>
                  <a:pt x="161" y="98"/>
                </a:lnTo>
                <a:lnTo>
                  <a:pt x="163" y="103"/>
                </a:lnTo>
                <a:lnTo>
                  <a:pt x="165" y="108"/>
                </a:lnTo>
                <a:lnTo>
                  <a:pt x="166" y="113"/>
                </a:lnTo>
                <a:lnTo>
                  <a:pt x="168" y="118"/>
                </a:lnTo>
                <a:lnTo>
                  <a:pt x="170" y="123"/>
                </a:lnTo>
                <a:lnTo>
                  <a:pt x="171" y="129"/>
                </a:lnTo>
                <a:lnTo>
                  <a:pt x="173" y="134"/>
                </a:lnTo>
                <a:lnTo>
                  <a:pt x="175" y="139"/>
                </a:lnTo>
                <a:lnTo>
                  <a:pt x="176" y="144"/>
                </a:lnTo>
                <a:lnTo>
                  <a:pt x="178" y="149"/>
                </a:lnTo>
                <a:lnTo>
                  <a:pt x="181" y="155"/>
                </a:lnTo>
                <a:lnTo>
                  <a:pt x="184" y="160"/>
                </a:lnTo>
                <a:lnTo>
                  <a:pt x="188" y="167"/>
                </a:lnTo>
                <a:lnTo>
                  <a:pt x="191" y="172"/>
                </a:lnTo>
                <a:lnTo>
                  <a:pt x="196" y="178"/>
                </a:lnTo>
                <a:lnTo>
                  <a:pt x="201" y="183"/>
                </a:lnTo>
                <a:lnTo>
                  <a:pt x="204" y="188"/>
                </a:lnTo>
                <a:lnTo>
                  <a:pt x="209" y="194"/>
                </a:lnTo>
                <a:lnTo>
                  <a:pt x="215" y="199"/>
                </a:lnTo>
                <a:lnTo>
                  <a:pt x="220" y="204"/>
                </a:lnTo>
                <a:lnTo>
                  <a:pt x="225" y="211"/>
                </a:lnTo>
                <a:lnTo>
                  <a:pt x="232" y="216"/>
                </a:lnTo>
                <a:lnTo>
                  <a:pt x="238" y="222"/>
                </a:lnTo>
                <a:lnTo>
                  <a:pt x="245" y="227"/>
                </a:lnTo>
                <a:lnTo>
                  <a:pt x="249" y="232"/>
                </a:lnTo>
                <a:lnTo>
                  <a:pt x="256" y="238"/>
                </a:lnTo>
                <a:lnTo>
                  <a:pt x="264" y="243"/>
                </a:lnTo>
                <a:lnTo>
                  <a:pt x="271" y="248"/>
                </a:lnTo>
                <a:lnTo>
                  <a:pt x="277" y="255"/>
                </a:lnTo>
                <a:lnTo>
                  <a:pt x="284" y="260"/>
                </a:lnTo>
                <a:lnTo>
                  <a:pt x="292" y="266"/>
                </a:lnTo>
                <a:lnTo>
                  <a:pt x="300" y="269"/>
                </a:lnTo>
                <a:lnTo>
                  <a:pt x="307" y="276"/>
                </a:lnTo>
                <a:lnTo>
                  <a:pt x="313" y="281"/>
                </a:lnTo>
                <a:lnTo>
                  <a:pt x="321" y="286"/>
                </a:lnTo>
                <a:lnTo>
                  <a:pt x="329" y="291"/>
                </a:lnTo>
                <a:lnTo>
                  <a:pt x="336" y="296"/>
                </a:lnTo>
                <a:lnTo>
                  <a:pt x="344" y="300"/>
                </a:lnTo>
                <a:lnTo>
                  <a:pt x="352" y="305"/>
                </a:lnTo>
                <a:lnTo>
                  <a:pt x="360" y="310"/>
                </a:lnTo>
                <a:lnTo>
                  <a:pt x="367" y="313"/>
                </a:lnTo>
                <a:lnTo>
                  <a:pt x="375" y="318"/>
                </a:lnTo>
                <a:lnTo>
                  <a:pt x="381" y="323"/>
                </a:lnTo>
                <a:lnTo>
                  <a:pt x="388" y="328"/>
                </a:lnTo>
                <a:lnTo>
                  <a:pt x="396" y="331"/>
                </a:lnTo>
                <a:lnTo>
                  <a:pt x="403" y="335"/>
                </a:lnTo>
                <a:lnTo>
                  <a:pt x="411" y="340"/>
                </a:lnTo>
                <a:lnTo>
                  <a:pt x="417" y="343"/>
                </a:lnTo>
                <a:lnTo>
                  <a:pt x="424" y="348"/>
                </a:lnTo>
                <a:lnTo>
                  <a:pt x="430" y="351"/>
                </a:lnTo>
                <a:lnTo>
                  <a:pt x="437" y="354"/>
                </a:lnTo>
                <a:lnTo>
                  <a:pt x="442" y="357"/>
                </a:lnTo>
                <a:lnTo>
                  <a:pt x="448" y="361"/>
                </a:lnTo>
                <a:lnTo>
                  <a:pt x="455" y="364"/>
                </a:lnTo>
                <a:lnTo>
                  <a:pt x="461" y="367"/>
                </a:lnTo>
                <a:lnTo>
                  <a:pt x="466" y="369"/>
                </a:lnTo>
                <a:lnTo>
                  <a:pt x="471" y="372"/>
                </a:lnTo>
                <a:lnTo>
                  <a:pt x="476" y="375"/>
                </a:lnTo>
                <a:lnTo>
                  <a:pt x="479" y="377"/>
                </a:lnTo>
                <a:lnTo>
                  <a:pt x="484" y="379"/>
                </a:lnTo>
                <a:lnTo>
                  <a:pt x="487" y="382"/>
                </a:lnTo>
                <a:lnTo>
                  <a:pt x="492" y="384"/>
                </a:lnTo>
                <a:lnTo>
                  <a:pt x="496" y="385"/>
                </a:lnTo>
                <a:lnTo>
                  <a:pt x="500" y="387"/>
                </a:lnTo>
                <a:lnTo>
                  <a:pt x="505" y="390"/>
                </a:lnTo>
                <a:lnTo>
                  <a:pt x="509" y="392"/>
                </a:lnTo>
                <a:lnTo>
                  <a:pt x="510" y="392"/>
                </a:lnTo>
                <a:lnTo>
                  <a:pt x="551" y="460"/>
                </a:lnTo>
                <a:lnTo>
                  <a:pt x="549" y="460"/>
                </a:lnTo>
                <a:lnTo>
                  <a:pt x="548" y="460"/>
                </a:lnTo>
                <a:lnTo>
                  <a:pt x="543" y="459"/>
                </a:lnTo>
                <a:lnTo>
                  <a:pt x="538" y="459"/>
                </a:lnTo>
                <a:lnTo>
                  <a:pt x="535" y="459"/>
                </a:lnTo>
                <a:lnTo>
                  <a:pt x="531" y="457"/>
                </a:lnTo>
                <a:lnTo>
                  <a:pt x="528" y="457"/>
                </a:lnTo>
                <a:lnTo>
                  <a:pt x="525" y="455"/>
                </a:lnTo>
                <a:lnTo>
                  <a:pt x="520" y="455"/>
                </a:lnTo>
                <a:lnTo>
                  <a:pt x="515" y="455"/>
                </a:lnTo>
                <a:lnTo>
                  <a:pt x="510" y="454"/>
                </a:lnTo>
                <a:lnTo>
                  <a:pt x="507" y="454"/>
                </a:lnTo>
                <a:lnTo>
                  <a:pt x="500" y="452"/>
                </a:lnTo>
                <a:lnTo>
                  <a:pt x="496" y="450"/>
                </a:lnTo>
                <a:lnTo>
                  <a:pt x="489" y="449"/>
                </a:lnTo>
                <a:lnTo>
                  <a:pt x="484" y="449"/>
                </a:lnTo>
                <a:lnTo>
                  <a:pt x="478" y="447"/>
                </a:lnTo>
                <a:lnTo>
                  <a:pt x="471" y="446"/>
                </a:lnTo>
                <a:lnTo>
                  <a:pt x="465" y="444"/>
                </a:lnTo>
                <a:lnTo>
                  <a:pt x="460" y="442"/>
                </a:lnTo>
                <a:lnTo>
                  <a:pt x="452" y="441"/>
                </a:lnTo>
                <a:lnTo>
                  <a:pt x="445" y="439"/>
                </a:lnTo>
                <a:lnTo>
                  <a:pt x="439" y="437"/>
                </a:lnTo>
                <a:lnTo>
                  <a:pt x="432" y="436"/>
                </a:lnTo>
                <a:lnTo>
                  <a:pt x="424" y="433"/>
                </a:lnTo>
                <a:lnTo>
                  <a:pt x="417" y="431"/>
                </a:lnTo>
                <a:lnTo>
                  <a:pt x="409" y="429"/>
                </a:lnTo>
                <a:lnTo>
                  <a:pt x="403" y="428"/>
                </a:lnTo>
                <a:lnTo>
                  <a:pt x="395" y="423"/>
                </a:lnTo>
                <a:lnTo>
                  <a:pt x="386" y="421"/>
                </a:lnTo>
                <a:lnTo>
                  <a:pt x="378" y="418"/>
                </a:lnTo>
                <a:lnTo>
                  <a:pt x="372" y="416"/>
                </a:lnTo>
                <a:lnTo>
                  <a:pt x="364" y="413"/>
                </a:lnTo>
                <a:lnTo>
                  <a:pt x="355" y="410"/>
                </a:lnTo>
                <a:lnTo>
                  <a:pt x="347" y="406"/>
                </a:lnTo>
                <a:lnTo>
                  <a:pt x="341" y="403"/>
                </a:lnTo>
                <a:lnTo>
                  <a:pt x="333" y="398"/>
                </a:lnTo>
                <a:lnTo>
                  <a:pt x="324" y="395"/>
                </a:lnTo>
                <a:lnTo>
                  <a:pt x="316" y="390"/>
                </a:lnTo>
                <a:lnTo>
                  <a:pt x="310" y="387"/>
                </a:lnTo>
                <a:lnTo>
                  <a:pt x="302" y="382"/>
                </a:lnTo>
                <a:lnTo>
                  <a:pt x="293" y="379"/>
                </a:lnTo>
                <a:lnTo>
                  <a:pt x="285" y="375"/>
                </a:lnTo>
                <a:lnTo>
                  <a:pt x="279" y="371"/>
                </a:lnTo>
                <a:lnTo>
                  <a:pt x="271" y="366"/>
                </a:lnTo>
                <a:lnTo>
                  <a:pt x="264" y="361"/>
                </a:lnTo>
                <a:lnTo>
                  <a:pt x="256" y="354"/>
                </a:lnTo>
                <a:lnTo>
                  <a:pt x="249" y="351"/>
                </a:lnTo>
                <a:lnTo>
                  <a:pt x="241" y="344"/>
                </a:lnTo>
                <a:lnTo>
                  <a:pt x="235" y="340"/>
                </a:lnTo>
                <a:lnTo>
                  <a:pt x="228" y="335"/>
                </a:lnTo>
                <a:lnTo>
                  <a:pt x="223" y="328"/>
                </a:lnTo>
                <a:lnTo>
                  <a:pt x="217" y="322"/>
                </a:lnTo>
                <a:lnTo>
                  <a:pt x="210" y="317"/>
                </a:lnTo>
                <a:lnTo>
                  <a:pt x="204" y="310"/>
                </a:lnTo>
                <a:lnTo>
                  <a:pt x="199" y="304"/>
                </a:lnTo>
                <a:lnTo>
                  <a:pt x="194" y="297"/>
                </a:lnTo>
                <a:lnTo>
                  <a:pt x="188" y="291"/>
                </a:lnTo>
                <a:lnTo>
                  <a:pt x="183" y="282"/>
                </a:lnTo>
                <a:lnTo>
                  <a:pt x="179" y="276"/>
                </a:lnTo>
                <a:lnTo>
                  <a:pt x="173" y="269"/>
                </a:lnTo>
                <a:lnTo>
                  <a:pt x="170" y="261"/>
                </a:lnTo>
                <a:lnTo>
                  <a:pt x="165" y="255"/>
                </a:lnTo>
                <a:lnTo>
                  <a:pt x="160" y="248"/>
                </a:lnTo>
                <a:lnTo>
                  <a:pt x="157" y="242"/>
                </a:lnTo>
                <a:lnTo>
                  <a:pt x="153" y="235"/>
                </a:lnTo>
                <a:lnTo>
                  <a:pt x="150" y="229"/>
                </a:lnTo>
                <a:lnTo>
                  <a:pt x="145" y="224"/>
                </a:lnTo>
                <a:lnTo>
                  <a:pt x="142" y="217"/>
                </a:lnTo>
                <a:lnTo>
                  <a:pt x="139" y="211"/>
                </a:lnTo>
                <a:lnTo>
                  <a:pt x="135" y="206"/>
                </a:lnTo>
                <a:lnTo>
                  <a:pt x="134" y="201"/>
                </a:lnTo>
                <a:lnTo>
                  <a:pt x="131" y="196"/>
                </a:lnTo>
                <a:lnTo>
                  <a:pt x="127" y="191"/>
                </a:lnTo>
                <a:lnTo>
                  <a:pt x="126" y="186"/>
                </a:lnTo>
                <a:lnTo>
                  <a:pt x="122" y="181"/>
                </a:lnTo>
                <a:lnTo>
                  <a:pt x="121" y="176"/>
                </a:lnTo>
                <a:lnTo>
                  <a:pt x="117" y="172"/>
                </a:lnTo>
                <a:lnTo>
                  <a:pt x="116" y="168"/>
                </a:lnTo>
                <a:lnTo>
                  <a:pt x="114" y="163"/>
                </a:lnTo>
                <a:lnTo>
                  <a:pt x="113" y="160"/>
                </a:lnTo>
                <a:lnTo>
                  <a:pt x="109" y="157"/>
                </a:lnTo>
                <a:lnTo>
                  <a:pt x="108" y="152"/>
                </a:lnTo>
                <a:lnTo>
                  <a:pt x="106" y="149"/>
                </a:lnTo>
                <a:lnTo>
                  <a:pt x="103" y="142"/>
                </a:lnTo>
                <a:lnTo>
                  <a:pt x="100" y="136"/>
                </a:lnTo>
                <a:lnTo>
                  <a:pt x="96" y="131"/>
                </a:lnTo>
                <a:lnTo>
                  <a:pt x="95" y="126"/>
                </a:lnTo>
                <a:lnTo>
                  <a:pt x="91" y="119"/>
                </a:lnTo>
                <a:lnTo>
                  <a:pt x="88" y="115"/>
                </a:lnTo>
                <a:lnTo>
                  <a:pt x="87" y="110"/>
                </a:lnTo>
                <a:lnTo>
                  <a:pt x="85" y="105"/>
                </a:lnTo>
                <a:lnTo>
                  <a:pt x="82" y="101"/>
                </a:lnTo>
                <a:lnTo>
                  <a:pt x="78" y="97"/>
                </a:lnTo>
                <a:lnTo>
                  <a:pt x="77" y="93"/>
                </a:lnTo>
                <a:lnTo>
                  <a:pt x="73" y="90"/>
                </a:lnTo>
                <a:lnTo>
                  <a:pt x="70" y="85"/>
                </a:lnTo>
                <a:lnTo>
                  <a:pt x="67" y="82"/>
                </a:lnTo>
                <a:lnTo>
                  <a:pt x="64" y="79"/>
                </a:lnTo>
                <a:lnTo>
                  <a:pt x="60" y="75"/>
                </a:lnTo>
                <a:lnTo>
                  <a:pt x="56" y="70"/>
                </a:lnTo>
                <a:lnTo>
                  <a:pt x="51" y="67"/>
                </a:lnTo>
                <a:lnTo>
                  <a:pt x="46" y="64"/>
                </a:lnTo>
                <a:lnTo>
                  <a:pt x="41" y="61"/>
                </a:lnTo>
                <a:lnTo>
                  <a:pt x="0" y="33"/>
                </a:lnTo>
                <a:lnTo>
                  <a:pt x="0" y="3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889680" y="4165560"/>
            <a:ext cx="219240" cy="358920"/>
          </a:xfrm>
          <a:custGeom>
            <a:avLst/>
            <a:gdLst/>
            <a:ahLst/>
            <a:rect l="l" t="t" r="r" b="b"/>
            <a:pathLst>
              <a:path w="275" h="452">
                <a:moveTo>
                  <a:pt x="37" y="452"/>
                </a:moveTo>
                <a:lnTo>
                  <a:pt x="0" y="410"/>
                </a:lnTo>
                <a:lnTo>
                  <a:pt x="0" y="408"/>
                </a:lnTo>
                <a:lnTo>
                  <a:pt x="0" y="406"/>
                </a:lnTo>
                <a:lnTo>
                  <a:pt x="1" y="400"/>
                </a:lnTo>
                <a:lnTo>
                  <a:pt x="3" y="395"/>
                </a:lnTo>
                <a:lnTo>
                  <a:pt x="3" y="390"/>
                </a:lnTo>
                <a:lnTo>
                  <a:pt x="5" y="387"/>
                </a:lnTo>
                <a:lnTo>
                  <a:pt x="6" y="382"/>
                </a:lnTo>
                <a:lnTo>
                  <a:pt x="8" y="377"/>
                </a:lnTo>
                <a:lnTo>
                  <a:pt x="9" y="372"/>
                </a:lnTo>
                <a:lnTo>
                  <a:pt x="11" y="367"/>
                </a:lnTo>
                <a:lnTo>
                  <a:pt x="13" y="362"/>
                </a:lnTo>
                <a:lnTo>
                  <a:pt x="14" y="356"/>
                </a:lnTo>
                <a:lnTo>
                  <a:pt x="18" y="349"/>
                </a:lnTo>
                <a:lnTo>
                  <a:pt x="19" y="343"/>
                </a:lnTo>
                <a:lnTo>
                  <a:pt x="21" y="336"/>
                </a:lnTo>
                <a:lnTo>
                  <a:pt x="24" y="330"/>
                </a:lnTo>
                <a:lnTo>
                  <a:pt x="26" y="322"/>
                </a:lnTo>
                <a:lnTo>
                  <a:pt x="29" y="315"/>
                </a:lnTo>
                <a:lnTo>
                  <a:pt x="31" y="307"/>
                </a:lnTo>
                <a:lnTo>
                  <a:pt x="36" y="300"/>
                </a:lnTo>
                <a:lnTo>
                  <a:pt x="37" y="291"/>
                </a:lnTo>
                <a:lnTo>
                  <a:pt x="40" y="284"/>
                </a:lnTo>
                <a:lnTo>
                  <a:pt x="44" y="276"/>
                </a:lnTo>
                <a:lnTo>
                  <a:pt x="49" y="268"/>
                </a:lnTo>
                <a:lnTo>
                  <a:pt x="50" y="260"/>
                </a:lnTo>
                <a:lnTo>
                  <a:pt x="55" y="250"/>
                </a:lnTo>
                <a:lnTo>
                  <a:pt x="58" y="242"/>
                </a:lnTo>
                <a:lnTo>
                  <a:pt x="63" y="234"/>
                </a:lnTo>
                <a:lnTo>
                  <a:pt x="68" y="225"/>
                </a:lnTo>
                <a:lnTo>
                  <a:pt x="71" y="216"/>
                </a:lnTo>
                <a:lnTo>
                  <a:pt x="75" y="208"/>
                </a:lnTo>
                <a:lnTo>
                  <a:pt x="80" y="198"/>
                </a:lnTo>
                <a:lnTo>
                  <a:pt x="84" y="190"/>
                </a:lnTo>
                <a:lnTo>
                  <a:pt x="89" y="181"/>
                </a:lnTo>
                <a:lnTo>
                  <a:pt x="94" y="172"/>
                </a:lnTo>
                <a:lnTo>
                  <a:pt x="99" y="164"/>
                </a:lnTo>
                <a:lnTo>
                  <a:pt x="104" y="154"/>
                </a:lnTo>
                <a:lnTo>
                  <a:pt x="109" y="146"/>
                </a:lnTo>
                <a:lnTo>
                  <a:pt x="114" y="137"/>
                </a:lnTo>
                <a:lnTo>
                  <a:pt x="119" y="129"/>
                </a:lnTo>
                <a:lnTo>
                  <a:pt x="125" y="121"/>
                </a:lnTo>
                <a:lnTo>
                  <a:pt x="130" y="113"/>
                </a:lnTo>
                <a:lnTo>
                  <a:pt x="137" y="105"/>
                </a:lnTo>
                <a:lnTo>
                  <a:pt x="143" y="97"/>
                </a:lnTo>
                <a:lnTo>
                  <a:pt x="148" y="88"/>
                </a:lnTo>
                <a:lnTo>
                  <a:pt x="154" y="82"/>
                </a:lnTo>
                <a:lnTo>
                  <a:pt x="159" y="74"/>
                </a:lnTo>
                <a:lnTo>
                  <a:pt x="166" y="67"/>
                </a:lnTo>
                <a:lnTo>
                  <a:pt x="172" y="59"/>
                </a:lnTo>
                <a:lnTo>
                  <a:pt x="179" y="53"/>
                </a:lnTo>
                <a:lnTo>
                  <a:pt x="185" y="46"/>
                </a:lnTo>
                <a:lnTo>
                  <a:pt x="194" y="40"/>
                </a:lnTo>
                <a:lnTo>
                  <a:pt x="200" y="33"/>
                </a:lnTo>
                <a:lnTo>
                  <a:pt x="207" y="28"/>
                </a:lnTo>
                <a:lnTo>
                  <a:pt x="213" y="23"/>
                </a:lnTo>
                <a:lnTo>
                  <a:pt x="221" y="17"/>
                </a:lnTo>
                <a:lnTo>
                  <a:pt x="228" y="12"/>
                </a:lnTo>
                <a:lnTo>
                  <a:pt x="236" y="9"/>
                </a:lnTo>
                <a:lnTo>
                  <a:pt x="244" y="4"/>
                </a:lnTo>
                <a:lnTo>
                  <a:pt x="252" y="0"/>
                </a:lnTo>
                <a:lnTo>
                  <a:pt x="275" y="84"/>
                </a:lnTo>
                <a:lnTo>
                  <a:pt x="273" y="84"/>
                </a:lnTo>
                <a:lnTo>
                  <a:pt x="269" y="87"/>
                </a:lnTo>
                <a:lnTo>
                  <a:pt x="265" y="88"/>
                </a:lnTo>
                <a:lnTo>
                  <a:pt x="262" y="90"/>
                </a:lnTo>
                <a:lnTo>
                  <a:pt x="257" y="93"/>
                </a:lnTo>
                <a:lnTo>
                  <a:pt x="254" y="97"/>
                </a:lnTo>
                <a:lnTo>
                  <a:pt x="247" y="100"/>
                </a:lnTo>
                <a:lnTo>
                  <a:pt x="242" y="105"/>
                </a:lnTo>
                <a:lnTo>
                  <a:pt x="236" y="110"/>
                </a:lnTo>
                <a:lnTo>
                  <a:pt x="229" y="116"/>
                </a:lnTo>
                <a:lnTo>
                  <a:pt x="226" y="119"/>
                </a:lnTo>
                <a:lnTo>
                  <a:pt x="223" y="123"/>
                </a:lnTo>
                <a:lnTo>
                  <a:pt x="218" y="126"/>
                </a:lnTo>
                <a:lnTo>
                  <a:pt x="215" y="129"/>
                </a:lnTo>
                <a:lnTo>
                  <a:pt x="212" y="133"/>
                </a:lnTo>
                <a:lnTo>
                  <a:pt x="207" y="137"/>
                </a:lnTo>
                <a:lnTo>
                  <a:pt x="203" y="142"/>
                </a:lnTo>
                <a:lnTo>
                  <a:pt x="200" y="147"/>
                </a:lnTo>
                <a:lnTo>
                  <a:pt x="195" y="150"/>
                </a:lnTo>
                <a:lnTo>
                  <a:pt x="192" y="155"/>
                </a:lnTo>
                <a:lnTo>
                  <a:pt x="187" y="160"/>
                </a:lnTo>
                <a:lnTo>
                  <a:pt x="184" y="165"/>
                </a:lnTo>
                <a:lnTo>
                  <a:pt x="179" y="170"/>
                </a:lnTo>
                <a:lnTo>
                  <a:pt x="174" y="175"/>
                </a:lnTo>
                <a:lnTo>
                  <a:pt x="171" y="181"/>
                </a:lnTo>
                <a:lnTo>
                  <a:pt x="166" y="186"/>
                </a:lnTo>
                <a:lnTo>
                  <a:pt x="161" y="193"/>
                </a:lnTo>
                <a:lnTo>
                  <a:pt x="156" y="198"/>
                </a:lnTo>
                <a:lnTo>
                  <a:pt x="153" y="204"/>
                </a:lnTo>
                <a:lnTo>
                  <a:pt x="148" y="212"/>
                </a:lnTo>
                <a:lnTo>
                  <a:pt x="143" y="219"/>
                </a:lnTo>
                <a:lnTo>
                  <a:pt x="140" y="225"/>
                </a:lnTo>
                <a:lnTo>
                  <a:pt x="135" y="234"/>
                </a:lnTo>
                <a:lnTo>
                  <a:pt x="132" y="242"/>
                </a:lnTo>
                <a:lnTo>
                  <a:pt x="127" y="248"/>
                </a:lnTo>
                <a:lnTo>
                  <a:pt x="122" y="256"/>
                </a:lnTo>
                <a:lnTo>
                  <a:pt x="117" y="265"/>
                </a:lnTo>
                <a:lnTo>
                  <a:pt x="114" y="273"/>
                </a:lnTo>
                <a:lnTo>
                  <a:pt x="109" y="281"/>
                </a:lnTo>
                <a:lnTo>
                  <a:pt x="104" y="291"/>
                </a:lnTo>
                <a:lnTo>
                  <a:pt x="99" y="300"/>
                </a:lnTo>
                <a:lnTo>
                  <a:pt x="96" y="310"/>
                </a:lnTo>
                <a:lnTo>
                  <a:pt x="91" y="318"/>
                </a:lnTo>
                <a:lnTo>
                  <a:pt x="88" y="328"/>
                </a:lnTo>
                <a:lnTo>
                  <a:pt x="83" y="340"/>
                </a:lnTo>
                <a:lnTo>
                  <a:pt x="78" y="349"/>
                </a:lnTo>
                <a:lnTo>
                  <a:pt x="75" y="361"/>
                </a:lnTo>
                <a:lnTo>
                  <a:pt x="71" y="372"/>
                </a:lnTo>
                <a:lnTo>
                  <a:pt x="66" y="384"/>
                </a:lnTo>
                <a:lnTo>
                  <a:pt x="63" y="395"/>
                </a:lnTo>
                <a:lnTo>
                  <a:pt x="37" y="452"/>
                </a:lnTo>
                <a:lnTo>
                  <a:pt x="37" y="452"/>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115040" y="4179960"/>
            <a:ext cx="354240" cy="1395360"/>
          </a:xfrm>
          <a:custGeom>
            <a:avLst/>
            <a:gdLst/>
            <a:ahLst/>
            <a:rect l="l" t="t" r="r" b="b"/>
            <a:pathLst>
              <a:path w="445" h="1758">
                <a:moveTo>
                  <a:pt x="0" y="0"/>
                </a:moveTo>
                <a:lnTo>
                  <a:pt x="0" y="0"/>
                </a:lnTo>
                <a:lnTo>
                  <a:pt x="5" y="2"/>
                </a:lnTo>
                <a:lnTo>
                  <a:pt x="6" y="2"/>
                </a:lnTo>
                <a:lnTo>
                  <a:pt x="10" y="2"/>
                </a:lnTo>
                <a:lnTo>
                  <a:pt x="13" y="4"/>
                </a:lnTo>
                <a:lnTo>
                  <a:pt x="18" y="7"/>
                </a:lnTo>
                <a:lnTo>
                  <a:pt x="21" y="9"/>
                </a:lnTo>
                <a:lnTo>
                  <a:pt x="28" y="12"/>
                </a:lnTo>
                <a:lnTo>
                  <a:pt x="32" y="15"/>
                </a:lnTo>
                <a:lnTo>
                  <a:pt x="39" y="20"/>
                </a:lnTo>
                <a:lnTo>
                  <a:pt x="44" y="25"/>
                </a:lnTo>
                <a:lnTo>
                  <a:pt x="52" y="30"/>
                </a:lnTo>
                <a:lnTo>
                  <a:pt x="55" y="33"/>
                </a:lnTo>
                <a:lnTo>
                  <a:pt x="59" y="36"/>
                </a:lnTo>
                <a:lnTo>
                  <a:pt x="62" y="41"/>
                </a:lnTo>
                <a:lnTo>
                  <a:pt x="65" y="44"/>
                </a:lnTo>
                <a:lnTo>
                  <a:pt x="68" y="48"/>
                </a:lnTo>
                <a:lnTo>
                  <a:pt x="73" y="53"/>
                </a:lnTo>
                <a:lnTo>
                  <a:pt x="76" y="57"/>
                </a:lnTo>
                <a:lnTo>
                  <a:pt x="81" y="62"/>
                </a:lnTo>
                <a:lnTo>
                  <a:pt x="85" y="67"/>
                </a:lnTo>
                <a:lnTo>
                  <a:pt x="89" y="72"/>
                </a:lnTo>
                <a:lnTo>
                  <a:pt x="93" y="77"/>
                </a:lnTo>
                <a:lnTo>
                  <a:pt x="98" y="84"/>
                </a:lnTo>
                <a:lnTo>
                  <a:pt x="101" y="90"/>
                </a:lnTo>
                <a:lnTo>
                  <a:pt x="106" y="95"/>
                </a:lnTo>
                <a:lnTo>
                  <a:pt x="109" y="101"/>
                </a:lnTo>
                <a:lnTo>
                  <a:pt x="114" y="110"/>
                </a:lnTo>
                <a:lnTo>
                  <a:pt x="119" y="116"/>
                </a:lnTo>
                <a:lnTo>
                  <a:pt x="124" y="124"/>
                </a:lnTo>
                <a:lnTo>
                  <a:pt x="127" y="132"/>
                </a:lnTo>
                <a:lnTo>
                  <a:pt x="132" y="142"/>
                </a:lnTo>
                <a:lnTo>
                  <a:pt x="137" y="149"/>
                </a:lnTo>
                <a:lnTo>
                  <a:pt x="140" y="159"/>
                </a:lnTo>
                <a:lnTo>
                  <a:pt x="145" y="168"/>
                </a:lnTo>
                <a:lnTo>
                  <a:pt x="150" y="178"/>
                </a:lnTo>
                <a:lnTo>
                  <a:pt x="155" y="188"/>
                </a:lnTo>
                <a:lnTo>
                  <a:pt x="160" y="198"/>
                </a:lnTo>
                <a:lnTo>
                  <a:pt x="164" y="209"/>
                </a:lnTo>
                <a:lnTo>
                  <a:pt x="169" y="222"/>
                </a:lnTo>
                <a:lnTo>
                  <a:pt x="173" y="232"/>
                </a:lnTo>
                <a:lnTo>
                  <a:pt x="177" y="245"/>
                </a:lnTo>
                <a:lnTo>
                  <a:pt x="182" y="256"/>
                </a:lnTo>
                <a:lnTo>
                  <a:pt x="187" y="269"/>
                </a:lnTo>
                <a:lnTo>
                  <a:pt x="191" y="282"/>
                </a:lnTo>
                <a:lnTo>
                  <a:pt x="195" y="297"/>
                </a:lnTo>
                <a:lnTo>
                  <a:pt x="200" y="310"/>
                </a:lnTo>
                <a:lnTo>
                  <a:pt x="205" y="327"/>
                </a:lnTo>
                <a:lnTo>
                  <a:pt x="205" y="328"/>
                </a:lnTo>
                <a:lnTo>
                  <a:pt x="207" y="331"/>
                </a:lnTo>
                <a:lnTo>
                  <a:pt x="207" y="335"/>
                </a:lnTo>
                <a:lnTo>
                  <a:pt x="208" y="338"/>
                </a:lnTo>
                <a:lnTo>
                  <a:pt x="208" y="343"/>
                </a:lnTo>
                <a:lnTo>
                  <a:pt x="210" y="348"/>
                </a:lnTo>
                <a:lnTo>
                  <a:pt x="210" y="353"/>
                </a:lnTo>
                <a:lnTo>
                  <a:pt x="212" y="359"/>
                </a:lnTo>
                <a:lnTo>
                  <a:pt x="213" y="364"/>
                </a:lnTo>
                <a:lnTo>
                  <a:pt x="215" y="372"/>
                </a:lnTo>
                <a:lnTo>
                  <a:pt x="217" y="379"/>
                </a:lnTo>
                <a:lnTo>
                  <a:pt x="218" y="385"/>
                </a:lnTo>
                <a:lnTo>
                  <a:pt x="218" y="388"/>
                </a:lnTo>
                <a:lnTo>
                  <a:pt x="220" y="393"/>
                </a:lnTo>
                <a:lnTo>
                  <a:pt x="221" y="397"/>
                </a:lnTo>
                <a:lnTo>
                  <a:pt x="223" y="402"/>
                </a:lnTo>
                <a:lnTo>
                  <a:pt x="223" y="405"/>
                </a:lnTo>
                <a:lnTo>
                  <a:pt x="225" y="408"/>
                </a:lnTo>
                <a:lnTo>
                  <a:pt x="225" y="413"/>
                </a:lnTo>
                <a:lnTo>
                  <a:pt x="226" y="416"/>
                </a:lnTo>
                <a:lnTo>
                  <a:pt x="228" y="419"/>
                </a:lnTo>
                <a:lnTo>
                  <a:pt x="230" y="424"/>
                </a:lnTo>
                <a:lnTo>
                  <a:pt x="231" y="428"/>
                </a:lnTo>
                <a:lnTo>
                  <a:pt x="233" y="433"/>
                </a:lnTo>
                <a:lnTo>
                  <a:pt x="233" y="437"/>
                </a:lnTo>
                <a:lnTo>
                  <a:pt x="235" y="441"/>
                </a:lnTo>
                <a:lnTo>
                  <a:pt x="236" y="444"/>
                </a:lnTo>
                <a:lnTo>
                  <a:pt x="238" y="449"/>
                </a:lnTo>
                <a:lnTo>
                  <a:pt x="239" y="454"/>
                </a:lnTo>
                <a:lnTo>
                  <a:pt x="241" y="457"/>
                </a:lnTo>
                <a:lnTo>
                  <a:pt x="243" y="462"/>
                </a:lnTo>
                <a:lnTo>
                  <a:pt x="244" y="467"/>
                </a:lnTo>
                <a:lnTo>
                  <a:pt x="246" y="470"/>
                </a:lnTo>
                <a:lnTo>
                  <a:pt x="248" y="473"/>
                </a:lnTo>
                <a:lnTo>
                  <a:pt x="249" y="478"/>
                </a:lnTo>
                <a:lnTo>
                  <a:pt x="251" y="481"/>
                </a:lnTo>
                <a:lnTo>
                  <a:pt x="252" y="485"/>
                </a:lnTo>
                <a:lnTo>
                  <a:pt x="254" y="490"/>
                </a:lnTo>
                <a:lnTo>
                  <a:pt x="256" y="493"/>
                </a:lnTo>
                <a:lnTo>
                  <a:pt x="259" y="498"/>
                </a:lnTo>
                <a:lnTo>
                  <a:pt x="262" y="504"/>
                </a:lnTo>
                <a:lnTo>
                  <a:pt x="266" y="511"/>
                </a:lnTo>
                <a:lnTo>
                  <a:pt x="270" y="517"/>
                </a:lnTo>
                <a:lnTo>
                  <a:pt x="274" y="525"/>
                </a:lnTo>
                <a:lnTo>
                  <a:pt x="279" y="530"/>
                </a:lnTo>
                <a:lnTo>
                  <a:pt x="283" y="537"/>
                </a:lnTo>
                <a:lnTo>
                  <a:pt x="288" y="543"/>
                </a:lnTo>
                <a:lnTo>
                  <a:pt x="295" y="550"/>
                </a:lnTo>
                <a:lnTo>
                  <a:pt x="300" y="556"/>
                </a:lnTo>
                <a:lnTo>
                  <a:pt x="308" y="565"/>
                </a:lnTo>
                <a:lnTo>
                  <a:pt x="311" y="568"/>
                </a:lnTo>
                <a:lnTo>
                  <a:pt x="314" y="571"/>
                </a:lnTo>
                <a:lnTo>
                  <a:pt x="318" y="576"/>
                </a:lnTo>
                <a:lnTo>
                  <a:pt x="321" y="579"/>
                </a:lnTo>
                <a:lnTo>
                  <a:pt x="324" y="584"/>
                </a:lnTo>
                <a:lnTo>
                  <a:pt x="327" y="587"/>
                </a:lnTo>
                <a:lnTo>
                  <a:pt x="331" y="591"/>
                </a:lnTo>
                <a:lnTo>
                  <a:pt x="334" y="596"/>
                </a:lnTo>
                <a:lnTo>
                  <a:pt x="337" y="599"/>
                </a:lnTo>
                <a:lnTo>
                  <a:pt x="342" y="604"/>
                </a:lnTo>
                <a:lnTo>
                  <a:pt x="345" y="609"/>
                </a:lnTo>
                <a:lnTo>
                  <a:pt x="349" y="614"/>
                </a:lnTo>
                <a:lnTo>
                  <a:pt x="352" y="618"/>
                </a:lnTo>
                <a:lnTo>
                  <a:pt x="357" y="623"/>
                </a:lnTo>
                <a:lnTo>
                  <a:pt x="360" y="628"/>
                </a:lnTo>
                <a:lnTo>
                  <a:pt x="363" y="635"/>
                </a:lnTo>
                <a:lnTo>
                  <a:pt x="367" y="640"/>
                </a:lnTo>
                <a:lnTo>
                  <a:pt x="371" y="645"/>
                </a:lnTo>
                <a:lnTo>
                  <a:pt x="375" y="651"/>
                </a:lnTo>
                <a:lnTo>
                  <a:pt x="378" y="656"/>
                </a:lnTo>
                <a:lnTo>
                  <a:pt x="381" y="662"/>
                </a:lnTo>
                <a:lnTo>
                  <a:pt x="384" y="667"/>
                </a:lnTo>
                <a:lnTo>
                  <a:pt x="388" y="674"/>
                </a:lnTo>
                <a:lnTo>
                  <a:pt x="391" y="680"/>
                </a:lnTo>
                <a:lnTo>
                  <a:pt x="394" y="687"/>
                </a:lnTo>
                <a:lnTo>
                  <a:pt x="398" y="693"/>
                </a:lnTo>
                <a:lnTo>
                  <a:pt x="401" y="700"/>
                </a:lnTo>
                <a:lnTo>
                  <a:pt x="404" y="708"/>
                </a:lnTo>
                <a:lnTo>
                  <a:pt x="406" y="715"/>
                </a:lnTo>
                <a:lnTo>
                  <a:pt x="409" y="721"/>
                </a:lnTo>
                <a:lnTo>
                  <a:pt x="412" y="729"/>
                </a:lnTo>
                <a:lnTo>
                  <a:pt x="415" y="737"/>
                </a:lnTo>
                <a:lnTo>
                  <a:pt x="417" y="746"/>
                </a:lnTo>
                <a:lnTo>
                  <a:pt x="420" y="752"/>
                </a:lnTo>
                <a:lnTo>
                  <a:pt x="424" y="760"/>
                </a:lnTo>
                <a:lnTo>
                  <a:pt x="425" y="770"/>
                </a:lnTo>
                <a:lnTo>
                  <a:pt x="428" y="778"/>
                </a:lnTo>
                <a:lnTo>
                  <a:pt x="430" y="786"/>
                </a:lnTo>
                <a:lnTo>
                  <a:pt x="432" y="796"/>
                </a:lnTo>
                <a:lnTo>
                  <a:pt x="433" y="804"/>
                </a:lnTo>
                <a:lnTo>
                  <a:pt x="435" y="814"/>
                </a:lnTo>
                <a:lnTo>
                  <a:pt x="437" y="824"/>
                </a:lnTo>
                <a:lnTo>
                  <a:pt x="438" y="834"/>
                </a:lnTo>
                <a:lnTo>
                  <a:pt x="440" y="845"/>
                </a:lnTo>
                <a:lnTo>
                  <a:pt x="442" y="855"/>
                </a:lnTo>
                <a:lnTo>
                  <a:pt x="442" y="865"/>
                </a:lnTo>
                <a:lnTo>
                  <a:pt x="443" y="876"/>
                </a:lnTo>
                <a:lnTo>
                  <a:pt x="443" y="887"/>
                </a:lnTo>
                <a:lnTo>
                  <a:pt x="443" y="899"/>
                </a:lnTo>
                <a:lnTo>
                  <a:pt x="445" y="910"/>
                </a:lnTo>
                <a:lnTo>
                  <a:pt x="445" y="922"/>
                </a:lnTo>
                <a:lnTo>
                  <a:pt x="445" y="933"/>
                </a:lnTo>
                <a:lnTo>
                  <a:pt x="445" y="946"/>
                </a:lnTo>
                <a:lnTo>
                  <a:pt x="443" y="958"/>
                </a:lnTo>
                <a:lnTo>
                  <a:pt x="443" y="971"/>
                </a:lnTo>
                <a:lnTo>
                  <a:pt x="443" y="984"/>
                </a:lnTo>
                <a:lnTo>
                  <a:pt x="442" y="997"/>
                </a:lnTo>
                <a:lnTo>
                  <a:pt x="440" y="1010"/>
                </a:lnTo>
                <a:lnTo>
                  <a:pt x="438" y="1023"/>
                </a:lnTo>
                <a:lnTo>
                  <a:pt x="437" y="1038"/>
                </a:lnTo>
                <a:lnTo>
                  <a:pt x="435" y="1051"/>
                </a:lnTo>
                <a:lnTo>
                  <a:pt x="433" y="1065"/>
                </a:lnTo>
                <a:lnTo>
                  <a:pt x="432" y="1078"/>
                </a:lnTo>
                <a:lnTo>
                  <a:pt x="430" y="1095"/>
                </a:lnTo>
                <a:lnTo>
                  <a:pt x="427" y="1108"/>
                </a:lnTo>
                <a:lnTo>
                  <a:pt x="425" y="1122"/>
                </a:lnTo>
                <a:lnTo>
                  <a:pt x="422" y="1137"/>
                </a:lnTo>
                <a:lnTo>
                  <a:pt x="420" y="1153"/>
                </a:lnTo>
                <a:lnTo>
                  <a:pt x="417" y="1168"/>
                </a:lnTo>
                <a:lnTo>
                  <a:pt x="414" y="1183"/>
                </a:lnTo>
                <a:lnTo>
                  <a:pt x="411" y="1197"/>
                </a:lnTo>
                <a:lnTo>
                  <a:pt x="409" y="1214"/>
                </a:lnTo>
                <a:lnTo>
                  <a:pt x="406" y="1228"/>
                </a:lnTo>
                <a:lnTo>
                  <a:pt x="402" y="1243"/>
                </a:lnTo>
                <a:lnTo>
                  <a:pt x="399" y="1259"/>
                </a:lnTo>
                <a:lnTo>
                  <a:pt x="396" y="1274"/>
                </a:lnTo>
                <a:lnTo>
                  <a:pt x="393" y="1290"/>
                </a:lnTo>
                <a:lnTo>
                  <a:pt x="388" y="1305"/>
                </a:lnTo>
                <a:lnTo>
                  <a:pt x="384" y="1320"/>
                </a:lnTo>
                <a:lnTo>
                  <a:pt x="381" y="1336"/>
                </a:lnTo>
                <a:lnTo>
                  <a:pt x="376" y="1351"/>
                </a:lnTo>
                <a:lnTo>
                  <a:pt x="373" y="1365"/>
                </a:lnTo>
                <a:lnTo>
                  <a:pt x="368" y="1380"/>
                </a:lnTo>
                <a:lnTo>
                  <a:pt x="365" y="1396"/>
                </a:lnTo>
                <a:lnTo>
                  <a:pt x="362" y="1411"/>
                </a:lnTo>
                <a:lnTo>
                  <a:pt x="357" y="1424"/>
                </a:lnTo>
                <a:lnTo>
                  <a:pt x="352" y="1439"/>
                </a:lnTo>
                <a:lnTo>
                  <a:pt x="349" y="1453"/>
                </a:lnTo>
                <a:lnTo>
                  <a:pt x="344" y="1468"/>
                </a:lnTo>
                <a:lnTo>
                  <a:pt x="340" y="1483"/>
                </a:lnTo>
                <a:lnTo>
                  <a:pt x="336" y="1496"/>
                </a:lnTo>
                <a:lnTo>
                  <a:pt x="331" y="1510"/>
                </a:lnTo>
                <a:lnTo>
                  <a:pt x="327" y="1523"/>
                </a:lnTo>
                <a:lnTo>
                  <a:pt x="323" y="1537"/>
                </a:lnTo>
                <a:lnTo>
                  <a:pt x="318" y="1550"/>
                </a:lnTo>
                <a:lnTo>
                  <a:pt x="314" y="1563"/>
                </a:lnTo>
                <a:lnTo>
                  <a:pt x="310" y="1576"/>
                </a:lnTo>
                <a:lnTo>
                  <a:pt x="305" y="1589"/>
                </a:lnTo>
                <a:lnTo>
                  <a:pt x="300" y="1600"/>
                </a:lnTo>
                <a:lnTo>
                  <a:pt x="296" y="1613"/>
                </a:lnTo>
                <a:lnTo>
                  <a:pt x="292" y="1625"/>
                </a:lnTo>
                <a:lnTo>
                  <a:pt x="287" y="1636"/>
                </a:lnTo>
                <a:lnTo>
                  <a:pt x="283" y="1647"/>
                </a:lnTo>
                <a:lnTo>
                  <a:pt x="279" y="1657"/>
                </a:lnTo>
                <a:lnTo>
                  <a:pt x="274" y="1667"/>
                </a:lnTo>
                <a:lnTo>
                  <a:pt x="270" y="1678"/>
                </a:lnTo>
                <a:lnTo>
                  <a:pt x="266" y="1688"/>
                </a:lnTo>
                <a:lnTo>
                  <a:pt x="262" y="1698"/>
                </a:lnTo>
                <a:lnTo>
                  <a:pt x="257" y="1706"/>
                </a:lnTo>
                <a:lnTo>
                  <a:pt x="252" y="1714"/>
                </a:lnTo>
                <a:lnTo>
                  <a:pt x="249" y="1722"/>
                </a:lnTo>
                <a:lnTo>
                  <a:pt x="244" y="1731"/>
                </a:lnTo>
                <a:lnTo>
                  <a:pt x="241" y="1739"/>
                </a:lnTo>
                <a:lnTo>
                  <a:pt x="236" y="1745"/>
                </a:lnTo>
                <a:lnTo>
                  <a:pt x="233" y="1752"/>
                </a:lnTo>
                <a:lnTo>
                  <a:pt x="230" y="1758"/>
                </a:lnTo>
                <a:lnTo>
                  <a:pt x="215" y="1721"/>
                </a:lnTo>
                <a:lnTo>
                  <a:pt x="215" y="1719"/>
                </a:lnTo>
                <a:lnTo>
                  <a:pt x="217" y="1716"/>
                </a:lnTo>
                <a:lnTo>
                  <a:pt x="217" y="1713"/>
                </a:lnTo>
                <a:lnTo>
                  <a:pt x="218" y="1709"/>
                </a:lnTo>
                <a:lnTo>
                  <a:pt x="220" y="1706"/>
                </a:lnTo>
                <a:lnTo>
                  <a:pt x="221" y="1701"/>
                </a:lnTo>
                <a:lnTo>
                  <a:pt x="225" y="1696"/>
                </a:lnTo>
                <a:lnTo>
                  <a:pt x="226" y="1691"/>
                </a:lnTo>
                <a:lnTo>
                  <a:pt x="228" y="1685"/>
                </a:lnTo>
                <a:lnTo>
                  <a:pt x="231" y="1678"/>
                </a:lnTo>
                <a:lnTo>
                  <a:pt x="233" y="1670"/>
                </a:lnTo>
                <a:lnTo>
                  <a:pt x="236" y="1664"/>
                </a:lnTo>
                <a:lnTo>
                  <a:pt x="239" y="1656"/>
                </a:lnTo>
                <a:lnTo>
                  <a:pt x="243" y="1647"/>
                </a:lnTo>
                <a:lnTo>
                  <a:pt x="246" y="1639"/>
                </a:lnTo>
                <a:lnTo>
                  <a:pt x="249" y="1629"/>
                </a:lnTo>
                <a:lnTo>
                  <a:pt x="252" y="1620"/>
                </a:lnTo>
                <a:lnTo>
                  <a:pt x="256" y="1610"/>
                </a:lnTo>
                <a:lnTo>
                  <a:pt x="261" y="1598"/>
                </a:lnTo>
                <a:lnTo>
                  <a:pt x="264" y="1589"/>
                </a:lnTo>
                <a:lnTo>
                  <a:pt x="269" y="1577"/>
                </a:lnTo>
                <a:lnTo>
                  <a:pt x="272" y="1566"/>
                </a:lnTo>
                <a:lnTo>
                  <a:pt x="277" y="1554"/>
                </a:lnTo>
                <a:lnTo>
                  <a:pt x="280" y="1541"/>
                </a:lnTo>
                <a:lnTo>
                  <a:pt x="283" y="1528"/>
                </a:lnTo>
                <a:lnTo>
                  <a:pt x="288" y="1517"/>
                </a:lnTo>
                <a:lnTo>
                  <a:pt x="293" y="1502"/>
                </a:lnTo>
                <a:lnTo>
                  <a:pt x="296" y="1489"/>
                </a:lnTo>
                <a:lnTo>
                  <a:pt x="301" y="1476"/>
                </a:lnTo>
                <a:lnTo>
                  <a:pt x="306" y="1462"/>
                </a:lnTo>
                <a:lnTo>
                  <a:pt x="311" y="1447"/>
                </a:lnTo>
                <a:lnTo>
                  <a:pt x="314" y="1432"/>
                </a:lnTo>
                <a:lnTo>
                  <a:pt x="318" y="1417"/>
                </a:lnTo>
                <a:lnTo>
                  <a:pt x="323" y="1403"/>
                </a:lnTo>
                <a:lnTo>
                  <a:pt x="327" y="1386"/>
                </a:lnTo>
                <a:lnTo>
                  <a:pt x="331" y="1372"/>
                </a:lnTo>
                <a:lnTo>
                  <a:pt x="336" y="1356"/>
                </a:lnTo>
                <a:lnTo>
                  <a:pt x="340" y="1341"/>
                </a:lnTo>
                <a:lnTo>
                  <a:pt x="344" y="1325"/>
                </a:lnTo>
                <a:lnTo>
                  <a:pt x="347" y="1308"/>
                </a:lnTo>
                <a:lnTo>
                  <a:pt x="352" y="1290"/>
                </a:lnTo>
                <a:lnTo>
                  <a:pt x="355" y="1276"/>
                </a:lnTo>
                <a:lnTo>
                  <a:pt x="358" y="1258"/>
                </a:lnTo>
                <a:lnTo>
                  <a:pt x="362" y="1241"/>
                </a:lnTo>
                <a:lnTo>
                  <a:pt x="365" y="1225"/>
                </a:lnTo>
                <a:lnTo>
                  <a:pt x="370" y="1209"/>
                </a:lnTo>
                <a:lnTo>
                  <a:pt x="371" y="1191"/>
                </a:lnTo>
                <a:lnTo>
                  <a:pt x="375" y="1173"/>
                </a:lnTo>
                <a:lnTo>
                  <a:pt x="378" y="1157"/>
                </a:lnTo>
                <a:lnTo>
                  <a:pt x="381" y="1139"/>
                </a:lnTo>
                <a:lnTo>
                  <a:pt x="383" y="1122"/>
                </a:lnTo>
                <a:lnTo>
                  <a:pt x="384" y="1104"/>
                </a:lnTo>
                <a:lnTo>
                  <a:pt x="388" y="1088"/>
                </a:lnTo>
                <a:lnTo>
                  <a:pt x="389" y="1070"/>
                </a:lnTo>
                <a:lnTo>
                  <a:pt x="391" y="1052"/>
                </a:lnTo>
                <a:lnTo>
                  <a:pt x="393" y="1036"/>
                </a:lnTo>
                <a:lnTo>
                  <a:pt x="394" y="1018"/>
                </a:lnTo>
                <a:lnTo>
                  <a:pt x="396" y="1002"/>
                </a:lnTo>
                <a:lnTo>
                  <a:pt x="396" y="984"/>
                </a:lnTo>
                <a:lnTo>
                  <a:pt x="398" y="967"/>
                </a:lnTo>
                <a:lnTo>
                  <a:pt x="398" y="951"/>
                </a:lnTo>
                <a:lnTo>
                  <a:pt x="399" y="933"/>
                </a:lnTo>
                <a:lnTo>
                  <a:pt x="399" y="932"/>
                </a:lnTo>
                <a:lnTo>
                  <a:pt x="399" y="927"/>
                </a:lnTo>
                <a:lnTo>
                  <a:pt x="399" y="922"/>
                </a:lnTo>
                <a:lnTo>
                  <a:pt x="399" y="917"/>
                </a:lnTo>
                <a:lnTo>
                  <a:pt x="399" y="910"/>
                </a:lnTo>
                <a:lnTo>
                  <a:pt x="399" y="904"/>
                </a:lnTo>
                <a:lnTo>
                  <a:pt x="398" y="901"/>
                </a:lnTo>
                <a:lnTo>
                  <a:pt x="398" y="896"/>
                </a:lnTo>
                <a:lnTo>
                  <a:pt x="398" y="892"/>
                </a:lnTo>
                <a:lnTo>
                  <a:pt x="398" y="889"/>
                </a:lnTo>
                <a:lnTo>
                  <a:pt x="398" y="884"/>
                </a:lnTo>
                <a:lnTo>
                  <a:pt x="398" y="879"/>
                </a:lnTo>
                <a:lnTo>
                  <a:pt x="396" y="876"/>
                </a:lnTo>
                <a:lnTo>
                  <a:pt x="396" y="871"/>
                </a:lnTo>
                <a:lnTo>
                  <a:pt x="396" y="865"/>
                </a:lnTo>
                <a:lnTo>
                  <a:pt x="396" y="861"/>
                </a:lnTo>
                <a:lnTo>
                  <a:pt x="394" y="855"/>
                </a:lnTo>
                <a:lnTo>
                  <a:pt x="394" y="852"/>
                </a:lnTo>
                <a:lnTo>
                  <a:pt x="393" y="845"/>
                </a:lnTo>
                <a:lnTo>
                  <a:pt x="393" y="840"/>
                </a:lnTo>
                <a:lnTo>
                  <a:pt x="393" y="835"/>
                </a:lnTo>
                <a:lnTo>
                  <a:pt x="393" y="830"/>
                </a:lnTo>
                <a:lnTo>
                  <a:pt x="391" y="824"/>
                </a:lnTo>
                <a:lnTo>
                  <a:pt x="389" y="817"/>
                </a:lnTo>
                <a:lnTo>
                  <a:pt x="388" y="812"/>
                </a:lnTo>
                <a:lnTo>
                  <a:pt x="388" y="806"/>
                </a:lnTo>
                <a:lnTo>
                  <a:pt x="384" y="799"/>
                </a:lnTo>
                <a:lnTo>
                  <a:pt x="384" y="795"/>
                </a:lnTo>
                <a:lnTo>
                  <a:pt x="383" y="786"/>
                </a:lnTo>
                <a:lnTo>
                  <a:pt x="381" y="781"/>
                </a:lnTo>
                <a:lnTo>
                  <a:pt x="380" y="775"/>
                </a:lnTo>
                <a:lnTo>
                  <a:pt x="378" y="768"/>
                </a:lnTo>
                <a:lnTo>
                  <a:pt x="375" y="762"/>
                </a:lnTo>
                <a:lnTo>
                  <a:pt x="375" y="755"/>
                </a:lnTo>
                <a:lnTo>
                  <a:pt x="371" y="749"/>
                </a:lnTo>
                <a:lnTo>
                  <a:pt x="370" y="742"/>
                </a:lnTo>
                <a:lnTo>
                  <a:pt x="368" y="736"/>
                </a:lnTo>
                <a:lnTo>
                  <a:pt x="365" y="729"/>
                </a:lnTo>
                <a:lnTo>
                  <a:pt x="362" y="723"/>
                </a:lnTo>
                <a:lnTo>
                  <a:pt x="360" y="716"/>
                </a:lnTo>
                <a:lnTo>
                  <a:pt x="357" y="710"/>
                </a:lnTo>
                <a:lnTo>
                  <a:pt x="354" y="703"/>
                </a:lnTo>
                <a:lnTo>
                  <a:pt x="350" y="695"/>
                </a:lnTo>
                <a:lnTo>
                  <a:pt x="347" y="690"/>
                </a:lnTo>
                <a:lnTo>
                  <a:pt x="344" y="682"/>
                </a:lnTo>
                <a:lnTo>
                  <a:pt x="340" y="677"/>
                </a:lnTo>
                <a:lnTo>
                  <a:pt x="337" y="671"/>
                </a:lnTo>
                <a:lnTo>
                  <a:pt x="332" y="662"/>
                </a:lnTo>
                <a:lnTo>
                  <a:pt x="329" y="656"/>
                </a:lnTo>
                <a:lnTo>
                  <a:pt x="324" y="651"/>
                </a:lnTo>
                <a:lnTo>
                  <a:pt x="321" y="645"/>
                </a:lnTo>
                <a:lnTo>
                  <a:pt x="316" y="638"/>
                </a:lnTo>
                <a:lnTo>
                  <a:pt x="311" y="631"/>
                </a:lnTo>
                <a:lnTo>
                  <a:pt x="308" y="625"/>
                </a:lnTo>
                <a:lnTo>
                  <a:pt x="301" y="618"/>
                </a:lnTo>
                <a:lnTo>
                  <a:pt x="296" y="612"/>
                </a:lnTo>
                <a:lnTo>
                  <a:pt x="292" y="607"/>
                </a:lnTo>
                <a:lnTo>
                  <a:pt x="287" y="602"/>
                </a:lnTo>
                <a:lnTo>
                  <a:pt x="283" y="596"/>
                </a:lnTo>
                <a:lnTo>
                  <a:pt x="279" y="589"/>
                </a:lnTo>
                <a:lnTo>
                  <a:pt x="275" y="584"/>
                </a:lnTo>
                <a:lnTo>
                  <a:pt x="270" y="579"/>
                </a:lnTo>
                <a:lnTo>
                  <a:pt x="267" y="573"/>
                </a:lnTo>
                <a:lnTo>
                  <a:pt x="262" y="568"/>
                </a:lnTo>
                <a:lnTo>
                  <a:pt x="259" y="563"/>
                </a:lnTo>
                <a:lnTo>
                  <a:pt x="256" y="558"/>
                </a:lnTo>
                <a:lnTo>
                  <a:pt x="252" y="553"/>
                </a:lnTo>
                <a:lnTo>
                  <a:pt x="249" y="548"/>
                </a:lnTo>
                <a:lnTo>
                  <a:pt x="246" y="543"/>
                </a:lnTo>
                <a:lnTo>
                  <a:pt x="244" y="540"/>
                </a:lnTo>
                <a:lnTo>
                  <a:pt x="239" y="534"/>
                </a:lnTo>
                <a:lnTo>
                  <a:pt x="238" y="530"/>
                </a:lnTo>
                <a:lnTo>
                  <a:pt x="235" y="525"/>
                </a:lnTo>
                <a:lnTo>
                  <a:pt x="231" y="521"/>
                </a:lnTo>
                <a:lnTo>
                  <a:pt x="230" y="517"/>
                </a:lnTo>
                <a:lnTo>
                  <a:pt x="226" y="512"/>
                </a:lnTo>
                <a:lnTo>
                  <a:pt x="225" y="509"/>
                </a:lnTo>
                <a:lnTo>
                  <a:pt x="223" y="506"/>
                </a:lnTo>
                <a:lnTo>
                  <a:pt x="220" y="501"/>
                </a:lnTo>
                <a:lnTo>
                  <a:pt x="218" y="498"/>
                </a:lnTo>
                <a:lnTo>
                  <a:pt x="217" y="493"/>
                </a:lnTo>
                <a:lnTo>
                  <a:pt x="215" y="490"/>
                </a:lnTo>
                <a:lnTo>
                  <a:pt x="212" y="483"/>
                </a:lnTo>
                <a:lnTo>
                  <a:pt x="208" y="477"/>
                </a:lnTo>
                <a:lnTo>
                  <a:pt x="205" y="468"/>
                </a:lnTo>
                <a:lnTo>
                  <a:pt x="202" y="462"/>
                </a:lnTo>
                <a:lnTo>
                  <a:pt x="199" y="455"/>
                </a:lnTo>
                <a:lnTo>
                  <a:pt x="197" y="450"/>
                </a:lnTo>
                <a:lnTo>
                  <a:pt x="195" y="444"/>
                </a:lnTo>
                <a:lnTo>
                  <a:pt x="194" y="437"/>
                </a:lnTo>
                <a:lnTo>
                  <a:pt x="192" y="431"/>
                </a:lnTo>
                <a:lnTo>
                  <a:pt x="191" y="426"/>
                </a:lnTo>
                <a:lnTo>
                  <a:pt x="189" y="419"/>
                </a:lnTo>
                <a:lnTo>
                  <a:pt x="187" y="415"/>
                </a:lnTo>
                <a:lnTo>
                  <a:pt x="186" y="410"/>
                </a:lnTo>
                <a:lnTo>
                  <a:pt x="186" y="405"/>
                </a:lnTo>
                <a:lnTo>
                  <a:pt x="184" y="398"/>
                </a:lnTo>
                <a:lnTo>
                  <a:pt x="184" y="393"/>
                </a:lnTo>
                <a:lnTo>
                  <a:pt x="182" y="388"/>
                </a:lnTo>
                <a:lnTo>
                  <a:pt x="182" y="382"/>
                </a:lnTo>
                <a:lnTo>
                  <a:pt x="181" y="375"/>
                </a:lnTo>
                <a:lnTo>
                  <a:pt x="181" y="369"/>
                </a:lnTo>
                <a:lnTo>
                  <a:pt x="179" y="366"/>
                </a:lnTo>
                <a:lnTo>
                  <a:pt x="177" y="361"/>
                </a:lnTo>
                <a:lnTo>
                  <a:pt x="177" y="358"/>
                </a:lnTo>
                <a:lnTo>
                  <a:pt x="176" y="354"/>
                </a:lnTo>
                <a:lnTo>
                  <a:pt x="174" y="349"/>
                </a:lnTo>
                <a:lnTo>
                  <a:pt x="174" y="346"/>
                </a:lnTo>
                <a:lnTo>
                  <a:pt x="173" y="341"/>
                </a:lnTo>
                <a:lnTo>
                  <a:pt x="171" y="338"/>
                </a:lnTo>
                <a:lnTo>
                  <a:pt x="169" y="333"/>
                </a:lnTo>
                <a:lnTo>
                  <a:pt x="169" y="328"/>
                </a:lnTo>
                <a:lnTo>
                  <a:pt x="168" y="323"/>
                </a:lnTo>
                <a:lnTo>
                  <a:pt x="166" y="318"/>
                </a:lnTo>
                <a:lnTo>
                  <a:pt x="164" y="313"/>
                </a:lnTo>
                <a:lnTo>
                  <a:pt x="163" y="309"/>
                </a:lnTo>
                <a:lnTo>
                  <a:pt x="161" y="304"/>
                </a:lnTo>
                <a:lnTo>
                  <a:pt x="160" y="297"/>
                </a:lnTo>
                <a:lnTo>
                  <a:pt x="158" y="292"/>
                </a:lnTo>
                <a:lnTo>
                  <a:pt x="155" y="287"/>
                </a:lnTo>
                <a:lnTo>
                  <a:pt x="153" y="282"/>
                </a:lnTo>
                <a:lnTo>
                  <a:pt x="151" y="276"/>
                </a:lnTo>
                <a:lnTo>
                  <a:pt x="150" y="271"/>
                </a:lnTo>
                <a:lnTo>
                  <a:pt x="148" y="266"/>
                </a:lnTo>
                <a:lnTo>
                  <a:pt x="145" y="260"/>
                </a:lnTo>
                <a:lnTo>
                  <a:pt x="143" y="255"/>
                </a:lnTo>
                <a:lnTo>
                  <a:pt x="140" y="248"/>
                </a:lnTo>
                <a:lnTo>
                  <a:pt x="138" y="243"/>
                </a:lnTo>
                <a:lnTo>
                  <a:pt x="135" y="237"/>
                </a:lnTo>
                <a:lnTo>
                  <a:pt x="133" y="232"/>
                </a:lnTo>
                <a:lnTo>
                  <a:pt x="130" y="225"/>
                </a:lnTo>
                <a:lnTo>
                  <a:pt x="127" y="221"/>
                </a:lnTo>
                <a:lnTo>
                  <a:pt x="125" y="214"/>
                </a:lnTo>
                <a:lnTo>
                  <a:pt x="122" y="207"/>
                </a:lnTo>
                <a:lnTo>
                  <a:pt x="119" y="203"/>
                </a:lnTo>
                <a:lnTo>
                  <a:pt x="117" y="198"/>
                </a:lnTo>
                <a:lnTo>
                  <a:pt x="112" y="191"/>
                </a:lnTo>
                <a:lnTo>
                  <a:pt x="111" y="186"/>
                </a:lnTo>
                <a:lnTo>
                  <a:pt x="107" y="180"/>
                </a:lnTo>
                <a:lnTo>
                  <a:pt x="104" y="173"/>
                </a:lnTo>
                <a:lnTo>
                  <a:pt x="101" y="168"/>
                </a:lnTo>
                <a:lnTo>
                  <a:pt x="98" y="163"/>
                </a:lnTo>
                <a:lnTo>
                  <a:pt x="94" y="157"/>
                </a:lnTo>
                <a:lnTo>
                  <a:pt x="91" y="154"/>
                </a:lnTo>
                <a:lnTo>
                  <a:pt x="88" y="147"/>
                </a:lnTo>
                <a:lnTo>
                  <a:pt x="85" y="142"/>
                </a:lnTo>
                <a:lnTo>
                  <a:pt x="81" y="137"/>
                </a:lnTo>
                <a:lnTo>
                  <a:pt x="76" y="132"/>
                </a:lnTo>
                <a:lnTo>
                  <a:pt x="73" y="128"/>
                </a:lnTo>
                <a:lnTo>
                  <a:pt x="70" y="123"/>
                </a:lnTo>
                <a:lnTo>
                  <a:pt x="65" y="118"/>
                </a:lnTo>
                <a:lnTo>
                  <a:pt x="62" y="113"/>
                </a:lnTo>
                <a:lnTo>
                  <a:pt x="59" y="108"/>
                </a:lnTo>
                <a:lnTo>
                  <a:pt x="55" y="105"/>
                </a:lnTo>
                <a:lnTo>
                  <a:pt x="50" y="100"/>
                </a:lnTo>
                <a:lnTo>
                  <a:pt x="47" y="95"/>
                </a:lnTo>
                <a:lnTo>
                  <a:pt x="42" y="92"/>
                </a:lnTo>
                <a:lnTo>
                  <a:pt x="39" y="88"/>
                </a:lnTo>
                <a:lnTo>
                  <a:pt x="34" y="84"/>
                </a:lnTo>
                <a:lnTo>
                  <a:pt x="31" y="80"/>
                </a:lnTo>
                <a:lnTo>
                  <a:pt x="26" y="77"/>
                </a:lnTo>
                <a:lnTo>
                  <a:pt x="23" y="74"/>
                </a:lnTo>
                <a:lnTo>
                  <a:pt x="0" y="0"/>
                </a:lnTo>
                <a:lnTo>
                  <a:pt x="0"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351480" y="4662360"/>
            <a:ext cx="163800" cy="257400"/>
          </a:xfrm>
          <a:custGeom>
            <a:avLst/>
            <a:gdLst/>
            <a:ahLst/>
            <a:rect l="l" t="t" r="r" b="b"/>
            <a:pathLst>
              <a:path w="205" h="324">
                <a:moveTo>
                  <a:pt x="1" y="264"/>
                </a:moveTo>
                <a:lnTo>
                  <a:pt x="1" y="262"/>
                </a:lnTo>
                <a:lnTo>
                  <a:pt x="1" y="256"/>
                </a:lnTo>
                <a:lnTo>
                  <a:pt x="3" y="252"/>
                </a:lnTo>
                <a:lnTo>
                  <a:pt x="3" y="246"/>
                </a:lnTo>
                <a:lnTo>
                  <a:pt x="5" y="241"/>
                </a:lnTo>
                <a:lnTo>
                  <a:pt x="8" y="236"/>
                </a:lnTo>
                <a:lnTo>
                  <a:pt x="8" y="231"/>
                </a:lnTo>
                <a:lnTo>
                  <a:pt x="8" y="228"/>
                </a:lnTo>
                <a:lnTo>
                  <a:pt x="9" y="223"/>
                </a:lnTo>
                <a:lnTo>
                  <a:pt x="11" y="220"/>
                </a:lnTo>
                <a:lnTo>
                  <a:pt x="11" y="215"/>
                </a:lnTo>
                <a:lnTo>
                  <a:pt x="13" y="212"/>
                </a:lnTo>
                <a:lnTo>
                  <a:pt x="13" y="208"/>
                </a:lnTo>
                <a:lnTo>
                  <a:pt x="14" y="203"/>
                </a:lnTo>
                <a:lnTo>
                  <a:pt x="16" y="199"/>
                </a:lnTo>
                <a:lnTo>
                  <a:pt x="18" y="195"/>
                </a:lnTo>
                <a:lnTo>
                  <a:pt x="19" y="190"/>
                </a:lnTo>
                <a:lnTo>
                  <a:pt x="21" y="186"/>
                </a:lnTo>
                <a:lnTo>
                  <a:pt x="22" y="181"/>
                </a:lnTo>
                <a:lnTo>
                  <a:pt x="24" y="176"/>
                </a:lnTo>
                <a:lnTo>
                  <a:pt x="27" y="171"/>
                </a:lnTo>
                <a:lnTo>
                  <a:pt x="29" y="168"/>
                </a:lnTo>
                <a:lnTo>
                  <a:pt x="31" y="161"/>
                </a:lnTo>
                <a:lnTo>
                  <a:pt x="32" y="156"/>
                </a:lnTo>
                <a:lnTo>
                  <a:pt x="34" y="150"/>
                </a:lnTo>
                <a:lnTo>
                  <a:pt x="37" y="146"/>
                </a:lnTo>
                <a:lnTo>
                  <a:pt x="39" y="140"/>
                </a:lnTo>
                <a:lnTo>
                  <a:pt x="42" y="135"/>
                </a:lnTo>
                <a:lnTo>
                  <a:pt x="44" y="130"/>
                </a:lnTo>
                <a:lnTo>
                  <a:pt x="47" y="125"/>
                </a:lnTo>
                <a:lnTo>
                  <a:pt x="49" y="119"/>
                </a:lnTo>
                <a:lnTo>
                  <a:pt x="52" y="115"/>
                </a:lnTo>
                <a:lnTo>
                  <a:pt x="55" y="109"/>
                </a:lnTo>
                <a:lnTo>
                  <a:pt x="58" y="106"/>
                </a:lnTo>
                <a:lnTo>
                  <a:pt x="62" y="99"/>
                </a:lnTo>
                <a:lnTo>
                  <a:pt x="65" y="96"/>
                </a:lnTo>
                <a:lnTo>
                  <a:pt x="68" y="89"/>
                </a:lnTo>
                <a:lnTo>
                  <a:pt x="71" y="84"/>
                </a:lnTo>
                <a:lnTo>
                  <a:pt x="75" y="80"/>
                </a:lnTo>
                <a:lnTo>
                  <a:pt x="80" y="75"/>
                </a:lnTo>
                <a:lnTo>
                  <a:pt x="83" y="70"/>
                </a:lnTo>
                <a:lnTo>
                  <a:pt x="86" y="65"/>
                </a:lnTo>
                <a:lnTo>
                  <a:pt x="89" y="62"/>
                </a:lnTo>
                <a:lnTo>
                  <a:pt x="94" y="57"/>
                </a:lnTo>
                <a:lnTo>
                  <a:pt x="99" y="52"/>
                </a:lnTo>
                <a:lnTo>
                  <a:pt x="102" y="47"/>
                </a:lnTo>
                <a:lnTo>
                  <a:pt x="107" y="44"/>
                </a:lnTo>
                <a:lnTo>
                  <a:pt x="112" y="39"/>
                </a:lnTo>
                <a:lnTo>
                  <a:pt x="115" y="36"/>
                </a:lnTo>
                <a:lnTo>
                  <a:pt x="122" y="32"/>
                </a:lnTo>
                <a:lnTo>
                  <a:pt x="125" y="27"/>
                </a:lnTo>
                <a:lnTo>
                  <a:pt x="130" y="24"/>
                </a:lnTo>
                <a:lnTo>
                  <a:pt x="137" y="21"/>
                </a:lnTo>
                <a:lnTo>
                  <a:pt x="141" y="18"/>
                </a:lnTo>
                <a:lnTo>
                  <a:pt x="166" y="0"/>
                </a:lnTo>
                <a:lnTo>
                  <a:pt x="205" y="13"/>
                </a:lnTo>
                <a:lnTo>
                  <a:pt x="203" y="13"/>
                </a:lnTo>
                <a:lnTo>
                  <a:pt x="202" y="13"/>
                </a:lnTo>
                <a:lnTo>
                  <a:pt x="198" y="14"/>
                </a:lnTo>
                <a:lnTo>
                  <a:pt x="195" y="16"/>
                </a:lnTo>
                <a:lnTo>
                  <a:pt x="190" y="19"/>
                </a:lnTo>
                <a:lnTo>
                  <a:pt x="184" y="21"/>
                </a:lnTo>
                <a:lnTo>
                  <a:pt x="177" y="24"/>
                </a:lnTo>
                <a:lnTo>
                  <a:pt x="171" y="29"/>
                </a:lnTo>
                <a:lnTo>
                  <a:pt x="168" y="31"/>
                </a:lnTo>
                <a:lnTo>
                  <a:pt x="164" y="32"/>
                </a:lnTo>
                <a:lnTo>
                  <a:pt x="159" y="34"/>
                </a:lnTo>
                <a:lnTo>
                  <a:pt x="156" y="37"/>
                </a:lnTo>
                <a:lnTo>
                  <a:pt x="151" y="40"/>
                </a:lnTo>
                <a:lnTo>
                  <a:pt x="146" y="44"/>
                </a:lnTo>
                <a:lnTo>
                  <a:pt x="143" y="45"/>
                </a:lnTo>
                <a:lnTo>
                  <a:pt x="140" y="50"/>
                </a:lnTo>
                <a:lnTo>
                  <a:pt x="135" y="52"/>
                </a:lnTo>
                <a:lnTo>
                  <a:pt x="130" y="55"/>
                </a:lnTo>
                <a:lnTo>
                  <a:pt x="125" y="60"/>
                </a:lnTo>
                <a:lnTo>
                  <a:pt x="122" y="63"/>
                </a:lnTo>
                <a:lnTo>
                  <a:pt x="117" y="68"/>
                </a:lnTo>
                <a:lnTo>
                  <a:pt x="112" y="71"/>
                </a:lnTo>
                <a:lnTo>
                  <a:pt x="107" y="76"/>
                </a:lnTo>
                <a:lnTo>
                  <a:pt x="104" y="81"/>
                </a:lnTo>
                <a:lnTo>
                  <a:pt x="99" y="84"/>
                </a:lnTo>
                <a:lnTo>
                  <a:pt x="94" y="89"/>
                </a:lnTo>
                <a:lnTo>
                  <a:pt x="89" y="94"/>
                </a:lnTo>
                <a:lnTo>
                  <a:pt x="86" y="99"/>
                </a:lnTo>
                <a:lnTo>
                  <a:pt x="81" y="104"/>
                </a:lnTo>
                <a:lnTo>
                  <a:pt x="78" y="109"/>
                </a:lnTo>
                <a:lnTo>
                  <a:pt x="73" y="115"/>
                </a:lnTo>
                <a:lnTo>
                  <a:pt x="70" y="120"/>
                </a:lnTo>
                <a:lnTo>
                  <a:pt x="65" y="127"/>
                </a:lnTo>
                <a:lnTo>
                  <a:pt x="62" y="132"/>
                </a:lnTo>
                <a:lnTo>
                  <a:pt x="58" y="138"/>
                </a:lnTo>
                <a:lnTo>
                  <a:pt x="55" y="143"/>
                </a:lnTo>
                <a:lnTo>
                  <a:pt x="52" y="150"/>
                </a:lnTo>
                <a:lnTo>
                  <a:pt x="49" y="158"/>
                </a:lnTo>
                <a:lnTo>
                  <a:pt x="45" y="164"/>
                </a:lnTo>
                <a:lnTo>
                  <a:pt x="44" y="171"/>
                </a:lnTo>
                <a:lnTo>
                  <a:pt x="40" y="177"/>
                </a:lnTo>
                <a:lnTo>
                  <a:pt x="37" y="186"/>
                </a:lnTo>
                <a:lnTo>
                  <a:pt x="36" y="192"/>
                </a:lnTo>
                <a:lnTo>
                  <a:pt x="34" y="199"/>
                </a:lnTo>
                <a:lnTo>
                  <a:pt x="32" y="207"/>
                </a:lnTo>
                <a:lnTo>
                  <a:pt x="31" y="215"/>
                </a:lnTo>
                <a:lnTo>
                  <a:pt x="29" y="223"/>
                </a:lnTo>
                <a:lnTo>
                  <a:pt x="29" y="231"/>
                </a:lnTo>
                <a:lnTo>
                  <a:pt x="27" y="239"/>
                </a:lnTo>
                <a:lnTo>
                  <a:pt x="27" y="248"/>
                </a:lnTo>
                <a:lnTo>
                  <a:pt x="27" y="256"/>
                </a:lnTo>
                <a:lnTo>
                  <a:pt x="27" y="265"/>
                </a:lnTo>
                <a:lnTo>
                  <a:pt x="27" y="274"/>
                </a:lnTo>
                <a:lnTo>
                  <a:pt x="29" y="283"/>
                </a:lnTo>
                <a:lnTo>
                  <a:pt x="31" y="293"/>
                </a:lnTo>
                <a:lnTo>
                  <a:pt x="34" y="303"/>
                </a:lnTo>
                <a:lnTo>
                  <a:pt x="13" y="324"/>
                </a:lnTo>
                <a:lnTo>
                  <a:pt x="11" y="323"/>
                </a:lnTo>
                <a:lnTo>
                  <a:pt x="11" y="318"/>
                </a:lnTo>
                <a:lnTo>
                  <a:pt x="9" y="314"/>
                </a:lnTo>
                <a:lnTo>
                  <a:pt x="8" y="311"/>
                </a:lnTo>
                <a:lnTo>
                  <a:pt x="6" y="308"/>
                </a:lnTo>
                <a:lnTo>
                  <a:pt x="5" y="305"/>
                </a:lnTo>
                <a:lnTo>
                  <a:pt x="3" y="298"/>
                </a:lnTo>
                <a:lnTo>
                  <a:pt x="3" y="295"/>
                </a:lnTo>
                <a:lnTo>
                  <a:pt x="1" y="290"/>
                </a:lnTo>
                <a:lnTo>
                  <a:pt x="1" y="285"/>
                </a:lnTo>
                <a:lnTo>
                  <a:pt x="0" y="278"/>
                </a:lnTo>
                <a:lnTo>
                  <a:pt x="0" y="274"/>
                </a:lnTo>
                <a:lnTo>
                  <a:pt x="0" y="269"/>
                </a:lnTo>
                <a:lnTo>
                  <a:pt x="1" y="264"/>
                </a:lnTo>
                <a:lnTo>
                  <a:pt x="1" y="264"/>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39080" y="4657680"/>
            <a:ext cx="128520" cy="285840"/>
          </a:xfrm>
          <a:custGeom>
            <a:avLst/>
            <a:gdLst/>
            <a:ahLst/>
            <a:rect l="l" t="t" r="r" b="b"/>
            <a:pathLst>
              <a:path w="161" h="358">
                <a:moveTo>
                  <a:pt x="32" y="13"/>
                </a:moveTo>
                <a:lnTo>
                  <a:pt x="34" y="14"/>
                </a:lnTo>
                <a:lnTo>
                  <a:pt x="37" y="18"/>
                </a:lnTo>
                <a:lnTo>
                  <a:pt x="40" y="21"/>
                </a:lnTo>
                <a:lnTo>
                  <a:pt x="44" y="26"/>
                </a:lnTo>
                <a:lnTo>
                  <a:pt x="49" y="29"/>
                </a:lnTo>
                <a:lnTo>
                  <a:pt x="53" y="36"/>
                </a:lnTo>
                <a:lnTo>
                  <a:pt x="58" y="41"/>
                </a:lnTo>
                <a:lnTo>
                  <a:pt x="63" y="47"/>
                </a:lnTo>
                <a:lnTo>
                  <a:pt x="67" y="50"/>
                </a:lnTo>
                <a:lnTo>
                  <a:pt x="70" y="54"/>
                </a:lnTo>
                <a:lnTo>
                  <a:pt x="71" y="57"/>
                </a:lnTo>
                <a:lnTo>
                  <a:pt x="75" y="62"/>
                </a:lnTo>
                <a:lnTo>
                  <a:pt x="78" y="67"/>
                </a:lnTo>
                <a:lnTo>
                  <a:pt x="81" y="70"/>
                </a:lnTo>
                <a:lnTo>
                  <a:pt x="84" y="73"/>
                </a:lnTo>
                <a:lnTo>
                  <a:pt x="88" y="80"/>
                </a:lnTo>
                <a:lnTo>
                  <a:pt x="89" y="83"/>
                </a:lnTo>
                <a:lnTo>
                  <a:pt x="94" y="88"/>
                </a:lnTo>
                <a:lnTo>
                  <a:pt x="96" y="93"/>
                </a:lnTo>
                <a:lnTo>
                  <a:pt x="101" y="99"/>
                </a:lnTo>
                <a:lnTo>
                  <a:pt x="104" y="104"/>
                </a:lnTo>
                <a:lnTo>
                  <a:pt x="107" y="109"/>
                </a:lnTo>
                <a:lnTo>
                  <a:pt x="109" y="114"/>
                </a:lnTo>
                <a:lnTo>
                  <a:pt x="112" y="120"/>
                </a:lnTo>
                <a:lnTo>
                  <a:pt x="115" y="125"/>
                </a:lnTo>
                <a:lnTo>
                  <a:pt x="119" y="132"/>
                </a:lnTo>
                <a:lnTo>
                  <a:pt x="122" y="138"/>
                </a:lnTo>
                <a:lnTo>
                  <a:pt x="125" y="145"/>
                </a:lnTo>
                <a:lnTo>
                  <a:pt x="127" y="150"/>
                </a:lnTo>
                <a:lnTo>
                  <a:pt x="130" y="156"/>
                </a:lnTo>
                <a:lnTo>
                  <a:pt x="133" y="163"/>
                </a:lnTo>
                <a:lnTo>
                  <a:pt x="135" y="171"/>
                </a:lnTo>
                <a:lnTo>
                  <a:pt x="137" y="176"/>
                </a:lnTo>
                <a:lnTo>
                  <a:pt x="140" y="184"/>
                </a:lnTo>
                <a:lnTo>
                  <a:pt x="143" y="191"/>
                </a:lnTo>
                <a:lnTo>
                  <a:pt x="145" y="199"/>
                </a:lnTo>
                <a:lnTo>
                  <a:pt x="146" y="207"/>
                </a:lnTo>
                <a:lnTo>
                  <a:pt x="148" y="213"/>
                </a:lnTo>
                <a:lnTo>
                  <a:pt x="151" y="222"/>
                </a:lnTo>
                <a:lnTo>
                  <a:pt x="153" y="230"/>
                </a:lnTo>
                <a:lnTo>
                  <a:pt x="155" y="238"/>
                </a:lnTo>
                <a:lnTo>
                  <a:pt x="156" y="244"/>
                </a:lnTo>
                <a:lnTo>
                  <a:pt x="158" y="253"/>
                </a:lnTo>
                <a:lnTo>
                  <a:pt x="158" y="261"/>
                </a:lnTo>
                <a:lnTo>
                  <a:pt x="159" y="269"/>
                </a:lnTo>
                <a:lnTo>
                  <a:pt x="159" y="279"/>
                </a:lnTo>
                <a:lnTo>
                  <a:pt x="161" y="287"/>
                </a:lnTo>
                <a:lnTo>
                  <a:pt x="161" y="297"/>
                </a:lnTo>
                <a:lnTo>
                  <a:pt x="161" y="305"/>
                </a:lnTo>
                <a:lnTo>
                  <a:pt x="161" y="313"/>
                </a:lnTo>
                <a:lnTo>
                  <a:pt x="161" y="323"/>
                </a:lnTo>
                <a:lnTo>
                  <a:pt x="161" y="332"/>
                </a:lnTo>
                <a:lnTo>
                  <a:pt x="146" y="358"/>
                </a:lnTo>
                <a:lnTo>
                  <a:pt x="146" y="357"/>
                </a:lnTo>
                <a:lnTo>
                  <a:pt x="146" y="355"/>
                </a:lnTo>
                <a:lnTo>
                  <a:pt x="146" y="352"/>
                </a:lnTo>
                <a:lnTo>
                  <a:pt x="146" y="349"/>
                </a:lnTo>
                <a:lnTo>
                  <a:pt x="146" y="342"/>
                </a:lnTo>
                <a:lnTo>
                  <a:pt x="146" y="337"/>
                </a:lnTo>
                <a:lnTo>
                  <a:pt x="145" y="334"/>
                </a:lnTo>
                <a:lnTo>
                  <a:pt x="145" y="329"/>
                </a:lnTo>
                <a:lnTo>
                  <a:pt x="145" y="326"/>
                </a:lnTo>
                <a:lnTo>
                  <a:pt x="145" y="323"/>
                </a:lnTo>
                <a:lnTo>
                  <a:pt x="145" y="318"/>
                </a:lnTo>
                <a:lnTo>
                  <a:pt x="145" y="313"/>
                </a:lnTo>
                <a:lnTo>
                  <a:pt x="143" y="310"/>
                </a:lnTo>
                <a:lnTo>
                  <a:pt x="143" y="305"/>
                </a:lnTo>
                <a:lnTo>
                  <a:pt x="143" y="300"/>
                </a:lnTo>
                <a:lnTo>
                  <a:pt x="141" y="293"/>
                </a:lnTo>
                <a:lnTo>
                  <a:pt x="141" y="288"/>
                </a:lnTo>
                <a:lnTo>
                  <a:pt x="141" y="283"/>
                </a:lnTo>
                <a:lnTo>
                  <a:pt x="140" y="277"/>
                </a:lnTo>
                <a:lnTo>
                  <a:pt x="140" y="272"/>
                </a:lnTo>
                <a:lnTo>
                  <a:pt x="138" y="266"/>
                </a:lnTo>
                <a:lnTo>
                  <a:pt x="137" y="261"/>
                </a:lnTo>
                <a:lnTo>
                  <a:pt x="135" y="254"/>
                </a:lnTo>
                <a:lnTo>
                  <a:pt x="135" y="248"/>
                </a:lnTo>
                <a:lnTo>
                  <a:pt x="133" y="243"/>
                </a:lnTo>
                <a:lnTo>
                  <a:pt x="132" y="236"/>
                </a:lnTo>
                <a:lnTo>
                  <a:pt x="130" y="230"/>
                </a:lnTo>
                <a:lnTo>
                  <a:pt x="128" y="223"/>
                </a:lnTo>
                <a:lnTo>
                  <a:pt x="127" y="217"/>
                </a:lnTo>
                <a:lnTo>
                  <a:pt x="124" y="210"/>
                </a:lnTo>
                <a:lnTo>
                  <a:pt x="122" y="202"/>
                </a:lnTo>
                <a:lnTo>
                  <a:pt x="120" y="197"/>
                </a:lnTo>
                <a:lnTo>
                  <a:pt x="117" y="189"/>
                </a:lnTo>
                <a:lnTo>
                  <a:pt x="115" y="182"/>
                </a:lnTo>
                <a:lnTo>
                  <a:pt x="112" y="176"/>
                </a:lnTo>
                <a:lnTo>
                  <a:pt x="109" y="169"/>
                </a:lnTo>
                <a:lnTo>
                  <a:pt x="106" y="163"/>
                </a:lnTo>
                <a:lnTo>
                  <a:pt x="104" y="155"/>
                </a:lnTo>
                <a:lnTo>
                  <a:pt x="101" y="148"/>
                </a:lnTo>
                <a:lnTo>
                  <a:pt x="96" y="142"/>
                </a:lnTo>
                <a:lnTo>
                  <a:pt x="93" y="135"/>
                </a:lnTo>
                <a:lnTo>
                  <a:pt x="89" y="129"/>
                </a:lnTo>
                <a:lnTo>
                  <a:pt x="84" y="122"/>
                </a:lnTo>
                <a:lnTo>
                  <a:pt x="80" y="116"/>
                </a:lnTo>
                <a:lnTo>
                  <a:pt x="76" y="109"/>
                </a:lnTo>
                <a:lnTo>
                  <a:pt x="71" y="102"/>
                </a:lnTo>
                <a:lnTo>
                  <a:pt x="67" y="96"/>
                </a:lnTo>
                <a:lnTo>
                  <a:pt x="62" y="89"/>
                </a:lnTo>
                <a:lnTo>
                  <a:pt x="55" y="83"/>
                </a:lnTo>
                <a:lnTo>
                  <a:pt x="50" y="76"/>
                </a:lnTo>
                <a:lnTo>
                  <a:pt x="45" y="70"/>
                </a:lnTo>
                <a:lnTo>
                  <a:pt x="39" y="65"/>
                </a:lnTo>
                <a:lnTo>
                  <a:pt x="32" y="58"/>
                </a:lnTo>
                <a:lnTo>
                  <a:pt x="27" y="54"/>
                </a:lnTo>
                <a:lnTo>
                  <a:pt x="19" y="47"/>
                </a:lnTo>
                <a:lnTo>
                  <a:pt x="13" y="42"/>
                </a:lnTo>
                <a:lnTo>
                  <a:pt x="6" y="37"/>
                </a:lnTo>
                <a:lnTo>
                  <a:pt x="0" y="32"/>
                </a:lnTo>
                <a:lnTo>
                  <a:pt x="5" y="0"/>
                </a:lnTo>
                <a:lnTo>
                  <a:pt x="32" y="13"/>
                </a:lnTo>
                <a:lnTo>
                  <a:pt x="32" y="1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711840" y="4403880"/>
            <a:ext cx="44640" cy="158760"/>
          </a:xfrm>
          <a:custGeom>
            <a:avLst/>
            <a:gdLst/>
            <a:ahLst/>
            <a:rect l="l" t="t" r="r" b="b"/>
            <a:pathLst>
              <a:path w="56" h="201">
                <a:moveTo>
                  <a:pt x="10" y="168"/>
                </a:moveTo>
                <a:lnTo>
                  <a:pt x="10" y="168"/>
                </a:lnTo>
                <a:lnTo>
                  <a:pt x="10" y="167"/>
                </a:lnTo>
                <a:lnTo>
                  <a:pt x="10" y="162"/>
                </a:lnTo>
                <a:lnTo>
                  <a:pt x="12" y="159"/>
                </a:lnTo>
                <a:lnTo>
                  <a:pt x="13" y="152"/>
                </a:lnTo>
                <a:lnTo>
                  <a:pt x="15" y="146"/>
                </a:lnTo>
                <a:lnTo>
                  <a:pt x="15" y="141"/>
                </a:lnTo>
                <a:lnTo>
                  <a:pt x="17" y="137"/>
                </a:lnTo>
                <a:lnTo>
                  <a:pt x="17" y="133"/>
                </a:lnTo>
                <a:lnTo>
                  <a:pt x="18" y="129"/>
                </a:lnTo>
                <a:lnTo>
                  <a:pt x="18" y="123"/>
                </a:lnTo>
                <a:lnTo>
                  <a:pt x="18" y="118"/>
                </a:lnTo>
                <a:lnTo>
                  <a:pt x="20" y="111"/>
                </a:lnTo>
                <a:lnTo>
                  <a:pt x="20" y="105"/>
                </a:lnTo>
                <a:lnTo>
                  <a:pt x="20" y="102"/>
                </a:lnTo>
                <a:lnTo>
                  <a:pt x="20" y="98"/>
                </a:lnTo>
                <a:lnTo>
                  <a:pt x="20" y="93"/>
                </a:lnTo>
                <a:lnTo>
                  <a:pt x="22" y="90"/>
                </a:lnTo>
                <a:lnTo>
                  <a:pt x="22" y="87"/>
                </a:lnTo>
                <a:lnTo>
                  <a:pt x="22" y="84"/>
                </a:lnTo>
                <a:lnTo>
                  <a:pt x="22" y="79"/>
                </a:lnTo>
                <a:lnTo>
                  <a:pt x="23" y="77"/>
                </a:lnTo>
                <a:lnTo>
                  <a:pt x="23" y="72"/>
                </a:lnTo>
                <a:lnTo>
                  <a:pt x="23" y="67"/>
                </a:lnTo>
                <a:lnTo>
                  <a:pt x="23" y="62"/>
                </a:lnTo>
                <a:lnTo>
                  <a:pt x="23" y="59"/>
                </a:lnTo>
                <a:lnTo>
                  <a:pt x="23" y="54"/>
                </a:lnTo>
                <a:lnTo>
                  <a:pt x="23" y="49"/>
                </a:lnTo>
                <a:lnTo>
                  <a:pt x="23" y="45"/>
                </a:lnTo>
                <a:lnTo>
                  <a:pt x="23" y="41"/>
                </a:lnTo>
                <a:lnTo>
                  <a:pt x="23" y="35"/>
                </a:lnTo>
                <a:lnTo>
                  <a:pt x="23" y="31"/>
                </a:lnTo>
                <a:lnTo>
                  <a:pt x="23" y="25"/>
                </a:lnTo>
                <a:lnTo>
                  <a:pt x="23" y="22"/>
                </a:lnTo>
                <a:lnTo>
                  <a:pt x="23" y="15"/>
                </a:lnTo>
                <a:lnTo>
                  <a:pt x="23" y="10"/>
                </a:lnTo>
                <a:lnTo>
                  <a:pt x="23" y="4"/>
                </a:lnTo>
                <a:lnTo>
                  <a:pt x="23" y="0"/>
                </a:lnTo>
                <a:lnTo>
                  <a:pt x="41" y="23"/>
                </a:lnTo>
                <a:lnTo>
                  <a:pt x="41" y="23"/>
                </a:lnTo>
                <a:lnTo>
                  <a:pt x="41" y="27"/>
                </a:lnTo>
                <a:lnTo>
                  <a:pt x="41" y="28"/>
                </a:lnTo>
                <a:lnTo>
                  <a:pt x="43" y="31"/>
                </a:lnTo>
                <a:lnTo>
                  <a:pt x="43" y="35"/>
                </a:lnTo>
                <a:lnTo>
                  <a:pt x="43" y="40"/>
                </a:lnTo>
                <a:lnTo>
                  <a:pt x="43" y="43"/>
                </a:lnTo>
                <a:lnTo>
                  <a:pt x="44" y="48"/>
                </a:lnTo>
                <a:lnTo>
                  <a:pt x="46" y="51"/>
                </a:lnTo>
                <a:lnTo>
                  <a:pt x="46" y="58"/>
                </a:lnTo>
                <a:lnTo>
                  <a:pt x="48" y="62"/>
                </a:lnTo>
                <a:lnTo>
                  <a:pt x="49" y="67"/>
                </a:lnTo>
                <a:lnTo>
                  <a:pt x="49" y="74"/>
                </a:lnTo>
                <a:lnTo>
                  <a:pt x="51" y="79"/>
                </a:lnTo>
                <a:lnTo>
                  <a:pt x="51" y="85"/>
                </a:lnTo>
                <a:lnTo>
                  <a:pt x="53" y="92"/>
                </a:lnTo>
                <a:lnTo>
                  <a:pt x="53" y="97"/>
                </a:lnTo>
                <a:lnTo>
                  <a:pt x="54" y="105"/>
                </a:lnTo>
                <a:lnTo>
                  <a:pt x="54" y="110"/>
                </a:lnTo>
                <a:lnTo>
                  <a:pt x="54" y="116"/>
                </a:lnTo>
                <a:lnTo>
                  <a:pt x="54" y="123"/>
                </a:lnTo>
                <a:lnTo>
                  <a:pt x="56" y="129"/>
                </a:lnTo>
                <a:lnTo>
                  <a:pt x="56" y="134"/>
                </a:lnTo>
                <a:lnTo>
                  <a:pt x="56" y="141"/>
                </a:lnTo>
                <a:lnTo>
                  <a:pt x="56" y="147"/>
                </a:lnTo>
                <a:lnTo>
                  <a:pt x="56" y="152"/>
                </a:lnTo>
                <a:lnTo>
                  <a:pt x="56" y="159"/>
                </a:lnTo>
                <a:lnTo>
                  <a:pt x="56" y="164"/>
                </a:lnTo>
                <a:lnTo>
                  <a:pt x="54" y="168"/>
                </a:lnTo>
                <a:lnTo>
                  <a:pt x="54" y="175"/>
                </a:lnTo>
                <a:lnTo>
                  <a:pt x="0" y="201"/>
                </a:lnTo>
                <a:lnTo>
                  <a:pt x="10" y="168"/>
                </a:lnTo>
                <a:lnTo>
                  <a:pt x="10" y="16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632560" y="2660760"/>
            <a:ext cx="250560" cy="161640"/>
          </a:xfrm>
          <a:custGeom>
            <a:avLst/>
            <a:gdLst/>
            <a:ahLst/>
            <a:rect l="l" t="t" r="r" b="b"/>
            <a:pathLst>
              <a:path w="158" h="102">
                <a:moveTo>
                  <a:pt x="30" y="0"/>
                </a:moveTo>
                <a:cubicBezTo>
                  <a:pt x="52" y="10"/>
                  <a:pt x="130" y="62"/>
                  <a:pt x="151" y="77"/>
                </a:cubicBezTo>
                <a:cubicBezTo>
                  <a:pt x="152" y="80"/>
                  <a:pt x="153" y="84"/>
                  <a:pt x="154" y="87"/>
                </a:cubicBezTo>
                <a:cubicBezTo>
                  <a:pt x="155" y="90"/>
                  <a:pt x="158" y="95"/>
                  <a:pt x="158" y="95"/>
                </a:cubicBezTo>
                <a:cubicBezTo>
                  <a:pt x="155" y="100"/>
                  <a:pt x="153" y="100"/>
                  <a:pt x="146" y="102"/>
                </a:cubicBezTo>
                <a:cubicBezTo>
                  <a:pt x="132" y="101"/>
                  <a:pt x="112" y="100"/>
                  <a:pt x="98" y="95"/>
                </a:cubicBezTo>
                <a:cubicBezTo>
                  <a:pt x="78" y="89"/>
                  <a:pt x="42" y="70"/>
                  <a:pt x="28" y="64"/>
                </a:cubicBezTo>
                <a:cubicBezTo>
                  <a:pt x="12" y="56"/>
                  <a:pt x="1" y="53"/>
                  <a:pt x="0" y="45"/>
                </a:cubicBezTo>
                <a:cubicBezTo>
                  <a:pt x="3" y="33"/>
                  <a:pt x="4" y="25"/>
                  <a:pt x="19" y="18"/>
                </a:cubicBezTo>
                <a:cubicBezTo>
                  <a:pt x="22" y="12"/>
                  <a:pt x="30" y="7"/>
                  <a:pt x="30" y="0"/>
                </a:cubicBez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1261800">
            <a:off x="5668560" y="2716200"/>
            <a:ext cx="98640" cy="4284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42" name=""/>
          <p:cNvSpPr/>
          <p:nvPr/>
        </p:nvSpPr>
        <p:spPr>
          <a:xfrm>
            <a:off x="5791320" y="5522760"/>
            <a:ext cx="1805040" cy="300240"/>
          </a:xfrm>
          <a:custGeom>
            <a:avLst/>
            <a:gdLst/>
            <a:ahLst/>
            <a:rect l="l" t="t" r="r" b="b"/>
            <a:pathLst>
              <a:path w="1137" h="189">
                <a:moveTo>
                  <a:pt x="689" y="27"/>
                </a:moveTo>
                <a:cubicBezTo>
                  <a:pt x="512" y="32"/>
                  <a:pt x="388" y="0"/>
                  <a:pt x="199" y="37"/>
                </a:cubicBezTo>
                <a:cubicBezTo>
                  <a:pt x="79" y="57"/>
                  <a:pt x="22" y="156"/>
                  <a:pt x="0" y="173"/>
                </a:cubicBezTo>
                <a:cubicBezTo>
                  <a:pt x="0" y="189"/>
                  <a:pt x="110" y="174"/>
                  <a:pt x="190" y="178"/>
                </a:cubicBezTo>
                <a:cubicBezTo>
                  <a:pt x="272" y="179"/>
                  <a:pt x="384" y="185"/>
                  <a:pt x="453" y="185"/>
                </a:cubicBezTo>
                <a:cubicBezTo>
                  <a:pt x="522" y="185"/>
                  <a:pt x="494" y="179"/>
                  <a:pt x="606" y="178"/>
                </a:cubicBezTo>
                <a:cubicBezTo>
                  <a:pt x="718" y="177"/>
                  <a:pt x="1045" y="183"/>
                  <a:pt x="1128" y="176"/>
                </a:cubicBezTo>
                <a:cubicBezTo>
                  <a:pt x="1137" y="176"/>
                  <a:pt x="1110" y="141"/>
                  <a:pt x="1104" y="135"/>
                </a:cubicBezTo>
                <a:cubicBezTo>
                  <a:pt x="1091" y="117"/>
                  <a:pt x="1001" y="83"/>
                  <a:pt x="948" y="65"/>
                </a:cubicBezTo>
                <a:cubicBezTo>
                  <a:pt x="879" y="47"/>
                  <a:pt x="722" y="35"/>
                  <a:pt x="689" y="27"/>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799240" y="5545080"/>
            <a:ext cx="1806480" cy="249120"/>
          </a:xfrm>
          <a:custGeom>
            <a:avLst/>
            <a:gdLst/>
            <a:ahLst/>
            <a:rect l="l" t="t" r="r" b="b"/>
            <a:pathLst>
              <a:path w="1138" h="157">
                <a:moveTo>
                  <a:pt x="0" y="157"/>
                </a:moveTo>
                <a:cubicBezTo>
                  <a:pt x="4" y="151"/>
                  <a:pt x="9" y="134"/>
                  <a:pt x="23" y="119"/>
                </a:cubicBezTo>
                <a:cubicBezTo>
                  <a:pt x="37" y="104"/>
                  <a:pt x="65" y="80"/>
                  <a:pt x="86" y="66"/>
                </a:cubicBezTo>
                <a:cubicBezTo>
                  <a:pt x="107" y="52"/>
                  <a:pt x="123" y="43"/>
                  <a:pt x="149" y="33"/>
                </a:cubicBezTo>
                <a:cubicBezTo>
                  <a:pt x="175" y="23"/>
                  <a:pt x="183" y="8"/>
                  <a:pt x="245" y="4"/>
                </a:cubicBezTo>
                <a:cubicBezTo>
                  <a:pt x="307" y="0"/>
                  <a:pt x="461" y="8"/>
                  <a:pt x="523" y="9"/>
                </a:cubicBezTo>
                <a:cubicBezTo>
                  <a:pt x="585" y="10"/>
                  <a:pt x="554" y="6"/>
                  <a:pt x="619" y="11"/>
                </a:cubicBezTo>
                <a:cubicBezTo>
                  <a:pt x="684" y="16"/>
                  <a:pt x="844" y="27"/>
                  <a:pt x="914" y="39"/>
                </a:cubicBezTo>
                <a:cubicBezTo>
                  <a:pt x="984" y="51"/>
                  <a:pt x="1005" y="63"/>
                  <a:pt x="1042" y="82"/>
                </a:cubicBezTo>
                <a:cubicBezTo>
                  <a:pt x="1079" y="101"/>
                  <a:pt x="1122" y="141"/>
                  <a:pt x="1138" y="153"/>
                </a:cubicBezTo>
              </a:path>
            </a:pathLst>
          </a:custGeom>
          <a:noFill/>
          <a:ln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807160" y="5800680"/>
            <a:ext cx="1785960" cy="4680"/>
          </a:xfrm>
          <a:prstGeom prst="line">
            <a:avLst/>
          </a:prstGeom>
          <a:ln w="44280">
            <a:solidFill>
              <a:srgbClr val="8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5" name=""/>
          <p:cNvSpPr/>
          <p:nvPr/>
        </p:nvSpPr>
        <p:spPr>
          <a:xfrm>
            <a:off x="2944800" y="1797120"/>
            <a:ext cx="3232080" cy="38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209"/>
                                        </p:tgtEl>
                                        <p:attrNameLst>
                                          <p:attrName>style.visibility</p:attrName>
                                        </p:attrNameLst>
                                      </p:cBhvr>
                                      <p:to>
                                        <p:strVal val="visible"/>
                                      </p:to>
                                    </p:set>
                                    <p:animEffect filter="dissolve" transition="in">
                                      <p:cBhvr additive="repl">
                                        <p:cTn id="53" dur="500"/>
                                        <p:tgtEl>
                                          <p:spTgt spid="209"/>
                                        </p:tgtEl>
                                      </p:cBhvr>
                                    </p:animEffect>
                                  </p:childTnLst>
                                </p:cTn>
                              </p:par>
                              <p:par>
                                <p:cTn id="54" nodeType="withEffect" fill="hold" presetClass="entr" presetID="9">
                                  <p:stCondLst>
                                    <p:cond delay="0"/>
                                  </p:stCondLst>
                                  <p:childTnLst>
                                    <p:set>
                                      <p:cBhvr>
                                        <p:cTn id="55" dur="1" fill="hold">
                                          <p:stCondLst>
                                            <p:cond delay="0"/>
                                          </p:stCondLst>
                                        </p:cTn>
                                        <p:tgtEl>
                                          <p:spTgt spid="245"/>
                                        </p:tgtEl>
                                        <p:attrNameLst>
                                          <p:attrName>style.visibility</p:attrName>
                                        </p:attrNameLst>
                                      </p:cBhvr>
                                      <p:to>
                                        <p:strVal val="visible"/>
                                      </p:to>
                                    </p:set>
                                    <p:animEffect filter="dissolve" transition="in">
                                      <p:cBhvr additive="repl">
                                        <p:cTn id="56" dur="500"/>
                                        <p:tgtEl>
                                          <p:spTgt spid="245"/>
                                        </p:tgtEl>
                                      </p:cBhvr>
                                    </p:animEffect>
                                  </p:childTnLst>
                                </p:cTn>
                              </p:par>
                              <p:par>
                                <p:cTn id="57" nodeType="withEffect" fill="hold" presetClass="entr" presetID="9">
                                  <p:stCondLst>
                                    <p:cond delay="0"/>
                                  </p:stCondLst>
                                  <p:childTnLst>
                                    <p:set>
                                      <p:cBhvr>
                                        <p:cTn id="58" dur="1" fill="hold">
                                          <p:stCondLst>
                                            <p:cond delay="0"/>
                                          </p:stCondLst>
                                        </p:cTn>
                                        <p:tgtEl>
                                          <p:spTgt spid="210"/>
                                        </p:tgtEl>
                                        <p:attrNameLst>
                                          <p:attrName>style.visibility</p:attrName>
                                        </p:attrNameLst>
                                      </p:cBhvr>
                                      <p:to>
                                        <p:strVal val="visible"/>
                                      </p:to>
                                    </p:set>
                                    <p:animEffect filter="dissolve" transition="in">
                                      <p:cBhvr additive="repl">
                                        <p:cTn id="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ghing is a Symptom</a:t>
            </a:r>
            <a:endParaRPr b="0" lang="en-US" sz="4400" spc="-1" strike="noStrike">
              <a:solidFill>
                <a:srgbClr val="000000"/>
              </a:solidFill>
              <a:latin typeface="Times New Roman"/>
            </a:endParaRPr>
          </a:p>
        </p:txBody>
      </p:sp>
      <p:sp>
        <p:nvSpPr>
          <p:cNvPr id="247" name="PlaceHolder 2"/>
          <p:cNvSpPr>
            <a:spLocks noGrp="1"/>
          </p:cNvSpPr>
          <p:nvPr>
            <p:ph/>
          </p:nvPr>
        </p:nvSpPr>
        <p:spPr>
          <a:xfrm>
            <a:off x="498240" y="1480680"/>
            <a:ext cx="5521320" cy="358164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gh in response to irritants that excite cough receptors in the lungs and airwa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tants can include allergens, dust, and infections that cause irritation.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excess mucus is produced to trap the irritants in the lungs or airways.  The body coughs to try to expel the muc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8" name="" descr=""/>
          <p:cNvPicPr/>
          <p:nvPr/>
        </p:nvPicPr>
        <p:blipFill>
          <a:blip r:embed="rId2"/>
          <a:stretch/>
        </p:blipFill>
        <p:spPr>
          <a:xfrm>
            <a:off x="6400800" y="2133720"/>
            <a:ext cx="2209680" cy="2209680"/>
          </a:xfrm>
          <a:prstGeom prst="rect">
            <a:avLst/>
          </a:prstGeom>
          <a:ln w="38160">
            <a:solidFill>
              <a:srgbClr val="673c2c"/>
            </a:solidFill>
            <a:miter/>
          </a:ln>
        </p:spPr>
      </p:pic>
      <p:sp>
        <p:nvSpPr>
          <p:cNvPr id="249" name=""/>
          <p:cNvSpPr/>
          <p:nvPr/>
        </p:nvSpPr>
        <p:spPr>
          <a:xfrm>
            <a:off x="1209600" y="5408640"/>
            <a:ext cx="652464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es this give you any clues about the cause of the workers’ coughs?</a:t>
            </a:r>
            <a:endParaRPr b="0" lang="en-US" sz="2800" spc="-1" strike="noStrike">
              <a:solidFill>
                <a:srgbClr val="000000"/>
              </a:solidFill>
              <a:latin typeface="Arial"/>
            </a:endParaRPr>
          </a:p>
        </p:txBody>
      </p:sp>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4557600" y="45277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40160" y="2909880"/>
            <a:ext cx="2259360" cy="2049480"/>
          </a:xfrm>
          <a:custGeom>
            <a:avLst/>
            <a:gdLst/>
            <a:ahLst/>
            <a:rect l="l" t="t" r="r" b="b"/>
            <a:pathLst>
              <a:path w="1423" h="1291">
                <a:moveTo>
                  <a:pt x="837" y="1291"/>
                </a:moveTo>
                <a:cubicBezTo>
                  <a:pt x="901" y="1252"/>
                  <a:pt x="1189" y="1159"/>
                  <a:pt x="1219" y="1053"/>
                </a:cubicBezTo>
                <a:cubicBezTo>
                  <a:pt x="1249" y="947"/>
                  <a:pt x="1062" y="761"/>
                  <a:pt x="1014" y="656"/>
                </a:cubicBezTo>
                <a:cubicBezTo>
                  <a:pt x="966" y="551"/>
                  <a:pt x="912" y="479"/>
                  <a:pt x="931" y="420"/>
                </a:cubicBezTo>
                <a:cubicBezTo>
                  <a:pt x="950" y="361"/>
                  <a:pt x="1054" y="343"/>
                  <a:pt x="1128" y="302"/>
                </a:cubicBezTo>
                <a:cubicBezTo>
                  <a:pt x="1202" y="261"/>
                  <a:pt x="1324" y="209"/>
                  <a:pt x="1372" y="173"/>
                </a:cubicBezTo>
                <a:cubicBezTo>
                  <a:pt x="1420" y="137"/>
                  <a:pt x="1423" y="111"/>
                  <a:pt x="1413" y="88"/>
                </a:cubicBezTo>
                <a:cubicBezTo>
                  <a:pt x="1403" y="65"/>
                  <a:pt x="1404" y="51"/>
                  <a:pt x="1311" y="37"/>
                </a:cubicBezTo>
                <a:cubicBezTo>
                  <a:pt x="1218" y="23"/>
                  <a:pt x="1028" y="10"/>
                  <a:pt x="853" y="6"/>
                </a:cubicBezTo>
                <a:cubicBezTo>
                  <a:pt x="678" y="2"/>
                  <a:pt x="397" y="0"/>
                  <a:pt x="261" y="16"/>
                </a:cubicBezTo>
                <a:cubicBezTo>
                  <a:pt x="125" y="32"/>
                  <a:pt x="0" y="73"/>
                  <a:pt x="36" y="104"/>
                </a:cubicBezTo>
                <a:cubicBezTo>
                  <a:pt x="72" y="135"/>
                  <a:pt x="321" y="184"/>
                  <a:pt x="476" y="200"/>
                </a:cubicBezTo>
                <a:cubicBezTo>
                  <a:pt x="631" y="216"/>
                  <a:pt x="833" y="209"/>
                  <a:pt x="967" y="200"/>
                </a:cubicBezTo>
                <a:cubicBezTo>
                  <a:pt x="1101" y="191"/>
                  <a:pt x="1204" y="161"/>
                  <a:pt x="1279" y="144"/>
                </a:cubicBezTo>
                <a:cubicBezTo>
                  <a:pt x="1354" y="127"/>
                  <a:pt x="1388" y="106"/>
                  <a:pt x="1416" y="96"/>
                </a:cubicBez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36200" y="1397520"/>
            <a:ext cx="1857600" cy="1236240"/>
            <a:chOff x="7036200" y="1397520"/>
            <a:chExt cx="1857600" cy="1236240"/>
          </a:xfrm>
        </p:grpSpPr>
        <p:sp>
          <p:nvSpPr>
            <p:cNvPr id="254" name=""/>
            <p:cNvSpPr/>
            <p:nvPr/>
          </p:nvSpPr>
          <p:spPr>
            <a:xfrm rot="21468000">
              <a:off x="7146000" y="1494360"/>
              <a:ext cx="1635120" cy="109080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7036200" y="1397520"/>
              <a:ext cx="1857600" cy="1236240"/>
              <a:chOff x="7036200" y="1397520"/>
              <a:chExt cx="1857600" cy="1236240"/>
            </a:xfrm>
          </p:grpSpPr>
          <p:sp>
            <p:nvSpPr>
              <p:cNvPr id="256" name=""/>
              <p:cNvSpPr/>
              <p:nvPr/>
            </p:nvSpPr>
            <p:spPr>
              <a:xfrm rot="21468000">
                <a:off x="7728120" y="227736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21468000">
                <a:off x="8208360" y="20822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21468000">
                <a:off x="7861680" y="190188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9" name=""/>
              <p:cNvSpPr/>
              <p:nvPr/>
            </p:nvSpPr>
            <p:spPr>
              <a:xfrm rot="21468000">
                <a:off x="7940520" y="16880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21468000">
                <a:off x="7715160" y="175752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1" name=""/>
              <p:cNvSpPr/>
              <p:nvPr/>
            </p:nvSpPr>
            <p:spPr>
              <a:xfrm rot="21468000">
                <a:off x="7057800" y="1431720"/>
                <a:ext cx="1814040" cy="116748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63"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65"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68"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69" name=""/>
          <p:cNvGrpSpPr/>
          <p:nvPr/>
        </p:nvGrpSpPr>
        <p:grpSpPr>
          <a:xfrm>
            <a:off x="7050600" y="1395720"/>
            <a:ext cx="1857600" cy="1236600"/>
            <a:chOff x="7050600" y="1395720"/>
            <a:chExt cx="1857600" cy="1236600"/>
          </a:xfrm>
        </p:grpSpPr>
        <p:sp>
          <p:nvSpPr>
            <p:cNvPr id="270"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7050600" y="1395720"/>
              <a:ext cx="1857600" cy="1236600"/>
              <a:chOff x="7050600" y="1395720"/>
              <a:chExt cx="1857600" cy="1236600"/>
            </a:xfrm>
          </p:grpSpPr>
          <p:sp>
            <p:nvSpPr>
              <p:cNvPr id="272"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5"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7"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8" name=""/>
          <p:cNvGrpSpPr/>
          <p:nvPr/>
        </p:nvGrpSpPr>
        <p:grpSpPr>
          <a:xfrm>
            <a:off x="5608800" y="4459320"/>
            <a:ext cx="985680" cy="477720"/>
            <a:chOff x="5608800" y="4459320"/>
            <a:chExt cx="985680" cy="477720"/>
          </a:xfrm>
        </p:grpSpPr>
        <p:sp>
          <p:nvSpPr>
            <p:cNvPr id="279"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1"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7"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4572000" y="4525920"/>
            <a:ext cx="3392640" cy="1965240"/>
          </a:xfrm>
          <a:custGeom>
            <a:avLst/>
            <a:gdLst/>
            <a:ahLst/>
            <a:rect l="l" t="t" r="r" b="b"/>
            <a:pathLst>
              <a:path w="2137" h="1238">
                <a:moveTo>
                  <a:pt x="1632" y="1175"/>
                </a:moveTo>
                <a:cubicBezTo>
                  <a:pt x="1665" y="1187"/>
                  <a:pt x="1954" y="1125"/>
                  <a:pt x="1971" y="1091"/>
                </a:cubicBezTo>
                <a:cubicBezTo>
                  <a:pt x="1988" y="1057"/>
                  <a:pt x="1716" y="1007"/>
                  <a:pt x="1734" y="970"/>
                </a:cubicBezTo>
                <a:cubicBezTo>
                  <a:pt x="1686" y="897"/>
                  <a:pt x="2137" y="925"/>
                  <a:pt x="2080" y="867"/>
                </a:cubicBezTo>
                <a:cubicBezTo>
                  <a:pt x="2017" y="788"/>
                  <a:pt x="1517" y="624"/>
                  <a:pt x="1468" y="555"/>
                </a:cubicBezTo>
                <a:cubicBezTo>
                  <a:pt x="1431" y="497"/>
                  <a:pt x="1422" y="512"/>
                  <a:pt x="1389" y="464"/>
                </a:cubicBezTo>
                <a:cubicBezTo>
                  <a:pt x="1373" y="439"/>
                  <a:pt x="1319" y="409"/>
                  <a:pt x="1280" y="349"/>
                </a:cubicBezTo>
                <a:cubicBezTo>
                  <a:pt x="1241" y="289"/>
                  <a:pt x="1206" y="161"/>
                  <a:pt x="1155" y="103"/>
                </a:cubicBezTo>
                <a:cubicBezTo>
                  <a:pt x="1102" y="60"/>
                  <a:pt x="1024" y="6"/>
                  <a:pt x="972" y="0"/>
                </a:cubicBezTo>
                <a:cubicBezTo>
                  <a:pt x="904" y="11"/>
                  <a:pt x="860" y="34"/>
                  <a:pt x="803" y="78"/>
                </a:cubicBezTo>
                <a:cubicBezTo>
                  <a:pt x="755" y="134"/>
                  <a:pt x="725" y="270"/>
                  <a:pt x="685" y="349"/>
                </a:cubicBezTo>
                <a:cubicBezTo>
                  <a:pt x="644" y="412"/>
                  <a:pt x="559" y="522"/>
                  <a:pt x="521" y="583"/>
                </a:cubicBezTo>
                <a:cubicBezTo>
                  <a:pt x="488" y="676"/>
                  <a:pt x="447" y="770"/>
                  <a:pt x="422" y="848"/>
                </a:cubicBezTo>
                <a:cubicBezTo>
                  <a:pt x="407" y="883"/>
                  <a:pt x="0" y="975"/>
                  <a:pt x="19" y="1002"/>
                </a:cubicBezTo>
                <a:cubicBezTo>
                  <a:pt x="54" y="1039"/>
                  <a:pt x="356" y="1075"/>
                  <a:pt x="384" y="1079"/>
                </a:cubicBezTo>
                <a:cubicBezTo>
                  <a:pt x="473" y="1097"/>
                  <a:pt x="273" y="1130"/>
                  <a:pt x="264" y="1178"/>
                </a:cubicBezTo>
                <a:cubicBezTo>
                  <a:pt x="282" y="1215"/>
                  <a:pt x="454" y="1211"/>
                  <a:pt x="525" y="1200"/>
                </a:cubicBezTo>
                <a:cubicBezTo>
                  <a:pt x="596" y="1189"/>
                  <a:pt x="630" y="1116"/>
                  <a:pt x="691" y="1111"/>
                </a:cubicBezTo>
                <a:cubicBezTo>
                  <a:pt x="752" y="1106"/>
                  <a:pt x="828" y="1183"/>
                  <a:pt x="890" y="1168"/>
                </a:cubicBezTo>
                <a:cubicBezTo>
                  <a:pt x="952" y="1153"/>
                  <a:pt x="1016" y="1014"/>
                  <a:pt x="1062" y="1018"/>
                </a:cubicBezTo>
                <a:cubicBezTo>
                  <a:pt x="1134" y="1027"/>
                  <a:pt x="1096" y="1161"/>
                  <a:pt x="1164" y="1194"/>
                </a:cubicBezTo>
                <a:cubicBezTo>
                  <a:pt x="1233" y="1238"/>
                  <a:pt x="1311" y="1085"/>
                  <a:pt x="1402" y="1091"/>
                </a:cubicBezTo>
                <a:cubicBezTo>
                  <a:pt x="1472" y="1086"/>
                  <a:pt x="1549" y="1148"/>
                  <a:pt x="1587" y="1162"/>
                </a:cubicBezTo>
                <a:cubicBezTo>
                  <a:pt x="1587" y="1162"/>
                  <a:pt x="1632" y="1175"/>
                  <a:pt x="1632" y="1175"/>
                </a:cubicBezTo>
                <a:close/>
              </a:path>
            </a:pathLst>
          </a:custGeom>
          <a:gradFill rotWithShape="0">
            <a:gsLst>
              <a:gs pos="0">
                <a:srgbClr val="00c100"/>
              </a:gs>
              <a:gs pos="100000">
                <a:srgbClr val="00ff00"/>
              </a:gs>
            </a:gsLst>
            <a:lin ang="13500000"/>
          </a:gra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148520" y="1860480"/>
            <a:ext cx="1563840" cy="863640"/>
          </a:xfrm>
          <a:custGeom>
            <a:avLst/>
            <a:gdLst/>
            <a:ahLst/>
            <a:rect l="l" t="t" r="r" b="b"/>
            <a:pathLst>
              <a:path w="985" h="544">
                <a:moveTo>
                  <a:pt x="985" y="50"/>
                </a:moveTo>
                <a:cubicBezTo>
                  <a:pt x="901" y="46"/>
                  <a:pt x="624" y="0"/>
                  <a:pt x="481" y="23"/>
                </a:cubicBezTo>
                <a:cubicBezTo>
                  <a:pt x="338" y="46"/>
                  <a:pt x="207" y="118"/>
                  <a:pt x="129" y="185"/>
                </a:cubicBezTo>
                <a:cubicBezTo>
                  <a:pt x="51" y="252"/>
                  <a:pt x="0" y="365"/>
                  <a:pt x="12" y="423"/>
                </a:cubicBezTo>
                <a:cubicBezTo>
                  <a:pt x="24" y="481"/>
                  <a:pt x="120" y="520"/>
                  <a:pt x="204" y="532"/>
                </a:cubicBezTo>
                <a:cubicBezTo>
                  <a:pt x="288" y="544"/>
                  <a:pt x="451" y="504"/>
                  <a:pt x="516" y="497"/>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legm?</a:t>
            </a:r>
            <a:endParaRPr b="0" lang="en-US" sz="4400" spc="-1" strike="noStrike">
              <a:solidFill>
                <a:srgbClr val="000000"/>
              </a:solidFill>
              <a:latin typeface="Times New Roman"/>
            </a:endParaRPr>
          </a:p>
        </p:txBody>
      </p:sp>
      <p:sp>
        <p:nvSpPr>
          <p:cNvPr id="291" name="PlaceHolder 2"/>
          <p:cNvSpPr>
            <a:spLocks noGrp="1"/>
          </p:cNvSpPr>
          <p:nvPr>
            <p:ph/>
          </p:nvPr>
        </p:nvSpPr>
        <p:spPr>
          <a:xfrm>
            <a:off x="555120" y="1523880"/>
            <a:ext cx="533412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legm is a thick mucus secreted in the respiratory passages in response to an irri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traps the irrita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legm, along with the irritants or infectious agents it has trapped, are then removed during cough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happen if phlegm stayed in the lungs?</a:t>
            </a:r>
            <a:endParaRPr b="0" lang="en-US" sz="2800" spc="-1" strike="noStrike">
              <a:solidFill>
                <a:srgbClr val="000000"/>
              </a:solidFill>
              <a:latin typeface="Times New Roman"/>
            </a:endParaRPr>
          </a:p>
        </p:txBody>
      </p:sp>
      <p:sp>
        <p:nvSpPr>
          <p:cNvPr id="2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7.0</a:t>
            </a:r>
            <a:endParaRPr b="0" lang="en-US" sz="1000" spc="-1" strike="noStrike">
              <a:solidFill>
                <a:srgbClr val="000000"/>
              </a:solidFill>
              <a:latin typeface="Arial"/>
            </a:endParaRPr>
          </a:p>
        </p:txBody>
      </p:sp>
      <p:sp>
        <p:nvSpPr>
          <p:cNvPr id="293" name=""/>
          <p:cNvSpPr/>
          <p:nvPr/>
        </p:nvSpPr>
        <p:spPr>
          <a:xfrm>
            <a:off x="5932440" y="506088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257880" y="5040360"/>
            <a:ext cx="173160" cy="146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994360" y="50896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96" name=""/>
          <p:cNvSpPr/>
          <p:nvPr/>
        </p:nvSpPr>
        <p:spPr>
          <a:xfrm>
            <a:off x="6315120" y="5059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97" name=""/>
          <p:cNvGrpSpPr/>
          <p:nvPr/>
        </p:nvGrpSpPr>
        <p:grpSpPr>
          <a:xfrm>
            <a:off x="7050600" y="1395720"/>
            <a:ext cx="1857600" cy="1236600"/>
            <a:chOff x="7050600" y="1395720"/>
            <a:chExt cx="1857600" cy="1236600"/>
          </a:xfrm>
        </p:grpSpPr>
        <p:sp>
          <p:nvSpPr>
            <p:cNvPr id="298" name=""/>
            <p:cNvSpPr/>
            <p:nvPr/>
          </p:nvSpPr>
          <p:spPr>
            <a:xfrm rot="21468000">
              <a:off x="7160400" y="1492920"/>
              <a:ext cx="1635120" cy="1091160"/>
            </a:xfrm>
            <a:custGeom>
              <a:avLst/>
              <a:gdLst/>
              <a:ahLst/>
              <a:rect l="l" t="t" r="r" b="b"/>
              <a:pathLst>
                <a:path w="2387" h="1440">
                  <a:moveTo>
                    <a:pt x="40" y="768"/>
                  </a:moveTo>
                  <a:cubicBezTo>
                    <a:pt x="26" y="795"/>
                    <a:pt x="10" y="819"/>
                    <a:pt x="0" y="848"/>
                  </a:cubicBezTo>
                  <a:cubicBezTo>
                    <a:pt x="17" y="1010"/>
                    <a:pt x="14" y="940"/>
                    <a:pt x="80" y="984"/>
                  </a:cubicBezTo>
                  <a:cubicBezTo>
                    <a:pt x="120" y="1044"/>
                    <a:pt x="156" y="1106"/>
                    <a:pt x="224" y="1120"/>
                  </a:cubicBezTo>
                  <a:cubicBezTo>
                    <a:pt x="278" y="1201"/>
                    <a:pt x="304" y="1219"/>
                    <a:pt x="392" y="1248"/>
                  </a:cubicBezTo>
                  <a:cubicBezTo>
                    <a:pt x="461" y="1287"/>
                    <a:pt x="585" y="1329"/>
                    <a:pt x="640" y="1352"/>
                  </a:cubicBezTo>
                  <a:cubicBezTo>
                    <a:pt x="731" y="1377"/>
                    <a:pt x="860" y="1385"/>
                    <a:pt x="936" y="1400"/>
                  </a:cubicBezTo>
                  <a:cubicBezTo>
                    <a:pt x="988" y="1417"/>
                    <a:pt x="1043" y="1422"/>
                    <a:pt x="1096" y="1440"/>
                  </a:cubicBezTo>
                  <a:cubicBezTo>
                    <a:pt x="1181" y="1437"/>
                    <a:pt x="1356" y="1381"/>
                    <a:pt x="1424" y="1360"/>
                  </a:cubicBezTo>
                  <a:cubicBezTo>
                    <a:pt x="1488" y="1337"/>
                    <a:pt x="1477" y="1348"/>
                    <a:pt x="1504" y="1312"/>
                  </a:cubicBezTo>
                  <a:cubicBezTo>
                    <a:pt x="1531" y="1276"/>
                    <a:pt x="1536" y="1165"/>
                    <a:pt x="1584" y="1144"/>
                  </a:cubicBezTo>
                  <a:cubicBezTo>
                    <a:pt x="1632" y="1123"/>
                    <a:pt x="1683" y="1177"/>
                    <a:pt x="1792" y="1184"/>
                  </a:cubicBezTo>
                  <a:cubicBezTo>
                    <a:pt x="1901" y="1191"/>
                    <a:pt x="2148" y="1199"/>
                    <a:pt x="2240" y="1184"/>
                  </a:cubicBezTo>
                  <a:cubicBezTo>
                    <a:pt x="2296" y="1165"/>
                    <a:pt x="2299" y="1126"/>
                    <a:pt x="2344" y="1096"/>
                  </a:cubicBezTo>
                  <a:cubicBezTo>
                    <a:pt x="2387" y="1031"/>
                    <a:pt x="2356" y="1016"/>
                    <a:pt x="2296" y="976"/>
                  </a:cubicBezTo>
                  <a:cubicBezTo>
                    <a:pt x="2273" y="941"/>
                    <a:pt x="2232" y="922"/>
                    <a:pt x="2192" y="912"/>
                  </a:cubicBezTo>
                  <a:cubicBezTo>
                    <a:pt x="2118" y="862"/>
                    <a:pt x="2045" y="807"/>
                    <a:pt x="1992" y="728"/>
                  </a:cubicBezTo>
                  <a:cubicBezTo>
                    <a:pt x="2036" y="699"/>
                    <a:pt x="2064" y="673"/>
                    <a:pt x="2104" y="640"/>
                  </a:cubicBezTo>
                  <a:cubicBezTo>
                    <a:pt x="2168" y="632"/>
                    <a:pt x="2215" y="597"/>
                    <a:pt x="2248" y="576"/>
                  </a:cubicBezTo>
                  <a:cubicBezTo>
                    <a:pt x="2278" y="553"/>
                    <a:pt x="2300" y="540"/>
                    <a:pt x="2312" y="504"/>
                  </a:cubicBezTo>
                  <a:cubicBezTo>
                    <a:pt x="2309" y="493"/>
                    <a:pt x="2295" y="431"/>
                    <a:pt x="2280" y="416"/>
                  </a:cubicBezTo>
                  <a:cubicBezTo>
                    <a:pt x="2259" y="395"/>
                    <a:pt x="2232" y="379"/>
                    <a:pt x="2208" y="360"/>
                  </a:cubicBezTo>
                  <a:cubicBezTo>
                    <a:pt x="2157" y="320"/>
                    <a:pt x="2111" y="269"/>
                    <a:pt x="2048" y="248"/>
                  </a:cubicBezTo>
                  <a:cubicBezTo>
                    <a:pt x="2008" y="208"/>
                    <a:pt x="1950" y="170"/>
                    <a:pt x="1896" y="152"/>
                  </a:cubicBezTo>
                  <a:cubicBezTo>
                    <a:pt x="1861" y="126"/>
                    <a:pt x="1829" y="117"/>
                    <a:pt x="1792" y="96"/>
                  </a:cubicBezTo>
                  <a:cubicBezTo>
                    <a:pt x="1766" y="82"/>
                    <a:pt x="1728" y="57"/>
                    <a:pt x="1704" y="40"/>
                  </a:cubicBezTo>
                  <a:cubicBezTo>
                    <a:pt x="1695" y="33"/>
                    <a:pt x="1690" y="22"/>
                    <a:pt x="1680" y="16"/>
                  </a:cubicBezTo>
                  <a:cubicBezTo>
                    <a:pt x="1660" y="3"/>
                    <a:pt x="1637" y="27"/>
                    <a:pt x="1616" y="16"/>
                  </a:cubicBezTo>
                  <a:cubicBezTo>
                    <a:pt x="1605" y="11"/>
                    <a:pt x="1520" y="0"/>
                    <a:pt x="1520" y="0"/>
                  </a:cubicBezTo>
                  <a:cubicBezTo>
                    <a:pt x="1325" y="6"/>
                    <a:pt x="1258" y="2"/>
                    <a:pt x="1064" y="8"/>
                  </a:cubicBezTo>
                  <a:cubicBezTo>
                    <a:pt x="1017" y="16"/>
                    <a:pt x="990" y="17"/>
                    <a:pt x="944" y="32"/>
                  </a:cubicBezTo>
                  <a:cubicBezTo>
                    <a:pt x="909" y="44"/>
                    <a:pt x="834" y="82"/>
                    <a:pt x="792" y="96"/>
                  </a:cubicBezTo>
                  <a:cubicBezTo>
                    <a:pt x="769" y="126"/>
                    <a:pt x="756" y="148"/>
                    <a:pt x="720" y="160"/>
                  </a:cubicBezTo>
                  <a:cubicBezTo>
                    <a:pt x="666" y="214"/>
                    <a:pt x="728" y="160"/>
                    <a:pt x="664" y="192"/>
                  </a:cubicBezTo>
                  <a:cubicBezTo>
                    <a:pt x="640" y="212"/>
                    <a:pt x="585" y="235"/>
                    <a:pt x="576" y="280"/>
                  </a:cubicBezTo>
                  <a:cubicBezTo>
                    <a:pt x="569" y="329"/>
                    <a:pt x="592" y="415"/>
                    <a:pt x="608" y="464"/>
                  </a:cubicBezTo>
                  <a:cubicBezTo>
                    <a:pt x="600" y="536"/>
                    <a:pt x="604" y="568"/>
                    <a:pt x="544" y="608"/>
                  </a:cubicBezTo>
                  <a:cubicBezTo>
                    <a:pt x="516" y="691"/>
                    <a:pt x="274" y="685"/>
                    <a:pt x="224" y="688"/>
                  </a:cubicBezTo>
                  <a:cubicBezTo>
                    <a:pt x="140" y="715"/>
                    <a:pt x="77" y="741"/>
                    <a:pt x="40" y="768"/>
                  </a:cubicBezTo>
                  <a:close/>
                </a:path>
              </a:pathLst>
            </a:custGeom>
            <a:gradFill rotWithShape="0">
              <a:gsLst>
                <a:gs pos="0">
                  <a:srgbClr val="465e00"/>
                </a:gs>
                <a:gs pos="100000">
                  <a:srgbClr val="99cc00"/>
                </a:gs>
              </a:gsLst>
              <a:lin ang="1363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
            <p:cNvGrpSpPr/>
            <p:nvPr/>
          </p:nvGrpSpPr>
          <p:grpSpPr>
            <a:xfrm>
              <a:off x="7050600" y="1395720"/>
              <a:ext cx="1857600" cy="1236600"/>
              <a:chOff x="7050600" y="1395720"/>
              <a:chExt cx="1857600" cy="1236600"/>
            </a:xfrm>
          </p:grpSpPr>
          <p:sp>
            <p:nvSpPr>
              <p:cNvPr id="300" name=""/>
              <p:cNvSpPr/>
              <p:nvPr/>
            </p:nvSpPr>
            <p:spPr>
              <a:xfrm rot="21468000">
                <a:off x="7742520" y="2275920"/>
                <a:ext cx="129960" cy="109800"/>
              </a:xfrm>
              <a:custGeom>
                <a:avLst/>
                <a:gdLst/>
                <a:ahLst/>
                <a:rect l="l" t="t" r="r" b="b"/>
                <a:pathLst>
                  <a:path w="190" h="145">
                    <a:moveTo>
                      <a:pt x="87" y="143"/>
                    </a:moveTo>
                    <a:lnTo>
                      <a:pt x="106" y="145"/>
                    </a:lnTo>
                    <a:lnTo>
                      <a:pt x="124" y="143"/>
                    </a:lnTo>
                    <a:lnTo>
                      <a:pt x="143" y="137"/>
                    </a:lnTo>
                    <a:lnTo>
                      <a:pt x="156" y="132"/>
                    </a:lnTo>
                    <a:lnTo>
                      <a:pt x="169" y="122"/>
                    </a:lnTo>
                    <a:lnTo>
                      <a:pt x="180" y="111"/>
                    </a:lnTo>
                    <a:lnTo>
                      <a:pt x="188" y="98"/>
                    </a:lnTo>
                    <a:lnTo>
                      <a:pt x="190" y="85"/>
                    </a:lnTo>
                    <a:lnTo>
                      <a:pt x="190" y="69"/>
                    </a:lnTo>
                    <a:lnTo>
                      <a:pt x="188" y="56"/>
                    </a:lnTo>
                    <a:lnTo>
                      <a:pt x="180" y="42"/>
                    </a:lnTo>
                    <a:lnTo>
                      <a:pt x="169" y="29"/>
                    </a:lnTo>
                    <a:lnTo>
                      <a:pt x="156" y="19"/>
                    </a:lnTo>
                    <a:lnTo>
                      <a:pt x="140" y="11"/>
                    </a:lnTo>
                    <a:lnTo>
                      <a:pt x="124" y="6"/>
                    </a:lnTo>
                    <a:lnTo>
                      <a:pt x="106" y="0"/>
                    </a:lnTo>
                    <a:lnTo>
                      <a:pt x="87" y="0"/>
                    </a:lnTo>
                    <a:lnTo>
                      <a:pt x="69" y="3"/>
                    </a:lnTo>
                    <a:lnTo>
                      <a:pt x="51" y="6"/>
                    </a:lnTo>
                    <a:lnTo>
                      <a:pt x="35" y="13"/>
                    </a:lnTo>
                    <a:lnTo>
                      <a:pt x="22" y="24"/>
                    </a:lnTo>
                    <a:lnTo>
                      <a:pt x="11" y="35"/>
                    </a:lnTo>
                    <a:lnTo>
                      <a:pt x="3" y="48"/>
                    </a:lnTo>
                    <a:lnTo>
                      <a:pt x="0" y="61"/>
                    </a:lnTo>
                    <a:lnTo>
                      <a:pt x="0" y="77"/>
                    </a:lnTo>
                    <a:lnTo>
                      <a:pt x="6" y="90"/>
                    </a:lnTo>
                    <a:lnTo>
                      <a:pt x="11" y="103"/>
                    </a:lnTo>
                    <a:lnTo>
                      <a:pt x="22" y="114"/>
                    </a:lnTo>
                    <a:lnTo>
                      <a:pt x="35" y="124"/>
                    </a:lnTo>
                    <a:lnTo>
                      <a:pt x="51" y="132"/>
                    </a:lnTo>
                    <a:lnTo>
                      <a:pt x="69" y="140"/>
                    </a:lnTo>
                    <a:lnTo>
                      <a:pt x="87"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468000">
                <a:off x="8222760" y="2080440"/>
                <a:ext cx="195120" cy="181800"/>
              </a:xfrm>
              <a:custGeom>
                <a:avLst/>
                <a:gdLst/>
                <a:ahLst/>
                <a:rect l="l" t="t" r="r" b="b"/>
                <a:pathLst>
                  <a:path w="285" h="240">
                    <a:moveTo>
                      <a:pt x="158" y="3"/>
                    </a:moveTo>
                    <a:lnTo>
                      <a:pt x="129" y="0"/>
                    </a:lnTo>
                    <a:lnTo>
                      <a:pt x="103" y="5"/>
                    </a:lnTo>
                    <a:lnTo>
                      <a:pt x="77" y="13"/>
                    </a:lnTo>
                    <a:lnTo>
                      <a:pt x="53" y="24"/>
                    </a:lnTo>
                    <a:lnTo>
                      <a:pt x="35" y="40"/>
                    </a:lnTo>
                    <a:lnTo>
                      <a:pt x="19" y="58"/>
                    </a:lnTo>
                    <a:lnTo>
                      <a:pt x="6" y="79"/>
                    </a:lnTo>
                    <a:lnTo>
                      <a:pt x="0" y="103"/>
                    </a:lnTo>
                    <a:lnTo>
                      <a:pt x="0" y="127"/>
                    </a:lnTo>
                    <a:lnTo>
                      <a:pt x="6" y="151"/>
                    </a:lnTo>
                    <a:lnTo>
                      <a:pt x="16" y="172"/>
                    </a:lnTo>
                    <a:lnTo>
                      <a:pt x="32" y="193"/>
                    </a:lnTo>
                    <a:lnTo>
                      <a:pt x="53" y="209"/>
                    </a:lnTo>
                    <a:lnTo>
                      <a:pt x="74" y="222"/>
                    </a:lnTo>
                    <a:lnTo>
                      <a:pt x="100" y="232"/>
                    </a:lnTo>
                    <a:lnTo>
                      <a:pt x="129" y="238"/>
                    </a:lnTo>
                    <a:lnTo>
                      <a:pt x="158" y="240"/>
                    </a:lnTo>
                    <a:lnTo>
                      <a:pt x="185" y="235"/>
                    </a:lnTo>
                    <a:lnTo>
                      <a:pt x="211" y="227"/>
                    </a:lnTo>
                    <a:lnTo>
                      <a:pt x="232" y="216"/>
                    </a:lnTo>
                    <a:lnTo>
                      <a:pt x="253" y="201"/>
                    </a:lnTo>
                    <a:lnTo>
                      <a:pt x="269" y="182"/>
                    </a:lnTo>
                    <a:lnTo>
                      <a:pt x="280" y="161"/>
                    </a:lnTo>
                    <a:lnTo>
                      <a:pt x="285" y="137"/>
                    </a:lnTo>
                    <a:lnTo>
                      <a:pt x="285" y="114"/>
                    </a:lnTo>
                    <a:lnTo>
                      <a:pt x="280" y="90"/>
                    </a:lnTo>
                    <a:lnTo>
                      <a:pt x="269" y="69"/>
                    </a:lnTo>
                    <a:lnTo>
                      <a:pt x="253" y="48"/>
                    </a:lnTo>
                    <a:lnTo>
                      <a:pt x="235" y="32"/>
                    </a:lnTo>
                    <a:lnTo>
                      <a:pt x="214" y="19"/>
                    </a:lnTo>
                    <a:lnTo>
                      <a:pt x="187" y="8"/>
                    </a:lnTo>
                    <a:lnTo>
                      <a:pt x="15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1468000">
                <a:off x="7876080" y="1900440"/>
                <a:ext cx="64440" cy="72000"/>
              </a:xfrm>
              <a:custGeom>
                <a:avLst/>
                <a:gdLst/>
                <a:ahLst/>
                <a:rect l="l" t="t" r="r" b="b"/>
                <a:pathLst>
                  <a:path w="94" h="95">
                    <a:moveTo>
                      <a:pt x="55" y="0"/>
                    </a:moveTo>
                    <a:lnTo>
                      <a:pt x="36" y="2"/>
                    </a:lnTo>
                    <a:lnTo>
                      <a:pt x="21" y="10"/>
                    </a:lnTo>
                    <a:lnTo>
                      <a:pt x="7" y="23"/>
                    </a:lnTo>
                    <a:lnTo>
                      <a:pt x="0" y="39"/>
                    </a:lnTo>
                    <a:lnTo>
                      <a:pt x="2" y="58"/>
                    </a:lnTo>
                    <a:lnTo>
                      <a:pt x="10" y="74"/>
                    </a:lnTo>
                    <a:lnTo>
                      <a:pt x="23" y="87"/>
                    </a:lnTo>
                    <a:lnTo>
                      <a:pt x="42" y="95"/>
                    </a:lnTo>
                    <a:lnTo>
                      <a:pt x="60" y="92"/>
                    </a:lnTo>
                    <a:lnTo>
                      <a:pt x="76" y="84"/>
                    </a:lnTo>
                    <a:lnTo>
                      <a:pt x="89" y="71"/>
                    </a:lnTo>
                    <a:lnTo>
                      <a:pt x="94" y="53"/>
                    </a:lnTo>
                    <a:lnTo>
                      <a:pt x="94" y="34"/>
                    </a:lnTo>
                    <a:lnTo>
                      <a:pt x="87" y="18"/>
                    </a:lnTo>
                    <a:lnTo>
                      <a:pt x="71" y="5"/>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3" name=""/>
              <p:cNvSpPr/>
              <p:nvPr/>
            </p:nvSpPr>
            <p:spPr>
              <a:xfrm rot="21468000">
                <a:off x="7954920" y="1686240"/>
                <a:ext cx="308160" cy="273600"/>
              </a:xfrm>
              <a:custGeom>
                <a:avLst/>
                <a:gdLst/>
                <a:ahLst/>
                <a:rect l="l" t="t" r="r" b="b"/>
                <a:pathLst>
                  <a:path w="450" h="361">
                    <a:moveTo>
                      <a:pt x="203" y="359"/>
                    </a:moveTo>
                    <a:lnTo>
                      <a:pt x="248" y="361"/>
                    </a:lnTo>
                    <a:lnTo>
                      <a:pt x="292" y="356"/>
                    </a:lnTo>
                    <a:lnTo>
                      <a:pt x="332" y="343"/>
                    </a:lnTo>
                    <a:lnTo>
                      <a:pt x="369" y="327"/>
                    </a:lnTo>
                    <a:lnTo>
                      <a:pt x="398" y="303"/>
                    </a:lnTo>
                    <a:lnTo>
                      <a:pt x="424" y="274"/>
                    </a:lnTo>
                    <a:lnTo>
                      <a:pt x="440" y="243"/>
                    </a:lnTo>
                    <a:lnTo>
                      <a:pt x="450" y="208"/>
                    </a:lnTo>
                    <a:lnTo>
                      <a:pt x="450" y="172"/>
                    </a:lnTo>
                    <a:lnTo>
                      <a:pt x="440" y="137"/>
                    </a:lnTo>
                    <a:lnTo>
                      <a:pt x="424" y="106"/>
                    </a:lnTo>
                    <a:lnTo>
                      <a:pt x="400" y="74"/>
                    </a:lnTo>
                    <a:lnTo>
                      <a:pt x="369" y="50"/>
                    </a:lnTo>
                    <a:lnTo>
                      <a:pt x="332" y="29"/>
                    </a:lnTo>
                    <a:lnTo>
                      <a:pt x="292" y="13"/>
                    </a:lnTo>
                    <a:lnTo>
                      <a:pt x="248" y="3"/>
                    </a:lnTo>
                    <a:lnTo>
                      <a:pt x="203" y="0"/>
                    </a:lnTo>
                    <a:lnTo>
                      <a:pt x="158" y="5"/>
                    </a:lnTo>
                    <a:lnTo>
                      <a:pt x="118" y="16"/>
                    </a:lnTo>
                    <a:lnTo>
                      <a:pt x="81" y="34"/>
                    </a:lnTo>
                    <a:lnTo>
                      <a:pt x="53" y="58"/>
                    </a:lnTo>
                    <a:lnTo>
                      <a:pt x="26" y="85"/>
                    </a:lnTo>
                    <a:lnTo>
                      <a:pt x="10" y="116"/>
                    </a:lnTo>
                    <a:lnTo>
                      <a:pt x="0" y="153"/>
                    </a:lnTo>
                    <a:lnTo>
                      <a:pt x="0" y="190"/>
                    </a:lnTo>
                    <a:lnTo>
                      <a:pt x="8" y="224"/>
                    </a:lnTo>
                    <a:lnTo>
                      <a:pt x="26" y="256"/>
                    </a:lnTo>
                    <a:lnTo>
                      <a:pt x="50" y="288"/>
                    </a:lnTo>
                    <a:lnTo>
                      <a:pt x="81" y="311"/>
                    </a:lnTo>
                    <a:lnTo>
                      <a:pt x="116" y="332"/>
                    </a:lnTo>
                    <a:lnTo>
                      <a:pt x="158" y="348"/>
                    </a:lnTo>
                    <a:lnTo>
                      <a:pt x="203"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468000">
                <a:off x="7729560" y="1756080"/>
                <a:ext cx="54000" cy="59760"/>
              </a:xfrm>
              <a:custGeom>
                <a:avLst/>
                <a:gdLst/>
                <a:ahLst/>
                <a:rect l="l" t="t" r="r" b="b"/>
                <a:pathLst>
                  <a:path w="79" h="79">
                    <a:moveTo>
                      <a:pt x="40" y="79"/>
                    </a:moveTo>
                    <a:lnTo>
                      <a:pt x="55" y="76"/>
                    </a:lnTo>
                    <a:lnTo>
                      <a:pt x="69" y="69"/>
                    </a:lnTo>
                    <a:lnTo>
                      <a:pt x="76" y="55"/>
                    </a:lnTo>
                    <a:lnTo>
                      <a:pt x="79" y="40"/>
                    </a:lnTo>
                    <a:lnTo>
                      <a:pt x="76" y="24"/>
                    </a:lnTo>
                    <a:lnTo>
                      <a:pt x="69" y="11"/>
                    </a:lnTo>
                    <a:lnTo>
                      <a:pt x="55" y="3"/>
                    </a:lnTo>
                    <a:lnTo>
                      <a:pt x="40" y="0"/>
                    </a:lnTo>
                    <a:lnTo>
                      <a:pt x="24" y="3"/>
                    </a:lnTo>
                    <a:lnTo>
                      <a:pt x="13" y="11"/>
                    </a:lnTo>
                    <a:lnTo>
                      <a:pt x="3" y="24"/>
                    </a:lnTo>
                    <a:lnTo>
                      <a:pt x="0" y="40"/>
                    </a:lnTo>
                    <a:lnTo>
                      <a:pt x="3" y="55"/>
                    </a:lnTo>
                    <a:lnTo>
                      <a:pt x="13" y="69"/>
                    </a:lnTo>
                    <a:lnTo>
                      <a:pt x="24" y="76"/>
                    </a:lnTo>
                    <a:lnTo>
                      <a:pt x="40" y="7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5" name=""/>
              <p:cNvSpPr/>
              <p:nvPr/>
            </p:nvSpPr>
            <p:spPr>
              <a:xfrm rot="21468000">
                <a:off x="7072200" y="1429920"/>
                <a:ext cx="1814040" cy="1167840"/>
              </a:xfrm>
              <a:custGeom>
                <a:avLst/>
                <a:gdLst/>
                <a:ahLst/>
                <a:rect l="l" t="t" r="r" b="b"/>
                <a:pathLst>
                  <a:path w="2648" h="1540">
                    <a:moveTo>
                      <a:pt x="2366" y="920"/>
                    </a:moveTo>
                    <a:lnTo>
                      <a:pt x="2319" y="899"/>
                    </a:lnTo>
                    <a:lnTo>
                      <a:pt x="2276" y="878"/>
                    </a:lnTo>
                    <a:lnTo>
                      <a:pt x="2242" y="854"/>
                    </a:lnTo>
                    <a:lnTo>
                      <a:pt x="2218" y="833"/>
                    </a:lnTo>
                    <a:lnTo>
                      <a:pt x="2200" y="812"/>
                    </a:lnTo>
                    <a:lnTo>
                      <a:pt x="2192" y="791"/>
                    </a:lnTo>
                    <a:lnTo>
                      <a:pt x="2195" y="770"/>
                    </a:lnTo>
                    <a:lnTo>
                      <a:pt x="2205" y="751"/>
                    </a:lnTo>
                    <a:lnTo>
                      <a:pt x="2218" y="741"/>
                    </a:lnTo>
                    <a:lnTo>
                      <a:pt x="2237" y="730"/>
                    </a:lnTo>
                    <a:lnTo>
                      <a:pt x="2258" y="722"/>
                    </a:lnTo>
                    <a:lnTo>
                      <a:pt x="2284" y="717"/>
                    </a:lnTo>
                    <a:lnTo>
                      <a:pt x="2313" y="712"/>
                    </a:lnTo>
                    <a:lnTo>
                      <a:pt x="2345" y="709"/>
                    </a:lnTo>
                    <a:lnTo>
                      <a:pt x="2379" y="706"/>
                    </a:lnTo>
                    <a:lnTo>
                      <a:pt x="2416" y="706"/>
                    </a:lnTo>
                    <a:lnTo>
                      <a:pt x="2456" y="704"/>
                    </a:lnTo>
                    <a:lnTo>
                      <a:pt x="2493" y="699"/>
                    </a:lnTo>
                    <a:lnTo>
                      <a:pt x="2522" y="691"/>
                    </a:lnTo>
                    <a:lnTo>
                      <a:pt x="2548" y="680"/>
                    </a:lnTo>
                    <a:lnTo>
                      <a:pt x="2569" y="667"/>
                    </a:lnTo>
                    <a:lnTo>
                      <a:pt x="2585" y="651"/>
                    </a:lnTo>
                    <a:lnTo>
                      <a:pt x="2595" y="633"/>
                    </a:lnTo>
                    <a:lnTo>
                      <a:pt x="2603" y="614"/>
                    </a:lnTo>
                    <a:lnTo>
                      <a:pt x="2608" y="575"/>
                    </a:lnTo>
                    <a:lnTo>
                      <a:pt x="2601" y="532"/>
                    </a:lnTo>
                    <a:lnTo>
                      <a:pt x="2580" y="485"/>
                    </a:lnTo>
                    <a:lnTo>
                      <a:pt x="2548" y="437"/>
                    </a:lnTo>
                    <a:lnTo>
                      <a:pt x="2519" y="398"/>
                    </a:lnTo>
                    <a:lnTo>
                      <a:pt x="2485" y="361"/>
                    </a:lnTo>
                    <a:lnTo>
                      <a:pt x="2445" y="324"/>
                    </a:lnTo>
                    <a:lnTo>
                      <a:pt x="2406" y="287"/>
                    </a:lnTo>
                    <a:lnTo>
                      <a:pt x="2358" y="253"/>
                    </a:lnTo>
                    <a:lnTo>
                      <a:pt x="2313" y="221"/>
                    </a:lnTo>
                    <a:lnTo>
                      <a:pt x="2263" y="192"/>
                    </a:lnTo>
                    <a:lnTo>
                      <a:pt x="2213" y="166"/>
                    </a:lnTo>
                    <a:lnTo>
                      <a:pt x="2171" y="147"/>
                    </a:lnTo>
                    <a:lnTo>
                      <a:pt x="2129" y="129"/>
                    </a:lnTo>
                    <a:lnTo>
                      <a:pt x="2087" y="113"/>
                    </a:lnTo>
                    <a:lnTo>
                      <a:pt x="2042" y="97"/>
                    </a:lnTo>
                    <a:lnTo>
                      <a:pt x="1994" y="81"/>
                    </a:lnTo>
                    <a:lnTo>
                      <a:pt x="1950" y="68"/>
                    </a:lnTo>
                    <a:lnTo>
                      <a:pt x="1902" y="55"/>
                    </a:lnTo>
                    <a:lnTo>
                      <a:pt x="1855" y="44"/>
                    </a:lnTo>
                    <a:lnTo>
                      <a:pt x="1807" y="34"/>
                    </a:lnTo>
                    <a:lnTo>
                      <a:pt x="1757" y="26"/>
                    </a:lnTo>
                    <a:lnTo>
                      <a:pt x="1710" y="18"/>
                    </a:lnTo>
                    <a:lnTo>
                      <a:pt x="1660" y="13"/>
                    </a:lnTo>
                    <a:lnTo>
                      <a:pt x="1612" y="8"/>
                    </a:lnTo>
                    <a:lnTo>
                      <a:pt x="1565" y="5"/>
                    </a:lnTo>
                    <a:lnTo>
                      <a:pt x="1518" y="2"/>
                    </a:lnTo>
                    <a:lnTo>
                      <a:pt x="1470" y="0"/>
                    </a:lnTo>
                    <a:lnTo>
                      <a:pt x="1470" y="100"/>
                    </a:lnTo>
                    <a:lnTo>
                      <a:pt x="1502" y="102"/>
                    </a:lnTo>
                    <a:lnTo>
                      <a:pt x="1536" y="105"/>
                    </a:lnTo>
                    <a:lnTo>
                      <a:pt x="1568" y="108"/>
                    </a:lnTo>
                    <a:lnTo>
                      <a:pt x="1602" y="113"/>
                    </a:lnTo>
                    <a:lnTo>
                      <a:pt x="1636" y="118"/>
                    </a:lnTo>
                    <a:lnTo>
                      <a:pt x="1670" y="124"/>
                    </a:lnTo>
                    <a:lnTo>
                      <a:pt x="1702" y="129"/>
                    </a:lnTo>
                    <a:lnTo>
                      <a:pt x="1736" y="137"/>
                    </a:lnTo>
                    <a:lnTo>
                      <a:pt x="1770" y="145"/>
                    </a:lnTo>
                    <a:lnTo>
                      <a:pt x="1802" y="153"/>
                    </a:lnTo>
                    <a:lnTo>
                      <a:pt x="1834" y="163"/>
                    </a:lnTo>
                    <a:lnTo>
                      <a:pt x="1865" y="174"/>
                    </a:lnTo>
                    <a:lnTo>
                      <a:pt x="1897" y="184"/>
                    </a:lnTo>
                    <a:lnTo>
                      <a:pt x="1929" y="195"/>
                    </a:lnTo>
                    <a:lnTo>
                      <a:pt x="1958" y="208"/>
                    </a:lnTo>
                    <a:lnTo>
                      <a:pt x="1987" y="221"/>
                    </a:lnTo>
                    <a:lnTo>
                      <a:pt x="2037" y="248"/>
                    </a:lnTo>
                    <a:lnTo>
                      <a:pt x="2087" y="277"/>
                    </a:lnTo>
                    <a:lnTo>
                      <a:pt x="2134" y="311"/>
                    </a:lnTo>
                    <a:lnTo>
                      <a:pt x="2176" y="345"/>
                    </a:lnTo>
                    <a:lnTo>
                      <a:pt x="2216" y="385"/>
                    </a:lnTo>
                    <a:lnTo>
                      <a:pt x="2253" y="422"/>
                    </a:lnTo>
                    <a:lnTo>
                      <a:pt x="2282" y="461"/>
                    </a:lnTo>
                    <a:lnTo>
                      <a:pt x="2308" y="498"/>
                    </a:lnTo>
                    <a:lnTo>
                      <a:pt x="2324" y="538"/>
                    </a:lnTo>
                    <a:lnTo>
                      <a:pt x="2334" y="572"/>
                    </a:lnTo>
                    <a:lnTo>
                      <a:pt x="2334" y="604"/>
                    </a:lnTo>
                    <a:lnTo>
                      <a:pt x="2327" y="633"/>
                    </a:lnTo>
                    <a:lnTo>
                      <a:pt x="2308" y="656"/>
                    </a:lnTo>
                    <a:lnTo>
                      <a:pt x="2279" y="677"/>
                    </a:lnTo>
                    <a:lnTo>
                      <a:pt x="2240" y="691"/>
                    </a:lnTo>
                    <a:lnTo>
                      <a:pt x="2187" y="699"/>
                    </a:lnTo>
                    <a:lnTo>
                      <a:pt x="2158" y="701"/>
                    </a:lnTo>
                    <a:lnTo>
                      <a:pt x="2129" y="704"/>
                    </a:lnTo>
                    <a:lnTo>
                      <a:pt x="2105" y="706"/>
                    </a:lnTo>
                    <a:lnTo>
                      <a:pt x="2081" y="712"/>
                    </a:lnTo>
                    <a:lnTo>
                      <a:pt x="2060" y="720"/>
                    </a:lnTo>
                    <a:lnTo>
                      <a:pt x="2042" y="728"/>
                    </a:lnTo>
                    <a:lnTo>
                      <a:pt x="2029" y="738"/>
                    </a:lnTo>
                    <a:lnTo>
                      <a:pt x="2018" y="749"/>
                    </a:lnTo>
                    <a:lnTo>
                      <a:pt x="2010" y="764"/>
                    </a:lnTo>
                    <a:lnTo>
                      <a:pt x="2010" y="783"/>
                    </a:lnTo>
                    <a:lnTo>
                      <a:pt x="2018" y="801"/>
                    </a:lnTo>
                    <a:lnTo>
                      <a:pt x="2034" y="820"/>
                    </a:lnTo>
                    <a:lnTo>
                      <a:pt x="2055" y="838"/>
                    </a:lnTo>
                    <a:lnTo>
                      <a:pt x="2084" y="857"/>
                    </a:lnTo>
                    <a:lnTo>
                      <a:pt x="2118" y="875"/>
                    </a:lnTo>
                    <a:lnTo>
                      <a:pt x="2158" y="891"/>
                    </a:lnTo>
                    <a:lnTo>
                      <a:pt x="2226" y="931"/>
                    </a:lnTo>
                    <a:lnTo>
                      <a:pt x="2287" y="970"/>
                    </a:lnTo>
                    <a:lnTo>
                      <a:pt x="2334" y="1010"/>
                    </a:lnTo>
                    <a:lnTo>
                      <a:pt x="2369" y="1049"/>
                    </a:lnTo>
                    <a:lnTo>
                      <a:pt x="2392" y="1086"/>
                    </a:lnTo>
                    <a:lnTo>
                      <a:pt x="2403" y="1120"/>
                    </a:lnTo>
                    <a:lnTo>
                      <a:pt x="2398" y="1155"/>
                    </a:lnTo>
                    <a:lnTo>
                      <a:pt x="2379" y="1184"/>
                    </a:lnTo>
                    <a:lnTo>
                      <a:pt x="2363" y="1197"/>
                    </a:lnTo>
                    <a:lnTo>
                      <a:pt x="2342" y="1210"/>
                    </a:lnTo>
                    <a:lnTo>
                      <a:pt x="2319" y="1221"/>
                    </a:lnTo>
                    <a:lnTo>
                      <a:pt x="2292" y="1229"/>
                    </a:lnTo>
                    <a:lnTo>
                      <a:pt x="2263" y="1237"/>
                    </a:lnTo>
                    <a:lnTo>
                      <a:pt x="2229" y="1242"/>
                    </a:lnTo>
                    <a:lnTo>
                      <a:pt x="2192" y="1247"/>
                    </a:lnTo>
                    <a:lnTo>
                      <a:pt x="2155" y="1250"/>
                    </a:lnTo>
                    <a:lnTo>
                      <a:pt x="2113" y="1250"/>
                    </a:lnTo>
                    <a:lnTo>
                      <a:pt x="2071" y="1250"/>
                    </a:lnTo>
                    <a:lnTo>
                      <a:pt x="2023" y="1250"/>
                    </a:lnTo>
                    <a:lnTo>
                      <a:pt x="1976" y="1244"/>
                    </a:lnTo>
                    <a:lnTo>
                      <a:pt x="1929" y="1242"/>
                    </a:lnTo>
                    <a:lnTo>
                      <a:pt x="1879" y="1234"/>
                    </a:lnTo>
                    <a:lnTo>
                      <a:pt x="1826" y="1226"/>
                    </a:lnTo>
                    <a:lnTo>
                      <a:pt x="1773" y="1218"/>
                    </a:lnTo>
                    <a:lnTo>
                      <a:pt x="1723" y="1215"/>
                    </a:lnTo>
                    <a:lnTo>
                      <a:pt x="1689" y="1221"/>
                    </a:lnTo>
                    <a:lnTo>
                      <a:pt x="1662" y="1237"/>
                    </a:lnTo>
                    <a:lnTo>
                      <a:pt x="1649" y="1255"/>
                    </a:lnTo>
                    <a:lnTo>
                      <a:pt x="1641" y="1273"/>
                    </a:lnTo>
                    <a:lnTo>
                      <a:pt x="1639" y="1292"/>
                    </a:lnTo>
                    <a:lnTo>
                      <a:pt x="1639" y="1305"/>
                    </a:lnTo>
                    <a:lnTo>
                      <a:pt x="1639" y="1310"/>
                    </a:lnTo>
                    <a:lnTo>
                      <a:pt x="1631" y="1350"/>
                    </a:lnTo>
                    <a:lnTo>
                      <a:pt x="1618" y="1376"/>
                    </a:lnTo>
                    <a:lnTo>
                      <a:pt x="1597" y="1395"/>
                    </a:lnTo>
                    <a:lnTo>
                      <a:pt x="1570" y="1416"/>
                    </a:lnTo>
                    <a:lnTo>
                      <a:pt x="1533" y="1437"/>
                    </a:lnTo>
                    <a:lnTo>
                      <a:pt x="1491" y="1455"/>
                    </a:lnTo>
                    <a:lnTo>
                      <a:pt x="1444" y="1469"/>
                    </a:lnTo>
                    <a:lnTo>
                      <a:pt x="1394" y="1479"/>
                    </a:lnTo>
                    <a:lnTo>
                      <a:pt x="1338" y="1484"/>
                    </a:lnTo>
                    <a:lnTo>
                      <a:pt x="1278" y="1490"/>
                    </a:lnTo>
                    <a:lnTo>
                      <a:pt x="1217" y="1490"/>
                    </a:lnTo>
                    <a:lnTo>
                      <a:pt x="1154" y="1484"/>
                    </a:lnTo>
                    <a:lnTo>
                      <a:pt x="1088" y="1479"/>
                    </a:lnTo>
                    <a:lnTo>
                      <a:pt x="1019" y="1469"/>
                    </a:lnTo>
                    <a:lnTo>
                      <a:pt x="954" y="1455"/>
                    </a:lnTo>
                    <a:lnTo>
                      <a:pt x="885" y="1440"/>
                    </a:lnTo>
                    <a:lnTo>
                      <a:pt x="817" y="1421"/>
                    </a:lnTo>
                    <a:lnTo>
                      <a:pt x="748" y="1397"/>
                    </a:lnTo>
                    <a:lnTo>
                      <a:pt x="682" y="1371"/>
                    </a:lnTo>
                    <a:lnTo>
                      <a:pt x="616" y="1342"/>
                    </a:lnTo>
                    <a:lnTo>
                      <a:pt x="556" y="1310"/>
                    </a:lnTo>
                    <a:lnTo>
                      <a:pt x="498" y="1279"/>
                    </a:lnTo>
                    <a:lnTo>
                      <a:pt x="445" y="1244"/>
                    </a:lnTo>
                    <a:lnTo>
                      <a:pt x="400" y="1210"/>
                    </a:lnTo>
                    <a:lnTo>
                      <a:pt x="361" y="1173"/>
                    </a:lnTo>
                    <a:lnTo>
                      <a:pt x="324" y="1139"/>
                    </a:lnTo>
                    <a:lnTo>
                      <a:pt x="295" y="1102"/>
                    </a:lnTo>
                    <a:lnTo>
                      <a:pt x="271" y="1068"/>
                    </a:lnTo>
                    <a:lnTo>
                      <a:pt x="255" y="1033"/>
                    </a:lnTo>
                    <a:lnTo>
                      <a:pt x="245" y="999"/>
                    </a:lnTo>
                    <a:lnTo>
                      <a:pt x="239" y="965"/>
                    </a:lnTo>
                    <a:lnTo>
                      <a:pt x="242" y="933"/>
                    </a:lnTo>
                    <a:lnTo>
                      <a:pt x="253" y="902"/>
                    </a:lnTo>
                    <a:lnTo>
                      <a:pt x="268" y="873"/>
                    </a:lnTo>
                    <a:lnTo>
                      <a:pt x="290" y="846"/>
                    </a:lnTo>
                    <a:lnTo>
                      <a:pt x="321" y="822"/>
                    </a:lnTo>
                    <a:lnTo>
                      <a:pt x="342" y="809"/>
                    </a:lnTo>
                    <a:lnTo>
                      <a:pt x="366" y="796"/>
                    </a:lnTo>
                    <a:lnTo>
                      <a:pt x="390" y="786"/>
                    </a:lnTo>
                    <a:lnTo>
                      <a:pt x="419" y="778"/>
                    </a:lnTo>
                    <a:lnTo>
                      <a:pt x="448" y="770"/>
                    </a:lnTo>
                    <a:lnTo>
                      <a:pt x="477" y="762"/>
                    </a:lnTo>
                    <a:lnTo>
                      <a:pt x="508" y="757"/>
                    </a:lnTo>
                    <a:lnTo>
                      <a:pt x="542" y="751"/>
                    </a:lnTo>
                    <a:lnTo>
                      <a:pt x="564" y="751"/>
                    </a:lnTo>
                    <a:lnTo>
                      <a:pt x="582" y="751"/>
                    </a:lnTo>
                    <a:lnTo>
                      <a:pt x="603" y="751"/>
                    </a:lnTo>
                    <a:lnTo>
                      <a:pt x="622" y="749"/>
                    </a:lnTo>
                    <a:lnTo>
                      <a:pt x="637" y="746"/>
                    </a:lnTo>
                    <a:lnTo>
                      <a:pt x="656" y="741"/>
                    </a:lnTo>
                    <a:lnTo>
                      <a:pt x="672" y="735"/>
                    </a:lnTo>
                    <a:lnTo>
                      <a:pt x="685" y="730"/>
                    </a:lnTo>
                    <a:lnTo>
                      <a:pt x="711" y="717"/>
                    </a:lnTo>
                    <a:lnTo>
                      <a:pt x="730" y="699"/>
                    </a:lnTo>
                    <a:lnTo>
                      <a:pt x="745" y="677"/>
                    </a:lnTo>
                    <a:lnTo>
                      <a:pt x="753" y="656"/>
                    </a:lnTo>
                    <a:lnTo>
                      <a:pt x="756" y="633"/>
                    </a:lnTo>
                    <a:lnTo>
                      <a:pt x="753" y="606"/>
                    </a:lnTo>
                    <a:lnTo>
                      <a:pt x="748" y="577"/>
                    </a:lnTo>
                    <a:lnTo>
                      <a:pt x="735" y="548"/>
                    </a:lnTo>
                    <a:lnTo>
                      <a:pt x="727" y="506"/>
                    </a:lnTo>
                    <a:lnTo>
                      <a:pt x="724" y="464"/>
                    </a:lnTo>
                    <a:lnTo>
                      <a:pt x="732" y="422"/>
                    </a:lnTo>
                    <a:lnTo>
                      <a:pt x="745" y="382"/>
                    </a:lnTo>
                    <a:lnTo>
                      <a:pt x="766" y="342"/>
                    </a:lnTo>
                    <a:lnTo>
                      <a:pt x="795" y="306"/>
                    </a:lnTo>
                    <a:lnTo>
                      <a:pt x="832" y="271"/>
                    </a:lnTo>
                    <a:lnTo>
                      <a:pt x="877" y="237"/>
                    </a:lnTo>
                    <a:lnTo>
                      <a:pt x="904" y="219"/>
                    </a:lnTo>
                    <a:lnTo>
                      <a:pt x="935" y="203"/>
                    </a:lnTo>
                    <a:lnTo>
                      <a:pt x="964" y="187"/>
                    </a:lnTo>
                    <a:lnTo>
                      <a:pt x="998" y="171"/>
                    </a:lnTo>
                    <a:lnTo>
                      <a:pt x="1033" y="158"/>
                    </a:lnTo>
                    <a:lnTo>
                      <a:pt x="1067" y="147"/>
                    </a:lnTo>
                    <a:lnTo>
                      <a:pt x="1104" y="137"/>
                    </a:lnTo>
                    <a:lnTo>
                      <a:pt x="1141" y="129"/>
                    </a:lnTo>
                    <a:lnTo>
                      <a:pt x="1180" y="121"/>
                    </a:lnTo>
                    <a:lnTo>
                      <a:pt x="1220" y="113"/>
                    </a:lnTo>
                    <a:lnTo>
                      <a:pt x="1259" y="108"/>
                    </a:lnTo>
                    <a:lnTo>
                      <a:pt x="1301" y="105"/>
                    </a:lnTo>
                    <a:lnTo>
                      <a:pt x="1344" y="100"/>
                    </a:lnTo>
                    <a:lnTo>
                      <a:pt x="1386" y="100"/>
                    </a:lnTo>
                    <a:lnTo>
                      <a:pt x="1428" y="100"/>
                    </a:lnTo>
                    <a:lnTo>
                      <a:pt x="1470" y="100"/>
                    </a:lnTo>
                    <a:lnTo>
                      <a:pt x="1470" y="0"/>
                    </a:lnTo>
                    <a:lnTo>
                      <a:pt x="1438" y="0"/>
                    </a:lnTo>
                    <a:lnTo>
                      <a:pt x="1409" y="0"/>
                    </a:lnTo>
                    <a:lnTo>
                      <a:pt x="1380" y="0"/>
                    </a:lnTo>
                    <a:lnTo>
                      <a:pt x="1352" y="0"/>
                    </a:lnTo>
                    <a:lnTo>
                      <a:pt x="1323" y="2"/>
                    </a:lnTo>
                    <a:lnTo>
                      <a:pt x="1294" y="5"/>
                    </a:lnTo>
                    <a:lnTo>
                      <a:pt x="1265" y="8"/>
                    </a:lnTo>
                    <a:lnTo>
                      <a:pt x="1236" y="10"/>
                    </a:lnTo>
                    <a:lnTo>
                      <a:pt x="1180" y="18"/>
                    </a:lnTo>
                    <a:lnTo>
                      <a:pt x="1128" y="29"/>
                    </a:lnTo>
                    <a:lnTo>
                      <a:pt x="1075" y="39"/>
                    </a:lnTo>
                    <a:lnTo>
                      <a:pt x="1025" y="52"/>
                    </a:lnTo>
                    <a:lnTo>
                      <a:pt x="975" y="68"/>
                    </a:lnTo>
                    <a:lnTo>
                      <a:pt x="930" y="87"/>
                    </a:lnTo>
                    <a:lnTo>
                      <a:pt x="885" y="105"/>
                    </a:lnTo>
                    <a:lnTo>
                      <a:pt x="843" y="126"/>
                    </a:lnTo>
                    <a:lnTo>
                      <a:pt x="803" y="150"/>
                    </a:lnTo>
                    <a:lnTo>
                      <a:pt x="769" y="174"/>
                    </a:lnTo>
                    <a:lnTo>
                      <a:pt x="740" y="200"/>
                    </a:lnTo>
                    <a:lnTo>
                      <a:pt x="714" y="226"/>
                    </a:lnTo>
                    <a:lnTo>
                      <a:pt x="693" y="253"/>
                    </a:lnTo>
                    <a:lnTo>
                      <a:pt x="674" y="279"/>
                    </a:lnTo>
                    <a:lnTo>
                      <a:pt x="658" y="308"/>
                    </a:lnTo>
                    <a:lnTo>
                      <a:pt x="648" y="337"/>
                    </a:lnTo>
                    <a:lnTo>
                      <a:pt x="640" y="369"/>
                    </a:lnTo>
                    <a:lnTo>
                      <a:pt x="637" y="403"/>
                    </a:lnTo>
                    <a:lnTo>
                      <a:pt x="637" y="435"/>
                    </a:lnTo>
                    <a:lnTo>
                      <a:pt x="643" y="469"/>
                    </a:lnTo>
                    <a:lnTo>
                      <a:pt x="656" y="501"/>
                    </a:lnTo>
                    <a:lnTo>
                      <a:pt x="661" y="532"/>
                    </a:lnTo>
                    <a:lnTo>
                      <a:pt x="664" y="561"/>
                    </a:lnTo>
                    <a:lnTo>
                      <a:pt x="656" y="588"/>
                    </a:lnTo>
                    <a:lnTo>
                      <a:pt x="645" y="611"/>
                    </a:lnTo>
                    <a:lnTo>
                      <a:pt x="624" y="633"/>
                    </a:lnTo>
                    <a:lnTo>
                      <a:pt x="600" y="651"/>
                    </a:lnTo>
                    <a:lnTo>
                      <a:pt x="566" y="667"/>
                    </a:lnTo>
                    <a:lnTo>
                      <a:pt x="548" y="672"/>
                    </a:lnTo>
                    <a:lnTo>
                      <a:pt x="529" y="677"/>
                    </a:lnTo>
                    <a:lnTo>
                      <a:pt x="508" y="683"/>
                    </a:lnTo>
                    <a:lnTo>
                      <a:pt x="487" y="685"/>
                    </a:lnTo>
                    <a:lnTo>
                      <a:pt x="463" y="685"/>
                    </a:lnTo>
                    <a:lnTo>
                      <a:pt x="440" y="685"/>
                    </a:lnTo>
                    <a:lnTo>
                      <a:pt x="416" y="685"/>
                    </a:lnTo>
                    <a:lnTo>
                      <a:pt x="390" y="683"/>
                    </a:lnTo>
                    <a:lnTo>
                      <a:pt x="347" y="685"/>
                    </a:lnTo>
                    <a:lnTo>
                      <a:pt x="311" y="691"/>
                    </a:lnTo>
                    <a:lnTo>
                      <a:pt x="271" y="699"/>
                    </a:lnTo>
                    <a:lnTo>
                      <a:pt x="234" y="704"/>
                    </a:lnTo>
                    <a:lnTo>
                      <a:pt x="200" y="714"/>
                    </a:lnTo>
                    <a:lnTo>
                      <a:pt x="168" y="725"/>
                    </a:lnTo>
                    <a:lnTo>
                      <a:pt x="139" y="738"/>
                    </a:lnTo>
                    <a:lnTo>
                      <a:pt x="110" y="751"/>
                    </a:lnTo>
                    <a:lnTo>
                      <a:pt x="84" y="767"/>
                    </a:lnTo>
                    <a:lnTo>
                      <a:pt x="63" y="783"/>
                    </a:lnTo>
                    <a:lnTo>
                      <a:pt x="44" y="801"/>
                    </a:lnTo>
                    <a:lnTo>
                      <a:pt x="29" y="820"/>
                    </a:lnTo>
                    <a:lnTo>
                      <a:pt x="15" y="838"/>
                    </a:lnTo>
                    <a:lnTo>
                      <a:pt x="8" y="859"/>
                    </a:lnTo>
                    <a:lnTo>
                      <a:pt x="2" y="883"/>
                    </a:lnTo>
                    <a:lnTo>
                      <a:pt x="0" y="904"/>
                    </a:lnTo>
                    <a:lnTo>
                      <a:pt x="0" y="928"/>
                    </a:lnTo>
                    <a:lnTo>
                      <a:pt x="5" y="952"/>
                    </a:lnTo>
                    <a:lnTo>
                      <a:pt x="10" y="975"/>
                    </a:lnTo>
                    <a:lnTo>
                      <a:pt x="21" y="999"/>
                    </a:lnTo>
                    <a:lnTo>
                      <a:pt x="34" y="1026"/>
                    </a:lnTo>
                    <a:lnTo>
                      <a:pt x="50" y="1052"/>
                    </a:lnTo>
                    <a:lnTo>
                      <a:pt x="68" y="1076"/>
                    </a:lnTo>
                    <a:lnTo>
                      <a:pt x="89" y="1102"/>
                    </a:lnTo>
                    <a:lnTo>
                      <a:pt x="118" y="1134"/>
                    </a:lnTo>
                    <a:lnTo>
                      <a:pt x="150" y="1165"/>
                    </a:lnTo>
                    <a:lnTo>
                      <a:pt x="187" y="1197"/>
                    </a:lnTo>
                    <a:lnTo>
                      <a:pt x="229" y="1226"/>
                    </a:lnTo>
                    <a:lnTo>
                      <a:pt x="274" y="1258"/>
                    </a:lnTo>
                    <a:lnTo>
                      <a:pt x="321" y="1287"/>
                    </a:lnTo>
                    <a:lnTo>
                      <a:pt x="374" y="1316"/>
                    </a:lnTo>
                    <a:lnTo>
                      <a:pt x="429" y="1345"/>
                    </a:lnTo>
                    <a:lnTo>
                      <a:pt x="469" y="1363"/>
                    </a:lnTo>
                    <a:lnTo>
                      <a:pt x="508" y="1379"/>
                    </a:lnTo>
                    <a:lnTo>
                      <a:pt x="548" y="1395"/>
                    </a:lnTo>
                    <a:lnTo>
                      <a:pt x="587" y="1411"/>
                    </a:lnTo>
                    <a:lnTo>
                      <a:pt x="629" y="1426"/>
                    </a:lnTo>
                    <a:lnTo>
                      <a:pt x="669" y="1440"/>
                    </a:lnTo>
                    <a:lnTo>
                      <a:pt x="711" y="1453"/>
                    </a:lnTo>
                    <a:lnTo>
                      <a:pt x="751" y="1463"/>
                    </a:lnTo>
                    <a:lnTo>
                      <a:pt x="793" y="1477"/>
                    </a:lnTo>
                    <a:lnTo>
                      <a:pt x="835" y="1487"/>
                    </a:lnTo>
                    <a:lnTo>
                      <a:pt x="875" y="1495"/>
                    </a:lnTo>
                    <a:lnTo>
                      <a:pt x="917" y="1503"/>
                    </a:lnTo>
                    <a:lnTo>
                      <a:pt x="956" y="1511"/>
                    </a:lnTo>
                    <a:lnTo>
                      <a:pt x="998" y="1519"/>
                    </a:lnTo>
                    <a:lnTo>
                      <a:pt x="1038" y="1524"/>
                    </a:lnTo>
                    <a:lnTo>
                      <a:pt x="1077" y="1529"/>
                    </a:lnTo>
                    <a:lnTo>
                      <a:pt x="1117" y="1532"/>
                    </a:lnTo>
                    <a:lnTo>
                      <a:pt x="1156" y="1537"/>
                    </a:lnTo>
                    <a:lnTo>
                      <a:pt x="1193" y="1537"/>
                    </a:lnTo>
                    <a:lnTo>
                      <a:pt x="1230" y="1540"/>
                    </a:lnTo>
                    <a:lnTo>
                      <a:pt x="1267" y="1540"/>
                    </a:lnTo>
                    <a:lnTo>
                      <a:pt x="1304" y="1537"/>
                    </a:lnTo>
                    <a:lnTo>
                      <a:pt x="1338" y="1537"/>
                    </a:lnTo>
                    <a:lnTo>
                      <a:pt x="1373" y="1532"/>
                    </a:lnTo>
                    <a:lnTo>
                      <a:pt x="1404" y="1529"/>
                    </a:lnTo>
                    <a:lnTo>
                      <a:pt x="1436" y="1524"/>
                    </a:lnTo>
                    <a:lnTo>
                      <a:pt x="1465" y="1519"/>
                    </a:lnTo>
                    <a:lnTo>
                      <a:pt x="1494" y="1511"/>
                    </a:lnTo>
                    <a:lnTo>
                      <a:pt x="1523" y="1503"/>
                    </a:lnTo>
                    <a:lnTo>
                      <a:pt x="1549" y="1492"/>
                    </a:lnTo>
                    <a:lnTo>
                      <a:pt x="1573" y="1482"/>
                    </a:lnTo>
                    <a:lnTo>
                      <a:pt x="1597" y="1471"/>
                    </a:lnTo>
                    <a:lnTo>
                      <a:pt x="1615" y="1461"/>
                    </a:lnTo>
                    <a:lnTo>
                      <a:pt x="1631" y="1450"/>
                    </a:lnTo>
                    <a:lnTo>
                      <a:pt x="1647" y="1442"/>
                    </a:lnTo>
                    <a:lnTo>
                      <a:pt x="1660" y="1429"/>
                    </a:lnTo>
                    <a:lnTo>
                      <a:pt x="1668" y="1418"/>
                    </a:lnTo>
                    <a:lnTo>
                      <a:pt x="1678" y="1403"/>
                    </a:lnTo>
                    <a:lnTo>
                      <a:pt x="1684" y="1382"/>
                    </a:lnTo>
                    <a:lnTo>
                      <a:pt x="1689" y="1358"/>
                    </a:lnTo>
                    <a:lnTo>
                      <a:pt x="1689" y="1353"/>
                    </a:lnTo>
                    <a:lnTo>
                      <a:pt x="1689" y="1337"/>
                    </a:lnTo>
                    <a:lnTo>
                      <a:pt x="1694" y="1318"/>
                    </a:lnTo>
                    <a:lnTo>
                      <a:pt x="1707" y="1295"/>
                    </a:lnTo>
                    <a:lnTo>
                      <a:pt x="1726" y="1276"/>
                    </a:lnTo>
                    <a:lnTo>
                      <a:pt x="1757" y="1260"/>
                    </a:lnTo>
                    <a:lnTo>
                      <a:pt x="1802" y="1255"/>
                    </a:lnTo>
                    <a:lnTo>
                      <a:pt x="1863" y="1263"/>
                    </a:lnTo>
                    <a:lnTo>
                      <a:pt x="1915" y="1273"/>
                    </a:lnTo>
                    <a:lnTo>
                      <a:pt x="1971" y="1284"/>
                    </a:lnTo>
                    <a:lnTo>
                      <a:pt x="2021" y="1292"/>
                    </a:lnTo>
                    <a:lnTo>
                      <a:pt x="2074" y="1300"/>
                    </a:lnTo>
                    <a:lnTo>
                      <a:pt x="2124" y="1305"/>
                    </a:lnTo>
                    <a:lnTo>
                      <a:pt x="2171" y="1310"/>
                    </a:lnTo>
                    <a:lnTo>
                      <a:pt x="2218" y="1313"/>
                    </a:lnTo>
                    <a:lnTo>
                      <a:pt x="2263" y="1316"/>
                    </a:lnTo>
                    <a:lnTo>
                      <a:pt x="2305" y="1316"/>
                    </a:lnTo>
                    <a:lnTo>
                      <a:pt x="2348" y="1316"/>
                    </a:lnTo>
                    <a:lnTo>
                      <a:pt x="2385" y="1316"/>
                    </a:lnTo>
                    <a:lnTo>
                      <a:pt x="2421" y="1310"/>
                    </a:lnTo>
                    <a:lnTo>
                      <a:pt x="2458" y="1308"/>
                    </a:lnTo>
                    <a:lnTo>
                      <a:pt x="2490" y="1302"/>
                    </a:lnTo>
                    <a:lnTo>
                      <a:pt x="2519" y="1295"/>
                    </a:lnTo>
                    <a:lnTo>
                      <a:pt x="2545" y="1287"/>
                    </a:lnTo>
                    <a:lnTo>
                      <a:pt x="2566" y="1281"/>
                    </a:lnTo>
                    <a:lnTo>
                      <a:pt x="2585" y="1273"/>
                    </a:lnTo>
                    <a:lnTo>
                      <a:pt x="2601" y="1263"/>
                    </a:lnTo>
                    <a:lnTo>
                      <a:pt x="2614" y="1252"/>
                    </a:lnTo>
                    <a:lnTo>
                      <a:pt x="2640" y="1221"/>
                    </a:lnTo>
                    <a:lnTo>
                      <a:pt x="2648" y="1186"/>
                    </a:lnTo>
                    <a:lnTo>
                      <a:pt x="2637" y="1147"/>
                    </a:lnTo>
                    <a:lnTo>
                      <a:pt x="2614" y="1105"/>
                    </a:lnTo>
                    <a:lnTo>
                      <a:pt x="2572" y="1060"/>
                    </a:lnTo>
                    <a:lnTo>
                      <a:pt x="2516" y="1015"/>
                    </a:lnTo>
                    <a:lnTo>
                      <a:pt x="2448" y="968"/>
                    </a:lnTo>
                    <a:lnTo>
                      <a:pt x="2366" y="9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 name=""/>
          <p:cNvSpPr/>
          <p:nvPr/>
        </p:nvSpPr>
        <p:spPr>
          <a:xfrm>
            <a:off x="6180120" y="1814400"/>
            <a:ext cx="2784600" cy="3052800"/>
          </a:xfrm>
          <a:custGeom>
            <a:avLst/>
            <a:gdLst/>
            <a:ahLst/>
            <a:rect l="l" t="t" r="r" b="b"/>
            <a:pathLst>
              <a:path w="1754" h="1923">
                <a:moveTo>
                  <a:pt x="238" y="1923"/>
                </a:moveTo>
                <a:cubicBezTo>
                  <a:pt x="304" y="1893"/>
                  <a:pt x="520" y="1831"/>
                  <a:pt x="636" y="1742"/>
                </a:cubicBezTo>
                <a:cubicBezTo>
                  <a:pt x="752" y="1653"/>
                  <a:pt x="1028" y="1449"/>
                  <a:pt x="933" y="1388"/>
                </a:cubicBezTo>
                <a:cubicBezTo>
                  <a:pt x="838" y="1327"/>
                  <a:pt x="130" y="1441"/>
                  <a:pt x="65" y="1375"/>
                </a:cubicBezTo>
                <a:cubicBezTo>
                  <a:pt x="0" y="1309"/>
                  <a:pt x="400" y="1106"/>
                  <a:pt x="545" y="991"/>
                </a:cubicBezTo>
                <a:cubicBezTo>
                  <a:pt x="690" y="876"/>
                  <a:pt x="823" y="772"/>
                  <a:pt x="936" y="683"/>
                </a:cubicBezTo>
                <a:cubicBezTo>
                  <a:pt x="1049" y="594"/>
                  <a:pt x="1110" y="547"/>
                  <a:pt x="1224" y="455"/>
                </a:cubicBezTo>
                <a:cubicBezTo>
                  <a:pt x="1338" y="363"/>
                  <a:pt x="1535" y="205"/>
                  <a:pt x="1622" y="131"/>
                </a:cubicBezTo>
                <a:cubicBezTo>
                  <a:pt x="1709" y="57"/>
                  <a:pt x="1754" y="18"/>
                  <a:pt x="1749" y="9"/>
                </a:cubicBezTo>
                <a:cubicBezTo>
                  <a:pt x="1744" y="0"/>
                  <a:pt x="1622" y="62"/>
                  <a:pt x="1589" y="76"/>
                </a:cubicBez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
          <p:cNvGrpSpPr/>
          <p:nvPr/>
        </p:nvGrpSpPr>
        <p:grpSpPr>
          <a:xfrm>
            <a:off x="5608800" y="4459320"/>
            <a:ext cx="985680" cy="477720"/>
            <a:chOff x="5608800" y="4459320"/>
            <a:chExt cx="985680" cy="477720"/>
          </a:xfrm>
        </p:grpSpPr>
        <p:sp>
          <p:nvSpPr>
            <p:cNvPr id="308" name=""/>
            <p:cNvSpPr/>
            <p:nvPr/>
          </p:nvSpPr>
          <p:spPr>
            <a:xfrm>
              <a:off x="5854680" y="4672800"/>
              <a:ext cx="364680" cy="196200"/>
            </a:xfrm>
            <a:custGeom>
              <a:avLst/>
              <a:gdLst/>
              <a:ahLst/>
              <a:rect l="l" t="t" r="r" b="b"/>
              <a:pathLst>
                <a:path w="582" h="313">
                  <a:moveTo>
                    <a:pt x="581" y="165"/>
                  </a:moveTo>
                  <a:lnTo>
                    <a:pt x="581" y="159"/>
                  </a:lnTo>
                  <a:lnTo>
                    <a:pt x="582" y="141"/>
                  </a:lnTo>
                  <a:lnTo>
                    <a:pt x="581" y="116"/>
                  </a:lnTo>
                  <a:lnTo>
                    <a:pt x="577" y="87"/>
                  </a:lnTo>
                  <a:lnTo>
                    <a:pt x="570" y="58"/>
                  </a:lnTo>
                  <a:lnTo>
                    <a:pt x="559" y="32"/>
                  </a:lnTo>
                  <a:lnTo>
                    <a:pt x="540" y="12"/>
                  </a:lnTo>
                  <a:lnTo>
                    <a:pt x="516" y="2"/>
                  </a:lnTo>
                  <a:lnTo>
                    <a:pt x="515" y="2"/>
                  </a:lnTo>
                  <a:lnTo>
                    <a:pt x="510" y="1"/>
                  </a:lnTo>
                  <a:lnTo>
                    <a:pt x="506" y="0"/>
                  </a:lnTo>
                  <a:lnTo>
                    <a:pt x="501" y="0"/>
                  </a:lnTo>
                  <a:lnTo>
                    <a:pt x="496" y="1"/>
                  </a:lnTo>
                  <a:lnTo>
                    <a:pt x="494" y="4"/>
                  </a:lnTo>
                  <a:lnTo>
                    <a:pt x="494" y="10"/>
                  </a:lnTo>
                  <a:lnTo>
                    <a:pt x="499" y="19"/>
                  </a:lnTo>
                  <a:lnTo>
                    <a:pt x="503" y="31"/>
                  </a:lnTo>
                  <a:lnTo>
                    <a:pt x="505" y="41"/>
                  </a:lnTo>
                  <a:lnTo>
                    <a:pt x="501" y="50"/>
                  </a:lnTo>
                  <a:lnTo>
                    <a:pt x="496" y="58"/>
                  </a:lnTo>
                  <a:lnTo>
                    <a:pt x="488" y="64"/>
                  </a:lnTo>
                  <a:lnTo>
                    <a:pt x="479" y="65"/>
                  </a:lnTo>
                  <a:lnTo>
                    <a:pt x="469" y="64"/>
                  </a:lnTo>
                  <a:lnTo>
                    <a:pt x="458" y="57"/>
                  </a:lnTo>
                  <a:lnTo>
                    <a:pt x="446" y="48"/>
                  </a:lnTo>
                  <a:lnTo>
                    <a:pt x="430" y="42"/>
                  </a:lnTo>
                  <a:lnTo>
                    <a:pt x="411" y="36"/>
                  </a:lnTo>
                  <a:lnTo>
                    <a:pt x="393" y="34"/>
                  </a:lnTo>
                  <a:lnTo>
                    <a:pt x="375" y="34"/>
                  </a:lnTo>
                  <a:lnTo>
                    <a:pt x="362" y="36"/>
                  </a:lnTo>
                  <a:lnTo>
                    <a:pt x="352" y="42"/>
                  </a:lnTo>
                  <a:lnTo>
                    <a:pt x="350" y="50"/>
                  </a:lnTo>
                  <a:lnTo>
                    <a:pt x="350" y="61"/>
                  </a:lnTo>
                  <a:lnTo>
                    <a:pt x="348" y="69"/>
                  </a:lnTo>
                  <a:lnTo>
                    <a:pt x="343" y="77"/>
                  </a:lnTo>
                  <a:lnTo>
                    <a:pt x="336" y="81"/>
                  </a:lnTo>
                  <a:lnTo>
                    <a:pt x="329" y="85"/>
                  </a:lnTo>
                  <a:lnTo>
                    <a:pt x="321" y="85"/>
                  </a:lnTo>
                  <a:lnTo>
                    <a:pt x="312" y="83"/>
                  </a:lnTo>
                  <a:lnTo>
                    <a:pt x="304" y="77"/>
                  </a:lnTo>
                  <a:lnTo>
                    <a:pt x="293" y="71"/>
                  </a:lnTo>
                  <a:lnTo>
                    <a:pt x="276" y="68"/>
                  </a:lnTo>
                  <a:lnTo>
                    <a:pt x="258" y="66"/>
                  </a:lnTo>
                  <a:lnTo>
                    <a:pt x="240" y="68"/>
                  </a:lnTo>
                  <a:lnTo>
                    <a:pt x="221" y="71"/>
                  </a:lnTo>
                  <a:lnTo>
                    <a:pt x="207" y="77"/>
                  </a:lnTo>
                  <a:lnTo>
                    <a:pt x="198" y="85"/>
                  </a:lnTo>
                  <a:lnTo>
                    <a:pt x="197" y="94"/>
                  </a:lnTo>
                  <a:lnTo>
                    <a:pt x="196" y="106"/>
                  </a:lnTo>
                  <a:lnTo>
                    <a:pt x="189" y="119"/>
                  </a:lnTo>
                  <a:lnTo>
                    <a:pt x="177" y="133"/>
                  </a:lnTo>
                  <a:lnTo>
                    <a:pt x="162" y="147"/>
                  </a:lnTo>
                  <a:lnTo>
                    <a:pt x="145" y="160"/>
                  </a:lnTo>
                  <a:lnTo>
                    <a:pt x="128" y="168"/>
                  </a:lnTo>
                  <a:lnTo>
                    <a:pt x="112" y="172"/>
                  </a:lnTo>
                  <a:lnTo>
                    <a:pt x="98" y="171"/>
                  </a:lnTo>
                  <a:lnTo>
                    <a:pt x="84" y="169"/>
                  </a:lnTo>
                  <a:lnTo>
                    <a:pt x="68" y="170"/>
                  </a:lnTo>
                  <a:lnTo>
                    <a:pt x="49" y="177"/>
                  </a:lnTo>
                  <a:lnTo>
                    <a:pt x="32" y="187"/>
                  </a:lnTo>
                  <a:lnTo>
                    <a:pt x="17" y="202"/>
                  </a:lnTo>
                  <a:lnTo>
                    <a:pt x="6" y="223"/>
                  </a:lnTo>
                  <a:lnTo>
                    <a:pt x="0" y="248"/>
                  </a:lnTo>
                  <a:lnTo>
                    <a:pt x="2" y="280"/>
                  </a:lnTo>
                  <a:lnTo>
                    <a:pt x="4" y="283"/>
                  </a:lnTo>
                  <a:lnTo>
                    <a:pt x="9" y="291"/>
                  </a:lnTo>
                  <a:lnTo>
                    <a:pt x="17" y="300"/>
                  </a:lnTo>
                  <a:lnTo>
                    <a:pt x="24" y="308"/>
                  </a:lnTo>
                  <a:lnTo>
                    <a:pt x="32" y="313"/>
                  </a:lnTo>
                  <a:lnTo>
                    <a:pt x="37" y="311"/>
                  </a:lnTo>
                  <a:lnTo>
                    <a:pt x="38" y="299"/>
                  </a:lnTo>
                  <a:lnTo>
                    <a:pt x="36" y="275"/>
                  </a:lnTo>
                  <a:lnTo>
                    <a:pt x="34" y="258"/>
                  </a:lnTo>
                  <a:lnTo>
                    <a:pt x="36" y="244"/>
                  </a:lnTo>
                  <a:lnTo>
                    <a:pt x="40" y="233"/>
                  </a:lnTo>
                  <a:lnTo>
                    <a:pt x="47" y="224"/>
                  </a:lnTo>
                  <a:lnTo>
                    <a:pt x="55" y="218"/>
                  </a:lnTo>
                  <a:lnTo>
                    <a:pt x="64" y="216"/>
                  </a:lnTo>
                  <a:lnTo>
                    <a:pt x="74" y="215"/>
                  </a:lnTo>
                  <a:lnTo>
                    <a:pt x="84" y="217"/>
                  </a:lnTo>
                  <a:lnTo>
                    <a:pt x="95" y="220"/>
                  </a:lnTo>
                  <a:lnTo>
                    <a:pt x="110" y="218"/>
                  </a:lnTo>
                  <a:lnTo>
                    <a:pt x="127" y="216"/>
                  </a:lnTo>
                  <a:lnTo>
                    <a:pt x="144" y="210"/>
                  </a:lnTo>
                  <a:lnTo>
                    <a:pt x="161" y="203"/>
                  </a:lnTo>
                  <a:lnTo>
                    <a:pt x="176" y="193"/>
                  </a:lnTo>
                  <a:lnTo>
                    <a:pt x="188" y="182"/>
                  </a:lnTo>
                  <a:lnTo>
                    <a:pt x="196" y="167"/>
                  </a:lnTo>
                  <a:lnTo>
                    <a:pt x="204" y="153"/>
                  </a:lnTo>
                  <a:lnTo>
                    <a:pt x="214" y="141"/>
                  </a:lnTo>
                  <a:lnTo>
                    <a:pt x="228" y="132"/>
                  </a:lnTo>
                  <a:lnTo>
                    <a:pt x="244" y="126"/>
                  </a:lnTo>
                  <a:lnTo>
                    <a:pt x="260" y="123"/>
                  </a:lnTo>
                  <a:lnTo>
                    <a:pt x="275" y="122"/>
                  </a:lnTo>
                  <a:lnTo>
                    <a:pt x="289" y="124"/>
                  </a:lnTo>
                  <a:lnTo>
                    <a:pt x="301" y="129"/>
                  </a:lnTo>
                  <a:lnTo>
                    <a:pt x="312" y="134"/>
                  </a:lnTo>
                  <a:lnTo>
                    <a:pt x="327" y="139"/>
                  </a:lnTo>
                  <a:lnTo>
                    <a:pt x="343" y="141"/>
                  </a:lnTo>
                  <a:lnTo>
                    <a:pt x="359" y="141"/>
                  </a:lnTo>
                  <a:lnTo>
                    <a:pt x="374" y="139"/>
                  </a:lnTo>
                  <a:lnTo>
                    <a:pt x="388" y="136"/>
                  </a:lnTo>
                  <a:lnTo>
                    <a:pt x="397" y="129"/>
                  </a:lnTo>
                  <a:lnTo>
                    <a:pt x="403" y="119"/>
                  </a:lnTo>
                  <a:lnTo>
                    <a:pt x="409" y="114"/>
                  </a:lnTo>
                  <a:lnTo>
                    <a:pt x="418" y="115"/>
                  </a:lnTo>
                  <a:lnTo>
                    <a:pt x="432" y="122"/>
                  </a:lnTo>
                  <a:lnTo>
                    <a:pt x="447" y="130"/>
                  </a:lnTo>
                  <a:lnTo>
                    <a:pt x="462" y="139"/>
                  </a:lnTo>
                  <a:lnTo>
                    <a:pt x="475" y="145"/>
                  </a:lnTo>
                  <a:lnTo>
                    <a:pt x="486" y="145"/>
                  </a:lnTo>
                  <a:lnTo>
                    <a:pt x="493" y="137"/>
                  </a:lnTo>
                  <a:lnTo>
                    <a:pt x="499" y="126"/>
                  </a:lnTo>
                  <a:lnTo>
                    <a:pt x="506" y="121"/>
                  </a:lnTo>
                  <a:lnTo>
                    <a:pt x="516" y="118"/>
                  </a:lnTo>
                  <a:lnTo>
                    <a:pt x="528" y="121"/>
                  </a:lnTo>
                  <a:lnTo>
                    <a:pt x="540" y="126"/>
                  </a:lnTo>
                  <a:lnTo>
                    <a:pt x="553" y="136"/>
                  </a:lnTo>
                  <a:lnTo>
                    <a:pt x="567" y="149"/>
                  </a:lnTo>
                  <a:lnTo>
                    <a:pt x="581" y="165"/>
                  </a:lnTo>
                  <a:close/>
                </a:path>
              </a:pathLst>
            </a:custGeom>
            <a:solidFill>
              <a:srgbClr val="4f99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57160" y="4696920"/>
              <a:ext cx="82440" cy="63720"/>
            </a:xfrm>
            <a:custGeom>
              <a:avLst/>
              <a:gdLst/>
              <a:ahLst/>
              <a:rect l="l" t="t" r="r" b="b"/>
              <a:pathLst>
                <a:path w="130" h="101">
                  <a:moveTo>
                    <a:pt x="130" y="4"/>
                  </a:moveTo>
                  <a:lnTo>
                    <a:pt x="125" y="13"/>
                  </a:lnTo>
                  <a:lnTo>
                    <a:pt x="116" y="34"/>
                  </a:lnTo>
                  <a:lnTo>
                    <a:pt x="105" y="61"/>
                  </a:lnTo>
                  <a:lnTo>
                    <a:pt x="97" y="84"/>
                  </a:lnTo>
                  <a:lnTo>
                    <a:pt x="90" y="98"/>
                  </a:lnTo>
                  <a:lnTo>
                    <a:pt x="83" y="101"/>
                  </a:lnTo>
                  <a:lnTo>
                    <a:pt x="76" y="95"/>
                  </a:lnTo>
                  <a:lnTo>
                    <a:pt x="71" y="79"/>
                  </a:lnTo>
                  <a:lnTo>
                    <a:pt x="69" y="70"/>
                  </a:lnTo>
                  <a:lnTo>
                    <a:pt x="66" y="62"/>
                  </a:lnTo>
                  <a:lnTo>
                    <a:pt x="60" y="57"/>
                  </a:lnTo>
                  <a:lnTo>
                    <a:pt x="53" y="56"/>
                  </a:lnTo>
                  <a:lnTo>
                    <a:pt x="46" y="57"/>
                  </a:lnTo>
                  <a:lnTo>
                    <a:pt x="38" y="61"/>
                  </a:lnTo>
                  <a:lnTo>
                    <a:pt x="30" y="69"/>
                  </a:lnTo>
                  <a:lnTo>
                    <a:pt x="22" y="79"/>
                  </a:lnTo>
                  <a:lnTo>
                    <a:pt x="9" y="94"/>
                  </a:lnTo>
                  <a:lnTo>
                    <a:pt x="1" y="93"/>
                  </a:lnTo>
                  <a:lnTo>
                    <a:pt x="0" y="77"/>
                  </a:lnTo>
                  <a:lnTo>
                    <a:pt x="6" y="50"/>
                  </a:lnTo>
                  <a:lnTo>
                    <a:pt x="13" y="35"/>
                  </a:lnTo>
                  <a:lnTo>
                    <a:pt x="23" y="23"/>
                  </a:lnTo>
                  <a:lnTo>
                    <a:pt x="34" y="11"/>
                  </a:lnTo>
                  <a:lnTo>
                    <a:pt x="47" y="4"/>
                  </a:lnTo>
                  <a:lnTo>
                    <a:pt x="56" y="0"/>
                  </a:lnTo>
                  <a:lnTo>
                    <a:pt x="63" y="0"/>
                  </a:lnTo>
                  <a:lnTo>
                    <a:pt x="64" y="4"/>
                  </a:lnTo>
                  <a:lnTo>
                    <a:pt x="60" y="13"/>
                  </a:lnTo>
                  <a:lnTo>
                    <a:pt x="54" y="24"/>
                  </a:lnTo>
                  <a:lnTo>
                    <a:pt x="55" y="33"/>
                  </a:lnTo>
                  <a:lnTo>
                    <a:pt x="62" y="38"/>
                  </a:lnTo>
                  <a:lnTo>
                    <a:pt x="72" y="40"/>
                  </a:lnTo>
                  <a:lnTo>
                    <a:pt x="86" y="38"/>
                  </a:lnTo>
                  <a:lnTo>
                    <a:pt x="101" y="31"/>
                  </a:lnTo>
                  <a:lnTo>
                    <a:pt x="116" y="20"/>
                  </a:lnTo>
                  <a:lnTo>
                    <a:pt x="130" y="4"/>
                  </a:lnTo>
                  <a:close/>
                </a:path>
              </a:pathLst>
            </a:custGeom>
            <a:solidFill>
              <a:srgbClr val="4f99e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 name=""/>
            <p:cNvSpPr/>
            <p:nvPr/>
          </p:nvSpPr>
          <p:spPr>
            <a:xfrm>
              <a:off x="5608800" y="4459320"/>
              <a:ext cx="985680" cy="477720"/>
            </a:xfrm>
            <a:custGeom>
              <a:avLst/>
              <a:gdLst/>
              <a:ahLst/>
              <a:rect l="l" t="t" r="r" b="b"/>
              <a:pathLst>
                <a:path w="1573" h="765">
                  <a:moveTo>
                    <a:pt x="0" y="471"/>
                  </a:moveTo>
                  <a:lnTo>
                    <a:pt x="2" y="443"/>
                  </a:lnTo>
                  <a:lnTo>
                    <a:pt x="9" y="417"/>
                  </a:lnTo>
                  <a:lnTo>
                    <a:pt x="19" y="393"/>
                  </a:lnTo>
                  <a:lnTo>
                    <a:pt x="31" y="371"/>
                  </a:lnTo>
                  <a:lnTo>
                    <a:pt x="46" y="352"/>
                  </a:lnTo>
                  <a:lnTo>
                    <a:pt x="63" y="334"/>
                  </a:lnTo>
                  <a:lnTo>
                    <a:pt x="84" y="318"/>
                  </a:lnTo>
                  <a:lnTo>
                    <a:pt x="106" y="303"/>
                  </a:lnTo>
                  <a:lnTo>
                    <a:pt x="130" y="291"/>
                  </a:lnTo>
                  <a:lnTo>
                    <a:pt x="157" y="280"/>
                  </a:lnTo>
                  <a:lnTo>
                    <a:pt x="186" y="271"/>
                  </a:lnTo>
                  <a:lnTo>
                    <a:pt x="214" y="263"/>
                  </a:lnTo>
                  <a:lnTo>
                    <a:pt x="246" y="256"/>
                  </a:lnTo>
                  <a:lnTo>
                    <a:pt x="278" y="251"/>
                  </a:lnTo>
                  <a:lnTo>
                    <a:pt x="311" y="247"/>
                  </a:lnTo>
                  <a:lnTo>
                    <a:pt x="345" y="244"/>
                  </a:lnTo>
                  <a:lnTo>
                    <a:pt x="358" y="201"/>
                  </a:lnTo>
                  <a:lnTo>
                    <a:pt x="376" y="165"/>
                  </a:lnTo>
                  <a:lnTo>
                    <a:pt x="396" y="137"/>
                  </a:lnTo>
                  <a:lnTo>
                    <a:pt x="417" y="117"/>
                  </a:lnTo>
                  <a:lnTo>
                    <a:pt x="440" y="102"/>
                  </a:lnTo>
                  <a:lnTo>
                    <a:pt x="463" y="94"/>
                  </a:lnTo>
                  <a:lnTo>
                    <a:pt x="486" y="89"/>
                  </a:lnTo>
                  <a:lnTo>
                    <a:pt x="509" y="88"/>
                  </a:lnTo>
                  <a:lnTo>
                    <a:pt x="527" y="88"/>
                  </a:lnTo>
                  <a:lnTo>
                    <a:pt x="544" y="87"/>
                  </a:lnTo>
                  <a:lnTo>
                    <a:pt x="560" y="84"/>
                  </a:lnTo>
                  <a:lnTo>
                    <a:pt x="577" y="81"/>
                  </a:lnTo>
                  <a:lnTo>
                    <a:pt x="594" y="77"/>
                  </a:lnTo>
                  <a:lnTo>
                    <a:pt x="608" y="73"/>
                  </a:lnTo>
                  <a:lnTo>
                    <a:pt x="623" y="68"/>
                  </a:lnTo>
                  <a:lnTo>
                    <a:pt x="637" y="64"/>
                  </a:lnTo>
                  <a:lnTo>
                    <a:pt x="650" y="58"/>
                  </a:lnTo>
                  <a:lnTo>
                    <a:pt x="661" y="53"/>
                  </a:lnTo>
                  <a:lnTo>
                    <a:pt x="672" y="49"/>
                  </a:lnTo>
                  <a:lnTo>
                    <a:pt x="681" y="44"/>
                  </a:lnTo>
                  <a:lnTo>
                    <a:pt x="688" y="41"/>
                  </a:lnTo>
                  <a:lnTo>
                    <a:pt x="693" y="38"/>
                  </a:lnTo>
                  <a:lnTo>
                    <a:pt x="696" y="37"/>
                  </a:lnTo>
                  <a:lnTo>
                    <a:pt x="697" y="36"/>
                  </a:lnTo>
                  <a:lnTo>
                    <a:pt x="725" y="22"/>
                  </a:lnTo>
                  <a:lnTo>
                    <a:pt x="753" y="12"/>
                  </a:lnTo>
                  <a:lnTo>
                    <a:pt x="779" y="5"/>
                  </a:lnTo>
                  <a:lnTo>
                    <a:pt x="806" y="1"/>
                  </a:lnTo>
                  <a:lnTo>
                    <a:pt x="831" y="0"/>
                  </a:lnTo>
                  <a:lnTo>
                    <a:pt x="856" y="3"/>
                  </a:lnTo>
                  <a:lnTo>
                    <a:pt x="880" y="7"/>
                  </a:lnTo>
                  <a:lnTo>
                    <a:pt x="905" y="14"/>
                  </a:lnTo>
                  <a:lnTo>
                    <a:pt x="928" y="22"/>
                  </a:lnTo>
                  <a:lnTo>
                    <a:pt x="951" y="34"/>
                  </a:lnTo>
                  <a:lnTo>
                    <a:pt x="973" y="45"/>
                  </a:lnTo>
                  <a:lnTo>
                    <a:pt x="993" y="59"/>
                  </a:lnTo>
                  <a:lnTo>
                    <a:pt x="1014" y="74"/>
                  </a:lnTo>
                  <a:lnTo>
                    <a:pt x="1033" y="90"/>
                  </a:lnTo>
                  <a:lnTo>
                    <a:pt x="1052" y="107"/>
                  </a:lnTo>
                  <a:lnTo>
                    <a:pt x="1069" y="125"/>
                  </a:lnTo>
                  <a:lnTo>
                    <a:pt x="1087" y="117"/>
                  </a:lnTo>
                  <a:lnTo>
                    <a:pt x="1106" y="109"/>
                  </a:lnTo>
                  <a:lnTo>
                    <a:pt x="1127" y="102"/>
                  </a:lnTo>
                  <a:lnTo>
                    <a:pt x="1148" y="95"/>
                  </a:lnTo>
                  <a:lnTo>
                    <a:pt x="1171" y="89"/>
                  </a:lnTo>
                  <a:lnTo>
                    <a:pt x="1195" y="84"/>
                  </a:lnTo>
                  <a:lnTo>
                    <a:pt x="1220" y="80"/>
                  </a:lnTo>
                  <a:lnTo>
                    <a:pt x="1246" y="77"/>
                  </a:lnTo>
                  <a:lnTo>
                    <a:pt x="1272" y="77"/>
                  </a:lnTo>
                  <a:lnTo>
                    <a:pt x="1300" y="79"/>
                  </a:lnTo>
                  <a:lnTo>
                    <a:pt x="1329" y="82"/>
                  </a:lnTo>
                  <a:lnTo>
                    <a:pt x="1357" y="88"/>
                  </a:lnTo>
                  <a:lnTo>
                    <a:pt x="1386" y="96"/>
                  </a:lnTo>
                  <a:lnTo>
                    <a:pt x="1416" y="107"/>
                  </a:lnTo>
                  <a:lnTo>
                    <a:pt x="1446" y="121"/>
                  </a:lnTo>
                  <a:lnTo>
                    <a:pt x="1476" y="138"/>
                  </a:lnTo>
                  <a:lnTo>
                    <a:pt x="1518" y="170"/>
                  </a:lnTo>
                  <a:lnTo>
                    <a:pt x="1546" y="206"/>
                  </a:lnTo>
                  <a:lnTo>
                    <a:pt x="1565" y="247"/>
                  </a:lnTo>
                  <a:lnTo>
                    <a:pt x="1573" y="289"/>
                  </a:lnTo>
                  <a:lnTo>
                    <a:pt x="1572" y="336"/>
                  </a:lnTo>
                  <a:lnTo>
                    <a:pt x="1561" y="383"/>
                  </a:lnTo>
                  <a:lnTo>
                    <a:pt x="1543" y="431"/>
                  </a:lnTo>
                  <a:lnTo>
                    <a:pt x="1515" y="478"/>
                  </a:lnTo>
                  <a:lnTo>
                    <a:pt x="1482" y="524"/>
                  </a:lnTo>
                  <a:lnTo>
                    <a:pt x="1440" y="569"/>
                  </a:lnTo>
                  <a:lnTo>
                    <a:pt x="1394" y="611"/>
                  </a:lnTo>
                  <a:lnTo>
                    <a:pt x="1341" y="649"/>
                  </a:lnTo>
                  <a:lnTo>
                    <a:pt x="1285" y="682"/>
                  </a:lnTo>
                  <a:lnTo>
                    <a:pt x="1223" y="710"/>
                  </a:lnTo>
                  <a:lnTo>
                    <a:pt x="1158" y="732"/>
                  </a:lnTo>
                  <a:lnTo>
                    <a:pt x="1090" y="747"/>
                  </a:lnTo>
                  <a:lnTo>
                    <a:pt x="1088" y="748"/>
                  </a:lnTo>
                  <a:lnTo>
                    <a:pt x="1080" y="749"/>
                  </a:lnTo>
                  <a:lnTo>
                    <a:pt x="1067" y="751"/>
                  </a:lnTo>
                  <a:lnTo>
                    <a:pt x="1050" y="755"/>
                  </a:lnTo>
                  <a:lnTo>
                    <a:pt x="1028" y="757"/>
                  </a:lnTo>
                  <a:lnTo>
                    <a:pt x="1003" y="761"/>
                  </a:lnTo>
                  <a:lnTo>
                    <a:pt x="974" y="763"/>
                  </a:lnTo>
                  <a:lnTo>
                    <a:pt x="943" y="764"/>
                  </a:lnTo>
                  <a:lnTo>
                    <a:pt x="908" y="765"/>
                  </a:lnTo>
                  <a:lnTo>
                    <a:pt x="871" y="764"/>
                  </a:lnTo>
                  <a:lnTo>
                    <a:pt x="832" y="762"/>
                  </a:lnTo>
                  <a:lnTo>
                    <a:pt x="792" y="756"/>
                  </a:lnTo>
                  <a:lnTo>
                    <a:pt x="750" y="749"/>
                  </a:lnTo>
                  <a:lnTo>
                    <a:pt x="708" y="740"/>
                  </a:lnTo>
                  <a:lnTo>
                    <a:pt x="665" y="727"/>
                  </a:lnTo>
                  <a:lnTo>
                    <a:pt x="621" y="711"/>
                  </a:lnTo>
                  <a:lnTo>
                    <a:pt x="579" y="695"/>
                  </a:lnTo>
                  <a:lnTo>
                    <a:pt x="539" y="683"/>
                  </a:lnTo>
                  <a:lnTo>
                    <a:pt x="501" y="675"/>
                  </a:lnTo>
                  <a:lnTo>
                    <a:pt x="466" y="670"/>
                  </a:lnTo>
                  <a:lnTo>
                    <a:pt x="433" y="666"/>
                  </a:lnTo>
                  <a:lnTo>
                    <a:pt x="402" y="666"/>
                  </a:lnTo>
                  <a:lnTo>
                    <a:pt x="375" y="667"/>
                  </a:lnTo>
                  <a:lnTo>
                    <a:pt x="350" y="670"/>
                  </a:lnTo>
                  <a:lnTo>
                    <a:pt x="327" y="674"/>
                  </a:lnTo>
                  <a:lnTo>
                    <a:pt x="308" y="679"/>
                  </a:lnTo>
                  <a:lnTo>
                    <a:pt x="292" y="683"/>
                  </a:lnTo>
                  <a:lnTo>
                    <a:pt x="278" y="688"/>
                  </a:lnTo>
                  <a:lnTo>
                    <a:pt x="266" y="693"/>
                  </a:lnTo>
                  <a:lnTo>
                    <a:pt x="259" y="696"/>
                  </a:lnTo>
                  <a:lnTo>
                    <a:pt x="254" y="698"/>
                  </a:lnTo>
                  <a:lnTo>
                    <a:pt x="252" y="700"/>
                  </a:lnTo>
                  <a:lnTo>
                    <a:pt x="249" y="700"/>
                  </a:lnTo>
                  <a:lnTo>
                    <a:pt x="241" y="698"/>
                  </a:lnTo>
                  <a:lnTo>
                    <a:pt x="228" y="696"/>
                  </a:lnTo>
                  <a:lnTo>
                    <a:pt x="212" y="694"/>
                  </a:lnTo>
                  <a:lnTo>
                    <a:pt x="193" y="689"/>
                  </a:lnTo>
                  <a:lnTo>
                    <a:pt x="171" y="683"/>
                  </a:lnTo>
                  <a:lnTo>
                    <a:pt x="148" y="675"/>
                  </a:lnTo>
                  <a:lnTo>
                    <a:pt x="123" y="665"/>
                  </a:lnTo>
                  <a:lnTo>
                    <a:pt x="99" y="652"/>
                  </a:lnTo>
                  <a:lnTo>
                    <a:pt x="76" y="637"/>
                  </a:lnTo>
                  <a:lnTo>
                    <a:pt x="55" y="618"/>
                  </a:lnTo>
                  <a:lnTo>
                    <a:pt x="36" y="597"/>
                  </a:lnTo>
                  <a:lnTo>
                    <a:pt x="21" y="572"/>
                  </a:lnTo>
                  <a:lnTo>
                    <a:pt x="8" y="542"/>
                  </a:lnTo>
                  <a:lnTo>
                    <a:pt x="1" y="509"/>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36160" y="4635360"/>
              <a:ext cx="712440" cy="278640"/>
            </a:xfrm>
            <a:custGeom>
              <a:avLst/>
              <a:gdLst/>
              <a:ahLst/>
              <a:rect l="l" t="t" r="r" b="b"/>
              <a:pathLst>
                <a:path w="1136" h="447">
                  <a:moveTo>
                    <a:pt x="1136" y="398"/>
                  </a:moveTo>
                  <a:lnTo>
                    <a:pt x="1134" y="399"/>
                  </a:lnTo>
                  <a:lnTo>
                    <a:pt x="1126" y="402"/>
                  </a:lnTo>
                  <a:lnTo>
                    <a:pt x="1114" y="405"/>
                  </a:lnTo>
                  <a:lnTo>
                    <a:pt x="1098" y="410"/>
                  </a:lnTo>
                  <a:lnTo>
                    <a:pt x="1078" y="413"/>
                  </a:lnTo>
                  <a:lnTo>
                    <a:pt x="1055" y="417"/>
                  </a:lnTo>
                  <a:lnTo>
                    <a:pt x="1030" y="418"/>
                  </a:lnTo>
                  <a:lnTo>
                    <a:pt x="1001" y="419"/>
                  </a:lnTo>
                  <a:lnTo>
                    <a:pt x="970" y="417"/>
                  </a:lnTo>
                  <a:lnTo>
                    <a:pt x="937" y="412"/>
                  </a:lnTo>
                  <a:lnTo>
                    <a:pt x="903" y="404"/>
                  </a:lnTo>
                  <a:lnTo>
                    <a:pt x="868" y="391"/>
                  </a:lnTo>
                  <a:lnTo>
                    <a:pt x="831" y="375"/>
                  </a:lnTo>
                  <a:lnTo>
                    <a:pt x="794" y="353"/>
                  </a:lnTo>
                  <a:lnTo>
                    <a:pt x="757" y="326"/>
                  </a:lnTo>
                  <a:lnTo>
                    <a:pt x="720" y="292"/>
                  </a:lnTo>
                  <a:lnTo>
                    <a:pt x="691" y="262"/>
                  </a:lnTo>
                  <a:lnTo>
                    <a:pt x="662" y="232"/>
                  </a:lnTo>
                  <a:lnTo>
                    <a:pt x="634" y="200"/>
                  </a:lnTo>
                  <a:lnTo>
                    <a:pt x="605" y="169"/>
                  </a:lnTo>
                  <a:lnTo>
                    <a:pt x="576" y="139"/>
                  </a:lnTo>
                  <a:lnTo>
                    <a:pt x="545" y="110"/>
                  </a:lnTo>
                  <a:lnTo>
                    <a:pt x="514" y="84"/>
                  </a:lnTo>
                  <a:lnTo>
                    <a:pt x="480" y="59"/>
                  </a:lnTo>
                  <a:lnTo>
                    <a:pt x="446" y="39"/>
                  </a:lnTo>
                  <a:lnTo>
                    <a:pt x="408" y="21"/>
                  </a:lnTo>
                  <a:lnTo>
                    <a:pt x="369" y="9"/>
                  </a:lnTo>
                  <a:lnTo>
                    <a:pt x="326" y="1"/>
                  </a:lnTo>
                  <a:lnTo>
                    <a:pt x="280" y="0"/>
                  </a:lnTo>
                  <a:lnTo>
                    <a:pt x="230" y="4"/>
                  </a:lnTo>
                  <a:lnTo>
                    <a:pt x="176" y="16"/>
                  </a:lnTo>
                  <a:lnTo>
                    <a:pt x="119" y="35"/>
                  </a:lnTo>
                  <a:lnTo>
                    <a:pt x="113" y="38"/>
                  </a:lnTo>
                  <a:lnTo>
                    <a:pt x="99" y="46"/>
                  </a:lnTo>
                  <a:lnTo>
                    <a:pt x="79" y="59"/>
                  </a:lnTo>
                  <a:lnTo>
                    <a:pt x="56" y="78"/>
                  </a:lnTo>
                  <a:lnTo>
                    <a:pt x="34" y="101"/>
                  </a:lnTo>
                  <a:lnTo>
                    <a:pt x="15" y="130"/>
                  </a:lnTo>
                  <a:lnTo>
                    <a:pt x="2" y="164"/>
                  </a:lnTo>
                  <a:lnTo>
                    <a:pt x="0" y="203"/>
                  </a:lnTo>
                  <a:lnTo>
                    <a:pt x="2" y="223"/>
                  </a:lnTo>
                  <a:lnTo>
                    <a:pt x="7" y="241"/>
                  </a:lnTo>
                  <a:lnTo>
                    <a:pt x="14" y="259"/>
                  </a:lnTo>
                  <a:lnTo>
                    <a:pt x="21" y="274"/>
                  </a:lnTo>
                  <a:lnTo>
                    <a:pt x="31" y="288"/>
                  </a:lnTo>
                  <a:lnTo>
                    <a:pt x="41" y="300"/>
                  </a:lnTo>
                  <a:lnTo>
                    <a:pt x="54" y="312"/>
                  </a:lnTo>
                  <a:lnTo>
                    <a:pt x="67" y="321"/>
                  </a:lnTo>
                  <a:lnTo>
                    <a:pt x="81" y="330"/>
                  </a:lnTo>
                  <a:lnTo>
                    <a:pt x="97" y="338"/>
                  </a:lnTo>
                  <a:lnTo>
                    <a:pt x="112" y="345"/>
                  </a:lnTo>
                  <a:lnTo>
                    <a:pt x="129" y="352"/>
                  </a:lnTo>
                  <a:lnTo>
                    <a:pt x="145" y="358"/>
                  </a:lnTo>
                  <a:lnTo>
                    <a:pt x="162" y="362"/>
                  </a:lnTo>
                  <a:lnTo>
                    <a:pt x="180" y="367"/>
                  </a:lnTo>
                  <a:lnTo>
                    <a:pt x="197" y="372"/>
                  </a:lnTo>
                  <a:lnTo>
                    <a:pt x="199" y="370"/>
                  </a:lnTo>
                  <a:lnTo>
                    <a:pt x="204" y="368"/>
                  </a:lnTo>
                  <a:lnTo>
                    <a:pt x="213" y="365"/>
                  </a:lnTo>
                  <a:lnTo>
                    <a:pt x="226" y="361"/>
                  </a:lnTo>
                  <a:lnTo>
                    <a:pt x="241" y="357"/>
                  </a:lnTo>
                  <a:lnTo>
                    <a:pt x="260" y="352"/>
                  </a:lnTo>
                  <a:lnTo>
                    <a:pt x="283" y="349"/>
                  </a:lnTo>
                  <a:lnTo>
                    <a:pt x="309" y="346"/>
                  </a:lnTo>
                  <a:lnTo>
                    <a:pt x="337" y="345"/>
                  </a:lnTo>
                  <a:lnTo>
                    <a:pt x="370" y="345"/>
                  </a:lnTo>
                  <a:lnTo>
                    <a:pt x="405" y="349"/>
                  </a:lnTo>
                  <a:lnTo>
                    <a:pt x="443" y="353"/>
                  </a:lnTo>
                  <a:lnTo>
                    <a:pt x="485" y="362"/>
                  </a:lnTo>
                  <a:lnTo>
                    <a:pt x="529" y="374"/>
                  </a:lnTo>
                  <a:lnTo>
                    <a:pt x="576" y="389"/>
                  </a:lnTo>
                  <a:lnTo>
                    <a:pt x="627" y="409"/>
                  </a:lnTo>
                  <a:lnTo>
                    <a:pt x="630" y="410"/>
                  </a:lnTo>
                  <a:lnTo>
                    <a:pt x="639" y="412"/>
                  </a:lnTo>
                  <a:lnTo>
                    <a:pt x="654" y="417"/>
                  </a:lnTo>
                  <a:lnTo>
                    <a:pt x="674" y="421"/>
                  </a:lnTo>
                  <a:lnTo>
                    <a:pt x="698" y="427"/>
                  </a:lnTo>
                  <a:lnTo>
                    <a:pt x="727" y="432"/>
                  </a:lnTo>
                  <a:lnTo>
                    <a:pt x="760" y="437"/>
                  </a:lnTo>
                  <a:lnTo>
                    <a:pt x="795" y="441"/>
                  </a:lnTo>
                  <a:lnTo>
                    <a:pt x="834" y="444"/>
                  </a:lnTo>
                  <a:lnTo>
                    <a:pt x="874" y="447"/>
                  </a:lnTo>
                  <a:lnTo>
                    <a:pt x="916" y="445"/>
                  </a:lnTo>
                  <a:lnTo>
                    <a:pt x="960" y="443"/>
                  </a:lnTo>
                  <a:lnTo>
                    <a:pt x="1004" y="437"/>
                  </a:lnTo>
                  <a:lnTo>
                    <a:pt x="1048" y="428"/>
                  </a:lnTo>
                  <a:lnTo>
                    <a:pt x="1092" y="415"/>
                  </a:lnTo>
                  <a:lnTo>
                    <a:pt x="1136" y="398"/>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146640" y="4531680"/>
              <a:ext cx="426240" cy="344880"/>
            </a:xfrm>
            <a:custGeom>
              <a:avLst/>
              <a:gdLst/>
              <a:ahLst/>
              <a:rect l="l" t="t" r="r" b="b"/>
              <a:pathLst>
                <a:path w="679" h="550">
                  <a:moveTo>
                    <a:pt x="252" y="53"/>
                  </a:moveTo>
                  <a:lnTo>
                    <a:pt x="255" y="59"/>
                  </a:lnTo>
                  <a:lnTo>
                    <a:pt x="266" y="76"/>
                  </a:lnTo>
                  <a:lnTo>
                    <a:pt x="281" y="102"/>
                  </a:lnTo>
                  <a:lnTo>
                    <a:pt x="298" y="136"/>
                  </a:lnTo>
                  <a:lnTo>
                    <a:pt x="316" y="175"/>
                  </a:lnTo>
                  <a:lnTo>
                    <a:pt x="335" y="218"/>
                  </a:lnTo>
                  <a:lnTo>
                    <a:pt x="350" y="262"/>
                  </a:lnTo>
                  <a:lnTo>
                    <a:pt x="360" y="309"/>
                  </a:lnTo>
                  <a:lnTo>
                    <a:pt x="360" y="310"/>
                  </a:lnTo>
                  <a:lnTo>
                    <a:pt x="358" y="314"/>
                  </a:lnTo>
                  <a:lnTo>
                    <a:pt x="354" y="320"/>
                  </a:lnTo>
                  <a:lnTo>
                    <a:pt x="349" y="328"/>
                  </a:lnTo>
                  <a:lnTo>
                    <a:pt x="341" y="338"/>
                  </a:lnTo>
                  <a:lnTo>
                    <a:pt x="329" y="350"/>
                  </a:lnTo>
                  <a:lnTo>
                    <a:pt x="316" y="363"/>
                  </a:lnTo>
                  <a:lnTo>
                    <a:pt x="299" y="376"/>
                  </a:lnTo>
                  <a:lnTo>
                    <a:pt x="278" y="390"/>
                  </a:lnTo>
                  <a:lnTo>
                    <a:pt x="253" y="405"/>
                  </a:lnTo>
                  <a:lnTo>
                    <a:pt x="223" y="419"/>
                  </a:lnTo>
                  <a:lnTo>
                    <a:pt x="190" y="434"/>
                  </a:lnTo>
                  <a:lnTo>
                    <a:pt x="150" y="448"/>
                  </a:lnTo>
                  <a:lnTo>
                    <a:pt x="106" y="461"/>
                  </a:lnTo>
                  <a:lnTo>
                    <a:pt x="56" y="472"/>
                  </a:lnTo>
                  <a:lnTo>
                    <a:pt x="0" y="482"/>
                  </a:lnTo>
                  <a:lnTo>
                    <a:pt x="2" y="484"/>
                  </a:lnTo>
                  <a:lnTo>
                    <a:pt x="8" y="488"/>
                  </a:lnTo>
                  <a:lnTo>
                    <a:pt x="17" y="494"/>
                  </a:lnTo>
                  <a:lnTo>
                    <a:pt x="31" y="502"/>
                  </a:lnTo>
                  <a:lnTo>
                    <a:pt x="48" y="510"/>
                  </a:lnTo>
                  <a:lnTo>
                    <a:pt x="69" y="519"/>
                  </a:lnTo>
                  <a:lnTo>
                    <a:pt x="93" y="527"/>
                  </a:lnTo>
                  <a:lnTo>
                    <a:pt x="121" y="535"/>
                  </a:lnTo>
                  <a:lnTo>
                    <a:pt x="150" y="542"/>
                  </a:lnTo>
                  <a:lnTo>
                    <a:pt x="184" y="547"/>
                  </a:lnTo>
                  <a:lnTo>
                    <a:pt x="221" y="550"/>
                  </a:lnTo>
                  <a:lnTo>
                    <a:pt x="260" y="549"/>
                  </a:lnTo>
                  <a:lnTo>
                    <a:pt x="301" y="546"/>
                  </a:lnTo>
                  <a:lnTo>
                    <a:pt x="346" y="538"/>
                  </a:lnTo>
                  <a:lnTo>
                    <a:pt x="392" y="525"/>
                  </a:lnTo>
                  <a:lnTo>
                    <a:pt x="442" y="508"/>
                  </a:lnTo>
                  <a:lnTo>
                    <a:pt x="444" y="507"/>
                  </a:lnTo>
                  <a:lnTo>
                    <a:pt x="450" y="503"/>
                  </a:lnTo>
                  <a:lnTo>
                    <a:pt x="459" y="497"/>
                  </a:lnTo>
                  <a:lnTo>
                    <a:pt x="472" y="491"/>
                  </a:lnTo>
                  <a:lnTo>
                    <a:pt x="487" y="480"/>
                  </a:lnTo>
                  <a:lnTo>
                    <a:pt x="504" y="468"/>
                  </a:lnTo>
                  <a:lnTo>
                    <a:pt x="523" y="454"/>
                  </a:lnTo>
                  <a:lnTo>
                    <a:pt x="542" y="436"/>
                  </a:lnTo>
                  <a:lnTo>
                    <a:pt x="562" y="418"/>
                  </a:lnTo>
                  <a:lnTo>
                    <a:pt x="583" y="397"/>
                  </a:lnTo>
                  <a:lnTo>
                    <a:pt x="602" y="374"/>
                  </a:lnTo>
                  <a:lnTo>
                    <a:pt x="621" y="349"/>
                  </a:lnTo>
                  <a:lnTo>
                    <a:pt x="638" y="322"/>
                  </a:lnTo>
                  <a:lnTo>
                    <a:pt x="653" y="292"/>
                  </a:lnTo>
                  <a:lnTo>
                    <a:pt x="666" y="261"/>
                  </a:lnTo>
                  <a:lnTo>
                    <a:pt x="676" y="228"/>
                  </a:lnTo>
                  <a:lnTo>
                    <a:pt x="676" y="226"/>
                  </a:lnTo>
                  <a:lnTo>
                    <a:pt x="677" y="219"/>
                  </a:lnTo>
                  <a:lnTo>
                    <a:pt x="678" y="208"/>
                  </a:lnTo>
                  <a:lnTo>
                    <a:pt x="679" y="194"/>
                  </a:lnTo>
                  <a:lnTo>
                    <a:pt x="678" y="177"/>
                  </a:lnTo>
                  <a:lnTo>
                    <a:pt x="676" y="160"/>
                  </a:lnTo>
                  <a:lnTo>
                    <a:pt x="671" y="139"/>
                  </a:lnTo>
                  <a:lnTo>
                    <a:pt x="664" y="118"/>
                  </a:lnTo>
                  <a:lnTo>
                    <a:pt x="654" y="99"/>
                  </a:lnTo>
                  <a:lnTo>
                    <a:pt x="639" y="78"/>
                  </a:lnTo>
                  <a:lnTo>
                    <a:pt x="619" y="59"/>
                  </a:lnTo>
                  <a:lnTo>
                    <a:pt x="595" y="41"/>
                  </a:lnTo>
                  <a:lnTo>
                    <a:pt x="565" y="26"/>
                  </a:lnTo>
                  <a:lnTo>
                    <a:pt x="530" y="14"/>
                  </a:lnTo>
                  <a:lnTo>
                    <a:pt x="487" y="4"/>
                  </a:lnTo>
                  <a:lnTo>
                    <a:pt x="436" y="0"/>
                  </a:lnTo>
                  <a:lnTo>
                    <a:pt x="435" y="0"/>
                  </a:lnTo>
                  <a:lnTo>
                    <a:pt x="432" y="0"/>
                  </a:lnTo>
                  <a:lnTo>
                    <a:pt x="425" y="0"/>
                  </a:lnTo>
                  <a:lnTo>
                    <a:pt x="417" y="1"/>
                  </a:lnTo>
                  <a:lnTo>
                    <a:pt x="407" y="1"/>
                  </a:lnTo>
                  <a:lnTo>
                    <a:pt x="396" y="2"/>
                  </a:lnTo>
                  <a:lnTo>
                    <a:pt x="383" y="4"/>
                  </a:lnTo>
                  <a:lnTo>
                    <a:pt x="369" y="6"/>
                  </a:lnTo>
                  <a:lnTo>
                    <a:pt x="354" y="9"/>
                  </a:lnTo>
                  <a:lnTo>
                    <a:pt x="339" y="12"/>
                  </a:lnTo>
                  <a:lnTo>
                    <a:pt x="324" y="17"/>
                  </a:lnTo>
                  <a:lnTo>
                    <a:pt x="308" y="22"/>
                  </a:lnTo>
                  <a:lnTo>
                    <a:pt x="293" y="27"/>
                  </a:lnTo>
                  <a:lnTo>
                    <a:pt x="280" y="35"/>
                  </a:lnTo>
                  <a:lnTo>
                    <a:pt x="265" y="44"/>
                  </a:lnTo>
                  <a:lnTo>
                    <a:pt x="252" y="5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850720" y="4480560"/>
              <a:ext cx="476640" cy="257400"/>
            </a:xfrm>
            <a:custGeom>
              <a:avLst/>
              <a:gdLst/>
              <a:ahLst/>
              <a:rect l="l" t="t" r="r" b="b"/>
              <a:pathLst>
                <a:path w="761" h="412">
                  <a:moveTo>
                    <a:pt x="761" y="291"/>
                  </a:moveTo>
                  <a:lnTo>
                    <a:pt x="758" y="292"/>
                  </a:lnTo>
                  <a:lnTo>
                    <a:pt x="751" y="297"/>
                  </a:lnTo>
                  <a:lnTo>
                    <a:pt x="741" y="304"/>
                  </a:lnTo>
                  <a:lnTo>
                    <a:pt x="726" y="313"/>
                  </a:lnTo>
                  <a:lnTo>
                    <a:pt x="706" y="324"/>
                  </a:lnTo>
                  <a:lnTo>
                    <a:pt x="685" y="336"/>
                  </a:lnTo>
                  <a:lnTo>
                    <a:pt x="658" y="348"/>
                  </a:lnTo>
                  <a:lnTo>
                    <a:pt x="629" y="360"/>
                  </a:lnTo>
                  <a:lnTo>
                    <a:pt x="597" y="372"/>
                  </a:lnTo>
                  <a:lnTo>
                    <a:pt x="562" y="383"/>
                  </a:lnTo>
                  <a:lnTo>
                    <a:pt x="526" y="394"/>
                  </a:lnTo>
                  <a:lnTo>
                    <a:pt x="485" y="402"/>
                  </a:lnTo>
                  <a:lnTo>
                    <a:pt x="444" y="408"/>
                  </a:lnTo>
                  <a:lnTo>
                    <a:pt x="400" y="412"/>
                  </a:lnTo>
                  <a:lnTo>
                    <a:pt x="354" y="412"/>
                  </a:lnTo>
                  <a:lnTo>
                    <a:pt x="307" y="409"/>
                  </a:lnTo>
                  <a:lnTo>
                    <a:pt x="305" y="408"/>
                  </a:lnTo>
                  <a:lnTo>
                    <a:pt x="302" y="402"/>
                  </a:lnTo>
                  <a:lnTo>
                    <a:pt x="297" y="395"/>
                  </a:lnTo>
                  <a:lnTo>
                    <a:pt x="289" y="385"/>
                  </a:lnTo>
                  <a:lnTo>
                    <a:pt x="279" y="372"/>
                  </a:lnTo>
                  <a:lnTo>
                    <a:pt x="266" y="358"/>
                  </a:lnTo>
                  <a:lnTo>
                    <a:pt x="252" y="343"/>
                  </a:lnTo>
                  <a:lnTo>
                    <a:pt x="235" y="327"/>
                  </a:lnTo>
                  <a:lnTo>
                    <a:pt x="214" y="311"/>
                  </a:lnTo>
                  <a:lnTo>
                    <a:pt x="193" y="294"/>
                  </a:lnTo>
                  <a:lnTo>
                    <a:pt x="167" y="277"/>
                  </a:lnTo>
                  <a:lnTo>
                    <a:pt x="140" y="262"/>
                  </a:lnTo>
                  <a:lnTo>
                    <a:pt x="108" y="248"/>
                  </a:lnTo>
                  <a:lnTo>
                    <a:pt x="75" y="234"/>
                  </a:lnTo>
                  <a:lnTo>
                    <a:pt x="39" y="222"/>
                  </a:lnTo>
                  <a:lnTo>
                    <a:pt x="0" y="213"/>
                  </a:lnTo>
                  <a:lnTo>
                    <a:pt x="0" y="207"/>
                  </a:lnTo>
                  <a:lnTo>
                    <a:pt x="2" y="191"/>
                  </a:lnTo>
                  <a:lnTo>
                    <a:pt x="8" y="169"/>
                  </a:lnTo>
                  <a:lnTo>
                    <a:pt x="19" y="144"/>
                  </a:lnTo>
                  <a:lnTo>
                    <a:pt x="37" y="120"/>
                  </a:lnTo>
                  <a:lnTo>
                    <a:pt x="65" y="100"/>
                  </a:lnTo>
                  <a:lnTo>
                    <a:pt x="104" y="87"/>
                  </a:lnTo>
                  <a:lnTo>
                    <a:pt x="156" y="85"/>
                  </a:lnTo>
                  <a:lnTo>
                    <a:pt x="160" y="86"/>
                  </a:lnTo>
                  <a:lnTo>
                    <a:pt x="172" y="87"/>
                  </a:lnTo>
                  <a:lnTo>
                    <a:pt x="189" y="87"/>
                  </a:lnTo>
                  <a:lnTo>
                    <a:pt x="213" y="85"/>
                  </a:lnTo>
                  <a:lnTo>
                    <a:pt x="241" y="80"/>
                  </a:lnTo>
                  <a:lnTo>
                    <a:pt x="271" y="71"/>
                  </a:lnTo>
                  <a:lnTo>
                    <a:pt x="304" y="55"/>
                  </a:lnTo>
                  <a:lnTo>
                    <a:pt x="338" y="33"/>
                  </a:lnTo>
                  <a:lnTo>
                    <a:pt x="339" y="32"/>
                  </a:lnTo>
                  <a:lnTo>
                    <a:pt x="345" y="30"/>
                  </a:lnTo>
                  <a:lnTo>
                    <a:pt x="352" y="25"/>
                  </a:lnTo>
                  <a:lnTo>
                    <a:pt x="362" y="21"/>
                  </a:lnTo>
                  <a:lnTo>
                    <a:pt x="375" y="15"/>
                  </a:lnTo>
                  <a:lnTo>
                    <a:pt x="390" y="10"/>
                  </a:lnTo>
                  <a:lnTo>
                    <a:pt x="407" y="6"/>
                  </a:lnTo>
                  <a:lnTo>
                    <a:pt x="425" y="2"/>
                  </a:lnTo>
                  <a:lnTo>
                    <a:pt x="446" y="0"/>
                  </a:lnTo>
                  <a:lnTo>
                    <a:pt x="467" y="0"/>
                  </a:lnTo>
                  <a:lnTo>
                    <a:pt x="490" y="2"/>
                  </a:lnTo>
                  <a:lnTo>
                    <a:pt x="513" y="8"/>
                  </a:lnTo>
                  <a:lnTo>
                    <a:pt x="537" y="16"/>
                  </a:lnTo>
                  <a:lnTo>
                    <a:pt x="561" y="29"/>
                  </a:lnTo>
                  <a:lnTo>
                    <a:pt x="587" y="45"/>
                  </a:lnTo>
                  <a:lnTo>
                    <a:pt x="611" y="67"/>
                  </a:lnTo>
                  <a:lnTo>
                    <a:pt x="652" y="110"/>
                  </a:lnTo>
                  <a:lnTo>
                    <a:pt x="686" y="152"/>
                  </a:lnTo>
                  <a:lnTo>
                    <a:pt x="712" y="190"/>
                  </a:lnTo>
                  <a:lnTo>
                    <a:pt x="732" y="223"/>
                  </a:lnTo>
                  <a:lnTo>
                    <a:pt x="746" y="252"/>
                  </a:lnTo>
                  <a:lnTo>
                    <a:pt x="755" y="273"/>
                  </a:lnTo>
                  <a:lnTo>
                    <a:pt x="759" y="287"/>
                  </a:lnTo>
                  <a:lnTo>
                    <a:pt x="761" y="291"/>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70320" y="4680720"/>
              <a:ext cx="279360" cy="136080"/>
            </a:xfrm>
            <a:custGeom>
              <a:avLst/>
              <a:gdLst/>
              <a:ahLst/>
              <a:rect l="l" t="t" r="r" b="b"/>
              <a:pathLst>
                <a:path w="446" h="218">
                  <a:moveTo>
                    <a:pt x="420" y="0"/>
                  </a:moveTo>
                  <a:lnTo>
                    <a:pt x="418" y="1"/>
                  </a:lnTo>
                  <a:lnTo>
                    <a:pt x="412" y="7"/>
                  </a:lnTo>
                  <a:lnTo>
                    <a:pt x="401" y="14"/>
                  </a:lnTo>
                  <a:lnTo>
                    <a:pt x="386" y="23"/>
                  </a:lnTo>
                  <a:lnTo>
                    <a:pt x="369" y="35"/>
                  </a:lnTo>
                  <a:lnTo>
                    <a:pt x="348" y="47"/>
                  </a:lnTo>
                  <a:lnTo>
                    <a:pt x="324" y="60"/>
                  </a:lnTo>
                  <a:lnTo>
                    <a:pt x="297" y="74"/>
                  </a:lnTo>
                  <a:lnTo>
                    <a:pt x="268" y="86"/>
                  </a:lnTo>
                  <a:lnTo>
                    <a:pt x="235" y="98"/>
                  </a:lnTo>
                  <a:lnTo>
                    <a:pt x="200" y="110"/>
                  </a:lnTo>
                  <a:lnTo>
                    <a:pt x="164" y="119"/>
                  </a:lnTo>
                  <a:lnTo>
                    <a:pt x="125" y="125"/>
                  </a:lnTo>
                  <a:lnTo>
                    <a:pt x="85" y="129"/>
                  </a:lnTo>
                  <a:lnTo>
                    <a:pt x="43" y="130"/>
                  </a:lnTo>
                  <a:lnTo>
                    <a:pt x="0" y="127"/>
                  </a:lnTo>
                  <a:lnTo>
                    <a:pt x="2" y="129"/>
                  </a:lnTo>
                  <a:lnTo>
                    <a:pt x="6" y="137"/>
                  </a:lnTo>
                  <a:lnTo>
                    <a:pt x="13" y="148"/>
                  </a:lnTo>
                  <a:lnTo>
                    <a:pt x="23" y="161"/>
                  </a:lnTo>
                  <a:lnTo>
                    <a:pt x="35" y="176"/>
                  </a:lnTo>
                  <a:lnTo>
                    <a:pt x="48" y="191"/>
                  </a:lnTo>
                  <a:lnTo>
                    <a:pt x="63" y="205"/>
                  </a:lnTo>
                  <a:lnTo>
                    <a:pt x="79" y="218"/>
                  </a:lnTo>
                  <a:lnTo>
                    <a:pt x="81" y="218"/>
                  </a:lnTo>
                  <a:lnTo>
                    <a:pt x="89" y="218"/>
                  </a:lnTo>
                  <a:lnTo>
                    <a:pt x="102" y="218"/>
                  </a:lnTo>
                  <a:lnTo>
                    <a:pt x="118" y="217"/>
                  </a:lnTo>
                  <a:lnTo>
                    <a:pt x="138" y="214"/>
                  </a:lnTo>
                  <a:lnTo>
                    <a:pt x="161" y="212"/>
                  </a:lnTo>
                  <a:lnTo>
                    <a:pt x="186" y="207"/>
                  </a:lnTo>
                  <a:lnTo>
                    <a:pt x="214" y="202"/>
                  </a:lnTo>
                  <a:lnTo>
                    <a:pt x="242" y="194"/>
                  </a:lnTo>
                  <a:lnTo>
                    <a:pt x="272" y="183"/>
                  </a:lnTo>
                  <a:lnTo>
                    <a:pt x="302" y="171"/>
                  </a:lnTo>
                  <a:lnTo>
                    <a:pt x="333" y="156"/>
                  </a:lnTo>
                  <a:lnTo>
                    <a:pt x="363" y="138"/>
                  </a:lnTo>
                  <a:lnTo>
                    <a:pt x="393" y="118"/>
                  </a:lnTo>
                  <a:lnTo>
                    <a:pt x="421" y="92"/>
                  </a:lnTo>
                  <a:lnTo>
                    <a:pt x="446" y="65"/>
                  </a:lnTo>
                  <a:lnTo>
                    <a:pt x="420" y="0"/>
                  </a:lnTo>
                  <a:close/>
                </a:path>
              </a:pathLst>
            </a:custGeom>
            <a:solidFill>
              <a:srgbClr val="00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988600" y="4496760"/>
              <a:ext cx="190800" cy="62280"/>
            </a:xfrm>
            <a:custGeom>
              <a:avLst/>
              <a:gdLst/>
              <a:ahLst/>
              <a:rect l="l" t="t" r="r" b="b"/>
              <a:pathLst>
                <a:path w="305" h="102">
                  <a:moveTo>
                    <a:pt x="0" y="62"/>
                  </a:moveTo>
                  <a:lnTo>
                    <a:pt x="2" y="64"/>
                  </a:lnTo>
                  <a:lnTo>
                    <a:pt x="8" y="66"/>
                  </a:lnTo>
                  <a:lnTo>
                    <a:pt x="18" y="70"/>
                  </a:lnTo>
                  <a:lnTo>
                    <a:pt x="31" y="76"/>
                  </a:lnTo>
                  <a:lnTo>
                    <a:pt x="47" y="82"/>
                  </a:lnTo>
                  <a:lnTo>
                    <a:pt x="66" y="88"/>
                  </a:lnTo>
                  <a:lnTo>
                    <a:pt x="86" y="92"/>
                  </a:lnTo>
                  <a:lnTo>
                    <a:pt x="108" y="97"/>
                  </a:lnTo>
                  <a:lnTo>
                    <a:pt x="131" y="100"/>
                  </a:lnTo>
                  <a:lnTo>
                    <a:pt x="156" y="102"/>
                  </a:lnTo>
                  <a:lnTo>
                    <a:pt x="181" y="102"/>
                  </a:lnTo>
                  <a:lnTo>
                    <a:pt x="206" y="98"/>
                  </a:lnTo>
                  <a:lnTo>
                    <a:pt x="232" y="91"/>
                  </a:lnTo>
                  <a:lnTo>
                    <a:pt x="256" y="81"/>
                  </a:lnTo>
                  <a:lnTo>
                    <a:pt x="279" y="67"/>
                  </a:lnTo>
                  <a:lnTo>
                    <a:pt x="301" y="49"/>
                  </a:lnTo>
                  <a:lnTo>
                    <a:pt x="302" y="46"/>
                  </a:lnTo>
                  <a:lnTo>
                    <a:pt x="304" y="42"/>
                  </a:lnTo>
                  <a:lnTo>
                    <a:pt x="305" y="35"/>
                  </a:lnTo>
                  <a:lnTo>
                    <a:pt x="305" y="27"/>
                  </a:lnTo>
                  <a:lnTo>
                    <a:pt x="302" y="19"/>
                  </a:lnTo>
                  <a:lnTo>
                    <a:pt x="293" y="11"/>
                  </a:lnTo>
                  <a:lnTo>
                    <a:pt x="278" y="5"/>
                  </a:lnTo>
                  <a:lnTo>
                    <a:pt x="256" y="1"/>
                  </a:lnTo>
                  <a:lnTo>
                    <a:pt x="230" y="0"/>
                  </a:lnTo>
                  <a:lnTo>
                    <a:pt x="209" y="1"/>
                  </a:lnTo>
                  <a:lnTo>
                    <a:pt x="189" y="5"/>
                  </a:lnTo>
                  <a:lnTo>
                    <a:pt x="173" y="8"/>
                  </a:lnTo>
                  <a:lnTo>
                    <a:pt x="158" y="14"/>
                  </a:lnTo>
                  <a:lnTo>
                    <a:pt x="145" y="20"/>
                  </a:lnTo>
                  <a:lnTo>
                    <a:pt x="135" y="25"/>
                  </a:lnTo>
                  <a:lnTo>
                    <a:pt x="126" y="32"/>
                  </a:lnTo>
                  <a:lnTo>
                    <a:pt x="112" y="42"/>
                  </a:lnTo>
                  <a:lnTo>
                    <a:pt x="97" y="49"/>
                  </a:lnTo>
                  <a:lnTo>
                    <a:pt x="81" y="53"/>
                  </a:lnTo>
                  <a:lnTo>
                    <a:pt x="63" y="58"/>
                  </a:lnTo>
                  <a:lnTo>
                    <a:pt x="46" y="60"/>
                  </a:lnTo>
                  <a:lnTo>
                    <a:pt x="30" y="62"/>
                  </a:lnTo>
                  <a:lnTo>
                    <a:pt x="14" y="62"/>
                  </a:lnTo>
                  <a:lnTo>
                    <a:pt x="0" y="62"/>
                  </a:lnTo>
                  <a:close/>
                </a:path>
              </a:pathLst>
            </a:custGeom>
            <a:solidFill>
              <a:srgbClr val="9b727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6" name=""/>
            <p:cNvSpPr/>
            <p:nvPr/>
          </p:nvSpPr>
          <p:spPr>
            <a:xfrm>
              <a:off x="6304680" y="4550400"/>
              <a:ext cx="212760" cy="241200"/>
            </a:xfrm>
            <a:custGeom>
              <a:avLst/>
              <a:gdLst/>
              <a:ahLst/>
              <a:rect l="l" t="t" r="r" b="b"/>
              <a:pathLst>
                <a:path w="340" h="387">
                  <a:moveTo>
                    <a:pt x="166" y="387"/>
                  </a:moveTo>
                  <a:lnTo>
                    <a:pt x="169" y="382"/>
                  </a:lnTo>
                  <a:lnTo>
                    <a:pt x="176" y="371"/>
                  </a:lnTo>
                  <a:lnTo>
                    <a:pt x="184" y="353"/>
                  </a:lnTo>
                  <a:lnTo>
                    <a:pt x="189" y="334"/>
                  </a:lnTo>
                  <a:lnTo>
                    <a:pt x="188" y="314"/>
                  </a:lnTo>
                  <a:lnTo>
                    <a:pt x="176" y="297"/>
                  </a:lnTo>
                  <a:lnTo>
                    <a:pt x="151" y="285"/>
                  </a:lnTo>
                  <a:lnTo>
                    <a:pt x="108" y="280"/>
                  </a:lnTo>
                  <a:lnTo>
                    <a:pt x="107" y="274"/>
                  </a:lnTo>
                  <a:lnTo>
                    <a:pt x="102" y="256"/>
                  </a:lnTo>
                  <a:lnTo>
                    <a:pt x="94" y="229"/>
                  </a:lnTo>
                  <a:lnTo>
                    <a:pt x="83" y="195"/>
                  </a:lnTo>
                  <a:lnTo>
                    <a:pt x="68" y="156"/>
                  </a:lnTo>
                  <a:lnTo>
                    <a:pt x="49" y="112"/>
                  </a:lnTo>
                  <a:lnTo>
                    <a:pt x="26" y="69"/>
                  </a:lnTo>
                  <a:lnTo>
                    <a:pt x="0" y="24"/>
                  </a:lnTo>
                  <a:lnTo>
                    <a:pt x="2" y="23"/>
                  </a:lnTo>
                  <a:lnTo>
                    <a:pt x="7" y="21"/>
                  </a:lnTo>
                  <a:lnTo>
                    <a:pt x="15" y="19"/>
                  </a:lnTo>
                  <a:lnTo>
                    <a:pt x="25" y="16"/>
                  </a:lnTo>
                  <a:lnTo>
                    <a:pt x="39" y="12"/>
                  </a:lnTo>
                  <a:lnTo>
                    <a:pt x="55" y="9"/>
                  </a:lnTo>
                  <a:lnTo>
                    <a:pt x="72" y="5"/>
                  </a:lnTo>
                  <a:lnTo>
                    <a:pt x="91" y="2"/>
                  </a:lnTo>
                  <a:lnTo>
                    <a:pt x="112" y="1"/>
                  </a:lnTo>
                  <a:lnTo>
                    <a:pt x="134" y="0"/>
                  </a:lnTo>
                  <a:lnTo>
                    <a:pt x="155" y="0"/>
                  </a:lnTo>
                  <a:lnTo>
                    <a:pt x="177" y="2"/>
                  </a:lnTo>
                  <a:lnTo>
                    <a:pt x="200" y="5"/>
                  </a:lnTo>
                  <a:lnTo>
                    <a:pt x="223" y="12"/>
                  </a:lnTo>
                  <a:lnTo>
                    <a:pt x="245" y="20"/>
                  </a:lnTo>
                  <a:lnTo>
                    <a:pt x="267" y="32"/>
                  </a:lnTo>
                  <a:lnTo>
                    <a:pt x="287" y="46"/>
                  </a:lnTo>
                  <a:lnTo>
                    <a:pt x="304" y="61"/>
                  </a:lnTo>
                  <a:lnTo>
                    <a:pt x="318" y="77"/>
                  </a:lnTo>
                  <a:lnTo>
                    <a:pt x="328" y="94"/>
                  </a:lnTo>
                  <a:lnTo>
                    <a:pt x="335" y="114"/>
                  </a:lnTo>
                  <a:lnTo>
                    <a:pt x="340" y="134"/>
                  </a:lnTo>
                  <a:lnTo>
                    <a:pt x="340" y="155"/>
                  </a:lnTo>
                  <a:lnTo>
                    <a:pt x="338" y="178"/>
                  </a:lnTo>
                  <a:lnTo>
                    <a:pt x="331" y="201"/>
                  </a:lnTo>
                  <a:lnTo>
                    <a:pt x="319" y="225"/>
                  </a:lnTo>
                  <a:lnTo>
                    <a:pt x="304" y="251"/>
                  </a:lnTo>
                  <a:lnTo>
                    <a:pt x="286" y="276"/>
                  </a:lnTo>
                  <a:lnTo>
                    <a:pt x="263" y="304"/>
                  </a:lnTo>
                  <a:lnTo>
                    <a:pt x="235" y="330"/>
                  </a:lnTo>
                  <a:lnTo>
                    <a:pt x="203" y="358"/>
                  </a:lnTo>
                  <a:lnTo>
                    <a:pt x="166" y="387"/>
                  </a:lnTo>
                  <a:close/>
                </a:path>
              </a:pathLst>
            </a:custGeom>
            <a:solidFill>
              <a:srgbClr val="9b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21:59:20Z</dcterms:created>
  <dc:creator>Kevin Owen Curley Jr</dc:creator>
  <dc:description/>
  <dc:language>en-US</dc:language>
  <cp:lastModifiedBy>Jeremiah McNichols</cp:lastModifiedBy>
  <dcterms:modified xsi:type="dcterms:W3CDTF">2008-09-25T18:55:42Z</dcterms:modified>
  <cp:revision>5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0c000000000001023620</vt:lpwstr>
  </property>
</Properties>
</file>