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4E44-DF66-4576-88C1-C0CFF14B6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s of Lowell include: large, huge five story buildings, locks, canals, river traffic, massive factories, long rows of two story buildings, everywhere people bustle, roadways, canal bridges, railroad tracks lining the stre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adjectives might include: large, industrial, old-fashioned, classic, calm, peaceful, red, river-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A The student is expected to: write to express, discover, record, develop, reflect on ideas, and to problem solve (4-8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uasive reasons might include: income, living in a new place, an opportunity to make friends, experience city life, become a skilled craftsman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 might include: long work hours, bad working conditions, (i.e. sickness, darkness, cold, pollution, etc.) inability to spend time with family, the need to stay in school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tak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r aunt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13 (comma should be placed between day and ye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te (spelling error=great); Her name is Summer she is from the future. (Run-on sentence. Summer should be followed by a comma and conjunction [i.e. and], or as two sentences [“Her name is Summer. She is from the future.”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(proper name requires capit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nt (spelling error=couldn’t); Love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EA88-6B63-4D24-91D8-6EF495018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B78-0125-4F1C-ACE0-F4A03563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29C-BA58-4C33-8854-C8923A4C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E96-8A49-47F7-B8CE-4452C6C7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CF8-BA8E-4E9B-BFC6-8008813F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DCB-116C-4458-B00F-95F7B596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337-6442-41F0-A041-7BE0F623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198-322F-4836-B572-7E48A8A4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5F9-4108-4AE5-AB12-51A4A532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66D2-D8FA-4D1C-972F-658652DC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E2AC-4904-4403-8AF1-801E4D30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06F-7771-49FB-B7E8-05104AE4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E30-4A9B-49FD-AC57-CEC1B4D2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9DB3-FE01-4C1C-A316-456399FC8F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LetterFromBobbin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down four ways the auth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Waterfall Gh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cribes the town of Lowell, Massachuset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picture of the old textile mill to the left and think of three new adjectives to help you describe this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27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nd that you are working in a textile mill in the 185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 short letter to a friend convincing him to come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978200"/>
            <a:ext cx="3957480" cy="267012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friend has decided  to come to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rite a short letter explaining why your friend shoul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and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32000" cy="495324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bin wants her aunt in California to know that she 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rites a short letter to her aunt to tell her when she’ll arr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Bobbin by editing her letter.  Correct any mistakes you find.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You should find at least seven mistake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332000"/>
            <a:ext cx="8382240" cy="4208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58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ar aunt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September 13 18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met a grate new friend today. Her name is Summer she is from the future. She helped me get to the train so I could come to california. Summer couldnt come with me. I will arrive at the train station in San Francisco on Wednesday. Can’t wait to see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bb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638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o open a printable PDF of thi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78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2:28:20Z</dcterms:created>
  <dc:creator>Ape</dc:creator>
  <dc:description/>
  <dc:language>en-US</dc:language>
  <cp:lastModifiedBy>Texas A&amp;M Veterinary Medicine</cp:lastModifiedBy>
  <dcterms:modified xsi:type="dcterms:W3CDTF">2007-10-19T14:15:52Z</dcterms:modified>
  <cp:revision>22</cp:revision>
  <dc:subject/>
  <dc:title>Unlocking Language</dc:title>
</cp:coreProperties>
</file>