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8E55-87B4-4399-8108-5FB23E49C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CB83-C8F6-433D-A9E9-37428190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B4FC-1302-4D10-94BB-44D5A91E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7B92-9501-45DA-97BB-63853A4F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885D-7594-4287-A0A9-F53EBC0A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1DC7-CAD9-4B68-A31A-2D6E0283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08F5-9BF6-4E0F-9A31-CA3D5EC2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4B4B-BD56-406F-AF87-80E67F70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7085-1E9D-41A5-B24F-28CA3EBC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BBFA-68DA-46FA-823B-64CA8B4C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28D3-2DFB-477A-97C9-4DE17F73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A097-2AB9-4A6C-839C-B6692C19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AD5C-8158-4445-9DF7-677F6C97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1FE6-69A2-4824-AB37-3AF762EAD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57800" y="4127400"/>
            <a:ext cx="2554200" cy="1806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ll, you best be glad Mary-O is s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she’d have seen you weren’t a Lowell heires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ll-wit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-sigh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us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8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’ve got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niorit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 if I’m five years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ounger than Mary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nior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amo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ra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0160" y="0"/>
            <a:ext cx="33638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091040" y="444672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body was wiry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it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5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i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i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4114800"/>
            <a:ext cx="3276720" cy="2303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rows of two-story buildings we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the factorie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aw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3576600" cy="2413080"/>
          </a:xfrm>
          <a:prstGeom prst="rect">
            <a:avLst/>
          </a:prstGeom>
          <a:ln w="76320">
            <a:solidFill>
              <a:srgbClr val="673c2c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noticed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ac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spect they gave her and decided to use its pow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aci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e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86680" y="0"/>
            <a:ext cx="2857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3809880"/>
            <a:ext cx="2924280" cy="25894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said she’s seen enough of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cklenes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machines to trust some little button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cklenes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ck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redic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ign read ‘Ladies’ Room’ on a wide oak door with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ans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bove it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From this passage, one can infer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anso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word for “handsom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sh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oorkn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899400">
            <a:off x="5334120" y="3962160"/>
            <a:ext cx="1815840" cy="2257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see from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mbivalenc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Bobbin’s fac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 From this passage, one can infer that ambivalence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ind of make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2171880" cy="2171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ute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ware of her other sense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 From this passage, you can infer tha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ute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2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hear Farnsley’s shuffling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rawing clos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8:29Z</dcterms:modified>
  <cp:revision>66</cp:revision>
  <dc:subject/>
  <dc:title>PowerPoint Presentation</dc:title>
</cp:coreProperties>
</file>