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17.jpeg" ContentType="image/jpeg"/>
  <Override PartName="/ppt/media/image8.jpeg" ContentType="image/jpeg"/>
  <Override PartName="/ppt/media/image13.png" ContentType="image/png"/>
  <Override PartName="/ppt/media/image12.wmf" ContentType="image/x-wmf"/>
  <Override PartName="/ppt/media/image6.jpeg" ContentType="image/jpeg"/>
  <Override PartName="/ppt/media/image5.wmf" ContentType="image/x-wmf"/>
  <Override PartName="/ppt/media/image21.png" ContentType="image/png"/>
  <Override PartName="/ppt/media/image19.jpeg" ContentType="image/jpeg"/>
  <Override PartName="/ppt/media/image1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5.png" ContentType="image/png"/>
  <Override PartName="/ppt/media/image3.jpeg" ContentType="image/jpeg"/>
  <Override PartName="/ppt/media/image20.png" ContentType="image/png"/>
  <Override PartName="/ppt/media/image18.png" ContentType="image/png"/>
  <Override PartName="/ppt/media/image7.jpeg" ContentType="image/jpeg"/>
  <Override PartName="/ppt/media/image10.wmf" ContentType="image/x-wmf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A119-1874-49E3-90BC-D60B7886B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Slide Show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ew Show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A) Demonstrate safe practices during field and lab investig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B) Make wise choices in the use and conservation of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(A) Demonstrate safe practices during investig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(B) Make wise choices in the use and conservation of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A) Demonstrate safe practices during field and laboratory investig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B) Make wise choices in the use and conservation of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T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A) Identify factors affecting someone's physical, emotional, and social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6 (B) Describe the application of strategies for controlling the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exercise: a Web quest to explain how the agencies differ and to what extent they overl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A) Demonstrate safe practices during field and lab investig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B) Make wise choices in the use and conservation of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(A) Demonstrate safe practices during investig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(B) Make wise choices in the use and conservation of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A) Demonstrate safe practices during field and laboratory investig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B) Make wise choices in the use and conservation of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T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A) Identify factors affecting someone's physical, emotional, and social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6 (B) Describe the application of strategies for controlling the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exercise: a Web quest to explain how the agencies differ and to what extent they overl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A) Demonstrate safe practices during field and lab investig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B) Make wise choices in the use and conservation of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(A) Demonstrate safe practices during investig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(B) Make wise choices in the use and conservation of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A) Demonstrate safe practices during field and laboratory investig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B) Make wise choices in the use and conservation of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T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A) Identify factors affecting someone's physical, emotional, and social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6 (B) Describe the application of strategies for controlling the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 Analyze and interpret information to construct reasonable expla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C) Organize, analyze, evaluate, make inferences, and predict tre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C) Organize, analyze, evaluate, make inferences, and predict tr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A) Analyze the relationships among the body system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) Describe various modes of disease 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 Compare healthy cell growth to cell growth in the diseas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C) List noncontagious and hereditary diseases, prevention, and treat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A) Identify factors affecting someone's physical, emotional, and social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B) Make healthy choices from among environmental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1 (D) Describe the life cycle of human be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3 (A) Explain the role of preventive health measures in disease pre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3 (B) Analyze risks for contracting specific diseases from various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3 (C) Know risk factors linked with contagious and noncontagious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6 (A) Relate physical and social environmental factors to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6 (B) Describe the application of strategies for controlling the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not like asthma, where the problem arises from constriction of air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not an infection where germs damage cells lining alveo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 Analyze and interpret information to construct reasonable expla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A) Differentiate between structure and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B) Determine all organisms are made of cells whose functions sustain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C) Identify how structure complements function at different levels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A) Identify responses in organisms to in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B) Identify responses in organisms to external stimul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C) Identify components of an ecosystem to which organisms resp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C) Organize, analyze, make inferences, and predict trends from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9 (A) Identify the systems and functions of the human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9 (B) Describe how organisms maintain stable intern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A) Analyze changes due to in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B) Identify responses in organisms to ex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C) Organize, analyze, evaluate, make inferences, and predict tr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6 (C) Describe interactions within eco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A) Analyze the relationships among the body system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) Describe various modes of disease 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 Compare healthy cell growth to cell growth in the diseas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C) List noncontagious and hereditary diseases, prevention, and treat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A) Identify factors affecting someone's physical, emotional, and social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1 (D) Describe the life cycle of human be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3 (A) Explain the role of preventive health measures in disease pre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3 (B) Analyze risks for contracting specific diseases from various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3 (C) Know risk factors linked with contagious and noncontagious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6 (A) Relate physical and social environmental factors to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6 (B) Describe the application of strategies for controlling the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 Analyze and interpret information to construct reasonable expla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A) Differentiate between structure and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B) Determine all organisms are made of cells whose functions sustain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C) Identify how structure complements function at different levels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A) Identify responses in organisms to in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B) Identify responses in organisms to external stimul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C) Identify components of an ecosystem to which organisms resp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C) Organize, analyze, make inferences, and predict trends from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9 (A) Identify the systems and functions of the human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9 (B) Describe how organisms maintain stable intern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A) Analyze changes due to in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B) Identify responses in organisms to ex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C) Organize, analyze, evaluate, make inferences, and predict tr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6 (C) Describe interactions within eco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A) Analyze the relationships among the body system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) Describe various modes of disease 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 Compare healthy cell growth to cell growth in the diseas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C) List noncontagious and hereditary diseases, prevention, and treat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A) Identify factors affecting someone's physical, emotional, and social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B) Make healthy choices from among environmental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1 (D) Describe the life cycle of human be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3 (A) Explain the role of preventive health measures in disease pre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3 (B) Analyze risks for contracting specific diseases from various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3 (C) Know risk factors linked with contagious and noncontagious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6 (A) Relate physical and social environmental factors to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6 (B) Describe the application of strategies for controlling the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se makes the poison implies that all things are poisonous in high amounts (even water!).  Some toxic substances can be tolerated in small amounts.  Limiting the exposure to a toxin will reduce its effects on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 Analyze and interpret information to construct reasonable expla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A) Differentiate between structure and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B) Determine all organisms are made of cells whose functions sustain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C) Identify how structure complements function at different levels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A) Identify responses in organisms to in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B) Identify responses in organisms to external stimul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C) Identify components of an ecosystem to which organisms resp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C) Organize, analyze, make inferences, and predict trends from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9 (A) Identify the systems and functions of the human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9 (B) Describe how organisms maintain stable intern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A) Analyze changes due to in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B) Identify responses in organisms to ex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C) Organize, analyze, evaluate, make inferences, and predict tr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6 (C) Describe interactions within eco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A) Analyze the relationships among the body system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) Describe various modes of disease 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 Compare healthy cell growth to cell growth in the diseas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C) List noncontagious and hereditary diseases, prevention, and treat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A) Identify factors affecting someone's physical, emotional, and social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1 (D) Describe the life cycle of human be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3 (A) Explain the role of preventive health measures in disease pre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3 (B) Analyze risks for contracting specific diseases from various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3 (C) Know risk factors linked with contagious and noncontagious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6 (A) Relate physical and social environmental factors to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6 (B) Describe the application of strategies for controlling the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nic Bronchitis—inflammation and scarring of the bronc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nic Emphysema– progressive damage to the alve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a long period of exposure to textile dusts, byssinosis leads to chronic obstructive lung disease (COL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 Analyze and interpret information to construct reasonable expla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A) Differentiate between structure and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B) Determine all organisms are made of cells whose functions sustain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C) Identify how structure complements function at different levels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A) Identify responses in organisms to in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B) Identify responses in organisms to external stimul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C) Identify components of an ecosystem to which organisms resp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C) Organize, analyze, make inferences, and predict trends from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9 (A) Identify the systems and functions of the human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9 (B) Describe how organisms maintain stable intern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A) Analyze changes due to in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B) Identify responses in organisms to ex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C) Organize, analyze, evaluate, make inferences, and predict tr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6 (C) Describe interactions within eco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A) Analyze the relationships among the body system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) Describe various modes of disease 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 Compare healthy cell growth to cell growth in the diseas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C) List noncontagious and hereditary diseases, prevention, and treat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A) Identify factors affecting someone's physical, emotional, and social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1 (D) Describe the life cycle of human be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3 (A) Explain the role of preventive health measures in disease pre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3 (B) Analyze risks for contracting specific diseases from various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3 (C) Know risk factors linked with contagious and noncontagious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6 (A) Relate physical and social environmental factors to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6 (B) Describe the application of strategies for controlling the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A) Demonstrate safe practices during field and lab investig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B) Make wise choices in the use and conservation of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 Analyze and interpret information to construct reasonable expla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A) Differentiate between structure and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B) Determine all organisms are made of cells whose functions sustain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C) Identify how structure complements function at different levels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A) Identify responses in organisms to in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B) Identify responses in organisms to external stimul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C) Identify components of an ecosystem to which organisms resp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(A) Demonstrate safe practices during investig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(B) Make wise choices in the use and conservation of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C) Organize, analyze, make inferences, and predict trends from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9 (A) Identify the systems and functions of the human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9 (B) Describe how organisms maintain stable intern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A) Analyze changes due to in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B) Identify responses in organisms to ex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A) Demonstrate safe practices during field and laboratory investig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B) Make wise choices in the use and conservation of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C) Organize, analyze, evaluate, make inferences, and predict tr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6 (A) Describe interactions among systems in the human organi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6 (B) Identify feedback mechanisms that maintain a system’s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6 (C) Describe interactions within eco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T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A) Analyze the relationships among the body system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) Describe various modes of disease 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 Compare healthy cell growth to cell growth in the diseas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C) List noncontagious and hereditary diseases, prevention, and treat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A) Identify factors affecting someone's physical, emotional, and social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B) Make healthy choices from among environmental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1 (D) Describe the life cycle of human be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3 (A) Explain the role of preventive health measures in disease pre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3 (B) Analyze risks for contracting specific diseases from various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3 (C) Know risk factors linked with contagious and noncontagious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6 (A) Relate physical and social environmental factors to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6 (B) Describe the application of strategies for controlling the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A) Demonstrate safe practices during field and lab investig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B) Make wise choices in the use and conservation of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 Analyze and interpret information to construct reasonable expla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A) Differentiate between structure and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B) Determine all organisms are made of cells whose functions sustain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C) Identify how structure complements function at different levels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A) Identify responses in organisms to in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B) Identify responses in organisms to external stimul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C) Identify components of an ecosystem to which organisms resp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(A) Demonstrate safe practices during investig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(B) Make wise choices in the use and conservation of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C) Organize, analyze, make inferences, and predict trends from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9 (A) Identify the systems and functions of the human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9 (B) Describe how organisms maintain stable intern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A) Analyze changes due to in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B) Identify responses in organisms to ex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A) Demonstrate safe practices during field and laboratory investig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B) Make wise choices in the use and conservation of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C) Organize, analyze, evaluate, make inferences, and predict tr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6 (A) Describe interactions among systems in the human organi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6 (B) Identify feedback mechanisms that maintain a system’s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6 (C) Describe interactions within eco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T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A) Analyze the relationships among the body system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) Describe various modes of disease 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 Compare healthy cell growth to cell growth in the diseas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C) List noncontagious and hereditary diseases, prevention, and treat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A) Identify factors affecting someone's physical, emotional, and social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B) Make healthy choices from among environmental altern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1 (D) Describe the life cycle of human be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3 (A) Explain the role of preventive health measures in disease pre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3 (B) Analyze risks for contracting specific diseases from various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3 (C) Know risk factors linked with contagious and noncontagious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6 (A) Relate physical and social environmental factors to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.6 (B) Describe the application of strategies for controlling the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62A4-0A62-4FE5-8582-CB61F4C65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70D9-FF9A-4B7F-9D83-08A4DFDC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6229-7D9B-4235-8425-8F0DCA0C3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48D7-8CC4-43B3-8C63-A61D52852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52E1-A168-4428-877D-73EABF5D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2156-5813-465D-9AB3-67F8A76D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F42E-B06C-4C8D-8706-E200CC27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D839-57FB-47FD-AC9F-721B613A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8E26-CD6B-4681-BEEB-43626F25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0F66-E32A-492E-94FF-85F86232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AE3A-4B7B-4092-9A4E-AA81B8BE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5315-8C61-4C83-AFCD-AA5A6A85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7DD9-5AFC-4466-8326-E65344E4E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osha.gov/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dc.gov/niosh/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hyperlink" Target="http://peer.tamu.edu/forms/curricula_survey_2003.htm" TargetMode="External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image" Target="../media/image19.jpe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4800" y="3048120"/>
            <a:ext cx="79246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a86148"/>
                </a:solidFill>
                <a:uFillTx/>
                <a:latin typeface="Times New Roman"/>
                <a:hlinkClick r:id="rId2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as A&amp;M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09480" y="685800"/>
            <a:ext cx="791532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ying Safe in the Workp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441440"/>
            <a:ext cx="533412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very important to know what the hazards are in your workplace and how to handle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agencies that deal with work-related injuries in various field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cupational Safety and Health Administration (OSH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onal Institute for Occupational Safety and Health (NIOS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3273" t="4420" r="1842" b="7181"/>
          <a:stretch/>
        </p:blipFill>
        <p:spPr>
          <a:xfrm>
            <a:off x="6781680" y="1752480"/>
            <a:ext cx="1981440" cy="1366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858000" y="426708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Verdana"/>
              </a:rPr>
              <a:t>WG-9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5791320" y="3048120"/>
            <a:ext cx="190476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OSHA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89280" y="660240"/>
            <a:ext cx="3593880" cy="1051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93560" y="2120760"/>
            <a:ext cx="8193240" cy="42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HA is an agency within the Department of Labor that initiates and enforces workplace safety and health regul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HA conducts research and designs laws for the workplace, such as mandatory air sampling, to prevent dise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vy fines are given for companies that do not follow OSHA regul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211464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OSH is an agency within the Department of Health and Human Services that provides research, information, education, and training in occupational safety and heal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OSH does the research on byssinosis and asbestos poisoning and provides the education. It gives advice to workers and companies on how to prevent these dise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NIOSH - The National Institute for Occupational Safety and Health">
            <a:hlinkClick r:id="rId2"/>
          </p:cNvPr>
          <p:cNvPicPr/>
          <p:nvPr/>
        </p:nvPicPr>
        <p:blipFill>
          <a:blip r:embed="rId3"/>
          <a:srcRect l="0" t="0" r="182" b="0"/>
          <a:stretch/>
        </p:blipFill>
        <p:spPr>
          <a:xfrm>
            <a:off x="3048120" y="654120"/>
            <a:ext cx="2971800" cy="12189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Verdana"/>
              </a:rPr>
              <a:t>WG-9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304920"/>
            <a:ext cx="84582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evaluation concerning this module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a86148"/>
                </a:solidFill>
                <a:uFillTx/>
                <a:latin typeface="Times New Roman"/>
                <a:hlinkClick r:id="rId3"/>
              </a:rPr>
              <a:t>http://peer.tamu.edu/forms/curricula_survey_2003.ht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80880" y="1981080"/>
            <a:ext cx="8570880" cy="4487040"/>
            <a:chOff x="380880" y="1981080"/>
            <a:chExt cx="8570880" cy="4487040"/>
          </a:xfrm>
        </p:grpSpPr>
        <p:pic>
          <p:nvPicPr>
            <p:cNvPr id="146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1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152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4" name=""/>
            <p:cNvSpPr/>
            <p:nvPr/>
          </p:nvSpPr>
          <p:spPr>
            <a:xfrm>
              <a:off x="1898640" y="2206800"/>
              <a:ext cx="2617920" cy="41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22960" y="2166840"/>
              <a:ext cx="2728800" cy="43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3040" y="1508040"/>
            <a:ext cx="821376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the causes of Brown Lung 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gnize the symptoms and long-term effects of the 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Brown Lung Disease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Also Known As “Byssinosis”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87440" y="2050560"/>
            <a:ext cx="8199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fe0e0e"/>
                </a:solidFill>
                <a:latin typeface="Times New Roman"/>
              </a:rPr>
              <a:t>chron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ung disease caused by breathing in plant fiber, especially cott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Verdana"/>
              </a:rPr>
              <a:t>WG-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3307320"/>
            <a:ext cx="678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hronic condition, which means it persistent and can last for a long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413160" y="4745160"/>
            <a:ext cx="210492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e0e0e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uses 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52064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aled fabric particles clog the lung’s small airw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isease grows worse with the length of exposure and with the total amount of fibers inha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Verdana"/>
              </a:rPr>
              <a:t>WG-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257800" y="1619280"/>
            <a:ext cx="314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the Symptom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7600" y="1464840"/>
            <a:ext cx="4568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rt Ter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109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hortness of brea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109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duced lung capacit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109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tial relief of symptoms when no longer expos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 Term Con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109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ermanent damage to lun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109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ungs can’t exchange gases properly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109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ithout gas exchange, death occu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Verdana"/>
              </a:rPr>
              <a:t>WG-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70560" y="1573200"/>
            <a:ext cx="3216240" cy="4578480"/>
          </a:xfrm>
          <a:custGeom>
            <a:avLst/>
            <a:gdLst/>
            <a:ahLst/>
            <a:rect l="l" t="t" r="r" b="b"/>
            <a:pathLst>
              <a:path w="3190" h="3160">
                <a:moveTo>
                  <a:pt x="3190" y="2985"/>
                </a:moveTo>
                <a:lnTo>
                  <a:pt x="3190" y="2985"/>
                </a:lnTo>
                <a:lnTo>
                  <a:pt x="3184" y="3021"/>
                </a:lnTo>
                <a:lnTo>
                  <a:pt x="3178" y="3051"/>
                </a:lnTo>
                <a:lnTo>
                  <a:pt x="3160" y="3081"/>
                </a:lnTo>
                <a:lnTo>
                  <a:pt x="3142" y="3112"/>
                </a:lnTo>
                <a:lnTo>
                  <a:pt x="3111" y="3130"/>
                </a:lnTo>
                <a:lnTo>
                  <a:pt x="3087" y="3148"/>
                </a:lnTo>
                <a:lnTo>
                  <a:pt x="3051" y="3154"/>
                </a:lnTo>
                <a:lnTo>
                  <a:pt x="3015" y="3160"/>
                </a:lnTo>
                <a:lnTo>
                  <a:pt x="175" y="3160"/>
                </a:lnTo>
                <a:lnTo>
                  <a:pt x="175" y="3160"/>
                </a:lnTo>
                <a:lnTo>
                  <a:pt x="139" y="3154"/>
                </a:lnTo>
                <a:lnTo>
                  <a:pt x="109" y="3148"/>
                </a:lnTo>
                <a:lnTo>
                  <a:pt x="79" y="3130"/>
                </a:lnTo>
                <a:lnTo>
                  <a:pt x="54" y="3112"/>
                </a:lnTo>
                <a:lnTo>
                  <a:pt x="30" y="3081"/>
                </a:lnTo>
                <a:lnTo>
                  <a:pt x="12" y="3051"/>
                </a:lnTo>
                <a:lnTo>
                  <a:pt x="6" y="3021"/>
                </a:lnTo>
                <a:lnTo>
                  <a:pt x="0" y="2985"/>
                </a:lnTo>
                <a:lnTo>
                  <a:pt x="0" y="169"/>
                </a:lnTo>
                <a:lnTo>
                  <a:pt x="0" y="169"/>
                </a:lnTo>
                <a:lnTo>
                  <a:pt x="6" y="139"/>
                </a:lnTo>
                <a:lnTo>
                  <a:pt x="12" y="103"/>
                </a:lnTo>
                <a:lnTo>
                  <a:pt x="30" y="73"/>
                </a:lnTo>
                <a:lnTo>
                  <a:pt x="54" y="49"/>
                </a:lnTo>
                <a:lnTo>
                  <a:pt x="79" y="30"/>
                </a:lnTo>
                <a:lnTo>
                  <a:pt x="109" y="12"/>
                </a:lnTo>
                <a:lnTo>
                  <a:pt x="139" y="0"/>
                </a:lnTo>
                <a:lnTo>
                  <a:pt x="175" y="0"/>
                </a:lnTo>
                <a:lnTo>
                  <a:pt x="3015" y="0"/>
                </a:lnTo>
                <a:lnTo>
                  <a:pt x="3015" y="0"/>
                </a:lnTo>
                <a:lnTo>
                  <a:pt x="3051" y="0"/>
                </a:lnTo>
                <a:lnTo>
                  <a:pt x="3087" y="12"/>
                </a:lnTo>
                <a:lnTo>
                  <a:pt x="3111" y="30"/>
                </a:lnTo>
                <a:lnTo>
                  <a:pt x="3142" y="49"/>
                </a:lnTo>
                <a:lnTo>
                  <a:pt x="3160" y="73"/>
                </a:lnTo>
                <a:lnTo>
                  <a:pt x="3178" y="103"/>
                </a:lnTo>
                <a:lnTo>
                  <a:pt x="3184" y="139"/>
                </a:lnTo>
                <a:lnTo>
                  <a:pt x="3190" y="169"/>
                </a:lnTo>
                <a:lnTo>
                  <a:pt x="3190" y="2985"/>
                </a:lnTo>
                <a:close/>
              </a:path>
            </a:pathLst>
          </a:custGeom>
          <a:solidFill>
            <a:srgbClr val="9cc5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62520" y="1757520"/>
            <a:ext cx="2254320" cy="488880"/>
          </a:xfrm>
          <a:custGeom>
            <a:avLst/>
            <a:gdLst/>
            <a:ahLst/>
            <a:rect l="l" t="t" r="r" b="b"/>
            <a:pathLst>
              <a:path w="1420" h="308">
                <a:moveTo>
                  <a:pt x="1420" y="109"/>
                </a:moveTo>
                <a:lnTo>
                  <a:pt x="1420" y="109"/>
                </a:lnTo>
                <a:lnTo>
                  <a:pt x="1414" y="97"/>
                </a:lnTo>
                <a:lnTo>
                  <a:pt x="1402" y="91"/>
                </a:lnTo>
                <a:lnTo>
                  <a:pt x="1360" y="67"/>
                </a:lnTo>
                <a:lnTo>
                  <a:pt x="1299" y="48"/>
                </a:lnTo>
                <a:lnTo>
                  <a:pt x="1208" y="30"/>
                </a:lnTo>
                <a:lnTo>
                  <a:pt x="1106" y="18"/>
                </a:lnTo>
                <a:lnTo>
                  <a:pt x="985" y="6"/>
                </a:lnTo>
                <a:lnTo>
                  <a:pt x="852" y="0"/>
                </a:lnTo>
                <a:lnTo>
                  <a:pt x="707" y="0"/>
                </a:lnTo>
                <a:lnTo>
                  <a:pt x="707" y="0"/>
                </a:lnTo>
                <a:lnTo>
                  <a:pt x="568" y="0"/>
                </a:lnTo>
                <a:lnTo>
                  <a:pt x="429" y="6"/>
                </a:lnTo>
                <a:lnTo>
                  <a:pt x="314" y="18"/>
                </a:lnTo>
                <a:lnTo>
                  <a:pt x="206" y="30"/>
                </a:lnTo>
                <a:lnTo>
                  <a:pt x="121" y="48"/>
                </a:lnTo>
                <a:lnTo>
                  <a:pt x="55" y="67"/>
                </a:lnTo>
                <a:lnTo>
                  <a:pt x="12" y="91"/>
                </a:lnTo>
                <a:lnTo>
                  <a:pt x="0" y="97"/>
                </a:lnTo>
                <a:lnTo>
                  <a:pt x="0" y="109"/>
                </a:lnTo>
                <a:lnTo>
                  <a:pt x="0" y="109"/>
                </a:lnTo>
                <a:lnTo>
                  <a:pt x="0" y="199"/>
                </a:lnTo>
                <a:lnTo>
                  <a:pt x="0" y="199"/>
                </a:lnTo>
                <a:lnTo>
                  <a:pt x="0" y="212"/>
                </a:lnTo>
                <a:lnTo>
                  <a:pt x="12" y="224"/>
                </a:lnTo>
                <a:lnTo>
                  <a:pt x="55" y="242"/>
                </a:lnTo>
                <a:lnTo>
                  <a:pt x="121" y="260"/>
                </a:lnTo>
                <a:lnTo>
                  <a:pt x="206" y="278"/>
                </a:lnTo>
                <a:lnTo>
                  <a:pt x="314" y="290"/>
                </a:lnTo>
                <a:lnTo>
                  <a:pt x="429" y="302"/>
                </a:lnTo>
                <a:lnTo>
                  <a:pt x="568" y="308"/>
                </a:lnTo>
                <a:lnTo>
                  <a:pt x="707" y="308"/>
                </a:lnTo>
                <a:lnTo>
                  <a:pt x="707" y="308"/>
                </a:lnTo>
                <a:lnTo>
                  <a:pt x="852" y="308"/>
                </a:lnTo>
                <a:lnTo>
                  <a:pt x="985" y="302"/>
                </a:lnTo>
                <a:lnTo>
                  <a:pt x="1106" y="290"/>
                </a:lnTo>
                <a:lnTo>
                  <a:pt x="1208" y="278"/>
                </a:lnTo>
                <a:lnTo>
                  <a:pt x="1299" y="260"/>
                </a:lnTo>
                <a:lnTo>
                  <a:pt x="1360" y="242"/>
                </a:lnTo>
                <a:lnTo>
                  <a:pt x="1402" y="224"/>
                </a:lnTo>
                <a:lnTo>
                  <a:pt x="1414" y="212"/>
                </a:lnTo>
                <a:lnTo>
                  <a:pt x="1420" y="199"/>
                </a:lnTo>
                <a:lnTo>
                  <a:pt x="1420" y="199"/>
                </a:lnTo>
                <a:lnTo>
                  <a:pt x="1420" y="109"/>
                </a:lnTo>
                <a:lnTo>
                  <a:pt x="1420" y="10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10400" y="1805040"/>
            <a:ext cx="2158920" cy="393480"/>
          </a:xfrm>
          <a:custGeom>
            <a:avLst/>
            <a:gdLst/>
            <a:ahLst/>
            <a:rect l="l" t="t" r="r" b="b"/>
            <a:pathLst>
              <a:path w="1360" h="248">
                <a:moveTo>
                  <a:pt x="1360" y="91"/>
                </a:moveTo>
                <a:lnTo>
                  <a:pt x="1360" y="91"/>
                </a:lnTo>
                <a:lnTo>
                  <a:pt x="1354" y="79"/>
                </a:lnTo>
                <a:lnTo>
                  <a:pt x="1342" y="73"/>
                </a:lnTo>
                <a:lnTo>
                  <a:pt x="1305" y="55"/>
                </a:lnTo>
                <a:lnTo>
                  <a:pt x="1239" y="43"/>
                </a:lnTo>
                <a:lnTo>
                  <a:pt x="1160" y="30"/>
                </a:lnTo>
                <a:lnTo>
                  <a:pt x="1058" y="18"/>
                </a:lnTo>
                <a:lnTo>
                  <a:pt x="943" y="12"/>
                </a:lnTo>
                <a:lnTo>
                  <a:pt x="816" y="6"/>
                </a:lnTo>
                <a:lnTo>
                  <a:pt x="677" y="0"/>
                </a:lnTo>
                <a:lnTo>
                  <a:pt x="677" y="0"/>
                </a:lnTo>
                <a:lnTo>
                  <a:pt x="544" y="6"/>
                </a:lnTo>
                <a:lnTo>
                  <a:pt x="411" y="12"/>
                </a:lnTo>
                <a:lnTo>
                  <a:pt x="296" y="18"/>
                </a:lnTo>
                <a:lnTo>
                  <a:pt x="200" y="30"/>
                </a:lnTo>
                <a:lnTo>
                  <a:pt x="115" y="43"/>
                </a:lnTo>
                <a:lnTo>
                  <a:pt x="55" y="55"/>
                </a:lnTo>
                <a:lnTo>
                  <a:pt x="12" y="73"/>
                </a:lnTo>
                <a:lnTo>
                  <a:pt x="0" y="79"/>
                </a:lnTo>
                <a:lnTo>
                  <a:pt x="0" y="91"/>
                </a:lnTo>
                <a:lnTo>
                  <a:pt x="0" y="91"/>
                </a:lnTo>
                <a:lnTo>
                  <a:pt x="0" y="157"/>
                </a:lnTo>
                <a:lnTo>
                  <a:pt x="0" y="157"/>
                </a:lnTo>
                <a:lnTo>
                  <a:pt x="0" y="169"/>
                </a:lnTo>
                <a:lnTo>
                  <a:pt x="12" y="175"/>
                </a:lnTo>
                <a:lnTo>
                  <a:pt x="55" y="194"/>
                </a:lnTo>
                <a:lnTo>
                  <a:pt x="115" y="206"/>
                </a:lnTo>
                <a:lnTo>
                  <a:pt x="200" y="224"/>
                </a:lnTo>
                <a:lnTo>
                  <a:pt x="296" y="230"/>
                </a:lnTo>
                <a:lnTo>
                  <a:pt x="411" y="242"/>
                </a:lnTo>
                <a:lnTo>
                  <a:pt x="544" y="248"/>
                </a:lnTo>
                <a:lnTo>
                  <a:pt x="677" y="248"/>
                </a:lnTo>
                <a:lnTo>
                  <a:pt x="677" y="248"/>
                </a:lnTo>
                <a:lnTo>
                  <a:pt x="816" y="248"/>
                </a:lnTo>
                <a:lnTo>
                  <a:pt x="943" y="242"/>
                </a:lnTo>
                <a:lnTo>
                  <a:pt x="1058" y="230"/>
                </a:lnTo>
                <a:lnTo>
                  <a:pt x="1160" y="224"/>
                </a:lnTo>
                <a:lnTo>
                  <a:pt x="1239" y="206"/>
                </a:lnTo>
                <a:lnTo>
                  <a:pt x="1305" y="194"/>
                </a:lnTo>
                <a:lnTo>
                  <a:pt x="1342" y="175"/>
                </a:lnTo>
                <a:lnTo>
                  <a:pt x="1354" y="169"/>
                </a:lnTo>
                <a:lnTo>
                  <a:pt x="1360" y="157"/>
                </a:lnTo>
                <a:lnTo>
                  <a:pt x="1360" y="157"/>
                </a:lnTo>
                <a:lnTo>
                  <a:pt x="1360" y="91"/>
                </a:lnTo>
                <a:lnTo>
                  <a:pt x="1360" y="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62520" y="1901880"/>
            <a:ext cx="2254320" cy="344520"/>
          </a:xfrm>
          <a:custGeom>
            <a:avLst/>
            <a:gdLst/>
            <a:ahLst/>
            <a:rect l="l" t="t" r="r" b="b"/>
            <a:pathLst>
              <a:path w="1420" h="217">
                <a:moveTo>
                  <a:pt x="1420" y="108"/>
                </a:moveTo>
                <a:lnTo>
                  <a:pt x="1420" y="108"/>
                </a:lnTo>
                <a:lnTo>
                  <a:pt x="1414" y="121"/>
                </a:lnTo>
                <a:lnTo>
                  <a:pt x="1402" y="133"/>
                </a:lnTo>
                <a:lnTo>
                  <a:pt x="1360" y="151"/>
                </a:lnTo>
                <a:lnTo>
                  <a:pt x="1299" y="169"/>
                </a:lnTo>
                <a:lnTo>
                  <a:pt x="1208" y="187"/>
                </a:lnTo>
                <a:lnTo>
                  <a:pt x="1106" y="199"/>
                </a:lnTo>
                <a:lnTo>
                  <a:pt x="985" y="211"/>
                </a:lnTo>
                <a:lnTo>
                  <a:pt x="852" y="217"/>
                </a:lnTo>
                <a:lnTo>
                  <a:pt x="707" y="217"/>
                </a:lnTo>
                <a:lnTo>
                  <a:pt x="707" y="217"/>
                </a:lnTo>
                <a:lnTo>
                  <a:pt x="568" y="217"/>
                </a:lnTo>
                <a:lnTo>
                  <a:pt x="429" y="211"/>
                </a:lnTo>
                <a:lnTo>
                  <a:pt x="314" y="199"/>
                </a:lnTo>
                <a:lnTo>
                  <a:pt x="206" y="187"/>
                </a:lnTo>
                <a:lnTo>
                  <a:pt x="121" y="169"/>
                </a:lnTo>
                <a:lnTo>
                  <a:pt x="55" y="151"/>
                </a:lnTo>
                <a:lnTo>
                  <a:pt x="12" y="133"/>
                </a:lnTo>
                <a:lnTo>
                  <a:pt x="0" y="121"/>
                </a:lnTo>
                <a:lnTo>
                  <a:pt x="0" y="108"/>
                </a:lnTo>
                <a:lnTo>
                  <a:pt x="0" y="108"/>
                </a:lnTo>
                <a:lnTo>
                  <a:pt x="0" y="96"/>
                </a:lnTo>
                <a:lnTo>
                  <a:pt x="12" y="84"/>
                </a:lnTo>
                <a:lnTo>
                  <a:pt x="55" y="66"/>
                </a:lnTo>
                <a:lnTo>
                  <a:pt x="121" y="48"/>
                </a:lnTo>
                <a:lnTo>
                  <a:pt x="206" y="30"/>
                </a:lnTo>
                <a:lnTo>
                  <a:pt x="314" y="18"/>
                </a:lnTo>
                <a:lnTo>
                  <a:pt x="429" y="6"/>
                </a:lnTo>
                <a:lnTo>
                  <a:pt x="568" y="0"/>
                </a:lnTo>
                <a:lnTo>
                  <a:pt x="707" y="0"/>
                </a:lnTo>
                <a:lnTo>
                  <a:pt x="707" y="0"/>
                </a:lnTo>
                <a:lnTo>
                  <a:pt x="852" y="0"/>
                </a:lnTo>
                <a:lnTo>
                  <a:pt x="985" y="6"/>
                </a:lnTo>
                <a:lnTo>
                  <a:pt x="1106" y="18"/>
                </a:lnTo>
                <a:lnTo>
                  <a:pt x="1208" y="30"/>
                </a:lnTo>
                <a:lnTo>
                  <a:pt x="1299" y="48"/>
                </a:lnTo>
                <a:lnTo>
                  <a:pt x="1360" y="66"/>
                </a:lnTo>
                <a:lnTo>
                  <a:pt x="1402" y="84"/>
                </a:lnTo>
                <a:lnTo>
                  <a:pt x="1414" y="96"/>
                </a:lnTo>
                <a:lnTo>
                  <a:pt x="1420" y="108"/>
                </a:lnTo>
                <a:lnTo>
                  <a:pt x="1420" y="10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859360" y="1959120"/>
            <a:ext cx="2062440" cy="230040"/>
          </a:xfrm>
          <a:custGeom>
            <a:avLst/>
            <a:gdLst/>
            <a:ahLst/>
            <a:rect l="l" t="t" r="r" b="b"/>
            <a:pathLst>
              <a:path w="1299" h="145">
                <a:moveTo>
                  <a:pt x="1299" y="72"/>
                </a:moveTo>
                <a:lnTo>
                  <a:pt x="1299" y="72"/>
                </a:lnTo>
                <a:lnTo>
                  <a:pt x="1292" y="78"/>
                </a:lnTo>
                <a:lnTo>
                  <a:pt x="1286" y="85"/>
                </a:lnTo>
                <a:lnTo>
                  <a:pt x="1244" y="103"/>
                </a:lnTo>
                <a:lnTo>
                  <a:pt x="1184" y="115"/>
                </a:lnTo>
                <a:lnTo>
                  <a:pt x="1105" y="127"/>
                </a:lnTo>
                <a:lnTo>
                  <a:pt x="900" y="139"/>
                </a:lnTo>
                <a:lnTo>
                  <a:pt x="646" y="145"/>
                </a:lnTo>
                <a:lnTo>
                  <a:pt x="646" y="145"/>
                </a:lnTo>
                <a:lnTo>
                  <a:pt x="392" y="139"/>
                </a:lnTo>
                <a:lnTo>
                  <a:pt x="187" y="127"/>
                </a:lnTo>
                <a:lnTo>
                  <a:pt x="108" y="115"/>
                </a:lnTo>
                <a:lnTo>
                  <a:pt x="48" y="103"/>
                </a:lnTo>
                <a:lnTo>
                  <a:pt x="12" y="85"/>
                </a:lnTo>
                <a:lnTo>
                  <a:pt x="0" y="78"/>
                </a:lnTo>
                <a:lnTo>
                  <a:pt x="0" y="72"/>
                </a:lnTo>
                <a:lnTo>
                  <a:pt x="0" y="72"/>
                </a:lnTo>
                <a:lnTo>
                  <a:pt x="0" y="66"/>
                </a:lnTo>
                <a:lnTo>
                  <a:pt x="12" y="54"/>
                </a:lnTo>
                <a:lnTo>
                  <a:pt x="48" y="42"/>
                </a:lnTo>
                <a:lnTo>
                  <a:pt x="108" y="30"/>
                </a:lnTo>
                <a:lnTo>
                  <a:pt x="187" y="18"/>
                </a:lnTo>
                <a:lnTo>
                  <a:pt x="392" y="6"/>
                </a:lnTo>
                <a:lnTo>
                  <a:pt x="646" y="0"/>
                </a:lnTo>
                <a:lnTo>
                  <a:pt x="646" y="0"/>
                </a:lnTo>
                <a:lnTo>
                  <a:pt x="900" y="6"/>
                </a:lnTo>
                <a:lnTo>
                  <a:pt x="1105" y="18"/>
                </a:lnTo>
                <a:lnTo>
                  <a:pt x="1184" y="30"/>
                </a:lnTo>
                <a:lnTo>
                  <a:pt x="1244" y="42"/>
                </a:lnTo>
                <a:lnTo>
                  <a:pt x="1286" y="54"/>
                </a:lnTo>
                <a:lnTo>
                  <a:pt x="1292" y="66"/>
                </a:lnTo>
                <a:lnTo>
                  <a:pt x="1299" y="72"/>
                </a:lnTo>
                <a:lnTo>
                  <a:pt x="1299" y="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897520" y="2035080"/>
            <a:ext cx="1927440" cy="3213360"/>
          </a:xfrm>
          <a:custGeom>
            <a:avLst/>
            <a:gdLst/>
            <a:ahLst/>
            <a:rect l="l" t="t" r="r" b="b"/>
            <a:pathLst>
              <a:path w="1214" h="2024">
                <a:moveTo>
                  <a:pt x="924" y="1209"/>
                </a:moveTo>
                <a:lnTo>
                  <a:pt x="924" y="1209"/>
                </a:lnTo>
                <a:lnTo>
                  <a:pt x="894" y="1184"/>
                </a:lnTo>
                <a:lnTo>
                  <a:pt x="821" y="1130"/>
                </a:lnTo>
                <a:lnTo>
                  <a:pt x="785" y="1088"/>
                </a:lnTo>
                <a:lnTo>
                  <a:pt x="749" y="1051"/>
                </a:lnTo>
                <a:lnTo>
                  <a:pt x="719" y="1009"/>
                </a:lnTo>
                <a:lnTo>
                  <a:pt x="695" y="973"/>
                </a:lnTo>
                <a:lnTo>
                  <a:pt x="695" y="973"/>
                </a:lnTo>
                <a:lnTo>
                  <a:pt x="701" y="955"/>
                </a:lnTo>
                <a:lnTo>
                  <a:pt x="707" y="931"/>
                </a:lnTo>
                <a:lnTo>
                  <a:pt x="731" y="888"/>
                </a:lnTo>
                <a:lnTo>
                  <a:pt x="761" y="840"/>
                </a:lnTo>
                <a:lnTo>
                  <a:pt x="803" y="798"/>
                </a:lnTo>
                <a:lnTo>
                  <a:pt x="882" y="731"/>
                </a:lnTo>
                <a:lnTo>
                  <a:pt x="918" y="707"/>
                </a:lnTo>
                <a:lnTo>
                  <a:pt x="918" y="707"/>
                </a:lnTo>
                <a:lnTo>
                  <a:pt x="978" y="647"/>
                </a:lnTo>
                <a:lnTo>
                  <a:pt x="1033" y="592"/>
                </a:lnTo>
                <a:lnTo>
                  <a:pt x="1081" y="532"/>
                </a:lnTo>
                <a:lnTo>
                  <a:pt x="1117" y="472"/>
                </a:lnTo>
                <a:lnTo>
                  <a:pt x="1142" y="417"/>
                </a:lnTo>
                <a:lnTo>
                  <a:pt x="1166" y="363"/>
                </a:lnTo>
                <a:lnTo>
                  <a:pt x="1178" y="308"/>
                </a:lnTo>
                <a:lnTo>
                  <a:pt x="1190" y="260"/>
                </a:lnTo>
                <a:lnTo>
                  <a:pt x="1196" y="175"/>
                </a:lnTo>
                <a:lnTo>
                  <a:pt x="1190" y="109"/>
                </a:lnTo>
                <a:lnTo>
                  <a:pt x="1184" y="61"/>
                </a:lnTo>
                <a:lnTo>
                  <a:pt x="1178" y="49"/>
                </a:lnTo>
                <a:lnTo>
                  <a:pt x="1178" y="49"/>
                </a:lnTo>
                <a:lnTo>
                  <a:pt x="1148" y="43"/>
                </a:lnTo>
                <a:lnTo>
                  <a:pt x="1057" y="24"/>
                </a:lnTo>
                <a:lnTo>
                  <a:pt x="876" y="12"/>
                </a:lnTo>
                <a:lnTo>
                  <a:pt x="755" y="6"/>
                </a:lnTo>
                <a:lnTo>
                  <a:pt x="610" y="0"/>
                </a:lnTo>
                <a:lnTo>
                  <a:pt x="610" y="0"/>
                </a:lnTo>
                <a:lnTo>
                  <a:pt x="459" y="0"/>
                </a:lnTo>
                <a:lnTo>
                  <a:pt x="338" y="6"/>
                </a:lnTo>
                <a:lnTo>
                  <a:pt x="241" y="12"/>
                </a:lnTo>
                <a:lnTo>
                  <a:pt x="163" y="24"/>
                </a:lnTo>
                <a:lnTo>
                  <a:pt x="66" y="43"/>
                </a:lnTo>
                <a:lnTo>
                  <a:pt x="42" y="49"/>
                </a:lnTo>
                <a:lnTo>
                  <a:pt x="42" y="49"/>
                </a:lnTo>
                <a:lnTo>
                  <a:pt x="36" y="61"/>
                </a:lnTo>
                <a:lnTo>
                  <a:pt x="30" y="109"/>
                </a:lnTo>
                <a:lnTo>
                  <a:pt x="24" y="175"/>
                </a:lnTo>
                <a:lnTo>
                  <a:pt x="30" y="260"/>
                </a:lnTo>
                <a:lnTo>
                  <a:pt x="42" y="308"/>
                </a:lnTo>
                <a:lnTo>
                  <a:pt x="54" y="363"/>
                </a:lnTo>
                <a:lnTo>
                  <a:pt x="78" y="417"/>
                </a:lnTo>
                <a:lnTo>
                  <a:pt x="102" y="472"/>
                </a:lnTo>
                <a:lnTo>
                  <a:pt x="139" y="532"/>
                </a:lnTo>
                <a:lnTo>
                  <a:pt x="187" y="592"/>
                </a:lnTo>
                <a:lnTo>
                  <a:pt x="241" y="647"/>
                </a:lnTo>
                <a:lnTo>
                  <a:pt x="302" y="707"/>
                </a:lnTo>
                <a:lnTo>
                  <a:pt x="302" y="707"/>
                </a:lnTo>
                <a:lnTo>
                  <a:pt x="338" y="731"/>
                </a:lnTo>
                <a:lnTo>
                  <a:pt x="411" y="798"/>
                </a:lnTo>
                <a:lnTo>
                  <a:pt x="447" y="840"/>
                </a:lnTo>
                <a:lnTo>
                  <a:pt x="483" y="882"/>
                </a:lnTo>
                <a:lnTo>
                  <a:pt x="507" y="919"/>
                </a:lnTo>
                <a:lnTo>
                  <a:pt x="513" y="937"/>
                </a:lnTo>
                <a:lnTo>
                  <a:pt x="519" y="955"/>
                </a:lnTo>
                <a:lnTo>
                  <a:pt x="519" y="955"/>
                </a:lnTo>
                <a:lnTo>
                  <a:pt x="501" y="997"/>
                </a:lnTo>
                <a:lnTo>
                  <a:pt x="477" y="1039"/>
                </a:lnTo>
                <a:lnTo>
                  <a:pt x="435" y="1082"/>
                </a:lnTo>
                <a:lnTo>
                  <a:pt x="399" y="1118"/>
                </a:lnTo>
                <a:lnTo>
                  <a:pt x="320" y="1184"/>
                </a:lnTo>
                <a:lnTo>
                  <a:pt x="290" y="1209"/>
                </a:lnTo>
                <a:lnTo>
                  <a:pt x="290" y="1209"/>
                </a:lnTo>
                <a:lnTo>
                  <a:pt x="223" y="1269"/>
                </a:lnTo>
                <a:lnTo>
                  <a:pt x="163" y="1335"/>
                </a:lnTo>
                <a:lnTo>
                  <a:pt x="121" y="1396"/>
                </a:lnTo>
                <a:lnTo>
                  <a:pt x="78" y="1462"/>
                </a:lnTo>
                <a:lnTo>
                  <a:pt x="54" y="1529"/>
                </a:lnTo>
                <a:lnTo>
                  <a:pt x="30" y="1595"/>
                </a:lnTo>
                <a:lnTo>
                  <a:pt x="18" y="1656"/>
                </a:lnTo>
                <a:lnTo>
                  <a:pt x="6" y="1716"/>
                </a:lnTo>
                <a:lnTo>
                  <a:pt x="0" y="1770"/>
                </a:lnTo>
                <a:lnTo>
                  <a:pt x="0" y="1819"/>
                </a:lnTo>
                <a:lnTo>
                  <a:pt x="0" y="1903"/>
                </a:lnTo>
                <a:lnTo>
                  <a:pt x="12" y="1958"/>
                </a:lnTo>
                <a:lnTo>
                  <a:pt x="12" y="1976"/>
                </a:lnTo>
                <a:lnTo>
                  <a:pt x="12" y="1976"/>
                </a:lnTo>
                <a:lnTo>
                  <a:pt x="54" y="1982"/>
                </a:lnTo>
                <a:lnTo>
                  <a:pt x="175" y="2000"/>
                </a:lnTo>
                <a:lnTo>
                  <a:pt x="356" y="2018"/>
                </a:lnTo>
                <a:lnTo>
                  <a:pt x="477" y="2024"/>
                </a:lnTo>
                <a:lnTo>
                  <a:pt x="604" y="2024"/>
                </a:lnTo>
                <a:lnTo>
                  <a:pt x="604" y="2024"/>
                </a:lnTo>
                <a:lnTo>
                  <a:pt x="858" y="2012"/>
                </a:lnTo>
                <a:lnTo>
                  <a:pt x="1045" y="2000"/>
                </a:lnTo>
                <a:lnTo>
                  <a:pt x="1160" y="1982"/>
                </a:lnTo>
                <a:lnTo>
                  <a:pt x="1196" y="1976"/>
                </a:lnTo>
                <a:lnTo>
                  <a:pt x="1196" y="1976"/>
                </a:lnTo>
                <a:lnTo>
                  <a:pt x="1202" y="1958"/>
                </a:lnTo>
                <a:lnTo>
                  <a:pt x="1208" y="1903"/>
                </a:lnTo>
                <a:lnTo>
                  <a:pt x="1214" y="1819"/>
                </a:lnTo>
                <a:lnTo>
                  <a:pt x="1208" y="1770"/>
                </a:lnTo>
                <a:lnTo>
                  <a:pt x="1208" y="1716"/>
                </a:lnTo>
                <a:lnTo>
                  <a:pt x="1196" y="1656"/>
                </a:lnTo>
                <a:lnTo>
                  <a:pt x="1178" y="1595"/>
                </a:lnTo>
                <a:lnTo>
                  <a:pt x="1160" y="1529"/>
                </a:lnTo>
                <a:lnTo>
                  <a:pt x="1130" y="1462"/>
                </a:lnTo>
                <a:lnTo>
                  <a:pt x="1093" y="1396"/>
                </a:lnTo>
                <a:lnTo>
                  <a:pt x="1045" y="1335"/>
                </a:lnTo>
                <a:lnTo>
                  <a:pt x="991" y="1269"/>
                </a:lnTo>
                <a:lnTo>
                  <a:pt x="924" y="1209"/>
                </a:lnTo>
                <a:lnTo>
                  <a:pt x="924" y="12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840280" y="1987560"/>
            <a:ext cx="2032200" cy="3317760"/>
          </a:xfrm>
          <a:custGeom>
            <a:avLst/>
            <a:gdLst/>
            <a:ahLst/>
            <a:rect l="l" t="t" r="r" b="b"/>
            <a:pathLst>
              <a:path w="1280" h="2090">
                <a:moveTo>
                  <a:pt x="66" y="48"/>
                </a:moveTo>
                <a:lnTo>
                  <a:pt x="48" y="54"/>
                </a:lnTo>
                <a:lnTo>
                  <a:pt x="48" y="67"/>
                </a:lnTo>
                <a:lnTo>
                  <a:pt x="48" y="67"/>
                </a:lnTo>
                <a:lnTo>
                  <a:pt x="36" y="109"/>
                </a:lnTo>
                <a:lnTo>
                  <a:pt x="30" y="151"/>
                </a:lnTo>
                <a:lnTo>
                  <a:pt x="30" y="205"/>
                </a:lnTo>
                <a:lnTo>
                  <a:pt x="30" y="205"/>
                </a:lnTo>
                <a:lnTo>
                  <a:pt x="30" y="260"/>
                </a:lnTo>
                <a:lnTo>
                  <a:pt x="36" y="320"/>
                </a:lnTo>
                <a:lnTo>
                  <a:pt x="54" y="387"/>
                </a:lnTo>
                <a:lnTo>
                  <a:pt x="84" y="459"/>
                </a:lnTo>
                <a:lnTo>
                  <a:pt x="120" y="532"/>
                </a:lnTo>
                <a:lnTo>
                  <a:pt x="169" y="610"/>
                </a:lnTo>
                <a:lnTo>
                  <a:pt x="235" y="683"/>
                </a:lnTo>
                <a:lnTo>
                  <a:pt x="320" y="761"/>
                </a:lnTo>
                <a:lnTo>
                  <a:pt x="320" y="761"/>
                </a:lnTo>
                <a:lnTo>
                  <a:pt x="320" y="761"/>
                </a:lnTo>
                <a:lnTo>
                  <a:pt x="320" y="761"/>
                </a:lnTo>
                <a:lnTo>
                  <a:pt x="386" y="816"/>
                </a:lnTo>
                <a:lnTo>
                  <a:pt x="447" y="876"/>
                </a:lnTo>
                <a:lnTo>
                  <a:pt x="495" y="936"/>
                </a:lnTo>
                <a:lnTo>
                  <a:pt x="513" y="961"/>
                </a:lnTo>
                <a:lnTo>
                  <a:pt x="519" y="985"/>
                </a:lnTo>
                <a:lnTo>
                  <a:pt x="519" y="985"/>
                </a:lnTo>
                <a:lnTo>
                  <a:pt x="507" y="1009"/>
                </a:lnTo>
                <a:lnTo>
                  <a:pt x="489" y="1039"/>
                </a:lnTo>
                <a:lnTo>
                  <a:pt x="435" y="1100"/>
                </a:lnTo>
                <a:lnTo>
                  <a:pt x="368" y="1160"/>
                </a:lnTo>
                <a:lnTo>
                  <a:pt x="302" y="1214"/>
                </a:lnTo>
                <a:lnTo>
                  <a:pt x="302" y="1214"/>
                </a:lnTo>
                <a:lnTo>
                  <a:pt x="259" y="1251"/>
                </a:lnTo>
                <a:lnTo>
                  <a:pt x="217" y="1293"/>
                </a:lnTo>
                <a:lnTo>
                  <a:pt x="181" y="1335"/>
                </a:lnTo>
                <a:lnTo>
                  <a:pt x="151" y="1378"/>
                </a:lnTo>
                <a:lnTo>
                  <a:pt x="96" y="1462"/>
                </a:lnTo>
                <a:lnTo>
                  <a:pt x="54" y="1547"/>
                </a:lnTo>
                <a:lnTo>
                  <a:pt x="30" y="1631"/>
                </a:lnTo>
                <a:lnTo>
                  <a:pt x="12" y="1716"/>
                </a:lnTo>
                <a:lnTo>
                  <a:pt x="6" y="1788"/>
                </a:lnTo>
                <a:lnTo>
                  <a:pt x="0" y="1855"/>
                </a:lnTo>
                <a:lnTo>
                  <a:pt x="0" y="1855"/>
                </a:lnTo>
                <a:lnTo>
                  <a:pt x="6" y="1921"/>
                </a:lnTo>
                <a:lnTo>
                  <a:pt x="12" y="1970"/>
                </a:lnTo>
                <a:lnTo>
                  <a:pt x="18" y="2018"/>
                </a:lnTo>
                <a:lnTo>
                  <a:pt x="24" y="2036"/>
                </a:lnTo>
                <a:lnTo>
                  <a:pt x="42" y="2042"/>
                </a:lnTo>
                <a:lnTo>
                  <a:pt x="42" y="2042"/>
                </a:lnTo>
                <a:lnTo>
                  <a:pt x="90" y="2048"/>
                </a:lnTo>
                <a:lnTo>
                  <a:pt x="211" y="2066"/>
                </a:lnTo>
                <a:lnTo>
                  <a:pt x="398" y="2078"/>
                </a:lnTo>
                <a:lnTo>
                  <a:pt x="513" y="2084"/>
                </a:lnTo>
                <a:lnTo>
                  <a:pt x="640" y="2090"/>
                </a:lnTo>
                <a:lnTo>
                  <a:pt x="640" y="2090"/>
                </a:lnTo>
                <a:lnTo>
                  <a:pt x="894" y="2078"/>
                </a:lnTo>
                <a:lnTo>
                  <a:pt x="1075" y="2060"/>
                </a:lnTo>
                <a:lnTo>
                  <a:pt x="1196" y="2048"/>
                </a:lnTo>
                <a:lnTo>
                  <a:pt x="1238" y="2042"/>
                </a:lnTo>
                <a:lnTo>
                  <a:pt x="1262" y="2036"/>
                </a:lnTo>
                <a:lnTo>
                  <a:pt x="1268" y="2018"/>
                </a:lnTo>
                <a:lnTo>
                  <a:pt x="1268" y="2018"/>
                </a:lnTo>
                <a:lnTo>
                  <a:pt x="1274" y="1970"/>
                </a:lnTo>
                <a:lnTo>
                  <a:pt x="1280" y="1921"/>
                </a:lnTo>
                <a:lnTo>
                  <a:pt x="1280" y="1855"/>
                </a:lnTo>
                <a:lnTo>
                  <a:pt x="1280" y="1855"/>
                </a:lnTo>
                <a:lnTo>
                  <a:pt x="1280" y="1788"/>
                </a:lnTo>
                <a:lnTo>
                  <a:pt x="1268" y="1716"/>
                </a:lnTo>
                <a:lnTo>
                  <a:pt x="1250" y="1631"/>
                </a:lnTo>
                <a:lnTo>
                  <a:pt x="1226" y="1547"/>
                </a:lnTo>
                <a:lnTo>
                  <a:pt x="1190" y="1462"/>
                </a:lnTo>
                <a:lnTo>
                  <a:pt x="1135" y="1378"/>
                </a:lnTo>
                <a:lnTo>
                  <a:pt x="1099" y="1335"/>
                </a:lnTo>
                <a:lnTo>
                  <a:pt x="1063" y="1293"/>
                </a:lnTo>
                <a:lnTo>
                  <a:pt x="1027" y="1251"/>
                </a:lnTo>
                <a:lnTo>
                  <a:pt x="978" y="1214"/>
                </a:lnTo>
                <a:lnTo>
                  <a:pt x="978" y="1214"/>
                </a:lnTo>
                <a:lnTo>
                  <a:pt x="978" y="1214"/>
                </a:lnTo>
                <a:lnTo>
                  <a:pt x="930" y="1172"/>
                </a:lnTo>
                <a:lnTo>
                  <a:pt x="863" y="1118"/>
                </a:lnTo>
                <a:lnTo>
                  <a:pt x="803" y="1057"/>
                </a:lnTo>
                <a:lnTo>
                  <a:pt x="785" y="1021"/>
                </a:lnTo>
                <a:lnTo>
                  <a:pt x="767" y="997"/>
                </a:lnTo>
                <a:lnTo>
                  <a:pt x="767" y="997"/>
                </a:lnTo>
                <a:lnTo>
                  <a:pt x="773" y="973"/>
                </a:lnTo>
                <a:lnTo>
                  <a:pt x="785" y="943"/>
                </a:lnTo>
                <a:lnTo>
                  <a:pt x="809" y="912"/>
                </a:lnTo>
                <a:lnTo>
                  <a:pt x="839" y="876"/>
                </a:lnTo>
                <a:lnTo>
                  <a:pt x="900" y="816"/>
                </a:lnTo>
                <a:lnTo>
                  <a:pt x="966" y="761"/>
                </a:lnTo>
                <a:lnTo>
                  <a:pt x="972" y="761"/>
                </a:lnTo>
                <a:lnTo>
                  <a:pt x="972" y="761"/>
                </a:lnTo>
                <a:lnTo>
                  <a:pt x="972" y="761"/>
                </a:lnTo>
                <a:lnTo>
                  <a:pt x="1057" y="683"/>
                </a:lnTo>
                <a:lnTo>
                  <a:pt x="1123" y="610"/>
                </a:lnTo>
                <a:lnTo>
                  <a:pt x="1172" y="532"/>
                </a:lnTo>
                <a:lnTo>
                  <a:pt x="1208" y="459"/>
                </a:lnTo>
                <a:lnTo>
                  <a:pt x="1238" y="387"/>
                </a:lnTo>
                <a:lnTo>
                  <a:pt x="1250" y="320"/>
                </a:lnTo>
                <a:lnTo>
                  <a:pt x="1262" y="260"/>
                </a:lnTo>
                <a:lnTo>
                  <a:pt x="1262" y="205"/>
                </a:lnTo>
                <a:lnTo>
                  <a:pt x="1262" y="205"/>
                </a:lnTo>
                <a:lnTo>
                  <a:pt x="1262" y="151"/>
                </a:lnTo>
                <a:lnTo>
                  <a:pt x="1256" y="109"/>
                </a:lnTo>
                <a:lnTo>
                  <a:pt x="1244" y="67"/>
                </a:lnTo>
                <a:lnTo>
                  <a:pt x="1244" y="48"/>
                </a:lnTo>
                <a:lnTo>
                  <a:pt x="1226" y="48"/>
                </a:lnTo>
                <a:lnTo>
                  <a:pt x="1226" y="48"/>
                </a:lnTo>
                <a:lnTo>
                  <a:pt x="1190" y="36"/>
                </a:lnTo>
                <a:lnTo>
                  <a:pt x="1093" y="24"/>
                </a:lnTo>
                <a:lnTo>
                  <a:pt x="918" y="12"/>
                </a:lnTo>
                <a:lnTo>
                  <a:pt x="646" y="0"/>
                </a:lnTo>
                <a:lnTo>
                  <a:pt x="646" y="0"/>
                </a:lnTo>
                <a:lnTo>
                  <a:pt x="495" y="0"/>
                </a:lnTo>
                <a:lnTo>
                  <a:pt x="374" y="6"/>
                </a:lnTo>
                <a:lnTo>
                  <a:pt x="271" y="12"/>
                </a:lnTo>
                <a:lnTo>
                  <a:pt x="199" y="18"/>
                </a:lnTo>
                <a:lnTo>
                  <a:pt x="96" y="36"/>
                </a:lnTo>
                <a:lnTo>
                  <a:pt x="66" y="48"/>
                </a:lnTo>
                <a:lnTo>
                  <a:pt x="66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97520" y="2035080"/>
            <a:ext cx="1927440" cy="3213360"/>
          </a:xfrm>
          <a:custGeom>
            <a:avLst/>
            <a:gdLst/>
            <a:ahLst/>
            <a:rect l="l" t="t" r="r" b="b"/>
            <a:pathLst>
              <a:path w="1214" h="2024">
                <a:moveTo>
                  <a:pt x="924" y="1209"/>
                </a:moveTo>
                <a:lnTo>
                  <a:pt x="924" y="1209"/>
                </a:lnTo>
                <a:lnTo>
                  <a:pt x="894" y="1184"/>
                </a:lnTo>
                <a:lnTo>
                  <a:pt x="821" y="1130"/>
                </a:lnTo>
                <a:lnTo>
                  <a:pt x="785" y="1088"/>
                </a:lnTo>
                <a:lnTo>
                  <a:pt x="749" y="1051"/>
                </a:lnTo>
                <a:lnTo>
                  <a:pt x="719" y="1009"/>
                </a:lnTo>
                <a:lnTo>
                  <a:pt x="695" y="973"/>
                </a:lnTo>
                <a:lnTo>
                  <a:pt x="695" y="973"/>
                </a:lnTo>
                <a:lnTo>
                  <a:pt x="701" y="955"/>
                </a:lnTo>
                <a:lnTo>
                  <a:pt x="707" y="931"/>
                </a:lnTo>
                <a:lnTo>
                  <a:pt x="731" y="888"/>
                </a:lnTo>
                <a:lnTo>
                  <a:pt x="761" y="840"/>
                </a:lnTo>
                <a:lnTo>
                  <a:pt x="803" y="798"/>
                </a:lnTo>
                <a:lnTo>
                  <a:pt x="882" y="731"/>
                </a:lnTo>
                <a:lnTo>
                  <a:pt x="918" y="707"/>
                </a:lnTo>
                <a:lnTo>
                  <a:pt x="918" y="707"/>
                </a:lnTo>
                <a:lnTo>
                  <a:pt x="978" y="647"/>
                </a:lnTo>
                <a:lnTo>
                  <a:pt x="1033" y="592"/>
                </a:lnTo>
                <a:lnTo>
                  <a:pt x="1081" y="532"/>
                </a:lnTo>
                <a:lnTo>
                  <a:pt x="1117" y="472"/>
                </a:lnTo>
                <a:lnTo>
                  <a:pt x="1142" y="417"/>
                </a:lnTo>
                <a:lnTo>
                  <a:pt x="1166" y="363"/>
                </a:lnTo>
                <a:lnTo>
                  <a:pt x="1178" y="308"/>
                </a:lnTo>
                <a:lnTo>
                  <a:pt x="1190" y="260"/>
                </a:lnTo>
                <a:lnTo>
                  <a:pt x="1196" y="175"/>
                </a:lnTo>
                <a:lnTo>
                  <a:pt x="1190" y="109"/>
                </a:lnTo>
                <a:lnTo>
                  <a:pt x="1184" y="61"/>
                </a:lnTo>
                <a:lnTo>
                  <a:pt x="1178" y="49"/>
                </a:lnTo>
                <a:lnTo>
                  <a:pt x="1178" y="49"/>
                </a:lnTo>
                <a:lnTo>
                  <a:pt x="1148" y="43"/>
                </a:lnTo>
                <a:lnTo>
                  <a:pt x="1057" y="24"/>
                </a:lnTo>
                <a:lnTo>
                  <a:pt x="876" y="12"/>
                </a:lnTo>
                <a:lnTo>
                  <a:pt x="755" y="6"/>
                </a:lnTo>
                <a:lnTo>
                  <a:pt x="610" y="0"/>
                </a:lnTo>
                <a:lnTo>
                  <a:pt x="610" y="0"/>
                </a:lnTo>
                <a:lnTo>
                  <a:pt x="459" y="0"/>
                </a:lnTo>
                <a:lnTo>
                  <a:pt x="338" y="6"/>
                </a:lnTo>
                <a:lnTo>
                  <a:pt x="241" y="12"/>
                </a:lnTo>
                <a:lnTo>
                  <a:pt x="163" y="24"/>
                </a:lnTo>
                <a:lnTo>
                  <a:pt x="66" y="43"/>
                </a:lnTo>
                <a:lnTo>
                  <a:pt x="42" y="49"/>
                </a:lnTo>
                <a:lnTo>
                  <a:pt x="42" y="49"/>
                </a:lnTo>
                <a:lnTo>
                  <a:pt x="36" y="61"/>
                </a:lnTo>
                <a:lnTo>
                  <a:pt x="30" y="109"/>
                </a:lnTo>
                <a:lnTo>
                  <a:pt x="24" y="175"/>
                </a:lnTo>
                <a:lnTo>
                  <a:pt x="30" y="260"/>
                </a:lnTo>
                <a:lnTo>
                  <a:pt x="42" y="308"/>
                </a:lnTo>
                <a:lnTo>
                  <a:pt x="54" y="363"/>
                </a:lnTo>
                <a:lnTo>
                  <a:pt x="78" y="417"/>
                </a:lnTo>
                <a:lnTo>
                  <a:pt x="102" y="472"/>
                </a:lnTo>
                <a:lnTo>
                  <a:pt x="139" y="532"/>
                </a:lnTo>
                <a:lnTo>
                  <a:pt x="187" y="592"/>
                </a:lnTo>
                <a:lnTo>
                  <a:pt x="241" y="647"/>
                </a:lnTo>
                <a:lnTo>
                  <a:pt x="302" y="707"/>
                </a:lnTo>
                <a:lnTo>
                  <a:pt x="302" y="707"/>
                </a:lnTo>
                <a:lnTo>
                  <a:pt x="338" y="731"/>
                </a:lnTo>
                <a:lnTo>
                  <a:pt x="411" y="798"/>
                </a:lnTo>
                <a:lnTo>
                  <a:pt x="447" y="840"/>
                </a:lnTo>
                <a:lnTo>
                  <a:pt x="483" y="882"/>
                </a:lnTo>
                <a:lnTo>
                  <a:pt x="507" y="919"/>
                </a:lnTo>
                <a:lnTo>
                  <a:pt x="513" y="937"/>
                </a:lnTo>
                <a:lnTo>
                  <a:pt x="519" y="955"/>
                </a:lnTo>
                <a:lnTo>
                  <a:pt x="519" y="955"/>
                </a:lnTo>
                <a:lnTo>
                  <a:pt x="501" y="997"/>
                </a:lnTo>
                <a:lnTo>
                  <a:pt x="477" y="1039"/>
                </a:lnTo>
                <a:lnTo>
                  <a:pt x="435" y="1082"/>
                </a:lnTo>
                <a:lnTo>
                  <a:pt x="399" y="1118"/>
                </a:lnTo>
                <a:lnTo>
                  <a:pt x="320" y="1184"/>
                </a:lnTo>
                <a:lnTo>
                  <a:pt x="290" y="1209"/>
                </a:lnTo>
                <a:lnTo>
                  <a:pt x="290" y="1209"/>
                </a:lnTo>
                <a:lnTo>
                  <a:pt x="223" y="1269"/>
                </a:lnTo>
                <a:lnTo>
                  <a:pt x="163" y="1335"/>
                </a:lnTo>
                <a:lnTo>
                  <a:pt x="121" y="1396"/>
                </a:lnTo>
                <a:lnTo>
                  <a:pt x="78" y="1462"/>
                </a:lnTo>
                <a:lnTo>
                  <a:pt x="54" y="1529"/>
                </a:lnTo>
                <a:lnTo>
                  <a:pt x="30" y="1595"/>
                </a:lnTo>
                <a:lnTo>
                  <a:pt x="18" y="1656"/>
                </a:lnTo>
                <a:lnTo>
                  <a:pt x="6" y="1716"/>
                </a:lnTo>
                <a:lnTo>
                  <a:pt x="0" y="1770"/>
                </a:lnTo>
                <a:lnTo>
                  <a:pt x="0" y="1819"/>
                </a:lnTo>
                <a:lnTo>
                  <a:pt x="0" y="1903"/>
                </a:lnTo>
                <a:lnTo>
                  <a:pt x="12" y="1958"/>
                </a:lnTo>
                <a:lnTo>
                  <a:pt x="12" y="1976"/>
                </a:lnTo>
                <a:lnTo>
                  <a:pt x="12" y="1976"/>
                </a:lnTo>
                <a:lnTo>
                  <a:pt x="54" y="1982"/>
                </a:lnTo>
                <a:lnTo>
                  <a:pt x="175" y="2000"/>
                </a:lnTo>
                <a:lnTo>
                  <a:pt x="356" y="2018"/>
                </a:lnTo>
                <a:lnTo>
                  <a:pt x="477" y="2024"/>
                </a:lnTo>
                <a:lnTo>
                  <a:pt x="604" y="2024"/>
                </a:lnTo>
                <a:lnTo>
                  <a:pt x="604" y="2024"/>
                </a:lnTo>
                <a:lnTo>
                  <a:pt x="858" y="2012"/>
                </a:lnTo>
                <a:lnTo>
                  <a:pt x="1045" y="2000"/>
                </a:lnTo>
                <a:lnTo>
                  <a:pt x="1160" y="1982"/>
                </a:lnTo>
                <a:lnTo>
                  <a:pt x="1196" y="1976"/>
                </a:lnTo>
                <a:lnTo>
                  <a:pt x="1196" y="1976"/>
                </a:lnTo>
                <a:lnTo>
                  <a:pt x="1202" y="1958"/>
                </a:lnTo>
                <a:lnTo>
                  <a:pt x="1208" y="1903"/>
                </a:lnTo>
                <a:lnTo>
                  <a:pt x="1214" y="1819"/>
                </a:lnTo>
                <a:lnTo>
                  <a:pt x="1208" y="1770"/>
                </a:lnTo>
                <a:lnTo>
                  <a:pt x="1208" y="1716"/>
                </a:lnTo>
                <a:lnTo>
                  <a:pt x="1196" y="1656"/>
                </a:lnTo>
                <a:lnTo>
                  <a:pt x="1178" y="1595"/>
                </a:lnTo>
                <a:lnTo>
                  <a:pt x="1160" y="1529"/>
                </a:lnTo>
                <a:lnTo>
                  <a:pt x="1130" y="1462"/>
                </a:lnTo>
                <a:lnTo>
                  <a:pt x="1093" y="1396"/>
                </a:lnTo>
                <a:lnTo>
                  <a:pt x="1045" y="1335"/>
                </a:lnTo>
                <a:lnTo>
                  <a:pt x="991" y="1269"/>
                </a:lnTo>
                <a:lnTo>
                  <a:pt x="924" y="1209"/>
                </a:lnTo>
                <a:lnTo>
                  <a:pt x="924" y="12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34080" y="4989600"/>
            <a:ext cx="2330280" cy="507960"/>
          </a:xfrm>
          <a:custGeom>
            <a:avLst/>
            <a:gdLst/>
            <a:ahLst/>
            <a:rect l="l" t="t" r="r" b="b"/>
            <a:pathLst>
              <a:path w="1468" h="320">
                <a:moveTo>
                  <a:pt x="1468" y="115"/>
                </a:moveTo>
                <a:lnTo>
                  <a:pt x="1468" y="115"/>
                </a:lnTo>
                <a:lnTo>
                  <a:pt x="1468" y="103"/>
                </a:lnTo>
                <a:lnTo>
                  <a:pt x="1456" y="91"/>
                </a:lnTo>
                <a:lnTo>
                  <a:pt x="1414" y="66"/>
                </a:lnTo>
                <a:lnTo>
                  <a:pt x="1347" y="48"/>
                </a:lnTo>
                <a:lnTo>
                  <a:pt x="1257" y="30"/>
                </a:lnTo>
                <a:lnTo>
                  <a:pt x="1148" y="18"/>
                </a:lnTo>
                <a:lnTo>
                  <a:pt x="1021" y="6"/>
                </a:lnTo>
                <a:lnTo>
                  <a:pt x="882" y="0"/>
                </a:lnTo>
                <a:lnTo>
                  <a:pt x="737" y="0"/>
                </a:lnTo>
                <a:lnTo>
                  <a:pt x="737" y="0"/>
                </a:lnTo>
                <a:lnTo>
                  <a:pt x="586" y="0"/>
                </a:lnTo>
                <a:lnTo>
                  <a:pt x="447" y="6"/>
                </a:lnTo>
                <a:lnTo>
                  <a:pt x="320" y="18"/>
                </a:lnTo>
                <a:lnTo>
                  <a:pt x="212" y="30"/>
                </a:lnTo>
                <a:lnTo>
                  <a:pt x="121" y="48"/>
                </a:lnTo>
                <a:lnTo>
                  <a:pt x="54" y="66"/>
                </a:lnTo>
                <a:lnTo>
                  <a:pt x="12" y="91"/>
                </a:lnTo>
                <a:lnTo>
                  <a:pt x="0" y="103"/>
                </a:lnTo>
                <a:lnTo>
                  <a:pt x="0" y="115"/>
                </a:lnTo>
                <a:lnTo>
                  <a:pt x="0" y="115"/>
                </a:lnTo>
                <a:lnTo>
                  <a:pt x="0" y="205"/>
                </a:lnTo>
                <a:lnTo>
                  <a:pt x="0" y="205"/>
                </a:lnTo>
                <a:lnTo>
                  <a:pt x="0" y="218"/>
                </a:lnTo>
                <a:lnTo>
                  <a:pt x="12" y="230"/>
                </a:lnTo>
                <a:lnTo>
                  <a:pt x="54" y="248"/>
                </a:lnTo>
                <a:lnTo>
                  <a:pt x="121" y="272"/>
                </a:lnTo>
                <a:lnTo>
                  <a:pt x="212" y="284"/>
                </a:lnTo>
                <a:lnTo>
                  <a:pt x="320" y="302"/>
                </a:lnTo>
                <a:lnTo>
                  <a:pt x="447" y="308"/>
                </a:lnTo>
                <a:lnTo>
                  <a:pt x="586" y="320"/>
                </a:lnTo>
                <a:lnTo>
                  <a:pt x="737" y="320"/>
                </a:lnTo>
                <a:lnTo>
                  <a:pt x="737" y="320"/>
                </a:lnTo>
                <a:lnTo>
                  <a:pt x="882" y="320"/>
                </a:lnTo>
                <a:lnTo>
                  <a:pt x="1021" y="308"/>
                </a:lnTo>
                <a:lnTo>
                  <a:pt x="1148" y="302"/>
                </a:lnTo>
                <a:lnTo>
                  <a:pt x="1257" y="284"/>
                </a:lnTo>
                <a:lnTo>
                  <a:pt x="1347" y="272"/>
                </a:lnTo>
                <a:lnTo>
                  <a:pt x="1414" y="248"/>
                </a:lnTo>
                <a:lnTo>
                  <a:pt x="1456" y="230"/>
                </a:lnTo>
                <a:lnTo>
                  <a:pt x="1468" y="218"/>
                </a:lnTo>
                <a:lnTo>
                  <a:pt x="1468" y="205"/>
                </a:lnTo>
                <a:lnTo>
                  <a:pt x="1468" y="205"/>
                </a:lnTo>
                <a:lnTo>
                  <a:pt x="1468" y="115"/>
                </a:lnTo>
                <a:lnTo>
                  <a:pt x="1468" y="1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81600" y="5037120"/>
            <a:ext cx="2235240" cy="403200"/>
          </a:xfrm>
          <a:custGeom>
            <a:avLst/>
            <a:gdLst/>
            <a:ahLst/>
            <a:rect l="l" t="t" r="r" b="b"/>
            <a:pathLst>
              <a:path w="1408" h="254">
                <a:moveTo>
                  <a:pt x="1408" y="91"/>
                </a:moveTo>
                <a:lnTo>
                  <a:pt x="1408" y="91"/>
                </a:lnTo>
                <a:lnTo>
                  <a:pt x="1408" y="85"/>
                </a:lnTo>
                <a:lnTo>
                  <a:pt x="1396" y="73"/>
                </a:lnTo>
                <a:lnTo>
                  <a:pt x="1354" y="55"/>
                </a:lnTo>
                <a:lnTo>
                  <a:pt x="1287" y="43"/>
                </a:lnTo>
                <a:lnTo>
                  <a:pt x="1203" y="30"/>
                </a:lnTo>
                <a:lnTo>
                  <a:pt x="1100" y="18"/>
                </a:lnTo>
                <a:lnTo>
                  <a:pt x="979" y="6"/>
                </a:lnTo>
                <a:lnTo>
                  <a:pt x="846" y="6"/>
                </a:lnTo>
                <a:lnTo>
                  <a:pt x="707" y="0"/>
                </a:lnTo>
                <a:lnTo>
                  <a:pt x="707" y="0"/>
                </a:lnTo>
                <a:lnTo>
                  <a:pt x="562" y="6"/>
                </a:lnTo>
                <a:lnTo>
                  <a:pt x="429" y="6"/>
                </a:lnTo>
                <a:lnTo>
                  <a:pt x="308" y="18"/>
                </a:lnTo>
                <a:lnTo>
                  <a:pt x="206" y="30"/>
                </a:lnTo>
                <a:lnTo>
                  <a:pt x="121" y="43"/>
                </a:lnTo>
                <a:lnTo>
                  <a:pt x="55" y="55"/>
                </a:lnTo>
                <a:lnTo>
                  <a:pt x="12" y="73"/>
                </a:lnTo>
                <a:lnTo>
                  <a:pt x="6" y="85"/>
                </a:lnTo>
                <a:lnTo>
                  <a:pt x="0" y="91"/>
                </a:lnTo>
                <a:lnTo>
                  <a:pt x="0" y="91"/>
                </a:lnTo>
                <a:lnTo>
                  <a:pt x="0" y="163"/>
                </a:lnTo>
                <a:lnTo>
                  <a:pt x="0" y="163"/>
                </a:lnTo>
                <a:lnTo>
                  <a:pt x="6" y="175"/>
                </a:lnTo>
                <a:lnTo>
                  <a:pt x="12" y="181"/>
                </a:lnTo>
                <a:lnTo>
                  <a:pt x="55" y="200"/>
                </a:lnTo>
                <a:lnTo>
                  <a:pt x="121" y="218"/>
                </a:lnTo>
                <a:lnTo>
                  <a:pt x="206" y="230"/>
                </a:lnTo>
                <a:lnTo>
                  <a:pt x="308" y="242"/>
                </a:lnTo>
                <a:lnTo>
                  <a:pt x="429" y="248"/>
                </a:lnTo>
                <a:lnTo>
                  <a:pt x="562" y="254"/>
                </a:lnTo>
                <a:lnTo>
                  <a:pt x="707" y="254"/>
                </a:lnTo>
                <a:lnTo>
                  <a:pt x="707" y="254"/>
                </a:lnTo>
                <a:lnTo>
                  <a:pt x="846" y="254"/>
                </a:lnTo>
                <a:lnTo>
                  <a:pt x="979" y="248"/>
                </a:lnTo>
                <a:lnTo>
                  <a:pt x="1100" y="242"/>
                </a:lnTo>
                <a:lnTo>
                  <a:pt x="1203" y="230"/>
                </a:lnTo>
                <a:lnTo>
                  <a:pt x="1287" y="218"/>
                </a:lnTo>
                <a:lnTo>
                  <a:pt x="1354" y="200"/>
                </a:lnTo>
                <a:lnTo>
                  <a:pt x="1396" y="181"/>
                </a:lnTo>
                <a:lnTo>
                  <a:pt x="1408" y="175"/>
                </a:lnTo>
                <a:lnTo>
                  <a:pt x="1408" y="163"/>
                </a:lnTo>
                <a:lnTo>
                  <a:pt x="1408" y="163"/>
                </a:lnTo>
                <a:lnTo>
                  <a:pt x="1408" y="91"/>
                </a:lnTo>
                <a:lnTo>
                  <a:pt x="1408" y="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734080" y="5133960"/>
            <a:ext cx="2330280" cy="363600"/>
          </a:xfrm>
          <a:custGeom>
            <a:avLst/>
            <a:gdLst/>
            <a:ahLst/>
            <a:rect l="l" t="t" r="r" b="b"/>
            <a:pathLst>
              <a:path w="1468" h="229">
                <a:moveTo>
                  <a:pt x="1468" y="114"/>
                </a:moveTo>
                <a:lnTo>
                  <a:pt x="1468" y="114"/>
                </a:lnTo>
                <a:lnTo>
                  <a:pt x="1468" y="127"/>
                </a:lnTo>
                <a:lnTo>
                  <a:pt x="1456" y="139"/>
                </a:lnTo>
                <a:lnTo>
                  <a:pt x="1414" y="157"/>
                </a:lnTo>
                <a:lnTo>
                  <a:pt x="1347" y="181"/>
                </a:lnTo>
                <a:lnTo>
                  <a:pt x="1257" y="193"/>
                </a:lnTo>
                <a:lnTo>
                  <a:pt x="1148" y="211"/>
                </a:lnTo>
                <a:lnTo>
                  <a:pt x="1021" y="217"/>
                </a:lnTo>
                <a:lnTo>
                  <a:pt x="882" y="229"/>
                </a:lnTo>
                <a:lnTo>
                  <a:pt x="737" y="229"/>
                </a:lnTo>
                <a:lnTo>
                  <a:pt x="737" y="229"/>
                </a:lnTo>
                <a:lnTo>
                  <a:pt x="586" y="229"/>
                </a:lnTo>
                <a:lnTo>
                  <a:pt x="447" y="217"/>
                </a:lnTo>
                <a:lnTo>
                  <a:pt x="320" y="211"/>
                </a:lnTo>
                <a:lnTo>
                  <a:pt x="212" y="193"/>
                </a:lnTo>
                <a:lnTo>
                  <a:pt x="121" y="181"/>
                </a:lnTo>
                <a:lnTo>
                  <a:pt x="54" y="157"/>
                </a:lnTo>
                <a:lnTo>
                  <a:pt x="12" y="139"/>
                </a:lnTo>
                <a:lnTo>
                  <a:pt x="0" y="127"/>
                </a:lnTo>
                <a:lnTo>
                  <a:pt x="0" y="114"/>
                </a:lnTo>
                <a:lnTo>
                  <a:pt x="0" y="114"/>
                </a:lnTo>
                <a:lnTo>
                  <a:pt x="0" y="102"/>
                </a:lnTo>
                <a:lnTo>
                  <a:pt x="12" y="90"/>
                </a:lnTo>
                <a:lnTo>
                  <a:pt x="54" y="66"/>
                </a:lnTo>
                <a:lnTo>
                  <a:pt x="121" y="48"/>
                </a:lnTo>
                <a:lnTo>
                  <a:pt x="212" y="30"/>
                </a:lnTo>
                <a:lnTo>
                  <a:pt x="320" y="18"/>
                </a:lnTo>
                <a:lnTo>
                  <a:pt x="447" y="6"/>
                </a:lnTo>
                <a:lnTo>
                  <a:pt x="586" y="0"/>
                </a:lnTo>
                <a:lnTo>
                  <a:pt x="737" y="0"/>
                </a:lnTo>
                <a:lnTo>
                  <a:pt x="737" y="0"/>
                </a:lnTo>
                <a:lnTo>
                  <a:pt x="882" y="0"/>
                </a:lnTo>
                <a:lnTo>
                  <a:pt x="1021" y="6"/>
                </a:lnTo>
                <a:lnTo>
                  <a:pt x="1148" y="18"/>
                </a:lnTo>
                <a:lnTo>
                  <a:pt x="1257" y="30"/>
                </a:lnTo>
                <a:lnTo>
                  <a:pt x="1347" y="48"/>
                </a:lnTo>
                <a:lnTo>
                  <a:pt x="1414" y="66"/>
                </a:lnTo>
                <a:lnTo>
                  <a:pt x="1456" y="90"/>
                </a:lnTo>
                <a:lnTo>
                  <a:pt x="1468" y="102"/>
                </a:lnTo>
                <a:lnTo>
                  <a:pt x="1468" y="114"/>
                </a:lnTo>
                <a:lnTo>
                  <a:pt x="1468" y="1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865840" y="2098800"/>
            <a:ext cx="1562040" cy="123840"/>
          </a:xfrm>
          <a:custGeom>
            <a:avLst/>
            <a:gdLst/>
            <a:ahLst/>
            <a:rect l="l" t="t" r="r" b="b"/>
            <a:pathLst>
              <a:path w="984" h="78">
                <a:moveTo>
                  <a:pt x="24" y="0"/>
                </a:moveTo>
                <a:lnTo>
                  <a:pt x="24" y="0"/>
                </a:lnTo>
                <a:lnTo>
                  <a:pt x="96" y="18"/>
                </a:lnTo>
                <a:lnTo>
                  <a:pt x="181" y="30"/>
                </a:lnTo>
                <a:lnTo>
                  <a:pt x="302" y="42"/>
                </a:lnTo>
                <a:lnTo>
                  <a:pt x="441" y="54"/>
                </a:lnTo>
                <a:lnTo>
                  <a:pt x="604" y="60"/>
                </a:lnTo>
                <a:lnTo>
                  <a:pt x="785" y="60"/>
                </a:lnTo>
                <a:lnTo>
                  <a:pt x="984" y="54"/>
                </a:lnTo>
                <a:lnTo>
                  <a:pt x="984" y="54"/>
                </a:lnTo>
                <a:lnTo>
                  <a:pt x="894" y="60"/>
                </a:lnTo>
                <a:lnTo>
                  <a:pt x="797" y="72"/>
                </a:lnTo>
                <a:lnTo>
                  <a:pt x="670" y="78"/>
                </a:lnTo>
                <a:lnTo>
                  <a:pt x="519" y="78"/>
                </a:lnTo>
                <a:lnTo>
                  <a:pt x="350" y="72"/>
                </a:lnTo>
                <a:lnTo>
                  <a:pt x="175" y="54"/>
                </a:lnTo>
                <a:lnTo>
                  <a:pt x="90" y="42"/>
                </a:lnTo>
                <a:lnTo>
                  <a:pt x="0" y="24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946840" y="4746600"/>
            <a:ext cx="1812960" cy="325440"/>
          </a:xfrm>
          <a:custGeom>
            <a:avLst/>
            <a:gdLst/>
            <a:ahLst/>
            <a:rect l="l" t="t" r="r" b="b"/>
            <a:pathLst>
              <a:path w="1142" h="205">
                <a:moveTo>
                  <a:pt x="0" y="205"/>
                </a:moveTo>
                <a:lnTo>
                  <a:pt x="0" y="205"/>
                </a:lnTo>
                <a:lnTo>
                  <a:pt x="0" y="145"/>
                </a:lnTo>
                <a:lnTo>
                  <a:pt x="6" y="91"/>
                </a:lnTo>
                <a:lnTo>
                  <a:pt x="12" y="42"/>
                </a:lnTo>
                <a:lnTo>
                  <a:pt x="12" y="42"/>
                </a:lnTo>
                <a:lnTo>
                  <a:pt x="103" y="24"/>
                </a:lnTo>
                <a:lnTo>
                  <a:pt x="205" y="12"/>
                </a:lnTo>
                <a:lnTo>
                  <a:pt x="338" y="6"/>
                </a:lnTo>
                <a:lnTo>
                  <a:pt x="508" y="0"/>
                </a:lnTo>
                <a:lnTo>
                  <a:pt x="598" y="6"/>
                </a:lnTo>
                <a:lnTo>
                  <a:pt x="701" y="18"/>
                </a:lnTo>
                <a:lnTo>
                  <a:pt x="804" y="30"/>
                </a:lnTo>
                <a:lnTo>
                  <a:pt x="912" y="48"/>
                </a:lnTo>
                <a:lnTo>
                  <a:pt x="1027" y="72"/>
                </a:lnTo>
                <a:lnTo>
                  <a:pt x="1131" y="102"/>
                </a:lnTo>
                <a:lnTo>
                  <a:pt x="1142" y="199"/>
                </a:lnTo>
                <a:lnTo>
                  <a:pt x="1142" y="199"/>
                </a:lnTo>
                <a:lnTo>
                  <a:pt x="1045" y="187"/>
                </a:lnTo>
                <a:lnTo>
                  <a:pt x="936" y="175"/>
                </a:lnTo>
                <a:lnTo>
                  <a:pt x="791" y="163"/>
                </a:lnTo>
                <a:lnTo>
                  <a:pt x="616" y="163"/>
                </a:lnTo>
                <a:lnTo>
                  <a:pt x="423" y="163"/>
                </a:lnTo>
                <a:lnTo>
                  <a:pt x="218" y="175"/>
                </a:lnTo>
                <a:lnTo>
                  <a:pt x="109" y="187"/>
                </a:lnTo>
                <a:lnTo>
                  <a:pt x="0" y="205"/>
                </a:lnTo>
                <a:lnTo>
                  <a:pt x="0" y="2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02280" y="4786200"/>
            <a:ext cx="1717560" cy="250920"/>
          </a:xfrm>
          <a:custGeom>
            <a:avLst/>
            <a:gdLst/>
            <a:ahLst/>
            <a:rect l="l" t="t" r="r" b="b"/>
            <a:pathLst>
              <a:path w="1082" h="157">
                <a:moveTo>
                  <a:pt x="6" y="151"/>
                </a:moveTo>
                <a:lnTo>
                  <a:pt x="6" y="151"/>
                </a:lnTo>
                <a:lnTo>
                  <a:pt x="0" y="115"/>
                </a:lnTo>
                <a:lnTo>
                  <a:pt x="6" y="73"/>
                </a:lnTo>
                <a:lnTo>
                  <a:pt x="12" y="36"/>
                </a:lnTo>
                <a:lnTo>
                  <a:pt x="12" y="36"/>
                </a:lnTo>
                <a:lnTo>
                  <a:pt x="97" y="24"/>
                </a:lnTo>
                <a:lnTo>
                  <a:pt x="194" y="12"/>
                </a:lnTo>
                <a:lnTo>
                  <a:pt x="320" y="0"/>
                </a:lnTo>
                <a:lnTo>
                  <a:pt x="484" y="0"/>
                </a:lnTo>
                <a:lnTo>
                  <a:pt x="665" y="12"/>
                </a:lnTo>
                <a:lnTo>
                  <a:pt x="761" y="24"/>
                </a:lnTo>
                <a:lnTo>
                  <a:pt x="864" y="36"/>
                </a:lnTo>
                <a:lnTo>
                  <a:pt x="973" y="61"/>
                </a:lnTo>
                <a:lnTo>
                  <a:pt x="1082" y="85"/>
                </a:lnTo>
                <a:lnTo>
                  <a:pt x="1082" y="157"/>
                </a:lnTo>
                <a:lnTo>
                  <a:pt x="1082" y="157"/>
                </a:lnTo>
                <a:lnTo>
                  <a:pt x="991" y="145"/>
                </a:lnTo>
                <a:lnTo>
                  <a:pt x="888" y="133"/>
                </a:lnTo>
                <a:lnTo>
                  <a:pt x="749" y="127"/>
                </a:lnTo>
                <a:lnTo>
                  <a:pt x="586" y="121"/>
                </a:lnTo>
                <a:lnTo>
                  <a:pt x="405" y="121"/>
                </a:lnTo>
                <a:lnTo>
                  <a:pt x="212" y="133"/>
                </a:lnTo>
                <a:lnTo>
                  <a:pt x="109" y="139"/>
                </a:lnTo>
                <a:lnTo>
                  <a:pt x="6" y="151"/>
                </a:lnTo>
                <a:lnTo>
                  <a:pt x="6" y="151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89600" y="3618000"/>
            <a:ext cx="47880" cy="47520"/>
          </a:xfrm>
          <a:custGeom>
            <a:avLst/>
            <a:gdLst/>
            <a:ahLst/>
            <a:rect l="l" t="t" r="r" b="b"/>
            <a:pathLst>
              <a:path w="30" h="30">
                <a:moveTo>
                  <a:pt x="30" y="18"/>
                </a:moveTo>
                <a:lnTo>
                  <a:pt x="30" y="18"/>
                </a:lnTo>
                <a:lnTo>
                  <a:pt x="24" y="30"/>
                </a:lnTo>
                <a:lnTo>
                  <a:pt x="18" y="30"/>
                </a:lnTo>
                <a:lnTo>
                  <a:pt x="18" y="30"/>
                </a:lnTo>
                <a:lnTo>
                  <a:pt x="6" y="30"/>
                </a:lnTo>
                <a:lnTo>
                  <a:pt x="0" y="18"/>
                </a:lnTo>
                <a:lnTo>
                  <a:pt x="0" y="18"/>
                </a:lnTo>
                <a:lnTo>
                  <a:pt x="6" y="6"/>
                </a:lnTo>
                <a:lnTo>
                  <a:pt x="18" y="0"/>
                </a:lnTo>
                <a:lnTo>
                  <a:pt x="18" y="0"/>
                </a:lnTo>
                <a:lnTo>
                  <a:pt x="24" y="6"/>
                </a:lnTo>
                <a:lnTo>
                  <a:pt x="30" y="18"/>
                </a:lnTo>
                <a:lnTo>
                  <a:pt x="3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85000" y="3753000"/>
            <a:ext cx="47520" cy="56880"/>
          </a:xfrm>
          <a:custGeom>
            <a:avLst/>
            <a:gdLst/>
            <a:ahLst/>
            <a:rect l="l" t="t" r="r" b="b"/>
            <a:pathLst>
              <a:path w="30" h="36">
                <a:moveTo>
                  <a:pt x="30" y="18"/>
                </a:moveTo>
                <a:lnTo>
                  <a:pt x="30" y="18"/>
                </a:lnTo>
                <a:lnTo>
                  <a:pt x="24" y="30"/>
                </a:lnTo>
                <a:lnTo>
                  <a:pt x="18" y="36"/>
                </a:lnTo>
                <a:lnTo>
                  <a:pt x="18" y="36"/>
                </a:lnTo>
                <a:lnTo>
                  <a:pt x="6" y="30"/>
                </a:lnTo>
                <a:lnTo>
                  <a:pt x="0" y="18"/>
                </a:lnTo>
                <a:lnTo>
                  <a:pt x="0" y="18"/>
                </a:lnTo>
                <a:lnTo>
                  <a:pt x="6" y="6"/>
                </a:lnTo>
                <a:lnTo>
                  <a:pt x="18" y="0"/>
                </a:lnTo>
                <a:lnTo>
                  <a:pt x="18" y="0"/>
                </a:lnTo>
                <a:lnTo>
                  <a:pt x="24" y="6"/>
                </a:lnTo>
                <a:lnTo>
                  <a:pt x="30" y="18"/>
                </a:lnTo>
                <a:lnTo>
                  <a:pt x="3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46840" y="3790800"/>
            <a:ext cx="47520" cy="57240"/>
          </a:xfrm>
          <a:custGeom>
            <a:avLst/>
            <a:gdLst/>
            <a:ahLst/>
            <a:rect l="l" t="t" r="r" b="b"/>
            <a:pathLst>
              <a:path w="30" h="36">
                <a:moveTo>
                  <a:pt x="30" y="18"/>
                </a:moveTo>
                <a:lnTo>
                  <a:pt x="30" y="18"/>
                </a:lnTo>
                <a:lnTo>
                  <a:pt x="24" y="30"/>
                </a:lnTo>
                <a:lnTo>
                  <a:pt x="12" y="36"/>
                </a:lnTo>
                <a:lnTo>
                  <a:pt x="12" y="36"/>
                </a:lnTo>
                <a:lnTo>
                  <a:pt x="6" y="30"/>
                </a:lnTo>
                <a:lnTo>
                  <a:pt x="0" y="18"/>
                </a:lnTo>
                <a:lnTo>
                  <a:pt x="0" y="18"/>
                </a:lnTo>
                <a:lnTo>
                  <a:pt x="6" y="6"/>
                </a:lnTo>
                <a:lnTo>
                  <a:pt x="12" y="0"/>
                </a:lnTo>
                <a:lnTo>
                  <a:pt x="12" y="0"/>
                </a:lnTo>
                <a:lnTo>
                  <a:pt x="24" y="6"/>
                </a:lnTo>
                <a:lnTo>
                  <a:pt x="30" y="18"/>
                </a:lnTo>
                <a:lnTo>
                  <a:pt x="3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75640" y="3933720"/>
            <a:ext cx="47520" cy="58680"/>
          </a:xfrm>
          <a:custGeom>
            <a:avLst/>
            <a:gdLst/>
            <a:ahLst/>
            <a:rect l="l" t="t" r="r" b="b"/>
            <a:pathLst>
              <a:path w="30" h="37">
                <a:moveTo>
                  <a:pt x="30" y="19"/>
                </a:moveTo>
                <a:lnTo>
                  <a:pt x="30" y="19"/>
                </a:lnTo>
                <a:lnTo>
                  <a:pt x="24" y="31"/>
                </a:lnTo>
                <a:lnTo>
                  <a:pt x="12" y="37"/>
                </a:lnTo>
                <a:lnTo>
                  <a:pt x="12" y="37"/>
                </a:lnTo>
                <a:lnTo>
                  <a:pt x="0" y="31"/>
                </a:lnTo>
                <a:lnTo>
                  <a:pt x="0" y="19"/>
                </a:lnTo>
                <a:lnTo>
                  <a:pt x="0" y="19"/>
                </a:lnTo>
                <a:lnTo>
                  <a:pt x="0" y="7"/>
                </a:lnTo>
                <a:lnTo>
                  <a:pt x="12" y="0"/>
                </a:lnTo>
                <a:lnTo>
                  <a:pt x="12" y="0"/>
                </a:lnTo>
                <a:lnTo>
                  <a:pt x="24" y="7"/>
                </a:lnTo>
                <a:lnTo>
                  <a:pt x="30" y="19"/>
                </a:lnTo>
                <a:lnTo>
                  <a:pt x="30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70520" y="4557600"/>
            <a:ext cx="47880" cy="57240"/>
          </a:xfrm>
          <a:custGeom>
            <a:avLst/>
            <a:gdLst/>
            <a:ahLst/>
            <a:rect l="l" t="t" r="r" b="b"/>
            <a:pathLst>
              <a:path w="30" h="36">
                <a:moveTo>
                  <a:pt x="30" y="18"/>
                </a:moveTo>
                <a:lnTo>
                  <a:pt x="30" y="18"/>
                </a:lnTo>
                <a:lnTo>
                  <a:pt x="24" y="30"/>
                </a:lnTo>
                <a:lnTo>
                  <a:pt x="12" y="36"/>
                </a:lnTo>
                <a:lnTo>
                  <a:pt x="12" y="36"/>
                </a:lnTo>
                <a:lnTo>
                  <a:pt x="6" y="30"/>
                </a:lnTo>
                <a:lnTo>
                  <a:pt x="0" y="18"/>
                </a:lnTo>
                <a:lnTo>
                  <a:pt x="0" y="18"/>
                </a:lnTo>
                <a:lnTo>
                  <a:pt x="6" y="6"/>
                </a:lnTo>
                <a:lnTo>
                  <a:pt x="12" y="0"/>
                </a:lnTo>
                <a:lnTo>
                  <a:pt x="12" y="0"/>
                </a:lnTo>
                <a:lnTo>
                  <a:pt x="24" y="6"/>
                </a:lnTo>
                <a:lnTo>
                  <a:pt x="30" y="18"/>
                </a:lnTo>
                <a:lnTo>
                  <a:pt x="3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04080" y="4624560"/>
            <a:ext cx="47520" cy="58680"/>
          </a:xfrm>
          <a:custGeom>
            <a:avLst/>
            <a:gdLst/>
            <a:ahLst/>
            <a:rect l="l" t="t" r="r" b="b"/>
            <a:pathLst>
              <a:path w="30" h="37">
                <a:moveTo>
                  <a:pt x="30" y="19"/>
                </a:moveTo>
                <a:lnTo>
                  <a:pt x="30" y="19"/>
                </a:lnTo>
                <a:lnTo>
                  <a:pt x="24" y="31"/>
                </a:lnTo>
                <a:lnTo>
                  <a:pt x="12" y="37"/>
                </a:lnTo>
                <a:lnTo>
                  <a:pt x="12" y="37"/>
                </a:lnTo>
                <a:lnTo>
                  <a:pt x="0" y="31"/>
                </a:lnTo>
                <a:lnTo>
                  <a:pt x="0" y="19"/>
                </a:lnTo>
                <a:lnTo>
                  <a:pt x="0" y="19"/>
                </a:lnTo>
                <a:lnTo>
                  <a:pt x="0" y="6"/>
                </a:lnTo>
                <a:lnTo>
                  <a:pt x="12" y="0"/>
                </a:lnTo>
                <a:lnTo>
                  <a:pt x="12" y="0"/>
                </a:lnTo>
                <a:lnTo>
                  <a:pt x="24" y="6"/>
                </a:lnTo>
                <a:lnTo>
                  <a:pt x="30" y="19"/>
                </a:lnTo>
                <a:lnTo>
                  <a:pt x="30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37480" y="4654440"/>
            <a:ext cx="47520" cy="47880"/>
          </a:xfrm>
          <a:custGeom>
            <a:avLst/>
            <a:gdLst/>
            <a:ahLst/>
            <a:rect l="l" t="t" r="r" b="b"/>
            <a:pathLst>
              <a:path w="30" h="30">
                <a:moveTo>
                  <a:pt x="30" y="18"/>
                </a:moveTo>
                <a:lnTo>
                  <a:pt x="30" y="18"/>
                </a:lnTo>
                <a:lnTo>
                  <a:pt x="24" y="30"/>
                </a:lnTo>
                <a:lnTo>
                  <a:pt x="18" y="30"/>
                </a:lnTo>
                <a:lnTo>
                  <a:pt x="18" y="30"/>
                </a:lnTo>
                <a:lnTo>
                  <a:pt x="6" y="30"/>
                </a:lnTo>
                <a:lnTo>
                  <a:pt x="0" y="18"/>
                </a:lnTo>
                <a:lnTo>
                  <a:pt x="0" y="18"/>
                </a:lnTo>
                <a:lnTo>
                  <a:pt x="6" y="6"/>
                </a:lnTo>
                <a:lnTo>
                  <a:pt x="18" y="0"/>
                </a:lnTo>
                <a:lnTo>
                  <a:pt x="18" y="0"/>
                </a:lnTo>
                <a:lnTo>
                  <a:pt x="24" y="6"/>
                </a:lnTo>
                <a:lnTo>
                  <a:pt x="30" y="18"/>
                </a:lnTo>
                <a:lnTo>
                  <a:pt x="3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6560" y="3560760"/>
            <a:ext cx="37800" cy="57240"/>
          </a:xfrm>
          <a:custGeom>
            <a:avLst/>
            <a:gdLst/>
            <a:ahLst/>
            <a:rect l="l" t="t" r="r" b="b"/>
            <a:pathLst>
              <a:path w="24" h="36">
                <a:moveTo>
                  <a:pt x="24" y="18"/>
                </a:moveTo>
                <a:lnTo>
                  <a:pt x="24" y="18"/>
                </a:lnTo>
                <a:lnTo>
                  <a:pt x="24" y="30"/>
                </a:lnTo>
                <a:lnTo>
                  <a:pt x="12" y="36"/>
                </a:lnTo>
                <a:lnTo>
                  <a:pt x="12" y="36"/>
                </a:lnTo>
                <a:lnTo>
                  <a:pt x="0" y="30"/>
                </a:lnTo>
                <a:lnTo>
                  <a:pt x="0" y="18"/>
                </a:lnTo>
                <a:lnTo>
                  <a:pt x="0" y="18"/>
                </a:lnTo>
                <a:lnTo>
                  <a:pt x="0" y="6"/>
                </a:lnTo>
                <a:lnTo>
                  <a:pt x="12" y="0"/>
                </a:lnTo>
                <a:lnTo>
                  <a:pt x="12" y="0"/>
                </a:lnTo>
                <a:lnTo>
                  <a:pt x="24" y="6"/>
                </a:lnTo>
                <a:lnTo>
                  <a:pt x="24" y="18"/>
                </a:lnTo>
                <a:lnTo>
                  <a:pt x="24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77240" y="2879640"/>
            <a:ext cx="47520" cy="57240"/>
          </a:xfrm>
          <a:custGeom>
            <a:avLst/>
            <a:gdLst/>
            <a:ahLst/>
            <a:rect l="l" t="t" r="r" b="b"/>
            <a:pathLst>
              <a:path w="30" h="36">
                <a:moveTo>
                  <a:pt x="30" y="18"/>
                </a:moveTo>
                <a:lnTo>
                  <a:pt x="30" y="18"/>
                </a:lnTo>
                <a:lnTo>
                  <a:pt x="30" y="30"/>
                </a:lnTo>
                <a:lnTo>
                  <a:pt x="18" y="36"/>
                </a:lnTo>
                <a:lnTo>
                  <a:pt x="18" y="36"/>
                </a:lnTo>
                <a:lnTo>
                  <a:pt x="6" y="30"/>
                </a:lnTo>
                <a:lnTo>
                  <a:pt x="0" y="18"/>
                </a:lnTo>
                <a:lnTo>
                  <a:pt x="0" y="18"/>
                </a:lnTo>
                <a:lnTo>
                  <a:pt x="6" y="6"/>
                </a:lnTo>
                <a:lnTo>
                  <a:pt x="18" y="0"/>
                </a:lnTo>
                <a:lnTo>
                  <a:pt x="18" y="0"/>
                </a:lnTo>
                <a:lnTo>
                  <a:pt x="30" y="6"/>
                </a:lnTo>
                <a:lnTo>
                  <a:pt x="30" y="18"/>
                </a:lnTo>
                <a:lnTo>
                  <a:pt x="3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37120" y="4564080"/>
            <a:ext cx="1812960" cy="498600"/>
          </a:xfrm>
          <a:custGeom>
            <a:avLst/>
            <a:gdLst/>
            <a:ahLst/>
            <a:rect l="l" t="t" r="r" b="b"/>
            <a:pathLst>
              <a:path w="1142" h="314">
                <a:moveTo>
                  <a:pt x="0" y="314"/>
                </a:moveTo>
                <a:lnTo>
                  <a:pt x="0" y="314"/>
                </a:lnTo>
                <a:lnTo>
                  <a:pt x="0" y="222"/>
                </a:lnTo>
                <a:lnTo>
                  <a:pt x="6" y="139"/>
                </a:lnTo>
                <a:lnTo>
                  <a:pt x="24" y="53"/>
                </a:lnTo>
                <a:lnTo>
                  <a:pt x="12" y="64"/>
                </a:lnTo>
                <a:lnTo>
                  <a:pt x="103" y="37"/>
                </a:lnTo>
                <a:lnTo>
                  <a:pt x="205" y="18"/>
                </a:lnTo>
                <a:lnTo>
                  <a:pt x="338" y="9"/>
                </a:lnTo>
                <a:lnTo>
                  <a:pt x="508" y="0"/>
                </a:lnTo>
                <a:lnTo>
                  <a:pt x="598" y="9"/>
                </a:lnTo>
                <a:lnTo>
                  <a:pt x="701" y="28"/>
                </a:lnTo>
                <a:lnTo>
                  <a:pt x="804" y="46"/>
                </a:lnTo>
                <a:lnTo>
                  <a:pt x="912" y="74"/>
                </a:lnTo>
                <a:lnTo>
                  <a:pt x="1027" y="110"/>
                </a:lnTo>
                <a:lnTo>
                  <a:pt x="1142" y="167"/>
                </a:lnTo>
                <a:lnTo>
                  <a:pt x="1142" y="305"/>
                </a:lnTo>
                <a:lnTo>
                  <a:pt x="1142" y="305"/>
                </a:lnTo>
                <a:lnTo>
                  <a:pt x="1024" y="156"/>
                </a:lnTo>
                <a:lnTo>
                  <a:pt x="887" y="127"/>
                </a:lnTo>
                <a:lnTo>
                  <a:pt x="693" y="94"/>
                </a:lnTo>
                <a:lnTo>
                  <a:pt x="436" y="82"/>
                </a:lnTo>
                <a:lnTo>
                  <a:pt x="373" y="84"/>
                </a:lnTo>
                <a:lnTo>
                  <a:pt x="287" y="65"/>
                </a:lnTo>
                <a:lnTo>
                  <a:pt x="217" y="70"/>
                </a:lnTo>
                <a:lnTo>
                  <a:pt x="162" y="84"/>
                </a:lnTo>
                <a:lnTo>
                  <a:pt x="45" y="106"/>
                </a:lnTo>
                <a:lnTo>
                  <a:pt x="40" y="288"/>
                </a:lnTo>
                <a:lnTo>
                  <a:pt x="0" y="314"/>
                </a:lnTo>
                <a:lnTo>
                  <a:pt x="0" y="3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02480" y="5335560"/>
            <a:ext cx="307800" cy="57240"/>
          </a:xfrm>
          <a:custGeom>
            <a:avLst/>
            <a:gdLst/>
            <a:ahLst/>
            <a:rect l="l" t="t" r="r" b="b"/>
            <a:pathLst>
              <a:path w="194" h="36">
                <a:moveTo>
                  <a:pt x="49" y="36"/>
                </a:moveTo>
                <a:lnTo>
                  <a:pt x="49" y="36"/>
                </a:lnTo>
                <a:lnTo>
                  <a:pt x="97" y="18"/>
                </a:lnTo>
                <a:lnTo>
                  <a:pt x="139" y="6"/>
                </a:lnTo>
                <a:lnTo>
                  <a:pt x="194" y="6"/>
                </a:lnTo>
                <a:lnTo>
                  <a:pt x="194" y="6"/>
                </a:lnTo>
                <a:lnTo>
                  <a:pt x="169" y="0"/>
                </a:lnTo>
                <a:lnTo>
                  <a:pt x="115" y="0"/>
                </a:lnTo>
                <a:lnTo>
                  <a:pt x="79" y="0"/>
                </a:lnTo>
                <a:lnTo>
                  <a:pt x="49" y="6"/>
                </a:lnTo>
                <a:lnTo>
                  <a:pt x="24" y="18"/>
                </a:lnTo>
                <a:lnTo>
                  <a:pt x="0" y="36"/>
                </a:lnTo>
                <a:lnTo>
                  <a:pt x="49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635880" y="5267160"/>
            <a:ext cx="249120" cy="182880"/>
          </a:xfrm>
          <a:custGeom>
            <a:avLst/>
            <a:gdLst/>
            <a:ahLst/>
            <a:rect l="l" t="t" r="r" b="b"/>
            <a:pathLst>
              <a:path w="157" h="115">
                <a:moveTo>
                  <a:pt x="42" y="97"/>
                </a:moveTo>
                <a:lnTo>
                  <a:pt x="42" y="97"/>
                </a:lnTo>
                <a:lnTo>
                  <a:pt x="79" y="61"/>
                </a:lnTo>
                <a:lnTo>
                  <a:pt x="115" y="30"/>
                </a:lnTo>
                <a:lnTo>
                  <a:pt x="157" y="0"/>
                </a:lnTo>
                <a:lnTo>
                  <a:pt x="157" y="0"/>
                </a:lnTo>
                <a:lnTo>
                  <a:pt x="139" y="6"/>
                </a:lnTo>
                <a:lnTo>
                  <a:pt x="85" y="30"/>
                </a:lnTo>
                <a:lnTo>
                  <a:pt x="60" y="49"/>
                </a:lnTo>
                <a:lnTo>
                  <a:pt x="30" y="67"/>
                </a:lnTo>
                <a:lnTo>
                  <a:pt x="12" y="91"/>
                </a:lnTo>
                <a:lnTo>
                  <a:pt x="0" y="115"/>
                </a:lnTo>
                <a:lnTo>
                  <a:pt x="42" y="9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97600" y="4594320"/>
            <a:ext cx="1722240" cy="452520"/>
          </a:xfrm>
          <a:custGeom>
            <a:avLst/>
            <a:gdLst/>
            <a:ahLst/>
            <a:rect l="l" t="t" r="r" b="b"/>
            <a:pathLst>
              <a:path w="1085" h="285">
                <a:moveTo>
                  <a:pt x="9" y="285"/>
                </a:moveTo>
                <a:lnTo>
                  <a:pt x="9" y="285"/>
                </a:lnTo>
                <a:lnTo>
                  <a:pt x="3" y="217"/>
                </a:lnTo>
                <a:lnTo>
                  <a:pt x="0" y="131"/>
                </a:lnTo>
                <a:lnTo>
                  <a:pt x="15" y="68"/>
                </a:lnTo>
                <a:lnTo>
                  <a:pt x="15" y="68"/>
                </a:lnTo>
                <a:lnTo>
                  <a:pt x="100" y="45"/>
                </a:lnTo>
                <a:lnTo>
                  <a:pt x="197" y="23"/>
                </a:lnTo>
                <a:lnTo>
                  <a:pt x="334" y="7"/>
                </a:lnTo>
                <a:lnTo>
                  <a:pt x="487" y="0"/>
                </a:lnTo>
                <a:lnTo>
                  <a:pt x="668" y="23"/>
                </a:lnTo>
                <a:lnTo>
                  <a:pt x="764" y="45"/>
                </a:lnTo>
                <a:lnTo>
                  <a:pt x="867" y="68"/>
                </a:lnTo>
                <a:lnTo>
                  <a:pt x="976" y="115"/>
                </a:lnTo>
                <a:lnTo>
                  <a:pt x="1085" y="160"/>
                </a:lnTo>
                <a:lnTo>
                  <a:pt x="1084" y="280"/>
                </a:lnTo>
                <a:lnTo>
                  <a:pt x="991" y="267"/>
                </a:lnTo>
                <a:lnTo>
                  <a:pt x="891" y="251"/>
                </a:lnTo>
                <a:lnTo>
                  <a:pt x="752" y="239"/>
                </a:lnTo>
                <a:lnTo>
                  <a:pt x="589" y="228"/>
                </a:lnTo>
                <a:lnTo>
                  <a:pt x="408" y="228"/>
                </a:lnTo>
                <a:lnTo>
                  <a:pt x="215" y="251"/>
                </a:lnTo>
                <a:lnTo>
                  <a:pt x="112" y="262"/>
                </a:lnTo>
                <a:lnTo>
                  <a:pt x="9" y="285"/>
                </a:lnTo>
                <a:lnTo>
                  <a:pt x="9" y="285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24760" y="4854600"/>
            <a:ext cx="47520" cy="58680"/>
          </a:xfrm>
          <a:custGeom>
            <a:avLst/>
            <a:gdLst/>
            <a:ahLst/>
            <a:rect l="l" t="t" r="r" b="b"/>
            <a:pathLst>
              <a:path w="30" h="37">
                <a:moveTo>
                  <a:pt x="30" y="19"/>
                </a:moveTo>
                <a:lnTo>
                  <a:pt x="30" y="19"/>
                </a:lnTo>
                <a:lnTo>
                  <a:pt x="24" y="31"/>
                </a:lnTo>
                <a:lnTo>
                  <a:pt x="12" y="37"/>
                </a:lnTo>
                <a:lnTo>
                  <a:pt x="12" y="37"/>
                </a:lnTo>
                <a:lnTo>
                  <a:pt x="0" y="31"/>
                </a:lnTo>
                <a:lnTo>
                  <a:pt x="0" y="19"/>
                </a:lnTo>
                <a:lnTo>
                  <a:pt x="0" y="19"/>
                </a:lnTo>
                <a:lnTo>
                  <a:pt x="0" y="6"/>
                </a:lnTo>
                <a:lnTo>
                  <a:pt x="12" y="0"/>
                </a:lnTo>
                <a:lnTo>
                  <a:pt x="12" y="0"/>
                </a:lnTo>
                <a:lnTo>
                  <a:pt x="24" y="6"/>
                </a:lnTo>
                <a:lnTo>
                  <a:pt x="30" y="19"/>
                </a:lnTo>
                <a:lnTo>
                  <a:pt x="30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213600" y="4903920"/>
            <a:ext cx="47520" cy="56880"/>
          </a:xfrm>
          <a:custGeom>
            <a:avLst/>
            <a:gdLst/>
            <a:ahLst/>
            <a:rect l="l" t="t" r="r" b="b"/>
            <a:pathLst>
              <a:path w="30" h="36">
                <a:moveTo>
                  <a:pt x="30" y="18"/>
                </a:moveTo>
                <a:lnTo>
                  <a:pt x="30" y="18"/>
                </a:lnTo>
                <a:lnTo>
                  <a:pt x="24" y="30"/>
                </a:lnTo>
                <a:lnTo>
                  <a:pt x="12" y="36"/>
                </a:lnTo>
                <a:lnTo>
                  <a:pt x="12" y="36"/>
                </a:lnTo>
                <a:lnTo>
                  <a:pt x="0" y="30"/>
                </a:lnTo>
                <a:lnTo>
                  <a:pt x="0" y="18"/>
                </a:lnTo>
                <a:lnTo>
                  <a:pt x="0" y="18"/>
                </a:lnTo>
                <a:lnTo>
                  <a:pt x="0" y="6"/>
                </a:lnTo>
                <a:lnTo>
                  <a:pt x="12" y="0"/>
                </a:lnTo>
                <a:lnTo>
                  <a:pt x="12" y="0"/>
                </a:lnTo>
                <a:lnTo>
                  <a:pt x="24" y="6"/>
                </a:lnTo>
                <a:lnTo>
                  <a:pt x="30" y="18"/>
                </a:lnTo>
                <a:lnTo>
                  <a:pt x="3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67320" y="4854600"/>
            <a:ext cx="47880" cy="58680"/>
          </a:xfrm>
          <a:custGeom>
            <a:avLst/>
            <a:gdLst/>
            <a:ahLst/>
            <a:rect l="l" t="t" r="r" b="b"/>
            <a:pathLst>
              <a:path w="30" h="37">
                <a:moveTo>
                  <a:pt x="30" y="19"/>
                </a:moveTo>
                <a:lnTo>
                  <a:pt x="30" y="19"/>
                </a:lnTo>
                <a:lnTo>
                  <a:pt x="24" y="31"/>
                </a:lnTo>
                <a:lnTo>
                  <a:pt x="18" y="37"/>
                </a:lnTo>
                <a:lnTo>
                  <a:pt x="18" y="37"/>
                </a:lnTo>
                <a:lnTo>
                  <a:pt x="6" y="31"/>
                </a:lnTo>
                <a:lnTo>
                  <a:pt x="0" y="19"/>
                </a:lnTo>
                <a:lnTo>
                  <a:pt x="0" y="19"/>
                </a:lnTo>
                <a:lnTo>
                  <a:pt x="6" y="6"/>
                </a:lnTo>
                <a:lnTo>
                  <a:pt x="18" y="0"/>
                </a:lnTo>
                <a:lnTo>
                  <a:pt x="18" y="0"/>
                </a:lnTo>
                <a:lnTo>
                  <a:pt x="24" y="6"/>
                </a:lnTo>
                <a:lnTo>
                  <a:pt x="30" y="19"/>
                </a:lnTo>
                <a:lnTo>
                  <a:pt x="30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221520" y="2801880"/>
            <a:ext cx="1233360" cy="658800"/>
            <a:chOff x="6221520" y="2801880"/>
            <a:chExt cx="1233360" cy="658800"/>
          </a:xfrm>
        </p:grpSpPr>
        <p:sp>
          <p:nvSpPr>
            <p:cNvPr id="95" name=""/>
            <p:cNvSpPr/>
            <p:nvPr/>
          </p:nvSpPr>
          <p:spPr>
            <a:xfrm>
              <a:off x="6221520" y="2801880"/>
              <a:ext cx="1233360" cy="658800"/>
            </a:xfrm>
            <a:custGeom>
              <a:avLst/>
              <a:gdLst/>
              <a:ahLst/>
              <a:rect l="l" t="t" r="r" b="b"/>
              <a:pathLst>
                <a:path w="777" h="415">
                  <a:moveTo>
                    <a:pt x="84" y="19"/>
                  </a:moveTo>
                  <a:lnTo>
                    <a:pt x="0" y="29"/>
                  </a:lnTo>
                  <a:lnTo>
                    <a:pt x="72" y="132"/>
                  </a:lnTo>
                  <a:lnTo>
                    <a:pt x="114" y="168"/>
                  </a:lnTo>
                  <a:lnTo>
                    <a:pt x="156" y="204"/>
                  </a:lnTo>
                  <a:lnTo>
                    <a:pt x="156" y="204"/>
                  </a:lnTo>
                  <a:lnTo>
                    <a:pt x="217" y="252"/>
                  </a:lnTo>
                  <a:lnTo>
                    <a:pt x="283" y="319"/>
                  </a:lnTo>
                  <a:lnTo>
                    <a:pt x="356" y="397"/>
                  </a:lnTo>
                  <a:lnTo>
                    <a:pt x="356" y="397"/>
                  </a:lnTo>
                  <a:lnTo>
                    <a:pt x="368" y="403"/>
                  </a:lnTo>
                  <a:lnTo>
                    <a:pt x="398" y="409"/>
                  </a:lnTo>
                  <a:lnTo>
                    <a:pt x="416" y="415"/>
                  </a:lnTo>
                  <a:lnTo>
                    <a:pt x="434" y="415"/>
                  </a:lnTo>
                  <a:lnTo>
                    <a:pt x="452" y="409"/>
                  </a:lnTo>
                  <a:lnTo>
                    <a:pt x="470" y="397"/>
                  </a:lnTo>
                  <a:lnTo>
                    <a:pt x="470" y="397"/>
                  </a:lnTo>
                  <a:lnTo>
                    <a:pt x="567" y="289"/>
                  </a:lnTo>
                  <a:lnTo>
                    <a:pt x="621" y="228"/>
                  </a:lnTo>
                  <a:lnTo>
                    <a:pt x="682" y="168"/>
                  </a:lnTo>
                  <a:lnTo>
                    <a:pt x="682" y="168"/>
                  </a:lnTo>
                  <a:lnTo>
                    <a:pt x="736" y="119"/>
                  </a:lnTo>
                  <a:lnTo>
                    <a:pt x="777" y="46"/>
                  </a:lnTo>
                  <a:lnTo>
                    <a:pt x="732" y="39"/>
                  </a:lnTo>
                  <a:lnTo>
                    <a:pt x="542" y="3"/>
                  </a:lnTo>
                  <a:lnTo>
                    <a:pt x="326" y="0"/>
                  </a:lnTo>
                  <a:lnTo>
                    <a:pt x="216" y="0"/>
                  </a:lnTo>
                  <a:lnTo>
                    <a:pt x="84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300720" y="2841840"/>
              <a:ext cx="1108080" cy="560160"/>
            </a:xfrm>
            <a:custGeom>
              <a:avLst/>
              <a:gdLst/>
              <a:ahLst/>
              <a:rect l="l" t="t" r="r" b="b"/>
              <a:pathLst>
                <a:path w="698" h="353">
                  <a:moveTo>
                    <a:pt x="16" y="57"/>
                  </a:moveTo>
                  <a:lnTo>
                    <a:pt x="70" y="118"/>
                  </a:lnTo>
                  <a:lnTo>
                    <a:pt x="112" y="148"/>
                  </a:lnTo>
                  <a:lnTo>
                    <a:pt x="155" y="178"/>
                  </a:lnTo>
                  <a:lnTo>
                    <a:pt x="155" y="178"/>
                  </a:lnTo>
                  <a:lnTo>
                    <a:pt x="203" y="220"/>
                  </a:lnTo>
                  <a:lnTo>
                    <a:pt x="257" y="269"/>
                  </a:lnTo>
                  <a:lnTo>
                    <a:pt x="318" y="341"/>
                  </a:lnTo>
                  <a:lnTo>
                    <a:pt x="318" y="341"/>
                  </a:lnTo>
                  <a:lnTo>
                    <a:pt x="324" y="347"/>
                  </a:lnTo>
                  <a:lnTo>
                    <a:pt x="348" y="353"/>
                  </a:lnTo>
                  <a:lnTo>
                    <a:pt x="378" y="353"/>
                  </a:lnTo>
                  <a:lnTo>
                    <a:pt x="390" y="353"/>
                  </a:lnTo>
                  <a:lnTo>
                    <a:pt x="408" y="341"/>
                  </a:lnTo>
                  <a:lnTo>
                    <a:pt x="408" y="341"/>
                  </a:lnTo>
                  <a:lnTo>
                    <a:pt x="487" y="250"/>
                  </a:lnTo>
                  <a:lnTo>
                    <a:pt x="541" y="202"/>
                  </a:lnTo>
                  <a:lnTo>
                    <a:pt x="596" y="154"/>
                  </a:lnTo>
                  <a:lnTo>
                    <a:pt x="596" y="154"/>
                  </a:lnTo>
                  <a:lnTo>
                    <a:pt x="638" y="124"/>
                  </a:lnTo>
                  <a:lnTo>
                    <a:pt x="668" y="87"/>
                  </a:lnTo>
                  <a:lnTo>
                    <a:pt x="698" y="39"/>
                  </a:lnTo>
                  <a:lnTo>
                    <a:pt x="576" y="28"/>
                  </a:lnTo>
                  <a:lnTo>
                    <a:pt x="477" y="7"/>
                  </a:lnTo>
                  <a:lnTo>
                    <a:pt x="367" y="9"/>
                  </a:lnTo>
                  <a:lnTo>
                    <a:pt x="252" y="0"/>
                  </a:lnTo>
                  <a:lnTo>
                    <a:pt x="175" y="2"/>
                  </a:lnTo>
                  <a:lnTo>
                    <a:pt x="117" y="14"/>
                  </a:lnTo>
                  <a:lnTo>
                    <a:pt x="51" y="16"/>
                  </a:lnTo>
                  <a:lnTo>
                    <a:pt x="0" y="30"/>
                  </a:lnTo>
                  <a:lnTo>
                    <a:pt x="16" y="5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6951600" y="4854600"/>
            <a:ext cx="49320" cy="49320"/>
          </a:xfrm>
          <a:custGeom>
            <a:avLst/>
            <a:gdLst/>
            <a:ahLst/>
            <a:rect l="l" t="t" r="r" b="b"/>
            <a:pathLst>
              <a:path w="31" h="31">
                <a:moveTo>
                  <a:pt x="31" y="13"/>
                </a:moveTo>
                <a:lnTo>
                  <a:pt x="31" y="13"/>
                </a:lnTo>
                <a:lnTo>
                  <a:pt x="31" y="25"/>
                </a:lnTo>
                <a:lnTo>
                  <a:pt x="18" y="31"/>
                </a:lnTo>
                <a:lnTo>
                  <a:pt x="18" y="31"/>
                </a:lnTo>
                <a:lnTo>
                  <a:pt x="6" y="25"/>
                </a:lnTo>
                <a:lnTo>
                  <a:pt x="0" y="13"/>
                </a:lnTo>
                <a:lnTo>
                  <a:pt x="0" y="13"/>
                </a:lnTo>
                <a:lnTo>
                  <a:pt x="6" y="0"/>
                </a:lnTo>
                <a:lnTo>
                  <a:pt x="18" y="0"/>
                </a:lnTo>
                <a:lnTo>
                  <a:pt x="18" y="0"/>
                </a:lnTo>
                <a:lnTo>
                  <a:pt x="31" y="0"/>
                </a:lnTo>
                <a:lnTo>
                  <a:pt x="31" y="13"/>
                </a:lnTo>
                <a:lnTo>
                  <a:pt x="31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56360" y="2678040"/>
            <a:ext cx="1380960" cy="785880"/>
          </a:xfrm>
          <a:custGeom>
            <a:avLst/>
            <a:gdLst/>
            <a:ahLst/>
            <a:rect l="l" t="t" r="r" b="b"/>
            <a:pathLst>
              <a:path w="870" h="495">
                <a:moveTo>
                  <a:pt x="0" y="73"/>
                </a:moveTo>
                <a:lnTo>
                  <a:pt x="0" y="73"/>
                </a:lnTo>
                <a:lnTo>
                  <a:pt x="12" y="91"/>
                </a:lnTo>
                <a:lnTo>
                  <a:pt x="48" y="145"/>
                </a:lnTo>
                <a:lnTo>
                  <a:pt x="109" y="212"/>
                </a:lnTo>
                <a:lnTo>
                  <a:pt x="151" y="248"/>
                </a:lnTo>
                <a:lnTo>
                  <a:pt x="193" y="284"/>
                </a:lnTo>
                <a:lnTo>
                  <a:pt x="193" y="284"/>
                </a:lnTo>
                <a:lnTo>
                  <a:pt x="254" y="332"/>
                </a:lnTo>
                <a:lnTo>
                  <a:pt x="320" y="399"/>
                </a:lnTo>
                <a:lnTo>
                  <a:pt x="393" y="477"/>
                </a:lnTo>
                <a:lnTo>
                  <a:pt x="393" y="477"/>
                </a:lnTo>
                <a:lnTo>
                  <a:pt x="405" y="483"/>
                </a:lnTo>
                <a:lnTo>
                  <a:pt x="435" y="489"/>
                </a:lnTo>
                <a:lnTo>
                  <a:pt x="453" y="495"/>
                </a:lnTo>
                <a:lnTo>
                  <a:pt x="471" y="495"/>
                </a:lnTo>
                <a:lnTo>
                  <a:pt x="489" y="489"/>
                </a:lnTo>
                <a:lnTo>
                  <a:pt x="507" y="477"/>
                </a:lnTo>
                <a:lnTo>
                  <a:pt x="507" y="477"/>
                </a:lnTo>
                <a:lnTo>
                  <a:pt x="604" y="369"/>
                </a:lnTo>
                <a:lnTo>
                  <a:pt x="658" y="308"/>
                </a:lnTo>
                <a:lnTo>
                  <a:pt x="719" y="248"/>
                </a:lnTo>
                <a:lnTo>
                  <a:pt x="719" y="248"/>
                </a:lnTo>
                <a:lnTo>
                  <a:pt x="773" y="199"/>
                </a:lnTo>
                <a:lnTo>
                  <a:pt x="815" y="151"/>
                </a:lnTo>
                <a:lnTo>
                  <a:pt x="846" y="103"/>
                </a:lnTo>
                <a:lnTo>
                  <a:pt x="870" y="60"/>
                </a:lnTo>
                <a:lnTo>
                  <a:pt x="870" y="60"/>
                </a:lnTo>
                <a:lnTo>
                  <a:pt x="791" y="36"/>
                </a:lnTo>
                <a:lnTo>
                  <a:pt x="707" y="18"/>
                </a:lnTo>
                <a:lnTo>
                  <a:pt x="598" y="6"/>
                </a:lnTo>
                <a:lnTo>
                  <a:pt x="471" y="0"/>
                </a:lnTo>
                <a:lnTo>
                  <a:pt x="399" y="0"/>
                </a:lnTo>
                <a:lnTo>
                  <a:pt x="320" y="0"/>
                </a:lnTo>
                <a:lnTo>
                  <a:pt x="242" y="12"/>
                </a:lnTo>
                <a:lnTo>
                  <a:pt x="163" y="24"/>
                </a:lnTo>
                <a:lnTo>
                  <a:pt x="84" y="42"/>
                </a:lnTo>
                <a:lnTo>
                  <a:pt x="0" y="73"/>
                </a:lnTo>
                <a:lnTo>
                  <a:pt x="0" y="7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51400" y="2725560"/>
            <a:ext cx="1189080" cy="671760"/>
          </a:xfrm>
          <a:custGeom>
            <a:avLst/>
            <a:gdLst/>
            <a:ahLst/>
            <a:rect l="l" t="t" r="r" b="b"/>
            <a:pathLst>
              <a:path w="749" h="423">
                <a:moveTo>
                  <a:pt x="0" y="67"/>
                </a:moveTo>
                <a:lnTo>
                  <a:pt x="0" y="67"/>
                </a:lnTo>
                <a:lnTo>
                  <a:pt x="12" y="79"/>
                </a:lnTo>
                <a:lnTo>
                  <a:pt x="43" y="127"/>
                </a:lnTo>
                <a:lnTo>
                  <a:pt x="97" y="188"/>
                </a:lnTo>
                <a:lnTo>
                  <a:pt x="139" y="218"/>
                </a:lnTo>
                <a:lnTo>
                  <a:pt x="182" y="248"/>
                </a:lnTo>
                <a:lnTo>
                  <a:pt x="182" y="248"/>
                </a:lnTo>
                <a:lnTo>
                  <a:pt x="230" y="290"/>
                </a:lnTo>
                <a:lnTo>
                  <a:pt x="284" y="339"/>
                </a:lnTo>
                <a:lnTo>
                  <a:pt x="345" y="411"/>
                </a:lnTo>
                <a:lnTo>
                  <a:pt x="345" y="411"/>
                </a:lnTo>
                <a:lnTo>
                  <a:pt x="351" y="417"/>
                </a:lnTo>
                <a:lnTo>
                  <a:pt x="375" y="423"/>
                </a:lnTo>
                <a:lnTo>
                  <a:pt x="405" y="423"/>
                </a:lnTo>
                <a:lnTo>
                  <a:pt x="417" y="423"/>
                </a:lnTo>
                <a:lnTo>
                  <a:pt x="435" y="411"/>
                </a:lnTo>
                <a:lnTo>
                  <a:pt x="435" y="411"/>
                </a:lnTo>
                <a:lnTo>
                  <a:pt x="514" y="320"/>
                </a:lnTo>
                <a:lnTo>
                  <a:pt x="568" y="272"/>
                </a:lnTo>
                <a:lnTo>
                  <a:pt x="623" y="224"/>
                </a:lnTo>
                <a:lnTo>
                  <a:pt x="623" y="224"/>
                </a:lnTo>
                <a:lnTo>
                  <a:pt x="665" y="194"/>
                </a:lnTo>
                <a:lnTo>
                  <a:pt x="695" y="157"/>
                </a:lnTo>
                <a:lnTo>
                  <a:pt x="725" y="109"/>
                </a:lnTo>
                <a:lnTo>
                  <a:pt x="749" y="55"/>
                </a:lnTo>
                <a:lnTo>
                  <a:pt x="749" y="55"/>
                </a:lnTo>
                <a:lnTo>
                  <a:pt x="683" y="37"/>
                </a:lnTo>
                <a:lnTo>
                  <a:pt x="604" y="18"/>
                </a:lnTo>
                <a:lnTo>
                  <a:pt x="508" y="6"/>
                </a:lnTo>
                <a:lnTo>
                  <a:pt x="393" y="0"/>
                </a:lnTo>
                <a:lnTo>
                  <a:pt x="266" y="6"/>
                </a:lnTo>
                <a:lnTo>
                  <a:pt x="200" y="12"/>
                </a:lnTo>
                <a:lnTo>
                  <a:pt x="133" y="24"/>
                </a:lnTo>
                <a:lnTo>
                  <a:pt x="67" y="43"/>
                </a:lnTo>
                <a:lnTo>
                  <a:pt x="0" y="67"/>
                </a:lnTo>
                <a:lnTo>
                  <a:pt x="0" y="67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32520" y="3233880"/>
            <a:ext cx="38160" cy="58680"/>
          </a:xfrm>
          <a:custGeom>
            <a:avLst/>
            <a:gdLst/>
            <a:ahLst/>
            <a:rect l="l" t="t" r="r" b="b"/>
            <a:pathLst>
              <a:path w="24" h="37">
                <a:moveTo>
                  <a:pt x="24" y="19"/>
                </a:moveTo>
                <a:lnTo>
                  <a:pt x="24" y="19"/>
                </a:lnTo>
                <a:lnTo>
                  <a:pt x="24" y="31"/>
                </a:lnTo>
                <a:lnTo>
                  <a:pt x="12" y="37"/>
                </a:lnTo>
                <a:lnTo>
                  <a:pt x="12" y="37"/>
                </a:lnTo>
                <a:lnTo>
                  <a:pt x="0" y="31"/>
                </a:lnTo>
                <a:lnTo>
                  <a:pt x="0" y="19"/>
                </a:lnTo>
                <a:lnTo>
                  <a:pt x="0" y="19"/>
                </a:lnTo>
                <a:lnTo>
                  <a:pt x="0" y="6"/>
                </a:lnTo>
                <a:lnTo>
                  <a:pt x="12" y="0"/>
                </a:lnTo>
                <a:lnTo>
                  <a:pt x="12" y="0"/>
                </a:lnTo>
                <a:lnTo>
                  <a:pt x="24" y="6"/>
                </a:lnTo>
                <a:lnTo>
                  <a:pt x="24" y="19"/>
                </a:lnTo>
                <a:lnTo>
                  <a:pt x="24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37480" y="3052800"/>
            <a:ext cx="47520" cy="57240"/>
          </a:xfrm>
          <a:custGeom>
            <a:avLst/>
            <a:gdLst/>
            <a:ahLst/>
            <a:rect l="l" t="t" r="r" b="b"/>
            <a:pathLst>
              <a:path w="30" h="36">
                <a:moveTo>
                  <a:pt x="30" y="18"/>
                </a:moveTo>
                <a:lnTo>
                  <a:pt x="30" y="18"/>
                </a:lnTo>
                <a:lnTo>
                  <a:pt x="24" y="30"/>
                </a:lnTo>
                <a:lnTo>
                  <a:pt x="18" y="36"/>
                </a:lnTo>
                <a:lnTo>
                  <a:pt x="18" y="36"/>
                </a:lnTo>
                <a:lnTo>
                  <a:pt x="6" y="30"/>
                </a:lnTo>
                <a:lnTo>
                  <a:pt x="0" y="18"/>
                </a:lnTo>
                <a:lnTo>
                  <a:pt x="0" y="18"/>
                </a:lnTo>
                <a:lnTo>
                  <a:pt x="6" y="6"/>
                </a:lnTo>
                <a:lnTo>
                  <a:pt x="18" y="0"/>
                </a:lnTo>
                <a:lnTo>
                  <a:pt x="18" y="0"/>
                </a:lnTo>
                <a:lnTo>
                  <a:pt x="24" y="6"/>
                </a:lnTo>
                <a:lnTo>
                  <a:pt x="30" y="18"/>
                </a:lnTo>
                <a:lnTo>
                  <a:pt x="3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92760" y="3003480"/>
            <a:ext cx="47880" cy="58680"/>
          </a:xfrm>
          <a:custGeom>
            <a:avLst/>
            <a:gdLst/>
            <a:ahLst/>
            <a:rect l="l" t="t" r="r" b="b"/>
            <a:pathLst>
              <a:path w="30" h="37">
                <a:moveTo>
                  <a:pt x="30" y="19"/>
                </a:moveTo>
                <a:lnTo>
                  <a:pt x="30" y="19"/>
                </a:lnTo>
                <a:lnTo>
                  <a:pt x="24" y="31"/>
                </a:lnTo>
                <a:lnTo>
                  <a:pt x="12" y="37"/>
                </a:lnTo>
                <a:lnTo>
                  <a:pt x="12" y="37"/>
                </a:lnTo>
                <a:lnTo>
                  <a:pt x="6" y="31"/>
                </a:lnTo>
                <a:lnTo>
                  <a:pt x="0" y="19"/>
                </a:lnTo>
                <a:lnTo>
                  <a:pt x="0" y="19"/>
                </a:lnTo>
                <a:lnTo>
                  <a:pt x="6" y="7"/>
                </a:lnTo>
                <a:lnTo>
                  <a:pt x="12" y="0"/>
                </a:lnTo>
                <a:lnTo>
                  <a:pt x="12" y="0"/>
                </a:lnTo>
                <a:lnTo>
                  <a:pt x="24" y="7"/>
                </a:lnTo>
                <a:lnTo>
                  <a:pt x="30" y="19"/>
                </a:lnTo>
                <a:lnTo>
                  <a:pt x="30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83320" y="2876400"/>
            <a:ext cx="49320" cy="57240"/>
          </a:xfrm>
          <a:custGeom>
            <a:avLst/>
            <a:gdLst/>
            <a:ahLst/>
            <a:rect l="l" t="t" r="r" b="b"/>
            <a:pathLst>
              <a:path w="31" h="36">
                <a:moveTo>
                  <a:pt x="31" y="18"/>
                </a:moveTo>
                <a:lnTo>
                  <a:pt x="31" y="18"/>
                </a:lnTo>
                <a:lnTo>
                  <a:pt x="25" y="30"/>
                </a:lnTo>
                <a:lnTo>
                  <a:pt x="13" y="36"/>
                </a:lnTo>
                <a:lnTo>
                  <a:pt x="13" y="36"/>
                </a:lnTo>
                <a:lnTo>
                  <a:pt x="7" y="30"/>
                </a:lnTo>
                <a:lnTo>
                  <a:pt x="0" y="18"/>
                </a:lnTo>
                <a:lnTo>
                  <a:pt x="0" y="18"/>
                </a:lnTo>
                <a:lnTo>
                  <a:pt x="7" y="6"/>
                </a:lnTo>
                <a:lnTo>
                  <a:pt x="13" y="0"/>
                </a:lnTo>
                <a:lnTo>
                  <a:pt x="13" y="0"/>
                </a:lnTo>
                <a:lnTo>
                  <a:pt x="25" y="6"/>
                </a:lnTo>
                <a:lnTo>
                  <a:pt x="31" y="18"/>
                </a:lnTo>
                <a:lnTo>
                  <a:pt x="31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56240" y="2943360"/>
            <a:ext cx="47880" cy="56880"/>
          </a:xfrm>
          <a:custGeom>
            <a:avLst/>
            <a:gdLst/>
            <a:ahLst/>
            <a:rect l="l" t="t" r="r" b="b"/>
            <a:pathLst>
              <a:path w="30" h="36">
                <a:moveTo>
                  <a:pt x="30" y="18"/>
                </a:moveTo>
                <a:lnTo>
                  <a:pt x="30" y="18"/>
                </a:lnTo>
                <a:lnTo>
                  <a:pt x="24" y="30"/>
                </a:lnTo>
                <a:lnTo>
                  <a:pt x="18" y="36"/>
                </a:lnTo>
                <a:lnTo>
                  <a:pt x="18" y="36"/>
                </a:lnTo>
                <a:lnTo>
                  <a:pt x="6" y="30"/>
                </a:lnTo>
                <a:lnTo>
                  <a:pt x="0" y="18"/>
                </a:lnTo>
                <a:lnTo>
                  <a:pt x="0" y="18"/>
                </a:lnTo>
                <a:lnTo>
                  <a:pt x="6" y="6"/>
                </a:lnTo>
                <a:lnTo>
                  <a:pt x="18" y="0"/>
                </a:lnTo>
                <a:lnTo>
                  <a:pt x="18" y="0"/>
                </a:lnTo>
                <a:lnTo>
                  <a:pt x="24" y="6"/>
                </a:lnTo>
                <a:lnTo>
                  <a:pt x="30" y="18"/>
                </a:lnTo>
                <a:lnTo>
                  <a:pt x="3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16800" y="4251240"/>
            <a:ext cx="47520" cy="57240"/>
          </a:xfrm>
          <a:custGeom>
            <a:avLst/>
            <a:gdLst/>
            <a:ahLst/>
            <a:rect l="l" t="t" r="r" b="b"/>
            <a:pathLst>
              <a:path w="30" h="36">
                <a:moveTo>
                  <a:pt x="30" y="18"/>
                </a:moveTo>
                <a:lnTo>
                  <a:pt x="30" y="18"/>
                </a:lnTo>
                <a:lnTo>
                  <a:pt x="24" y="30"/>
                </a:lnTo>
                <a:lnTo>
                  <a:pt x="18" y="36"/>
                </a:lnTo>
                <a:lnTo>
                  <a:pt x="18" y="36"/>
                </a:lnTo>
                <a:lnTo>
                  <a:pt x="6" y="30"/>
                </a:lnTo>
                <a:lnTo>
                  <a:pt x="0" y="18"/>
                </a:lnTo>
                <a:lnTo>
                  <a:pt x="0" y="18"/>
                </a:lnTo>
                <a:lnTo>
                  <a:pt x="6" y="6"/>
                </a:lnTo>
                <a:lnTo>
                  <a:pt x="18" y="0"/>
                </a:lnTo>
                <a:lnTo>
                  <a:pt x="18" y="0"/>
                </a:lnTo>
                <a:lnTo>
                  <a:pt x="24" y="6"/>
                </a:lnTo>
                <a:lnTo>
                  <a:pt x="30" y="18"/>
                </a:lnTo>
                <a:lnTo>
                  <a:pt x="3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94360" y="4154400"/>
            <a:ext cx="47880" cy="58680"/>
          </a:xfrm>
          <a:custGeom>
            <a:avLst/>
            <a:gdLst/>
            <a:ahLst/>
            <a:rect l="l" t="t" r="r" b="b"/>
            <a:pathLst>
              <a:path w="30" h="37">
                <a:moveTo>
                  <a:pt x="30" y="19"/>
                </a:moveTo>
                <a:lnTo>
                  <a:pt x="30" y="19"/>
                </a:lnTo>
                <a:lnTo>
                  <a:pt x="24" y="31"/>
                </a:lnTo>
                <a:lnTo>
                  <a:pt x="12" y="37"/>
                </a:lnTo>
                <a:lnTo>
                  <a:pt x="12" y="37"/>
                </a:lnTo>
                <a:lnTo>
                  <a:pt x="6" y="31"/>
                </a:lnTo>
                <a:lnTo>
                  <a:pt x="0" y="19"/>
                </a:lnTo>
                <a:lnTo>
                  <a:pt x="0" y="19"/>
                </a:lnTo>
                <a:lnTo>
                  <a:pt x="6" y="6"/>
                </a:lnTo>
                <a:lnTo>
                  <a:pt x="12" y="0"/>
                </a:lnTo>
                <a:lnTo>
                  <a:pt x="12" y="0"/>
                </a:lnTo>
                <a:lnTo>
                  <a:pt x="24" y="6"/>
                </a:lnTo>
                <a:lnTo>
                  <a:pt x="30" y="19"/>
                </a:lnTo>
                <a:lnTo>
                  <a:pt x="30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00680" y="4460760"/>
            <a:ext cx="47880" cy="57240"/>
          </a:xfrm>
          <a:custGeom>
            <a:avLst/>
            <a:gdLst/>
            <a:ahLst/>
            <a:rect l="l" t="t" r="r" b="b"/>
            <a:pathLst>
              <a:path w="30" h="36">
                <a:moveTo>
                  <a:pt x="30" y="18"/>
                </a:moveTo>
                <a:lnTo>
                  <a:pt x="30" y="18"/>
                </a:lnTo>
                <a:lnTo>
                  <a:pt x="24" y="30"/>
                </a:lnTo>
                <a:lnTo>
                  <a:pt x="12" y="36"/>
                </a:lnTo>
                <a:lnTo>
                  <a:pt x="12" y="36"/>
                </a:lnTo>
                <a:lnTo>
                  <a:pt x="6" y="30"/>
                </a:lnTo>
                <a:lnTo>
                  <a:pt x="0" y="18"/>
                </a:lnTo>
                <a:lnTo>
                  <a:pt x="0" y="18"/>
                </a:lnTo>
                <a:lnTo>
                  <a:pt x="6" y="6"/>
                </a:lnTo>
                <a:lnTo>
                  <a:pt x="12" y="0"/>
                </a:lnTo>
                <a:lnTo>
                  <a:pt x="12" y="0"/>
                </a:lnTo>
                <a:lnTo>
                  <a:pt x="24" y="6"/>
                </a:lnTo>
                <a:lnTo>
                  <a:pt x="30" y="18"/>
                </a:lnTo>
                <a:lnTo>
                  <a:pt x="3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44444E-006 L 2.77778E-006 0.03959 E">
                                      <p:cBhvr>
                                        <p:cTn id="44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7037E-006 L -0.00035 0.06875 E">
                                      <p:cBhvr>
                                        <p:cTn id="46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07407E-006 L 2.77778E-006 0.0588 E">
                                      <p:cBhvr>
                                        <p:cTn id="48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93 -0.03426 L 0.01893 0.02523 E">
                                      <p:cBhvr>
                                        <p:cTn id="50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7.40741E-007 L -0.00034 0.05671 E">
                                      <p:cBhvr>
                                        <p:cTn id="52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 -0.03981 L -0.00607 0.00787 E">
                                      <p:cBhvr>
                                        <p:cTn id="54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7.40741E-007 C 0.01285 0.01065 0.02553 0.02847 0.0316 0.03657 C 0.03768 0.04468 0.03525 0.04445 0.03612 0.04815 C 0.03698 0.05185 0.03664 0.05255 0.03664 0.0588 C 0.03664 0.06505 0.03646 0.07986 0.03646 0.08542 E">
                                      <p:cBhvr>
                                        <p:cTn id="56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1.48148E-006 L -0.00017 0.01829 E">
                                      <p:cBhvr>
                                        <p:cTn id="58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-0.01181 L -0.0026 0.05115 E">
                                      <p:cBhvr>
                                        <p:cTn id="60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11111E-006 L -0.00156 0.06435 E">
                                      <p:cBhvr>
                                        <p:cTn id="62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96296E-006 L 0.00052 0.01227 E">
                                      <p:cBhvr>
                                        <p:cTn id="64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L 0.00087 0.03681 E">
                                      <p:cBhvr>
                                        <p:cTn id="66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edies/Pre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30360"/>
            <a:ext cx="504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 the amount of exposure (“dose makes the poison”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mprove the work environmen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ear breathing mask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e or reduce other sources of breathing problems that compound the brown lung probl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sth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mok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Verdana"/>
              </a:rPr>
              <a:t>WG-9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324480" y="2438280"/>
            <a:ext cx="2481480" cy="2743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5973840" y="1601640"/>
            <a:ext cx="271620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hronic Obstructive Pulmonary Disease (COPD)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9560" y="2142720"/>
            <a:ext cx="4125960" cy="42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sinossis is a form of COPD, which is a group of lung diseases characterized by a narrowing of airways and decreased lung capac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D diseases includes bysinossis, chronic bronchitis, chronic asthma, and emphys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Respiratory system"/>
          <p:cNvPicPr/>
          <p:nvPr/>
        </p:nvPicPr>
        <p:blipFill>
          <a:blip r:embed="rId2"/>
          <a:stretch/>
        </p:blipFill>
        <p:spPr>
          <a:xfrm>
            <a:off x="509760" y="2284560"/>
            <a:ext cx="3651120" cy="32637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64680" y="5589720"/>
            <a:ext cx="145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MedlineP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Verdana"/>
              </a:rPr>
              <a:t>WG-8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cupational Hazards: Asbe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88520" y="1520640"/>
            <a:ext cx="40784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e to preventative measures, byssinosis is not prevalent in the U.S. to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other occupational diseases are still very much a threat to the health of Americ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f these threats is asbestos, which is another common cause of COP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952880" y="1589040"/>
            <a:ext cx="3748320" cy="2583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241760" y="4149720"/>
            <a:ext cx="152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consrv.ca.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24520" y="4557600"/>
            <a:ext cx="367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bestos is a mix of minerals commonly found in rocks, such as crysotile (shown abov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Verdana"/>
              </a:rPr>
              <a:t>WG-9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bestos Pois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88880" y="1561680"/>
            <a:ext cx="365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bestos is used for insulation and durability in building materi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has many small fibers that can easily be inhaled or inges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bestos is known to cause a number of fatal diseas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Microscopic view of lung tissue with asbestosis."/>
          <p:cNvPicPr/>
          <p:nvPr/>
        </p:nvPicPr>
        <p:blipFill>
          <a:blip r:embed="rId2"/>
          <a:stretch/>
        </p:blipFill>
        <p:spPr>
          <a:xfrm>
            <a:off x="4592520" y="1600200"/>
            <a:ext cx="4164120" cy="2502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649760" y="4470480"/>
            <a:ext cx="39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microscopic view of asbestos-infected lung t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Verdana"/>
              </a:rPr>
              <a:t>WG-10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55400" y="4062240"/>
            <a:ext cx="116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cdc.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30T21:59:20Z</dcterms:created>
  <dc:creator>Kevin Owen Curley Jr</dc:creator>
  <dc:description/>
  <dc:language>en-US</dc:language>
  <cp:lastModifiedBy>Jeremiah McNichols</cp:lastModifiedBy>
  <dcterms:modified xsi:type="dcterms:W3CDTF">2008-09-25T19:15:25Z</dcterms:modified>
  <cp:revision>6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208000000000001023620</vt:lpwstr>
  </property>
</Properties>
</file>