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650D-CA21-4078-9930-CFBB6B324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s of Lowell include: large, huge five story buildings, locks, canals, river traffic, massive factories, long rows of two story buildings, everywhere people bustle, roadways, canal bridges, railroad tracks lining the stree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adjectives might include: large, industrial, old-fashioned, classic, calm, peaceful, red, river-sid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A The student is expected to: write to express, discover, record, develop, reflect on ideas, and to problem solve (4-8)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uasive reasons might include: income, living in a new place, an opportunity to make friends, experience city life, become a skilled craftsman, et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guments might include: long work hours, bad working conditions, (i.e. sickness, darkness, cold, pollution, etc.) inability to spend time with family, the need to stay in school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take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r aunt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13 (comma should be placed between day and ye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te (spelling error=great); Her name is Summer she is from the future. (Run-on sentence. Summer should be followed by a comma and conjunction [i.e. and], or as two sentences [“Her name is Summer. She is from the future.”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fornia (proper name requires capitaliz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ldnt (spelling error=couldn’t); Love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DD73-04FA-444F-B139-F8AD981D1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A4C3-7D89-4CFD-958B-F6E5141F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96D0-E45C-456C-9809-CF48503A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E8D-00E0-423B-91CD-CB72B16A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12F-CFA3-44C5-AFB9-4266B3C2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CE45-8273-492E-8B51-F0912593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BB49-33F4-475C-A7F1-9D8B6349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C70C-D9F7-4E5C-8391-CA304A39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E1A1-D1F5-4CA9-BBDC-2BD88D3C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DC7D-7E19-4ED5-8BF8-592C9B0C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0AB8-0332-4D72-87E7-EA03A611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FBB8-BFBF-466B-980D-A622A762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6271-18E5-43F4-8094-C732292D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FAFD-D3EB-471C-8870-B4E9994241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file:///LetterFromBobbin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down four ways the author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 Waterfall Gh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scribes the town of Lowell, Massachuset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at the picture of the old textile mill to the left and think of three new adjectives to help you describe this pl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267080" cy="273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end that you are working in a textile mill in the 1850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a short letter to a friend convincing him to come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1978200"/>
            <a:ext cx="3957480" cy="267012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friend has decided  to come to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write a short letter explaining why your friend shoul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 and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132000" cy="495324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Gramm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bin wants her aunt in California to know that she is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writes a short letter to her aunt to tell her when she’ll arr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Bobbin by editing her letter.  Correct any mistakes you find.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i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You should find at least seven mistakes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1332000"/>
            <a:ext cx="8382240" cy="4208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1584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ar aunt: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  September 13 18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 met a grate new friend today. Her name is Summer she is from the future. She helped me get to the train so I could come to california. Summer couldnt come with me. I will arrive at the train station in San Francisco on Wednesday. Can’t wait to see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obb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563868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to open a printable PDF of this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2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78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2:28:20Z</dcterms:created>
  <dc:creator>Ape</dc:creator>
  <dc:description/>
  <dc:language>en-US</dc:language>
  <cp:lastModifiedBy>Texas A&amp;M Veterinary Medicine</cp:lastModifiedBy>
  <dcterms:modified xsi:type="dcterms:W3CDTF">2007-10-19T14:15:52Z</dcterms:modified>
  <cp:revision>22</cp:revision>
  <dc:subject/>
  <dc:title>Unlocking Language</dc:title>
</cp:coreProperties>
</file>