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.)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266688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6BBA4C-9E6A-4C1E-B6C4-4AAB2ACE17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2BB839-F5FC-400D-8C47-A2D84ADFA4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62226A-2EFB-45A3-8D9D-E7E8236BD7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47BB66-C823-4CFF-9CC7-008E4AF85A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E0239C-48B1-4AFF-B206-251119E591E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1139A9-24D8-4C16-9CBF-CAEC24D821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9CE237-40C2-4FDB-8EA5-37FBD83E89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93CF55-722B-4068-ADBB-DAC41FFA00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09C1B0-AB8E-4892-81CA-ADF7E67DD0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7671C4-59F5-4CD2-86C1-AAB57B2CBE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E6D58F-C142-4A23-86E4-831F78FA80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5C1621-08C3-4421-BBF6-DD7C5B6E38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FE6BC-FE1F-4D26-B552-376829E9FC5A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533520" y="1066680"/>
            <a:ext cx="8153280" cy="510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width, height, and length of a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box or rectangular prism can b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fferent. If all three are the same,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n the box is a cub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ular Pris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volume, or the amount of space inside a box, is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 × w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surface area of a box is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(h × w) + 2(h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) + 2(w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A shoe box is a rectangular prism with a volume of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6287 cm</a:t>
            </a:r>
            <a:r>
              <a:rPr b="0" i="1" lang="en-US" sz="28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5486400" y="990720"/>
            <a:ext cx="3200400" cy="17668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57200" y="990720"/>
            <a:ext cx="464832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105520" y="1295280"/>
            <a:ext cx="761760" cy="4572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848720" y="2286000"/>
            <a:ext cx="1522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2971800"/>
            <a:ext cx="8153640" cy="29718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5FB13F-01FE-4C06-A5FF-F6D2708DE992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Rectangular Prism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3059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Find the volume of this jewelry box by using the equation for a rectangular prism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mensions of the Jewelry Box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 = 14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Length = 30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Width = 18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14 x 30 x 18  =  7,560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3276720" y="2514600"/>
            <a:ext cx="2479680" cy="2354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1A2548-2A48-4720-8F74-AC2A0D742DA0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079960" y="974880"/>
            <a:ext cx="3225960" cy="20732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radius, r, or the distanc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rom the center of a sphere to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s edge, is the defining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operty of a spher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Sphere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diameter, or the distance across a sphere that passes    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rough the center point, is 2r (twice the radius)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surface area of a sphere is 4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volume enclosed by a sphere is 4/3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Note that 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=3.1415926535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ebebeb"/>
                </a:solidFill>
                <a:latin typeface="Times New Roman"/>
              </a:rPr>
              <a:t>A basketball has a volume of 7700cm</a:t>
            </a:r>
            <a:r>
              <a:rPr b="0" i="1" lang="en-US" sz="2600" spc="-1" strike="noStrike" baseline="30000">
                <a:solidFill>
                  <a:srgbClr val="ebebeb"/>
                </a:solidFill>
                <a:latin typeface="Times New Roman"/>
              </a:rPr>
              <a:t>3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3276720"/>
            <a:ext cx="8076960" cy="281916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33520" y="990720"/>
            <a:ext cx="3809880" cy="16002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343400" y="1295280"/>
            <a:ext cx="1523880" cy="2286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9A3AFD-7599-464E-A1B3-A9B88DB81F26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Spher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Find the volume of this basketball by using the equation for a sphere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mensions of the Basketball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11.9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4/3 x 3.14 x 11.9 x 11.9 x 11.9  =  7,055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3505320" y="2514600"/>
            <a:ext cx="2193840" cy="221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0CF6A3-3D35-4EEE-A390-B598ED508956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3352680" y="914400"/>
            <a:ext cx="2737080" cy="1542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6172200" y="609480"/>
            <a:ext cx="2743200" cy="19051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" y="914400"/>
            <a:ext cx="274320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76280" y="13320"/>
            <a:ext cx="7848720" cy="271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       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br>
              <a:rPr sz="800"/>
            </a:br>
            <a:br>
              <a:rPr sz="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radius, r, is the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stance from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enter of a cone to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s edge.</a:t>
            </a:r>
            <a:br>
              <a:rPr sz="2000"/>
            </a:b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" y="576360"/>
            <a:ext cx="87631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height, h, is th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stance from the tip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f the cone to th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enter of the base of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con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on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diameter, or the distance across the base of the con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rough the center, is 2r (twice the radius)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surface area of a cone is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    h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+ r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+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volume of a cone is 1/3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Note that </a:t>
            </a:r>
            <a:r>
              <a:rPr b="0" lang="en-US" sz="25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=3.1415926535! But you can round to the </a:t>
            </a:r>
            <a:endParaRPr b="0" lang="en-US" sz="25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hundredths place and use 3.14.</a:t>
            </a:r>
            <a:endParaRPr b="0" lang="en-US" sz="25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An ice cream cone is a cone with a volume of 180cm</a:t>
            </a:r>
            <a:r>
              <a:rPr b="0" i="1" lang="en-US" sz="24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200400" y="1143000"/>
            <a:ext cx="685800" cy="30492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5715000" y="1295280"/>
            <a:ext cx="457200" cy="2286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800960" y="3429000"/>
            <a:ext cx="107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724280" y="4114800"/>
            <a:ext cx="81000" cy="763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800600" y="3885840"/>
            <a:ext cx="81000" cy="3049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3520" y="2666880"/>
            <a:ext cx="8076960" cy="33530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FE7737-8FC8-42D5-8B88-A7B95B710630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Con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0773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Find the volume of this ice cream cone by using the equation for a cone:</a:t>
            </a:r>
            <a:endParaRPr b="0" lang="en-US" sz="37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Dimensions of the Ice Cream Cone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3.5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 = 14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1/3 x 3.14 x 3.5 x 3.5 x 14  =  179.5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3962520" y="2286000"/>
            <a:ext cx="1074600" cy="286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DD0128-2398-47C6-AA15-78C672C8EA30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505320" y="914400"/>
            <a:ext cx="2577960" cy="147780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br>
              <a:rPr sz="4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If your cylinder is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The radius, r, is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standing upright, you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distance from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might call the “length”,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center of a cylinder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,  a "height" instead.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 its edg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160" y="2666880"/>
            <a:ext cx="79246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diameter, or the distance across a cylinder that passes through the center point, is 2r (twice the radius)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surface area of an open ended cylinder (as shown) is 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If the cylinder has caps on the ends, then the surface area is 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+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volume of a cylinder is 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ebebeb"/>
                </a:solidFill>
                <a:latin typeface="Times New Roman"/>
              </a:rPr>
              <a:t>A soda can has a volume of 335 cm</a:t>
            </a:r>
            <a:r>
              <a:rPr b="0" i="1" lang="en-US" sz="2600" spc="-1" strike="noStrike" baseline="30000">
                <a:solidFill>
                  <a:srgbClr val="ebebeb"/>
                </a:solidFill>
                <a:latin typeface="Times New Roman"/>
              </a:rPr>
              <a:t>3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1371600"/>
            <a:ext cx="914400" cy="38088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5791320" y="1294920"/>
            <a:ext cx="457200" cy="38124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267080" y="16765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4920" y="762120"/>
            <a:ext cx="297180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248520" y="762120"/>
            <a:ext cx="259056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33520" y="2666880"/>
            <a:ext cx="8153280" cy="35053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17CC6F-95A6-4E1D-ACED-3A576D5937A4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7240" y="1066680"/>
            <a:ext cx="77709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Find the volume of this spray can by using the equation for a cylinder:</a:t>
            </a:r>
            <a:endParaRPr b="0" lang="en-US" sz="37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Dimensions of the Spray Can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10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ength = 50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3.14 x 10 x 10 x 50  =  15,700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4114800" y="2362320"/>
            <a:ext cx="949320" cy="2846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32D059-28DF-4BB2-99B9-EF062F94E9B0}" type="slidenum">
              <a:t>8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cp:keywords/>
  <dc:language>en-US</dc:language>
  <cp:lastModifiedBy>Vince Hardy</cp:lastModifiedBy>
  <cp:lastPrinted>2001-01-16T19:55:21Z</cp:lastPrinted>
  <dcterms:modified xsi:type="dcterms:W3CDTF">2007-05-03T16:18:47Z</dcterms:modified>
  <cp:revision>241</cp:revision>
  <dc:subject/>
  <dc:title>VTPP 423 - PHYSIOLOGY</dc:title>
</cp:coreProperties>
</file>