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084E-568A-4A4C-81C6-D937A6BA9EE4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5F37-C916-48C4-9226-9D53493A3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83B4-EB62-4467-86F5-A754E456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5B73-170A-40D5-A3EB-DA7C4226A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4777-DE73-4C53-8A58-A5F8AF21B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C816-A3C8-4EFD-937F-B627B4BC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0B51-D132-4F13-B95F-FBC89D36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1615-432E-461A-B3CF-5C720BA1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3D3C-EF9D-42C3-BC85-47F09631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4E89-55BE-407F-815C-0447BA10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E329-C34D-4D9F-861E-D9657521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9C8D-FE4B-4754-AC28-ACAFFCE6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C872-D7E2-401E-AF91-1B2784A9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5000-15A6-41B5-BCAE-DA229520841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Texas A&amp;M Veterinary Medicine</cp:lastModifiedBy>
  <dcterms:modified xsi:type="dcterms:W3CDTF">2004-10-27T18:50:40Z</dcterms:modified>
  <cp:revision>16</cp:revision>
  <dc:subject/>
  <dc:title>Writing a Business Letter</dc:title>
</cp:coreProperties>
</file>