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DDA3-7A9B-494E-8271-939C2D6ED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9D19-21B9-41DB-B793-8200CBDA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6E4-632B-4427-AB28-75AB24A9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149A-0436-4FA0-BF13-58FF10F5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CBB5-D397-4274-B24E-AA81F18A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0C3C-8A8E-48DF-B027-6CA5FBAC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BFEA-8376-4D4C-B983-40615CC9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DA1A-D451-40B7-A3FA-AC18F239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9AB-D8F5-424F-9585-69A691BE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F829-F4B5-4E6C-951C-85CD2781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6731-9FB8-4B66-9A38-C07BB658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C1DE-9CEA-468F-BCDA-A089EE2B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5664-02E0-447D-BE11-2B99FEEA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FC54-D263-454D-835E-04F7B9DD2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57800" y="4127400"/>
            <a:ext cx="2554200" cy="1806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ll, you best be glad Mary-O is s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she’d have seen you weren’t a Lowell heires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ll-wit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-sigh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us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8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’ve got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niorit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if I’m five years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nger than Mary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nior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am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ra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0160" y="0"/>
            <a:ext cx="33638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091040" y="44467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body was wiry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it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5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i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4114800"/>
            <a:ext cx="327672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rows of two-story buildings we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e factorie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a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576600" cy="2413080"/>
          </a:xfrm>
          <a:prstGeom prst="rect">
            <a:avLst/>
          </a:prstGeom>
          <a:ln w="76320">
            <a:solidFill>
              <a:srgbClr val="673c2c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noticed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ac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spect they gave her and decided to use its pow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aci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86680" y="0"/>
            <a:ext cx="2857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2924280" cy="2589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said she’s seen enough of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cklenes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machines to trust some little button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cklenes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ck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redic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gn read ‘Ladies’ Room’ on a wide oak door with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bove it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From this passage, one can infer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anso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“handsom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sh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oorkn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899400">
            <a:off x="5334120" y="3962160"/>
            <a:ext cx="1815840" cy="2257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see from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mbivalenc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Bobbin’s fac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 From this passage, one can infer that ambivalenc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ind of make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2171880" cy="2171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ute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ware of her other sense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 From this passage, you can infer tha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ute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2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hear Farnsley’s shuffling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rawing clos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8:29Z</dcterms:modified>
  <cp:revision>66</cp:revision>
  <dc:subject/>
  <dc:title>PowerPoint Presentation</dc:title>
</cp:coreProperties>
</file>