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F04D-4D81-4BE7-9BCF-BAD7C7553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4547-FDDA-489D-953B-8384B914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484-7B75-42EF-989A-3E49E5F3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F3F-9B4C-42E5-ABCB-7AB80D56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7CB-124B-4C89-AD81-99F109DC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953-5F25-4884-9413-355348BF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996-D4C8-4F18-8554-8FFD6D79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EA6-C2AE-4CD8-A4E7-81EC8AF0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F56-0958-4C3C-B161-905F160B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BD86-B13D-43F4-AF8E-78663151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9A9-9E5F-4078-8AE1-FA0C4902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810-EA87-4C40-BC3C-A58F22CA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3BA-0426-47C1-9BC6-F6A73844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D0C4-E8BE-4A36-8C19-3A969E653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Bobbin leaving for Californ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9560" y="2108160"/>
            <a:ext cx="62802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wanted her to establish a new factory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 asked her to go to try and find her m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as fired from her factory job because she was incompe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was being treated unfairly at the mill and wanted to join her a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 was sending her to a special doctor to take care of her c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7960" y="46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11200" y="219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409760" y="297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406520" y="37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411200" y="53960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as Bobbin going to protect Sheila from Mary-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9560" y="2616120"/>
            <a:ext cx="609588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ila was coming to California with Bobb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left a note for Mary-O that would scare  her into treating Sheila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threatened to accuse Farnsley of murder if he didn’t protect She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asked Summer to use the BPC to send Sheila into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rote a letter to Mr. Lowell asking that Sheila be taken into hi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6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11200" y="4772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411200" y="2602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40976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406520" y="398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411200" y="55706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60800" y="27846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081320" y="4487760"/>
            <a:ext cx="9622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84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characters below were introduced in the “The Waterfall Ghost” story.  Which list below names the characters in the order Summer encountered them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79560" y="339084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, Bobbin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Mary-O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Farnsley, Bob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Bobbin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Farnsley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69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7960" y="499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11200" y="336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9760" y="3906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409760" y="444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411200" y="5548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characteristics did all of the mill girls in the story shar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girl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d red h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e heavy silk gow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frien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ed picking cotton for the m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ed repea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7960" y="470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11200" y="30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409760" y="360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409760" y="414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Summer learn about Bobbin’s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9560" y="2235240"/>
            <a:ext cx="628020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history teacher told the story to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read the story in an old book she found in a book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the headline story in the Boston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mother told her the story because Bobbin was a distant cous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friend Travis shared the story with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079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411200" y="221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097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406520" y="374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411200" y="5386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time Summer used her BPC in the story, she arrived at which one of the following lo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’s bedroom at th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d rush days in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aterfall in Massachuset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chine shop of a textil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rain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07960" y="47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11200" y="3070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409760" y="3611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413000" y="414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y and 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et and r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ly forested with few buil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lo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enter for India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ll, Massachusetts was described in the story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7960" y="4267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11200" y="263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09760" y="318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413000" y="3726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411200" y="483408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rrived in Lowell during which of  the following ti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th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07960" y="426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09760" y="31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41300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411200" y="48308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scription of the inside of the facto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cluded all of the following EX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79560" y="26290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ell of fabric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te of chalky 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chine named Gri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y, cold air from 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7960" y="426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40976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41300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1407960" y="483084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00200"/>
            <a:ext cx="8043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bin tells Summer that many things see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believable but are not.  Which of the following examples from the story serve to support this ide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9560" y="3048120"/>
            <a:ext cx="6280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 dirty white cotton into sky blue cl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memorizing the plans for making a 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mall, young girl who could fix heavy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 as a boy to travel to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examples above support this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7960" y="53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07960" y="30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406520" y="36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406520" y="45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407960" y="588816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3:57Z</dcterms:modified>
  <cp:revision>87</cp:revision>
  <dc:subject/>
  <dc:title>PowerPoint Presentation</dc:title>
</cp:coreProperties>
</file>