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AACB-404A-408F-96C4-10CB59B30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4D1-024F-4C95-A01B-799ADB19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AA0-6427-4017-8237-3275DEFB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071-60AD-4E15-BA17-AC0A9397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A8D-D227-481C-B990-53B4A976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9E7-14AC-4B3C-A10D-273C6634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DD0-6366-4F24-816A-71F1CFC6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4AA-E8D6-43EE-A8C7-E045F4BD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82F-B630-4F0F-B26A-30DB9520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E1C-60B0-4F73-B066-2EAFC125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FCE-2876-4DD8-9DE7-4081D254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722-CD45-439D-A338-3605B60F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FAE-8D09-4035-89D0-5AFDD77D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9D3A-6ED9-401D-B0EC-26A8D3D20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127400"/>
            <a:ext cx="2554200" cy="180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best be glad Mary-O is s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he’d have seen you weren’t a Lowell heires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ll-w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-sigh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8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ve go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I’m five years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nger than Mar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io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am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r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0160" y="0"/>
            <a:ext cx="3363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91040" y="44467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body was wiry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t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rows of two-story buildings we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factorie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576600" cy="2413080"/>
          </a:xfrm>
          <a:prstGeom prst="rect">
            <a:avLst/>
          </a:prstGeom>
          <a:ln w="76320">
            <a:solidFill>
              <a:srgbClr val="673c2c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notic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ect they gave her and decided to use its pow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aci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6680" y="0"/>
            <a:ext cx="2857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924280" cy="2589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said she’s seen enough of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cklenes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machines to trust some little button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ckle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gn read ‘Ladies’ Room’ on a wide oak door with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ve 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From this passage, one can infer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n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“handso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sh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orkn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99400">
            <a:off x="5334120" y="3962160"/>
            <a:ext cx="181584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see from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mbival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Bobbin’s 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From this passage, one can infer that ambivalen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ind of make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u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ware of her other s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From this passage, you can infer th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u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hear Farnsley’s shuffl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rawing clos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8:29Z</dcterms:modified>
  <cp:revision>66</cp:revision>
  <dc:subject/>
  <dc:title>PowerPoint Presentation</dc:title>
</cp:coreProperties>
</file>