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6C5D-2326-403E-86F5-F879D4548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B8B3-96CD-4A0A-A0A5-0AC51C161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DA5-4318-41FE-9E8B-5A82183B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EEE-1337-4AF7-86E3-9F1D31C9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150-C406-47B8-9D0A-852B945D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0D0-6421-4795-94A1-EC2CEF4B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1F5-565D-455A-B1C0-78A13A0C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6A39-AD26-455B-B117-80292AB6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82A-24A6-406B-AA52-F7C159DC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F12-9345-4416-850C-763D1836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40B-F8D5-4D1E-A710-7C88558E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EA9-3388-4984-BB4F-F14BDD2F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858-8A81-48F9-B31D-B789D6F9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A94-AC24-4E46-B745-BDD8C7BF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AD79-DC62-49B7-A3A1-A4AEFE0AC4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332000"/>
            <a:ext cx="8382240" cy="4208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She helped me get to the train so I could come to california. Summer couldnt come with me. I will arrive at the train station in San Francisco on Wednesday.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78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Texas A&amp;M Veterinary Medicine</cp:lastModifiedBy>
  <dcterms:modified xsi:type="dcterms:W3CDTF">2007-10-19T14:15:52Z</dcterms:modified>
  <cp:revision>22</cp:revision>
  <dc:subject/>
  <dc:title>Unlocking Language</dc:title>
</cp:coreProperties>
</file>