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CF70-9B57-4AA4-B7F8-AA71D736F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465-83DF-4B75-83E1-F8857D7B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1D14-5530-4D37-8978-F8E7C209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FAFC-1765-4905-ACCA-D1C4B6E6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13F0-CA60-4D91-8EE6-D9CBF02B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FF1C-CAD8-4DC4-8F77-C467A681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597-C262-4A03-BF1B-F4A11EB4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0FE-044A-45D5-8437-EFD626FA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31B-5FF9-46A2-91BD-5AB57D4D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155E-ECC8-4904-A59E-EEB410F7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16D0-F788-4DFF-96EE-72E7D538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A243-4527-474E-8A43-F9E7AEC1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863E-C3B4-4FAF-8EC0-A6691491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1CC3-0B34-4BDC-9FC5-837CB3954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57800" y="4127400"/>
            <a:ext cx="2554200" cy="1806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l, you best be glad Mary-O is s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she’d have seen you weren’t a Lowell heires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ll-wit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-sigh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us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8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ve got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niorit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if I’m five years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nger than Mary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nio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am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ra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0160" y="0"/>
            <a:ext cx="3363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91040" y="44467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body was wiry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t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5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i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rows of two-story buildings we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e factorie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576600" cy="2413080"/>
          </a:xfrm>
          <a:prstGeom prst="rect">
            <a:avLst/>
          </a:prstGeom>
          <a:ln w="76320">
            <a:solidFill>
              <a:srgbClr val="673c2c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noticed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ac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spect they gave her and decided to use its pow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aci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86680" y="0"/>
            <a:ext cx="2857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924280" cy="2589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said she’s seen enough of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cklenes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machines to trust some little button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cklen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redic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gn read ‘Ladies’ Room’ on a wide oak door with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ove it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From this passage, one can infer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ans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“handsom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sh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oorkn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899400">
            <a:off x="5334120" y="3962160"/>
            <a:ext cx="1815840" cy="2257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see from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mbivalenc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Bobbin’s fa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From this passage, one can infer that ambivalenc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ind of make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171880" cy="2171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ute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ware of her other sense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From this passage, you can infer tha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ute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2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hear Farnsley’s shuffling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rawing clos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8:29Z</dcterms:modified>
  <cp:revision>66</cp:revision>
  <dc:subject/>
  <dc:title>PowerPoint Presentation</dc:title>
</cp:coreProperties>
</file>