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42FD-472A-46D0-97A2-635BCC2D0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EFBD-A526-4434-B56E-AD607B3F5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7351-2873-42AC-AE3A-20A378AC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9E73-A7D0-4F51-BB8F-42856D1F0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0CAF-D0A3-460F-8DAA-8FD74CFA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89A6-15A9-4E28-B7B8-42268FF9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71DF-CFF4-4FA9-AE9C-AA00C456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E2EA-FD7B-410F-B85C-D678F88C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AF38-65D6-41FF-A401-269B89DE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B3BA-4439-4B29-A439-81742E45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E931-C5BD-4EEB-BD84-36B52EE7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5015-6B17-43E5-8133-19E40DC6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7971-94AF-4B8E-8FBE-F458FF74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9252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92520" indent="-210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92520" indent="-210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DE4D-4693-4EEB-942B-803EFFF25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257800" y="4127400"/>
            <a:ext cx="2554200" cy="1806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ll, you best be glad Mary-O is so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she’d have seen you weren’t a Lowell heires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ll-wit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ar-sigh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us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8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’ve got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eniorit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n if I’m five years 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ounger than Mary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nior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r sta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mall amou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ran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0160" y="0"/>
            <a:ext cx="33638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091040" y="444672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body was wiry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ith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85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i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g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i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04940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44720" y="4200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05084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05084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952880" y="4114800"/>
            <a:ext cx="3276720" cy="2303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rows of two-story buildings wer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tersper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the factorie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tersper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aw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x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343400" y="3886200"/>
            <a:ext cx="3576600" cy="2413080"/>
          </a:xfrm>
          <a:prstGeom prst="rect">
            <a:avLst/>
          </a:prstGeom>
          <a:ln w="76320">
            <a:solidFill>
              <a:srgbClr val="673c2c"/>
            </a:solidFill>
            <a:miter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noticed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ac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spect they gave her and decided to use its pow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aci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e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86680" y="0"/>
            <a:ext cx="28573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04940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044720" y="4200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105084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105084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29200" y="3809880"/>
            <a:ext cx="2924280" cy="25894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said she’s seen enough of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icklenes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machines to trust some little button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cklenes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ck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predic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ign read ‘Ladies’ Room’ on a wide oak door with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ranso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bove it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 From this passage, one can infer that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ranso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word for “handsom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sh c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mall 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doorkno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rot="899400">
            <a:off x="5334120" y="3962160"/>
            <a:ext cx="1815840" cy="2257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could see from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mbivalenc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Bobbin’s fac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 From this passage, one can infer that ambivalence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kind of make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2171880" cy="2171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wa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cute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ware of her other sense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 From this passage, you can infer tha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ute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p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r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ak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2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could hear Farnsley’s shuffling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rawing clos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a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10-19T14:18:29Z</dcterms:modified>
  <cp:revision>66</cp:revision>
  <dc:subject/>
  <dc:title>PowerPoint Presentation</dc:title>
</cp:coreProperties>
</file>