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654-49CD-432B-99F4-48D7399CC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3936-F28F-41C0-A50C-7A7E5632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E41-440E-4367-B58D-01B0ACA9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7EB-B87B-4AEE-B6C7-CB8FC20B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BB0-050D-40D3-B447-12EF5FF1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D34-4B20-4429-B2C9-3E8C847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A517-508E-486C-B75C-5C2D0E0A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79A-5CF1-4B20-AC4F-FACD9F26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24A-C83C-4605-9A06-C128A648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4CBE-8740-42E9-9430-547C93CCA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256-A79F-4C8C-ADDB-14D2EAF1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E512-DD1F-43E8-940B-49D547CE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8E7B-E7B5-46FB-80D2-AA35A3C5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B50D-64B0-4045-8AB3-4405FE9C6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hyperlink" Target="file:///../../../../../Product/Modules/8th%20Grade/14%20-%20The%20Waterfall%20Ghost/Powerpoint%20Files/Brown%20Lung%203.0/Supplements/WGStory.doc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3:57Z</dcterms:modified>
  <cp:revision>87</cp:revision>
  <dc:subject/>
  <dc:title>PowerPoint Presentation</dc:title>
</cp:coreProperties>
</file>