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2FD6-50A2-419E-928D-9202A4745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860D-0456-4919-AC6E-A68C8080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FA8B-BAFA-4F52-8E46-E88A8139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D286-4B98-479A-A023-21486B23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55F0-F633-43B8-A11F-01D5122A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8E1-37A1-46DB-813C-9813C619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D36-EF98-43D1-B6DF-986A9E6F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1D67-6E85-4366-AC83-84C3242F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3BDD-C7F7-4C7B-9CB7-37BCA982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1B98-199A-41B9-8EF2-BCAC26A6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2A5E-CC0F-4CF0-8834-83371F3C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6A1C-E631-44BF-A234-F65A6F5B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8DC-96C5-4B0D-8400-9DE99280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88FA-B931-461F-9B9B-4FD060908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Bobbin leaving for Californ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9560" y="2108160"/>
            <a:ext cx="62802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wanted her to establish a new factory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 asked her to go to try and find her m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as fired from her factory job because she was incompe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was being treated unfairly at the mill and wanted to join her a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 was sending her to a special doctor to take care of her c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07960" y="46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11200" y="219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409760" y="297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406520" y="37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411200" y="53960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as Bobbin going to protect Sheila from Mary-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79560" y="2616120"/>
            <a:ext cx="609588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ila was coming to California with Bobb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left a note for Mary-O that would scare  her into treating Sheila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threatened to accuse Farnsley of murder if he didn’t protect She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asked Summer to use the BPC to send Sheila into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rote a letter to Mr. Lowell asking that Sheila be taken into hi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63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11200" y="4772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411200" y="2602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40976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406520" y="398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411200" y="55706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60800" y="27846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081320" y="4487760"/>
            <a:ext cx="9622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84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characters below were introduced in the “The Waterfall Ghost” story.  Which list below names the characters in the order Summer encountered them in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79560" y="339084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, Bobbin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Mary-O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Farnsley, Bob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Bobbin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Farnsley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69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7960" y="499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11200" y="336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9760" y="3906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409760" y="444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411200" y="5548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characteristics did all of the mill girls in the story shar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girl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d red h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e heavy silk gow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frien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ed picking cotton for the m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ghed repeate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07960" y="470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11200" y="30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409760" y="360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409760" y="414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Summer learn about Bobbin’s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9560" y="2235240"/>
            <a:ext cx="628020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history teacher told the story to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read the story in an old book she found in a books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the headline story in the Boston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mother told her the story because Bobbin was a distant cous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friend Travis shared the story with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079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411200" y="221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4097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406520" y="374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411200" y="5386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time Summer used her BPC in the story, she arrived at which one of the following lo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’s bedroom at th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ld rush days in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aterfall in Massachuset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chine shop of a textil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rain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07960" y="47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11200" y="3070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409760" y="3611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413000" y="414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y and 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et and r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ly forested with few buil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lo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enter for Indian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ll, Massachusetts was described in the story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7960" y="4267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11200" y="263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409760" y="318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413000" y="3726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411200" y="483408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rrived in Lowell during which of  the following ti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th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st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07960" y="426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09760" y="31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41300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411200" y="48308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scription of the inside of the facto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cluded all of the following EXCE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79560" y="26290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ell of fabric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te of chalky 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chine named Gri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y, cold air from 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7960" y="426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40976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41300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1407960" y="483084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00200"/>
            <a:ext cx="80438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bbin tells Summer that many things see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believable but are not.  Which of the following examples from the story serve to support this ide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9560" y="3048120"/>
            <a:ext cx="62802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 dirty white cotton into sky blue cl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memorizing the plans for making a l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mall, young girl who could fix heavy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 as a boy to travel to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examples above support this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7960" y="53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07960" y="30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406520" y="36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406520" y="45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407960" y="588816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3:57Z</dcterms:modified>
  <cp:revision>87</cp:revision>
  <dc:subject/>
  <dc:title>PowerPoint Presentation</dc:title>
</cp:coreProperties>
</file>