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B2EAE-F98D-4B1C-8F8C-5B75057A5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criptions of Lowell include: large, huge five story buildings, locks, canals, river traffic, massive factories, long rows of two story buildings, everywhere people bustle, roadways, canal bridges, railroad tracks lining the stree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 adjectives might include: large, industrial, old-fashioned, classic, calm, peaceful, red, river-side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A TEKS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5A The student is expected to: write to express, discover, record, develop, reflect on ideas, and to problem solve (4-8)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suasive reasons might include: income, living in a new place, an opportunity to make friends, experience city life, become a skilled craftsman, etc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A 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5 (B) The student is expected to: write to influence such as to persuade, argue, and request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guments might include: long work hours, bad working conditions, (i.e. sickness, darkness, cold, pollution, etc.) inability to spend time with family, the need to stay in school,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15 (B) The student is expected to: write to influence such as to persuade, argue, and request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21A: The student is expected to: collaborate with other writers to compose, organize, and revise various types of texts, including letters, news, records, and forms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stakes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ar aunt (following punctuation should be a comm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ember 13 (comma should be placed between day and yea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ate (spelling error=great); Her name is Summer she is from the future. (Run-on sentence. Summer should be followed by a comma and conjunction [i.e. and], or as two sentences [“Her name is Summer. She is from the future.”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ifornia (proper name requires capitaliza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ldnt (spelling error=couldn’t); Love (following punctuation should be a comm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21A: The student is expected to: collaborate with other writers to compose, organize, and revise various types of texts, including letters, news, records, and forms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076FE-D257-48D6-B4CC-724CFED5F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59A9-E10A-445E-A9D0-35A256B4E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3163-7193-404F-ADA4-DA5C245BA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DE26-6503-406F-B3F1-60B62FC76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0C46-2604-4908-A4C4-2C3DC2428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057B-5BFB-4AC8-BD6E-74AA73974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EB0E-5B47-47AE-94F4-5999ABB2F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476A-C314-4F42-9DFB-E22F34C58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48E5-F4DB-421B-84EC-019252B60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1DE8-CA14-4234-A505-03673338D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19EE-6B2D-45EA-8880-590D5A02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5AF8-7F58-4C66-A787-59967DD6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D2E2-215D-48C2-BBB1-E198EA89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23102-AA4C-4EF9-8E37-29576D7BA5F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hyperlink" Target="file:///LetterFromBobbin.pdf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.png"/><Relationship Id="rId9" Type="http://schemas.openxmlformats.org/officeDocument/2006/relationships/hyperlink" Target="http://peer.tamu.edu/forms/Curricula_Survey.shtml" TargetMode="External"/><Relationship Id="rId10" Type="http://schemas.openxmlformats.org/officeDocument/2006/relationships/hyperlink" Target="http://peer.tamu.edu/forms/Curricula_Survey.shtml" TargetMode="External"/><Relationship Id="rId11" Type="http://schemas.openxmlformats.org/officeDocument/2006/relationships/slideLayout" Target="../slideLayouts/slideLayout4.xml"/><Relationship Id="rId1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Unlocking Languag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rite down four ways the author of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he Waterfall Ghos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describes the town of Lowell, Massachuset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 at the picture of the old textile mill to the left and think of three new adjectives to help you describe this pl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04920" y="2362320"/>
            <a:ext cx="4267080" cy="2733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396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tend that you are working in a textile mill in the 1850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e a short letter to a friend convincing him to come work with you at the textile m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Unlocking Languag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800600" y="1978200"/>
            <a:ext cx="3957480" cy="2670120"/>
          </a:xfrm>
          <a:prstGeom prst="rect">
            <a:avLst/>
          </a:prstGeom>
          <a:ln w="28440">
            <a:solidFill>
              <a:srgbClr val="6633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Unlocking Languag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0" y="1752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r friend has decided  to come to work with you at the textile m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w write a short letter explaining why your friend shoul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me and work with you at the textile m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62120" y="1523880"/>
            <a:ext cx="3132000" cy="4953240"/>
          </a:xfrm>
          <a:prstGeom prst="rect">
            <a:avLst/>
          </a:prstGeom>
          <a:ln w="28440">
            <a:solidFill>
              <a:srgbClr val="6633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Unlocking Gramma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bbin wants her aunt in California to know that she is com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e writes a short letter to her aunt to tell her when she’ll arri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p Bobbin by editing her letter.  Correct any mistakes you find. 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Hi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You should find at least seven mistakes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80880" y="1332000"/>
            <a:ext cx="8382240" cy="42084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1584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Dear aunt: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      September 13 185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I met a grate new friend today. Her name is Summer she is from the future. She helped me get to the train so I could come to california. Summer couldnt come with me. I will arrive at the train station in San Francisco on Wednesday. Can’t wait to see you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Lo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Bobbi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95480" y="5638680"/>
            <a:ext cx="58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lick here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to open a printable PDF of this let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2400" y="937800"/>
            <a:ext cx="86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90800" y="1944360"/>
            <a:ext cx="2590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ational Institute of Environmental Health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cie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rtnership for Environmental Education and Rural Heal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llege of Education, Texas A&amp;M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333840" y="2249640"/>
            <a:ext cx="280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partment of Agricultural Education, Texas A&amp;M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Center for Environmental an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ral Heal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llege of Veterinary Medicine, Texas A&amp;M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NIEHS" descr=""/>
          <p:cNvPicPr/>
          <p:nvPr/>
        </p:nvPicPr>
        <p:blipFill>
          <a:blip r:embed="rId2"/>
          <a:stretch/>
        </p:blipFill>
        <p:spPr>
          <a:xfrm>
            <a:off x="466560" y="19494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1" name="Peer" descr=""/>
          <p:cNvPicPr/>
          <p:nvPr/>
        </p:nvPicPr>
        <p:blipFill>
          <a:blip r:embed="rId3"/>
          <a:stretch/>
        </p:blipFill>
        <p:spPr>
          <a:xfrm>
            <a:off x="466560" y="34732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72" name="CollegeofEdu" descr=""/>
          <p:cNvPicPr/>
          <p:nvPr/>
        </p:nvPicPr>
        <p:blipFill>
          <a:blip r:embed="rId4"/>
          <a:stretch/>
        </p:blipFill>
        <p:spPr>
          <a:xfrm>
            <a:off x="466560" y="4997520"/>
            <a:ext cx="1359000" cy="1371600"/>
          </a:xfrm>
          <a:prstGeom prst="rect">
            <a:avLst/>
          </a:prstGeom>
          <a:ln w="0">
            <a:noFill/>
          </a:ln>
        </p:spPr>
      </p:pic>
      <p:pic>
        <p:nvPicPr>
          <p:cNvPr id="73" name="CERH" descr=""/>
          <p:cNvPicPr/>
          <p:nvPr/>
        </p:nvPicPr>
        <p:blipFill>
          <a:blip r:embed="rId5"/>
          <a:stretch/>
        </p:blipFill>
        <p:spPr>
          <a:xfrm>
            <a:off x="4809960" y="34732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74" name="New CVM logo_ any color" descr=""/>
          <p:cNvPicPr/>
          <p:nvPr/>
        </p:nvPicPr>
        <p:blipFill>
          <a:blip r:embed="rId6"/>
          <a:stretch/>
        </p:blipFill>
        <p:spPr>
          <a:xfrm>
            <a:off x="4809960" y="499284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09480" y="44197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4730760" y="1963800"/>
            <a:ext cx="1546200" cy="1371600"/>
            <a:chOff x="4730760" y="1963800"/>
            <a:chExt cx="1546200" cy="1371600"/>
          </a:xfrm>
        </p:grpSpPr>
        <p:sp>
          <p:nvSpPr>
            <p:cNvPr id="78" name=""/>
            <p:cNvSpPr/>
            <p:nvPr/>
          </p:nvSpPr>
          <p:spPr>
            <a:xfrm>
              <a:off x="4811400" y="1963800"/>
              <a:ext cx="137124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730760" y="2152800"/>
            <a:ext cx="1546200" cy="101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730760" y="2152800"/>
                      <a:ext cx="154620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1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0"/>
              </a:rPr>
              <a:t>peer.tamu.edu/forms/Curricula_Survey.sht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O-7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1T22:28:20Z</dcterms:created>
  <dc:creator>Ape</dc:creator>
  <dc:description/>
  <dc:language>en-US</dc:language>
  <cp:lastModifiedBy>Texas A&amp;M Veterinary Medicine</cp:lastModifiedBy>
  <dcterms:modified xsi:type="dcterms:W3CDTF">2007-10-19T14:15:52Z</dcterms:modified>
  <cp:revision>22</cp:revision>
  <dc:subject/>
  <dc:title>Unlocking Language</dc:title>
</cp:coreProperties>
</file>