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577E-722F-4141-B8F7-CCAF5C2D014C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0118-64A1-4D7B-9357-3DAD845DC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825E-B89F-4CFD-AEE2-7A38071E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BA4E-8DEE-4936-9258-EB5F4ACDB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4129-D457-41D9-914B-7B499A915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3DA0-E18A-4F26-BAE3-6D041C30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CC2C-33B4-4DB7-A57B-38DDDDDD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C791-5874-4813-B860-529B939D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EA1B-8616-4D98-B497-29788C49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A413-D560-4FB2-B5AE-69BFBED0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6F1F-88F1-4DF6-B2DD-550C842A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0569-A3B2-45C9-ABAF-3F565979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5C63-0EC9-48B8-BC87-01E256A4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D316-8A8B-4585-B4BB-208B0F63564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Texas A&amp;M Veterinary Medicine</cp:lastModifiedBy>
  <dcterms:modified xsi:type="dcterms:W3CDTF">2004-10-27T18:50:40Z</dcterms:modified>
  <cp:revision>16</cp:revision>
  <dc:subject/>
  <dc:title>Writing a Business Letter</dc:title>
</cp:coreProperties>
</file>