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8E46-4D0D-4A35-83FF-A3E404F29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4112-912E-4B01-857D-34C316BC8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DC2D-8B19-4EC3-A9B6-8768A454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8D0D-8EB1-47C5-A6AA-CEB2777A3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8762-F241-4A09-96C5-A53B18CF8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BADE-1C74-4C73-BBC0-D140A993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D6F5-1CAA-42A4-9A7A-A2F0E7EA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493A-63F5-47ED-9471-C5A31397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939F-ACB6-4F98-B11D-AFEFF6C7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22F3-25BE-4A94-B0F4-E8CB1A61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8DCB-B1D1-402F-9588-0B144D7C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059D-B463-44FB-A943-41EC7197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2331-909D-4505-B79D-4ACD5336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63EB-9D3B-4F75-979E-E519426C7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600200"/>
            <a:ext cx="784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was Bobbin leaving for Californ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79560" y="2108160"/>
            <a:ext cx="62802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r. Lowell wanted her to establish a new factory t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 asked her to go to try and find her m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was fired from her factory job because she was incompe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 was being treated unfairly at the mill and wanted to join her a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rnsley was sending her to a special doctor to take care of her cou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407960" y="4600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411200" y="2193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1409760" y="2979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1406520" y="37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1411200" y="539604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was Bobbin going to protect Sheila from Mary-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79560" y="2616120"/>
            <a:ext cx="6095880" cy="36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ila was coming to California with Bobb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left a note for Mary-O that would scare  her into treating Sheila w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threatened to accuse Farnsley of murder if he didn’t protect Shei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asked Summer to use the BPC to send Sheila into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wrote a letter to Mr. Lowell asking that Sheila be taken into his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630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411200" y="4772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411200" y="2602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140976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1406520" y="398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1411200" y="557064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160800" y="278460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081320" y="4487760"/>
            <a:ext cx="96228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600200"/>
            <a:ext cx="78487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characters below were introduced in the “The Waterfall Ghost” story.  Which list below names the characters in the order Summer encountered them in the sto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79560" y="339084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rnsley, Bobbin, Mary-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, Mary-O, Farns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, Farnsley, Bob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, Bobbin, Farns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, Farnsley, Mary-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695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07960" y="499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411200" y="3365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409760" y="3906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409760" y="4448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1411200" y="5548320"/>
            <a:ext cx="376200" cy="463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78487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characteristics did all of the mill girls in the story share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girl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79560" y="30862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d red h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e heavy silk gow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re friend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ked picking cotton for the m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ghed repeated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936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407960" y="4703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411200" y="3067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409760" y="3608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409760" y="4149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1411200" y="525636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84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id Summer learn about Bobbin’s sto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79560" y="2235240"/>
            <a:ext cx="6280200" cy="36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history teacher told the story to the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 read the story in an old book she found in a bookst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was the headline story in the Boston newspa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mother told her the story because Bobbin was a distant cous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friend Travis shared the story with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407960" y="462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411200" y="2219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409760" y="28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406520" y="374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1411200" y="5386320"/>
            <a:ext cx="376200" cy="463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600200"/>
            <a:ext cx="78487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irst time Summer used her BPC in the story, she arrived at which one of the following loca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79560" y="30862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’s bedroom at the m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ld rush days in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waterfall in Massachuset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achine shop of a textile m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train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07960" y="4707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411200" y="3070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409760" y="3611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413000" y="4149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1411200" y="525636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79560" y="26416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sy and industr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iet and r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vily forested with few build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dloc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enter for Indian cul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ell, Massachusetts was described in the story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407960" y="4267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411200" y="2633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409760" y="318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413000" y="3726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411200" y="483408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arrived in Lowell during which of  the following tim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79560" y="26416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th cen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1st cen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407960" y="4268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41120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409760" y="317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141300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1411200" y="483084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escription of the inside of the factor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cluded all of the following EXCEP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79560" y="26290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ell of fabric d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ste of chalky d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chine named Gri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afty, cold air from open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r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407960" y="426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41120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1409760" y="317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1413000" y="3724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1407960" y="4830840"/>
            <a:ext cx="376560" cy="463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600200"/>
            <a:ext cx="80438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bbin tells Summer that many things see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unbelievable but are not.  Which of the following examples from the story serve to support this idea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79560" y="3048120"/>
            <a:ext cx="62802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urning dirty white cotton into sky blue cl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r. Lowell memorizing the plans for making a l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small, young girl who could fix heavy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ing as a boy to travel to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of the examples above support this 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407960" y="53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407960" y="302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1406520" y="3664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1406520" y="4541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1407960" y="5888160"/>
            <a:ext cx="376560" cy="463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Texas A&amp;M Veterinary Medicine</cp:lastModifiedBy>
  <dcterms:modified xsi:type="dcterms:W3CDTF">2007-10-19T14:13:57Z</dcterms:modified>
  <cp:revision>87</cp:revision>
  <dc:subject/>
  <dc:title>PowerPoint Presentation</dc:title>
</cp:coreProperties>
</file>