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27.jpeg" ContentType="image/jpeg"/>
  <Override PartName="/ppt/media/image25.jpeg" ContentType="image/jpeg"/>
  <Override PartName="/ppt/media/image4.wmf" ContentType="image/x-wmf"/>
  <Override PartName="/ppt/media/image3.jpeg" ContentType="image/jpeg"/>
  <Override PartName="/ppt/media/image24.jpeg" ContentType="image/jpeg"/>
  <Override PartName="/ppt/media/image21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54C6-B5EE-4A26-96CC-7CD76396D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www.desertusa.com/mag03/Jan/dbnkm.html" TargetMode="External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www.desertusa.com/mag03/Jan/dbnkm.html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ag.arizona.edu/pubs/insects/az1223/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://www.zoo.org/educate/fact_sheets/scorpion/emperor.htm" TargetMode="External"/><Relationship Id="rId2" Type="http://schemas.openxmlformats.org/officeDocument/2006/relationships/hyperlink" Target="http://www.zoo.org/educate/fact_sheets/scorpion/emperor.htm" TargetMode="External"/><Relationship Id="rId3" Type="http://schemas.openxmlformats.org/officeDocument/2006/relationships/slide" Target="../slides/slide26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corpion" TargetMode="External"/><Relationship Id="rId2" Type="http://schemas.openxmlformats.org/officeDocument/2006/relationships/hyperlink" Target="http://en.wikipedia.org/wiki/Scorpion" TargetMode="External"/><Relationship Id="rId3" Type="http://schemas.openxmlformats.org/officeDocument/2006/relationships/slide" Target="../slides/slide6.xml"/><Relationship Id="rId4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desertusa.com/mag03/Jan/dbnkm.html" TargetMode="External"/><Relationship Id="rId2" Type="http://schemas.openxmlformats.org/officeDocument/2006/relationships/slide" Target="../slides/slide8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hm.ac.uk/nature-online/life/mammals/webcast-torporinbatsvid/no-mamm-torporinbatsv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esertusa.com/mag03/Jan/dbnk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esertusa.com/mag03/Jan/dbnk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esertusa.com/mag03/Jan/dbnk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esertusa.com/mag03/Jan/dbnk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tomology.unl.edu/images/scorpions/barkscorpion1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useums.org.za/bio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rp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/rep_and_devel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useums.org.za/bio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rp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/rep_and_devel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zoo.org/educate/fact_sheets/scorpion/emper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zoo.org/educate/fact_sheets/scorp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g.arizona.edu/pubs/insects/az122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nderquest.com/scorp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nderquest.com/scorp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nderquest.com/scorp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nderquest.com/scorp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oo.org/educate/fact_sheets/scorpion/emper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Scor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rpions can be black, blue, red, tan, or yellow. They can range in size from 0.5 to 8.5 inches long (1 to 21 centimete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n.wikipedia.org/wiki/Scor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esertusa.com/mag03/Jan/dbnk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esertusa.com/mag03/Jan/dbnk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esertusa.com/mag03/Jan/dbnk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33D-339E-4034-938B-A14E28B7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7031-97F7-4BBF-84D4-C2D87F90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7392-FBA4-49B4-85D8-AC5E1F36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F92-365A-4051-AD57-B8FCA527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5AA1-00BD-4CD7-92A2-FB76764F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0F6-9A72-44F7-99F5-FD1A59EB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381-1875-4FA9-AEDC-33485502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E0E8-E6C0-4053-A541-9693B8C8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813-E7F3-40E2-872E-073B424D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8658-0B22-4EC0-A94C-4B37FE71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C930-C6E7-49F7-935F-12B6A521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45C-777D-4418-ABB1-31CDF68D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B4C0-4330-4ECD-A769-85989DBAB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Small Scorpion"/>
          <p:cNvPicPr/>
          <p:nvPr/>
        </p:nvPicPr>
        <p:blipFill>
          <a:blip r:embed="rId1"/>
          <a:stretch/>
        </p:blipFill>
        <p:spPr>
          <a:xfrm>
            <a:off x="380880" y="304920"/>
            <a:ext cx="2743200" cy="2369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Jokerman"/>
              </a:rPr>
              <a:t>Scorpions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560" y="48006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Stuff you never knew</a:t>
            </a:r>
            <a:endParaRPr b="0" lang="en-US" sz="4000" spc="-1" strike="noStrike">
              <a:solidFill>
                <a:srgbClr val="ccff33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about Scorpions</a:t>
            </a:r>
            <a:endParaRPr b="0" lang="en-US" sz="4000" spc="-1" strike="noStrike">
              <a:solidFill>
                <a:srgbClr val="ccff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Enemi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Shrews, snakes, owls, centipedes, tarantulas, bats, and other scorpions prey on scorpions.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3429000"/>
            <a:ext cx="1904760" cy="2752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724280" y="3657600"/>
            <a:ext cx="23814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99"/>
                </a:solidFill>
                <a:latin typeface="Arial"/>
              </a:rPr>
              <a:t>Is It Normal to See Scorpions During the Day?</a:t>
            </a:r>
            <a:endParaRPr b="0" lang="en-US" sz="4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Scorpions are sensitive to light, so they are primarily nocturnal. 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15000" y="4284720"/>
            <a:ext cx="3124080" cy="2444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3520" y="20574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you said no, pat yourself on the bac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How Do Scorpions Catch Their Prey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When potential prey passes by, it creates vibrations the scorpion can sense. 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They can quickly strike with the stinger or grasp the prey with their claws.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65360" y="3857760"/>
            <a:ext cx="3505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ensing Vibrat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Scorpions have tiny sensory hairs on their legs that detect touch, temperature, and other information, just like a cat’s whiskers!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Similar to the way seismologists locate earthquakes, scorpions determine the size and location of a meal by measuring subsurface vibrations.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91520" y="2743200"/>
            <a:ext cx="14364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Do Scorpions Live in Families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A few scorpions exhibit social behaviors, such as searching for food together, colonial burrowing, and even living in an extended family.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95480" y="4470480"/>
            <a:ext cx="3353040" cy="2235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666880" y="152388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corpion Reprodu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All scorpions are viviparous. Do you know what that means? 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3111480" cy="3899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480" y="4952880"/>
            <a:ext cx="487692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The mother scorpion   can give birth to  about 35 young, which are ½ inch in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124080"/>
            <a:ext cx="3962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give live birth, like human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corpion Babi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She assists them by making a "birth basket" with her folded legs to catch them as they are born and to provide them with a means to climb to her back. </a:t>
            </a:r>
            <a:endParaRPr b="0" lang="en-US" sz="28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The mother cares for the young until the babies are old enough to hunt on their own.</a:t>
            </a:r>
            <a:endParaRPr b="0" lang="en-US" sz="28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3581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19520" y="4811760"/>
            <a:ext cx="2590560" cy="204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hat is the biggest scorpion 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of all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The black emperor scorpion is the biggest scorpion of all. 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It weighs about as much as a hard-boiled egg and is about 8 inches long.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The longest recorded scorpion in the world was 8.5 inches in length!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here can you find scorpions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Scorpions are known to be desert creatures.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They can also be found in the sea, in the mountains, in the tropics, and in caves 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581640" cy="2387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343400" y="1676520"/>
            <a:ext cx="15238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here on earth are scorpions found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What is the only continent that scorpions are NOT found on?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41148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tarctica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8377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corp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Scorpions are the oldest known terrestrial arthropods</a:t>
            </a:r>
            <a:endParaRPr b="0" lang="en-US" sz="28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Fossil scorpions were found in Paleozoic rocks that were 430 million years old (long before the time of the dinosaurs)!</a:t>
            </a:r>
            <a:endParaRPr b="0" lang="en-US" sz="28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ccff33"/>
                </a:solidFill>
                <a:latin typeface="Arial"/>
              </a:rPr>
              <a:t>These fossils are over three feet long! The ancient scorpions are thought to have been amphibious or wholly aquatic.</a:t>
            </a: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ff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114800" y="304920"/>
            <a:ext cx="35211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corpion Veno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o Scorpions Sting or Bite?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29718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f you said Sting, you are absolutely righ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952880"/>
            <a:ext cx="6553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The stinger on the end of their tail carries their ven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705720" y="4876920"/>
            <a:ext cx="18158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corpion Veno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7760" y="1599840"/>
            <a:ext cx="5638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n" sz="3200" spc="-1" strike="noStrike">
                <a:solidFill>
                  <a:srgbClr val="ccff33"/>
                </a:solidFill>
                <a:latin typeface="Arial"/>
              </a:rPr>
              <a:t>Scorpions use their venom to kill or paralyze their prey so it can be eaten.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Scorpion venoms are complex mixtures of neurotoxins and other substances; each species has a unique mixture. 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29" name="" descr="[Gary M. Stolz, US Fish and Wildlife Service] One of the more poisonous scorpions found in the Arizona desert"/>
          <p:cNvPicPr/>
          <p:nvPr/>
        </p:nvPicPr>
        <p:blipFill>
          <a:blip r:embed="rId1"/>
          <a:stretch/>
        </p:blipFill>
        <p:spPr>
          <a:xfrm>
            <a:off x="304920" y="2209680"/>
            <a:ext cx="2597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Neurotoxi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Arial"/>
              </a:rPr>
              <a:t>What part of the body do neurotoxins affect?</a:t>
            </a:r>
            <a:endParaRPr b="0" lang="en-US" sz="36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16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nervous system! This includes your brain, spinal cord, and nerv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corpion Pois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The sting of most scorpions can be very painful, like a bee sting, although most are not lethal.</a:t>
            </a:r>
            <a:endParaRPr b="0" lang="en-US" sz="28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Only 25 of 1500 species of scorpions in the world are deadly to humans, including Arizona’s bark scorpion.</a:t>
            </a:r>
            <a:endParaRPr b="0" lang="en-US" sz="28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19520" y="4343400"/>
            <a:ext cx="36576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Deadliest Scorp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ccff33"/>
                </a:solidFill>
                <a:latin typeface="Arial"/>
              </a:rPr>
              <a:t>Where do you think the most deadly scorpion is found?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691080" cy="3016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" y="3352680"/>
            <a:ext cx="487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said Africa, you are correct! The most dangerous scorpion lives in the Sahara desert in Northern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uicide Myt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6553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ccff33"/>
                </a:solidFill>
                <a:latin typeface="Arial"/>
              </a:rPr>
              <a:t>There is a belief that scorpions commit suicide by stinging themselves to death when surrounded by fire. IS THIS TRUE?</a:t>
            </a:r>
            <a:endParaRPr b="0" lang="en-US" sz="28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58000" y="2209680"/>
            <a:ext cx="1903320" cy="2667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5800" y="4076640"/>
            <a:ext cx="601992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ccff33"/>
                </a:solidFill>
                <a:latin typeface="Arial"/>
              </a:rPr>
              <a:t>The myth may derive from the      fact that scorpions are </a:t>
            </a:r>
            <a:r>
              <a:rPr b="1" lang="en" sz="2800" spc="-1" strike="noStrike" u="sng">
                <a:solidFill>
                  <a:srgbClr val="ccff33"/>
                </a:solidFill>
                <a:uFillTx/>
                <a:latin typeface="Arial"/>
              </a:rPr>
              <a:t>ectotherms</a:t>
            </a:r>
            <a:r>
              <a:rPr b="1" lang="en" sz="2800" spc="-1" strike="noStrike">
                <a:solidFill>
                  <a:srgbClr val="ccff33"/>
                </a:solidFill>
                <a:latin typeface="Arial"/>
              </a:rPr>
              <a:t>; when exposed to intense heat their body malfunctions. This causes the scorpion to spasm wildly and can accidentally sting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33526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P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corpions as pets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The most common scorpion pet is the emperor scorpion, which is more docile than most species and has a mild venom.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47" name="" descr="Emperor Scorpion"/>
          <p:cNvPicPr/>
          <p:nvPr/>
        </p:nvPicPr>
        <p:blipFill>
          <a:blip r:embed="rId1"/>
          <a:stretch/>
        </p:blipFill>
        <p:spPr>
          <a:xfrm>
            <a:off x="2781360" y="3581280"/>
            <a:ext cx="35812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Glowing Scorpions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Scorpions fluoresce or glow under ultra-violate light so they are easy to find with the aid of a black light during the night. 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933640" y="3657600"/>
            <a:ext cx="32767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ass Arachnid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They are venomous arthropods of the Class Arachnida, relatives of spiders, mites, and ticks.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Given the class they are in, would you consider them to be an insect?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56" name="" descr="Small Scorpion"/>
          <p:cNvPicPr/>
          <p:nvPr/>
        </p:nvPicPr>
        <p:blipFill>
          <a:blip r:embed="rId1"/>
          <a:stretch/>
        </p:blipFill>
        <p:spPr>
          <a:xfrm>
            <a:off x="1295280" y="4030560"/>
            <a:ext cx="2743200" cy="2370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19720" y="4114800"/>
            <a:ext cx="426708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NO--INSECTS ARE IN THE CLASS INSEC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corpion Anatom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The stinger at the end of the tail injects a paralyzing poison into the prey.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Unlike other arachnids, scorpions have large, pincer-like pedipalps, used to grab and subdue prey. 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corpion Anatom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If scorpions are in the same class as spiders, how many legs do they have?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3505320"/>
            <a:ext cx="44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orpions have eight leg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3000" y="3276720"/>
            <a:ext cx="2097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corpion Anatom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ccff33"/>
                </a:solidFill>
                <a:latin typeface="Arial"/>
              </a:rPr>
              <a:t>Scorpions in general have three to five sets of eyes. </a:t>
            </a:r>
            <a:endParaRPr b="0" lang="en-US" sz="28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ccff33"/>
                </a:solidFill>
                <a:latin typeface="Arial"/>
              </a:rPr>
              <a:t>Some species of cave- and litter-dwelling scorpions, however, have no eyes!</a:t>
            </a:r>
            <a:endParaRPr b="0" lang="en-US" sz="28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ccff33"/>
                </a:solidFill>
                <a:latin typeface="Arial"/>
              </a:rPr>
              <a:t>The eyes are very sensitive: some think they even allow the scorpion to navigate by star light.</a:t>
            </a: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578400" y="4724280"/>
            <a:ext cx="19857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What do scorpions ea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705720" y="5105520"/>
            <a:ext cx="2057400" cy="1433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15000" y="1219320"/>
            <a:ext cx="2895480" cy="1923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124080" y="2590920"/>
            <a:ext cx="2514600" cy="1671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80880" y="1311120"/>
            <a:ext cx="2743200" cy="170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97400" y="2868480"/>
            <a:ext cx="1957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Rode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50680" y="3124080"/>
            <a:ext cx="1736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Lizard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7480" y="4267080"/>
            <a:ext cx="1811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pid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2960" y="4495680"/>
            <a:ext cx="3663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Other Scorp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380880" y="4114800"/>
            <a:ext cx="2743200" cy="2146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27680" y="5410080"/>
            <a:ext cx="1710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5562720" cy="3875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A Hibernating Scorpio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To conserve energy in times of famine, scorpions can slow down their metabolism. Certain scorpions can survive almost a year without food, and they can even hibernate.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Do Scorpions Drink Water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3276720"/>
            <a:ext cx="5791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33"/>
                </a:solidFill>
                <a:latin typeface="Arial"/>
              </a:rPr>
              <a:t>They get all the water they need from their food.</a:t>
            </a:r>
            <a:endParaRPr b="0" lang="en-US" sz="38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280200" y="1523880"/>
            <a:ext cx="2344680" cy="3505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666880" y="1981080"/>
            <a:ext cx="2133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No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20:34:55Z</dcterms:created>
  <dc:creator>ljlab</dc:creator>
  <dc:description/>
  <dc:language>en-US</dc:language>
  <cp:lastModifiedBy>Texas A&amp;M Veterinary Medicine</cp:lastModifiedBy>
  <dcterms:modified xsi:type="dcterms:W3CDTF">2005-11-28T21:09:30Z</dcterms:modified>
  <cp:revision>19</cp:revision>
  <dc:subject/>
  <dc:title>Creepy Creatures</dc:title>
</cp:coreProperties>
</file>