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7.jpeg" ContentType="image/jpeg"/>
  <Override PartName="/ppt/media/image25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F72C-C1FE-450A-B33A-F3704F9E6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ag.arizona.edu/pubs/insects/az1223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zoo.org/educate/fact_sheets/scorpion/emperor.htm" TargetMode="External"/><Relationship Id="rId2" Type="http://schemas.openxmlformats.org/officeDocument/2006/relationships/hyperlink" Target="http://www.zoo.org/educate/fact_sheets/scorpion/emperor.htm" TargetMode="External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corpion" TargetMode="External"/><Relationship Id="rId2" Type="http://schemas.openxmlformats.org/officeDocument/2006/relationships/hyperlink" Target="http://en.wikipedia.org/wiki/Scorpion" TargetMode="External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desertusa.com/mag03/Jan/dbnkm.html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hm.ac.uk/nature-online/life/mammals/webcast-torporinbatsvid/no-mamm-torporinbatsv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tomology.unl.edu/images/scorpions/barkscorpion1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s.org.za/bio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p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rep_and_devel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s.org.za/bio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rp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/rep_and_devel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zoo.org/educate/fact_sheets/scorpion/emper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zoo.org/educate/fact_sheets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g.arizona.edu/pubs/insects/az122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nderquest.com/scorp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oo.org/educate/fact_sheets/scorpion/emper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Scor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pions can be black, blue, red, tan, or yellow. They can range in size from 0.5 to 8.5 inches long (1 to 21 centimete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.wikipedia.org/wiki/Scor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esertusa.com/mag03/Jan/dbnk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CD-A46D-42BB-BDD5-07D7676B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051-B111-464F-A762-4426F996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BD9-3A1F-4CD8-93FF-B2E06B7D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946-DE71-46BA-87B2-F700E7C6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9002-75D0-4E81-A36D-CB0D4683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555-30BF-43D8-873D-45CF928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2D5-3AE2-4327-B3FD-C4F069C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CE2-DAD1-4686-A036-DF00B5CB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BD4-E18B-4ACB-A54B-E300ECF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58E-E359-44EF-86F5-E514A1E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9F5-10FC-4C1D-AA0E-C4D822A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937-9D99-4D9D-B57F-A4C42EA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D87-957A-4855-BF62-C504A8223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mall Scorpion"/>
          <p:cNvPicPr/>
          <p:nvPr/>
        </p:nvPicPr>
        <p:blipFill>
          <a:blip r:embed="rId1"/>
          <a:stretch/>
        </p:blipFill>
        <p:spPr>
          <a:xfrm>
            <a:off x="380880" y="304920"/>
            <a:ext cx="2743200" cy="2369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Jokerman"/>
              </a:rPr>
              <a:t>Scorpions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48006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Stuff you never knew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bout Scorpion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hrews, snakes, owls, centipedes, tarantulas, bats, and other scorpions prey on scorpion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1904760" cy="27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2381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99"/>
                </a:solidFill>
                <a:latin typeface="Arial"/>
              </a:rPr>
              <a:t>Is It Normal to See Scorpions During the Day?</a:t>
            </a:r>
            <a:endParaRPr b="0" lang="en-US" sz="45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are sensitive to light, so they are primarily nocturnal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284720"/>
            <a:ext cx="3124080" cy="244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20574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said no, pat yourself on the b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ow Do Scorpions Catch Their Prey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en potential prey passes by, it creates vibrations the scorpion can sense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can quickly strike with the stinger or grasp the prey with their claw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65360" y="3857760"/>
            <a:ext cx="3505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nsing Vibra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have tiny sensory hairs on their legs that detect touch, temperature, and other information, just like a cat’s whiskers!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imilar to the way seismologists locate earthquakes, scorpions determine the size and location of a meal by measuring subsurface vibration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436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o Scorpions Live in Familie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A few scorpions exhibit social behaviors, such as searching for food together, colonial burrowing, and even living in an extended family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4470480"/>
            <a:ext cx="3353040" cy="223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66880" y="15238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Reprodu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All scorpions are viviparous. Do you know what that means?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111480" cy="389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4952880"/>
            <a:ext cx="48769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mother scorpion   can give birth to  about 35 young, which are ½ inch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12408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give live birth, like huma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Bab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he assists them by making a "birth basket" with her folded legs to catch them as they are born and to provide them with a means to climb to her back.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he mother cares for the young until the babies are old enough to hunt on their own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19520" y="4811760"/>
            <a:ext cx="2590560" cy="204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the biggest scorpion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f all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black emperor scorpion is the biggest scorpion of all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t weighs about as much as a hard-boiled egg and is about 8 inches long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longest recorded scorpion in the world was 8.5 inches in length!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ere can you find scorpion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are known to be desert creature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can also be found in the sea, in the mountains, in the tropics, and in caves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15238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ere on earth are scorpions found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What is the only continent that scorpions are NOT found on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1148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tarctic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Scorpions are the oldest known terrestrial arthropods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Fossil scorpions were found in Paleozoic rocks that were 430 million years old (long before the time of the dinosaurs)!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se fossils are over three feet long! The ancient scorpions are thought to have been amphibious or wholly aquatic.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35211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Veno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o Scorpions Sting or Bite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971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you said Sting, you are absolutely righ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952880"/>
            <a:ext cx="6553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stinger on the end of their tail carries their ve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05720" y="4876920"/>
            <a:ext cx="1815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Veno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776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" sz="3200" spc="-1" strike="noStrike">
                <a:solidFill>
                  <a:srgbClr val="ccff33"/>
                </a:solidFill>
                <a:latin typeface="Arial"/>
              </a:rPr>
              <a:t>Scorpions use their venom to kill or paralyze their prey so it can be eaten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 venoms are complex mixtures of neurotoxins and other substances; each species has a unique mixture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29" name="" descr="[Gary M. Stolz, US Fish and Wildlife Service] One of the more poisonous scorpions found in the Arizona desert"/>
          <p:cNvPicPr/>
          <p:nvPr/>
        </p:nvPicPr>
        <p:blipFill>
          <a:blip r:embed="rId1"/>
          <a:stretch/>
        </p:blipFill>
        <p:spPr>
          <a:xfrm>
            <a:off x="304920" y="2209680"/>
            <a:ext cx="2597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Neurotoxi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Arial"/>
              </a:rPr>
              <a:t>What part of the body do neurotoxins affect?</a:t>
            </a:r>
            <a:endParaRPr b="0" lang="en-US" sz="36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ervous system! This includes your brain, spinal cord, and ner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Pois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The sting of most scorpions can be very painful, like a bee sting, although most are not lethal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</a:rPr>
              <a:t>Only 25 of 1500 species of scorpions in the world are deadly to humans, including Arizona’s bark scorpion.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657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adliest Scorp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ccff33"/>
                </a:solidFill>
                <a:latin typeface="Arial"/>
              </a:rPr>
              <a:t>Where do you think the most deadly scorpion is found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691080" cy="3016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3352680"/>
            <a:ext cx="48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aid Africa, you are correct! The most dangerous scorpion lives in the Sahara desert in Norther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uicide My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553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re is a belief that scorpions commit suicide by stinging themselves to death when surrounded by fire. IS THIS TRUE?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0" y="2209680"/>
            <a:ext cx="1903320" cy="2667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4076640"/>
            <a:ext cx="601992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 myth may derive from the      fact that scorpions are </a:t>
            </a:r>
            <a:r>
              <a:rPr b="1" lang="en" sz="2800" spc="-1" strike="noStrike" u="sng">
                <a:solidFill>
                  <a:srgbClr val="ccff33"/>
                </a:solidFill>
                <a:uFillTx/>
                <a:latin typeface="Arial"/>
              </a:rPr>
              <a:t>ectotherms</a:t>
            </a: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; when exposed to intense heat their body malfunctions. This causes the scorpion to spasm wildly and can accidentally sting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352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P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s as pet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most common scorpion pet is the emperor scorpion, which is more docile than most species and has a mild venom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7" name="" descr="Emperor Scorpion"/>
          <p:cNvPicPr/>
          <p:nvPr/>
        </p:nvPicPr>
        <p:blipFill>
          <a:blip r:embed="rId1"/>
          <a:stretch/>
        </p:blipFill>
        <p:spPr>
          <a:xfrm>
            <a:off x="2781360" y="358128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Glowing Scorp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Scorpions fluoresce or glow under ultra-violate light so they are easy to find with the aid of a black light during the night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33640" y="3657600"/>
            <a:ext cx="32767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ass Arachni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71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y are venomous arthropods of the Class Arachnida, relatives of spiders, mites, and ticks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Given the class they are in, would you consider them to be an insect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56" name="" descr="Small Scorpion"/>
          <p:cNvPicPr/>
          <p:nvPr/>
        </p:nvPicPr>
        <p:blipFill>
          <a:blip r:embed="rId1"/>
          <a:stretch/>
        </p:blipFill>
        <p:spPr>
          <a:xfrm>
            <a:off x="1295280" y="4030560"/>
            <a:ext cx="2743200" cy="2370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4114800"/>
            <a:ext cx="4267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O--INSECTS ARE IN THE CLASS INS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he stinger at the end of the tail injects a paralyzing poison into the prey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Unlike other arachnids, scorpions have large, pincer-like pedipalps, used to grab and subdue prey.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If scorpions are in the same class as spiders, how many legs do they have?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35053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pions have eight le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097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corpion Anatom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Scorpions in general have three to five sets of eyes. 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Some species of cave- and litter-dwelling scorpions, however, have no eyes!</a:t>
            </a:r>
            <a:endParaRPr b="0" lang="en-US" sz="2800" spc="-1" strike="noStrike">
              <a:solidFill>
                <a:srgbClr val="ccff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ff33"/>
                </a:solidFill>
                <a:latin typeface="Arial"/>
              </a:rPr>
              <a:t>The eyes are very sensitive: some think they even allow the scorpion to navigate by star light.</a:t>
            </a: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8400" y="4724280"/>
            <a:ext cx="19857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 do scorpions ea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2057400" cy="143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2895480" cy="19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124080" y="2590920"/>
            <a:ext cx="2514600" cy="1671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1311120"/>
            <a:ext cx="2743200" cy="170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7400" y="2868480"/>
            <a:ext cx="195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od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50680" y="3124080"/>
            <a:ext cx="1736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zar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7480" y="4267080"/>
            <a:ext cx="1811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960" y="4495680"/>
            <a:ext cx="366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ther Scorp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2743200" cy="2146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7680" y="5410080"/>
            <a:ext cx="171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5562720" cy="3875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 Hibernating Scorp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To conserve energy in times of famine, scorpions can slow down their metabolism. Certain scorpions can survive almost a year without food, and they can even hibernate.</a:t>
            </a:r>
            <a:endParaRPr b="0" lang="en-US" sz="3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99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o Scorpions Drink Water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33"/>
                </a:solidFill>
                <a:latin typeface="Arial"/>
              </a:rPr>
              <a:t>They get all the water they need from their food.</a:t>
            </a:r>
            <a:endParaRPr b="0" lang="en-US" sz="38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0200" y="1523880"/>
            <a:ext cx="23446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6880" y="1981080"/>
            <a:ext cx="2133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20:34:55Z</dcterms:created>
  <dc:creator>ljlab</dc:creator>
  <dc:description/>
  <dc:language>en-US</dc:language>
  <cp:lastModifiedBy>Texas A&amp;M Veterinary Medicine</cp:lastModifiedBy>
  <dcterms:modified xsi:type="dcterms:W3CDTF">2005-11-28T21:09:30Z</dcterms:modified>
  <cp:revision>19</cp:revision>
  <dc:subject/>
  <dc:title>Creepy Creatures</dc:title>
</cp:coreProperties>
</file>