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media/image5.gif" ContentType="image/gif"/>
  <Override PartName="/ppt/media/image8.wmf" ContentType="image/x-wmf"/>
  <Override PartName="/ppt/media/image6.png" ContentType="image/png"/>
  <Override PartName="/ppt/media/image7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22BC-C101-4FB5-ADF2-93C72F2A8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AD45-00C4-4086-92E0-0B69BAD13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98FCA-40BE-4315-8FFA-DF46EA91C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3(a),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80D8E-F744-43EC-B91A-4714DB958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3(a),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AE42-B9C6-4C51-9F44-CAE933ACC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3(b),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1A64-1366-4504-976D-524247907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3(b),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7EB5-F32C-4293-AEB0-DF1B74754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3(a),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EEFF-D969-45AD-99D6-A67615539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EB43-058B-4B2E-8F70-B683C8154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3(b),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14C0-EFA2-49BC-9101-25B91422F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4C53-17B4-4E92-874A-3E887E02B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CADBF-DFD2-4A9C-A952-785E1B072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CFF1-DCE0-4507-9B38-02662C008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F59B-E556-48DB-9716-F99A3525D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2EAC-EB02-4E36-848D-BF8257F9C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15B1-58EA-4205-8368-8BE857512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387F9-CA63-4E68-9572-F7DC2A8F7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9125-1FFA-4C74-911A-B1504F750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7A7B-CF7F-4DEB-B7AD-077C85E70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06E6-7DA3-4082-8E5A-13A12196B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809D-8F0A-443D-9800-F9ADBC9D0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C5A7-7173-43DA-BAA4-CBF9272CC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D111-4C29-4F32-8F9F-5E9052284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3(b),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215F-9328-491A-A442-950CDC4D2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E7DC-9A33-4A1A-B4A3-A23FBBD42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3(b),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50B2-5262-4958-9E5E-E49581960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EB31-AC4F-4F91-AED4-8A6A79162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8EEB-0856-4AF4-A078-6D807DB23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8.7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9AF-B31B-4BC2-BE27-FF1D37CB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FEE9-0148-4EA6-A9D1-D4AF6ECB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05D-E7BB-415F-8DD9-142E6CA4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A30A-5C33-4517-8F52-97D39AC6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3971-9556-4525-BA24-1492E4DB3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307A-F7D4-4818-A46B-D7268433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6AE0-6271-43F9-B165-162B710C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739D-5121-4E00-9920-9B31ED94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1F331-C04C-4713-B644-F921CA17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29D9-4529-4E7C-8275-B27B91FB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BAAC-34B8-4ED5-B31D-68007777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269A-8706-48DB-A571-ADCEC282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9620-AA2A-4455-9D0B-B346A19B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3237-E32C-4606-B2F2-D101AD86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98C6-B017-45F9-AE8C-F3006D4B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D48B-F6DD-4F71-A8CC-E16561CAB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FC6E-893A-432D-A5B3-4BCCC0A90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4A2B-7465-44C9-834C-B50ED880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1D9-8BBC-41D9-B2F5-2401BC53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AD99-232D-4CB0-B6AC-9C387CAF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2EAE-397E-47E9-A537-7C60D286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019E-6ABA-46B7-B38B-5977FDA4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7C22-AABD-4711-A4FF-594F8F72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0AC-0695-4A0F-9F63-2F2D9103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B290-B124-4BC3-9591-BD8429947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F678-1BE1-4E6D-85E4-1F18AD6B6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ewton’s Three Law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4" descr="newton"/>
          <p:cNvPicPr/>
          <p:nvPr/>
        </p:nvPicPr>
        <p:blipFill>
          <a:blip r:embed="rId1"/>
          <a:stretch/>
        </p:blipFill>
        <p:spPr>
          <a:xfrm>
            <a:off x="2895480" y="2743200"/>
            <a:ext cx="2667240" cy="25588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3204360" y="5410080"/>
            <a:ext cx="197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r Isaac Newt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643-172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cond La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agine you are riding on a sled. You are accelerating at a rate of 4 m/s² and have a total mass of 40 kg.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is the net force exerted?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emember: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=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nswer is 160 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get this answer by plugging in the valu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=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=(40kg)(4m/s²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=160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838080" y="5486400"/>
            <a:ext cx="3200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te: 1 N = 1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kg </a:t>
            </a:r>
            <a:r>
              <a:rPr b="1" lang="en-US" sz="1800" spc="-1" strike="noStrike" u="sng" baseline="30000">
                <a:solidFill>
                  <a:srgbClr val="000000"/>
                </a:solidFill>
                <a:uFillTx/>
                <a:latin typeface="Verdana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cond La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ppose you hit a 3 kg textbook with a net force of 15 N.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What is the book’s resulting acceleration?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Remember: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=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nswer is 5 m/s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You get this acceleration by plugging in the valu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=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5N=3kg(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=15N/3k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=5 m/s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cond La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ok at the anima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y do the elephant a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eather hit the ground 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ame time?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assume no air resistan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4" descr="2nd law gif"/>
          <p:cNvPicPr/>
          <p:nvPr/>
        </p:nvPicPr>
        <p:blipFill>
          <a:blip r:embed="rId1"/>
          <a:stretch/>
        </p:blipFill>
        <p:spPr>
          <a:xfrm>
            <a:off x="6781680" y="1676520"/>
            <a:ext cx="1695600" cy="4419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5019480" y="6253200"/>
            <a:ext cx="40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: http://www.glenbrook.k12.il.us/gbssci/phys/mmedia/newtlaws/efff.htm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cond La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lephant and feather hit the ground at the same time because they have equal accelerations- gravity (9.8 m/s²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at will be different between the elephant and the feather when they hit the ground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 at the following examp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cond La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’s assume the mass of the elephant is 100,000 kg and the mass of the feather is 1 kg. They both accelerate (due to gravity) at a rate of 9.8 m/s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What is their net forc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elephant)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feathe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=m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=ma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=(100,000kg)(9.8 m/s²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=(1kg)(9.8 m/s²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=980,000 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=9.8 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means the elephant will hit the ground with a force 100,000 times bigger than the feather. That will definitely leave a mark!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rd La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ewton’s third law states that for every action there is an equal but opposite reac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5" descr="pear object"/>
          <p:cNvPicPr/>
          <p:nvPr/>
        </p:nvPicPr>
        <p:blipFill>
          <a:blip r:embed="rId1"/>
          <a:stretch/>
        </p:blipFill>
        <p:spPr>
          <a:xfrm>
            <a:off x="3581280" y="3429000"/>
            <a:ext cx="1820880" cy="2209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2607840" y="5867280"/>
            <a:ext cx="396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: http://www.glenbrook.k12.il.us/gbssci/phys/Class/newtlaws/u2l4a.htm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rd La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ook at the animation. This shows an action with an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equal but opposit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rea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you think of any other equal but opposite force pair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4" descr="3rd law gif"/>
          <p:cNvPicPr/>
          <p:nvPr/>
        </p:nvPicPr>
        <p:blipFill>
          <a:blip r:embed="rId1"/>
          <a:stretch/>
        </p:blipFill>
        <p:spPr>
          <a:xfrm>
            <a:off x="1905120" y="3124080"/>
            <a:ext cx="5257800" cy="17352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5"/>
          <p:cNvSpPr/>
          <p:nvPr/>
        </p:nvSpPr>
        <p:spPr>
          <a:xfrm>
            <a:off x="2269800" y="4952880"/>
            <a:ext cx="4115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: http://mw.concord.org/modeler1.3/mirror/mechanics/NewtonCradle.htm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rd La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haps you came up with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 baseball hits a ba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bat exerts a force on the ball and the ball exerts an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equal but opposit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force on the bat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rd La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haps you came up with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you step from a boat to a doc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You can feel the boat drift backwards. This is because as we move the direction of the dock, the boat moves with in an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equal but opposit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force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rd La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rhaps you came up with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hooting a gu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force forward the rifle puts on the bullet is matches with the </a:t>
            </a:r>
            <a:r>
              <a:rPr b="1" lang="en-US" sz="2300" spc="-1" strike="noStrike">
                <a:solidFill>
                  <a:srgbClr val="000000"/>
                </a:solidFill>
                <a:latin typeface="Verdana"/>
              </a:rPr>
              <a:t>equal but opposite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force backwards the bullet puts on the rifle. This is what causes the gun to recoil (kick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wton’s 3 laws define some of the most fundamental things in physics includ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things fall do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y objects mo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d much more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 Conclu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wton’s Three Laws are important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does his first law stat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ewton’s first law states that something in motion will continue in motion until acted upon by an external for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 Conclu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wton’s Three Laws are important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does his second law stat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ewton’s second law states states that the Force of an object is equal to its mass times its accele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=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 Conclu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wton’s Three Laws are important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does his third law state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ewton’s third law states that for every action there is an equal but opposite reac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bque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it is time to apply what you have learned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6" descr="MCj04298270000[1]"/>
          <p:cNvPicPr/>
          <p:nvPr/>
        </p:nvPicPr>
        <p:blipFill>
          <a:blip r:embed="rId1"/>
          <a:stretch/>
        </p:blipFill>
        <p:spPr>
          <a:xfrm>
            <a:off x="2819520" y="2743200"/>
            <a:ext cx="2670120" cy="32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bque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s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r space shuttle from planet Newtonian made a crash landing on planet Earth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4" descr="ufo"/>
          <p:cNvPicPr/>
          <p:nvPr/>
        </p:nvPicPr>
        <p:blipFill>
          <a:blip r:embed="rId1"/>
          <a:stretch/>
        </p:blipFill>
        <p:spPr>
          <a:xfrm>
            <a:off x="4419720" y="36576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bque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s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 your planet, everyone floats. But on Earth everyone is stuck to the ground! And no one knows why!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bque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as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ing Martian has asked you to use the following internet sites and research Newton’s three laws. Then, fill out the corresponding worksheet and (according to the teacher’s instructions) create a presenta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ebque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nk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http://teachertech.rice.edu/Participants/louviere/Newton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http://www.bbc.co.uk/history/historic_figures/newton_isaac.s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0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http://www.sciencenetlinks.com/interactives/gravity.htm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est of luck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irst La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ewton’s first law states that something in motion will continue in motion until acted upon by an external force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 also called the </a:t>
            </a:r>
            <a:r>
              <a:rPr b="0" i="1" lang="en-US" sz="3000" spc="-1" strike="noStrike">
                <a:solidFill>
                  <a:srgbClr val="000000"/>
                </a:solidFill>
                <a:latin typeface="Verdana"/>
              </a:rPr>
              <a:t>Law of Inerti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irst La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at means that something moving would move FOREVER if another force did not act on it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nk of a soccer ball being kicked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 you know what force acts on it to bring it back down to earth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irst La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force that brings the soccer ball back down i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ravit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it weren’t for this force, when you kicked a soccer ball it would never stop flying and never come back down to earth. That would be the longest kick ever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irst La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ake a look at the animation. Why does the person continue to move when the car stop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6" descr="1st law gif"/>
          <p:cNvPicPr/>
          <p:nvPr/>
        </p:nvPicPr>
        <p:blipFill>
          <a:blip r:embed="rId1"/>
          <a:stretch/>
        </p:blipFill>
        <p:spPr>
          <a:xfrm>
            <a:off x="1905120" y="3505320"/>
            <a:ext cx="5333760" cy="1720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2598480" y="5410080"/>
            <a:ext cx="397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: http://www.glenbrook.k12.il.us/gbssci/phys/mmedia/newtlaws/cci.htm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irst La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person keeps moving because no force pushed on it. The force of the wall only acted on the ca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owl object"/>
          <p:cNvPicPr/>
          <p:nvPr/>
        </p:nvPicPr>
        <p:blipFill>
          <a:blip r:embed="rId1"/>
          <a:stretch/>
        </p:blipFill>
        <p:spPr>
          <a:xfrm>
            <a:off x="2362320" y="3809880"/>
            <a:ext cx="3504960" cy="1568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2302920" y="5562720"/>
            <a:ext cx="396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Source: http://www.glenbrook.k12.il.us/gbssci/phys/Class/newtlaws/u2l1a.html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cond La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ewton’s second law states states that the Force of an object is equal to its mass times its acceleration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F=</a:t>
            </a:r>
            <a:r>
              <a:rPr b="1" i="1" lang="en-US" sz="4000" spc="-1" strike="noStrike">
                <a:solidFill>
                  <a:srgbClr val="000000"/>
                </a:solidFill>
                <a:latin typeface="Verdana"/>
              </a:rPr>
              <a:t>ma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econd Law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law is so important because it allows for calculations to be made. With this law you can actually calculate how strong a force i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t’s try a couple problems!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4:31:46Z</dcterms:created>
  <dc:creator>College of Veterinary Medicine</dc:creator>
  <dc:description/>
  <dc:language>en-US</dc:language>
  <cp:lastModifiedBy>Hardy, Vince</cp:lastModifiedBy>
  <dcterms:modified xsi:type="dcterms:W3CDTF">2013-06-17T15:59:20Z</dcterms:modified>
  <cp:revision>21</cp:revision>
  <dc:subject/>
  <dc:title>Newton’s Three Laws</dc:title>
</cp:coreProperties>
</file>